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微软雅黑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4146-BDF2-4A65-85E8-207698AFF4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BB7A-040A-46F4-9F34-0C61D29ECC3F}" type="slidenum">
              <a:rPr b="0" lang="zh-CN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DAED-5418-43F1-AFA5-CB40A7D2A52C}" type="slidenum">
              <a:rPr b="0" lang="zh-CN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B134-9B7D-4D36-9E19-1F992429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F8A-6393-4F56-937E-0A70055F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5B8-3228-4959-8644-44666513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DB4-D200-43E2-96F0-C0EEAC70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4FF-6C95-433E-BCEA-BA47B9BC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6FA-9999-4C16-8ADD-E2E981D8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42F-625B-4009-890B-37D8B9BC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4AF1-89F2-47CB-BA44-E78BE822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9A4-8EEE-43B0-AE87-52081A54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AF2-0E79-4408-912B-6FFA18B7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1AE-481A-4605-B8D5-C02FA2EB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EAA-5C65-4456-8F83-0D2E9989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F198-24EB-47BA-820C-CBECB724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7CA6-B48C-4940-8959-1D015FFB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F17F-F546-4272-8C42-1520EA44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DF1A-CAA1-41F2-936E-6F2DE4DA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5190-E491-412C-BCA7-7099A539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AC98-2FC0-447D-8957-3EBD2E7B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29ED-D280-4E0A-838C-D6A807E9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542F-5C0F-4ABA-BB29-DA80E0B5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3DED-73F4-4234-AB98-B9463BED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CA34-B33A-4F93-A7D9-1BACA770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47E0-CB84-4CE3-B121-681CF524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0DD9-7F8B-4C9A-84C1-1AFA8BF8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353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1" marL="457200" indent="-4572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2" marL="914400" indent="-9144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3" marL="1371600" indent="-13716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4" marL="1828800" indent="-18288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5" marL="1828800" indent="-1828800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6" marL="1828800" indent="-1828800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tb"/>
          <p:cNvPicPr/>
          <p:nvPr/>
        </p:nvPicPr>
        <p:blipFill>
          <a:blip r:embed="rId3"/>
          <a:stretch/>
        </p:blipFill>
        <p:spPr>
          <a:xfrm>
            <a:off x="66600" y="333360"/>
            <a:ext cx="9077400" cy="65736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456840" y="66304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63048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2720" y="66304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08D0-55FC-4E5C-9F99-E7519966AA9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微软雅黑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tb"/>
          <p:cNvPicPr/>
          <p:nvPr/>
        </p:nvPicPr>
        <p:blipFill>
          <a:blip r:embed="rId3"/>
          <a:stretch/>
        </p:blipFill>
        <p:spPr>
          <a:xfrm>
            <a:off x="66600" y="333360"/>
            <a:ext cx="9077400" cy="657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3333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3B52-5D60-4461-B22C-07C0DE11DFC1}" type="slidenum">
              <a:rPr b="0" lang="zh-CN" sz="12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2195640" y="145908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0000"/>
                </a:solidFill>
                <a:latin typeface="微软雅黑"/>
                <a:ea typeface="微软雅黑"/>
              </a:rPr>
              <a:t>3.</a:t>
            </a:r>
            <a:r>
              <a:rPr b="1" lang="zh-CN" sz="9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秋 色</a:t>
            </a:r>
            <a:endParaRPr b="0" lang="en-US" sz="9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1934640" y="5548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水晶葡萄"/>
          <p:cNvPicPr/>
          <p:nvPr/>
        </p:nvPicPr>
        <p:blipFill>
          <a:blip r:embed="rId1"/>
          <a:stretch/>
        </p:blipFill>
        <p:spPr>
          <a:xfrm>
            <a:off x="1116000" y="333360"/>
            <a:ext cx="6769080" cy="4608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468360" y="508464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水晶”葡萄：</a:t>
            </a: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长长的</a:t>
            </a: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，绿绿的，晶莹透明，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像是</a:t>
            </a: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用水晶和玉石雕刻出来的。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玫瑰红葡萄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4392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179280" y="508464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玫瑰红”葡萄：紫中带亮，圆润可爱，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活像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一串串紫色的珍珠。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50840" y="404640"/>
            <a:ext cx="89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Arial"/>
              </a:rPr>
              <a:t>填一填、读一读、说一说。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d4d4d"/>
                </a:solidFill>
                <a:latin typeface="Arial"/>
              </a:rPr>
              <a:t>、你瞧西面山洼里那一片柿树，红得多么好看，     （                                    ）。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d4d4d"/>
                </a:solidFill>
                <a:latin typeface="Arial"/>
              </a:rPr>
              <a:t>、山楂树上，缀满了一颗颗（                                       ）。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d4d4d"/>
                </a:solidFill>
                <a:latin typeface="Arial"/>
              </a:rPr>
              <a:t>、那种叫“水晶”的，长长的，绿绿的，晶莹透明，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(                                                   )</a:t>
            </a:r>
            <a:r>
              <a:rPr b="0" lang="zh-CN" sz="3200" spc="-1" strike="noStrike">
                <a:solidFill>
                  <a:srgbClr val="4d4d4d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d4d4d"/>
                </a:solidFill>
                <a:latin typeface="Arial"/>
              </a:rPr>
              <a:t>、而那种叫“玫瑰红”的，则紫中带亮，圆润可爱，（                                            ）。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826920" y="134136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简直像</a:t>
            </a: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一片火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187280" y="285264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玛瑙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似的</a:t>
            </a: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果子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547640" y="5742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活像</a:t>
            </a: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一串串紫色的珍珠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197000" y="43657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像是</a:t>
            </a: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用水晶和玉石雕刻出来的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24000" y="33336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秋天的水果除了文中讲到的柿子、苹果、山楂、葡萄以外，还有很多，比方说，梨，你一定见过也吃过吧，你能从它的颜色、形状（样子）、味道来说一说吗？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df7e74041e11e5772f05d30"/>
          <p:cNvPicPr/>
          <p:nvPr/>
        </p:nvPicPr>
        <p:blipFill>
          <a:blip r:embed="rId1"/>
          <a:stretch/>
        </p:blipFill>
        <p:spPr>
          <a:xfrm>
            <a:off x="0" y="189000"/>
            <a:ext cx="2700360" cy="2031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2244600" y="2349360"/>
            <a:ext cx="4194360" cy="3144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6516720" y="858960"/>
            <a:ext cx="25351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828800" y="2286000"/>
            <a:ext cx="73152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7" name="秋日私语.mp3" descr=""/>
          <p:cNvPicPr/>
          <p:nvPr/>
        </p:nvPicPr>
        <p:blipFill>
          <a:blip r:embed="rId1"/>
          <a:stretch/>
        </p:blipFill>
        <p:spPr>
          <a:xfrm>
            <a:off x="7164360" y="5460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1332000" y="147960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      </a:t>
            </a:r>
            <a:r>
              <a:rPr b="0" lang="zh-CN" sz="4400" spc="-1" strike="noStrike">
                <a:solidFill>
                  <a:srgbClr val="4d4d4d"/>
                </a:solidFill>
                <a:latin typeface="Arial"/>
                <a:ea typeface="华文新魏"/>
              </a:rPr>
              <a:t>   </a:t>
            </a:r>
            <a:r>
              <a:rPr b="0" lang="zh-CN" sz="4400" spc="-1" strike="noStrike">
                <a:solidFill>
                  <a:srgbClr val="4d4d4d"/>
                </a:solidFill>
                <a:latin typeface="Arial"/>
                <a:ea typeface="华文新魏"/>
              </a:rPr>
              <a:t>秋天是个丰收的季节，作者只是写到了他看到的岭上秋色，在我们的眼里，一定还有别样的秋色，你能说一说吗？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文本框 1"/>
          <p:cNvSpPr/>
          <p:nvPr/>
        </p:nvSpPr>
        <p:spPr>
          <a:xfrm>
            <a:off x="2082960" y="5572080"/>
            <a:ext cx="49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7b8145dafe1d7548d1164e3e"/>
          <p:cNvPicPr/>
          <p:nvPr/>
        </p:nvPicPr>
        <p:blipFill>
          <a:blip r:embed="rId1"/>
          <a:stretch/>
        </p:blipFill>
        <p:spPr>
          <a:xfrm>
            <a:off x="395280" y="3789360"/>
            <a:ext cx="2879640" cy="203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df7e74041e11e5772f05d30"/>
          <p:cNvPicPr/>
          <p:nvPr/>
        </p:nvPicPr>
        <p:blipFill>
          <a:blip r:embed="rId2"/>
          <a:stretch/>
        </p:blipFill>
        <p:spPr>
          <a:xfrm>
            <a:off x="971640" y="260280"/>
            <a:ext cx="2700360" cy="2032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645080" y="620640"/>
            <a:ext cx="3808440" cy="2857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4"/>
          <a:stretch/>
        </p:blipFill>
        <p:spPr>
          <a:xfrm>
            <a:off x="4788000" y="3573360"/>
            <a:ext cx="3809880" cy="2524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5"/>
          <a:stretch/>
        </p:blipFill>
        <p:spPr>
          <a:xfrm>
            <a:off x="2340000" y="220500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pic>
        <p:nvPicPr>
          <p:cNvPr id="178" name="Picture 4" descr="笑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pic>
        <p:nvPicPr>
          <p:cNvPr id="181" name="Picture 4" descr="笑脸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pic>
        <p:nvPicPr>
          <p:cNvPr id="133" name="Picture 4" descr="葡萄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1" i="1" lang="zh-CN" sz="8000" spc="-1" strike="noStrike">
                <a:solidFill>
                  <a:srgbClr val="0033cc"/>
                </a:solidFill>
                <a:latin typeface="Verdana"/>
              </a:rPr>
              <a:t>       </a:t>
            </a:r>
            <a:r>
              <a:rPr b="1" i="1" lang="zh-CN" sz="8000" spc="-1" strike="noStrike">
                <a:solidFill>
                  <a:srgbClr val="0033cc"/>
                </a:solidFill>
                <a:latin typeface="Verdana"/>
              </a:rPr>
              <a:t>再见</a:t>
            </a:r>
            <a:endParaRPr b="0" lang="en-US" sz="80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14353"/>
                </a:solidFill>
                <a:latin typeface="Verdana"/>
              </a:rPr>
              <a:t>使用规范说明</a:t>
            </a: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0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000" spc="-1" strike="noStrike" u="sng">
                <a:solidFill>
                  <a:srgbClr val="bad16f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bad16f"/>
                </a:solidFill>
                <a:uFillTx/>
                <a:latin typeface="Verdana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0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0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bad16f"/>
                </a:solidFill>
                <a:uFillTx/>
                <a:latin typeface="Verdana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900" spc="-1" strike="noStrike" u="sng">
                <a:solidFill>
                  <a:srgbClr val="bad16f"/>
                </a:solidFill>
                <a:uFillTx/>
                <a:latin typeface="Verdana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bad16f"/>
                </a:solidFill>
                <a:uFillTx/>
                <a:latin typeface="Verdana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900" spc="-1" strike="noStrike" u="sng">
                <a:solidFill>
                  <a:srgbClr val="bad16f"/>
                </a:solidFill>
                <a:uFillTx/>
                <a:latin typeface="Verdana"/>
                <a:hlinkClick r:id="rId7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bad16f"/>
                </a:solidFill>
                <a:uFillTx/>
                <a:latin typeface="Verdana"/>
                <a:hlinkClick r:id="rId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bad16f"/>
                </a:solidFill>
                <a:uFillTx/>
                <a:latin typeface="Verdana"/>
                <a:hlinkClick r:id="rId9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0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1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2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3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4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5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6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7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B133-70BC-4220-BD5E-2EA49F33D4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"/>
          <p:cNvPicPr/>
          <p:nvPr/>
        </p:nvPicPr>
        <p:blipFill>
          <a:blip r:embed="rId1"/>
          <a:stretch/>
        </p:blipFill>
        <p:spPr>
          <a:xfrm>
            <a:off x="201600" y="515880"/>
            <a:ext cx="87408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620640"/>
            <a:ext cx="9144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刚刚过了秋分，就觉得突然增加了一些凉意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早晨到海边散步，仿佛那蔚蓝的大海比以前更加蓝了，天，也比以前更加远高了。 回头向岭上望去，哦，秋色更浓了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你瞧，西面山洼里那一片柿树，红得多么好看，简直像一片火似的。古今多少诗人画家都称赞枫叶的颜色，然而，比起柿树来，那枫叶却不知要逊色多少呢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还有苹果， 那驰名中外的红香蕉苹果，也是那么红，那么鲜艳，那么逗人喜爱。大金帅苹果金光闪闪，呈现出一片黄澄澄的颜色。山楂树上，缀满了一颗颗红玛瑙似的果子。葡萄呢，更加绚丽多彩。那种叫“水晶”的，长长的，绿绿的，晶莹透明，真像是用水晶和玉石雕刻出来似的。而那种叫“红玫瑰”的，则紫中带亮，圆润可爱，活像一串串紫色的珍珠……啊！好一派迷人的秋色！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喜爱这绚丽灿烂的秋色，因为它表示着成熟和繁荣，也意味着丰收和欢乐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289680" y="0"/>
            <a:ext cx="145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993300"/>
                </a:solidFill>
                <a:latin typeface="Arial"/>
              </a:rPr>
              <a:t>秋色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5"/>
          <p:cNvSpPr/>
          <p:nvPr/>
        </p:nvSpPr>
        <p:spPr>
          <a:xfrm>
            <a:off x="826920" y="2997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250920" y="7650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短文中写了哪些水果？你能找出来吗？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50920" y="21337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柿子，红香蕉苹果，大金帅苹果，山楂，“水晶”葡萄，“紫玫瑰”葡萄。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901880" y="422748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讨论交流：作者抓住了每种水果的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哪些特点？又是怎样写具体的？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5"/>
          <p:cNvSpPr/>
          <p:nvPr/>
        </p:nvSpPr>
        <p:spPr>
          <a:xfrm>
            <a:off x="1801800" y="2565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653640" y="511344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柿树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得多么好看，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简直像</a:t>
            </a: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一片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火</a:t>
            </a: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似的。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3" name="Picture 3" descr="1"/>
          <p:cNvPicPr/>
          <p:nvPr/>
        </p:nvPicPr>
        <p:blipFill>
          <a:blip r:embed="rId1"/>
          <a:stretch/>
        </p:blipFill>
        <p:spPr>
          <a:xfrm>
            <a:off x="3995640" y="0"/>
            <a:ext cx="5141880" cy="429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1"/>
          <p:cNvPicPr/>
          <p:nvPr/>
        </p:nvPicPr>
        <p:blipFill>
          <a:blip r:embed="rId2"/>
          <a:stretch/>
        </p:blipFill>
        <p:spPr>
          <a:xfrm>
            <a:off x="0" y="0"/>
            <a:ext cx="5003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908000" y="5229360"/>
            <a:ext cx="618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红香蕉苹果：那么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、那么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艳</a:t>
            </a: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、那么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逗人喜爱</a:t>
            </a: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6" name="Picture 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15640" y="33336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pic>
        <p:nvPicPr>
          <p:cNvPr id="148" name="Picture 3" descr="大金帅苹果2"/>
          <p:cNvPicPr/>
          <p:nvPr/>
        </p:nvPicPr>
        <p:blipFill>
          <a:blip r:embed="rId1"/>
          <a:stretch/>
        </p:blipFill>
        <p:spPr>
          <a:xfrm>
            <a:off x="1187280" y="333360"/>
            <a:ext cx="7272360" cy="47512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515772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大金帅苹果：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金光闪闪</a:t>
            </a: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，呈现出一片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黄澄澄</a:t>
            </a: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的颜色</a:t>
            </a:r>
            <a:r>
              <a:rPr b="0" lang="zh-CN" sz="4400" spc="-1" strike="noStrike">
                <a:solidFill>
                  <a:srgbClr val="4d4d4d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14353"/>
              </a:solidFill>
              <a:latin typeface="Verdana"/>
            </a:endParaRPr>
          </a:p>
        </p:txBody>
      </p:sp>
      <p:pic>
        <p:nvPicPr>
          <p:cNvPr id="151" name="Picture 3" descr="山楂"/>
          <p:cNvPicPr/>
          <p:nvPr/>
        </p:nvPicPr>
        <p:blipFill>
          <a:blip r:embed="rId1"/>
          <a:stretch/>
        </p:blipFill>
        <p:spPr>
          <a:xfrm>
            <a:off x="468360" y="189000"/>
            <a:ext cx="8136000" cy="4608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3501720" y="525636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山楂：缀满了一颗颗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红玛瑙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似的</a:t>
            </a: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果子。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2:43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5:39Z</dcterms:modified>
  <cp:revision>10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