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F5ED-F0D7-4AC7-AC4A-B6B234C4F7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7431-E526-4C97-8F9C-7F2E9233B6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E49-CF43-458A-8F63-05D6E734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C30-AA7C-4873-BDAA-418B6B11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60F-8B3C-4763-88A0-9757781C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726-5B25-4D7E-BDA0-DAFDB1E6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CEC-8AE7-4E5E-A21C-7E23FB8E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39CB-7BCF-4E92-BDC4-97DA5DC3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C1B-0057-4D97-8FB9-5188DB62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40E-0E84-45CC-BF88-6BB74CB0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CF3-D077-4DC5-A4CD-C770840A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D6C-3244-461B-9DA4-068817E8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C8C-51BC-4746-B5D2-DF9FCAD9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1DD-462D-4C4B-AB99-AC2651AC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8C67-EA6A-4B2A-BC68-B0C8BE1B6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285920" y="1685880"/>
            <a:ext cx="6553080" cy="18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ff0000"/>
                </a:solidFill>
                <a:latin typeface="华文新魏"/>
              </a:rPr>
              <a:t>球王贝利</a:t>
            </a:r>
            <a:endParaRPr b="1" lang="en-US" sz="9600" spc="-1" strike="noStrike">
              <a:ln w="0">
                <a:noFill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750680" y="449568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5943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ff0000"/>
                </a:solidFill>
                <a:latin typeface="Arial"/>
                <a:ea typeface="幼圆"/>
              </a:rPr>
              <a:t>贝利的人生真悟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09480" y="2666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幼圆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幼圆"/>
                <a:ea typeface="幼圆"/>
              </a:rPr>
              <a:t>永远不满足，永远不停止前进的步伐。没有最好，只有更好。不要放松自己，因为我们应该明白，我们永远是在逆水。</a:t>
            </a:r>
            <a:r>
              <a:rPr b="0" lang="zh-CN" sz="3200" spc="-1" strike="noStrike">
                <a:solidFill>
                  <a:srgbClr val="0000cc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990720" y="2438280"/>
            <a:ext cx="4647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  <a:ea typeface="幼圆"/>
              </a:rPr>
              <a:t>“</a:t>
            </a:r>
            <a:r>
              <a:rPr b="1" lang="zh-CN" sz="5400" spc="-1" strike="noStrike">
                <a:solidFill>
                  <a:srgbClr val="0000cc"/>
                </a:solidFill>
                <a:latin typeface="幼圆"/>
                <a:ea typeface="幼圆"/>
              </a:rPr>
              <a:t>爱好勤奋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幼圆"/>
                <a:ea typeface="幼圆"/>
              </a:rPr>
              <a:t>勤奋出人才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幼圆"/>
              </a:rPr>
              <a:t>”</a:t>
            </a: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Arial"/>
                <a:ea typeface="华文隶书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读了贝利成长为“一代球王”过程中的这个故事，你得到了什么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an2-13"/>
          <p:cNvPicPr/>
          <p:nvPr/>
        </p:nvPicPr>
        <p:blipFill>
          <a:blip r:embed="rId1"/>
          <a:stretch/>
        </p:blipFill>
        <p:spPr>
          <a:xfrm>
            <a:off x="7391520" y="2895480"/>
            <a:ext cx="780840" cy="952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04920" y="191844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下一个球最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球王贝利不知道踢进过多少好球，他那超凡的球技不仅令千千万万的球迷心醉，而且常常使场上的对手拍手叫绝。有人问贝利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你哪个球踢得最好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贝利回答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下一个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当球王贝利创造进球一千的记录后，有人问他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你对这些球中的哪一个球最满意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贝利意味深长地回答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一千零一个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111840" y="610560"/>
            <a:ext cx="286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写出下面词语的近义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继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随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发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感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喜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准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286000" y="5819760"/>
            <a:ext cx="58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457200" y="1141560"/>
            <a:ext cx="810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改写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小男孩感动了教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把：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被：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小男孩和他的队友第一次捧回了金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把：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被：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34D3-A56A-40AF-9901-0615E4A8E3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530280" y="21646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们喜欢看足球吗？了解足坛名将吗？知道世界上有“球王”之的足球运动员是谁吗？他是怎样步入足坛的呢？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1280" y="76176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cc"/>
                </a:solidFill>
                <a:latin typeface="Arial"/>
                <a:ea typeface="华文隶书"/>
              </a:rPr>
              <a:t>读一读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360" y="1828800"/>
            <a:ext cx="73911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干涸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0" lang="en-US" sz="4000" spc="-1" strike="noStrike">
                <a:solidFill>
                  <a:srgbClr val="0000cc"/>
                </a:solidFill>
                <a:latin typeface="宋体"/>
              </a:rPr>
              <a:t>é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）   膀胱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gu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ā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ng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祈祷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ǎ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）  椰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(y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ē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别墅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sh</a:t>
            </a:r>
            <a:r>
              <a:rPr b="0" lang="en-US" sz="4000" spc="-1" strike="noStrike">
                <a:solidFill>
                  <a:srgbClr val="0000cc"/>
                </a:solidFill>
                <a:latin typeface="宋体"/>
              </a:rPr>
              <a:t>ù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）  铲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(ch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ǎ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n)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拣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ji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ǎ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）来 率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shu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à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）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808000"/>
                </a:solidFill>
                <a:latin typeface="Arial"/>
                <a:ea typeface="隶书"/>
              </a:rPr>
              <a:t>   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685800" y="2261880"/>
            <a:ext cx="79246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贝利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身高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.74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米，原名埃德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阿兰德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纳西门托，贝利是他的雅号。他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94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O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曰出生在巴西的特雷斯科拉索内斯镇的一个贫寒家庭，小时只能赤脚踢球。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岁时，开始代表当地的包鲁俱乐部少年队踢球，使该队连续三年获包鲁市冠军。这位天才少年引起人们注目，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956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，著名的桑托斯队邀其入队，头一年，即攻入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球，成为该队最年轻的射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球王贝利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3"/>
          <p:cNvSpPr/>
          <p:nvPr/>
        </p:nvSpPr>
        <p:spPr>
          <a:xfrm>
            <a:off x="387972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C20100902140000484"/>
          <p:cNvPicPr/>
          <p:nvPr/>
        </p:nvPicPr>
        <p:blipFill>
          <a:blip r:embed="rId1"/>
          <a:stretch/>
        </p:blipFill>
        <p:spPr>
          <a:xfrm>
            <a:off x="2590920" y="380880"/>
            <a:ext cx="40464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SC20100902140001078"/>
          <p:cNvPicPr/>
          <p:nvPr/>
        </p:nvPicPr>
        <p:blipFill>
          <a:blip r:embed="rId1"/>
          <a:stretch/>
        </p:blipFill>
        <p:spPr>
          <a:xfrm>
            <a:off x="3429000" y="533520"/>
            <a:ext cx="3809880" cy="5638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994680" y="914400"/>
            <a:ext cx="1399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贝 利 和 母 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SC20100902140001296"/>
          <p:cNvPicPr/>
          <p:nvPr/>
        </p:nvPicPr>
        <p:blipFill>
          <a:blip r:embed="rId1"/>
          <a:stretch/>
        </p:blipFill>
        <p:spPr>
          <a:xfrm>
            <a:off x="3657600" y="609480"/>
            <a:ext cx="514188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2035800" y="190764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贝利来中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全文分三部分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" y="159984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第一部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贝利从小喜欢踢足球，一位教练送给他一个足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第二部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练被小男孩的真诚感动，让他到训练场参加训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第三部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年后小男孩与巴西队球员一起捧回了世界杯足球赛金杯，他就是“一代球王”贝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7T12:36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7:55Z</dcterms:modified>
  <cp:revision>7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