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22.gif" ContentType="image/gif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F7BD-B1E2-4AA5-93B9-F31A264DDA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8B0F-CB26-47A6-9101-89972E0C1F07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55B-46B1-44B8-9A32-B8844DBE0261}" type="slidenum"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042-A684-4F49-B52F-93C8C9E9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3A1-399B-45C6-8F4A-01FA3A7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3ACDF-EC56-491E-8F4C-CBBBE5AD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48E19-E91F-495E-B0DF-1D25590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C077-EA1F-4FBB-BFFA-DD95BFD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0A0F3-1EBF-4A5F-BED5-0AB6593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59446-B489-4452-BBCB-4205261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075B4-E846-4FC3-A410-F0E73AF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497D8-103B-4953-A041-46F1070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6C319-174E-4940-A85C-C0D8DAA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AE92-F1DB-49C7-8599-F6ADE481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C6AE2-C9FA-41B4-82F7-F6BC72A1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B1B-E4D6-48D7-87ED-A6F442B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012A-9717-4F79-99A2-AC738D44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14428-FC7D-4D30-8F7F-94A85007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B4A52-A1B0-44B8-A9FB-A2F286FC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842B7-80CA-44D5-9ADB-321ACA8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1CBB-7CC8-45A3-88D1-7341440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D0C4D-9240-4006-BABF-2F3E69C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5DCDC-E226-43D2-BD9C-756B330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B7E1-A021-40CD-89FF-79B782A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5FC99-31E6-451B-AF32-DC617BCB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01CD3-83AB-4138-A320-06278D56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7D5-5A9C-4D40-9153-BAB56200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A744-4811-48C3-95DB-EF51266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29CC-2D75-429E-95FA-F8990D2B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5BBD4-DF51-48A0-A23D-79C073C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970E-C7EE-451C-B369-D3F7A96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27363-3E2A-4BE5-918C-2465E8FA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62A10-68CB-4657-8B07-33C9A490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AB36C-6DBC-4D08-B0A9-59A0EEE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77C32-8A7B-4C6B-9C57-F753E8D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72F9-FF86-4C47-95F6-C34B5CD3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3BF2-9377-4823-87EF-6D48B71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98D-E0D8-452B-935A-080EA9FD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E52D5-AD41-4378-8947-D5A774FD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32F6E-46F6-4E22-BD65-5E4FC12A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4CB3C-B921-437A-9592-4BAC0BB2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1C9A-9305-45E2-9DEE-B46C2A8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DF8D7-E923-44CD-8C14-1DA281D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31AE7-48C6-419A-A5C6-949AA57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837A9-921F-4E2E-BFF7-3888FF7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120E-70E8-4F62-8F48-FC9250E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4CB5C-9599-496E-9D0A-6792A3D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2F7D7-0CB6-4D5E-8902-194EF5B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46E-51AA-4413-8FA8-7E9BDBE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4A990-4AF7-4E31-A212-07642FFE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F16F5-F9C8-4E33-B05F-CE3E56D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A894A-6AA3-4E54-9DE7-F9AFA33E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9F0DC-E213-443A-878B-EAE90A4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8F679-EA37-4826-9301-F132AF78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7FCC4-750E-4AB4-9597-C38CDF12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DDE43-26AC-41AD-BD7A-ADDDA0A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195CD-92AA-4946-A8D7-6C0C19F5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D2400-2444-4A4A-A27F-AAF45E9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B2FE3-359D-4D7C-AE96-05184541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340A-66E9-4745-A674-F0AD04B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10DDD-1648-4CBF-85E4-BDC2FF8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7F489-E998-40F1-ABCB-A21448E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5B086-08D4-4DAB-901B-F5F2AF2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FC363-1320-4D83-AD14-A1A43E1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C69DA-81B0-4B20-A816-A7FBE4D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F0604-0B83-46D0-865B-9935BCFF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BF0D4-9118-4D0B-99B6-26B6C0B9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9AED3-F434-4BDC-AFAD-F6A07FB9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497AB-1C8D-45A1-AA62-3E29971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7B0D9-F9FF-4BB3-9CDF-00471586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1F2-3452-4596-B18C-ABDFE641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E1DC6-7C6C-4AB9-BB87-B736A0AA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13271-5B6E-45D1-A24C-7AF9267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2F2E8-B943-49FB-B553-DC25F26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91108-50BF-4E45-9C1C-A013FEB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F51FF-1F95-4F2B-BFAF-CC63E35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0DACC-15E8-4201-8985-C2909D1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3D885-E5ED-4C15-A39A-5EF5B05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21584-A77F-4105-9676-E6B925DA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DD247-03B1-4C66-9A9D-62FEC70D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C94B-499D-45B1-93A3-56140EEB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3FCC-C13C-4437-BB34-F9E5A40B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5B6-39D7-462A-BBD4-28F936A1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6B2-C2C0-4BEE-9F69-21CC0BEC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2C8-2642-4765-BE55-B362562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99A-A5E3-468B-8B98-A8054B9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2CB9-D499-44A6-A7CC-4BD14BCF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B02-41E3-493A-AD84-6515CF0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6B51-B3A5-4F70-A695-DC24472A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85B3-3B58-4F14-970E-8D705CCA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ACB2-1C9B-485B-889E-0EB5FDE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A292-BCC5-4285-B78B-E365D3A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40AA-DC0E-427F-BF61-0BBEB2C2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BA8E-E43D-4E95-BBCF-107AE856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8B1-42BC-45CF-9E8E-5949F244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11E9-F2B0-47B6-9CB3-AE6CED4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EBD8-B0A5-4A8F-A867-09932FEA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F294-015C-463C-A95C-EE6E356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CFBA-0F70-4027-86F0-00DA0F9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4C96-F9AB-4CA1-9BB3-8D3BF23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C8D3-01F7-4E9B-832D-A3A98B12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4F14-C3BA-4C91-AAC5-F47E13AD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68A1-2B09-4680-8BD8-5533E66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49C6-2335-43B3-AEA9-4312845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6896-FE5C-4E41-9A23-8469F57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C1F-524D-4639-AE6E-17F62AC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D81A-36B5-47DB-8719-15C55595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DA58-458A-4C5A-85FB-D35BE9BA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FB32-4C52-4689-865F-6D61946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8D2B-F252-455A-B6E5-115432E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9CD6-F5A7-41B6-8464-080A11D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C828-A7FD-439A-8111-439BDAE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4ED9-2637-4C8A-8D32-142547AB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5C27-C370-4464-92C8-9B04EFE5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C02B-714E-4892-80D6-1EBFFE36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720C-86A4-4B6B-BCC0-85473B13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511-268F-4C84-B16A-ABA095B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6C0D-4DCD-4C03-99D7-2FB4636B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8AA7-B51C-40FD-B652-56F0EFB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1B94-C9F6-4062-AE42-61931D1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76748-B6B2-413E-ABC6-B030968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4C68-2F70-453E-831F-E12A1D98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94EB-F88F-4261-9B65-0E5660D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03D7-4E91-4A32-90B2-084F140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76650-8D1F-4BC0-A010-B5FB8AB2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DB75-733A-4A25-889B-039D2F8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4405-3ED7-4F08-AA1A-8EF9C67F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BFD-C02C-4E49-88B7-2057A1A6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EE69-BF9F-4BBD-BE43-DC014C6A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6B7B-49B9-412D-A5C7-E12093E8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A0CF-F3E8-413C-83EF-57413407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2F5D-CCC3-413E-B7E2-835AB2E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403A6-D47D-4159-BABB-35FB361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EE2C-D817-4C99-9524-9D979F22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000D-350F-4DEF-B9A9-78F152B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939CD-841A-47EC-8BA5-7FCA02F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06C15-0F98-49F0-B19B-E793807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A44B-63AC-4777-A112-AC67FE8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080-3304-4048-BD77-38A277B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19F1-0DF0-494E-8994-91B6983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E8F9-6FF5-4740-9D7A-8DE3CF6F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2066-BAA0-481C-AAEA-5C7881C1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50BC-83F7-4EDB-B34E-10D96B79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4768-19E3-4DD4-863C-30735897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48CE-4F73-4690-AB42-A8BEDD1C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350FA-02E2-438B-881E-FB083FA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62FF8-3916-45E5-B0AB-305ADB2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EF8C-FA53-4CAC-B5F1-B988D832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35EC3-4BB9-47E4-830B-8A6B3E6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FC6-696E-4460-B5FF-A668CA7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042E-8C11-406B-854E-F2AF0D3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3C8BF-95BE-439B-9A7D-4571967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CEA9-64FE-4F7A-89CE-83E7D0EC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6C6E-757B-4FE4-BFC6-0E0B9922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19AD-5849-4ADA-A206-C63958B9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6206-9C78-45C0-BD46-16A60AF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FEAC-90DD-4423-9366-B61C6529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9C9A-66A8-48AC-9836-82D8E564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C965-59B9-42A9-A9E2-0D2FBD20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F959-1D83-4C17-8F04-79253C58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CC3-AFCA-45D1-940D-4780C29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FBC9-66BA-4125-8C69-E7680156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0F44-41ED-4745-B94F-6F6DDC8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A3B0-D3FD-42E3-B972-4376DEB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E418-8B4D-4267-854D-63460D5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018F5-316C-4905-B6A4-90A24E18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8A5F-0437-48F3-876E-5B27D2F5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0256-22FF-42A8-84A3-FDE7F081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9A97D-72C7-4888-BB74-5FA3D8C7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D6E87-2F11-4E22-A82F-C428349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9E4F0-2D50-48CF-B0B0-6E4FAA43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7ED-96DD-42FB-B893-9D91D1249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127-1751-4609-8166-43E4B83A49C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6FB-96BA-4956-9827-C1623459150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0C4-DE63-4DC4-AFA4-1FC548FC985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2123-06EE-4896-AD06-54328007CAE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353-1B54-495E-8F90-CF06E2C3C0D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12E-D4FD-499F-8438-5B1DFE88D4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3C36-059D-44DF-B0FA-B5425F9BC7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774-04D8-4565-BB33-83D7333003F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F5F-EDD1-4B30-8039-1B91AE9A374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2838-B8C6-48BF-B0E0-07C448A67AD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F96-9269-4CB2-918C-88D9340672E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E203-B728-4405-9F6A-E1872A0905A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28FA-B39B-48C3-97BF-D4A1FDCA78E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17173.com/bbs/upload/2005/09/24/112757738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video.sina.com.cn/v/b/97869769-1365359080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my.tupian.com/Group/1361/32196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my.tupian.com/Group/1361/32197.ht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my.tupian.com/Group/1361/32180.htm" TargetMode="External"/><Relationship Id="rId3" Type="http://schemas.openxmlformats.org/officeDocument/2006/relationships/hyperlink" Target="http://my.tupian.com/Group/1361/32189.ht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my.tupian.com/Group/1361/32180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9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9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bs.house.focus.cn/photoshow/2712/1131797.html" TargetMode="External"/><Relationship Id="rId2" Type="http://schemas.openxmlformats.org/officeDocument/2006/relationships/hyperlink" Target="http://bbs.house.focus.cn/photoshow/2712/1131797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258920" y="102240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00000"/>
                </a:solidFill>
                <a:latin typeface="方正舒体"/>
                <a:ea typeface="方正舒体"/>
              </a:rPr>
              <a:t>七月的天山</a:t>
            </a:r>
            <a:endParaRPr b="1" lang="en-US" sz="96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82" name="矩形 5" descr=""/>
          <p:cNvPicPr/>
          <p:nvPr/>
        </p:nvPicPr>
        <p:blipFill>
          <a:blip r:embed="rId2"/>
          <a:stretch/>
        </p:blipFill>
        <p:spPr>
          <a:xfrm>
            <a:off x="1779480" y="56340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5" name="Picture 3" descr="http://lrb.dayoo.com/img/2005-09/28/xin_2109022814397981704640.jpg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8658720" y="-39600"/>
            <a:ext cx="48528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哈纳斯湖不远处的月亮湾，与卧龙湾、神仙湾组成罕见的人间美景，传说嫦娥奔月在此留下了两个脚印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8" name="Picture 3" descr="http://lrb.dayoo.com/img/2005-09/28/xin_2209022814392481682041.jpg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308520" y="0"/>
            <a:ext cx="485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这是与哈萨克斯坦、俄罗斯、蒙古接壤处的原始村寨禾木村，屋前是大片的土豆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11" name="Picture 3" descr="http://lrb.dayoo.com/img/2005-09/28/xin_2309022814396201618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136440" y="6095880"/>
            <a:ext cx="90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那拉提草原位于天山脚下，绿草如茵，山花遍野，是亚洲的四大草原之一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14" name="Picture 3" descr="http://lrb.dayoo.com/img/2005-09/28/xin_24090228143916120169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4"/>
          <p:cNvSpPr/>
          <p:nvPr/>
        </p:nvSpPr>
        <p:spPr>
          <a:xfrm>
            <a:off x="289080" y="5964120"/>
            <a:ext cx="88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这是极少能遇到的云瀑布。两山之间，浓密的白云喷涌而来，稍纵即逝，完全没有定数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243360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17" name="Picture 3" descr="http://tour.huash.com/img/2005-07/20/xin_0b06b3772f4248008c390306291a1d42.jpg"/>
          <p:cNvPicPr/>
          <p:nvPr/>
        </p:nvPicPr>
        <p:blipFill>
          <a:blip r:embed="rId1"/>
          <a:stretch/>
        </p:blipFill>
        <p:spPr>
          <a:xfrm>
            <a:off x="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8470800" y="258840"/>
            <a:ext cx="546120" cy="64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2f37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302f37"/>
                </a:solidFill>
                <a:latin typeface="宋体"/>
              </a:rPr>
              <a:t>赛  里  木  湖</a:t>
            </a:r>
            <a:r>
              <a:rPr b="1" lang="zh-CN" sz="2400" spc="-1" strike="noStrike">
                <a:solidFill>
                  <a:srgbClr val="302f3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>
            <a:hlinkClick r:id="rId1"/>
          </p:cNvPr>
          <p:cNvSpPr/>
          <p:nvPr/>
        </p:nvSpPr>
        <p:spPr>
          <a:xfrm>
            <a:off x="171468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20" name="Picture 3" descr="http://image.17173.com/bbs/upload/2005/09/24/1127577382.jpg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380880" y="0"/>
            <a:ext cx="84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葡    萄    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23760" y="884160"/>
            <a:ext cx="76676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学习目标：</a:t>
            </a:r>
            <a:endParaRPr b="1" lang="en-US" sz="36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、能正确、流利、有感情地朗读课文；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、通读课文，积累好词佳句，从中感受天山的美好，受到美的熏陶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学习重难点：</a:t>
            </a:r>
            <a:endParaRPr b="1" lang="en-US" sz="36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习文中按方位顺序形象具体地描写景物的方法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755640" y="1052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听课文朗读，感受天山的美</a:t>
            </a: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5"/>
          <p:cNvSpPr/>
          <p:nvPr/>
        </p:nvSpPr>
        <p:spPr>
          <a:xfrm>
            <a:off x="826920" y="119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快速读，说说你读懂了什么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3">
            <a:hlinkClick r:id="rId2"/>
          </p:cNvPr>
          <p:cNvSpPr/>
          <p:nvPr/>
        </p:nvSpPr>
        <p:spPr>
          <a:xfrm>
            <a:off x="393876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93640" y="40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0" y="40968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自由把课文朗读一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读边思考下面这个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是按什么顺序来描写天山的？找出相关的语句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059280" y="220500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游览的顺序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12034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653760" y="32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走进天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2124000" y="3213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再往里走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46440" y="321300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走进天山深处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404000" y="4508640"/>
            <a:ext cx="516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快速阅读课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，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文中主要描写了哪些景物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98937f1332e2abe8a7ef3f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>
            <a:hlinkClick r:id="rId2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1143000" y="5181480"/>
            <a:ext cx="32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152280" y="0"/>
            <a:ext cx="6075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雪峰的句子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228600" y="1600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蓝天衬着高耸的巨大的雪峰，太阳下，雪峰间的云影就像白缎上绣了几朵银灰色的花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971640" y="2852640"/>
            <a:ext cx="42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，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826920" y="357336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把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用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1676520" y="4419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1725480" y="5006880"/>
            <a:ext cx="35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把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用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49" name="Text Box 14"/>
          <p:cNvSpPr/>
          <p:nvPr/>
        </p:nvSpPr>
        <p:spPr>
          <a:xfrm>
            <a:off x="2895480" y="2852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比喻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0" name="Text Box 15"/>
          <p:cNvSpPr/>
          <p:nvPr/>
        </p:nvSpPr>
        <p:spPr>
          <a:xfrm>
            <a:off x="2195640" y="342900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雪峰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1" name="Text Box 16"/>
          <p:cNvSpPr/>
          <p:nvPr/>
        </p:nvSpPr>
        <p:spPr>
          <a:xfrm>
            <a:off x="4737600" y="35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白缎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2" name="Text Box 17"/>
          <p:cNvSpPr/>
          <p:nvPr/>
        </p:nvSpPr>
        <p:spPr>
          <a:xfrm>
            <a:off x="228960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白缎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3" name="Text Box 18"/>
          <p:cNvSpPr/>
          <p:nvPr/>
        </p:nvSpPr>
        <p:spPr>
          <a:xfrm>
            <a:off x="480924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雪峰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413440" y="497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云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4708080" y="490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340000" y="5516640"/>
            <a:ext cx="8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4790160" y="5411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云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98937f1332e2abe8a7ef3fe9"/>
          <p:cNvPicPr/>
          <p:nvPr/>
        </p:nvPicPr>
        <p:blipFill>
          <a:blip r:embed="rId1"/>
          <a:stretch/>
        </p:blipFill>
        <p:spPr>
          <a:xfrm>
            <a:off x="-177840" y="-23760"/>
            <a:ext cx="9113760" cy="685476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>
            <a:hlinkClick r:id="rId2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1014480" y="358920"/>
            <a:ext cx="26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雪水的句子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2952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融化的雪水，从高悬的山涧、从峭壁断崖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上飞泻下来，像千百条闪耀的银链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……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900000" y="285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，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457200" y="2362320"/>
            <a:ext cx="46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533520" y="34290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457200" y="38098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2895480" y="434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4876920" y="4343400"/>
            <a:ext cx="202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3909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9" name="Rectangle 15">
            <a:hlinkClick r:id="rId3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1116000" y="3645000"/>
            <a:ext cx="65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把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用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2895480" y="2852640"/>
            <a:ext cx="11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比喻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2124720" y="354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雪水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37600" y="361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银链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4572000" y="414972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雪水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5" name="Text Box 21"/>
          <p:cNvSpPr/>
          <p:nvPr/>
        </p:nvSpPr>
        <p:spPr>
          <a:xfrm>
            <a:off x="214524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银链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98937f1332e2abe8a7ef3fe9"/>
          <p:cNvPicPr/>
          <p:nvPr/>
        </p:nvPicPr>
        <p:blipFill>
          <a:blip r:embed="rId1"/>
          <a:stretch/>
        </p:blipFill>
        <p:spPr>
          <a:xfrm>
            <a:off x="-177840" y="-23760"/>
            <a:ext cx="9113760" cy="685476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"/>
          <p:cNvSpPr/>
          <p:nvPr/>
        </p:nvSpPr>
        <p:spPr>
          <a:xfrm>
            <a:off x="1243080" y="587520"/>
            <a:ext cx="26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溪流的句子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951560" y="1413000"/>
            <a:ext cx="56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在山脚下汇成冲激的溪流，浪花往上抛，形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成千万朵盛开的白莲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457200" y="3124080"/>
            <a:ext cx="46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，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0" name="Rectangle 8">
            <a:hlinkClick r:id="rId2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2319480" y="310824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比喻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1372680" y="3789360"/>
            <a:ext cx="286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把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用＿＿＿＿比作＿＿＿＿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135324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浪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87396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白莲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1424520" y="433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白莲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3729600" y="4187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浪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98937f1332e2abe8a7ef3f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http://www.cszl.com/pweb/0501/2/006.jpg"/>
          <p:cNvPicPr/>
          <p:nvPr/>
        </p:nvPicPr>
        <p:blipFill>
          <a:blip r:embed="rId2"/>
          <a:stretch/>
        </p:blipFill>
        <p:spPr>
          <a:xfrm>
            <a:off x="0" y="415440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沿着白皑皑群峰的雪线以下，是蜿蜒无尽的翠绿的原始森林，密密的塔松像撑开的巨伞，重重叠叠的枝丫，漏下斑斑点点细碎的日影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1570680" y="30481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骑马穿行林中，只听见马蹄溅起漫流在岩石上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的水声，使密林显得更加幽静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2895480" y="4495680"/>
            <a:ext cx="42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始森林有什么特点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2" name="Text Box 7">
            <a:hlinkClick r:id="rId3" action="ppaction://hlinksldjump"/>
          </p:cNvPr>
          <p:cNvSpPr/>
          <p:nvPr/>
        </p:nvSpPr>
        <p:spPr>
          <a:xfrm>
            <a:off x="7162920" y="4495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幽      静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771840" y="304920"/>
            <a:ext cx="29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原始森林的句子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98937f1332e2abe8a7ef3f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3"/>
          <p:cNvSpPr/>
          <p:nvPr/>
        </p:nvSpPr>
        <p:spPr>
          <a:xfrm>
            <a:off x="90360" y="990720"/>
            <a:ext cx="89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在轻轻荡漾着的溪流的两岸，满是高过马头的野花，五彩缤纷，像织不完的锦缎那么绵延，像天边的霞光那么耀眼，像高空的彩虹那么绚烂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659680" y="355284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是一个排比句，也是一个比喻句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0" y="487692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＿＿＿＿＿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8" name="Rectangle 6">
            <a:hlinkClick r:id="rId2" action="ppaction://hlinksldjump"/>
          </p:cNvPr>
          <p:cNvSpPr/>
          <p:nvPr/>
        </p:nvSpPr>
        <p:spPr>
          <a:xfrm>
            <a:off x="2700360" y="4149720"/>
            <a:ext cx="50403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锦缎、霞光、彩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152280" y="274320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野花有什么特点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3809880" y="2743200"/>
            <a:ext cx="28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野花很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5638680" y="2743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五彩缤纷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607320" y="228600"/>
            <a:ext cx="24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野花的句子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390996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3909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39099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391968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390996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39290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9" name="Rectangle 17"/>
          <p:cNvSpPr/>
          <p:nvPr/>
        </p:nvSpPr>
        <p:spPr>
          <a:xfrm>
            <a:off x="3909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10" name="Picture 18" descr="http://www.cszl.com/pweb/0501/2/007.jpg"/>
          <p:cNvPicPr/>
          <p:nvPr/>
        </p:nvPicPr>
        <p:blipFill>
          <a:blip r:embed="rId3"/>
          <a:stretch/>
        </p:blipFill>
        <p:spPr>
          <a:xfrm>
            <a:off x="6516720" y="4543560"/>
            <a:ext cx="2627280" cy="23144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9"/>
          <p:cNvSpPr/>
          <p:nvPr/>
        </p:nvSpPr>
        <p:spPr>
          <a:xfrm>
            <a:off x="971640" y="49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1065600" y="476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野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98937f1332e2abe8a7ef3fe9"/>
          <p:cNvPicPr/>
          <p:nvPr/>
        </p:nvPicPr>
        <p:blipFill>
          <a:blip r:embed="rId1"/>
          <a:stretch/>
        </p:blipFill>
        <p:spPr>
          <a:xfrm>
            <a:off x="0" y="0"/>
            <a:ext cx="9150480" cy="685476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3"/>
          <p:cNvSpPr/>
          <p:nvPr/>
        </p:nvSpPr>
        <p:spPr>
          <a:xfrm>
            <a:off x="0" y="533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马走在花海中，显得格外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矫健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在花海上，显得格外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精神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。”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这句话怎么理解，特别是“矫健” 、“精神”和“浮”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724320" y="2819520"/>
            <a:ext cx="30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矫健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马显得格外精神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0" y="365760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精神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人感到心旷神怡、心花怒放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7" name="Rectangle 6">
            <a:hlinkClick r:id="rId2" action="ppaction://hlinksldjump"/>
          </p:cNvPr>
          <p:cNvSpPr/>
          <p:nvPr/>
        </p:nvSpPr>
        <p:spPr>
          <a:xfrm>
            <a:off x="1797840" y="457200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浮：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形象地写出了花之多，人就像置身在花的海洋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之中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91968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19" name="文本框 1"/>
          <p:cNvSpPr/>
          <p:nvPr/>
        </p:nvSpPr>
        <p:spPr>
          <a:xfrm>
            <a:off x="947880" y="563868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模板下载：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98937f1332e2abe8a7ef3fe9"/>
          <p:cNvPicPr/>
          <p:nvPr/>
        </p:nvPicPr>
        <p:blipFill>
          <a:blip r:embed="rId1"/>
          <a:stretch/>
        </p:blipFill>
        <p:spPr>
          <a:xfrm>
            <a:off x="0" y="3240"/>
            <a:ext cx="9113760" cy="68547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3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304920" y="165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403848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22860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453400" y="14479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虽然天山这时并不是春天，但有哪一个春天的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花园能比得过这时天山的无边繁花呢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4038480" y="2666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反问句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986400" y="3352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把它改为陈述句：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8" name="Text Box 10">
            <a:hlinkClick r:id="rId2" action="ppaction://hlinksldjump"/>
          </p:cNvPr>
          <p:cNvSpPr/>
          <p:nvPr/>
        </p:nvSpPr>
        <p:spPr>
          <a:xfrm>
            <a:off x="782280" y="4114800"/>
            <a:ext cx="366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虽然天山这时并不是春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天，但没有一个春天的花园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能比得过这时天山的无边繁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花。 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2907360" y="609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用一句话来赞美天山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800640" y="26589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什么句子？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31" name="Rectangle 13"/>
          <p:cNvSpPr/>
          <p:nvPr/>
        </p:nvSpPr>
        <p:spPr>
          <a:xfrm>
            <a:off x="21906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32" name="Rectangle 14"/>
          <p:cNvSpPr/>
          <p:nvPr/>
        </p:nvSpPr>
        <p:spPr>
          <a:xfrm>
            <a:off x="390996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33" name="Picture 15" descr="http://www.cszl.com/pweb/0501/2/004.jpg"/>
          <p:cNvPicPr/>
          <p:nvPr/>
        </p:nvPicPr>
        <p:blipFill>
          <a:blip r:embed="rId3"/>
          <a:stretch/>
        </p:blipFill>
        <p:spPr>
          <a:xfrm>
            <a:off x="5354640" y="269892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5"/>
          <p:cNvSpPr/>
          <p:nvPr/>
        </p:nvSpPr>
        <p:spPr>
          <a:xfrm>
            <a:off x="611280" y="549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堂练习：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在括号里填上合适的词语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           ）的雪峰           （          ）的日影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           ）的山涧           （          ）的枝丫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           ）的溪水           （          ）的天山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           ）的原始森林   （          ）地跳跃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有哪一个春天的花能比得上天山的无边繁花呢？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改为陈述句：＿＿＿＿＿＿＿＿＿＿＿＿＿＿＿＿ 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按课文内容填空，并进行仿写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五彩缤纷的野花，像织不完的（          ）那样绵延，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你天边的（          ）那么耀眼，像高空的（          ）那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么绚烂。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仿写：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春雨沙沙地下着，像＿＿＿＿像＿＿＿＿像＿＿＿＿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天上的云多美，像＿＿＿＿ 像 ＿＿＿＿ 像＿＿＿＿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36" name="Picture 6" descr="2009042412382206"/>
          <p:cNvPicPr/>
          <p:nvPr/>
        </p:nvPicPr>
        <p:blipFill>
          <a:blip r:embed="rId2"/>
          <a:stretch/>
        </p:blipFill>
        <p:spPr>
          <a:xfrm flipH="1">
            <a:off x="4572000" y="0"/>
            <a:ext cx="1295280" cy="115236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7"/>
          <p:cNvSpPr/>
          <p:nvPr/>
        </p:nvSpPr>
        <p:spPr>
          <a:xfrm>
            <a:off x="4067280" y="515772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牛毛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5508720" y="5157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花针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694836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细丝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3833640" y="5537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棉花糖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5364000" y="558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蘑菇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6948360" y="558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雪花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5CF-FDFC-4A9A-AF2C-2426698474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0" y="0"/>
            <a:ext cx="914400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课文介绍</a:t>
            </a:r>
            <a:endParaRPr b="1" lang="en-US" sz="48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本文选自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天山景物记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，作者碧野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天山简介</a:t>
            </a:r>
            <a:endParaRPr b="1" lang="en-US" sz="48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天山在我国新疆维吾尔自治区中部，是我国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西北边疆的一条大山脉，连绵几千里，横亘塔里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木盆地和准葛尔盆地之间，把广阔的新疆分为南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北两半。天山终年积雪，盛夏，戈壁滩上虽然炎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暑逼人，但一进入天山便凉爽宜人，则是另一番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天地了。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19060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87" name="Picture 3" descr="http://www.jx.xinhuanet.com/jcdd/2004-11/08/xin_191101021123968270563.jpg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-57600" y="0"/>
            <a:ext cx="7290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冰   雪   天   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89" name="Richard Clayderman-梦中的婚礼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520560" cy="520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19060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91" name="Picture 3" descr="http://info.westpower.com.cn/cgi-bin/GInfo.dll?PicInfo&amp;w=westpower&amp;pid=320719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0" y="644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是天山主峰博格达雪线附近难得一见的野生雪莲花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26668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94" name="Picture 3" descr="0121.jpg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-149760" y="487440"/>
            <a:ext cx="60696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天           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>
            <a:hlinkClick r:id="rId1"/>
          </p:cNvPr>
          <p:cNvSpPr/>
          <p:nvPr/>
        </p:nvSpPr>
        <p:spPr>
          <a:xfrm>
            <a:off x="18572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97" name="Picture 3" descr="http://bbsimg.house.focus.cn/upload/photos/2712/cAJsUJLz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2833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99" name="Picture 3" descr="http://pic.enorth.com.cn/0/01/55/07/1550778_9951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212760" y="617220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  山  的  牧  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2" name="Picture 3" descr="http://lrb.dayoo.com/img/2005-09/28/xin_23090228143915912366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136440" y="6507000"/>
            <a:ext cx="900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山果子沟是进入天山腹地的必经之地，路边野果遍地，无果之处花儿红</a:t>
            </a:r>
            <a:endParaRPr b="1" lang="en-US" sz="20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p:transition spd="slow"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5:1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1:55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