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061D-E4D7-4728-9673-CA4735839A4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DEFC-EE14-430F-84BF-33E0EDB0B6B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0A98-B215-4147-9F1A-9D157E7FA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5D4A-E8D0-421B-94AF-D8BF81F7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1555-3D7D-4DC3-AAAA-3D408209E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41A0-D401-4369-BFE9-90DABD86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8904-DCB8-4DB7-8729-F17013E5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FC42-2407-4666-A4B0-5599CB57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15E9-7703-4265-AC92-56F9FF0F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3EC4-5097-4D4A-90E2-95FE7FBA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C7CD-2E8C-4F39-AA0B-8CC56B33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DE73-6F5C-4816-A17A-86AE84BE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AC99-8D35-4CC7-A171-08A36564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93D7-90CF-444D-9B14-C236807D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A323-9F46-4D4E-B740-2DFD6B0DE4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矩形 3" descr=""/>
          <p:cNvPicPr/>
          <p:nvPr/>
        </p:nvPicPr>
        <p:blipFill>
          <a:blip r:embed="rId1"/>
          <a:stretch/>
        </p:blipFill>
        <p:spPr>
          <a:xfrm>
            <a:off x="1506600" y="1700280"/>
            <a:ext cx="6396120" cy="2351160"/>
          </a:xfrm>
          <a:prstGeom prst="rect">
            <a:avLst/>
          </a:prstGeom>
          <a:ln w="0">
            <a:noFill/>
          </a:ln>
        </p:spPr>
      </p:pic>
      <p:sp>
        <p:nvSpPr>
          <p:cNvPr id="49" name="矩形 2"/>
          <p:cNvSpPr/>
          <p:nvPr/>
        </p:nvSpPr>
        <p:spPr>
          <a:xfrm>
            <a:off x="1730160" y="538164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611280" y="438120"/>
            <a:ext cx="45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0a0"/>
                </a:solidFill>
                <a:latin typeface="黑体"/>
                <a:ea typeface="黑体"/>
              </a:rPr>
              <a:t>学习第三自然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684360" y="1268280"/>
            <a:ext cx="792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楷体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70c0"/>
                </a:solidFill>
                <a:latin typeface="华文楷体"/>
                <a:ea typeface="华文楷体"/>
              </a:rPr>
              <a:t>这句话是对冰心一生的总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楷体"/>
                <a:ea typeface="华文楷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五四”</a:t>
            </a:r>
            <a:r>
              <a:rPr b="1" lang="zh-CN" sz="2800" spc="-1" strike="noStrike">
                <a:solidFill>
                  <a:srgbClr val="0070c0"/>
                </a:solidFill>
                <a:latin typeface="华文楷体"/>
                <a:ea typeface="华文楷体"/>
              </a:rPr>
              <a:t>元老说明她在青年时期就积极提倡新道德，提倡男女平等，个性解放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楷体"/>
                <a:ea typeface="华文楷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隽永清丽”</a:t>
            </a:r>
            <a:r>
              <a:rPr b="1" lang="zh-CN" sz="2800" spc="-1" strike="noStrike">
                <a:solidFill>
                  <a:srgbClr val="0070c0"/>
                </a:solidFill>
                <a:latin typeface="华文楷体"/>
                <a:ea typeface="华文楷体"/>
              </a:rPr>
              <a:t>是指她的写作风格，这种风格曾被称为“冰心体”，产生了广泛的影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楷体"/>
                <a:ea typeface="华文楷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近百年”</a:t>
            </a:r>
            <a:r>
              <a:rPr b="1" lang="zh-CN" sz="2800" spc="-1" strike="noStrike">
                <a:solidFill>
                  <a:srgbClr val="0070c0"/>
                </a:solidFill>
                <a:latin typeface="华文楷体"/>
                <a:ea typeface="华文楷体"/>
              </a:rPr>
              <a:t>是说她从</a:t>
            </a:r>
            <a:r>
              <a:rPr b="1" lang="en-US" sz="2800" spc="-1" strike="noStrike">
                <a:solidFill>
                  <a:srgbClr val="0070c0"/>
                </a:solidFill>
                <a:latin typeface="华文楷体"/>
                <a:ea typeface="华文楷体"/>
              </a:rPr>
              <a:t>1900</a:t>
            </a:r>
            <a:r>
              <a:rPr b="1" lang="zh-CN" sz="2800" spc="-1" strike="noStrike">
                <a:solidFill>
                  <a:srgbClr val="0070c0"/>
                </a:solidFill>
                <a:latin typeface="华文楷体"/>
                <a:ea typeface="华文楷体"/>
              </a:rPr>
              <a:t>年出生到</a:t>
            </a:r>
            <a:r>
              <a:rPr b="1" lang="en-US" sz="2800" spc="-1" strike="noStrike">
                <a:solidFill>
                  <a:srgbClr val="0070c0"/>
                </a:solidFill>
                <a:latin typeface="华文楷体"/>
                <a:ea typeface="华文楷体"/>
              </a:rPr>
              <a:t>1999</a:t>
            </a:r>
            <a:r>
              <a:rPr b="1" lang="zh-CN" sz="2800" spc="-1" strike="noStrike">
                <a:solidFill>
                  <a:srgbClr val="0070c0"/>
                </a:solidFill>
                <a:latin typeface="华文楷体"/>
                <a:ea typeface="华文楷体"/>
              </a:rPr>
              <a:t>年去世，享年</a:t>
            </a:r>
            <a:r>
              <a:rPr b="1" lang="en-US" sz="2800" spc="-1" strike="noStrike">
                <a:solidFill>
                  <a:srgbClr val="0070c0"/>
                </a:solidFill>
                <a:latin typeface="华文楷体"/>
                <a:ea typeface="华文楷体"/>
              </a:rPr>
              <a:t>99</a:t>
            </a:r>
            <a:r>
              <a:rPr b="1" lang="zh-CN" sz="2800" spc="-1" strike="noStrike">
                <a:solidFill>
                  <a:srgbClr val="0070c0"/>
                </a:solidFill>
                <a:latin typeface="华文楷体"/>
                <a:ea typeface="华文楷体"/>
              </a:rPr>
              <a:t>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楷体"/>
                <a:ea typeface="华文楷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诗意的结局落幕”</a:t>
            </a:r>
            <a:r>
              <a:rPr b="1" lang="zh-CN" sz="2800" spc="-1" strike="noStrike">
                <a:solidFill>
                  <a:srgbClr val="0070c0"/>
                </a:solidFill>
                <a:latin typeface="华文楷体"/>
                <a:ea typeface="华文楷体"/>
              </a:rPr>
              <a:t>是指她的灵堂以蓝色和红色为主色调，不放哀乐而放海涛和海浪的录音。可以说这句话是对冰心一生的简单概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684360" y="83664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黑体"/>
                <a:ea typeface="黑体"/>
              </a:rPr>
              <a:t>学习第四、五、六自然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684360" y="1916280"/>
            <a:ext cx="74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中提到最多的是什么花？为什么要将无数的玫瑰花瓣撒在老人身上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600" spc="-1" strike="noStrike">
                <a:solidFill>
                  <a:srgbClr val="0070c0"/>
                </a:solidFill>
                <a:latin typeface="华文楷体"/>
                <a:ea typeface="华文楷体"/>
              </a:rPr>
              <a:t>一开始我们听了一篇文章，理解到了冰心生前与玫瑰花有着很深的渊源，她很喜欢玫瑰花，她一生朴实无华，不让儿女奢侈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547560" y="155736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怎么理解冰心自写的“有了爱就有了一切”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zh-CN" sz="3200" spc="-1" strike="noStrike">
                <a:solidFill>
                  <a:srgbClr val="0070c0"/>
                </a:solidFill>
                <a:latin typeface="华文楷体"/>
                <a:ea typeface="华文楷体"/>
              </a:rPr>
              <a:t>“</a:t>
            </a:r>
            <a:r>
              <a:rPr b="1" lang="zh-CN" sz="3200" spc="-1" strike="noStrike">
                <a:solidFill>
                  <a:srgbClr val="0070c0"/>
                </a:solidFill>
                <a:latin typeface="华文楷体"/>
                <a:ea typeface="华文楷体"/>
              </a:rPr>
              <a:t>有了爱就有了一切”的精神贯穿着她的一生，她的文字一直在感受爱，诠释爱，传播爱，并布施爱。她以“具有柔和细腻的笔调，微带忧愁的色彩，委婉含蓄的手法和清新明丽的语言”，用温柔的情思和淡淡的忧愁感染读者，把读者带进诗一般美妙的境界，以她永远的爱心，表达着世间最真最美的情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539640" y="620640"/>
            <a:ext cx="871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黑体"/>
                <a:ea typeface="黑体"/>
              </a:rPr>
              <a:t>学习第七、八、九、十、十一自然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755640" y="2637000"/>
            <a:ext cx="77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中字里行间饱含着人们对冰心老人的</a:t>
            </a:r>
            <a:r>
              <a:rPr b="1" lang="zh-CN" sz="3600" spc="-1" strike="noStrike">
                <a:solidFill>
                  <a:srgbClr val="c00000"/>
                </a:solidFill>
                <a:latin typeface="华文楷体"/>
                <a:ea typeface="华文楷体"/>
              </a:rPr>
              <a:t>崇敬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zh-CN" sz="3600" spc="-1" strike="noStrike">
                <a:solidFill>
                  <a:srgbClr val="c00000"/>
                </a:solidFill>
                <a:latin typeface="华文楷体"/>
                <a:ea typeface="华文楷体"/>
              </a:rPr>
              <a:t>怀念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之情，</a:t>
            </a:r>
            <a:r>
              <a:rPr b="1" lang="zh-CN" sz="3600" spc="-1" strike="noStrike">
                <a:solidFill>
                  <a:srgbClr val="c00000"/>
                </a:solidFill>
                <a:latin typeface="华文楷体"/>
                <a:ea typeface="华文楷体"/>
              </a:rPr>
              <a:t>人们这样怀念她，是因为她一生对人民对祖国的贡献之大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下面我们就来学习第三自然段，看看这位伟大人物在中国文学史上的特殊地位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755640" y="692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600" spc="-1" strike="noStrike">
                <a:solidFill>
                  <a:srgbClr val="0070c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70c0"/>
                </a:solidFill>
                <a:latin typeface="华文楷体"/>
                <a:ea typeface="华文楷体"/>
              </a:rPr>
              <a:t>7~11</a:t>
            </a:r>
            <a:r>
              <a:rPr b="1" lang="zh-CN" sz="3600" spc="-1" strike="noStrike">
                <a:solidFill>
                  <a:srgbClr val="0070c0"/>
                </a:solidFill>
                <a:latin typeface="华文楷体"/>
                <a:ea typeface="华文楷体"/>
              </a:rPr>
              <a:t>自然段描写了许多中外人士对冰心的悼念，人们为什么这样怀念她呢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755640" y="549360"/>
            <a:ext cx="53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0a0"/>
                </a:solidFill>
                <a:latin typeface="黑体"/>
                <a:ea typeface="黑体"/>
              </a:rPr>
              <a:t>学习第十二自然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755640" y="1595520"/>
            <a:ext cx="777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体会葬礼凝重、沉闷的气氛是什么样子，涛声相伴、玫瑰满堂的温馨葬礼又是什么样子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0070c0"/>
                </a:solidFill>
                <a:latin typeface="华文楷体"/>
                <a:ea typeface="华文楷体"/>
              </a:rPr>
              <a:t>冰心老人一直看淡人生，不追求奢侈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课文前两个自然段和第十二自然段有什么相似之处？这样写有什好处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0070c0"/>
                </a:solidFill>
                <a:latin typeface="华文楷体"/>
                <a:ea typeface="华文楷体"/>
              </a:rPr>
              <a:t>都描写了葬礼的独特。前后文呼应，为了更凸现冰心老人的人格魅力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1208160" y="1773360"/>
            <a:ext cx="6697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课文最后一段以诗的语言，表达了对冰心老人的</a:t>
            </a:r>
            <a:r>
              <a:rPr b="1" lang="zh-CN" sz="4000" spc="-1" strike="noStrike">
                <a:solidFill>
                  <a:srgbClr val="0070c0"/>
                </a:solidFill>
                <a:latin typeface="华文楷体"/>
                <a:ea typeface="华文楷体"/>
              </a:rPr>
              <a:t>崇敬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zh-CN" sz="4000" spc="-1" strike="noStrike">
                <a:solidFill>
                  <a:srgbClr val="0070c0"/>
                </a:solidFill>
                <a:latin typeface="华文楷体"/>
                <a:ea typeface="华文楷体"/>
              </a:rPr>
              <a:t>怀念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之情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468360" y="692280"/>
            <a:ext cx="820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0a0"/>
                </a:solidFill>
                <a:latin typeface="黑体"/>
                <a:ea typeface="黑体"/>
              </a:rPr>
              <a:t>拓展阅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黑体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7030a0"/>
                </a:solidFill>
                <a:latin typeface="黑体"/>
                <a:ea typeface="黑体"/>
              </a:rPr>
              <a:t>玫瑰的荫下（冰心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3132000" y="2733840"/>
            <a:ext cx="5112000" cy="40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衣裳上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书页上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都闪烁着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叶底细碎的朝阳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　　　　　　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3"/>
          <p:cNvSpPr/>
          <p:nvPr/>
        </p:nvSpPr>
        <p:spPr>
          <a:xfrm>
            <a:off x="2556000" y="981000"/>
            <a:ext cx="4032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折下一朵来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等着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等着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浓红的花瓣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正好衬她雪白的衣裳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冰凉的石阶上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坐着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坐着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等她不来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只闻见手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玫瑰的幽香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2771640" y="765000"/>
            <a:ext cx="33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0a0"/>
                </a:solidFill>
                <a:latin typeface="黑体"/>
                <a:ea typeface="黑体"/>
              </a:rPr>
              <a:t>拓展延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1042920" y="1700280"/>
            <a:ext cx="720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通过这篇课文的学习，你对冰心的了解又增加了哪些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带着对冰心深深的缅怀之情，阅读她的代表作品或是其他著名人士悼念冰心的作品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矩形 3" descr=""/>
          <p:cNvPicPr/>
          <p:nvPr/>
        </p:nvPicPr>
        <p:blipFill>
          <a:blip r:embed="rId1"/>
          <a:stretch/>
        </p:blipFill>
        <p:spPr>
          <a:xfrm>
            <a:off x="2987640" y="2276640"/>
            <a:ext cx="3956040" cy="186660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1"/>
          <p:cNvSpPr/>
          <p:nvPr/>
        </p:nvSpPr>
        <p:spPr>
          <a:xfrm>
            <a:off x="673200" y="5568840"/>
            <a:ext cx="604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2484360" y="62064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华文隶书"/>
                <a:ea typeface="华文隶书"/>
              </a:rPr>
              <a:t>生字学习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863640" y="256536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坛      厅      悼      缓      躯      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684360" y="1628640"/>
            <a:ext cx="73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华文细黑"/>
                <a:ea typeface="华文细黑"/>
              </a:rPr>
              <a:t>tán    tīng    dào   huǎn   qū     lǎ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863640" y="429264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誉      葬      凝      氛      慈      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684360" y="350028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华文细黑"/>
                <a:ea typeface="华文细黑"/>
              </a:rPr>
              <a:t>yù    zàng  níng    fēn      cí    xiá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0341-9490-447B-A044-D133C19FB9C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611280" y="620640"/>
            <a:ext cx="79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黑体"/>
                <a:ea typeface="黑体"/>
              </a:rPr>
              <a:t>导入</a:t>
            </a:r>
            <a:r>
              <a:rPr b="1" lang="en-US" sz="4400" spc="-1" strike="noStrike">
                <a:solidFill>
                  <a:srgbClr val="c00000"/>
                </a:solidFill>
                <a:latin typeface="黑体"/>
                <a:ea typeface="黑体"/>
              </a:rPr>
              <a:t>——</a:t>
            </a:r>
            <a:r>
              <a:rPr b="1" lang="zh-CN" sz="4400" spc="-1" strike="noStrike">
                <a:solidFill>
                  <a:srgbClr val="c00000"/>
                </a:solidFill>
                <a:latin typeface="黑体"/>
                <a:ea typeface="黑体"/>
              </a:rPr>
              <a:t>我和玫瑰花（节选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611280" y="1773360"/>
            <a:ext cx="79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和玫瑰花接触，是从青年时代开始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记得在童年时代，在烟台父亲的花园里，只看到有江西腊梅、秋海棠和菊花等等。在福州祖父的花园里，看到的尽是莲花和兰花。兰花有一种清香，但很娇贵，剪花时要用竹剪子。还很怕蚂蚁，花盆架子的四条腿子，还得垫上四只水杯，阻止蚂蚁爬上去。用的肥料，是浸过黑豆的臭水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3"/>
          <p:cNvSpPr/>
          <p:nvPr/>
        </p:nvSpPr>
        <p:spPr>
          <a:xfrm>
            <a:off x="1547640" y="22827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971640" y="119700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差不多与此同时，我就开始看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红楼梦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看到小厮兴儿对尤三姐形容探春，形容得很传神的句子，他说：“三姑娘的混名儿叫‘玫瑰花儿’，又红又香，无人不爱，只是有刺扎手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”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就对这种既浓艳又有风骨的花，十分向往，但我那时还没有具体领略到她的色香，和那尖锐的刺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684360" y="98100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直到一九一八年的秋季，我进了大学，那时协和女大的校址，是在北京灯市口佟府夹道（后改同福夹道）。这本是清朝佟王的府邸，女大的大礼堂就是这王府的大厅堂三间打通改成的。厅前的台阶很高，走廊也很长，廊前台阶两旁就种着一行猩红的玫瑰。这玫瑰真是“又红又香，无人不爱”，而且花朵也大到像一只碟子！我们同学们都爱摘下一朵含苞的花蕊，插在髻上。当然我们在攀摘时也很小心花枝上的尖刺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1403280" y="1700280"/>
            <a:ext cx="61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华文楷体"/>
                <a:ea typeface="华文楷体"/>
              </a:rPr>
              <a:t>        </a:t>
            </a:r>
            <a:r>
              <a:rPr b="1" lang="zh-CN" sz="3600" spc="-1" strike="noStrike">
                <a:solidFill>
                  <a:srgbClr val="7030a0"/>
                </a:solidFill>
                <a:latin typeface="华文楷体"/>
                <a:ea typeface="华文楷体"/>
              </a:rPr>
              <a:t>刚才我们从文章中听到最多的是玫瑰花。现在，同学们了解了冰心奶奶和玫瑰花的渊源了吧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990720" y="1268280"/>
            <a:ext cx="72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前几课的学习及课外的阅读，我们与冰心老人的距离越来越近，从冰心老人的身上，我们感受到了爱的熏陶和感染。但这位受我们尊敬和爱戴的老人永远离我们而去，让我们学习课文再去感受和冰心奶奶最后的离别吧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-62640" y="1052640"/>
            <a:ext cx="18262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030a0"/>
                </a:solidFill>
                <a:latin typeface="黑体"/>
                <a:ea typeface="黑体"/>
              </a:rPr>
              <a:t>问题思考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1763640" y="981000"/>
            <a:ext cx="676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zh-CN" sz="3600" spc="-1" strike="noStrike">
                <a:solidFill>
                  <a:srgbClr val="00b050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00b050"/>
                </a:solidFill>
                <a:latin typeface="华文楷体"/>
                <a:ea typeface="华文楷体"/>
              </a:rPr>
              <a:t>送别”是什么意思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不舍分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600" spc="-1" strike="noStrike">
                <a:solidFill>
                  <a:srgbClr val="00b050"/>
                </a:solidFill>
                <a:latin typeface="华文楷体"/>
                <a:ea typeface="华文楷体"/>
              </a:rPr>
              <a:t>你从课题中的“送别”体会到了一种什么情感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冰心老人虽然离我们而去，但她永远活在人们的心中，今天，全国各界人士怀着对冰心老人的爱戴之情来送别她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611280" y="692280"/>
            <a:ext cx="46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黑体"/>
                <a:ea typeface="黑体"/>
              </a:rPr>
              <a:t>学习前两个自然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611280" y="1628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楷体"/>
                <a:ea typeface="华文楷体"/>
              </a:rPr>
              <a:t>带着对冰心老人的怀念之情朗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611280" y="249228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中介绍了冰心送别仪式的独特之处是什么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600" spc="-1" strike="noStrike">
                <a:solidFill>
                  <a:srgbClr val="0070c0"/>
                </a:solidFill>
                <a:latin typeface="华文楷体"/>
                <a:ea typeface="华文楷体"/>
              </a:rPr>
              <a:t>没有肃穆的黑色，没有低回的哀乐，精心设计的灵堂，以大海的蓝色和玫瑰的红色为主色调，放海涛海浪的录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3:53:4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3:37Z</dcterms:modified>
  <cp:revision>1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