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6A24-5644-48BD-81FC-60000650B4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8B33-8C2F-45AA-9D8D-7515E2D9DA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4FC-8E02-4E44-B3CC-B081A62D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61D-A1E8-43F1-AC87-2CAC0108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D40-BC48-459C-B390-99E0188E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F04-4C6B-4C9E-A09B-44F4FF5A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CA5-DE0F-4B8E-A751-FDBDEEA0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0CF-1136-473D-85D2-92383CC1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633-AA57-4E29-B1B4-84399E2D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B10-BFA4-4553-9D4A-D1769D3A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6DB-73A6-45B9-A374-94849D08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902-0A74-4DDA-83C1-4A22F329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68E-5997-469D-91D1-24D815A9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792-C5A1-4C97-AE9F-EF1F8CC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B3C1-92E0-43E8-911E-E1DDE67E10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763640" y="2349360"/>
            <a:ext cx="554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送报的少年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9" name="Picture 6" descr="MCj04240280000[1]"/>
          <p:cNvPicPr/>
          <p:nvPr/>
        </p:nvPicPr>
        <p:blipFill>
          <a:blip r:embed="rId3"/>
          <a:stretch/>
        </p:blipFill>
        <p:spPr>
          <a:xfrm>
            <a:off x="6950160" y="3699000"/>
            <a:ext cx="1562040" cy="212724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1887120" y="6093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细读感悟"/>
          <p:cNvPicPr/>
          <p:nvPr/>
        </p:nvPicPr>
        <p:blipFill>
          <a:blip r:embed="rId1"/>
          <a:stretch/>
        </p:blipFill>
        <p:spPr>
          <a:xfrm>
            <a:off x="539640" y="836640"/>
            <a:ext cx="1943280" cy="520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116000" y="1700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儿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笑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起来：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他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是干什么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是干什么的，我进了大学还要攻读硕士、博士，还要出国留学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258920" y="3284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儿子”对送报的少年的勤劳是怎样的一种态度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1403280" y="4437000"/>
            <a:ext cx="18734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瞧不起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684360" y="1413000"/>
            <a:ext cx="82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他把报纸交给我后，笑吟吟地说：“万老师，从明天起，这报纸还是由我爸爸送。” 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我随口问：“那你呢？” 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少年说：“我被北京大学录取了，明天去上学。” 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我惊讶得不知说什么好。那少年又补充道：“我爸是个下岗工人，身体不大好，以后若送迟了，您多包涵！” 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少年深深地朝我鞠了一躬，便下楼去了。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细读感悟"/>
          <p:cNvPicPr/>
          <p:nvPr/>
        </p:nvPicPr>
        <p:blipFill>
          <a:blip r:embed="rId1"/>
          <a:stretch/>
        </p:blipFill>
        <p:spPr>
          <a:xfrm>
            <a:off x="539640" y="836640"/>
            <a:ext cx="194328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611280" y="1371600"/>
            <a:ext cx="82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他把报纸交给我后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笑吟吟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地说：“万老师，从明天起，这报纸还是由我爸爸送。” 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我随口问：“那你呢？” 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少年说：“我被北京大学录取了，明天去上学。” 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惊讶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得不知说什么好。那少年又补充道：“我爸是个下岗工人，身体不大好，以后若送迟了，您多包涵！” 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少年深深地朝我鞠了一躬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，便下楼去了。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细读感悟"/>
          <p:cNvPicPr/>
          <p:nvPr/>
        </p:nvPicPr>
        <p:blipFill>
          <a:blip r:embed="rId1"/>
          <a:stretch/>
        </p:blipFill>
        <p:spPr>
          <a:xfrm>
            <a:off x="539640" y="836640"/>
            <a:ext cx="194328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258920" y="2781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我”为什么会“惊讶得不知说什么好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细读感悟"/>
          <p:cNvPicPr/>
          <p:nvPr/>
        </p:nvPicPr>
        <p:blipFill>
          <a:blip r:embed="rId1"/>
          <a:stretch/>
        </p:blipFill>
        <p:spPr>
          <a:xfrm>
            <a:off x="539640" y="836640"/>
            <a:ext cx="1943280" cy="520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258920" y="378936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少年深深地朝我鞠了一躬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说明少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什么品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258920" y="1773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4288950000[1]"/>
          <p:cNvPicPr/>
          <p:nvPr/>
        </p:nvPicPr>
        <p:blipFill>
          <a:blip r:embed="rId2"/>
          <a:stretch/>
        </p:blipFill>
        <p:spPr>
          <a:xfrm>
            <a:off x="6948360" y="4292640"/>
            <a:ext cx="1784520" cy="157968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"/>
          <p:cNvSpPr/>
          <p:nvPr/>
        </p:nvSpPr>
        <p:spPr>
          <a:xfrm>
            <a:off x="539640" y="5237280"/>
            <a:ext cx="54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拓展学习"/>
          <p:cNvPicPr/>
          <p:nvPr/>
        </p:nvPicPr>
        <p:blipFill>
          <a:blip r:embed="rId1"/>
          <a:stretch/>
        </p:blipFill>
        <p:spPr>
          <a:xfrm>
            <a:off x="468360" y="907920"/>
            <a:ext cx="2016000" cy="4986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11280" y="2133720"/>
            <a:ext cx="8137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联系课文，说说你对两位少年的印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儿子呆呆地站着，仿佛有了什么心事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可能有了什么心事呢？与同学交流交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0BCA-FF85-420F-8277-97F62069E1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2852640"/>
            <a:ext cx="75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捷  腼  腆  鞠  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55640" y="2565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268360" y="2565360"/>
            <a:ext cx="130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780000" y="2565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435640" y="2492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804000" y="24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900000" y="11667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187280" y="2060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不论晴天雨天，他都来得很准时。门没开的时候，他总是轻轻地把报纸塞进报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细读感悟"/>
          <p:cNvPicPr/>
          <p:nvPr/>
        </p:nvPicPr>
        <p:blipFill>
          <a:blip r:embed="rId1"/>
          <a:stretch/>
        </p:blipFill>
        <p:spPr>
          <a:xfrm>
            <a:off x="539640" y="836640"/>
            <a:ext cx="194328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细读感悟"/>
          <p:cNvPicPr/>
          <p:nvPr/>
        </p:nvPicPr>
        <p:blipFill>
          <a:blip r:embed="rId1"/>
          <a:stretch/>
        </p:blipFill>
        <p:spPr>
          <a:xfrm>
            <a:off x="539640" y="836640"/>
            <a:ext cx="1943280" cy="520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258920" y="227664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187280" y="2060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不论晴天雨天，他都来得很准时。门没开的时候，他总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轻轻地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把报纸塞进报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1"/>
          <p:cNvSpPr txBox="1"/>
          <p:nvPr/>
        </p:nvSpPr>
        <p:spPr>
          <a:xfrm>
            <a:off x="1476360" y="3429000"/>
            <a:ext cx="362412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懂礼貌，怕吵醒人们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5"/>
          <p:cNvSpPr/>
          <p:nvPr/>
        </p:nvSpPr>
        <p:spPr>
          <a:xfrm>
            <a:off x="3419640" y="35002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细读感悟"/>
          <p:cNvPicPr/>
          <p:nvPr/>
        </p:nvPicPr>
        <p:blipFill>
          <a:blip r:embed="rId1"/>
          <a:stretch/>
        </p:blipFill>
        <p:spPr>
          <a:xfrm>
            <a:off x="468360" y="836640"/>
            <a:ext cx="1942920" cy="520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71640" y="1773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曾与他闲聊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liáo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过，得知他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天凌晨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就起床，要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百多户人家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送报，而且都是楼房住户，因此，他每天得上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近万级台阶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042920" y="3357720"/>
            <a:ext cx="648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表明少年的家庭经济环境不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表现少年成熟、懂事的性格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细读感悟"/>
          <p:cNvPicPr/>
          <p:nvPr/>
        </p:nvPicPr>
        <p:blipFill>
          <a:blip r:embed="rId1"/>
          <a:stretch/>
        </p:blipFill>
        <p:spPr>
          <a:xfrm>
            <a:off x="539640" y="836640"/>
            <a:ext cx="1943280" cy="520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116000" y="1844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大早，他的短袖衬衣就湿透了一大截，但他的车铃却拨弄得很快活，小圆脸上闪着一双清亮的眼睛，见人就腼腆地笑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细读感悟"/>
          <p:cNvPicPr/>
          <p:nvPr/>
        </p:nvPicPr>
        <p:blipFill>
          <a:blip r:embed="rId1"/>
          <a:stretch/>
        </p:blipFill>
        <p:spPr>
          <a:xfrm>
            <a:off x="539640" y="907920"/>
            <a:ext cx="1943280" cy="520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116000" y="1844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大早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他的短袖衬衣就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湿透了一大截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但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的车铃却拨弄得很快活，小圆脸上闪着一双清亮的眼睛，见人就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腼腆地笑着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187280" y="3573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说明了这个少年有着什么样的性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1403280" y="4292640"/>
            <a:ext cx="27352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乐观向上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细读感悟"/>
          <p:cNvPicPr/>
          <p:nvPr/>
        </p:nvPicPr>
        <p:blipFill>
          <a:blip r:embed="rId1"/>
          <a:stretch/>
        </p:blipFill>
        <p:spPr>
          <a:xfrm>
            <a:off x="539640" y="836640"/>
            <a:ext cx="1943280" cy="520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971640" y="191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望着儿子，我高兴的同时，心中也掠过一种莫名的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900000" y="3284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为什么“我”高兴的同时心中也掠过一种莫名的感觉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细读感悟"/>
          <p:cNvPicPr/>
          <p:nvPr/>
        </p:nvPicPr>
        <p:blipFill>
          <a:blip r:embed="rId1"/>
          <a:stretch/>
        </p:blipFill>
        <p:spPr>
          <a:xfrm>
            <a:off x="539640" y="836640"/>
            <a:ext cx="1943280" cy="5205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1042920" y="177336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多钟了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他还穿着睡衣，蜷缩在空调还呼呼作响的卧室里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天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几乎都是这样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呼万唤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才起床洗漱，然后打开电视，靠在沙发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边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啜（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chuò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饮牛奶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边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不停地换电视频道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6"/>
          <p:cNvSpPr txBox="1"/>
          <p:nvPr/>
        </p:nvSpPr>
        <p:spPr>
          <a:xfrm>
            <a:off x="1187280" y="4221000"/>
            <a:ext cx="180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懒惰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06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3:41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