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10.gif" ContentType="image/gif"/>
  <Override PartName="/ppt/media/image16.jpeg" ContentType="image/jpeg"/>
  <Override PartName="/ppt/media/image13.gif" ContentType="image/gif"/>
  <Override PartName="/ppt/media/chimes.wav" ContentType="audio/x-wav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7.jpeg" ContentType="image/jpeg"/>
  <Override PartName="/ppt/media/image18.gif" ContentType="image/gif"/>
  <Override PartName="/ppt/media/image20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3352-0242-4D73-8354-5A0562AA4D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DE76-E26B-4830-B324-15EAB46B43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108-BFD4-4AC6-B41F-ED1E5169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92A-A09A-43D6-AF40-A13D7622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F5E-46D0-46ED-8A01-F67CD1C8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2646-15EC-4589-BAE1-38C32CF8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601-1A0C-4786-A002-1541BB17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E1E-4264-4013-BA60-17B7AAA6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E07-BBC4-48CD-BEBE-9C7EF69D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BCA-B13B-4F17-A472-05C64397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514-E4BE-4016-87C3-DE39516A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461-FE86-4755-9124-354367EA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6F5-3CE4-4EEA-A8E5-97F01D2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81A-6E7E-4075-918D-0F43744B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DDEA-546C-4A12-8968-1B1698017E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1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1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0711716234281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476360" y="1701720"/>
            <a:ext cx="619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水从哪里来</a:t>
            </a:r>
            <a:endParaRPr b="1" lang="en-US" sz="72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87440" y="620640"/>
            <a:ext cx="70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湘教版小学语文二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8" descr=""/>
          <p:cNvPicPr/>
          <p:nvPr/>
        </p:nvPicPr>
        <p:blipFill>
          <a:blip r:embed="rId2"/>
          <a:stretch/>
        </p:blipFill>
        <p:spPr>
          <a:xfrm>
            <a:off x="1343160" y="5948280"/>
            <a:ext cx="65736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高山流水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88000" y="5589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148360" y="5013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 rot="19357200">
            <a:off x="6084720" y="5805000"/>
            <a:ext cx="1417680" cy="433440"/>
          </a:xfrm>
          <a:custGeom>
            <a:avLst/>
            <a:gdLst>
              <a:gd name="textAreaLeft" fmla="*/ 290880 w 1417680"/>
              <a:gd name="textAreaRight" fmla="*/ 984960 w 141768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64" hR="21600" stAng="10800000" swAng="-5400000"/>
                <a:lnTo>
                  <a:pt x="10577" y="21600"/>
                </a:lnTo>
                <a:arcTo wR="8864" hR="21600" stAng="5400000" swAng="-1939755"/>
                <a:lnTo>
                  <a:pt x="20174" y="11751"/>
                </a:lnTo>
                <a:lnTo>
                  <a:pt x="18584" y="0"/>
                </a:lnTo>
                <a:lnTo>
                  <a:pt x="14141" y="11751"/>
                </a:lnTo>
                <a:lnTo>
                  <a:pt x="16301" y="11751"/>
                </a:lnTo>
                <a:arcTo wR="8864" hR="21600" stAng="3460245" swAng="1802870"/>
                <a:lnTo>
                  <a:pt x="9720" y="21499"/>
                </a:lnTo>
                <a:arcTo wR="8864" hR="21600" stAng="5536885" swAng="5263115"/>
                <a:close/>
              </a:path>
              <a:path fill="darkenLess" w="21600" h="21600">
                <a:moveTo>
                  <a:pt x="0" y="0"/>
                </a:moveTo>
                <a:arcTo wR="8864" hR="21600" stAng="10800000" swAng="-5400000"/>
                <a:lnTo>
                  <a:pt x="10577" y="21600"/>
                </a:lnTo>
                <a:arcTo wR="8864" hR="21600" stAng="5400000" swAng="136885"/>
                <a:lnTo>
                  <a:pt x="9720" y="21499"/>
                </a:lnTo>
                <a:arcTo wR="8864" hR="21600" stAng="5536885" swAng="526311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 rot="7805400">
            <a:off x="3307680" y="2819160"/>
            <a:ext cx="1460520" cy="517320"/>
          </a:xfrm>
          <a:custGeom>
            <a:avLst/>
            <a:gdLst>
              <a:gd name="textAreaLeft" fmla="*/ 279000 w 1460520"/>
              <a:gd name="textAreaRight" fmla="*/ 1035360 w 1460520"/>
              <a:gd name="textAreaTop" fmla="*/ 69120 h 517320"/>
              <a:gd name="textAreaBottom" fmla="*/ 44820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55" hR="21600" stAng="10800000" swAng="-5400000"/>
                <a:lnTo>
                  <a:pt x="11186" y="21600"/>
                </a:lnTo>
                <a:arcTo wR="8255" hR="21600" stAng="5400000" swAng="-2833837"/>
                <a:lnTo>
                  <a:pt x="21128" y="7199"/>
                </a:lnTo>
                <a:lnTo>
                  <a:pt x="17975" y="0"/>
                </a:lnTo>
                <a:lnTo>
                  <a:pt x="13877" y="7199"/>
                </a:lnTo>
                <a:lnTo>
                  <a:pt x="16037" y="7199"/>
                </a:lnTo>
                <a:arcTo wR="8255" hR="21600" stAng="2566163" swAng="2597205"/>
                <a:lnTo>
                  <a:pt x="9720" y="21257"/>
                </a:lnTo>
                <a:arcTo wR="8255" hR="21600" stAng="5636632" swAng="5163368"/>
                <a:close/>
              </a:path>
              <a:path fill="darkenLess" w="21600" h="21600">
                <a:moveTo>
                  <a:pt x="0" y="0"/>
                </a:moveTo>
                <a:arcTo wR="8255" hR="21600" stAng="10800000" swAng="-5400000"/>
                <a:lnTo>
                  <a:pt x="11186" y="21600"/>
                </a:lnTo>
                <a:arcTo wR="8255" hR="21600" stAng="5400000" swAng="236632"/>
                <a:lnTo>
                  <a:pt x="9720" y="21257"/>
                </a:lnTo>
                <a:arcTo wR="8255" hR="21600" stAng="5636632" swAng="51633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 rot="2129400">
            <a:off x="3060360" y="5517720"/>
            <a:ext cx="1711440" cy="757440"/>
          </a:xfrm>
          <a:custGeom>
            <a:avLst/>
            <a:gdLst>
              <a:gd name="textAreaLeft" fmla="*/ 330480 w 1711440"/>
              <a:gd name="textAreaRight" fmla="*/ 1084680 w 1711440"/>
              <a:gd name="textAreaTop" fmla="*/ 101520 h 757440"/>
              <a:gd name="textAreaBottom" fmla="*/ 65592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8" hR="21600" stAng="10800000" swAng="-5400000"/>
                <a:lnTo>
                  <a:pt x="9516" y="21600"/>
                </a:lnTo>
                <a:arcTo wR="8348" hR="21600" stAng="5400000" swAng="-2853130"/>
                <a:lnTo>
                  <a:pt x="21123" y="7199"/>
                </a:lnTo>
                <a:lnTo>
                  <a:pt x="17280" y="0"/>
                </a:lnTo>
                <a:lnTo>
                  <a:pt x="12483" y="7199"/>
                </a:lnTo>
                <a:lnTo>
                  <a:pt x="16219" y="7199"/>
                </a:lnTo>
                <a:arcTo wR="8348" hR="21600" stAng="2546870" swAng="2759978"/>
                <a:lnTo>
                  <a:pt x="8932" y="21547"/>
                </a:lnTo>
                <a:arcTo wR="8348" hR="21600" stAng="5493152" swAng="5306848"/>
                <a:close/>
              </a:path>
              <a:path fill="darkenLess" w="21600" h="21600">
                <a:moveTo>
                  <a:pt x="0" y="0"/>
                </a:moveTo>
                <a:arcTo wR="8348" hR="21600" stAng="10800000" swAng="-5400000"/>
                <a:lnTo>
                  <a:pt x="9516" y="21600"/>
                </a:lnTo>
                <a:arcTo wR="8348" hR="21600" stAng="5400000" swAng="93152"/>
                <a:lnTo>
                  <a:pt x="8932" y="21547"/>
                </a:lnTo>
                <a:arcTo wR="8348" hR="21600" stAng="5493152" swAng="530684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12620400">
            <a:off x="6013440" y="2707920"/>
            <a:ext cx="1890720" cy="739800"/>
          </a:xfrm>
          <a:custGeom>
            <a:avLst/>
            <a:gdLst>
              <a:gd name="textAreaLeft" fmla="*/ 388800 w 1890720"/>
              <a:gd name="textAreaRight" fmla="*/ 1312560 w 1890720"/>
              <a:gd name="textAreaTop" fmla="*/ 99000 h 739800"/>
              <a:gd name="textAreaBottom" fmla="*/ 640800 h 73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89" hR="21600" stAng="10800000" swAng="-5400000"/>
                <a:lnTo>
                  <a:pt x="10551" y="21600"/>
                </a:lnTo>
                <a:arcTo wR="8889" hR="21600" stAng="5400000" swAng="-1793433"/>
                <a:lnTo>
                  <a:pt x="19939" y="12574"/>
                </a:lnTo>
                <a:lnTo>
                  <a:pt x="18609" y="0"/>
                </a:lnTo>
                <a:lnTo>
                  <a:pt x="13957" y="12574"/>
                </a:lnTo>
                <a:lnTo>
                  <a:pt x="16117" y="12574"/>
                </a:lnTo>
                <a:arcTo wR="8889" hR="21600" stAng="3606567" swAng="1660659"/>
                <a:lnTo>
                  <a:pt x="9720" y="21505"/>
                </a:lnTo>
                <a:arcTo wR="8889" hR="21600" stAng="5532773" swAng="5267227"/>
                <a:close/>
              </a:path>
              <a:path fill="darkenLess" w="21600" h="21600">
                <a:moveTo>
                  <a:pt x="0" y="0"/>
                </a:moveTo>
                <a:arcTo wR="8889" hR="21600" stAng="10800000" swAng="-5400000"/>
                <a:lnTo>
                  <a:pt x="10551" y="21600"/>
                </a:lnTo>
                <a:arcTo wR="8889" hR="21600" stAng="5400000" swAng="132773"/>
                <a:lnTo>
                  <a:pt x="9720" y="21505"/>
                </a:lnTo>
                <a:arcTo wR="8889" hR="21600" stAng="5532773" swAng="5267227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云"/>
          <p:cNvPicPr/>
          <p:nvPr/>
        </p:nvPicPr>
        <p:blipFill>
          <a:blip r:embed="rId3"/>
          <a:stretch/>
        </p:blipFill>
        <p:spPr>
          <a:xfrm>
            <a:off x="4788000" y="2492280"/>
            <a:ext cx="1257120" cy="1676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 flipH="1">
            <a:off x="5003640" y="1917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雨1"/>
          <p:cNvPicPr/>
          <p:nvPr/>
        </p:nvPicPr>
        <p:blipFill>
          <a:blip r:embed="rId4"/>
          <a:stretch/>
        </p:blipFill>
        <p:spPr>
          <a:xfrm>
            <a:off x="2771640" y="37893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3060720" y="3141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雾"/>
          <p:cNvPicPr/>
          <p:nvPr/>
        </p:nvPicPr>
        <p:blipFill>
          <a:blip r:embed="rId5"/>
          <a:stretch/>
        </p:blipFill>
        <p:spPr>
          <a:xfrm>
            <a:off x="6948360" y="41497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太阳"/>
          <p:cNvPicPr/>
          <p:nvPr/>
        </p:nvPicPr>
        <p:blipFill>
          <a:blip r:embed="rId6"/>
          <a:stretch/>
        </p:blipFill>
        <p:spPr>
          <a:xfrm>
            <a:off x="7093080" y="260280"/>
            <a:ext cx="1765080" cy="1778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6877080" y="364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水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 flipH="1">
            <a:off x="7885080" y="2276640"/>
            <a:ext cx="503280" cy="230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 flipH="1">
            <a:off x="7019640" y="2060640"/>
            <a:ext cx="649080" cy="1152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5580000" y="198900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8748720" y="2708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36360" y="0"/>
            <a:ext cx="6005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狐狸说：“告诉你们吧，水变成水汽，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到天上去了，水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变成云，云变成雨点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又落下来……你们想想，雨会下完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狐狸"/>
          <p:cNvPicPr/>
          <p:nvPr/>
        </p:nvPicPr>
        <p:blipFill>
          <a:blip r:embed="rId7"/>
          <a:stretch/>
        </p:blipFill>
        <p:spPr>
          <a:xfrm>
            <a:off x="34920" y="4292640"/>
            <a:ext cx="2197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2"/>
                            </p:stCondLst>
                            <p:childTnLst>
                              <p:par>
                                <p:cTn id="1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2"/>
                            </p:stCondLst>
                            <p:childTnLst>
                              <p:par>
                                <p:cTn id="1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4"/>
                            </p:stCondLst>
                            <p:childTnLst>
                              <p:par>
                                <p:cTn id="1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4"/>
                            </p:stCondLst>
                            <p:childTnLst>
                              <p:par>
                                <p:cTn id="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5"/>
                            </p:stCondLst>
                            <p:childTnLst>
                              <p:par>
                                <p:cTn id="1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9430125765718"/>
          <p:cNvPicPr/>
          <p:nvPr/>
        </p:nvPicPr>
        <p:blipFill>
          <a:blip r:embed="rId1"/>
          <a:stretch/>
        </p:blipFill>
        <p:spPr>
          <a:xfrm>
            <a:off x="-31680" y="4428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狐狸"/>
          <p:cNvPicPr/>
          <p:nvPr/>
        </p:nvPicPr>
        <p:blipFill>
          <a:blip r:embed="rId2"/>
          <a:stretch/>
        </p:blipFill>
        <p:spPr>
          <a:xfrm>
            <a:off x="6372360" y="2997360"/>
            <a:ext cx="2377800" cy="2217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小鹿"/>
          <p:cNvPicPr/>
          <p:nvPr/>
        </p:nvPicPr>
        <p:blipFill>
          <a:blip r:embed="rId3"/>
          <a:stretch/>
        </p:blipFill>
        <p:spPr>
          <a:xfrm>
            <a:off x="2627280" y="3284640"/>
            <a:ext cx="121932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小熊1"/>
          <p:cNvPicPr/>
          <p:nvPr/>
        </p:nvPicPr>
        <p:blipFill>
          <a:blip r:embed="rId4"/>
          <a:stretch/>
        </p:blipFill>
        <p:spPr>
          <a:xfrm>
            <a:off x="755640" y="3284640"/>
            <a:ext cx="1347840" cy="1944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39640" y="1197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课文中有这么多小动物，你最喜欢谁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39640" y="184464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楷体_GB2312"/>
              </a:rPr>
              <a:t>善于思考问题，能大胆提出不懂的问题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372360" y="2060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楷体_GB2312"/>
              </a:rPr>
              <a:t>他聪明，懂得不少的知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411280" y="2276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楷体_GB2312"/>
              </a:rPr>
              <a:t>不懂的就问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284720" y="2276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ahoma"/>
                <a:ea typeface="楷体_GB2312"/>
              </a:rPr>
              <a:t>不懂的就问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042920" y="5445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ahoma"/>
              </a:rPr>
              <a:t>小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3059280" y="54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ahoma"/>
              </a:rPr>
              <a:t>小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932360" y="54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ahoma"/>
              </a:rPr>
              <a:t>山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7164360" y="537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ahoma"/>
              </a:rPr>
              <a:t>狐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757080" y="262080"/>
            <a:ext cx="25909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拓展思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6" descr="2619466_142759583154_2[1]"/>
          <p:cNvPicPr/>
          <p:nvPr/>
        </p:nvPicPr>
        <p:blipFill>
          <a:blip r:embed="rId5"/>
          <a:stretch/>
        </p:blipFill>
        <p:spPr>
          <a:xfrm>
            <a:off x="4356000" y="3068640"/>
            <a:ext cx="1584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是小小表演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小熊1"/>
          <p:cNvPicPr/>
          <p:nvPr/>
        </p:nvPicPr>
        <p:blipFill>
          <a:blip r:embed="rId1"/>
          <a:stretch/>
        </p:blipFill>
        <p:spPr>
          <a:xfrm>
            <a:off x="1440" y="2565360"/>
            <a:ext cx="2266920" cy="266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小鹿"/>
          <p:cNvPicPr/>
          <p:nvPr/>
        </p:nvPicPr>
        <p:blipFill>
          <a:blip r:embed="rId2"/>
          <a:stretch/>
        </p:blipFill>
        <p:spPr>
          <a:xfrm>
            <a:off x="2268360" y="2565360"/>
            <a:ext cx="2016360" cy="262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619466_142759583154_2[1]"/>
          <p:cNvPicPr/>
          <p:nvPr/>
        </p:nvPicPr>
        <p:blipFill>
          <a:blip r:embed="rId3"/>
          <a:stretch/>
        </p:blipFill>
        <p:spPr>
          <a:xfrm>
            <a:off x="4284720" y="2565360"/>
            <a:ext cx="2232000" cy="266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狐狸"/>
          <p:cNvPicPr/>
          <p:nvPr/>
        </p:nvPicPr>
        <p:blipFill>
          <a:blip r:embed="rId4"/>
          <a:stretch/>
        </p:blipFill>
        <p:spPr>
          <a:xfrm>
            <a:off x="6516720" y="2565360"/>
            <a:ext cx="24494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3875400" y="1660680"/>
            <a:ext cx="11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 flipH="1" flipV="1">
            <a:off x="2209680" y="388620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2209680" y="20570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5334120" y="1981080"/>
            <a:ext cx="1600200" cy="1067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5257440" y="4038480"/>
            <a:ext cx="1676520" cy="838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082160" y="3200400"/>
            <a:ext cx="19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6466320" y="3230640"/>
            <a:ext cx="11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3927960" y="4479840"/>
            <a:ext cx="11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4208400" y="1162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y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4195080" y="41148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hu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6844320" y="287964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295280" y="287964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shu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ǐ q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1500120" y="2727360"/>
            <a:ext cx="614376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谢谢大家！</a:t>
            </a:r>
            <a:endParaRPr b="0" lang="en-US" sz="9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187A-9EC8-470E-826D-4756C9A494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2046240" y="4660920"/>
            <a:ext cx="51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dùn   hū rán    àn     m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顿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忽 然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上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岸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shēn 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shī    dā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身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 全身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湿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 　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呆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"/>
          <p:cNvSpPr/>
          <p:nvPr/>
        </p:nvSpPr>
        <p:spPr>
          <a:xfrm>
            <a:off x="179280" y="117360"/>
            <a:ext cx="2664000" cy="990720"/>
          </a:xfrm>
          <a:prstGeom prst="ellipse">
            <a:avLst/>
          </a:prstGeom>
          <a:solidFill>
            <a:srgbClr val="0000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6840" y="838080"/>
            <a:ext cx="4800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小熊有什么疑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09480" y="1981080"/>
            <a:ext cx="792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小溪的水这么流着，如果有一天流完了，那可怎么办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 小熊有什么疑问.mp3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457200" y="30481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总有一天，山里的水 也会流完的呀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09480" y="4191120"/>
            <a:ext cx="7925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如果天上的雨下完了呢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山里的水也会流完的呀.mp3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61" name="如果天上的雨下完了.mp3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2" name="Oval 9"/>
          <p:cNvSpPr/>
          <p:nvPr/>
        </p:nvSpPr>
        <p:spPr>
          <a:xfrm>
            <a:off x="152280" y="0"/>
            <a:ext cx="7299360" cy="1125360"/>
          </a:xfrm>
          <a:prstGeom prst="ellipse">
            <a:avLst/>
          </a:prstGeom>
          <a:solidFill>
            <a:srgbClr val="00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听课文录音思考下列问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838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15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318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0080" y="274320"/>
            <a:ext cx="389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课文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9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3142386640000462983"/>
          <p:cNvPicPr/>
          <p:nvPr/>
        </p:nvPicPr>
        <p:blipFill>
          <a:blip r:embed="rId1"/>
          <a:stretch/>
        </p:blipFill>
        <p:spPr>
          <a:xfrm>
            <a:off x="-314280" y="-233280"/>
            <a:ext cx="9707400" cy="733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小溪"/>
          <p:cNvPicPr/>
          <p:nvPr/>
        </p:nvPicPr>
        <p:blipFill>
          <a:blip r:embed="rId2"/>
          <a:stretch/>
        </p:blipFill>
        <p:spPr>
          <a:xfrm>
            <a:off x="2987640" y="-237960"/>
            <a:ext cx="6408720" cy="3948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小熊1"/>
          <p:cNvPicPr/>
          <p:nvPr/>
        </p:nvPicPr>
        <p:blipFill>
          <a:blip r:embed="rId3"/>
          <a:stretch/>
        </p:blipFill>
        <p:spPr>
          <a:xfrm>
            <a:off x="0" y="3718080"/>
            <a:ext cx="2987640" cy="33829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 flipV="1">
            <a:off x="-385560" y="1483200"/>
            <a:ext cx="3516480" cy="2017800"/>
          </a:xfrm>
          <a:prstGeom prst="cloudCallout">
            <a:avLst>
              <a:gd name="adj1" fmla="val 34324"/>
              <a:gd name="adj2" fmla="val -1049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360" y="2133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小溪的水这么流着，如果有一天流完了，那可怎么办呢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75e293efa5a0496279f05568"/>
          <p:cNvPicPr/>
          <p:nvPr/>
        </p:nvPicPr>
        <p:blipFill>
          <a:blip r:embed="rId1"/>
          <a:stretch/>
        </p:blipFill>
        <p:spPr>
          <a:xfrm>
            <a:off x="-249120" y="-455760"/>
            <a:ext cx="9742320" cy="730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高山流水"/>
          <p:cNvPicPr/>
          <p:nvPr/>
        </p:nvPicPr>
        <p:blipFill>
          <a:blip r:embed="rId2"/>
          <a:stretch/>
        </p:blipFill>
        <p:spPr>
          <a:xfrm>
            <a:off x="2484360" y="2349360"/>
            <a:ext cx="4513320" cy="328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小鹿"/>
          <p:cNvPicPr/>
          <p:nvPr/>
        </p:nvPicPr>
        <p:blipFill>
          <a:blip r:embed="rId3"/>
          <a:stretch/>
        </p:blipFill>
        <p:spPr>
          <a:xfrm>
            <a:off x="7021440" y="2709720"/>
            <a:ext cx="2303640" cy="3129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小熊1"/>
          <p:cNvPicPr/>
          <p:nvPr/>
        </p:nvPicPr>
        <p:blipFill>
          <a:blip r:embed="rId4"/>
          <a:stretch/>
        </p:blipFill>
        <p:spPr>
          <a:xfrm>
            <a:off x="324000" y="2708280"/>
            <a:ext cx="20444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484360" y="3645000"/>
            <a:ext cx="49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6732720" y="981000"/>
            <a:ext cx="2592360" cy="1368360"/>
          </a:xfrm>
          <a:prstGeom prst="wedgeRoundRectCallout">
            <a:avLst>
              <a:gd name="adj1" fmla="val -36666"/>
              <a:gd name="adj2" fmla="val 72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734160" y="1197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小溪的水是从山里流下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 rot="10800000">
            <a:off x="-105120" y="1196280"/>
            <a:ext cx="3381480" cy="1081080"/>
          </a:xfrm>
          <a:prstGeom prst="wedgeRoundRectCallout">
            <a:avLst>
              <a:gd name="adj1" fmla="val 194"/>
              <a:gd name="adj2" fmla="val -759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08000" y="1341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总有一天，山里的水也会流完的呀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雨水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小熊1"/>
          <p:cNvPicPr/>
          <p:nvPr/>
        </p:nvPicPr>
        <p:blipFill>
          <a:blip r:embed="rId2"/>
          <a:stretch/>
        </p:blipFill>
        <p:spPr>
          <a:xfrm>
            <a:off x="539640" y="3789360"/>
            <a:ext cx="2376720" cy="29512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250920" y="1197000"/>
            <a:ext cx="3744720" cy="2089080"/>
          </a:xfrm>
          <a:prstGeom prst="wedgeEllipseCallout">
            <a:avLst>
              <a:gd name="adj1" fmla="val -15078"/>
              <a:gd name="adj2" fmla="val 71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天上的雨下完了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 rot="10800000">
            <a:off x="5435280" y="3068640"/>
            <a:ext cx="3097080" cy="936720"/>
          </a:xfrm>
          <a:prstGeom prst="wedgeRoundRectCallout">
            <a:avLst>
              <a:gd name="adj1" fmla="val 7041"/>
              <a:gd name="adj2" fmla="val -220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  <a:ea typeface="黑体"/>
              </a:rPr>
              <a:t>天上会下雨嘛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小鹿"/>
          <p:cNvPicPr/>
          <p:nvPr/>
        </p:nvPicPr>
        <p:blipFill>
          <a:blip r:embed="rId3"/>
          <a:stretch/>
        </p:blipFill>
        <p:spPr>
          <a:xfrm>
            <a:off x="2989440" y="3789360"/>
            <a:ext cx="1761840" cy="295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2619466_142759583154_2[1]"/>
          <p:cNvPicPr/>
          <p:nvPr/>
        </p:nvPicPr>
        <p:blipFill>
          <a:blip r:embed="rId4"/>
          <a:stretch/>
        </p:blipFill>
        <p:spPr>
          <a:xfrm>
            <a:off x="5654520" y="4005360"/>
            <a:ext cx="266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611280" y="26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熊、小鹿、山羊去问狐狸，狐狸是怎    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84360" y="170172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狐狸听完他们的话，咕咚一声  进小溪里， 然后  上岸来， 抖身子， 在 草地上不动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948360" y="1773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419640" y="227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219640" y="227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7020000" y="22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狐狸"/>
          <p:cNvPicPr/>
          <p:nvPr/>
        </p:nvPicPr>
        <p:blipFill>
          <a:blip r:embed="rId1"/>
          <a:stretch/>
        </p:blipFill>
        <p:spPr>
          <a:xfrm>
            <a:off x="2629080" y="3357720"/>
            <a:ext cx="29527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7:37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5:30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NXTAG2">
    <vt:lpwstr>0008004004000000000001024120</vt:lpwstr>
  </property>
</Properties>
</file>