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%E8%99%8E.wav" ContentType="audio/x-wav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voltage.wav" ContentType="audio/x-wav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61.jpeg" ContentType="image/jpeg"/>
  <Override PartName="/ppt/media/cows.wav" ContentType="audio/x-wav"/>
  <Override PartName="/ppt/media/image4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70.png" ContentType="image/png"/>
  <Override PartName="/ppt/media/image38.jpeg" ContentType="image/jpeg"/>
  <Override PartName="/ppt/media/laser.wav" ContentType="audio/x-wav"/>
  <Override PartName="/ppt/media/image65.jpeg" ContentType="image/jpeg"/>
  <Override PartName="/ppt/media/image66.jpeg" ContentType="image/jpeg"/>
  <Override PartName="/ppt/media/image76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75.jpeg" ContentType="image/jpeg"/>
  <Override PartName="/ppt/media/click.wav" ContentType="audio/x-wav"/>
  <Override PartName="/ppt/media/image74.jpeg" ContentType="image/jpeg"/>
  <Override PartName="/ppt/media/image69.jpeg" ContentType="image/jpeg"/>
  <Override PartName="/ppt/media/wind.wav" ContentType="audio/x-wav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62.jpeg" ContentType="image/jpeg"/>
  <Override PartName="/ppt/media/image5.jpeg" ContentType="image/jpeg"/>
  <Override PartName="/ppt/media/%E7%8B%97.wav" ContentType="audio/x-wav"/>
  <Override PartName="/ppt/media/image67.jpeg" ContentType="image/jpeg"/>
  <Override PartName="/ppt/media/%E9%B8%A1.wav" ContentType="audio/x-wav"/>
  <Override PartName="/ppt/media/image14.jpeg" ContentType="image/jpeg"/>
  <Override PartName="/ppt/media/image41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chimes.wav" ContentType="audio/x-wav"/>
  <Override PartName="/ppt/media/image1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%E9%A9%AC.wav" ContentType="audio/x-wav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77.gif" ContentType="image/gif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十二生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ECAD-0D12-4340-B3E7-54B51E5960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页脚占位符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十二生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灯片编号占位符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6469-6402-4A31-A49A-D3B8952151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BBD-8DB2-4419-82A0-2964F844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0D0-3DAA-42C3-9305-6A85D80A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F97-AE21-477D-BC53-A12082F2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AEA-D03F-4061-836E-15043556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8669-989C-4318-BE15-86760E74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2EA3-7F2D-4D6E-94E3-83941FE3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B76-C517-490E-B033-875823B1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337B-852D-434D-B45C-4CE83DD5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15F-4784-4FAB-B715-9F70A4CF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725A-C84E-450F-8D3B-CC55048F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471-8AC3-4C14-BB16-BCDED4CE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0D29-66AB-4238-88D3-92D36109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BED1-BE7C-488A-BB80-F02B0BAF1B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57EE-C744-422E-80C9-35B32BE8A5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baike.baidu.com/view/1027625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48.jpeg"/><Relationship Id="rId11" Type="http://schemas.openxmlformats.org/officeDocument/2006/relationships/image" Target="../media/image49.jpeg"/><Relationship Id="rId12" Type="http://schemas.openxmlformats.org/officeDocument/2006/relationships/image" Target="../media/image50.jpe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baike.baidu.com/view/586244.htm" TargetMode="External"/><Relationship Id="rId2" Type="http://schemas.openxmlformats.org/officeDocument/2006/relationships/hyperlink" Target="http://baike.baidu.com/view/27242.htm" TargetMode="External"/><Relationship Id="rId3" Type="http://schemas.openxmlformats.org/officeDocument/2006/relationships/hyperlink" Target="http://baike.baidu.com/view/2200.htm" TargetMode="External"/><Relationship Id="rId4" Type="http://schemas.openxmlformats.org/officeDocument/2006/relationships/hyperlink" Target="http://baike.baidu.com/view/3108874.htm" TargetMode="Externa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jpeg"/><Relationship Id="rId12" Type="http://schemas.openxmlformats.org/officeDocument/2006/relationships/image" Target="../media/image62.jpeg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audio" Target="../media/cow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audio" Target="../media/&#34382;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audio" Target="../media/wind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audio" Target="../media/click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262972.htm" TargetMode="External"/><Relationship Id="rId2" Type="http://schemas.openxmlformats.org/officeDocument/2006/relationships/hyperlink" Target="http://baike.baidu.com/view/7866.htm" TargetMode="External"/><Relationship Id="rId3" Type="http://schemas.openxmlformats.org/officeDocument/2006/relationships/hyperlink" Target="http://baike.baidu.com/view/6392.htm" TargetMode="Externa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audio" Target="../media/voltag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jpeg"/><Relationship Id="rId3" Type="http://schemas.openxmlformats.org/officeDocument/2006/relationships/audio" Target="../media/&#39532;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3.jpeg"/><Relationship Id="rId3" Type="http://schemas.openxmlformats.org/officeDocument/2006/relationships/audio" Target="../media/chimes.wav"/><Relationship Id="rId4" Type="http://schemas.openxmlformats.org/officeDocument/2006/relationships/audio" Target="../media/&#40481;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audio" Target="../media/chimes.wav"/><Relationship Id="rId3" Type="http://schemas.openxmlformats.org/officeDocument/2006/relationships/audio" Target="../media/&#29399;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baike.baidu.com/view/1027625.htm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baike.baidu.com/view/586244.htm" TargetMode="Externa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7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aike.baidu.com/view/4387.htm" TargetMode="External"/><Relationship Id="rId2" Type="http://schemas.openxmlformats.org/officeDocument/2006/relationships/hyperlink" Target="http://baike.baidu.com/view/2174.ht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412640"/>
            <a:ext cx="820764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隶书"/>
                <a:ea typeface="华文隶书"/>
              </a:rPr>
              <a:t>十二生肖</a:t>
            </a:r>
            <a:r>
              <a:rPr b="1" lang="zh-CN" sz="72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故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1972800" y="5867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说很久以前，人们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要选十二种动物作为人的生肖，一年一种动物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下的动物有多少呀？怎么个选法呢？这样吧，定好一个日子，这一天，动物们来报名，就选先到的十二种动物为十二生肖。 猫和老鼠是邻居，又是好朋友，它们都想去报名。猫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咱们得一早起来去报名，可是我爱睡懒觉，怎么办呢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鼠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着急，别着急，你尽管睡你的大觉，我一醒来，就去叫你，咱们一块儿去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猫听了很高兴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真是我的好朋友，谢谢你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到了报名那天早晨，老鼠早就醒来了，可是它光想到自己的事，把好朋友猫的事给忘了。就自己去报名了。 结果，老鼠被选上了。猫呢？猫因为睡懒觉，起床太迟了，等它赶到时，十二种动物已被选定了。 猫没有被选上，就生老鼠的气，怪老鼠没有叫它，从这以后，猫见了老鼠就要吃它，老鼠就只好拼命地逃。现在还是这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61912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十二生肖为何无猫的传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482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与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辰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（鼠）时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3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 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 01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正是老鼠趁夜深人静，频繁活动之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丑（牛）时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1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 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 03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牛习惯夜间吃草，农家常在深夜起来挑灯喂寅寅（虎）时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3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 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 05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时老虎到处游荡觅食，最为凶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卯（兔）时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5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 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 07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太阳尚未升起，月亮还挂在天上，此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玉兔捣药正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辰（龙）时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7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 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 09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时容易起雾，传说龙喜腾云驾雾，又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旭日东升，蒸蒸日上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是神龙行雨的好时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巳（蛇）时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9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 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 11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雾散去，艳阳高照，蛇类出洞觅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午（马）时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 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 13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时野马未被人类驯服，每当午时，四处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跑嘶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（羊）时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 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 15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羊的好时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申（猴）时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 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 17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偏西了，猴子喜在此时啼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酉（鸡）时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7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 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 19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落山了，鸡在窝前打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戌（狗）时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 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 21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劳碌一天，闩门准备休息了。狗卧门前守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护，一有动静，就汪汪大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亥（猪）时（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1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 </a:t>
            </a:r>
            <a:r>
              <a:rPr b="0" lang="en-US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 23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深人静，能听见猪拱槽的声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个生肖和时间点都是密切相关的，非常贴切，体现了祖先的聪明智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8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0" dur="80"/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41767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的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寓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4920" y="1483920"/>
            <a:ext cx="4537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02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5021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组：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鼠 和 牛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子鼠2"/>
          <p:cNvPicPr/>
          <p:nvPr/>
        </p:nvPicPr>
        <p:blipFill>
          <a:blip r:embed="rId1"/>
          <a:stretch/>
        </p:blipFill>
        <p:spPr>
          <a:xfrm>
            <a:off x="6156360" y="1773360"/>
            <a:ext cx="2592360" cy="2054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丑牛2"/>
          <p:cNvPicPr/>
          <p:nvPr/>
        </p:nvPicPr>
        <p:blipFill>
          <a:blip r:embed="rId2"/>
          <a:stretch/>
        </p:blipFill>
        <p:spPr>
          <a:xfrm>
            <a:off x="6156360" y="4221000"/>
            <a:ext cx="259236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395280" y="1197000"/>
            <a:ext cx="5400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十二生肖两两相对 ，相辅相成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体现了我们祖先对华夏儿女全部的期望及要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11280" y="2421000"/>
            <a:ext cx="4680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鼠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智慧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牛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勤劳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br>
              <a:rPr sz="28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者一定要紧密的结合在一 起，如果只有智慧不勤劳，就变成了小聪明，光是勤劳，不动脑筋，就变成了愚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的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寓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000" y="1341360"/>
            <a:ext cx="4762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老虎  和 兔子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11280" y="2133720"/>
            <a:ext cx="496872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老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代表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勇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兔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代表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谨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br>
              <a:rPr sz="2800"/>
            </a:br>
            <a:br>
              <a:rPr sz="28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者一定要紧密的结合在一起，才能做到所谓的大胆心细。如果勇猛离开了谨慎，就变成了鲁莽，而一味的谨慎就变成了胆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寅虎2"/>
          <p:cNvPicPr/>
          <p:nvPr/>
        </p:nvPicPr>
        <p:blipFill>
          <a:blip r:embed="rId1"/>
          <a:stretch/>
        </p:blipFill>
        <p:spPr>
          <a:xfrm>
            <a:off x="6012000" y="1700280"/>
            <a:ext cx="2663640" cy="2155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卯兔2"/>
          <p:cNvPicPr/>
          <p:nvPr/>
        </p:nvPicPr>
        <p:blipFill>
          <a:blip r:embed="rId2"/>
          <a:stretch/>
        </p:blipFill>
        <p:spPr>
          <a:xfrm>
            <a:off x="6012000" y="4149720"/>
            <a:ext cx="259056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1341000"/>
            <a:ext cx="44640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组：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龙 和 蛇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4895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的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寓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68360" y="2205000"/>
            <a:ext cx="4967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代表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刚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代表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柔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所谓刚者易折，太刚了容易折断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过柔易弱，太柔了就容易失去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见，所以要刚柔并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辰龙2"/>
          <p:cNvPicPr/>
          <p:nvPr/>
        </p:nvPicPr>
        <p:blipFill>
          <a:blip r:embed="rId1"/>
          <a:stretch/>
        </p:blipFill>
        <p:spPr>
          <a:xfrm>
            <a:off x="6012000" y="1628640"/>
            <a:ext cx="2663640" cy="2187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巳蛇2"/>
          <p:cNvPicPr/>
          <p:nvPr/>
        </p:nvPicPr>
        <p:blipFill>
          <a:blip r:embed="rId2"/>
          <a:stretch/>
        </p:blipFill>
        <p:spPr>
          <a:xfrm>
            <a:off x="6012000" y="4292640"/>
            <a:ext cx="266364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475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的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寓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4920" y="1341360"/>
            <a:ext cx="4691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组：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马 和 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468360" y="2349360"/>
            <a:ext cx="4751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马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往无前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向目标奋进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团结和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 一个人只顾自己，不注意团结、和睦，必然会落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午马2"/>
          <p:cNvPicPr/>
          <p:nvPr/>
        </p:nvPicPr>
        <p:blipFill>
          <a:blip r:embed="rId1"/>
          <a:stretch/>
        </p:blipFill>
        <p:spPr>
          <a:xfrm>
            <a:off x="6012000" y="1557360"/>
            <a:ext cx="2808000" cy="21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未兔2"/>
          <p:cNvPicPr/>
          <p:nvPr/>
        </p:nvPicPr>
        <p:blipFill>
          <a:blip r:embed="rId2"/>
          <a:stretch/>
        </p:blipFill>
        <p:spPr>
          <a:xfrm>
            <a:off x="6012000" y="4005360"/>
            <a:ext cx="28080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90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的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寓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640" y="134136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组：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猴子  和  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900000" y="2133720"/>
            <a:ext cx="4824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猴子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灵活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鸡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打鸣，代表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恒定、恒心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灵活和恒定一定要紧紧结合起来。做任何事只有灵活没有恒心 ，一定会半途而废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申侯2"/>
          <p:cNvPicPr/>
          <p:nvPr/>
        </p:nvPicPr>
        <p:blipFill>
          <a:blip r:embed="rId1"/>
          <a:stretch/>
        </p:blipFill>
        <p:spPr>
          <a:xfrm>
            <a:off x="6012000" y="1557360"/>
            <a:ext cx="2736720" cy="2050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酉鸡2"/>
          <p:cNvPicPr/>
          <p:nvPr/>
        </p:nvPicPr>
        <p:blipFill>
          <a:blip r:embed="rId2"/>
          <a:stretch/>
        </p:blipFill>
        <p:spPr>
          <a:xfrm>
            <a:off x="6012000" y="3860640"/>
            <a:ext cx="273672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47530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的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寓言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000" y="1341000"/>
            <a:ext cx="4103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六组：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狗 和 猪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11280" y="2060640"/>
            <a:ext cx="5329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狗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代表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忠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猪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代表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随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2800"/>
            </a:br>
            <a:br>
              <a:rPr sz="2800"/>
            </a:b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人如果太忠诚，不懂得随和，就会排斥他人。而反过来，一 个人太随和，没有忠诚，这个人就失去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戌狗2"/>
          <p:cNvPicPr/>
          <p:nvPr/>
        </p:nvPicPr>
        <p:blipFill>
          <a:blip r:embed="rId1"/>
          <a:stretch/>
        </p:blipFill>
        <p:spPr>
          <a:xfrm>
            <a:off x="6012000" y="1773360"/>
            <a:ext cx="2663640" cy="1996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亥猪2"/>
          <p:cNvPicPr/>
          <p:nvPr/>
        </p:nvPicPr>
        <p:blipFill>
          <a:blip r:embed="rId2"/>
          <a:stretch/>
        </p:blipFill>
        <p:spPr>
          <a:xfrm>
            <a:off x="6012000" y="4005360"/>
            <a:ext cx="2663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194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属相特征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鼠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吸引力，社交能力，影响力，智力，紧张，权力欲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正直，创新，勤勉，善言，固执，冷漠，偏见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虎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热诚，好运，勇敢，权威，冲动，吹嘘，易怒，不服从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兔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机智，谨慎，技巧，敏捷，过于拘谨，忧郁，自炫，善良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龙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力量，热心，成功，胆量，健康，迷惑，不信任，自夸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蛇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吸引力，机敏，谨慎，同情，傲慢，懒惰，孤芳自赏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说服力，自治力，灵敏，成就，狂妄， 急躁，反抗，自负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羊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敏感，有礼，毅力，品味，悲观，缺乏远见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猴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即兴，领导力，机智，聪慧，忠心，自信，饶舌，投机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鸡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保守，热心，坦诚，幽默，傲慢，夸耀，盲目崇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狗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持久，责任，忠诚，嘲讽，批评，自以为是，圆滑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猪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逸乐，勇敢，真挚，诚实，轻信，重物质，犹豫，愚顽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的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诗句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34920" y="1933560"/>
            <a:ext cx="5761080" cy="41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鼠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迹生尘案，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牛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羊暮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啸坐空谷，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向窗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远青翠，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蛇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近徘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兰方远摘，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负始春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猴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栗羞芳果，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鸡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砧引清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狗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怀屋外，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猪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蠡窗悠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首诗在首字按序嵌（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ian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入了十二生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，且突出了每种动物的生性特点，起到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龙点睛之作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55640" y="1125360"/>
            <a:ext cx="6120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古代南北朝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沈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作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十二属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汉仪太极体简"/>
                <a:ea typeface="汉仪太极体简"/>
              </a:rPr>
              <a:t>目 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58560" y="11970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 十二生肖的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起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 十二生肖的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 十二生肖的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 十二生肖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何无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 十二生肖与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 十二生肖的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寓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 十二生肖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属相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 十二生肖的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诗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 十二生肖的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十二生肖铜兽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的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关成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奖问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十二生肖转盘"/>
          <p:cNvPicPr/>
          <p:nvPr/>
        </p:nvPicPr>
        <p:blipFill>
          <a:blip r:embed="rId1"/>
          <a:stretch/>
        </p:blipFill>
        <p:spPr>
          <a:xfrm>
            <a:off x="5724360" y="2276640"/>
            <a:ext cx="286236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7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7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46180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的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化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26560" y="1125360"/>
            <a:ext cx="2891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十二生肖剪纸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u=1228441441,292755614&amp;fm=0&amp;gp=0"/>
          <p:cNvPicPr/>
          <p:nvPr/>
        </p:nvPicPr>
        <p:blipFill>
          <a:blip r:embed="rId1"/>
          <a:stretch/>
        </p:blipFill>
        <p:spPr>
          <a:xfrm>
            <a:off x="108000" y="1701720"/>
            <a:ext cx="1511280" cy="1654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u=3344219629,3995511108&amp;fm=52&amp;gp=0"/>
          <p:cNvPicPr/>
          <p:nvPr/>
        </p:nvPicPr>
        <p:blipFill>
          <a:blip r:embed="rId2"/>
          <a:stretch/>
        </p:blipFill>
        <p:spPr>
          <a:xfrm>
            <a:off x="1692360" y="3429000"/>
            <a:ext cx="1439640" cy="158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u=273079543,186077379&amp;fm=0&amp;gp=0"/>
          <p:cNvPicPr/>
          <p:nvPr/>
        </p:nvPicPr>
        <p:blipFill>
          <a:blip r:embed="rId3"/>
          <a:stretch/>
        </p:blipFill>
        <p:spPr>
          <a:xfrm>
            <a:off x="4572000" y="3429000"/>
            <a:ext cx="1351080" cy="158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u=3646089386,999366645&amp;fm=51&amp;gp=0"/>
          <p:cNvPicPr/>
          <p:nvPr/>
        </p:nvPicPr>
        <p:blipFill>
          <a:blip r:embed="rId4"/>
          <a:stretch/>
        </p:blipFill>
        <p:spPr>
          <a:xfrm>
            <a:off x="4572000" y="1700280"/>
            <a:ext cx="1368360" cy="165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u=381074019,1900121132&amp;fm=51&amp;gp=0"/>
          <p:cNvPicPr/>
          <p:nvPr/>
        </p:nvPicPr>
        <p:blipFill>
          <a:blip r:embed="rId5"/>
          <a:stretch/>
        </p:blipFill>
        <p:spPr>
          <a:xfrm>
            <a:off x="3203640" y="342900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u=154651383,3691150864&amp;fm=3&amp;gp=0"/>
          <p:cNvPicPr/>
          <p:nvPr/>
        </p:nvPicPr>
        <p:blipFill>
          <a:blip r:embed="rId6"/>
          <a:stretch/>
        </p:blipFill>
        <p:spPr>
          <a:xfrm>
            <a:off x="108000" y="3429000"/>
            <a:ext cx="1511280" cy="1571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u=111690157,954490168&amp;fm=52&amp;gp=0"/>
          <p:cNvPicPr/>
          <p:nvPr/>
        </p:nvPicPr>
        <p:blipFill>
          <a:blip r:embed="rId7"/>
          <a:stretch/>
        </p:blipFill>
        <p:spPr>
          <a:xfrm>
            <a:off x="6012000" y="1700280"/>
            <a:ext cx="1368360" cy="165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u=3855222547,4221034294&amp;fm=51&amp;gp=0"/>
          <p:cNvPicPr/>
          <p:nvPr/>
        </p:nvPicPr>
        <p:blipFill>
          <a:blip r:embed="rId8"/>
          <a:stretch/>
        </p:blipFill>
        <p:spPr>
          <a:xfrm>
            <a:off x="1692360" y="1700280"/>
            <a:ext cx="1439640" cy="165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u=30616095,1121348125&amp;fm=52&amp;gp=0"/>
          <p:cNvPicPr/>
          <p:nvPr/>
        </p:nvPicPr>
        <p:blipFill>
          <a:blip r:embed="rId9"/>
          <a:stretch/>
        </p:blipFill>
        <p:spPr>
          <a:xfrm>
            <a:off x="3203640" y="1700280"/>
            <a:ext cx="1295280" cy="1657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u=1172042267,1449510581&amp;fm=0&amp;gp=0"/>
          <p:cNvPicPr/>
          <p:nvPr/>
        </p:nvPicPr>
        <p:blipFill>
          <a:blip r:embed="rId10"/>
          <a:stretch/>
        </p:blipFill>
        <p:spPr>
          <a:xfrm>
            <a:off x="6012000" y="3429000"/>
            <a:ext cx="1368360" cy="1584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u=2068683763,3522260815&amp;fm=51&amp;gp=0"/>
          <p:cNvPicPr/>
          <p:nvPr/>
        </p:nvPicPr>
        <p:blipFill>
          <a:blip r:embed="rId11"/>
          <a:stretch/>
        </p:blipFill>
        <p:spPr>
          <a:xfrm>
            <a:off x="7451640" y="1700280"/>
            <a:ext cx="1368360" cy="165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u=1045860981,714152371&amp;fm=52&amp;gp=0"/>
          <p:cNvPicPr/>
          <p:nvPr/>
        </p:nvPicPr>
        <p:blipFill>
          <a:blip r:embed="rId12"/>
          <a:stretch/>
        </p:blipFill>
        <p:spPr>
          <a:xfrm>
            <a:off x="7451640" y="3429000"/>
            <a:ext cx="1368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的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文化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4000" y="1197000"/>
            <a:ext cx="33130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十二生肖邮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邮票马"/>
          <p:cNvPicPr/>
          <p:nvPr/>
        </p:nvPicPr>
        <p:blipFill>
          <a:blip r:embed="rId1"/>
          <a:stretch/>
        </p:blipFill>
        <p:spPr>
          <a:xfrm>
            <a:off x="395280" y="3573360"/>
            <a:ext cx="1290600" cy="151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邮票牛"/>
          <p:cNvPicPr/>
          <p:nvPr/>
        </p:nvPicPr>
        <p:blipFill>
          <a:blip r:embed="rId2"/>
          <a:stretch/>
        </p:blipFill>
        <p:spPr>
          <a:xfrm>
            <a:off x="1835280" y="1844640"/>
            <a:ext cx="1319040" cy="158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邮票鸡"/>
          <p:cNvPicPr/>
          <p:nvPr/>
        </p:nvPicPr>
        <p:blipFill>
          <a:blip r:embed="rId3"/>
          <a:stretch/>
        </p:blipFill>
        <p:spPr>
          <a:xfrm>
            <a:off x="4788000" y="3573360"/>
            <a:ext cx="1295280" cy="1492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邮票鼠"/>
          <p:cNvPicPr/>
          <p:nvPr/>
        </p:nvPicPr>
        <p:blipFill>
          <a:blip r:embed="rId4"/>
          <a:stretch/>
        </p:blipFill>
        <p:spPr>
          <a:xfrm>
            <a:off x="324000" y="1844640"/>
            <a:ext cx="1360440" cy="158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u=3579468818,1184398150&amp;fm=51&amp;gp=0"/>
          <p:cNvPicPr/>
          <p:nvPr/>
        </p:nvPicPr>
        <p:blipFill>
          <a:blip r:embed="rId5"/>
          <a:stretch/>
        </p:blipFill>
        <p:spPr>
          <a:xfrm>
            <a:off x="3276720" y="1844640"/>
            <a:ext cx="1360440" cy="158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u=805914511,2479789407&amp;fm=51&amp;gp=0"/>
          <p:cNvPicPr/>
          <p:nvPr/>
        </p:nvPicPr>
        <p:blipFill>
          <a:blip r:embed="rId6"/>
          <a:stretch/>
        </p:blipFill>
        <p:spPr>
          <a:xfrm>
            <a:off x="7596360" y="1844640"/>
            <a:ext cx="1322280" cy="158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52696949200907241948133517907288467_003"/>
          <p:cNvPicPr/>
          <p:nvPr/>
        </p:nvPicPr>
        <p:blipFill>
          <a:blip r:embed="rId7"/>
          <a:stretch/>
        </p:blipFill>
        <p:spPr>
          <a:xfrm>
            <a:off x="4716360" y="1844640"/>
            <a:ext cx="1339920" cy="158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u=90112154,1038055682&amp;fm=51&amp;gp=0"/>
          <p:cNvPicPr/>
          <p:nvPr/>
        </p:nvPicPr>
        <p:blipFill>
          <a:blip r:embed="rId8"/>
          <a:stretch/>
        </p:blipFill>
        <p:spPr>
          <a:xfrm>
            <a:off x="7667640" y="3573360"/>
            <a:ext cx="1262160" cy="1511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cb1ea94d96ec447809f7ef8c"/>
          <p:cNvPicPr/>
          <p:nvPr/>
        </p:nvPicPr>
        <p:blipFill>
          <a:blip r:embed="rId9"/>
          <a:stretch/>
        </p:blipFill>
        <p:spPr>
          <a:xfrm>
            <a:off x="6156360" y="1844640"/>
            <a:ext cx="1346040" cy="1584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1250310980669"/>
          <p:cNvPicPr/>
          <p:nvPr/>
        </p:nvPicPr>
        <p:blipFill>
          <a:blip r:embed="rId10"/>
          <a:stretch/>
        </p:blipFill>
        <p:spPr>
          <a:xfrm>
            <a:off x="1835280" y="3573360"/>
            <a:ext cx="1284120" cy="151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77671294277061453"/>
          <p:cNvPicPr/>
          <p:nvPr/>
        </p:nvPicPr>
        <p:blipFill>
          <a:blip r:embed="rId11"/>
          <a:stretch/>
        </p:blipFill>
        <p:spPr>
          <a:xfrm>
            <a:off x="3348000" y="3573360"/>
            <a:ext cx="1320840" cy="1511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081139101640798"/>
          <p:cNvPicPr/>
          <p:nvPr/>
        </p:nvPicPr>
        <p:blipFill>
          <a:blip r:embed="rId12"/>
          <a:stretch/>
        </p:blipFill>
        <p:spPr>
          <a:xfrm>
            <a:off x="6227640" y="3573360"/>
            <a:ext cx="12700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 十二生肖铜兽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　  称：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铜兽首  （中国的国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造年代：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乾隆年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　  别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 红铜铸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价　  值：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富比拍卖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铜猴首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18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港币、铜牛首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74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港币、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铜虎首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44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港币。铜猪首低于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港元。佳士得拍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京时间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凌晨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许，编号为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7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鼠首起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欧元，最终以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0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欧元拍出。兔首起价也是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欧元，最终也以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0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拍出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失时间：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60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英法联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烧圆明园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露面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 铜兽首被盗走后，在国外发现了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即鼠、牛、虎、兔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、猴、猪。其中牛、虎、马、猴、猪在几次拍卖会上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。猪首和马首曾分别于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7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和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9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在纽约和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伦敦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卖。上世纪八十年代，牛、虎、马、猴首被一位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台湾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企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在苏富比拍卖会上买去，后又被送回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/>
              </a:rPr>
              <a:t>中国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猪首则被美国一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馆购走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54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铜兽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u=2611739713,3879233592&amp;fm=51&amp;gp=0"/>
          <p:cNvPicPr/>
          <p:nvPr/>
        </p:nvPicPr>
        <p:blipFill>
          <a:blip r:embed="rId1"/>
          <a:stretch/>
        </p:blipFill>
        <p:spPr>
          <a:xfrm>
            <a:off x="1619280" y="3213000"/>
            <a:ext cx="1352520" cy="1619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u=2151546605,2863330824&amp;fm=51&amp;gp=0"/>
          <p:cNvPicPr/>
          <p:nvPr/>
        </p:nvPicPr>
        <p:blipFill>
          <a:blip r:embed="rId2"/>
          <a:stretch/>
        </p:blipFill>
        <p:spPr>
          <a:xfrm>
            <a:off x="3132000" y="1341360"/>
            <a:ext cx="1366920" cy="165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u=4218122918,4267789231&amp;fm=51&amp;gp=0"/>
          <p:cNvPicPr/>
          <p:nvPr/>
        </p:nvPicPr>
        <p:blipFill>
          <a:blip r:embed="rId3"/>
          <a:stretch/>
        </p:blipFill>
        <p:spPr>
          <a:xfrm>
            <a:off x="7596360" y="134136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u=2512398973,3436705134&amp;fm=51&amp;gp=0"/>
          <p:cNvPicPr/>
          <p:nvPr/>
        </p:nvPicPr>
        <p:blipFill>
          <a:blip r:embed="rId4"/>
          <a:stretch/>
        </p:blipFill>
        <p:spPr>
          <a:xfrm>
            <a:off x="6156360" y="3213000"/>
            <a:ext cx="1295280" cy="161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u=1539464482,2518962507&amp;fm=51&amp;gp=0"/>
          <p:cNvPicPr/>
          <p:nvPr/>
        </p:nvPicPr>
        <p:blipFill>
          <a:blip r:embed="rId5"/>
          <a:stretch/>
        </p:blipFill>
        <p:spPr>
          <a:xfrm>
            <a:off x="7596360" y="3213000"/>
            <a:ext cx="1296720" cy="1619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u=100494389,1588426866&amp;fm=51&amp;gp=0"/>
          <p:cNvPicPr/>
          <p:nvPr/>
        </p:nvPicPr>
        <p:blipFill>
          <a:blip r:embed="rId6"/>
          <a:stretch/>
        </p:blipFill>
        <p:spPr>
          <a:xfrm>
            <a:off x="4643280" y="3213000"/>
            <a:ext cx="1224000" cy="161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u=2942222313,2695686607&amp;fm=51&amp;gp=0"/>
          <p:cNvPicPr/>
          <p:nvPr/>
        </p:nvPicPr>
        <p:blipFill>
          <a:blip r:embed="rId7"/>
          <a:stretch/>
        </p:blipFill>
        <p:spPr>
          <a:xfrm>
            <a:off x="3132000" y="3213000"/>
            <a:ext cx="1295640" cy="16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g0_8444789"/>
          <p:cNvPicPr/>
          <p:nvPr/>
        </p:nvPicPr>
        <p:blipFill>
          <a:blip r:embed="rId8"/>
          <a:stretch/>
        </p:blipFill>
        <p:spPr>
          <a:xfrm>
            <a:off x="179280" y="1341360"/>
            <a:ext cx="1332000" cy="165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W020090305629761266566"/>
          <p:cNvPicPr/>
          <p:nvPr/>
        </p:nvPicPr>
        <p:blipFill>
          <a:blip r:embed="rId9"/>
          <a:stretch/>
        </p:blipFill>
        <p:spPr>
          <a:xfrm>
            <a:off x="4572000" y="1341360"/>
            <a:ext cx="1368360" cy="165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u=3445489824,764750861&amp;fm=51&amp;gp=0"/>
          <p:cNvPicPr/>
          <p:nvPr/>
        </p:nvPicPr>
        <p:blipFill>
          <a:blip r:embed="rId10"/>
          <a:stretch/>
        </p:blipFill>
        <p:spPr>
          <a:xfrm>
            <a:off x="6084720" y="1341360"/>
            <a:ext cx="1368720" cy="165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01300000285617128780547009500"/>
          <p:cNvPicPr/>
          <p:nvPr/>
        </p:nvPicPr>
        <p:blipFill>
          <a:blip r:embed="rId11"/>
          <a:stretch/>
        </p:blipFill>
        <p:spPr>
          <a:xfrm>
            <a:off x="179280" y="321300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u=3740356916,235065699&amp;fm=51&amp;gp=0"/>
          <p:cNvPicPr/>
          <p:nvPr/>
        </p:nvPicPr>
        <p:blipFill>
          <a:blip r:embed="rId12"/>
          <a:stretch/>
        </p:blipFill>
        <p:spPr>
          <a:xfrm>
            <a:off x="1619280" y="1341360"/>
            <a:ext cx="13748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的相关成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13"/>
          <p:cNvPicPr/>
          <p:nvPr/>
        </p:nvPicPr>
        <p:blipFill>
          <a:blip r:embed="rId1"/>
          <a:stretch/>
        </p:blipFill>
        <p:spPr>
          <a:xfrm>
            <a:off x="971640" y="1341360"/>
            <a:ext cx="68022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280" y="1599840"/>
            <a:ext cx="8604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成语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—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鼠目寸光、胆小如鼠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狐奔鼠窜、狐凭鼠伏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貊乡鼠壤、貊乡鼠攘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目光如鼠、鸟骇鼠窜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鸟惊鼠窜、掘室求鼠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狼奔鼠窜、狼奔鼠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4343400" y="228600"/>
            <a:ext cx="1295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鼠</a:t>
            </a:r>
            <a:endParaRPr b="0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70" name="Picture 4" descr="u=3459958357,3373149526&amp;gp=8"/>
          <p:cNvPicPr/>
          <p:nvPr/>
        </p:nvPicPr>
        <p:blipFill>
          <a:blip r:embed="rId1"/>
          <a:stretch/>
        </p:blipFill>
        <p:spPr>
          <a:xfrm>
            <a:off x="2133720" y="0"/>
            <a:ext cx="198108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5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68360" y="1752480"/>
            <a:ext cx="8532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成语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—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牛头马面、对牛弹琴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九牛一毛、九牛二虎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一牛鸣地、羞以牛后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气喘如牛、气克斗牛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牛鬼蛇神、土牛木马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牛刀小试、泥牛入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3"/>
          <p:cNvSpPr txBox="1"/>
          <p:nvPr/>
        </p:nvSpPr>
        <p:spPr>
          <a:xfrm>
            <a:off x="4343400" y="228600"/>
            <a:ext cx="1295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牛</a:t>
            </a:r>
            <a:endParaRPr b="0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73" name="Picture 4" descr="u=1445731604,1271393307&amp;gp=38"/>
          <p:cNvPicPr/>
          <p:nvPr/>
        </p:nvPicPr>
        <p:blipFill>
          <a:blip r:embed="rId1"/>
          <a:stretch/>
        </p:blipFill>
        <p:spPr>
          <a:xfrm>
            <a:off x="2362320" y="0"/>
            <a:ext cx="19047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0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5092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成语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—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生龙活虎、虎踞龙盘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虎头蛇尾、虎视眈眈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调虎离山、放虎归山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狼吞虎咽、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骑虎难下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虎斗龙争、虎卧龙跳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虎穴龙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3"/>
          <p:cNvSpPr txBox="1"/>
          <p:nvPr/>
        </p:nvSpPr>
        <p:spPr>
          <a:xfrm>
            <a:off x="4343400" y="228600"/>
            <a:ext cx="1295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虎</a:t>
            </a:r>
            <a:endParaRPr b="0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76" name="Picture 4" descr="u=509397365,2932906782&amp;gp=10"/>
          <p:cNvPicPr/>
          <p:nvPr/>
        </p:nvPicPr>
        <p:blipFill>
          <a:blip r:embed="rId1"/>
          <a:stretch/>
        </p:blipFill>
        <p:spPr>
          <a:xfrm>
            <a:off x="2133720" y="0"/>
            <a:ext cx="205740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8%99%8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8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2400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成语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—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守株待兔、兔死狐悲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玉兔东升、兔起乌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3"/>
          <p:cNvSpPr txBox="1"/>
          <p:nvPr/>
        </p:nvSpPr>
        <p:spPr>
          <a:xfrm>
            <a:off x="4419720" y="228600"/>
            <a:ext cx="1143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兔</a:t>
            </a:r>
            <a:endParaRPr b="0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79" name="Picture 4" descr="u=4122130461,973109275&amp;gp=36"/>
          <p:cNvPicPr/>
          <p:nvPr/>
        </p:nvPicPr>
        <p:blipFill>
          <a:blip r:embed="rId1"/>
          <a:stretch/>
        </p:blipFill>
        <p:spPr>
          <a:xfrm>
            <a:off x="2286000" y="0"/>
            <a:ext cx="205740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0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3964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成语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—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生龙活虎、龙盘虎踞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虎斗龙争、画龙点睛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活龙活现、虎卧龙跳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虎穴龙潭、龙凤呈祥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龙飞凤舞、麟凤龟龙、 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炮凤烹龙、龙蛇飞动、 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龙蛇混杂、龙生九子、 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 强龙不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4343400" y="228600"/>
            <a:ext cx="1295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龙</a:t>
            </a:r>
            <a:endParaRPr b="0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82" name="Picture 4" descr="200672015404795"/>
          <p:cNvPicPr/>
          <p:nvPr/>
        </p:nvPicPr>
        <p:blipFill>
          <a:blip r:embed="rId1"/>
          <a:stretch/>
        </p:blipFill>
        <p:spPr>
          <a:xfrm>
            <a:off x="2286000" y="228600"/>
            <a:ext cx="190512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0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500"/>
                            </p:stCondLst>
                            <p:childTnLst>
                              <p:par>
                                <p:cTn id="121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26 -0.11629 C -0.06181 -0.11907 -0.06597 -0.12323 -0.07448 -0.12693 C -0.07552 -0.12832 -0.08021 -0.13387 -0.0809 -0.13548 C -0.08212 -0.13803 -0.08247 -0.14173 -0.08403 -0.14381 C -0.08976 -0.15144 -0.09219 -0.1519 -0.09844 -0.15444 C -0.11875 -0.15283 -0.13715 -0.14913 -0.15712 -0.14589 C -0.16597 -0.14196 -0.16024 -0.14427 -0.17448 -0.13965 C -0.17778 -0.13849 -0.18403 -0.13548 -0.18403 -0.13548 C -0.19184 -0.12022 -0.20226 -0.10913 -0.20955 -0.09317 C -0.2132 -0.07306 -0.21337 -0.05849 -0.21424 -0.03606 C -0.2132 -0.02173 -0.21372 0.00717 -0.20156 0.01249 C -0.19583 0.01758 -0.18958 0.01966 -0.18403 0.02521 C -0.18229 0.02706 -0.18125 0.0303 -0.17934 0.03168 C -0.17639 0.03376 -0.17292 0.03446 -0.16979 0.03585 C -0.16806 0.03654 -0.16684 0.03908 -0.16511 0.04001 C -0.1592 0.04348 -0.14913 0.04764 -0.14288 0.04856 C -0.13386 0.04972 -0.12483 0.04995 -0.1158 0.05064 C -0.10712 0.05041 -0.06563 0.06197 -0.0507 0.04209 C -0.04601 0.02267 -0.0467 0.0266 -0.03004 0.02313 C -0.02691 0.02243 -0.02379 0.02197 -0.02066 0.02105 C -0.01736 0.01989 -0.01111 0.01689 -0.01111 0.01689 C -0.00851 0.01342 -0.00521 0.01041 -0.00313 0.00625 C -0.00208 0.00417 5E-006 -0.00022 5E-006 -0.00022 E">
                                      <p:cBhvr>
                                        <p:cTn id="1215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691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的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起源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000" y="1712880"/>
            <a:ext cx="82803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，是中国传统文化的重要部分，由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自然界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动物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传说中的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龙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组成 ，用于纪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过历史考证，十二生肖最早始于春秋战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最早见于世界上第一部诗歌总集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经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9528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成语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—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杯弓蛇影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笔走龙蛇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 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拨草寻蛇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春蚓秋蛇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打草惊蛇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飞鸟惊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佛口蛇心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虎头蛇尾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画蛇添足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画蛇添足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 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蛇口蜂针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龙蛇飞动、 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龙蛇混杂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三蛇七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4343400" y="228600"/>
            <a:ext cx="1295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蛇</a:t>
            </a:r>
            <a:endParaRPr b="0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85" name="Picture 4" descr="巳蛇"/>
          <p:cNvPicPr/>
          <p:nvPr/>
        </p:nvPicPr>
        <p:blipFill>
          <a:blip r:embed="rId1"/>
          <a:stretch/>
        </p:blipFill>
        <p:spPr>
          <a:xfrm>
            <a:off x="2438280" y="0"/>
            <a:ext cx="175284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0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8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400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成语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—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兵慌马乱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宝马香车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 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兵马不动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伯乐相马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快马加鞭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车水马龙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千军万马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兵强马壮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牛头马面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服牛乘马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 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归马放牛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风吹马耳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 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龙神马壮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老马识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WordArt 3" descr=""/>
          <p:cNvPicPr/>
          <p:nvPr/>
        </p:nvPicPr>
        <p:blipFill>
          <a:blip r:embed="rId1"/>
          <a:stretch/>
        </p:blipFill>
        <p:spPr>
          <a:xfrm>
            <a:off x="4006800" y="374760"/>
            <a:ext cx="1895400" cy="2292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午马"/>
          <p:cNvPicPr/>
          <p:nvPr/>
        </p:nvPicPr>
        <p:blipFill>
          <a:blip r:embed="rId2"/>
          <a:stretch/>
        </p:blipFill>
        <p:spPr>
          <a:xfrm>
            <a:off x="0" y="0"/>
            <a:ext cx="18288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0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A9%AC.wav"/>
                                        </p:tgtEl>
                                      </p:cMediaNode>
                                    </p:audio>
                                    <p:animMotion origin="layout" path="M 0 -4.80111E-006 L 0.29167 0.0081 E">
                                      <p:cBhvr>
                                        <p:cTn id="127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6836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成语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—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亡羊补牢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顺手牵羊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 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歧路亡羊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羊肠小道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三羊开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羊羔跪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WordArt 3"/>
          <p:cNvSpPr txBox="1"/>
          <p:nvPr/>
        </p:nvSpPr>
        <p:spPr>
          <a:xfrm>
            <a:off x="4648320" y="304920"/>
            <a:ext cx="12952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羊</a:t>
            </a:r>
            <a:endParaRPr b="0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91" name="Picture 4" descr="未羊"/>
          <p:cNvPicPr/>
          <p:nvPr/>
        </p:nvPicPr>
        <p:blipFill>
          <a:blip r:embed="rId1"/>
          <a:stretch/>
        </p:blipFill>
        <p:spPr>
          <a:xfrm>
            <a:off x="2286000" y="228600"/>
            <a:ext cx="1962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7" dur="indefinite" restart="never" nodeType="tmRoot">
          <p:childTnLst>
            <p:seq>
              <p:cTn id="1298" dur="indefinite" nodeType="mainSeq">
                <p:childTnLst>
                  <p:par>
                    <p:cTn id="1299" fill="hold">
                      <p:stCondLst>
                        <p:cond delay="0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"/>
                            </p:stCondLst>
                            <p:childTnLst>
                              <p:par>
                                <p:cTn id="13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5092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成语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—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猴年马月、猴头猴脑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尖嘴猴腮、沐猴而冠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杀鸡吓猴、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土龙沐猴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轩鹤冠猴、猿猴取月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宰鸡教猴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弄鬼掉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3"/>
          <p:cNvSpPr txBox="1"/>
          <p:nvPr/>
        </p:nvSpPr>
        <p:spPr>
          <a:xfrm>
            <a:off x="4572000" y="380880"/>
            <a:ext cx="1295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猴</a:t>
            </a:r>
            <a:endParaRPr b="0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94" name="Picture 4" descr="申猴"/>
          <p:cNvPicPr/>
          <p:nvPr/>
        </p:nvPicPr>
        <p:blipFill>
          <a:blip r:embed="rId1"/>
          <a:stretch/>
        </p:blipFill>
        <p:spPr>
          <a:xfrm>
            <a:off x="1371600" y="-1436760"/>
            <a:ext cx="196200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0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Motion origin="layout" path="M 0.04271 3.75723E-006 C 0.0467 0.00092 0.05087 0.00046 0.05486 0.003 C 0.05747 0.00462 0.06007 0.00994 0.06268 0.01202 C 0.06649 0.01896 0.0691 0.0215 0.07327 0.0245 C 0.07014 0.03514 0.06945 0.04323 0.06806 0.05849 C 0.06771 0.0615 0.06736 0.0645 0.06719 0.06751 C 0.06684 0.07052 0.06615 0.07653 0.06615 0.07699 C 0.0684 0.10589 0.06667 0.0978 0.07847 0.1015 C 0.08229 0.10589 0.08524 0.11537 0.08889 0.11977 C 0.09219 0.13179 0.09236 0.1489 0.09514 0.16277 C 0.0934 0.19977 0.09375 0.19445 0.08281 0.19977 C 0.07934 0.20161 0.07222 0.20578 0.07222 0.20624 C 0.06337 0.21711 0.06893 0.21271 0.05486 0.20924 C 0.05191 0.20555 0.05313 0.20578 0.05139 0.20578 E">
                                      <p:cBhvr>
                                        <p:cTn id="1334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9528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成语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—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鸡肠狗肚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鸡飞蛋打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鸡飞狗走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鸡零狗碎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杀鸡吓猴、鸡毛蒜皮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鸡鸣狗盗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闻鸡起舞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鸡皮鹤发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鸡犬桑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3"/>
          <p:cNvSpPr txBox="1"/>
          <p:nvPr/>
        </p:nvSpPr>
        <p:spPr>
          <a:xfrm>
            <a:off x="4419720" y="304920"/>
            <a:ext cx="1295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鸡</a:t>
            </a:r>
            <a:endParaRPr b="0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97" name="Picture 4" descr="酉鸡"/>
          <p:cNvPicPr/>
          <p:nvPr/>
        </p:nvPicPr>
        <p:blipFill>
          <a:blip r:embed="rId1"/>
          <a:stretch/>
        </p:blipFill>
        <p:spPr>
          <a:xfrm>
            <a:off x="2057400" y="228600"/>
            <a:ext cx="1905120" cy="13971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申猴"/>
          <p:cNvPicPr/>
          <p:nvPr/>
        </p:nvPicPr>
        <p:blipFill>
          <a:blip r:embed="rId2"/>
          <a:stretch/>
        </p:blipFill>
        <p:spPr>
          <a:xfrm>
            <a:off x="1371600" y="-1436760"/>
            <a:ext cx="196200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0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500"/>
                            </p:stCondLst>
                            <p:childTnLst>
                              <p:par>
                                <p:cTn id="1363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9%B8%A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Motion origin="layout" path="M 0.04271 3.75723E-006 C 0.0467 0.00092 0.05087 0.00046 0.05486 0.003 C 0.05747 0.00462 0.06007 0.00994 0.06268 0.01202 C 0.06649 0.01896 0.0691 0.0215 0.07327 0.0245 C 0.07014 0.03514 0.06945 0.04323 0.06806 0.05849 C 0.06771 0.0615 0.06736 0.0645 0.06719 0.06751 C 0.06684 0.07052 0.06615 0.07653 0.06615 0.07699 C 0.0684 0.10589 0.06667 0.0978 0.07847 0.1015 C 0.08229 0.10589 0.08524 0.11537 0.08889 0.11977 C 0.09219 0.13179 0.09236 0.1489 0.09514 0.16277 C 0.0934 0.19977 0.09375 0.19445 0.08281 0.19977 C 0.07934 0.20161 0.07222 0.20578 0.07222 0.20624 C 0.06337 0.21711 0.06893 0.21271 0.05486 0.20924 C 0.05191 0.20555 0.05313 0.20578 0.05139 0.20578 E">
                                      <p:cBhvr>
                                        <p:cTn id="1393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6836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成语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—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狗急跳墙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狗肺狼心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鸡飞狗走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狐朋狗友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狗头军师、狗血喷头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偷鸡摸狗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声色狗马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鼠窜狗盗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指猪骂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4419720" y="304920"/>
            <a:ext cx="1295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狗</a:t>
            </a:r>
            <a:endParaRPr b="0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01" name="Picture 4" descr="戌狗"/>
          <p:cNvPicPr/>
          <p:nvPr/>
        </p:nvPicPr>
        <p:blipFill>
          <a:blip r:embed="rId1"/>
          <a:stretch/>
        </p:blipFill>
        <p:spPr>
          <a:xfrm>
            <a:off x="2362320" y="152280"/>
            <a:ext cx="182880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fill="hold">
                      <p:stCondLst>
                        <p:cond delay="0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500"/>
                            </p:stCondLst>
                            <p:childTnLst>
                              <p:par>
                                <p:cTn id="140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7%8B%9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9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5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1128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成语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—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牧猪奴戏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泥猪疥狗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泥猪瓦狗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猪卑狗险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猪突豨勇、指猪骂狗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猪头猪脑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泥猪癞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一龙一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3"/>
          <p:cNvSpPr txBox="1"/>
          <p:nvPr/>
        </p:nvSpPr>
        <p:spPr>
          <a:xfrm>
            <a:off x="4419720" y="304920"/>
            <a:ext cx="1295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猪</a:t>
            </a:r>
            <a:endParaRPr b="0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04" name="Picture 4" descr="亥猪"/>
          <p:cNvPicPr/>
          <p:nvPr/>
        </p:nvPicPr>
        <p:blipFill>
          <a:blip r:embed="rId1"/>
          <a:stretch/>
        </p:blipFill>
        <p:spPr>
          <a:xfrm>
            <a:off x="2133720" y="228600"/>
            <a:ext cx="20574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0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500"/>
                            </p:stCondLst>
                            <p:childTnLst>
                              <p:par>
                                <p:cTn id="143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0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8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6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68360" y="2276280"/>
            <a:ext cx="42480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十二生肖最早始于什么时代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579640" y="2636640"/>
            <a:ext cx="3203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春秋战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3168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奖问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3" dur="77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4" dur="77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6" dur="77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8" dur="77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5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5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4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39640" y="1916280"/>
            <a:ext cx="360072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最早见于世界上哪一部诗歌总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96000" y="2708280"/>
            <a:ext cx="252576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诗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dur="indefinite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000" y="1773360"/>
            <a:ext cx="41749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两两相对 ，相辅相成，那个同学能说出他们是怎么配对的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651640" y="1844280"/>
            <a:ext cx="2808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鼠和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虎和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龙和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马和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猴和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狗和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1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2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9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4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9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4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29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4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6"/>
          <p:cNvSpPr/>
          <p:nvPr/>
        </p:nvSpPr>
        <p:spPr>
          <a:xfrm>
            <a:off x="5364000" y="3195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497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的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序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子（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zi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丑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chou)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寅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yin)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卯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mao)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chen)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巳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si)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午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wu)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未（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wei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申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shen)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酉（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you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戌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xu) 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亥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hai)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猪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子鼠2"/>
          <p:cNvPicPr/>
          <p:nvPr/>
        </p:nvPicPr>
        <p:blipFill>
          <a:blip r:embed="rId1"/>
          <a:stretch/>
        </p:blipFill>
        <p:spPr>
          <a:xfrm>
            <a:off x="3276720" y="1341360"/>
            <a:ext cx="1511280" cy="119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辰龙2"/>
          <p:cNvPicPr/>
          <p:nvPr/>
        </p:nvPicPr>
        <p:blipFill>
          <a:blip r:embed="rId2"/>
          <a:stretch/>
        </p:blipFill>
        <p:spPr>
          <a:xfrm>
            <a:off x="5076720" y="263700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丑牛2"/>
          <p:cNvPicPr/>
          <p:nvPr/>
        </p:nvPicPr>
        <p:blipFill>
          <a:blip r:embed="rId3"/>
          <a:stretch/>
        </p:blipFill>
        <p:spPr>
          <a:xfrm>
            <a:off x="5076720" y="1341360"/>
            <a:ext cx="1511280" cy="119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亥猪2"/>
          <p:cNvPicPr/>
          <p:nvPr/>
        </p:nvPicPr>
        <p:blipFill>
          <a:blip r:embed="rId4"/>
          <a:stretch/>
        </p:blipFill>
        <p:spPr>
          <a:xfrm>
            <a:off x="6877080" y="5084640"/>
            <a:ext cx="1440000" cy="116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卯兔2"/>
          <p:cNvPicPr/>
          <p:nvPr/>
        </p:nvPicPr>
        <p:blipFill>
          <a:blip r:embed="rId5"/>
          <a:stretch/>
        </p:blipFill>
        <p:spPr>
          <a:xfrm>
            <a:off x="3276720" y="2637000"/>
            <a:ext cx="1511280" cy="113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申侯2"/>
          <p:cNvPicPr/>
          <p:nvPr/>
        </p:nvPicPr>
        <p:blipFill>
          <a:blip r:embed="rId6"/>
          <a:stretch/>
        </p:blipFill>
        <p:spPr>
          <a:xfrm>
            <a:off x="6877080" y="386064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巳蛇2"/>
          <p:cNvPicPr/>
          <p:nvPr/>
        </p:nvPicPr>
        <p:blipFill>
          <a:blip r:embed="rId7"/>
          <a:stretch/>
        </p:blipFill>
        <p:spPr>
          <a:xfrm>
            <a:off x="6877080" y="263700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未兔2"/>
          <p:cNvPicPr/>
          <p:nvPr/>
        </p:nvPicPr>
        <p:blipFill>
          <a:blip r:embed="rId8"/>
          <a:stretch/>
        </p:blipFill>
        <p:spPr>
          <a:xfrm>
            <a:off x="5076720" y="3860640"/>
            <a:ext cx="1511280" cy="1133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午马2"/>
          <p:cNvPicPr/>
          <p:nvPr/>
        </p:nvPicPr>
        <p:blipFill>
          <a:blip r:embed="rId9"/>
          <a:stretch/>
        </p:blipFill>
        <p:spPr>
          <a:xfrm>
            <a:off x="3276720" y="3860640"/>
            <a:ext cx="1511280" cy="1133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戌狗2"/>
          <p:cNvPicPr/>
          <p:nvPr/>
        </p:nvPicPr>
        <p:blipFill>
          <a:blip r:embed="rId10"/>
          <a:stretch/>
        </p:blipFill>
        <p:spPr>
          <a:xfrm>
            <a:off x="5076720" y="5084640"/>
            <a:ext cx="1511280" cy="113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寅虎2"/>
          <p:cNvPicPr/>
          <p:nvPr/>
        </p:nvPicPr>
        <p:blipFill>
          <a:blip r:embed="rId11"/>
          <a:stretch/>
        </p:blipFill>
        <p:spPr>
          <a:xfrm>
            <a:off x="6877080" y="1341360"/>
            <a:ext cx="1440000" cy="1165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酉鸡2"/>
          <p:cNvPicPr/>
          <p:nvPr/>
        </p:nvPicPr>
        <p:blipFill>
          <a:blip r:embed="rId12"/>
          <a:stretch/>
        </p:blipFill>
        <p:spPr>
          <a:xfrm>
            <a:off x="3276720" y="5084640"/>
            <a:ext cx="15112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35640" y="2997360"/>
            <a:ext cx="34574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鼠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智慧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牛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勤劳</a:t>
            </a: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404352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两两相对 ，相辅相成，那个同学能说出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鼠和牛代表什么吗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27280" y="2852280"/>
            <a:ext cx="381636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老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代表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勇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兔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代表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谨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10920" y="1700280"/>
            <a:ext cx="4105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两两相对 ，相辅相成，那个同学能说出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老虎和 兔子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什么吗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68000" y="1915920"/>
            <a:ext cx="4032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两两相对 ，相辅相成，那个同学能说出龙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和蛇代表什么吗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183280" y="3141720"/>
            <a:ext cx="396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代表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刚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代表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柔韧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68000" y="1915920"/>
            <a:ext cx="43196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两两相对 ，相辅相成，那个同学能说出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马和羊代表什么吗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5148360" y="2637000"/>
            <a:ext cx="399564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马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往无前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向目标奋进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羊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团结和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68000" y="1988640"/>
            <a:ext cx="41749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两两相对 ，相辅相成，那个同学能说出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猴和鸡代表什么吗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5076720" y="2060640"/>
            <a:ext cx="38163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猴子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灵活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鸡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打鸣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恒定、恒心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40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94920" y="1988640"/>
            <a:ext cx="4537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两两相对 ，相辅相成，那个同学能说出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狗和猪代表什么吗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5110200" y="2276640"/>
            <a:ext cx="40338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猴子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灵活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鸡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打鸣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</a:t>
            </a: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恒定、恒心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5" dur="indefinite" restart="never" nodeType="tmRoot">
          <p:childTnLst>
            <p:seq>
              <p:cTn id="1566" dur="indefinite" nodeType="mainSeq">
                <p:childTnLst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292720" y="2636640"/>
            <a:ext cx="34560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鼠爬上了牛脖子，到了报名点蹦到了牛的前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360" y="2133720"/>
            <a:ext cx="42480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中，怎么让小老鼠排在第一名呢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08000" y="2349360"/>
            <a:ext cx="46800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古代南北朝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沈炯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作的了一首关于十二生肖的诗叫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940000" y="2708280"/>
            <a:ext cx="280836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十二属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68360" y="2349000"/>
            <a:ext cx="33940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为何没有猫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796000" y="2492280"/>
            <a:ext cx="28908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老鼠忘了喊猫，猫睡过点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7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4000" y="1988640"/>
            <a:ext cx="30351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十二生肖传说中为什么没有猫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5796000" y="2492280"/>
            <a:ext cx="28908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猫睡懒觉，让老鼠喊他，老鼠没有喊，猫错过了报名的机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3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4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迷你简琥珀"/>
              </a:rPr>
              <a:t>十二生肖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08000" y="1341360"/>
            <a:ext cx="3178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萝卜"/>
              </a:rPr>
              <a:t>小老鼠打头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萝卜"/>
              </a:rPr>
              <a:t>牛把蹄儿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萝卜"/>
              </a:rPr>
              <a:t>老虎回头一声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萝卜"/>
              </a:rPr>
              <a:t>兔儿跳得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萝卜"/>
              </a:rPr>
              <a:t>兔儿跳得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59280" y="2133720"/>
            <a:ext cx="32400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萝卜"/>
              </a:rPr>
              <a:t>龙和蛇尾巴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萝卜"/>
              </a:rPr>
              <a:t>马羊步儿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萝卜"/>
              </a:rPr>
              <a:t>小猴机灵蹦又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萝卜"/>
              </a:rPr>
              <a:t>鸡唱天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迷你简萝卜"/>
              </a:rPr>
              <a:t>鸡唱天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084720" y="2637000"/>
            <a:ext cx="30592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萝卜"/>
                <a:ea typeface="迷你简萝卜"/>
              </a:rPr>
              <a:t>狗儿跳猪儿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萝卜"/>
                <a:ea typeface="迷你简萝卜"/>
              </a:rPr>
              <a:t>老鼠又跟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萝卜"/>
                <a:ea typeface="迷你简萝卜"/>
              </a:rPr>
              <a:t>十二动物转圈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萝卜"/>
                <a:ea typeface="迷你简萝卜"/>
              </a:rPr>
              <a:t>请把顺序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萝卜"/>
                <a:ea typeface="迷你简萝卜"/>
              </a:rPr>
              <a:t>啊 请把顺序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十二生肖歌.mp3" descr=""/>
          <p:cNvPicPr/>
          <p:nvPr/>
        </p:nvPicPr>
        <p:blipFill>
          <a:blip r:embed="rId1"/>
          <a:stretch/>
        </p:blipFill>
        <p:spPr>
          <a:xfrm>
            <a:off x="4500720" y="57340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8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8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8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8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8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9" dur="17911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96000" y="2997360"/>
            <a:ext cx="24480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邮票、剪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2060280"/>
            <a:ext cx="339408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哪些关于十二生肖的文化？举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867280" y="2997000"/>
            <a:ext cx="266544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清朝乾隆年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11280" y="2204640"/>
            <a:ext cx="32400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铜兽首是哪个年代制造的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68000" y="2637000"/>
            <a:ext cx="338292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铜兽首流失时间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651280" y="3068640"/>
            <a:ext cx="3168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6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1"/>
              </a:rPr>
              <a:t>英法联军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烧圆明园朝乾隆年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"/>
          <p:cNvSpPr/>
          <p:nvPr/>
        </p:nvSpPr>
        <p:spPr>
          <a:xfrm>
            <a:off x="233280" y="1014480"/>
            <a:ext cx="78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2010772226219509"/>
          <p:cNvPicPr/>
          <p:nvPr/>
        </p:nvPicPr>
        <p:blipFill>
          <a:blip r:embed="rId1"/>
          <a:stretch/>
        </p:blipFill>
        <p:spPr>
          <a:xfrm>
            <a:off x="1258920" y="1268280"/>
            <a:ext cx="6913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4420-CB32-428A-ADA0-17F0CD5C887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762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的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传说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年黄帝要选十二种动物担任宫廷卫士，猫托老鼠报名，老鼠给忘了，结果猫没有选上，从此与鼠结下冤家。大象也来参赛，被老鼠钻进鼻子，给赶跑了，其余的动物，原本推牛为首，老鼠却窜到牛背上，猪也跟着起哄 ，于是老鼠排第一，猪排最后。虎和龙不服，被封为山中之王和海中之王，排在鼠和牛的后面。兔子又不服，和龙赛跑，结果排在了龙的前面。狗又不平，一气之下咬了兔子，为此被罚在了倒数第二。蛇、马、羊、猴、鸡也经过一番较量，一一排定了位置，最后形成了鼠、牛、虎、兔、龙、蛇、马、羊、猴、鸡、狗、猪的顺序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二生肖中，怎么让小老鼠排在第一名呢？相传，报名那天，老鼠起得很早，牛也起得很早。它们在路上碰到了。牛个头大，迈的步子也大，老鼠个头小，老鼠跑得上气不接下气。老鼠心里想：路还远着呢，我快跑不动了，这可怎么办？ 它脑子一动，想出个主意来，就对牛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兄弟，牛兄弟，我来给你唱个歌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啊，你唱吧！咦，你怎么不唱呀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鼠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在唱哩，你怎么没听见？哦，我的嗓们太细了，你没听见。这样吧，让我骑在你的脖子上唱，你就听见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鼠就爬上了牛脖子，让牛驮着它走，可舒服了。 它摇头晃脑的，真的唱起歌来：牛兄弟，牛兄弟，过小河，爬山坡，驾，驾，快点儿罗！ 牛听的乐了，撒开腿使劲跑，跑到报名的地方一看，谁也没来，高兴地叫起来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第一名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牛还没吧话说完，老鼠从牛脖子上一蹦，蹦到地上，吱溜一蹿，蹿到牛前面去了。 结果是老鼠得了第一名，牛得了第二名。所以，小的老鼠给排在最前面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762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十二生肖的传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八分钟益智亲子小故事58-十二生肖的故事 标清.wmv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056360" cy="52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2" dur="505379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7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691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十二生肖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何无猫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其实真正的原因是中国古时没有猫。猫原产于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埃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民间传说则是系唐三藏从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印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带回。其实在猫传入中国以前，中国就有了十二生肖。所以十二生肖没有猫，一点也不奇怪。依照动物学的分类，老虎属于哺乳动物、食肉类、猫科。虎和猫，其实是“本家”之亲。有了老虎代表，猫在十二生肖“大会”里，已不愁没有“发言权”，总算欣慰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6:10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5:01Z</dcterms:modified>
  <cp:revision>14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