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gif" ContentType="image/gif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E62F-6CC0-4F7D-9CB8-1CBFF9595E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E413-A0DC-46FC-AA5E-E64F3D2138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3AF-21B4-4478-B859-F1A272589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5A96-BC66-471C-AE87-DE4FE12F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7744FD-7431-49DA-AAEC-70A38131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87BEF4-D3A0-4010-8890-3A1A7799E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251CF9-AA19-4B69-8715-1D15FD988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3C2D4-F8CA-446A-9849-B75AFD18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3625E3-6B88-4F3F-9CA2-DF7777F0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40E17-41B0-45DF-B5BC-CBD0241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6669E-0C8B-4824-8BEC-C4A80E42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BB8025-954D-466A-9052-7A605F5C2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E0CECB-D78B-45F3-B85E-C6D990A3F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C9C15-7020-4C78-99ED-F540F8CE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1577-E32F-4FDD-998F-77FF05C4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CFED5-080B-4EEC-9E26-24DDF1CC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C487F-505B-4FD9-BDF1-182745FC3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75A38-A8CE-4C50-AD3D-EB991A4C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EDEEA5-CB9C-450B-8395-BC5C8FD9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A7988-DB52-48CF-BFDD-9DCF5CAE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C1E08-A881-461E-A758-982583B2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D3722-BFB9-4E42-B02A-4B6FD024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AFEBCE-87F1-445C-A926-FB6B7103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E2F64-5CE7-4B98-B858-FB7F5B21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A5222-3200-4C57-AC01-BB169554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D618-88A1-4DBD-BE15-A4063868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E333B-FF13-4671-BA70-8C0F9C5E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50E65-E4EC-4A8C-8053-961B7599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77487F-79B7-423F-A9B9-10FE4B2F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433CE-F07C-41D8-83E0-8FE32314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5B4139-ED59-4E1E-8986-82A587DD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9462A-30B9-43C5-9835-C92F02AB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41D06-3D7C-4712-9264-9878ED7A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DA863D-EAA0-4475-BABD-BA118B16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C6FF5-969A-47D1-B871-DD3D7F13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A8E98-776D-42D5-98F9-2EC1A3A0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BB10-0F20-45FD-9DA1-E6A3BB43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C30CA0-C703-41C3-9E0B-24DA3ADEE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34C92-7E10-4173-B2FF-EF4F74545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7AA34-DAB5-44C1-AC54-96796BC6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B832AB-F394-438A-8EAD-F29E2952E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3F707-D27A-4A2C-A779-85122C89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899723-4227-4D67-9773-A817A92A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3FBD7-884B-4021-A816-5CC24E64F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42027-6834-47A1-9735-907B9D90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AAE81-8EB6-4287-B5F9-437470DE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50CCE8-EF53-47F1-B82D-228C0A620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2FE3-E74B-413C-BA89-B0D845C27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5BE4F-C495-4F9D-B6C8-9800EE00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A8D1D0-84C7-4EAC-BDA6-EFFF3AABB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3E7F5-B6BE-4847-B7BC-2411D4A20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581A05-E3E6-4DFB-9D94-D5E3DB49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FCA56A-CF98-4EF5-A160-FB0B697E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26C1EF-0894-4961-B204-BDB84411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F8151E-A5BD-4019-8F17-49CBA820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0FD132-DC60-47CA-921B-D897818E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F79AFD-559A-4A17-9B01-32151820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4463AF-5935-4E77-B716-D22E2E28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08C9-AC8A-47B5-927D-372B26686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786B1E-99B5-4203-B42B-7E85FB14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61CD9E-8D75-422F-BA5F-4064DDC2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00BCE0-F5AD-4DE3-B974-51BFB49C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4D7F4-0D73-4C42-8288-CF4E0FAC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6BBFC-0254-4153-988C-DC533FF2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4F9AD-EA07-4E67-80A0-AE0044C14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BF545A-2650-4A8D-8478-91443B681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3B7C2F-7F45-4A41-A140-2617DE0F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F92DB-04C1-4D5D-A339-CB885E6F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1AEFA-A1B9-4F52-B9D1-9F404013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2D02-1CAF-4EDC-91E4-91AE36D6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0AEE4D-FB24-4A1F-81DE-79F2B011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18FD99-F340-4BA9-8BE2-59C0AF36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D044F-B2E9-4FD8-AB4E-20F5F1B6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213DF-03FA-40EF-AFDA-8A4A7873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22037-DAC6-4116-B689-99EADAD4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EFB56-A337-4674-98E8-9CA13EB1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D34F9-FFCE-4EB6-AAEF-BA2C4A27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B3A313-FB92-479C-876D-BA203C64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E672FB-74AA-4A4A-99DB-B3DFAC7D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90C6-4028-49C8-B9B8-A57BDAFD3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83F2-07B4-4F11-8643-BE0745C3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443A-22A6-4085-A047-79E022FF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533-6A45-4E46-AA84-28556B28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270E5-3DDC-498E-A06D-C1896DF7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B4D85-DC13-4721-B9AD-00183B7D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4FFA-A33D-45F6-A928-E6A413A8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A31D-A5A3-42CD-97A7-632EA24F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5373-3E42-47AE-928F-21BA8CDE6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707F-E03B-4F26-9FCF-3FE521D9D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4A3C9-B2B8-42AC-A862-F5CE6BEF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1AA0-E138-40B9-8C20-D5355B59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6D1CC-9318-43F5-A011-4832ED3D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E2079-4085-473A-85EE-A9B61411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8B1-6D53-4AFE-ACF8-BFD9769E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41B3A-5B30-449A-8518-EAD80341C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4DCB9-1261-4DE2-93FD-6A01EFE5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49589-849D-4A5C-A3D1-7C445548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C6EF1-ECCD-48B2-A0DE-262759EB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0BB9-6608-493C-B2DF-CDE4EB86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C2551-B1A3-4103-A661-692492CD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EA85-4F1A-446E-8347-F378DB14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376BD-C03D-4043-A181-86420C5D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00B94-B865-4B20-B507-79001D5B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603A8-6EA1-4BEA-A577-97F8A102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D470-18D5-4557-A1BF-55C9404F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1706F-40AF-4856-92AC-3C2E1C70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6E18E-C4C2-40AB-924A-41F0C94B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97CD-0149-4E64-A56C-A629935F6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BABB0-E201-4D6D-AE2D-CF0A1843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A0A45-4454-442C-BE43-A3B6C4DD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EACDF-04C6-4068-B806-3150CF6E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6EE6-8FDA-44AE-B70D-5293EA74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FC164-46BD-42D4-AB18-CBF4EA0C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7E8BE-9C58-4F21-A3F0-3A451979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05894-A36D-4E8D-8F14-A016E5C9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1696-6042-4203-B13D-3B602106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E304C-E1A5-4000-ADBA-7E2D528A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5A2C9-64F3-460E-A8A9-E25977240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AC555-1CE1-4069-A317-798FF7F0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E13F5-EAF2-4727-A195-629640A2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D5CB1-77FE-45C4-A369-6D22D393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EA272-E52D-47AE-8726-27BB7846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2C034-A1AA-4E5E-B44C-E6484AA7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F0EB7-35DA-455D-A770-4BD0DF18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6E41B-62B3-4D67-96FF-44D93923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F0ADB-B5F2-40D8-9B91-51739A9C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508-CD93-47CE-9609-9AE095142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B1485-EFE0-45F0-A735-1A20974A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CED7A-FA87-4715-80A3-EB5F54FB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F7339-9AE9-4959-B511-71766797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A04BD-8EF8-4D95-A694-51E4DFBC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5F946-BDE2-452B-915C-87729FAD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43F0A-4EFE-4E22-8271-FB13B00F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38AE-2C8B-4B51-99B9-DBEFDD7B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DE4E8-45B2-4B66-BE31-B3BDC7126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BF60A-9490-472E-AD50-20CC2112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2CFE6-1294-4035-AC56-9648FA52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C6B2-5D1D-4A88-AF96-BD1521F0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38FF3-57D1-4284-8153-F9F8CD18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BDA3B-F012-4320-9EAC-F5F7EBE18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E4BC0-32D4-440A-B1D2-F9883F0B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AFB6EA-2E72-4D91-9DD7-F7A12CBB2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5A48D-98EC-4088-8628-7376377C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A3083-EA9D-4936-9F15-30097FA56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54819-DCBE-4B43-8149-8335939B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66CE36-A605-48C5-AD01-1300B291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C5643-7A42-4BD4-A72C-581B1BD22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2C458-9D52-432E-941D-5A2BB432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67B1-7E94-4BFE-AC5B-ECD16861B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32CEB-666E-4F24-B2FD-77E9E25F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0F2BDF-ABE1-4E16-AEBE-A620591C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B7040-8FE3-4387-A456-886915FE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9560D-51C3-41A7-BAFB-6C7B47BE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7342A-2C99-4160-A0E3-CDCBE5E2A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4F6C-6E07-402D-A038-15CF958E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3C697-69E3-4B46-8200-ADF7D389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43F935-C59E-4A01-819C-EE51F5F9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D002A-C613-4C02-AEC5-A9BBAA6F6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29FFF3-9A1B-4C72-9FA4-1D0031C4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166B-2143-4CB0-955E-8C9FB737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87626-036A-4424-BE34-F4C1A321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8C1C1D-4134-4B6E-8E4A-4C0F3E3B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473C9-79EA-4862-9ABB-5AD83571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9CDD9-8EAF-42A6-AAE3-99A6BF62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6B675-766C-46BD-80DB-32B90B68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101D17-DD8E-42F0-85D7-B4CD6136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BD81D-0BC9-4BD9-BE86-FB33157BC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EBF729-0AA2-41D1-AC2A-3C9C4033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40ADB-0648-4AF9-A1D7-6D3A9ABA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015471-94A7-4994-973B-A2257104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" Target="slide9.xml"/><Relationship Id="rId6" Type="http://schemas.openxmlformats.org/officeDocument/2006/relationships/image" Target="../media/image3.wmf"/><Relationship Id="rId7" Type="http://schemas.openxmlformats.org/officeDocument/2006/relationships/slide" Target="slide5.xml"/><Relationship Id="rId8" Type="http://schemas.openxmlformats.org/officeDocument/2006/relationships/image" Target="../media/image3.wmf"/><Relationship Id="rId9" Type="http://schemas.openxmlformats.org/officeDocument/2006/relationships/slide" Target="slide4.xml"/><Relationship Id="rId10" Type="http://schemas.openxmlformats.org/officeDocument/2006/relationships/image" Target="../media/image3.wmf"/><Relationship Id="rId11" Type="http://schemas.openxmlformats.org/officeDocument/2006/relationships/slide" Target="slide4.xml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slide" Target="slide7.xml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slide" Target="slide8.xml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4FB6-EC4E-4590-B1EC-404EB6342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8">
            <a:hlinkClick r:id="" action="ppaction://hlinkshowjump?jump=endshow"/>
          </p:cNvPr>
          <p:cNvSpPr/>
          <p:nvPr/>
        </p:nvSpPr>
        <p:spPr>
          <a:xfrm>
            <a:off x="2556000" y="6093000"/>
            <a:ext cx="610920" cy="765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5"/>
          <p:cNvPicPr/>
          <p:nvPr/>
        </p:nvPicPr>
        <p:blipFill>
          <a:blip r:embed="rId3"/>
          <a:stretch/>
        </p:blipFill>
        <p:spPr>
          <a:xfrm>
            <a:off x="8427960" y="0"/>
            <a:ext cx="716040" cy="71604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33"/>
          <p:cNvGrpSpPr/>
          <p:nvPr/>
        </p:nvGrpSpPr>
        <p:grpSpPr>
          <a:xfrm>
            <a:off x="6265800" y="6164280"/>
            <a:ext cx="1258920" cy="503280"/>
            <a:chOff x="6265800" y="6164280"/>
            <a:chExt cx="1258920" cy="503280"/>
          </a:xfrm>
        </p:grpSpPr>
        <p:sp>
          <p:nvSpPr>
            <p:cNvPr id="6" name="AutoShape 34"/>
            <p:cNvSpPr/>
            <p:nvPr/>
          </p:nvSpPr>
          <p:spPr>
            <a:xfrm>
              <a:off x="6265800" y="6164280"/>
              <a:ext cx="1258920" cy="503280"/>
            </a:xfrm>
            <a:prstGeom prst="roundRect">
              <a:avLst>
                <a:gd name="adj" fmla="val 11921"/>
              </a:avLst>
            </a:prstGeom>
            <a:solidFill>
              <a:srgbClr val="ff9966"/>
            </a:soli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35" descr="Picture4"/>
            <p:cNvPicPr/>
            <p:nvPr/>
          </p:nvPicPr>
          <p:blipFill>
            <a:blip r:embed="rId4"/>
            <a:stretch/>
          </p:blipFill>
          <p:spPr>
            <a:xfrm>
              <a:off x="6286320" y="6189480"/>
              <a:ext cx="2696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Rectangle 36">
              <a:hlinkClick r:id="rId5" action="ppaction://hlinksldjump"/>
            </p:cNvPr>
            <p:cNvSpPr/>
            <p:nvPr/>
          </p:nvSpPr>
          <p:spPr>
            <a:xfrm>
              <a:off x="6310080" y="6224760"/>
              <a:ext cx="11649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第二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Group 37"/>
          <p:cNvGrpSpPr/>
          <p:nvPr/>
        </p:nvGrpSpPr>
        <p:grpSpPr>
          <a:xfrm>
            <a:off x="1728720" y="6164280"/>
            <a:ext cx="1258920" cy="503280"/>
            <a:chOff x="1728720" y="6164280"/>
            <a:chExt cx="1258920" cy="503280"/>
          </a:xfrm>
        </p:grpSpPr>
        <p:sp>
          <p:nvSpPr>
            <p:cNvPr id="10" name="AutoShape 38"/>
            <p:cNvSpPr/>
            <p:nvPr/>
          </p:nvSpPr>
          <p:spPr>
            <a:xfrm>
              <a:off x="1728720" y="6164280"/>
              <a:ext cx="1258920" cy="503280"/>
            </a:xfrm>
            <a:prstGeom prst="roundRect">
              <a:avLst>
                <a:gd name="adj" fmla="val 11921"/>
              </a:avLst>
            </a:prstGeom>
            <a:solidFill>
              <a:srgbClr val="00ffff"/>
            </a:soli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1751040" y="6188040"/>
              <a:ext cx="26928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" name="Rectangle 40">
              <a:hlinkClick r:id="rId7" action="ppaction://hlinksldjump"/>
            </p:cNvPr>
            <p:cNvSpPr/>
            <p:nvPr/>
          </p:nvSpPr>
          <p:spPr>
            <a:xfrm>
              <a:off x="1774440" y="6221160"/>
              <a:ext cx="116424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默读第二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5"/>
          <p:cNvGrpSpPr/>
          <p:nvPr/>
        </p:nvGrpSpPr>
        <p:grpSpPr>
          <a:xfrm>
            <a:off x="181080" y="6164280"/>
            <a:ext cx="1258920" cy="503280"/>
            <a:chOff x="181080" y="6164280"/>
            <a:chExt cx="1258920" cy="503280"/>
          </a:xfrm>
        </p:grpSpPr>
        <p:sp>
          <p:nvSpPr>
            <p:cNvPr id="14" name="AutoShape 46"/>
            <p:cNvSpPr/>
            <p:nvPr/>
          </p:nvSpPr>
          <p:spPr>
            <a:xfrm>
              <a:off x="181080" y="6164280"/>
              <a:ext cx="1258920" cy="503280"/>
            </a:xfrm>
            <a:prstGeom prst="roundRect">
              <a:avLst>
                <a:gd name="adj" fmla="val 11921"/>
              </a:avLst>
            </a:prstGeom>
            <a:solidFill>
              <a:srgbClr val="3366ff"/>
            </a:soli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" name="Picture 47" descr="Picture4"/>
            <p:cNvPicPr/>
            <p:nvPr/>
          </p:nvPicPr>
          <p:blipFill>
            <a:blip r:embed="rId8"/>
            <a:stretch/>
          </p:blipFill>
          <p:spPr>
            <a:xfrm>
              <a:off x="201600" y="6189480"/>
              <a:ext cx="2696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" name="Rectangle 48">
              <a:hlinkClick r:id="rId9" action="ppaction://hlinksldjump"/>
            </p:cNvPr>
            <p:cNvSpPr/>
            <p:nvPr/>
          </p:nvSpPr>
          <p:spPr>
            <a:xfrm>
              <a:off x="225360" y="6224760"/>
              <a:ext cx="11649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默读第一关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" name="Group 62"/>
          <p:cNvGrpSpPr/>
          <p:nvPr/>
        </p:nvGrpSpPr>
        <p:grpSpPr>
          <a:xfrm>
            <a:off x="3276720" y="6165720"/>
            <a:ext cx="1258920" cy="503280"/>
            <a:chOff x="3276720" y="6165720"/>
            <a:chExt cx="1258920" cy="503280"/>
          </a:xfrm>
        </p:grpSpPr>
        <p:grpSp>
          <p:nvGrpSpPr>
            <p:cNvPr id="18" name="Group 41"/>
            <p:cNvGrpSpPr/>
            <p:nvPr/>
          </p:nvGrpSpPr>
          <p:grpSpPr>
            <a:xfrm>
              <a:off x="3276720" y="6165720"/>
              <a:ext cx="1258920" cy="503280"/>
              <a:chOff x="3276720" y="6165720"/>
              <a:chExt cx="1258920" cy="503280"/>
            </a:xfrm>
          </p:grpSpPr>
          <p:sp>
            <p:nvSpPr>
              <p:cNvPr id="19" name="AutoShape 42"/>
              <p:cNvSpPr/>
              <p:nvPr/>
            </p:nvSpPr>
            <p:spPr>
              <a:xfrm>
                <a:off x="3276720" y="6165720"/>
                <a:ext cx="1258920" cy="503280"/>
              </a:xfrm>
              <a:prstGeom prst="roundRect">
                <a:avLst>
                  <a:gd name="adj" fmla="val 11921"/>
                </a:avLst>
              </a:prstGeom>
              <a:solidFill>
                <a:srgbClr val="99ff33"/>
              </a:solidFill>
              <a:ln w="25560">
                <a:solidFill>
                  <a:srgbClr val="feffff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" name="Picture 43" descr="Picture4"/>
              <p:cNvPicPr/>
              <p:nvPr/>
            </p:nvPicPr>
            <p:blipFill>
              <a:blip r:embed="rId10"/>
              <a:stretch/>
            </p:blipFill>
            <p:spPr>
              <a:xfrm>
                <a:off x="3295440" y="6188040"/>
                <a:ext cx="269280" cy="31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" name="Rectangle 44">
                <a:hlinkClick r:id="rId11" action="ppaction://hlinksldjump"/>
              </p:cNvPr>
              <p:cNvSpPr/>
              <p:nvPr/>
            </p:nvSpPr>
            <p:spPr>
              <a:xfrm>
                <a:off x="3319200" y="6217920"/>
                <a:ext cx="1164960" cy="3495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学习生词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" name="Picture 56" descr="Picture4"/>
            <p:cNvPicPr/>
            <p:nvPr/>
          </p:nvPicPr>
          <p:blipFill>
            <a:blip r:embed="rId12"/>
            <a:stretch/>
          </p:blipFill>
          <p:spPr>
            <a:xfrm>
              <a:off x="3276720" y="6202800"/>
              <a:ext cx="26892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" name="Group 63"/>
          <p:cNvGrpSpPr/>
          <p:nvPr/>
        </p:nvGrpSpPr>
        <p:grpSpPr>
          <a:xfrm>
            <a:off x="4753080" y="6164280"/>
            <a:ext cx="1258920" cy="503280"/>
            <a:chOff x="4753080" y="6164280"/>
            <a:chExt cx="1258920" cy="503280"/>
          </a:xfrm>
        </p:grpSpPr>
        <p:grpSp>
          <p:nvGrpSpPr>
            <p:cNvPr id="24" name="Group 49"/>
            <p:cNvGrpSpPr/>
            <p:nvPr/>
          </p:nvGrpSpPr>
          <p:grpSpPr>
            <a:xfrm>
              <a:off x="4753080" y="6164280"/>
              <a:ext cx="1258920" cy="503280"/>
              <a:chOff x="4753080" y="6164280"/>
              <a:chExt cx="1258920" cy="503280"/>
            </a:xfrm>
          </p:grpSpPr>
          <p:sp>
            <p:nvSpPr>
              <p:cNvPr id="25" name="AutoShape 50"/>
              <p:cNvSpPr/>
              <p:nvPr/>
            </p:nvSpPr>
            <p:spPr>
              <a:xfrm>
                <a:off x="4753080" y="6164280"/>
                <a:ext cx="1258920" cy="503280"/>
              </a:xfrm>
              <a:prstGeom prst="roundRect">
                <a:avLst>
                  <a:gd name="adj" fmla="val 11921"/>
                </a:avLst>
              </a:prstGeom>
              <a:solidFill>
                <a:srgbClr val="ffff00"/>
              </a:solidFill>
              <a:ln w="25560">
                <a:solidFill>
                  <a:srgbClr val="feffff"/>
                </a:solidFill>
                <a:round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" name="Picture 51" descr="Picture4"/>
              <p:cNvPicPr/>
              <p:nvPr/>
            </p:nvPicPr>
            <p:blipFill>
              <a:blip r:embed="rId13"/>
              <a:stretch/>
            </p:blipFill>
            <p:spPr>
              <a:xfrm>
                <a:off x="4771800" y="6186600"/>
                <a:ext cx="269280" cy="31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" name="Rectangle 52">
                <a:hlinkClick r:id="rId14" action="ppaction://hlinksldjump"/>
              </p:cNvPr>
              <p:cNvSpPr/>
              <p:nvPr/>
            </p:nvSpPr>
            <p:spPr>
              <a:xfrm>
                <a:off x="4795560" y="6216480"/>
                <a:ext cx="1164960" cy="3495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ffffff"/>
                    </a:solidFill>
                    <a:latin typeface="幼圆"/>
                    <a:ea typeface="幼圆"/>
                  </a:rPr>
                  <a:t>第一部分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" name="Picture 60" descr="Picture4"/>
            <p:cNvPicPr/>
            <p:nvPr/>
          </p:nvPicPr>
          <p:blipFill>
            <a:blip r:embed="rId15"/>
            <a:stretch/>
          </p:blipFill>
          <p:spPr>
            <a:xfrm>
              <a:off x="4764240" y="6201000"/>
              <a:ext cx="26892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" name="Group 64"/>
          <p:cNvGrpSpPr/>
          <p:nvPr/>
        </p:nvGrpSpPr>
        <p:grpSpPr>
          <a:xfrm>
            <a:off x="7777080" y="6164280"/>
            <a:ext cx="1258920" cy="503280"/>
            <a:chOff x="7777080" y="6164280"/>
            <a:chExt cx="1258920" cy="503280"/>
          </a:xfrm>
        </p:grpSpPr>
        <p:sp>
          <p:nvSpPr>
            <p:cNvPr id="30" name="AutoShape 65"/>
            <p:cNvSpPr/>
            <p:nvPr/>
          </p:nvSpPr>
          <p:spPr>
            <a:xfrm>
              <a:off x="7777080" y="6164280"/>
              <a:ext cx="1258920" cy="503280"/>
            </a:xfrm>
            <a:prstGeom prst="roundRect">
              <a:avLst>
                <a:gd name="adj" fmla="val 11921"/>
              </a:avLst>
            </a:prstGeom>
            <a:solidFill>
              <a:srgbClr val="ff6699"/>
            </a:soli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" name="Picture 66" descr="Picture4"/>
            <p:cNvPicPr/>
            <p:nvPr/>
          </p:nvPicPr>
          <p:blipFill>
            <a:blip r:embed="rId16"/>
            <a:stretch/>
          </p:blipFill>
          <p:spPr>
            <a:xfrm>
              <a:off x="7797600" y="6189480"/>
              <a:ext cx="269640" cy="3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Rectangle 67">
              <a:hlinkClick r:id="rId17" action="ppaction://hlinksldjump"/>
            </p:cNvPr>
            <p:cNvSpPr/>
            <p:nvPr/>
          </p:nvSpPr>
          <p:spPr>
            <a:xfrm>
              <a:off x="7821360" y="6224760"/>
              <a:ext cx="11649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第三部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0347-9608-42F9-A6A0-6E2DB5642D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3239-6FC7-4AB0-BF27-9E447AF570E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AE82-2AF5-4C87-B083-AE8B15DDE6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A914-2BDB-412A-AE62-1233585C3C0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F3E7F-213B-4E4B-8C67-953F13C067F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AEEB-EFF5-4D18-8B2C-5567D7B0CBA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BA77-8619-42AC-BD95-0592DA292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75E0-C1EC-4469-8FFF-495AD74EDB1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4677-8C5A-4CDC-9A20-22D69079793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8B65-A5BC-4E0A-A2EC-2BC6186381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55F3-0747-43C7-8C84-C5E59E163CA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7B61-0258-47CA-9D27-069BBA37803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7ACCC-2C1E-488B-B24A-F49D686D481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727280" y="2349360"/>
            <a:ext cx="5688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树</a:t>
            </a:r>
            <a:r>
              <a:rPr b="1" lang="zh-CN" sz="9600" spc="-1" strike="noStrike">
                <a:solidFill>
                  <a:srgbClr val="01296b"/>
                </a:solidFill>
                <a:latin typeface="楷体_GB2312"/>
                <a:ea typeface="楷体_GB2312"/>
              </a:rPr>
              <a:t>和</a:t>
            </a:r>
            <a:r>
              <a:rPr b="1" lang="zh-CN" sz="96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喜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"/>
          <p:cNvSpPr/>
          <p:nvPr/>
        </p:nvSpPr>
        <p:spPr>
          <a:xfrm>
            <a:off x="1726560" y="558972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33cc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5"/>
          <p:cNvSpPr/>
          <p:nvPr/>
        </p:nvSpPr>
        <p:spPr>
          <a:xfrm>
            <a:off x="324000" y="2060640"/>
            <a:ext cx="84978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，天亮了，喜鹊们吱吱喳喳叫几声，打着招呼一起飞走了。天黑了，他们又吱吱喳喳地一起飞回窝里，安安静静地睡觉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很快乐，喜鹊也很快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5" name="Group 5"/>
          <p:cNvGrpSpPr/>
          <p:nvPr/>
        </p:nvGrpSpPr>
        <p:grpSpPr>
          <a:xfrm>
            <a:off x="1727280" y="5906520"/>
            <a:ext cx="7416360" cy="868320"/>
            <a:chOff x="1727280" y="5906520"/>
            <a:chExt cx="7416360" cy="868320"/>
          </a:xfrm>
        </p:grpSpPr>
        <p:pic>
          <p:nvPicPr>
            <p:cNvPr id="626" name="Picture 6" descr="u=3558443315,1895560880&amp;fm=0&amp;gp=0"/>
            <p:cNvPicPr/>
            <p:nvPr/>
          </p:nvPicPr>
          <p:blipFill>
            <a:blip r:embed="rId2"/>
            <a:stretch/>
          </p:blipFill>
          <p:spPr>
            <a:xfrm rot="688200">
              <a:off x="6570360" y="6021720"/>
              <a:ext cx="122292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7"/>
            <p:cNvSpPr/>
            <p:nvPr/>
          </p:nvSpPr>
          <p:spPr>
            <a:xfrm>
              <a:off x="1727280" y="5950080"/>
              <a:ext cx="741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什么树和喜鹊都很快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矩形 3"/>
          <p:cNvSpPr/>
          <p:nvPr/>
        </p:nvSpPr>
        <p:spPr>
          <a:xfrm>
            <a:off x="395280" y="2349360"/>
            <a:ext cx="83534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系自己的生活实际，理解这句话，你有过这样的经历吗？自己一个人，没有朋友，没有亲人，自己一个人是什么感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读一读课文体会小鸟和大树的孤单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395280" y="213336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1. 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把这个故事讲给爸爸、妈妈听。</a:t>
            </a:r>
            <a:r>
              <a:rPr b="1" lang="en-US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2. 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把自己与小伙伴的故事用拼音写在小本本上，读给大家听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Box 3"/>
          <p:cNvSpPr/>
          <p:nvPr/>
        </p:nvSpPr>
        <p:spPr>
          <a:xfrm>
            <a:off x="2050920" y="2492280"/>
            <a:ext cx="51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b050"/>
                </a:solidFill>
                <a:latin typeface="楷体_GB2312"/>
                <a:ea typeface="楷体_GB2312"/>
              </a:rPr>
              <a:t>再 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41B4A-442C-435D-A85B-CEEF615DA7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课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5564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先听好老师的要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先给课文标自然段，然后自己读课文，把不认识的字圈出来，并借助拼音多读几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同桌之间互相读：读的同学认真读，听的同学仔细听，如果读的同学有错误要指出来帮他纠正。开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文本框 1"/>
          <p:cNvSpPr/>
          <p:nvPr/>
        </p:nvSpPr>
        <p:spPr>
          <a:xfrm>
            <a:off x="1131840" y="4583160"/>
            <a:ext cx="643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10"/>
          <p:cNvSpPr/>
          <p:nvPr/>
        </p:nvSpPr>
        <p:spPr>
          <a:xfrm>
            <a:off x="179280" y="566100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前，有一棵树，树上只有一个鸟窝，鸟窝里只有一只喜鹊。树很孤单，喜鹊也很孤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5" name="Group 4"/>
          <p:cNvGrpSpPr/>
          <p:nvPr/>
        </p:nvGrpSpPr>
        <p:grpSpPr>
          <a:xfrm>
            <a:off x="1403280" y="4581000"/>
            <a:ext cx="6423480" cy="807480"/>
            <a:chOff x="1403280" y="4581000"/>
            <a:chExt cx="6423480" cy="807480"/>
          </a:xfrm>
        </p:grpSpPr>
        <p:pic>
          <p:nvPicPr>
            <p:cNvPr id="616" name="Picture 5" descr="u=3558443315,1895560880&amp;fm=0&amp;gp=0"/>
            <p:cNvPicPr/>
            <p:nvPr/>
          </p:nvPicPr>
          <p:blipFill>
            <a:blip r:embed="rId1"/>
            <a:stretch/>
          </p:blipFill>
          <p:spPr>
            <a:xfrm rot="688200">
              <a:off x="6858000" y="4665240"/>
              <a:ext cx="91440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Text Box 6"/>
            <p:cNvSpPr/>
            <p:nvPr/>
          </p:nvSpPr>
          <p:spPr>
            <a:xfrm>
              <a:off x="1403280" y="4653000"/>
              <a:ext cx="597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什么树和喜鹊都很孤单呢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TextBox 7"/>
          <p:cNvSpPr/>
          <p:nvPr/>
        </p:nvSpPr>
        <p:spPr>
          <a:xfrm>
            <a:off x="7164360" y="333360"/>
            <a:ext cx="19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矩形 3"/>
          <p:cNvSpPr/>
          <p:nvPr/>
        </p:nvSpPr>
        <p:spPr>
          <a:xfrm>
            <a:off x="179280" y="528804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后来，这里种了好多好多树，每棵树上都有鸟窝，每个鸟窝里都有喜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树有邻居，喜鹊也有了邻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5"/>
          <p:cNvGrpSpPr/>
          <p:nvPr/>
        </p:nvGrpSpPr>
        <p:grpSpPr>
          <a:xfrm>
            <a:off x="1692360" y="5144760"/>
            <a:ext cx="5938920" cy="807120"/>
            <a:chOff x="1692360" y="5144760"/>
            <a:chExt cx="5938920" cy="807120"/>
          </a:xfrm>
        </p:grpSpPr>
        <p:pic>
          <p:nvPicPr>
            <p:cNvPr id="621" name="Picture 6" descr="u=3558443315,1895560880&amp;fm=0&amp;gp=0"/>
            <p:cNvPicPr/>
            <p:nvPr/>
          </p:nvPicPr>
          <p:blipFill>
            <a:blip r:embed="rId1"/>
            <a:stretch/>
          </p:blipFill>
          <p:spPr>
            <a:xfrm rot="688200">
              <a:off x="6662520" y="5229000"/>
              <a:ext cx="91440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Text Box 7"/>
            <p:cNvSpPr/>
            <p:nvPr/>
          </p:nvSpPr>
          <p:spPr>
            <a:xfrm>
              <a:off x="1692360" y="5230800"/>
              <a:ext cx="554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为什么树和喜鹊有了邻居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" name="矩形 6"/>
          <p:cNvSpPr/>
          <p:nvPr/>
        </p:nvSpPr>
        <p:spPr>
          <a:xfrm>
            <a:off x="7756200" y="189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0:45:2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0:48Z</dcterms:modified>
  <cp:revision>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