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0A8E-4C35-45DE-ADB2-80DCB4791E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E160-CD0B-416F-A6D8-BF35ECB2F4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EF0-ADBA-41EF-9078-01B0F7E4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FB4-B07C-4921-A058-13C0C700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071-7DB5-43D2-94A6-B505EE3A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374-5C27-467B-9509-F93F9074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7ED4-7E34-4FC2-B848-35E5B51B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B8D-F5DC-4166-8E6B-F8871716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C96-58D4-4778-B62E-116A38FD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36A-F7F8-4457-8917-BA21F88B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D79-1277-486F-BB5B-E7A5BF82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099-7F5A-4DA4-AEFB-7A35E85D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3FE-D954-4883-87D4-2A214C87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B4D-35FA-4412-9EC2-4A696E6A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2876-8FB3-4DFE-B710-4F7478090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82720" y="2209680"/>
            <a:ext cx="73911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solidFill>
                  <a:srgbClr val="ff0000"/>
                </a:solidFill>
                <a:latin typeface="华文新魏"/>
              </a:rPr>
              <a:t>世界的边沿在哪儿</a:t>
            </a:r>
            <a:endParaRPr b="1" lang="en-US" sz="7200" spc="-1" strike="noStrike">
              <a:ln w="0">
                <a:noFill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833120" y="541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838080" y="20890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　同学们你们是怎么评价杨卡的，从他身上学到了什么，我们以后要怎么做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34360" y="365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"/>
          <p:cNvSpPr/>
          <p:nvPr/>
        </p:nvSpPr>
        <p:spPr>
          <a:xfrm>
            <a:off x="2035080" y="562608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889280" y="3222720"/>
            <a:ext cx="489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762120" y="17398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你们知道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夸父追日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故事吧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结合这节课内容，发挥自己的想象，写一个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夸父追日新编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吗？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33FE-E237-4180-8693-D4D650B3EB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延伸的道路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30492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你有没有傻傻地想过，只要沿着上学的小路一直奔跑就可以跑到天边找到太阳的家，只要沿着放学的路一直追赶，就能把准备“下班”的太阳重新追回到天空中？想不想知道路的尽头在哪里，世界的边沿在哪儿呀？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685800" y="6858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自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选择自己喜欢的方式朗读课文，要求读准字音、读通顺句子，课文要读流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勾画出你认为的文中好词好句，多读几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思考：课文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4"/>
          <p:cNvGrpSpPr/>
          <p:nvPr/>
        </p:nvGrpSpPr>
        <p:grpSpPr>
          <a:xfrm>
            <a:off x="685800" y="990720"/>
            <a:ext cx="2743200" cy="685800"/>
            <a:chOff x="685800" y="990720"/>
            <a:chExt cx="2743200" cy="685800"/>
          </a:xfrm>
        </p:grpSpPr>
        <p:sp>
          <p:nvSpPr>
            <p:cNvPr id="54" name="Rectangle 3"/>
            <p:cNvSpPr/>
            <p:nvPr/>
          </p:nvSpPr>
          <p:spPr>
            <a:xfrm>
              <a:off x="685800" y="990720"/>
              <a:ext cx="27432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"/>
            <p:cNvSpPr/>
            <p:nvPr/>
          </p:nvSpPr>
          <p:spPr>
            <a:xfrm>
              <a:off x="1301040" y="9907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我来说读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23"/>
          <p:cNvSpPr/>
          <p:nvPr/>
        </p:nvSpPr>
        <p:spPr>
          <a:xfrm>
            <a:off x="5715000" y="21337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812880" y="190512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黑黝黝  融合    鞭子  轰隆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默    镀金    桦树  渲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篝火    嘎嘎    晚霞  橡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闪烁    隐藏    笼罩  逗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参差不齐  沉默不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聚精会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362240" y="1905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同学们用一两句话概括课文的主要内容。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77080" y="533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带着问题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600200" y="2038320"/>
            <a:ext cx="579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世界的边沿究竟在哪儿？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小杨卡为了找到这个问题的答案作了哪些努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　　你认为小杨卡是一个怎样的孩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55140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一起来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57480" y="190512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—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杨卡用好奇的眼睛观察着这个世界，（    ）问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—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杨卡为了找到问题的答案，不仅整天地想，而且（      　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—2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杨卡决心要（    ）搞清楚这个问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201560" y="24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提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028600" y="37479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问过身边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716160" y="4205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亲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143000" y="1612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—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杨卡用好奇的眼睛观察着这个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—2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杨卡决心要亲自搞清楚这个问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4343400" y="1676520"/>
            <a:ext cx="380880" cy="2743200"/>
          </a:xfrm>
          <a:custGeom>
            <a:avLst/>
            <a:gdLst>
              <a:gd name="textAreaLeft" fmla="*/ 0 w 380880"/>
              <a:gd name="textAreaRight" fmla="*/ 137520 w 3808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092200" y="86544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杨卡看到了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5791320" y="28954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597720" y="2209680"/>
            <a:ext cx="193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景物描写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066680" y="18288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　同学们讨论一下，看看能不能给杨卡的问题找到答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829800" y="1364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家来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7:30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4:12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