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1.jpeg" ContentType="image/jpeg"/>
  <Override PartName="/ppt/media/image3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4D72-F15E-46B6-BF53-AED4939365AB}" type="slidenum">
              <a:rPr b="0" lang="zh-CN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F0C4-929D-4322-A6C4-4099B552882B}" type="slidenum">
              <a:rPr b="0" lang="zh-CN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600-835E-4A02-B571-8537B37D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8147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3965040"/>
            <a:ext cx="8147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A5F-1AA6-4AF8-B160-B67CE598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840" y="16016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9650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840" y="39650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3AD-7E73-4DB9-AC78-769E7778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26233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4000" y="1601640"/>
            <a:ext cx="26233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080" y="1601640"/>
            <a:ext cx="26233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3965040"/>
            <a:ext cx="26233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4000" y="3965040"/>
            <a:ext cx="26233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080" y="3965040"/>
            <a:ext cx="26233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E98-8A12-476F-BA8C-A7ACC7A9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A06F-9671-41D7-AE0F-23978F04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280" y="1601640"/>
            <a:ext cx="8147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8837-3D97-44E7-811C-E8E3D215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8147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A5AE-E458-4729-BCF9-75219BB4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39754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840" y="1601640"/>
            <a:ext cx="39754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F001-ED06-4AEF-8454-417F6078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7B64-5254-46AD-97F1-4FC3687D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277920"/>
            <a:ext cx="8147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4967-096A-4894-AF75-C4AEC20A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840" y="1601640"/>
            <a:ext cx="39754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280" y="39650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8712-4371-4F1A-873A-EF4E6CB6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01640"/>
            <a:ext cx="8147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D02-56CB-4C3F-94C9-776D55B2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39754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840" y="16016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840" y="39650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B6C2-7862-4869-806B-97D59E69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840" y="16016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3965040"/>
            <a:ext cx="8147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7521-7DE5-422A-8275-6BDC709D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8147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280" y="3965040"/>
            <a:ext cx="8147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C8B9-4FDC-44E3-8DB6-1BD462A7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840" y="16016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280" y="39650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840" y="39650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68EC-32A4-49DB-B07D-7C5F97DA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26233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4000" y="1601640"/>
            <a:ext cx="26233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080" y="1601640"/>
            <a:ext cx="26233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280" y="3965040"/>
            <a:ext cx="26233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4000" y="3965040"/>
            <a:ext cx="26233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080" y="3965040"/>
            <a:ext cx="26233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9889-750B-4176-8FB1-58B48F82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8147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D2E-6A2A-4196-B21E-87640278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39754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840" y="1601640"/>
            <a:ext cx="39754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2D9-198B-4688-839A-9D07FAA1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734-5D20-43C7-8DFC-79D66A68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77920"/>
            <a:ext cx="8147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B04-2799-42B4-AEA1-F23584BE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840" y="1601640"/>
            <a:ext cx="39754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39650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288-7634-4E94-B0A1-843CA037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39754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840" y="16016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840" y="39650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804-0A86-48FA-9A27-72E5E88D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016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840" y="1601640"/>
            <a:ext cx="3975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965040"/>
            <a:ext cx="8147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722-C336-449C-A084-FF621B96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1640"/>
            <a:ext cx="8147160" cy="452448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400"/>
              </a:spcBef>
              <a:buClr>
                <a:srgbClr val="4fa9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a9d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a9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a9d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4fa9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a9d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4fa9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a9d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a9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a9d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a9d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a9d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9BDF-AEF6-4AD1-9587-A68BD11BC5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5088-A321-4289-9941-F6F8D2564D92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pn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55356_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矩形 3" descr=""/>
          <p:cNvPicPr/>
          <p:nvPr/>
        </p:nvPicPr>
        <p:blipFill>
          <a:blip r:embed="rId2"/>
          <a:stretch/>
        </p:blipFill>
        <p:spPr>
          <a:xfrm>
            <a:off x="1886040" y="5229360"/>
            <a:ext cx="5500440" cy="492120"/>
          </a:xfrm>
          <a:prstGeom prst="rect">
            <a:avLst/>
          </a:prstGeom>
          <a:ln w="0">
            <a:noFill/>
          </a:ln>
        </p:spPr>
      </p:pic>
      <p:pic>
        <p:nvPicPr>
          <p:cNvPr id="91" name="矩形 1" descr=""/>
          <p:cNvPicPr/>
          <p:nvPr/>
        </p:nvPicPr>
        <p:blipFill>
          <a:blip r:embed="rId3"/>
          <a:stretch/>
        </p:blipFill>
        <p:spPr>
          <a:xfrm>
            <a:off x="2087640" y="932040"/>
            <a:ext cx="4968720" cy="14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3292412802585160370"/>
          <p:cNvPicPr/>
          <p:nvPr/>
        </p:nvPicPr>
        <p:blipFill>
          <a:blip r:embed="rId1"/>
          <a:stretch/>
        </p:blipFill>
        <p:spPr>
          <a:xfrm>
            <a:off x="38160" y="476280"/>
            <a:ext cx="3959280" cy="5883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2009120118555855581"/>
          <p:cNvPicPr/>
          <p:nvPr/>
        </p:nvPicPr>
        <p:blipFill>
          <a:blip r:embed="rId2"/>
          <a:stretch/>
        </p:blipFill>
        <p:spPr>
          <a:xfrm>
            <a:off x="4068720" y="1143000"/>
            <a:ext cx="4967280" cy="5141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30560" y="595080"/>
            <a:ext cx="5113440" cy="13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马头墙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就是防火墙，也叫封火墙，是起防火作用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xin_035abeab6d58440d8c61766d0713565d"/>
          <p:cNvPicPr/>
          <p:nvPr/>
        </p:nvPicPr>
        <p:blipFill>
          <a:blip r:embed="rId1"/>
          <a:stretch/>
        </p:blipFill>
        <p:spPr>
          <a:xfrm>
            <a:off x="11160" y="0"/>
            <a:ext cx="9131400" cy="5805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" y="333360"/>
            <a:ext cx="1606680" cy="26510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牌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4844880"/>
            <a:ext cx="9142560" cy="2013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牌坊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是封建社会为表彰功勋、科第、德政以及忠孝节义所立的建筑物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些牌坊都是徽州商人无偿的捐款修建的，这是“义”的象征，是徽州商人在叮嘱后人，不要“见利忘义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是徽州商人高尚的人格，徽学的兴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龙川胡氏宗祠"/>
          <p:cNvPicPr/>
          <p:nvPr/>
        </p:nvPicPr>
        <p:blipFill>
          <a:blip r:embed="rId1"/>
          <a:stretch/>
        </p:blipFill>
        <p:spPr>
          <a:xfrm>
            <a:off x="0" y="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3780000" y="411120"/>
            <a:ext cx="158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祠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5716440"/>
            <a:ext cx="9144000" cy="64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祠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徽州人的礼仪和活动中心，是族内祭祖和放牌位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05"/>
          <p:cNvPicPr/>
          <p:nvPr/>
        </p:nvPicPr>
        <p:blipFill>
          <a:blip r:embed="rId1"/>
          <a:stretch/>
        </p:blipFill>
        <p:spPr>
          <a:xfrm>
            <a:off x="0" y="0"/>
            <a:ext cx="8713800" cy="6702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1"/>
          <p:cNvPicPr/>
          <p:nvPr/>
        </p:nvPicPr>
        <p:blipFill>
          <a:blip r:embed="rId2"/>
          <a:stretch/>
        </p:blipFill>
        <p:spPr>
          <a:xfrm>
            <a:off x="250920" y="274680"/>
            <a:ext cx="8281800" cy="6343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01"/>
          <p:cNvPicPr/>
          <p:nvPr/>
        </p:nvPicPr>
        <p:blipFill>
          <a:blip r:embed="rId3"/>
          <a:stretch/>
        </p:blipFill>
        <p:spPr>
          <a:xfrm>
            <a:off x="324000" y="231840"/>
            <a:ext cx="8135640" cy="6365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3"/>
          <p:cNvPicPr/>
          <p:nvPr/>
        </p:nvPicPr>
        <p:blipFill>
          <a:blip r:embed="rId4"/>
          <a:stretch/>
        </p:blipFill>
        <p:spPr>
          <a:xfrm>
            <a:off x="250920" y="260280"/>
            <a:ext cx="8208720" cy="633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03"/>
          <p:cNvPicPr/>
          <p:nvPr/>
        </p:nvPicPr>
        <p:blipFill>
          <a:blip r:embed="rId5"/>
          <a:stretch/>
        </p:blipFill>
        <p:spPr>
          <a:xfrm>
            <a:off x="250920" y="216000"/>
            <a:ext cx="8281800" cy="6381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5"/>
          <p:cNvPicPr/>
          <p:nvPr/>
        </p:nvPicPr>
        <p:blipFill>
          <a:blip r:embed="rId6"/>
          <a:stretch/>
        </p:blipFill>
        <p:spPr>
          <a:xfrm>
            <a:off x="250920" y="260280"/>
            <a:ext cx="8281800" cy="633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07"/>
          <p:cNvPicPr/>
          <p:nvPr/>
        </p:nvPicPr>
        <p:blipFill>
          <a:blip r:embed="rId7"/>
          <a:stretch/>
        </p:blipFill>
        <p:spPr>
          <a:xfrm>
            <a:off x="250920" y="260280"/>
            <a:ext cx="8281800" cy="633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6"/>
          <p:cNvPicPr/>
          <p:nvPr/>
        </p:nvPicPr>
        <p:blipFill>
          <a:blip r:embed="rId8"/>
          <a:stretch/>
        </p:blipFill>
        <p:spPr>
          <a:xfrm>
            <a:off x="250920" y="260280"/>
            <a:ext cx="8281800" cy="6337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9"/>
          <p:cNvPicPr/>
          <p:nvPr/>
        </p:nvPicPr>
        <p:blipFill>
          <a:blip r:embed="rId9"/>
          <a:stretch/>
        </p:blipFill>
        <p:spPr>
          <a:xfrm>
            <a:off x="252360" y="189000"/>
            <a:ext cx="8304120" cy="6408720"/>
          </a:xfrm>
          <a:prstGeom prst="rect">
            <a:avLst/>
          </a:prstGeom>
          <a:ln w="0">
            <a:noFill/>
          </a:ln>
        </p:spPr>
      </p:pic>
      <p:pic>
        <p:nvPicPr>
          <p:cNvPr id="131" name="古筝名曲欣赏.mp3" descr=""/>
          <p:cNvPicPr/>
          <p:nvPr/>
        </p:nvPicPr>
        <p:blipFill>
          <a:blip r:embed="rId10"/>
          <a:stretch/>
        </p:blipFill>
        <p:spPr>
          <a:xfrm>
            <a:off x="8820000" y="6265800"/>
            <a:ext cx="304920" cy="38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安徽绩溪紫园"/>
          <p:cNvPicPr/>
          <p:nvPr/>
        </p:nvPicPr>
        <p:blipFill>
          <a:blip r:embed="rId11"/>
          <a:stretch/>
        </p:blipFill>
        <p:spPr>
          <a:xfrm>
            <a:off x="252360" y="136440"/>
            <a:ext cx="8353440" cy="6415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55356_14"/>
          <p:cNvPicPr/>
          <p:nvPr/>
        </p:nvPicPr>
        <p:blipFill>
          <a:blip r:embed="rId12"/>
          <a:stretch/>
        </p:blipFill>
        <p:spPr>
          <a:xfrm>
            <a:off x="250920" y="104760"/>
            <a:ext cx="8472240" cy="649296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2"/>
          <p:cNvSpPr txBox="1"/>
          <p:nvPr/>
        </p:nvSpPr>
        <p:spPr>
          <a:xfrm>
            <a:off x="2844720" y="1050840"/>
            <a:ext cx="3311640" cy="122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808080"/>
                </a:solidFill>
                <a:latin typeface="黑体"/>
              </a:rPr>
              <a:t>水墨徽州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684360" y="4800600"/>
            <a:ext cx="77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徽派建筑以</a:t>
            </a:r>
            <a:r>
              <a:rPr b="1" lang="zh-CN" sz="4800" spc="-1" strike="noStrike">
                <a:solidFill>
                  <a:srgbClr val="cc0099"/>
                </a:solidFill>
                <a:latin typeface="黑体"/>
                <a:ea typeface="黑体"/>
              </a:rPr>
              <a:t>祠堂、牌坊、民宅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最具特色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号称“古建三绝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1"/>
                            </p:stCondLst>
                            <p:childTnLst>
                              <p:par>
                                <p:cTn id="35" dur="indefinite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501"/>
                            </p:stCondLst>
                            <p:childTnLst>
                              <p:par>
                                <p:cTn id="39" dur="indefinite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501"/>
                            </p:stCondLst>
                            <p:childTnLst>
                              <p:par>
                                <p:cTn id="43" dur="indefinite" nodeType="after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3501"/>
                            </p:stCondLst>
                            <p:childTnLst>
                              <p:par>
                                <p:cTn id="47" dur="indefinite" nodeType="afterEffect" fill="hold" presetClass="entr" presetID="1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501"/>
                            </p:stCondLst>
                            <p:childTnLst>
                              <p:par>
                                <p:cTn id="51" dur="indefinite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502"/>
                            </p:stCondLst>
                            <p:childTnLst>
                              <p:par>
                                <p:cTn id="55" dur="indefinite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1002"/>
                            </p:stCondLst>
                            <p:childTnLst>
                              <p:par>
                                <p:cTn id="59" dur="indefinite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6502"/>
                            </p:stCondLst>
                            <p:childTnLst>
                              <p:par>
                                <p:cTn id="63" dur="indefinite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1.0)">
                                      <p:cBhvr>
                                        <p:cTn id="67" dur="41773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64237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82520" y="1628640"/>
            <a:ext cx="88567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小组解决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、文章为什么以“水墨徽州”为题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87280" y="3716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徽州黑、白、灰的建筑基调，正好与中国水墨画的精神相契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在徽州的大街小巷，就像走进了一幅连绵不断的水墨长卷，所以作者将古徽州的首府——歙县，称作“水墨徽州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安徽绩溪紫园"/>
          <p:cNvPicPr/>
          <p:nvPr/>
        </p:nvPicPr>
        <p:blipFill>
          <a:blip r:embed="rId1"/>
          <a:stretch/>
        </p:blipFill>
        <p:spPr>
          <a:xfrm>
            <a:off x="396720" y="911160"/>
            <a:ext cx="8353440" cy="5591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亭台楼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s2009522165818"/>
          <p:cNvPicPr/>
          <p:nvPr/>
        </p:nvPicPr>
        <p:blipFill>
          <a:blip r:embed="rId1"/>
          <a:stretch/>
        </p:blipFill>
        <p:spPr>
          <a:xfrm>
            <a:off x="108000" y="547560"/>
            <a:ext cx="8856720" cy="576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8002_20071002095357"/>
          <p:cNvPicPr/>
          <p:nvPr/>
        </p:nvPicPr>
        <p:blipFill>
          <a:blip r:embed="rId2"/>
          <a:stretch/>
        </p:blipFill>
        <p:spPr>
          <a:xfrm>
            <a:off x="108000" y="547560"/>
            <a:ext cx="8835840" cy="576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2008092309363248"/>
          <p:cNvPicPr/>
          <p:nvPr/>
        </p:nvPicPr>
        <p:blipFill>
          <a:blip r:embed="rId3"/>
          <a:stretch/>
        </p:blipFill>
        <p:spPr>
          <a:xfrm>
            <a:off x="108000" y="547560"/>
            <a:ext cx="8935920" cy="5762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2011022311393423447"/>
          <p:cNvPicPr/>
          <p:nvPr/>
        </p:nvPicPr>
        <p:blipFill>
          <a:blip r:embed="rId4"/>
          <a:stretch/>
        </p:blipFill>
        <p:spPr>
          <a:xfrm>
            <a:off x="108000" y="547560"/>
            <a:ext cx="8866080" cy="57088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2844720" y="5519880"/>
            <a:ext cx="3527640" cy="1023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808080"/>
                </a:solidFill>
                <a:latin typeface="宋体"/>
              </a:rPr>
              <a:t>水墨徽州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808080"/>
              </a:solidFill>
              <a:latin typeface="宋体"/>
              <a:ea typeface="宋体"/>
            </a:endParaRPr>
          </a:p>
        </p:txBody>
      </p:sp>
      <p:pic>
        <p:nvPicPr>
          <p:cNvPr id="145" name="古筝名曲欣赏.mp3" descr="古筝名曲欣赏"/>
          <p:cNvPicPr/>
          <p:nvPr/>
        </p:nvPicPr>
        <p:blipFill>
          <a:blip r:embed="rId5"/>
          <a:stretch/>
        </p:blipFill>
        <p:spPr>
          <a:xfrm>
            <a:off x="7451640" y="5445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2009522165818"/>
          <p:cNvPicPr/>
          <p:nvPr/>
        </p:nvPicPr>
        <p:blipFill>
          <a:blip r:embed="rId1"/>
          <a:stretch/>
        </p:blipFill>
        <p:spPr>
          <a:xfrm>
            <a:off x="325440" y="622440"/>
            <a:ext cx="8496360" cy="5707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53720904201002221428079529261623133_007_640"/>
          <p:cNvPicPr/>
          <p:nvPr/>
        </p:nvPicPr>
        <p:blipFill>
          <a:blip r:embed="rId2"/>
          <a:stretch/>
        </p:blipFill>
        <p:spPr>
          <a:xfrm>
            <a:off x="36360" y="547560"/>
            <a:ext cx="8999640" cy="5811840"/>
          </a:xfrm>
          <a:prstGeom prst="rect">
            <a:avLst/>
          </a:prstGeom>
          <a:ln w="0">
            <a:noFill/>
          </a:ln>
        </p:spPr>
      </p:pic>
      <p:sp>
        <p:nvSpPr>
          <p:cNvPr id="148" name="WordArt 4"/>
          <p:cNvSpPr txBox="1"/>
          <p:nvPr/>
        </p:nvSpPr>
        <p:spPr>
          <a:xfrm>
            <a:off x="2124000" y="1343160"/>
            <a:ext cx="3529080" cy="1022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808080"/>
                </a:solidFill>
                <a:latin typeface="宋体"/>
              </a:rPr>
              <a:t>水墨徽州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808080"/>
              </a:solidFill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540640" cy="419400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txBody>
          <a:bodyPr lIns="90000" rIns="90000" tIns="47160" bIns="4716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我会读</a:t>
            </a:r>
            <a:endParaRPr b="0" lang="en-US" sz="4800" spc="-1" strike="noStrike">
              <a:solidFill>
                <a:srgbClr val="4fa9d3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fa9d3"/>
                </a:solidFill>
                <a:latin typeface="Arial"/>
              </a:rPr>
              <a:t>生机盎然    人影绰绰   </a:t>
            </a:r>
            <a:endParaRPr b="0" lang="en-US" sz="6000" spc="-1" strike="noStrike">
              <a:solidFill>
                <a:srgbClr val="4fa9d3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fa9d3"/>
                </a:solidFill>
                <a:latin typeface="Arial"/>
              </a:rPr>
              <a:t>雾霭缥缈     粉墙黛瓦    </a:t>
            </a:r>
            <a:endParaRPr b="0" lang="en-US" sz="6000" spc="-1" strike="noStrike">
              <a:solidFill>
                <a:srgbClr val="4fa9d3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fa9d3"/>
                </a:solidFill>
                <a:latin typeface="Arial"/>
              </a:rPr>
              <a:t>挥毫泼墨     悄无声息  </a:t>
            </a:r>
            <a:endParaRPr b="0" lang="en-US" sz="6000" spc="-1" strike="noStrike">
              <a:solidFill>
                <a:srgbClr val="4fa9d3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fa9d3"/>
                </a:solidFill>
                <a:latin typeface="Arial"/>
              </a:rPr>
              <a:t>兀自     点缀       寂寥 </a:t>
            </a:r>
            <a:endParaRPr b="0" lang="en-US" sz="6000" spc="-1" strike="noStrike">
              <a:solidFill>
                <a:srgbClr val="4fa9d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24000" y="2637000"/>
            <a:ext cx="834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早上起来，我踏雪去看牌坊。在通体洁白的世界里，它们兀自平静地立在那里，像一个个忠实的朋友从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古老的时光隧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来，牢记着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远去的徽商的叮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从容地打量着周围的一切，给人们讲述着存在的理由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3"/>
          <p:cNvSpPr txBox="1"/>
          <p:nvPr/>
        </p:nvSpPr>
        <p:spPr>
          <a:xfrm>
            <a:off x="468360" y="1557360"/>
            <a:ext cx="302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楷体_GB2312"/>
              </a:rPr>
              <a:t>句子赏析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800080"/>
                  </a:gs>
                  <a:gs pos="100000">
                    <a:srgbClr val="ffff00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6143040" y="1628640"/>
            <a:ext cx="261828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乌篷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=3622006921,832930849&amp;fm=23&amp;gp=0"/>
          <p:cNvPicPr/>
          <p:nvPr/>
        </p:nvPicPr>
        <p:blipFill>
          <a:blip r:embed="rId1"/>
          <a:stretch/>
        </p:blipFill>
        <p:spPr>
          <a:xfrm>
            <a:off x="0" y="1628640"/>
            <a:ext cx="69674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24"/>
          <p:cNvPicPr/>
          <p:nvPr/>
        </p:nvPicPr>
        <p:blipFill>
          <a:blip r:embed="rId1"/>
          <a:stretch/>
        </p:blipFill>
        <p:spPr>
          <a:xfrm>
            <a:off x="179280" y="3246480"/>
            <a:ext cx="2627280" cy="334008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3132000" y="2330280"/>
            <a:ext cx="3456000" cy="18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文本框 1"/>
          <p:cNvSpPr/>
          <p:nvPr/>
        </p:nvSpPr>
        <p:spPr>
          <a:xfrm>
            <a:off x="2370240" y="5376960"/>
            <a:ext cx="61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7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7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7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7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7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6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fa9d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fa9d3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E9AA-599D-4140-BC89-E8382F57052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5506920"/>
            <a:ext cx="9144000" cy="91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水墨画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是中国画的一种，主要是以墨加水调和成，用浓墨、淡墨、湿墨、干墨等进行绘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色调以灰、黑、白为主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。根据需要有时也加以丹（红色）、青等颜色，所以也称“水墨丹青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图片5"/>
          <p:cNvPicPr/>
          <p:nvPr/>
        </p:nvPicPr>
        <p:blipFill>
          <a:blip r:embed="rId1"/>
          <a:stretch/>
        </p:blipFill>
        <p:spPr>
          <a:xfrm>
            <a:off x="0" y="-3240"/>
            <a:ext cx="6086520" cy="4297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图片;1"/>
          <p:cNvPicPr/>
          <p:nvPr/>
        </p:nvPicPr>
        <p:blipFill>
          <a:blip r:embed="rId2"/>
          <a:stretch/>
        </p:blipFill>
        <p:spPr>
          <a:xfrm>
            <a:off x="5680080" y="0"/>
            <a:ext cx="3457440" cy="43005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79280" y="1582560"/>
            <a:ext cx="8855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、正确、流利、有感情的朗读课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、通过解读课文内容，感受徽州的独特风韵，懂得文章以“水墨徽州”为题的原因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5"/>
          <p:cNvSpPr/>
          <p:nvPr/>
        </p:nvSpPr>
        <p:spPr>
          <a:xfrm>
            <a:off x="205092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176364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87280" y="1699920"/>
            <a:ext cx="8856720" cy="388764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小组解决问题。</a:t>
            </a:r>
            <a:endParaRPr b="0" lang="en-US" sz="4800" spc="-1" strike="noStrike">
              <a:solidFill>
                <a:srgbClr val="4fa9d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fa9d3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4fa9d3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4fa9d3"/>
                </a:solidFill>
                <a:latin typeface="Arial"/>
              </a:rPr>
              <a:t>、作者是从哪几个方面描绘徽州的？</a:t>
            </a:r>
            <a:endParaRPr b="0" lang="en-US" sz="5400" spc="-1" strike="noStrike">
              <a:solidFill>
                <a:srgbClr val="4fa9d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fa9d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提示：小组内先分段读课文，交流不明白的地方，   </a:t>
            </a:r>
            <a:endParaRPr b="0" lang="en-US" sz="2800" spc="-1" strike="noStrike">
              <a:solidFill>
                <a:srgbClr val="4fa9d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再讨论解决问题。</a:t>
            </a:r>
            <a:endParaRPr b="0" lang="en-US" sz="2800" spc="-1" strike="noStrike">
              <a:solidFill>
                <a:srgbClr val="4fa9d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2009522165818"/>
          <p:cNvPicPr/>
          <p:nvPr/>
        </p:nvPicPr>
        <p:blipFill>
          <a:blip r:embed="rId1"/>
          <a:stretch/>
        </p:blipFill>
        <p:spPr>
          <a:xfrm>
            <a:off x="34920" y="547560"/>
            <a:ext cx="4464000" cy="5834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SC20071102183215843"/>
          <p:cNvPicPr/>
          <p:nvPr/>
        </p:nvPicPr>
        <p:blipFill>
          <a:blip r:embed="rId2"/>
          <a:stretch/>
        </p:blipFill>
        <p:spPr>
          <a:xfrm>
            <a:off x="5219640" y="476280"/>
            <a:ext cx="3889440" cy="5905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4452480" y="595440"/>
            <a:ext cx="911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黑体"/>
              </a:rPr>
              <a:t>晨光中的徽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9cdJxSG8N8943"/>
          <p:cNvPicPr/>
          <p:nvPr/>
        </p:nvPicPr>
        <p:blipFill>
          <a:blip r:embed="rId1"/>
          <a:stretch/>
        </p:blipFill>
        <p:spPr>
          <a:xfrm>
            <a:off x="1440" y="504720"/>
            <a:ext cx="3997440" cy="585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53720904201002221428079529261623133_003_640"/>
          <p:cNvPicPr/>
          <p:nvPr/>
        </p:nvPicPr>
        <p:blipFill>
          <a:blip r:embed="rId2"/>
          <a:stretch/>
        </p:blipFill>
        <p:spPr>
          <a:xfrm>
            <a:off x="4068720" y="504720"/>
            <a:ext cx="5041800" cy="4937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75280" y="5349600"/>
            <a:ext cx="49687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徽州的街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201699462893_433116"/>
          <p:cNvPicPr/>
          <p:nvPr/>
        </p:nvPicPr>
        <p:blipFill>
          <a:blip r:embed="rId1"/>
          <a:stretch/>
        </p:blipFill>
        <p:spPr>
          <a:xfrm>
            <a:off x="15840" y="504720"/>
            <a:ext cx="4197240" cy="5851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75280" y="591840"/>
            <a:ext cx="1368360" cy="54896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雪中的徽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u=339845528,2894013881&amp;fm=23&amp;gp=0"/>
          <p:cNvPicPr/>
          <p:nvPr/>
        </p:nvPicPr>
        <p:blipFill>
          <a:blip r:embed="rId2"/>
          <a:stretch/>
        </p:blipFill>
        <p:spPr>
          <a:xfrm>
            <a:off x="5076720" y="504720"/>
            <a:ext cx="405288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徽商大宅院"/>
          <p:cNvPicPr/>
          <p:nvPr/>
        </p:nvPicPr>
        <p:blipFill>
          <a:blip r:embed="rId1"/>
          <a:stretch/>
        </p:blipFill>
        <p:spPr>
          <a:xfrm>
            <a:off x="1440" y="1508040"/>
            <a:ext cx="4861080" cy="4903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屯溪老街万粹楼"/>
          <p:cNvPicPr/>
          <p:nvPr/>
        </p:nvPicPr>
        <p:blipFill>
          <a:blip r:embed="rId2"/>
          <a:stretch/>
        </p:blipFill>
        <p:spPr>
          <a:xfrm>
            <a:off x="4933800" y="504720"/>
            <a:ext cx="4175280" cy="5988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755640" y="228600"/>
            <a:ext cx="36162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99"/>
                </a:solidFill>
                <a:latin typeface="Arial"/>
                <a:ea typeface="宋体"/>
              </a:rPr>
              <a:t>飞檐翘角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4:23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5:58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