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44A0-5984-462F-9812-63FF98CD73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hyperlink" Target="http://www.1ppt.com/powerpoint/" TargetMode="External"/><Relationship Id="rId3" Type="http://schemas.openxmlformats.org/officeDocument/2006/relationships/hyperlink" Target="http://www.1ppt.com/ziliao/" TargetMode="External"/><Relationship Id="rId4" Type="http://schemas.openxmlformats.org/officeDocument/2006/relationships/hyperlink" Target="http://www.1ppt.com/fanwen/" TargetMode="External"/><Relationship Id="rId5" Type="http://schemas.openxmlformats.org/officeDocument/2006/relationships/hyperlink" Target="http://www.1ppt.com/shiti/" TargetMode="External"/><Relationship Id="rId6" Type="http://schemas.openxmlformats.org/officeDocument/2006/relationships/hyperlink" Target="http://www.1ppt.com/jiaoan/" TargetMode="External"/><Relationship Id="rId7" Type="http://schemas.openxmlformats.org/officeDocument/2006/relationships/hyperlink" Target="http://www.1ppt.cn/" TargetMode="External"/><Relationship Id="rId8" Type="http://schemas.openxmlformats.org/officeDocument/2006/relationships/hyperlink" Target="http://www.1ppt.com/kejian/" TargetMode="External"/><Relationship Id="rId9" Type="http://schemas.openxmlformats.org/officeDocument/2006/relationships/hyperlink" Target="http://www.1ppt.com/kejian/yuwen/" TargetMode="External"/><Relationship Id="rId10" Type="http://schemas.openxmlformats.org/officeDocument/2006/relationships/hyperlink" Target="http://www.1ppt.com/kejian/shuxue/" TargetMode="External"/><Relationship Id="rId11" Type="http://schemas.openxmlformats.org/officeDocument/2006/relationships/hyperlink" Target="http://www.1ppt.com/kejian/yingyu/" TargetMode="External"/><Relationship Id="rId12" Type="http://schemas.openxmlformats.org/officeDocument/2006/relationships/hyperlink" Target="http://www.1ppt.com/kejian/meishu/" TargetMode="External"/><Relationship Id="rId13" Type="http://schemas.openxmlformats.org/officeDocument/2006/relationships/hyperlink" Target="http://www.1ppt.com/kejian/kexue/" TargetMode="External"/><Relationship Id="rId14" Type="http://schemas.openxmlformats.org/officeDocument/2006/relationships/hyperlink" Target="http://www.1ppt.com/kejian/wuli/" TargetMode="External"/><Relationship Id="rId15" Type="http://schemas.openxmlformats.org/officeDocument/2006/relationships/hyperlink" Target="http://www.1ppt.com/kejian/huaxue/" TargetMode="External"/><Relationship Id="rId16" Type="http://schemas.openxmlformats.org/officeDocument/2006/relationships/hyperlink" Target="http://www.1ppt.com/kejian/shengwu/" TargetMode="External"/><Relationship Id="rId17" Type="http://schemas.openxmlformats.org/officeDocument/2006/relationships/hyperlink" Target="http://www.1ppt.com/kejian/dili/" TargetMode="External"/><Relationship Id="rId18" Type="http://schemas.openxmlformats.org/officeDocument/2006/relationships/hyperlink" Target="http://www.1ppt.com/kejian/lishi/" TargetMode="External"/><Relationship Id="rId19" Type="http://schemas.openxmlformats.org/officeDocument/2006/relationships/slide" Target="../slides/slide5.xml"/><Relationship Id="rId20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728F-BFBD-44FE-A142-2E72CF78E6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2" name="对角圆角矩形 1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1143022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5714977"/>
                </a:lnTo>
                <a:cubicBezTo>
                  <a:pt x="9144000" y="6346251"/>
                  <a:pt x="8632252" y="6857999"/>
                  <a:pt x="8000978" y="6857999"/>
                </a:cubicBezTo>
                <a:lnTo>
                  <a:pt x="0" y="6858000"/>
                </a:lnTo>
                <a:lnTo>
                  <a:pt x="0" y="6858000"/>
                </a:lnTo>
                <a:lnTo>
                  <a:pt x="0" y="1143022"/>
                </a:lnTo>
                <a:cubicBezTo>
                  <a:pt x="0" y="511748"/>
                  <a:pt x="511748" y="0"/>
                  <a:pt x="1143022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-7920" y="1700280"/>
            <a:ext cx="9151920" cy="2022480"/>
          </a:xfrm>
          <a:prstGeom prst="rect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616040" y="198900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树上的橘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1823760" y="58374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2124000" y="1341360"/>
            <a:ext cx="2303640" cy="9352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00000" y="404640"/>
            <a:ext cx="84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金灿灿的橘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900000" y="1341360"/>
            <a:ext cx="84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黄澄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梨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84360" y="242100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小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4360" y="342900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苹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84360" y="450864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积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050920" y="2276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绿油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050920" y="3213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红彤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763640" y="4292640"/>
            <a:ext cx="2665440" cy="100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白茫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116000" y="1484280"/>
            <a:ext cx="633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714240" y="333360"/>
            <a:ext cx="329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写一写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未命名"/>
          <p:cNvPicPr/>
          <p:nvPr/>
        </p:nvPicPr>
        <p:blipFill>
          <a:blip r:embed="rId1"/>
          <a:stretch/>
        </p:blipFill>
        <p:spPr>
          <a:xfrm>
            <a:off x="809640" y="1600200"/>
            <a:ext cx="1604880" cy="1630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未命名"/>
          <p:cNvPicPr/>
          <p:nvPr/>
        </p:nvPicPr>
        <p:blipFill>
          <a:blip r:embed="rId2"/>
          <a:stretch/>
        </p:blipFill>
        <p:spPr>
          <a:xfrm>
            <a:off x="2759040" y="1596960"/>
            <a:ext cx="1535040" cy="1614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未命名"/>
          <p:cNvPicPr/>
          <p:nvPr/>
        </p:nvPicPr>
        <p:blipFill>
          <a:blip r:embed="rId3"/>
          <a:stretch/>
        </p:blipFill>
        <p:spPr>
          <a:xfrm>
            <a:off x="4697280" y="1596960"/>
            <a:ext cx="1592280" cy="163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未命名"/>
          <p:cNvPicPr/>
          <p:nvPr/>
        </p:nvPicPr>
        <p:blipFill>
          <a:blip r:embed="rId4"/>
          <a:stretch/>
        </p:blipFill>
        <p:spPr>
          <a:xfrm>
            <a:off x="6570720" y="1600200"/>
            <a:ext cx="1562040" cy="161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未命名"/>
          <p:cNvPicPr/>
          <p:nvPr/>
        </p:nvPicPr>
        <p:blipFill>
          <a:blip r:embed="rId5"/>
          <a:stretch/>
        </p:blipFill>
        <p:spPr>
          <a:xfrm>
            <a:off x="809640" y="3500280"/>
            <a:ext cx="173844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未命名"/>
          <p:cNvPicPr/>
          <p:nvPr/>
        </p:nvPicPr>
        <p:blipFill>
          <a:blip r:embed="rId6"/>
          <a:stretch/>
        </p:blipFill>
        <p:spPr>
          <a:xfrm>
            <a:off x="2759040" y="3500280"/>
            <a:ext cx="1738440" cy="189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未命名"/>
          <p:cNvPicPr/>
          <p:nvPr/>
        </p:nvPicPr>
        <p:blipFill>
          <a:blip r:embed="rId7"/>
          <a:stretch/>
        </p:blipFill>
        <p:spPr>
          <a:xfrm>
            <a:off x="4643280" y="3500280"/>
            <a:ext cx="1735200" cy="184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未命名"/>
          <p:cNvPicPr/>
          <p:nvPr/>
        </p:nvPicPr>
        <p:blipFill>
          <a:blip r:embed="rId8"/>
          <a:stretch/>
        </p:blipFill>
        <p:spPr>
          <a:xfrm>
            <a:off x="6454800" y="3551400"/>
            <a:ext cx="1677960" cy="174924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"/>
          <p:cNvSpPr/>
          <p:nvPr/>
        </p:nvSpPr>
        <p:spPr>
          <a:xfrm>
            <a:off x="1243080" y="5807160"/>
            <a:ext cx="59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9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8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9933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9444-454B-4F56-A3BA-D3F83C8D1F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42920" y="1273320"/>
            <a:ext cx="66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自读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课文，勾画出生字新词，并努力把生字新词读准确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48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042920" y="1273320"/>
            <a:ext cx="66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同桌互读互听，努力做到不多字，不少字，正确流利。</a:t>
            </a:r>
            <a:endParaRPr b="0" lang="en-US" sz="4800" spc="-1" strike="noStrike">
              <a:solidFill>
                <a:srgbClr val="ff99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116720" y="112536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981080" y="1125360"/>
            <a:ext cx="6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81600" y="1125360"/>
            <a:ext cx="30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268800" y="1125360"/>
            <a:ext cx="10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248440" y="112536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116000" y="21384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269160" y="2138400"/>
            <a:ext cx="12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j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1116720" y="335916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008680" y="1704960"/>
            <a:ext cx="13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微软雅黑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微软雅黑"/>
              </a:rPr>
              <a:t>拧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429520" y="271764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打</a:t>
            </a:r>
            <a:r>
              <a:rPr b="1" lang="zh-CN" sz="3200" spc="-1" strike="noStrike">
                <a:solidFill>
                  <a:srgbClr val="ff00ff"/>
                </a:solidFill>
                <a:latin typeface="微软雅黑"/>
              </a:rPr>
              <a:t> 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116000" y="170496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寒    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3268800" y="170496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盆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116000" y="2717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268800" y="2717640"/>
            <a:ext cx="14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舅   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116000" y="393696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墨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030480" y="39369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毫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犹 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584680" y="21384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030480" y="350028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o   yóu y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477720" y="47628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习词语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6560" y="1773360"/>
            <a:ext cx="753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Arial"/>
              </a:rPr>
              <a:t>橘子    寒假    舅舅    盆景    拧下    愣住    打算    墨绿    花圃    立刻    欢呼    神采         消失    金灿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Arial"/>
              </a:rPr>
              <a:t>毫不犹豫    转眼工夫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9"/>
          <p:cNvSpPr/>
          <p:nvPr/>
        </p:nvSpPr>
        <p:spPr>
          <a:xfrm>
            <a:off x="3044880" y="3284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900000" y="1268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4360" y="185436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花 圃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盆 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墨 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花圃1"/>
          <p:cNvPicPr/>
          <p:nvPr/>
        </p:nvPicPr>
        <p:blipFill>
          <a:blip r:embed="rId1"/>
          <a:stretch/>
        </p:blipFill>
        <p:spPr>
          <a:xfrm>
            <a:off x="684360" y="2924280"/>
            <a:ext cx="1800000" cy="252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盆景2"/>
          <p:cNvPicPr/>
          <p:nvPr/>
        </p:nvPicPr>
        <p:blipFill>
          <a:blip r:embed="rId2"/>
          <a:stretch/>
        </p:blipFill>
        <p:spPr>
          <a:xfrm>
            <a:off x="2843280" y="2995560"/>
            <a:ext cx="1873080" cy="244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6"/>
          <p:cNvPicPr/>
          <p:nvPr/>
        </p:nvPicPr>
        <p:blipFill>
          <a:blip r:embed="rId3"/>
          <a:stretch/>
        </p:blipFill>
        <p:spPr>
          <a:xfrm>
            <a:off x="5327640" y="2995560"/>
            <a:ext cx="1800360" cy="2449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539640" y="62712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毫不犹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203640" y="528480"/>
            <a:ext cx="50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小红的铅笔丢了，我毫不犹豫的把自己的借给了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669960" y="549360"/>
            <a:ext cx="38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我会认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27080" y="1700280"/>
            <a:ext cx="714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橘 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假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舅    盆    毫    犹    豫    拧    愣    算    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492360" y="981000"/>
            <a:ext cx="2592360" cy="1312920"/>
          </a:xfrm>
          <a:prstGeom prst="rect">
            <a:avLst/>
          </a:prstGeom>
          <a:noFill/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寒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084720" y="981000"/>
            <a:ext cx="25927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暑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47984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826920" y="981000"/>
            <a:ext cx="25927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放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564000" y="3213000"/>
            <a:ext cx="259236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真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233280" y="3579840"/>
            <a:ext cx="84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树上各结了一个又圆又大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灿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6732720" y="3884760"/>
            <a:ext cx="184284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又圆又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55640" y="4464000"/>
            <a:ext cx="14400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金灿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371600" y="1282680"/>
            <a:ext cx="56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舅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算寒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里带我去看大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71600" y="2349360"/>
            <a:ext cx="595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明节，我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舅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玩，在那里我看到了很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盆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3T05:26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0:08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