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png" ContentType="image/png"/>
  <Override PartName="/ppt/media/image6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6.jpeg" ContentType="image/jpeg"/>
  <Override PartName="/ppt/media/chimes.wav" ContentType="audio/x-wav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C01-0DB6-4D4D-82D7-D0F3E13A4B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729-AE8D-4666-B85D-5F00C324E8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7AA-5870-4C9D-AE29-BDBB9E9A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347-34C1-438B-BA63-DF862981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B8C-C5A9-485B-A810-83FA4983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22E-7E0D-48FB-AB19-61B8637B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CCC-DA71-416C-A591-34BD5DE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1C9-A769-4968-9797-FAC7A57D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C77-602D-4CA9-BD5F-159A85A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B28-C796-43C0-929B-1151E53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AF6-F981-4EF4-8DBF-B0D6F5F6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E13-ECAC-44EE-ABC8-631E7F9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05C-A151-4DA3-BE5A-253AE64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A9D-373E-4477-9A4F-88D7538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5CB-24BB-4709-8569-462AC02E3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=3145573813,53345169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39640" y="907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湘教版二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童声合唱 - 小螺号.mp3" descr=""/>
          <p:cNvPicPr/>
          <p:nvPr/>
        </p:nvPicPr>
        <p:blipFill>
          <a:blip r:embed="rId2"/>
          <a:stretch/>
        </p:blipFill>
        <p:spPr>
          <a:xfrm>
            <a:off x="8643960" y="50720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2318040" y="2421000"/>
            <a:ext cx="44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27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松树和青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182700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暴风截图201451717507805"/>
          <p:cNvPicPr/>
          <p:nvPr/>
        </p:nvPicPr>
        <p:blipFill>
          <a:blip r:embed="rId2"/>
          <a:stretch/>
        </p:blipFill>
        <p:spPr>
          <a:xfrm>
            <a:off x="5435640" y="4221000"/>
            <a:ext cx="3708360" cy="2637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0" y="692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杉树低头一看，原来是一根幼小的青藤。小杉树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耐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说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哎呀，你这么瘦小，站都站不稳，也想看大海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暴风截图201451717469818"/>
          <p:cNvPicPr/>
          <p:nvPr/>
        </p:nvPicPr>
        <p:blipFill>
          <a:blip r:embed="rId2"/>
          <a:stretch/>
        </p:blipFill>
        <p:spPr>
          <a:xfrm>
            <a:off x="5148360" y="3905280"/>
            <a:ext cx="3995640" cy="295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-73440" y="404280"/>
            <a:ext cx="921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着小青藤难过的样子，小松树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俯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青藤说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来呀，小青藤，你就顺着我的身子爬上来吧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暴风截图201451716100691"/>
          <p:cNvPicPr/>
          <p:nvPr/>
        </p:nvPicPr>
        <p:blipFill>
          <a:blip r:embed="rId2"/>
          <a:stretch/>
        </p:blipFill>
        <p:spPr>
          <a:xfrm>
            <a:off x="5148360" y="4046400"/>
            <a:ext cx="3995640" cy="281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993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青藤高兴极了，他使劲往上一蹿，攀住了小松树的腰，不断地向上爬呀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9640" y="1628640"/>
            <a:ext cx="748836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         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3301920" y="3108240"/>
            <a:ext cx="56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Redocn_2011080410511461"/>
          <p:cNvPicPr/>
          <p:nvPr/>
        </p:nvPicPr>
        <p:blipFill>
          <a:blip r:embed="rId1"/>
          <a:stretch/>
        </p:blipFill>
        <p:spPr>
          <a:xfrm>
            <a:off x="0" y="-531720"/>
            <a:ext cx="9325080" cy="7389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暴风截图201451717764925"/>
          <p:cNvPicPr/>
          <p:nvPr/>
        </p:nvPicPr>
        <p:blipFill>
          <a:blip r:embed="rId2"/>
          <a:stretch/>
        </p:blipFill>
        <p:spPr>
          <a:xfrm>
            <a:off x="0" y="4076640"/>
            <a:ext cx="4859280" cy="278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6836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青藤和小松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热烈地拥抱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着，小杉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惭愧地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低下了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暴风截图201451717790244"/>
          <p:cNvPicPr/>
          <p:nvPr/>
        </p:nvPicPr>
        <p:blipFill>
          <a:blip r:embed="rId3"/>
          <a:stretch/>
        </p:blipFill>
        <p:spPr>
          <a:xfrm>
            <a:off x="4859280" y="4070520"/>
            <a:ext cx="442908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拓展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故事中的这三个人物你喜欢谁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27松树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826920" y="2336760"/>
            <a:ext cx="741708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1E6A-AF8B-45D4-8E57-49071B83E3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矩形 10" descr=""/>
          <p:cNvPicPr/>
          <p:nvPr/>
        </p:nvPicPr>
        <p:blipFill>
          <a:blip r:embed="rId2"/>
          <a:stretch/>
        </p:blipFill>
        <p:spPr>
          <a:xfrm>
            <a:off x="-41400" y="0"/>
            <a:ext cx="3081600" cy="1222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143000"/>
            <a:ext cx="896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2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山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升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耐 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使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2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辽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岛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屿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抱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5880" y="144468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643120" y="142884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643280" y="135720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à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i  f</a:t>
            </a: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8001000" y="1357200"/>
            <a:ext cx="121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jì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14240" y="337356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059280" y="3357720"/>
            <a:ext cx="157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143760" y="330192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y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492360" y="530064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0139241611195222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20130729jpg008"/>
          <p:cNvPicPr/>
          <p:nvPr/>
        </p:nvPicPr>
        <p:blipFill>
          <a:blip r:embed="rId2"/>
          <a:stretch/>
        </p:blipFill>
        <p:spPr>
          <a:xfrm>
            <a:off x="4535640" y="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21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u=847851675,2344563893&amp;fm=21&amp;gp=0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2011042010532418784"/>
          <p:cNvPicPr/>
          <p:nvPr/>
        </p:nvPicPr>
        <p:blipFill>
          <a:blip r:embed="rId5"/>
          <a:stretch/>
        </p:blipFill>
        <p:spPr>
          <a:xfrm>
            <a:off x="4462560" y="0"/>
            <a:ext cx="4681440" cy="3573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u=1264719115,2084747737&amp;fm=21&amp;gp=0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391634_093114041309_2"/>
          <p:cNvPicPr/>
          <p:nvPr/>
        </p:nvPicPr>
        <p:blipFill>
          <a:blip r:embed="rId7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8"/>
          <a:stretch/>
        </p:blipFill>
        <p:spPr>
          <a:xfrm>
            <a:off x="4356000" y="0"/>
            <a:ext cx="47880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522cd82fe8be269163f97c4dc75fe6d0"/>
          <p:cNvPicPr/>
          <p:nvPr/>
        </p:nvPicPr>
        <p:blipFill>
          <a:blip r:embed="rId9"/>
          <a:stretch/>
        </p:blipFill>
        <p:spPr>
          <a:xfrm>
            <a:off x="4427640" y="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74" name="海浪 - 音乐 - 特好听 大自然的声音.mp3" descr=""/>
          <p:cNvPicPr/>
          <p:nvPr/>
        </p:nvPicPr>
        <p:blipFill>
          <a:blip r:embed="rId10"/>
          <a:stretch/>
        </p:blipFill>
        <p:spPr>
          <a:xfrm>
            <a:off x="8429760" y="64292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7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9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761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VTS_01_1_baofeng.mp4" descr=""/>
          <p:cNvPicPr/>
          <p:nvPr/>
        </p:nvPicPr>
        <p:blipFill>
          <a:blip r:embed="rId1"/>
          <a:srcRect l="6969" t="0" r="6630" b="0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Redocn_20110804105114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VTS_01_1_baofeng_baofeng.mp4" descr=""/>
          <p:cNvPicPr/>
          <p:nvPr/>
        </p:nvPicPr>
        <p:blipFill>
          <a:blip r:embed="rId3"/>
          <a:srcRect l="5906" t="0" r="66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1192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1633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295280" y="404640"/>
            <a:ext cx="7848720" cy="2737080"/>
          </a:xfrm>
          <a:prstGeom prst="cloudCallout">
            <a:avLst>
              <a:gd name="adj1" fmla="val -15333"/>
              <a:gd name="adj2" fmla="val 2674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默读课文，请找出小松树、小杉树、小青藤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看到大海后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说的话，并用横线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28760" y="1000080"/>
            <a:ext cx="8001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天清早，小松树高兴地对伙伴们说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：“啊，我看到大海了，我看到初</a:t>
            </a:r>
            <a:r>
              <a:rPr b="1" lang="en-US" sz="4800" spc="-1" strike="noStrike">
                <a:solidFill>
                  <a:srgbClr val="ff00ff"/>
                </a:solidFill>
                <a:latin typeface="宋体"/>
              </a:rPr>
              <a:t>(chū)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升的太阳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213291_161701262388_2"/>
          <p:cNvPicPr/>
          <p:nvPr/>
        </p:nvPicPr>
        <p:blipFill>
          <a:blip r:embed="rId1"/>
          <a:stretch/>
        </p:blipFill>
        <p:spPr>
          <a:xfrm>
            <a:off x="0" y="-530280"/>
            <a:ext cx="9325080" cy="7388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628640"/>
            <a:ext cx="8459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77880" y="1705320"/>
            <a:ext cx="8466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小松树身边的小杉树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踮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起脚跟，嚷嚷着：</a:t>
            </a: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“看到了，看到了！有飞翔的海鸥，翻滚的波涛，还有点点白帆</a:t>
            </a:r>
            <a:r>
              <a:rPr b="1" lang="en-US" sz="4400" spc="-1" strike="noStrike">
                <a:solidFill>
                  <a:srgbClr val="ff00ff"/>
                </a:solidFill>
                <a:latin typeface="宋体"/>
              </a:rPr>
              <a:t>…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暴风截图201451713512401"/>
          <p:cNvPicPr/>
          <p:nvPr/>
        </p:nvPicPr>
        <p:blipFill>
          <a:blip r:embed="rId1"/>
          <a:stretch/>
        </p:blipFill>
        <p:spPr>
          <a:xfrm>
            <a:off x="0" y="-58680"/>
            <a:ext cx="9756720" cy="6916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260280"/>
            <a:ext cx="92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终于，在一个明媚的清晨，  小青藤也兴高采烈地嚷开了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啊，太美了，我看到了 辽阔的大海，   绿色的岛屿，  还有航船上飘扬的旗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03640" y="2205000"/>
            <a:ext cx="31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24000" y="21337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                           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Redocn_20110804105114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0" y="64260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320b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5320b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5320b"/>
                </a:solidFill>
                <a:latin typeface="Arial"/>
              </a:rPr>
              <a:t>杉树哥哥，请您扶我一把，让我看一眼美丽的大海。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微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声音，从地面上传来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暴风截图201451717103154"/>
          <p:cNvPicPr/>
          <p:nvPr/>
        </p:nvPicPr>
        <p:blipFill>
          <a:blip r:embed="rId2"/>
          <a:stretch/>
        </p:blipFill>
        <p:spPr>
          <a:xfrm>
            <a:off x="5148360" y="4219560"/>
            <a:ext cx="3995640" cy="2638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8000" y="1197000"/>
            <a:ext cx="633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6:27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12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