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55F-137F-42FB-977F-C03280830F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A7B-658C-42C8-B17F-2001B88C90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B9E-4D88-40BB-89E2-1E80667E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3CD-F42B-4F52-AD1A-58B39C6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A37-6A91-4AF2-896B-315D1BA0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450-C6D5-4C91-BEFF-79430037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EF3-D937-40FA-838F-D2683A2D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2AC-89C4-4B99-9C52-D97A583F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E70-CFA3-41D4-80D2-EF68607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34F-ABEE-44FD-9A4E-206AF72F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DB4-3836-4DD4-A118-C509E9B4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0CD-8A18-4674-89CD-F2C9E28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7F4-BBFA-45BE-8B64-6002E1C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87C-5B9C-4763-AE0A-EEE1901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C13-1478-458C-BFA2-F5414C90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i.baidu.com/zxgmiranda/album/item/a8f6acd932e9573b11df9b1e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ond.cn/dongzhiwu/3471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magewa.com/Photo/300/64345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03280" y="10652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674720" y="2346480"/>
            <a:ext cx="583272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舌头的秘密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4572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900000" y="450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蛇        伸出、缩入         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a8f6acd932e9573b11df9b1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1125360"/>
            <a:ext cx="439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84360" y="227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看到这些舌头的秘密后，心里有什么感受？（自由讨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71640" y="2133720"/>
            <a:ext cx="72007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后同学们去观察其他动物的舌头，探出其作用，找个时间全班再一起讨论学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拓展学习"/>
          <p:cNvPicPr/>
          <p:nvPr/>
        </p:nvPicPr>
        <p:blipFill>
          <a:blip r:embed="rId1"/>
          <a:stretch/>
        </p:blipFill>
        <p:spPr>
          <a:xfrm>
            <a:off x="1042920" y="981000"/>
            <a:ext cx="23050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843280" y="2781360"/>
            <a:ext cx="3508200" cy="17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784-FABB-4887-B0B8-5931DD3421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206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生字，会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生字；了解舌头的功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拼音、识字、书写，朗读、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生活，激发探求生物奥秘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11280" y="11350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785960" y="4997520"/>
            <a:ext cx="62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1700280"/>
            <a:ext cx="8172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识字、写字，了解舌头的功能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字，培养，探求生物奥秘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619280" y="2637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梳        许        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835280" y="20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ū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132000" y="198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 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284720" y="1989000"/>
            <a:ext cx="39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án      sh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979640" y="400428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        害        它           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835280" y="3357720"/>
            <a:ext cx="527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àng     hài        tā          zh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3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比较识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826920" y="1998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                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                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810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颜六色         千山万水        四面八方     七上八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332000" y="220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自由朗读课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课文写了哪几种动物的舌头？你知道哪些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16000" y="907920"/>
            <a:ext cx="165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55640" y="2421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猫的舌头怎样？它有什么作用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e9631b4c07c769406b8089ae1745a20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341360"/>
            <a:ext cx="1676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971640" y="3357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狗        伸出舌头          散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细读感悟"/>
          <p:cNvPicPr/>
          <p:nvPr/>
        </p:nvPicPr>
        <p:blipFill>
          <a:blip r:embed="rId1"/>
          <a:stretch/>
        </p:blipFill>
        <p:spPr>
          <a:xfrm>
            <a:off x="1258920" y="836640"/>
            <a:ext cx="2017800" cy="53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361_643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907920"/>
            <a:ext cx="25207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3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09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