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2050-3CF6-42D3-89A4-E93D0D4EAF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957D-1C7F-4AA7-AE5B-6CA123CB66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C16-EB28-4EC2-8335-65272FE7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22D-D4FD-4702-9913-175FB6BB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F45-902A-45C6-AE2D-A5859324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E0A-A961-4E29-B500-8E575465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6EA-2486-463E-BDF8-857D7804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CE0-888E-4DD4-8D4C-F5A10B31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255-9216-4683-8EBD-B929F250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625-6DEF-4D26-865D-5FFB4C13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40F-DE34-4A99-85DD-BE98EB4B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F4C-049E-4621-9E14-C5684393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015-4468-429E-8A0B-5F9300F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C11-33E5-47C9-B867-33084B33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35F9-9707-48B0-9DBC-A79464B92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nipic.com/show/3/79/4e8c2a07d70f438e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14320" y="765000"/>
            <a:ext cx="755172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438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隶书"/>
              </a:rPr>
              <a:t>沙滩上的童话</a:t>
            </a:r>
            <a:endParaRPr b="1" lang="en-US" sz="8000" spc="-1" strike="noStrike">
              <a:ln w="0">
                <a:noFill/>
              </a:ln>
              <a:solidFill>
                <a:srgbClr val="cc000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50" name="矩形 8" descr=""/>
          <p:cNvPicPr/>
          <p:nvPr/>
        </p:nvPicPr>
        <p:blipFill>
          <a:blip r:embed="rId2"/>
          <a:stretch/>
        </p:blipFill>
        <p:spPr>
          <a:xfrm>
            <a:off x="1447920" y="6093000"/>
            <a:ext cx="64022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75d36a964d06847054fb9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"/>
          <p:cNvSpPr/>
          <p:nvPr/>
        </p:nvSpPr>
        <p:spPr>
          <a:xfrm>
            <a:off x="1897200" y="4624560"/>
            <a:ext cx="57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2007122517535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dailongbay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979640" y="76500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沙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2007821103136307_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565360"/>
            <a:ext cx="2521080" cy="2487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3203640" y="3108240"/>
            <a:ext cx="561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在沙滩上，我们垒起城堡，筑起围墙，围墙外还插上了干树枝，那是我们的树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hù         ch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筑 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7885080" y="3789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5292720" y="4437000"/>
            <a:ext cx="5745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4859280" y="5013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29"/>
          <p:cNvPicPr/>
          <p:nvPr/>
        </p:nvPicPr>
        <p:blipFill>
          <a:blip r:embed="rId2"/>
          <a:stretch/>
        </p:blipFill>
        <p:spPr>
          <a:xfrm>
            <a:off x="0" y="234000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29"/>
          <p:cNvPicPr/>
          <p:nvPr/>
        </p:nvPicPr>
        <p:blipFill>
          <a:blip r:embed="rId3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684360" y="1052640"/>
            <a:ext cx="45720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想象说话：</a:t>
            </a:r>
            <a:endParaRPr b="0" lang="en-US" sz="72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1280" y="2349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沙滩上，孩子们垒起了一座（       ）的城堡，城堡外面（        ），城堡里面（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1979640" y="836640"/>
            <a:ext cx="6408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你一句，我一句：“这里住着一个凶狠的魔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抢去了美丽的公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们快听，公主在城堡里哭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这样，我们编织着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眼间，我们亲手建造的城堡成了一座魔窟，我们也成了攻打魔窟的勇士。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ěn     ji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     g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狠   建   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692360" y="1601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们（　　　）地道，从地下（　　　）上火药，把城堡（　　　）平，（　　）出了被困的公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203640" y="1052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547640" y="1700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539640" y="220500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211640" y="2205000"/>
            <a:ext cx="273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944000" y="260280"/>
            <a:ext cx="30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上适当的动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2"/>
          <a:stretch/>
        </p:blipFill>
        <p:spPr>
          <a:xfrm>
            <a:off x="7020000" y="2852640"/>
            <a:ext cx="1482480" cy="1873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1908000" y="4365720"/>
            <a:ext cx="5256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群勇士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 终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3780000" y="4941720"/>
            <a:ext cx="3671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1476360" y="566100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6732720" y="558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547640" y="63817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20081003_d400f9ef40f92218fb1cl8rbHPmvs7bv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716360" y="692280"/>
            <a:ext cx="442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说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城堡里发生了什么事？我们是怎样把公主从城堡里救出来的？编故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滩上的童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智救公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在那金色的沙滩上垒起了什么？那里发生了什么事？编一个童话故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B226-80C9-44AC-B47B-D1E7088626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5:49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21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