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0.jpeg" ContentType="image/jpeg"/>
  <Override PartName="/ppt/media/image5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14.jpeg" ContentType="image/jpeg"/>
  <Override PartName="/ppt/media/image8.png" ContentType="image/png"/>
  <Override PartName="/ppt/media/image13.png" ContentType="image/png"/>
  <Override PartName="/ppt/media/image9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077A5-7840-42E7-AFF2-85FC9D1BA68E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20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0C334-F639-45FE-A61F-292A81CE9266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DA5C4-1EF4-422B-B061-0E0EAB39C94D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0CF64-4F9F-4E13-A79C-E217619ED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D1C1C-753A-4B90-8EAB-E7E1C48C9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B8E2D-D947-44CE-9D2A-DEF738E8A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B428C-F165-4A39-B6D6-8D99DBA0C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112E1-EB4B-459A-87FE-0772D7652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EFFDE-B418-492D-B80F-23BA41264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2C40D-AACA-4396-8C82-56587ECD5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4627A-1570-4EF0-8E6D-7C1E044E8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6081C-376E-48E7-A0BC-7A2E1F5A7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CDC74-E729-4EBE-BA63-508F6A86B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FF49E-9D4C-46FF-B36C-C9ED01F8F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97B63-3E6C-429C-8E20-0FB831A2B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33EE3-D952-44E1-B615-F2C8C4555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9C815-5269-4798-8153-13E8990E3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9E465-2620-4C5E-AA48-98A216744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FD86E-1566-414F-9473-F08B94FA1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61602-DFA2-4BC6-AB86-EC227C67F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0D862-B2AB-4B26-81E5-74D2728C5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D4899-FA4B-40C2-B125-D536F184A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51074-5506-42C8-AFD1-85B5F5B3B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51DAA-476C-410C-A1DE-64914B598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E0232-8407-4684-A592-10E41E9B9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137DD-CF28-4C82-B899-771FC39F0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41784-0589-4433-ACFB-63EE9EE98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A7FE8-BBF0-437B-AC8D-D8F6F14054B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49AD2-5F60-4971-8376-571CD0B39C58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image" Target="../media/image13.png"/><Relationship Id="rId12" Type="http://schemas.openxmlformats.org/officeDocument/2006/relationships/image" Target="../media/image12.png"/><Relationship Id="rId1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4.jpeg"/><Relationship Id="rId3" Type="http://schemas.openxmlformats.org/officeDocument/2006/relationships/image" Target="../media/image14.jpeg"/><Relationship Id="rId4" Type="http://schemas.openxmlformats.org/officeDocument/2006/relationships/image" Target="../media/image14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2"/>
          <p:cNvSpPr/>
          <p:nvPr/>
        </p:nvSpPr>
        <p:spPr>
          <a:xfrm>
            <a:off x="2419920" y="1484280"/>
            <a:ext cx="4204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沙滩上的童话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4"/>
          <p:cNvSpPr/>
          <p:nvPr/>
        </p:nvSpPr>
        <p:spPr>
          <a:xfrm>
            <a:off x="1896840" y="577044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755640" y="1700280"/>
            <a:ext cx="813600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读</a:t>
            </a:r>
            <a:r>
              <a:rPr b="0" lang="en-US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——</a:t>
            </a:r>
            <a:r>
              <a:rPr b="0" lang="en-US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5</a:t>
            </a: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节，体会童话故事中体现的</a:t>
            </a:r>
            <a:r>
              <a:rPr b="0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想像</a:t>
            </a: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0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幻想</a:t>
            </a: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和</a:t>
            </a:r>
            <a:r>
              <a:rPr b="0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夸张</a:t>
            </a: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3"/>
          <p:cNvSpPr/>
          <p:nvPr/>
        </p:nvSpPr>
        <p:spPr>
          <a:xfrm>
            <a:off x="1979640" y="692280"/>
            <a:ext cx="583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宋体"/>
              </a:rPr>
              <a:t>4  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  <a:ea typeface="宋体"/>
              </a:rPr>
              <a:t>沙滩上的童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2"/>
          <p:cNvSpPr/>
          <p:nvPr/>
        </p:nvSpPr>
        <p:spPr>
          <a:xfrm>
            <a:off x="324000" y="1095840"/>
            <a:ext cx="856908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▲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大家你一句，我一句：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0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这里住着一个凶狠的魔王。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▲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0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他抢去了美丽的公主！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▲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0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你们快听，公主在城堡里哭呢！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就这样，我们编织着童话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转眼间，我们亲手建造的城堡成了一座魔窟，我们也成了攻打魔窟的勇士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2"/>
          <p:cNvSpPr/>
          <p:nvPr/>
        </p:nvSpPr>
        <p:spPr>
          <a:xfrm>
            <a:off x="395280" y="1404000"/>
            <a:ext cx="8497800" cy="409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</a:t>
            </a:r>
            <a:r>
              <a:rPr b="0" lang="zh-CN" sz="3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一个伙伴说：“</a:t>
            </a:r>
            <a:r>
              <a:rPr b="0" lang="zh-CN" sz="35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驾驶飞机去轰炸。</a:t>
            </a:r>
            <a:r>
              <a:rPr b="0" lang="zh-CN" sz="3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</a:t>
            </a:r>
            <a:r>
              <a:rPr b="0" lang="zh-CN" sz="3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我说：“</a:t>
            </a:r>
            <a:r>
              <a:rPr b="0" lang="zh-CN" sz="35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挖地道，从地下装上火药，把城堡炸平。</a:t>
            </a:r>
            <a:r>
              <a:rPr b="0" lang="zh-CN" sz="3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</a:t>
            </a:r>
            <a:r>
              <a:rPr b="0" lang="zh-CN" sz="3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我的方法得到了大家的赞赏。于是我们趴在沙滩上，从四面八方挖着地道。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</a:t>
            </a:r>
            <a:r>
              <a:rPr b="0" lang="zh-CN" sz="3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我挖呀，挖呀，终于挖到了城堡下面。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</a:t>
            </a:r>
            <a:r>
              <a:rPr b="0" lang="zh-CN" sz="3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我把手往上一抬，就把城堡轰塌了。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</a:t>
            </a:r>
            <a:r>
              <a:rPr b="0" lang="zh-CN" sz="3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我们欢呼胜利，欢呼炸死了魔王，欢呼救出了公主。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2"/>
          <p:cNvSpPr/>
          <p:nvPr/>
        </p:nvSpPr>
        <p:spPr>
          <a:xfrm>
            <a:off x="684360" y="1341360"/>
            <a:ext cx="7705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   </a:t>
            </a:r>
            <a:r>
              <a:rPr b="1" lang="zh-CN" sz="6000" spc="-1" strike="noStrike">
                <a:solidFill>
                  <a:srgbClr val="000000"/>
                </a:solidFill>
                <a:latin typeface="楷体"/>
                <a:ea typeface="楷体"/>
              </a:rPr>
              <a:t>男生女生合作朗读</a:t>
            </a:r>
            <a:r>
              <a:rPr b="1" lang="zh-CN" sz="6000" spc="-1" strike="noStrike">
                <a:solidFill>
                  <a:srgbClr val="000000"/>
                </a:solidFill>
                <a:latin typeface="楷体"/>
                <a:ea typeface="楷体"/>
              </a:rPr>
              <a:t>8-15</a:t>
            </a:r>
            <a:r>
              <a:rPr b="1" lang="zh-CN" sz="6000" spc="-1" strike="noStrike">
                <a:solidFill>
                  <a:srgbClr val="000000"/>
                </a:solidFill>
                <a:latin typeface="楷体"/>
                <a:ea typeface="楷体"/>
              </a:rPr>
              <a:t>节，比一比谁最有感情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2"/>
          <p:cNvSpPr/>
          <p:nvPr/>
        </p:nvSpPr>
        <p:spPr>
          <a:xfrm>
            <a:off x="0" y="189000"/>
            <a:ext cx="9144000" cy="52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      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8 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转眼间，我们亲手建造的城堡成了一座魔窟，我们也成了攻打魔窟的勇士。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9 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我们又在商量着怎样攻下那城堡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10 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一个伙伴说：“驾驶飞机去轰炸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11 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我说：“挖地道，从地下装上火药，把城堡炸平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12 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我的方法得到了大家的赞赏。于是，我们趴在沙滩上，从四面八方挖着地道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13 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我挖呀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挖呀，终于挖到了城堡下面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14 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我把手往上一抬，就把城堡轰塌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15 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我们欢呼胜利，欢呼炸死了魔王，欢呼救出了公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2"/>
          <p:cNvSpPr/>
          <p:nvPr/>
        </p:nvSpPr>
        <p:spPr>
          <a:xfrm>
            <a:off x="0" y="333360"/>
            <a:ext cx="8964720" cy="52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      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转眼间，我们亲手建造的城堡成了一座魔窟，我们也成了攻打魔窟的勇士。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我们又在商量着怎样攻下那城堡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一个伙伴说：“驾驶飞机去轰炸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我说：“挖地道，从地下装上火药，把城堡炸平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我的方法得到了大家的赞赏。于是，我们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趴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在沙滩上，从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四面八方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挖着地道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我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挖呀挖呀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，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终于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挖到了城堡下面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我把手往上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一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抬，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就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把城堡轰塌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我们欢呼胜利，欢呼炸死了魔王，欢呼救出了公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2"/>
          <p:cNvSpPr/>
          <p:nvPr/>
        </p:nvSpPr>
        <p:spPr>
          <a:xfrm>
            <a:off x="0" y="333360"/>
            <a:ext cx="8964720" cy="52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转眼间，我们亲手建造的城堡成了一座魔窟，我们也成了攻打魔窟的勇士。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我们又在商量着怎样攻下那城堡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一个伙伴说：“驾驶飞机去轰炸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我说：“挖地道，从地下装上火药，把城堡炸平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我的方法得到了大家的赞赏。于是，我们趴在沙滩上，从四面八方挖着地道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我挖呀挖呀，终于挖到了城堡下面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我把手往上一抬，就把城堡轰塌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我们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欢呼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胜利，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欢呼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炸死了魔王，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欢呼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救出了公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2"/>
          <p:cNvSpPr/>
          <p:nvPr/>
        </p:nvSpPr>
        <p:spPr>
          <a:xfrm>
            <a:off x="250920" y="1844640"/>
            <a:ext cx="78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在课文中孩子们想到炸城堡的方法救公主，可是有人说，炸城堡会伤害公主，你有什么好方法也能攻下城堡救出公主？请你展开想象，编一个智救公主的故事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3"/>
          <p:cNvSpPr/>
          <p:nvPr/>
        </p:nvSpPr>
        <p:spPr>
          <a:xfrm>
            <a:off x="684360" y="549360"/>
            <a:ext cx="4038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cc0000"/>
                </a:solidFill>
                <a:latin typeface="Times New Roman"/>
                <a:ea typeface="华文彩云"/>
              </a:rPr>
              <a:t>小组交流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2"/>
          <p:cNvSpPr/>
          <p:nvPr/>
        </p:nvSpPr>
        <p:spPr>
          <a:xfrm>
            <a:off x="914400" y="1066680"/>
            <a:ext cx="7238880" cy="36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隶书"/>
                <a:ea typeface="隶书"/>
              </a:rPr>
              <a:t>    </a:t>
            </a:r>
            <a:r>
              <a:rPr b="1" lang="zh-CN" sz="4800" spc="-1" strike="noStrike">
                <a:solidFill>
                  <a:srgbClr val="333399"/>
                </a:solidFill>
                <a:latin typeface="隶书"/>
                <a:ea typeface="隶书"/>
              </a:rPr>
              <a:t>在（    ）里填上合适的词语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</a:rPr>
              <a:t>（    　）地道    （　　）童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</a:rPr>
              <a:t>（　　）公主　（　　）火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</a:rPr>
              <a:t>（　　）城堡　（　　）围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3"/>
          <p:cNvSpPr/>
          <p:nvPr/>
        </p:nvSpPr>
        <p:spPr>
          <a:xfrm>
            <a:off x="1854000" y="270828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挖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1759320" y="3751200"/>
            <a:ext cx="85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救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5"/>
          <p:cNvSpPr/>
          <p:nvPr/>
        </p:nvSpPr>
        <p:spPr>
          <a:xfrm>
            <a:off x="1806480" y="465300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6"/>
          <p:cNvSpPr/>
          <p:nvPr/>
        </p:nvSpPr>
        <p:spPr>
          <a:xfrm>
            <a:off x="5333760" y="278136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编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7"/>
          <p:cNvSpPr/>
          <p:nvPr/>
        </p:nvSpPr>
        <p:spPr>
          <a:xfrm>
            <a:off x="5333760" y="371628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8"/>
          <p:cNvSpPr/>
          <p:nvPr/>
        </p:nvSpPr>
        <p:spPr>
          <a:xfrm>
            <a:off x="5333760" y="465300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文本框 1"/>
          <p:cNvSpPr/>
          <p:nvPr/>
        </p:nvSpPr>
        <p:spPr>
          <a:xfrm>
            <a:off x="914400" y="841320"/>
            <a:ext cx="654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2"/>
          <p:cNvSpPr/>
          <p:nvPr/>
        </p:nvSpPr>
        <p:spPr>
          <a:xfrm>
            <a:off x="1042920" y="981000"/>
            <a:ext cx="748980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课后练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在沙滩上，我们垒起城堡，（    ）起围墙，围墙外还（     ）上了干树枝，那是我们的树。我们（    ）地道，从地下（      ）上火药，把城堡（     ）平，（      ）出了被困的公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7248240" y="162864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4871880" y="22050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5"/>
          <p:cNvSpPr/>
          <p:nvPr/>
        </p:nvSpPr>
        <p:spPr>
          <a:xfrm>
            <a:off x="5230440" y="26370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6"/>
          <p:cNvSpPr/>
          <p:nvPr/>
        </p:nvSpPr>
        <p:spPr>
          <a:xfrm>
            <a:off x="2063520" y="313992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7"/>
          <p:cNvSpPr/>
          <p:nvPr/>
        </p:nvSpPr>
        <p:spPr>
          <a:xfrm>
            <a:off x="6238440" y="313992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8"/>
          <p:cNvSpPr/>
          <p:nvPr/>
        </p:nvSpPr>
        <p:spPr>
          <a:xfrm>
            <a:off x="1630080" y="36450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2"/>
          <p:cNvSpPr/>
          <p:nvPr/>
        </p:nvSpPr>
        <p:spPr>
          <a:xfrm>
            <a:off x="611280" y="907920"/>
            <a:ext cx="1657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童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1908000" y="831960"/>
            <a:ext cx="70567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：儿童文学的一种体裁，通过丰富的</a:t>
            </a:r>
            <a:r>
              <a:rPr b="0" lang="zh-CN" sz="4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想像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</a:t>
            </a:r>
            <a:r>
              <a:rPr b="0" lang="zh-CN" sz="4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幻想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和</a:t>
            </a:r>
            <a:r>
              <a:rPr b="0" lang="zh-CN" sz="4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夸张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来编写适合于儿童欣赏的故事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2"/>
          <p:cNvSpPr/>
          <p:nvPr/>
        </p:nvSpPr>
        <p:spPr>
          <a:xfrm>
            <a:off x="3526560" y="836640"/>
            <a:ext cx="1704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3399"/>
                </a:solidFill>
                <a:latin typeface="Arial"/>
              </a:rPr>
              <a:t>读一读，比一比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3"/>
          <p:cNvSpPr/>
          <p:nvPr/>
        </p:nvSpPr>
        <p:spPr>
          <a:xfrm>
            <a:off x="612720" y="1917720"/>
            <a:ext cx="78487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"/>
              </a:rPr>
              <a:t>1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"/>
              </a:rPr>
              <a:t>、我们挖着地道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"/>
              </a:rPr>
              <a:t>2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"/>
              </a:rPr>
              <a:t>、我们从四面八方挖着地道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"/>
              </a:rPr>
              <a:t>3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"/>
              </a:rPr>
              <a:t>、我们趴在沙滩上，从四面八方挖着地道。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2008092810415042343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53" name="Group 3"/>
          <p:cNvGrpSpPr/>
          <p:nvPr/>
        </p:nvGrpSpPr>
        <p:grpSpPr>
          <a:xfrm>
            <a:off x="395280" y="262080"/>
            <a:ext cx="1868400" cy="1150920"/>
            <a:chOff x="395280" y="262080"/>
            <a:chExt cx="1868400" cy="1150920"/>
          </a:xfrm>
        </p:grpSpPr>
        <p:pic>
          <p:nvPicPr>
            <p:cNvPr id="154" name="Picture 4" descr="TN_80"/>
            <p:cNvPicPr/>
            <p:nvPr/>
          </p:nvPicPr>
          <p:blipFill>
            <a:blip r:embed="rId2"/>
            <a:stretch/>
          </p:blipFill>
          <p:spPr>
            <a:xfrm>
              <a:off x="395280" y="262080"/>
              <a:ext cx="115092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Rectangle 5"/>
            <p:cNvSpPr/>
            <p:nvPr/>
          </p:nvSpPr>
          <p:spPr>
            <a:xfrm>
              <a:off x="1412280" y="549360"/>
              <a:ext cx="8514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筑起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Group 6"/>
          <p:cNvGrpSpPr/>
          <p:nvPr/>
        </p:nvGrpSpPr>
        <p:grpSpPr>
          <a:xfrm>
            <a:off x="836280" y="1484280"/>
            <a:ext cx="2365200" cy="1150920"/>
            <a:chOff x="836280" y="1484280"/>
            <a:chExt cx="2365200" cy="1150920"/>
          </a:xfrm>
        </p:grpSpPr>
        <p:pic>
          <p:nvPicPr>
            <p:cNvPr id="157" name="Picture 7" descr="TN_q16_GIF"/>
            <p:cNvPicPr/>
            <p:nvPr/>
          </p:nvPicPr>
          <p:blipFill>
            <a:blip r:embed="rId3"/>
            <a:stretch/>
          </p:blipFill>
          <p:spPr>
            <a:xfrm>
              <a:off x="2050920" y="1484280"/>
              <a:ext cx="115056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Rectangle 8"/>
            <p:cNvSpPr/>
            <p:nvPr/>
          </p:nvSpPr>
          <p:spPr>
            <a:xfrm>
              <a:off x="836280" y="1700280"/>
              <a:ext cx="8514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商量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Group 9"/>
          <p:cNvGrpSpPr/>
          <p:nvPr/>
        </p:nvGrpSpPr>
        <p:grpSpPr>
          <a:xfrm>
            <a:off x="395280" y="2852640"/>
            <a:ext cx="2013120" cy="1150920"/>
            <a:chOff x="395280" y="2852640"/>
            <a:chExt cx="2013120" cy="1150920"/>
          </a:xfrm>
        </p:grpSpPr>
        <p:pic>
          <p:nvPicPr>
            <p:cNvPr id="160" name="Picture 10" descr="TN_79"/>
            <p:cNvPicPr/>
            <p:nvPr/>
          </p:nvPicPr>
          <p:blipFill>
            <a:blip r:embed="rId4"/>
            <a:stretch/>
          </p:blipFill>
          <p:spPr>
            <a:xfrm>
              <a:off x="395280" y="2852640"/>
              <a:ext cx="87948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Rectangle 11"/>
            <p:cNvSpPr/>
            <p:nvPr/>
          </p:nvSpPr>
          <p:spPr>
            <a:xfrm>
              <a:off x="1557000" y="3068640"/>
              <a:ext cx="8514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驾驶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Group 12"/>
          <p:cNvGrpSpPr/>
          <p:nvPr/>
        </p:nvGrpSpPr>
        <p:grpSpPr>
          <a:xfrm>
            <a:off x="5651640" y="404640"/>
            <a:ext cx="2293920" cy="1150920"/>
            <a:chOff x="5651640" y="404640"/>
            <a:chExt cx="2293920" cy="1150920"/>
          </a:xfrm>
        </p:grpSpPr>
        <p:sp>
          <p:nvSpPr>
            <p:cNvPr id="163" name="Rectangle 13"/>
            <p:cNvSpPr/>
            <p:nvPr/>
          </p:nvSpPr>
          <p:spPr>
            <a:xfrm>
              <a:off x="7094160" y="563400"/>
              <a:ext cx="8514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攻打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4" name="Picture 14" descr="TN_80"/>
            <p:cNvPicPr/>
            <p:nvPr/>
          </p:nvPicPr>
          <p:blipFill>
            <a:blip r:embed="rId5"/>
            <a:stretch/>
          </p:blipFill>
          <p:spPr>
            <a:xfrm>
              <a:off x="5651640" y="404640"/>
              <a:ext cx="1150920" cy="1150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5" name="Group 15"/>
          <p:cNvGrpSpPr/>
          <p:nvPr/>
        </p:nvGrpSpPr>
        <p:grpSpPr>
          <a:xfrm>
            <a:off x="3132000" y="404640"/>
            <a:ext cx="2084400" cy="1150920"/>
            <a:chOff x="3132000" y="404640"/>
            <a:chExt cx="2084400" cy="1150920"/>
          </a:xfrm>
        </p:grpSpPr>
        <p:sp>
          <p:nvSpPr>
            <p:cNvPr id="166" name="Rectangle 16"/>
            <p:cNvSpPr/>
            <p:nvPr/>
          </p:nvSpPr>
          <p:spPr>
            <a:xfrm>
              <a:off x="4365000" y="620640"/>
              <a:ext cx="8514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插上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7" name="Picture 17" descr="TN_80"/>
            <p:cNvPicPr/>
            <p:nvPr/>
          </p:nvPicPr>
          <p:blipFill>
            <a:blip r:embed="rId6"/>
            <a:stretch/>
          </p:blipFill>
          <p:spPr>
            <a:xfrm>
              <a:off x="3132000" y="404640"/>
              <a:ext cx="1150920" cy="1150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8" name="Group 18"/>
          <p:cNvGrpSpPr/>
          <p:nvPr/>
        </p:nvGrpSpPr>
        <p:grpSpPr>
          <a:xfrm>
            <a:off x="3573000" y="1484280"/>
            <a:ext cx="2294280" cy="1150920"/>
            <a:chOff x="3573000" y="1484280"/>
            <a:chExt cx="2294280" cy="1150920"/>
          </a:xfrm>
        </p:grpSpPr>
        <p:sp>
          <p:nvSpPr>
            <p:cNvPr id="169" name="Rectangle 19"/>
            <p:cNvSpPr/>
            <p:nvPr/>
          </p:nvSpPr>
          <p:spPr>
            <a:xfrm>
              <a:off x="3573000" y="1773360"/>
              <a:ext cx="8514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凶狠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0" name="Picture 20" descr="TN_q16_GIF"/>
            <p:cNvPicPr/>
            <p:nvPr/>
          </p:nvPicPr>
          <p:blipFill>
            <a:blip r:embed="rId7"/>
            <a:stretch/>
          </p:blipFill>
          <p:spPr>
            <a:xfrm>
              <a:off x="4716360" y="1484280"/>
              <a:ext cx="1150920" cy="1150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1" name="Group 21"/>
          <p:cNvGrpSpPr/>
          <p:nvPr/>
        </p:nvGrpSpPr>
        <p:grpSpPr>
          <a:xfrm>
            <a:off x="6381360" y="1484280"/>
            <a:ext cx="2294280" cy="1150920"/>
            <a:chOff x="6381360" y="1484280"/>
            <a:chExt cx="2294280" cy="1150920"/>
          </a:xfrm>
        </p:grpSpPr>
        <p:sp>
          <p:nvSpPr>
            <p:cNvPr id="172" name="Rectangle 22"/>
            <p:cNvSpPr/>
            <p:nvPr/>
          </p:nvSpPr>
          <p:spPr>
            <a:xfrm>
              <a:off x="6381360" y="1700280"/>
              <a:ext cx="8514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建造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3" name="Picture 23" descr="TN_q16_GIF"/>
            <p:cNvPicPr/>
            <p:nvPr/>
          </p:nvPicPr>
          <p:blipFill>
            <a:blip r:embed="rId8"/>
            <a:stretch/>
          </p:blipFill>
          <p:spPr>
            <a:xfrm>
              <a:off x="7524720" y="1484280"/>
              <a:ext cx="1150920" cy="1150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4" name="Group 24"/>
          <p:cNvGrpSpPr/>
          <p:nvPr/>
        </p:nvGrpSpPr>
        <p:grpSpPr>
          <a:xfrm>
            <a:off x="468360" y="4076640"/>
            <a:ext cx="2084400" cy="1150920"/>
            <a:chOff x="468360" y="4076640"/>
            <a:chExt cx="2084400" cy="1150920"/>
          </a:xfrm>
        </p:grpSpPr>
        <p:sp>
          <p:nvSpPr>
            <p:cNvPr id="175" name="Text Box 25"/>
            <p:cNvSpPr/>
            <p:nvPr/>
          </p:nvSpPr>
          <p:spPr>
            <a:xfrm>
              <a:off x="1701360" y="4149720"/>
              <a:ext cx="8514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赞赏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6" name="Picture 26" descr="TN_79"/>
            <p:cNvPicPr/>
            <p:nvPr/>
          </p:nvPicPr>
          <p:blipFill>
            <a:blip r:embed="rId9"/>
            <a:stretch/>
          </p:blipFill>
          <p:spPr>
            <a:xfrm>
              <a:off x="468360" y="4076640"/>
              <a:ext cx="879480" cy="1150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7" name="Group 27"/>
          <p:cNvGrpSpPr/>
          <p:nvPr/>
        </p:nvGrpSpPr>
        <p:grpSpPr>
          <a:xfrm>
            <a:off x="2916360" y="4005360"/>
            <a:ext cx="1940040" cy="1150920"/>
            <a:chOff x="2916360" y="4005360"/>
            <a:chExt cx="1940040" cy="1150920"/>
          </a:xfrm>
        </p:grpSpPr>
        <p:sp>
          <p:nvSpPr>
            <p:cNvPr id="178" name="Rectangle 28"/>
            <p:cNvSpPr/>
            <p:nvPr/>
          </p:nvSpPr>
          <p:spPr>
            <a:xfrm>
              <a:off x="4005000" y="4149720"/>
              <a:ext cx="8514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轰炸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9" name="Picture 29" descr="TN_79"/>
            <p:cNvPicPr/>
            <p:nvPr/>
          </p:nvPicPr>
          <p:blipFill>
            <a:blip r:embed="rId10"/>
            <a:stretch/>
          </p:blipFill>
          <p:spPr>
            <a:xfrm>
              <a:off x="2916360" y="4005360"/>
              <a:ext cx="879480" cy="1150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0" name="Group 30"/>
          <p:cNvGrpSpPr/>
          <p:nvPr/>
        </p:nvGrpSpPr>
        <p:grpSpPr>
          <a:xfrm>
            <a:off x="468360" y="5157720"/>
            <a:ext cx="2387160" cy="1150920"/>
            <a:chOff x="468360" y="5157720"/>
            <a:chExt cx="2387160" cy="1150920"/>
          </a:xfrm>
        </p:grpSpPr>
        <p:sp>
          <p:nvSpPr>
            <p:cNvPr id="181" name="Rectangle 31"/>
            <p:cNvSpPr/>
            <p:nvPr/>
          </p:nvSpPr>
          <p:spPr>
            <a:xfrm>
              <a:off x="1668960" y="5300640"/>
              <a:ext cx="11865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挖地道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2" name="Picture 32" descr="TN_79"/>
            <p:cNvPicPr/>
            <p:nvPr/>
          </p:nvPicPr>
          <p:blipFill>
            <a:blip r:embed="rId11"/>
            <a:stretch/>
          </p:blipFill>
          <p:spPr>
            <a:xfrm>
              <a:off x="468360" y="5157720"/>
              <a:ext cx="879480" cy="1150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3" name="Group 33"/>
          <p:cNvGrpSpPr/>
          <p:nvPr/>
        </p:nvGrpSpPr>
        <p:grpSpPr>
          <a:xfrm>
            <a:off x="3141360" y="2924280"/>
            <a:ext cx="2294280" cy="1150920"/>
            <a:chOff x="3141360" y="2924280"/>
            <a:chExt cx="2294280" cy="1150920"/>
          </a:xfrm>
        </p:grpSpPr>
        <p:sp>
          <p:nvSpPr>
            <p:cNvPr id="184" name="Rectangle 34"/>
            <p:cNvSpPr/>
            <p:nvPr/>
          </p:nvSpPr>
          <p:spPr>
            <a:xfrm>
              <a:off x="3141360" y="3068640"/>
              <a:ext cx="8514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相约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5" name="Picture 35" descr="TN_q16_GIF"/>
            <p:cNvPicPr/>
            <p:nvPr/>
          </p:nvPicPr>
          <p:blipFill>
            <a:blip r:embed="rId12"/>
            <a:stretch/>
          </p:blipFill>
          <p:spPr>
            <a:xfrm>
              <a:off x="4284720" y="2924280"/>
              <a:ext cx="1150920" cy="1150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dur="indefinite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dur="indefinite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dur="indefinite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2" descr="aaa"/>
          <p:cNvPicPr/>
          <p:nvPr/>
        </p:nvPicPr>
        <p:blipFill>
          <a:blip r:embed="rId1"/>
          <a:stretch/>
        </p:blipFill>
        <p:spPr>
          <a:xfrm>
            <a:off x="684360" y="1484280"/>
            <a:ext cx="2305080" cy="230508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3" descr="aaa"/>
          <p:cNvPicPr/>
          <p:nvPr/>
        </p:nvPicPr>
        <p:blipFill>
          <a:blip r:embed="rId2"/>
          <a:stretch/>
        </p:blipFill>
        <p:spPr>
          <a:xfrm>
            <a:off x="3346560" y="1484280"/>
            <a:ext cx="2305080" cy="230508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4" descr="aaa"/>
          <p:cNvPicPr/>
          <p:nvPr/>
        </p:nvPicPr>
        <p:blipFill>
          <a:blip r:embed="rId3"/>
          <a:stretch/>
        </p:blipFill>
        <p:spPr>
          <a:xfrm>
            <a:off x="6012000" y="1484280"/>
            <a:ext cx="2305080" cy="230508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5" descr="aaa"/>
          <p:cNvPicPr/>
          <p:nvPr/>
        </p:nvPicPr>
        <p:blipFill>
          <a:blip r:embed="rId4"/>
          <a:stretch/>
        </p:blipFill>
        <p:spPr>
          <a:xfrm>
            <a:off x="1763640" y="4005360"/>
            <a:ext cx="2305080" cy="230508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6" descr="aaa"/>
          <p:cNvPicPr/>
          <p:nvPr/>
        </p:nvPicPr>
        <p:blipFill>
          <a:blip r:embed="rId5"/>
          <a:stretch/>
        </p:blipFill>
        <p:spPr>
          <a:xfrm>
            <a:off x="4859280" y="4005360"/>
            <a:ext cx="2305080" cy="2305080"/>
          </a:xfrm>
          <a:prstGeom prst="rect">
            <a:avLst/>
          </a:prstGeom>
          <a:ln w="0">
            <a:noFill/>
          </a:ln>
        </p:spPr>
      </p:pic>
      <p:sp>
        <p:nvSpPr>
          <p:cNvPr id="191" name="Text Box 7"/>
          <p:cNvSpPr/>
          <p:nvPr/>
        </p:nvSpPr>
        <p:spPr>
          <a:xfrm>
            <a:off x="900000" y="549360"/>
            <a:ext cx="172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写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8"/>
          <p:cNvSpPr/>
          <p:nvPr/>
        </p:nvSpPr>
        <p:spPr>
          <a:xfrm>
            <a:off x="826920" y="1413000"/>
            <a:ext cx="201636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建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9"/>
          <p:cNvSpPr/>
          <p:nvPr/>
        </p:nvSpPr>
        <p:spPr>
          <a:xfrm>
            <a:off x="3492360" y="1347840"/>
            <a:ext cx="201636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插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10"/>
          <p:cNvSpPr/>
          <p:nvPr/>
        </p:nvSpPr>
        <p:spPr>
          <a:xfrm>
            <a:off x="6156360" y="1413000"/>
            <a:ext cx="201600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攻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11"/>
          <p:cNvSpPr/>
          <p:nvPr/>
        </p:nvSpPr>
        <p:spPr>
          <a:xfrm>
            <a:off x="1951200" y="3933720"/>
            <a:ext cx="201600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商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12"/>
          <p:cNvSpPr/>
          <p:nvPr/>
        </p:nvSpPr>
        <p:spPr>
          <a:xfrm>
            <a:off x="5003640" y="3860640"/>
            <a:ext cx="201636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挖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自然风景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52A10-B7A1-4946-8876-11734528AD1B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2"/>
          <p:cNvSpPr/>
          <p:nvPr/>
        </p:nvSpPr>
        <p:spPr>
          <a:xfrm>
            <a:off x="324000" y="692280"/>
            <a:ext cx="83818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Times New Roman"/>
              </a:rPr>
              <a:t>自学课文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①</a:t>
            </a:r>
            <a:r>
              <a:rPr b="1" lang="zh-CN" sz="40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跟读课文录音，读通课文，读准生字字音，认清字形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②</a:t>
            </a:r>
            <a:r>
              <a:rPr b="1" lang="zh-CN" sz="40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思考：</a:t>
            </a:r>
            <a:r>
              <a:rPr b="1" lang="zh-CN" sz="40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课文讲了一件什么事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3" descr="004"/>
          <p:cNvPicPr/>
          <p:nvPr/>
        </p:nvPicPr>
        <p:blipFill>
          <a:blip r:embed="rId1"/>
          <a:stretch/>
        </p:blipFill>
        <p:spPr>
          <a:xfrm>
            <a:off x="0" y="4191120"/>
            <a:ext cx="89154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2"/>
          <p:cNvSpPr/>
          <p:nvPr/>
        </p:nvSpPr>
        <p:spPr>
          <a:xfrm>
            <a:off x="1123560" y="765000"/>
            <a:ext cx="671868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筑</a:t>
            </a:r>
            <a:r>
              <a:rPr b="1" lang="zh-CN" sz="6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起   </a:t>
            </a:r>
            <a:r>
              <a:rPr b="1" lang="zh-CN" sz="6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插</a:t>
            </a:r>
            <a:r>
              <a:rPr b="1" lang="zh-CN" sz="6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上   凶</a:t>
            </a:r>
            <a:r>
              <a:rPr b="1" lang="zh-CN" sz="6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狠</a:t>
            </a:r>
            <a:r>
              <a:rPr b="1" lang="zh-CN" sz="6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建</a:t>
            </a:r>
            <a:r>
              <a:rPr b="1" lang="zh-CN" sz="6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造   </a:t>
            </a:r>
            <a:r>
              <a:rPr b="1" lang="zh-CN" sz="6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攻</a:t>
            </a:r>
            <a:r>
              <a:rPr b="1" lang="zh-CN" sz="6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打   </a:t>
            </a:r>
            <a:r>
              <a:rPr b="1" lang="zh-CN" sz="6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商</a:t>
            </a:r>
            <a:r>
              <a:rPr b="1" lang="zh-CN" sz="6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量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驾驶</a:t>
            </a:r>
            <a:r>
              <a:rPr b="1" lang="zh-CN" sz="6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轰</a:t>
            </a:r>
            <a:r>
              <a:rPr b="1" lang="zh-CN" sz="6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炸   挖</a:t>
            </a:r>
            <a:r>
              <a:rPr b="1" lang="zh-CN" sz="6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地道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253080" y="228600"/>
            <a:ext cx="97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zh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3132000" y="189000"/>
            <a:ext cx="136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ch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5"/>
          <p:cNvSpPr/>
          <p:nvPr/>
        </p:nvSpPr>
        <p:spPr>
          <a:xfrm>
            <a:off x="6877080" y="189000"/>
            <a:ext cx="1366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hě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6"/>
          <p:cNvSpPr/>
          <p:nvPr/>
        </p:nvSpPr>
        <p:spPr>
          <a:xfrm>
            <a:off x="252720" y="2152800"/>
            <a:ext cx="102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jià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324000" y="4024440"/>
            <a:ext cx="230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jià  sh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3059280" y="2152800"/>
            <a:ext cx="158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gō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5940360" y="2151000"/>
            <a:ext cx="180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shā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4068720" y="4005360"/>
            <a:ext cx="942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zh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6227640" y="4022640"/>
            <a:ext cx="129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w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矩形 6"/>
          <p:cNvSpPr/>
          <p:nvPr/>
        </p:nvSpPr>
        <p:spPr>
          <a:xfrm>
            <a:off x="2843280" y="2282760"/>
            <a:ext cx="735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2"/>
          <p:cNvSpPr/>
          <p:nvPr/>
        </p:nvSpPr>
        <p:spPr>
          <a:xfrm>
            <a:off x="142920" y="2225520"/>
            <a:ext cx="8893080" cy="28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4800" spc="-1" strike="noStrike" u="sng">
                <a:solidFill>
                  <a:srgbClr val="ff0000"/>
                </a:solidFill>
                <a:uFillTx/>
                <a:latin typeface="楷体"/>
                <a:ea typeface="楷体"/>
              </a:rPr>
              <a:t>这里</a:t>
            </a: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是我们</a:t>
            </a:r>
            <a:r>
              <a:rPr b="1" lang="zh-CN" sz="4800" spc="-1" strike="noStrike" u="sng">
                <a:solidFill>
                  <a:srgbClr val="ff0000"/>
                </a:solidFill>
                <a:uFillTx/>
                <a:latin typeface="楷体"/>
                <a:ea typeface="楷体"/>
              </a:rPr>
              <a:t>快乐的天地</a:t>
            </a: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每天放学以后，我们就偷偷地相约来到</a:t>
            </a:r>
            <a:r>
              <a:rPr b="1" lang="zh-CN" sz="4800" spc="-1" strike="noStrike" u="sng">
                <a:solidFill>
                  <a:srgbClr val="ff0000"/>
                </a:solidFill>
                <a:uFillTx/>
                <a:latin typeface="楷体"/>
                <a:ea typeface="楷体"/>
              </a:rPr>
              <a:t>这里</a:t>
            </a: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，把书包一扔，开始了我们有趣的活动。</a:t>
            </a: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1979640" y="692280"/>
            <a:ext cx="583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宋体"/>
              </a:rPr>
              <a:t>4  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  <a:ea typeface="宋体"/>
              </a:rPr>
              <a:t>沙滩上的童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5"/>
          <p:cNvSpPr/>
          <p:nvPr/>
        </p:nvSpPr>
        <p:spPr>
          <a:xfrm>
            <a:off x="1763640" y="5516640"/>
            <a:ext cx="1800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6"/>
          <p:cNvSpPr/>
          <p:nvPr/>
        </p:nvSpPr>
        <p:spPr>
          <a:xfrm>
            <a:off x="1258920" y="5516640"/>
            <a:ext cx="252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垒城堡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>
            <a:off x="9360" y="1773360"/>
            <a:ext cx="9142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6000" spc="-1" strike="noStrike" u="sng">
                <a:solidFill>
                  <a:srgbClr val="000000"/>
                </a:solidFill>
                <a:uFillTx/>
                <a:latin typeface="楷体_GB2312"/>
                <a:ea typeface="楷体"/>
              </a:rPr>
              <a:t>在沙滩上，我们垒起城堡，筑起围墙，围墙外还插上了干树枝，那是我们的树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Oval 3"/>
          <p:cNvSpPr/>
          <p:nvPr/>
        </p:nvSpPr>
        <p:spPr>
          <a:xfrm>
            <a:off x="6300720" y="1917720"/>
            <a:ext cx="792360" cy="790560"/>
          </a:xfrm>
          <a:prstGeom prst="ellips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4"/>
          <p:cNvSpPr/>
          <p:nvPr/>
        </p:nvSpPr>
        <p:spPr>
          <a:xfrm>
            <a:off x="1547640" y="2852640"/>
            <a:ext cx="792360" cy="792360"/>
          </a:xfrm>
          <a:prstGeom prst="ellips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Oval 5"/>
          <p:cNvSpPr/>
          <p:nvPr/>
        </p:nvSpPr>
        <p:spPr>
          <a:xfrm>
            <a:off x="34920" y="3789360"/>
            <a:ext cx="792000" cy="792000"/>
          </a:xfrm>
          <a:prstGeom prst="ellips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2716920" y="260280"/>
            <a:ext cx="3228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  <a:ea typeface="楷体_GB2312"/>
              </a:rPr>
              <a:t>我们是怎么垒城堡的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  <a:ea typeface="楷体_GB2312"/>
              </a:rPr>
              <a:t>用直线划出来，圈出有关动词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7"/>
          <p:cNvSpPr/>
          <p:nvPr/>
        </p:nvSpPr>
        <p:spPr>
          <a:xfrm>
            <a:off x="1657800" y="5734080"/>
            <a:ext cx="286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Arial"/>
                <a:ea typeface="楷体_GB2312"/>
              </a:rPr>
              <a:t>我们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编织</a:t>
            </a:r>
            <a:r>
              <a:rPr b="1" lang="zh-CN" sz="4400" spc="-1" strike="noStrike">
                <a:solidFill>
                  <a:srgbClr val="333399"/>
                </a:solidFill>
                <a:latin typeface="Arial"/>
                <a:ea typeface="楷体_GB2312"/>
              </a:rPr>
              <a:t>着童话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5"/>
          <p:cNvSpPr/>
          <p:nvPr/>
        </p:nvSpPr>
        <p:spPr>
          <a:xfrm>
            <a:off x="900000" y="5805360"/>
            <a:ext cx="23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编织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童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2"/>
          <p:cNvSpPr/>
          <p:nvPr/>
        </p:nvSpPr>
        <p:spPr>
          <a:xfrm>
            <a:off x="181080" y="333360"/>
            <a:ext cx="860400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大家你一句，我一句：“这里住着一个凶狠的魔王。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  “</a:t>
            </a: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他抢去了美丽的公主！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  “</a:t>
            </a: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你们快听，公主在城堡里哭呢！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3"/>
          <p:cNvSpPr/>
          <p:nvPr/>
        </p:nvSpPr>
        <p:spPr>
          <a:xfrm>
            <a:off x="4105440" y="5013360"/>
            <a:ext cx="286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Arial"/>
                <a:ea typeface="楷体_GB2312"/>
              </a:rPr>
              <a:t>我们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编织</a:t>
            </a:r>
            <a:r>
              <a:rPr b="1" lang="zh-CN" sz="4400" spc="-1" strike="noStrike">
                <a:solidFill>
                  <a:srgbClr val="333399"/>
                </a:solidFill>
                <a:latin typeface="Arial"/>
                <a:ea typeface="楷体_GB2312"/>
              </a:rPr>
              <a:t>着童话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4"/>
          <p:cNvSpPr/>
          <p:nvPr/>
        </p:nvSpPr>
        <p:spPr>
          <a:xfrm>
            <a:off x="1567800" y="501336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Arial"/>
                <a:ea typeface="楷体_GB2312"/>
              </a:rPr>
              <a:t>就这样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2T12:01:28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0:48:13Z</dcterms:modified>
  <cp:revision>54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</Properties>
</file>