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56BC-C6C1-49D6-A2FF-286D904819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91E7-7D08-480E-81C6-E72CD0817F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AA8-B1D0-44DF-B9AB-3BF261FC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4D0-15B5-4D45-AA2F-06F7012D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BC6-7F7F-46E0-AEF8-445979B6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09E-0480-4D54-89B0-845D4AA3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B06-AA57-4718-9E66-C84ED1CA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26C-36DD-49D7-A513-07329387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368-2AB2-4230-9486-0908F546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AF7-061D-40E5-BC01-655D8583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E1F-CD32-41D9-8CAE-15EC21F9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B5B-C478-40E4-9BD8-CB1CE1DC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2C9-72A1-4612-9339-DC3C9511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5F5-F045-4E03-BCA1-5334E949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B7C7-74E5-4A4C-88C6-81EB6AA7E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813040" y="126828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沙滩上的童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01276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50920" y="184464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课文中孩子们想到炸城堡的方法救公主，可是有人说，炸城堡会伤害公主，你有什么好方法也能攻下城堡救出公主？请你展开想象，编一个智救公主的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84360" y="54936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小组交流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914400" y="1066680"/>
            <a:ext cx="723888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在（    ）里填上合适的词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    　）地道    （　　）童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　　）公主　（　　）火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　　）城堡　（　　）围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854000" y="2708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759320" y="37512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救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806480" y="465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333760" y="2781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5333760" y="3716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333760" y="465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042920" y="98100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后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沙滩上，我们垒起城堡，（    ）起围墙，围墙外还（     ）上了干树枝，那是我们的树。我们（    ）地道，从地下（      ）上火药，把城堡（     ）平，（      ）出了被困的公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7248240" y="162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871880" y="220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230440" y="26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063520" y="3139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238440" y="3139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1630080" y="36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2843280" y="5181480"/>
            <a:ext cx="54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2" descr="200809281041504234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3"/>
          <p:cNvGrpSpPr/>
          <p:nvPr/>
        </p:nvGrpSpPr>
        <p:grpSpPr>
          <a:xfrm>
            <a:off x="395280" y="262080"/>
            <a:ext cx="1868400" cy="1150920"/>
            <a:chOff x="395280" y="262080"/>
            <a:chExt cx="1868400" cy="1150920"/>
          </a:xfrm>
        </p:grpSpPr>
        <p:pic>
          <p:nvPicPr>
            <p:cNvPr id="97" name="Picture 7" descr="TN_80"/>
            <p:cNvPicPr/>
            <p:nvPr/>
          </p:nvPicPr>
          <p:blipFill>
            <a:blip r:embed="rId2"/>
            <a:stretch/>
          </p:blipFill>
          <p:spPr>
            <a:xfrm>
              <a:off x="395280" y="262080"/>
              <a:ext cx="11509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4"/>
            <p:cNvSpPr/>
            <p:nvPr/>
          </p:nvSpPr>
          <p:spPr>
            <a:xfrm>
              <a:off x="1412280" y="54936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筑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6"/>
          <p:cNvGrpSpPr/>
          <p:nvPr/>
        </p:nvGrpSpPr>
        <p:grpSpPr>
          <a:xfrm>
            <a:off x="909360" y="1484280"/>
            <a:ext cx="2365560" cy="1150920"/>
            <a:chOff x="909360" y="1484280"/>
            <a:chExt cx="2365560" cy="1150920"/>
          </a:xfrm>
        </p:grpSpPr>
        <p:pic>
          <p:nvPicPr>
            <p:cNvPr id="100" name="Picture 9" descr="TN_q16_GIF"/>
            <p:cNvPicPr/>
            <p:nvPr/>
          </p:nvPicPr>
          <p:blipFill>
            <a:blip r:embed="rId3"/>
            <a:stretch/>
          </p:blipFill>
          <p:spPr>
            <a:xfrm>
              <a:off x="2124000" y="1484280"/>
              <a:ext cx="11509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20"/>
            <p:cNvSpPr/>
            <p:nvPr/>
          </p:nvSpPr>
          <p:spPr>
            <a:xfrm>
              <a:off x="909360" y="17002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商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39"/>
          <p:cNvGrpSpPr/>
          <p:nvPr/>
        </p:nvGrpSpPr>
        <p:grpSpPr>
          <a:xfrm>
            <a:off x="395280" y="2852640"/>
            <a:ext cx="2013120" cy="1150920"/>
            <a:chOff x="395280" y="2852640"/>
            <a:chExt cx="2013120" cy="1150920"/>
          </a:xfrm>
        </p:grpSpPr>
        <p:pic>
          <p:nvPicPr>
            <p:cNvPr id="103" name="Picture 6" descr="TN_79"/>
            <p:cNvPicPr/>
            <p:nvPr/>
          </p:nvPicPr>
          <p:blipFill>
            <a:blip r:embed="rId4"/>
            <a:stretch/>
          </p:blipFill>
          <p:spPr>
            <a:xfrm>
              <a:off x="395280" y="2852640"/>
              <a:ext cx="879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21"/>
            <p:cNvSpPr/>
            <p:nvPr/>
          </p:nvSpPr>
          <p:spPr>
            <a:xfrm>
              <a:off x="1557000" y="306864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驾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5651640" y="404640"/>
            <a:ext cx="2293920" cy="1151280"/>
            <a:chOff x="5651640" y="404640"/>
            <a:chExt cx="2293920" cy="1151280"/>
          </a:xfrm>
        </p:grpSpPr>
        <p:sp>
          <p:nvSpPr>
            <p:cNvPr id="106" name="Rectangle 19"/>
            <p:cNvSpPr/>
            <p:nvPr/>
          </p:nvSpPr>
          <p:spPr>
            <a:xfrm>
              <a:off x="7094160" y="56340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攻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25" descr="TN_80"/>
            <p:cNvPicPr/>
            <p:nvPr/>
          </p:nvPicPr>
          <p:blipFill>
            <a:blip r:embed="rId5"/>
            <a:stretch/>
          </p:blipFill>
          <p:spPr>
            <a:xfrm>
              <a:off x="5651640" y="404640"/>
              <a:ext cx="1150920" cy="115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34"/>
          <p:cNvGrpSpPr/>
          <p:nvPr/>
        </p:nvGrpSpPr>
        <p:grpSpPr>
          <a:xfrm>
            <a:off x="3132000" y="404640"/>
            <a:ext cx="2084760" cy="1151280"/>
            <a:chOff x="3132000" y="404640"/>
            <a:chExt cx="2084760" cy="1151280"/>
          </a:xfrm>
        </p:grpSpPr>
        <p:sp>
          <p:nvSpPr>
            <p:cNvPr id="109" name="Rectangle 15"/>
            <p:cNvSpPr/>
            <p:nvPr/>
          </p:nvSpPr>
          <p:spPr>
            <a:xfrm>
              <a:off x="4365360" y="62064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插上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26" descr="TN_80"/>
            <p:cNvPicPr/>
            <p:nvPr/>
          </p:nvPicPr>
          <p:blipFill>
            <a:blip r:embed="rId6"/>
            <a:stretch/>
          </p:blipFill>
          <p:spPr>
            <a:xfrm>
              <a:off x="3132000" y="404640"/>
              <a:ext cx="1150920" cy="115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Group 37"/>
          <p:cNvGrpSpPr/>
          <p:nvPr/>
        </p:nvGrpSpPr>
        <p:grpSpPr>
          <a:xfrm>
            <a:off x="3573000" y="1484280"/>
            <a:ext cx="2294280" cy="1150920"/>
            <a:chOff x="3573000" y="1484280"/>
            <a:chExt cx="2294280" cy="1150920"/>
          </a:xfrm>
        </p:grpSpPr>
        <p:sp>
          <p:nvSpPr>
            <p:cNvPr id="112" name="Rectangle 16"/>
            <p:cNvSpPr/>
            <p:nvPr/>
          </p:nvSpPr>
          <p:spPr>
            <a:xfrm>
              <a:off x="3573000" y="177336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凶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27" descr="TN_q16_GIF"/>
            <p:cNvPicPr/>
            <p:nvPr/>
          </p:nvPicPr>
          <p:blipFill>
            <a:blip r:embed="rId7"/>
            <a:stretch/>
          </p:blipFill>
          <p:spPr>
            <a:xfrm>
              <a:off x="4716360" y="1484280"/>
              <a:ext cx="1150920" cy="11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38"/>
          <p:cNvGrpSpPr/>
          <p:nvPr/>
        </p:nvGrpSpPr>
        <p:grpSpPr>
          <a:xfrm>
            <a:off x="6381360" y="1484280"/>
            <a:ext cx="2294280" cy="1150920"/>
            <a:chOff x="6381360" y="1484280"/>
            <a:chExt cx="2294280" cy="1150920"/>
          </a:xfrm>
        </p:grpSpPr>
        <p:sp>
          <p:nvSpPr>
            <p:cNvPr id="115" name="Rectangle 18"/>
            <p:cNvSpPr/>
            <p:nvPr/>
          </p:nvSpPr>
          <p:spPr>
            <a:xfrm>
              <a:off x="6381360" y="17002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建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28" descr="TN_q16_GIF"/>
            <p:cNvPicPr/>
            <p:nvPr/>
          </p:nvPicPr>
          <p:blipFill>
            <a:blip r:embed="rId8"/>
            <a:stretch/>
          </p:blipFill>
          <p:spPr>
            <a:xfrm>
              <a:off x="7524720" y="1484280"/>
              <a:ext cx="1150920" cy="11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41"/>
          <p:cNvGrpSpPr/>
          <p:nvPr/>
        </p:nvGrpSpPr>
        <p:grpSpPr>
          <a:xfrm>
            <a:off x="468360" y="4076640"/>
            <a:ext cx="2084400" cy="1150920"/>
            <a:chOff x="468360" y="4076640"/>
            <a:chExt cx="2084400" cy="1150920"/>
          </a:xfrm>
        </p:grpSpPr>
        <p:sp>
          <p:nvSpPr>
            <p:cNvPr id="118" name="Text Box 13"/>
            <p:cNvSpPr/>
            <p:nvPr/>
          </p:nvSpPr>
          <p:spPr>
            <a:xfrm>
              <a:off x="1701360" y="414972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赞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29" descr="TN_79"/>
            <p:cNvPicPr/>
            <p:nvPr/>
          </p:nvPicPr>
          <p:blipFill>
            <a:blip r:embed="rId9"/>
            <a:stretch/>
          </p:blipFill>
          <p:spPr>
            <a:xfrm>
              <a:off x="468360" y="4076640"/>
              <a:ext cx="879480" cy="11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Group 42"/>
          <p:cNvGrpSpPr/>
          <p:nvPr/>
        </p:nvGrpSpPr>
        <p:grpSpPr>
          <a:xfrm>
            <a:off x="2916360" y="4005360"/>
            <a:ext cx="1940040" cy="1150920"/>
            <a:chOff x="2916360" y="4005360"/>
            <a:chExt cx="1940040" cy="1150920"/>
          </a:xfrm>
        </p:grpSpPr>
        <p:sp>
          <p:nvSpPr>
            <p:cNvPr id="121" name="Rectangle 22"/>
            <p:cNvSpPr/>
            <p:nvPr/>
          </p:nvSpPr>
          <p:spPr>
            <a:xfrm>
              <a:off x="4005000" y="414972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轰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30" descr="TN_79"/>
            <p:cNvPicPr/>
            <p:nvPr/>
          </p:nvPicPr>
          <p:blipFill>
            <a:blip r:embed="rId10"/>
            <a:stretch/>
          </p:blipFill>
          <p:spPr>
            <a:xfrm>
              <a:off x="2916360" y="4005360"/>
              <a:ext cx="879480" cy="11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Group 43"/>
          <p:cNvGrpSpPr/>
          <p:nvPr/>
        </p:nvGrpSpPr>
        <p:grpSpPr>
          <a:xfrm>
            <a:off x="468360" y="5157720"/>
            <a:ext cx="2387160" cy="1150920"/>
            <a:chOff x="468360" y="5157720"/>
            <a:chExt cx="2387160" cy="1150920"/>
          </a:xfrm>
        </p:grpSpPr>
        <p:sp>
          <p:nvSpPr>
            <p:cNvPr id="124" name="Rectangle 23"/>
            <p:cNvSpPr/>
            <p:nvPr/>
          </p:nvSpPr>
          <p:spPr>
            <a:xfrm>
              <a:off x="1668960" y="530064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挖地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31" descr="TN_79"/>
            <p:cNvPicPr/>
            <p:nvPr/>
          </p:nvPicPr>
          <p:blipFill>
            <a:blip r:embed="rId11"/>
            <a:stretch/>
          </p:blipFill>
          <p:spPr>
            <a:xfrm>
              <a:off x="468360" y="5157720"/>
              <a:ext cx="879480" cy="11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40"/>
          <p:cNvGrpSpPr/>
          <p:nvPr/>
        </p:nvGrpSpPr>
        <p:grpSpPr>
          <a:xfrm>
            <a:off x="3141360" y="2924280"/>
            <a:ext cx="2294280" cy="1150920"/>
            <a:chOff x="3141360" y="2924280"/>
            <a:chExt cx="2294280" cy="1150920"/>
          </a:xfrm>
        </p:grpSpPr>
        <p:sp>
          <p:nvSpPr>
            <p:cNvPr id="127" name="Rectangle 24"/>
            <p:cNvSpPr/>
            <p:nvPr/>
          </p:nvSpPr>
          <p:spPr>
            <a:xfrm>
              <a:off x="3141360" y="306864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相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32" descr="TN_q16_GIF"/>
            <p:cNvPicPr/>
            <p:nvPr/>
          </p:nvPicPr>
          <p:blipFill>
            <a:blip r:embed="rId12"/>
            <a:stretch/>
          </p:blipFill>
          <p:spPr>
            <a:xfrm>
              <a:off x="4284720" y="2924280"/>
              <a:ext cx="115092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D855-14A3-4171-BD20-C2BB1E188D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24000" y="69228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自学课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读通课文，读准生字字音，认清字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思考：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课文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004"/>
          <p:cNvPicPr/>
          <p:nvPr/>
        </p:nvPicPr>
        <p:blipFill>
          <a:blip r:embed="rId1"/>
          <a:stretch/>
        </p:blipFill>
        <p:spPr>
          <a:xfrm>
            <a:off x="0" y="4191120"/>
            <a:ext cx="8915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123560" y="765000"/>
            <a:ext cx="67186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筑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   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插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   凶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建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造   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攻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   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商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驾驶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轰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炸   挖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3080" y="228600"/>
            <a:ext cx="9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zh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132000" y="189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877080" y="18900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ě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52720" y="2152800"/>
            <a:ext cx="102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i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24000" y="40244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ià  sh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059280" y="2152800"/>
            <a:ext cx="15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ō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5940360" y="2151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ā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4068720" y="4005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zh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227640" y="4022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900000" y="256536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天放学以后，我们就偷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ō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偷地相约来到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这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把书包一扔，开始了我们有趣的活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039840" y="170028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这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我们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快乐的天地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3520" y="1303200"/>
            <a:ext cx="822960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沙滩上，我们垒起城堡，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筑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围墙，围墙外还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插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了干树枝，那是我们的树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948360" y="1484280"/>
            <a:ext cx="792360" cy="79236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2916360" y="2349360"/>
            <a:ext cx="792000" cy="79236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2195640" y="3284640"/>
            <a:ext cx="792000" cy="7920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576320" y="842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我们是怎么垒城堡的？用直线划出来，找出动作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897800" y="49417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我们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编织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着童话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9640" y="404640"/>
            <a:ext cx="8604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你一句，我一句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住着一个凶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狠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魔王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抢去了美丽的公主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快听，公主在城堡里哭呢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897800" y="43657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我们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编织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着童话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393280" y="4365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就这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84360" y="1341360"/>
            <a:ext cx="770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桌合作朗读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节，比一比，哪组同桌最有感情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333360"/>
            <a:ext cx="89647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转眼间，我们亲手建造的城堡成了一座魔窟，我们也成了攻打魔窟的勇士。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们又在商量着怎样攻下那城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个伙伴说：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驾驶飞机去轰炸。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说：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挖地道，从地下装上火药，把城堡炸平。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的方法得到了大家的赞赏。于是，我们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趴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在沙滩上，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面八方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挖着地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挖呀挖呀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终于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挖到了城堡下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把手往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抬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把城堡轰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欢呼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胜利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欢呼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炸死了魔王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欢呼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救出了公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971640" y="549360"/>
            <a:ext cx="817236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孩子们的故事是真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妈妈为什么会被我们当作是公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一边听老师朗读，一边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258920" y="2781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太高兴了，我们被当时的情景感染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68360" y="414972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可是妈妈为什么会出现在身后呢？妈妈为什么还开心地笑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2:01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8:06Z</dcterms:modified>
  <cp:revision>5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