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A15F-A062-4C38-8D81-306C9BB304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9CA3-7DF5-4BF5-8028-0B188A2BC2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E45-BDD4-468C-A2E1-7D5D9727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64A-776B-4B5B-BFB6-1FCF4148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55F-E7CE-4A37-B6AF-723312C4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98E-D6E1-4470-909E-836343E3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C31-0B01-4062-9636-883C4D6F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342-7BE9-448D-9D05-07A068A8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A3E-106A-42C1-8438-A40A37FB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360-0969-41E9-A699-0449EB0A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F82-62A3-4EC3-8A8F-0C4E7F9C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6B4-F4D8-413D-A214-0DC16106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D1E-52A9-44C8-AB06-F7D11114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8EB-A01F-4DBD-B81C-9EC001D6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DC34-EE59-4AE3-996D-57D59D4CB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4000" y="2060640"/>
            <a:ext cx="84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华文隶书"/>
                <a:ea typeface="华文隶书"/>
              </a:rPr>
              <a:t>宿新市徐公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1827000" y="5425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2C84-2EA8-47A1-8B69-8704B373F4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010"/>
                </a:solidFill>
                <a:latin typeface="Arial"/>
                <a:ea typeface="楷体_GB2312"/>
              </a:rPr>
              <a:t>宿新市徐公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篱落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疏疏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一径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树头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花落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未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成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儿童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急走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追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黄蝶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飞入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菜花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无处</a:t>
            </a:r>
            <a:r>
              <a:rPr b="1" lang="en-US" sz="54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395280" y="1413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01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1010"/>
                </a:solidFill>
                <a:latin typeface="黑体"/>
                <a:ea typeface="黑体"/>
              </a:rPr>
              <a:t>杨万里（</a:t>
            </a:r>
            <a:r>
              <a:rPr b="1" lang="en-US" sz="3600" spc="-1" strike="noStrike">
                <a:solidFill>
                  <a:srgbClr val="001010"/>
                </a:solidFill>
                <a:latin typeface="黑体"/>
                <a:ea typeface="黑体"/>
              </a:rPr>
              <a:t>1127-1206</a:t>
            </a:r>
            <a:r>
              <a:rPr b="1" lang="zh-CN" sz="3600" spc="-1" strike="noStrike">
                <a:solidFill>
                  <a:srgbClr val="001010"/>
                </a:solidFill>
                <a:latin typeface="黑体"/>
                <a:ea typeface="黑体"/>
              </a:rPr>
              <a:t>），字廷秀，自号诚斋野客，一生为官清廉，为奸相所害，被罢官闲居十五年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与陆游、范成大、尤袤齐名，被后人推为南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中兴四大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1010"/>
                </a:solidFill>
                <a:latin typeface="黑体"/>
                <a:ea typeface="黑体"/>
              </a:rPr>
              <a:t>他的诗大量吸收民间语言，描述细腻，形象鲜明，平易自然。因为他长期居住农村，对农村的田园生活十分熟悉，所以描写自然景物也就更加真切感人，别有风趣。</a:t>
            </a:r>
            <a:r>
              <a:rPr b="1" lang="zh-CN" sz="3600" spc="-1" strike="noStrike">
                <a:solidFill>
                  <a:srgbClr val="00101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101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95280" y="5176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黑体"/>
              </a:rPr>
              <a:t>作者资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1619280" y="177228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黑体"/>
                <a:ea typeface="黑体"/>
              </a:rPr>
              <a:t>宿：过夜。</a:t>
            </a:r>
            <a:r>
              <a:rPr b="1" lang="zh-CN" sz="4400" spc="-1" strike="noStrike">
                <a:solidFill>
                  <a:srgbClr val="00101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95280" y="436572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住在新市徐公店时见到一幅怎样的画面呢？表达了一种怎样的感情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195640" y="54936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010"/>
                </a:solidFill>
                <a:latin typeface="Arial"/>
                <a:ea typeface="楷体_GB2312"/>
              </a:rPr>
              <a:t>宿新市徐公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936720" y="263700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黑体"/>
                <a:ea typeface="黑体"/>
              </a:rPr>
              <a:t>诗题意思：在新市姓徐的人开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1010"/>
                </a:solidFill>
                <a:latin typeface="黑体"/>
                <a:ea typeface="黑体"/>
              </a:rPr>
              <a:t>客店里过夜</a:t>
            </a:r>
            <a:r>
              <a:rPr b="1" lang="zh-CN" sz="4000" spc="-1" strike="noStrike">
                <a:solidFill>
                  <a:srgbClr val="001010"/>
                </a:solidFill>
                <a:latin typeface="黑体"/>
                <a:ea typeface="黑体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26920" y="6714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宿新市徐公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8000" y="1628640"/>
            <a:ext cx="51148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篱落疏疏一径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树头花落未成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儿童急走追黄蝶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飞入菜花无处寻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2"/>
          <p:cNvPicPr/>
          <p:nvPr/>
        </p:nvPicPr>
        <p:blipFill>
          <a:blip r:embed="rId1"/>
          <a:stretch/>
        </p:blipFill>
        <p:spPr>
          <a:xfrm>
            <a:off x="4610160" y="633240"/>
            <a:ext cx="4119480" cy="482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611280" y="5732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诗中抓住哪些景物写出了暮春时节的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3"/>
          <p:cNvSpPr/>
          <p:nvPr/>
        </p:nvSpPr>
        <p:spPr>
          <a:xfrm>
            <a:off x="1138320" y="1201680"/>
            <a:ext cx="496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21d"/>
                </a:solidFill>
                <a:latin typeface="Arial"/>
                <a:ea typeface="楷体_GB2312"/>
              </a:rPr>
              <a:t>篱落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疏疏一</a:t>
            </a:r>
            <a:r>
              <a:rPr b="1" lang="zh-CN" sz="4400" spc="-1" strike="noStrike">
                <a:solidFill>
                  <a:srgbClr val="00f21d"/>
                </a:solidFill>
                <a:latin typeface="Arial"/>
                <a:ea typeface="楷体_GB2312"/>
              </a:rPr>
              <a:t>径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21d"/>
                </a:solidFill>
                <a:latin typeface="Arial"/>
                <a:ea typeface="楷体_GB2312"/>
              </a:rPr>
              <a:t>树头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花落未成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1742040" y="48168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前两句写了哪几种景物？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1951200" y="2812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篱落：篱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684360" y="35334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径：小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6345000" y="1274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远望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6345000" y="1992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近观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84360" y="43254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树头：树枝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496800" y="508464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稀疏的篱笆旁边，有一条小路伸向远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树上的花瓣纷纷飘落，但树叶还不茂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5340960" y="2813040"/>
            <a:ext cx="12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疏疏：稀疏。</a:t>
            </a:r>
            <a:r>
              <a:rPr b="1" lang="zh-CN" sz="36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5177520" y="35337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  <a:ea typeface="楷体_GB2312"/>
              </a:rPr>
              <a:t>深：深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5104440" y="4254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  <a:ea typeface="楷体_GB2312"/>
              </a:rPr>
              <a:t>未：没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7481160" y="4254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  <a:ea typeface="楷体_GB2312"/>
              </a:rPr>
              <a:t>阴：树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1800" y="40320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  <a:ea typeface="黑体"/>
              </a:rPr>
              <a:t>这稀疏的篱笆，长长的小路，叶儿不浓密的树，构成了一幅清新、质朴的农村景色图。在这一背景下，作者又看到一幅怎样的画面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195640" y="1781280"/>
            <a:ext cx="48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儿童</a:t>
            </a:r>
            <a:r>
              <a:rPr b="1" lang="zh-CN" sz="4400" spc="-1" strike="noStrike">
                <a:solidFill>
                  <a:srgbClr val="00f21d"/>
                </a:solidFill>
                <a:latin typeface="Arial"/>
                <a:ea typeface="楷体_GB2312"/>
              </a:rPr>
              <a:t>急走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追黄蝶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飞入菜花无</a:t>
            </a:r>
            <a:r>
              <a:rPr b="1" lang="zh-CN" sz="4400" spc="-1" strike="noStrike">
                <a:solidFill>
                  <a:srgbClr val="00f21d"/>
                </a:solidFill>
                <a:latin typeface="Arial"/>
                <a:ea typeface="楷体_GB2312"/>
              </a:rPr>
              <a:t>处寻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01160" y="45165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黑体"/>
                <a:ea typeface="黑体"/>
              </a:rPr>
              <a:t>处：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443120" y="38685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黑体"/>
                <a:ea typeface="黑体"/>
              </a:rPr>
              <a:t>走：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915120" y="32194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抓住哪些景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708360" y="32194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黑体"/>
                <a:ea typeface="黑体"/>
              </a:rPr>
              <a:t>儿童  黄蝶   菜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884160" y="43005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追到没有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250920" y="5157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儿童奔跑着追逐黄色的蝴蝶。黄色的蝴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飞入金黄色的菜花丛中，再也找不到了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7134120" y="38685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急走：快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6977880" y="45165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寻：寻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324000" y="117468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黑体"/>
                <a:ea typeface="黑体"/>
              </a:rPr>
              <a:t>　　先是静态描写，后是动态描写，全诗动静结合，情景交融，充满了春的气息，特别是后两句，儿童捕蝶的画面跃然纸上，栩栩如生，仿佛就在眼前。说说看，你仿佛看到了什么呢？听到了什么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84360" y="2708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宿新市徐公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2"/>
          <p:cNvPicPr/>
          <p:nvPr/>
        </p:nvPicPr>
        <p:blipFill>
          <a:blip r:embed="rId1"/>
          <a:stretch/>
        </p:blipFill>
        <p:spPr>
          <a:xfrm>
            <a:off x="5076720" y="2387520"/>
            <a:ext cx="3456000" cy="4029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6"/>
          <p:cNvSpPr/>
          <p:nvPr/>
        </p:nvSpPr>
        <p:spPr>
          <a:xfrm>
            <a:off x="468360" y="3573360"/>
            <a:ext cx="50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篱落疏疏一径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树头花落未成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儿童急走追黄蝶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飞入菜花无处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539640" y="1341360"/>
            <a:ext cx="820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这首诗描绘了在幽静安逸的田园风光里，儿童在菜花地里追逐蝴蝶的生动画面。诗篇洋溢着浓烈的乡村生活情趣，渗透着诗人对美丽田园春色的赞美和乡村对儿童的喜爱之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1035000" y="5695920"/>
            <a:ext cx="64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9:35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4:37Z</dcterms:modified>
  <cp:revision>20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