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C53F-E318-4631-AEDE-2426AA15C4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EE3-01D4-49E4-9387-3A100C006E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499-5681-4543-9C37-2D54467F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E2A-7361-4E67-9AB2-3795B85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0A4-4F37-4FAF-88FC-48387A32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4B9-588D-4AC8-9D70-AAC28CB5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EE6-1A14-4125-BD11-AFB1F2CB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9B7-F6ED-47A9-A366-BA89E7DA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ED0-7D78-4F6D-8041-84FB9D47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065-F073-4297-BED7-B0FBD89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2B7-9B78-4776-96B3-CC55BAA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7FE-594A-4536-BB92-F71DF57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EBD-457B-4FAF-831B-AA1BA22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5E4-1C84-4FA9-9ED1-F6E1747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53DB-9BEB-4F0B-A4B0-93D60656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822240" y="914400"/>
            <a:ext cx="783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73080" y="2666880"/>
            <a:ext cx="749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十一月四日风雨大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7604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迷你简丫丫"/>
                <a:ea typeface="迷你简丫丫"/>
              </a:rPr>
              <a:t>十一月四日</a:t>
            </a:r>
            <a:r>
              <a:rPr b="1" lang="zh-CN" sz="2800" spc="-1" strike="noStrike">
                <a:solidFill>
                  <a:srgbClr val="660066"/>
                </a:solidFill>
                <a:latin typeface="迷你简丫丫"/>
                <a:ea typeface="迷你简丫丫"/>
              </a:rPr>
              <a:t>风雨大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                 宋</a:t>
            </a:r>
            <a:r>
              <a:rPr b="1" lang="en-US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陆游</a:t>
            </a:r>
            <a:br>
              <a:rPr sz="2800"/>
            </a:br>
            <a:br>
              <a:rPr sz="2800"/>
            </a:br>
            <a:r>
              <a:rPr b="1" lang="zh-CN" sz="2800" spc="-1" strike="noStrike" u="sng">
                <a:solidFill>
                  <a:srgbClr val="ff0000"/>
                </a:solidFill>
                <a:uFillTx/>
                <a:latin typeface="迷你简丫丫"/>
                <a:ea typeface="迷你简丫丫"/>
              </a:rPr>
              <a:t>僵</a:t>
            </a:r>
            <a:r>
              <a:rPr b="1" lang="zh-CN" sz="2800" spc="-1" strike="noStrike" u="sng">
                <a:solidFill>
                  <a:srgbClr val="7030a0"/>
                </a:solidFill>
                <a:uFillTx/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迷你简丫丫"/>
                <a:ea typeface="迷你简丫丫"/>
              </a:rPr>
              <a:t>卧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00b0f0"/>
                </a:solidFill>
                <a:uFillTx/>
                <a:latin typeface="迷你简丫丫"/>
                <a:ea typeface="迷你简丫丫"/>
              </a:rPr>
              <a:t>孤 村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迷你简丫丫"/>
                <a:ea typeface="迷你简丫丫"/>
              </a:rPr>
              <a:t>不 自 哀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，</a:t>
            </a:r>
            <a:br>
              <a:rPr sz="2800"/>
            </a:br>
            <a:br>
              <a:rPr sz="2800"/>
            </a:br>
            <a:r>
              <a:rPr b="1" lang="zh-CN" sz="2800" spc="-1" strike="noStrike" u="sng">
                <a:solidFill>
                  <a:srgbClr val="663300"/>
                </a:solidFill>
                <a:uFillTx/>
                <a:latin typeface="迷你简丫丫"/>
                <a:ea typeface="迷你简丫丫"/>
              </a:rPr>
              <a:t>尚 思</a:t>
            </a:r>
            <a:r>
              <a:rPr b="1" lang="zh-CN" sz="2800" spc="-1" strike="noStrike">
                <a:solidFill>
                  <a:srgbClr val="663300"/>
                </a:solidFill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迷你简丫丫"/>
                <a:ea typeface="迷你简丫丫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国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迷你简丫丫"/>
                <a:ea typeface="迷你简丫丫"/>
              </a:rPr>
              <a:t>戍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迷你简丫丫"/>
                <a:ea typeface="迷你简丫丫"/>
              </a:rPr>
              <a:t>轮 台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 u="sng">
                <a:solidFill>
                  <a:srgbClr val="006666"/>
                </a:solidFill>
                <a:uFillTx/>
                <a:latin typeface="迷你简丫丫"/>
                <a:ea typeface="迷你简丫丫"/>
              </a:rPr>
              <a:t>夜 阑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卧 听 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迷你简丫丫"/>
                <a:ea typeface="迷你简丫丫"/>
              </a:rPr>
              <a:t>风 吹 雨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，</a:t>
            </a:r>
            <a:br>
              <a:rPr sz="2800"/>
            </a:br>
            <a:br>
              <a:rPr sz="2800"/>
            </a:br>
            <a:r>
              <a:rPr b="1" lang="zh-CN" sz="2800" spc="-1" strike="noStrike" u="sng">
                <a:solidFill>
                  <a:srgbClr val="000000"/>
                </a:solidFill>
                <a:uFillTx/>
                <a:latin typeface="迷你简丫丫"/>
                <a:ea typeface="迷你简丫丫"/>
              </a:rPr>
              <a:t>铁 马</a:t>
            </a:r>
            <a:r>
              <a:rPr b="1" lang="zh-CN" sz="2800" spc="-1" strike="noStrike">
                <a:solidFill>
                  <a:srgbClr val="ffffff"/>
                </a:solidFill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迷你简丫丫"/>
                <a:ea typeface="迷你简丫丫"/>
              </a:rPr>
              <a:t>冰 河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 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迷你简丫丫"/>
                <a:ea typeface="迷你简丫丫"/>
              </a:rPr>
              <a:t>入 梦 来</a:t>
            </a:r>
            <a:r>
              <a:rPr b="1" lang="zh-CN" sz="2800" spc="-1" strike="noStrike">
                <a:solidFill>
                  <a:srgbClr val="000000"/>
                </a:solidFill>
                <a:latin typeface="迷你简丫丫"/>
                <a:ea typeface="迷你简丫丫"/>
              </a:rPr>
              <a:t>。</a:t>
            </a:r>
            <a:br>
              <a:rPr sz="28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矩形 5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895560" cy="1276560"/>
          </a:xfrm>
          <a:prstGeom prst="rect">
            <a:avLst/>
          </a:prstGeom>
          <a:ln w="0">
            <a:noFill/>
          </a:ln>
        </p:spPr>
      </p:pic>
      <p:cxnSp>
        <p:nvCxnSpPr>
          <p:cNvPr id="95" name="直接箭头连接符 11"/>
          <p:cNvCxnSpPr/>
          <p:nvPr/>
        </p:nvCxnSpPr>
        <p:spPr>
          <a:xfrm flipH="1" flipV="1">
            <a:off x="2209320" y="297108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6" name="流程图: 过程 13"/>
          <p:cNvSpPr/>
          <p:nvPr/>
        </p:nvSpPr>
        <p:spPr>
          <a:xfrm>
            <a:off x="0" y="1905120"/>
            <a:ext cx="1447920" cy="990360"/>
          </a:xfrm>
          <a:prstGeom prst="flowChartProcess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僵硬挺直”的意思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处形容自己穷苦孤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无所作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直接箭头连接符 16"/>
          <p:cNvCxnSpPr/>
          <p:nvPr/>
        </p:nvCxnSpPr>
        <p:spPr>
          <a:xfrm flipV="1">
            <a:off x="4266000" y="1142640"/>
            <a:ext cx="305640" cy="534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8" name="矩形 19"/>
          <p:cNvSpPr/>
          <p:nvPr/>
        </p:nvSpPr>
        <p:spPr>
          <a:xfrm>
            <a:off x="4267080" y="304920"/>
            <a:ext cx="1143000" cy="99036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zh-CN" sz="1400" spc="-1" strike="noStrike">
                <a:solidFill>
                  <a:srgbClr val="002060"/>
                </a:solidFill>
                <a:latin typeface="Arial"/>
              </a:rPr>
              <a:t>十一月四日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060"/>
                </a:solidFill>
                <a:latin typeface="Arial"/>
              </a:rPr>
              <a:t>点名时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21"/>
          <p:cNvCxnSpPr/>
          <p:nvPr/>
        </p:nvCxnSpPr>
        <p:spPr>
          <a:xfrm flipV="1">
            <a:off x="5866200" y="1066320"/>
            <a:ext cx="381960" cy="610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0" name="矩形 23"/>
          <p:cNvSpPr/>
          <p:nvPr/>
        </p:nvSpPr>
        <p:spPr>
          <a:xfrm>
            <a:off x="6095880" y="380880"/>
            <a:ext cx="1143000" cy="838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zh-CN" sz="1400" spc="-1" strike="noStrike">
                <a:solidFill>
                  <a:srgbClr val="660066"/>
                </a:solidFill>
                <a:latin typeface="Arial"/>
              </a:rPr>
              <a:t>风雨大作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0066"/>
                </a:solidFill>
                <a:latin typeface="Arial"/>
              </a:rPr>
              <a:t>点名环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2438280" y="3124080"/>
            <a:ext cx="1371600" cy="6098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躺着不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6"/>
          <p:cNvSpPr/>
          <p:nvPr/>
        </p:nvSpPr>
        <p:spPr>
          <a:xfrm>
            <a:off x="3581280" y="3124080"/>
            <a:ext cx="1143000" cy="60984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f0"/>
                </a:solidFill>
                <a:latin typeface="Arial"/>
              </a:rPr>
              <a:t>偏僻的山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8"/>
          <p:cNvSpPr/>
          <p:nvPr/>
        </p:nvSpPr>
        <p:spPr>
          <a:xfrm>
            <a:off x="4724280" y="3124080"/>
            <a:ext cx="1295640" cy="6098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00"/>
                </a:solidFill>
                <a:latin typeface="Arial"/>
              </a:rPr>
              <a:t>自己不感到悲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2514600" y="3962520"/>
            <a:ext cx="1143000" cy="60948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还想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肘形连接符 45"/>
          <p:cNvCxnSpPr/>
          <p:nvPr/>
        </p:nvCxnSpPr>
        <p:spPr>
          <a:xfrm flipH="1">
            <a:off x="2285280" y="4114800"/>
            <a:ext cx="1600920" cy="381600"/>
          </a:xfrm>
          <a:prstGeom prst="straightConnector1">
            <a:avLst/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sp>
        <p:nvSpPr>
          <p:cNvPr id="106" name="矩形 50"/>
          <p:cNvSpPr/>
          <p:nvPr/>
        </p:nvSpPr>
        <p:spPr>
          <a:xfrm>
            <a:off x="685800" y="3657600"/>
            <a:ext cx="1295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介词，为，为了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动作行为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1"/>
          <p:cNvSpPr/>
          <p:nvPr/>
        </p:nvSpPr>
        <p:spPr>
          <a:xfrm>
            <a:off x="4724280" y="3886200"/>
            <a:ext cx="1447920" cy="76212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守卫边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肘形连接符 57"/>
          <p:cNvCxnSpPr/>
          <p:nvPr/>
        </p:nvCxnSpPr>
        <p:spPr>
          <a:xfrm>
            <a:off x="4876560" y="4038120"/>
            <a:ext cx="1524600" cy="381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9" name="矩形 62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军队防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肘形连接符 66"/>
          <p:cNvCxnSpPr/>
          <p:nvPr/>
        </p:nvCxnSpPr>
        <p:spPr>
          <a:xfrm flipV="1">
            <a:off x="5715000" y="3656880"/>
            <a:ext cx="991440" cy="2293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11" name="流程图: 过程 69"/>
          <p:cNvSpPr/>
          <p:nvPr/>
        </p:nvSpPr>
        <p:spPr>
          <a:xfrm>
            <a:off x="6705720" y="3200400"/>
            <a:ext cx="2438280" cy="838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静蕾简体"/>
              </a:rPr>
              <a:t>汉代西域地名，在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静蕾简体"/>
              </a:rPr>
              <a:t>疆轮台县。这里泛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静蕾简体"/>
              </a:rPr>
              <a:t>边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2"/>
          <p:cNvSpPr/>
          <p:nvPr/>
        </p:nvSpPr>
        <p:spPr>
          <a:xfrm>
            <a:off x="2362320" y="4800600"/>
            <a:ext cx="1295280" cy="6858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66"/>
                </a:solidFill>
                <a:latin typeface="Arial"/>
              </a:rPr>
              <a:t>夜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4"/>
          <p:cNvSpPr/>
          <p:nvPr/>
        </p:nvSpPr>
        <p:spPr>
          <a:xfrm>
            <a:off x="4724280" y="487692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风雨交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7"/>
          <p:cNvSpPr/>
          <p:nvPr/>
        </p:nvSpPr>
        <p:spPr>
          <a:xfrm>
            <a:off x="2286000" y="5562720"/>
            <a:ext cx="129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披着铁甲的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0"/>
          <p:cNvSpPr/>
          <p:nvPr/>
        </p:nvSpPr>
        <p:spPr>
          <a:xfrm>
            <a:off x="3429000" y="5562720"/>
            <a:ext cx="1295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冰封的河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1"/>
          <p:cNvSpPr/>
          <p:nvPr/>
        </p:nvSpPr>
        <p:spPr>
          <a:xfrm>
            <a:off x="4648320" y="5562720"/>
            <a:ext cx="167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进入睡梦之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7" descr="aa58ec588322785f2834f09d"/>
          <p:cNvPicPr/>
          <p:nvPr/>
        </p:nvPicPr>
        <p:blipFill>
          <a:blip r:embed="rId2"/>
          <a:srcRect l="18753" t="17499" r="0" b="36252"/>
          <a:stretch/>
        </p:blipFill>
        <p:spPr>
          <a:xfrm>
            <a:off x="6629400" y="5257800"/>
            <a:ext cx="251460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05840" cy="61246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121" name="WordArt 5"/>
          <p:cNvSpPr txBox="1"/>
          <p:nvPr/>
        </p:nvSpPr>
        <p:spPr>
          <a:xfrm rot="5400000">
            <a:off x="-1067040" y="27432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说教学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24720" y="1143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四、入诗境，悟诗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0" y="1981080"/>
            <a:ext cx="6781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再读全诗，小组讨论交流，你感受到作者怎样的内心世界？体会诗人是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小组派代表发言进行全班交流，教师做必要的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5-12-3-1_clip_image002"/>
          <p:cNvPicPr/>
          <p:nvPr/>
        </p:nvPicPr>
        <p:blipFill>
          <a:blip r:embed="rId1"/>
          <a:stretch/>
        </p:blipFill>
        <p:spPr>
          <a:xfrm>
            <a:off x="5486400" y="3786120"/>
            <a:ext cx="3657600" cy="3071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04920" y="380880"/>
            <a:ext cx="4572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不自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尚思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戍轮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581280" y="45720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114800" y="457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明处境及心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抒报国情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04920" y="23623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夜阑卧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吹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马冰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入梦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114800" y="23623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虚实结合的写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35c2"/>
                </a:solidFill>
                <a:latin typeface="Arial"/>
                <a:ea typeface="楷体_GB2312"/>
              </a:rPr>
              <a:t>实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雨夜之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35c2"/>
                </a:solidFill>
                <a:latin typeface="Arial"/>
                <a:ea typeface="楷体_GB2312"/>
              </a:rPr>
              <a:t>虚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梦境战场杀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3581280" y="24382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4419720" y="3809880"/>
            <a:ext cx="533160" cy="533520"/>
          </a:xfrm>
          <a:prstGeom prst="downArrow">
            <a:avLst>
              <a:gd name="adj1" fmla="val 50000"/>
              <a:gd name="adj2" fmla="val 250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809880" y="4267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达报国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33520" y="51814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虚实结合，寄情于梦的写作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1190520" y="624852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54523151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3059280" y="9817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  <a:ea typeface="华文新魏"/>
              </a:rPr>
              <a:t>示 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31560" y="2422080"/>
            <a:ext cx="353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新宋体"/>
              </a:rPr>
              <a:t>死去元知万事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新宋体"/>
              </a:rPr>
              <a:t>但悲不见九州同。 </a:t>
            </a:r>
            <a:br>
              <a:rPr sz="5400"/>
            </a:b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新宋体"/>
              </a:rPr>
              <a:t>王师北定中原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新宋体"/>
              </a:rPr>
              <a:t>家祭无忘告乃翁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716360" y="1844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05840" cy="61246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142" name="WordArt 5"/>
          <p:cNvSpPr txBox="1"/>
          <p:nvPr/>
        </p:nvSpPr>
        <p:spPr>
          <a:xfrm rot="5400000">
            <a:off x="-1067040" y="27432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说教学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241080" y="11430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一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谈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838680" y="198108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二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知诗人，解诗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838680" y="304812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三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抓字眼，明诗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932720" y="419112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四、入诗境，悟诗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973-E13F-4341-A77B-1F7E7A3B76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52388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一月四日风雨大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冀教版四年级上册第六单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中的一首古诗。表达了诗人的爱国热情，也饱含壮志难酬的痛切愁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81280" y="990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说教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3657600" y="9144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说学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914400" y="2666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年级学生已经掌握了学习古诗的一些方法，形成了一定的基础，根据学生的认知规律和心理特点，让他们独立探究学习，化被动学习为主动学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3124080" y="9144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说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2120" y="2209680"/>
            <a:ext cx="7619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知识能力目标：会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生字，理解整首诗的意思。初步理解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寄情于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写作方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过程与方法目标：通过自学和小组合作的方法理解整首诗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情感态度目标：培养学生丰富的想象力，体会诗人强烈的爱国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3124080" y="17114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276720" y="9907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说教学重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09480" y="26668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朗读、感悟、想象古诗中的情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难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想象诗句中描绘的情景，体会诗                                   人强烈的爱国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733920" y="9144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说教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447920" y="2514600"/>
            <a:ext cx="456228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诵读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品味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讨论与点拨相结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作探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05840" cy="61246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70" name="WordArt 11"/>
          <p:cNvSpPr txBox="1"/>
          <p:nvPr/>
        </p:nvSpPr>
        <p:spPr>
          <a:xfrm rot="5400000">
            <a:off x="-1067040" y="27432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说教学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828800" y="10904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一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谈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1752480" y="1981080"/>
            <a:ext cx="6782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出示话题“爱国”，围绕这一话题，自由发言，说自己想说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爱国，是每个中国人的责任，爱国更是中华民族自古以来的优秀传统。（情感导入，引出诗人及诗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05840" cy="61243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76" name="WordArt 5"/>
          <p:cNvSpPr txBox="1"/>
          <p:nvPr/>
        </p:nvSpPr>
        <p:spPr>
          <a:xfrm rot="5400000">
            <a:off x="-1067040" y="27432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说教学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686400" y="83808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二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知诗人，解诗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752480" y="1676520"/>
            <a:ext cx="670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让学生根据自己搜集的资料来介绍陆游。不足的教师补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752480" y="3048120"/>
            <a:ext cx="6782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十一月四日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风雨大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3352680" y="3733920"/>
            <a:ext cx="3809880" cy="901440"/>
            <a:chOff x="3352680" y="3733920"/>
            <a:chExt cx="3809880" cy="901440"/>
          </a:xfrm>
        </p:grpSpPr>
        <p:sp>
          <p:nvSpPr>
            <p:cNvPr id="81" name="Line 8"/>
            <p:cNvSpPr/>
            <p:nvPr/>
          </p:nvSpPr>
          <p:spPr>
            <a:xfrm>
              <a:off x="3504960" y="3733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3352680" y="41148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明时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5562360" y="37339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5486040" y="4038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明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7"/>
          <p:cNvSpPr/>
          <p:nvPr/>
        </p:nvSpPr>
        <p:spPr>
          <a:xfrm>
            <a:off x="1600200" y="4648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教师范读，再找一两个学生读，教师正音。学生齐读，分小组赛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05840" cy="612468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89" name="WordArt 5"/>
          <p:cNvSpPr txBox="1"/>
          <p:nvPr/>
        </p:nvSpPr>
        <p:spPr>
          <a:xfrm rot="5400000">
            <a:off x="-1067040" y="27432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808080"/>
                </a:solidFill>
                <a:latin typeface="宋体"/>
              </a:rPr>
              <a:t>说教学过程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808080"/>
              </a:solidFill>
              <a:latin typeface="宋体"/>
              <a:ea typeface="宋体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686400" y="990720"/>
            <a:ext cx="25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节三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抓字眼，明诗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828800" y="1981080"/>
            <a:ext cx="6781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676520" y="1752480"/>
            <a:ext cx="7010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自学：学生借助工具书理解古诗的字面意思，在旁边作批注，写下解释和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小组合作：在学习交流中，遇到不懂的地方先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集体交流对重点词语的理解，教师点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33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4:38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