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A71-F8B5-465F-8833-390FF85034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7B08-6545-4C77-A2C0-DE05D075BEDE}" type="slidenum"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AA1-9A2B-40CB-8A27-58883B6D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184-7D99-405F-B126-417DF692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A97-C0E9-4B98-BD0A-B060143D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01D-7F8E-4B12-B84F-1943263F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70F-19EC-4B60-8BA5-05E2B04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B8D-1970-40FD-BAE4-EE33EBB3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AF3-F531-4612-AAD0-66F59241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64F-E835-454C-AE3A-C1E90BBE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19D-DE24-417F-B4C9-F19E00C4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234-B0A9-41E5-9486-34F456EA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ADE-656E-4BCA-9371-30541031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29B-044E-460D-B603-22A80F3B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6339-046B-43D6-85CA-4EE6DD435C2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3"/>
          <p:cNvGrpSpPr/>
          <p:nvPr/>
        </p:nvGrpSpPr>
        <p:grpSpPr>
          <a:xfrm>
            <a:off x="1347840" y="1484280"/>
            <a:ext cx="7471800" cy="2623680"/>
            <a:chOff x="1347840" y="1484280"/>
            <a:chExt cx="7471800" cy="2623680"/>
          </a:xfrm>
        </p:grpSpPr>
        <p:sp>
          <p:nvSpPr>
            <p:cNvPr id="55" name="Text Box 4"/>
            <p:cNvSpPr/>
            <p:nvPr/>
          </p:nvSpPr>
          <p:spPr>
            <a:xfrm>
              <a:off x="6107400" y="1917720"/>
              <a:ext cx="2712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2060"/>
                  </a:solidFill>
                  <a:latin typeface="华文隶书"/>
                  <a:ea typeface="华文隶书"/>
                </a:rPr>
                <a:t>陶罐</a:t>
              </a:r>
              <a:endParaRPr b="0" lang="en-US" sz="8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811320" y="1484280"/>
              <a:ext cx="153684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600" spc="-1" strike="noStrike">
                  <a:solidFill>
                    <a:srgbClr val="002060"/>
                  </a:solidFill>
                  <a:latin typeface="华文隶书"/>
                  <a:ea typeface="华文隶书"/>
                </a:rPr>
                <a:t>和</a:t>
              </a:r>
              <a:endParaRPr b="0" lang="en-US" sz="16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1347840" y="1911240"/>
              <a:ext cx="2476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2060"/>
                  </a:solidFill>
                  <a:latin typeface="华文隶书"/>
                  <a:ea typeface="华文隶书"/>
                </a:rPr>
                <a:t>铁罐</a:t>
              </a:r>
              <a:endParaRPr b="0" lang="en-US" sz="8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8" name="矩形 6"/>
          <p:cNvSpPr/>
          <p:nvPr/>
        </p:nvSpPr>
        <p:spPr>
          <a:xfrm>
            <a:off x="1861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611E-DB36-49F4-A3CE-B840E4C4BA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755800" y="1197000"/>
            <a:ext cx="45435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800080"/>
                </a:solidFill>
                <a:latin typeface="华文细黑"/>
              </a:rPr>
              <a:t>自读课文</a:t>
            </a:r>
            <a:endParaRPr b="1" lang="en-US" sz="2400" spc="1" strike="noStrike">
              <a:ln w="9360">
                <a:solidFill>
                  <a:srgbClr val="800080"/>
                </a:solidFill>
                <a:round/>
              </a:ln>
              <a:solidFill>
                <a:srgbClr val="800080"/>
              </a:solidFill>
              <a:latin typeface="华文细黑"/>
              <a:ea typeface="华文细黑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90520" y="3819600"/>
            <a:ext cx="71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541520" y="258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要求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1546200" y="3645000"/>
            <a:ext cx="727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读准字音，画出生字词，联系上下文理解词的意思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课文围绕陶罐和铁罐讲了一件什么事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752480" y="1600200"/>
            <a:ext cx="617220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陶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罐     骄傲     懦弱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谦虚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住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嘴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吵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架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感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到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捧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着     傲慢     神气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恼怒 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理会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荒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凉     惊讶     光洁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朴素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价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值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  兴奋      奚落     轻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够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受  </a:t>
            </a:r>
            <a:r>
              <a:rPr b="1" lang="zh-CN" sz="3600" spc="-1" strike="noStrike">
                <a:solidFill>
                  <a:srgbClr val="090d19"/>
                </a:solidFill>
                <a:latin typeface="Times New Roman"/>
              </a:rPr>
              <a:t>   相提并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读一读，认一认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371600" y="4861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和你在一起，我感到羞耻，你算什么东西！”铁罐                                            说，“走着瞧吧，总有一天，我要把你碰成碎片！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066680" y="6699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铁罐说的话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中宋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600200" y="15080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你敢碰我吗？陶罐子！”铁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傲慢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地说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447920" y="227016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我就知道你不敢，懦弱的东西！”铁罐说，带着更加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轻蔑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的神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47920" y="32608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住嘴！”铁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恼怒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了，“你怎么敢和我相提并论！你等着吧，要不了几天，你就会破成碎片，我却永远在这里，什么也不怕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835280" y="52261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蛮不讲理、怒不可遏地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828800" y="5562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陶罐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不再理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铁罐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914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陶罐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话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52480" y="1905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不敢，铁罐兄弟。”陶罐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谦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地回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447920" y="2666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我确实不敢碰你，但并不是懦弱。”陶罐争辩说，“我们生来就是盛东西的，并不是来互相碰撞的。说到盛东西，我不见得比你差。再说……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676520" y="43434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“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何必这样说呢？”陶罐说，“我们还是和睦相处吧，有什么可吵的呢！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278000" y="1413000"/>
            <a:ext cx="72388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你敢碰我吗？陶罐子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不敢，铁罐兄弟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我就知道你不敢，懦弱的东西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我确实不敢碰你，但并不是懦弱。” “我们生来就是盛东西的，并不是来互相碰撞的。说到盛东西，我不见得比你差。再说……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住嘴！” “你怎么敢和我相提并论！你等着吧，要不了几天，你就会破成碎片，我却永远在这里，什么也不怕。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何必这样说呢？”“我们还是和睦相处吧，有什么可吵的呢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和你在一起，我感到羞耻，你算什么东西！” “走着瞧吧，总有一天，我要把你碰成碎片！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陶罐不再理会铁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95280" y="8888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陶罐和铁罐的对话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1026"/>
          <p:cNvSpPr txBox="1"/>
          <p:nvPr/>
        </p:nvSpPr>
        <p:spPr>
          <a:xfrm>
            <a:off x="1415880" y="765000"/>
            <a:ext cx="2610000" cy="8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黑体"/>
              </a:rPr>
              <a:t>我能画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9" name="Picture 1027" descr="D:\2003下学期\插图\0001.gif"/>
          <p:cNvPicPr/>
          <p:nvPr/>
        </p:nvPicPr>
        <p:blipFill>
          <a:blip r:embed="rId3"/>
          <a:stretch/>
        </p:blipFill>
        <p:spPr>
          <a:xfrm>
            <a:off x="7281720" y="836640"/>
            <a:ext cx="1862280" cy="2074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28"/>
          <p:cNvSpPr/>
          <p:nvPr/>
        </p:nvSpPr>
        <p:spPr>
          <a:xfrm>
            <a:off x="1066680" y="19810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认真读读描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陶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句子，边读边想他们的样子，小组合作，根据课文的描写，画出铁罐和陶罐的样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Text Box 1029"/>
          <p:cNvSpPr/>
          <p:nvPr/>
        </p:nvSpPr>
        <p:spPr>
          <a:xfrm>
            <a:off x="1066680" y="4581360"/>
            <a:ext cx="7898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罐：“傲慢” “轻蔑” “恼怒” “蛮不讲理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陶罐：“谦虚” “不再理会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949400" y="907920"/>
            <a:ext cx="3809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华文行楷"/>
              </a:rPr>
              <a:t>说一说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pic>
        <p:nvPicPr>
          <p:cNvPr id="83" name="Picture 3" descr="D:\2003下学期\4nianjishuangwenban\pic\drf011.gif"/>
          <p:cNvPicPr/>
          <p:nvPr/>
        </p:nvPicPr>
        <p:blipFill>
          <a:blip r:embed="rId1"/>
          <a:stretch/>
        </p:blipFill>
        <p:spPr>
          <a:xfrm>
            <a:off x="7391520" y="609480"/>
            <a:ext cx="825480" cy="99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54800" y="2209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797120" y="2789280"/>
            <a:ext cx="548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铁罐说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720800" y="38559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陶罐说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797120" y="5151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想对自己说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4235400" y="324648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159080" y="4313160"/>
            <a:ext cx="3048120" cy="0"/>
          </a:xfrm>
          <a:prstGeom prst="line">
            <a:avLst/>
          </a:prstGeom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4159080" y="5608800"/>
            <a:ext cx="3200400" cy="0"/>
          </a:xfrm>
          <a:prstGeom prst="line">
            <a:avLst/>
          </a:prstGeom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2700360" y="100332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99"/>
                  </a:solidFill>
                  <a:round/>
                </a:ln>
                <a:solidFill>
                  <a:srgbClr val="993366"/>
                </a:solidFill>
                <a:latin typeface="隶书"/>
              </a:rPr>
              <a:t>好话送给你</a:t>
            </a:r>
            <a:endParaRPr b="1" lang="en-US" sz="2400" spc="1" strike="noStrike">
              <a:ln w="9360">
                <a:solidFill>
                  <a:srgbClr val="ffff99"/>
                </a:solidFill>
                <a:round/>
              </a:ln>
              <a:solidFill>
                <a:srgbClr val="993366"/>
              </a:solidFill>
              <a:latin typeface="隶书"/>
              <a:ea typeface="隶书"/>
            </a:endParaRPr>
          </a:p>
        </p:txBody>
      </p:sp>
      <p:pic>
        <p:nvPicPr>
          <p:cNvPr id="92" name="Picture 3" descr="D:\2003下学期\4nianjishuangwenban\pic\gaofeng520.gif"/>
          <p:cNvPicPr/>
          <p:nvPr/>
        </p:nvPicPr>
        <p:blipFill>
          <a:blip r:embed="rId1"/>
          <a:stretch/>
        </p:blipFill>
        <p:spPr>
          <a:xfrm>
            <a:off x="395280" y="620640"/>
            <a:ext cx="1371600" cy="1015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395520" y="222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尺有所短，寸有所长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07000" y="350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左眼看别人的优点，右眼看自己的缺点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747600" y="527040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你们能学着也写一句格言吗？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853920" y="591660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5:41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43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