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130-6729-467B-839C-49C46439E8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B25-7565-41E1-A2B7-11DA71420C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AE2-A4E3-4828-B9A5-FB92D00E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F35-4DB5-442F-9572-C4B43FE3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630-CB34-4875-AC5A-013178FA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C7E-A7AF-42D7-94D4-F096F933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1DB-F60E-439C-AC94-17A3F90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091-C51B-4B8B-8671-9D8C1C25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C82-F966-4D42-95D3-F62C235E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6BC-F0DB-431E-8406-037B793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0F8-5274-4697-A007-10229AE3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DCA-D3D3-45CD-B720-55F9AB1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3C2-BE36-4ED5-B6C6-F50B760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10C-9744-4A13-9DAF-7F9B8630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BFF-A8BB-4D32-8544-3B8911B92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1"/>
          <a:stretch/>
        </p:blipFill>
        <p:spPr>
          <a:xfrm>
            <a:off x="1319040" y="2265480"/>
            <a:ext cx="6629400" cy="13064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1842840" y="5229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413000"/>
            <a:ext cx="849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里有许多大人看的书，我好奇地拿几本来翻翻，看不懂就放下了。有四本摞在一起的书，每本的彩色封面上，都画着一个身材魁梧的大汉，一手按着老虎的头，一手抡起拳向老虎猛砸下去。母亲告诉我，这四本书是一套《水浒传》，封面上画的就是武松打虎。我拿起《水浒传》想看，可那时我刚读一年级，哪里能看懂！我失望地合上了书本，把它收进抽屉里。我盼望自己快些长大，多认些字，能读《水浒传》这样有趣的书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在这以后不久，我家不幸失火，房屋全被烧毁，心爱的《水浒传》被大火吞没了。我哭着要《水浒传》，直到妈妈答应再买一套的时候，我才破涕为笑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5640" y="184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再读</a:t>
            </a:r>
            <a:r>
              <a:rPr b="1" lang="zh-CN" sz="4400" spc="-1" strike="noStrike">
                <a:solidFill>
                  <a:srgbClr val="008000"/>
                </a:solidFill>
                <a:latin typeface="微软雅黑"/>
                <a:ea typeface="微软雅黑"/>
              </a:rPr>
              <a:t>4~5</a:t>
            </a:r>
            <a:r>
              <a:rPr b="1" lang="zh-CN" sz="4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自然段，你从哪些语句中感受、体会到作者喜欢读《水浒传》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1280" y="112536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28760" y="1009800"/>
            <a:ext cx="482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爱读《水浒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4360" y="836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岁时，我读四年级了，妈妈给我买来一套崭新的《水浒传》，我迫不及待地读起来。我被书中英雄人物的豪情壮举和生动曲折的故事情节吸引住了。尽管有些字还不认识，有些内容还不理解，我仍然津津有味地看下去。早上在晨曦中看，晚上在煤油灯下看，放学回来的路上，还坐在草地上看个没完。不到一星期，我就把全套《水浒传》看完了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11280" y="2060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 flipV="1" rot="10800000">
            <a:off x="822240" y="508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429000" y="1268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4000" y="476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武松打虎的故事，虽然邻居大爷早就讲过，但毕竟讲得比较简单。书上的描写就细致多了。武松不管什么“三碗不过冈”，连喝十八碗酒；老虎的一扑、一掀、一剪；哨棒打断了，武松赤手空拳打虎；武松下冈时碰到身蒙虎皮的猎户等情节，都写得如闻其声，如见其人。这一段，我反复读了好几遍。其他如鲁达拳打镇西关、吴用智取生辰纲、宋江三打祝家庄等等故事，都在我童年的心海中，激起了喜悦的浪花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Xing2"/>
          <p:cNvPicPr/>
          <p:nvPr/>
        </p:nvPicPr>
        <p:blipFill>
          <a:blip r:embed="rId1"/>
          <a:stretch/>
        </p:blipFill>
        <p:spPr>
          <a:xfrm>
            <a:off x="702000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Xing2"/>
          <p:cNvPicPr/>
          <p:nvPr/>
        </p:nvPicPr>
        <p:blipFill>
          <a:blip r:embed="rId2"/>
          <a:stretch/>
        </p:blipFill>
        <p:spPr>
          <a:xfrm>
            <a:off x="7740720" y="549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Xing2"/>
          <p:cNvPicPr/>
          <p:nvPr/>
        </p:nvPicPr>
        <p:blipFill>
          <a:blip r:embed="rId3"/>
          <a:stretch/>
        </p:blipFill>
        <p:spPr>
          <a:xfrm>
            <a:off x="2700360" y="404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Xing2"/>
          <p:cNvPicPr/>
          <p:nvPr/>
        </p:nvPicPr>
        <p:blipFill>
          <a:blip r:embed="rId4"/>
          <a:stretch/>
        </p:blipFill>
        <p:spPr>
          <a:xfrm>
            <a:off x="179280" y="4076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Xing2"/>
          <p:cNvPicPr/>
          <p:nvPr/>
        </p:nvPicPr>
        <p:blipFill>
          <a:blip r:embed="rId5"/>
          <a:stretch/>
        </p:blipFill>
        <p:spPr>
          <a:xfrm>
            <a:off x="395280" y="2997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Xing2"/>
          <p:cNvPicPr/>
          <p:nvPr/>
        </p:nvPicPr>
        <p:blipFill>
          <a:blip r:embed="rId6"/>
          <a:stretch/>
        </p:blipFill>
        <p:spPr>
          <a:xfrm>
            <a:off x="7308720" y="1844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Xing2"/>
          <p:cNvPicPr/>
          <p:nvPr/>
        </p:nvPicPr>
        <p:blipFill>
          <a:blip r:embed="rId7"/>
          <a:stretch/>
        </p:blipFill>
        <p:spPr>
          <a:xfrm>
            <a:off x="4067280" y="692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Xing2"/>
          <p:cNvPicPr/>
          <p:nvPr/>
        </p:nvPicPr>
        <p:blipFill>
          <a:blip r:embed="rId8"/>
          <a:stretch/>
        </p:blipFill>
        <p:spPr>
          <a:xfrm>
            <a:off x="5292720" y="5516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Xing2"/>
          <p:cNvPicPr/>
          <p:nvPr/>
        </p:nvPicPr>
        <p:blipFill>
          <a:blip r:embed="rId9"/>
          <a:stretch/>
        </p:blipFill>
        <p:spPr>
          <a:xfrm>
            <a:off x="2987640" y="357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Xing2"/>
          <p:cNvPicPr/>
          <p:nvPr/>
        </p:nvPicPr>
        <p:blipFill>
          <a:blip r:embed="rId10"/>
          <a:stretch/>
        </p:blipFill>
        <p:spPr>
          <a:xfrm>
            <a:off x="5940360" y="907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Xing2"/>
          <p:cNvPicPr/>
          <p:nvPr/>
        </p:nvPicPr>
        <p:blipFill>
          <a:blip r:embed="rId11"/>
          <a:stretch/>
        </p:blipFill>
        <p:spPr>
          <a:xfrm>
            <a:off x="108000" y="115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5564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从哪些语句中感受、体会到作者喜欢读《水浒传》？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112536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9640" y="278136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九岁时，我读四年级了，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迫不及待地读了起来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尽管有些字还不认识，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下去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早上在晨曦中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个没完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读文章的最后以自然段，看看“我”读水浒传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55640" y="3112200"/>
            <a:ext cx="76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天分不高，当时成绩只是中等。在读了《水浒 传》及其他课外书籍后，语文成绩提高很快，我的作文也经常被老师贴在墙上，供同学们观摩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拓展学习"/>
          <p:cNvPicPr/>
          <p:nvPr/>
        </p:nvPicPr>
        <p:blipFill>
          <a:blip r:embed="rId1"/>
          <a:stretch/>
        </p:blipFill>
        <p:spPr>
          <a:xfrm>
            <a:off x="611280" y="1052640"/>
            <a:ext cx="1935000" cy="477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403280" y="1773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你知道这些水浒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梁山好汉"/>
          <p:cNvPicPr/>
          <p:nvPr/>
        </p:nvPicPr>
        <p:blipFill>
          <a:blip r:embed="rId2"/>
          <a:stretch/>
        </p:blipFill>
        <p:spPr>
          <a:xfrm>
            <a:off x="2124000" y="2349360"/>
            <a:ext cx="5184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拓展学习"/>
          <p:cNvPicPr/>
          <p:nvPr/>
        </p:nvPicPr>
        <p:blipFill>
          <a:blip r:embed="rId1"/>
          <a:stretch/>
        </p:blipFill>
        <p:spPr>
          <a:xfrm>
            <a:off x="611280" y="1052640"/>
            <a:ext cx="1935000" cy="477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403280" y="1773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你知道这些水浒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李逵闹东京"/>
          <p:cNvPicPr/>
          <p:nvPr/>
        </p:nvPicPr>
        <p:blipFill>
          <a:blip r:embed="rId2"/>
          <a:stretch/>
        </p:blipFill>
        <p:spPr>
          <a:xfrm>
            <a:off x="1908000" y="2349360"/>
            <a:ext cx="5257800" cy="3418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1722600" y="6002280"/>
            <a:ext cx="51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水浒书籍"/>
          <p:cNvPicPr/>
          <p:nvPr/>
        </p:nvPicPr>
        <p:blipFill>
          <a:blip r:embed="rId1"/>
          <a:stretch/>
        </p:blipFill>
        <p:spPr>
          <a:xfrm>
            <a:off x="5724360" y="1557360"/>
            <a:ext cx="2853000" cy="3949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755640" y="1125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水浒传》的故事最初起源于北宋宣和年间，从南宋开始就成为了民间口头文学的主要题材。目前流传下来的根据说书人编成的话本中就有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青面兽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花和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武行者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。元朝初年，出现了话本《大宋宣和遗事》，描述了晁盖、吴加亮（吴用）等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的故事，初步具有了《水浒传》的故事梗概。元朝，元杂剧中还出现了一些水浒故事剧本。《水浒传》又名《忠义水浒传》《江湖豪客传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03280" y="1773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你知道这些水浒故事吗？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拓展学习"/>
          <p:cNvPicPr/>
          <p:nvPr/>
        </p:nvPicPr>
        <p:blipFill>
          <a:blip r:embed="rId1"/>
          <a:stretch/>
        </p:blipFill>
        <p:spPr>
          <a:xfrm>
            <a:off x="611280" y="1052640"/>
            <a:ext cx="1935000" cy="47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武松打虎"/>
          <p:cNvPicPr/>
          <p:nvPr/>
        </p:nvPicPr>
        <p:blipFill>
          <a:blip r:embed="rId2"/>
          <a:stretch/>
        </p:blipFill>
        <p:spPr>
          <a:xfrm>
            <a:off x="2627280" y="2349360"/>
            <a:ext cx="4465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BD1F-A07E-4522-AF2E-9FED30D4E9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1916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  施耐庵，名子安（一说名耳），又名肇瑞，字彦端，号耐庵。兴化白驹场人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今属江苏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祖籍泰州海陵县，住苏州阊门外施家巷，后迁居当时兴化县白驹场（今江苏省大丰市白驹镇）。中国古代著名作家，元末明初人，长篇古典小说《水浒传》作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11280" y="10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初读感知</a:t>
            </a:r>
            <a:r>
              <a:rPr b="0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87280" y="2276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默读全文，想一想课文写了作者读水浒传的几个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16000" y="4221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注意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你会读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42920" y="2565000"/>
            <a:ext cx="69962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秦国  身材魁梧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砸碎  抽屉  破涕为笑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崭新  粗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你会写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76000" y="1915920"/>
            <a:ext cx="5986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乘凉   肚子   叔叔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猛烈   一套   盼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豪情壮举   煤油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赤手空拳   猎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提纲    供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11280" y="25653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迫 不 及 待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3789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津 津 有 味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84360" y="3500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jīn jīn yǒu  w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55640" y="227664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pò  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ù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j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í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348000" y="2637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急切地或不能自制地要采取行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348000" y="386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津：口水，唾液；津津：兴趣浓厚。形容对某事物兴味浓厚。 形容有滋味，有趣味。也形容兴趣浓厚的样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9640" y="981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成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想看《水浒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从课文的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1~3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自然中的哪些字词可以看出，小作者想看《水浒传》？请用小圆圈画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1268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时候，我特别爱听故事。夏天晚上乘凉的时候，我总是搬个小凳到禾场上，缠着邻居老大爷讲故事。老大爷看过许多旧小说，满肚子都是故事，什么程咬金三板斧啦，秦叔宝卖马啦，我都爱听；武松打虎，我更是百听不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2:17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52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