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AE85-5E94-4510-8894-41D165926D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7608-D74F-44AE-B0DB-CDE9736EC4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1A16-D28D-4A4B-97C6-C9E04160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DB3-4568-4C36-9D16-90E31067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191-AB98-415D-BAAE-21ECE940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57C-1D53-467A-A091-017F579C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B8E5-9AA5-40C9-86D9-8FCDF63F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A752-4855-461A-939B-9DA66165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B6A3-7114-4445-90C0-E41F3657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A925-7D5B-4090-9988-A5544A19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433-EA86-4395-B369-D9EE37FA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6079-E91D-40E8-BC06-135FAC33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C76-15F6-4181-AEEC-EC4F243E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526-B5D8-4C28-952F-4BCEA9C8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85CE-C7CD-4633-8811-5DBF85264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20.xml"/><Relationship Id="rId6" Type="http://schemas.openxmlformats.org/officeDocument/2006/relationships/slide" Target="slide15.xml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6600"/>
                </a:solidFill>
                <a:latin typeface="华文新魏"/>
                <a:ea typeface="华文新魏"/>
              </a:rPr>
              <a:t>太平洋的来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6" descr=""/>
          <p:cNvPicPr/>
          <p:nvPr/>
        </p:nvPicPr>
        <p:blipFill>
          <a:blip r:embed="rId2"/>
          <a:stretch/>
        </p:blipFill>
        <p:spPr>
          <a:xfrm>
            <a:off x="1785960" y="566100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句段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TW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潮头像一道白虹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花簇簇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喷雪滚玉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0" lang="zh-TW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如咆哮的银龙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排山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倒</a:t>
            </a:r>
            <a:r>
              <a:rPr b="0" lang="zh-TW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之势压了过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-47880" y="35640"/>
            <a:ext cx="2338560" cy="1144800"/>
            <a:chOff x="-47880" y="35640"/>
            <a:chExt cx="2338560" cy="1144800"/>
          </a:xfrm>
        </p:grpSpPr>
        <p:sp>
          <p:nvSpPr>
            <p:cNvPr id="130" name="Oval 5"/>
            <p:cNvSpPr/>
            <p:nvPr/>
          </p:nvSpPr>
          <p:spPr>
            <a:xfrm rot="21115800">
              <a:off x="0" y="189000"/>
              <a:ext cx="2243160" cy="83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WordArt 6"/>
            <p:cNvSpPr txBox="1"/>
            <p:nvPr/>
          </p:nvSpPr>
          <p:spPr>
            <a:xfrm>
              <a:off x="324000" y="189000"/>
              <a:ext cx="1800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solidFill>
                    <a:srgbClr val="00ffff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精读片段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32" name="Oval 7"/>
          <p:cNvSpPr/>
          <p:nvPr/>
        </p:nvSpPr>
        <p:spPr>
          <a:xfrm>
            <a:off x="3780000" y="3357720"/>
            <a:ext cx="7128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4284720" y="3357720"/>
            <a:ext cx="7128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"/>
          <p:cNvSpPr/>
          <p:nvPr/>
        </p:nvSpPr>
        <p:spPr>
          <a:xfrm>
            <a:off x="3132000" y="2708280"/>
            <a:ext cx="7164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4716360" y="2708280"/>
            <a:ext cx="86364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4859280" y="3357720"/>
            <a:ext cx="244944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324000" y="2133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0" lang="zh-TW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作者用了两个比喻句描写潮头气势宏大，先把它比作白虹，重点体现 它的颜色，接着把它比作咆哮的银龙 </a:t>
            </a: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0" lang="zh-TW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在体现它的声音。作者这些有声有色的描写，使人如临其境，体会到大潮来时，情景十分壮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54936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运用了哪些修辞手法？这样写有什么好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</a:t>
            </a:r>
            <a:r>
              <a:rPr b="0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从这些描写中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体会到了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</a:t>
            </a:r>
            <a:r>
              <a:rPr b="0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4"/>
          <p:cNvGrpSpPr/>
          <p:nvPr/>
        </p:nvGrpSpPr>
        <p:grpSpPr>
          <a:xfrm>
            <a:off x="-47880" y="35640"/>
            <a:ext cx="2338560" cy="1144800"/>
            <a:chOff x="-47880" y="35640"/>
            <a:chExt cx="2338560" cy="1144800"/>
          </a:xfrm>
        </p:grpSpPr>
        <p:sp>
          <p:nvSpPr>
            <p:cNvPr id="140" name="Oval 5"/>
            <p:cNvSpPr/>
            <p:nvPr/>
          </p:nvSpPr>
          <p:spPr>
            <a:xfrm rot="21115800">
              <a:off x="0" y="189000"/>
              <a:ext cx="2243160" cy="83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WordArt 6"/>
            <p:cNvSpPr txBox="1"/>
            <p:nvPr/>
          </p:nvSpPr>
          <p:spPr>
            <a:xfrm>
              <a:off x="324000" y="189000"/>
              <a:ext cx="1800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solidFill>
                    <a:srgbClr val="00ffff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精读片段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42" name="Rectangle 7"/>
          <p:cNvSpPr/>
          <p:nvPr/>
        </p:nvSpPr>
        <p:spPr>
          <a:xfrm>
            <a:off x="468360" y="1052640"/>
            <a:ext cx="838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句段四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TW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着潮水的推近，浪涛的轰响越来越大，开初</a:t>
            </a:r>
            <a:r>
              <a:rPr b="0" lang="zh-TW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如</a:t>
            </a:r>
            <a:r>
              <a:rPr b="0" lang="zh-TW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林涛</a:t>
            </a:r>
            <a:r>
              <a:rPr b="0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滚滚</a:t>
            </a:r>
            <a:r>
              <a:rPr b="0" lang="zh-TW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接着便</a:t>
            </a:r>
            <a:r>
              <a:rPr b="0" lang="zh-TW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似</a:t>
            </a:r>
            <a:r>
              <a:rPr b="0" lang="zh-TW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虎</a:t>
            </a:r>
            <a:r>
              <a:rPr b="0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啸</a:t>
            </a:r>
            <a:r>
              <a:rPr b="0" lang="zh-TW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狮吼</a:t>
            </a:r>
            <a:r>
              <a:rPr b="0" lang="zh-TW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，到近处就</a:t>
            </a:r>
            <a:r>
              <a:rPr b="0" lang="zh-TW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像</a:t>
            </a:r>
            <a:r>
              <a:rPr b="0" lang="zh-TW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</a:t>
            </a:r>
            <a:r>
              <a:rPr b="0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坍地</a:t>
            </a:r>
            <a:r>
              <a:rPr b="0" lang="zh-TW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陷</a:t>
            </a:r>
            <a:r>
              <a:rPr b="0" lang="zh-TW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6"/>
          <p:cNvSpPr/>
          <p:nvPr/>
        </p:nvSpPr>
        <p:spPr>
          <a:xfrm>
            <a:off x="6877080" y="479736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cccc">
                  <a:alpha val="57254"/>
                </a:srgbClr>
              </a:gs>
              <a:gs pos="50000">
                <a:srgbClr val="ffffff">
                  <a:alpha val="35294"/>
                </a:srgbClr>
              </a:gs>
              <a:gs pos="100000">
                <a:srgbClr val="ffcccc">
                  <a:alpha val="57254"/>
                </a:srgbClr>
              </a:gs>
            </a:gsLst>
            <a:lin ang="5400000"/>
          </a:gra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f5f5f"/>
                </a:solidFill>
                <a:latin typeface="Arial"/>
                <a:ea typeface="黑体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7">
            <a:hlinkClick r:id="rId2" action="ppaction://hlinksldjump"/>
          </p:cNvPr>
          <p:cNvSpPr/>
          <p:nvPr/>
        </p:nvSpPr>
        <p:spPr>
          <a:xfrm>
            <a:off x="7956720" y="479736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cccc">
                  <a:alpha val="57254"/>
                </a:srgbClr>
              </a:gs>
              <a:gs pos="50000">
                <a:srgbClr val="ffffff">
                  <a:alpha val="35294"/>
                </a:srgbClr>
              </a:gs>
              <a:gs pos="100000">
                <a:srgbClr val="ffcccc">
                  <a:alpha val="57254"/>
                </a:srgbClr>
              </a:gs>
            </a:gsLst>
            <a:lin ang="5400000"/>
          </a:gra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f5f5f"/>
                </a:solidFill>
                <a:latin typeface="Arial"/>
                <a:ea typeface="黑体"/>
              </a:rPr>
              <a:t>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2220480" y="76500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作者怎样写出潮水由远到近地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539640" y="220500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TW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作者分别用了 </a:t>
            </a:r>
            <a:r>
              <a:rPr b="0" lang="zh-TW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0" lang="zh-TW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林涛滚滚，虎啸狮吼，天坍地陷一般</a:t>
            </a:r>
            <a:r>
              <a:rPr b="0" lang="zh-TW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0" lang="zh-TW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等词语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r>
              <a:rPr b="0" lang="zh-TW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些词语把大潮的轰鸣声写得具体可感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 </a:t>
            </a:r>
            <a:r>
              <a:rPr b="0" lang="zh-TW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让人感到响声越来越大，大潮越来越近，潮头越来越高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r>
              <a:rPr b="0" lang="zh-TW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声势越来越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250920" y="476280"/>
            <a:ext cx="88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这时，东南角江口天和海连接的地方，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一端又慢慢变成白花花的，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玻璃棒渐渐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不一会儿，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逐渐变大，堤坝般溯江推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楷体"/>
                <a:ea typeface="楷体"/>
              </a:rPr>
              <a:t>潮头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,</a:t>
            </a:r>
            <a:r>
              <a:rPr b="1" lang="zh-TW" sz="3200" spc="-1" strike="noStrike">
                <a:solidFill>
                  <a:srgbClr val="000000"/>
                </a:solidFill>
                <a:latin typeface="楷体"/>
                <a:ea typeface="楷体"/>
              </a:rPr>
              <a:t>白花簇簇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_______;</a:t>
            </a:r>
            <a:r>
              <a:rPr b="1" lang="zh-TW" sz="3200" spc="-1" strike="noStrike">
                <a:solidFill>
                  <a:srgbClr val="000000"/>
                </a:solidFill>
                <a:latin typeface="楷体"/>
                <a:ea typeface="楷体"/>
              </a:rPr>
              <a:t>又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,</a:t>
            </a:r>
            <a:r>
              <a:rPr b="1" lang="zh-TW" sz="3200" spc="-1" strike="noStrike">
                <a:solidFill>
                  <a:srgbClr val="000000"/>
                </a:solidFill>
                <a:latin typeface="楷体"/>
                <a:ea typeface="楷体"/>
              </a:rPr>
              <a:t>以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__</a:t>
            </a:r>
            <a:r>
              <a:rPr b="1" lang="zh-TW" sz="3200" spc="-1" strike="noStrike">
                <a:solidFill>
                  <a:srgbClr val="000000"/>
                </a:solidFill>
                <a:latin typeface="楷体"/>
                <a:ea typeface="楷体"/>
              </a:rPr>
              <a:t>压了过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楷体"/>
                <a:ea typeface="楷体"/>
              </a:rPr>
              <a:t>随着潮水的推近，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</a:t>
            </a:r>
            <a:r>
              <a:rPr b="1" lang="zh-TW" sz="3200" spc="-1" strike="noStrike">
                <a:solidFill>
                  <a:srgbClr val="000000"/>
                </a:solidFill>
                <a:latin typeface="楷体"/>
                <a:ea typeface="楷体"/>
              </a:rPr>
              <a:t>越来越大，开初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_</a:t>
            </a:r>
            <a:r>
              <a:rPr b="1" lang="zh-TW" sz="3200" spc="-1" strike="noStrike">
                <a:solidFill>
                  <a:srgbClr val="000000"/>
                </a:solidFill>
                <a:latin typeface="楷体"/>
                <a:ea typeface="楷体"/>
              </a:rPr>
              <a:t>，接着便似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_</a:t>
            </a:r>
            <a:r>
              <a:rPr b="1" lang="zh-TW" sz="3200" spc="-1" strike="noStrike">
                <a:solidFill>
                  <a:srgbClr val="000000"/>
                </a:solidFill>
                <a:latin typeface="楷体"/>
                <a:ea typeface="楷体"/>
              </a:rPr>
              <a:t>，到近处就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_</a:t>
            </a:r>
            <a:r>
              <a:rPr b="1" lang="zh-TW" sz="3200" spc="-1" strike="noStrike">
                <a:solidFill>
                  <a:srgbClr val="000000"/>
                </a:solidFill>
                <a:latin typeface="楷体"/>
                <a:ea typeface="楷体"/>
              </a:rPr>
              <a:t>一般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>
            <a:hlinkClick r:id="rId1" action="ppaction://hlinksldjump"/>
          </p:cNvPr>
          <p:cNvSpPr/>
          <p:nvPr/>
        </p:nvSpPr>
        <p:spPr>
          <a:xfrm>
            <a:off x="7991640" y="6165720"/>
            <a:ext cx="1152360" cy="692280"/>
          </a:xfrm>
          <a:custGeom>
            <a:avLst/>
            <a:gdLst>
              <a:gd name="textAreaLeft" fmla="*/ 44640 w 1152360"/>
              <a:gd name="textAreaRight" fmla="*/ 1107720 w 1152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5948" h="21600">
                <a:moveTo>
                  <a:pt x="0" y="0"/>
                </a:moveTo>
                <a:lnTo>
                  <a:pt x="35948" y="0"/>
                </a:lnTo>
                <a:lnTo>
                  <a:pt x="35948" y="21600"/>
                </a:lnTo>
                <a:lnTo>
                  <a:pt x="0" y="21600"/>
                </a:lnTo>
                <a:close/>
              </a:path>
              <a:path fill="lightenLess" w="35948" h="21600">
                <a:moveTo>
                  <a:pt x="0" y="0"/>
                </a:moveTo>
                <a:lnTo>
                  <a:pt x="35948" y="0"/>
                </a:lnTo>
                <a:lnTo>
                  <a:pt x="34548" y="1400"/>
                </a:lnTo>
                <a:lnTo>
                  <a:pt x="1400" y="1400"/>
                </a:lnTo>
                <a:close/>
              </a:path>
              <a:path fill="darken" w="35948" h="21600">
                <a:moveTo>
                  <a:pt x="35948" y="0"/>
                </a:moveTo>
                <a:lnTo>
                  <a:pt x="35948" y="21600"/>
                </a:lnTo>
                <a:lnTo>
                  <a:pt x="34548" y="20200"/>
                </a:lnTo>
                <a:lnTo>
                  <a:pt x="34548" y="1400"/>
                </a:lnTo>
                <a:close/>
              </a:path>
              <a:path fill="darkenLess" w="35948" h="21600">
                <a:moveTo>
                  <a:pt x="35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48" y="20200"/>
                </a:lnTo>
                <a:close/>
              </a:path>
              <a:path fill="lighten" w="35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48" h="21600">
                <a:moveTo>
                  <a:pt x="10967" y="7493"/>
                </a:moveTo>
                <a:lnTo>
                  <a:pt x="14475" y="7493"/>
                </a:lnTo>
                <a:lnTo>
                  <a:pt x="14475" y="12828"/>
                </a:lnTo>
                <a:cubicBezTo>
                  <a:pt x="14475" y="13751"/>
                  <a:pt x="15276" y="14482"/>
                  <a:pt x="16311" y="14482"/>
                </a:cubicBezTo>
                <a:lnTo>
                  <a:pt x="17974" y="14482"/>
                </a:lnTo>
                <a:cubicBezTo>
                  <a:pt x="19010" y="14482"/>
                  <a:pt x="19810" y="13751"/>
                  <a:pt x="19810" y="12828"/>
                </a:cubicBezTo>
                <a:lnTo>
                  <a:pt x="19810" y="7493"/>
                </a:lnTo>
                <a:lnTo>
                  <a:pt x="17974" y="7493"/>
                </a:lnTo>
                <a:lnTo>
                  <a:pt x="21481" y="3985"/>
                </a:lnTo>
                <a:lnTo>
                  <a:pt x="25154" y="7493"/>
                </a:lnTo>
                <a:lnTo>
                  <a:pt x="23318" y="7493"/>
                </a:lnTo>
                <a:lnTo>
                  <a:pt x="23318" y="12828"/>
                </a:lnTo>
                <a:cubicBezTo>
                  <a:pt x="23318" y="15596"/>
                  <a:pt x="20742" y="18155"/>
                  <a:pt x="17974" y="18155"/>
                </a:cubicBezTo>
                <a:lnTo>
                  <a:pt x="16311" y="18155"/>
                </a:lnTo>
                <a:cubicBezTo>
                  <a:pt x="13544" y="18155"/>
                  <a:pt x="10967" y="15596"/>
                  <a:pt x="10967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a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j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r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dd"/>
          <p:cNvPicPr/>
          <p:nvPr/>
        </p:nvPicPr>
        <p:blipFill>
          <a:blip r:embed="rId1"/>
          <a:stretch/>
        </p:blipFill>
        <p:spPr>
          <a:xfrm>
            <a:off x="0" y="0"/>
            <a:ext cx="9144000" cy="350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h"/>
          <p:cNvPicPr/>
          <p:nvPr/>
        </p:nvPicPr>
        <p:blipFill>
          <a:blip r:embed="rId2"/>
          <a:stretch/>
        </p:blipFill>
        <p:spPr>
          <a:xfrm>
            <a:off x="0" y="3645000"/>
            <a:ext cx="9144000" cy="32130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6">
            <a:hlinkClick r:id="rId3" action="ppaction://hlinksldjump"/>
          </p:cNvPr>
          <p:cNvSpPr/>
          <p:nvPr/>
        </p:nvSpPr>
        <p:spPr>
          <a:xfrm>
            <a:off x="7991640" y="6165720"/>
            <a:ext cx="1152360" cy="692280"/>
          </a:xfrm>
          <a:custGeom>
            <a:avLst/>
            <a:gdLst>
              <a:gd name="textAreaLeft" fmla="*/ 44640 w 1152360"/>
              <a:gd name="textAreaRight" fmla="*/ 1107720 w 1152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5948" h="21600">
                <a:moveTo>
                  <a:pt x="0" y="0"/>
                </a:moveTo>
                <a:lnTo>
                  <a:pt x="35948" y="0"/>
                </a:lnTo>
                <a:lnTo>
                  <a:pt x="35948" y="21600"/>
                </a:lnTo>
                <a:lnTo>
                  <a:pt x="0" y="21600"/>
                </a:lnTo>
                <a:close/>
              </a:path>
              <a:path fill="lightenLess" w="35948" h="21600">
                <a:moveTo>
                  <a:pt x="0" y="0"/>
                </a:moveTo>
                <a:lnTo>
                  <a:pt x="35948" y="0"/>
                </a:lnTo>
                <a:lnTo>
                  <a:pt x="34548" y="1400"/>
                </a:lnTo>
                <a:lnTo>
                  <a:pt x="1400" y="1400"/>
                </a:lnTo>
                <a:close/>
              </a:path>
              <a:path fill="darken" w="35948" h="21600">
                <a:moveTo>
                  <a:pt x="35948" y="0"/>
                </a:moveTo>
                <a:lnTo>
                  <a:pt x="35948" y="21600"/>
                </a:lnTo>
                <a:lnTo>
                  <a:pt x="34548" y="20200"/>
                </a:lnTo>
                <a:lnTo>
                  <a:pt x="34548" y="1400"/>
                </a:lnTo>
                <a:close/>
              </a:path>
              <a:path fill="darkenLess" w="35948" h="21600">
                <a:moveTo>
                  <a:pt x="35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48" y="20200"/>
                </a:lnTo>
                <a:close/>
              </a:path>
              <a:path fill="lighten" w="35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48" h="21600">
                <a:moveTo>
                  <a:pt x="10967" y="7493"/>
                </a:moveTo>
                <a:lnTo>
                  <a:pt x="14475" y="7493"/>
                </a:lnTo>
                <a:lnTo>
                  <a:pt x="14475" y="12828"/>
                </a:lnTo>
                <a:cubicBezTo>
                  <a:pt x="14475" y="13751"/>
                  <a:pt x="15276" y="14482"/>
                  <a:pt x="16311" y="14482"/>
                </a:cubicBezTo>
                <a:lnTo>
                  <a:pt x="17974" y="14482"/>
                </a:lnTo>
                <a:cubicBezTo>
                  <a:pt x="19010" y="14482"/>
                  <a:pt x="19810" y="13751"/>
                  <a:pt x="19810" y="12828"/>
                </a:cubicBezTo>
                <a:lnTo>
                  <a:pt x="19810" y="7493"/>
                </a:lnTo>
                <a:lnTo>
                  <a:pt x="17974" y="7493"/>
                </a:lnTo>
                <a:lnTo>
                  <a:pt x="21481" y="3985"/>
                </a:lnTo>
                <a:lnTo>
                  <a:pt x="25154" y="7493"/>
                </a:lnTo>
                <a:lnTo>
                  <a:pt x="23318" y="7493"/>
                </a:lnTo>
                <a:lnTo>
                  <a:pt x="23318" y="12828"/>
                </a:lnTo>
                <a:cubicBezTo>
                  <a:pt x="23318" y="15596"/>
                  <a:pt x="20742" y="18155"/>
                  <a:pt x="17974" y="18155"/>
                </a:cubicBezTo>
                <a:lnTo>
                  <a:pt x="16311" y="18155"/>
                </a:lnTo>
                <a:cubicBezTo>
                  <a:pt x="13544" y="18155"/>
                  <a:pt x="10967" y="15596"/>
                  <a:pt x="10967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6">
            <a:hlinkClick r:id="rId1" action="ppaction://hlinksldjump"/>
          </p:cNvPr>
          <p:cNvSpPr/>
          <p:nvPr/>
        </p:nvSpPr>
        <p:spPr>
          <a:xfrm>
            <a:off x="395280" y="260280"/>
            <a:ext cx="2808360" cy="6426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新课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导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7">
            <a:hlinkClick r:id="rId2" action="ppaction://hlinksldjump"/>
          </p:cNvPr>
          <p:cNvSpPr/>
          <p:nvPr/>
        </p:nvSpPr>
        <p:spPr>
          <a:xfrm>
            <a:off x="395280" y="2084400"/>
            <a:ext cx="2808360" cy="642600"/>
          </a:xfrm>
          <a:prstGeom prst="rect">
            <a:avLst/>
          </a:prstGeom>
          <a:solidFill>
            <a:srgbClr val="333399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字词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8">
            <a:hlinkClick r:id="rId3" action="ppaction://hlinksldjump"/>
          </p:cNvPr>
          <p:cNvSpPr/>
          <p:nvPr/>
        </p:nvSpPr>
        <p:spPr>
          <a:xfrm>
            <a:off x="395280" y="2997360"/>
            <a:ext cx="2808360" cy="642600"/>
          </a:xfrm>
          <a:prstGeom prst="rect">
            <a:avLst/>
          </a:prstGeom>
          <a:solidFill>
            <a:srgbClr val="333399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自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读提示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9">
            <a:hlinkClick r:id="rId4" action="ppaction://hlinksldjump"/>
          </p:cNvPr>
          <p:cNvSpPr/>
          <p:nvPr/>
        </p:nvSpPr>
        <p:spPr>
          <a:xfrm>
            <a:off x="395280" y="3908520"/>
            <a:ext cx="2808360" cy="642600"/>
          </a:xfrm>
          <a:prstGeom prst="rect">
            <a:avLst/>
          </a:prstGeom>
          <a:solidFill>
            <a:srgbClr val="333399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精读片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0">
            <a:hlinkClick r:id="rId5" action="ppaction://hlinksldjump"/>
          </p:cNvPr>
          <p:cNvSpPr/>
          <p:nvPr/>
        </p:nvSpPr>
        <p:spPr>
          <a:xfrm>
            <a:off x="395280" y="5734080"/>
            <a:ext cx="2808360" cy="642600"/>
          </a:xfrm>
          <a:prstGeom prst="rect">
            <a:avLst/>
          </a:prstGeom>
          <a:solidFill>
            <a:srgbClr val="333399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课内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1"/>
          <p:cNvSpPr/>
          <p:nvPr/>
        </p:nvSpPr>
        <p:spPr>
          <a:xfrm>
            <a:off x="395280" y="1171440"/>
            <a:ext cx="2808360" cy="642600"/>
          </a:xfrm>
          <a:prstGeom prst="rect">
            <a:avLst/>
          </a:prstGeom>
          <a:solidFill>
            <a:srgbClr val="333399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情境朗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6">
            <a:hlinkClick r:id="rId6" action="ppaction://hlinksldjump"/>
          </p:cNvPr>
          <p:cNvSpPr/>
          <p:nvPr/>
        </p:nvSpPr>
        <p:spPr>
          <a:xfrm>
            <a:off x="395280" y="4821120"/>
            <a:ext cx="2808360" cy="642600"/>
          </a:xfrm>
          <a:prstGeom prst="rect">
            <a:avLst/>
          </a:prstGeom>
          <a:solidFill>
            <a:srgbClr val="333399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形成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3"/>
          <p:cNvSpPr/>
          <p:nvPr/>
        </p:nvSpPr>
        <p:spPr>
          <a:xfrm>
            <a:off x="3203640" y="60930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4">
            <a:hlinkClick r:id="rId7" action="ppaction://hlinksldjump"/>
          </p:cNvPr>
          <p:cNvSpPr/>
          <p:nvPr/>
        </p:nvSpPr>
        <p:spPr>
          <a:xfrm>
            <a:off x="4067280" y="5734080"/>
            <a:ext cx="2808360" cy="642600"/>
          </a:xfrm>
          <a:prstGeom prst="rect">
            <a:avLst/>
          </a:prstGeom>
          <a:solidFill>
            <a:srgbClr val="333399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课后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5"/>
          <p:cNvSpPr/>
          <p:nvPr/>
        </p:nvSpPr>
        <p:spPr>
          <a:xfrm>
            <a:off x="1835280" y="90792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6"/>
          <p:cNvSpPr/>
          <p:nvPr/>
        </p:nvSpPr>
        <p:spPr>
          <a:xfrm>
            <a:off x="1835280" y="17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7"/>
          <p:cNvSpPr/>
          <p:nvPr/>
        </p:nvSpPr>
        <p:spPr>
          <a:xfrm>
            <a:off x="1835280" y="27082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8"/>
          <p:cNvSpPr/>
          <p:nvPr/>
        </p:nvSpPr>
        <p:spPr>
          <a:xfrm>
            <a:off x="1835280" y="364500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9"/>
          <p:cNvSpPr/>
          <p:nvPr/>
        </p:nvSpPr>
        <p:spPr>
          <a:xfrm>
            <a:off x="1835280" y="458136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0"/>
          <p:cNvSpPr/>
          <p:nvPr/>
        </p:nvSpPr>
        <p:spPr>
          <a:xfrm>
            <a:off x="1835280" y="544500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-47880" y="35640"/>
            <a:ext cx="2338560" cy="1144800"/>
            <a:chOff x="-47880" y="35640"/>
            <a:chExt cx="2338560" cy="1144800"/>
          </a:xfrm>
        </p:grpSpPr>
        <p:sp>
          <p:nvSpPr>
            <p:cNvPr id="157" name="Oval 5"/>
            <p:cNvSpPr/>
            <p:nvPr/>
          </p:nvSpPr>
          <p:spPr>
            <a:xfrm rot="21115800">
              <a:off x="0" y="189000"/>
              <a:ext cx="2243160" cy="83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WordArt 6"/>
            <p:cNvSpPr txBox="1"/>
            <p:nvPr/>
          </p:nvSpPr>
          <p:spPr>
            <a:xfrm>
              <a:off x="324000" y="189000"/>
              <a:ext cx="1800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solidFill>
                    <a:srgbClr val="00ffff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课内训练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59" name="Rectangle 7"/>
          <p:cNvSpPr/>
          <p:nvPr/>
        </p:nvSpPr>
        <p:spPr>
          <a:xfrm>
            <a:off x="971640" y="141300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系课文，请以解说员的身份，或叙述，或想象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观潮现场进行一次直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30"/>
          <p:cNvGrpSpPr/>
          <p:nvPr/>
        </p:nvGrpSpPr>
        <p:grpSpPr>
          <a:xfrm>
            <a:off x="1042920" y="4149720"/>
            <a:ext cx="1584360" cy="504720"/>
            <a:chOff x="1042920" y="4149720"/>
            <a:chExt cx="1584360" cy="504720"/>
          </a:xfrm>
        </p:grpSpPr>
        <p:sp>
          <p:nvSpPr>
            <p:cNvPr id="161" name="Oval 16"/>
            <p:cNvSpPr/>
            <p:nvPr/>
          </p:nvSpPr>
          <p:spPr>
            <a:xfrm>
              <a:off x="1042920" y="4149720"/>
              <a:ext cx="1584360" cy="504720"/>
            </a:xfrm>
            <a:prstGeom prst="ellipse">
              <a:avLst/>
            </a:prstGeom>
            <a:solidFill>
              <a:srgbClr val="0000ff">
                <a:alpha val="40000"/>
              </a:srgbClr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7"/>
            <p:cNvSpPr/>
            <p:nvPr/>
          </p:nvSpPr>
          <p:spPr>
            <a:xfrm>
              <a:off x="1114560" y="4221360"/>
              <a:ext cx="1439640" cy="36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潮来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8"/>
          <p:cNvGrpSpPr/>
          <p:nvPr/>
        </p:nvGrpSpPr>
        <p:grpSpPr>
          <a:xfrm>
            <a:off x="3708360" y="4149720"/>
            <a:ext cx="1584360" cy="504720"/>
            <a:chOff x="3708360" y="4149720"/>
            <a:chExt cx="1584360" cy="504720"/>
          </a:xfrm>
        </p:grpSpPr>
        <p:sp>
          <p:nvSpPr>
            <p:cNvPr id="164" name="Oval 24"/>
            <p:cNvSpPr/>
            <p:nvPr/>
          </p:nvSpPr>
          <p:spPr>
            <a:xfrm>
              <a:off x="3708360" y="4149720"/>
              <a:ext cx="1584360" cy="504720"/>
            </a:xfrm>
            <a:prstGeom prst="ellipse">
              <a:avLst/>
            </a:prstGeom>
            <a:solidFill>
              <a:srgbClr val="0000ff">
                <a:alpha val="40000"/>
              </a:srgbClr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3779640" y="4221000"/>
              <a:ext cx="1440000" cy="360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00"/>
                  </a:solidFill>
                  <a:latin typeface="Arial"/>
                </a:rPr>
                <a:t>潮来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29"/>
          <p:cNvGrpSpPr/>
          <p:nvPr/>
        </p:nvGrpSpPr>
        <p:grpSpPr>
          <a:xfrm>
            <a:off x="6443640" y="4149720"/>
            <a:ext cx="1584360" cy="504720"/>
            <a:chOff x="6443640" y="4149720"/>
            <a:chExt cx="1584360" cy="504720"/>
          </a:xfrm>
        </p:grpSpPr>
        <p:sp>
          <p:nvSpPr>
            <p:cNvPr id="167" name="Oval 26"/>
            <p:cNvSpPr/>
            <p:nvPr/>
          </p:nvSpPr>
          <p:spPr>
            <a:xfrm>
              <a:off x="6443640" y="4149720"/>
              <a:ext cx="1584360" cy="504720"/>
            </a:xfrm>
            <a:prstGeom prst="ellipse">
              <a:avLst/>
            </a:prstGeom>
            <a:solidFill>
              <a:srgbClr val="0000ff">
                <a:alpha val="40000"/>
              </a:srgbClr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6515280" y="4221000"/>
              <a:ext cx="1439640" cy="360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00"/>
                  </a:solidFill>
                  <a:latin typeface="Arial"/>
                </a:rPr>
                <a:t>潮过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Line 32"/>
          <p:cNvSpPr/>
          <p:nvPr/>
        </p:nvSpPr>
        <p:spPr>
          <a:xfrm>
            <a:off x="2627280" y="4437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3"/>
          <p:cNvSpPr/>
          <p:nvPr/>
        </p:nvSpPr>
        <p:spPr>
          <a:xfrm>
            <a:off x="5292720" y="436572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5">
            <a:hlinkClick r:id="rId2" action="ppaction://hlinksldjump"/>
          </p:cNvPr>
          <p:cNvSpPr/>
          <p:nvPr/>
        </p:nvSpPr>
        <p:spPr>
          <a:xfrm>
            <a:off x="8028000" y="5805360"/>
            <a:ext cx="936720" cy="64800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1219" h="21600">
                <a:moveTo>
                  <a:pt x="0" y="0"/>
                </a:moveTo>
                <a:lnTo>
                  <a:pt x="31219" y="0"/>
                </a:lnTo>
                <a:lnTo>
                  <a:pt x="31219" y="21600"/>
                </a:lnTo>
                <a:lnTo>
                  <a:pt x="0" y="21600"/>
                </a:lnTo>
                <a:close/>
              </a:path>
              <a:path fill="lightenLess" w="31219" h="21600">
                <a:moveTo>
                  <a:pt x="0" y="0"/>
                </a:moveTo>
                <a:lnTo>
                  <a:pt x="31219" y="0"/>
                </a:lnTo>
                <a:lnTo>
                  <a:pt x="29819" y="1400"/>
                </a:lnTo>
                <a:lnTo>
                  <a:pt x="1400" y="1400"/>
                </a:lnTo>
                <a:close/>
              </a:path>
              <a:path fill="darken" w="31219" h="21600">
                <a:moveTo>
                  <a:pt x="31219" y="0"/>
                </a:moveTo>
                <a:lnTo>
                  <a:pt x="31219" y="21600"/>
                </a:lnTo>
                <a:lnTo>
                  <a:pt x="29819" y="20200"/>
                </a:lnTo>
                <a:lnTo>
                  <a:pt x="29819" y="1400"/>
                </a:lnTo>
                <a:close/>
              </a:path>
              <a:path fill="darkenLess" w="31219" h="21600">
                <a:moveTo>
                  <a:pt x="31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19" y="20200"/>
                </a:lnTo>
                <a:close/>
              </a:path>
              <a:path fill="lighten" w="31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19" h="21600">
                <a:moveTo>
                  <a:pt x="8603" y="3794"/>
                </a:moveTo>
                <a:lnTo>
                  <a:pt x="22616" y="10800"/>
                </a:lnTo>
                <a:lnTo>
                  <a:pt x="86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5248080" y="2602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把下面的词语补充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05"/>
          <p:cNvGrpSpPr/>
          <p:nvPr/>
        </p:nvGrpSpPr>
        <p:grpSpPr>
          <a:xfrm>
            <a:off x="3611520" y="1052640"/>
            <a:ext cx="718920" cy="647640"/>
            <a:chOff x="3611520" y="1052640"/>
            <a:chExt cx="718920" cy="647640"/>
          </a:xfrm>
        </p:grpSpPr>
        <p:grpSp>
          <p:nvGrpSpPr>
            <p:cNvPr id="174" name="Group 82"/>
            <p:cNvGrpSpPr/>
            <p:nvPr/>
          </p:nvGrpSpPr>
          <p:grpSpPr>
            <a:xfrm>
              <a:off x="3611520" y="1052640"/>
              <a:ext cx="718920" cy="647640"/>
              <a:chOff x="3611520" y="1052640"/>
              <a:chExt cx="718920" cy="647640"/>
            </a:xfrm>
          </p:grpSpPr>
          <p:sp>
            <p:nvSpPr>
              <p:cNvPr id="175" name="Oval 83"/>
              <p:cNvSpPr/>
              <p:nvPr/>
            </p:nvSpPr>
            <p:spPr>
              <a:xfrm>
                <a:off x="3611520" y="1052640"/>
                <a:ext cx="718920" cy="647640"/>
              </a:xfrm>
              <a:prstGeom prst="ellipse">
                <a:avLst/>
              </a:prstGeom>
              <a:gradFill rotWithShape="0">
                <a:gsLst>
                  <a:gs pos="0">
                    <a:srgbClr val="cbb1ed"/>
                  </a:gs>
                  <a:gs pos="100000">
                    <a:srgbClr val="cc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84"/>
              <p:cNvSpPr/>
              <p:nvPr/>
            </p:nvSpPr>
            <p:spPr>
              <a:xfrm>
                <a:off x="3611520" y="1052640"/>
                <a:ext cx="1839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Rectangle 10"/>
            <p:cNvSpPr/>
            <p:nvPr/>
          </p:nvSpPr>
          <p:spPr>
            <a:xfrm>
              <a:off x="3776040" y="10526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08"/>
          <p:cNvGrpSpPr/>
          <p:nvPr/>
        </p:nvGrpSpPr>
        <p:grpSpPr>
          <a:xfrm>
            <a:off x="4643280" y="1052640"/>
            <a:ext cx="719280" cy="647640"/>
            <a:chOff x="4643280" y="1052640"/>
            <a:chExt cx="719280" cy="647640"/>
          </a:xfrm>
        </p:grpSpPr>
        <p:grpSp>
          <p:nvGrpSpPr>
            <p:cNvPr id="179" name="Group 94"/>
            <p:cNvGrpSpPr/>
            <p:nvPr/>
          </p:nvGrpSpPr>
          <p:grpSpPr>
            <a:xfrm>
              <a:off x="4643280" y="1052640"/>
              <a:ext cx="719280" cy="647640"/>
              <a:chOff x="4643280" y="1052640"/>
              <a:chExt cx="719280" cy="647640"/>
            </a:xfrm>
          </p:grpSpPr>
          <p:sp>
            <p:nvSpPr>
              <p:cNvPr id="180" name="Oval 95"/>
              <p:cNvSpPr/>
              <p:nvPr/>
            </p:nvSpPr>
            <p:spPr>
              <a:xfrm>
                <a:off x="4643280" y="1052640"/>
                <a:ext cx="719280" cy="647640"/>
              </a:xfrm>
              <a:prstGeom prst="ellipse">
                <a:avLst/>
              </a:prstGeom>
              <a:gradFill rotWithShape="0">
                <a:gsLst>
                  <a:gs pos="0">
                    <a:srgbClr val="cbb1ed"/>
                  </a:gs>
                  <a:gs pos="100000">
                    <a:srgbClr val="cc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96"/>
              <p:cNvSpPr/>
              <p:nvPr/>
            </p:nvSpPr>
            <p:spPr>
              <a:xfrm>
                <a:off x="4643280" y="105264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Rectangle 11"/>
            <p:cNvSpPr/>
            <p:nvPr/>
          </p:nvSpPr>
          <p:spPr>
            <a:xfrm>
              <a:off x="4807800" y="10526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09"/>
          <p:cNvGrpSpPr/>
          <p:nvPr/>
        </p:nvGrpSpPr>
        <p:grpSpPr>
          <a:xfrm>
            <a:off x="6754680" y="1052640"/>
            <a:ext cx="719280" cy="647640"/>
            <a:chOff x="6754680" y="1052640"/>
            <a:chExt cx="719280" cy="647640"/>
          </a:xfrm>
        </p:grpSpPr>
        <p:grpSp>
          <p:nvGrpSpPr>
            <p:cNvPr id="184" name="Group 97"/>
            <p:cNvGrpSpPr/>
            <p:nvPr/>
          </p:nvGrpSpPr>
          <p:grpSpPr>
            <a:xfrm>
              <a:off x="6754680" y="1052640"/>
              <a:ext cx="719280" cy="647640"/>
              <a:chOff x="6754680" y="1052640"/>
              <a:chExt cx="719280" cy="647640"/>
            </a:xfrm>
          </p:grpSpPr>
          <p:sp>
            <p:nvSpPr>
              <p:cNvPr id="185" name="Oval 98"/>
              <p:cNvSpPr/>
              <p:nvPr/>
            </p:nvSpPr>
            <p:spPr>
              <a:xfrm>
                <a:off x="6754680" y="1052640"/>
                <a:ext cx="719280" cy="647640"/>
              </a:xfrm>
              <a:prstGeom prst="ellipse">
                <a:avLst/>
              </a:prstGeom>
              <a:gradFill rotWithShape="0">
                <a:gsLst>
                  <a:gs pos="0">
                    <a:srgbClr val="cbb1ed"/>
                  </a:gs>
                  <a:gs pos="100000">
                    <a:srgbClr val="cc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99"/>
              <p:cNvSpPr/>
              <p:nvPr/>
            </p:nvSpPr>
            <p:spPr>
              <a:xfrm>
                <a:off x="6754680" y="105264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Rectangle 12"/>
            <p:cNvSpPr/>
            <p:nvPr/>
          </p:nvSpPr>
          <p:spPr>
            <a:xfrm>
              <a:off x="6919200" y="10526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11"/>
          <p:cNvGrpSpPr/>
          <p:nvPr/>
        </p:nvGrpSpPr>
        <p:grpSpPr>
          <a:xfrm>
            <a:off x="5707080" y="1052640"/>
            <a:ext cx="719280" cy="647640"/>
            <a:chOff x="5707080" y="1052640"/>
            <a:chExt cx="719280" cy="647640"/>
          </a:xfrm>
        </p:grpSpPr>
        <p:grpSp>
          <p:nvGrpSpPr>
            <p:cNvPr id="189" name="Group 88"/>
            <p:cNvGrpSpPr/>
            <p:nvPr/>
          </p:nvGrpSpPr>
          <p:grpSpPr>
            <a:xfrm>
              <a:off x="5707080" y="1052640"/>
              <a:ext cx="719280" cy="647640"/>
              <a:chOff x="5707080" y="1052640"/>
              <a:chExt cx="719280" cy="647640"/>
            </a:xfrm>
          </p:grpSpPr>
          <p:sp>
            <p:nvSpPr>
              <p:cNvPr id="190" name="Oval 89"/>
              <p:cNvSpPr/>
              <p:nvPr/>
            </p:nvSpPr>
            <p:spPr>
              <a:xfrm>
                <a:off x="5707080" y="1052640"/>
                <a:ext cx="719280" cy="647640"/>
              </a:xfrm>
              <a:prstGeom prst="ellipse">
                <a:avLst/>
              </a:prstGeom>
              <a:gradFill rotWithShape="0">
                <a:gsLst>
                  <a:gs pos="0">
                    <a:srgbClr val="cbb1ed"/>
                  </a:gs>
                  <a:gs pos="100000">
                    <a:srgbClr val="cc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90"/>
              <p:cNvSpPr/>
              <p:nvPr/>
            </p:nvSpPr>
            <p:spPr>
              <a:xfrm>
                <a:off x="5707080" y="105264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Rectangle 13"/>
            <p:cNvSpPr/>
            <p:nvPr/>
          </p:nvSpPr>
          <p:spPr>
            <a:xfrm>
              <a:off x="5778720" y="1052640"/>
              <a:ext cx="622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13"/>
          <p:cNvGrpSpPr/>
          <p:nvPr/>
        </p:nvGrpSpPr>
        <p:grpSpPr>
          <a:xfrm>
            <a:off x="4643280" y="1773360"/>
            <a:ext cx="695520" cy="647640"/>
            <a:chOff x="4643280" y="1773360"/>
            <a:chExt cx="695520" cy="647640"/>
          </a:xfrm>
        </p:grpSpPr>
        <p:grpSp>
          <p:nvGrpSpPr>
            <p:cNvPr id="194" name="Group 67"/>
            <p:cNvGrpSpPr/>
            <p:nvPr/>
          </p:nvGrpSpPr>
          <p:grpSpPr>
            <a:xfrm>
              <a:off x="4643280" y="1773360"/>
              <a:ext cx="695520" cy="647640"/>
              <a:chOff x="4643280" y="1773360"/>
              <a:chExt cx="695520" cy="647640"/>
            </a:xfrm>
          </p:grpSpPr>
          <p:sp>
            <p:nvSpPr>
              <p:cNvPr id="195" name="Oval 68"/>
              <p:cNvSpPr/>
              <p:nvPr/>
            </p:nvSpPr>
            <p:spPr>
              <a:xfrm>
                <a:off x="4643280" y="1773360"/>
                <a:ext cx="695520" cy="647640"/>
              </a:xfrm>
              <a:prstGeom prst="ellipse">
                <a:avLst/>
              </a:prstGeom>
              <a:gradFill rotWithShape="0">
                <a:gsLst>
                  <a:gs pos="0">
                    <a:srgbClr val="cbb1ed"/>
                  </a:gs>
                  <a:gs pos="100000">
                    <a:srgbClr val="cc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69"/>
              <p:cNvSpPr/>
              <p:nvPr/>
            </p:nvSpPr>
            <p:spPr>
              <a:xfrm>
                <a:off x="4643280" y="1773360"/>
                <a:ext cx="1782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Rectangle 14"/>
            <p:cNvSpPr/>
            <p:nvPr/>
          </p:nvSpPr>
          <p:spPr>
            <a:xfrm>
              <a:off x="4712400" y="1773360"/>
              <a:ext cx="61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20"/>
          <p:cNvGrpSpPr/>
          <p:nvPr/>
        </p:nvGrpSpPr>
        <p:grpSpPr>
          <a:xfrm>
            <a:off x="3595680" y="1773360"/>
            <a:ext cx="718920" cy="647640"/>
            <a:chOff x="3595680" y="1773360"/>
            <a:chExt cx="718920" cy="647640"/>
          </a:xfrm>
        </p:grpSpPr>
        <p:grpSp>
          <p:nvGrpSpPr>
            <p:cNvPr id="199" name="Group 115"/>
            <p:cNvGrpSpPr/>
            <p:nvPr/>
          </p:nvGrpSpPr>
          <p:grpSpPr>
            <a:xfrm>
              <a:off x="3595680" y="1773360"/>
              <a:ext cx="718920" cy="647640"/>
              <a:chOff x="3595680" y="1773360"/>
              <a:chExt cx="718920" cy="647640"/>
            </a:xfrm>
          </p:grpSpPr>
          <p:grpSp>
            <p:nvGrpSpPr>
              <p:cNvPr id="200" name="Group 116"/>
              <p:cNvGrpSpPr/>
              <p:nvPr/>
            </p:nvGrpSpPr>
            <p:grpSpPr>
              <a:xfrm>
                <a:off x="3595680" y="1773360"/>
                <a:ext cx="718920" cy="647640"/>
                <a:chOff x="3595680" y="1773360"/>
                <a:chExt cx="718920" cy="647640"/>
              </a:xfrm>
            </p:grpSpPr>
            <p:sp>
              <p:nvSpPr>
                <p:cNvPr id="201" name="Oval 117"/>
                <p:cNvSpPr/>
                <p:nvPr/>
              </p:nvSpPr>
              <p:spPr>
                <a:xfrm>
                  <a:off x="3595680" y="1773360"/>
                  <a:ext cx="71892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b1ed"/>
                    </a:gs>
                    <a:gs pos="100000">
                      <a:srgbClr val="cc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Rectangle 118"/>
                <p:cNvSpPr/>
                <p:nvPr/>
              </p:nvSpPr>
              <p:spPr>
                <a:xfrm>
                  <a:off x="3595680" y="1773360"/>
                  <a:ext cx="18396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Rectangle 119"/>
              <p:cNvSpPr/>
              <p:nvPr/>
            </p:nvSpPr>
            <p:spPr>
              <a:xfrm>
                <a:off x="3666960" y="1773360"/>
                <a:ext cx="183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Rectangle 15"/>
            <p:cNvSpPr/>
            <p:nvPr/>
          </p:nvSpPr>
          <p:spPr>
            <a:xfrm>
              <a:off x="3760200" y="17733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12"/>
          <p:cNvGrpSpPr/>
          <p:nvPr/>
        </p:nvGrpSpPr>
        <p:grpSpPr>
          <a:xfrm>
            <a:off x="5651640" y="1773360"/>
            <a:ext cx="718920" cy="647640"/>
            <a:chOff x="5651640" y="1773360"/>
            <a:chExt cx="718920" cy="647640"/>
          </a:xfrm>
        </p:grpSpPr>
        <p:grpSp>
          <p:nvGrpSpPr>
            <p:cNvPr id="206" name="Group 49"/>
            <p:cNvGrpSpPr/>
            <p:nvPr/>
          </p:nvGrpSpPr>
          <p:grpSpPr>
            <a:xfrm>
              <a:off x="5651640" y="1773360"/>
              <a:ext cx="718920" cy="647640"/>
              <a:chOff x="5651640" y="1773360"/>
              <a:chExt cx="718920" cy="647640"/>
            </a:xfrm>
          </p:grpSpPr>
          <p:sp>
            <p:nvSpPr>
              <p:cNvPr id="207" name="Oval 50"/>
              <p:cNvSpPr/>
              <p:nvPr/>
            </p:nvSpPr>
            <p:spPr>
              <a:xfrm>
                <a:off x="5651640" y="1773360"/>
                <a:ext cx="718920" cy="647640"/>
              </a:xfrm>
              <a:prstGeom prst="ellipse">
                <a:avLst/>
              </a:prstGeom>
              <a:gradFill rotWithShape="0">
                <a:gsLst>
                  <a:gs pos="0">
                    <a:srgbClr val="cbb1ed"/>
                  </a:gs>
                  <a:gs pos="100000">
                    <a:srgbClr val="cc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51"/>
              <p:cNvSpPr/>
              <p:nvPr/>
            </p:nvSpPr>
            <p:spPr>
              <a:xfrm>
                <a:off x="5651640" y="1773360"/>
                <a:ext cx="1839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Rectangle 19"/>
            <p:cNvSpPr/>
            <p:nvPr/>
          </p:nvSpPr>
          <p:spPr>
            <a:xfrm>
              <a:off x="5815800" y="17733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10"/>
          <p:cNvGrpSpPr/>
          <p:nvPr/>
        </p:nvGrpSpPr>
        <p:grpSpPr>
          <a:xfrm>
            <a:off x="6732720" y="1773360"/>
            <a:ext cx="790560" cy="647640"/>
            <a:chOff x="6732720" y="1773360"/>
            <a:chExt cx="790560" cy="647640"/>
          </a:xfrm>
        </p:grpSpPr>
        <p:grpSp>
          <p:nvGrpSpPr>
            <p:cNvPr id="211" name="Group 70"/>
            <p:cNvGrpSpPr/>
            <p:nvPr/>
          </p:nvGrpSpPr>
          <p:grpSpPr>
            <a:xfrm>
              <a:off x="6732720" y="1773360"/>
              <a:ext cx="719280" cy="647640"/>
              <a:chOff x="6732720" y="1773360"/>
              <a:chExt cx="719280" cy="647640"/>
            </a:xfrm>
          </p:grpSpPr>
          <p:sp>
            <p:nvSpPr>
              <p:cNvPr id="212" name="Oval 71"/>
              <p:cNvSpPr/>
              <p:nvPr/>
            </p:nvSpPr>
            <p:spPr>
              <a:xfrm>
                <a:off x="6732720" y="1773360"/>
                <a:ext cx="719280" cy="647640"/>
              </a:xfrm>
              <a:prstGeom prst="ellipse">
                <a:avLst/>
              </a:prstGeom>
              <a:gradFill rotWithShape="0">
                <a:gsLst>
                  <a:gs pos="0">
                    <a:srgbClr val="cbb1ed"/>
                  </a:gs>
                  <a:gs pos="100000">
                    <a:srgbClr val="cc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72"/>
              <p:cNvSpPr/>
              <p:nvPr/>
            </p:nvSpPr>
            <p:spPr>
              <a:xfrm>
                <a:off x="6732720" y="177336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Rectangle 20"/>
            <p:cNvSpPr/>
            <p:nvPr/>
          </p:nvSpPr>
          <p:spPr>
            <a:xfrm>
              <a:off x="6804360" y="1773360"/>
              <a:ext cx="71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06"/>
          <p:cNvGrpSpPr/>
          <p:nvPr/>
        </p:nvGrpSpPr>
        <p:grpSpPr>
          <a:xfrm>
            <a:off x="2552760" y="1773360"/>
            <a:ext cx="718920" cy="647640"/>
            <a:chOff x="2552760" y="1773360"/>
            <a:chExt cx="718920" cy="647640"/>
          </a:xfrm>
        </p:grpSpPr>
        <p:grpSp>
          <p:nvGrpSpPr>
            <p:cNvPr id="216" name="Group 85"/>
            <p:cNvGrpSpPr/>
            <p:nvPr/>
          </p:nvGrpSpPr>
          <p:grpSpPr>
            <a:xfrm>
              <a:off x="2552760" y="1773360"/>
              <a:ext cx="718920" cy="647640"/>
              <a:chOff x="2552760" y="1773360"/>
              <a:chExt cx="718920" cy="647640"/>
            </a:xfrm>
          </p:grpSpPr>
          <p:sp>
            <p:nvSpPr>
              <p:cNvPr id="217" name="Oval 86"/>
              <p:cNvSpPr/>
              <p:nvPr/>
            </p:nvSpPr>
            <p:spPr>
              <a:xfrm>
                <a:off x="2552760" y="1773360"/>
                <a:ext cx="718920" cy="647640"/>
              </a:xfrm>
              <a:prstGeom prst="ellipse">
                <a:avLst/>
              </a:prstGeom>
              <a:gradFill rotWithShape="0">
                <a:gsLst>
                  <a:gs pos="0">
                    <a:srgbClr val="cbb1ed"/>
                  </a:gs>
                  <a:gs pos="100000">
                    <a:srgbClr val="cc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87"/>
              <p:cNvSpPr/>
              <p:nvPr/>
            </p:nvSpPr>
            <p:spPr>
              <a:xfrm>
                <a:off x="2552760" y="1773360"/>
                <a:ext cx="1839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Rectangle 21"/>
            <p:cNvSpPr/>
            <p:nvPr/>
          </p:nvSpPr>
          <p:spPr>
            <a:xfrm>
              <a:off x="2716560" y="17733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36"/>
          <p:cNvGrpSpPr/>
          <p:nvPr/>
        </p:nvGrpSpPr>
        <p:grpSpPr>
          <a:xfrm>
            <a:off x="468360" y="1052640"/>
            <a:ext cx="718920" cy="647640"/>
            <a:chOff x="468360" y="1052640"/>
            <a:chExt cx="718920" cy="647640"/>
          </a:xfrm>
        </p:grpSpPr>
        <p:sp>
          <p:nvSpPr>
            <p:cNvPr id="221" name="Oval 35"/>
            <p:cNvSpPr/>
            <p:nvPr/>
          </p:nvSpPr>
          <p:spPr>
            <a:xfrm>
              <a:off x="468360" y="1052640"/>
              <a:ext cx="718920" cy="647640"/>
            </a:xfrm>
            <a:prstGeom prst="ellipse">
              <a:avLst/>
            </a:prstGeom>
            <a:gradFill rotWithShape="0">
              <a:gsLst>
                <a:gs pos="0">
                  <a:srgbClr val="cbb1ed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2"/>
            <p:cNvSpPr/>
            <p:nvPr/>
          </p:nvSpPr>
          <p:spPr>
            <a:xfrm>
              <a:off x="468360" y="1052640"/>
              <a:ext cx="64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14"/>
          <p:cNvGrpSpPr/>
          <p:nvPr/>
        </p:nvGrpSpPr>
        <p:grpSpPr>
          <a:xfrm>
            <a:off x="468360" y="1773360"/>
            <a:ext cx="694800" cy="647640"/>
            <a:chOff x="468360" y="1773360"/>
            <a:chExt cx="694800" cy="647640"/>
          </a:xfrm>
        </p:grpSpPr>
        <p:grpSp>
          <p:nvGrpSpPr>
            <p:cNvPr id="224" name="Group 100"/>
            <p:cNvGrpSpPr/>
            <p:nvPr/>
          </p:nvGrpSpPr>
          <p:grpSpPr>
            <a:xfrm>
              <a:off x="468360" y="1773360"/>
              <a:ext cx="693720" cy="647640"/>
              <a:chOff x="468360" y="1773360"/>
              <a:chExt cx="693720" cy="647640"/>
            </a:xfrm>
          </p:grpSpPr>
          <p:sp>
            <p:nvSpPr>
              <p:cNvPr id="225" name="Oval 101"/>
              <p:cNvSpPr/>
              <p:nvPr/>
            </p:nvSpPr>
            <p:spPr>
              <a:xfrm>
                <a:off x="468360" y="1773360"/>
                <a:ext cx="693720" cy="647640"/>
              </a:xfrm>
              <a:prstGeom prst="ellipse">
                <a:avLst/>
              </a:prstGeom>
              <a:gradFill rotWithShape="0">
                <a:gsLst>
                  <a:gs pos="0">
                    <a:srgbClr val="cbb1ed"/>
                  </a:gs>
                  <a:gs pos="100000">
                    <a:srgbClr val="cc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102"/>
              <p:cNvSpPr/>
              <p:nvPr/>
            </p:nvSpPr>
            <p:spPr>
              <a:xfrm>
                <a:off x="468360" y="1773360"/>
                <a:ext cx="17748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Rectangle 23"/>
            <p:cNvSpPr/>
            <p:nvPr/>
          </p:nvSpPr>
          <p:spPr>
            <a:xfrm>
              <a:off x="538560" y="1773360"/>
              <a:ext cx="62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07"/>
          <p:cNvGrpSpPr/>
          <p:nvPr/>
        </p:nvGrpSpPr>
        <p:grpSpPr>
          <a:xfrm>
            <a:off x="2563920" y="1052640"/>
            <a:ext cx="718920" cy="647640"/>
            <a:chOff x="2563920" y="1052640"/>
            <a:chExt cx="718920" cy="647640"/>
          </a:xfrm>
        </p:grpSpPr>
        <p:grpSp>
          <p:nvGrpSpPr>
            <p:cNvPr id="229" name="Group 64"/>
            <p:cNvGrpSpPr/>
            <p:nvPr/>
          </p:nvGrpSpPr>
          <p:grpSpPr>
            <a:xfrm>
              <a:off x="2563920" y="1052640"/>
              <a:ext cx="718920" cy="647640"/>
              <a:chOff x="2563920" y="1052640"/>
              <a:chExt cx="718920" cy="647640"/>
            </a:xfrm>
          </p:grpSpPr>
          <p:sp>
            <p:nvSpPr>
              <p:cNvPr id="230" name="Oval 65"/>
              <p:cNvSpPr/>
              <p:nvPr/>
            </p:nvSpPr>
            <p:spPr>
              <a:xfrm>
                <a:off x="2563920" y="1052640"/>
                <a:ext cx="718920" cy="647640"/>
              </a:xfrm>
              <a:prstGeom prst="ellipse">
                <a:avLst/>
              </a:prstGeom>
              <a:gradFill rotWithShape="0">
                <a:gsLst>
                  <a:gs pos="0">
                    <a:srgbClr val="cbb1ed"/>
                  </a:gs>
                  <a:gs pos="100000">
                    <a:srgbClr val="cc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66"/>
              <p:cNvSpPr/>
              <p:nvPr/>
            </p:nvSpPr>
            <p:spPr>
              <a:xfrm>
                <a:off x="2563920" y="1052640"/>
                <a:ext cx="1839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Rectangle 24"/>
            <p:cNvSpPr/>
            <p:nvPr/>
          </p:nvSpPr>
          <p:spPr>
            <a:xfrm>
              <a:off x="2636640" y="105264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03"/>
          <p:cNvGrpSpPr/>
          <p:nvPr/>
        </p:nvGrpSpPr>
        <p:grpSpPr>
          <a:xfrm>
            <a:off x="1476360" y="1773360"/>
            <a:ext cx="720000" cy="647640"/>
            <a:chOff x="1476360" y="1773360"/>
            <a:chExt cx="720000" cy="647640"/>
          </a:xfrm>
        </p:grpSpPr>
        <p:grpSp>
          <p:nvGrpSpPr>
            <p:cNvPr id="234" name="Group 40"/>
            <p:cNvGrpSpPr/>
            <p:nvPr/>
          </p:nvGrpSpPr>
          <p:grpSpPr>
            <a:xfrm>
              <a:off x="1476360" y="1773360"/>
              <a:ext cx="720000" cy="647640"/>
              <a:chOff x="1476360" y="1773360"/>
              <a:chExt cx="720000" cy="647640"/>
            </a:xfrm>
          </p:grpSpPr>
          <p:sp>
            <p:nvSpPr>
              <p:cNvPr id="235" name="Oval 41"/>
              <p:cNvSpPr/>
              <p:nvPr/>
            </p:nvSpPr>
            <p:spPr>
              <a:xfrm>
                <a:off x="1476360" y="1773360"/>
                <a:ext cx="720000" cy="647640"/>
              </a:xfrm>
              <a:prstGeom prst="ellipse">
                <a:avLst/>
              </a:prstGeom>
              <a:gradFill rotWithShape="0">
                <a:gsLst>
                  <a:gs pos="0">
                    <a:srgbClr val="cbb1ed"/>
                  </a:gs>
                  <a:gs pos="100000">
                    <a:srgbClr val="cc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42"/>
              <p:cNvSpPr/>
              <p:nvPr/>
            </p:nvSpPr>
            <p:spPr>
              <a:xfrm>
                <a:off x="1476360" y="177336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Rectangle 25"/>
            <p:cNvSpPr/>
            <p:nvPr/>
          </p:nvSpPr>
          <p:spPr>
            <a:xfrm>
              <a:off x="1547640" y="1773360"/>
              <a:ext cx="57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37"/>
          <p:cNvGrpSpPr/>
          <p:nvPr/>
        </p:nvGrpSpPr>
        <p:grpSpPr>
          <a:xfrm>
            <a:off x="1515960" y="1052640"/>
            <a:ext cx="719280" cy="647640"/>
            <a:chOff x="1515960" y="1052640"/>
            <a:chExt cx="719280" cy="647640"/>
          </a:xfrm>
        </p:grpSpPr>
        <p:sp>
          <p:nvSpPr>
            <p:cNvPr id="239" name="Oval 38"/>
            <p:cNvSpPr/>
            <p:nvPr/>
          </p:nvSpPr>
          <p:spPr>
            <a:xfrm>
              <a:off x="1515960" y="1052640"/>
              <a:ext cx="719280" cy="647640"/>
            </a:xfrm>
            <a:prstGeom prst="ellipse">
              <a:avLst/>
            </a:prstGeom>
            <a:gradFill rotWithShape="0">
              <a:gsLst>
                <a:gs pos="0">
                  <a:srgbClr val="cbb1ed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9"/>
            <p:cNvSpPr/>
            <p:nvPr/>
          </p:nvSpPr>
          <p:spPr>
            <a:xfrm>
              <a:off x="1609200" y="10526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21"/>
          <p:cNvGrpSpPr/>
          <p:nvPr/>
        </p:nvGrpSpPr>
        <p:grpSpPr>
          <a:xfrm>
            <a:off x="7802640" y="1052640"/>
            <a:ext cx="718920" cy="647640"/>
            <a:chOff x="7802640" y="1052640"/>
            <a:chExt cx="718920" cy="647640"/>
          </a:xfrm>
        </p:grpSpPr>
        <p:grpSp>
          <p:nvGrpSpPr>
            <p:cNvPr id="242" name="Group 122"/>
            <p:cNvGrpSpPr/>
            <p:nvPr/>
          </p:nvGrpSpPr>
          <p:grpSpPr>
            <a:xfrm>
              <a:off x="7802640" y="1052640"/>
              <a:ext cx="718920" cy="647640"/>
              <a:chOff x="7802640" y="1052640"/>
              <a:chExt cx="718920" cy="647640"/>
            </a:xfrm>
          </p:grpSpPr>
          <p:sp>
            <p:nvSpPr>
              <p:cNvPr id="243" name="Oval 123"/>
              <p:cNvSpPr/>
              <p:nvPr/>
            </p:nvSpPr>
            <p:spPr>
              <a:xfrm>
                <a:off x="7802640" y="1052640"/>
                <a:ext cx="718920" cy="647640"/>
              </a:xfrm>
              <a:prstGeom prst="ellipse">
                <a:avLst/>
              </a:prstGeom>
              <a:gradFill rotWithShape="0">
                <a:gsLst>
                  <a:gs pos="0">
                    <a:srgbClr val="cbb1ed"/>
                  </a:gs>
                  <a:gs pos="100000">
                    <a:srgbClr val="cc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124"/>
              <p:cNvSpPr/>
              <p:nvPr/>
            </p:nvSpPr>
            <p:spPr>
              <a:xfrm>
                <a:off x="7802640" y="1052640"/>
                <a:ext cx="1839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Rectangle 125"/>
            <p:cNvSpPr/>
            <p:nvPr/>
          </p:nvSpPr>
          <p:spPr>
            <a:xfrm>
              <a:off x="7966800" y="10526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26"/>
          <p:cNvGrpSpPr/>
          <p:nvPr/>
        </p:nvGrpSpPr>
        <p:grpSpPr>
          <a:xfrm>
            <a:off x="7812000" y="1773360"/>
            <a:ext cx="719280" cy="647640"/>
            <a:chOff x="7812000" y="1773360"/>
            <a:chExt cx="719280" cy="647640"/>
          </a:xfrm>
        </p:grpSpPr>
        <p:grpSp>
          <p:nvGrpSpPr>
            <p:cNvPr id="247" name="Group 127"/>
            <p:cNvGrpSpPr/>
            <p:nvPr/>
          </p:nvGrpSpPr>
          <p:grpSpPr>
            <a:xfrm>
              <a:off x="7812000" y="1773360"/>
              <a:ext cx="719280" cy="647640"/>
              <a:chOff x="7812000" y="1773360"/>
              <a:chExt cx="719280" cy="647640"/>
            </a:xfrm>
          </p:grpSpPr>
          <p:sp>
            <p:nvSpPr>
              <p:cNvPr id="248" name="Oval 128"/>
              <p:cNvSpPr/>
              <p:nvPr/>
            </p:nvSpPr>
            <p:spPr>
              <a:xfrm>
                <a:off x="7812000" y="1773360"/>
                <a:ext cx="719280" cy="647640"/>
              </a:xfrm>
              <a:prstGeom prst="ellipse">
                <a:avLst/>
              </a:prstGeom>
              <a:gradFill rotWithShape="0">
                <a:gsLst>
                  <a:gs pos="0">
                    <a:srgbClr val="cbb1ed"/>
                  </a:gs>
                  <a:gs pos="100000">
                    <a:srgbClr val="cc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玉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129"/>
              <p:cNvSpPr/>
              <p:nvPr/>
            </p:nvSpPr>
            <p:spPr>
              <a:xfrm>
                <a:off x="7812000" y="177336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Rectangle 130"/>
            <p:cNvSpPr/>
            <p:nvPr/>
          </p:nvSpPr>
          <p:spPr>
            <a:xfrm>
              <a:off x="7883640" y="1773360"/>
              <a:ext cx="183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132"/>
          <p:cNvGrpSpPr/>
          <p:nvPr/>
        </p:nvGrpSpPr>
        <p:grpSpPr>
          <a:xfrm>
            <a:off x="-47880" y="35640"/>
            <a:ext cx="2338560" cy="1144800"/>
            <a:chOff x="-47880" y="35640"/>
            <a:chExt cx="2338560" cy="1144800"/>
          </a:xfrm>
        </p:grpSpPr>
        <p:sp>
          <p:nvSpPr>
            <p:cNvPr id="252" name="Oval 133"/>
            <p:cNvSpPr/>
            <p:nvPr/>
          </p:nvSpPr>
          <p:spPr>
            <a:xfrm rot="21115800">
              <a:off x="0" y="189000"/>
              <a:ext cx="2243160" cy="83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WordArt 134"/>
            <p:cNvSpPr txBox="1"/>
            <p:nvPr/>
          </p:nvSpPr>
          <p:spPr>
            <a:xfrm>
              <a:off x="324000" y="189000"/>
              <a:ext cx="1800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solidFill>
                    <a:srgbClr val="00ffff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课内训练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254" name="Group 137"/>
          <p:cNvGrpSpPr/>
          <p:nvPr/>
        </p:nvGrpSpPr>
        <p:grpSpPr>
          <a:xfrm>
            <a:off x="5651640" y="1773360"/>
            <a:ext cx="718920" cy="647640"/>
            <a:chOff x="5651640" y="1773360"/>
            <a:chExt cx="718920" cy="647640"/>
          </a:xfrm>
        </p:grpSpPr>
        <p:grpSp>
          <p:nvGrpSpPr>
            <p:cNvPr id="255" name="Group 138"/>
            <p:cNvGrpSpPr/>
            <p:nvPr/>
          </p:nvGrpSpPr>
          <p:grpSpPr>
            <a:xfrm>
              <a:off x="5651640" y="1773360"/>
              <a:ext cx="718920" cy="647640"/>
              <a:chOff x="5651640" y="1773360"/>
              <a:chExt cx="718920" cy="647640"/>
            </a:xfrm>
          </p:grpSpPr>
          <p:sp>
            <p:nvSpPr>
              <p:cNvPr id="256" name="Oval 139"/>
              <p:cNvSpPr/>
              <p:nvPr/>
            </p:nvSpPr>
            <p:spPr>
              <a:xfrm>
                <a:off x="5651640" y="1773360"/>
                <a:ext cx="718920" cy="647640"/>
              </a:xfrm>
              <a:prstGeom prst="ellipse">
                <a:avLst/>
              </a:prstGeom>
              <a:gradFill rotWithShape="0">
                <a:gsLst>
                  <a:gs pos="0">
                    <a:srgbClr val="cbb1ed"/>
                  </a:gs>
                  <a:gs pos="100000">
                    <a:srgbClr val="cc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140"/>
              <p:cNvSpPr/>
              <p:nvPr/>
            </p:nvSpPr>
            <p:spPr>
              <a:xfrm>
                <a:off x="5651640" y="1773360"/>
                <a:ext cx="1839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Rectangle 141"/>
            <p:cNvSpPr/>
            <p:nvPr/>
          </p:nvSpPr>
          <p:spPr>
            <a:xfrm>
              <a:off x="5815800" y="17733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142"/>
          <p:cNvGrpSpPr/>
          <p:nvPr/>
        </p:nvGrpSpPr>
        <p:grpSpPr>
          <a:xfrm>
            <a:off x="4643280" y="1773360"/>
            <a:ext cx="720000" cy="647640"/>
            <a:chOff x="4643280" y="1773360"/>
            <a:chExt cx="720000" cy="647640"/>
          </a:xfrm>
        </p:grpSpPr>
        <p:grpSp>
          <p:nvGrpSpPr>
            <p:cNvPr id="260" name="Group 143"/>
            <p:cNvGrpSpPr/>
            <p:nvPr/>
          </p:nvGrpSpPr>
          <p:grpSpPr>
            <a:xfrm>
              <a:off x="4643280" y="1773360"/>
              <a:ext cx="720000" cy="647640"/>
              <a:chOff x="4643280" y="1773360"/>
              <a:chExt cx="720000" cy="647640"/>
            </a:xfrm>
          </p:grpSpPr>
          <p:sp>
            <p:nvSpPr>
              <p:cNvPr id="261" name="Oval 144"/>
              <p:cNvSpPr/>
              <p:nvPr/>
            </p:nvSpPr>
            <p:spPr>
              <a:xfrm>
                <a:off x="4643280" y="1773360"/>
                <a:ext cx="720000" cy="647640"/>
              </a:xfrm>
              <a:prstGeom prst="ellipse">
                <a:avLst/>
              </a:prstGeom>
              <a:gradFill rotWithShape="0">
                <a:gsLst>
                  <a:gs pos="0">
                    <a:srgbClr val="cbb1ed"/>
                  </a:gs>
                  <a:gs pos="100000">
                    <a:srgbClr val="cc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45"/>
              <p:cNvSpPr/>
              <p:nvPr/>
            </p:nvSpPr>
            <p:spPr>
              <a:xfrm>
                <a:off x="4643280" y="177336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Rectangle 146"/>
            <p:cNvSpPr/>
            <p:nvPr/>
          </p:nvSpPr>
          <p:spPr>
            <a:xfrm>
              <a:off x="4714920" y="1773360"/>
              <a:ext cx="64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3"/>
          <p:cNvGrpSpPr/>
          <p:nvPr/>
        </p:nvGrpSpPr>
        <p:grpSpPr>
          <a:xfrm>
            <a:off x="179280" y="2637000"/>
            <a:ext cx="3887640" cy="642600"/>
            <a:chOff x="179280" y="2637000"/>
            <a:chExt cx="3887640" cy="642600"/>
          </a:xfrm>
        </p:grpSpPr>
        <p:sp>
          <p:nvSpPr>
            <p:cNvPr id="265" name="Rectangle 26"/>
            <p:cNvSpPr/>
            <p:nvPr/>
          </p:nvSpPr>
          <p:spPr>
            <a:xfrm>
              <a:off x="179280" y="263700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                   </a:t>
              </a:r>
              <a:r>
                <a:rPr b="0" lang="zh-TW" sz="3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相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52"/>
            <p:cNvSpPr/>
            <p:nvPr/>
          </p:nvSpPr>
          <p:spPr>
            <a:xfrm>
              <a:off x="629280" y="3213000"/>
              <a:ext cx="8978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53"/>
            <p:cNvSpPr/>
            <p:nvPr/>
          </p:nvSpPr>
          <p:spPr>
            <a:xfrm>
              <a:off x="1824120" y="3213000"/>
              <a:ext cx="8978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174"/>
          <p:cNvGrpSpPr/>
          <p:nvPr/>
        </p:nvGrpSpPr>
        <p:grpSpPr>
          <a:xfrm>
            <a:off x="5076720" y="2637000"/>
            <a:ext cx="3311640" cy="642600"/>
            <a:chOff x="5076720" y="2637000"/>
            <a:chExt cx="3311640" cy="642600"/>
          </a:xfrm>
        </p:grpSpPr>
        <p:sp>
          <p:nvSpPr>
            <p:cNvPr id="269" name="Rectangle 27"/>
            <p:cNvSpPr/>
            <p:nvPr/>
          </p:nvSpPr>
          <p:spPr>
            <a:xfrm>
              <a:off x="5076720" y="2637000"/>
              <a:ext cx="331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Arial"/>
                </a:rPr>
                <a:t>白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54"/>
            <p:cNvSpPr/>
            <p:nvPr/>
          </p:nvSpPr>
          <p:spPr>
            <a:xfrm>
              <a:off x="6227640" y="3213000"/>
              <a:ext cx="8654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55"/>
            <p:cNvSpPr/>
            <p:nvPr/>
          </p:nvSpPr>
          <p:spPr>
            <a:xfrm>
              <a:off x="7451640" y="3213000"/>
              <a:ext cx="8654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30"/>
          <p:cNvSpPr/>
          <p:nvPr/>
        </p:nvSpPr>
        <p:spPr>
          <a:xfrm>
            <a:off x="324000" y="429264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林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57"/>
          <p:cNvSpPr/>
          <p:nvPr/>
        </p:nvSpPr>
        <p:spPr>
          <a:xfrm>
            <a:off x="1619280" y="479736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60"/>
          <p:cNvSpPr/>
          <p:nvPr/>
        </p:nvSpPr>
        <p:spPr>
          <a:xfrm>
            <a:off x="2987640" y="479736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5076720" y="3429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PMingLiU"/>
              </a:rPr>
              <a:t>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PMingLiU"/>
              </a:rPr>
              <a:t>         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PMingLiU"/>
              </a:rPr>
              <a:t>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8"/>
          <p:cNvSpPr/>
          <p:nvPr/>
        </p:nvSpPr>
        <p:spPr>
          <a:xfrm>
            <a:off x="5867280" y="4005360"/>
            <a:ext cx="86544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75"/>
          <p:cNvGrpSpPr/>
          <p:nvPr/>
        </p:nvGrpSpPr>
        <p:grpSpPr>
          <a:xfrm>
            <a:off x="468360" y="3429000"/>
            <a:ext cx="3527280" cy="642600"/>
            <a:chOff x="468360" y="3429000"/>
            <a:chExt cx="3527280" cy="642600"/>
          </a:xfrm>
        </p:grpSpPr>
        <p:sp>
          <p:nvSpPr>
            <p:cNvPr id="278" name="Rectangle 28"/>
            <p:cNvSpPr/>
            <p:nvPr/>
          </p:nvSpPr>
          <p:spPr>
            <a:xfrm>
              <a:off x="468360" y="34290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喷           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56"/>
            <p:cNvSpPr/>
            <p:nvPr/>
          </p:nvSpPr>
          <p:spPr>
            <a:xfrm>
              <a:off x="1243080" y="4005360"/>
              <a:ext cx="847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59"/>
            <p:cNvSpPr/>
            <p:nvPr/>
          </p:nvSpPr>
          <p:spPr>
            <a:xfrm>
              <a:off x="2937240" y="4005360"/>
              <a:ext cx="847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Line 162"/>
          <p:cNvSpPr/>
          <p:nvPr/>
        </p:nvSpPr>
        <p:spPr>
          <a:xfrm>
            <a:off x="7524720" y="400536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79"/>
          <p:cNvGrpSpPr/>
          <p:nvPr/>
        </p:nvGrpSpPr>
        <p:grpSpPr>
          <a:xfrm>
            <a:off x="250920" y="5013360"/>
            <a:ext cx="3673440" cy="642600"/>
            <a:chOff x="250920" y="5013360"/>
            <a:chExt cx="3673440" cy="642600"/>
          </a:xfrm>
        </p:grpSpPr>
        <p:sp>
          <p:nvSpPr>
            <p:cNvPr id="283" name="Rectangle 32"/>
            <p:cNvSpPr/>
            <p:nvPr/>
          </p:nvSpPr>
          <p:spPr>
            <a:xfrm>
              <a:off x="250920" y="5013360"/>
              <a:ext cx="36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zh-TW" sz="3600" spc="-1" strike="noStrike">
                  <a:solidFill>
                    <a:srgbClr val="000000"/>
                  </a:solidFill>
                  <a:latin typeface="Arial"/>
                </a:rPr>
                <a:t>坍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zh-TW" sz="3600" spc="-1" strike="noStrike">
                  <a:solidFill>
                    <a:srgbClr val="000000"/>
                  </a:solidFill>
                  <a:latin typeface="Arial"/>
                </a:rPr>
                <a:t>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61"/>
            <p:cNvSpPr/>
            <p:nvPr/>
          </p:nvSpPr>
          <p:spPr>
            <a:xfrm>
              <a:off x="746280" y="5587920"/>
              <a:ext cx="848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63"/>
            <p:cNvSpPr/>
            <p:nvPr/>
          </p:nvSpPr>
          <p:spPr>
            <a:xfrm>
              <a:off x="2300040" y="5587920"/>
              <a:ext cx="848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78"/>
          <p:cNvGrpSpPr/>
          <p:nvPr/>
        </p:nvGrpSpPr>
        <p:grpSpPr>
          <a:xfrm>
            <a:off x="5076720" y="4221000"/>
            <a:ext cx="3841920" cy="642600"/>
            <a:chOff x="5076720" y="4221000"/>
            <a:chExt cx="3841920" cy="642600"/>
          </a:xfrm>
        </p:grpSpPr>
        <p:sp>
          <p:nvSpPr>
            <p:cNvPr id="287" name="Rectangle 31"/>
            <p:cNvSpPr/>
            <p:nvPr/>
          </p:nvSpPr>
          <p:spPr>
            <a:xfrm>
              <a:off x="5076720" y="4221000"/>
              <a:ext cx="384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虎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        </a:t>
              </a:r>
              <a:r>
                <a:rPr b="0" lang="zh-TW" sz="3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狮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	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64"/>
            <p:cNvSpPr/>
            <p:nvPr/>
          </p:nvSpPr>
          <p:spPr>
            <a:xfrm>
              <a:off x="5867280" y="4797360"/>
              <a:ext cx="8654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65"/>
            <p:cNvSpPr/>
            <p:nvPr/>
          </p:nvSpPr>
          <p:spPr>
            <a:xfrm>
              <a:off x="7596360" y="4797360"/>
              <a:ext cx="8650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80"/>
          <p:cNvGrpSpPr/>
          <p:nvPr/>
        </p:nvGrpSpPr>
        <p:grpSpPr>
          <a:xfrm>
            <a:off x="5003640" y="4944960"/>
            <a:ext cx="3672000" cy="642600"/>
            <a:chOff x="5003640" y="4944960"/>
            <a:chExt cx="3672000" cy="642600"/>
          </a:xfrm>
        </p:grpSpPr>
        <p:sp>
          <p:nvSpPr>
            <p:cNvPr id="291" name="Rectangle 33"/>
            <p:cNvSpPr/>
            <p:nvPr/>
          </p:nvSpPr>
          <p:spPr>
            <a:xfrm>
              <a:off x="5003640" y="4944960"/>
              <a:ext cx="36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天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66"/>
            <p:cNvSpPr/>
            <p:nvPr/>
          </p:nvSpPr>
          <p:spPr>
            <a:xfrm>
              <a:off x="6227640" y="5516640"/>
              <a:ext cx="8654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7"/>
            <p:cNvSpPr/>
            <p:nvPr/>
          </p:nvSpPr>
          <p:spPr>
            <a:xfrm>
              <a:off x="7596360" y="5516640"/>
              <a:ext cx="8650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82"/>
          <p:cNvGrpSpPr/>
          <p:nvPr/>
        </p:nvGrpSpPr>
        <p:grpSpPr>
          <a:xfrm>
            <a:off x="324000" y="5877000"/>
            <a:ext cx="4033800" cy="642600"/>
            <a:chOff x="324000" y="5877000"/>
            <a:chExt cx="4033800" cy="642600"/>
          </a:xfrm>
        </p:grpSpPr>
        <p:sp>
          <p:nvSpPr>
            <p:cNvPr id="295" name="Rectangle 34"/>
            <p:cNvSpPr/>
            <p:nvPr/>
          </p:nvSpPr>
          <p:spPr>
            <a:xfrm>
              <a:off x="324000" y="5877000"/>
              <a:ext cx="403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zh-TW" sz="3600" spc="-1" strike="noStrike">
                  <a:solidFill>
                    <a:srgbClr val="000000"/>
                  </a:solidFill>
                  <a:latin typeface="Arial"/>
                </a:rPr>
                <a:t>立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zh-TW" sz="3600" spc="-1" strike="noStrike">
                  <a:solidFill>
                    <a:srgbClr val="000000"/>
                  </a:solidFill>
                  <a:latin typeface="Arial"/>
                </a:rPr>
                <a:t>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68"/>
            <p:cNvSpPr/>
            <p:nvPr/>
          </p:nvSpPr>
          <p:spPr>
            <a:xfrm>
              <a:off x="684360" y="6381720"/>
              <a:ext cx="8650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69"/>
            <p:cNvSpPr/>
            <p:nvPr/>
          </p:nvSpPr>
          <p:spPr>
            <a:xfrm>
              <a:off x="2340000" y="6381720"/>
              <a:ext cx="8650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AutoShape 183">
            <a:hlinkClick r:id="rId2" action="ppaction://hlinksldjump"/>
          </p:cNvPr>
          <p:cNvSpPr/>
          <p:nvPr/>
        </p:nvSpPr>
        <p:spPr>
          <a:xfrm>
            <a:off x="7991640" y="6165720"/>
            <a:ext cx="1152360" cy="692280"/>
          </a:xfrm>
          <a:custGeom>
            <a:avLst/>
            <a:gdLst>
              <a:gd name="textAreaLeft" fmla="*/ 44640 w 1152360"/>
              <a:gd name="textAreaRight" fmla="*/ 1107720 w 1152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5948" h="21600">
                <a:moveTo>
                  <a:pt x="0" y="0"/>
                </a:moveTo>
                <a:lnTo>
                  <a:pt x="35948" y="0"/>
                </a:lnTo>
                <a:lnTo>
                  <a:pt x="35948" y="21600"/>
                </a:lnTo>
                <a:lnTo>
                  <a:pt x="0" y="21600"/>
                </a:lnTo>
                <a:close/>
              </a:path>
              <a:path fill="lightenLess" w="35948" h="21600">
                <a:moveTo>
                  <a:pt x="0" y="0"/>
                </a:moveTo>
                <a:lnTo>
                  <a:pt x="35948" y="0"/>
                </a:lnTo>
                <a:lnTo>
                  <a:pt x="34548" y="1400"/>
                </a:lnTo>
                <a:lnTo>
                  <a:pt x="1400" y="1400"/>
                </a:lnTo>
                <a:close/>
              </a:path>
              <a:path fill="darken" w="35948" h="21600">
                <a:moveTo>
                  <a:pt x="35948" y="0"/>
                </a:moveTo>
                <a:lnTo>
                  <a:pt x="35948" y="21600"/>
                </a:lnTo>
                <a:lnTo>
                  <a:pt x="34548" y="20200"/>
                </a:lnTo>
                <a:lnTo>
                  <a:pt x="34548" y="1400"/>
                </a:lnTo>
                <a:close/>
              </a:path>
              <a:path fill="darkenLess" w="35948" h="21600">
                <a:moveTo>
                  <a:pt x="35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48" y="20200"/>
                </a:lnTo>
                <a:close/>
              </a:path>
              <a:path fill="lighten" w="35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48" h="21600">
                <a:moveTo>
                  <a:pt x="10967" y="7493"/>
                </a:moveTo>
                <a:lnTo>
                  <a:pt x="14475" y="7493"/>
                </a:lnTo>
                <a:lnTo>
                  <a:pt x="14475" y="12828"/>
                </a:lnTo>
                <a:cubicBezTo>
                  <a:pt x="14475" y="13751"/>
                  <a:pt x="15276" y="14482"/>
                  <a:pt x="16311" y="14482"/>
                </a:cubicBezTo>
                <a:lnTo>
                  <a:pt x="17974" y="14482"/>
                </a:lnTo>
                <a:cubicBezTo>
                  <a:pt x="19010" y="14482"/>
                  <a:pt x="19810" y="13751"/>
                  <a:pt x="19810" y="12828"/>
                </a:cubicBezTo>
                <a:lnTo>
                  <a:pt x="19810" y="7493"/>
                </a:lnTo>
                <a:lnTo>
                  <a:pt x="17974" y="7493"/>
                </a:lnTo>
                <a:lnTo>
                  <a:pt x="21481" y="3985"/>
                </a:lnTo>
                <a:lnTo>
                  <a:pt x="25154" y="7493"/>
                </a:lnTo>
                <a:lnTo>
                  <a:pt x="23318" y="7493"/>
                </a:lnTo>
                <a:lnTo>
                  <a:pt x="23318" y="12828"/>
                </a:lnTo>
                <a:cubicBezTo>
                  <a:pt x="23318" y="15596"/>
                  <a:pt x="20742" y="18155"/>
                  <a:pt x="17974" y="18155"/>
                </a:cubicBezTo>
                <a:lnTo>
                  <a:pt x="16311" y="18155"/>
                </a:lnTo>
                <a:cubicBezTo>
                  <a:pt x="13544" y="18155"/>
                  <a:pt x="10967" y="15596"/>
                  <a:pt x="10967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44444E-006 L -0.44253 0.2257 E">
                                      <p:cBhvr>
                                        <p:cTn id="96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44444E-006 L -0.52986 0.2257 E">
                                      <p:cBhvr>
                                        <p:cTn id="100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96296E-006 L 0.18108 0.1206 E">
                                      <p:cBhvr>
                                        <p:cTn id="104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3165 0.1206 E">
                                      <p:cBhvr>
                                        <p:cTn id="108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44444E-006 L -0.01996 0.34121 E">
                                      <p:cBhvr>
                                        <p:cTn id="112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96296E-006 L -0.51962 0.23611 E">
                                      <p:cBhvr>
                                        <p:cTn id="116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0.01771 0.34121 E">
                                      <p:cBhvr>
                                        <p:cTn id="12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96296E-006 L 0.66927 0.23611 E">
                                      <p:cBhvr>
                                        <p:cTn id="124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6296E-006 L -0.425 0.35162 E">
                                      <p:cBhvr>
                                        <p:cTn id="128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6296E-006 L -0.29114 0.35162 E">
                                      <p:cBhvr>
                                        <p:cTn id="132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85185E-006 L 0.59861 0.45139 E">
                                      <p:cBhvr>
                                        <p:cTn id="136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96296E-006 L 0.43767 0.35162 E">
                                      <p:cBhvr>
                                        <p:cTn id="140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96296E-006 L -0.65746 0.46713 E">
                                      <p:cBhvr>
                                        <p:cTn id="144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44444E-006 L -0.5894 0.57223 E">
                                      <p:cBhvr>
                                        <p:cTn id="148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0.40868 0.56181 E">
                                      <p:cBhvr>
                                        <p:cTn id="152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5.92593E-006 L 0.43316 0.56691 E">
                                      <p:cBhvr>
                                        <p:cTn id="156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-0.00533 L 0.02604 0.57731 E">
                                      <p:cBhvr>
                                        <p:cTn id="160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6296E-006 L -0.01527 0.58264 E">
                                      <p:cBhvr>
                                        <p:cTn id="164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539640" y="170028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一篇观察日记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闪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选一个也可以自由命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"/>
          <p:cNvSpPr/>
          <p:nvPr/>
        </p:nvSpPr>
        <p:spPr>
          <a:xfrm>
            <a:off x="1228680" y="4986360"/>
            <a:ext cx="50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4B9E-23B0-4A30-9E53-569406DF41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bdb5e761-e575-4a51-bb94-2c520544f4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6"/>
          <p:cNvGrpSpPr/>
          <p:nvPr/>
        </p:nvGrpSpPr>
        <p:grpSpPr>
          <a:xfrm>
            <a:off x="-47880" y="35640"/>
            <a:ext cx="2338560" cy="1144800"/>
            <a:chOff x="-47880" y="35640"/>
            <a:chExt cx="2338560" cy="1144800"/>
          </a:xfrm>
        </p:grpSpPr>
        <p:sp>
          <p:nvSpPr>
            <p:cNvPr id="67" name="Oval 7"/>
            <p:cNvSpPr/>
            <p:nvPr/>
          </p:nvSpPr>
          <p:spPr>
            <a:xfrm rot="21115800">
              <a:off x="0" y="189000"/>
              <a:ext cx="2243160" cy="83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WordArt 8"/>
            <p:cNvSpPr txBox="1"/>
            <p:nvPr/>
          </p:nvSpPr>
          <p:spPr>
            <a:xfrm>
              <a:off x="324000" y="189000"/>
              <a:ext cx="1800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solidFill>
                    <a:srgbClr val="00ffff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新课导入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4"/>
          <p:cNvGrpSpPr/>
          <p:nvPr/>
        </p:nvGrpSpPr>
        <p:grpSpPr>
          <a:xfrm>
            <a:off x="-47880" y="35640"/>
            <a:ext cx="2338560" cy="1144800"/>
            <a:chOff x="-47880" y="35640"/>
            <a:chExt cx="2338560" cy="1144800"/>
          </a:xfrm>
        </p:grpSpPr>
        <p:sp>
          <p:nvSpPr>
            <p:cNvPr id="70" name="Oval 5"/>
            <p:cNvSpPr/>
            <p:nvPr/>
          </p:nvSpPr>
          <p:spPr>
            <a:xfrm rot="21115800">
              <a:off x="0" y="189000"/>
              <a:ext cx="2243160" cy="83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WordArt 6"/>
            <p:cNvSpPr txBox="1"/>
            <p:nvPr/>
          </p:nvSpPr>
          <p:spPr>
            <a:xfrm>
              <a:off x="324000" y="189000"/>
              <a:ext cx="1800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solidFill>
                    <a:srgbClr val="00ffff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字词学习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72" name="Rectangle 9"/>
          <p:cNvSpPr/>
          <p:nvPr/>
        </p:nvSpPr>
        <p:spPr>
          <a:xfrm>
            <a:off x="468360" y="170028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大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2556000" y="170028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堤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4859280" y="170028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白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7380360" y="170028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汹</a:t>
            </a:r>
            <a:r>
              <a:rPr b="1" lang="zh-TW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2556000" y="51544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山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466560" y="51544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喇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538200" y="3357720"/>
            <a:ext cx="15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咆</a:t>
            </a:r>
            <a:r>
              <a:rPr b="1" lang="zh-TW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4859280" y="515448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喷雪滚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2627280" y="335772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浪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887400" y="1052640"/>
            <a:ext cx="12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ch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3133080" y="10526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b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195520" y="105264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ō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241920" y="270828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o  xià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3120840" y="27082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t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6"/>
          <p:cNvSpPr/>
          <p:nvPr/>
        </p:nvSpPr>
        <p:spPr>
          <a:xfrm>
            <a:off x="4547880" y="458136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pēng    xu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7"/>
          <p:cNvSpPr/>
          <p:nvPr/>
        </p:nvSpPr>
        <p:spPr>
          <a:xfrm>
            <a:off x="2917440" y="457992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yu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588600" y="45799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lǎ  b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7295400" y="105264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xiō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5302800" y="3357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天坍地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5352840" y="27082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t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4"/>
          <p:cNvGrpSpPr/>
          <p:nvPr/>
        </p:nvGrpSpPr>
        <p:grpSpPr>
          <a:xfrm>
            <a:off x="-47880" y="35640"/>
            <a:ext cx="2338560" cy="1144800"/>
            <a:chOff x="-47880" y="35640"/>
            <a:chExt cx="2338560" cy="1144800"/>
          </a:xfrm>
        </p:grpSpPr>
        <p:sp>
          <p:nvSpPr>
            <p:cNvPr id="93" name="Oval 5"/>
            <p:cNvSpPr/>
            <p:nvPr/>
          </p:nvSpPr>
          <p:spPr>
            <a:xfrm rot="21115800">
              <a:off x="0" y="189000"/>
              <a:ext cx="2243160" cy="83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WordArt 6"/>
            <p:cNvSpPr txBox="1"/>
            <p:nvPr/>
          </p:nvSpPr>
          <p:spPr>
            <a:xfrm>
              <a:off x="324000" y="189000"/>
              <a:ext cx="1800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solidFill>
                    <a:srgbClr val="00ffff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字词学习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95" name="Text Box 8"/>
          <p:cNvSpPr/>
          <p:nvPr/>
        </p:nvSpPr>
        <p:spPr>
          <a:xfrm>
            <a:off x="2124000" y="134136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猛兽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浪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等发出洪亮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力的回荡的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843280" y="321300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天坍塌，地下陷。形容剧烈地变化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830400" y="47973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水势翻腾上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>
            <a:hlinkClick r:id="rId1" action="ppaction://hlinksldjump"/>
          </p:cNvPr>
          <p:cNvSpPr/>
          <p:nvPr/>
        </p:nvSpPr>
        <p:spPr>
          <a:xfrm>
            <a:off x="7991640" y="6165720"/>
            <a:ext cx="1152360" cy="692280"/>
          </a:xfrm>
          <a:custGeom>
            <a:avLst/>
            <a:gdLst>
              <a:gd name="textAreaLeft" fmla="*/ 44640 w 1152360"/>
              <a:gd name="textAreaRight" fmla="*/ 1107720 w 1152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5948" h="21600">
                <a:moveTo>
                  <a:pt x="0" y="0"/>
                </a:moveTo>
                <a:lnTo>
                  <a:pt x="35948" y="0"/>
                </a:lnTo>
                <a:lnTo>
                  <a:pt x="35948" y="21600"/>
                </a:lnTo>
                <a:lnTo>
                  <a:pt x="0" y="21600"/>
                </a:lnTo>
                <a:close/>
              </a:path>
              <a:path fill="lightenLess" w="35948" h="21600">
                <a:moveTo>
                  <a:pt x="0" y="0"/>
                </a:moveTo>
                <a:lnTo>
                  <a:pt x="35948" y="0"/>
                </a:lnTo>
                <a:lnTo>
                  <a:pt x="34548" y="1400"/>
                </a:lnTo>
                <a:lnTo>
                  <a:pt x="1400" y="1400"/>
                </a:lnTo>
                <a:close/>
              </a:path>
              <a:path fill="darken" w="35948" h="21600">
                <a:moveTo>
                  <a:pt x="35948" y="0"/>
                </a:moveTo>
                <a:lnTo>
                  <a:pt x="35948" y="21600"/>
                </a:lnTo>
                <a:lnTo>
                  <a:pt x="34548" y="20200"/>
                </a:lnTo>
                <a:lnTo>
                  <a:pt x="34548" y="1400"/>
                </a:lnTo>
                <a:close/>
              </a:path>
              <a:path fill="darkenLess" w="35948" h="21600">
                <a:moveTo>
                  <a:pt x="35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48" y="20200"/>
                </a:lnTo>
                <a:close/>
              </a:path>
              <a:path fill="lighten" w="35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48" h="21600">
                <a:moveTo>
                  <a:pt x="10967" y="7493"/>
                </a:moveTo>
                <a:lnTo>
                  <a:pt x="14475" y="7493"/>
                </a:lnTo>
                <a:lnTo>
                  <a:pt x="14475" y="12828"/>
                </a:lnTo>
                <a:cubicBezTo>
                  <a:pt x="14475" y="13751"/>
                  <a:pt x="15276" y="14482"/>
                  <a:pt x="16311" y="14482"/>
                </a:cubicBezTo>
                <a:lnTo>
                  <a:pt x="17974" y="14482"/>
                </a:lnTo>
                <a:cubicBezTo>
                  <a:pt x="19010" y="14482"/>
                  <a:pt x="19810" y="13751"/>
                  <a:pt x="19810" y="12828"/>
                </a:cubicBezTo>
                <a:lnTo>
                  <a:pt x="19810" y="7493"/>
                </a:lnTo>
                <a:lnTo>
                  <a:pt x="17974" y="7493"/>
                </a:lnTo>
                <a:lnTo>
                  <a:pt x="21481" y="3985"/>
                </a:lnTo>
                <a:lnTo>
                  <a:pt x="25154" y="7493"/>
                </a:lnTo>
                <a:lnTo>
                  <a:pt x="23318" y="7493"/>
                </a:lnTo>
                <a:lnTo>
                  <a:pt x="23318" y="12828"/>
                </a:lnTo>
                <a:cubicBezTo>
                  <a:pt x="23318" y="15596"/>
                  <a:pt x="20742" y="18155"/>
                  <a:pt x="17974" y="18155"/>
                </a:cubicBezTo>
                <a:lnTo>
                  <a:pt x="16311" y="18155"/>
                </a:lnTo>
                <a:cubicBezTo>
                  <a:pt x="13544" y="18155"/>
                  <a:pt x="10967" y="15596"/>
                  <a:pt x="10967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755640" y="1341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咆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1049400" y="3213000"/>
            <a:ext cx="16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天坍地陷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865080" y="4797360"/>
            <a:ext cx="11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汹涌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684360" y="2264040"/>
            <a:ext cx="74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课文主要写什么？是从哪几个  方面来写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人们为什么把钱塘江大潮称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平洋的来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3"/>
          <p:cNvGrpSpPr/>
          <p:nvPr/>
        </p:nvGrpSpPr>
        <p:grpSpPr>
          <a:xfrm>
            <a:off x="-47880" y="35640"/>
            <a:ext cx="2338560" cy="1144800"/>
            <a:chOff x="-47880" y="35640"/>
            <a:chExt cx="2338560" cy="1144800"/>
          </a:xfrm>
        </p:grpSpPr>
        <p:sp>
          <p:nvSpPr>
            <p:cNvPr id="104" name="Oval 6"/>
            <p:cNvSpPr/>
            <p:nvPr/>
          </p:nvSpPr>
          <p:spPr>
            <a:xfrm rot="21115800">
              <a:off x="0" y="189000"/>
              <a:ext cx="2243160" cy="83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WordArt 7"/>
            <p:cNvSpPr txBox="1"/>
            <p:nvPr/>
          </p:nvSpPr>
          <p:spPr>
            <a:xfrm>
              <a:off x="324000" y="189000"/>
              <a:ext cx="1800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solidFill>
                    <a:srgbClr val="00ffff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自读提示一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06" name="Text Box 9"/>
          <p:cNvSpPr/>
          <p:nvPr/>
        </p:nvSpPr>
        <p:spPr>
          <a:xfrm>
            <a:off x="854280" y="1197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初读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528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454760" y="2997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钱塘江大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4735800" y="2997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观看大潮和大潮成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5"/>
          <p:cNvGrpSpPr/>
          <p:nvPr/>
        </p:nvGrpSpPr>
        <p:grpSpPr>
          <a:xfrm>
            <a:off x="-47880" y="35640"/>
            <a:ext cx="2338560" cy="1144800"/>
            <a:chOff x="-47880" y="35640"/>
            <a:chExt cx="2338560" cy="1144800"/>
          </a:xfrm>
        </p:grpSpPr>
        <p:sp>
          <p:nvSpPr>
            <p:cNvPr id="111" name="Oval 6"/>
            <p:cNvSpPr/>
            <p:nvPr/>
          </p:nvSpPr>
          <p:spPr>
            <a:xfrm rot="21115800">
              <a:off x="0" y="189000"/>
              <a:ext cx="2243160" cy="83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WordArt 7"/>
            <p:cNvSpPr txBox="1"/>
            <p:nvPr/>
          </p:nvSpPr>
          <p:spPr>
            <a:xfrm>
              <a:off x="324000" y="189000"/>
              <a:ext cx="1800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solidFill>
                    <a:srgbClr val="00ffff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自读提示二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13" name="Rectangle 10"/>
          <p:cNvSpPr/>
          <p:nvPr/>
        </p:nvSpPr>
        <p:spPr>
          <a:xfrm>
            <a:off x="0" y="142632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自由读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~7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自然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观潮的人心情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课文是怎样写潮水的特点的？又是从哪些方面来写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1">
            <a:hlinkClick r:id="rId1" action="ppaction://hlinksldjump"/>
          </p:cNvPr>
          <p:cNvSpPr/>
          <p:nvPr/>
        </p:nvSpPr>
        <p:spPr>
          <a:xfrm>
            <a:off x="7991640" y="6165720"/>
            <a:ext cx="1152360" cy="692280"/>
          </a:xfrm>
          <a:custGeom>
            <a:avLst/>
            <a:gdLst>
              <a:gd name="textAreaLeft" fmla="*/ 44640 w 1152360"/>
              <a:gd name="textAreaRight" fmla="*/ 1107720 w 1152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5948" h="21600">
                <a:moveTo>
                  <a:pt x="0" y="0"/>
                </a:moveTo>
                <a:lnTo>
                  <a:pt x="35948" y="0"/>
                </a:lnTo>
                <a:lnTo>
                  <a:pt x="35948" y="21600"/>
                </a:lnTo>
                <a:lnTo>
                  <a:pt x="0" y="21600"/>
                </a:lnTo>
                <a:close/>
              </a:path>
              <a:path fill="lightenLess" w="35948" h="21600">
                <a:moveTo>
                  <a:pt x="0" y="0"/>
                </a:moveTo>
                <a:lnTo>
                  <a:pt x="35948" y="0"/>
                </a:lnTo>
                <a:lnTo>
                  <a:pt x="34548" y="1400"/>
                </a:lnTo>
                <a:lnTo>
                  <a:pt x="1400" y="1400"/>
                </a:lnTo>
                <a:close/>
              </a:path>
              <a:path fill="darken" w="35948" h="21600">
                <a:moveTo>
                  <a:pt x="35948" y="0"/>
                </a:moveTo>
                <a:lnTo>
                  <a:pt x="35948" y="21600"/>
                </a:lnTo>
                <a:lnTo>
                  <a:pt x="34548" y="20200"/>
                </a:lnTo>
                <a:lnTo>
                  <a:pt x="34548" y="1400"/>
                </a:lnTo>
                <a:close/>
              </a:path>
              <a:path fill="darkenLess" w="35948" h="21600">
                <a:moveTo>
                  <a:pt x="35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48" y="20200"/>
                </a:lnTo>
                <a:close/>
              </a:path>
              <a:path fill="lighten" w="35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48" h="21600">
                <a:moveTo>
                  <a:pt x="10967" y="7493"/>
                </a:moveTo>
                <a:lnTo>
                  <a:pt x="14475" y="7493"/>
                </a:lnTo>
                <a:lnTo>
                  <a:pt x="14475" y="12828"/>
                </a:lnTo>
                <a:cubicBezTo>
                  <a:pt x="14475" y="13751"/>
                  <a:pt x="15276" y="14482"/>
                  <a:pt x="16311" y="14482"/>
                </a:cubicBezTo>
                <a:lnTo>
                  <a:pt x="17974" y="14482"/>
                </a:lnTo>
                <a:cubicBezTo>
                  <a:pt x="19010" y="14482"/>
                  <a:pt x="19810" y="13751"/>
                  <a:pt x="19810" y="12828"/>
                </a:cubicBezTo>
                <a:lnTo>
                  <a:pt x="19810" y="7493"/>
                </a:lnTo>
                <a:lnTo>
                  <a:pt x="17974" y="7493"/>
                </a:lnTo>
                <a:lnTo>
                  <a:pt x="21481" y="3985"/>
                </a:lnTo>
                <a:lnTo>
                  <a:pt x="25154" y="7493"/>
                </a:lnTo>
                <a:lnTo>
                  <a:pt x="23318" y="7493"/>
                </a:lnTo>
                <a:lnTo>
                  <a:pt x="23318" y="12828"/>
                </a:lnTo>
                <a:cubicBezTo>
                  <a:pt x="23318" y="15596"/>
                  <a:pt x="20742" y="18155"/>
                  <a:pt x="17974" y="18155"/>
                </a:cubicBezTo>
                <a:lnTo>
                  <a:pt x="16311" y="18155"/>
                </a:lnTo>
                <a:cubicBezTo>
                  <a:pt x="13544" y="18155"/>
                  <a:pt x="10967" y="15596"/>
                  <a:pt x="10967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2"/>
          <p:cNvSpPr/>
          <p:nvPr/>
        </p:nvSpPr>
        <p:spPr>
          <a:xfrm>
            <a:off x="804960" y="7160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-47880" y="35640"/>
            <a:ext cx="2338560" cy="1144800"/>
            <a:chOff x="-47880" y="35640"/>
            <a:chExt cx="2338560" cy="1144800"/>
          </a:xfrm>
        </p:grpSpPr>
        <p:sp>
          <p:nvSpPr>
            <p:cNvPr id="117" name="Oval 5"/>
            <p:cNvSpPr/>
            <p:nvPr/>
          </p:nvSpPr>
          <p:spPr>
            <a:xfrm rot="21115800">
              <a:off x="0" y="189000"/>
              <a:ext cx="2243160" cy="83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WordArt 6"/>
            <p:cNvSpPr txBox="1"/>
            <p:nvPr/>
          </p:nvSpPr>
          <p:spPr>
            <a:xfrm>
              <a:off x="324000" y="189000"/>
              <a:ext cx="1800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solidFill>
                    <a:srgbClr val="00ffff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精读片段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19" name="Rectangle 7"/>
          <p:cNvSpPr/>
          <p:nvPr/>
        </p:nvSpPr>
        <p:spPr>
          <a:xfrm>
            <a:off x="755640" y="214020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句段一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潮来啦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潮台上有人兴奋地喊起来。立刻，上千张面孔齐刷刷转向钱塘江口，一双双眼睛都睁得大大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7812000" y="2492280"/>
            <a:ext cx="43200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900000" y="3141720"/>
            <a:ext cx="100800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5"/>
          <p:cNvSpPr/>
          <p:nvPr/>
        </p:nvSpPr>
        <p:spPr>
          <a:xfrm>
            <a:off x="1547640" y="3860640"/>
            <a:ext cx="144000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6"/>
          <p:cNvSpPr/>
          <p:nvPr/>
        </p:nvSpPr>
        <p:spPr>
          <a:xfrm>
            <a:off x="3132000" y="4508640"/>
            <a:ext cx="93528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"/>
          <p:cNvGrpSpPr/>
          <p:nvPr/>
        </p:nvGrpSpPr>
        <p:grpSpPr>
          <a:xfrm>
            <a:off x="-47880" y="35640"/>
            <a:ext cx="2338560" cy="1144800"/>
            <a:chOff x="-47880" y="35640"/>
            <a:chExt cx="2338560" cy="1144800"/>
          </a:xfrm>
        </p:grpSpPr>
        <p:sp>
          <p:nvSpPr>
            <p:cNvPr id="125" name="Oval 5"/>
            <p:cNvSpPr/>
            <p:nvPr/>
          </p:nvSpPr>
          <p:spPr>
            <a:xfrm rot="21115800">
              <a:off x="0" y="189000"/>
              <a:ext cx="2243160" cy="83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WordArt 6"/>
            <p:cNvSpPr txBox="1"/>
            <p:nvPr/>
          </p:nvSpPr>
          <p:spPr>
            <a:xfrm>
              <a:off x="324000" y="189000"/>
              <a:ext cx="1800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solidFill>
                    <a:srgbClr val="00ffff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精读片段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27" name="Rectangle 7"/>
          <p:cNvSpPr/>
          <p:nvPr/>
        </p:nvSpPr>
        <p:spPr>
          <a:xfrm>
            <a:off x="539640" y="2654280"/>
            <a:ext cx="820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句段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时，东南角江口天和海连接的地方，闪出一溜</a:t>
            </a:r>
            <a:r>
              <a:rPr b="0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黑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，一端又慢慢变成</a:t>
            </a:r>
            <a:r>
              <a:rPr b="0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白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花的，像</a:t>
            </a:r>
            <a:r>
              <a:rPr b="0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根玻璃棒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玻璃棒渐渐变粗，拉长，不一会儿，化作一条</a:t>
            </a:r>
            <a:r>
              <a:rPr b="0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黄白相间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带儿，逐渐变大，</a:t>
            </a:r>
            <a:r>
              <a:rPr b="0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堤坝般溯江推来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9:45:1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0:05Z</dcterms:modified>
  <cp:revision>3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