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38.jpeg" ContentType="image/jpeg"/>
  <Override PartName="/ppt/media/image9.png" ContentType="image/png"/>
  <Override PartName="/ppt/media/image39.png" ContentType="image/png"/>
  <Override PartName="/ppt/media/image30.gif" ContentType="image/gif"/>
  <Override PartName="/ppt/media/image23.png" ContentType="image/png"/>
  <Override PartName="/ppt/media/image13.jpeg" ContentType="image/jpeg"/>
  <Override PartName="/ppt/media/image34.png" ContentType="image/png"/>
  <Override PartName="/ppt/media/image41.gif" ContentType="image/gif"/>
  <Override PartName="/ppt/media/image37.jpeg" ContentType="image/jpeg"/>
  <Override PartName="/ppt/media/image32.jpeg" ContentType="image/jpeg"/>
  <Override PartName="/ppt/media/image31.jpeg" ContentType="image/jpeg"/>
  <Override PartName="/ppt/media/type.wav" ContentType="audio/x-wav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4.jpeg" ContentType="image/jpeg"/>
  <Override PartName="/ppt/media/image40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43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</p:sldMasterIdLst>
  <p:notesMasterIdLst>
    <p:notesMasterId r:id="rId53"/>
  </p:notesMasterIdLst>
  <p:sldIdLst>
    <p:sldId id="256" r:id="rId54"/>
    <p:sldId id="257" r:id="rId55"/>
    <p:sldId id="258" r:id="rId56"/>
    <p:sldId id="259" r:id="rId57"/>
    <p:sldId id="260" r:id="rId58"/>
    <p:sldId id="261" r:id="rId59"/>
    <p:sldId id="262" r:id="rId60"/>
    <p:sldId id="263" r:id="rId61"/>
    <p:sldId id="264" r:id="rId62"/>
    <p:sldId id="265" r:id="rId63"/>
    <p:sldId id="266" r:id="rId64"/>
    <p:sldId id="267" r:id="rId65"/>
    <p:sldId id="268" r:id="rId66"/>
    <p:sldId id="269" r:id="rId67"/>
    <p:sldId id="270" r:id="rId68"/>
    <p:sldId id="271" r:id="rId69"/>
    <p:sldId id="272" r:id="rId70"/>
    <p:sldId id="273" r:id="rId71"/>
    <p:sldId id="274" r:id="rId72"/>
    <p:sldId id="275" r:id="rId73"/>
    <p:sldId id="276" r:id="rId74"/>
    <p:sldId id="277" r:id="rId75"/>
    <p:sldId id="278" r:id="rId76"/>
    <p:sldId id="279" r:id="rId77"/>
    <p:sldId id="280" r:id="rId78"/>
    <p:sldId id="281" r:id="rId79"/>
    <p:sldId id="282" r:id="rId80"/>
    <p:sldId id="283" r:id="rId81"/>
    <p:sldId id="284" r:id="rId82"/>
    <p:sldId id="285" r:id="rId83"/>
    <p:sldId id="286" r:id="rId84"/>
    <p:sldId id="287" r:id="rId85"/>
    <p:sldId id="288" r:id="rId86"/>
    <p:sldId id="289" r:id="rId87"/>
    <p:sldId id="29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notesMaster" Target="notesMasters/notesMaster1.xml"/><Relationship Id="rId54" Type="http://schemas.openxmlformats.org/officeDocument/2006/relationships/slide" Target="slides/slide1.xml"/><Relationship Id="rId55" Type="http://schemas.openxmlformats.org/officeDocument/2006/relationships/slide" Target="slides/slide2.xml"/><Relationship Id="rId56" Type="http://schemas.openxmlformats.org/officeDocument/2006/relationships/slide" Target="slides/slide3.xml"/><Relationship Id="rId57" Type="http://schemas.openxmlformats.org/officeDocument/2006/relationships/slide" Target="slides/slide4.xml"/><Relationship Id="rId58" Type="http://schemas.openxmlformats.org/officeDocument/2006/relationships/slide" Target="slides/slide5.xml"/><Relationship Id="rId59" Type="http://schemas.openxmlformats.org/officeDocument/2006/relationships/slide" Target="slides/slide6.xml"/><Relationship Id="rId60" Type="http://schemas.openxmlformats.org/officeDocument/2006/relationships/slide" Target="slides/slide7.xml"/><Relationship Id="rId61" Type="http://schemas.openxmlformats.org/officeDocument/2006/relationships/slide" Target="slides/slide8.xml"/><Relationship Id="rId62" Type="http://schemas.openxmlformats.org/officeDocument/2006/relationships/slide" Target="slides/slide9.xml"/><Relationship Id="rId63" Type="http://schemas.openxmlformats.org/officeDocument/2006/relationships/slide" Target="slides/slide10.xml"/><Relationship Id="rId64" Type="http://schemas.openxmlformats.org/officeDocument/2006/relationships/slide" Target="slides/slide11.xml"/><Relationship Id="rId65" Type="http://schemas.openxmlformats.org/officeDocument/2006/relationships/slide" Target="slides/slide12.xml"/><Relationship Id="rId66" Type="http://schemas.openxmlformats.org/officeDocument/2006/relationships/slide" Target="slides/slide13.xml"/><Relationship Id="rId67" Type="http://schemas.openxmlformats.org/officeDocument/2006/relationships/slide" Target="slides/slide14.xml"/><Relationship Id="rId68" Type="http://schemas.openxmlformats.org/officeDocument/2006/relationships/slide" Target="slides/slide15.xml"/><Relationship Id="rId69" Type="http://schemas.openxmlformats.org/officeDocument/2006/relationships/slide" Target="slides/slide16.xml"/><Relationship Id="rId70" Type="http://schemas.openxmlformats.org/officeDocument/2006/relationships/slide" Target="slides/slide17.xml"/><Relationship Id="rId71" Type="http://schemas.openxmlformats.org/officeDocument/2006/relationships/slide" Target="slides/slide18.xml"/><Relationship Id="rId72" Type="http://schemas.openxmlformats.org/officeDocument/2006/relationships/slide" Target="slides/slide19.xml"/><Relationship Id="rId73" Type="http://schemas.openxmlformats.org/officeDocument/2006/relationships/slide" Target="slides/slide20.xml"/><Relationship Id="rId74" Type="http://schemas.openxmlformats.org/officeDocument/2006/relationships/slide" Target="slides/slide21.xml"/><Relationship Id="rId75" Type="http://schemas.openxmlformats.org/officeDocument/2006/relationships/slide" Target="slides/slide22.xml"/><Relationship Id="rId76" Type="http://schemas.openxmlformats.org/officeDocument/2006/relationships/slide" Target="slides/slide23.xml"/><Relationship Id="rId77" Type="http://schemas.openxmlformats.org/officeDocument/2006/relationships/slide" Target="slides/slide24.xml"/><Relationship Id="rId78" Type="http://schemas.openxmlformats.org/officeDocument/2006/relationships/slide" Target="slides/slide25.xml"/><Relationship Id="rId79" Type="http://schemas.openxmlformats.org/officeDocument/2006/relationships/slide" Target="slides/slide26.xml"/><Relationship Id="rId80" Type="http://schemas.openxmlformats.org/officeDocument/2006/relationships/slide" Target="slides/slide27.xml"/><Relationship Id="rId81" Type="http://schemas.openxmlformats.org/officeDocument/2006/relationships/slide" Target="slides/slide28.xml"/><Relationship Id="rId82" Type="http://schemas.openxmlformats.org/officeDocument/2006/relationships/slide" Target="slides/slide29.xml"/><Relationship Id="rId83" Type="http://schemas.openxmlformats.org/officeDocument/2006/relationships/slide" Target="slides/slide30.xml"/><Relationship Id="rId84" Type="http://schemas.openxmlformats.org/officeDocument/2006/relationships/slide" Target="slides/slide31.xml"/><Relationship Id="rId85" Type="http://schemas.openxmlformats.org/officeDocument/2006/relationships/slide" Target="slides/slide32.xml"/><Relationship Id="rId86" Type="http://schemas.openxmlformats.org/officeDocument/2006/relationships/slide" Target="slides/slide33.xml"/><Relationship Id="rId87" Type="http://schemas.openxmlformats.org/officeDocument/2006/relationships/slide" Target="slides/slide34.xml"/><Relationship Id="rId88" Type="http://schemas.openxmlformats.org/officeDocument/2006/relationships/slide" Target="slides/slide3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dt" idx="1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 type="ftr" idx="1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 type="sldNum" idx="1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E83-40B0-42DE-883F-FE78EF14B1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A41B-1D29-4799-8F46-4B80552BE9B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FD9-6095-48D2-84C9-CDC074B7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667-9497-4CFE-B389-265973A5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1EB4D-EF9F-4BD9-88E2-D4B4897D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D322D-D057-46A7-8DA4-A7E5EA9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4967A-FF15-4E84-ACB5-77B69B1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5DA0-8232-4CA4-BDA3-1190CBD2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FE590-08D3-4627-A6E8-D0B1B98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DF4F8-F19A-4FCE-9166-35D1EA5F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9E7B0-292F-4198-A076-36130CFC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8443E-8ED6-457A-9D89-A079E483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CD460-979F-4D20-88F5-B6B0293C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C7C71-BA24-4FDD-83BE-4D1DCA5F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915-4D8D-4E57-986C-9EB7136A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8E918-E09F-4164-B3C0-DB6B296A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9C732-FFEF-4AAA-AB02-D53D02A7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7E9BD-A9C0-4FC6-B087-87B718E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22A04-259A-40E7-928E-919A455D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7C455-8451-4683-8EED-4F4985AE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8D476-10A2-476A-AF1A-08CB5AC7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ADE7A-33A8-4BC1-B02F-9679DCFC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AE8F8-704A-4AF6-9741-0DDA2DC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1DF68-9095-4E14-A571-C7ADA0E8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D4DAB-6E78-40A6-A6F3-C147FAC6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4B6-BAD6-468D-96A4-9A67B70D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4564C-BC60-4D03-86A1-365F8BC6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82E3D-798F-4AAD-9FF6-26AD1946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633B8-6731-4D33-8AAB-6CAF0C68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D91AC-1A68-4EAB-BC8D-25374D99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637C-FA74-4992-8A76-51C5CB3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AD89C-42B2-4F7B-9205-9F27E61E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42AB1-3729-4643-98B0-EF90B67C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F35C6-4024-4224-92B9-7FFCBB7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3C2CB-464C-4240-8F9A-544AD7C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732A8-FBC8-428D-ABAF-66185AD9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0BA2-7569-4C02-9998-B73CA9AF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D41C4-9E22-4097-A84E-48CB05F5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B0D12-4338-4558-AF40-BEFBEA77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718EE-03E7-469B-A9A4-571A1C91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C68AB-6068-44F3-89B2-5308DC54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D4AD1-B8A5-4EB2-B84E-7151CF3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FD9E6-1E28-4ADB-B9D6-A0F5BB25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34B51-3614-4B80-8508-949A2F1D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D53E4-8FA0-4BB0-832B-BBFE2682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EAE4A-D130-48EE-9A94-08EBB1FB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F781A-CC5C-4B48-BE10-7DAD2B6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4919-35D8-4057-9858-CC39351E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ECDDD-AC82-4068-A97F-8964E70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40CE3-B958-4F46-9327-D144AA0A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75428-D8E7-4AED-A324-E3F57FDE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A212F-0D61-4B96-9FCA-A0312857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F135B-C59F-4332-A590-A7A10741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6B676-E56B-4A81-BC71-EBB631A5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05FD8-216E-4446-9773-6C32E129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4795F-59D5-4EDA-BD7F-81E2BBE0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5D886-46BB-4778-8616-806D71AA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C21C8-69F8-4E3C-97AB-191F20C4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2B10-1F10-401D-8445-05918F42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6121C-C5F5-49FD-8DB8-65F58DFA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75173-29DD-4D8B-888D-B4DC7D8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54135-CB64-406C-BEC6-B07D546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4D5F2-1330-4605-8923-A2F96E90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D3DC3-0170-433F-85BB-EE09F5C7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08C58-12F2-4182-9453-96295CB8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FCDA7-166E-44D2-8E6B-7ECBFA01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FCFAC-8C08-4CE9-B772-A3C7D533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3BC68-8752-4921-8799-50B1551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40345-A6CB-400A-AC8B-99469DC6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714-3394-4148-BECC-7E54E02F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F8C23-750A-487A-888F-A8F33331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D1B96-B200-47C6-BA43-26FD7CB2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CB43C-1D5D-4EEC-8049-48AD101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2AEC7-389E-4768-8DF9-D01B31B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83F34-29A4-4956-BF4E-F98A539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8CE64-AD13-4320-9635-55D7D1B9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DAD78-A239-4CAB-AE3A-F6FF0547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C949F-89F0-44CA-A7CF-C25CE246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6DE03-054C-47CE-B2D7-1BF7A841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90F9E-D1B6-4472-88AC-4969E444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8FDA-22E7-4692-B18A-16094B5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AD24E-E0E3-49E0-9E94-3F5A538E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683C6-AD2D-49B8-BB01-87693CAB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5ECA6-68A6-4230-B5A2-926FF696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59481-014F-47B3-9DAA-D7BCD118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73740-61CB-4BED-ADD3-BFD7D24B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BB54A-FFB3-49AF-9530-98E51BA4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15C79-3ACB-43CD-A206-755A438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F7082-C340-4283-843F-9AD8AC59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516BF-8D17-41DF-8598-BAAB0E7F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B8FD1-BC34-414E-B560-C95BCDC0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97F9-8832-4EF8-B432-8DE02ED5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340D0-7CB7-492A-998C-53EB1E60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58428-2B00-42F2-BC4A-EF8B0EF9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90914-61EE-4DDC-BE45-3B9DFED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2D9FC-CFD6-4714-9FC8-A4064C82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EA9E1-A901-416A-B3CB-A6470477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3076B-E240-4E47-ABA5-9E20D05F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205B9-D1D7-40F1-A56E-1791948B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4F0F6-64C6-405D-8287-E3FEF1D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2EC43-7E76-46DB-AC9F-84067E3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7174C-16F3-419F-9B43-A31A528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51E3-54DC-4707-B551-1337066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645F5-3C38-4A22-9C96-EC9D1BA7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C7C56-F42F-4FFF-A7D1-9220AF23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63521-B33D-4CBB-9FF4-C9D81968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C60C2-CD98-474F-B654-714564E6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5A5D6-1865-495C-9481-2D7E848F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444AE4-C997-4C9C-B144-2DB18C2C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6C805-C8BA-4849-B1C1-D17E26C2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1E703-335D-4CED-942B-747304FC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3472D-AFC1-43B1-9A62-4468A948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4CDF6-5DA9-41D8-BDE0-455C199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649-DA28-48C2-B7EC-774B874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093F-3FBA-4897-9AC6-8EADEA38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8A62E-9029-471E-98F9-EE6B583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53784-8FF7-4DF3-8B84-BF1703AB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9C591-F3A3-4999-8B8D-B7B6A462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0BEE2-746F-41E1-BB22-85F38D75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8DE11-D3C0-43C2-913E-21E0BB89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93D2D-6D0E-4368-B6BA-D1BADBD0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E00D4-312E-4189-98BB-EE33D54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F7539-9035-4372-A4D2-504845A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7ED0F-24C8-4B5B-8DAB-E987FFD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C7D90-52BA-40B6-A1AD-57E6CA60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26F6-10CC-47A7-B044-4E036DC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09712-B2D0-4C86-82BA-C9EB9237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7F24C-F382-4824-878B-94D9F6B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1421AE-09ED-422E-BA98-12B042B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4FE3D-0EAC-4B16-AA78-4429766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0EDC7-86E7-4C76-B06D-584EF810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19980-2829-4329-814E-EAC84B4C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040DA-FC1E-4170-B387-97D720EB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CAF6F-74FE-4B07-93F8-F7B7AEF8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54BD4-944A-4223-81F6-DE4B9037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461F2-6D48-43A4-965E-EC0A88D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1C2F-EBF1-44F0-9689-300B2455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FC977-9047-40E3-86C5-69ACD7FB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3CA3D-E1FC-4831-927D-14ED3760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530EB-36AB-4D96-BB12-D0E681C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748DC-7DC7-4468-85BC-01D445F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4579E-CD4E-4F8B-8600-3A8324F1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ED5CC-BFE4-4153-8FAC-8D60F997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01B5A5-8040-4775-9215-612A667C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18388-3C1D-4472-8266-01113F08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5DF86E-2C85-4447-814A-D9C6A1C6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83984-CCA6-4E39-AB80-F6B98F2B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CB88-4105-4F28-BE71-7F4F4C11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C1C7E-0035-4F48-ACD9-DB6BA1C0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1883C-AB84-4A97-A8FE-8E818D7C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BC1E3-A519-46D7-9D81-39D19DFA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AB9DF-CCE0-4721-9461-40641114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74CBB-75CE-4238-BE11-E5A8E16C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8CE0E-1162-46D7-A36E-704A299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494A93-1CB2-433A-B7C1-EEAAA7B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5CE1F-CCC4-40E0-9D2A-276D634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AA84E-0D09-42A9-BDCA-5ACC0FF2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5F980-C018-4D5B-9130-3A6B8C79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47FA-1979-4E5E-9848-C99C96A9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3A3DE-57B3-4A2B-8BCF-EBF677B5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D70F8-4E7E-4B46-B798-DEABD692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6C522-2B90-4C85-8D55-A1F2F7D5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255AB-8A34-496E-81C6-AEE0AD44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A61CF-179E-45E6-A178-456FF2BD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C9E1F-E8E9-4E63-8442-FFD90D72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86829-FC2C-456F-A75D-8431CC3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947F7-1924-4C62-9EC4-F31770B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DAFCE-91B1-4080-B1C1-6FC479B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BDC3E-6926-4B45-B7D4-21004368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C0B1-EFCD-486D-8F34-EBEB02E2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D32195-F0FA-40AD-BAC1-D2A32AD0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45B21-4F0E-49F7-865C-5484C53A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67F966-A4D8-4257-B882-58BB3F94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D8B415-F276-4F7C-B4F2-1A84FBB3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B8075-0242-44E8-A7BF-E41B6972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8EAAB7-B250-4410-AB68-54E3A3D3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71E103-D076-4555-BF39-E9E78231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EA9FB2-CA03-42D1-BAF4-ABECC700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767414-DA8C-4827-B702-77F2AB47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887D7A-38A6-49A0-8766-B7E221CF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302C-A346-4EE9-8601-B0AFA1A4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22079C-6C09-4FF2-9CB8-02A4222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E68108-5673-4697-A97C-069CBF8C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470C68-F5F9-4965-94FD-C7618516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6EFC48-9038-4A9D-8CE8-2B4135F0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7783D-6954-4E2C-AC9C-9FE87E75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D94D83-B5BB-4C71-BD3B-F5C98749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4C136-C577-4121-9903-4FC6493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6DF2AE-B843-4A74-AB67-5B49A2B6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0D1A99-B7A5-4CD7-AEC8-CDB03E6A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0BCAA4-5F78-4542-9A29-432C6E70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08EB-8D3A-4527-91CC-73B517C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93CA7-5552-4853-8D55-ECDA83B9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0E4244-11F1-490B-9094-8363B4D8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D074EB-5AAB-434F-9DBE-3243CC6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AF0B47-40D1-4838-95A1-EC74AF4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E56752-7709-4B87-82BF-FD1159A8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A0CD2B-3BF1-465F-8038-D4B72F27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0E3161-2911-4F61-B95A-A9F99C7F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EDBFF6-52B6-4CE3-9CB6-B2D762FE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0C7134-B145-4DB2-B08F-D549ACC5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F0A2F5-E51F-420F-9022-3C361974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AD64-8721-4156-8ECC-A44CE23B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AA65FE-04DD-42C4-9CE6-0D45251C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CA1227-3CB8-4127-99BF-8E562D77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31AA8-7472-460E-875C-67CF12F7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0F755D-EF52-48BD-A7E7-29DD6A0B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3F970C-823D-4358-A10D-6C6BA05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40129D-B4AE-4456-80C3-34544AB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3018F4-6787-4A2E-9090-C6F42103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BF154F-B532-4BEE-AACD-FB47D47E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BE912-9C63-4D33-8217-3BDCB439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EC39A0-FAE2-4A37-A4A5-A6CF09C2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1C1E-7936-4633-A22A-C3881842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0BEC34-A101-408D-82EB-C1CEE767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86D34E-E11E-48C0-94D9-9AAFAE6D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22C26-7F6E-43C9-8CB8-5A7F245F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5A7C99-5BC7-4D53-BBB0-27552BE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10B670-87C9-4EC0-BB24-97F74DCE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3D8992-636D-4D41-86FA-E01F18B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E106C9-800F-4064-8B1E-B7FFFBF4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48927D-0B2D-411F-B379-5DCBE56C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4420CB-ABA9-43B2-999F-C9B78B6B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47D2ED-3FA2-4924-A758-2DD274D5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B95-EE20-4515-9075-4EB371AA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48CF-6254-438C-9F52-67599081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EF0C68-8DFC-4EA0-83EC-0C82FD7A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4DFD40-7BFD-4FEB-9AB3-3BA9AFFE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B44A83-DC24-41FA-AE81-DD880B5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8DE9F8-0A41-427E-8C36-6EB283CD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3CE307-CD9B-4FD4-96A5-B4CBB018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3B1D7F-8320-4051-BC60-BAE0C7A6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1A51BC-685C-4127-B01E-FE6E1C1F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3CB2AE-9000-44BF-A63A-B3BC5316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D8A0C8-9EDB-442E-9A9F-EB39033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D69DF0-B21C-4717-AEE3-86E6418D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3E1F-58FC-4815-87DE-049EAA2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F0009D-FE5E-4648-9CCD-661CF174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EEA204-9F62-4844-A0DA-3B378E27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EF4DA5-CF78-45CF-86AB-81CEA0E9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5EDD6A-D1C3-4F2C-BCB7-2C4D6253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B4DDDA-B655-412F-B5D4-8A86CBAB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6790B3-211F-43E3-A17C-857A2718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510490-5CEE-4A1C-A01D-F9A523A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126717-342E-409B-9679-0033499D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609693-AE97-41EC-A543-5FCD0BCB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94F6AC-BADA-4D99-9277-FCED976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5477-AA71-4B5B-8000-89B6D496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CC47F7-6BF3-4CF7-8B3D-EA32F91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FE09B8-2C11-4057-B2F2-479A22ED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C75264-BAC6-41E2-8FE0-FE10330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4AF5C6-C3D2-4FA7-9C6D-586FC271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9FA8DC-227A-48AD-9C13-98EEE6A1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9A57BD-9715-4635-A223-C11E7733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C91514-BB3D-497F-8EDD-E1F3040A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C35D9D-2F1F-4AA2-8AD2-85B4F611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E47E77-9FD0-436B-B2A0-0056AD69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9B7B43-D737-40C9-8629-A5E23C0B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F3EF-68D8-41C7-BD95-217EC3B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363A9E-12D5-4D54-873A-C42E8D5A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C92730-CE25-4213-BB5B-9AC4B428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BD2481-6DD5-45AB-B2E7-9CF16AB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80084A-BF87-4275-999A-A98B2B6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0ED924-D2E8-42BC-AC8E-8B071A33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17D950-1FF1-40BB-93B4-E2968502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F70841-64C2-4BDE-87EC-2D26C520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3F4F49-A360-4286-949E-8BD8EEFD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F9F515-63D4-4D16-A655-9CB57EDB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DB105E-FC95-4C3D-9584-912C5C9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5A86-DA19-4C30-8D6C-F05DC2AD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910472-FB52-42B6-AC17-5C500A3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6EE5C3-5C85-42BD-870F-7DDA43FB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BFC326-3506-4127-9E74-E6FF44A7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055953-79F4-4A58-BA14-B5021BD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B2C414-A224-4964-A956-007DEACB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544F4E-306C-40D0-9031-6CBEA098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8A92BB-1667-4310-89AC-A47A1364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FF7368-F1A0-4CDC-9EA2-1978D2E7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8587CA-F2E3-4D38-80EB-FE0182B2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0584CD-0241-47FE-A6D0-244AD916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66D2-EF39-4614-8321-B3D19726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DC4088-F9EB-436A-B82C-76A76ADE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1DC5EB-E856-4680-B98E-779732F4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542101-4768-44A0-A446-91A5321B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D5C261-068C-48A1-8334-6C01B632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47D4F6-3C69-4423-9ED2-41078BE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CBCE38-5582-4E28-ABD4-47C280CC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3CBD1A-A610-4060-914B-A913541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9D192B-D047-4A1D-A2D7-E24287C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1E127D-B3A9-46AB-858E-023EA3B9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698225-8789-4A59-9EA2-7D3CB766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1F52-5CBF-462F-AACC-C9BDD396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84C196-84A2-430D-BB1E-89E64A2E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BD7592-5110-4BD0-9A82-9A5D5846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12F400-4041-4CFC-B2D7-237C0981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2FE5DF-58F7-4502-B14A-8AAAC35C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05A33C-124F-47F0-854D-4F8BC154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46EDED-23EC-46BC-8402-3BF5D9A9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0D8EC5-77BF-448D-8071-0C35D8DC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6A2D69-2BCF-441D-B57C-066B632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B50524-2D74-4A35-8E44-F3AFDEE1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C493DC-BA91-45E8-B2E6-B275A16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AA244-CF58-4424-8FB4-A9173779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F956CF-90B7-41A8-BB00-7ACA6390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B06C65-B345-42E6-B717-4ACC6EDC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C1F97A-D899-4336-AB90-E0AB9FB0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C36153-3215-4A93-B208-E7C9F5E4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05D459-98B6-46C7-A5DF-F41B47C1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B772AB-AF25-4D4A-84C3-94EBE6E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470337-4226-445F-A98A-CF0BBE3E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59E1CC-2880-412F-8A02-E8C96AEB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82B4C2-0005-4765-886D-F1D4A174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E4879B-F00D-4B13-8288-F9284B5D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B60E-4236-429B-BE98-C9B4C14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3941FB-51E9-425C-82B6-1799DF12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D2BD89-C4E6-4D35-B52B-FA1EDEC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1A75CB-3E62-4E32-8F0C-5331EB86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A5F23B-F3E9-405B-BC80-9CEC4043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4895D2-2DE7-4DBF-86A7-26EC449E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46B2AB-4264-4244-AF78-75D7EF62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AE68C1-FDDA-42B1-B044-58DE7B19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CF7947-DE57-4BC5-A3AE-88B395AE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CEF528-2338-4AB0-A387-28AE1359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7565AF-F57F-4A4C-BCC7-9F49A3F6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39A0-297D-4A6D-908B-B3A98FB0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2F4C43-CC5E-481A-9A69-EC631C5A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A6D774-D120-43EB-B253-3D6C1F6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1D5109-8F34-42A4-BDF0-D2DB39D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03E464-8488-4442-87FC-B008DA49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6665DC-762A-47C5-B36C-76EF575C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1B2F11-1EA7-4771-8013-86D5147E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38C533-A2B1-4ADB-BF60-6D0AFB82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7C61CA-4A94-4183-85B0-82405C85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E1A875-F7F5-4E3B-966E-51C6FA3E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4BE412-3430-4271-B2B7-EC8C073F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8AA-24F8-4D3D-B019-8894C66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3C1B-D195-491D-B1CC-13AD2269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666DE4-D256-4336-9C8B-0C9E9026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91BC6C-A3F5-4AAA-B439-7D6CD7BE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D043DA-6F0E-42B4-9A6D-01E7C88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71179D-A637-4B23-84D8-4E857B1B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F5E230-A65E-4FB9-A2D0-909AAC8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4C4E45-C961-490C-B9CA-2EE14925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F54378-D477-4C91-AF67-E8EA7010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CF1944-FB84-4E33-BD34-6472EBE7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1D1D09-1483-478B-BAE1-14E74100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87116B-2C1A-4B9B-B2A7-D4861018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FC59-21AD-4596-9369-3CBD24B4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6DC6F5-9E18-4E39-BCDB-3AC02FE0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C7C13E-D7F5-4CCC-8F0A-DE441B0F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9EF0A7-E35B-42E8-A2D2-7DE46CB5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456FEA-4AFB-4C3E-9F05-FD05AE31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AACDA1-43EB-46D1-8197-CBD2C655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5AE3A2-3B8C-4EC1-AFA3-4068F89B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23452E-9C0D-4F0C-9ED2-8C1738AA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BF3F73-5880-42A0-A762-ACBD9698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6940CE-317C-4B07-B41F-40C06765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7050E7-99DF-4132-A1BE-2E094E16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DA483-815D-463C-91C4-EE77979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B7C6A9-8AE2-4582-B9B1-48E580DD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3736FE-7901-47C7-8D26-8E2DD7E2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6C772C-3DA1-4395-8442-517EF11B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7C83D4-BA0B-4E9D-8362-2088BE1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BB12A8-9136-40E5-B248-3590ABF4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2CFB73-188D-4BAF-B3B4-51B848B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4824E4-6F67-400B-B3F9-78A70D01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E58071-ADFD-4C7D-9ADE-950546D6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6AD28B-FB44-4198-96B2-872244A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BDCD63-D982-4DBB-A8B8-817D2653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E6C6-1670-48D6-A033-AD3A902C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1C7926-BD69-4F00-AF32-A59CDC7E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3F85A0-B6CF-4B6D-B930-643565E9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D288B3-5AA6-48BF-A74A-98AA1249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934261-D1C6-4156-8661-B8F8A286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A4DD8C-11AD-4DAF-A617-352EA233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13174C-4637-415B-94C5-E34E8304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C6C7A3-BA6C-4CC7-9200-D1619DCB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61BC3F-1A0A-49E8-A1E2-A9B7A4B3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7CB64C-7640-4738-96AE-F188F4C4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9384E8-8C0E-4D02-AC08-142D92BD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7C22-7C62-423E-A9D3-36E843B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1FC0B7-3848-4ADF-B2BA-E5EA56F4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038904-BAE8-4BDF-8371-AA42D6A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21C722-F7AB-4BFB-8B0F-D00310CE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CB07BD-04EC-4436-B426-DFE45CD6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380691-B24E-42BA-9A71-E07DD0EA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B94B47-C87A-4551-A1E8-6CF210C5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C8C55D-448F-4607-A850-6DEEF15B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F8F6BD-A9AF-4A3F-9AEC-D04BC272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8090C9-007A-4A78-BA66-8ABEA5C9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6F4BBE-D6E4-4938-8B33-F381A79C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3A86-B766-4E28-A790-E921AC5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2462C6-91B8-4FA5-8AF1-504A6E5C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3619E5-BC04-4BA8-AE2D-E8C3AB0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CDA9E8-726A-4317-89D1-7C3ADB64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CF74A8-5627-4D9A-ADC8-C7AD44B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E8A5F6-E0E7-416E-9B3B-6D466B6B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F618758-06E0-45A5-8870-D557B764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69929C-2A2B-4772-9365-449C8045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76A697-C519-4405-993E-8A000D79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D8CFD7-93AA-41D3-871B-00EDADE7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9EB67D-2E80-4370-800C-9A2C5E88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E0DD-CBAB-4D24-9509-89FA4F1A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9A0F0C-8E4C-49C4-9C5E-8FC9878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188997-B004-4EBD-8644-D3675437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49F878-8BC7-4124-AEF4-03A02A3B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B5674A-1258-475D-9482-A1C333BB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510BE2-7DB6-47F3-985A-CB185B2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5827B5-CACA-4EE5-A005-FF57EC08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016EC3-A0B4-4014-8F51-638E158E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CA6164-D3BE-4156-9155-D8F88F99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44E56E-9D53-4B69-A7B8-1120A45D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CB0D97-BC1E-4AF4-ADCF-F89868C4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0325-D513-41F4-858B-D884619B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CD48F3-2CD4-4887-B9AD-E473F27D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82F6DF-E6D0-4322-9481-7DDB7ECC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E90684-F92B-4E70-9CA7-5DDCB1BA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69872C-02CE-4FE8-B9BE-96544E85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5F1AAA-5FED-4488-99E1-8EB280B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4058F8-1201-4E6D-9D4F-15B4B1D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101C82-6313-4504-B7F9-B8FB364A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DE5A79B-713B-45C9-9663-D751B9F3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801573-24AC-4DEF-AAC8-822C11D4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464141-E302-408E-8515-A1BFC87A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5A96-146A-4DA8-8473-2F2E0310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38A2D0-C1DD-45AA-9695-7725183F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ED9D6F-4BF8-4463-ADFF-AE03B02C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F4CC65-C4EA-4F99-AA77-44E4635A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A304252-0885-4DAA-B34B-C0C4DC5A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FBA5324-FBD6-474C-8CA7-87AC9553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E64D36-1E82-40E5-BE0A-9942CE9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D11D4D-362D-480A-A16D-EF404604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D9653A-AE0A-4BD7-B016-5003147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780645D-4E5F-4A11-92C9-FC35A2DD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6CC723-C385-4447-83FE-9A86D08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E2298-A01B-4C50-869A-8607366C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B0E624-1333-48BF-9CC5-02B53254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BB9BD9-E8B8-4AD8-8A10-0633340B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561D22-0E00-431A-B5C8-D33CAC4E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D299C9-4402-42EF-85E4-7D1DABE6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3C43D9-9EA7-41D8-890F-8DF139B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38EAE1-B0AC-4945-BE88-27EAE1F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DCAF61-2024-485D-A050-DC6E08E1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852699-283D-42B6-A336-127C83E5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D46A16-0C27-4E0A-A67B-7DFFCB3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A432AC-B654-4E24-A60D-E7F5CD9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F83-A279-4269-9182-B9429C1E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54AA7-D638-44D1-831E-97A6FA8F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B94E65-29BD-4132-A080-D889CFE6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A14F47-B826-4FB6-8FCF-A43F96B0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99A20F-941A-428E-9516-F7B0B708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270E85-5AF2-4855-9F32-42169180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13F513-BACF-4BC4-83B1-B108E4B5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E9F32F-0E4C-4545-ACFC-3B623F96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D3B332-98B3-4286-AC4B-8E79F202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CD2B40-B82D-4CA0-B2FB-0C8B2F0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06B898-01A0-4843-A3AE-424CE04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DE8745-B033-49EE-957D-FAA49C61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D3BD6-967A-4722-A078-9785446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65297F2-44E6-4DD9-B8E7-571591C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12208A-46CB-4465-B896-C34F7A03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C8FA85-FD55-42C4-81A6-EF446404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DF5819-9AE4-4464-84D6-070D9CB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8B523B-8EF8-4666-8164-4C8D637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D5DE00-5877-4C87-99C1-68D7D4EC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738D7D-B7B6-4C81-ADBA-34CB842C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A6441D9-0BFC-46B5-991F-CDA29043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4E5A4F-B8CA-418A-B70C-2D717EBA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0AFD0AC-D468-4C00-B542-49FC9F54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E554-4407-4B4F-8C3B-ADEB15B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76BBC4-CF4E-455C-AA0F-62C207D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F3D5BD-4457-4533-820E-64B8EC6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EA924E-4E11-4916-ADAD-6047DC05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A7C929-FF89-46DF-95B4-4090D71A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C2BA91-2F64-4C0A-B0E8-F5F9ECA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CE50E3-AE8E-4A02-B4F9-7201E2E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7A3223-D07F-4311-B8A8-A8AD2FE6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9EA373-3B75-4DBC-93BD-C13953C9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A7C042E-59AE-4B25-8ED7-F8EF95E0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5B2142-C7A8-40B8-933B-485DB80C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8395-84D5-4F97-AA22-0482017F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8CAC621-089A-4046-A440-9D3206E6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71BB90-1AC2-464F-9995-428DF665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6DA30E-53A1-412A-9A11-D8F4270C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5E0CAA-6986-4524-A0E2-2F70CC8A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CC8767-F374-4A56-8400-B6B87F06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DD7AAF-C26A-4D9F-B965-E3BE8ED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4CCFA9-C31C-483E-B946-9D237470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244C63-0DDA-4909-A945-1FB4694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E846B1-602D-4929-8EB1-6A42B50D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F96B93-3760-4E1F-B4FB-6AC684C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3F8A1-678D-444D-803B-173AB305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25C233-A063-4A73-839A-60132EE0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03E75A-A802-4A2C-8C7E-8EF48AFB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7197E3-B7B9-427A-B88D-2C07392F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758811-EE67-4676-8596-8C78D484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836A84-D89A-4B93-B03F-78A3A9E6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80073C0-240C-429C-8370-29A2EBC4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F5EB82-64DC-4DFD-A57E-2DCC2B69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6DBF5E-57B5-4700-B7D0-FCECE60C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F01D002-5325-4EEA-B48F-46DECCA0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F3E797-11FF-431E-8667-0CC2EA0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F8D6-EF25-4AD1-B1D5-970CBA6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8D1938-CFD7-4437-938E-2DC31A1C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5AD69A-0A04-4337-9A72-7A2C4E04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F7E036-7B91-4699-AA34-B2A57097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60604D7-4AAC-4585-ADAC-6FB4D7EA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FF81F7-FB5F-41F3-8225-CBD2D8B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C23AD8-7867-48FC-A25E-9D79AB4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22EC323-CDD3-4FD2-B0E1-95D1FFCA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6901971-689C-460E-A8AC-8F291F8A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C04FEA-9BC0-4CF2-8A61-2BE600CD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40B0993-B5B9-4C49-8F48-4E1F153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C384-FEDE-4BC8-AE61-888A1CC0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49A0BF-4EE5-4DE5-BD05-914B3868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F15CE7-5983-4366-9851-B6725B45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09EB402-CCBE-499C-8D88-B076AF5B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4D6B1D-62B6-4D0B-9B1F-D6D2C707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0803DB-2AED-4879-A8A2-70EC5005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ADFE53-983A-4881-9CD2-CB077983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847F784-C818-4E7E-9B3C-0823F373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B239C0-1073-449B-A300-80000466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075B82-A1BA-4CBF-A44C-0F8B8946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42B45D-00A9-4E74-8154-3134FC3E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C5A40-FBA0-4E49-B7A7-9789421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E54FB7-0803-42B4-8323-7F0D3979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80630D-7F0D-41FD-B8B0-930DC652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DF3D58-CA04-4F78-ACA5-CE953A4A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B79FC2-ACAA-4F69-90FA-27DD436F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250866-3387-47B7-813C-85D6C1DD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A69514F-B9E2-469A-98AC-05E6DBF6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09E6D02-B31E-45DC-A71C-7100B15A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DBC14B-6893-49E7-B3A3-1F361739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D4213D2-8398-4307-9334-DFF2DCCD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3C342C2-191A-4A7E-B2B4-C83D07A5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588B0-8B92-4D4B-A8A1-370398FE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E801946-D849-48F1-AF32-7BC38A61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1880BA0-41A7-41FC-818A-F1F8538D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186F9E0-CEB8-4B58-AE75-0CB4295D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DB6CE5C-C419-4C43-A0BC-CA12A6B0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86CCDF-68E9-47C0-9745-8A1EE87C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DF69081-4038-4C9A-A63D-619D204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36C384-F74B-44DF-8186-D3E8637F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8F20E1-B32C-4350-8346-4EA04C9A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81379C-EDD2-47B4-B4D3-FFF5BEF5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1133F64-FF1B-4D2D-B3DA-4AC13F97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D101-046C-4398-AE49-EDED79F9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834735-7F6B-4B84-AB59-E990788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E3668E-B7F8-4E12-A621-F961CE8D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79CE57-47F8-46B0-915B-D6C7D8D5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5E101A1-DF1E-4AA0-AD93-85D35C33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74C945-3DDD-4022-9B53-E0461543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EC1D328-FF7E-4FB3-80C7-A10B6BC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701CE3-4C43-4C38-A41C-A9A1B6B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5AEACF3-D0D0-4223-AA57-4066F26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D6FBCC-6AAB-4F6C-92AA-41C7F40C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F1A125-5B3D-48E6-B716-E1E87021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B93-3690-4F90-9D07-95658AF1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6D3F0-20A6-4CA9-BC8F-09E51119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0C24C69-CD3B-406E-86D5-AE052BAD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FE6E05C-CA21-44CD-94A1-C74D7591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92EB35B-E51E-439D-B0BD-D96638BA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478540-759B-4689-8C2F-C61AA1DB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E0BB857-519C-475F-9C03-857B6917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D76C2B7-9A6B-45F6-BD35-062B8DD2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6CEA90A-02A0-4976-8FFD-EE30E0F6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473A71B-5782-44E8-9465-C13DFF16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E6998FE-3552-4D63-8278-2327A28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714C6F0-D3DD-41ED-85B1-E46FB95E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F097-94BD-4205-807A-CC17C980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00EC27A-AEEF-4843-A875-EC92AA4D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C2C6A34-B35B-4DF4-8BF7-BA7E392A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9DE9A8A-53CE-420C-8985-AEA04233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8D128-E821-4342-A2DC-1C360A91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3AA54-7B81-4182-BEBB-5CAFE191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CAF75-4D24-4CBD-8F76-16EA0E5D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B70E-4F89-4D95-8581-160DFE2A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6CD2-FEAE-4898-A4F4-3ACCE192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F877E-EF92-4A3A-87AB-E7483CE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BB26D-45C8-422F-820B-6D7C4B5B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5569-F9AD-4FCB-B58D-3B98A097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69E-A4C8-4FFF-ABAD-9DF35781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30977-409D-40D6-A6E9-575E3FB0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85C64-5C0C-4598-8016-87A2426C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8BA14-D0C5-4792-A3B8-D39D6928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1FF77-C267-4DE2-BE76-DE525F87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286D9-364C-489A-9BE7-D84ECDC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5E0C3-3600-4A3E-950E-67095095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E013-8AF0-414D-B0C0-E617C329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1D632-9702-419A-A871-8647EC07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5514E-8D56-4EAA-B628-554376BA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1A0B-5C73-466B-BB3C-E43A7890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CD2-AF13-4628-9AE0-4EA49C4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97F3A-192D-4D05-BB20-D3A4DDF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D3C9D-1DC3-4510-BBFD-AC2A403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30ED2-4826-49F3-B518-6BA11977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DBDFC-DC5F-46ED-8460-57B8B207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58F71-EA4E-4B73-8AA1-B775473B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EC2D8-68C2-4645-A73B-D1619A2C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CDE19-EE6E-46D0-88E2-B4E7EEA3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F04DF-898D-420A-AA24-65D8791C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6F6DF-944E-4BF8-9649-326E7B3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28482-E710-4F3D-A7A4-3ED8A96E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E4E-3F76-4C4B-8D43-C67F995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059DD-24D2-4F37-9D8D-1B3CB144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A5AC5-3EC5-4D19-AC46-997F314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62ADF-549A-4BA3-9639-F78ABF36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A0EBE-D40A-487A-AF50-F3D5540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6161-104A-483D-86CD-535B854A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F04FB-3CE8-4DCC-8AEC-AFF77993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6F00-C3EA-45FF-9CAF-69FE45C6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FF526-4E6C-4635-BFF4-D0AE1DA3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02839-961A-480F-AEF3-30089FC0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C1B3C-31BC-4FD5-B903-1DCC9B52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247C-1C3E-45B9-9153-F27D3CD0E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088A-8A82-45C3-AB96-F2F288E0EC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C2C-B40D-4FB1-A310-1209D196E1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FDFF-C498-4CA7-A2A7-7CD6A8B5E5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1D81-C744-4B87-895B-E6CA66895C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0D55-A443-433E-B913-6C158A98B8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9B35-80BD-4800-A571-618E5336DA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DDBD-9B8B-4CAB-96B3-2F163A89D1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CB73-2CBB-4372-B3B6-DE33714535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4ACF-8022-4DAD-A72C-B4CD8B03AC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17F2-2366-43BC-A717-1145B516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3380-1ABC-4E96-AE5C-91533D0940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2D84-6FB4-40E3-8485-B7C201A58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3D20-3EF6-4944-A4D0-11FD00947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70D-DE0E-4C93-81DF-9291E60A2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FD1E-5A3B-4FBE-BEB8-83A3D31B9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9DC-151F-467A-8CA1-BE73CCB9F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5FFB-ADF0-4B35-9271-085C4500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DA83-A480-4253-887E-71BAE91E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1863-ABA8-41E1-8E1D-9F8F0C81F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9CD-DD46-4F97-8C0F-5CECE8111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F59A-3FE3-460E-B4D8-086096770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FD53-28DE-4CF2-AB75-A5F76BC6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C881-544D-4BB6-A710-E9B5333D6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F1F-5313-41B7-9792-35835A8F6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A475-84CE-4C42-B7D6-35CFFE321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D779-AAB8-48D4-9B10-E3F64B4E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31AA-DA45-4A22-8E52-2AB6187B3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BB2-8CB6-4E4A-A609-70BF3DB00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74A1-99DE-4B12-8556-F3BCEA85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1166-377B-4617-95CA-82CB843F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00A-DD0D-42AD-B976-A721F5F9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DAB3-28DF-457A-8C3B-4D8FAFBF2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91CE-883F-431D-B93F-C0CEEDA3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A8E1-580A-4EAA-8F93-491D12909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D464-24BD-475D-BE2E-F26BBA6F41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CF6A-1E82-48DD-8354-207272B991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7F0D-9AE9-4DEA-937E-C7729E3090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6DBA-B763-465D-B4D3-E5A840FA05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1C74-1D66-4CA6-B7E1-8192BBEBCB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C061-47C9-48B7-A2CD-CCC4198CEF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0635-8F9D-4037-9C4B-C953DB9BEF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6385-5C7E-4A68-9C9D-C91BF2CE93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1F71-0C46-4159-A263-0058C17771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6343-1BFB-4BF6-BF69-7A566FADD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F354-480F-4D2B-B2DD-3F5CB43723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F4CA-4F7B-4A24-B1A4-0FF4D52A17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63AD-9626-4BB8-A1B3-88AB7BB0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6D7E-4951-415A-96C6-8F85D6C420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3E64-C779-49A7-B3B3-5B832189C0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71A-5645-4AA3-AD4B-A9C357E9DA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gif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4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qq%B1%ED%C7%E9+&#676;%C0%FB&amp;in=19992&amp;cl=2&amp;cm=1&amp;sc=0&amp;lm=-1&amp;pn=1&amp;rn=1&amp;di=2739732984&amp;ln=333&amp;fr=" TargetMode="External"/><Relationship Id="rId2" Type="http://schemas.openxmlformats.org/officeDocument/2006/relationships/image" Target="../media/image41.gif"/><Relationship Id="rId3" Type="http://schemas.openxmlformats.org/officeDocument/2006/relationships/image" Target="../media/image42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5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4"/>
          <p:cNvSpPr/>
          <p:nvPr/>
        </p:nvSpPr>
        <p:spPr>
          <a:xfrm>
            <a:off x="0" y="9907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天上一群小白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矩形 4"/>
          <p:cNvSpPr/>
          <p:nvPr/>
        </p:nvSpPr>
        <p:spPr>
          <a:xfrm>
            <a:off x="1477440" y="53341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Text Box 2"/>
          <p:cNvSpPr/>
          <p:nvPr/>
        </p:nvSpPr>
        <p:spPr>
          <a:xfrm>
            <a:off x="609480" y="457200"/>
            <a:ext cx="5867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___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___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Text Box 2"/>
          <p:cNvSpPr/>
          <p:nvPr/>
        </p:nvSpPr>
        <p:spPr>
          <a:xfrm>
            <a:off x="609480" y="457200"/>
            <a:ext cx="5867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有的蹲着有的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4" name="美丽的草原我的家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35" name="Text Box 8"/>
          <p:cNvSpPr/>
          <p:nvPr/>
        </p:nvSpPr>
        <p:spPr>
          <a:xfrm>
            <a:off x="3048120" y="2666880"/>
            <a:ext cx="2590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草儿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6" name="Picture 4" descr="U2007121011973000734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37" name="Text Box 5"/>
          <p:cNvSpPr/>
          <p:nvPr/>
        </p:nvSpPr>
        <p:spPr>
          <a:xfrm>
            <a:off x="3505320" y="1676520"/>
            <a:ext cx="2361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河水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Text Box 2"/>
          <p:cNvSpPr/>
          <p:nvPr/>
        </p:nvSpPr>
        <p:spPr>
          <a:xfrm>
            <a:off x="457200" y="1828800"/>
            <a:ext cx="586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Text Box 2"/>
          <p:cNvSpPr/>
          <p:nvPr/>
        </p:nvSpPr>
        <p:spPr>
          <a:xfrm>
            <a:off x="457200" y="1828800"/>
            <a:ext cx="586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0" name="Picture 3" descr="mpt8_2010051308151588"/>
          <p:cNvPicPr/>
          <p:nvPr/>
        </p:nvPicPr>
        <p:blipFill>
          <a:blip r:embed="rId1"/>
          <a:stretch/>
        </p:blipFill>
        <p:spPr>
          <a:xfrm>
            <a:off x="533520" y="228600"/>
            <a:ext cx="1676160" cy="1353960"/>
          </a:xfrm>
          <a:prstGeom prst="rect">
            <a:avLst/>
          </a:prstGeom>
          <a:ln w="0">
            <a:noFill/>
          </a:ln>
        </p:spPr>
      </p:pic>
      <p:pic>
        <p:nvPicPr>
          <p:cNvPr id="2141" name="Picture 4" descr="mpt8_2010051308151588"/>
          <p:cNvPicPr/>
          <p:nvPr/>
        </p:nvPicPr>
        <p:blipFill>
          <a:blip r:embed="rId2"/>
          <a:stretch/>
        </p:blipFill>
        <p:spPr>
          <a:xfrm>
            <a:off x="2514600" y="228600"/>
            <a:ext cx="1676520" cy="1353960"/>
          </a:xfrm>
          <a:prstGeom prst="rect">
            <a:avLst/>
          </a:prstGeom>
          <a:ln w="0">
            <a:noFill/>
          </a:ln>
        </p:spPr>
      </p:pic>
      <p:pic>
        <p:nvPicPr>
          <p:cNvPr id="2142" name="Picture 5" descr="mpt8_2010051308151588"/>
          <p:cNvPicPr/>
          <p:nvPr/>
        </p:nvPicPr>
        <p:blipFill>
          <a:blip r:embed="rId3"/>
          <a:stretch/>
        </p:blipFill>
        <p:spPr>
          <a:xfrm>
            <a:off x="4572000" y="228600"/>
            <a:ext cx="1676520" cy="1353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44444E-006 L 2.77556E-017 0.76806 E">
                                      <p:cBhvr>
                                        <p:cTn id="39" dur="1000" fill="hold"/>
                                        <p:tgtEl>
                                          <p:spTgt spid="2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5.55112E-017 0.76667 E">
                                      <p:cBhvr>
                                        <p:cTn id="43" dur="2000" fill="hold"/>
                                        <p:tgtEl>
                                          <p:spTgt spid="2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972 L 0.00833 0.76945 E">
                                      <p:cBhvr>
                                        <p:cTn id="47" dur="2000" fill="hold"/>
                                        <p:tgtEl>
                                          <p:spTgt spid="2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Text Box 2"/>
          <p:cNvSpPr/>
          <p:nvPr/>
        </p:nvSpPr>
        <p:spPr>
          <a:xfrm>
            <a:off x="592200" y="1219320"/>
            <a:ext cx="5867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有的蹲着有的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矩形 1"/>
          <p:cNvSpPr/>
          <p:nvPr/>
        </p:nvSpPr>
        <p:spPr>
          <a:xfrm>
            <a:off x="1936440" y="352440"/>
            <a:ext cx="39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、天上一群小白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Text Box 4"/>
          <p:cNvSpPr/>
          <p:nvPr/>
        </p:nvSpPr>
        <p:spPr>
          <a:xfrm>
            <a:off x="3352680" y="685800"/>
            <a:ext cx="1981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一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1145799257614504"/>
          <p:cNvPicPr/>
          <p:nvPr/>
        </p:nvPicPr>
        <p:blipFill>
          <a:blip r:embed="rId2"/>
          <a:stretch/>
        </p:blipFill>
        <p:spPr>
          <a:xfrm>
            <a:off x="2438280" y="838080"/>
            <a:ext cx="2011320" cy="289584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5219640" y="148428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1619280" y="414972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ūn ún ǔn ù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9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3" descr="5"/>
          <p:cNvPicPr/>
          <p:nvPr/>
        </p:nvPicPr>
        <p:blipFill>
          <a:blip r:embed="rId2"/>
          <a:stretch/>
        </p:blipFill>
        <p:spPr>
          <a:xfrm>
            <a:off x="1835280" y="260280"/>
            <a:ext cx="3124080" cy="2163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151" name="Text Box 4"/>
          <p:cNvSpPr/>
          <p:nvPr/>
        </p:nvSpPr>
        <p:spPr>
          <a:xfrm>
            <a:off x="2438280" y="38098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5"/>
          <p:cNvSpPr/>
          <p:nvPr/>
        </p:nvSpPr>
        <p:spPr>
          <a:xfrm>
            <a:off x="3962520" y="388620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ü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6"/>
          <p:cNvSpPr/>
          <p:nvPr/>
        </p:nvSpPr>
        <p:spPr>
          <a:xfrm>
            <a:off x="5943600" y="3809880"/>
            <a:ext cx="2057400" cy="25318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en-US" sz="8000" spc="-1" strike="noStrike">
                <a:solidFill>
                  <a:srgbClr val="333399"/>
                </a:solidFill>
                <a:latin typeface="楷体_GB2312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7"/>
          <p:cNvSpPr/>
          <p:nvPr/>
        </p:nvSpPr>
        <p:spPr>
          <a:xfrm>
            <a:off x="762120" y="5486400"/>
            <a:ext cx="8153280" cy="15562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宋体"/>
              </a:rPr>
              <a:t>yūn y</a:t>
            </a:r>
            <a:r>
              <a:rPr b="1" lang="en-US" sz="8000" spc="-1" strike="noStrike">
                <a:solidFill>
                  <a:srgbClr val="333399"/>
                </a:solidFill>
                <a:latin typeface="Times New Roman"/>
              </a:rPr>
              <a:t>ú</a:t>
            </a:r>
            <a:r>
              <a:rPr b="1" lang="en-US" sz="8000" spc="-1" strike="noStrike">
                <a:solidFill>
                  <a:srgbClr val="333399"/>
                </a:solidFill>
                <a:latin typeface="宋体"/>
              </a:rPr>
              <a:t>n yǔn y</a:t>
            </a:r>
            <a:r>
              <a:rPr b="1" lang="en-US" sz="8000" spc="-1" strike="noStrike">
                <a:solidFill>
                  <a:srgbClr val="333399"/>
                </a:solidFill>
                <a:latin typeface="Times New Roman"/>
              </a:rPr>
              <a:t>ù</a:t>
            </a:r>
            <a:r>
              <a:rPr b="1" lang="en-US" sz="8000" spc="-1" strike="noStrike">
                <a:solidFill>
                  <a:srgbClr val="333399"/>
                </a:solidFill>
                <a:latin typeface="宋体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8"/>
          <p:cNvSpPr/>
          <p:nvPr/>
        </p:nvSpPr>
        <p:spPr>
          <a:xfrm>
            <a:off x="5651640" y="620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ü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9"/>
          <p:cNvSpPr/>
          <p:nvPr/>
        </p:nvSpPr>
        <p:spPr>
          <a:xfrm>
            <a:off x="1332000" y="249228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ǖn  ǘn  ǚn  ǜ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7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8" name="Picture 3" descr="zhong"/>
          <p:cNvPicPr/>
          <p:nvPr/>
        </p:nvPicPr>
        <p:blipFill>
          <a:blip r:embed="rId2"/>
          <a:stretch/>
        </p:blipFill>
        <p:spPr>
          <a:xfrm>
            <a:off x="1981080" y="533520"/>
            <a:ext cx="2514600" cy="229392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4" descr="060613aifootball01pre"/>
          <p:cNvPicPr/>
          <p:nvPr/>
        </p:nvPicPr>
        <p:blipFill>
          <a:blip r:embed="rId3"/>
          <a:stretch/>
        </p:blipFill>
        <p:spPr>
          <a:xfrm>
            <a:off x="4648320" y="5335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160" name="Object 5" descr=""/>
          <p:cNvPicPr/>
          <p:nvPr/>
        </p:nvPicPr>
        <p:blipFill>
          <a:blip r:embed="rId4"/>
          <a:stretch/>
        </p:blipFill>
        <p:spPr>
          <a:xfrm>
            <a:off x="2057400" y="2971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2161" name="Picture 6" descr=""/>
          <p:cNvPicPr/>
          <p:nvPr/>
        </p:nvPicPr>
        <p:blipFill>
          <a:blip r:embed="rId5"/>
          <a:stretch/>
        </p:blipFill>
        <p:spPr>
          <a:xfrm>
            <a:off x="4876920" y="2895480"/>
            <a:ext cx="2819160" cy="1892520"/>
          </a:xfrm>
          <a:prstGeom prst="rect">
            <a:avLst/>
          </a:prstGeom>
          <a:ln w="0">
            <a:noFill/>
          </a:ln>
        </p:spPr>
      </p:pic>
      <p:sp>
        <p:nvSpPr>
          <p:cNvPr id="2162" name="Text Box 7"/>
          <p:cNvSpPr/>
          <p:nvPr/>
        </p:nvSpPr>
        <p:spPr>
          <a:xfrm>
            <a:off x="882720" y="5029200"/>
            <a:ext cx="193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华文楷体"/>
                <a:ea typeface="华文楷体"/>
              </a:rPr>
              <a:t>yu</a:t>
            </a:r>
            <a:r>
              <a:rPr b="1" lang="en-US" sz="6000" spc="-1" strike="noStrike">
                <a:solidFill>
                  <a:srgbClr val="333399"/>
                </a:solidFill>
                <a:latin typeface="宋体"/>
              </a:rPr>
              <a:t>ā</a:t>
            </a:r>
            <a:r>
              <a:rPr b="1" lang="en-US" sz="6000" spc="-1" strike="noStrike">
                <a:solidFill>
                  <a:srgbClr val="333399"/>
                </a:solidFill>
                <a:latin typeface="华文楷体"/>
                <a:ea typeface="华文楷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8"/>
          <p:cNvSpPr/>
          <p:nvPr/>
        </p:nvSpPr>
        <p:spPr>
          <a:xfrm>
            <a:off x="2819520" y="5029200"/>
            <a:ext cx="19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华文楷体"/>
                <a:ea typeface="华文楷体"/>
              </a:rPr>
              <a:t>yu</a:t>
            </a:r>
            <a:r>
              <a:rPr b="1" lang="en-US" sz="6000" spc="-1" strike="noStrike">
                <a:solidFill>
                  <a:srgbClr val="333399"/>
                </a:solidFill>
                <a:latin typeface="宋体"/>
              </a:rPr>
              <a:t>á</a:t>
            </a:r>
            <a:r>
              <a:rPr b="1" lang="en-US" sz="6000" spc="-1" strike="noStrike">
                <a:solidFill>
                  <a:srgbClr val="333399"/>
                </a:solidFill>
                <a:latin typeface="华文楷体"/>
                <a:ea typeface="华文楷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9"/>
          <p:cNvSpPr/>
          <p:nvPr/>
        </p:nvSpPr>
        <p:spPr>
          <a:xfrm>
            <a:off x="4584240" y="5029200"/>
            <a:ext cx="207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华文楷体"/>
                <a:ea typeface="华文楷体"/>
              </a:rPr>
              <a:t>yu</a:t>
            </a:r>
            <a:r>
              <a:rPr b="1" lang="en-US" sz="6000" spc="-1" strike="noStrike">
                <a:solidFill>
                  <a:srgbClr val="333399"/>
                </a:solidFill>
                <a:latin typeface="宋体"/>
              </a:rPr>
              <a:t>ǎ</a:t>
            </a:r>
            <a:r>
              <a:rPr b="1" lang="en-US" sz="6000" spc="-1" strike="noStrike">
                <a:solidFill>
                  <a:srgbClr val="333399"/>
                </a:solidFill>
                <a:latin typeface="华文楷体"/>
                <a:ea typeface="华文楷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10"/>
          <p:cNvSpPr/>
          <p:nvPr/>
        </p:nvSpPr>
        <p:spPr>
          <a:xfrm>
            <a:off x="6095880" y="4571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宋体"/>
                <a:ea typeface="宋体"/>
              </a:rPr>
              <a:t>yu</a:t>
            </a:r>
            <a:r>
              <a:rPr b="1" lang="en-US" sz="6000" spc="-1" strike="noStrike">
                <a:solidFill>
                  <a:srgbClr val="333399"/>
                </a:solidFill>
                <a:latin typeface="宋体"/>
                <a:ea typeface="Times New Roman"/>
              </a:rPr>
              <a:t>à</a:t>
            </a:r>
            <a:r>
              <a:rPr b="1" lang="en-US" sz="6000" spc="-1" strike="noStrike">
                <a:solidFill>
                  <a:srgbClr val="333399"/>
                </a:solidFill>
                <a:latin typeface="宋体"/>
                <a:ea typeface="宋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11"/>
          <p:cNvSpPr/>
          <p:nvPr/>
        </p:nvSpPr>
        <p:spPr>
          <a:xfrm>
            <a:off x="-34920" y="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yu</a:t>
            </a:r>
            <a:r>
              <a:rPr b="1" lang="en-US" sz="8800" spc="-1" strike="noStrike">
                <a:solidFill>
                  <a:srgbClr val="ff0000"/>
                </a:solidFill>
                <a:latin typeface="宋体"/>
              </a:rPr>
              <a:t>ɑ</a:t>
            </a:r>
            <a:r>
              <a:rPr b="1" lang="en-US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7" name="Picture 2" descr="20061211194211312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sp>
        <p:nvSpPr>
          <p:cNvPr id="2168" name="Text Box 3"/>
          <p:cNvSpPr/>
          <p:nvPr/>
        </p:nvSpPr>
        <p:spPr>
          <a:xfrm>
            <a:off x="324000" y="0"/>
            <a:ext cx="331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8000" spc="-1" strike="noStrike">
                <a:solidFill>
                  <a:srgbClr val="0000ff"/>
                </a:solidFill>
                <a:latin typeface="宋体"/>
              </a:rPr>
              <a:t>yuān</a:t>
            </a:r>
            <a:r>
              <a:rPr b="1" lang="en-US" sz="8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鸢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 Box 2"/>
          <p:cNvSpPr/>
          <p:nvPr/>
        </p:nvSpPr>
        <p:spPr>
          <a:xfrm>
            <a:off x="2916360" y="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宋体"/>
              </a:rPr>
              <a:t>yuán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圆圆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0" name="Picture 3" descr="20200517138193"/>
          <p:cNvPicPr/>
          <p:nvPr/>
        </p:nvPicPr>
        <p:blipFill>
          <a:blip r:embed="rId1"/>
          <a:stretch/>
        </p:blipFill>
        <p:spPr>
          <a:xfrm>
            <a:off x="324000" y="1197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4" descr="202005122146945"/>
          <p:cNvPicPr/>
          <p:nvPr/>
        </p:nvPicPr>
        <p:blipFill>
          <a:blip r:embed="rId2"/>
          <a:stretch/>
        </p:blipFill>
        <p:spPr>
          <a:xfrm>
            <a:off x="2771640" y="1268280"/>
            <a:ext cx="2664000" cy="252108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5" descr="20060705172009150"/>
          <p:cNvPicPr/>
          <p:nvPr/>
        </p:nvPicPr>
        <p:blipFill>
          <a:blip r:embed="rId3"/>
          <a:stretch/>
        </p:blipFill>
        <p:spPr>
          <a:xfrm>
            <a:off x="5651640" y="1341360"/>
            <a:ext cx="2808000" cy="251928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6" descr="91d0e9982rydddc"/>
          <p:cNvPicPr/>
          <p:nvPr/>
        </p:nvPicPr>
        <p:blipFill>
          <a:blip r:embed="rId4"/>
          <a:stretch/>
        </p:blipFill>
        <p:spPr>
          <a:xfrm>
            <a:off x="539640" y="393372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174" name="Picture 7" descr="xin_0307041116484262916414"/>
          <p:cNvPicPr/>
          <p:nvPr/>
        </p:nvPicPr>
        <p:blipFill>
          <a:blip r:embed="rId5"/>
          <a:stretch/>
        </p:blipFill>
        <p:spPr>
          <a:xfrm>
            <a:off x="3132000" y="3933720"/>
            <a:ext cx="2519640" cy="259092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8" descr="qiuleier2_0546"/>
          <p:cNvPicPr/>
          <p:nvPr/>
        </p:nvPicPr>
        <p:blipFill>
          <a:blip r:embed="rId6"/>
          <a:stretch/>
        </p:blipFill>
        <p:spPr>
          <a:xfrm>
            <a:off x="5724360" y="3863880"/>
            <a:ext cx="28800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6" name="Picture 2" descr="2006829154015411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7" name="Text Box 3"/>
          <p:cNvSpPr/>
          <p:nvPr/>
        </p:nvSpPr>
        <p:spPr>
          <a:xfrm>
            <a:off x="3382920" y="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yuà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8" name="Picture 2" descr="cha jing-30"/>
          <p:cNvPicPr/>
          <p:nvPr/>
        </p:nvPicPr>
        <p:blipFill>
          <a:blip r:embed="rId1"/>
          <a:stretch/>
        </p:blipFill>
        <p:spPr>
          <a:xfrm>
            <a:off x="-60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9" name="Rectangle 3"/>
          <p:cNvSpPr/>
          <p:nvPr/>
        </p:nvSpPr>
        <p:spPr>
          <a:xfrm>
            <a:off x="539640" y="404640"/>
            <a:ext cx="1728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4"/>
          <p:cNvSpPr/>
          <p:nvPr/>
        </p:nvSpPr>
        <p:spPr>
          <a:xfrm>
            <a:off x="2627280" y="333360"/>
            <a:ext cx="1368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Rectangle 5"/>
          <p:cNvSpPr/>
          <p:nvPr/>
        </p:nvSpPr>
        <p:spPr>
          <a:xfrm>
            <a:off x="6477120" y="3860640"/>
            <a:ext cx="21272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yu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6"/>
          <p:cNvSpPr/>
          <p:nvPr/>
        </p:nvSpPr>
        <p:spPr>
          <a:xfrm>
            <a:off x="539640" y="2492280"/>
            <a:ext cx="2051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7"/>
          <p:cNvSpPr/>
          <p:nvPr/>
        </p:nvSpPr>
        <p:spPr>
          <a:xfrm>
            <a:off x="4800600" y="152280"/>
            <a:ext cx="2017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8"/>
          <p:cNvSpPr/>
          <p:nvPr/>
        </p:nvSpPr>
        <p:spPr>
          <a:xfrm>
            <a:off x="4495680" y="1700280"/>
            <a:ext cx="2017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9"/>
          <p:cNvSpPr/>
          <p:nvPr/>
        </p:nvSpPr>
        <p:spPr>
          <a:xfrm>
            <a:off x="4643280" y="4941720"/>
            <a:ext cx="2233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10"/>
          <p:cNvSpPr/>
          <p:nvPr/>
        </p:nvSpPr>
        <p:spPr>
          <a:xfrm>
            <a:off x="2340000" y="1844640"/>
            <a:ext cx="1441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ǖ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11"/>
          <p:cNvSpPr/>
          <p:nvPr/>
        </p:nvSpPr>
        <p:spPr>
          <a:xfrm>
            <a:off x="5003640" y="3213000"/>
            <a:ext cx="1873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ù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12"/>
          <p:cNvSpPr/>
          <p:nvPr/>
        </p:nvSpPr>
        <p:spPr>
          <a:xfrm>
            <a:off x="468360" y="4076640"/>
            <a:ext cx="1297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13"/>
          <p:cNvSpPr/>
          <p:nvPr/>
        </p:nvSpPr>
        <p:spPr>
          <a:xfrm>
            <a:off x="7164360" y="2873520"/>
            <a:ext cx="172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14"/>
          <p:cNvSpPr/>
          <p:nvPr/>
        </p:nvSpPr>
        <p:spPr>
          <a:xfrm>
            <a:off x="7236000" y="189000"/>
            <a:ext cx="1369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15"/>
          <p:cNvSpPr/>
          <p:nvPr/>
        </p:nvSpPr>
        <p:spPr>
          <a:xfrm>
            <a:off x="2771640" y="4653000"/>
            <a:ext cx="1800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16"/>
          <p:cNvSpPr/>
          <p:nvPr/>
        </p:nvSpPr>
        <p:spPr>
          <a:xfrm>
            <a:off x="539640" y="5388120"/>
            <a:ext cx="2232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17"/>
          <p:cNvSpPr/>
          <p:nvPr/>
        </p:nvSpPr>
        <p:spPr>
          <a:xfrm>
            <a:off x="7020000" y="5157720"/>
            <a:ext cx="212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18"/>
          <p:cNvSpPr/>
          <p:nvPr/>
        </p:nvSpPr>
        <p:spPr>
          <a:xfrm>
            <a:off x="2124000" y="3068640"/>
            <a:ext cx="2521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TextBox 1"/>
          <p:cNvSpPr/>
          <p:nvPr/>
        </p:nvSpPr>
        <p:spPr>
          <a:xfrm>
            <a:off x="7094520" y="1874880"/>
            <a:ext cx="1287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TextBox 2"/>
          <p:cNvSpPr/>
          <p:nvPr/>
        </p:nvSpPr>
        <p:spPr>
          <a:xfrm>
            <a:off x="6634080" y="1765440"/>
            <a:ext cx="220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 txBox="1"/>
          <p:nvPr/>
        </p:nvSpPr>
        <p:spPr>
          <a:xfrm>
            <a:off x="38088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g---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---g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---un---k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---un---h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 txBox="1"/>
          <p:nvPr/>
        </p:nvSpPr>
        <p:spPr>
          <a:xfrm>
            <a:off x="304920" y="380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---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ün---j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---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ün---qu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---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ün---x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Text Box 2"/>
          <p:cNvSpPr/>
          <p:nvPr/>
        </p:nvSpPr>
        <p:spPr>
          <a:xfrm>
            <a:off x="533520" y="3808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连一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0" name="Picture 3" descr="军舰"/>
          <p:cNvPicPr/>
          <p:nvPr/>
        </p:nvPicPr>
        <p:blipFill>
          <a:blip r:embed="rId1"/>
          <a:stretch/>
        </p:blipFill>
        <p:spPr>
          <a:xfrm>
            <a:off x="6858000" y="1600200"/>
            <a:ext cx="1981080" cy="1830240"/>
          </a:xfrm>
          <a:prstGeom prst="rect">
            <a:avLst/>
          </a:prstGeom>
          <a:ln w="0">
            <a:noFill/>
          </a:ln>
        </p:spPr>
      </p:pic>
      <p:pic>
        <p:nvPicPr>
          <p:cNvPr id="2201" name="Picture 4" descr="轮船"/>
          <p:cNvPicPr/>
          <p:nvPr/>
        </p:nvPicPr>
        <p:blipFill>
          <a:blip r:embed="rId2"/>
          <a:stretch/>
        </p:blipFill>
        <p:spPr>
          <a:xfrm>
            <a:off x="457200" y="1600200"/>
            <a:ext cx="2070000" cy="156384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5" descr="元宵"/>
          <p:cNvPicPr/>
          <p:nvPr/>
        </p:nvPicPr>
        <p:blipFill>
          <a:blip r:embed="rId3"/>
          <a:stretch/>
        </p:blipFill>
        <p:spPr>
          <a:xfrm>
            <a:off x="457200" y="4343400"/>
            <a:ext cx="2008080" cy="152892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6" descr="馄饨"/>
          <p:cNvPicPr/>
          <p:nvPr/>
        </p:nvPicPr>
        <p:blipFill>
          <a:blip r:embed="rId4"/>
          <a:stretch/>
        </p:blipFill>
        <p:spPr>
          <a:xfrm>
            <a:off x="6781680" y="4419720"/>
            <a:ext cx="1962360" cy="1482480"/>
          </a:xfrm>
          <a:prstGeom prst="rect">
            <a:avLst/>
          </a:prstGeom>
          <a:ln w="0">
            <a:noFill/>
          </a:ln>
        </p:spPr>
      </p:pic>
      <p:sp>
        <p:nvSpPr>
          <p:cNvPr id="2204" name="Text Box 7"/>
          <p:cNvSpPr/>
          <p:nvPr/>
        </p:nvSpPr>
        <p:spPr>
          <a:xfrm>
            <a:off x="3657600" y="175248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HPY"/>
              </a:rPr>
              <a:t>lún  chu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Text Box 8"/>
          <p:cNvSpPr/>
          <p:nvPr/>
        </p:nvSpPr>
        <p:spPr>
          <a:xfrm>
            <a:off x="3352680" y="27432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ún  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Text Box 9"/>
          <p:cNvSpPr/>
          <p:nvPr/>
        </p:nvSpPr>
        <p:spPr>
          <a:xfrm>
            <a:off x="3182760" y="3657600"/>
            <a:ext cx="33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PY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HPY"/>
              </a:rPr>
              <a:t>jūn  ji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10"/>
          <p:cNvSpPr/>
          <p:nvPr/>
        </p:nvSpPr>
        <p:spPr>
          <a:xfrm>
            <a:off x="3182760" y="4572000"/>
            <a:ext cx="33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HPY"/>
              </a:rPr>
              <a:t>yuán  xiā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Line 11"/>
          <p:cNvSpPr/>
          <p:nvPr/>
        </p:nvSpPr>
        <p:spPr>
          <a:xfrm flipH="1">
            <a:off x="2555640" y="2057400"/>
            <a:ext cx="1214280" cy="72864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Line 12"/>
          <p:cNvSpPr/>
          <p:nvPr/>
        </p:nvSpPr>
        <p:spPr>
          <a:xfrm flipH="1" flipV="1">
            <a:off x="5579640" y="3179520"/>
            <a:ext cx="1295640" cy="190476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Line 13"/>
          <p:cNvSpPr/>
          <p:nvPr/>
        </p:nvSpPr>
        <p:spPr>
          <a:xfrm flipH="1">
            <a:off x="5657400" y="2637000"/>
            <a:ext cx="1219320" cy="121896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Line 14"/>
          <p:cNvSpPr/>
          <p:nvPr/>
        </p:nvSpPr>
        <p:spPr>
          <a:xfrm flipH="1">
            <a:off x="2514600" y="5084640"/>
            <a:ext cx="838080" cy="9684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 txBox="1"/>
          <p:nvPr/>
        </p:nvSpPr>
        <p:spPr>
          <a:xfrm>
            <a:off x="457200" y="11430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课文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自由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指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，做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加字，不   漏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圈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所要学的生字宝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拼一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儿歌中的音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2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13" name="Group 3"/>
          <p:cNvGrpSpPr/>
          <p:nvPr/>
        </p:nvGrpSpPr>
        <p:grpSpPr>
          <a:xfrm>
            <a:off x="0" y="-228600"/>
            <a:ext cx="3176640" cy="2624040"/>
            <a:chOff x="0" y="-228600"/>
            <a:chExt cx="3176640" cy="2624040"/>
          </a:xfrm>
        </p:grpSpPr>
        <p:pic>
          <p:nvPicPr>
            <p:cNvPr id="2214" name="Picture 4" descr="yang"/>
            <p:cNvPicPr/>
            <p:nvPr/>
          </p:nvPicPr>
          <p:blipFill>
            <a:blip r:embed="rId2"/>
            <a:stretch/>
          </p:blipFill>
          <p:spPr>
            <a:xfrm>
              <a:off x="0" y="-22860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5" name="Text Box 5"/>
            <p:cNvSpPr/>
            <p:nvPr/>
          </p:nvSpPr>
          <p:spPr>
            <a:xfrm>
              <a:off x="1447920" y="10666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家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6" name="SHEEP6.WAV" descr=""/>
          <p:cNvPicPr/>
          <p:nvPr/>
        </p:nvPicPr>
        <p:blipFill>
          <a:blip r:embed="rId3"/>
          <a:stretch/>
        </p:blipFill>
        <p:spPr>
          <a:xfrm>
            <a:off x="7885080" y="64008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217" name="Group 7"/>
          <p:cNvGrpSpPr/>
          <p:nvPr/>
        </p:nvGrpSpPr>
        <p:grpSpPr>
          <a:xfrm>
            <a:off x="0" y="1981080"/>
            <a:ext cx="3176640" cy="2624400"/>
            <a:chOff x="0" y="1981080"/>
            <a:chExt cx="3176640" cy="2624400"/>
          </a:xfrm>
        </p:grpSpPr>
        <p:pic>
          <p:nvPicPr>
            <p:cNvPr id="2218" name="Picture 8" descr="yang"/>
            <p:cNvPicPr/>
            <p:nvPr/>
          </p:nvPicPr>
          <p:blipFill>
            <a:blip r:embed="rId4"/>
            <a:stretch/>
          </p:blipFill>
          <p:spPr>
            <a:xfrm>
              <a:off x="0" y="1981080"/>
              <a:ext cx="3176640" cy="26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9" name="Text Box 9"/>
            <p:cNvSpPr/>
            <p:nvPr/>
          </p:nvSpPr>
          <p:spPr>
            <a:xfrm>
              <a:off x="1523880" y="320040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宋体"/>
                </a:rPr>
                <a:t>ɑ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Group 10"/>
          <p:cNvGrpSpPr/>
          <p:nvPr/>
        </p:nvGrpSpPr>
        <p:grpSpPr>
          <a:xfrm>
            <a:off x="3048120" y="-228600"/>
            <a:ext cx="3176640" cy="2624040"/>
            <a:chOff x="3048120" y="-228600"/>
            <a:chExt cx="3176640" cy="2624040"/>
          </a:xfrm>
        </p:grpSpPr>
        <p:pic>
          <p:nvPicPr>
            <p:cNvPr id="2221" name="Picture 11" descr="yang"/>
            <p:cNvPicPr/>
            <p:nvPr/>
          </p:nvPicPr>
          <p:blipFill>
            <a:blip r:embed="rId5"/>
            <a:stretch/>
          </p:blipFill>
          <p:spPr>
            <a:xfrm>
              <a:off x="3048120" y="-22860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2" name="Text Box 12"/>
            <p:cNvSpPr/>
            <p:nvPr/>
          </p:nvSpPr>
          <p:spPr>
            <a:xfrm>
              <a:off x="4495680" y="9144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ü</a:t>
              </a:r>
              <a:r>
                <a:rPr b="1" lang="en-US" sz="4400" spc="-1" strike="noStrike">
                  <a:solidFill>
                    <a:srgbClr val="ff3300"/>
                  </a:solidFill>
                  <a:latin typeface="宋体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Group 13"/>
          <p:cNvGrpSpPr/>
          <p:nvPr/>
        </p:nvGrpSpPr>
        <p:grpSpPr>
          <a:xfrm>
            <a:off x="3124080" y="1828800"/>
            <a:ext cx="3176640" cy="2624040"/>
            <a:chOff x="3124080" y="1828800"/>
            <a:chExt cx="3176640" cy="2624040"/>
          </a:xfrm>
        </p:grpSpPr>
        <p:pic>
          <p:nvPicPr>
            <p:cNvPr id="2224" name="Picture 14" descr="yang"/>
            <p:cNvPicPr/>
            <p:nvPr/>
          </p:nvPicPr>
          <p:blipFill>
            <a:blip r:embed="rId6"/>
            <a:stretch/>
          </p:blipFill>
          <p:spPr>
            <a:xfrm>
              <a:off x="3124080" y="182880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5" name="Text Box 15"/>
            <p:cNvSpPr/>
            <p:nvPr/>
          </p:nvSpPr>
          <p:spPr>
            <a:xfrm>
              <a:off x="4572000" y="29718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河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Group 16"/>
          <p:cNvGrpSpPr/>
          <p:nvPr/>
        </p:nvGrpSpPr>
        <p:grpSpPr>
          <a:xfrm>
            <a:off x="5967360" y="3716280"/>
            <a:ext cx="3176640" cy="2624040"/>
            <a:chOff x="5967360" y="3716280"/>
            <a:chExt cx="3176640" cy="2624040"/>
          </a:xfrm>
        </p:grpSpPr>
        <p:pic>
          <p:nvPicPr>
            <p:cNvPr id="2227" name="Picture 17" descr="yang"/>
            <p:cNvPicPr/>
            <p:nvPr/>
          </p:nvPicPr>
          <p:blipFill>
            <a:blip r:embed="rId7"/>
            <a:stretch/>
          </p:blipFill>
          <p:spPr>
            <a:xfrm>
              <a:off x="5967360" y="371628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8" name="Text Box 18"/>
            <p:cNvSpPr/>
            <p:nvPr/>
          </p:nvSpPr>
          <p:spPr>
            <a:xfrm>
              <a:off x="7315200" y="50115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Times New Roman"/>
                  <a:ea typeface="楷体_GB2312"/>
                </a:rPr>
                <a:t>才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19"/>
          <p:cNvGrpSpPr/>
          <p:nvPr/>
        </p:nvGrpSpPr>
        <p:grpSpPr>
          <a:xfrm>
            <a:off x="6248520" y="1905120"/>
            <a:ext cx="3176640" cy="2624040"/>
            <a:chOff x="6248520" y="1905120"/>
            <a:chExt cx="3176640" cy="2624040"/>
          </a:xfrm>
        </p:grpSpPr>
        <p:pic>
          <p:nvPicPr>
            <p:cNvPr id="2230" name="Picture 20" descr="yang"/>
            <p:cNvPicPr/>
            <p:nvPr/>
          </p:nvPicPr>
          <p:blipFill>
            <a:blip r:embed="rId8"/>
            <a:stretch/>
          </p:blipFill>
          <p:spPr>
            <a:xfrm>
              <a:off x="6248520" y="190512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1" name="Text Box 21"/>
            <p:cNvSpPr/>
            <p:nvPr/>
          </p:nvSpPr>
          <p:spPr>
            <a:xfrm>
              <a:off x="7772400" y="3048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宋体"/>
                </a:rPr>
                <a:t>u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2" name="Group 22"/>
          <p:cNvGrpSpPr/>
          <p:nvPr/>
        </p:nvGrpSpPr>
        <p:grpSpPr>
          <a:xfrm>
            <a:off x="304920" y="3962520"/>
            <a:ext cx="3176640" cy="2624040"/>
            <a:chOff x="304920" y="3962520"/>
            <a:chExt cx="3176640" cy="2624040"/>
          </a:xfrm>
        </p:grpSpPr>
        <p:pic>
          <p:nvPicPr>
            <p:cNvPr id="2233" name="Picture 23" descr="yang"/>
            <p:cNvPicPr/>
            <p:nvPr/>
          </p:nvPicPr>
          <p:blipFill>
            <a:blip r:embed="rId9"/>
            <a:stretch/>
          </p:blipFill>
          <p:spPr>
            <a:xfrm>
              <a:off x="304920" y="396252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4" name="Text Box 24"/>
            <p:cNvSpPr/>
            <p:nvPr/>
          </p:nvSpPr>
          <p:spPr>
            <a:xfrm>
              <a:off x="1676520" y="5181480"/>
              <a:ext cx="1447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宋体"/>
                </a:rPr>
                <a:t>yu</a:t>
              </a:r>
              <a:r>
                <a:rPr b="1" lang="en-US" sz="4000" spc="-1" strike="noStrike">
                  <a:solidFill>
                    <a:srgbClr val="333399"/>
                  </a:solidFill>
                  <a:latin typeface="宋体"/>
                  <a:ea typeface="Times New Roman"/>
                </a:rPr>
                <a:t>ɑ</a:t>
              </a:r>
              <a:r>
                <a:rPr b="1" lang="en-US" sz="4000" spc="-1" strike="noStrike">
                  <a:solidFill>
                    <a:srgbClr val="333399"/>
                  </a:solidFill>
                  <a:latin typeface="宋体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5" name="Group 25"/>
          <p:cNvGrpSpPr/>
          <p:nvPr/>
        </p:nvGrpSpPr>
        <p:grpSpPr>
          <a:xfrm>
            <a:off x="5967360" y="0"/>
            <a:ext cx="3176640" cy="2624040"/>
            <a:chOff x="5967360" y="0"/>
            <a:chExt cx="3176640" cy="2624040"/>
          </a:xfrm>
        </p:grpSpPr>
        <p:pic>
          <p:nvPicPr>
            <p:cNvPr id="2236" name="Picture 26" descr="yang"/>
            <p:cNvPicPr/>
            <p:nvPr/>
          </p:nvPicPr>
          <p:blipFill>
            <a:blip r:embed="rId10"/>
            <a:stretch/>
          </p:blipFill>
          <p:spPr>
            <a:xfrm>
              <a:off x="5967360" y="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7" name="Text Box 27"/>
            <p:cNvSpPr/>
            <p:nvPr/>
          </p:nvSpPr>
          <p:spPr>
            <a:xfrm>
              <a:off x="7391520" y="129528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宋体"/>
                </a:rPr>
                <a:t>yu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8" name="Group 28"/>
          <p:cNvGrpSpPr/>
          <p:nvPr/>
        </p:nvGrpSpPr>
        <p:grpSpPr>
          <a:xfrm>
            <a:off x="3124080" y="3733920"/>
            <a:ext cx="3176640" cy="2624040"/>
            <a:chOff x="3124080" y="3733920"/>
            <a:chExt cx="3176640" cy="2624040"/>
          </a:xfrm>
        </p:grpSpPr>
        <p:pic>
          <p:nvPicPr>
            <p:cNvPr id="2239" name="Picture 29" descr="yang"/>
            <p:cNvPicPr/>
            <p:nvPr/>
          </p:nvPicPr>
          <p:blipFill>
            <a:blip r:embed="rId11"/>
            <a:stretch/>
          </p:blipFill>
          <p:spPr>
            <a:xfrm>
              <a:off x="3124080" y="3733920"/>
              <a:ext cx="3176640" cy="26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0" name="Text Box 30"/>
            <p:cNvSpPr/>
            <p:nvPr/>
          </p:nvSpPr>
          <p:spPr>
            <a:xfrm>
              <a:off x="4724280" y="487656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宋体"/>
                </a:rPr>
                <a:t>y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split dir="out" orient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21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21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4894" fill="hold"/>
                                        <p:tgtEl>
                                          <p:spTgt spid="2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Line 2"/>
          <p:cNvSpPr/>
          <p:nvPr/>
        </p:nvSpPr>
        <p:spPr>
          <a:xfrm>
            <a:off x="1295280" y="99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Line 3"/>
          <p:cNvSpPr/>
          <p:nvPr/>
        </p:nvSpPr>
        <p:spPr>
          <a:xfrm>
            <a:off x="1219320" y="19051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4"/>
          <p:cNvSpPr/>
          <p:nvPr/>
        </p:nvSpPr>
        <p:spPr>
          <a:xfrm>
            <a:off x="5638680" y="990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Line 5"/>
          <p:cNvSpPr/>
          <p:nvPr/>
        </p:nvSpPr>
        <p:spPr>
          <a:xfrm>
            <a:off x="4495680" y="19051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6"/>
          <p:cNvSpPr/>
          <p:nvPr/>
        </p:nvSpPr>
        <p:spPr>
          <a:xfrm>
            <a:off x="5638680" y="21337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ine 7"/>
          <p:cNvSpPr/>
          <p:nvPr/>
        </p:nvSpPr>
        <p:spPr>
          <a:xfrm>
            <a:off x="4495680" y="2971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8"/>
          <p:cNvSpPr/>
          <p:nvPr/>
        </p:nvSpPr>
        <p:spPr>
          <a:xfrm>
            <a:off x="77724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Line 9"/>
          <p:cNvSpPr/>
          <p:nvPr/>
        </p:nvSpPr>
        <p:spPr>
          <a:xfrm>
            <a:off x="6781680" y="2971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10"/>
          <p:cNvSpPr/>
          <p:nvPr/>
        </p:nvSpPr>
        <p:spPr>
          <a:xfrm>
            <a:off x="2362320" y="4114800"/>
            <a:ext cx="4419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Line 11"/>
          <p:cNvSpPr/>
          <p:nvPr/>
        </p:nvSpPr>
        <p:spPr>
          <a:xfrm>
            <a:off x="2438280" y="50292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AutoShape 12"/>
          <p:cNvSpPr/>
          <p:nvPr/>
        </p:nvSpPr>
        <p:spPr>
          <a:xfrm>
            <a:off x="762120" y="914400"/>
            <a:ext cx="533160" cy="380880"/>
          </a:xfrm>
          <a:prstGeom prst="rightArrow">
            <a:avLst>
              <a:gd name="adj1" fmla="val 26667"/>
              <a:gd name="adj2" fmla="val 578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Rectangle 13"/>
          <p:cNvSpPr/>
          <p:nvPr/>
        </p:nvSpPr>
        <p:spPr>
          <a:xfrm>
            <a:off x="1371600" y="1090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一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Rectangle 14"/>
          <p:cNvSpPr/>
          <p:nvPr/>
        </p:nvSpPr>
        <p:spPr>
          <a:xfrm>
            <a:off x="2743200" y="1090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白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15"/>
          <p:cNvSpPr/>
          <p:nvPr/>
        </p:nvSpPr>
        <p:spPr>
          <a:xfrm>
            <a:off x="434340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着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Rectangle 16"/>
          <p:cNvSpPr/>
          <p:nvPr/>
        </p:nvSpPr>
        <p:spPr>
          <a:xfrm>
            <a:off x="4839120" y="205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Rectangle 17"/>
          <p:cNvSpPr/>
          <p:nvPr/>
        </p:nvSpPr>
        <p:spPr>
          <a:xfrm>
            <a:off x="60199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地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Rectangle 21"/>
          <p:cNvSpPr/>
          <p:nvPr/>
        </p:nvSpPr>
        <p:spPr>
          <a:xfrm>
            <a:off x="5294160" y="420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草儿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Rectangle 22"/>
          <p:cNvSpPr/>
          <p:nvPr/>
        </p:nvSpPr>
        <p:spPr>
          <a:xfrm>
            <a:off x="6934320" y="3048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河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23"/>
          <p:cNvSpPr/>
          <p:nvPr/>
        </p:nvSpPr>
        <p:spPr>
          <a:xfrm>
            <a:off x="4006800" y="4221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0" name="Picture 24" descr="u=2075783223,2058433275&amp;fm=0&amp;gp=-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886200"/>
            <a:ext cx="1143000" cy="1152360"/>
          </a:xfrm>
          <a:prstGeom prst="rect">
            <a:avLst/>
          </a:prstGeom>
          <a:ln w="0">
            <a:noFill/>
          </a:ln>
        </p:spPr>
      </p:pic>
      <p:sp>
        <p:nvSpPr>
          <p:cNvPr id="2261" name="Rectangle 25"/>
          <p:cNvSpPr/>
          <p:nvPr/>
        </p:nvSpPr>
        <p:spPr>
          <a:xfrm>
            <a:off x="2760840" y="4278240"/>
            <a:ext cx="9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家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2" name="Picture 26" descr="2898225_174319007_2"/>
          <p:cNvPicPr/>
          <p:nvPr/>
        </p:nvPicPr>
        <p:blipFill>
          <a:blip r:embed="rId3"/>
          <a:stretch/>
        </p:blipFill>
        <p:spPr>
          <a:xfrm>
            <a:off x="0" y="609480"/>
            <a:ext cx="1236600" cy="1800360"/>
          </a:xfrm>
          <a:prstGeom prst="rect">
            <a:avLst/>
          </a:prstGeom>
          <a:ln w="0">
            <a:noFill/>
          </a:ln>
        </p:spPr>
      </p:pic>
      <p:sp>
        <p:nvSpPr>
          <p:cNvPr id="2263" name="Text Box 27"/>
          <p:cNvSpPr/>
          <p:nvPr/>
        </p:nvSpPr>
        <p:spPr>
          <a:xfrm>
            <a:off x="838080" y="1522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走迷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Text Box 2"/>
          <p:cNvSpPr/>
          <p:nvPr/>
        </p:nvSpPr>
        <p:spPr>
          <a:xfrm>
            <a:off x="466560" y="380880"/>
            <a:ext cx="891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Text Box 3"/>
          <p:cNvSpPr/>
          <p:nvPr/>
        </p:nvSpPr>
        <p:spPr>
          <a:xfrm>
            <a:off x="1089000" y="380880"/>
            <a:ext cx="74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Text Box 5"/>
          <p:cNvSpPr/>
          <p:nvPr/>
        </p:nvSpPr>
        <p:spPr>
          <a:xfrm>
            <a:off x="1089000" y="1676520"/>
            <a:ext cx="723744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上的白云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好像一群小白羊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上草儿肥、河水清，是小白羊的家乡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7" name="Group 3"/>
          <p:cNvGrpSpPr/>
          <p:nvPr/>
        </p:nvGrpSpPr>
        <p:grpSpPr>
          <a:xfrm>
            <a:off x="6012000" y="1773360"/>
            <a:ext cx="2376000" cy="2665080"/>
            <a:chOff x="6012000" y="1773360"/>
            <a:chExt cx="2376000" cy="2665080"/>
          </a:xfrm>
        </p:grpSpPr>
        <p:sp>
          <p:nvSpPr>
            <p:cNvPr id="2268" name="Rectangle 4"/>
            <p:cNvSpPr/>
            <p:nvPr/>
          </p:nvSpPr>
          <p:spPr>
            <a:xfrm>
              <a:off x="6012000" y="1773360"/>
              <a:ext cx="2376000" cy="2643840"/>
            </a:xfrm>
            <a:prstGeom prst="rect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Line 5"/>
            <p:cNvSpPr/>
            <p:nvPr/>
          </p:nvSpPr>
          <p:spPr>
            <a:xfrm flipV="1">
              <a:off x="6031080" y="3073680"/>
              <a:ext cx="2318760" cy="4248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Line 6"/>
            <p:cNvSpPr/>
            <p:nvPr/>
          </p:nvSpPr>
          <p:spPr>
            <a:xfrm>
              <a:off x="7200000" y="1794600"/>
              <a:ext cx="0" cy="264384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Group 7"/>
          <p:cNvGrpSpPr/>
          <p:nvPr/>
        </p:nvGrpSpPr>
        <p:grpSpPr>
          <a:xfrm>
            <a:off x="826920" y="1773360"/>
            <a:ext cx="2736720" cy="2665080"/>
            <a:chOff x="826920" y="1773360"/>
            <a:chExt cx="2736720" cy="2665080"/>
          </a:xfrm>
        </p:grpSpPr>
        <p:sp>
          <p:nvSpPr>
            <p:cNvPr id="2272" name="Rectangle 8"/>
            <p:cNvSpPr/>
            <p:nvPr/>
          </p:nvSpPr>
          <p:spPr>
            <a:xfrm>
              <a:off x="826920" y="1773360"/>
              <a:ext cx="2736720" cy="2643840"/>
            </a:xfrm>
            <a:prstGeom prst="rect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Line 9"/>
            <p:cNvSpPr/>
            <p:nvPr/>
          </p:nvSpPr>
          <p:spPr>
            <a:xfrm flipV="1">
              <a:off x="848880" y="3073680"/>
              <a:ext cx="2670480" cy="4248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Line 10"/>
            <p:cNvSpPr/>
            <p:nvPr/>
          </p:nvSpPr>
          <p:spPr>
            <a:xfrm>
              <a:off x="2195280" y="1794600"/>
              <a:ext cx="0" cy="264384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Text Box 11"/>
          <p:cNvSpPr/>
          <p:nvPr/>
        </p:nvSpPr>
        <p:spPr>
          <a:xfrm>
            <a:off x="1042920" y="1843200"/>
            <a:ext cx="223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Text Box 12"/>
          <p:cNvSpPr/>
          <p:nvPr/>
        </p:nvSpPr>
        <p:spPr>
          <a:xfrm>
            <a:off x="3708360" y="1773360"/>
            <a:ext cx="253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Group 13"/>
          <p:cNvGrpSpPr/>
          <p:nvPr/>
        </p:nvGrpSpPr>
        <p:grpSpPr>
          <a:xfrm>
            <a:off x="3564000" y="1773360"/>
            <a:ext cx="2447640" cy="2665080"/>
            <a:chOff x="3564000" y="1773360"/>
            <a:chExt cx="2447640" cy="2665080"/>
          </a:xfrm>
        </p:grpSpPr>
        <p:sp>
          <p:nvSpPr>
            <p:cNvPr id="2278" name="Rectangle 14"/>
            <p:cNvSpPr/>
            <p:nvPr/>
          </p:nvSpPr>
          <p:spPr>
            <a:xfrm>
              <a:off x="3564000" y="1773360"/>
              <a:ext cx="2447640" cy="2643840"/>
            </a:xfrm>
            <a:prstGeom prst="rect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Line 15"/>
            <p:cNvSpPr/>
            <p:nvPr/>
          </p:nvSpPr>
          <p:spPr>
            <a:xfrm flipV="1">
              <a:off x="3583440" y="3073680"/>
              <a:ext cx="2388600" cy="4248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Line 16"/>
            <p:cNvSpPr/>
            <p:nvPr/>
          </p:nvSpPr>
          <p:spPr>
            <a:xfrm>
              <a:off x="4787640" y="1794600"/>
              <a:ext cx="0" cy="264384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1" name="Text Box 17"/>
          <p:cNvSpPr/>
          <p:nvPr/>
        </p:nvSpPr>
        <p:spPr>
          <a:xfrm>
            <a:off x="6619680" y="16984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楷体"/>
                <a:ea typeface="楷体"/>
              </a:rPr>
              <a:t>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Box 1"/>
          <p:cNvSpPr/>
          <p:nvPr/>
        </p:nvSpPr>
        <p:spPr>
          <a:xfrm>
            <a:off x="685800" y="6094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来描一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文本框 1"/>
          <p:cNvSpPr/>
          <p:nvPr/>
        </p:nvSpPr>
        <p:spPr>
          <a:xfrm>
            <a:off x="1450800" y="5167440"/>
            <a:ext cx="50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Text Box 4"/>
          <p:cNvSpPr/>
          <p:nvPr/>
        </p:nvSpPr>
        <p:spPr>
          <a:xfrm>
            <a:off x="1657080" y="304920"/>
            <a:ext cx="4204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用眼睛去观察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用耳朵去倾听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用心灵去感受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好看的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背景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动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免费完整版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毕业设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49C0-1497-4D28-A137-D6E63FE952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Text Box 4"/>
          <p:cNvSpPr/>
          <p:nvPr/>
        </p:nvSpPr>
        <p:spPr>
          <a:xfrm>
            <a:off x="609480" y="457200"/>
            <a:ext cx="5867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有的蹲着有的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24天上一群小白羊.mp3" descr=""/>
          <p:cNvPicPr/>
          <p:nvPr/>
        </p:nvPicPr>
        <p:blipFill>
          <a:blip r:embed="rId1"/>
          <a:stretch/>
        </p:blipFill>
        <p:spPr>
          <a:xfrm>
            <a:off x="800100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10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210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49395" fill="hold"/>
                                        <p:tgtEl>
                                          <p:spTgt spid="2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Text Box 2"/>
          <p:cNvSpPr/>
          <p:nvPr/>
        </p:nvSpPr>
        <p:spPr>
          <a:xfrm>
            <a:off x="609480" y="457200"/>
            <a:ext cx="5867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有的站着有的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Oval 3"/>
          <p:cNvSpPr/>
          <p:nvPr/>
        </p:nvSpPr>
        <p:spPr>
          <a:xfrm>
            <a:off x="1828800" y="3429000"/>
            <a:ext cx="8380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Oval 4"/>
          <p:cNvSpPr/>
          <p:nvPr/>
        </p:nvSpPr>
        <p:spPr>
          <a:xfrm>
            <a:off x="1752480" y="4876920"/>
            <a:ext cx="838440" cy="838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Oval 5"/>
          <p:cNvSpPr/>
          <p:nvPr/>
        </p:nvSpPr>
        <p:spPr>
          <a:xfrm>
            <a:off x="3733920" y="4834080"/>
            <a:ext cx="8380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Oval 6"/>
          <p:cNvSpPr/>
          <p:nvPr/>
        </p:nvSpPr>
        <p:spPr>
          <a:xfrm>
            <a:off x="4494240" y="4834080"/>
            <a:ext cx="8380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同桌学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906480" y="33523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楷体"/>
                <a:ea typeface="楷体"/>
              </a:rPr>
              <a:t>（</a:t>
            </a:r>
            <a:r>
              <a:rPr b="1" lang="en-US" sz="4800" spc="-1" strike="noStrike">
                <a:solidFill>
                  <a:srgbClr val="6600ff"/>
                </a:solidFill>
                <a:latin typeface="楷体"/>
                <a:ea typeface="楷体"/>
              </a:rPr>
              <a:t>3</a:t>
            </a:r>
            <a:r>
              <a:rPr b="1" lang="zh-CN" sz="4800" spc="-1" strike="noStrike">
                <a:solidFill>
                  <a:srgbClr val="6600ff"/>
                </a:solidFill>
                <a:latin typeface="楷体"/>
                <a:ea typeface="楷体"/>
              </a:rPr>
              <a:t>）说一说：儿歌告诉了我们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7"/>
          <p:cNvSpPr/>
          <p:nvPr/>
        </p:nvSpPr>
        <p:spPr>
          <a:xfrm>
            <a:off x="914400" y="14479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）读儿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8"/>
          <p:cNvSpPr/>
          <p:nvPr/>
        </p:nvSpPr>
        <p:spPr>
          <a:xfrm>
            <a:off x="914400" y="23623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）记字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2"/>
          <p:cNvSpPr/>
          <p:nvPr/>
        </p:nvSpPr>
        <p:spPr>
          <a:xfrm>
            <a:off x="609480" y="457200"/>
            <a:ext cx="5867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有的站着有的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Oval 3"/>
          <p:cNvSpPr/>
          <p:nvPr/>
        </p:nvSpPr>
        <p:spPr>
          <a:xfrm>
            <a:off x="1828800" y="3429000"/>
            <a:ext cx="8380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Oval 4"/>
          <p:cNvSpPr/>
          <p:nvPr/>
        </p:nvSpPr>
        <p:spPr>
          <a:xfrm>
            <a:off x="1752480" y="4876920"/>
            <a:ext cx="838440" cy="838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Oval 5"/>
          <p:cNvSpPr/>
          <p:nvPr/>
        </p:nvSpPr>
        <p:spPr>
          <a:xfrm>
            <a:off x="3733920" y="4834080"/>
            <a:ext cx="8380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Oval 6"/>
          <p:cNvSpPr/>
          <p:nvPr/>
        </p:nvSpPr>
        <p:spPr>
          <a:xfrm>
            <a:off x="4494240" y="4834080"/>
            <a:ext cx="8380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8" descr="aaa"/>
          <p:cNvPicPr/>
          <p:nvPr/>
        </p:nvPicPr>
        <p:blipFill>
          <a:blip r:embed="rId1"/>
          <a:stretch/>
        </p:blipFill>
        <p:spPr>
          <a:xfrm>
            <a:off x="5867280" y="457200"/>
            <a:ext cx="1295640" cy="131760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2" descr=""/>
          <p:cNvPicPr/>
          <p:nvPr/>
        </p:nvPicPr>
        <p:blipFill>
          <a:blip r:embed="rId2"/>
          <a:stretch/>
        </p:blipFill>
        <p:spPr>
          <a:xfrm>
            <a:off x="5956200" y="5056200"/>
            <a:ext cx="1292400" cy="131760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8" descr="aaa"/>
          <p:cNvPicPr/>
          <p:nvPr/>
        </p:nvPicPr>
        <p:blipFill>
          <a:blip r:embed="rId3"/>
          <a:stretch/>
        </p:blipFill>
        <p:spPr>
          <a:xfrm>
            <a:off x="5896080" y="3559320"/>
            <a:ext cx="1295280" cy="131760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8" descr="aaa"/>
          <p:cNvPicPr/>
          <p:nvPr/>
        </p:nvPicPr>
        <p:blipFill>
          <a:blip r:embed="rId4"/>
          <a:stretch/>
        </p:blipFill>
        <p:spPr>
          <a:xfrm>
            <a:off x="5867280" y="1981080"/>
            <a:ext cx="1295640" cy="131760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3" descr=""/>
          <p:cNvPicPr/>
          <p:nvPr/>
        </p:nvPicPr>
        <p:blipFill>
          <a:blip r:embed="rId5"/>
          <a:stretch/>
        </p:blipFill>
        <p:spPr>
          <a:xfrm>
            <a:off x="5521320" y="177840"/>
            <a:ext cx="2044800" cy="194148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6"/>
          <a:stretch/>
        </p:blipFill>
        <p:spPr>
          <a:xfrm>
            <a:off x="5560920" y="1774800"/>
            <a:ext cx="1982880" cy="188280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5" descr=""/>
          <p:cNvPicPr/>
          <p:nvPr/>
        </p:nvPicPr>
        <p:blipFill>
          <a:blip r:embed="rId7"/>
          <a:stretch/>
        </p:blipFill>
        <p:spPr>
          <a:xfrm>
            <a:off x="5562720" y="3352680"/>
            <a:ext cx="2033640" cy="1930680"/>
          </a:xfrm>
          <a:prstGeom prst="rect">
            <a:avLst/>
          </a:prstGeom>
          <a:ln w="0">
            <a:noFill/>
          </a:ln>
        </p:spPr>
      </p:pic>
      <p:pic>
        <p:nvPicPr>
          <p:cNvPr id="2125" name="Picture 6" descr=""/>
          <p:cNvPicPr/>
          <p:nvPr/>
        </p:nvPicPr>
        <p:blipFill>
          <a:blip r:embed="rId8"/>
          <a:stretch/>
        </p:blipFill>
        <p:spPr>
          <a:xfrm>
            <a:off x="5562720" y="4834080"/>
            <a:ext cx="2050920" cy="194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6" name="Picture 6" descr="0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7" name="Group 7"/>
          <p:cNvGrpSpPr/>
          <p:nvPr/>
        </p:nvGrpSpPr>
        <p:grpSpPr>
          <a:xfrm>
            <a:off x="1187280" y="2205000"/>
            <a:ext cx="2247840" cy="2382840"/>
            <a:chOff x="1187280" y="2205000"/>
            <a:chExt cx="2247840" cy="2382840"/>
          </a:xfrm>
        </p:grpSpPr>
        <p:pic>
          <p:nvPicPr>
            <p:cNvPr id="2128" name="Picture 8" descr="aaa"/>
            <p:cNvPicPr/>
            <p:nvPr/>
          </p:nvPicPr>
          <p:blipFill>
            <a:blip r:embed="rId2"/>
            <a:stretch/>
          </p:blipFill>
          <p:spPr>
            <a:xfrm>
              <a:off x="1187280" y="2301840"/>
              <a:ext cx="22478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9" name="Text Box 9"/>
            <p:cNvSpPr/>
            <p:nvPr/>
          </p:nvSpPr>
          <p:spPr>
            <a:xfrm>
              <a:off x="1330200" y="2205000"/>
              <a:ext cx="194472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家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0" name="Picture 10" descr="untitled"/>
          <p:cNvPicPr/>
          <p:nvPr/>
        </p:nvPicPr>
        <p:blipFill>
          <a:blip r:embed="rId3"/>
          <a:stretch/>
        </p:blipFill>
        <p:spPr>
          <a:xfrm>
            <a:off x="4067280" y="1557360"/>
            <a:ext cx="4465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 Box 2"/>
          <p:cNvSpPr/>
          <p:nvPr/>
        </p:nvSpPr>
        <p:spPr>
          <a:xfrm>
            <a:off x="609480" y="457200"/>
            <a:ext cx="5867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有的蹲着有的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河水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05d5"/>
                </a:solidFill>
                <a:latin typeface="Arial"/>
                <a:ea typeface="楷体_GB2312"/>
              </a:rPr>
              <a:t>地上才是你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55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7:51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