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276A-0116-4B3B-AB8F-071F5ADCAD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528-267C-4086-AA03-28893BCE90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493-8041-43E2-9F74-246D7EC2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6F4-35D9-4E76-8476-E9683C68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FEC-5E93-4DD9-B0F0-D2E160FD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F41-EB24-4FEF-A80E-4084B65F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63E-90CE-4CB3-B62C-E46E641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3A9-F340-455F-89ED-7D377D1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EE8-180F-49AE-AFDC-78DC94A4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AD9-E0F5-457E-998B-0EBB74A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09B-F577-484E-96C2-0E2319BB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D5C-16A0-4BBC-BC4A-BAB1D76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442-0BD7-454D-918C-8C880F0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4F4-2BA6-4310-ACC5-035D80E2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19F9-D46F-4E35-80BF-9ABE73C2E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对角圆角矩形 1"/>
          <p:cNvSpPr/>
          <p:nvPr/>
        </p:nvSpPr>
        <p:spPr>
          <a:xfrm>
            <a:off x="468360" y="260280"/>
            <a:ext cx="8207280" cy="6264360"/>
          </a:xfrm>
          <a:custGeom>
            <a:avLst/>
            <a:gdLst/>
            <a:ahLst/>
            <a:rect l="l" t="t" r="r" b="b"/>
            <a:pathLst>
              <a:path w="8207375" h="6264275">
                <a:moveTo>
                  <a:pt x="1044066" y="0"/>
                </a:moveTo>
                <a:lnTo>
                  <a:pt x="8207375" y="0"/>
                </a:lnTo>
                <a:lnTo>
                  <a:pt x="8207375" y="0"/>
                </a:lnTo>
                <a:lnTo>
                  <a:pt x="8207375" y="5220208"/>
                </a:lnTo>
                <a:cubicBezTo>
                  <a:pt x="8207375" y="5796830"/>
                  <a:pt x="7739931" y="6264274"/>
                  <a:pt x="7163309" y="6264274"/>
                </a:cubicBezTo>
                <a:lnTo>
                  <a:pt x="0" y="6264275"/>
                </a:lnTo>
                <a:lnTo>
                  <a:pt x="0" y="6264275"/>
                </a:lnTo>
                <a:lnTo>
                  <a:pt x="0" y="1044066"/>
                </a:lnTo>
                <a:cubicBezTo>
                  <a:pt x="0" y="467444"/>
                  <a:pt x="467444" y="0"/>
                  <a:pt x="1044066" y="0"/>
                </a:cubicBezTo>
                <a:close/>
              </a:path>
            </a:pathLst>
          </a:cu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标题 1" descr=""/>
          <p:cNvPicPr/>
          <p:nvPr/>
        </p:nvPicPr>
        <p:blipFill>
          <a:blip r:embed="rId1"/>
          <a:stretch/>
        </p:blipFill>
        <p:spPr>
          <a:xfrm>
            <a:off x="755640" y="1011240"/>
            <a:ext cx="777240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10920" y="3789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月间，新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戈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壁滩炎暑逼人，这时最理想的是骑马上天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1821240" y="5661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98064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入天山，戈壁滩上的炎暑就被远远地抛在后边，迎面而来的雪山寒气，立刻使你感到秋天似的凉爽。蓝天衬着高耸的雪峰，几块白云在雪峰间投下云影，就像白缎上绣了几朵银灰的暗花。那融化的雪水从峭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ià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壁断崖上飞泻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下来，像千百条闪耀的银练。这飞泻下来的雪水，在山脚汇成冲击的溪流，浪花往上抛，鱼儿在跳跃。形成千万朵盛开的白莲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á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而每到水势缓慢处，却有鱼儿在跳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475920"/>
            <a:ext cx="82296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时候，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ìn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马溪边，坐在马鞍上便可以俯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视那阳光投射到的清澈的水底。五彩斑斓的水石间，鱼群闪闪的鳞光映着雪水清流，给寂静的天山添上了无限生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往里走，天山越来越显得优美。群峰的雪线以下，是蜿蜒无尽的翠绿的原始森林。密密的塔松像撑天的巨伞，重重叠叠的枝丫只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斑斑点点细碎的日影。骑马穿行林中，马蹄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ià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的水声，增添了密林的幽静。在这林海深处，只能偶然听到远处的几声鸟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836280"/>
            <a:ext cx="8157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说天山脚下还像秋天，那么再往里走就像是春天了。山色逐渐变得柔嫩，山行也逐渐变得柔和。在轻轻荡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àng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溪流两岸，满是高过马头的野花，红、黄、蓝、白、紫，五彩缤纷，像织不完的织锦那么绵延，像天边的彩霞那么耀眼，像高空的长虹那么绚烂。马走在花海中，显得格外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iǎo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健；人浮在花海上，显得格外精神。你在马上用不着离鞍，只要一伸手就可以捧到满怀最心爱的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54936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虽然这时天山并不是春天，但是有哪一个春天的花园能比得过这里的无边繁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在雪峰的围绕中，一片奇丽的千里牧场展现在你的眼前。墨绿的原始森林和鲜艳的野花，给这辽阔的千里牧场镶上了双重富丽的花边。牧场上长着一色青翠的酥油草，清清的溪水齐着两岸的草丛缓缓流淌。草原是这样无边的平展，就像风平浪静的海洋。太阳底下，那点点水泡似的蒙古包，闪烁着白光，似乎在告诉你，这就是天山之夏，这就是人间天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章内容简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484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天山的夏天没有了新疆的那股炎暑，进入天山能感觉到秋天的凉爽，融化的雪水就像是银练从山顶飞泻下来，冲击成溪流，形成雪白的浪花。河水清可见底，这儿还有鱼儿跳跃，增添了无限生机。再往里走，这里还有茂密的森林、鸟鸣声。继续往里走就像是春天，有繁花、嫩草。站在雪峰顶上一片千里牧场便呈现在你的眼前，草原就像是风平浪静的海洋。这就是人间天堂——天山之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     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280" y="2060640"/>
            <a:ext cx="7885080" cy="29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ji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ng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  g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ē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    qi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o      xi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è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lián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疆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戈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峭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泻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莲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ǔ 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         l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ò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u      ji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 y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ng  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ff0066"/>
                </a:solidFill>
                <a:latin typeface="Arial"/>
              </a:rPr>
              <a:t>jiǎo             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0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俯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漏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溅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漾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4100" spc="-1" strike="noStrike">
                <a:solidFill>
                  <a:srgbClr val="ff0066"/>
                </a:solidFill>
                <a:latin typeface="Arial"/>
              </a:rPr>
              <a:t>矫 </a:t>
            </a:r>
            <a:r>
              <a:rPr b="0" lang="en-US" sz="41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1682640" y="532116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矩形 4" descr=""/>
          <p:cNvPicPr/>
          <p:nvPr/>
        </p:nvPicPr>
        <p:blipFill>
          <a:blip r:embed="rId1"/>
          <a:stretch/>
        </p:blipFill>
        <p:spPr>
          <a:xfrm>
            <a:off x="2733840" y="2320920"/>
            <a:ext cx="38001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13A1-77A1-448E-B448-F7D7C037A6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3:56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0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