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CE72-9142-4A60-BAF5-CE257F89F9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448F-52E1-45D8-8AF4-478C25E159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9EDC-4BAA-4378-A9B5-A5EE84EF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3B0-B6D4-49FF-9486-93FA8EB6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92F-10B1-4A81-B532-41E6A24B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760-E325-4898-90E0-DF646E53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8D0-0609-4E6E-8651-8C97E10E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184-E1EA-4646-A358-70AC926F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D31-5916-4F68-BAE1-E8FB6499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AC9-3D77-4548-8023-DA09FA52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730-18C9-4810-9C36-3FEFB367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77D-7762-4017-B634-32CE3ED3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AFE-8424-4BC7-99BD-8D3C37C7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36B-18B2-4635-8FFF-50EC5C14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3406-EF8E-4618-9F48-E535D38434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FEA6-022A-46F4-9D28-C110D6B3E8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同侧圆角矩形 1"/>
          <p:cNvSpPr/>
          <p:nvPr/>
        </p:nvSpPr>
        <p:spPr>
          <a:xfrm>
            <a:off x="457200" y="345960"/>
            <a:ext cx="8229600" cy="6232680"/>
          </a:xfrm>
          <a:custGeom>
            <a:avLst/>
            <a:gdLst/>
            <a:ahLst/>
            <a:rect l="l" t="t" r="r" b="b"/>
            <a:pathLst>
              <a:path w="8229600" h="6232525">
                <a:moveTo>
                  <a:pt x="1038774" y="0"/>
                </a:moveTo>
                <a:lnTo>
                  <a:pt x="7190825" y="0"/>
                </a:lnTo>
                <a:cubicBezTo>
                  <a:pt x="7764524" y="0"/>
                  <a:pt x="8229599" y="465075"/>
                  <a:pt x="8229599" y="1038774"/>
                </a:cubicBezTo>
                <a:lnTo>
                  <a:pt x="8229600" y="6232525"/>
                </a:lnTo>
                <a:lnTo>
                  <a:pt x="8229600" y="6232525"/>
                </a:lnTo>
                <a:lnTo>
                  <a:pt x="0" y="6232525"/>
                </a:lnTo>
                <a:lnTo>
                  <a:pt x="0" y="6232525"/>
                </a:lnTo>
                <a:lnTo>
                  <a:pt x="0" y="1038774"/>
                </a:lnTo>
                <a:cubicBezTo>
                  <a:pt x="0" y="465075"/>
                  <a:pt x="465075" y="0"/>
                  <a:pt x="1038774" y="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"/>
          <p:cNvSpPr/>
          <p:nvPr/>
        </p:nvSpPr>
        <p:spPr>
          <a:xfrm>
            <a:off x="2860560" y="154620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太阳的香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882440" y="56577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157480" y="1117440"/>
            <a:ext cx="520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书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拼音，自由读课文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字音，读通句子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不认识的字画出来 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2400" y="738360"/>
            <a:ext cx="9040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的香气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闻到了太阳的香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晒过的被子，晚上一打开，就有一股浓浓的太阳的香气。妈妈洗干净的衣服，早晨一穿上，就有一股浓浓的太阳的香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告诉我：太阳的香气到处藏着。它藏在甜甜的果子里，藏在香喷喷的稻米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啊，太阳的香气到处都有，就连迎着夕阳回到家的妈妈，身上也有太阳的香气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2400" y="738360"/>
            <a:ext cx="9040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气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闻到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晚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股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浓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净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22400" y="738360"/>
            <a:ext cx="90406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阳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闻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晚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净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"/>
          <p:cNvSpPr/>
          <p:nvPr/>
        </p:nvSpPr>
        <p:spPr>
          <a:xfrm>
            <a:off x="2828880" y="600552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53960" y="749160"/>
            <a:ext cx="8507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感受过太阳的香气吗？你认为太阳的香气还会藏在哪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闻到过太阳的香气吗？同学之间互相说一说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QQ图片20141203103736"/>
          <p:cNvPicPr/>
          <p:nvPr/>
        </p:nvPicPr>
        <p:blipFill>
          <a:blip r:embed="rId1"/>
          <a:stretch/>
        </p:blipFill>
        <p:spPr>
          <a:xfrm>
            <a:off x="1081080" y="-12600"/>
            <a:ext cx="3408480" cy="3373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QQ图片20141203103754"/>
          <p:cNvPicPr/>
          <p:nvPr/>
        </p:nvPicPr>
        <p:blipFill>
          <a:blip r:embed="rId2"/>
          <a:stretch/>
        </p:blipFill>
        <p:spPr>
          <a:xfrm>
            <a:off x="4489560" y="-12600"/>
            <a:ext cx="3429000" cy="339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QQ图片20141203103817"/>
          <p:cNvPicPr/>
          <p:nvPr/>
        </p:nvPicPr>
        <p:blipFill>
          <a:blip r:embed="rId3"/>
          <a:stretch/>
        </p:blipFill>
        <p:spPr>
          <a:xfrm>
            <a:off x="1081080" y="3381480"/>
            <a:ext cx="3408480" cy="337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QQ图片20141203103835"/>
          <p:cNvPicPr/>
          <p:nvPr/>
        </p:nvPicPr>
        <p:blipFill>
          <a:blip r:embed="rId4"/>
          <a:stretch/>
        </p:blipFill>
        <p:spPr>
          <a:xfrm>
            <a:off x="4489560" y="3381480"/>
            <a:ext cx="34290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A447-03F1-40B5-998C-B66F0DC0D5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0:33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