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F426-33A7-4220-A8D9-29459E72F0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DDE9-56E7-4CCC-9541-FC0ADF4BAD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6DF4-61D2-459E-B18E-71142D4C63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EB5-A0A4-4774-91D2-0CD32901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AFF-26D6-4B4E-B23A-E83376FA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8EE-9FC4-4B92-93A4-B562386D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0D4-B786-4B54-9996-91A8058E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881-2E87-42EB-9E93-2A50A688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CE4-EE1B-43BA-AB96-BABCBFC6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01E-7562-452F-999E-6A23F256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D3C-4D0C-4B5B-8500-8E14AF3F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206-71A8-4D16-A89B-B2072B48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386-09FC-4256-BE0A-4202A793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115-C467-4E82-A6C8-BA1E9DC7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33E-225C-4506-9984-51005EB4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436D-AFB7-4B2B-8B16-3835BE02E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006107225554746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583080" y="68580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田园诗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699920" y="52578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5865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2.mp3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Bar dir="vert"/>
  </p:transition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9008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58650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20050308175640d41d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49ad69d73b81a499d5b10"/>
          <p:cNvPicPr/>
          <p:nvPr/>
        </p:nvPicPr>
        <p:blipFill>
          <a:blip r:embed="rId1"/>
          <a:stretch/>
        </p:blipFill>
        <p:spPr>
          <a:xfrm>
            <a:off x="228600" y="228600"/>
            <a:ext cx="4114800" cy="632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49ad69d76f0452dce0d79"/>
          <p:cNvPicPr/>
          <p:nvPr/>
        </p:nvPicPr>
        <p:blipFill>
          <a:blip r:embed="rId2"/>
          <a:stretch/>
        </p:blipFill>
        <p:spPr>
          <a:xfrm>
            <a:off x="4572000" y="152280"/>
            <a:ext cx="4381560" cy="6419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20050308175805d41d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20051129095627de525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77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夜晚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200411251802426e8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00511281758121bfe1"/>
          <p:cNvPicPr/>
          <p:nvPr/>
        </p:nvPicPr>
        <p:blipFill>
          <a:blip r:embed="rId1"/>
          <a:stretch/>
        </p:blipFill>
        <p:spPr>
          <a:xfrm>
            <a:off x="304920" y="304920"/>
            <a:ext cx="3790800" cy="6172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200610251431747789"/>
          <p:cNvPicPr/>
          <p:nvPr/>
        </p:nvPicPr>
        <p:blipFill>
          <a:blip r:embed="rId2"/>
          <a:stretch/>
        </p:blipFill>
        <p:spPr>
          <a:xfrm>
            <a:off x="4648320" y="304920"/>
            <a:ext cx="4114800" cy="6172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郁金香3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6540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5865043"/>
          <p:cNvPicPr/>
          <p:nvPr/>
        </p:nvPicPr>
        <p:blipFill>
          <a:blip r:embed="rId1"/>
          <a:stretch/>
        </p:blipFill>
        <p:spPr>
          <a:xfrm>
            <a:off x="76320" y="0"/>
            <a:ext cx="4343400" cy="28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200610722565441637"/>
          <p:cNvPicPr/>
          <p:nvPr/>
        </p:nvPicPr>
        <p:blipFill>
          <a:blip r:embed="rId2"/>
          <a:stretch/>
        </p:blipFill>
        <p:spPr>
          <a:xfrm>
            <a:off x="4495680" y="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20050516151945d41d8"/>
          <p:cNvPicPr/>
          <p:nvPr/>
        </p:nvPicPr>
        <p:blipFill>
          <a:blip r:embed="rId3"/>
          <a:stretch/>
        </p:blipFill>
        <p:spPr>
          <a:xfrm>
            <a:off x="2362320" y="2981160"/>
            <a:ext cx="4190760" cy="2810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荷兰，是水之国，花之国，也是牧场之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郁金香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93f411c69a625a988b22333d332b3ff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20061025143138796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时间轨迹\语文每一年工作汇总\四年级上\田园诗情\媒体展示\图片库\0_130_7fb3eacaa9638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:\时间轨迹\语文每一年工作汇总\四年级上\田园诗情\媒体展示\图片库\49ad69d7b7a7dac8dc4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:\时间轨迹\语文每一年工作汇总\四年级上\田园诗情\媒体展示\图片库\49ad69d7de28bcc04c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时间轨迹\语文每一年工作汇总\四年级上\田园诗情\媒体展示\图片库\49ad69d73b81a499d5b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1"/>
          <p:cNvSpPr/>
          <p:nvPr/>
        </p:nvSpPr>
        <p:spPr>
          <a:xfrm>
            <a:off x="714240" y="896760"/>
            <a:ext cx="51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28600" y="220968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这就是真正的荷兰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8305920" y="220968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0AFB-E801-4AC2-9E4B-F6EC4C20E8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2860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极目远眺，碧绿如丝绒般的草原上，是一头头黑白两色的奶牛。有的牛背上盖着防潮的毛毡，正在低头吃草；有的站立不动，仿佛正在思考什么。牛犊跑前跑后，活像顽皮的孩子；老牛仪态端庄，好似牛群的家长。绿意盎然的村野乡间，是大片大片鲜艳的郁金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>
            <a:hlinkClick r:id="rId1" action="ppaction://hlinksldjump"/>
          </p:cNvPr>
          <p:cNvSpPr/>
          <p:nvPr/>
        </p:nvSpPr>
        <p:spPr>
          <a:xfrm>
            <a:off x="609480" y="64008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878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7566" h="21600">
                <a:moveTo>
                  <a:pt x="2878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7566" h="21600">
                <a:moveTo>
                  <a:pt x="26207" y="8224"/>
                </a:moveTo>
                <a:lnTo>
                  <a:pt x="30071" y="8224"/>
                </a:lnTo>
                <a:lnTo>
                  <a:pt x="30071" y="15221"/>
                </a:lnTo>
                <a:lnTo>
                  <a:pt x="31359" y="15221"/>
                </a:lnTo>
                <a:lnTo>
                  <a:pt x="31359" y="16144"/>
                </a:lnTo>
                <a:lnTo>
                  <a:pt x="26207" y="16144"/>
                </a:lnTo>
                <a:lnTo>
                  <a:pt x="26207" y="15221"/>
                </a:lnTo>
                <a:lnTo>
                  <a:pt x="27495" y="15221"/>
                </a:lnTo>
                <a:lnTo>
                  <a:pt x="27495" y="9129"/>
                </a:lnTo>
                <a:lnTo>
                  <a:pt x="26207" y="912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>
            <a:hlinkClick r:id="rId2" action="ppaction://hlinksldjump"/>
          </p:cNvPr>
          <p:cNvSpPr/>
          <p:nvPr/>
        </p:nvSpPr>
        <p:spPr>
          <a:xfrm>
            <a:off x="7848720" y="64008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18160" y="3794"/>
                </a:moveTo>
                <a:lnTo>
                  <a:pt x="32173" y="10800"/>
                </a:lnTo>
                <a:lnTo>
                  <a:pt x="18160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碧绿如丝绒般的草原上，是一头头黑白两色的奶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200610722555474692"/>
          <p:cNvPicPr/>
          <p:nvPr/>
        </p:nvPicPr>
        <p:blipFill>
          <a:blip r:embed="rId1"/>
          <a:stretch/>
        </p:blipFill>
        <p:spPr>
          <a:xfrm>
            <a:off x="0" y="1523880"/>
            <a:ext cx="4419720" cy="358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49ad69d7db59fa836f35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419720" y="1523880"/>
            <a:ext cx="4572000" cy="3581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绿意盎然的村野乡间，是大片大片鲜艳的郁金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4419720" y="18064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0" y="34290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有的牛背上盖着防潮的毛毡，正在低头吃草；有的站立不动，仿佛正在思考什么。牛犊跑前跑后，活像顽皮的孩子；老牛仪态端庄，好似牛群的家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981080" y="457200"/>
            <a:ext cx="6782040" cy="2590920"/>
          </a:xfrm>
          <a:prstGeom prst="wedgeEllipseCallout">
            <a:avLst>
              <a:gd name="adj1" fmla="val -44731"/>
              <a:gd name="adj2" fmla="val 59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895480" y="990720"/>
            <a:ext cx="518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无忧无虑  悠然自得天伦之乐  其乐融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>
            <a:hlinkClick r:id="rId1" action="ppaction://hlinksldjump"/>
          </p:cNvPr>
          <p:cNvSpPr/>
          <p:nvPr/>
        </p:nvSpPr>
        <p:spPr>
          <a:xfrm>
            <a:off x="815328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6"/>
          <p:cNvSpPr/>
          <p:nvPr/>
        </p:nvSpPr>
        <p:spPr>
          <a:xfrm>
            <a:off x="228600" y="9907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在天堂般的绿色草原上，白色的绵羊悠然自得。黑色的猪群不停地呼噜着。成千上万的小鸡、成群结队的长毛山羊，安闲地欣赏着这属于他们自己的王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525480" y="2438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呼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2006107225554746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2.mp3" descr=""/>
          <p:cNvPicPr/>
          <p:nvPr/>
        </p:nvPicPr>
        <p:blipFill>
          <a:blip r:embed="rId2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90089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200724140336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380880" y="304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碧绿色的低地镶嵌在一条条运河之间。成群的骏马剽悍强壮，腿粗如桩，鬃毛随风飞扬。除了深深的野草遮掩着的运河，没有什么能够阻挡它们自由驰骋。辽阔无垠的原野似乎归它们所有，它们是这个自由王国的主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2005101494816134"/>
          <p:cNvPicPr/>
          <p:nvPr/>
        </p:nvPicPr>
        <p:blipFill>
          <a:blip r:embed="rId1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2005101494831550"/>
          <p:cNvPicPr/>
          <p:nvPr/>
        </p:nvPicPr>
        <p:blipFill>
          <a:blip r:embed="rId2"/>
          <a:stretch/>
        </p:blipFill>
        <p:spPr>
          <a:xfrm>
            <a:off x="4724280" y="3049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夜晚"/>
          <p:cNvPicPr/>
          <p:nvPr/>
        </p:nvPicPr>
        <p:blipFill>
          <a:blip r:embed="rId3"/>
          <a:stretch/>
        </p:blipFill>
        <p:spPr>
          <a:xfrm>
            <a:off x="1905120" y="3276720"/>
            <a:ext cx="525780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1.mp3" descr=""/>
          <p:cNvPicPr/>
          <p:nvPr/>
        </p:nvPicPr>
        <p:blipFill>
          <a:blip r:embed="rId4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9924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3:56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1:15Z</dcterms:modified>
  <cp:revision>3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