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5CC-46DF-45A4-BF33-6707B1677D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04F-7F09-4251-AD55-2880EEB6E8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AAF-71DB-42FF-B77B-CB752DEF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B7F-2C3A-4869-BC47-C4954138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12E-BE0C-4F0E-B0EE-7488590D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92F-9C40-437D-A3F3-2D5D8204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D52-B3A9-4577-B2F3-58D828B2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CDE-9A69-493D-B53B-281D7650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754-0EDD-40BC-9D6D-CE647B23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620-29F5-404E-900C-7ECD45DA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1DF-59D2-4299-AE33-0FF4C3BA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4AB-8416-4BE2-95B8-B00C509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109-478B-4EE0-A900-6DBF358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46D-19FC-4E06-9FBE-F8C3B83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2DFA-C306-46E5-8943-933BA05876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2050920" y="2276640"/>
            <a:ext cx="489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3300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微软雅黑"/>
              </a:rPr>
              <a:t>谈用字</a:t>
            </a:r>
            <a:endParaRPr b="1" lang="en-US" sz="1800" spc="-1" strike="noStrike">
              <a:ln w="0">
                <a:noFill/>
              </a:ln>
              <a:solidFill>
                <a:srgbClr val="003300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5392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1280" y="292428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什么说：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现成的字若用错了地方，就失去现成的好处，反倒别扭了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11280" y="191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9640" y="184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六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68360" y="2708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并思考这一段在整篇文章中起到一个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MCj04294430000[1]"/>
          <p:cNvPicPr/>
          <p:nvPr/>
        </p:nvPicPr>
        <p:blipFill>
          <a:blip r:embed="rId1"/>
          <a:stretch/>
        </p:blipFill>
        <p:spPr>
          <a:xfrm>
            <a:off x="7164360" y="4508640"/>
            <a:ext cx="1797120" cy="179676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"/>
          <p:cNvSpPr/>
          <p:nvPr/>
        </p:nvSpPr>
        <p:spPr>
          <a:xfrm>
            <a:off x="880920" y="5599080"/>
            <a:ext cx="54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9079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拓展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11280" y="24922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能仿照文中的比较方法试着分析一组词语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如：“实验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试验”，“悲痛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悲恸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411280" y="2421000"/>
            <a:ext cx="329256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pic>
        <p:nvPicPr>
          <p:cNvPr id="97" name="Picture 3" descr="MCj04288950000[1]"/>
          <p:cNvPicPr/>
          <p:nvPr/>
        </p:nvPicPr>
        <p:blipFill>
          <a:blip r:embed="rId1"/>
          <a:stretch/>
        </p:blipFill>
        <p:spPr>
          <a:xfrm>
            <a:off x="7236000" y="5084640"/>
            <a:ext cx="178416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A753-955F-4824-98C4-2C4D9E48F2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50920" y="1844640"/>
            <a:ext cx="842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认识、会写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筋、联、盟、络、某、择、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谨、慎、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是个生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流利地朗读课文，背诵首尾两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学习本文，懂得用字的重要性，并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成谨慎用字的好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7928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6"/>
          <p:cNvSpPr/>
          <p:nvPr/>
        </p:nvSpPr>
        <p:spPr>
          <a:xfrm>
            <a:off x="5446800" y="321300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332000" y="278136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筋  联  盟  络  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择  跨  谨  慎  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68360" y="98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生字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7636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771640" y="234936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067280" y="234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580000" y="234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877080" y="234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76360" y="40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771640" y="4005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284720" y="40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ǐ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40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87708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907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初步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00000" y="227664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阅读课文，了解文章从那几个方面来谈用字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84360" y="3933720"/>
            <a:ext cx="777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话要说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文是把话写在纸上，更须把话说明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9640" y="1557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第一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2349360"/>
            <a:ext cx="74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一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这段主要写了什么？表达了作者怎样的观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1557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学习二、三、四、五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2205000"/>
            <a:ext cx="8064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自由朗读，并选择你喜欢的段落读一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思考：这几段之间是怎样连接的，找出相关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并用横线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小组交流：课文从那些方面来谈用字的，你读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有什么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24000" y="170028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三儿上学去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说今天早晨小三儿到学校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三儿入了学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说他考取了学校，现在已经入了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1042920" y="3429000"/>
            <a:ext cx="1944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作比较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2492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们不能看见别人用了某个字，我们就也去用，除非我们完全明白了那个字的意思。把字用对了，话才能明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9640" y="4292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能举一个用错了字导致的笑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小孩子"/>
          <p:cNvPicPr/>
          <p:nvPr/>
        </p:nvPicPr>
        <p:blipFill>
          <a:blip r:embed="rId1"/>
          <a:stretch/>
        </p:blipFill>
        <p:spPr>
          <a:xfrm>
            <a:off x="7020000" y="3716280"/>
            <a:ext cx="1305000" cy="2828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539640" y="1628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三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83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课文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56536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家都那么说，就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成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；只有我们自己那么说，就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成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我们不能独创语言，语言本是大家伙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826920" y="4292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你是如何理解文中所说的“现成”的意思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755640" y="1628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阅读第四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09:42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0:14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