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87EC-2D61-4557-98F0-AE41B98298E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918F-0E07-480F-B688-441DCF67197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AC6-41EB-40E5-B3FB-9D10DCDB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82D-91FC-4797-A0ED-D2B07BEA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10A-1E9E-445B-BA9E-88DA01B2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464-D0AF-41CC-A300-A9561073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31E-B293-47A1-BFA8-CEEEC3A1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D3E-350A-426E-AC87-8ED32085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AAB-C0AD-4871-97B9-16B8D0E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BA1-DEB5-4062-8007-0A9CB784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1FE-B495-40D4-8B2B-B1C09ADC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3A1-C008-4D7B-BFC9-15C50A6A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CA0-DAFF-431D-9DFF-D72A45B5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D4B-9C37-4E65-9C22-413B78E8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9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0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7D55-FE99-4C83-8C1C-1D329DC7F771}" type="slidenum"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6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" name="Picture 37" descr="water"/>
          <p:cNvPicPr/>
          <p:nvPr/>
        </p:nvPicPr>
        <p:blipFill>
          <a:blip r:embed="rId2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29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8"/>
          <p:cNvSpPr txBox="1"/>
          <p:nvPr/>
        </p:nvSpPr>
        <p:spPr>
          <a:xfrm>
            <a:off x="1403280" y="1700280"/>
            <a:ext cx="6589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我爱我家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193968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1116000" y="29973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你能用一个美好的词语来形容你的家庭吗？在这样的家庭中你拥有那些家庭成员？能为大家介绍吗？</a:t>
            </a:r>
            <a:endParaRPr b="1" lang="en-US" sz="4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2266920" y="1484280"/>
            <a:ext cx="48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介绍你的家庭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539640" y="2421000"/>
            <a:ext cx="77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我有一个家，在这个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＿</a:t>
            </a: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的家中，有我亲爱的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＿、 ＿、 ＿</a:t>
            </a: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和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＿</a:t>
            </a: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等等。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并用恰当的语言表达自己对家庭的爱</a:t>
            </a: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）</a:t>
            </a:r>
            <a:endParaRPr b="1" lang="en-US" sz="4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55640" y="9079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cb1fe"/>
                </a:solidFill>
                <a:latin typeface="黑体"/>
                <a:ea typeface="黑体"/>
              </a:rPr>
              <a:t>介绍格式参考</a:t>
            </a: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684360" y="299736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在你快乐的成长过程中，一定拥有不少令人难忘、感动的小故事吧？能说给大家听听吗？</a:t>
            </a:r>
            <a:endParaRPr b="1" lang="en-US" sz="4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84360" y="141300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b1fe"/>
                </a:solidFill>
                <a:latin typeface="黑体"/>
                <a:ea typeface="黑体"/>
              </a:rPr>
              <a:t>故事我来讲</a:t>
            </a:r>
            <a:endParaRPr b="1" lang="en-US" sz="40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2268360" y="765000"/>
            <a:ext cx="64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101600" y="774720"/>
            <a:ext cx="757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4400" spc="-1" strike="noStrike">
                <a:solidFill>
                  <a:srgbClr val="5cb1fe"/>
                </a:solidFill>
                <a:latin typeface="宋体"/>
                <a:ea typeface="宋体"/>
              </a:rPr>
              <a:t>1.</a:t>
            </a:r>
            <a:r>
              <a:rPr b="1" lang="zh-CN" sz="4400" spc="-1" strike="noStrike">
                <a:solidFill>
                  <a:srgbClr val="5cb1fe"/>
                </a:solidFill>
                <a:latin typeface="宋体"/>
                <a:ea typeface="宋体"/>
              </a:rPr>
              <a:t>了解爸爸妈妈一天在工作中、生活中所做的事情，谈谈你的感想？</a:t>
            </a:r>
            <a:endParaRPr b="1" lang="en-US" sz="4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971640" y="335772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cb1fe"/>
                </a:solidFill>
                <a:latin typeface="宋体"/>
                <a:ea typeface="宋体"/>
              </a:rPr>
              <a:t>    </a:t>
            </a:r>
            <a:r>
              <a:rPr b="1" lang="en-US" sz="4400" spc="-1" strike="noStrike">
                <a:solidFill>
                  <a:srgbClr val="ff6161"/>
                </a:solidFill>
                <a:latin typeface="宋体"/>
                <a:ea typeface="宋体"/>
              </a:rPr>
              <a:t>2.</a:t>
            </a:r>
            <a:r>
              <a:rPr b="1" lang="zh-CN" sz="4400" spc="-1" strike="noStrike">
                <a:solidFill>
                  <a:srgbClr val="ff6161"/>
                </a:solidFill>
                <a:latin typeface="宋体"/>
                <a:ea typeface="宋体"/>
              </a:rPr>
              <a:t>此时此刻，你一定有许多话想对自己的爸爸妈妈说吧？你想对他们说什么呢？</a:t>
            </a:r>
            <a:endParaRPr b="1" lang="en-US" sz="4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"/>
          <p:cNvSpPr/>
          <p:nvPr/>
        </p:nvSpPr>
        <p:spPr>
          <a:xfrm>
            <a:off x="2987640" y="32432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042920" y="220500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cb1fe"/>
                </a:solidFill>
                <a:latin typeface="宋体"/>
                <a:ea typeface="宋体"/>
              </a:rPr>
              <a:t>    </a:t>
            </a:r>
            <a:r>
              <a:rPr b="1" lang="en-US" sz="4400" spc="-1" strike="noStrike">
                <a:solidFill>
                  <a:srgbClr val="5cb1fe"/>
                </a:solidFill>
                <a:latin typeface="宋体"/>
                <a:ea typeface="宋体"/>
              </a:rPr>
              <a:t>3.</a:t>
            </a:r>
            <a:r>
              <a:rPr b="1" lang="zh-CN" sz="4400" spc="-1" strike="noStrike">
                <a:solidFill>
                  <a:srgbClr val="5cb1fe"/>
                </a:solidFill>
                <a:latin typeface="宋体"/>
                <a:ea typeface="宋体"/>
              </a:rPr>
              <a:t>爱就是无私的付出与奉献。你曾经或准备用哪些实际行动去表达对家人的爱</a:t>
            </a:r>
            <a:r>
              <a:rPr b="1" lang="en-US" sz="4400" spc="-1" strike="noStrike">
                <a:solidFill>
                  <a:srgbClr val="5cb1fe"/>
                </a:solidFill>
                <a:latin typeface="宋体"/>
                <a:ea typeface="宋体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2195640" y="1844640"/>
            <a:ext cx="633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332000" y="2276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4400" spc="-1" strike="noStrike">
                <a:solidFill>
                  <a:srgbClr val="5cb1fe"/>
                </a:solidFill>
                <a:latin typeface="宋体"/>
                <a:ea typeface="宋体"/>
              </a:rPr>
              <a:t>4.</a:t>
            </a:r>
            <a:r>
              <a:rPr b="1" lang="zh-CN" sz="4400" spc="-1" strike="noStrike">
                <a:solidFill>
                  <a:srgbClr val="5cb1fe"/>
                </a:solidFill>
                <a:latin typeface="宋体"/>
                <a:ea typeface="宋体"/>
              </a:rPr>
              <a:t>面对家人的关爱，你又准备如何用力所能及的方式表达自己的谢意？ </a:t>
            </a:r>
            <a:endParaRPr b="1" lang="en-US" sz="4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47520" y="4756320"/>
            <a:ext cx="88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更多免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模板尽在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http://www.eeppt.com</a:t>
            </a:r>
            <a:endParaRPr b="1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987640" y="1268280"/>
            <a:ext cx="4824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1589-DBB6-481A-805B-2CBE25435B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56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0:49Z</dcterms:modified>
  <cp:revision>1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