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1.gif" ContentType="image/gif"/>
  <Override PartName="/ppt/media/chimes.wav" ContentType="audio/x-wav"/>
  <Override PartName="/ppt/media/image20.png" ContentType="image/png"/>
  <Override PartName="/ppt/media/image17.gif" ContentType="image/gif"/>
  <Override PartName="/ppt/media/image19.png" ContentType="image/png"/>
  <Override PartName="/ppt/media/image16.gif" ContentType="image/gif"/>
  <Override PartName="/ppt/media/image2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B465-29EB-41D7-9251-8061317F504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ADB-2832-4FCF-B84B-ABD3CFEB425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906-492F-41FE-9E0D-F8CE7F8C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FEF-BD20-4614-9A60-7AB855F9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04C-0DF7-4BE2-BED8-0BDC7B5A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203-4A2B-463C-BB06-E2060C04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7475-84A4-4AC0-AC80-F4DF90EC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9DE3-E408-4A6E-949E-8269C6C6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CDA6-0AE2-44F6-BD4B-8AC272A7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E10F-A2DC-4951-97B5-DC3D912E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9E45-87DE-472D-843C-BF0118FC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A876-3A03-46A6-AE8A-BAAE95A9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5431-153B-417F-845F-F9BADBB7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C8E-8C00-4047-B3F8-49DC1211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FE85-312C-487F-B7C2-A65D1BE1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A211-3339-4DDA-B426-98FD1607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840C-C459-4360-8ACF-29D74670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B14E-D5A4-4BEF-BF24-202D4811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F40E-7B6F-44C6-81D1-0CD53A7D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35A-5B52-4809-99B8-B216631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784-1957-415F-B5A3-D0125518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0B1-59E1-4DBE-8C1E-F9C56336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6C4-B264-4683-8BA8-685D2D0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261-DE51-4831-9F24-FFB4EB81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3A9-59EF-409E-BC4D-12007C88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B57-A7C7-47C8-8247-56255F9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56F9-E038-4506-8E9C-87CC2DE871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6391-E1A3-4E03-B58E-9AEA72BFF9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baike.baidu.com/view/1096998.htm" TargetMode="External"/><Relationship Id="rId3" Type="http://schemas.openxmlformats.org/officeDocument/2006/relationships/hyperlink" Target="http://baike.baidu.com/view/793353.ht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36.gif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zq-xy.com/wl/sucai/xiank/X36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3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4002840" y="204840"/>
            <a:ext cx="113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、我不是最弱小的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91" name="矩形 5" descr=""/>
          <p:cNvPicPr/>
          <p:nvPr/>
        </p:nvPicPr>
        <p:blipFill>
          <a:blip r:embed="rId2"/>
          <a:stretch/>
        </p:blipFill>
        <p:spPr>
          <a:xfrm>
            <a:off x="1343160" y="6021360"/>
            <a:ext cx="657360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9c83a78abbf6e5689e2fb4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1939320" y="981000"/>
            <a:ext cx="571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学习目标</a:t>
            </a:r>
            <a:r>
              <a:rPr b="1" i="1" lang="en-US" sz="6000" spc="-1" strike="noStrike">
                <a:solidFill>
                  <a:srgbClr val="ff3300"/>
                </a:solidFill>
                <a:latin typeface="楷体_GB2312"/>
              </a:rPr>
              <a:t>(</a:t>
            </a:r>
            <a:r>
              <a:rPr b="1" i="1" lang="en-US" sz="6000" spc="-1" strike="noStrike">
                <a:solidFill>
                  <a:srgbClr val="ff3300"/>
                </a:solidFill>
                <a:latin typeface="楷体_GB2312"/>
              </a:rPr>
              <a:t>第</a:t>
            </a:r>
            <a:r>
              <a:rPr b="1" i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课时</a:t>
            </a:r>
            <a:r>
              <a:rPr b="1" i="1" lang="en-US" sz="6000" spc="-1" strike="noStrike">
                <a:solidFill>
                  <a:srgbClr val="ff3300"/>
                </a:solidFill>
                <a:latin typeface="楷体_GB2312"/>
              </a:rPr>
              <a:t>)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cc00cc"/>
                </a:solidFill>
                <a:latin typeface="楷体_GB2312"/>
              </a:rPr>
              <a:t>我能正确、流利、有感情地朗读课文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cc00cc"/>
                </a:solidFill>
                <a:latin typeface="楷体_GB2312"/>
              </a:rPr>
              <a:t>我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能</a:t>
            </a:r>
            <a:r>
              <a:rPr b="1" lang="en-US" sz="3600" spc="-1" strike="noStrike">
                <a:solidFill>
                  <a:srgbClr val="cc00cc"/>
                </a:solidFill>
                <a:latin typeface="楷体_GB2312"/>
              </a:rPr>
              <a:t>通过朗读课文，体会问号、叹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楷体_GB2312"/>
              </a:rPr>
              <a:t>表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达的不同语气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、我</a:t>
            </a:r>
            <a:r>
              <a:rPr b="1" lang="en-US" sz="3600" spc="-1" strike="noStrike">
                <a:solidFill>
                  <a:srgbClr val="cc00cc"/>
                </a:solidFill>
                <a:latin typeface="楷体_GB2312"/>
              </a:rPr>
              <a:t>不甘为弱者，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我要保护弱小者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0089198948639_2"/>
          <p:cNvPicPr/>
          <p:nvPr/>
        </p:nvPicPr>
        <p:blipFill>
          <a:blip r:embed="rId1"/>
          <a:stretch/>
        </p:blipFill>
        <p:spPr>
          <a:xfrm>
            <a:off x="-1978200" y="-528480"/>
            <a:ext cx="11312640" cy="94345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1143000" y="533520"/>
            <a:ext cx="8001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  周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末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 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拥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嫩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托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亚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萨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铃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花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倾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盆大雨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芬芳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舞动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聊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619280" y="1773360"/>
            <a:ext cx="691344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在爸爸妈妈眼里，你是最弱小的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619280" y="3789360"/>
            <a:ext cx="68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课文中的小主人公萨沙才五岁，妈妈夸他是勇敢的孩子。你知道这是为什么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16000" y="4005360"/>
            <a:ext cx="75614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你知道妈妈为什么要夸奖萨沙是勇敢的孩子了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2124000" y="1125360"/>
            <a:ext cx="5256360" cy="2592360"/>
            <a:chOff x="2124000" y="1125360"/>
            <a:chExt cx="5256360" cy="2592360"/>
          </a:xfrm>
        </p:grpSpPr>
        <p:sp>
          <p:nvSpPr>
            <p:cNvPr id="182" name="AutoShape 4"/>
            <p:cNvSpPr/>
            <p:nvPr/>
          </p:nvSpPr>
          <p:spPr>
            <a:xfrm>
              <a:off x="2124000" y="1125360"/>
              <a:ext cx="5256360" cy="259236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83" name="WordArt 5"/>
            <p:cNvSpPr txBox="1"/>
            <p:nvPr/>
          </p:nvSpPr>
          <p:spPr>
            <a:xfrm>
              <a:off x="3060720" y="1701720"/>
              <a:ext cx="3024000" cy="143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9360">
                    <a:solidFill>
                      <a:srgbClr val="008000"/>
                    </a:solidFill>
                    <a:round/>
                  </a:ln>
                  <a:solidFill>
                    <a:srgbClr val="99cc00"/>
                  </a:solidFill>
                  <a:effectLst>
                    <a:outerShdw dist="53966" dir="2700000" blurRad="0" rotWithShape="0">
                      <a:srgbClr val="000000">
                        <a:alpha val="79000"/>
                      </a:srgbClr>
                    </a:outerShdw>
                  </a:effectLst>
                  <a:latin typeface="楷体_GB2312"/>
                </a:rPr>
                <a:t>朗读课文</a:t>
              </a:r>
              <a:endParaRPr b="1" lang="en-US" sz="36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000000">
                      <a:alpha val="79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sp>
        <p:nvSpPr>
          <p:cNvPr id="184" name="Rectangle 6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0089198948639_2"/>
          <p:cNvPicPr/>
          <p:nvPr/>
        </p:nvPicPr>
        <p:blipFill>
          <a:blip r:embed="rId1"/>
          <a:stretch/>
        </p:blipFill>
        <p:spPr>
          <a:xfrm>
            <a:off x="-1405080" y="-1324080"/>
            <a:ext cx="11161800" cy="9433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0" y="981000"/>
            <a:ext cx="92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            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合作探究：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	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、找出描写森林景色的自然段，把自己喜欢的句子画下来，和同学们交流交流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	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、为什么只有萨沙一个人穿着雨衣呢？在课文中找出答案，再读一读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	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3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、你能保护比自己弱小的吗？举例说一说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senlin"/>
          <p:cNvPicPr/>
          <p:nvPr/>
        </p:nvPicPr>
        <p:blipFill>
          <a:blip r:embed="rId1"/>
          <a:srcRect l="35412" t="0" r="12509" b="0"/>
          <a:stretch/>
        </p:blipFill>
        <p:spPr>
          <a:xfrm>
            <a:off x="4500720" y="0"/>
            <a:ext cx="4643280" cy="4038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_2_01"/>
          <p:cNvPicPr/>
          <p:nvPr/>
        </p:nvPicPr>
        <p:blipFill>
          <a:blip r:embed="rId2"/>
          <a:stretch/>
        </p:blipFill>
        <p:spPr>
          <a:xfrm>
            <a:off x="0" y="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0" y="4019400"/>
            <a:ext cx="9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夏天的一个周末，五岁的萨沙和哥哥托利亚，跟父母一起到森林中去玩。森林里的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</a:rPr>
              <a:t>景色是那么美好，空气是那么清新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他们来到林中的一片空地。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</a:rPr>
              <a:t>那里盛开着美丽的铃兰花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90" name="一个美丽的故事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4237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20090625_6bf633b262a96770d28dwa0skvsYgAZ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2748240" y="333360"/>
            <a:ext cx="35949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铃兰：是一种植物，又名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2"/>
              </a:rPr>
              <a:t>君影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山谷百合、风铃草，是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3"/>
              </a:rPr>
              <a:t>铃兰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中唯一的种。原产北半球温带，欧、亚及北美洲和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中国的东北、华北地区海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8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5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处均有野生分布。铃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兰落花在风中飞舞的样子就像下雪一样，因此铃兰的草原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也被人们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银白色的天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r>
              <a:rPr b="0" lang="zh-CN" sz="28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2"/>
          <p:cNvPicPr/>
          <p:nvPr/>
        </p:nvPicPr>
        <p:blipFill>
          <a:blip r:embed="rId1"/>
          <a:stretch/>
        </p:blipFill>
        <p:spPr>
          <a:xfrm>
            <a:off x="0" y="-600120"/>
            <a:ext cx="9144000" cy="50198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250920" y="558972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52280" y="4419720"/>
            <a:ext cx="938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原来有一丛野蔷薇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被铃兰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簇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着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开出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第一朵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粉红色的花。带着露珠的花朵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随风舞动，芬芳扑鼻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Shenwu_QiangWei_015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27760" y="90792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蔷薇花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485360" y="5486400"/>
            <a:ext cx="6252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</a:rPr>
              <a:t>蔷薇花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</a:rPr>
              <a:t>: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</a:rPr>
              <a:t>香味很浓，花香诱人，花瓣中可提取芳香油，其价值高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</a:rPr>
              <a:t>于黄金，具有很高的药用食用价值，蔷薇花喜欢生于路旁、田边或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</a:rPr>
              <a:t>丘陵地的灌木丛中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202" name="Picture 3" descr="闪电2"/>
          <p:cNvPicPr/>
          <p:nvPr/>
        </p:nvPicPr>
        <p:blipFill>
          <a:blip r:embed="rId1"/>
          <a:stretch/>
        </p:blipFill>
        <p:spPr>
          <a:xfrm>
            <a:off x="2646360" y="333360"/>
            <a:ext cx="4803840" cy="666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205" name="雷声.mp3" descr=""/>
          <p:cNvPicPr/>
          <p:nvPr/>
        </p:nvPicPr>
        <p:blipFill>
          <a:blip r:embed="rId3"/>
          <a:stretch/>
        </p:blipFill>
        <p:spPr>
          <a:xfrm>
            <a:off x="8344080" y="605808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3222360" y="5950080"/>
            <a:ext cx="237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突然，雷声大作，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 spd="med">
    <p:comb dir="vert"/>
    <p:sndAc>
      <p:stSnd>
        <p:snd r:embed="rId4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732720" y="11592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90560" y="1553760"/>
            <a:ext cx="8353440" cy="433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ru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ò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m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ò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s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à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tu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ō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í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0" lang="zh-CN" sz="3200" spc="-1" strike="noStrike">
                <a:solidFill>
                  <a:srgbClr val="06521e"/>
                </a:solidFill>
                <a:latin typeface="Shruti"/>
              </a:rPr>
              <a:t>g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c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ù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su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弱　末　萨　托　铃　簇　随　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f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ē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n f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ā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0" lang="zh-CN" sz="3200" spc="-1" strike="noStrike">
                <a:solidFill>
                  <a:srgbClr val="06521e"/>
                </a:solidFill>
                <a:latin typeface="Shruti"/>
              </a:rPr>
              <a:t>g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li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á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o q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0" lang="zh-CN" sz="3200" spc="-1" strike="noStrike">
                <a:solidFill>
                  <a:srgbClr val="06521e"/>
                </a:solidFill>
                <a:latin typeface="Shruti"/>
              </a:rPr>
              <a:t>g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 d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ì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 ji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ā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o  xi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宋体"/>
              </a:rPr>
              <a:t>ā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芬　芳　聊　倾　递　娇　掀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3276720" y="981000"/>
            <a:ext cx="266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楷体_GB2312"/>
              </a:rPr>
              <a:t>会读的字</a:t>
            </a:r>
            <a:endParaRPr b="1" lang="en-US" sz="36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606600" y="6060960"/>
            <a:ext cx="74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521e"/>
                </a:solidFill>
                <a:latin typeface="楷体_GB2312"/>
              </a:rPr>
              <a:t>更多免费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</a:rPr>
              <a:t>PPT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</a:rPr>
              <a:t>模板尽在：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</a:rPr>
              <a:t>http://www.eeppt.com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174330995863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210" name="雨声.mp3" descr=""/>
          <p:cNvPicPr/>
          <p:nvPr/>
        </p:nvPicPr>
        <p:blipFill>
          <a:blip r:embed="rId3"/>
          <a:stretch/>
        </p:blipFill>
        <p:spPr>
          <a:xfrm>
            <a:off x="8317080" y="609300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0" y="5300640"/>
            <a:ext cx="766764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天上飘下几滴雨点，紧接着，下起了倾盆大雨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comb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T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468360" y="5589720"/>
            <a:ext cx="8280360" cy="69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看图，从中你看到什么？为什么只有萨沙一个人穿着雨衣呢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17433099586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2004711112093"/>
          <p:cNvPicPr/>
          <p:nvPr/>
        </p:nvPicPr>
        <p:blipFill>
          <a:blip r:embed="rId2"/>
          <a:stretch/>
        </p:blipFill>
        <p:spPr>
          <a:xfrm rot="5808600">
            <a:off x="2021760" y="3167640"/>
            <a:ext cx="4292640" cy="3084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50920" y="55515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大雨已经打掉了两片蔷薇花瓣，花儿无力地垂着头，显得更加娇嫩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219" name="Picture 5" descr="aaaa"/>
          <p:cNvPicPr/>
          <p:nvPr/>
        </p:nvPicPr>
        <p:blipFill>
          <a:blip r:embed="rId3"/>
          <a:stretch/>
        </p:blipFill>
        <p:spPr>
          <a:xfrm rot="20773800">
            <a:off x="3419280" y="4508640"/>
            <a:ext cx="642600" cy="712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aaaa"/>
          <p:cNvPicPr/>
          <p:nvPr/>
        </p:nvPicPr>
        <p:blipFill>
          <a:blip r:embed="rId4"/>
          <a:stretch/>
        </p:blipFill>
        <p:spPr>
          <a:xfrm rot="2007000">
            <a:off x="5003640" y="5013000"/>
            <a:ext cx="649440" cy="585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三学苑"/>
          <p:cNvPicPr/>
          <p:nvPr/>
        </p:nvPicPr>
        <p:blipFill>
          <a:blip r:embed="rId5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724200" y="1413000"/>
            <a:ext cx="322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读课文第四到九自然段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850640" y="3429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萨沙一共提了几个问题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344840" y="4941720"/>
            <a:ext cx="587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（看下图读一读）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T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4"/>
          <p:cNvGrpSpPr/>
          <p:nvPr/>
        </p:nvGrpSpPr>
        <p:grpSpPr>
          <a:xfrm>
            <a:off x="2050920" y="4797360"/>
            <a:ext cx="4968720" cy="2060640"/>
            <a:chOff x="2050920" y="4797360"/>
            <a:chExt cx="4968720" cy="2060640"/>
          </a:xfrm>
        </p:grpSpPr>
        <p:sp>
          <p:nvSpPr>
            <p:cNvPr id="230" name="AutoShape 5"/>
            <p:cNvSpPr/>
            <p:nvPr/>
          </p:nvSpPr>
          <p:spPr>
            <a:xfrm>
              <a:off x="2050920" y="4797360"/>
              <a:ext cx="4968720" cy="2060640"/>
            </a:xfrm>
            <a:prstGeom prst="cloudCallout">
              <a:avLst>
                <a:gd name="adj1" fmla="val 7254"/>
                <a:gd name="adj2" fmla="val -10824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31" name="Text Box 6"/>
            <p:cNvSpPr/>
            <p:nvPr/>
          </p:nvSpPr>
          <p:spPr>
            <a:xfrm>
              <a:off x="2681280" y="4998960"/>
              <a:ext cx="405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妈妈，你和托利亚都需要雨衣呀，为什么要给我呢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32" name="Group 7"/>
          <p:cNvGrpSpPr/>
          <p:nvPr/>
        </p:nvGrpSpPr>
        <p:grpSpPr>
          <a:xfrm>
            <a:off x="4643280" y="907920"/>
            <a:ext cx="4105440" cy="1295280"/>
            <a:chOff x="4643280" y="907920"/>
            <a:chExt cx="4105440" cy="1295280"/>
          </a:xfrm>
        </p:grpSpPr>
        <p:sp>
          <p:nvSpPr>
            <p:cNvPr id="233" name="AutoShape 8"/>
            <p:cNvSpPr/>
            <p:nvPr/>
          </p:nvSpPr>
          <p:spPr>
            <a:xfrm>
              <a:off x="4643280" y="907920"/>
              <a:ext cx="4105440" cy="1295280"/>
            </a:xfrm>
            <a:prstGeom prst="cloudCallout">
              <a:avLst>
                <a:gd name="adj1" fmla="val -63185"/>
                <a:gd name="adj2" fmla="val 67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34" name="Text Box 9"/>
            <p:cNvSpPr/>
            <p:nvPr/>
          </p:nvSpPr>
          <p:spPr>
            <a:xfrm>
              <a:off x="4913280" y="947520"/>
              <a:ext cx="383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我们应该保护比自己弱小的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235" name="Rectangle 10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T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"/>
          <p:cNvGrpSpPr/>
          <p:nvPr/>
        </p:nvGrpSpPr>
        <p:grpSpPr>
          <a:xfrm>
            <a:off x="2411280" y="4797360"/>
            <a:ext cx="4608360" cy="1511280"/>
            <a:chOff x="2411280" y="4797360"/>
            <a:chExt cx="4608360" cy="1511280"/>
          </a:xfrm>
        </p:grpSpPr>
        <p:sp>
          <p:nvSpPr>
            <p:cNvPr id="239" name="AutoShape 5"/>
            <p:cNvSpPr/>
            <p:nvPr/>
          </p:nvSpPr>
          <p:spPr>
            <a:xfrm>
              <a:off x="2411280" y="4797360"/>
              <a:ext cx="4608360" cy="1511280"/>
            </a:xfrm>
            <a:prstGeom prst="cloudCallout">
              <a:avLst>
                <a:gd name="adj1" fmla="val 3912"/>
                <a:gd name="adj2" fmla="val -1293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2700360" y="4941720"/>
              <a:ext cx="405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这就是说，我是最弱小的了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4500720" y="836640"/>
            <a:ext cx="4248000" cy="1944720"/>
            <a:chOff x="4500720" y="836640"/>
            <a:chExt cx="4248000" cy="1944720"/>
          </a:xfrm>
        </p:grpSpPr>
        <p:sp>
          <p:nvSpPr>
            <p:cNvPr id="242" name="AutoShape 8"/>
            <p:cNvSpPr/>
            <p:nvPr/>
          </p:nvSpPr>
          <p:spPr>
            <a:xfrm>
              <a:off x="4500720" y="836640"/>
              <a:ext cx="4248000" cy="1944720"/>
            </a:xfrm>
            <a:prstGeom prst="cloudCallout">
              <a:avLst>
                <a:gd name="adj1" fmla="val -64388"/>
                <a:gd name="adj2" fmla="val 317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4913640" y="947880"/>
              <a:ext cx="3835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要是你谁也保护不了，那你就是最弱小的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244" name="Rectangle 10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T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4"/>
          <p:cNvGrpSpPr/>
          <p:nvPr/>
        </p:nvGrpSpPr>
        <p:grpSpPr>
          <a:xfrm>
            <a:off x="2484360" y="4797360"/>
            <a:ext cx="4248000" cy="1655640"/>
            <a:chOff x="2484360" y="4797360"/>
            <a:chExt cx="4248000" cy="1655640"/>
          </a:xfrm>
        </p:grpSpPr>
        <p:sp>
          <p:nvSpPr>
            <p:cNvPr id="248" name="AutoShape 5"/>
            <p:cNvSpPr/>
            <p:nvPr/>
          </p:nvSpPr>
          <p:spPr>
            <a:xfrm>
              <a:off x="2484360" y="4797360"/>
              <a:ext cx="4248000" cy="1655640"/>
            </a:xfrm>
            <a:prstGeom prst="cloudCallout">
              <a:avLst>
                <a:gd name="adj1" fmla="val 7472"/>
                <a:gd name="adj2" fmla="val -1031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49" name="Text Box 6"/>
            <p:cNvSpPr/>
            <p:nvPr/>
          </p:nvSpPr>
          <p:spPr>
            <a:xfrm>
              <a:off x="2681280" y="4998960"/>
              <a:ext cx="405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妈妈，现在我还是最弱小的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50" name="Group 7"/>
          <p:cNvGrpSpPr/>
          <p:nvPr/>
        </p:nvGrpSpPr>
        <p:grpSpPr>
          <a:xfrm>
            <a:off x="4643280" y="765000"/>
            <a:ext cx="4105440" cy="2087640"/>
            <a:chOff x="4643280" y="765000"/>
            <a:chExt cx="4105440" cy="2087640"/>
          </a:xfrm>
        </p:grpSpPr>
        <p:sp>
          <p:nvSpPr>
            <p:cNvPr id="251" name="AutoShape 8"/>
            <p:cNvSpPr/>
            <p:nvPr/>
          </p:nvSpPr>
          <p:spPr>
            <a:xfrm>
              <a:off x="4643280" y="765000"/>
              <a:ext cx="4105440" cy="2087640"/>
            </a:xfrm>
            <a:prstGeom prst="cloudCallout">
              <a:avLst>
                <a:gd name="adj1" fmla="val -63185"/>
                <a:gd name="adj2" fmla="val 29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52" name="Text Box 9"/>
            <p:cNvSpPr/>
            <p:nvPr/>
          </p:nvSpPr>
          <p:spPr>
            <a:xfrm>
              <a:off x="4913280" y="947520"/>
              <a:ext cx="383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</a:rPr>
                <a:t>不，不，你能保护更弱小的，你是勇敢的孩子啦！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253" name="Rectangle 10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900000" y="350028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449360" y="2492280"/>
            <a:ext cx="633744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你喜欢课文中的小主人公萨沙吗？为什么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511280" y="4176720"/>
            <a:ext cx="633744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除了萨沙，你还喜欢谁？为什么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189320" y="9810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讨论交流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背景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533520" y="228600"/>
            <a:ext cx="281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</a:rPr>
              <a:t>我会写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685800" y="1371600"/>
            <a:ext cx="3885840" cy="3885840"/>
            <a:chOff x="685800" y="1371600"/>
            <a:chExt cx="3885840" cy="3885840"/>
          </a:xfrm>
        </p:grpSpPr>
        <p:sp>
          <p:nvSpPr>
            <p:cNvPr id="262" name="Rectangle 5"/>
            <p:cNvSpPr/>
            <p:nvPr/>
          </p:nvSpPr>
          <p:spPr>
            <a:xfrm>
              <a:off x="68580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63" name="Line 6"/>
            <p:cNvSpPr/>
            <p:nvPr/>
          </p:nvSpPr>
          <p:spPr>
            <a:xfrm>
              <a:off x="2576160" y="1371600"/>
              <a:ext cx="0" cy="3885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64" name="Line 7"/>
            <p:cNvSpPr/>
            <p:nvPr/>
          </p:nvSpPr>
          <p:spPr>
            <a:xfrm>
              <a:off x="685800" y="3367080"/>
              <a:ext cx="3885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65" name="Group 8"/>
          <p:cNvGrpSpPr/>
          <p:nvPr/>
        </p:nvGrpSpPr>
        <p:grpSpPr>
          <a:xfrm>
            <a:off x="4876920" y="1371600"/>
            <a:ext cx="3885840" cy="3885840"/>
            <a:chOff x="4876920" y="1371600"/>
            <a:chExt cx="3885840" cy="3885840"/>
          </a:xfrm>
        </p:grpSpPr>
        <p:sp>
          <p:nvSpPr>
            <p:cNvPr id="266" name="Rectangle 9"/>
            <p:cNvSpPr/>
            <p:nvPr/>
          </p:nvSpPr>
          <p:spPr>
            <a:xfrm>
              <a:off x="487692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67" name="Line 10"/>
            <p:cNvSpPr/>
            <p:nvPr/>
          </p:nvSpPr>
          <p:spPr>
            <a:xfrm>
              <a:off x="6767280" y="1371600"/>
              <a:ext cx="0" cy="3885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68" name="Line 11"/>
            <p:cNvSpPr/>
            <p:nvPr/>
          </p:nvSpPr>
          <p:spPr>
            <a:xfrm>
              <a:off x="4876920" y="3367080"/>
              <a:ext cx="3885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269" name="Text Box 12"/>
          <p:cNvSpPr/>
          <p:nvPr/>
        </p:nvSpPr>
        <p:spPr>
          <a:xfrm>
            <a:off x="1405080" y="121932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</a:rPr>
              <a:t>末</a:t>
            </a:r>
            <a:endParaRPr b="0" lang="en-US" sz="25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5672160" y="1143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</a:rPr>
              <a:t>未</a:t>
            </a:r>
            <a:endParaRPr b="0" lang="en-US" sz="25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8392680" y="6338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272" name="轻音乐 - 高山流水 - 中国十大名曲 古筝 古筝曲.mp3" descr=""/>
          <p:cNvPicPr/>
          <p:nvPr/>
        </p:nvPicPr>
        <p:blipFill>
          <a:blip r:embed="rId2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209847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背景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533520" y="228600"/>
            <a:ext cx="281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</a:rPr>
              <a:t>我会写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685800" y="1371600"/>
            <a:ext cx="3885840" cy="3885840"/>
            <a:chOff x="685800" y="1371600"/>
            <a:chExt cx="3885840" cy="3885840"/>
          </a:xfrm>
        </p:grpSpPr>
        <p:sp>
          <p:nvSpPr>
            <p:cNvPr id="276" name="Rectangle 5"/>
            <p:cNvSpPr/>
            <p:nvPr/>
          </p:nvSpPr>
          <p:spPr>
            <a:xfrm>
              <a:off x="68580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77" name="Line 6"/>
            <p:cNvSpPr/>
            <p:nvPr/>
          </p:nvSpPr>
          <p:spPr>
            <a:xfrm>
              <a:off x="2576160" y="1371600"/>
              <a:ext cx="0" cy="3885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78" name="Line 7"/>
            <p:cNvSpPr/>
            <p:nvPr/>
          </p:nvSpPr>
          <p:spPr>
            <a:xfrm>
              <a:off x="685800" y="3367080"/>
              <a:ext cx="3885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9" name="Group 8"/>
          <p:cNvGrpSpPr/>
          <p:nvPr/>
        </p:nvGrpSpPr>
        <p:grpSpPr>
          <a:xfrm>
            <a:off x="4876920" y="1371600"/>
            <a:ext cx="3885840" cy="3885840"/>
            <a:chOff x="4876920" y="1371600"/>
            <a:chExt cx="3885840" cy="3885840"/>
          </a:xfrm>
        </p:grpSpPr>
        <p:sp>
          <p:nvSpPr>
            <p:cNvPr id="280" name="Rectangle 9"/>
            <p:cNvSpPr/>
            <p:nvPr/>
          </p:nvSpPr>
          <p:spPr>
            <a:xfrm>
              <a:off x="487692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81" name="Line 10"/>
            <p:cNvSpPr/>
            <p:nvPr/>
          </p:nvSpPr>
          <p:spPr>
            <a:xfrm>
              <a:off x="6767280" y="1371600"/>
              <a:ext cx="0" cy="3885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>
              <a:off x="4876920" y="3367080"/>
              <a:ext cx="3885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283" name="Text Box 12"/>
          <p:cNvSpPr/>
          <p:nvPr/>
        </p:nvSpPr>
        <p:spPr>
          <a:xfrm>
            <a:off x="1405080" y="121932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</a:rPr>
              <a:t>夏</a:t>
            </a:r>
            <a:endParaRPr b="0" lang="en-US" sz="25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5672160" y="1143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</a:rPr>
              <a:t>弱</a:t>
            </a:r>
            <a:endParaRPr b="0" lang="en-US" sz="25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8392680" y="6338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286" name="轻音乐 - 高山流水 - 中国十大名曲 古筝 古筝曲.mp3" descr=""/>
          <p:cNvPicPr/>
          <p:nvPr/>
        </p:nvPicPr>
        <p:blipFill>
          <a:blip r:embed="rId2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209847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070"/>
          <p:cNvPicPr/>
          <p:nvPr/>
        </p:nvPicPr>
        <p:blipFill>
          <a:blip r:embed="rId1"/>
          <a:stretch/>
        </p:blipFill>
        <p:spPr>
          <a:xfrm>
            <a:off x="-212760" y="-339840"/>
            <a:ext cx="9356760" cy="7585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619280" y="127476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弱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130560" y="127476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末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714920" y="127476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萨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56360" y="127476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托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619280" y="242244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铃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203640" y="242244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簇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645080" y="242244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随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156360" y="242712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芬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619280" y="364500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芳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130560" y="364500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聊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714920" y="364500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倾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156360" y="364500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递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619280" y="494172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娇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3203640" y="494172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掀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20"/>
          <p:cNvPicPr/>
          <p:nvPr/>
        </p:nvPicPr>
        <p:blipFill>
          <a:blip r:embed="rId1"/>
          <a:stretch/>
        </p:blipFill>
        <p:spPr>
          <a:xfrm>
            <a:off x="3492360" y="1268280"/>
            <a:ext cx="2556000" cy="503280"/>
          </a:xfrm>
          <a:prstGeom prst="rect">
            <a:avLst/>
          </a:prstGeom>
          <a:ln w="0">
            <a:noFill/>
          </a:ln>
        </p:spPr>
      </p:pic>
      <p:sp>
        <p:nvSpPr>
          <p:cNvPr id="288" name="WordArt 3"/>
          <p:cNvSpPr txBox="1"/>
          <p:nvPr/>
        </p:nvSpPr>
        <p:spPr>
          <a:xfrm>
            <a:off x="1476360" y="909720"/>
            <a:ext cx="691200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71785" dir="2700000" blurRad="0" rotWithShape="0">
                    <a:srgbClr val="ffffff"/>
                  </a:outerShdw>
                </a:effectLst>
                <a:latin typeface="黑体"/>
              </a:rPr>
              <a:t>读读下面的句子，注意句号和叹号的读法。</a:t>
            </a:r>
            <a:endParaRPr b="0" lang="en-US" sz="2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71785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4920" y="2060640"/>
            <a:ext cx="1008000" cy="863640"/>
          </a:xfrm>
          <a:prstGeom prst="su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468360" y="2997360"/>
            <a:ext cx="1008000" cy="8632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２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826920" y="3860640"/>
            <a:ext cx="1008360" cy="863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３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1260360" y="4724280"/>
            <a:ext cx="1008000" cy="86364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４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1692360" y="5661000"/>
            <a:ext cx="1008000" cy="863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</a:rPr>
              <a:t>５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900000" y="2189160"/>
            <a:ext cx="842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</a:rPr>
              <a:t>妈妈，您和托利亚都需要雨衣呀，为什么要给我呢？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266920" y="3016080"/>
            <a:ext cx="2954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</a:rPr>
              <a:t>看！这儿还有一朵野蔷薇呢！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98560" y="3808440"/>
            <a:ext cx="2954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</a:rPr>
              <a:t>这就是说，我是最弱小的了？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3275280" y="4672080"/>
            <a:ext cx="3167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</a:rPr>
              <a:t>妈妈，现在我还是最弱小的吗？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2627280" y="5589720"/>
            <a:ext cx="6372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</a:rPr>
              <a:t>不，不，你能保护更弱小的，你是勇敢的孩子啦！</a:t>
            </a:r>
            <a:r>
              <a:rPr b="1" lang="en-US" sz="28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10DC-C07B-477A-9105-DD61EC7E455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94200" y="-360"/>
            <a:ext cx="310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ff"/>
                </a:solidFill>
                <a:latin typeface="Arial"/>
                <a:ea typeface="方正舒体"/>
              </a:rPr>
              <a:t>摘白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X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515280"/>
            <a:ext cx="4572000" cy="342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950760" y="228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9548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0" y="1413000"/>
            <a:ext cx="2195640" cy="1511280"/>
          </a:xfrm>
          <a:prstGeom prst="cloudCallout">
            <a:avLst>
              <a:gd name="adj1" fmla="val -47254"/>
              <a:gd name="adj2" fmla="val 63023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弱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16" name="AutoShape 16"/>
          <p:cNvSpPr/>
          <p:nvPr/>
        </p:nvSpPr>
        <p:spPr>
          <a:xfrm rot="19814400">
            <a:off x="2484000" y="5157360"/>
            <a:ext cx="2376720" cy="1368360"/>
          </a:xfrm>
          <a:prstGeom prst="cloudCallout">
            <a:avLst>
              <a:gd name="adj1" fmla="val 19069"/>
              <a:gd name="adj2" fmla="val 48259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聊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4500720" y="1916280"/>
            <a:ext cx="2303280" cy="1653840"/>
          </a:xfrm>
          <a:prstGeom prst="cloudCallout">
            <a:avLst>
              <a:gd name="adj1" fmla="val 6166"/>
              <a:gd name="adj2" fmla="val 137333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随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18" name="Picture 19" descr="X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6515280"/>
            <a:ext cx="4572000" cy="3427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20"/>
          <p:cNvSpPr/>
          <p:nvPr/>
        </p:nvSpPr>
        <p:spPr>
          <a:xfrm rot="20367600">
            <a:off x="2195640" y="3284280"/>
            <a:ext cx="2412720" cy="1726920"/>
          </a:xfrm>
          <a:prstGeom prst="cloudCallout">
            <a:avLst>
              <a:gd name="adj1" fmla="val -41449"/>
              <a:gd name="adj2" fmla="val 36398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簇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6877080" y="907920"/>
            <a:ext cx="2016000" cy="1654200"/>
          </a:xfrm>
          <a:prstGeom prst="cloudCallout">
            <a:avLst>
              <a:gd name="adj1" fmla="val -55907"/>
              <a:gd name="adj2" fmla="val 109787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芬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4643280" y="189000"/>
            <a:ext cx="2195640" cy="1511280"/>
          </a:xfrm>
          <a:prstGeom prst="cloudCallout">
            <a:avLst>
              <a:gd name="adj1" fmla="val -47254"/>
              <a:gd name="adj2" fmla="val 125000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萨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0" y="3068640"/>
            <a:ext cx="2195640" cy="1511280"/>
          </a:xfrm>
          <a:prstGeom prst="cloudCallout">
            <a:avLst>
              <a:gd name="adj1" fmla="val -47254"/>
              <a:gd name="adj2" fmla="val 63023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铃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179280" y="4797360"/>
            <a:ext cx="2195640" cy="1511280"/>
          </a:xfrm>
          <a:prstGeom prst="cloudCallout">
            <a:avLst>
              <a:gd name="adj1" fmla="val -47254"/>
              <a:gd name="adj2" fmla="val 63023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芳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24" name="AutoShape 25"/>
          <p:cNvSpPr/>
          <p:nvPr/>
        </p:nvSpPr>
        <p:spPr>
          <a:xfrm>
            <a:off x="6948360" y="2924280"/>
            <a:ext cx="2195640" cy="1511280"/>
          </a:xfrm>
          <a:prstGeom prst="cloudCallout">
            <a:avLst>
              <a:gd name="adj1" fmla="val -47254"/>
              <a:gd name="adj2" fmla="val 63023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递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25" name="AutoShape 26"/>
          <p:cNvSpPr/>
          <p:nvPr/>
        </p:nvSpPr>
        <p:spPr>
          <a:xfrm rot="20740200">
            <a:off x="4716000" y="3860280"/>
            <a:ext cx="2195640" cy="1511640"/>
          </a:xfrm>
          <a:prstGeom prst="cloudCallout">
            <a:avLst>
              <a:gd name="adj1" fmla="val -58819"/>
              <a:gd name="adj2" fmla="val 114750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倾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2340000" y="1052640"/>
            <a:ext cx="2195640" cy="1511280"/>
          </a:xfrm>
          <a:prstGeom prst="cloudCallout">
            <a:avLst>
              <a:gd name="adj1" fmla="val -147254"/>
              <a:gd name="adj2" fmla="val 67750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娇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27" name="AutoShape 26"/>
          <p:cNvSpPr/>
          <p:nvPr/>
        </p:nvSpPr>
        <p:spPr>
          <a:xfrm>
            <a:off x="6659640" y="5084640"/>
            <a:ext cx="2195280" cy="1511280"/>
          </a:xfrm>
          <a:prstGeom prst="cloudCallout">
            <a:avLst>
              <a:gd name="adj1" fmla="val -88898"/>
              <a:gd name="adj2" fmla="val 41884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倾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089198948639_2"/>
          <p:cNvPicPr/>
          <p:nvPr/>
        </p:nvPicPr>
        <p:blipFill>
          <a:blip r:embed="rId1"/>
          <a:stretch/>
        </p:blipFill>
        <p:spPr>
          <a:xfrm>
            <a:off x="-1978200" y="-528480"/>
            <a:ext cx="11312640" cy="9434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143000" y="533520"/>
            <a:ext cx="8001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弱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小   周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末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起 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拥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嫩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给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托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利亚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萨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沙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铃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兰花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倾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盆大雨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芬芳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   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风舞动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聊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天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070"/>
          <p:cNvPicPr/>
          <p:nvPr/>
        </p:nvPicPr>
        <p:blipFill>
          <a:blip r:embed="rId1"/>
          <a:stretch/>
        </p:blipFill>
        <p:spPr>
          <a:xfrm>
            <a:off x="-212760" y="-339840"/>
            <a:ext cx="9356760" cy="7585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143000" y="1274760"/>
            <a:ext cx="1981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弱小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76720" y="1295280"/>
            <a:ext cx="16160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周末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791320" y="1219320"/>
            <a:ext cx="1761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拉萨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3657600"/>
            <a:ext cx="2987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托儿所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143000" y="2422440"/>
            <a:ext cx="1628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铃兰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203640" y="2422440"/>
            <a:ext cx="1749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花簇  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645080" y="2422440"/>
            <a:ext cx="2365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随时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156360" y="2427120"/>
            <a:ext cx="22255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芬芳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3130560" y="3645000"/>
            <a:ext cx="2279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聊天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714920" y="3645000"/>
            <a:ext cx="4048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倾盆大雨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800600" y="4952880"/>
            <a:ext cx="1905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递给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914400" y="4941720"/>
            <a:ext cx="1857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娇嫩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2895480" y="4952880"/>
            <a:ext cx="251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掀起</a:t>
            </a:r>
            <a:endParaRPr b="0" lang="en-US" sz="55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0"/>
            <a:ext cx="7848360" cy="647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萨沙不解地问：“妈妈，您和托利亚都需要雨衣，为什么要给我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萨沙又问：“这就是说，我是最弱小的了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萨沙掀起雨衣、轻轻地遮在蔷薇花上，问道：“妈妈，现在我还是最弱小的吗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背景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533520" y="228600"/>
            <a:ext cx="281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</a:rPr>
              <a:t>我会写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85800" y="1371600"/>
            <a:ext cx="3885840" cy="3885840"/>
            <a:chOff x="685800" y="1371600"/>
            <a:chExt cx="3885840" cy="3885840"/>
          </a:xfrm>
        </p:grpSpPr>
        <p:sp>
          <p:nvSpPr>
            <p:cNvPr id="149" name="Rectangle 5"/>
            <p:cNvSpPr/>
            <p:nvPr/>
          </p:nvSpPr>
          <p:spPr>
            <a:xfrm>
              <a:off x="68580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50" name="Line 6"/>
            <p:cNvSpPr/>
            <p:nvPr/>
          </p:nvSpPr>
          <p:spPr>
            <a:xfrm>
              <a:off x="2576160" y="1371600"/>
              <a:ext cx="0" cy="3885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>
              <a:off x="685800" y="3367080"/>
              <a:ext cx="3885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2" name="Group 8"/>
          <p:cNvGrpSpPr/>
          <p:nvPr/>
        </p:nvGrpSpPr>
        <p:grpSpPr>
          <a:xfrm>
            <a:off x="4876920" y="1371600"/>
            <a:ext cx="3885840" cy="3885840"/>
            <a:chOff x="4876920" y="1371600"/>
            <a:chExt cx="3885840" cy="3885840"/>
          </a:xfrm>
        </p:grpSpPr>
        <p:sp>
          <p:nvSpPr>
            <p:cNvPr id="153" name="Rectangle 9"/>
            <p:cNvSpPr/>
            <p:nvPr/>
          </p:nvSpPr>
          <p:spPr>
            <a:xfrm>
              <a:off x="487692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6767280" y="1371600"/>
              <a:ext cx="0" cy="3885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4876920" y="3367080"/>
              <a:ext cx="3885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156" name="Text Box 12"/>
          <p:cNvSpPr/>
          <p:nvPr/>
        </p:nvSpPr>
        <p:spPr>
          <a:xfrm>
            <a:off x="1405080" y="121932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</a:rPr>
              <a:t>扑</a:t>
            </a:r>
            <a:endParaRPr b="0" lang="en-US" sz="25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5672160" y="1143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</a:rPr>
              <a:t>托</a:t>
            </a:r>
            <a:endParaRPr b="0" lang="en-US" sz="25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8392680" y="6338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59" name="轻音乐 - 高山流水 - 中国十大名曲 古筝 古筝曲.mp3" descr=""/>
          <p:cNvPicPr/>
          <p:nvPr/>
        </p:nvPicPr>
        <p:blipFill>
          <a:blip r:embed="rId2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209847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背景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228600"/>
            <a:ext cx="281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</a:rPr>
              <a:t>我会写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685800" y="1371600"/>
            <a:ext cx="3885840" cy="3885840"/>
            <a:chOff x="685800" y="1371600"/>
            <a:chExt cx="3885840" cy="3885840"/>
          </a:xfrm>
        </p:grpSpPr>
        <p:sp>
          <p:nvSpPr>
            <p:cNvPr id="163" name="Rectangle 5"/>
            <p:cNvSpPr/>
            <p:nvPr/>
          </p:nvSpPr>
          <p:spPr>
            <a:xfrm>
              <a:off x="68580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2576160" y="1371600"/>
              <a:ext cx="0" cy="3885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685800" y="3367080"/>
              <a:ext cx="3885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6" name="Group 8"/>
          <p:cNvGrpSpPr/>
          <p:nvPr/>
        </p:nvGrpSpPr>
        <p:grpSpPr>
          <a:xfrm>
            <a:off x="4876920" y="1371600"/>
            <a:ext cx="3885840" cy="3885840"/>
            <a:chOff x="4876920" y="1371600"/>
            <a:chExt cx="3885840" cy="3885840"/>
          </a:xfrm>
        </p:grpSpPr>
        <p:sp>
          <p:nvSpPr>
            <p:cNvPr id="167" name="Rectangle 9"/>
            <p:cNvSpPr/>
            <p:nvPr/>
          </p:nvSpPr>
          <p:spPr>
            <a:xfrm>
              <a:off x="4876920" y="1371600"/>
              <a:ext cx="3885840" cy="388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>
              <a:off x="6767280" y="1371600"/>
              <a:ext cx="0" cy="3885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4876920" y="3367080"/>
              <a:ext cx="3885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170" name="Text Box 12"/>
          <p:cNvSpPr/>
          <p:nvPr/>
        </p:nvSpPr>
        <p:spPr>
          <a:xfrm>
            <a:off x="1405080" y="121932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</a:rPr>
              <a:t>扑</a:t>
            </a:r>
            <a:endParaRPr b="0" lang="en-US" sz="25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672160" y="114300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</a:rPr>
              <a:t>摸</a:t>
            </a:r>
            <a:endParaRPr b="0" lang="en-US" sz="25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392680" y="6338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73" name="轻音乐 - 高山流水 - 中国十大名曲 古筝 古筝曲.mp3" descr=""/>
          <p:cNvPicPr/>
          <p:nvPr/>
        </p:nvPicPr>
        <p:blipFill>
          <a:blip r:embed="rId2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209847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16:38Z</dcterms:modified>
  <cp:revision>1</cp:revision>
  <dc:subject/>
  <dc:title>幻灯片 1</dc:title>
</cp:coreProperties>
</file>