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07C-F837-4C53-9330-AAB037F890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0BC-2170-417D-AF70-15064F3489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AA3-69A2-40E5-9138-0F864B98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2CB-466A-4FE5-BD10-636FF4A4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5F7-CF11-48E9-9FD8-5D71160C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4AE-EEFA-45E8-8136-A6A5FEE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DC5-29DB-4540-AB31-4D93ADB3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B5E-100A-45A3-8BEA-1EB08F2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2AD-7440-4872-9C97-54017AC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3C9-740F-41EE-98D8-7EA0562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7F4-9189-4659-B472-016F8B3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4EB-ED04-4402-8336-5DCE9DF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7E3-9AEC-4382-B280-2377A7F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926-BD1B-4DD2-9A65-7465D26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E13-6346-4674-80C5-5BBFAA4DC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5228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28600" y="219384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我不是最弱小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297000"/>
            <a:ext cx="127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00772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萨沙有满脑子的疑问，满肚子的不服，谁做妈妈回答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每个人都要保护比自己弱小的人。  指名读。你读懂妈妈的意思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这是妈妈在诉说她的心声，也是在教育自己的儿子呀！这句话包含了妈妈多少的慈爱与希望呀！谁来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③面对萨沙的不服气，妈妈又是怎么说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要是你谁也保护不了，那你不就是最弱小的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妈妈的意思换句说法就是？这是妈妈对萨沙的鼓励也是激励啊！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萨沙在妈妈眼中是弱小的，萨沙同意吗？如果你是萨沙，你心里有什么想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过渡：萨沙人小心不小，他可不想做弱小者，他要证明自己的能力。他做到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让我们看这句话，谁来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现在我该不是最弱小的了吧，妈妈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此时的萨沙心里充满了什么？（骄傲、自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过渡：萨沙那么骄傲，那么自豪，因为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萨沙朝着蔷薇丛走去。他掀起雨衣，盖在粉红的蔷薇花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他真了不起！他找到了比他弱小的蔷薇花。他只是一个五小男孩呀，可他拥有了一双善于发现弱小的眼睛，拥有了一颗勇敢保护弱小的心灵。看着这一幕，我的心里不由地升腾起一股敬佩。你们呢？老师给这句话加进去了一些词，我们再来读一读。萨沙（自豪地）朝着蔷薇丛走去。他（高兴地）掀起雨衣，（小心翼翼地）盖在粉红的蔷薇花上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让我们一齐赞一赞这可敬可爱的小男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同学们，学了课文，你有什么想说的吗？保护弱小 不甘弱小（音乐响起 让世界充满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是啊，在我们周围有许多弱小的人和事物，也有许多有困难的人，它们都需要我们的帮助，所以请你伸出你的双手，用你的一颗爱心去关心他们，呵护他们，同时也希望你们不甘弱小，做生活的强者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938240" y="6126120"/>
            <a:ext cx="61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①相信文章中的萨沙一定给你留下了深刻的印象，请以“萨沙，我想对你说”为题写一段话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②谁是最弱小的呢？你们有过这样的感受或者是碰到过这样的场景吗？请以“最弱小者的呼唤”为主题写一篇短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500-6385-4039-960F-040E2DE408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71600" y="762120"/>
            <a:ext cx="73152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苏霍姆林斯基是苏联著名的教育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的作品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给老师的一百条建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学生的精神世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把心灵献给儿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91960" y="53352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z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267080" y="609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Liáo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rot="21166800">
            <a:off x="5905440" y="383040"/>
            <a:ext cx="11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cù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114800" y="19051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34120" y="2057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553080" y="21337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Qīng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191120" y="35812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iā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715000" y="37339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iāo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162920" y="3733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í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6"/>
          <p:cNvPicPr/>
          <p:nvPr/>
        </p:nvPicPr>
        <p:blipFill>
          <a:blip r:embed="rId1"/>
          <a:stretch/>
        </p:blipFill>
        <p:spPr>
          <a:xfrm>
            <a:off x="228600" y="144792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648320" y="152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48320" y="1600200"/>
            <a:ext cx="4343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夏天的一个周末，五岁的萨沙和哥哥托利亚，跟父母一起到森林中去玩。森林里的景色是那么美好，空气是那么清新。他们来到森林的一片空地。那里盛开着美丽的铃兰花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3520" y="4724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看！这儿还有一朵野蔷薇呢！”大家被萨沙的叫声吸引过来。原来有一丛野蔷薇，被铃兰花拥着，开出了第  一朵粉红色的花。带着露珠的花朵随 风舞动，芬芳扑鼻。一家人坐在野蔷薇旁边，聊起天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67652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课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我不是最弱小的.mp3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708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4876920" cy="3386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z4"/>
          <p:cNvPicPr/>
          <p:nvPr/>
        </p:nvPicPr>
        <p:blipFill>
          <a:blip r:embed="rId2"/>
          <a:stretch/>
        </p:blipFill>
        <p:spPr>
          <a:xfrm>
            <a:off x="4114800" y="3371760"/>
            <a:ext cx="5029200" cy="34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029200" y="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突然，雷声大作，天上飘下几滴雨点，紧接着，下起了倾盆大雨。妈妈赶紧从背包里拿出雨衣递给身边的托利亚，托利亚又把雨衣给了萨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36576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不解的问：“妈妈，你和托利亚都需要雨衣呀，为什么要给我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妈妈回答说：“我们应该保护比自己弱小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又问：“这就是说我是最弱小的了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9"/>
          <p:cNvSpPr/>
          <p:nvPr/>
        </p:nvSpPr>
        <p:spPr>
          <a:xfrm>
            <a:off x="2590920" y="28954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z5"/>
          <p:cNvPicPr/>
          <p:nvPr/>
        </p:nvPicPr>
        <p:blipFill>
          <a:blip r:embed="rId1"/>
          <a:stretch/>
        </p:blipFill>
        <p:spPr>
          <a:xfrm>
            <a:off x="-27000" y="152280"/>
            <a:ext cx="4267080" cy="3345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340160" y="54612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是你谁也保护不了，那你就是最弱小的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说着摸了摸萨沙的脑袋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77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朝蔷薇花丛走去。大雨已经打掉了两片蔷薇花瓣，花儿无力的垂这头，显得更加娇嫩。萨沙掀起雨衣，轻轻的遮在蔷薇花上，问道：“妈妈，现在我还是最弱小的吗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08120" y="5326200"/>
            <a:ext cx="706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8580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妈妈笑着说：“不，不，你能保护更弱小的，你是勇敢的孩子啦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堂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妈妈把雨衣给了托利亚，托利亚接过雨衣，把它给了萨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妈妈赶忙把雨衣给了托利亚，托利亚接过雨衣没有穿，却把它给了萨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▲、读读这两句话，你发现了什么？（多了三个词） 　你读得很仔细。可仅仅是多了三个词吗？用心读一读，还多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多了关爱：①妈妈赶忙把雨衣给了托利亚，看妈妈对托利亚是多么体贴入微，这是多么伟大的母爱！②而托利亚把雨衣给了萨沙，这是平凡而又伟大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让我们带着这种爱的感觉读读这段话。齐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妈妈赶紧从背包里拿出雨衣递给生身边的托利亚，托利亚又把雨衣递给了萨沙。（板书）一件雨衣就这样你传我，我传你，传递着浓浓的爱意，传递着浓浓的亲情。这一幕深深地打动了我，也打动了你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让我们带着这份感动好好读一读。齐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在暴风雨中，妈妈首先想到的是比自己弱小的人，他们用自己的行动，告诉萨沙要保护弱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844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此时无声胜有声。一件雨衣你让给我，我让给你，那是一片片浓浓的亲情，一句句无声的教育。父母的心意你们明白了吗？萨沙明白了吗？让我们一起来聆听这段雨中的对话吧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“妈妈，你和托利亚都需要雨衣呀，为什么要给我呢？”“这就是说我是最弱小的了？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两个都是问句，该怎么读呢？第一句指名读。你读懂了什么？第二句指名读，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第一句：疑问、不明白。    第二句：不服气，不愿意；思考，思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08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03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