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4.png" ContentType="image/png"/>
  <Override PartName="/ppt/media/image21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22.gif" ContentType="image/gif"/>
  <Override PartName="/ppt/media/image25.gif" ContentType="image/gif"/>
  <Override PartName="/ppt/media/image18.png" ContentType="image/png"/>
  <Override PartName="/ppt/media/image6.jpeg" ContentType="image/jpeg"/>
  <Override PartName="/ppt/media/image33.gif" ContentType="image/gif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click.wav" ContentType="audio/x-wav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3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631B-D06D-4C84-8783-DA36B196DE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1F22-7907-478B-9167-60CBAC12F5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209-E584-43DD-9CE7-23CDE7A7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FF5-CA5F-4368-A802-B89C5277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0E0-64A1-483F-9325-D004A766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18B-DE12-447D-B4AC-549442B9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6301-7335-4323-9415-B33E4C7C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13F0-6DB9-4A9C-B444-CFC3E774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9B7C-CDD8-4B60-BE4D-FFEAEF3D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20D7-797E-4E47-9199-626FF221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BA1E-E864-41C1-9359-3B3285CC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D109-4958-4F16-B7F4-4B9D379F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1622-202B-414B-9926-19BCC62F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4C9-BB37-4708-8DB5-7A404667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26DC-BCEB-4A40-A3C0-2F33E2FA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C9CF-C7B4-44CE-9B3E-07285417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3C87-E498-464B-BE29-6ED8BC19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7BD5-0854-43E9-8E05-19FEE38F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A1D6-F52D-4A4D-8395-D7C518C8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6F76-B859-44A7-9421-D3F76275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9198E-B69A-4031-8014-A7DF92FD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B84A-9756-4AB3-8D3A-221F6A22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1047-5FA2-442F-A5E1-77FB2857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844B-C520-4D4F-93DA-A119AB51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980-751A-4EBC-BA7B-AD8FA4E4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81CF7-D6EE-492A-A635-41C6AA4F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DC694-1B8B-4385-B346-D85F0661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A1EC-F39B-46C6-88DF-CE8008EB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08C1F-85D0-41EE-934E-C70C2C4F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F518-9CD5-440F-812A-932AF5F0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8816-5FD1-432E-ABAF-0640B01C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16B8-C5F9-4A36-B66D-120697D4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750-4C06-4C14-B480-51CDA6DA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CCF-12C2-4E37-A844-8DF2A6A3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97F-74E4-4193-ACD9-42ADDBE5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221-D2A0-4645-B638-CF9C5A22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9BC-8FDA-4084-B1EF-B433EE6A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118-9099-4F0E-90F7-C16EFDBB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59E3-4618-4713-96E8-87CFAE4841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EC7B-4997-4DDC-8C55-9ACCEA99A2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90B6-1F7D-4F59-8508-D36F9CA9CF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.xm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baike.baidu.com/view/1096998.htm" TargetMode="External"/><Relationship Id="rId3" Type="http://schemas.openxmlformats.org/officeDocument/2006/relationships/hyperlink" Target="http://baike.baidu.com/view/793353.ht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295280" y="2239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Impact"/>
                <a:ea typeface="幼圆"/>
              </a:rPr>
              <a:t>我不是最弱小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1902960" y="5229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4416480" y="1398600"/>
            <a:ext cx="311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Shenwu_QiangWei_015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422120" y="600696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蔷薇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931840" y="1268280"/>
            <a:ext cx="3228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读课文第一、二自然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108000" y="2781360"/>
            <a:ext cx="9036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思考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森林美吗？从哪些句子中可以看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他们发现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野蔷薇美吗？从哪些句子可以看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179280" y="836640"/>
            <a:ext cx="889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夏天的一个周末，五岁的萨沙和哥哥托利亚，跟父母一起到森林中去玩。森林里的景色是那么美好，空气是那么清新。他们来到林中的一片空地。那里盛开着美丽的铃兰花。</a:t>
            </a:r>
            <a:br>
              <a:rPr sz="3200"/>
            </a:b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　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看！这儿还有一朵野蔷薇呢！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大家被萨沙的叫声吸引过来。原来有一丛野蔷薇，被铃兰花簇拥着，开出了第一朵粉红色的花。带着露珠的花朵随风舞动，芬芳扑鼻。一家人坐在野蔷薇旁边，聊起天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8101080" y="5229360"/>
            <a:ext cx="538200" cy="61092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610920"/>
              <a:gd name="textAreaBottom" fmla="*/ 576360 h 610920"/>
            </a:gdLst>
            <a:ahLst/>
            <a:rect l="textAreaLeft" t="textAreaTop" r="textAreaRight" b="textAreaBottom"/>
            <a:pathLst>
              <a:path w="21600" h="24517">
                <a:moveTo>
                  <a:pt x="0" y="0"/>
                </a:moveTo>
                <a:lnTo>
                  <a:pt x="21600" y="0"/>
                </a:lnTo>
                <a:lnTo>
                  <a:pt x="21600" y="24517"/>
                </a:lnTo>
                <a:lnTo>
                  <a:pt x="0" y="24517"/>
                </a:lnTo>
                <a:close/>
              </a:path>
              <a:path fill="lightenLess" w="21600" h="245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17">
                <a:moveTo>
                  <a:pt x="21600" y="0"/>
                </a:moveTo>
                <a:lnTo>
                  <a:pt x="21600" y="24517"/>
                </a:lnTo>
                <a:lnTo>
                  <a:pt x="20200" y="23117"/>
                </a:lnTo>
                <a:lnTo>
                  <a:pt x="20200" y="1400"/>
                </a:lnTo>
                <a:close/>
              </a:path>
              <a:path fill="darkenLess" w="21600" h="24517">
                <a:moveTo>
                  <a:pt x="21600" y="24517"/>
                </a:moveTo>
                <a:lnTo>
                  <a:pt x="0" y="24517"/>
                </a:lnTo>
                <a:lnTo>
                  <a:pt x="1400" y="23117"/>
                </a:lnTo>
                <a:lnTo>
                  <a:pt x="20200" y="23117"/>
                </a:lnTo>
                <a:close/>
              </a:path>
              <a:path fill="lighten" w="21600" h="24517">
                <a:moveTo>
                  <a:pt x="0" y="245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17"/>
                </a:lnTo>
                <a:close/>
              </a:path>
              <a:path fill="darken" w="21600" h="24517">
                <a:moveTo>
                  <a:pt x="3794" y="9865"/>
                </a:moveTo>
                <a:lnTo>
                  <a:pt x="8224" y="9865"/>
                </a:lnTo>
                <a:lnTo>
                  <a:pt x="12645" y="5252"/>
                </a:lnTo>
                <a:lnTo>
                  <a:pt x="12645" y="19265"/>
                </a:lnTo>
                <a:lnTo>
                  <a:pt x="8224" y="14652"/>
                </a:lnTo>
                <a:lnTo>
                  <a:pt x="3794" y="14652"/>
                </a:lnTo>
                <a:close/>
              </a:path>
              <a:path fill="darken" w="21600" h="24517">
                <a:moveTo>
                  <a:pt x="14299" y="12258"/>
                </a:moveTo>
                <a:lnTo>
                  <a:pt x="17806" y="12258"/>
                </a:lnTo>
              </a:path>
              <a:path fill="darken" w="21600" h="24517">
                <a:moveTo>
                  <a:pt x="14299" y="9865"/>
                </a:moveTo>
                <a:lnTo>
                  <a:pt x="17806" y="7097"/>
                </a:lnTo>
              </a:path>
              <a:path fill="darken" w="21600" h="24517">
                <a:moveTo>
                  <a:pt x="14299" y="14652"/>
                </a:moveTo>
                <a:lnTo>
                  <a:pt x="17806" y="1742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2124000" y="155736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原来有一丛野蔷薇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被铃兰花簇拥着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开出了第一朵粉红色的花。带着露珠的花朵随风舞动，芬芳扑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>
            <a:hlinkClick r:id="rId2" action="ppaction://hlinksldjump"/>
          </p:cNvPr>
          <p:cNvSpPr/>
          <p:nvPr/>
        </p:nvSpPr>
        <p:spPr>
          <a:xfrm>
            <a:off x="30481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838080" y="39625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900000" y="4365720"/>
            <a:ext cx="7488360" cy="1008000"/>
            <a:chOff x="900000" y="4365720"/>
            <a:chExt cx="7488360" cy="1008000"/>
          </a:xfrm>
        </p:grpSpPr>
        <p:grpSp>
          <p:nvGrpSpPr>
            <p:cNvPr id="239" name="Group 5"/>
            <p:cNvGrpSpPr/>
            <p:nvPr/>
          </p:nvGrpSpPr>
          <p:grpSpPr>
            <a:xfrm>
              <a:off x="900000" y="4365720"/>
              <a:ext cx="7488360" cy="1008000"/>
              <a:chOff x="900000" y="4365720"/>
              <a:chExt cx="7488360" cy="1008000"/>
            </a:xfrm>
          </p:grpSpPr>
          <p:sp>
            <p:nvSpPr>
              <p:cNvPr id="240" name="Rectangle 6"/>
              <p:cNvSpPr/>
              <p:nvPr/>
            </p:nvSpPr>
            <p:spPr>
              <a:xfrm>
                <a:off x="900000" y="4365720"/>
                <a:ext cx="7488360" cy="1008000"/>
              </a:xfrm>
              <a:prstGeom prst="rect">
                <a:avLst/>
              </a:prstGeom>
              <a:solidFill>
                <a:srgbClr val="ccff99">
                  <a:alpha val="4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Text Box 7"/>
              <p:cNvSpPr/>
              <p:nvPr/>
            </p:nvSpPr>
            <p:spPr>
              <a:xfrm>
                <a:off x="971280" y="4437000"/>
                <a:ext cx="7345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6600"/>
                    </a:solidFill>
                    <a:latin typeface="Times New Roman"/>
                    <a:ea typeface="黑体"/>
                  </a:rPr>
                  <a:t>这是一株                 的野蔷薇。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Line 8"/>
            <p:cNvSpPr/>
            <p:nvPr/>
          </p:nvSpPr>
          <p:spPr>
            <a:xfrm>
              <a:off x="3565440" y="5013360"/>
              <a:ext cx="1728720" cy="0"/>
            </a:xfrm>
            <a:prstGeom prst="line">
              <a:avLst/>
            </a:prstGeom>
            <a:ln w="2844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9"/>
          <p:cNvSpPr/>
          <p:nvPr/>
        </p:nvSpPr>
        <p:spPr>
          <a:xfrm>
            <a:off x="684360" y="1341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原来有一丛野蔷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被铃兰花簇拥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开出了第一朵粉红色的花。带着露珠的花朵随风舞动，芬芳扑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10">
            <a:hlinkClick r:id="rId2" action="ppaction://hlinksldjump"/>
          </p:cNvPr>
          <p:cNvSpPr/>
          <p:nvPr/>
        </p:nvSpPr>
        <p:spPr>
          <a:xfrm>
            <a:off x="8229600" y="6248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蔷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3">
            <a:hlinkClick r:id="rId2" action="ppaction://hlinksldjump"/>
          </p:cNvPr>
          <p:cNvSpPr/>
          <p:nvPr/>
        </p:nvSpPr>
        <p:spPr>
          <a:xfrm>
            <a:off x="8229600" y="6248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2438280" y="129528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原来有一丛野蔷薇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被铃兰花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簇拥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着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开出了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第一朵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粉红色的花。带着露珠的花朵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随风舞动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芬芳扑鼻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>
            <a:hlinkClick r:id="rId2" action="ppaction://hlinksldjump"/>
          </p:cNvPr>
          <p:cNvSpPr/>
          <p:nvPr/>
        </p:nvSpPr>
        <p:spPr>
          <a:xfrm>
            <a:off x="30481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5" descr="gwenjia,200504306958"/>
          <p:cNvPicPr/>
          <p:nvPr/>
        </p:nvPicPr>
        <p:blipFill>
          <a:blip r:embed="rId3"/>
          <a:stretch/>
        </p:blipFill>
        <p:spPr>
          <a:xfrm>
            <a:off x="0" y="2743200"/>
            <a:ext cx="2514600" cy="4114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蔷薇"/>
          <p:cNvPicPr/>
          <p:nvPr/>
        </p:nvPicPr>
        <p:blipFill>
          <a:blip r:embed="rId4"/>
          <a:stretch/>
        </p:blipFill>
        <p:spPr>
          <a:xfrm>
            <a:off x="5796000" y="4525920"/>
            <a:ext cx="3348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水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"/>
          <p:cNvSpPr/>
          <p:nvPr/>
        </p:nvSpPr>
        <p:spPr>
          <a:xfrm>
            <a:off x="1042920" y="1341360"/>
            <a:ext cx="810108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自由读读第三自然段，说说你知道了些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dh013"/>
          <p:cNvPicPr/>
          <p:nvPr/>
        </p:nvPicPr>
        <p:blipFill>
          <a:blip r:embed="rId2"/>
          <a:stretch/>
        </p:blipFill>
        <p:spPr>
          <a:xfrm>
            <a:off x="826920" y="1341360"/>
            <a:ext cx="1187640" cy="1040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dh013"/>
          <p:cNvPicPr/>
          <p:nvPr/>
        </p:nvPicPr>
        <p:blipFill>
          <a:blip r:embed="rId3"/>
          <a:stretch/>
        </p:blipFill>
        <p:spPr>
          <a:xfrm>
            <a:off x="1116000" y="3645000"/>
            <a:ext cx="1187640" cy="10396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1403280" y="37893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你还有不明白的地方吗？说说看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" descr="闪电2"/>
          <p:cNvPicPr/>
          <p:nvPr/>
        </p:nvPicPr>
        <p:blipFill>
          <a:blip r:embed="rId1"/>
          <a:stretch/>
        </p:blipFill>
        <p:spPr>
          <a:xfrm>
            <a:off x="2646360" y="333360"/>
            <a:ext cx="4803840" cy="66675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5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222360" y="5950080"/>
            <a:ext cx="237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突然，雷声大作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雷声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  <p:sndAc>
      <p:stSnd>
        <p:snd r:embed="rId3" name="chimes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5596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174330995863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4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0" y="5300640"/>
            <a:ext cx="766764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上飘下几滴雨点，紧接着，下起了倾盆大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雨声.mp3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68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12307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174330995863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2004711112093"/>
          <p:cNvPicPr/>
          <p:nvPr/>
        </p:nvPicPr>
        <p:blipFill>
          <a:blip r:embed="rId2"/>
          <a:stretch/>
        </p:blipFill>
        <p:spPr>
          <a:xfrm rot="5808600">
            <a:off x="2021760" y="3167640"/>
            <a:ext cx="4292640" cy="30844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250920" y="555156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雨已经打掉了两片蔷薇花瓣，花儿无力地垂着头，显得更加娇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aaaa"/>
          <p:cNvPicPr/>
          <p:nvPr/>
        </p:nvPicPr>
        <p:blipFill>
          <a:blip r:embed="rId3"/>
          <a:stretch/>
        </p:blipFill>
        <p:spPr>
          <a:xfrm rot="20773800">
            <a:off x="3482640" y="4626000"/>
            <a:ext cx="608040" cy="647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aaaa"/>
          <p:cNvPicPr/>
          <p:nvPr/>
        </p:nvPicPr>
        <p:blipFill>
          <a:blip r:embed="rId4"/>
          <a:stretch/>
        </p:blipFill>
        <p:spPr>
          <a:xfrm rot="2007000">
            <a:off x="4979520" y="5084280"/>
            <a:ext cx="612720" cy="532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kuang%20(33)"/>
          <p:cNvPicPr/>
          <p:nvPr/>
        </p:nvPicPr>
        <p:blipFill>
          <a:blip r:embed="rId1"/>
          <a:stretch/>
        </p:blipFill>
        <p:spPr>
          <a:xfrm>
            <a:off x="1440" y="0"/>
            <a:ext cx="91458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517680" y="7794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周</a:t>
            </a: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411280" y="78120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铃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兰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003640" y="765000"/>
            <a:ext cx="17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簇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75640" y="851040"/>
            <a:ext cx="173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芬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627280" y="213372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递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39640" y="2205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003640" y="2133720"/>
            <a:ext cx="17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娇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875640" y="2222640"/>
            <a:ext cx="173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掀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116000" y="400536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随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风舞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076720" y="4076640"/>
            <a:ext cx="32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倾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盆大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2133720" y="19051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大雨已经打掉了两片蔷薇花瓣，花儿无力地垂着头，显得更加娇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">
            <a:hlinkClick r:id="rId2" action="ppaction://hlinksldjump"/>
          </p:cNvPr>
          <p:cNvSpPr/>
          <p:nvPr/>
        </p:nvSpPr>
        <p:spPr>
          <a:xfrm>
            <a:off x="8229600" y="6248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蔷薇1"/>
          <p:cNvPicPr/>
          <p:nvPr/>
        </p:nvPicPr>
        <p:blipFill>
          <a:blip r:embed="rId1"/>
          <a:stretch/>
        </p:blipFill>
        <p:spPr>
          <a:xfrm>
            <a:off x="1403280" y="333360"/>
            <a:ext cx="5904000" cy="4464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539640" y="494172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  </a:t>
            </a:r>
            <a:r>
              <a:rPr b="1" lang="zh-CN" sz="4800" spc="-1" strike="noStrike">
                <a:solidFill>
                  <a:srgbClr val="990099"/>
                </a:solidFill>
                <a:latin typeface="Times New Roman"/>
                <a:ea typeface="黑体"/>
              </a:rPr>
              <a:t>花儿无力地垂着头，好像在说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">
            <a:hlinkClick r:id="rId2" action="ppaction://hlinksldjump"/>
          </p:cNvPr>
          <p:cNvSpPr/>
          <p:nvPr/>
        </p:nvSpPr>
        <p:spPr>
          <a:xfrm>
            <a:off x="7740720" y="630864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10800"/>
                </a:moveTo>
                <a:lnTo>
                  <a:pt x="25012" y="3794"/>
                </a:lnTo>
                <a:lnTo>
                  <a:pt x="2501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T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468360" y="5589720"/>
            <a:ext cx="8280360" cy="69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看图，从中你看到什么？为什么只有萨沙一个人穿着雨衣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我不是"/>
          <p:cNvPicPr/>
          <p:nvPr/>
        </p:nvPicPr>
        <p:blipFill>
          <a:blip r:embed="rId1"/>
          <a:stretch/>
        </p:blipFill>
        <p:spPr>
          <a:xfrm>
            <a:off x="0" y="-5865840"/>
            <a:ext cx="9102600" cy="127238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妈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赶紧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从背包里拿出雨衣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递给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身边的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托利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，托利亚又把雨衣给了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萨沙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我不是"/>
          <p:cNvPicPr/>
          <p:nvPr/>
        </p:nvPicPr>
        <p:blipFill>
          <a:blip r:embed="rId1"/>
          <a:stretch/>
        </p:blipFill>
        <p:spPr>
          <a:xfrm>
            <a:off x="0" y="-5865840"/>
            <a:ext cx="9102600" cy="127238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萨沙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掀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起雨衣，轻轻地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遮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在蔷薇花上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水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"/>
          <p:cNvSpPr/>
          <p:nvPr/>
        </p:nvSpPr>
        <p:spPr>
          <a:xfrm>
            <a:off x="2427120" y="1413000"/>
            <a:ext cx="3228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读课文第四到九自然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913920" y="3429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萨沙一共提了几个问题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552480" y="4797360"/>
            <a:ext cx="587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（看下图读一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6964560" y="936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T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2050920" y="4797360"/>
            <a:ext cx="4968720" cy="2060640"/>
            <a:chOff x="2050920" y="4797360"/>
            <a:chExt cx="4968720" cy="2060640"/>
          </a:xfrm>
        </p:grpSpPr>
        <p:sp>
          <p:nvSpPr>
            <p:cNvPr id="293" name="AutoShape 5"/>
            <p:cNvSpPr/>
            <p:nvPr/>
          </p:nvSpPr>
          <p:spPr>
            <a:xfrm>
              <a:off x="2050920" y="4797360"/>
              <a:ext cx="4968720" cy="2060640"/>
            </a:xfrm>
            <a:prstGeom prst="cloudCallout">
              <a:avLst>
                <a:gd name="adj1" fmla="val 7254"/>
                <a:gd name="adj2" fmla="val -10824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681280" y="4998960"/>
              <a:ext cx="405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妈妈，你和托利亚都需要雨衣呀，为什么要给我呢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7"/>
          <p:cNvGrpSpPr/>
          <p:nvPr/>
        </p:nvGrpSpPr>
        <p:grpSpPr>
          <a:xfrm>
            <a:off x="4643280" y="907920"/>
            <a:ext cx="4105440" cy="1295280"/>
            <a:chOff x="4643280" y="907920"/>
            <a:chExt cx="4105440" cy="1295280"/>
          </a:xfrm>
        </p:grpSpPr>
        <p:sp>
          <p:nvSpPr>
            <p:cNvPr id="296" name="AutoShape 8"/>
            <p:cNvSpPr/>
            <p:nvPr/>
          </p:nvSpPr>
          <p:spPr>
            <a:xfrm>
              <a:off x="4643280" y="907920"/>
              <a:ext cx="4105440" cy="1295280"/>
            </a:xfrm>
            <a:prstGeom prst="cloudCallout">
              <a:avLst>
                <a:gd name="adj1" fmla="val -63185"/>
                <a:gd name="adj2" fmla="val 67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4913280" y="947520"/>
              <a:ext cx="383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们应该保护比自己弱小的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Rectangle 10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T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4"/>
          <p:cNvGrpSpPr/>
          <p:nvPr/>
        </p:nvGrpSpPr>
        <p:grpSpPr>
          <a:xfrm>
            <a:off x="2411280" y="4797360"/>
            <a:ext cx="4608360" cy="1511280"/>
            <a:chOff x="2411280" y="4797360"/>
            <a:chExt cx="4608360" cy="1511280"/>
          </a:xfrm>
        </p:grpSpPr>
        <p:sp>
          <p:nvSpPr>
            <p:cNvPr id="301" name="AutoShape 5"/>
            <p:cNvSpPr/>
            <p:nvPr/>
          </p:nvSpPr>
          <p:spPr>
            <a:xfrm>
              <a:off x="2411280" y="4797360"/>
              <a:ext cx="4608360" cy="1511280"/>
            </a:xfrm>
            <a:prstGeom prst="cloudCallout">
              <a:avLst>
                <a:gd name="adj1" fmla="val 3912"/>
                <a:gd name="adj2" fmla="val -1293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6"/>
            <p:cNvSpPr/>
            <p:nvPr/>
          </p:nvSpPr>
          <p:spPr>
            <a:xfrm>
              <a:off x="2700360" y="4941720"/>
              <a:ext cx="405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这就是说，我是最弱小的了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7"/>
          <p:cNvGrpSpPr/>
          <p:nvPr/>
        </p:nvGrpSpPr>
        <p:grpSpPr>
          <a:xfrm>
            <a:off x="4500720" y="836640"/>
            <a:ext cx="4248000" cy="1944720"/>
            <a:chOff x="4500720" y="836640"/>
            <a:chExt cx="4248000" cy="1944720"/>
          </a:xfrm>
        </p:grpSpPr>
        <p:sp>
          <p:nvSpPr>
            <p:cNvPr id="304" name="AutoShape 8"/>
            <p:cNvSpPr/>
            <p:nvPr/>
          </p:nvSpPr>
          <p:spPr>
            <a:xfrm>
              <a:off x="4500720" y="836640"/>
              <a:ext cx="4248000" cy="1944720"/>
            </a:xfrm>
            <a:prstGeom prst="cloudCallout">
              <a:avLst>
                <a:gd name="adj1" fmla="val -64388"/>
                <a:gd name="adj2" fmla="val 317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4913640" y="947880"/>
              <a:ext cx="383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要是你谁也保护不了，那你就是最弱小的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Rectangle 10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T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4"/>
          <p:cNvGrpSpPr/>
          <p:nvPr/>
        </p:nvGrpSpPr>
        <p:grpSpPr>
          <a:xfrm>
            <a:off x="2484360" y="4797360"/>
            <a:ext cx="4248000" cy="1655640"/>
            <a:chOff x="2484360" y="4797360"/>
            <a:chExt cx="4248000" cy="1655640"/>
          </a:xfrm>
        </p:grpSpPr>
        <p:sp>
          <p:nvSpPr>
            <p:cNvPr id="309" name="AutoShape 5"/>
            <p:cNvSpPr/>
            <p:nvPr/>
          </p:nvSpPr>
          <p:spPr>
            <a:xfrm>
              <a:off x="2484360" y="4797360"/>
              <a:ext cx="4248000" cy="1655640"/>
            </a:xfrm>
            <a:prstGeom prst="cloudCallout">
              <a:avLst>
                <a:gd name="adj1" fmla="val 7472"/>
                <a:gd name="adj2" fmla="val -1031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2681280" y="4998960"/>
              <a:ext cx="405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妈妈，现在我还是最弱小的吗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7"/>
          <p:cNvGrpSpPr/>
          <p:nvPr/>
        </p:nvGrpSpPr>
        <p:grpSpPr>
          <a:xfrm>
            <a:off x="4643280" y="765000"/>
            <a:ext cx="4105440" cy="2087640"/>
            <a:chOff x="4643280" y="765000"/>
            <a:chExt cx="4105440" cy="2087640"/>
          </a:xfrm>
        </p:grpSpPr>
        <p:sp>
          <p:nvSpPr>
            <p:cNvPr id="312" name="AutoShape 8"/>
            <p:cNvSpPr/>
            <p:nvPr/>
          </p:nvSpPr>
          <p:spPr>
            <a:xfrm>
              <a:off x="4643280" y="765000"/>
              <a:ext cx="4105440" cy="2087640"/>
            </a:xfrm>
            <a:prstGeom prst="cloudCallout">
              <a:avLst>
                <a:gd name="adj1" fmla="val -63185"/>
                <a:gd name="adj2" fmla="val 295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9"/>
            <p:cNvSpPr/>
            <p:nvPr/>
          </p:nvSpPr>
          <p:spPr>
            <a:xfrm>
              <a:off x="4913280" y="947520"/>
              <a:ext cx="3835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不，不，你能保护更弱小的，你是勇敢的孩子啦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Rectangle 10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水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1066680" y="914400"/>
            <a:ext cx="74678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妈妈，您和托利亚都需要雨衣呀，为什么要给我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黑体"/>
              </a:rPr>
              <a:t>我们应该保护比自己弱小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这就是说，我是最弱小的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黑体"/>
              </a:rPr>
              <a:t>要是你谁也保护不了，那你就是最弱小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妈妈，现在我还是最弱小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Times New Roman"/>
                <a:ea typeface="黑体"/>
              </a:rPr>
              <a:t>不，不，你能保护更弱小的，你是勇敢的孩子啦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春水.mp3" descr=""/>
          <p:cNvPicPr/>
          <p:nvPr/>
        </p:nvPicPr>
        <p:blipFill>
          <a:blip r:embed="rId2"/>
          <a:stretch/>
        </p:blipFill>
        <p:spPr>
          <a:xfrm>
            <a:off x="86104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1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250920" y="2700360"/>
            <a:ext cx="1492200" cy="720720"/>
          </a:xfrm>
          <a:custGeom>
            <a:avLst/>
            <a:gdLst>
              <a:gd name="textAreaLeft" fmla="*/ 0 w 1492200"/>
              <a:gd name="textAreaRight" fmla="*/ 1492560 w 14922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周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2050920" y="2700360"/>
            <a:ext cx="1494000" cy="7207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萨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3922560" y="2700360"/>
            <a:ext cx="1538280" cy="72072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蔷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250920" y="3781440"/>
            <a:ext cx="1492200" cy="720720"/>
          </a:xfrm>
          <a:custGeom>
            <a:avLst/>
            <a:gdLst>
              <a:gd name="textAreaLeft" fmla="*/ 0 w 1492200"/>
              <a:gd name="textAreaRight" fmla="*/ 1492560 w 14922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托利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050920" y="3781440"/>
            <a:ext cx="1538280" cy="72072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聊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3922560" y="3781440"/>
            <a:ext cx="1584360" cy="720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递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250920" y="4791240"/>
            <a:ext cx="1492200" cy="720720"/>
          </a:xfrm>
          <a:custGeom>
            <a:avLst/>
            <a:gdLst>
              <a:gd name="textAreaLeft" fmla="*/ 0 w 1492200"/>
              <a:gd name="textAreaRight" fmla="*/ 1492560 w 14922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垂着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2050920" y="4791240"/>
            <a:ext cx="1494000" cy="7207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弱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3922560" y="4791240"/>
            <a:ext cx="1494000" cy="7207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清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2771640" y="549360"/>
            <a:ext cx="4537080" cy="18000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81185" dir="2321969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读读记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5722920" y="2701800"/>
            <a:ext cx="1538280" cy="72072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簇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5722920" y="3782880"/>
            <a:ext cx="1584360" cy="720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显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4"/>
          <p:cNvSpPr/>
          <p:nvPr/>
        </p:nvSpPr>
        <p:spPr>
          <a:xfrm>
            <a:off x="5722920" y="4792680"/>
            <a:ext cx="1494000" cy="7207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森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3348000" y="5805360"/>
            <a:ext cx="2158920" cy="65592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655920"/>
              <a:gd name="textAreaBottom" fmla="*/ 656280 h 65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随风舞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250920" y="5805360"/>
            <a:ext cx="2160360" cy="72072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芬芳扑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7"/>
          <p:cNvSpPr/>
          <p:nvPr/>
        </p:nvSpPr>
        <p:spPr>
          <a:xfrm>
            <a:off x="6659640" y="5734080"/>
            <a:ext cx="2232000" cy="7207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倾盆大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8"/>
          <p:cNvSpPr/>
          <p:nvPr/>
        </p:nvSpPr>
        <p:spPr>
          <a:xfrm>
            <a:off x="7523280" y="2705040"/>
            <a:ext cx="1538280" cy="72072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掀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9"/>
          <p:cNvSpPr/>
          <p:nvPr/>
        </p:nvSpPr>
        <p:spPr>
          <a:xfrm>
            <a:off x="7523280" y="3786120"/>
            <a:ext cx="1584360" cy="720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娇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7523280" y="4795920"/>
            <a:ext cx="1493640" cy="720720"/>
          </a:xfrm>
          <a:custGeom>
            <a:avLst/>
            <a:gdLst>
              <a:gd name="textAreaLeft" fmla="*/ 0 w 1493640"/>
              <a:gd name="textAreaRight" fmla="*/ 1494000 w 1493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71785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应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水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900000" y="549360"/>
            <a:ext cx="7417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妈妈，您和托利亚都需要雨衣呀，为什么要给我呢？”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萨沙心中满是（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  “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这就是说，我是最弱小的了？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萨沙心中满是（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妈妈，现在我还是最弱小的吗？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萨沙心中满是（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4">
            <a:hlinkClick r:id="rId2" action="ppaction://hlinksldjump"/>
          </p:cNvPr>
          <p:cNvSpPr/>
          <p:nvPr/>
        </p:nvSpPr>
        <p:spPr>
          <a:xfrm>
            <a:off x="8229600" y="6248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20"/>
          <p:cNvPicPr/>
          <p:nvPr/>
        </p:nvPicPr>
        <p:blipFill>
          <a:blip r:embed="rId1"/>
          <a:stretch/>
        </p:blipFill>
        <p:spPr>
          <a:xfrm>
            <a:off x="3492360" y="1268280"/>
            <a:ext cx="2556000" cy="503280"/>
          </a:xfrm>
          <a:prstGeom prst="rect">
            <a:avLst/>
          </a:prstGeom>
          <a:ln w="0">
            <a:noFill/>
          </a:ln>
        </p:spPr>
      </p:pic>
      <p:sp>
        <p:nvSpPr>
          <p:cNvPr id="322" name="WordArt 3"/>
          <p:cNvSpPr txBox="1"/>
          <p:nvPr/>
        </p:nvSpPr>
        <p:spPr>
          <a:xfrm>
            <a:off x="1332000" y="907920"/>
            <a:ext cx="6912000" cy="13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71785" dir="2700000" blurRad="0" rotWithShape="0">
                    <a:srgbClr val="ffffff"/>
                  </a:outerShdw>
                </a:effectLst>
                <a:latin typeface="黑体"/>
              </a:rPr>
              <a:t>读读下面的句字，注意句号和叹号的读法。</a:t>
            </a:r>
            <a:endParaRPr b="0" lang="en-US" sz="2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71785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34920" y="2060640"/>
            <a:ext cx="1008000" cy="863640"/>
          </a:xfrm>
          <a:prstGeom prst="su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395280" y="2997360"/>
            <a:ext cx="1008000" cy="8632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826920" y="3860640"/>
            <a:ext cx="1008360" cy="86364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1260360" y="4724280"/>
            <a:ext cx="1008000" cy="86364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1692360" y="5661000"/>
            <a:ext cx="1008000" cy="863640"/>
          </a:xfrm>
          <a:prstGeom prst="su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900000" y="1844640"/>
            <a:ext cx="8425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妈妈，您和托利亚都需要雨衣呀，为什么要给我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085640" y="314172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！这儿还有一朵野蔷薇呢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962800" y="3860640"/>
            <a:ext cx="374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就是说，我是最弱小的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3486960" y="4724280"/>
            <a:ext cx="4021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，现在我还是最弱小的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2627280" y="5445000"/>
            <a:ext cx="6372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不，你能保护更弱小的，你是勇敢的孩子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水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"/>
          <p:cNvSpPr/>
          <p:nvPr/>
        </p:nvSpPr>
        <p:spPr>
          <a:xfrm>
            <a:off x="2411280" y="260280"/>
            <a:ext cx="37515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精读感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32000" y="1484280"/>
            <a:ext cx="6800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6521e"/>
                </a:solidFill>
                <a:latin typeface="Times New Roman"/>
              </a:rPr>
              <a:t>萨沙为什么被看作是最弱小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58920" y="2349360"/>
            <a:ext cx="716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6521e"/>
                </a:solidFill>
                <a:latin typeface="Times New Roman"/>
              </a:rPr>
              <a:t>妈妈和托利亚是怎么对待弱小的萨沙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258920" y="2997360"/>
            <a:ext cx="6354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6521e"/>
                </a:solidFill>
                <a:latin typeface="Times New Roman"/>
              </a:rPr>
              <a:t>妈妈是怎么解释“最弱小”的含义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2081880" y="3645000"/>
            <a:ext cx="2879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6521e"/>
                </a:solidFill>
                <a:latin typeface="Times New Roman"/>
              </a:rPr>
              <a:t>萨沙真的是最弱小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1258920" y="4437000"/>
            <a:ext cx="7345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6521e"/>
                </a:solidFill>
                <a:latin typeface="Times New Roman"/>
              </a:rPr>
              <a:t>妈妈为什么说萨沙是个勇敢的孩子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2153520" y="5229360"/>
            <a:ext cx="2879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6521e"/>
                </a:solidFill>
                <a:latin typeface="Times New Roman"/>
              </a:rPr>
              <a:t>妈妈为什么表扬了萨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水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"/>
          <p:cNvSpPr/>
          <p:nvPr/>
        </p:nvSpPr>
        <p:spPr>
          <a:xfrm>
            <a:off x="900000" y="350028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187280" y="1700280"/>
            <a:ext cx="633744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你喜欢课文中的小主人公萨沙吗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258920" y="3500280"/>
            <a:ext cx="633744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除了萨沙，你还喜欢谁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656160" y="836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讨论交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文本框 1"/>
          <p:cNvSpPr/>
          <p:nvPr/>
        </p:nvSpPr>
        <p:spPr>
          <a:xfrm>
            <a:off x="673200" y="56991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395280" y="333360"/>
            <a:ext cx="8748720" cy="3743280"/>
          </a:xfrm>
          <a:prstGeom prst="cloudCallout">
            <a:avLst>
              <a:gd name="adj1" fmla="val -32092"/>
              <a:gd name="adj2" fmla="val 81171"/>
            </a:avLst>
          </a:prstGeom>
          <a:solidFill>
            <a:srgbClr val="ffcccc">
              <a:alpha val="86000"/>
            </a:srgbClr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3" descr="001"/>
          <p:cNvPicPr/>
          <p:nvPr/>
        </p:nvPicPr>
        <p:blipFill>
          <a:blip r:embed="rId1"/>
          <a:stretch/>
        </p:blipFill>
        <p:spPr>
          <a:xfrm>
            <a:off x="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1116000" y="114300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同学们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在生活中，你保护过弱小的事物吗？说说看。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E873-0C3B-4F60-91D5-AC7A6C8421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bkarts038"/>
          <p:cNvPicPr/>
          <p:nvPr/>
        </p:nvPicPr>
        <p:blipFill>
          <a:blip r:embed="rId1"/>
          <a:stretch/>
        </p:blipFill>
        <p:spPr>
          <a:xfrm>
            <a:off x="0" y="-385920"/>
            <a:ext cx="9144000" cy="72439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3"/>
          <p:cNvGrpSpPr/>
          <p:nvPr/>
        </p:nvGrpSpPr>
        <p:grpSpPr>
          <a:xfrm>
            <a:off x="128880" y="-195120"/>
            <a:ext cx="1758960" cy="1758960"/>
            <a:chOff x="128880" y="-195120"/>
            <a:chExt cx="1758960" cy="1758960"/>
          </a:xfrm>
        </p:grpSpPr>
        <p:pic>
          <p:nvPicPr>
            <p:cNvPr id="166" name="Picture 4" descr="RM_0677"/>
            <p:cNvPicPr/>
            <p:nvPr/>
          </p:nvPicPr>
          <p:blipFill>
            <a:blip r:embed="rId2"/>
            <a:stretch/>
          </p:blipFill>
          <p:spPr>
            <a:xfrm rot="1221600">
              <a:off x="324000" y="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5"/>
            <p:cNvSpPr/>
            <p:nvPr/>
          </p:nvSpPr>
          <p:spPr>
            <a:xfrm>
              <a:off x="611280" y="2872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弱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6"/>
          <p:cNvGrpSpPr/>
          <p:nvPr/>
        </p:nvGrpSpPr>
        <p:grpSpPr>
          <a:xfrm>
            <a:off x="2000520" y="-195120"/>
            <a:ext cx="1758960" cy="1758960"/>
            <a:chOff x="2000520" y="-195120"/>
            <a:chExt cx="1758960" cy="1758960"/>
          </a:xfrm>
        </p:grpSpPr>
        <p:pic>
          <p:nvPicPr>
            <p:cNvPr id="169" name="Picture 7" descr="RM_0677"/>
            <p:cNvPicPr/>
            <p:nvPr/>
          </p:nvPicPr>
          <p:blipFill>
            <a:blip r:embed="rId3"/>
            <a:stretch/>
          </p:blipFill>
          <p:spPr>
            <a:xfrm rot="1221600">
              <a:off x="2195640" y="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8"/>
            <p:cNvSpPr/>
            <p:nvPr/>
          </p:nvSpPr>
          <p:spPr>
            <a:xfrm>
              <a:off x="2482920" y="2872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末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9"/>
          <p:cNvGrpSpPr/>
          <p:nvPr/>
        </p:nvGrpSpPr>
        <p:grpSpPr>
          <a:xfrm>
            <a:off x="3008520" y="1505160"/>
            <a:ext cx="1758960" cy="1758960"/>
            <a:chOff x="3008520" y="1505160"/>
            <a:chExt cx="1758960" cy="1758960"/>
          </a:xfrm>
        </p:grpSpPr>
        <p:pic>
          <p:nvPicPr>
            <p:cNvPr id="172" name="Picture 10" descr="RM_0677"/>
            <p:cNvPicPr/>
            <p:nvPr/>
          </p:nvPicPr>
          <p:blipFill>
            <a:blip r:embed="rId4"/>
            <a:stretch/>
          </p:blipFill>
          <p:spPr>
            <a:xfrm rot="1221600">
              <a:off x="3203640" y="1700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1"/>
            <p:cNvSpPr/>
            <p:nvPr/>
          </p:nvSpPr>
          <p:spPr>
            <a:xfrm>
              <a:off x="3490920" y="198756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随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3800520" y="-195120"/>
            <a:ext cx="1758960" cy="1758960"/>
            <a:chOff x="3800520" y="-195120"/>
            <a:chExt cx="1758960" cy="1758960"/>
          </a:xfrm>
        </p:grpSpPr>
        <p:pic>
          <p:nvPicPr>
            <p:cNvPr id="175" name="Picture 13" descr="RM_0677"/>
            <p:cNvPicPr/>
            <p:nvPr/>
          </p:nvPicPr>
          <p:blipFill>
            <a:blip r:embed="rId5"/>
            <a:stretch/>
          </p:blipFill>
          <p:spPr>
            <a:xfrm rot="1221600">
              <a:off x="3995640" y="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4"/>
            <p:cNvSpPr/>
            <p:nvPr/>
          </p:nvSpPr>
          <p:spPr>
            <a:xfrm>
              <a:off x="4282920" y="2872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萨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5"/>
          <p:cNvGrpSpPr/>
          <p:nvPr/>
        </p:nvGrpSpPr>
        <p:grpSpPr>
          <a:xfrm>
            <a:off x="7040880" y="-195120"/>
            <a:ext cx="1758960" cy="1758960"/>
            <a:chOff x="7040880" y="-195120"/>
            <a:chExt cx="1758960" cy="1758960"/>
          </a:xfrm>
        </p:grpSpPr>
        <p:pic>
          <p:nvPicPr>
            <p:cNvPr id="178" name="Picture 16" descr="RM_0677"/>
            <p:cNvPicPr/>
            <p:nvPr/>
          </p:nvPicPr>
          <p:blipFill>
            <a:blip r:embed="rId6"/>
            <a:stretch/>
          </p:blipFill>
          <p:spPr>
            <a:xfrm rot="1221600">
              <a:off x="7236000" y="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7"/>
            <p:cNvSpPr/>
            <p:nvPr/>
          </p:nvSpPr>
          <p:spPr>
            <a:xfrm>
              <a:off x="7523280" y="2872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铃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8"/>
          <p:cNvGrpSpPr/>
          <p:nvPr/>
        </p:nvGrpSpPr>
        <p:grpSpPr>
          <a:xfrm>
            <a:off x="1136880" y="1505160"/>
            <a:ext cx="1758960" cy="1758960"/>
            <a:chOff x="1136880" y="1505160"/>
            <a:chExt cx="1758960" cy="1758960"/>
          </a:xfrm>
        </p:grpSpPr>
        <p:pic>
          <p:nvPicPr>
            <p:cNvPr id="181" name="Picture 19" descr="RM_0677"/>
            <p:cNvPicPr/>
            <p:nvPr/>
          </p:nvPicPr>
          <p:blipFill>
            <a:blip r:embed="rId7"/>
            <a:stretch/>
          </p:blipFill>
          <p:spPr>
            <a:xfrm rot="1221600">
              <a:off x="1332000" y="1700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20"/>
            <p:cNvSpPr/>
            <p:nvPr/>
          </p:nvSpPr>
          <p:spPr>
            <a:xfrm>
              <a:off x="1619280" y="198756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簇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21"/>
          <p:cNvGrpSpPr/>
          <p:nvPr/>
        </p:nvGrpSpPr>
        <p:grpSpPr>
          <a:xfrm>
            <a:off x="5456520" y="-195120"/>
            <a:ext cx="1758960" cy="1758960"/>
            <a:chOff x="5456520" y="-195120"/>
            <a:chExt cx="1758960" cy="1758960"/>
          </a:xfrm>
        </p:grpSpPr>
        <p:pic>
          <p:nvPicPr>
            <p:cNvPr id="184" name="Picture 22" descr="RM_0677"/>
            <p:cNvPicPr/>
            <p:nvPr/>
          </p:nvPicPr>
          <p:blipFill>
            <a:blip r:embed="rId8"/>
            <a:stretch/>
          </p:blipFill>
          <p:spPr>
            <a:xfrm rot="1221600">
              <a:off x="5651640" y="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23"/>
            <p:cNvSpPr/>
            <p:nvPr/>
          </p:nvSpPr>
          <p:spPr>
            <a:xfrm>
              <a:off x="5938920" y="2872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托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24"/>
          <p:cNvGrpSpPr/>
          <p:nvPr/>
        </p:nvGrpSpPr>
        <p:grpSpPr>
          <a:xfrm>
            <a:off x="4664160" y="1505160"/>
            <a:ext cx="1758960" cy="1758960"/>
            <a:chOff x="4664160" y="1505160"/>
            <a:chExt cx="1758960" cy="1758960"/>
          </a:xfrm>
        </p:grpSpPr>
        <p:pic>
          <p:nvPicPr>
            <p:cNvPr id="187" name="Picture 25" descr="RM_0677"/>
            <p:cNvPicPr/>
            <p:nvPr/>
          </p:nvPicPr>
          <p:blipFill>
            <a:blip r:embed="rId9"/>
            <a:stretch/>
          </p:blipFill>
          <p:spPr>
            <a:xfrm rot="1221600">
              <a:off x="4859280" y="1700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26"/>
            <p:cNvSpPr/>
            <p:nvPr/>
          </p:nvSpPr>
          <p:spPr>
            <a:xfrm>
              <a:off x="5146560" y="198756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芬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27"/>
          <p:cNvGrpSpPr/>
          <p:nvPr/>
        </p:nvGrpSpPr>
        <p:grpSpPr>
          <a:xfrm>
            <a:off x="6537600" y="1505160"/>
            <a:ext cx="1758960" cy="1758960"/>
            <a:chOff x="6537600" y="1505160"/>
            <a:chExt cx="1758960" cy="1758960"/>
          </a:xfrm>
        </p:grpSpPr>
        <p:pic>
          <p:nvPicPr>
            <p:cNvPr id="190" name="Picture 28" descr="RM_0677"/>
            <p:cNvPicPr/>
            <p:nvPr/>
          </p:nvPicPr>
          <p:blipFill>
            <a:blip r:embed="rId10"/>
            <a:stretch/>
          </p:blipFill>
          <p:spPr>
            <a:xfrm rot="1221600">
              <a:off x="6732720" y="170028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29"/>
            <p:cNvSpPr/>
            <p:nvPr/>
          </p:nvSpPr>
          <p:spPr>
            <a:xfrm>
              <a:off x="7020000" y="198756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芳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30"/>
          <p:cNvGrpSpPr/>
          <p:nvPr/>
        </p:nvGrpSpPr>
        <p:grpSpPr>
          <a:xfrm>
            <a:off x="200160" y="3233880"/>
            <a:ext cx="1758960" cy="1758960"/>
            <a:chOff x="200160" y="3233880"/>
            <a:chExt cx="1758960" cy="1758960"/>
          </a:xfrm>
        </p:grpSpPr>
        <p:pic>
          <p:nvPicPr>
            <p:cNvPr id="193" name="Picture 31" descr="RM_0677"/>
            <p:cNvPicPr/>
            <p:nvPr/>
          </p:nvPicPr>
          <p:blipFill>
            <a:blip r:embed="rId11"/>
            <a:stretch/>
          </p:blipFill>
          <p:spPr>
            <a:xfrm rot="1221600">
              <a:off x="395280" y="342900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32"/>
            <p:cNvSpPr/>
            <p:nvPr/>
          </p:nvSpPr>
          <p:spPr>
            <a:xfrm>
              <a:off x="682560" y="371628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聊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33"/>
          <p:cNvGrpSpPr/>
          <p:nvPr/>
        </p:nvGrpSpPr>
        <p:grpSpPr>
          <a:xfrm>
            <a:off x="2000520" y="3162600"/>
            <a:ext cx="1758960" cy="1758960"/>
            <a:chOff x="2000520" y="3162600"/>
            <a:chExt cx="1758960" cy="1758960"/>
          </a:xfrm>
        </p:grpSpPr>
        <p:pic>
          <p:nvPicPr>
            <p:cNvPr id="196" name="Picture 34" descr="RM_0677"/>
            <p:cNvPicPr/>
            <p:nvPr/>
          </p:nvPicPr>
          <p:blipFill>
            <a:blip r:embed="rId12"/>
            <a:stretch/>
          </p:blipFill>
          <p:spPr>
            <a:xfrm rot="1221600">
              <a:off x="2195640" y="335772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35"/>
            <p:cNvSpPr/>
            <p:nvPr/>
          </p:nvSpPr>
          <p:spPr>
            <a:xfrm>
              <a:off x="2482920" y="364500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倾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36"/>
          <p:cNvGrpSpPr/>
          <p:nvPr/>
        </p:nvGrpSpPr>
        <p:grpSpPr>
          <a:xfrm>
            <a:off x="3729240" y="3162600"/>
            <a:ext cx="1758960" cy="1758960"/>
            <a:chOff x="3729240" y="3162600"/>
            <a:chExt cx="1758960" cy="1758960"/>
          </a:xfrm>
        </p:grpSpPr>
        <p:pic>
          <p:nvPicPr>
            <p:cNvPr id="199" name="Picture 37" descr="RM_0677"/>
            <p:cNvPicPr/>
            <p:nvPr/>
          </p:nvPicPr>
          <p:blipFill>
            <a:blip r:embed="rId13"/>
            <a:stretch/>
          </p:blipFill>
          <p:spPr>
            <a:xfrm rot="1221600">
              <a:off x="3924360" y="335772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38"/>
            <p:cNvSpPr/>
            <p:nvPr/>
          </p:nvSpPr>
          <p:spPr>
            <a:xfrm>
              <a:off x="4211640" y="364500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递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9"/>
          <p:cNvGrpSpPr/>
          <p:nvPr/>
        </p:nvGrpSpPr>
        <p:grpSpPr>
          <a:xfrm>
            <a:off x="5384880" y="3162600"/>
            <a:ext cx="1758960" cy="1758960"/>
            <a:chOff x="5384880" y="3162600"/>
            <a:chExt cx="1758960" cy="1758960"/>
          </a:xfrm>
        </p:grpSpPr>
        <p:pic>
          <p:nvPicPr>
            <p:cNvPr id="202" name="Picture 40" descr="RM_0677"/>
            <p:cNvPicPr/>
            <p:nvPr/>
          </p:nvPicPr>
          <p:blipFill>
            <a:blip r:embed="rId14"/>
            <a:stretch/>
          </p:blipFill>
          <p:spPr>
            <a:xfrm rot="1221600">
              <a:off x="5580000" y="335772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41"/>
            <p:cNvSpPr/>
            <p:nvPr/>
          </p:nvSpPr>
          <p:spPr>
            <a:xfrm>
              <a:off x="5867280" y="364500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娇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42"/>
          <p:cNvGrpSpPr/>
          <p:nvPr/>
        </p:nvGrpSpPr>
        <p:grpSpPr>
          <a:xfrm>
            <a:off x="7113600" y="3162600"/>
            <a:ext cx="1758960" cy="1758960"/>
            <a:chOff x="7113600" y="3162600"/>
            <a:chExt cx="1758960" cy="1758960"/>
          </a:xfrm>
        </p:grpSpPr>
        <p:pic>
          <p:nvPicPr>
            <p:cNvPr id="205" name="Picture 43" descr="RM_0677"/>
            <p:cNvPicPr/>
            <p:nvPr/>
          </p:nvPicPr>
          <p:blipFill>
            <a:blip r:embed="rId15"/>
            <a:stretch/>
          </p:blipFill>
          <p:spPr>
            <a:xfrm rot="1221600">
              <a:off x="7308720" y="335772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4"/>
            <p:cNvSpPr/>
            <p:nvPr/>
          </p:nvSpPr>
          <p:spPr>
            <a:xfrm>
              <a:off x="7596000" y="3645000"/>
              <a:ext cx="719280" cy="8251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17919E-006 L -0.05903 0.58197 E">
                                      <p:cBhvr>
                                        <p:cTn id="12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65896E-006 L 0.05903 0.49826 E">
                                      <p:cBhvr>
                                        <p:cTn id="13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3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65896E-006 L -0.05121 0.54011 E">
                                      <p:cBhvr>
                                        <p:cTn id="14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51445E-007 L 0.04323 0.41433 E">
                                      <p:cBhvr>
                                        <p:cTn id="14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21387E-006 L 0.0118 0.37225 E">
                                      <p:cBhvr>
                                        <p:cTn id="15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7 L -0.00399 0.36204 E">
                                      <p:cBhvr>
                                        <p:cTn id="159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6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69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7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79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8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89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0276 0.34081 E">
                                      <p:cBhvr>
                                        <p:cTn id="19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20090625_6bf633b262a96770d28dwa0skvsYgAZw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136440" y="123840"/>
            <a:ext cx="899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铃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是一种植物，又名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君影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山谷百合、风铃草，是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铃兰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唯一的种。铃兰落花在风中飞舞的样子就像下雪一样，因此铃兰的草原也被人们称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银白色的天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7"/>
          <p:cNvSpPr/>
          <p:nvPr/>
        </p:nvSpPr>
        <p:spPr>
          <a:xfrm>
            <a:off x="826920" y="2041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Shenwu_QiangWei_015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35160" y="-50760"/>
            <a:ext cx="1186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蔷薇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79280" y="4581360"/>
            <a:ext cx="875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蔷薇花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香味很浓，花香诱人，花瓣中可提取芳香油，其价值高于黄金，具有很高的药用食用价值，蔷薇花喜欢生于路旁、田边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丘陵地的灌木丛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7" descr="1259847826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41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kuang%20(3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5"/>
          <p:cNvSpPr txBox="1"/>
          <p:nvPr/>
        </p:nvSpPr>
        <p:spPr>
          <a:xfrm>
            <a:off x="3373560" y="1773360"/>
            <a:ext cx="2327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弱小</a:t>
            </a:r>
            <a:endParaRPr b="0" lang="en-US" sz="2400" spc="1" strike="noStrike">
              <a:ln w="1260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138480" y="4149720"/>
            <a:ext cx="3198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你知道这个词的意思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457200" y="457200"/>
            <a:ext cx="8136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我不是最弱小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①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谁不是最弱小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②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我是不是最弱小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③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我是怎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按照这三个问题提示，自己读课题，读出不同的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Xc81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571680" y="2714760"/>
            <a:ext cx="372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  <a:ea typeface="宋体"/>
              </a:rPr>
              <a:t>地点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  <a:ea typeface="宋体"/>
              </a:rPr>
              <a:t>人物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3868920" y="6429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宋体"/>
              </a:rPr>
              <a:t>读第一自然段，思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1:39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6:43Z</dcterms:modified>
  <cp:revision>7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