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2B12-7782-42A6-89BB-DFC82E2B059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FB2C-4C2F-437C-8EB1-954C26D6E91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D222-1266-4A2C-A407-2D773DC2B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A592-A5BD-454E-B170-4793C889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8FF8-A948-48D1-BE41-F83FAA982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B86D-EF84-4D0E-BCBF-3AC1E7CBA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122C-09F1-414B-B144-11ED83E8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808D-968C-47CE-9F67-19F80BC9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D677-5CC1-4C28-A4F5-396461C6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72D2-68E8-4306-8A36-10DA0A13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7D7C-15A4-4B04-AD13-CD23D2B6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4690-9092-49E1-ACD1-DA7BC902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85DD-8758-4661-BF2C-51547B79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FE7C-368C-4DEC-ABF0-ADE84D73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B67B-216B-4D67-9613-08D4D94CFF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476360" y="2276640"/>
            <a:ext cx="626436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79000"/>
                    </a:srgbClr>
                  </a:outerShdw>
                </a:effectLst>
                <a:latin typeface="微软雅黑"/>
              </a:rPr>
              <a:t>未来城参观记</a:t>
            </a:r>
            <a:endParaRPr b="1" lang="en-US" sz="1800" spc="-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79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877760" y="53737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8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539640" y="1413000"/>
            <a:ext cx="7777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、自由读文，读准字音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、运用工具书或联系上下文理解关键词语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、“我”和巧巧在未来城看到了些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、这次奇妙的未来城之旅让你有什么感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、画出不理解的地方，想办法弄懂或准备质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531720" y="69228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自学要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187280" y="314172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我”和巧巧在未来城看到了些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971640" y="105264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说一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1125360"/>
            <a:ext cx="7772400" cy="48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ff0066"/>
                </a:solidFill>
                <a:latin typeface="宋体"/>
              </a:rPr>
              <a:t>、最好看的是变形体育馆，它的入口处，有一排按钮，人们只要轻轻一按，体育馆就会像变形金刚一样，变出篮球场、游泳馆、滑冰场来，真是奇特有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ff0066"/>
                </a:solidFill>
                <a:latin typeface="宋体"/>
              </a:rPr>
              <a:t>、接着，我们到</a:t>
            </a:r>
            <a:r>
              <a:rPr b="0" lang="zh-CN" sz="2400" spc="-1" strike="noStrike">
                <a:solidFill>
                  <a:srgbClr val="ff0066"/>
                </a:solidFill>
                <a:latin typeface="宋体"/>
              </a:rPr>
              <a:t>100</a:t>
            </a:r>
            <a:r>
              <a:rPr b="0" lang="zh-CN" sz="2400" spc="-1" strike="noStrike">
                <a:solidFill>
                  <a:srgbClr val="ff0066"/>
                </a:solidFill>
                <a:latin typeface="宋体"/>
              </a:rPr>
              <a:t>公里外的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ff0066"/>
                </a:solidFill>
                <a:latin typeface="宋体"/>
              </a:rPr>
              <a:t>绿色城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ff0066"/>
                </a:solidFill>
                <a:latin typeface="宋体"/>
              </a:rPr>
              <a:t>参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ff0066"/>
                </a:solidFill>
                <a:latin typeface="宋体"/>
              </a:rPr>
              <a:t>、不一会儿，前方出现了一个闪闪发光的大气泡，在炽热的阳光下显得非常耀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755640" y="198900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怎么样，还沉浸在未来城的高科技里吧！此时此刻，你有怎样的感受呢？与同学们交流一下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539640" y="907920"/>
            <a:ext cx="194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拓展延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1"/>
          <p:cNvSpPr/>
          <p:nvPr/>
        </p:nvSpPr>
        <p:spPr>
          <a:xfrm>
            <a:off x="1517760" y="4749840"/>
            <a:ext cx="53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684360" y="2349360"/>
            <a:ext cx="719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假如由你来设计，你会造一座什么样的未来城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动手画一画，以设计者的身份，介绍一下你的未来城吧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539640" y="907920"/>
            <a:ext cx="194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拓展延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DDA0-3D93-4BF1-80EF-888B62C56BC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468360" y="1700280"/>
            <a:ext cx="853272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能正确认读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个生字。正确认读生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理解课文重点词句，读懂课文内容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通过诵读品味，感悟未来城的变化、进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通过阅读，激发对科学的热爱及探索科学的兴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539640" y="90792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971640" y="2276640"/>
            <a:ext cx="633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了解未来城的变化与进步，激发大家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习科学的兴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539640" y="907920"/>
            <a:ext cx="1800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重点难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未来城2"/>
          <p:cNvPicPr/>
          <p:nvPr/>
        </p:nvPicPr>
        <p:blipFill>
          <a:blip r:embed="rId1"/>
          <a:stretch/>
        </p:blipFill>
        <p:spPr>
          <a:xfrm>
            <a:off x="1908000" y="2060640"/>
            <a:ext cx="5477040" cy="31035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826920" y="105264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图片欣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826920" y="105264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图片欣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未来城3"/>
          <p:cNvPicPr/>
          <p:nvPr/>
        </p:nvPicPr>
        <p:blipFill>
          <a:blip r:embed="rId1"/>
          <a:stretch/>
        </p:blipFill>
        <p:spPr>
          <a:xfrm>
            <a:off x="1908000" y="1989000"/>
            <a:ext cx="578808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6"/>
          <p:cNvSpPr/>
          <p:nvPr/>
        </p:nvSpPr>
        <p:spPr>
          <a:xfrm>
            <a:off x="3995640" y="38466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826920" y="105264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图片欣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未来城4"/>
          <p:cNvPicPr/>
          <p:nvPr/>
        </p:nvPicPr>
        <p:blipFill>
          <a:blip r:embed="rId1"/>
          <a:srcRect l="0" t="0" r="-572" b="0"/>
          <a:stretch/>
        </p:blipFill>
        <p:spPr>
          <a:xfrm>
            <a:off x="1979640" y="2060640"/>
            <a:ext cx="572940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826920" y="105264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图片欣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未来城1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692360" y="2060640"/>
            <a:ext cx="597384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未来城5"/>
          <p:cNvPicPr/>
          <p:nvPr/>
        </p:nvPicPr>
        <p:blipFill>
          <a:blip r:embed="rId1"/>
          <a:stretch/>
        </p:blipFill>
        <p:spPr>
          <a:xfrm>
            <a:off x="1835280" y="1889280"/>
            <a:ext cx="5624280" cy="36954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826920" y="105264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图片欣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826920" y="105264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图片欣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未来城6"/>
          <p:cNvPicPr/>
          <p:nvPr/>
        </p:nvPicPr>
        <p:blipFill>
          <a:blip r:embed="rId1"/>
          <a:stretch/>
        </p:blipFill>
        <p:spPr>
          <a:xfrm>
            <a:off x="1835280" y="1992240"/>
            <a:ext cx="555768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03:49:1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38:16Z</dcterms:modified>
  <cp:revision>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