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applause.wav" ContentType="audio/x-wav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chimes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8AEC-293D-4C50-9E12-09F1C17E6E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4959-F68F-4112-9A62-EA0A577EB06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5265-8377-47D2-99B1-10E15DB8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E6F-E0D3-4429-93A3-24855EFE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7E2-6F1F-41AF-B29B-12846F49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03A-D746-4D3E-817A-053C17D4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C1EC-EC3D-4512-BA9D-2628F73D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C7D-93E3-404D-98DF-797590A3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FEA3-4BE6-40EE-BCC4-551A9DDF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A72-7CDE-46A0-AD6A-F73BC4E9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EBA6-9554-4740-A9B9-5C08F490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37BD-0EDC-4F6D-AAE0-1C21E57D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B951-CC1B-48EF-8F29-A784571A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20C5-7364-4F1B-93FE-EEB6A695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ACE3-2605-4640-8344-107A0B23C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33600" y="2343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们的大家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042920" y="836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湘教版一年级语文上册第四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814040" y="52912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DE21-1324-40C4-984F-08F7C28640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809200" cy="570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小学语文(记叙文）01"/>
          <p:cNvPicPr/>
          <p:nvPr/>
        </p:nvPicPr>
        <p:blipFill>
          <a:blip r:embed="rId2"/>
          <a:stretch/>
        </p:blipFill>
        <p:spPr>
          <a:xfrm>
            <a:off x="252360" y="836640"/>
            <a:ext cx="2519280" cy="1081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1476360" y="1557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朋友们，你们喜欢自己的家吗？今天老师带你们走进另一个大家庭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1116000" y="2781360"/>
            <a:ext cx="7272360" cy="32734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7272360" cy="49294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835280" y="47628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华文隶书"/>
                <a:ea typeface="华文隶书"/>
              </a:rPr>
              <a:t>仔细观察图片，看看大家都在做什么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116000" y="191628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隶书"/>
                <a:ea typeface="华文隶书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华文隶书"/>
                <a:ea typeface="华文隶书"/>
              </a:rPr>
              <a:t>班集体像个大家庭，你喜欢这个大家庭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1116000" y="76500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七嘴八舌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9" name="Picture 7" descr="vv"/>
          <p:cNvPicPr/>
          <p:nvPr/>
        </p:nvPicPr>
        <p:blipFill>
          <a:blip r:embed="rId3"/>
          <a:stretch/>
        </p:blipFill>
        <p:spPr>
          <a:xfrm>
            <a:off x="3419640" y="549360"/>
            <a:ext cx="200016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2_01"/>
          <p:cNvPicPr/>
          <p:nvPr/>
        </p:nvPicPr>
        <p:blipFill>
          <a:blip r:embed="rId1"/>
          <a:stretch/>
        </p:blipFill>
        <p:spPr>
          <a:xfrm>
            <a:off x="1952640" y="1681200"/>
            <a:ext cx="5238720" cy="3495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476360" y="119700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体育课上，小朋友们与老师一起快乐地游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ktjx012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2050920" y="476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Arial"/>
              </a:rPr>
              <a:t>音乐课上，小朋友们在认真的弹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243080" y="1071720"/>
            <a:ext cx="6657840" cy="4714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979640" y="1197000"/>
            <a:ext cx="51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语文课上，同学们扮演自己喜欢的角色，有滋有味地朗读课文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海星班02"/>
          <p:cNvPicPr/>
          <p:nvPr/>
        </p:nvPicPr>
        <p:blipFill>
          <a:blip r:embed="rId1"/>
          <a:stretch/>
        </p:blipFill>
        <p:spPr>
          <a:xfrm>
            <a:off x="1333440" y="10000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4415400" y="4752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66"/>
                </a:solidFill>
                <a:latin typeface="Arial"/>
              </a:rPr>
              <a:t>春天到了，小朋友们在老师带领下，去郊外春游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"/>
          <p:cNvSpPr/>
          <p:nvPr/>
        </p:nvSpPr>
        <p:spPr>
          <a:xfrm>
            <a:off x="692280" y="6004080"/>
            <a:ext cx="56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13800" cy="4790880"/>
          </a:xfrm>
          <a:prstGeom prst="rect">
            <a:avLst/>
          </a:prstGeom>
          <a:ln w="0">
            <a:noFill/>
          </a:ln>
        </p:spPr>
      </p:pic>
      <p:sp>
        <p:nvSpPr>
          <p:cNvPr id="70" name="WordArt 3"/>
          <p:cNvSpPr txBox="1"/>
          <p:nvPr/>
        </p:nvSpPr>
        <p:spPr>
          <a:xfrm>
            <a:off x="250920" y="5229360"/>
            <a:ext cx="849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我们的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56</a:t>
            </a: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个名族也是一个大家庭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71" name="Picture 4" descr="图片9"/>
          <p:cNvPicPr/>
          <p:nvPr/>
        </p:nvPicPr>
        <p:blipFill>
          <a:blip r:embed="rId2"/>
          <a:stretch/>
        </p:blipFill>
        <p:spPr>
          <a:xfrm>
            <a:off x="108000" y="836640"/>
            <a:ext cx="2232000" cy="863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5:42:03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17:06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