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33B4-FF96-4185-8990-4E88B84860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A913-1190-4646-AED6-AEAB126ACA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6443-3AD7-4C0C-B823-1BB5C2B6049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644-2D35-46B6-9846-68BC84D9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986-391B-41B7-AE9F-055EB297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45C-142D-48F6-B057-394D4D11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95A-3103-4985-93B0-8CFD2B1F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500-CAD2-4A3C-B533-D0D6D899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8A4-BEAA-4F5F-9ECB-109F06C5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90A-17A3-4CCF-B8C2-14D347D8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B6E-6DFB-4430-B683-686A1436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918-1483-43DD-A33E-38807664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075-96E9-4D85-B6CB-36219D0C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0A4-50B8-4084-80F2-9E0DF59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B06-EB30-44D0-A0CC-5ADED015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3150-39A4-478B-A46E-5DD406180C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" Target="slide4.xml"/><Relationship Id="rId8" Type="http://schemas.openxmlformats.org/officeDocument/2006/relationships/image" Target="../media/image6.png"/><Relationship Id="rId9" Type="http://schemas.openxmlformats.org/officeDocument/2006/relationships/slide" Target="slide10.xml"/><Relationship Id="rId10" Type="http://schemas.openxmlformats.org/officeDocument/2006/relationships/image" Target="../media/image7.png"/><Relationship Id="rId11" Type="http://schemas.openxmlformats.org/officeDocument/2006/relationships/slide" Target="slide15.xm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31800" y="622764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b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97720" y="621828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b2"/>
          <p:cNvPicPr/>
          <p:nvPr/>
        </p:nvPicPr>
        <p:blipFill>
          <a:blip r:embed="rId6"/>
          <a:stretch/>
        </p:blipFill>
        <p:spPr>
          <a:xfrm>
            <a:off x="19080" y="622764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b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997360" y="621828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b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510080" y="621828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b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000840" y="621828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54" name="WordArt 8"/>
          <p:cNvSpPr txBox="1"/>
          <p:nvPr/>
        </p:nvSpPr>
        <p:spPr>
          <a:xfrm>
            <a:off x="1092240" y="1844640"/>
            <a:ext cx="691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微软雅黑"/>
              </a:rPr>
              <a:t>网上呼救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55" name="矩形 10" descr=""/>
          <p:cNvPicPr/>
          <p:nvPr/>
        </p:nvPicPr>
        <p:blipFill>
          <a:blip r:embed="rId13"/>
          <a:stretch/>
        </p:blipFill>
        <p:spPr>
          <a:xfrm>
            <a:off x="1852560" y="5445000"/>
            <a:ext cx="5500800" cy="4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38080" y="914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一读，说一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143000" y="2057400"/>
            <a:ext cx="7238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天下午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近六点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点十分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分钟后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点三十分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1692360" y="2781360"/>
            <a:ext cx="5327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天下午　　　将近六点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点十分　　　十分钟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点三十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26920" y="10494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读课文，想一想，课文为什么要写这些表示时间的词语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447920" y="12952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66680" y="1905120"/>
            <a:ext cx="71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里的工作人员一边联系芬兰有关方面，一边向迈克询问苏珊的详细地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148360" y="2133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348000" y="2925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447920" y="12952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60360" y="692280"/>
            <a:ext cx="75582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而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虽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但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一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12720" y="2205000"/>
            <a:ext cx="77756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（          ）听电话，（          ）把内容记录在纸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林芳是个好孩子，（          ）学习认真，（          ）乐于助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          ）他已经筋疲力尽了，（          ）仍然坚持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47920" y="12952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239840" y="1130400"/>
            <a:ext cx="35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填上合适的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947880" y="2300400"/>
            <a:ext cx="780084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呼吸（            ）         距离（            ）         香味（            ）         情况（            ）         感情（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332000" y="692280"/>
            <a:ext cx="69055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１、读词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屏幕    困难    距离    询问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址   互联网   聊天    灼痛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肋    联系    求助    漫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料    剧烈    夹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4508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２、请你从这些词语中挑选两三个，结合课文内容说几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771480" y="476280"/>
            <a:ext cx="77612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设计一段麦克向美国紧急救援中心报告的对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麦克：是美国紧急救援中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美国紧急救援中心：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麦克：苏珊呼吸困难，生命垂危，请求帮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救援中心：请告诉我们苏珊的详细地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麦克：芬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院图书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救援中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麦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3079800" y="5761080"/>
            <a:ext cx="49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755640" y="1844640"/>
            <a:ext cx="74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１、向小伙伴介绍一下你所了解的网络的神奇魅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808200" y="3305160"/>
            <a:ext cx="70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２、选择一件自己做过的或熟悉的事，试着按时间顺序写一段话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478D-A649-4F00-9CC6-0494B37411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eU7VcEAthN7w"/>
          <p:cNvPicPr/>
          <p:nvPr/>
        </p:nvPicPr>
        <p:blipFill>
          <a:blip r:embed="rId4"/>
          <a:stretch/>
        </p:blipFill>
        <p:spPr>
          <a:xfrm>
            <a:off x="838080" y="990720"/>
            <a:ext cx="7315200" cy="457812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971640" y="1197000"/>
            <a:ext cx="223200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80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电脑网络</a:t>
            </a:r>
            <a:endParaRPr b="1" lang="en-US" sz="2800" spc="1" strike="noStrike">
              <a:ln w="9360">
                <a:solidFill>
                  <a:srgbClr val="000080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88880" y="-100080"/>
            <a:ext cx="86756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聊   珊   屏   联   灼   肋   夹   距   询   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55640" y="836640"/>
            <a:ext cx="4038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读一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珊      灼      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26920" y="2421000"/>
            <a:ext cx="4021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查一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说“灼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26920" y="4581360"/>
            <a:ext cx="718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比一比，组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)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 )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861080" y="148608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翘舌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861080" y="3213000"/>
            <a:ext cx="27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烧、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190520" y="1300320"/>
            <a:ext cx="683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012680" y="1120680"/>
            <a:ext cx="68724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屏幕上   互联网   资料   剧烈   灼痛   肋骨   夹住   困难   距离   联系   询问   地址   彼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190520" y="1300320"/>
            <a:ext cx="683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333360"/>
            <a:ext cx="7632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因为苏珊突然之间（          ），她想求人帮忙，然而（          ），她想拨打急救电话，可是因为（          ），她唯一能够借助的就是网络，不知她的呼救是否有人收到，但抱着一丝希望，她（          ）。此时，将近六点，屏幕上出现了一行黑体字：（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190520" y="1300320"/>
            <a:ext cx="683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947880" y="1104840"/>
            <a:ext cx="72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常我们用什么方法呼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900000" y="2133720"/>
            <a:ext cx="6983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文中找出苏珊只能在网上求救的原因，用直线划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900000" y="3645000"/>
            <a:ext cx="7120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突然，她旧病复发，双腿剧烈灼痛，不能行走，两肋像被夹住似的，呼吸困难。此时，整个楼面只有她一个人，距离最近的电话也无法拿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940360" y="645336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谁救他的，怎样救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190520" y="1300320"/>
            <a:ext cx="683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619280" y="20606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从文中找出表示时间的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447920" y="12952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9640" y="404640"/>
            <a:ext cx="761076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天下午，（          ）男孩麦克正在网上聊天室漫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近六点，麦克电脑屏幕上出现了来自（          ）女孩苏珊的呼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六点十分，麦克拨通了（          ）的电话。哪里的工作人员一边和（          ）联系，一边向麦克询问苏珊的详细地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十分钟后，（          ）和（          ）取得了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六点三十分，（          ）的苏珊得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3:56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3:01Z</dcterms:modified>
  <cp:revision>3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