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05AB-0D61-4A68-9C82-61C031D267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E401-47EA-49E9-B1B0-846D7C7CAA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2763-A256-48B1-BF2E-0C809B87BA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C87-347F-40BA-A21E-37BDA155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E21-E562-44B6-850D-A78AAD7F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1EC-3F8A-4CCD-9EE2-CEECAA60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627-D243-4E3B-837F-83EA924F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A9C-4380-4921-9BC1-B5E5C2EA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054-9F93-4BBA-B06C-02B0B98F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70F-96AB-4CFC-92C5-B5B9AD06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E00-77FF-403C-B841-3812E672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FBA-6F01-4AE4-AF8F-A0D8BBC3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986-E35E-4FA2-933C-15E691F1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999-C626-4197-AB2B-534C0D7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15D-3DB0-4CF8-9DEC-AFD32E46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8DC8-831C-47EC-AE92-A12589CDD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787320" y="1916280"/>
            <a:ext cx="5656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楷体_GB2312"/>
              </a:rPr>
              <a:t>我想我能行</a:t>
            </a:r>
            <a:endParaRPr b="1" lang="en-US" sz="5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7428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E:\素材\3_VWeU4EWoW6c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063520" y="1752480"/>
            <a:ext cx="58104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们，你曾经受到过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的欺负吗？你当时是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么做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685800" y="533520"/>
            <a:ext cx="3505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前思考：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E:\素材\chinaps_net_frame_005_YshKoTWqS5k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312640" y="1776240"/>
            <a:ext cx="473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陪伴   拍球   瞄准   篮筐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投篮   并且   意思   争抢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群众   帮助   忽然   影子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                  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参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96696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E:\素材\7892628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09680" y="762120"/>
            <a:ext cx="7338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爸爸看见了，走到贝贝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边，问：“你想让我帮你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回篮球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110840" y="3886200"/>
            <a:ext cx="25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不，我想我能行！”贝贝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E:\素材\pic04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1219320" y="914400"/>
            <a:ext cx="2361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楷体_GB2312"/>
              </a:rPr>
              <a:t>想一想：</a:t>
            </a:r>
            <a:endParaRPr b="0" lang="en-US" sz="4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295280" y="19209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贝贝为什么不要接受爸爸的帮助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E:\素材\Sun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304920"/>
            <a:ext cx="1096920" cy="1096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475720" y="34290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是如何解决这个问题的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E:\素材\200508011037009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103560" y="380880"/>
            <a:ext cx="435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贝贝静静地等待着。忽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用力一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伸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手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住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身边的篮球，又把手中的球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了一个大孩子。球在孩子们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传着，不一会儿，又传到了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贝的手里。很快，贝贝的喊声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影与大孩子们融在了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起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1095480" y="6248520"/>
            <a:ext cx="80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E:\素材\7893181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8"/>
          <p:cNvSpPr txBox="1"/>
          <p:nvPr/>
        </p:nvSpPr>
        <p:spPr>
          <a:xfrm>
            <a:off x="1828800" y="1219320"/>
            <a:ext cx="2819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思考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70" name="WordArt 10"/>
          <p:cNvSpPr txBox="1"/>
          <p:nvPr/>
        </p:nvSpPr>
        <p:spPr>
          <a:xfrm>
            <a:off x="1371600" y="335268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你觉得贝贝是个什么样的孩子？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9057-1935-4F5D-ADC7-4D13F7AFF9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5:34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8:2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