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24.jpeg" ContentType="image/jpeg"/>
  <Override PartName="/ppt/media/image10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5.png" ContentType="image/png"/>
  <Override PartName="/ppt/media/image25.gif" ContentType="image/gif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4C6-E182-4DBE-8D19-0F75A539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CC9-51E9-4B5E-A9B9-80CC9364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66A-9DB7-4C39-AA8C-75449D99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E26E-E3E0-4C6E-9770-0647847A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926-C16C-4974-B4A1-5CDD8DEF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121-3011-434A-88F7-0ED0CFAE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BD3-A65E-45E1-9DFF-A7F1A821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55F-96CD-4CFE-AE6F-1AB4DB77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9DF-3644-4356-B473-4755926B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8D3-45DE-43AE-A3C6-8F98E5B4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414-EFBE-47CC-B2AC-4000A528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620-16DC-43B2-9F17-DBBF205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F1A-3469-4464-8C7E-A5F7B747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E77B-F6E2-42A2-A05D-F0C31921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CCD3-7BC0-45D5-AD5A-F254A8B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9168-8F1E-4053-B7D5-322C040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84D-C6F7-4BF3-A048-589E6308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FBCE-D9B1-44F8-8E73-130B47F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490-A5ED-4603-856B-728568C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39B-7AD9-41D6-AB93-9629A4F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7D7-1256-4307-914A-B1F029D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DBF2-12AA-4636-83CA-CA9B864C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73D0-16EF-4008-83BE-7F14A8CF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9F3-21CF-4215-9170-8410CEC4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EC5-C7D4-416B-9ABA-4FDE020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282-C9EC-4CDB-9A92-DDD2E170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9D3-7C0A-42B7-B01A-81803A20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CD1-71CC-410C-8995-4D1DF0F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1AC-17AA-4863-9CB0-E51ECD2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0E0-F722-47BB-A3A7-28D914A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DFF-0CDF-46EB-A639-FF97048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116-4DA9-4C32-A586-96970F541C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7C4-96CF-4211-A698-CD5AAEEC98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hi.baidu.com/yuxian5066/album/item/29e76e8c13d46208b21bbac0.html/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hi.baidu.com/zhfen369/album/item/3db9127e36b840240dd7da64.html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zghbpd.com/photo/index.php?ID=&amp;StartPage=840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hi.baidu.com/553635440/album/item/4b21e0ed198b5e2627979158.html/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zghbpd.com/photo/index.php?ID=&amp;StartPage=840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2060"/>
                </a:solidFill>
                <a:latin typeface="华文隶书"/>
                <a:ea typeface="华文隶书"/>
              </a:rPr>
              <a:t>亡羊补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745280" y="52484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486400" y="1905120"/>
            <a:ext cx="3352680" cy="1739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补 修复 修建 修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28600" y="4876920"/>
            <a:ext cx="861048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爸爸正在认真地修理着我的电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254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5"/>
          <p:cNvSpPr/>
          <p:nvPr/>
        </p:nvSpPr>
        <p:spPr>
          <a:xfrm>
            <a:off x="1905120" y="2209680"/>
            <a:ext cx="1844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1916280" y="2220840"/>
            <a:ext cx="1814400" cy="1809720"/>
          </a:xfrm>
          <a:custGeom>
            <a:avLst/>
            <a:gdLst/>
            <a:ahLst/>
            <a:rect l="l" t="t" r="r" b="b"/>
            <a:pathLst>
              <a:path w="2286" h="2280">
                <a:moveTo>
                  <a:pt x="0" y="1190"/>
                </a:moveTo>
                <a:lnTo>
                  <a:pt x="0" y="1186"/>
                </a:lnTo>
                <a:lnTo>
                  <a:pt x="0" y="1183"/>
                </a:lnTo>
                <a:lnTo>
                  <a:pt x="2" y="1177"/>
                </a:lnTo>
                <a:lnTo>
                  <a:pt x="4" y="1169"/>
                </a:lnTo>
                <a:lnTo>
                  <a:pt x="8" y="1162"/>
                </a:lnTo>
                <a:lnTo>
                  <a:pt x="14" y="1150"/>
                </a:lnTo>
                <a:lnTo>
                  <a:pt x="22" y="1138"/>
                </a:lnTo>
                <a:lnTo>
                  <a:pt x="29" y="1127"/>
                </a:lnTo>
                <a:lnTo>
                  <a:pt x="39" y="1112"/>
                </a:lnTo>
                <a:lnTo>
                  <a:pt x="48" y="1096"/>
                </a:lnTo>
                <a:lnTo>
                  <a:pt x="60" y="1079"/>
                </a:lnTo>
                <a:lnTo>
                  <a:pt x="73" y="1060"/>
                </a:lnTo>
                <a:lnTo>
                  <a:pt x="89" y="1041"/>
                </a:lnTo>
                <a:lnTo>
                  <a:pt x="104" y="1019"/>
                </a:lnTo>
                <a:lnTo>
                  <a:pt x="121" y="996"/>
                </a:lnTo>
                <a:lnTo>
                  <a:pt x="139" y="973"/>
                </a:lnTo>
                <a:lnTo>
                  <a:pt x="171" y="925"/>
                </a:lnTo>
                <a:lnTo>
                  <a:pt x="204" y="877"/>
                </a:lnTo>
                <a:lnTo>
                  <a:pt x="235" y="831"/>
                </a:lnTo>
                <a:lnTo>
                  <a:pt x="263" y="783"/>
                </a:lnTo>
                <a:lnTo>
                  <a:pt x="292" y="737"/>
                </a:lnTo>
                <a:lnTo>
                  <a:pt x="319" y="691"/>
                </a:lnTo>
                <a:lnTo>
                  <a:pt x="344" y="645"/>
                </a:lnTo>
                <a:lnTo>
                  <a:pt x="369" y="601"/>
                </a:lnTo>
                <a:lnTo>
                  <a:pt x="392" y="561"/>
                </a:lnTo>
                <a:lnTo>
                  <a:pt x="413" y="522"/>
                </a:lnTo>
                <a:lnTo>
                  <a:pt x="432" y="484"/>
                </a:lnTo>
                <a:lnTo>
                  <a:pt x="451" y="448"/>
                </a:lnTo>
                <a:lnTo>
                  <a:pt x="467" y="413"/>
                </a:lnTo>
                <a:lnTo>
                  <a:pt x="482" y="380"/>
                </a:lnTo>
                <a:lnTo>
                  <a:pt x="496" y="348"/>
                </a:lnTo>
                <a:lnTo>
                  <a:pt x="501" y="332"/>
                </a:lnTo>
                <a:lnTo>
                  <a:pt x="505" y="317"/>
                </a:lnTo>
                <a:lnTo>
                  <a:pt x="511" y="302"/>
                </a:lnTo>
                <a:lnTo>
                  <a:pt x="515" y="288"/>
                </a:lnTo>
                <a:lnTo>
                  <a:pt x="521" y="275"/>
                </a:lnTo>
                <a:lnTo>
                  <a:pt x="524" y="261"/>
                </a:lnTo>
                <a:lnTo>
                  <a:pt x="528" y="250"/>
                </a:lnTo>
                <a:lnTo>
                  <a:pt x="532" y="238"/>
                </a:lnTo>
                <a:lnTo>
                  <a:pt x="534" y="227"/>
                </a:lnTo>
                <a:lnTo>
                  <a:pt x="538" y="215"/>
                </a:lnTo>
                <a:lnTo>
                  <a:pt x="540" y="206"/>
                </a:lnTo>
                <a:lnTo>
                  <a:pt x="542" y="196"/>
                </a:lnTo>
                <a:lnTo>
                  <a:pt x="544" y="187"/>
                </a:lnTo>
                <a:lnTo>
                  <a:pt x="544" y="179"/>
                </a:lnTo>
                <a:lnTo>
                  <a:pt x="545" y="169"/>
                </a:lnTo>
                <a:lnTo>
                  <a:pt x="545" y="164"/>
                </a:lnTo>
                <a:lnTo>
                  <a:pt x="544" y="156"/>
                </a:lnTo>
                <a:lnTo>
                  <a:pt x="542" y="150"/>
                </a:lnTo>
                <a:lnTo>
                  <a:pt x="540" y="141"/>
                </a:lnTo>
                <a:lnTo>
                  <a:pt x="538" y="131"/>
                </a:lnTo>
                <a:lnTo>
                  <a:pt x="536" y="121"/>
                </a:lnTo>
                <a:lnTo>
                  <a:pt x="536" y="114"/>
                </a:lnTo>
                <a:lnTo>
                  <a:pt x="538" y="108"/>
                </a:lnTo>
                <a:lnTo>
                  <a:pt x="542" y="100"/>
                </a:lnTo>
                <a:lnTo>
                  <a:pt x="545" y="96"/>
                </a:lnTo>
                <a:lnTo>
                  <a:pt x="551" y="93"/>
                </a:lnTo>
                <a:lnTo>
                  <a:pt x="559" y="93"/>
                </a:lnTo>
                <a:lnTo>
                  <a:pt x="567" y="96"/>
                </a:lnTo>
                <a:lnTo>
                  <a:pt x="576" y="100"/>
                </a:lnTo>
                <a:lnTo>
                  <a:pt x="588" y="106"/>
                </a:lnTo>
                <a:lnTo>
                  <a:pt x="599" y="116"/>
                </a:lnTo>
                <a:lnTo>
                  <a:pt x="613" y="125"/>
                </a:lnTo>
                <a:lnTo>
                  <a:pt x="628" y="137"/>
                </a:lnTo>
                <a:lnTo>
                  <a:pt x="643" y="150"/>
                </a:lnTo>
                <a:lnTo>
                  <a:pt x="651" y="158"/>
                </a:lnTo>
                <a:lnTo>
                  <a:pt x="659" y="165"/>
                </a:lnTo>
                <a:lnTo>
                  <a:pt x="666" y="171"/>
                </a:lnTo>
                <a:lnTo>
                  <a:pt x="672" y="179"/>
                </a:lnTo>
                <a:lnTo>
                  <a:pt x="678" y="185"/>
                </a:lnTo>
                <a:lnTo>
                  <a:pt x="684" y="190"/>
                </a:lnTo>
                <a:lnTo>
                  <a:pt x="689" y="196"/>
                </a:lnTo>
                <a:lnTo>
                  <a:pt x="693" y="202"/>
                </a:lnTo>
                <a:lnTo>
                  <a:pt x="697" y="208"/>
                </a:lnTo>
                <a:lnTo>
                  <a:pt x="699" y="213"/>
                </a:lnTo>
                <a:lnTo>
                  <a:pt x="703" y="217"/>
                </a:lnTo>
                <a:lnTo>
                  <a:pt x="705" y="223"/>
                </a:lnTo>
                <a:lnTo>
                  <a:pt x="705" y="227"/>
                </a:lnTo>
                <a:lnTo>
                  <a:pt x="707" y="231"/>
                </a:lnTo>
                <a:lnTo>
                  <a:pt x="709" y="238"/>
                </a:lnTo>
                <a:lnTo>
                  <a:pt x="707" y="242"/>
                </a:lnTo>
                <a:lnTo>
                  <a:pt x="707" y="246"/>
                </a:lnTo>
                <a:lnTo>
                  <a:pt x="707" y="250"/>
                </a:lnTo>
                <a:lnTo>
                  <a:pt x="705" y="254"/>
                </a:lnTo>
                <a:lnTo>
                  <a:pt x="703" y="260"/>
                </a:lnTo>
                <a:lnTo>
                  <a:pt x="701" y="265"/>
                </a:lnTo>
                <a:lnTo>
                  <a:pt x="699" y="271"/>
                </a:lnTo>
                <a:lnTo>
                  <a:pt x="695" y="277"/>
                </a:lnTo>
                <a:lnTo>
                  <a:pt x="693" y="284"/>
                </a:lnTo>
                <a:lnTo>
                  <a:pt x="689" y="292"/>
                </a:lnTo>
                <a:lnTo>
                  <a:pt x="686" y="300"/>
                </a:lnTo>
                <a:lnTo>
                  <a:pt x="680" y="309"/>
                </a:lnTo>
                <a:lnTo>
                  <a:pt x="676" y="317"/>
                </a:lnTo>
                <a:lnTo>
                  <a:pt x="670" y="329"/>
                </a:lnTo>
                <a:lnTo>
                  <a:pt x="666" y="338"/>
                </a:lnTo>
                <a:lnTo>
                  <a:pt x="661" y="348"/>
                </a:lnTo>
                <a:lnTo>
                  <a:pt x="653" y="359"/>
                </a:lnTo>
                <a:lnTo>
                  <a:pt x="647" y="371"/>
                </a:lnTo>
                <a:lnTo>
                  <a:pt x="641" y="384"/>
                </a:lnTo>
                <a:lnTo>
                  <a:pt x="634" y="398"/>
                </a:lnTo>
                <a:lnTo>
                  <a:pt x="626" y="411"/>
                </a:lnTo>
                <a:lnTo>
                  <a:pt x="618" y="425"/>
                </a:lnTo>
                <a:lnTo>
                  <a:pt x="611" y="438"/>
                </a:lnTo>
                <a:lnTo>
                  <a:pt x="603" y="453"/>
                </a:lnTo>
                <a:lnTo>
                  <a:pt x="593" y="469"/>
                </a:lnTo>
                <a:lnTo>
                  <a:pt x="584" y="484"/>
                </a:lnTo>
                <a:lnTo>
                  <a:pt x="576" y="501"/>
                </a:lnTo>
                <a:lnTo>
                  <a:pt x="567" y="519"/>
                </a:lnTo>
                <a:lnTo>
                  <a:pt x="555" y="536"/>
                </a:lnTo>
                <a:lnTo>
                  <a:pt x="545" y="553"/>
                </a:lnTo>
                <a:lnTo>
                  <a:pt x="536" y="572"/>
                </a:lnTo>
                <a:lnTo>
                  <a:pt x="524" y="592"/>
                </a:lnTo>
                <a:lnTo>
                  <a:pt x="501" y="632"/>
                </a:lnTo>
                <a:lnTo>
                  <a:pt x="476" y="670"/>
                </a:lnTo>
                <a:lnTo>
                  <a:pt x="453" y="707"/>
                </a:lnTo>
                <a:lnTo>
                  <a:pt x="430" y="743"/>
                </a:lnTo>
                <a:lnTo>
                  <a:pt x="407" y="778"/>
                </a:lnTo>
                <a:lnTo>
                  <a:pt x="384" y="810"/>
                </a:lnTo>
                <a:lnTo>
                  <a:pt x="361" y="841"/>
                </a:lnTo>
                <a:lnTo>
                  <a:pt x="340" y="872"/>
                </a:lnTo>
                <a:lnTo>
                  <a:pt x="317" y="901"/>
                </a:lnTo>
                <a:lnTo>
                  <a:pt x="296" y="927"/>
                </a:lnTo>
                <a:lnTo>
                  <a:pt x="275" y="952"/>
                </a:lnTo>
                <a:lnTo>
                  <a:pt x="254" y="977"/>
                </a:lnTo>
                <a:lnTo>
                  <a:pt x="235" y="1000"/>
                </a:lnTo>
                <a:lnTo>
                  <a:pt x="213" y="1021"/>
                </a:lnTo>
                <a:lnTo>
                  <a:pt x="194" y="1043"/>
                </a:lnTo>
                <a:lnTo>
                  <a:pt x="175" y="1062"/>
                </a:lnTo>
                <a:lnTo>
                  <a:pt x="158" y="1079"/>
                </a:lnTo>
                <a:lnTo>
                  <a:pt x="141" y="1096"/>
                </a:lnTo>
                <a:lnTo>
                  <a:pt x="123" y="1112"/>
                </a:lnTo>
                <a:lnTo>
                  <a:pt x="108" y="1125"/>
                </a:lnTo>
                <a:lnTo>
                  <a:pt x="93" y="1137"/>
                </a:lnTo>
                <a:lnTo>
                  <a:pt x="79" y="1148"/>
                </a:lnTo>
                <a:lnTo>
                  <a:pt x="66" y="1158"/>
                </a:lnTo>
                <a:lnTo>
                  <a:pt x="54" y="1167"/>
                </a:lnTo>
                <a:lnTo>
                  <a:pt x="43" y="1173"/>
                </a:lnTo>
                <a:lnTo>
                  <a:pt x="33" y="1179"/>
                </a:lnTo>
                <a:lnTo>
                  <a:pt x="25" y="1185"/>
                </a:lnTo>
                <a:lnTo>
                  <a:pt x="18" y="1188"/>
                </a:lnTo>
                <a:lnTo>
                  <a:pt x="12" y="1190"/>
                </a:lnTo>
                <a:lnTo>
                  <a:pt x="6" y="1190"/>
                </a:lnTo>
                <a:lnTo>
                  <a:pt x="4" y="1190"/>
                </a:lnTo>
                <a:lnTo>
                  <a:pt x="0" y="1190"/>
                </a:lnTo>
                <a:close/>
                <a:moveTo>
                  <a:pt x="369" y="2002"/>
                </a:moveTo>
                <a:lnTo>
                  <a:pt x="361" y="1981"/>
                </a:lnTo>
                <a:lnTo>
                  <a:pt x="355" y="1962"/>
                </a:lnTo>
                <a:lnTo>
                  <a:pt x="352" y="1945"/>
                </a:lnTo>
                <a:lnTo>
                  <a:pt x="348" y="1929"/>
                </a:lnTo>
                <a:lnTo>
                  <a:pt x="344" y="1916"/>
                </a:lnTo>
                <a:lnTo>
                  <a:pt x="342" y="1904"/>
                </a:lnTo>
                <a:lnTo>
                  <a:pt x="340" y="1893"/>
                </a:lnTo>
                <a:lnTo>
                  <a:pt x="340" y="1885"/>
                </a:lnTo>
                <a:lnTo>
                  <a:pt x="340" y="1881"/>
                </a:lnTo>
                <a:lnTo>
                  <a:pt x="342" y="1875"/>
                </a:lnTo>
                <a:lnTo>
                  <a:pt x="342" y="1868"/>
                </a:lnTo>
                <a:lnTo>
                  <a:pt x="342" y="1858"/>
                </a:lnTo>
                <a:lnTo>
                  <a:pt x="344" y="1847"/>
                </a:lnTo>
                <a:lnTo>
                  <a:pt x="346" y="1835"/>
                </a:lnTo>
                <a:lnTo>
                  <a:pt x="346" y="1820"/>
                </a:lnTo>
                <a:lnTo>
                  <a:pt x="350" y="1804"/>
                </a:lnTo>
                <a:lnTo>
                  <a:pt x="352" y="1787"/>
                </a:lnTo>
                <a:lnTo>
                  <a:pt x="354" y="1768"/>
                </a:lnTo>
                <a:lnTo>
                  <a:pt x="357" y="1747"/>
                </a:lnTo>
                <a:lnTo>
                  <a:pt x="359" y="1726"/>
                </a:lnTo>
                <a:lnTo>
                  <a:pt x="363" y="1701"/>
                </a:lnTo>
                <a:lnTo>
                  <a:pt x="369" y="1676"/>
                </a:lnTo>
                <a:lnTo>
                  <a:pt x="373" y="1649"/>
                </a:lnTo>
                <a:lnTo>
                  <a:pt x="377" y="1620"/>
                </a:lnTo>
                <a:lnTo>
                  <a:pt x="384" y="1563"/>
                </a:lnTo>
                <a:lnTo>
                  <a:pt x="390" y="1503"/>
                </a:lnTo>
                <a:lnTo>
                  <a:pt x="394" y="1444"/>
                </a:lnTo>
                <a:lnTo>
                  <a:pt x="398" y="1384"/>
                </a:lnTo>
                <a:lnTo>
                  <a:pt x="402" y="1325"/>
                </a:lnTo>
                <a:lnTo>
                  <a:pt x="403" y="1263"/>
                </a:lnTo>
                <a:lnTo>
                  <a:pt x="405" y="1202"/>
                </a:lnTo>
                <a:lnTo>
                  <a:pt x="405" y="1140"/>
                </a:lnTo>
                <a:lnTo>
                  <a:pt x="405" y="1110"/>
                </a:lnTo>
                <a:lnTo>
                  <a:pt x="405" y="1079"/>
                </a:lnTo>
                <a:lnTo>
                  <a:pt x="403" y="1050"/>
                </a:lnTo>
                <a:lnTo>
                  <a:pt x="403" y="1021"/>
                </a:lnTo>
                <a:lnTo>
                  <a:pt x="402" y="993"/>
                </a:lnTo>
                <a:lnTo>
                  <a:pt x="402" y="964"/>
                </a:lnTo>
                <a:lnTo>
                  <a:pt x="400" y="937"/>
                </a:lnTo>
                <a:lnTo>
                  <a:pt x="398" y="910"/>
                </a:lnTo>
                <a:lnTo>
                  <a:pt x="394" y="858"/>
                </a:lnTo>
                <a:lnTo>
                  <a:pt x="390" y="806"/>
                </a:lnTo>
                <a:lnTo>
                  <a:pt x="384" y="757"/>
                </a:lnTo>
                <a:lnTo>
                  <a:pt x="377" y="709"/>
                </a:lnTo>
                <a:lnTo>
                  <a:pt x="392" y="726"/>
                </a:lnTo>
                <a:lnTo>
                  <a:pt x="405" y="741"/>
                </a:lnTo>
                <a:lnTo>
                  <a:pt x="419" y="755"/>
                </a:lnTo>
                <a:lnTo>
                  <a:pt x="432" y="768"/>
                </a:lnTo>
                <a:lnTo>
                  <a:pt x="444" y="782"/>
                </a:lnTo>
                <a:lnTo>
                  <a:pt x="455" y="793"/>
                </a:lnTo>
                <a:lnTo>
                  <a:pt x="465" y="805"/>
                </a:lnTo>
                <a:lnTo>
                  <a:pt x="473" y="814"/>
                </a:lnTo>
                <a:lnTo>
                  <a:pt x="482" y="824"/>
                </a:lnTo>
                <a:lnTo>
                  <a:pt x="490" y="833"/>
                </a:lnTo>
                <a:lnTo>
                  <a:pt x="496" y="843"/>
                </a:lnTo>
                <a:lnTo>
                  <a:pt x="501" y="851"/>
                </a:lnTo>
                <a:lnTo>
                  <a:pt x="505" y="856"/>
                </a:lnTo>
                <a:lnTo>
                  <a:pt x="509" y="864"/>
                </a:lnTo>
                <a:lnTo>
                  <a:pt x="513" y="870"/>
                </a:lnTo>
                <a:lnTo>
                  <a:pt x="515" y="876"/>
                </a:lnTo>
                <a:lnTo>
                  <a:pt x="517" y="881"/>
                </a:lnTo>
                <a:lnTo>
                  <a:pt x="519" y="889"/>
                </a:lnTo>
                <a:lnTo>
                  <a:pt x="519" y="895"/>
                </a:lnTo>
                <a:lnTo>
                  <a:pt x="521" y="904"/>
                </a:lnTo>
                <a:lnTo>
                  <a:pt x="521" y="912"/>
                </a:lnTo>
                <a:lnTo>
                  <a:pt x="522" y="922"/>
                </a:lnTo>
                <a:lnTo>
                  <a:pt x="522" y="931"/>
                </a:lnTo>
                <a:lnTo>
                  <a:pt x="522" y="943"/>
                </a:lnTo>
                <a:lnTo>
                  <a:pt x="522" y="954"/>
                </a:lnTo>
                <a:lnTo>
                  <a:pt x="524" y="966"/>
                </a:lnTo>
                <a:lnTo>
                  <a:pt x="524" y="977"/>
                </a:lnTo>
                <a:lnTo>
                  <a:pt x="524" y="991"/>
                </a:lnTo>
                <a:lnTo>
                  <a:pt x="524" y="1006"/>
                </a:lnTo>
                <a:lnTo>
                  <a:pt x="524" y="1021"/>
                </a:lnTo>
                <a:lnTo>
                  <a:pt x="524" y="1037"/>
                </a:lnTo>
                <a:lnTo>
                  <a:pt x="524" y="1052"/>
                </a:lnTo>
                <a:lnTo>
                  <a:pt x="522" y="1069"/>
                </a:lnTo>
                <a:lnTo>
                  <a:pt x="521" y="1087"/>
                </a:lnTo>
                <a:lnTo>
                  <a:pt x="521" y="1108"/>
                </a:lnTo>
                <a:lnTo>
                  <a:pt x="519" y="1127"/>
                </a:lnTo>
                <a:lnTo>
                  <a:pt x="519" y="1150"/>
                </a:lnTo>
                <a:lnTo>
                  <a:pt x="517" y="1173"/>
                </a:lnTo>
                <a:lnTo>
                  <a:pt x="517" y="1196"/>
                </a:lnTo>
                <a:lnTo>
                  <a:pt x="515" y="1221"/>
                </a:lnTo>
                <a:lnTo>
                  <a:pt x="515" y="1248"/>
                </a:lnTo>
                <a:lnTo>
                  <a:pt x="513" y="1275"/>
                </a:lnTo>
                <a:lnTo>
                  <a:pt x="513" y="1304"/>
                </a:lnTo>
                <a:lnTo>
                  <a:pt x="511" y="1334"/>
                </a:lnTo>
                <a:lnTo>
                  <a:pt x="511" y="1365"/>
                </a:lnTo>
                <a:lnTo>
                  <a:pt x="509" y="1396"/>
                </a:lnTo>
                <a:lnTo>
                  <a:pt x="507" y="1430"/>
                </a:lnTo>
                <a:lnTo>
                  <a:pt x="505" y="1465"/>
                </a:lnTo>
                <a:lnTo>
                  <a:pt x="503" y="1499"/>
                </a:lnTo>
                <a:lnTo>
                  <a:pt x="501" y="1536"/>
                </a:lnTo>
                <a:lnTo>
                  <a:pt x="499" y="1570"/>
                </a:lnTo>
                <a:lnTo>
                  <a:pt x="497" y="1603"/>
                </a:lnTo>
                <a:lnTo>
                  <a:pt x="496" y="1636"/>
                </a:lnTo>
                <a:lnTo>
                  <a:pt x="492" y="1668"/>
                </a:lnTo>
                <a:lnTo>
                  <a:pt x="490" y="1697"/>
                </a:lnTo>
                <a:lnTo>
                  <a:pt x="488" y="1728"/>
                </a:lnTo>
                <a:lnTo>
                  <a:pt x="484" y="1756"/>
                </a:lnTo>
                <a:lnTo>
                  <a:pt x="482" y="1783"/>
                </a:lnTo>
                <a:lnTo>
                  <a:pt x="480" y="1810"/>
                </a:lnTo>
                <a:lnTo>
                  <a:pt x="476" y="1835"/>
                </a:lnTo>
                <a:lnTo>
                  <a:pt x="474" y="1858"/>
                </a:lnTo>
                <a:lnTo>
                  <a:pt x="473" y="1881"/>
                </a:lnTo>
                <a:lnTo>
                  <a:pt x="471" y="1904"/>
                </a:lnTo>
                <a:lnTo>
                  <a:pt x="469" y="1925"/>
                </a:lnTo>
                <a:lnTo>
                  <a:pt x="467" y="1945"/>
                </a:lnTo>
                <a:lnTo>
                  <a:pt x="465" y="1962"/>
                </a:lnTo>
                <a:lnTo>
                  <a:pt x="463" y="1979"/>
                </a:lnTo>
                <a:lnTo>
                  <a:pt x="461" y="1996"/>
                </a:lnTo>
                <a:lnTo>
                  <a:pt x="459" y="2012"/>
                </a:lnTo>
                <a:lnTo>
                  <a:pt x="455" y="2025"/>
                </a:lnTo>
                <a:lnTo>
                  <a:pt x="453" y="2037"/>
                </a:lnTo>
                <a:lnTo>
                  <a:pt x="451" y="2048"/>
                </a:lnTo>
                <a:lnTo>
                  <a:pt x="448" y="2058"/>
                </a:lnTo>
                <a:lnTo>
                  <a:pt x="446" y="2067"/>
                </a:lnTo>
                <a:lnTo>
                  <a:pt x="444" y="2075"/>
                </a:lnTo>
                <a:lnTo>
                  <a:pt x="440" y="2081"/>
                </a:lnTo>
                <a:lnTo>
                  <a:pt x="438" y="2085"/>
                </a:lnTo>
                <a:lnTo>
                  <a:pt x="436" y="2088"/>
                </a:lnTo>
                <a:lnTo>
                  <a:pt x="434" y="2090"/>
                </a:lnTo>
                <a:lnTo>
                  <a:pt x="432" y="2090"/>
                </a:lnTo>
                <a:lnTo>
                  <a:pt x="428" y="2090"/>
                </a:lnTo>
                <a:lnTo>
                  <a:pt x="425" y="2090"/>
                </a:lnTo>
                <a:lnTo>
                  <a:pt x="423" y="2088"/>
                </a:lnTo>
                <a:lnTo>
                  <a:pt x="419" y="2087"/>
                </a:lnTo>
                <a:lnTo>
                  <a:pt x="415" y="2083"/>
                </a:lnTo>
                <a:lnTo>
                  <a:pt x="411" y="2079"/>
                </a:lnTo>
                <a:lnTo>
                  <a:pt x="407" y="2075"/>
                </a:lnTo>
                <a:lnTo>
                  <a:pt x="403" y="2069"/>
                </a:lnTo>
                <a:lnTo>
                  <a:pt x="400" y="2064"/>
                </a:lnTo>
                <a:lnTo>
                  <a:pt x="396" y="2056"/>
                </a:lnTo>
                <a:lnTo>
                  <a:pt x="392" y="2050"/>
                </a:lnTo>
                <a:lnTo>
                  <a:pt x="386" y="2042"/>
                </a:lnTo>
                <a:lnTo>
                  <a:pt x="382" y="2033"/>
                </a:lnTo>
                <a:lnTo>
                  <a:pt x="378" y="2023"/>
                </a:lnTo>
                <a:lnTo>
                  <a:pt x="373" y="2014"/>
                </a:lnTo>
                <a:lnTo>
                  <a:pt x="369" y="2002"/>
                </a:lnTo>
                <a:close/>
                <a:moveTo>
                  <a:pt x="1204" y="190"/>
                </a:moveTo>
                <a:lnTo>
                  <a:pt x="1208" y="177"/>
                </a:lnTo>
                <a:lnTo>
                  <a:pt x="1213" y="165"/>
                </a:lnTo>
                <a:lnTo>
                  <a:pt x="1217" y="154"/>
                </a:lnTo>
                <a:lnTo>
                  <a:pt x="1221" y="142"/>
                </a:lnTo>
                <a:lnTo>
                  <a:pt x="1225" y="131"/>
                </a:lnTo>
                <a:lnTo>
                  <a:pt x="1229" y="121"/>
                </a:lnTo>
                <a:lnTo>
                  <a:pt x="1232" y="112"/>
                </a:lnTo>
                <a:lnTo>
                  <a:pt x="1234" y="102"/>
                </a:lnTo>
                <a:lnTo>
                  <a:pt x="1238" y="94"/>
                </a:lnTo>
                <a:lnTo>
                  <a:pt x="1240" y="87"/>
                </a:lnTo>
                <a:lnTo>
                  <a:pt x="1240" y="79"/>
                </a:lnTo>
                <a:lnTo>
                  <a:pt x="1242" y="73"/>
                </a:lnTo>
                <a:lnTo>
                  <a:pt x="1242" y="68"/>
                </a:lnTo>
                <a:lnTo>
                  <a:pt x="1242" y="62"/>
                </a:lnTo>
                <a:lnTo>
                  <a:pt x="1240" y="56"/>
                </a:lnTo>
                <a:lnTo>
                  <a:pt x="1240" y="52"/>
                </a:lnTo>
                <a:lnTo>
                  <a:pt x="1236" y="48"/>
                </a:lnTo>
                <a:lnTo>
                  <a:pt x="1234" y="43"/>
                </a:lnTo>
                <a:lnTo>
                  <a:pt x="1232" y="39"/>
                </a:lnTo>
                <a:lnTo>
                  <a:pt x="1232" y="31"/>
                </a:lnTo>
                <a:lnTo>
                  <a:pt x="1232" y="25"/>
                </a:lnTo>
                <a:lnTo>
                  <a:pt x="1234" y="18"/>
                </a:lnTo>
                <a:lnTo>
                  <a:pt x="1236" y="10"/>
                </a:lnTo>
                <a:lnTo>
                  <a:pt x="1240" y="4"/>
                </a:lnTo>
                <a:lnTo>
                  <a:pt x="1242" y="2"/>
                </a:lnTo>
                <a:lnTo>
                  <a:pt x="1244" y="0"/>
                </a:lnTo>
                <a:lnTo>
                  <a:pt x="1248" y="0"/>
                </a:lnTo>
                <a:lnTo>
                  <a:pt x="1252" y="0"/>
                </a:lnTo>
                <a:lnTo>
                  <a:pt x="1256" y="0"/>
                </a:lnTo>
                <a:lnTo>
                  <a:pt x="1261" y="0"/>
                </a:lnTo>
                <a:lnTo>
                  <a:pt x="1265" y="2"/>
                </a:lnTo>
                <a:lnTo>
                  <a:pt x="1273" y="4"/>
                </a:lnTo>
                <a:lnTo>
                  <a:pt x="1284" y="8"/>
                </a:lnTo>
                <a:lnTo>
                  <a:pt x="1300" y="14"/>
                </a:lnTo>
                <a:lnTo>
                  <a:pt x="1315" y="23"/>
                </a:lnTo>
                <a:lnTo>
                  <a:pt x="1323" y="27"/>
                </a:lnTo>
                <a:lnTo>
                  <a:pt x="1332" y="33"/>
                </a:lnTo>
                <a:lnTo>
                  <a:pt x="1348" y="46"/>
                </a:lnTo>
                <a:lnTo>
                  <a:pt x="1363" y="60"/>
                </a:lnTo>
                <a:lnTo>
                  <a:pt x="1369" y="68"/>
                </a:lnTo>
                <a:lnTo>
                  <a:pt x="1374" y="73"/>
                </a:lnTo>
                <a:lnTo>
                  <a:pt x="1380" y="79"/>
                </a:lnTo>
                <a:lnTo>
                  <a:pt x="1386" y="83"/>
                </a:lnTo>
                <a:lnTo>
                  <a:pt x="1390" y="89"/>
                </a:lnTo>
                <a:lnTo>
                  <a:pt x="1394" y="93"/>
                </a:lnTo>
                <a:lnTo>
                  <a:pt x="1398" y="96"/>
                </a:lnTo>
                <a:lnTo>
                  <a:pt x="1399" y="100"/>
                </a:lnTo>
                <a:lnTo>
                  <a:pt x="1401" y="104"/>
                </a:lnTo>
                <a:lnTo>
                  <a:pt x="1403" y="108"/>
                </a:lnTo>
                <a:lnTo>
                  <a:pt x="1405" y="110"/>
                </a:lnTo>
                <a:lnTo>
                  <a:pt x="1405" y="112"/>
                </a:lnTo>
                <a:lnTo>
                  <a:pt x="1403" y="116"/>
                </a:lnTo>
                <a:lnTo>
                  <a:pt x="1403" y="121"/>
                </a:lnTo>
                <a:lnTo>
                  <a:pt x="1399" y="127"/>
                </a:lnTo>
                <a:lnTo>
                  <a:pt x="1396" y="135"/>
                </a:lnTo>
                <a:lnTo>
                  <a:pt x="1392" y="144"/>
                </a:lnTo>
                <a:lnTo>
                  <a:pt x="1386" y="154"/>
                </a:lnTo>
                <a:lnTo>
                  <a:pt x="1378" y="165"/>
                </a:lnTo>
                <a:lnTo>
                  <a:pt x="1371" y="179"/>
                </a:lnTo>
                <a:lnTo>
                  <a:pt x="1361" y="192"/>
                </a:lnTo>
                <a:lnTo>
                  <a:pt x="1351" y="208"/>
                </a:lnTo>
                <a:lnTo>
                  <a:pt x="1340" y="225"/>
                </a:lnTo>
                <a:lnTo>
                  <a:pt x="1327" y="242"/>
                </a:lnTo>
                <a:lnTo>
                  <a:pt x="1313" y="261"/>
                </a:lnTo>
                <a:lnTo>
                  <a:pt x="1300" y="283"/>
                </a:lnTo>
                <a:lnTo>
                  <a:pt x="1284" y="304"/>
                </a:lnTo>
                <a:lnTo>
                  <a:pt x="1267" y="327"/>
                </a:lnTo>
                <a:lnTo>
                  <a:pt x="1248" y="352"/>
                </a:lnTo>
                <a:lnTo>
                  <a:pt x="1231" y="373"/>
                </a:lnTo>
                <a:lnTo>
                  <a:pt x="1213" y="396"/>
                </a:lnTo>
                <a:lnTo>
                  <a:pt x="1196" y="417"/>
                </a:lnTo>
                <a:lnTo>
                  <a:pt x="1179" y="438"/>
                </a:lnTo>
                <a:lnTo>
                  <a:pt x="1161" y="459"/>
                </a:lnTo>
                <a:lnTo>
                  <a:pt x="1144" y="478"/>
                </a:lnTo>
                <a:lnTo>
                  <a:pt x="1129" y="496"/>
                </a:lnTo>
                <a:lnTo>
                  <a:pt x="1113" y="515"/>
                </a:lnTo>
                <a:lnTo>
                  <a:pt x="1098" y="532"/>
                </a:lnTo>
                <a:lnTo>
                  <a:pt x="1083" y="547"/>
                </a:lnTo>
                <a:lnTo>
                  <a:pt x="1067" y="565"/>
                </a:lnTo>
                <a:lnTo>
                  <a:pt x="1052" y="580"/>
                </a:lnTo>
                <a:lnTo>
                  <a:pt x="1039" y="593"/>
                </a:lnTo>
                <a:lnTo>
                  <a:pt x="1023" y="607"/>
                </a:lnTo>
                <a:lnTo>
                  <a:pt x="1010" y="620"/>
                </a:lnTo>
                <a:lnTo>
                  <a:pt x="996" y="634"/>
                </a:lnTo>
                <a:lnTo>
                  <a:pt x="985" y="645"/>
                </a:lnTo>
                <a:lnTo>
                  <a:pt x="973" y="655"/>
                </a:lnTo>
                <a:lnTo>
                  <a:pt x="962" y="664"/>
                </a:lnTo>
                <a:lnTo>
                  <a:pt x="952" y="672"/>
                </a:lnTo>
                <a:lnTo>
                  <a:pt x="943" y="680"/>
                </a:lnTo>
                <a:lnTo>
                  <a:pt x="935" y="686"/>
                </a:lnTo>
                <a:lnTo>
                  <a:pt x="927" y="689"/>
                </a:lnTo>
                <a:lnTo>
                  <a:pt x="920" y="693"/>
                </a:lnTo>
                <a:lnTo>
                  <a:pt x="914" y="697"/>
                </a:lnTo>
                <a:lnTo>
                  <a:pt x="908" y="699"/>
                </a:lnTo>
                <a:lnTo>
                  <a:pt x="904" y="701"/>
                </a:lnTo>
                <a:lnTo>
                  <a:pt x="899" y="701"/>
                </a:lnTo>
                <a:lnTo>
                  <a:pt x="897" y="701"/>
                </a:lnTo>
                <a:lnTo>
                  <a:pt x="893" y="701"/>
                </a:lnTo>
                <a:lnTo>
                  <a:pt x="891" y="699"/>
                </a:lnTo>
                <a:lnTo>
                  <a:pt x="891" y="697"/>
                </a:lnTo>
                <a:lnTo>
                  <a:pt x="891" y="693"/>
                </a:lnTo>
                <a:lnTo>
                  <a:pt x="893" y="687"/>
                </a:lnTo>
                <a:lnTo>
                  <a:pt x="895" y="680"/>
                </a:lnTo>
                <a:lnTo>
                  <a:pt x="899" y="670"/>
                </a:lnTo>
                <a:lnTo>
                  <a:pt x="904" y="661"/>
                </a:lnTo>
                <a:lnTo>
                  <a:pt x="912" y="649"/>
                </a:lnTo>
                <a:lnTo>
                  <a:pt x="920" y="636"/>
                </a:lnTo>
                <a:lnTo>
                  <a:pt x="929" y="622"/>
                </a:lnTo>
                <a:lnTo>
                  <a:pt x="939" y="605"/>
                </a:lnTo>
                <a:lnTo>
                  <a:pt x="950" y="590"/>
                </a:lnTo>
                <a:lnTo>
                  <a:pt x="964" y="570"/>
                </a:lnTo>
                <a:lnTo>
                  <a:pt x="977" y="551"/>
                </a:lnTo>
                <a:lnTo>
                  <a:pt x="995" y="530"/>
                </a:lnTo>
                <a:lnTo>
                  <a:pt x="1010" y="507"/>
                </a:lnTo>
                <a:lnTo>
                  <a:pt x="1029" y="484"/>
                </a:lnTo>
                <a:lnTo>
                  <a:pt x="1044" y="461"/>
                </a:lnTo>
                <a:lnTo>
                  <a:pt x="1062" y="438"/>
                </a:lnTo>
                <a:lnTo>
                  <a:pt x="1075" y="415"/>
                </a:lnTo>
                <a:lnTo>
                  <a:pt x="1090" y="394"/>
                </a:lnTo>
                <a:lnTo>
                  <a:pt x="1104" y="373"/>
                </a:lnTo>
                <a:lnTo>
                  <a:pt x="1117" y="352"/>
                </a:lnTo>
                <a:lnTo>
                  <a:pt x="1129" y="332"/>
                </a:lnTo>
                <a:lnTo>
                  <a:pt x="1140" y="315"/>
                </a:lnTo>
                <a:lnTo>
                  <a:pt x="1150" y="296"/>
                </a:lnTo>
                <a:lnTo>
                  <a:pt x="1160" y="279"/>
                </a:lnTo>
                <a:lnTo>
                  <a:pt x="1169" y="263"/>
                </a:lnTo>
                <a:lnTo>
                  <a:pt x="1177" y="246"/>
                </a:lnTo>
                <a:lnTo>
                  <a:pt x="1185" y="231"/>
                </a:lnTo>
                <a:lnTo>
                  <a:pt x="1192" y="217"/>
                </a:lnTo>
                <a:lnTo>
                  <a:pt x="1198" y="204"/>
                </a:lnTo>
                <a:lnTo>
                  <a:pt x="1204" y="190"/>
                </a:lnTo>
                <a:close/>
                <a:moveTo>
                  <a:pt x="1561" y="377"/>
                </a:moveTo>
                <a:lnTo>
                  <a:pt x="1559" y="373"/>
                </a:lnTo>
                <a:lnTo>
                  <a:pt x="1557" y="369"/>
                </a:lnTo>
                <a:lnTo>
                  <a:pt x="1553" y="367"/>
                </a:lnTo>
                <a:lnTo>
                  <a:pt x="1549" y="363"/>
                </a:lnTo>
                <a:lnTo>
                  <a:pt x="1543" y="361"/>
                </a:lnTo>
                <a:lnTo>
                  <a:pt x="1538" y="359"/>
                </a:lnTo>
                <a:lnTo>
                  <a:pt x="1532" y="357"/>
                </a:lnTo>
                <a:lnTo>
                  <a:pt x="1526" y="355"/>
                </a:lnTo>
                <a:lnTo>
                  <a:pt x="1518" y="354"/>
                </a:lnTo>
                <a:lnTo>
                  <a:pt x="1509" y="354"/>
                </a:lnTo>
                <a:lnTo>
                  <a:pt x="1499" y="354"/>
                </a:lnTo>
                <a:lnTo>
                  <a:pt x="1490" y="352"/>
                </a:lnTo>
                <a:lnTo>
                  <a:pt x="1478" y="354"/>
                </a:lnTo>
                <a:lnTo>
                  <a:pt x="1467" y="354"/>
                </a:lnTo>
                <a:lnTo>
                  <a:pt x="1455" y="355"/>
                </a:lnTo>
                <a:lnTo>
                  <a:pt x="1442" y="357"/>
                </a:lnTo>
                <a:lnTo>
                  <a:pt x="1386" y="363"/>
                </a:lnTo>
                <a:lnTo>
                  <a:pt x="1330" y="371"/>
                </a:lnTo>
                <a:lnTo>
                  <a:pt x="1302" y="373"/>
                </a:lnTo>
                <a:lnTo>
                  <a:pt x="1273" y="375"/>
                </a:lnTo>
                <a:lnTo>
                  <a:pt x="1242" y="377"/>
                </a:lnTo>
                <a:lnTo>
                  <a:pt x="1211" y="377"/>
                </a:lnTo>
                <a:lnTo>
                  <a:pt x="1211" y="307"/>
                </a:lnTo>
                <a:lnTo>
                  <a:pt x="1242" y="307"/>
                </a:lnTo>
                <a:lnTo>
                  <a:pt x="1273" y="306"/>
                </a:lnTo>
                <a:lnTo>
                  <a:pt x="1302" y="304"/>
                </a:lnTo>
                <a:lnTo>
                  <a:pt x="1330" y="300"/>
                </a:lnTo>
                <a:lnTo>
                  <a:pt x="1359" y="296"/>
                </a:lnTo>
                <a:lnTo>
                  <a:pt x="1386" y="290"/>
                </a:lnTo>
                <a:lnTo>
                  <a:pt x="1415" y="284"/>
                </a:lnTo>
                <a:lnTo>
                  <a:pt x="1442" y="279"/>
                </a:lnTo>
                <a:lnTo>
                  <a:pt x="1455" y="277"/>
                </a:lnTo>
                <a:lnTo>
                  <a:pt x="1469" y="273"/>
                </a:lnTo>
                <a:lnTo>
                  <a:pt x="1480" y="271"/>
                </a:lnTo>
                <a:lnTo>
                  <a:pt x="1492" y="269"/>
                </a:lnTo>
                <a:lnTo>
                  <a:pt x="1501" y="265"/>
                </a:lnTo>
                <a:lnTo>
                  <a:pt x="1513" y="263"/>
                </a:lnTo>
                <a:lnTo>
                  <a:pt x="1520" y="260"/>
                </a:lnTo>
                <a:lnTo>
                  <a:pt x="1530" y="258"/>
                </a:lnTo>
                <a:lnTo>
                  <a:pt x="1538" y="254"/>
                </a:lnTo>
                <a:lnTo>
                  <a:pt x="1545" y="250"/>
                </a:lnTo>
                <a:lnTo>
                  <a:pt x="1551" y="248"/>
                </a:lnTo>
                <a:lnTo>
                  <a:pt x="1557" y="244"/>
                </a:lnTo>
                <a:lnTo>
                  <a:pt x="1561" y="240"/>
                </a:lnTo>
                <a:lnTo>
                  <a:pt x="1564" y="236"/>
                </a:lnTo>
                <a:lnTo>
                  <a:pt x="1568" y="233"/>
                </a:lnTo>
                <a:lnTo>
                  <a:pt x="1570" y="229"/>
                </a:lnTo>
                <a:lnTo>
                  <a:pt x="1574" y="225"/>
                </a:lnTo>
                <a:lnTo>
                  <a:pt x="1578" y="221"/>
                </a:lnTo>
                <a:lnTo>
                  <a:pt x="1584" y="219"/>
                </a:lnTo>
                <a:lnTo>
                  <a:pt x="1589" y="215"/>
                </a:lnTo>
                <a:lnTo>
                  <a:pt x="1595" y="213"/>
                </a:lnTo>
                <a:lnTo>
                  <a:pt x="1603" y="212"/>
                </a:lnTo>
                <a:lnTo>
                  <a:pt x="1609" y="210"/>
                </a:lnTo>
                <a:lnTo>
                  <a:pt x="1616" y="210"/>
                </a:lnTo>
                <a:lnTo>
                  <a:pt x="1618" y="210"/>
                </a:lnTo>
                <a:lnTo>
                  <a:pt x="1620" y="210"/>
                </a:lnTo>
                <a:lnTo>
                  <a:pt x="1624" y="212"/>
                </a:lnTo>
                <a:lnTo>
                  <a:pt x="1628" y="213"/>
                </a:lnTo>
                <a:lnTo>
                  <a:pt x="1632" y="215"/>
                </a:lnTo>
                <a:lnTo>
                  <a:pt x="1637" y="217"/>
                </a:lnTo>
                <a:lnTo>
                  <a:pt x="1643" y="219"/>
                </a:lnTo>
                <a:lnTo>
                  <a:pt x="1649" y="223"/>
                </a:lnTo>
                <a:lnTo>
                  <a:pt x="1657" y="227"/>
                </a:lnTo>
                <a:lnTo>
                  <a:pt x="1662" y="231"/>
                </a:lnTo>
                <a:lnTo>
                  <a:pt x="1670" y="235"/>
                </a:lnTo>
                <a:lnTo>
                  <a:pt x="1680" y="238"/>
                </a:lnTo>
                <a:lnTo>
                  <a:pt x="1697" y="248"/>
                </a:lnTo>
                <a:lnTo>
                  <a:pt x="1716" y="258"/>
                </a:lnTo>
                <a:lnTo>
                  <a:pt x="1728" y="265"/>
                </a:lnTo>
                <a:lnTo>
                  <a:pt x="1735" y="273"/>
                </a:lnTo>
                <a:lnTo>
                  <a:pt x="1745" y="279"/>
                </a:lnTo>
                <a:lnTo>
                  <a:pt x="1753" y="286"/>
                </a:lnTo>
                <a:lnTo>
                  <a:pt x="1760" y="292"/>
                </a:lnTo>
                <a:lnTo>
                  <a:pt x="1768" y="298"/>
                </a:lnTo>
                <a:lnTo>
                  <a:pt x="1774" y="304"/>
                </a:lnTo>
                <a:lnTo>
                  <a:pt x="1779" y="309"/>
                </a:lnTo>
                <a:lnTo>
                  <a:pt x="1783" y="315"/>
                </a:lnTo>
                <a:lnTo>
                  <a:pt x="1787" y="321"/>
                </a:lnTo>
                <a:lnTo>
                  <a:pt x="1791" y="325"/>
                </a:lnTo>
                <a:lnTo>
                  <a:pt x="1795" y="331"/>
                </a:lnTo>
                <a:lnTo>
                  <a:pt x="1797" y="334"/>
                </a:lnTo>
                <a:lnTo>
                  <a:pt x="1799" y="338"/>
                </a:lnTo>
                <a:lnTo>
                  <a:pt x="1799" y="342"/>
                </a:lnTo>
                <a:lnTo>
                  <a:pt x="1799" y="346"/>
                </a:lnTo>
                <a:lnTo>
                  <a:pt x="1799" y="354"/>
                </a:lnTo>
                <a:lnTo>
                  <a:pt x="1799" y="359"/>
                </a:lnTo>
                <a:lnTo>
                  <a:pt x="1795" y="365"/>
                </a:lnTo>
                <a:lnTo>
                  <a:pt x="1793" y="371"/>
                </a:lnTo>
                <a:lnTo>
                  <a:pt x="1789" y="375"/>
                </a:lnTo>
                <a:lnTo>
                  <a:pt x="1783" y="379"/>
                </a:lnTo>
                <a:lnTo>
                  <a:pt x="1777" y="382"/>
                </a:lnTo>
                <a:lnTo>
                  <a:pt x="1772" y="386"/>
                </a:lnTo>
                <a:lnTo>
                  <a:pt x="1766" y="388"/>
                </a:lnTo>
                <a:lnTo>
                  <a:pt x="1760" y="392"/>
                </a:lnTo>
                <a:lnTo>
                  <a:pt x="1753" y="398"/>
                </a:lnTo>
                <a:lnTo>
                  <a:pt x="1745" y="403"/>
                </a:lnTo>
                <a:lnTo>
                  <a:pt x="1737" y="413"/>
                </a:lnTo>
                <a:lnTo>
                  <a:pt x="1728" y="423"/>
                </a:lnTo>
                <a:lnTo>
                  <a:pt x="1718" y="432"/>
                </a:lnTo>
                <a:lnTo>
                  <a:pt x="1708" y="446"/>
                </a:lnTo>
                <a:lnTo>
                  <a:pt x="1697" y="459"/>
                </a:lnTo>
                <a:lnTo>
                  <a:pt x="1685" y="474"/>
                </a:lnTo>
                <a:lnTo>
                  <a:pt x="1672" y="492"/>
                </a:lnTo>
                <a:lnTo>
                  <a:pt x="1659" y="511"/>
                </a:lnTo>
                <a:lnTo>
                  <a:pt x="1645" y="532"/>
                </a:lnTo>
                <a:lnTo>
                  <a:pt x="1630" y="553"/>
                </a:lnTo>
                <a:lnTo>
                  <a:pt x="1614" y="576"/>
                </a:lnTo>
                <a:lnTo>
                  <a:pt x="1597" y="601"/>
                </a:lnTo>
                <a:lnTo>
                  <a:pt x="1580" y="628"/>
                </a:lnTo>
                <a:lnTo>
                  <a:pt x="1564" y="655"/>
                </a:lnTo>
                <a:lnTo>
                  <a:pt x="1547" y="680"/>
                </a:lnTo>
                <a:lnTo>
                  <a:pt x="1530" y="705"/>
                </a:lnTo>
                <a:lnTo>
                  <a:pt x="1513" y="728"/>
                </a:lnTo>
                <a:lnTo>
                  <a:pt x="1495" y="751"/>
                </a:lnTo>
                <a:lnTo>
                  <a:pt x="1478" y="772"/>
                </a:lnTo>
                <a:lnTo>
                  <a:pt x="1461" y="793"/>
                </a:lnTo>
                <a:lnTo>
                  <a:pt x="1444" y="812"/>
                </a:lnTo>
                <a:lnTo>
                  <a:pt x="1426" y="831"/>
                </a:lnTo>
                <a:lnTo>
                  <a:pt x="1409" y="849"/>
                </a:lnTo>
                <a:lnTo>
                  <a:pt x="1392" y="866"/>
                </a:lnTo>
                <a:lnTo>
                  <a:pt x="1374" y="881"/>
                </a:lnTo>
                <a:lnTo>
                  <a:pt x="1357" y="897"/>
                </a:lnTo>
                <a:lnTo>
                  <a:pt x="1340" y="912"/>
                </a:lnTo>
                <a:lnTo>
                  <a:pt x="1323" y="925"/>
                </a:lnTo>
                <a:lnTo>
                  <a:pt x="1288" y="950"/>
                </a:lnTo>
                <a:lnTo>
                  <a:pt x="1254" y="975"/>
                </a:lnTo>
                <a:lnTo>
                  <a:pt x="1219" y="998"/>
                </a:lnTo>
                <a:lnTo>
                  <a:pt x="1185" y="1019"/>
                </a:lnTo>
                <a:lnTo>
                  <a:pt x="1150" y="1039"/>
                </a:lnTo>
                <a:lnTo>
                  <a:pt x="1115" y="1058"/>
                </a:lnTo>
                <a:lnTo>
                  <a:pt x="1081" y="1075"/>
                </a:lnTo>
                <a:lnTo>
                  <a:pt x="1046" y="1092"/>
                </a:lnTo>
                <a:lnTo>
                  <a:pt x="1029" y="1098"/>
                </a:lnTo>
                <a:lnTo>
                  <a:pt x="1012" y="1106"/>
                </a:lnTo>
                <a:lnTo>
                  <a:pt x="996" y="1112"/>
                </a:lnTo>
                <a:lnTo>
                  <a:pt x="981" y="1115"/>
                </a:lnTo>
                <a:lnTo>
                  <a:pt x="968" y="1119"/>
                </a:lnTo>
                <a:lnTo>
                  <a:pt x="956" y="1123"/>
                </a:lnTo>
                <a:lnTo>
                  <a:pt x="945" y="1127"/>
                </a:lnTo>
                <a:lnTo>
                  <a:pt x="935" y="1129"/>
                </a:lnTo>
                <a:lnTo>
                  <a:pt x="927" y="1131"/>
                </a:lnTo>
                <a:lnTo>
                  <a:pt x="920" y="1133"/>
                </a:lnTo>
                <a:lnTo>
                  <a:pt x="914" y="1135"/>
                </a:lnTo>
                <a:lnTo>
                  <a:pt x="908" y="1135"/>
                </a:lnTo>
                <a:lnTo>
                  <a:pt x="904" y="1135"/>
                </a:lnTo>
                <a:lnTo>
                  <a:pt x="902" y="1133"/>
                </a:lnTo>
                <a:lnTo>
                  <a:pt x="900" y="1133"/>
                </a:lnTo>
                <a:lnTo>
                  <a:pt x="900" y="1131"/>
                </a:lnTo>
                <a:lnTo>
                  <a:pt x="899" y="1129"/>
                </a:lnTo>
                <a:lnTo>
                  <a:pt x="899" y="1127"/>
                </a:lnTo>
                <a:lnTo>
                  <a:pt x="899" y="1123"/>
                </a:lnTo>
                <a:lnTo>
                  <a:pt x="900" y="1119"/>
                </a:lnTo>
                <a:lnTo>
                  <a:pt x="902" y="1115"/>
                </a:lnTo>
                <a:lnTo>
                  <a:pt x="906" y="1112"/>
                </a:lnTo>
                <a:lnTo>
                  <a:pt x="910" y="1108"/>
                </a:lnTo>
                <a:lnTo>
                  <a:pt x="914" y="1102"/>
                </a:lnTo>
                <a:lnTo>
                  <a:pt x="920" y="1098"/>
                </a:lnTo>
                <a:lnTo>
                  <a:pt x="925" y="1092"/>
                </a:lnTo>
                <a:lnTo>
                  <a:pt x="933" y="1087"/>
                </a:lnTo>
                <a:lnTo>
                  <a:pt x="941" y="1079"/>
                </a:lnTo>
                <a:lnTo>
                  <a:pt x="950" y="1073"/>
                </a:lnTo>
                <a:lnTo>
                  <a:pt x="960" y="1067"/>
                </a:lnTo>
                <a:lnTo>
                  <a:pt x="971" y="1060"/>
                </a:lnTo>
                <a:lnTo>
                  <a:pt x="983" y="1052"/>
                </a:lnTo>
                <a:lnTo>
                  <a:pt x="995" y="1046"/>
                </a:lnTo>
                <a:lnTo>
                  <a:pt x="1008" y="1041"/>
                </a:lnTo>
                <a:lnTo>
                  <a:pt x="1019" y="1033"/>
                </a:lnTo>
                <a:lnTo>
                  <a:pt x="1033" y="1025"/>
                </a:lnTo>
                <a:lnTo>
                  <a:pt x="1046" y="1016"/>
                </a:lnTo>
                <a:lnTo>
                  <a:pt x="1060" y="1006"/>
                </a:lnTo>
                <a:lnTo>
                  <a:pt x="1073" y="996"/>
                </a:lnTo>
                <a:lnTo>
                  <a:pt x="1087" y="987"/>
                </a:lnTo>
                <a:lnTo>
                  <a:pt x="1102" y="975"/>
                </a:lnTo>
                <a:lnTo>
                  <a:pt x="1117" y="964"/>
                </a:lnTo>
                <a:lnTo>
                  <a:pt x="1131" y="950"/>
                </a:lnTo>
                <a:lnTo>
                  <a:pt x="1146" y="937"/>
                </a:lnTo>
                <a:lnTo>
                  <a:pt x="1163" y="924"/>
                </a:lnTo>
                <a:lnTo>
                  <a:pt x="1179" y="908"/>
                </a:lnTo>
                <a:lnTo>
                  <a:pt x="1196" y="893"/>
                </a:lnTo>
                <a:lnTo>
                  <a:pt x="1211" y="876"/>
                </a:lnTo>
                <a:lnTo>
                  <a:pt x="1246" y="845"/>
                </a:lnTo>
                <a:lnTo>
                  <a:pt x="1279" y="812"/>
                </a:lnTo>
                <a:lnTo>
                  <a:pt x="1311" y="780"/>
                </a:lnTo>
                <a:lnTo>
                  <a:pt x="1344" y="743"/>
                </a:lnTo>
                <a:lnTo>
                  <a:pt x="1376" y="707"/>
                </a:lnTo>
                <a:lnTo>
                  <a:pt x="1392" y="686"/>
                </a:lnTo>
                <a:lnTo>
                  <a:pt x="1407" y="666"/>
                </a:lnTo>
                <a:lnTo>
                  <a:pt x="1422" y="645"/>
                </a:lnTo>
                <a:lnTo>
                  <a:pt x="1438" y="626"/>
                </a:lnTo>
                <a:lnTo>
                  <a:pt x="1453" y="603"/>
                </a:lnTo>
                <a:lnTo>
                  <a:pt x="1469" y="582"/>
                </a:lnTo>
                <a:lnTo>
                  <a:pt x="1482" y="561"/>
                </a:lnTo>
                <a:lnTo>
                  <a:pt x="1493" y="540"/>
                </a:lnTo>
                <a:lnTo>
                  <a:pt x="1505" y="521"/>
                </a:lnTo>
                <a:lnTo>
                  <a:pt x="1515" y="503"/>
                </a:lnTo>
                <a:lnTo>
                  <a:pt x="1524" y="486"/>
                </a:lnTo>
                <a:lnTo>
                  <a:pt x="1532" y="471"/>
                </a:lnTo>
                <a:lnTo>
                  <a:pt x="1540" y="455"/>
                </a:lnTo>
                <a:lnTo>
                  <a:pt x="1545" y="442"/>
                </a:lnTo>
                <a:lnTo>
                  <a:pt x="1551" y="430"/>
                </a:lnTo>
                <a:lnTo>
                  <a:pt x="1555" y="419"/>
                </a:lnTo>
                <a:lnTo>
                  <a:pt x="1559" y="409"/>
                </a:lnTo>
                <a:lnTo>
                  <a:pt x="1561" y="400"/>
                </a:lnTo>
                <a:lnTo>
                  <a:pt x="1563" y="392"/>
                </a:lnTo>
                <a:lnTo>
                  <a:pt x="1563" y="386"/>
                </a:lnTo>
                <a:lnTo>
                  <a:pt x="1563" y="380"/>
                </a:lnTo>
                <a:lnTo>
                  <a:pt x="1561" y="377"/>
                </a:lnTo>
                <a:close/>
                <a:moveTo>
                  <a:pt x="2138" y="1092"/>
                </a:moveTo>
                <a:lnTo>
                  <a:pt x="2121" y="1092"/>
                </a:lnTo>
                <a:lnTo>
                  <a:pt x="2102" y="1094"/>
                </a:lnTo>
                <a:lnTo>
                  <a:pt x="2086" y="1096"/>
                </a:lnTo>
                <a:lnTo>
                  <a:pt x="2069" y="1098"/>
                </a:lnTo>
                <a:lnTo>
                  <a:pt x="2056" y="1100"/>
                </a:lnTo>
                <a:lnTo>
                  <a:pt x="2040" y="1102"/>
                </a:lnTo>
                <a:lnTo>
                  <a:pt x="2027" y="1104"/>
                </a:lnTo>
                <a:lnTo>
                  <a:pt x="2015" y="1106"/>
                </a:lnTo>
                <a:lnTo>
                  <a:pt x="2004" y="1106"/>
                </a:lnTo>
                <a:lnTo>
                  <a:pt x="1992" y="1108"/>
                </a:lnTo>
                <a:lnTo>
                  <a:pt x="1983" y="1108"/>
                </a:lnTo>
                <a:lnTo>
                  <a:pt x="1973" y="1110"/>
                </a:lnTo>
                <a:lnTo>
                  <a:pt x="1966" y="1110"/>
                </a:lnTo>
                <a:lnTo>
                  <a:pt x="1958" y="1110"/>
                </a:lnTo>
                <a:lnTo>
                  <a:pt x="1952" y="1112"/>
                </a:lnTo>
                <a:lnTo>
                  <a:pt x="1946" y="1112"/>
                </a:lnTo>
                <a:lnTo>
                  <a:pt x="1941" y="1110"/>
                </a:lnTo>
                <a:lnTo>
                  <a:pt x="1933" y="1108"/>
                </a:lnTo>
                <a:lnTo>
                  <a:pt x="1925" y="1106"/>
                </a:lnTo>
                <a:lnTo>
                  <a:pt x="1918" y="1102"/>
                </a:lnTo>
                <a:lnTo>
                  <a:pt x="1906" y="1096"/>
                </a:lnTo>
                <a:lnTo>
                  <a:pt x="1896" y="1091"/>
                </a:lnTo>
                <a:lnTo>
                  <a:pt x="1883" y="1085"/>
                </a:lnTo>
                <a:lnTo>
                  <a:pt x="1870" y="1075"/>
                </a:lnTo>
                <a:lnTo>
                  <a:pt x="1856" y="1067"/>
                </a:lnTo>
                <a:lnTo>
                  <a:pt x="1841" y="1056"/>
                </a:lnTo>
                <a:lnTo>
                  <a:pt x="1824" y="1044"/>
                </a:lnTo>
                <a:lnTo>
                  <a:pt x="1806" y="1033"/>
                </a:lnTo>
                <a:lnTo>
                  <a:pt x="1787" y="1019"/>
                </a:lnTo>
                <a:lnTo>
                  <a:pt x="1768" y="1006"/>
                </a:lnTo>
                <a:lnTo>
                  <a:pt x="1747" y="991"/>
                </a:lnTo>
                <a:lnTo>
                  <a:pt x="1726" y="973"/>
                </a:lnTo>
                <a:lnTo>
                  <a:pt x="1714" y="966"/>
                </a:lnTo>
                <a:lnTo>
                  <a:pt x="1703" y="956"/>
                </a:lnTo>
                <a:lnTo>
                  <a:pt x="1689" y="947"/>
                </a:lnTo>
                <a:lnTo>
                  <a:pt x="1676" y="937"/>
                </a:lnTo>
                <a:lnTo>
                  <a:pt x="1662" y="927"/>
                </a:lnTo>
                <a:lnTo>
                  <a:pt x="1649" y="918"/>
                </a:lnTo>
                <a:lnTo>
                  <a:pt x="1634" y="908"/>
                </a:lnTo>
                <a:lnTo>
                  <a:pt x="1618" y="897"/>
                </a:lnTo>
                <a:lnTo>
                  <a:pt x="1601" y="885"/>
                </a:lnTo>
                <a:lnTo>
                  <a:pt x="1584" y="874"/>
                </a:lnTo>
                <a:lnTo>
                  <a:pt x="1566" y="862"/>
                </a:lnTo>
                <a:lnTo>
                  <a:pt x="1549" y="851"/>
                </a:lnTo>
                <a:lnTo>
                  <a:pt x="1530" y="837"/>
                </a:lnTo>
                <a:lnTo>
                  <a:pt x="1511" y="826"/>
                </a:lnTo>
                <a:lnTo>
                  <a:pt x="1492" y="812"/>
                </a:lnTo>
                <a:lnTo>
                  <a:pt x="1470" y="799"/>
                </a:lnTo>
                <a:lnTo>
                  <a:pt x="1449" y="783"/>
                </a:lnTo>
                <a:lnTo>
                  <a:pt x="1428" y="770"/>
                </a:lnTo>
                <a:lnTo>
                  <a:pt x="1407" y="755"/>
                </a:lnTo>
                <a:lnTo>
                  <a:pt x="1384" y="741"/>
                </a:lnTo>
                <a:lnTo>
                  <a:pt x="1359" y="726"/>
                </a:lnTo>
                <a:lnTo>
                  <a:pt x="1336" y="711"/>
                </a:lnTo>
                <a:lnTo>
                  <a:pt x="1311" y="693"/>
                </a:lnTo>
                <a:lnTo>
                  <a:pt x="1286" y="678"/>
                </a:lnTo>
                <a:lnTo>
                  <a:pt x="1261" y="661"/>
                </a:lnTo>
                <a:lnTo>
                  <a:pt x="1234" y="643"/>
                </a:lnTo>
                <a:lnTo>
                  <a:pt x="1208" y="626"/>
                </a:lnTo>
                <a:lnTo>
                  <a:pt x="1181" y="609"/>
                </a:lnTo>
                <a:lnTo>
                  <a:pt x="1152" y="590"/>
                </a:lnTo>
                <a:lnTo>
                  <a:pt x="1123" y="570"/>
                </a:lnTo>
                <a:lnTo>
                  <a:pt x="1094" y="551"/>
                </a:lnTo>
                <a:lnTo>
                  <a:pt x="1066" y="532"/>
                </a:lnTo>
                <a:lnTo>
                  <a:pt x="1092" y="474"/>
                </a:lnTo>
                <a:lnTo>
                  <a:pt x="1112" y="486"/>
                </a:lnTo>
                <a:lnTo>
                  <a:pt x="1133" y="497"/>
                </a:lnTo>
                <a:lnTo>
                  <a:pt x="1154" y="509"/>
                </a:lnTo>
                <a:lnTo>
                  <a:pt x="1177" y="522"/>
                </a:lnTo>
                <a:lnTo>
                  <a:pt x="1202" y="536"/>
                </a:lnTo>
                <a:lnTo>
                  <a:pt x="1227" y="549"/>
                </a:lnTo>
                <a:lnTo>
                  <a:pt x="1252" y="563"/>
                </a:lnTo>
                <a:lnTo>
                  <a:pt x="1279" y="578"/>
                </a:lnTo>
                <a:lnTo>
                  <a:pt x="1307" y="593"/>
                </a:lnTo>
                <a:lnTo>
                  <a:pt x="1336" y="609"/>
                </a:lnTo>
                <a:lnTo>
                  <a:pt x="1367" y="626"/>
                </a:lnTo>
                <a:lnTo>
                  <a:pt x="1398" y="643"/>
                </a:lnTo>
                <a:lnTo>
                  <a:pt x="1430" y="661"/>
                </a:lnTo>
                <a:lnTo>
                  <a:pt x="1463" y="680"/>
                </a:lnTo>
                <a:lnTo>
                  <a:pt x="1497" y="699"/>
                </a:lnTo>
                <a:lnTo>
                  <a:pt x="1534" y="718"/>
                </a:lnTo>
                <a:lnTo>
                  <a:pt x="1568" y="739"/>
                </a:lnTo>
                <a:lnTo>
                  <a:pt x="1605" y="758"/>
                </a:lnTo>
                <a:lnTo>
                  <a:pt x="1639" y="776"/>
                </a:lnTo>
                <a:lnTo>
                  <a:pt x="1674" y="793"/>
                </a:lnTo>
                <a:lnTo>
                  <a:pt x="1708" y="810"/>
                </a:lnTo>
                <a:lnTo>
                  <a:pt x="1741" y="826"/>
                </a:lnTo>
                <a:lnTo>
                  <a:pt x="1776" y="841"/>
                </a:lnTo>
                <a:lnTo>
                  <a:pt x="1808" y="854"/>
                </a:lnTo>
                <a:lnTo>
                  <a:pt x="1841" y="868"/>
                </a:lnTo>
                <a:lnTo>
                  <a:pt x="1873" y="879"/>
                </a:lnTo>
                <a:lnTo>
                  <a:pt x="1904" y="893"/>
                </a:lnTo>
                <a:lnTo>
                  <a:pt x="1937" y="904"/>
                </a:lnTo>
                <a:lnTo>
                  <a:pt x="1967" y="914"/>
                </a:lnTo>
                <a:lnTo>
                  <a:pt x="1996" y="925"/>
                </a:lnTo>
                <a:lnTo>
                  <a:pt x="2056" y="945"/>
                </a:lnTo>
                <a:lnTo>
                  <a:pt x="2071" y="948"/>
                </a:lnTo>
                <a:lnTo>
                  <a:pt x="2085" y="954"/>
                </a:lnTo>
                <a:lnTo>
                  <a:pt x="2111" y="962"/>
                </a:lnTo>
                <a:lnTo>
                  <a:pt x="2134" y="970"/>
                </a:lnTo>
                <a:lnTo>
                  <a:pt x="2157" y="977"/>
                </a:lnTo>
                <a:lnTo>
                  <a:pt x="2179" y="985"/>
                </a:lnTo>
                <a:lnTo>
                  <a:pt x="2198" y="993"/>
                </a:lnTo>
                <a:lnTo>
                  <a:pt x="2215" y="998"/>
                </a:lnTo>
                <a:lnTo>
                  <a:pt x="2228" y="1004"/>
                </a:lnTo>
                <a:lnTo>
                  <a:pt x="2242" y="1008"/>
                </a:lnTo>
                <a:lnTo>
                  <a:pt x="2253" y="1014"/>
                </a:lnTo>
                <a:lnTo>
                  <a:pt x="2263" y="1018"/>
                </a:lnTo>
                <a:lnTo>
                  <a:pt x="2273" y="1021"/>
                </a:lnTo>
                <a:lnTo>
                  <a:pt x="2278" y="1025"/>
                </a:lnTo>
                <a:lnTo>
                  <a:pt x="2282" y="1029"/>
                </a:lnTo>
                <a:lnTo>
                  <a:pt x="2284" y="1031"/>
                </a:lnTo>
                <a:lnTo>
                  <a:pt x="2286" y="1033"/>
                </a:lnTo>
                <a:lnTo>
                  <a:pt x="2284" y="1037"/>
                </a:lnTo>
                <a:lnTo>
                  <a:pt x="2284" y="1041"/>
                </a:lnTo>
                <a:lnTo>
                  <a:pt x="2280" y="1044"/>
                </a:lnTo>
                <a:lnTo>
                  <a:pt x="2276" y="1046"/>
                </a:lnTo>
                <a:lnTo>
                  <a:pt x="2273" y="1050"/>
                </a:lnTo>
                <a:lnTo>
                  <a:pt x="2265" y="1054"/>
                </a:lnTo>
                <a:lnTo>
                  <a:pt x="2259" y="1058"/>
                </a:lnTo>
                <a:lnTo>
                  <a:pt x="2250" y="1062"/>
                </a:lnTo>
                <a:lnTo>
                  <a:pt x="2240" y="1066"/>
                </a:lnTo>
                <a:lnTo>
                  <a:pt x="2230" y="1069"/>
                </a:lnTo>
                <a:lnTo>
                  <a:pt x="2217" y="1073"/>
                </a:lnTo>
                <a:lnTo>
                  <a:pt x="2204" y="1077"/>
                </a:lnTo>
                <a:lnTo>
                  <a:pt x="2190" y="1081"/>
                </a:lnTo>
                <a:lnTo>
                  <a:pt x="2175" y="1085"/>
                </a:lnTo>
                <a:lnTo>
                  <a:pt x="2157" y="1089"/>
                </a:lnTo>
                <a:lnTo>
                  <a:pt x="2138" y="1092"/>
                </a:lnTo>
                <a:close/>
                <a:moveTo>
                  <a:pt x="1369" y="1591"/>
                </a:moveTo>
                <a:lnTo>
                  <a:pt x="1348" y="1607"/>
                </a:lnTo>
                <a:lnTo>
                  <a:pt x="1328" y="1620"/>
                </a:lnTo>
                <a:lnTo>
                  <a:pt x="1307" y="1634"/>
                </a:lnTo>
                <a:lnTo>
                  <a:pt x="1288" y="1647"/>
                </a:lnTo>
                <a:lnTo>
                  <a:pt x="1269" y="1659"/>
                </a:lnTo>
                <a:lnTo>
                  <a:pt x="1250" y="1672"/>
                </a:lnTo>
                <a:lnTo>
                  <a:pt x="1211" y="1695"/>
                </a:lnTo>
                <a:lnTo>
                  <a:pt x="1175" y="1714"/>
                </a:lnTo>
                <a:lnTo>
                  <a:pt x="1140" y="1733"/>
                </a:lnTo>
                <a:lnTo>
                  <a:pt x="1106" y="1753"/>
                </a:lnTo>
                <a:lnTo>
                  <a:pt x="1075" y="1768"/>
                </a:lnTo>
                <a:lnTo>
                  <a:pt x="1060" y="1776"/>
                </a:lnTo>
                <a:lnTo>
                  <a:pt x="1046" y="1785"/>
                </a:lnTo>
                <a:lnTo>
                  <a:pt x="1033" y="1791"/>
                </a:lnTo>
                <a:lnTo>
                  <a:pt x="1019" y="1797"/>
                </a:lnTo>
                <a:lnTo>
                  <a:pt x="1008" y="1803"/>
                </a:lnTo>
                <a:lnTo>
                  <a:pt x="996" y="1808"/>
                </a:lnTo>
                <a:lnTo>
                  <a:pt x="987" y="1812"/>
                </a:lnTo>
                <a:lnTo>
                  <a:pt x="979" y="1814"/>
                </a:lnTo>
                <a:lnTo>
                  <a:pt x="970" y="1816"/>
                </a:lnTo>
                <a:lnTo>
                  <a:pt x="964" y="1818"/>
                </a:lnTo>
                <a:lnTo>
                  <a:pt x="956" y="1820"/>
                </a:lnTo>
                <a:lnTo>
                  <a:pt x="950" y="1820"/>
                </a:lnTo>
                <a:lnTo>
                  <a:pt x="947" y="1820"/>
                </a:lnTo>
                <a:lnTo>
                  <a:pt x="943" y="1820"/>
                </a:lnTo>
                <a:lnTo>
                  <a:pt x="939" y="1818"/>
                </a:lnTo>
                <a:lnTo>
                  <a:pt x="937" y="1816"/>
                </a:lnTo>
                <a:lnTo>
                  <a:pt x="937" y="1814"/>
                </a:lnTo>
                <a:lnTo>
                  <a:pt x="937" y="1810"/>
                </a:lnTo>
                <a:lnTo>
                  <a:pt x="939" y="1806"/>
                </a:lnTo>
                <a:lnTo>
                  <a:pt x="945" y="1803"/>
                </a:lnTo>
                <a:lnTo>
                  <a:pt x="950" y="1795"/>
                </a:lnTo>
                <a:lnTo>
                  <a:pt x="958" y="1789"/>
                </a:lnTo>
                <a:lnTo>
                  <a:pt x="968" y="1779"/>
                </a:lnTo>
                <a:lnTo>
                  <a:pt x="979" y="1770"/>
                </a:lnTo>
                <a:lnTo>
                  <a:pt x="991" y="1760"/>
                </a:lnTo>
                <a:lnTo>
                  <a:pt x="1006" y="1749"/>
                </a:lnTo>
                <a:lnTo>
                  <a:pt x="1023" y="1735"/>
                </a:lnTo>
                <a:lnTo>
                  <a:pt x="1041" y="1720"/>
                </a:lnTo>
                <a:lnTo>
                  <a:pt x="1060" y="1705"/>
                </a:lnTo>
                <a:lnTo>
                  <a:pt x="1081" y="1687"/>
                </a:lnTo>
                <a:lnTo>
                  <a:pt x="1104" y="1670"/>
                </a:lnTo>
                <a:lnTo>
                  <a:pt x="1129" y="1651"/>
                </a:lnTo>
                <a:lnTo>
                  <a:pt x="1154" y="1630"/>
                </a:lnTo>
                <a:lnTo>
                  <a:pt x="1179" y="1611"/>
                </a:lnTo>
                <a:lnTo>
                  <a:pt x="1202" y="1591"/>
                </a:lnTo>
                <a:lnTo>
                  <a:pt x="1223" y="1574"/>
                </a:lnTo>
                <a:lnTo>
                  <a:pt x="1244" y="1557"/>
                </a:lnTo>
                <a:lnTo>
                  <a:pt x="1265" y="1542"/>
                </a:lnTo>
                <a:lnTo>
                  <a:pt x="1284" y="1524"/>
                </a:lnTo>
                <a:lnTo>
                  <a:pt x="1302" y="1511"/>
                </a:lnTo>
                <a:lnTo>
                  <a:pt x="1319" y="1495"/>
                </a:lnTo>
                <a:lnTo>
                  <a:pt x="1334" y="1482"/>
                </a:lnTo>
                <a:lnTo>
                  <a:pt x="1348" y="1469"/>
                </a:lnTo>
                <a:lnTo>
                  <a:pt x="1361" y="1457"/>
                </a:lnTo>
                <a:lnTo>
                  <a:pt x="1374" y="1446"/>
                </a:lnTo>
                <a:lnTo>
                  <a:pt x="1386" y="1434"/>
                </a:lnTo>
                <a:lnTo>
                  <a:pt x="1396" y="1424"/>
                </a:lnTo>
                <a:lnTo>
                  <a:pt x="1405" y="1415"/>
                </a:lnTo>
                <a:lnTo>
                  <a:pt x="1421" y="1398"/>
                </a:lnTo>
                <a:lnTo>
                  <a:pt x="1428" y="1388"/>
                </a:lnTo>
                <a:lnTo>
                  <a:pt x="1436" y="1380"/>
                </a:lnTo>
                <a:lnTo>
                  <a:pt x="1442" y="1373"/>
                </a:lnTo>
                <a:lnTo>
                  <a:pt x="1447" y="1365"/>
                </a:lnTo>
                <a:lnTo>
                  <a:pt x="1453" y="1357"/>
                </a:lnTo>
                <a:lnTo>
                  <a:pt x="1457" y="1352"/>
                </a:lnTo>
                <a:lnTo>
                  <a:pt x="1461" y="1346"/>
                </a:lnTo>
                <a:lnTo>
                  <a:pt x="1465" y="1340"/>
                </a:lnTo>
                <a:lnTo>
                  <a:pt x="1467" y="1334"/>
                </a:lnTo>
                <a:lnTo>
                  <a:pt x="1469" y="1328"/>
                </a:lnTo>
                <a:lnTo>
                  <a:pt x="1470" y="1325"/>
                </a:lnTo>
                <a:lnTo>
                  <a:pt x="1470" y="1323"/>
                </a:lnTo>
                <a:lnTo>
                  <a:pt x="1470" y="1319"/>
                </a:lnTo>
                <a:lnTo>
                  <a:pt x="1469" y="1317"/>
                </a:lnTo>
                <a:lnTo>
                  <a:pt x="1467" y="1313"/>
                </a:lnTo>
                <a:lnTo>
                  <a:pt x="1465" y="1307"/>
                </a:lnTo>
                <a:lnTo>
                  <a:pt x="1463" y="1304"/>
                </a:lnTo>
                <a:lnTo>
                  <a:pt x="1463" y="1298"/>
                </a:lnTo>
                <a:lnTo>
                  <a:pt x="1465" y="1292"/>
                </a:lnTo>
                <a:lnTo>
                  <a:pt x="1469" y="1286"/>
                </a:lnTo>
                <a:lnTo>
                  <a:pt x="1472" y="1282"/>
                </a:lnTo>
                <a:lnTo>
                  <a:pt x="1478" y="1279"/>
                </a:lnTo>
                <a:lnTo>
                  <a:pt x="1486" y="1275"/>
                </a:lnTo>
                <a:lnTo>
                  <a:pt x="1493" y="1275"/>
                </a:lnTo>
                <a:lnTo>
                  <a:pt x="1503" y="1275"/>
                </a:lnTo>
                <a:lnTo>
                  <a:pt x="1513" y="1277"/>
                </a:lnTo>
                <a:lnTo>
                  <a:pt x="1524" y="1282"/>
                </a:lnTo>
                <a:lnTo>
                  <a:pt x="1536" y="1288"/>
                </a:lnTo>
                <a:lnTo>
                  <a:pt x="1547" y="1296"/>
                </a:lnTo>
                <a:lnTo>
                  <a:pt x="1561" y="1307"/>
                </a:lnTo>
                <a:lnTo>
                  <a:pt x="1570" y="1321"/>
                </a:lnTo>
                <a:lnTo>
                  <a:pt x="1580" y="1334"/>
                </a:lnTo>
                <a:lnTo>
                  <a:pt x="1588" y="1346"/>
                </a:lnTo>
                <a:lnTo>
                  <a:pt x="1593" y="1357"/>
                </a:lnTo>
                <a:lnTo>
                  <a:pt x="1599" y="1367"/>
                </a:lnTo>
                <a:lnTo>
                  <a:pt x="1603" y="1375"/>
                </a:lnTo>
                <a:lnTo>
                  <a:pt x="1607" y="1380"/>
                </a:lnTo>
                <a:lnTo>
                  <a:pt x="1607" y="1386"/>
                </a:lnTo>
                <a:lnTo>
                  <a:pt x="1607" y="1390"/>
                </a:lnTo>
                <a:lnTo>
                  <a:pt x="1605" y="1394"/>
                </a:lnTo>
                <a:lnTo>
                  <a:pt x="1603" y="1399"/>
                </a:lnTo>
                <a:lnTo>
                  <a:pt x="1599" y="1405"/>
                </a:lnTo>
                <a:lnTo>
                  <a:pt x="1593" y="1413"/>
                </a:lnTo>
                <a:lnTo>
                  <a:pt x="1588" y="1421"/>
                </a:lnTo>
                <a:lnTo>
                  <a:pt x="1580" y="1426"/>
                </a:lnTo>
                <a:lnTo>
                  <a:pt x="1570" y="1434"/>
                </a:lnTo>
                <a:lnTo>
                  <a:pt x="1564" y="1440"/>
                </a:lnTo>
                <a:lnTo>
                  <a:pt x="1559" y="1446"/>
                </a:lnTo>
                <a:lnTo>
                  <a:pt x="1551" y="1453"/>
                </a:lnTo>
                <a:lnTo>
                  <a:pt x="1541" y="1461"/>
                </a:lnTo>
                <a:lnTo>
                  <a:pt x="1534" y="1469"/>
                </a:lnTo>
                <a:lnTo>
                  <a:pt x="1522" y="1476"/>
                </a:lnTo>
                <a:lnTo>
                  <a:pt x="1513" y="1484"/>
                </a:lnTo>
                <a:lnTo>
                  <a:pt x="1499" y="1494"/>
                </a:lnTo>
                <a:lnTo>
                  <a:pt x="1488" y="1503"/>
                </a:lnTo>
                <a:lnTo>
                  <a:pt x="1472" y="1515"/>
                </a:lnTo>
                <a:lnTo>
                  <a:pt x="1457" y="1526"/>
                </a:lnTo>
                <a:lnTo>
                  <a:pt x="1442" y="1538"/>
                </a:lnTo>
                <a:lnTo>
                  <a:pt x="1424" y="1549"/>
                </a:lnTo>
                <a:lnTo>
                  <a:pt x="1407" y="1563"/>
                </a:lnTo>
                <a:lnTo>
                  <a:pt x="1388" y="1576"/>
                </a:lnTo>
                <a:lnTo>
                  <a:pt x="1369" y="1591"/>
                </a:lnTo>
                <a:close/>
                <a:moveTo>
                  <a:pt x="1277" y="2071"/>
                </a:moveTo>
                <a:lnTo>
                  <a:pt x="1254" y="2085"/>
                </a:lnTo>
                <a:lnTo>
                  <a:pt x="1232" y="2096"/>
                </a:lnTo>
                <a:lnTo>
                  <a:pt x="1188" y="2119"/>
                </a:lnTo>
                <a:lnTo>
                  <a:pt x="1146" y="2142"/>
                </a:lnTo>
                <a:lnTo>
                  <a:pt x="1102" y="2161"/>
                </a:lnTo>
                <a:lnTo>
                  <a:pt x="1060" y="2182"/>
                </a:lnTo>
                <a:lnTo>
                  <a:pt x="1016" y="2202"/>
                </a:lnTo>
                <a:lnTo>
                  <a:pt x="971" y="2219"/>
                </a:lnTo>
                <a:lnTo>
                  <a:pt x="927" y="2238"/>
                </a:lnTo>
                <a:lnTo>
                  <a:pt x="906" y="2246"/>
                </a:lnTo>
                <a:lnTo>
                  <a:pt x="885" y="2252"/>
                </a:lnTo>
                <a:lnTo>
                  <a:pt x="866" y="2257"/>
                </a:lnTo>
                <a:lnTo>
                  <a:pt x="849" y="2263"/>
                </a:lnTo>
                <a:lnTo>
                  <a:pt x="831" y="2267"/>
                </a:lnTo>
                <a:lnTo>
                  <a:pt x="816" y="2271"/>
                </a:lnTo>
                <a:lnTo>
                  <a:pt x="803" y="2275"/>
                </a:lnTo>
                <a:lnTo>
                  <a:pt x="791" y="2277"/>
                </a:lnTo>
                <a:lnTo>
                  <a:pt x="780" y="2278"/>
                </a:lnTo>
                <a:lnTo>
                  <a:pt x="768" y="2280"/>
                </a:lnTo>
                <a:lnTo>
                  <a:pt x="760" y="2280"/>
                </a:lnTo>
                <a:lnTo>
                  <a:pt x="753" y="2280"/>
                </a:lnTo>
                <a:lnTo>
                  <a:pt x="745" y="2280"/>
                </a:lnTo>
                <a:lnTo>
                  <a:pt x="741" y="2280"/>
                </a:lnTo>
                <a:lnTo>
                  <a:pt x="737" y="2278"/>
                </a:lnTo>
                <a:lnTo>
                  <a:pt x="735" y="2277"/>
                </a:lnTo>
                <a:lnTo>
                  <a:pt x="734" y="2275"/>
                </a:lnTo>
                <a:lnTo>
                  <a:pt x="735" y="2273"/>
                </a:lnTo>
                <a:lnTo>
                  <a:pt x="735" y="2271"/>
                </a:lnTo>
                <a:lnTo>
                  <a:pt x="737" y="2269"/>
                </a:lnTo>
                <a:lnTo>
                  <a:pt x="737" y="2265"/>
                </a:lnTo>
                <a:lnTo>
                  <a:pt x="741" y="2263"/>
                </a:lnTo>
                <a:lnTo>
                  <a:pt x="743" y="2259"/>
                </a:lnTo>
                <a:lnTo>
                  <a:pt x="747" y="2255"/>
                </a:lnTo>
                <a:lnTo>
                  <a:pt x="751" y="2252"/>
                </a:lnTo>
                <a:lnTo>
                  <a:pt x="757" y="2248"/>
                </a:lnTo>
                <a:lnTo>
                  <a:pt x="762" y="2244"/>
                </a:lnTo>
                <a:lnTo>
                  <a:pt x="768" y="2238"/>
                </a:lnTo>
                <a:lnTo>
                  <a:pt x="774" y="2234"/>
                </a:lnTo>
                <a:lnTo>
                  <a:pt x="781" y="2230"/>
                </a:lnTo>
                <a:lnTo>
                  <a:pt x="789" y="2225"/>
                </a:lnTo>
                <a:lnTo>
                  <a:pt x="797" y="2219"/>
                </a:lnTo>
                <a:lnTo>
                  <a:pt x="806" y="2213"/>
                </a:lnTo>
                <a:lnTo>
                  <a:pt x="816" y="2207"/>
                </a:lnTo>
                <a:lnTo>
                  <a:pt x="826" y="2202"/>
                </a:lnTo>
                <a:lnTo>
                  <a:pt x="837" y="2196"/>
                </a:lnTo>
                <a:lnTo>
                  <a:pt x="849" y="2188"/>
                </a:lnTo>
                <a:lnTo>
                  <a:pt x="860" y="2182"/>
                </a:lnTo>
                <a:lnTo>
                  <a:pt x="872" y="2175"/>
                </a:lnTo>
                <a:lnTo>
                  <a:pt x="885" y="2167"/>
                </a:lnTo>
                <a:lnTo>
                  <a:pt x="899" y="2159"/>
                </a:lnTo>
                <a:lnTo>
                  <a:pt x="912" y="2152"/>
                </a:lnTo>
                <a:lnTo>
                  <a:pt x="927" y="2144"/>
                </a:lnTo>
                <a:lnTo>
                  <a:pt x="943" y="2136"/>
                </a:lnTo>
                <a:lnTo>
                  <a:pt x="960" y="2127"/>
                </a:lnTo>
                <a:lnTo>
                  <a:pt x="975" y="2119"/>
                </a:lnTo>
                <a:lnTo>
                  <a:pt x="993" y="2110"/>
                </a:lnTo>
                <a:lnTo>
                  <a:pt x="1010" y="2100"/>
                </a:lnTo>
                <a:lnTo>
                  <a:pt x="1044" y="2083"/>
                </a:lnTo>
                <a:lnTo>
                  <a:pt x="1077" y="2064"/>
                </a:lnTo>
                <a:lnTo>
                  <a:pt x="1110" y="2044"/>
                </a:lnTo>
                <a:lnTo>
                  <a:pt x="1140" y="2027"/>
                </a:lnTo>
                <a:lnTo>
                  <a:pt x="1171" y="2008"/>
                </a:lnTo>
                <a:lnTo>
                  <a:pt x="1200" y="1991"/>
                </a:lnTo>
                <a:lnTo>
                  <a:pt x="1229" y="1973"/>
                </a:lnTo>
                <a:lnTo>
                  <a:pt x="1257" y="1954"/>
                </a:lnTo>
                <a:lnTo>
                  <a:pt x="1284" y="1937"/>
                </a:lnTo>
                <a:lnTo>
                  <a:pt x="1309" y="1920"/>
                </a:lnTo>
                <a:lnTo>
                  <a:pt x="1334" y="1902"/>
                </a:lnTo>
                <a:lnTo>
                  <a:pt x="1357" y="1885"/>
                </a:lnTo>
                <a:lnTo>
                  <a:pt x="1380" y="1868"/>
                </a:lnTo>
                <a:lnTo>
                  <a:pt x="1401" y="1850"/>
                </a:lnTo>
                <a:lnTo>
                  <a:pt x="1422" y="1833"/>
                </a:lnTo>
                <a:lnTo>
                  <a:pt x="1442" y="1816"/>
                </a:lnTo>
                <a:lnTo>
                  <a:pt x="1459" y="1801"/>
                </a:lnTo>
                <a:lnTo>
                  <a:pt x="1476" y="1785"/>
                </a:lnTo>
                <a:lnTo>
                  <a:pt x="1493" y="1770"/>
                </a:lnTo>
                <a:lnTo>
                  <a:pt x="1509" y="1756"/>
                </a:lnTo>
                <a:lnTo>
                  <a:pt x="1522" y="1741"/>
                </a:lnTo>
                <a:lnTo>
                  <a:pt x="1536" y="1730"/>
                </a:lnTo>
                <a:lnTo>
                  <a:pt x="1549" y="1716"/>
                </a:lnTo>
                <a:lnTo>
                  <a:pt x="1561" y="1705"/>
                </a:lnTo>
                <a:lnTo>
                  <a:pt x="1572" y="1693"/>
                </a:lnTo>
                <a:lnTo>
                  <a:pt x="1582" y="1684"/>
                </a:lnTo>
                <a:lnTo>
                  <a:pt x="1591" y="1674"/>
                </a:lnTo>
                <a:lnTo>
                  <a:pt x="1599" y="1664"/>
                </a:lnTo>
                <a:lnTo>
                  <a:pt x="1607" y="1655"/>
                </a:lnTo>
                <a:lnTo>
                  <a:pt x="1612" y="1647"/>
                </a:lnTo>
                <a:lnTo>
                  <a:pt x="1620" y="1637"/>
                </a:lnTo>
                <a:lnTo>
                  <a:pt x="1626" y="1630"/>
                </a:lnTo>
                <a:lnTo>
                  <a:pt x="1634" y="1620"/>
                </a:lnTo>
                <a:lnTo>
                  <a:pt x="1641" y="1609"/>
                </a:lnTo>
                <a:lnTo>
                  <a:pt x="1649" y="1597"/>
                </a:lnTo>
                <a:lnTo>
                  <a:pt x="1653" y="1586"/>
                </a:lnTo>
                <a:lnTo>
                  <a:pt x="1655" y="1576"/>
                </a:lnTo>
                <a:lnTo>
                  <a:pt x="1657" y="1565"/>
                </a:lnTo>
                <a:lnTo>
                  <a:pt x="1655" y="1553"/>
                </a:lnTo>
                <a:lnTo>
                  <a:pt x="1653" y="1542"/>
                </a:lnTo>
                <a:lnTo>
                  <a:pt x="1649" y="1536"/>
                </a:lnTo>
                <a:lnTo>
                  <a:pt x="1647" y="1530"/>
                </a:lnTo>
                <a:lnTo>
                  <a:pt x="1647" y="1524"/>
                </a:lnTo>
                <a:lnTo>
                  <a:pt x="1649" y="1518"/>
                </a:lnTo>
                <a:lnTo>
                  <a:pt x="1649" y="1517"/>
                </a:lnTo>
                <a:lnTo>
                  <a:pt x="1651" y="1515"/>
                </a:lnTo>
                <a:lnTo>
                  <a:pt x="1653" y="1513"/>
                </a:lnTo>
                <a:lnTo>
                  <a:pt x="1655" y="1511"/>
                </a:lnTo>
                <a:lnTo>
                  <a:pt x="1659" y="1509"/>
                </a:lnTo>
                <a:lnTo>
                  <a:pt x="1662" y="1507"/>
                </a:lnTo>
                <a:lnTo>
                  <a:pt x="1666" y="1505"/>
                </a:lnTo>
                <a:lnTo>
                  <a:pt x="1672" y="1503"/>
                </a:lnTo>
                <a:lnTo>
                  <a:pt x="1674" y="1501"/>
                </a:lnTo>
                <a:lnTo>
                  <a:pt x="1678" y="1501"/>
                </a:lnTo>
                <a:lnTo>
                  <a:pt x="1682" y="1501"/>
                </a:lnTo>
                <a:lnTo>
                  <a:pt x="1687" y="1501"/>
                </a:lnTo>
                <a:lnTo>
                  <a:pt x="1691" y="1503"/>
                </a:lnTo>
                <a:lnTo>
                  <a:pt x="1695" y="1505"/>
                </a:lnTo>
                <a:lnTo>
                  <a:pt x="1701" y="1507"/>
                </a:lnTo>
                <a:lnTo>
                  <a:pt x="1706" y="1511"/>
                </a:lnTo>
                <a:lnTo>
                  <a:pt x="1710" y="1515"/>
                </a:lnTo>
                <a:lnTo>
                  <a:pt x="1716" y="1518"/>
                </a:lnTo>
                <a:lnTo>
                  <a:pt x="1722" y="1524"/>
                </a:lnTo>
                <a:lnTo>
                  <a:pt x="1728" y="1530"/>
                </a:lnTo>
                <a:lnTo>
                  <a:pt x="1733" y="1538"/>
                </a:lnTo>
                <a:lnTo>
                  <a:pt x="1741" y="1545"/>
                </a:lnTo>
                <a:lnTo>
                  <a:pt x="1747" y="1553"/>
                </a:lnTo>
                <a:lnTo>
                  <a:pt x="1754" y="1563"/>
                </a:lnTo>
                <a:lnTo>
                  <a:pt x="1766" y="1580"/>
                </a:lnTo>
                <a:lnTo>
                  <a:pt x="1777" y="1595"/>
                </a:lnTo>
                <a:lnTo>
                  <a:pt x="1781" y="1603"/>
                </a:lnTo>
                <a:lnTo>
                  <a:pt x="1787" y="1609"/>
                </a:lnTo>
                <a:lnTo>
                  <a:pt x="1791" y="1616"/>
                </a:lnTo>
                <a:lnTo>
                  <a:pt x="1793" y="1622"/>
                </a:lnTo>
                <a:lnTo>
                  <a:pt x="1797" y="1628"/>
                </a:lnTo>
                <a:lnTo>
                  <a:pt x="1799" y="1634"/>
                </a:lnTo>
                <a:lnTo>
                  <a:pt x="1801" y="1637"/>
                </a:lnTo>
                <a:lnTo>
                  <a:pt x="1801" y="1643"/>
                </a:lnTo>
                <a:lnTo>
                  <a:pt x="1802" y="1647"/>
                </a:lnTo>
                <a:lnTo>
                  <a:pt x="1802" y="1653"/>
                </a:lnTo>
                <a:lnTo>
                  <a:pt x="1801" y="1657"/>
                </a:lnTo>
                <a:lnTo>
                  <a:pt x="1799" y="1660"/>
                </a:lnTo>
                <a:lnTo>
                  <a:pt x="1797" y="1664"/>
                </a:lnTo>
                <a:lnTo>
                  <a:pt x="1793" y="1668"/>
                </a:lnTo>
                <a:lnTo>
                  <a:pt x="1789" y="1674"/>
                </a:lnTo>
                <a:lnTo>
                  <a:pt x="1783" y="1682"/>
                </a:lnTo>
                <a:lnTo>
                  <a:pt x="1777" y="1689"/>
                </a:lnTo>
                <a:lnTo>
                  <a:pt x="1770" y="1697"/>
                </a:lnTo>
                <a:lnTo>
                  <a:pt x="1760" y="1707"/>
                </a:lnTo>
                <a:lnTo>
                  <a:pt x="1751" y="1716"/>
                </a:lnTo>
                <a:lnTo>
                  <a:pt x="1739" y="1728"/>
                </a:lnTo>
                <a:lnTo>
                  <a:pt x="1726" y="1739"/>
                </a:lnTo>
                <a:lnTo>
                  <a:pt x="1712" y="1753"/>
                </a:lnTo>
                <a:lnTo>
                  <a:pt x="1697" y="1766"/>
                </a:lnTo>
                <a:lnTo>
                  <a:pt x="1682" y="1779"/>
                </a:lnTo>
                <a:lnTo>
                  <a:pt x="1664" y="1795"/>
                </a:lnTo>
                <a:lnTo>
                  <a:pt x="1645" y="1810"/>
                </a:lnTo>
                <a:lnTo>
                  <a:pt x="1626" y="1826"/>
                </a:lnTo>
                <a:lnTo>
                  <a:pt x="1605" y="1845"/>
                </a:lnTo>
                <a:lnTo>
                  <a:pt x="1584" y="1862"/>
                </a:lnTo>
                <a:lnTo>
                  <a:pt x="1563" y="1879"/>
                </a:lnTo>
                <a:lnTo>
                  <a:pt x="1541" y="1897"/>
                </a:lnTo>
                <a:lnTo>
                  <a:pt x="1497" y="1929"/>
                </a:lnTo>
                <a:lnTo>
                  <a:pt x="1455" y="1960"/>
                </a:lnTo>
                <a:lnTo>
                  <a:pt x="1411" y="1989"/>
                </a:lnTo>
                <a:lnTo>
                  <a:pt x="1365" y="2017"/>
                </a:lnTo>
                <a:lnTo>
                  <a:pt x="1321" y="2044"/>
                </a:lnTo>
                <a:lnTo>
                  <a:pt x="1277" y="2071"/>
                </a:lnTo>
                <a:close/>
                <a:moveTo>
                  <a:pt x="670" y="768"/>
                </a:moveTo>
                <a:lnTo>
                  <a:pt x="664" y="751"/>
                </a:lnTo>
                <a:lnTo>
                  <a:pt x="661" y="735"/>
                </a:lnTo>
                <a:lnTo>
                  <a:pt x="659" y="722"/>
                </a:lnTo>
                <a:lnTo>
                  <a:pt x="657" y="709"/>
                </a:lnTo>
                <a:lnTo>
                  <a:pt x="657" y="699"/>
                </a:lnTo>
                <a:lnTo>
                  <a:pt x="657" y="691"/>
                </a:lnTo>
                <a:lnTo>
                  <a:pt x="659" y="684"/>
                </a:lnTo>
                <a:lnTo>
                  <a:pt x="663" y="680"/>
                </a:lnTo>
                <a:lnTo>
                  <a:pt x="666" y="676"/>
                </a:lnTo>
                <a:lnTo>
                  <a:pt x="670" y="674"/>
                </a:lnTo>
                <a:lnTo>
                  <a:pt x="676" y="674"/>
                </a:lnTo>
                <a:lnTo>
                  <a:pt x="682" y="674"/>
                </a:lnTo>
                <a:lnTo>
                  <a:pt x="689" y="676"/>
                </a:lnTo>
                <a:lnTo>
                  <a:pt x="697" y="678"/>
                </a:lnTo>
                <a:lnTo>
                  <a:pt x="707" y="684"/>
                </a:lnTo>
                <a:lnTo>
                  <a:pt x="716" y="689"/>
                </a:lnTo>
                <a:lnTo>
                  <a:pt x="737" y="705"/>
                </a:lnTo>
                <a:lnTo>
                  <a:pt x="757" y="718"/>
                </a:lnTo>
                <a:lnTo>
                  <a:pt x="766" y="726"/>
                </a:lnTo>
                <a:lnTo>
                  <a:pt x="776" y="734"/>
                </a:lnTo>
                <a:lnTo>
                  <a:pt x="783" y="741"/>
                </a:lnTo>
                <a:lnTo>
                  <a:pt x="791" y="749"/>
                </a:lnTo>
                <a:lnTo>
                  <a:pt x="791" y="755"/>
                </a:lnTo>
                <a:lnTo>
                  <a:pt x="793" y="762"/>
                </a:lnTo>
                <a:lnTo>
                  <a:pt x="795" y="770"/>
                </a:lnTo>
                <a:lnTo>
                  <a:pt x="797" y="780"/>
                </a:lnTo>
                <a:lnTo>
                  <a:pt x="799" y="791"/>
                </a:lnTo>
                <a:lnTo>
                  <a:pt x="801" y="803"/>
                </a:lnTo>
                <a:lnTo>
                  <a:pt x="801" y="816"/>
                </a:lnTo>
                <a:lnTo>
                  <a:pt x="803" y="831"/>
                </a:lnTo>
                <a:lnTo>
                  <a:pt x="805" y="847"/>
                </a:lnTo>
                <a:lnTo>
                  <a:pt x="805" y="864"/>
                </a:lnTo>
                <a:lnTo>
                  <a:pt x="806" y="881"/>
                </a:lnTo>
                <a:lnTo>
                  <a:pt x="806" y="901"/>
                </a:lnTo>
                <a:lnTo>
                  <a:pt x="808" y="922"/>
                </a:lnTo>
                <a:lnTo>
                  <a:pt x="808" y="945"/>
                </a:lnTo>
                <a:lnTo>
                  <a:pt x="808" y="968"/>
                </a:lnTo>
                <a:lnTo>
                  <a:pt x="808" y="993"/>
                </a:lnTo>
                <a:lnTo>
                  <a:pt x="808" y="1048"/>
                </a:lnTo>
                <a:lnTo>
                  <a:pt x="808" y="1102"/>
                </a:lnTo>
                <a:lnTo>
                  <a:pt x="808" y="1156"/>
                </a:lnTo>
                <a:lnTo>
                  <a:pt x="806" y="1208"/>
                </a:lnTo>
                <a:lnTo>
                  <a:pt x="806" y="1259"/>
                </a:lnTo>
                <a:lnTo>
                  <a:pt x="805" y="1311"/>
                </a:lnTo>
                <a:lnTo>
                  <a:pt x="803" y="1363"/>
                </a:lnTo>
                <a:lnTo>
                  <a:pt x="799" y="1415"/>
                </a:lnTo>
                <a:lnTo>
                  <a:pt x="797" y="1442"/>
                </a:lnTo>
                <a:lnTo>
                  <a:pt x="797" y="1467"/>
                </a:lnTo>
                <a:lnTo>
                  <a:pt x="795" y="1490"/>
                </a:lnTo>
                <a:lnTo>
                  <a:pt x="793" y="1511"/>
                </a:lnTo>
                <a:lnTo>
                  <a:pt x="791" y="1530"/>
                </a:lnTo>
                <a:lnTo>
                  <a:pt x="789" y="1547"/>
                </a:lnTo>
                <a:lnTo>
                  <a:pt x="787" y="1565"/>
                </a:lnTo>
                <a:lnTo>
                  <a:pt x="785" y="1578"/>
                </a:lnTo>
                <a:lnTo>
                  <a:pt x="781" y="1589"/>
                </a:lnTo>
                <a:lnTo>
                  <a:pt x="780" y="1601"/>
                </a:lnTo>
                <a:lnTo>
                  <a:pt x="778" y="1611"/>
                </a:lnTo>
                <a:lnTo>
                  <a:pt x="776" y="1618"/>
                </a:lnTo>
                <a:lnTo>
                  <a:pt x="772" y="1624"/>
                </a:lnTo>
                <a:lnTo>
                  <a:pt x="770" y="1628"/>
                </a:lnTo>
                <a:lnTo>
                  <a:pt x="766" y="1630"/>
                </a:lnTo>
                <a:lnTo>
                  <a:pt x="762" y="1630"/>
                </a:lnTo>
                <a:lnTo>
                  <a:pt x="758" y="1630"/>
                </a:lnTo>
                <a:lnTo>
                  <a:pt x="753" y="1630"/>
                </a:lnTo>
                <a:lnTo>
                  <a:pt x="749" y="1628"/>
                </a:lnTo>
                <a:lnTo>
                  <a:pt x="745" y="1624"/>
                </a:lnTo>
                <a:lnTo>
                  <a:pt x="741" y="1622"/>
                </a:lnTo>
                <a:lnTo>
                  <a:pt x="737" y="1618"/>
                </a:lnTo>
                <a:lnTo>
                  <a:pt x="735" y="1613"/>
                </a:lnTo>
                <a:lnTo>
                  <a:pt x="734" y="1607"/>
                </a:lnTo>
                <a:lnTo>
                  <a:pt x="730" y="1601"/>
                </a:lnTo>
                <a:lnTo>
                  <a:pt x="728" y="1593"/>
                </a:lnTo>
                <a:lnTo>
                  <a:pt x="726" y="1586"/>
                </a:lnTo>
                <a:lnTo>
                  <a:pt x="724" y="1576"/>
                </a:lnTo>
                <a:lnTo>
                  <a:pt x="722" y="1566"/>
                </a:lnTo>
                <a:lnTo>
                  <a:pt x="720" y="1557"/>
                </a:lnTo>
                <a:lnTo>
                  <a:pt x="718" y="1545"/>
                </a:lnTo>
                <a:lnTo>
                  <a:pt x="716" y="1532"/>
                </a:lnTo>
                <a:lnTo>
                  <a:pt x="714" y="1518"/>
                </a:lnTo>
                <a:lnTo>
                  <a:pt x="712" y="1503"/>
                </a:lnTo>
                <a:lnTo>
                  <a:pt x="712" y="1488"/>
                </a:lnTo>
                <a:lnTo>
                  <a:pt x="710" y="1470"/>
                </a:lnTo>
                <a:lnTo>
                  <a:pt x="709" y="1449"/>
                </a:lnTo>
                <a:lnTo>
                  <a:pt x="707" y="1430"/>
                </a:lnTo>
                <a:lnTo>
                  <a:pt x="705" y="1407"/>
                </a:lnTo>
                <a:lnTo>
                  <a:pt x="705" y="1382"/>
                </a:lnTo>
                <a:lnTo>
                  <a:pt x="703" y="1357"/>
                </a:lnTo>
                <a:lnTo>
                  <a:pt x="701" y="1330"/>
                </a:lnTo>
                <a:lnTo>
                  <a:pt x="701" y="1302"/>
                </a:lnTo>
                <a:lnTo>
                  <a:pt x="699" y="1271"/>
                </a:lnTo>
                <a:lnTo>
                  <a:pt x="699" y="1238"/>
                </a:lnTo>
                <a:lnTo>
                  <a:pt x="699" y="1204"/>
                </a:lnTo>
                <a:lnTo>
                  <a:pt x="699" y="1169"/>
                </a:lnTo>
                <a:lnTo>
                  <a:pt x="699" y="1131"/>
                </a:lnTo>
                <a:lnTo>
                  <a:pt x="699" y="1112"/>
                </a:lnTo>
                <a:lnTo>
                  <a:pt x="699" y="1092"/>
                </a:lnTo>
                <a:lnTo>
                  <a:pt x="699" y="1075"/>
                </a:lnTo>
                <a:lnTo>
                  <a:pt x="697" y="1058"/>
                </a:lnTo>
                <a:lnTo>
                  <a:pt x="697" y="1041"/>
                </a:lnTo>
                <a:lnTo>
                  <a:pt x="697" y="1023"/>
                </a:lnTo>
                <a:lnTo>
                  <a:pt x="697" y="1008"/>
                </a:lnTo>
                <a:lnTo>
                  <a:pt x="697" y="993"/>
                </a:lnTo>
                <a:lnTo>
                  <a:pt x="695" y="977"/>
                </a:lnTo>
                <a:lnTo>
                  <a:pt x="695" y="964"/>
                </a:lnTo>
                <a:lnTo>
                  <a:pt x="695" y="948"/>
                </a:lnTo>
                <a:lnTo>
                  <a:pt x="695" y="935"/>
                </a:lnTo>
                <a:lnTo>
                  <a:pt x="693" y="924"/>
                </a:lnTo>
                <a:lnTo>
                  <a:pt x="693" y="910"/>
                </a:lnTo>
                <a:lnTo>
                  <a:pt x="691" y="899"/>
                </a:lnTo>
                <a:lnTo>
                  <a:pt x="691" y="887"/>
                </a:lnTo>
                <a:lnTo>
                  <a:pt x="691" y="876"/>
                </a:lnTo>
                <a:lnTo>
                  <a:pt x="689" y="866"/>
                </a:lnTo>
                <a:lnTo>
                  <a:pt x="689" y="854"/>
                </a:lnTo>
                <a:lnTo>
                  <a:pt x="687" y="847"/>
                </a:lnTo>
                <a:lnTo>
                  <a:pt x="686" y="837"/>
                </a:lnTo>
                <a:lnTo>
                  <a:pt x="686" y="828"/>
                </a:lnTo>
                <a:lnTo>
                  <a:pt x="684" y="812"/>
                </a:lnTo>
                <a:lnTo>
                  <a:pt x="680" y="799"/>
                </a:lnTo>
                <a:lnTo>
                  <a:pt x="678" y="787"/>
                </a:lnTo>
                <a:lnTo>
                  <a:pt x="674" y="776"/>
                </a:lnTo>
                <a:lnTo>
                  <a:pt x="670" y="768"/>
                </a:lnTo>
                <a:close/>
                <a:moveTo>
                  <a:pt x="1085" y="1336"/>
                </a:moveTo>
                <a:lnTo>
                  <a:pt x="1112" y="1321"/>
                </a:lnTo>
                <a:lnTo>
                  <a:pt x="1138" y="1304"/>
                </a:lnTo>
                <a:lnTo>
                  <a:pt x="1167" y="1284"/>
                </a:lnTo>
                <a:lnTo>
                  <a:pt x="1194" y="1265"/>
                </a:lnTo>
                <a:lnTo>
                  <a:pt x="1221" y="1242"/>
                </a:lnTo>
                <a:lnTo>
                  <a:pt x="1250" y="1219"/>
                </a:lnTo>
                <a:lnTo>
                  <a:pt x="1277" y="1196"/>
                </a:lnTo>
                <a:lnTo>
                  <a:pt x="1303" y="1169"/>
                </a:lnTo>
                <a:lnTo>
                  <a:pt x="1315" y="1158"/>
                </a:lnTo>
                <a:lnTo>
                  <a:pt x="1327" y="1144"/>
                </a:lnTo>
                <a:lnTo>
                  <a:pt x="1336" y="1133"/>
                </a:lnTo>
                <a:lnTo>
                  <a:pt x="1346" y="1121"/>
                </a:lnTo>
                <a:lnTo>
                  <a:pt x="1355" y="1112"/>
                </a:lnTo>
                <a:lnTo>
                  <a:pt x="1363" y="1100"/>
                </a:lnTo>
                <a:lnTo>
                  <a:pt x="1371" y="1091"/>
                </a:lnTo>
                <a:lnTo>
                  <a:pt x="1376" y="1081"/>
                </a:lnTo>
                <a:lnTo>
                  <a:pt x="1382" y="1073"/>
                </a:lnTo>
                <a:lnTo>
                  <a:pt x="1388" y="1064"/>
                </a:lnTo>
                <a:lnTo>
                  <a:pt x="1392" y="1056"/>
                </a:lnTo>
                <a:lnTo>
                  <a:pt x="1394" y="1048"/>
                </a:lnTo>
                <a:lnTo>
                  <a:pt x="1396" y="1041"/>
                </a:lnTo>
                <a:lnTo>
                  <a:pt x="1398" y="1035"/>
                </a:lnTo>
                <a:lnTo>
                  <a:pt x="1398" y="1029"/>
                </a:lnTo>
                <a:lnTo>
                  <a:pt x="1396" y="1023"/>
                </a:lnTo>
                <a:lnTo>
                  <a:pt x="1394" y="1012"/>
                </a:lnTo>
                <a:lnTo>
                  <a:pt x="1392" y="1004"/>
                </a:lnTo>
                <a:lnTo>
                  <a:pt x="1394" y="998"/>
                </a:lnTo>
                <a:lnTo>
                  <a:pt x="1396" y="993"/>
                </a:lnTo>
                <a:lnTo>
                  <a:pt x="1399" y="989"/>
                </a:lnTo>
                <a:lnTo>
                  <a:pt x="1405" y="985"/>
                </a:lnTo>
                <a:lnTo>
                  <a:pt x="1413" y="985"/>
                </a:lnTo>
                <a:lnTo>
                  <a:pt x="1422" y="983"/>
                </a:lnTo>
                <a:lnTo>
                  <a:pt x="1434" y="987"/>
                </a:lnTo>
                <a:lnTo>
                  <a:pt x="1442" y="991"/>
                </a:lnTo>
                <a:lnTo>
                  <a:pt x="1451" y="996"/>
                </a:lnTo>
                <a:lnTo>
                  <a:pt x="1461" y="1000"/>
                </a:lnTo>
                <a:lnTo>
                  <a:pt x="1469" y="1006"/>
                </a:lnTo>
                <a:lnTo>
                  <a:pt x="1478" y="1014"/>
                </a:lnTo>
                <a:lnTo>
                  <a:pt x="1486" y="1023"/>
                </a:lnTo>
                <a:lnTo>
                  <a:pt x="1497" y="1033"/>
                </a:lnTo>
                <a:lnTo>
                  <a:pt x="1507" y="1044"/>
                </a:lnTo>
                <a:lnTo>
                  <a:pt x="1515" y="1054"/>
                </a:lnTo>
                <a:lnTo>
                  <a:pt x="1520" y="1066"/>
                </a:lnTo>
                <a:lnTo>
                  <a:pt x="1526" y="1075"/>
                </a:lnTo>
                <a:lnTo>
                  <a:pt x="1528" y="1083"/>
                </a:lnTo>
                <a:lnTo>
                  <a:pt x="1532" y="1091"/>
                </a:lnTo>
                <a:lnTo>
                  <a:pt x="1534" y="1096"/>
                </a:lnTo>
                <a:lnTo>
                  <a:pt x="1534" y="1102"/>
                </a:lnTo>
                <a:lnTo>
                  <a:pt x="1532" y="1106"/>
                </a:lnTo>
                <a:lnTo>
                  <a:pt x="1528" y="1110"/>
                </a:lnTo>
                <a:lnTo>
                  <a:pt x="1524" y="1114"/>
                </a:lnTo>
                <a:lnTo>
                  <a:pt x="1520" y="1119"/>
                </a:lnTo>
                <a:lnTo>
                  <a:pt x="1515" y="1125"/>
                </a:lnTo>
                <a:lnTo>
                  <a:pt x="1507" y="1133"/>
                </a:lnTo>
                <a:lnTo>
                  <a:pt x="1499" y="1138"/>
                </a:lnTo>
                <a:lnTo>
                  <a:pt x="1492" y="1146"/>
                </a:lnTo>
                <a:lnTo>
                  <a:pt x="1482" y="1154"/>
                </a:lnTo>
                <a:lnTo>
                  <a:pt x="1472" y="1163"/>
                </a:lnTo>
                <a:lnTo>
                  <a:pt x="1463" y="1173"/>
                </a:lnTo>
                <a:lnTo>
                  <a:pt x="1451" y="1183"/>
                </a:lnTo>
                <a:lnTo>
                  <a:pt x="1438" y="1192"/>
                </a:lnTo>
                <a:lnTo>
                  <a:pt x="1424" y="1204"/>
                </a:lnTo>
                <a:lnTo>
                  <a:pt x="1411" y="1215"/>
                </a:lnTo>
                <a:lnTo>
                  <a:pt x="1396" y="1229"/>
                </a:lnTo>
                <a:lnTo>
                  <a:pt x="1378" y="1242"/>
                </a:lnTo>
                <a:lnTo>
                  <a:pt x="1361" y="1254"/>
                </a:lnTo>
                <a:lnTo>
                  <a:pt x="1344" y="1265"/>
                </a:lnTo>
                <a:lnTo>
                  <a:pt x="1327" y="1277"/>
                </a:lnTo>
                <a:lnTo>
                  <a:pt x="1311" y="1288"/>
                </a:lnTo>
                <a:lnTo>
                  <a:pt x="1294" y="1298"/>
                </a:lnTo>
                <a:lnTo>
                  <a:pt x="1259" y="1317"/>
                </a:lnTo>
                <a:lnTo>
                  <a:pt x="1227" y="1334"/>
                </a:lnTo>
                <a:lnTo>
                  <a:pt x="1192" y="1350"/>
                </a:lnTo>
                <a:lnTo>
                  <a:pt x="1161" y="1363"/>
                </a:lnTo>
                <a:lnTo>
                  <a:pt x="1129" y="1376"/>
                </a:lnTo>
                <a:lnTo>
                  <a:pt x="1115" y="1382"/>
                </a:lnTo>
                <a:lnTo>
                  <a:pt x="1100" y="1390"/>
                </a:lnTo>
                <a:lnTo>
                  <a:pt x="1087" y="1396"/>
                </a:lnTo>
                <a:lnTo>
                  <a:pt x="1075" y="1399"/>
                </a:lnTo>
                <a:lnTo>
                  <a:pt x="1064" y="1405"/>
                </a:lnTo>
                <a:lnTo>
                  <a:pt x="1052" y="1407"/>
                </a:lnTo>
                <a:lnTo>
                  <a:pt x="1042" y="1411"/>
                </a:lnTo>
                <a:lnTo>
                  <a:pt x="1033" y="1413"/>
                </a:lnTo>
                <a:lnTo>
                  <a:pt x="1025" y="1417"/>
                </a:lnTo>
                <a:lnTo>
                  <a:pt x="1018" y="1417"/>
                </a:lnTo>
                <a:lnTo>
                  <a:pt x="1012" y="1419"/>
                </a:lnTo>
                <a:lnTo>
                  <a:pt x="1006" y="1419"/>
                </a:lnTo>
                <a:lnTo>
                  <a:pt x="1000" y="1419"/>
                </a:lnTo>
                <a:lnTo>
                  <a:pt x="996" y="1417"/>
                </a:lnTo>
                <a:lnTo>
                  <a:pt x="995" y="1417"/>
                </a:lnTo>
                <a:lnTo>
                  <a:pt x="993" y="1415"/>
                </a:lnTo>
                <a:lnTo>
                  <a:pt x="991" y="1413"/>
                </a:lnTo>
                <a:lnTo>
                  <a:pt x="991" y="1411"/>
                </a:lnTo>
                <a:lnTo>
                  <a:pt x="991" y="1407"/>
                </a:lnTo>
                <a:lnTo>
                  <a:pt x="993" y="1403"/>
                </a:lnTo>
                <a:lnTo>
                  <a:pt x="996" y="1399"/>
                </a:lnTo>
                <a:lnTo>
                  <a:pt x="1000" y="1396"/>
                </a:lnTo>
                <a:lnTo>
                  <a:pt x="1004" y="1392"/>
                </a:lnTo>
                <a:lnTo>
                  <a:pt x="1010" y="1386"/>
                </a:lnTo>
                <a:lnTo>
                  <a:pt x="1018" y="1382"/>
                </a:lnTo>
                <a:lnTo>
                  <a:pt x="1025" y="1376"/>
                </a:lnTo>
                <a:lnTo>
                  <a:pt x="1033" y="1371"/>
                </a:lnTo>
                <a:lnTo>
                  <a:pt x="1041" y="1365"/>
                </a:lnTo>
                <a:lnTo>
                  <a:pt x="1050" y="1357"/>
                </a:lnTo>
                <a:lnTo>
                  <a:pt x="1062" y="1352"/>
                </a:lnTo>
                <a:lnTo>
                  <a:pt x="1071" y="1344"/>
                </a:lnTo>
                <a:lnTo>
                  <a:pt x="1085" y="1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1916280" y="2293920"/>
            <a:ext cx="561960" cy="871560"/>
          </a:xfrm>
          <a:custGeom>
            <a:avLst/>
            <a:gdLst/>
            <a:ahLst/>
            <a:rect l="l" t="t" r="r" b="b"/>
            <a:pathLst>
              <a:path w="709" h="1097">
                <a:moveTo>
                  <a:pt x="0" y="1097"/>
                </a:moveTo>
                <a:lnTo>
                  <a:pt x="0" y="1093"/>
                </a:lnTo>
                <a:lnTo>
                  <a:pt x="0" y="1090"/>
                </a:lnTo>
                <a:lnTo>
                  <a:pt x="2" y="1084"/>
                </a:lnTo>
                <a:lnTo>
                  <a:pt x="4" y="1076"/>
                </a:lnTo>
                <a:lnTo>
                  <a:pt x="8" y="1069"/>
                </a:lnTo>
                <a:lnTo>
                  <a:pt x="14" y="1057"/>
                </a:lnTo>
                <a:lnTo>
                  <a:pt x="22" y="1045"/>
                </a:lnTo>
                <a:lnTo>
                  <a:pt x="29" y="1034"/>
                </a:lnTo>
                <a:lnTo>
                  <a:pt x="39" y="1019"/>
                </a:lnTo>
                <a:lnTo>
                  <a:pt x="48" y="1003"/>
                </a:lnTo>
                <a:lnTo>
                  <a:pt x="60" y="986"/>
                </a:lnTo>
                <a:lnTo>
                  <a:pt x="73" y="967"/>
                </a:lnTo>
                <a:lnTo>
                  <a:pt x="89" y="948"/>
                </a:lnTo>
                <a:lnTo>
                  <a:pt x="104" y="926"/>
                </a:lnTo>
                <a:lnTo>
                  <a:pt x="121" y="903"/>
                </a:lnTo>
                <a:lnTo>
                  <a:pt x="139" y="880"/>
                </a:lnTo>
                <a:lnTo>
                  <a:pt x="171" y="832"/>
                </a:lnTo>
                <a:lnTo>
                  <a:pt x="204" y="784"/>
                </a:lnTo>
                <a:lnTo>
                  <a:pt x="235" y="738"/>
                </a:lnTo>
                <a:lnTo>
                  <a:pt x="263" y="690"/>
                </a:lnTo>
                <a:lnTo>
                  <a:pt x="292" y="644"/>
                </a:lnTo>
                <a:lnTo>
                  <a:pt x="319" y="598"/>
                </a:lnTo>
                <a:lnTo>
                  <a:pt x="344" y="552"/>
                </a:lnTo>
                <a:lnTo>
                  <a:pt x="369" y="508"/>
                </a:lnTo>
                <a:lnTo>
                  <a:pt x="392" y="468"/>
                </a:lnTo>
                <a:lnTo>
                  <a:pt x="413" y="429"/>
                </a:lnTo>
                <a:lnTo>
                  <a:pt x="432" y="391"/>
                </a:lnTo>
                <a:lnTo>
                  <a:pt x="451" y="355"/>
                </a:lnTo>
                <a:lnTo>
                  <a:pt x="467" y="320"/>
                </a:lnTo>
                <a:lnTo>
                  <a:pt x="482" y="287"/>
                </a:lnTo>
                <a:lnTo>
                  <a:pt x="496" y="255"/>
                </a:lnTo>
                <a:lnTo>
                  <a:pt x="501" y="239"/>
                </a:lnTo>
                <a:lnTo>
                  <a:pt x="505" y="224"/>
                </a:lnTo>
                <a:lnTo>
                  <a:pt x="511" y="209"/>
                </a:lnTo>
                <a:lnTo>
                  <a:pt x="515" y="195"/>
                </a:lnTo>
                <a:lnTo>
                  <a:pt x="521" y="182"/>
                </a:lnTo>
                <a:lnTo>
                  <a:pt x="524" y="168"/>
                </a:lnTo>
                <a:lnTo>
                  <a:pt x="528" y="157"/>
                </a:lnTo>
                <a:lnTo>
                  <a:pt x="532" y="145"/>
                </a:lnTo>
                <a:lnTo>
                  <a:pt x="534" y="134"/>
                </a:lnTo>
                <a:lnTo>
                  <a:pt x="538" y="122"/>
                </a:lnTo>
                <a:lnTo>
                  <a:pt x="540" y="113"/>
                </a:lnTo>
                <a:lnTo>
                  <a:pt x="542" y="103"/>
                </a:lnTo>
                <a:lnTo>
                  <a:pt x="544" y="94"/>
                </a:lnTo>
                <a:lnTo>
                  <a:pt x="544" y="86"/>
                </a:lnTo>
                <a:lnTo>
                  <a:pt x="545" y="76"/>
                </a:lnTo>
                <a:lnTo>
                  <a:pt x="545" y="71"/>
                </a:lnTo>
                <a:lnTo>
                  <a:pt x="544" y="63"/>
                </a:lnTo>
                <a:lnTo>
                  <a:pt x="542" y="57"/>
                </a:lnTo>
                <a:lnTo>
                  <a:pt x="540" y="48"/>
                </a:lnTo>
                <a:lnTo>
                  <a:pt x="538" y="38"/>
                </a:lnTo>
                <a:lnTo>
                  <a:pt x="536" y="28"/>
                </a:lnTo>
                <a:lnTo>
                  <a:pt x="536" y="21"/>
                </a:lnTo>
                <a:lnTo>
                  <a:pt x="538" y="15"/>
                </a:lnTo>
                <a:lnTo>
                  <a:pt x="542" y="7"/>
                </a:lnTo>
                <a:lnTo>
                  <a:pt x="545" y="3"/>
                </a:lnTo>
                <a:lnTo>
                  <a:pt x="551" y="0"/>
                </a:lnTo>
                <a:lnTo>
                  <a:pt x="559" y="0"/>
                </a:lnTo>
                <a:lnTo>
                  <a:pt x="567" y="3"/>
                </a:lnTo>
                <a:lnTo>
                  <a:pt x="576" y="7"/>
                </a:lnTo>
                <a:lnTo>
                  <a:pt x="588" y="13"/>
                </a:lnTo>
                <a:lnTo>
                  <a:pt x="599" y="23"/>
                </a:lnTo>
                <a:lnTo>
                  <a:pt x="613" y="32"/>
                </a:lnTo>
                <a:lnTo>
                  <a:pt x="628" y="44"/>
                </a:lnTo>
                <a:lnTo>
                  <a:pt x="643" y="57"/>
                </a:lnTo>
                <a:lnTo>
                  <a:pt x="651" y="65"/>
                </a:lnTo>
                <a:lnTo>
                  <a:pt x="659" y="72"/>
                </a:lnTo>
                <a:lnTo>
                  <a:pt x="666" y="78"/>
                </a:lnTo>
                <a:lnTo>
                  <a:pt x="672" y="86"/>
                </a:lnTo>
                <a:lnTo>
                  <a:pt x="678" y="92"/>
                </a:lnTo>
                <a:lnTo>
                  <a:pt x="684" y="97"/>
                </a:lnTo>
                <a:lnTo>
                  <a:pt x="689" y="103"/>
                </a:lnTo>
                <a:lnTo>
                  <a:pt x="693" y="109"/>
                </a:lnTo>
                <a:lnTo>
                  <a:pt x="697" y="115"/>
                </a:lnTo>
                <a:lnTo>
                  <a:pt x="699" y="120"/>
                </a:lnTo>
                <a:lnTo>
                  <a:pt x="703" y="124"/>
                </a:lnTo>
                <a:lnTo>
                  <a:pt x="705" y="130"/>
                </a:lnTo>
                <a:lnTo>
                  <a:pt x="705" y="134"/>
                </a:lnTo>
                <a:lnTo>
                  <a:pt x="707" y="138"/>
                </a:lnTo>
                <a:lnTo>
                  <a:pt x="709" y="145"/>
                </a:lnTo>
                <a:lnTo>
                  <a:pt x="707" y="149"/>
                </a:lnTo>
                <a:lnTo>
                  <a:pt x="707" y="153"/>
                </a:lnTo>
                <a:lnTo>
                  <a:pt x="707" y="157"/>
                </a:lnTo>
                <a:lnTo>
                  <a:pt x="705" y="161"/>
                </a:lnTo>
                <a:lnTo>
                  <a:pt x="703" y="167"/>
                </a:lnTo>
                <a:lnTo>
                  <a:pt x="701" y="172"/>
                </a:lnTo>
                <a:lnTo>
                  <a:pt x="699" y="178"/>
                </a:lnTo>
                <a:lnTo>
                  <a:pt x="695" y="184"/>
                </a:lnTo>
                <a:lnTo>
                  <a:pt x="693" y="191"/>
                </a:lnTo>
                <a:lnTo>
                  <a:pt x="689" y="199"/>
                </a:lnTo>
                <a:lnTo>
                  <a:pt x="686" y="207"/>
                </a:lnTo>
                <a:lnTo>
                  <a:pt x="680" y="216"/>
                </a:lnTo>
                <a:lnTo>
                  <a:pt x="676" y="224"/>
                </a:lnTo>
                <a:lnTo>
                  <a:pt x="670" y="236"/>
                </a:lnTo>
                <a:lnTo>
                  <a:pt x="666" y="245"/>
                </a:lnTo>
                <a:lnTo>
                  <a:pt x="661" y="255"/>
                </a:lnTo>
                <a:lnTo>
                  <a:pt x="653" y="266"/>
                </a:lnTo>
                <a:lnTo>
                  <a:pt x="647" y="278"/>
                </a:lnTo>
                <a:lnTo>
                  <a:pt x="641" y="291"/>
                </a:lnTo>
                <a:lnTo>
                  <a:pt x="634" y="305"/>
                </a:lnTo>
                <a:lnTo>
                  <a:pt x="626" y="318"/>
                </a:lnTo>
                <a:lnTo>
                  <a:pt x="618" y="332"/>
                </a:lnTo>
                <a:lnTo>
                  <a:pt x="611" y="345"/>
                </a:lnTo>
                <a:lnTo>
                  <a:pt x="603" y="360"/>
                </a:lnTo>
                <a:lnTo>
                  <a:pt x="593" y="376"/>
                </a:lnTo>
                <a:lnTo>
                  <a:pt x="584" y="391"/>
                </a:lnTo>
                <a:lnTo>
                  <a:pt x="576" y="408"/>
                </a:lnTo>
                <a:lnTo>
                  <a:pt x="567" y="426"/>
                </a:lnTo>
                <a:lnTo>
                  <a:pt x="555" y="443"/>
                </a:lnTo>
                <a:lnTo>
                  <a:pt x="545" y="460"/>
                </a:lnTo>
                <a:lnTo>
                  <a:pt x="536" y="479"/>
                </a:lnTo>
                <a:lnTo>
                  <a:pt x="524" y="499"/>
                </a:lnTo>
                <a:lnTo>
                  <a:pt x="501" y="539"/>
                </a:lnTo>
                <a:lnTo>
                  <a:pt x="476" y="577"/>
                </a:lnTo>
                <a:lnTo>
                  <a:pt x="453" y="614"/>
                </a:lnTo>
                <a:lnTo>
                  <a:pt x="430" y="650"/>
                </a:lnTo>
                <a:lnTo>
                  <a:pt x="407" y="685"/>
                </a:lnTo>
                <a:lnTo>
                  <a:pt x="384" y="717"/>
                </a:lnTo>
                <a:lnTo>
                  <a:pt x="361" y="748"/>
                </a:lnTo>
                <a:lnTo>
                  <a:pt x="340" y="779"/>
                </a:lnTo>
                <a:lnTo>
                  <a:pt x="317" y="808"/>
                </a:lnTo>
                <a:lnTo>
                  <a:pt x="296" y="834"/>
                </a:lnTo>
                <a:lnTo>
                  <a:pt x="275" y="859"/>
                </a:lnTo>
                <a:lnTo>
                  <a:pt x="254" y="884"/>
                </a:lnTo>
                <a:lnTo>
                  <a:pt x="235" y="907"/>
                </a:lnTo>
                <a:lnTo>
                  <a:pt x="213" y="928"/>
                </a:lnTo>
                <a:lnTo>
                  <a:pt x="194" y="950"/>
                </a:lnTo>
                <a:lnTo>
                  <a:pt x="175" y="969"/>
                </a:lnTo>
                <a:lnTo>
                  <a:pt x="158" y="986"/>
                </a:lnTo>
                <a:lnTo>
                  <a:pt x="141" y="1003"/>
                </a:lnTo>
                <a:lnTo>
                  <a:pt x="123" y="1019"/>
                </a:lnTo>
                <a:lnTo>
                  <a:pt x="108" y="1032"/>
                </a:lnTo>
                <a:lnTo>
                  <a:pt x="93" y="1044"/>
                </a:lnTo>
                <a:lnTo>
                  <a:pt x="79" y="1055"/>
                </a:lnTo>
                <a:lnTo>
                  <a:pt x="66" y="1065"/>
                </a:lnTo>
                <a:lnTo>
                  <a:pt x="54" y="1074"/>
                </a:lnTo>
                <a:lnTo>
                  <a:pt x="43" y="1080"/>
                </a:lnTo>
                <a:lnTo>
                  <a:pt x="33" y="1086"/>
                </a:lnTo>
                <a:lnTo>
                  <a:pt x="25" y="1092"/>
                </a:lnTo>
                <a:lnTo>
                  <a:pt x="18" y="1095"/>
                </a:lnTo>
                <a:lnTo>
                  <a:pt x="12" y="1097"/>
                </a:lnTo>
                <a:lnTo>
                  <a:pt x="6" y="1097"/>
                </a:lnTo>
                <a:lnTo>
                  <a:pt x="4" y="1097"/>
                </a:lnTo>
                <a:lnTo>
                  <a:pt x="0" y="109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2185920" y="2782800"/>
            <a:ext cx="146160" cy="1096920"/>
          </a:xfrm>
          <a:custGeom>
            <a:avLst/>
            <a:gdLst/>
            <a:ahLst/>
            <a:rect l="l" t="t" r="r" b="b"/>
            <a:pathLst>
              <a:path w="184" h="1381">
                <a:moveTo>
                  <a:pt x="29" y="1293"/>
                </a:moveTo>
                <a:lnTo>
                  <a:pt x="21" y="1272"/>
                </a:lnTo>
                <a:lnTo>
                  <a:pt x="15" y="1253"/>
                </a:lnTo>
                <a:lnTo>
                  <a:pt x="12" y="1236"/>
                </a:lnTo>
                <a:lnTo>
                  <a:pt x="8" y="1220"/>
                </a:lnTo>
                <a:lnTo>
                  <a:pt x="4" y="1207"/>
                </a:lnTo>
                <a:lnTo>
                  <a:pt x="2" y="1195"/>
                </a:lnTo>
                <a:lnTo>
                  <a:pt x="0" y="1184"/>
                </a:lnTo>
                <a:lnTo>
                  <a:pt x="0" y="1176"/>
                </a:lnTo>
                <a:lnTo>
                  <a:pt x="0" y="1172"/>
                </a:lnTo>
                <a:lnTo>
                  <a:pt x="2" y="1166"/>
                </a:lnTo>
                <a:lnTo>
                  <a:pt x="2" y="1159"/>
                </a:lnTo>
                <a:lnTo>
                  <a:pt x="2" y="1149"/>
                </a:lnTo>
                <a:lnTo>
                  <a:pt x="4" y="1138"/>
                </a:lnTo>
                <a:lnTo>
                  <a:pt x="6" y="1126"/>
                </a:lnTo>
                <a:lnTo>
                  <a:pt x="6" y="1111"/>
                </a:lnTo>
                <a:lnTo>
                  <a:pt x="10" y="1095"/>
                </a:lnTo>
                <a:lnTo>
                  <a:pt x="12" y="1078"/>
                </a:lnTo>
                <a:lnTo>
                  <a:pt x="14" y="1059"/>
                </a:lnTo>
                <a:lnTo>
                  <a:pt x="17" y="1038"/>
                </a:lnTo>
                <a:lnTo>
                  <a:pt x="19" y="1017"/>
                </a:lnTo>
                <a:lnTo>
                  <a:pt x="23" y="992"/>
                </a:lnTo>
                <a:lnTo>
                  <a:pt x="29" y="967"/>
                </a:lnTo>
                <a:lnTo>
                  <a:pt x="33" y="940"/>
                </a:lnTo>
                <a:lnTo>
                  <a:pt x="37" y="911"/>
                </a:lnTo>
                <a:lnTo>
                  <a:pt x="44" y="854"/>
                </a:lnTo>
                <a:lnTo>
                  <a:pt x="50" y="794"/>
                </a:lnTo>
                <a:lnTo>
                  <a:pt x="54" y="735"/>
                </a:lnTo>
                <a:lnTo>
                  <a:pt x="58" y="675"/>
                </a:lnTo>
                <a:lnTo>
                  <a:pt x="62" y="616"/>
                </a:lnTo>
                <a:lnTo>
                  <a:pt x="63" y="554"/>
                </a:lnTo>
                <a:lnTo>
                  <a:pt x="65" y="493"/>
                </a:lnTo>
                <a:lnTo>
                  <a:pt x="65" y="431"/>
                </a:lnTo>
                <a:lnTo>
                  <a:pt x="65" y="401"/>
                </a:lnTo>
                <a:lnTo>
                  <a:pt x="65" y="370"/>
                </a:lnTo>
                <a:lnTo>
                  <a:pt x="63" y="341"/>
                </a:lnTo>
                <a:lnTo>
                  <a:pt x="63" y="312"/>
                </a:lnTo>
                <a:lnTo>
                  <a:pt x="62" y="284"/>
                </a:lnTo>
                <a:lnTo>
                  <a:pt x="62" y="255"/>
                </a:lnTo>
                <a:lnTo>
                  <a:pt x="60" y="228"/>
                </a:lnTo>
                <a:lnTo>
                  <a:pt x="58" y="201"/>
                </a:lnTo>
                <a:lnTo>
                  <a:pt x="54" y="149"/>
                </a:lnTo>
                <a:lnTo>
                  <a:pt x="50" y="97"/>
                </a:lnTo>
                <a:lnTo>
                  <a:pt x="44" y="48"/>
                </a:lnTo>
                <a:lnTo>
                  <a:pt x="37" y="0"/>
                </a:lnTo>
                <a:lnTo>
                  <a:pt x="52" y="17"/>
                </a:lnTo>
                <a:lnTo>
                  <a:pt x="65" y="32"/>
                </a:lnTo>
                <a:lnTo>
                  <a:pt x="79" y="46"/>
                </a:lnTo>
                <a:lnTo>
                  <a:pt x="92" y="59"/>
                </a:lnTo>
                <a:lnTo>
                  <a:pt x="104" y="73"/>
                </a:lnTo>
                <a:lnTo>
                  <a:pt x="115" y="84"/>
                </a:lnTo>
                <a:lnTo>
                  <a:pt x="125" y="96"/>
                </a:lnTo>
                <a:lnTo>
                  <a:pt x="133" y="105"/>
                </a:lnTo>
                <a:lnTo>
                  <a:pt x="142" y="115"/>
                </a:lnTo>
                <a:lnTo>
                  <a:pt x="150" y="124"/>
                </a:lnTo>
                <a:lnTo>
                  <a:pt x="156" y="134"/>
                </a:lnTo>
                <a:lnTo>
                  <a:pt x="161" y="142"/>
                </a:lnTo>
                <a:lnTo>
                  <a:pt x="165" y="147"/>
                </a:lnTo>
                <a:lnTo>
                  <a:pt x="169" y="155"/>
                </a:lnTo>
                <a:lnTo>
                  <a:pt x="173" y="161"/>
                </a:lnTo>
                <a:lnTo>
                  <a:pt x="175" y="167"/>
                </a:lnTo>
                <a:lnTo>
                  <a:pt x="177" y="172"/>
                </a:lnTo>
                <a:lnTo>
                  <a:pt x="179" y="180"/>
                </a:lnTo>
                <a:lnTo>
                  <a:pt x="179" y="186"/>
                </a:lnTo>
                <a:lnTo>
                  <a:pt x="181" y="195"/>
                </a:lnTo>
                <a:lnTo>
                  <a:pt x="181" y="203"/>
                </a:lnTo>
                <a:lnTo>
                  <a:pt x="182" y="213"/>
                </a:lnTo>
                <a:lnTo>
                  <a:pt x="182" y="222"/>
                </a:lnTo>
                <a:lnTo>
                  <a:pt x="182" y="234"/>
                </a:lnTo>
                <a:lnTo>
                  <a:pt x="182" y="245"/>
                </a:lnTo>
                <a:lnTo>
                  <a:pt x="184" y="257"/>
                </a:lnTo>
                <a:lnTo>
                  <a:pt x="184" y="268"/>
                </a:lnTo>
                <a:lnTo>
                  <a:pt x="184" y="282"/>
                </a:lnTo>
                <a:lnTo>
                  <a:pt x="184" y="297"/>
                </a:lnTo>
                <a:lnTo>
                  <a:pt x="184" y="312"/>
                </a:lnTo>
                <a:lnTo>
                  <a:pt x="184" y="328"/>
                </a:lnTo>
                <a:lnTo>
                  <a:pt x="184" y="343"/>
                </a:lnTo>
                <a:lnTo>
                  <a:pt x="182" y="360"/>
                </a:lnTo>
                <a:lnTo>
                  <a:pt x="181" y="378"/>
                </a:lnTo>
                <a:lnTo>
                  <a:pt x="181" y="399"/>
                </a:lnTo>
                <a:lnTo>
                  <a:pt x="179" y="418"/>
                </a:lnTo>
                <a:lnTo>
                  <a:pt x="179" y="441"/>
                </a:lnTo>
                <a:lnTo>
                  <a:pt x="177" y="464"/>
                </a:lnTo>
                <a:lnTo>
                  <a:pt x="177" y="487"/>
                </a:lnTo>
                <a:lnTo>
                  <a:pt x="175" y="512"/>
                </a:lnTo>
                <a:lnTo>
                  <a:pt x="175" y="539"/>
                </a:lnTo>
                <a:lnTo>
                  <a:pt x="173" y="566"/>
                </a:lnTo>
                <a:lnTo>
                  <a:pt x="173" y="595"/>
                </a:lnTo>
                <a:lnTo>
                  <a:pt x="171" y="625"/>
                </a:lnTo>
                <a:lnTo>
                  <a:pt x="171" y="656"/>
                </a:lnTo>
                <a:lnTo>
                  <a:pt x="169" y="687"/>
                </a:lnTo>
                <a:lnTo>
                  <a:pt x="167" y="721"/>
                </a:lnTo>
                <a:lnTo>
                  <a:pt x="165" y="756"/>
                </a:lnTo>
                <a:lnTo>
                  <a:pt x="163" y="790"/>
                </a:lnTo>
                <a:lnTo>
                  <a:pt x="161" y="827"/>
                </a:lnTo>
                <a:lnTo>
                  <a:pt x="159" y="861"/>
                </a:lnTo>
                <a:lnTo>
                  <a:pt x="157" y="894"/>
                </a:lnTo>
                <a:lnTo>
                  <a:pt x="156" y="927"/>
                </a:lnTo>
                <a:lnTo>
                  <a:pt x="152" y="959"/>
                </a:lnTo>
                <a:lnTo>
                  <a:pt x="150" y="988"/>
                </a:lnTo>
                <a:lnTo>
                  <a:pt x="148" y="1019"/>
                </a:lnTo>
                <a:lnTo>
                  <a:pt x="144" y="1047"/>
                </a:lnTo>
                <a:lnTo>
                  <a:pt x="142" y="1074"/>
                </a:lnTo>
                <a:lnTo>
                  <a:pt x="140" y="1101"/>
                </a:lnTo>
                <a:lnTo>
                  <a:pt x="136" y="1126"/>
                </a:lnTo>
                <a:lnTo>
                  <a:pt x="134" y="1149"/>
                </a:lnTo>
                <a:lnTo>
                  <a:pt x="133" y="1172"/>
                </a:lnTo>
                <a:lnTo>
                  <a:pt x="131" y="1195"/>
                </a:lnTo>
                <a:lnTo>
                  <a:pt x="129" y="1216"/>
                </a:lnTo>
                <a:lnTo>
                  <a:pt x="127" y="1236"/>
                </a:lnTo>
                <a:lnTo>
                  <a:pt x="125" y="1253"/>
                </a:lnTo>
                <a:lnTo>
                  <a:pt x="123" y="1270"/>
                </a:lnTo>
                <a:lnTo>
                  <a:pt x="121" y="1287"/>
                </a:lnTo>
                <a:lnTo>
                  <a:pt x="119" y="1303"/>
                </a:lnTo>
                <a:lnTo>
                  <a:pt x="115" y="1316"/>
                </a:lnTo>
                <a:lnTo>
                  <a:pt x="113" y="1328"/>
                </a:lnTo>
                <a:lnTo>
                  <a:pt x="111" y="1339"/>
                </a:lnTo>
                <a:lnTo>
                  <a:pt x="108" y="1349"/>
                </a:lnTo>
                <a:lnTo>
                  <a:pt x="106" y="1358"/>
                </a:lnTo>
                <a:lnTo>
                  <a:pt x="104" y="1366"/>
                </a:lnTo>
                <a:lnTo>
                  <a:pt x="100" y="1372"/>
                </a:lnTo>
                <a:lnTo>
                  <a:pt x="98" y="1376"/>
                </a:lnTo>
                <a:lnTo>
                  <a:pt x="96" y="1379"/>
                </a:lnTo>
                <a:lnTo>
                  <a:pt x="94" y="1381"/>
                </a:lnTo>
                <a:lnTo>
                  <a:pt x="92" y="1381"/>
                </a:lnTo>
                <a:lnTo>
                  <a:pt x="88" y="1381"/>
                </a:lnTo>
                <a:lnTo>
                  <a:pt x="85" y="1381"/>
                </a:lnTo>
                <a:lnTo>
                  <a:pt x="83" y="1379"/>
                </a:lnTo>
                <a:lnTo>
                  <a:pt x="79" y="1378"/>
                </a:lnTo>
                <a:lnTo>
                  <a:pt x="75" y="1374"/>
                </a:lnTo>
                <a:lnTo>
                  <a:pt x="71" y="1370"/>
                </a:lnTo>
                <a:lnTo>
                  <a:pt x="67" y="1366"/>
                </a:lnTo>
                <a:lnTo>
                  <a:pt x="63" y="1360"/>
                </a:lnTo>
                <a:lnTo>
                  <a:pt x="60" y="1355"/>
                </a:lnTo>
                <a:lnTo>
                  <a:pt x="56" y="1347"/>
                </a:lnTo>
                <a:lnTo>
                  <a:pt x="52" y="1341"/>
                </a:lnTo>
                <a:lnTo>
                  <a:pt x="46" y="1333"/>
                </a:lnTo>
                <a:lnTo>
                  <a:pt x="42" y="1324"/>
                </a:lnTo>
                <a:lnTo>
                  <a:pt x="38" y="1314"/>
                </a:lnTo>
                <a:lnTo>
                  <a:pt x="33" y="1305"/>
                </a:lnTo>
                <a:lnTo>
                  <a:pt x="29" y="129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2622600" y="2220840"/>
            <a:ext cx="407880" cy="555840"/>
          </a:xfrm>
          <a:custGeom>
            <a:avLst/>
            <a:gdLst/>
            <a:ahLst/>
            <a:rect l="l" t="t" r="r" b="b"/>
            <a:pathLst>
              <a:path w="514" h="701">
                <a:moveTo>
                  <a:pt x="313" y="190"/>
                </a:moveTo>
                <a:lnTo>
                  <a:pt x="317" y="177"/>
                </a:lnTo>
                <a:lnTo>
                  <a:pt x="322" y="165"/>
                </a:lnTo>
                <a:lnTo>
                  <a:pt x="326" y="154"/>
                </a:lnTo>
                <a:lnTo>
                  <a:pt x="330" y="142"/>
                </a:lnTo>
                <a:lnTo>
                  <a:pt x="334" y="131"/>
                </a:lnTo>
                <a:lnTo>
                  <a:pt x="338" y="121"/>
                </a:lnTo>
                <a:lnTo>
                  <a:pt x="341" y="112"/>
                </a:lnTo>
                <a:lnTo>
                  <a:pt x="343" y="102"/>
                </a:lnTo>
                <a:lnTo>
                  <a:pt x="347" y="94"/>
                </a:lnTo>
                <a:lnTo>
                  <a:pt x="349" y="87"/>
                </a:lnTo>
                <a:lnTo>
                  <a:pt x="349" y="79"/>
                </a:lnTo>
                <a:lnTo>
                  <a:pt x="351" y="73"/>
                </a:lnTo>
                <a:lnTo>
                  <a:pt x="351" y="68"/>
                </a:lnTo>
                <a:lnTo>
                  <a:pt x="351" y="62"/>
                </a:lnTo>
                <a:lnTo>
                  <a:pt x="349" y="56"/>
                </a:lnTo>
                <a:lnTo>
                  <a:pt x="349" y="52"/>
                </a:lnTo>
                <a:lnTo>
                  <a:pt x="345" y="48"/>
                </a:lnTo>
                <a:lnTo>
                  <a:pt x="343" y="43"/>
                </a:lnTo>
                <a:lnTo>
                  <a:pt x="341" y="39"/>
                </a:lnTo>
                <a:lnTo>
                  <a:pt x="341" y="31"/>
                </a:lnTo>
                <a:lnTo>
                  <a:pt x="341" y="25"/>
                </a:lnTo>
                <a:lnTo>
                  <a:pt x="343" y="18"/>
                </a:lnTo>
                <a:lnTo>
                  <a:pt x="345" y="10"/>
                </a:lnTo>
                <a:lnTo>
                  <a:pt x="349" y="4"/>
                </a:lnTo>
                <a:lnTo>
                  <a:pt x="351" y="2"/>
                </a:lnTo>
                <a:lnTo>
                  <a:pt x="353" y="0"/>
                </a:lnTo>
                <a:lnTo>
                  <a:pt x="357" y="0"/>
                </a:lnTo>
                <a:lnTo>
                  <a:pt x="361" y="0"/>
                </a:lnTo>
                <a:lnTo>
                  <a:pt x="365" y="0"/>
                </a:lnTo>
                <a:lnTo>
                  <a:pt x="370" y="0"/>
                </a:lnTo>
                <a:lnTo>
                  <a:pt x="374" y="2"/>
                </a:lnTo>
                <a:lnTo>
                  <a:pt x="382" y="4"/>
                </a:lnTo>
                <a:lnTo>
                  <a:pt x="393" y="8"/>
                </a:lnTo>
                <a:lnTo>
                  <a:pt x="409" y="14"/>
                </a:lnTo>
                <a:lnTo>
                  <a:pt x="424" y="23"/>
                </a:lnTo>
                <a:lnTo>
                  <a:pt x="432" y="27"/>
                </a:lnTo>
                <a:lnTo>
                  <a:pt x="441" y="33"/>
                </a:lnTo>
                <a:lnTo>
                  <a:pt x="457" y="46"/>
                </a:lnTo>
                <a:lnTo>
                  <a:pt x="472" y="60"/>
                </a:lnTo>
                <a:lnTo>
                  <a:pt x="478" y="68"/>
                </a:lnTo>
                <a:lnTo>
                  <a:pt x="483" y="73"/>
                </a:lnTo>
                <a:lnTo>
                  <a:pt x="489" y="79"/>
                </a:lnTo>
                <a:lnTo>
                  <a:pt x="495" y="83"/>
                </a:lnTo>
                <a:lnTo>
                  <a:pt x="499" y="89"/>
                </a:lnTo>
                <a:lnTo>
                  <a:pt x="503" y="93"/>
                </a:lnTo>
                <a:lnTo>
                  <a:pt x="507" y="96"/>
                </a:lnTo>
                <a:lnTo>
                  <a:pt x="508" y="100"/>
                </a:lnTo>
                <a:lnTo>
                  <a:pt x="510" y="104"/>
                </a:lnTo>
                <a:lnTo>
                  <a:pt x="512" y="108"/>
                </a:lnTo>
                <a:lnTo>
                  <a:pt x="514" y="110"/>
                </a:lnTo>
                <a:lnTo>
                  <a:pt x="514" y="112"/>
                </a:lnTo>
                <a:lnTo>
                  <a:pt x="512" y="116"/>
                </a:lnTo>
                <a:lnTo>
                  <a:pt x="512" y="121"/>
                </a:lnTo>
                <a:lnTo>
                  <a:pt x="508" y="127"/>
                </a:lnTo>
                <a:lnTo>
                  <a:pt x="505" y="135"/>
                </a:lnTo>
                <a:lnTo>
                  <a:pt x="501" y="144"/>
                </a:lnTo>
                <a:lnTo>
                  <a:pt x="495" y="154"/>
                </a:lnTo>
                <a:lnTo>
                  <a:pt x="487" y="165"/>
                </a:lnTo>
                <a:lnTo>
                  <a:pt x="480" y="179"/>
                </a:lnTo>
                <a:lnTo>
                  <a:pt x="470" y="192"/>
                </a:lnTo>
                <a:lnTo>
                  <a:pt x="460" y="208"/>
                </a:lnTo>
                <a:lnTo>
                  <a:pt x="449" y="225"/>
                </a:lnTo>
                <a:lnTo>
                  <a:pt x="436" y="242"/>
                </a:lnTo>
                <a:lnTo>
                  <a:pt x="422" y="261"/>
                </a:lnTo>
                <a:lnTo>
                  <a:pt x="409" y="283"/>
                </a:lnTo>
                <a:lnTo>
                  <a:pt x="393" y="304"/>
                </a:lnTo>
                <a:lnTo>
                  <a:pt x="376" y="327"/>
                </a:lnTo>
                <a:lnTo>
                  <a:pt x="357" y="352"/>
                </a:lnTo>
                <a:lnTo>
                  <a:pt x="340" y="373"/>
                </a:lnTo>
                <a:lnTo>
                  <a:pt x="322" y="396"/>
                </a:lnTo>
                <a:lnTo>
                  <a:pt x="305" y="417"/>
                </a:lnTo>
                <a:lnTo>
                  <a:pt x="288" y="438"/>
                </a:lnTo>
                <a:lnTo>
                  <a:pt x="270" y="459"/>
                </a:lnTo>
                <a:lnTo>
                  <a:pt x="253" y="478"/>
                </a:lnTo>
                <a:lnTo>
                  <a:pt x="238" y="496"/>
                </a:lnTo>
                <a:lnTo>
                  <a:pt x="222" y="515"/>
                </a:lnTo>
                <a:lnTo>
                  <a:pt x="207" y="532"/>
                </a:lnTo>
                <a:lnTo>
                  <a:pt x="192" y="547"/>
                </a:lnTo>
                <a:lnTo>
                  <a:pt x="176" y="565"/>
                </a:lnTo>
                <a:lnTo>
                  <a:pt x="161" y="580"/>
                </a:lnTo>
                <a:lnTo>
                  <a:pt x="148" y="593"/>
                </a:lnTo>
                <a:lnTo>
                  <a:pt x="132" y="607"/>
                </a:lnTo>
                <a:lnTo>
                  <a:pt x="119" y="620"/>
                </a:lnTo>
                <a:lnTo>
                  <a:pt x="105" y="634"/>
                </a:lnTo>
                <a:lnTo>
                  <a:pt x="94" y="645"/>
                </a:lnTo>
                <a:lnTo>
                  <a:pt x="82" y="655"/>
                </a:lnTo>
                <a:lnTo>
                  <a:pt x="71" y="664"/>
                </a:lnTo>
                <a:lnTo>
                  <a:pt x="61" y="672"/>
                </a:lnTo>
                <a:lnTo>
                  <a:pt x="52" y="680"/>
                </a:lnTo>
                <a:lnTo>
                  <a:pt x="44" y="686"/>
                </a:lnTo>
                <a:lnTo>
                  <a:pt x="36" y="689"/>
                </a:lnTo>
                <a:lnTo>
                  <a:pt x="29" y="693"/>
                </a:lnTo>
                <a:lnTo>
                  <a:pt x="23" y="697"/>
                </a:lnTo>
                <a:lnTo>
                  <a:pt x="17" y="699"/>
                </a:lnTo>
                <a:lnTo>
                  <a:pt x="13" y="701"/>
                </a:lnTo>
                <a:lnTo>
                  <a:pt x="8" y="701"/>
                </a:lnTo>
                <a:lnTo>
                  <a:pt x="6" y="701"/>
                </a:lnTo>
                <a:lnTo>
                  <a:pt x="2" y="701"/>
                </a:lnTo>
                <a:lnTo>
                  <a:pt x="0" y="699"/>
                </a:lnTo>
                <a:lnTo>
                  <a:pt x="0" y="697"/>
                </a:lnTo>
                <a:lnTo>
                  <a:pt x="0" y="693"/>
                </a:lnTo>
                <a:lnTo>
                  <a:pt x="2" y="687"/>
                </a:lnTo>
                <a:lnTo>
                  <a:pt x="4" y="680"/>
                </a:lnTo>
                <a:lnTo>
                  <a:pt x="8" y="670"/>
                </a:lnTo>
                <a:lnTo>
                  <a:pt x="13" y="661"/>
                </a:lnTo>
                <a:lnTo>
                  <a:pt x="21" y="649"/>
                </a:lnTo>
                <a:lnTo>
                  <a:pt x="29" y="636"/>
                </a:lnTo>
                <a:lnTo>
                  <a:pt x="38" y="622"/>
                </a:lnTo>
                <a:lnTo>
                  <a:pt x="48" y="605"/>
                </a:lnTo>
                <a:lnTo>
                  <a:pt x="59" y="590"/>
                </a:lnTo>
                <a:lnTo>
                  <a:pt x="73" y="570"/>
                </a:lnTo>
                <a:lnTo>
                  <a:pt x="86" y="551"/>
                </a:lnTo>
                <a:lnTo>
                  <a:pt x="104" y="530"/>
                </a:lnTo>
                <a:lnTo>
                  <a:pt x="119" y="507"/>
                </a:lnTo>
                <a:lnTo>
                  <a:pt x="138" y="484"/>
                </a:lnTo>
                <a:lnTo>
                  <a:pt x="153" y="461"/>
                </a:lnTo>
                <a:lnTo>
                  <a:pt x="171" y="438"/>
                </a:lnTo>
                <a:lnTo>
                  <a:pt x="184" y="415"/>
                </a:lnTo>
                <a:lnTo>
                  <a:pt x="199" y="394"/>
                </a:lnTo>
                <a:lnTo>
                  <a:pt x="213" y="373"/>
                </a:lnTo>
                <a:lnTo>
                  <a:pt x="226" y="352"/>
                </a:lnTo>
                <a:lnTo>
                  <a:pt x="238" y="332"/>
                </a:lnTo>
                <a:lnTo>
                  <a:pt x="249" y="315"/>
                </a:lnTo>
                <a:lnTo>
                  <a:pt x="259" y="296"/>
                </a:lnTo>
                <a:lnTo>
                  <a:pt x="269" y="279"/>
                </a:lnTo>
                <a:lnTo>
                  <a:pt x="278" y="263"/>
                </a:lnTo>
                <a:lnTo>
                  <a:pt x="286" y="246"/>
                </a:lnTo>
                <a:lnTo>
                  <a:pt x="294" y="231"/>
                </a:lnTo>
                <a:lnTo>
                  <a:pt x="301" y="217"/>
                </a:lnTo>
                <a:lnTo>
                  <a:pt x="307" y="204"/>
                </a:lnTo>
                <a:lnTo>
                  <a:pt x="313" y="19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2629080" y="2386080"/>
            <a:ext cx="714240" cy="735120"/>
          </a:xfrm>
          <a:custGeom>
            <a:avLst/>
            <a:gdLst/>
            <a:ahLst/>
            <a:rect l="l" t="t" r="r" b="b"/>
            <a:pathLst>
              <a:path w="900" h="925">
                <a:moveTo>
                  <a:pt x="662" y="167"/>
                </a:moveTo>
                <a:lnTo>
                  <a:pt x="660" y="163"/>
                </a:lnTo>
                <a:lnTo>
                  <a:pt x="658" y="159"/>
                </a:lnTo>
                <a:lnTo>
                  <a:pt x="654" y="157"/>
                </a:lnTo>
                <a:lnTo>
                  <a:pt x="650" y="153"/>
                </a:lnTo>
                <a:lnTo>
                  <a:pt x="644" y="151"/>
                </a:lnTo>
                <a:lnTo>
                  <a:pt x="639" y="149"/>
                </a:lnTo>
                <a:lnTo>
                  <a:pt x="633" y="147"/>
                </a:lnTo>
                <a:lnTo>
                  <a:pt x="627" y="145"/>
                </a:lnTo>
                <a:lnTo>
                  <a:pt x="619" y="144"/>
                </a:lnTo>
                <a:lnTo>
                  <a:pt x="610" y="144"/>
                </a:lnTo>
                <a:lnTo>
                  <a:pt x="600" y="144"/>
                </a:lnTo>
                <a:lnTo>
                  <a:pt x="591" y="142"/>
                </a:lnTo>
                <a:lnTo>
                  <a:pt x="579" y="144"/>
                </a:lnTo>
                <a:lnTo>
                  <a:pt x="568" y="144"/>
                </a:lnTo>
                <a:lnTo>
                  <a:pt x="556" y="145"/>
                </a:lnTo>
                <a:lnTo>
                  <a:pt x="543" y="147"/>
                </a:lnTo>
                <a:lnTo>
                  <a:pt x="487" y="153"/>
                </a:lnTo>
                <a:lnTo>
                  <a:pt x="431" y="161"/>
                </a:lnTo>
                <a:lnTo>
                  <a:pt x="403" y="163"/>
                </a:lnTo>
                <a:lnTo>
                  <a:pt x="374" y="165"/>
                </a:lnTo>
                <a:lnTo>
                  <a:pt x="343" y="167"/>
                </a:lnTo>
                <a:lnTo>
                  <a:pt x="312" y="167"/>
                </a:lnTo>
                <a:lnTo>
                  <a:pt x="312" y="97"/>
                </a:lnTo>
                <a:lnTo>
                  <a:pt x="343" y="97"/>
                </a:lnTo>
                <a:lnTo>
                  <a:pt x="374" y="96"/>
                </a:lnTo>
                <a:lnTo>
                  <a:pt x="403" y="94"/>
                </a:lnTo>
                <a:lnTo>
                  <a:pt x="431" y="90"/>
                </a:lnTo>
                <a:lnTo>
                  <a:pt x="460" y="86"/>
                </a:lnTo>
                <a:lnTo>
                  <a:pt x="487" y="80"/>
                </a:lnTo>
                <a:lnTo>
                  <a:pt x="516" y="74"/>
                </a:lnTo>
                <a:lnTo>
                  <a:pt x="543" y="69"/>
                </a:lnTo>
                <a:lnTo>
                  <a:pt x="556" y="67"/>
                </a:lnTo>
                <a:lnTo>
                  <a:pt x="570" y="63"/>
                </a:lnTo>
                <a:lnTo>
                  <a:pt x="581" y="61"/>
                </a:lnTo>
                <a:lnTo>
                  <a:pt x="593" y="59"/>
                </a:lnTo>
                <a:lnTo>
                  <a:pt x="602" y="55"/>
                </a:lnTo>
                <a:lnTo>
                  <a:pt x="614" y="53"/>
                </a:lnTo>
                <a:lnTo>
                  <a:pt x="621" y="50"/>
                </a:lnTo>
                <a:lnTo>
                  <a:pt x="631" y="48"/>
                </a:lnTo>
                <a:lnTo>
                  <a:pt x="639" y="44"/>
                </a:lnTo>
                <a:lnTo>
                  <a:pt x="646" y="40"/>
                </a:lnTo>
                <a:lnTo>
                  <a:pt x="652" y="38"/>
                </a:lnTo>
                <a:lnTo>
                  <a:pt x="658" y="34"/>
                </a:lnTo>
                <a:lnTo>
                  <a:pt x="662" y="30"/>
                </a:lnTo>
                <a:lnTo>
                  <a:pt x="665" y="26"/>
                </a:lnTo>
                <a:lnTo>
                  <a:pt x="669" y="23"/>
                </a:lnTo>
                <a:lnTo>
                  <a:pt x="671" y="19"/>
                </a:lnTo>
                <a:lnTo>
                  <a:pt x="675" y="15"/>
                </a:lnTo>
                <a:lnTo>
                  <a:pt x="679" y="11"/>
                </a:lnTo>
                <a:lnTo>
                  <a:pt x="685" y="9"/>
                </a:lnTo>
                <a:lnTo>
                  <a:pt x="690" y="5"/>
                </a:lnTo>
                <a:lnTo>
                  <a:pt x="696" y="3"/>
                </a:lnTo>
                <a:lnTo>
                  <a:pt x="704" y="2"/>
                </a:lnTo>
                <a:lnTo>
                  <a:pt x="710" y="0"/>
                </a:lnTo>
                <a:lnTo>
                  <a:pt x="717" y="0"/>
                </a:lnTo>
                <a:lnTo>
                  <a:pt x="719" y="0"/>
                </a:lnTo>
                <a:lnTo>
                  <a:pt x="721" y="0"/>
                </a:lnTo>
                <a:lnTo>
                  <a:pt x="725" y="2"/>
                </a:lnTo>
                <a:lnTo>
                  <a:pt x="729" y="3"/>
                </a:lnTo>
                <a:lnTo>
                  <a:pt x="733" y="5"/>
                </a:lnTo>
                <a:lnTo>
                  <a:pt x="738" y="7"/>
                </a:lnTo>
                <a:lnTo>
                  <a:pt x="744" y="9"/>
                </a:lnTo>
                <a:lnTo>
                  <a:pt x="750" y="13"/>
                </a:lnTo>
                <a:lnTo>
                  <a:pt x="758" y="17"/>
                </a:lnTo>
                <a:lnTo>
                  <a:pt x="763" y="21"/>
                </a:lnTo>
                <a:lnTo>
                  <a:pt x="771" y="25"/>
                </a:lnTo>
                <a:lnTo>
                  <a:pt x="781" y="28"/>
                </a:lnTo>
                <a:lnTo>
                  <a:pt x="798" y="38"/>
                </a:lnTo>
                <a:lnTo>
                  <a:pt x="817" y="48"/>
                </a:lnTo>
                <a:lnTo>
                  <a:pt x="829" y="55"/>
                </a:lnTo>
                <a:lnTo>
                  <a:pt x="836" y="63"/>
                </a:lnTo>
                <a:lnTo>
                  <a:pt x="846" y="69"/>
                </a:lnTo>
                <a:lnTo>
                  <a:pt x="854" y="76"/>
                </a:lnTo>
                <a:lnTo>
                  <a:pt x="861" y="82"/>
                </a:lnTo>
                <a:lnTo>
                  <a:pt x="869" y="88"/>
                </a:lnTo>
                <a:lnTo>
                  <a:pt x="875" y="94"/>
                </a:lnTo>
                <a:lnTo>
                  <a:pt x="880" y="99"/>
                </a:lnTo>
                <a:lnTo>
                  <a:pt x="884" y="105"/>
                </a:lnTo>
                <a:lnTo>
                  <a:pt x="888" y="111"/>
                </a:lnTo>
                <a:lnTo>
                  <a:pt x="892" y="115"/>
                </a:lnTo>
                <a:lnTo>
                  <a:pt x="896" y="121"/>
                </a:lnTo>
                <a:lnTo>
                  <a:pt x="898" y="124"/>
                </a:lnTo>
                <a:lnTo>
                  <a:pt x="900" y="128"/>
                </a:lnTo>
                <a:lnTo>
                  <a:pt x="900" y="132"/>
                </a:lnTo>
                <a:lnTo>
                  <a:pt x="900" y="136"/>
                </a:lnTo>
                <a:lnTo>
                  <a:pt x="900" y="144"/>
                </a:lnTo>
                <a:lnTo>
                  <a:pt x="900" y="149"/>
                </a:lnTo>
                <a:lnTo>
                  <a:pt x="896" y="155"/>
                </a:lnTo>
                <a:lnTo>
                  <a:pt x="894" y="161"/>
                </a:lnTo>
                <a:lnTo>
                  <a:pt x="890" y="165"/>
                </a:lnTo>
                <a:lnTo>
                  <a:pt x="884" y="169"/>
                </a:lnTo>
                <a:lnTo>
                  <a:pt x="878" y="172"/>
                </a:lnTo>
                <a:lnTo>
                  <a:pt x="873" y="176"/>
                </a:lnTo>
                <a:lnTo>
                  <a:pt x="867" y="178"/>
                </a:lnTo>
                <a:lnTo>
                  <a:pt x="861" y="182"/>
                </a:lnTo>
                <a:lnTo>
                  <a:pt x="854" y="188"/>
                </a:lnTo>
                <a:lnTo>
                  <a:pt x="846" y="193"/>
                </a:lnTo>
                <a:lnTo>
                  <a:pt x="838" y="203"/>
                </a:lnTo>
                <a:lnTo>
                  <a:pt x="829" y="213"/>
                </a:lnTo>
                <a:lnTo>
                  <a:pt x="819" y="222"/>
                </a:lnTo>
                <a:lnTo>
                  <a:pt x="809" y="236"/>
                </a:lnTo>
                <a:lnTo>
                  <a:pt x="798" y="249"/>
                </a:lnTo>
                <a:lnTo>
                  <a:pt x="786" y="264"/>
                </a:lnTo>
                <a:lnTo>
                  <a:pt x="773" y="282"/>
                </a:lnTo>
                <a:lnTo>
                  <a:pt x="760" y="301"/>
                </a:lnTo>
                <a:lnTo>
                  <a:pt x="746" y="322"/>
                </a:lnTo>
                <a:lnTo>
                  <a:pt x="731" y="343"/>
                </a:lnTo>
                <a:lnTo>
                  <a:pt x="715" y="366"/>
                </a:lnTo>
                <a:lnTo>
                  <a:pt x="698" y="391"/>
                </a:lnTo>
                <a:lnTo>
                  <a:pt x="681" y="418"/>
                </a:lnTo>
                <a:lnTo>
                  <a:pt x="665" y="445"/>
                </a:lnTo>
                <a:lnTo>
                  <a:pt x="648" y="470"/>
                </a:lnTo>
                <a:lnTo>
                  <a:pt x="631" y="495"/>
                </a:lnTo>
                <a:lnTo>
                  <a:pt x="614" y="518"/>
                </a:lnTo>
                <a:lnTo>
                  <a:pt x="596" y="541"/>
                </a:lnTo>
                <a:lnTo>
                  <a:pt x="579" y="562"/>
                </a:lnTo>
                <a:lnTo>
                  <a:pt x="562" y="583"/>
                </a:lnTo>
                <a:lnTo>
                  <a:pt x="545" y="602"/>
                </a:lnTo>
                <a:lnTo>
                  <a:pt x="527" y="621"/>
                </a:lnTo>
                <a:lnTo>
                  <a:pt x="510" y="639"/>
                </a:lnTo>
                <a:lnTo>
                  <a:pt x="493" y="656"/>
                </a:lnTo>
                <a:lnTo>
                  <a:pt x="475" y="671"/>
                </a:lnTo>
                <a:lnTo>
                  <a:pt x="458" y="687"/>
                </a:lnTo>
                <a:lnTo>
                  <a:pt x="441" y="702"/>
                </a:lnTo>
                <a:lnTo>
                  <a:pt x="424" y="715"/>
                </a:lnTo>
                <a:lnTo>
                  <a:pt x="389" y="740"/>
                </a:lnTo>
                <a:lnTo>
                  <a:pt x="355" y="765"/>
                </a:lnTo>
                <a:lnTo>
                  <a:pt x="320" y="788"/>
                </a:lnTo>
                <a:lnTo>
                  <a:pt x="286" y="809"/>
                </a:lnTo>
                <a:lnTo>
                  <a:pt x="251" y="829"/>
                </a:lnTo>
                <a:lnTo>
                  <a:pt x="216" y="848"/>
                </a:lnTo>
                <a:lnTo>
                  <a:pt x="182" y="865"/>
                </a:lnTo>
                <a:lnTo>
                  <a:pt x="147" y="882"/>
                </a:lnTo>
                <a:lnTo>
                  <a:pt x="130" y="888"/>
                </a:lnTo>
                <a:lnTo>
                  <a:pt x="113" y="896"/>
                </a:lnTo>
                <a:lnTo>
                  <a:pt x="97" y="902"/>
                </a:lnTo>
                <a:lnTo>
                  <a:pt x="82" y="905"/>
                </a:lnTo>
                <a:lnTo>
                  <a:pt x="69" y="909"/>
                </a:lnTo>
                <a:lnTo>
                  <a:pt x="57" y="913"/>
                </a:lnTo>
                <a:lnTo>
                  <a:pt x="46" y="917"/>
                </a:lnTo>
                <a:lnTo>
                  <a:pt x="36" y="919"/>
                </a:lnTo>
                <a:lnTo>
                  <a:pt x="28" y="921"/>
                </a:lnTo>
                <a:lnTo>
                  <a:pt x="21" y="923"/>
                </a:lnTo>
                <a:lnTo>
                  <a:pt x="15" y="925"/>
                </a:lnTo>
                <a:lnTo>
                  <a:pt x="9" y="925"/>
                </a:lnTo>
                <a:lnTo>
                  <a:pt x="5" y="925"/>
                </a:lnTo>
                <a:lnTo>
                  <a:pt x="3" y="923"/>
                </a:lnTo>
                <a:lnTo>
                  <a:pt x="1" y="923"/>
                </a:lnTo>
                <a:lnTo>
                  <a:pt x="1" y="921"/>
                </a:lnTo>
                <a:lnTo>
                  <a:pt x="0" y="919"/>
                </a:lnTo>
                <a:lnTo>
                  <a:pt x="0" y="917"/>
                </a:lnTo>
                <a:lnTo>
                  <a:pt x="0" y="913"/>
                </a:lnTo>
                <a:lnTo>
                  <a:pt x="1" y="909"/>
                </a:lnTo>
                <a:lnTo>
                  <a:pt x="3" y="905"/>
                </a:lnTo>
                <a:lnTo>
                  <a:pt x="7" y="902"/>
                </a:lnTo>
                <a:lnTo>
                  <a:pt x="11" y="898"/>
                </a:lnTo>
                <a:lnTo>
                  <a:pt x="15" y="892"/>
                </a:lnTo>
                <a:lnTo>
                  <a:pt x="21" y="888"/>
                </a:lnTo>
                <a:lnTo>
                  <a:pt x="26" y="882"/>
                </a:lnTo>
                <a:lnTo>
                  <a:pt x="34" y="877"/>
                </a:lnTo>
                <a:lnTo>
                  <a:pt x="42" y="869"/>
                </a:lnTo>
                <a:lnTo>
                  <a:pt x="51" y="863"/>
                </a:lnTo>
                <a:lnTo>
                  <a:pt x="61" y="857"/>
                </a:lnTo>
                <a:lnTo>
                  <a:pt x="72" y="850"/>
                </a:lnTo>
                <a:lnTo>
                  <a:pt x="84" y="842"/>
                </a:lnTo>
                <a:lnTo>
                  <a:pt x="96" y="836"/>
                </a:lnTo>
                <a:lnTo>
                  <a:pt x="109" y="831"/>
                </a:lnTo>
                <a:lnTo>
                  <a:pt x="120" y="823"/>
                </a:lnTo>
                <a:lnTo>
                  <a:pt x="134" y="815"/>
                </a:lnTo>
                <a:lnTo>
                  <a:pt x="147" y="806"/>
                </a:lnTo>
                <a:lnTo>
                  <a:pt x="161" y="796"/>
                </a:lnTo>
                <a:lnTo>
                  <a:pt x="174" y="786"/>
                </a:lnTo>
                <a:lnTo>
                  <a:pt x="188" y="777"/>
                </a:lnTo>
                <a:lnTo>
                  <a:pt x="203" y="765"/>
                </a:lnTo>
                <a:lnTo>
                  <a:pt x="218" y="754"/>
                </a:lnTo>
                <a:lnTo>
                  <a:pt x="232" y="740"/>
                </a:lnTo>
                <a:lnTo>
                  <a:pt x="247" y="727"/>
                </a:lnTo>
                <a:lnTo>
                  <a:pt x="264" y="714"/>
                </a:lnTo>
                <a:lnTo>
                  <a:pt x="280" y="698"/>
                </a:lnTo>
                <a:lnTo>
                  <a:pt x="297" y="683"/>
                </a:lnTo>
                <a:lnTo>
                  <a:pt x="312" y="666"/>
                </a:lnTo>
                <a:lnTo>
                  <a:pt x="347" y="635"/>
                </a:lnTo>
                <a:lnTo>
                  <a:pt x="380" y="602"/>
                </a:lnTo>
                <a:lnTo>
                  <a:pt x="412" y="570"/>
                </a:lnTo>
                <a:lnTo>
                  <a:pt x="445" y="533"/>
                </a:lnTo>
                <a:lnTo>
                  <a:pt x="477" y="497"/>
                </a:lnTo>
                <a:lnTo>
                  <a:pt x="493" y="476"/>
                </a:lnTo>
                <a:lnTo>
                  <a:pt x="508" y="456"/>
                </a:lnTo>
                <a:lnTo>
                  <a:pt x="523" y="435"/>
                </a:lnTo>
                <a:lnTo>
                  <a:pt x="539" y="416"/>
                </a:lnTo>
                <a:lnTo>
                  <a:pt x="554" y="393"/>
                </a:lnTo>
                <a:lnTo>
                  <a:pt x="570" y="372"/>
                </a:lnTo>
                <a:lnTo>
                  <a:pt x="583" y="351"/>
                </a:lnTo>
                <a:lnTo>
                  <a:pt x="594" y="330"/>
                </a:lnTo>
                <a:lnTo>
                  <a:pt x="606" y="311"/>
                </a:lnTo>
                <a:lnTo>
                  <a:pt x="616" y="293"/>
                </a:lnTo>
                <a:lnTo>
                  <a:pt x="625" y="276"/>
                </a:lnTo>
                <a:lnTo>
                  <a:pt x="633" y="261"/>
                </a:lnTo>
                <a:lnTo>
                  <a:pt x="641" y="245"/>
                </a:lnTo>
                <a:lnTo>
                  <a:pt x="646" y="232"/>
                </a:lnTo>
                <a:lnTo>
                  <a:pt x="652" y="220"/>
                </a:lnTo>
                <a:lnTo>
                  <a:pt x="656" y="209"/>
                </a:lnTo>
                <a:lnTo>
                  <a:pt x="660" y="199"/>
                </a:lnTo>
                <a:lnTo>
                  <a:pt x="662" y="190"/>
                </a:lnTo>
                <a:lnTo>
                  <a:pt x="664" y="182"/>
                </a:lnTo>
                <a:lnTo>
                  <a:pt x="664" y="176"/>
                </a:lnTo>
                <a:lnTo>
                  <a:pt x="664" y="170"/>
                </a:lnTo>
                <a:lnTo>
                  <a:pt x="662" y="16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2760840" y="2597040"/>
            <a:ext cx="969840" cy="505080"/>
          </a:xfrm>
          <a:custGeom>
            <a:avLst/>
            <a:gdLst/>
            <a:ahLst/>
            <a:rect l="l" t="t" r="r" b="b"/>
            <a:pathLst>
              <a:path w="1220" h="638">
                <a:moveTo>
                  <a:pt x="1072" y="618"/>
                </a:moveTo>
                <a:lnTo>
                  <a:pt x="1055" y="618"/>
                </a:lnTo>
                <a:lnTo>
                  <a:pt x="1036" y="620"/>
                </a:lnTo>
                <a:lnTo>
                  <a:pt x="1020" y="622"/>
                </a:lnTo>
                <a:lnTo>
                  <a:pt x="1003" y="624"/>
                </a:lnTo>
                <a:lnTo>
                  <a:pt x="990" y="626"/>
                </a:lnTo>
                <a:lnTo>
                  <a:pt x="974" y="628"/>
                </a:lnTo>
                <a:lnTo>
                  <a:pt x="961" y="630"/>
                </a:lnTo>
                <a:lnTo>
                  <a:pt x="949" y="632"/>
                </a:lnTo>
                <a:lnTo>
                  <a:pt x="938" y="632"/>
                </a:lnTo>
                <a:lnTo>
                  <a:pt x="926" y="634"/>
                </a:lnTo>
                <a:lnTo>
                  <a:pt x="917" y="634"/>
                </a:lnTo>
                <a:lnTo>
                  <a:pt x="907" y="636"/>
                </a:lnTo>
                <a:lnTo>
                  <a:pt x="900" y="636"/>
                </a:lnTo>
                <a:lnTo>
                  <a:pt x="892" y="636"/>
                </a:lnTo>
                <a:lnTo>
                  <a:pt x="886" y="638"/>
                </a:lnTo>
                <a:lnTo>
                  <a:pt x="880" y="638"/>
                </a:lnTo>
                <a:lnTo>
                  <a:pt x="875" y="636"/>
                </a:lnTo>
                <a:lnTo>
                  <a:pt x="867" y="634"/>
                </a:lnTo>
                <a:lnTo>
                  <a:pt x="859" y="632"/>
                </a:lnTo>
                <a:lnTo>
                  <a:pt x="852" y="628"/>
                </a:lnTo>
                <a:lnTo>
                  <a:pt x="840" y="622"/>
                </a:lnTo>
                <a:lnTo>
                  <a:pt x="830" y="617"/>
                </a:lnTo>
                <a:lnTo>
                  <a:pt x="817" y="611"/>
                </a:lnTo>
                <a:lnTo>
                  <a:pt x="804" y="601"/>
                </a:lnTo>
                <a:lnTo>
                  <a:pt x="790" y="593"/>
                </a:lnTo>
                <a:lnTo>
                  <a:pt x="775" y="582"/>
                </a:lnTo>
                <a:lnTo>
                  <a:pt x="758" y="570"/>
                </a:lnTo>
                <a:lnTo>
                  <a:pt x="740" y="559"/>
                </a:lnTo>
                <a:lnTo>
                  <a:pt x="721" y="545"/>
                </a:lnTo>
                <a:lnTo>
                  <a:pt x="702" y="532"/>
                </a:lnTo>
                <a:lnTo>
                  <a:pt x="681" y="517"/>
                </a:lnTo>
                <a:lnTo>
                  <a:pt x="660" y="499"/>
                </a:lnTo>
                <a:lnTo>
                  <a:pt x="648" y="492"/>
                </a:lnTo>
                <a:lnTo>
                  <a:pt x="637" y="482"/>
                </a:lnTo>
                <a:lnTo>
                  <a:pt x="623" y="473"/>
                </a:lnTo>
                <a:lnTo>
                  <a:pt x="610" y="463"/>
                </a:lnTo>
                <a:lnTo>
                  <a:pt x="596" y="453"/>
                </a:lnTo>
                <a:lnTo>
                  <a:pt x="583" y="444"/>
                </a:lnTo>
                <a:lnTo>
                  <a:pt x="568" y="434"/>
                </a:lnTo>
                <a:lnTo>
                  <a:pt x="552" y="423"/>
                </a:lnTo>
                <a:lnTo>
                  <a:pt x="535" y="411"/>
                </a:lnTo>
                <a:lnTo>
                  <a:pt x="518" y="400"/>
                </a:lnTo>
                <a:lnTo>
                  <a:pt x="500" y="388"/>
                </a:lnTo>
                <a:lnTo>
                  <a:pt x="483" y="377"/>
                </a:lnTo>
                <a:lnTo>
                  <a:pt x="464" y="363"/>
                </a:lnTo>
                <a:lnTo>
                  <a:pt x="445" y="352"/>
                </a:lnTo>
                <a:lnTo>
                  <a:pt x="426" y="338"/>
                </a:lnTo>
                <a:lnTo>
                  <a:pt x="404" y="325"/>
                </a:lnTo>
                <a:lnTo>
                  <a:pt x="383" y="309"/>
                </a:lnTo>
                <a:lnTo>
                  <a:pt x="362" y="296"/>
                </a:lnTo>
                <a:lnTo>
                  <a:pt x="341" y="281"/>
                </a:lnTo>
                <a:lnTo>
                  <a:pt x="318" y="267"/>
                </a:lnTo>
                <a:lnTo>
                  <a:pt x="293" y="252"/>
                </a:lnTo>
                <a:lnTo>
                  <a:pt x="270" y="237"/>
                </a:lnTo>
                <a:lnTo>
                  <a:pt x="245" y="219"/>
                </a:lnTo>
                <a:lnTo>
                  <a:pt x="220" y="204"/>
                </a:lnTo>
                <a:lnTo>
                  <a:pt x="195" y="187"/>
                </a:lnTo>
                <a:lnTo>
                  <a:pt x="168" y="169"/>
                </a:lnTo>
                <a:lnTo>
                  <a:pt x="142" y="152"/>
                </a:lnTo>
                <a:lnTo>
                  <a:pt x="115" y="135"/>
                </a:lnTo>
                <a:lnTo>
                  <a:pt x="86" y="116"/>
                </a:lnTo>
                <a:lnTo>
                  <a:pt x="57" y="96"/>
                </a:lnTo>
                <a:lnTo>
                  <a:pt x="28" y="77"/>
                </a:lnTo>
                <a:lnTo>
                  <a:pt x="0" y="58"/>
                </a:lnTo>
                <a:lnTo>
                  <a:pt x="26" y="0"/>
                </a:lnTo>
                <a:lnTo>
                  <a:pt x="46" y="12"/>
                </a:lnTo>
                <a:lnTo>
                  <a:pt x="67" y="23"/>
                </a:lnTo>
                <a:lnTo>
                  <a:pt x="88" y="35"/>
                </a:lnTo>
                <a:lnTo>
                  <a:pt x="111" y="48"/>
                </a:lnTo>
                <a:lnTo>
                  <a:pt x="136" y="62"/>
                </a:lnTo>
                <a:lnTo>
                  <a:pt x="161" y="75"/>
                </a:lnTo>
                <a:lnTo>
                  <a:pt x="186" y="89"/>
                </a:lnTo>
                <a:lnTo>
                  <a:pt x="213" y="104"/>
                </a:lnTo>
                <a:lnTo>
                  <a:pt x="241" y="119"/>
                </a:lnTo>
                <a:lnTo>
                  <a:pt x="270" y="135"/>
                </a:lnTo>
                <a:lnTo>
                  <a:pt x="301" y="152"/>
                </a:lnTo>
                <a:lnTo>
                  <a:pt x="332" y="169"/>
                </a:lnTo>
                <a:lnTo>
                  <a:pt x="364" y="187"/>
                </a:lnTo>
                <a:lnTo>
                  <a:pt x="397" y="206"/>
                </a:lnTo>
                <a:lnTo>
                  <a:pt x="431" y="225"/>
                </a:lnTo>
                <a:lnTo>
                  <a:pt x="468" y="244"/>
                </a:lnTo>
                <a:lnTo>
                  <a:pt x="502" y="265"/>
                </a:lnTo>
                <a:lnTo>
                  <a:pt x="539" y="284"/>
                </a:lnTo>
                <a:lnTo>
                  <a:pt x="573" y="302"/>
                </a:lnTo>
                <a:lnTo>
                  <a:pt x="608" y="319"/>
                </a:lnTo>
                <a:lnTo>
                  <a:pt x="642" y="336"/>
                </a:lnTo>
                <a:lnTo>
                  <a:pt x="675" y="352"/>
                </a:lnTo>
                <a:lnTo>
                  <a:pt x="710" y="367"/>
                </a:lnTo>
                <a:lnTo>
                  <a:pt x="742" y="380"/>
                </a:lnTo>
                <a:lnTo>
                  <a:pt x="775" y="394"/>
                </a:lnTo>
                <a:lnTo>
                  <a:pt x="807" y="405"/>
                </a:lnTo>
                <a:lnTo>
                  <a:pt x="838" y="419"/>
                </a:lnTo>
                <a:lnTo>
                  <a:pt x="871" y="430"/>
                </a:lnTo>
                <a:lnTo>
                  <a:pt x="901" y="440"/>
                </a:lnTo>
                <a:lnTo>
                  <a:pt x="930" y="451"/>
                </a:lnTo>
                <a:lnTo>
                  <a:pt x="990" y="471"/>
                </a:lnTo>
                <a:lnTo>
                  <a:pt x="1005" y="474"/>
                </a:lnTo>
                <a:lnTo>
                  <a:pt x="1019" y="480"/>
                </a:lnTo>
                <a:lnTo>
                  <a:pt x="1045" y="488"/>
                </a:lnTo>
                <a:lnTo>
                  <a:pt x="1068" y="496"/>
                </a:lnTo>
                <a:lnTo>
                  <a:pt x="1091" y="503"/>
                </a:lnTo>
                <a:lnTo>
                  <a:pt x="1113" y="511"/>
                </a:lnTo>
                <a:lnTo>
                  <a:pt x="1132" y="519"/>
                </a:lnTo>
                <a:lnTo>
                  <a:pt x="1149" y="524"/>
                </a:lnTo>
                <a:lnTo>
                  <a:pt x="1162" y="530"/>
                </a:lnTo>
                <a:lnTo>
                  <a:pt x="1176" y="534"/>
                </a:lnTo>
                <a:lnTo>
                  <a:pt x="1187" y="540"/>
                </a:lnTo>
                <a:lnTo>
                  <a:pt x="1197" y="544"/>
                </a:lnTo>
                <a:lnTo>
                  <a:pt x="1207" y="547"/>
                </a:lnTo>
                <a:lnTo>
                  <a:pt x="1212" y="551"/>
                </a:lnTo>
                <a:lnTo>
                  <a:pt x="1216" y="555"/>
                </a:lnTo>
                <a:lnTo>
                  <a:pt x="1218" y="557"/>
                </a:lnTo>
                <a:lnTo>
                  <a:pt x="1220" y="559"/>
                </a:lnTo>
                <a:lnTo>
                  <a:pt x="1218" y="563"/>
                </a:lnTo>
                <a:lnTo>
                  <a:pt x="1218" y="567"/>
                </a:lnTo>
                <a:lnTo>
                  <a:pt x="1214" y="570"/>
                </a:lnTo>
                <a:lnTo>
                  <a:pt x="1210" y="572"/>
                </a:lnTo>
                <a:lnTo>
                  <a:pt x="1207" y="576"/>
                </a:lnTo>
                <a:lnTo>
                  <a:pt x="1199" y="580"/>
                </a:lnTo>
                <a:lnTo>
                  <a:pt x="1193" y="584"/>
                </a:lnTo>
                <a:lnTo>
                  <a:pt x="1184" y="588"/>
                </a:lnTo>
                <a:lnTo>
                  <a:pt x="1174" y="592"/>
                </a:lnTo>
                <a:lnTo>
                  <a:pt x="1164" y="595"/>
                </a:lnTo>
                <a:lnTo>
                  <a:pt x="1151" y="599"/>
                </a:lnTo>
                <a:lnTo>
                  <a:pt x="1138" y="603"/>
                </a:lnTo>
                <a:lnTo>
                  <a:pt x="1124" y="607"/>
                </a:lnTo>
                <a:lnTo>
                  <a:pt x="1109" y="611"/>
                </a:lnTo>
                <a:lnTo>
                  <a:pt x="1091" y="615"/>
                </a:lnTo>
                <a:lnTo>
                  <a:pt x="1072" y="61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2658960" y="3232080"/>
            <a:ext cx="532080" cy="432000"/>
          </a:xfrm>
          <a:custGeom>
            <a:avLst/>
            <a:gdLst/>
            <a:ahLst/>
            <a:rect l="l" t="t" r="r" b="b"/>
            <a:pathLst>
              <a:path w="670" h="545">
                <a:moveTo>
                  <a:pt x="432" y="316"/>
                </a:moveTo>
                <a:lnTo>
                  <a:pt x="411" y="332"/>
                </a:lnTo>
                <a:lnTo>
                  <a:pt x="391" y="345"/>
                </a:lnTo>
                <a:lnTo>
                  <a:pt x="370" y="359"/>
                </a:lnTo>
                <a:lnTo>
                  <a:pt x="351" y="372"/>
                </a:lnTo>
                <a:lnTo>
                  <a:pt x="332" y="384"/>
                </a:lnTo>
                <a:lnTo>
                  <a:pt x="313" y="397"/>
                </a:lnTo>
                <a:lnTo>
                  <a:pt x="274" y="420"/>
                </a:lnTo>
                <a:lnTo>
                  <a:pt x="238" y="439"/>
                </a:lnTo>
                <a:lnTo>
                  <a:pt x="203" y="458"/>
                </a:lnTo>
                <a:lnTo>
                  <a:pt x="169" y="478"/>
                </a:lnTo>
                <a:lnTo>
                  <a:pt x="138" y="493"/>
                </a:lnTo>
                <a:lnTo>
                  <a:pt x="123" y="501"/>
                </a:lnTo>
                <a:lnTo>
                  <a:pt x="109" y="510"/>
                </a:lnTo>
                <a:lnTo>
                  <a:pt x="96" y="516"/>
                </a:lnTo>
                <a:lnTo>
                  <a:pt x="82" y="522"/>
                </a:lnTo>
                <a:lnTo>
                  <a:pt x="71" y="528"/>
                </a:lnTo>
                <a:lnTo>
                  <a:pt x="59" y="533"/>
                </a:lnTo>
                <a:lnTo>
                  <a:pt x="50" y="537"/>
                </a:lnTo>
                <a:lnTo>
                  <a:pt x="42" y="539"/>
                </a:lnTo>
                <a:lnTo>
                  <a:pt x="33" y="541"/>
                </a:lnTo>
                <a:lnTo>
                  <a:pt x="27" y="543"/>
                </a:lnTo>
                <a:lnTo>
                  <a:pt x="19" y="545"/>
                </a:lnTo>
                <a:lnTo>
                  <a:pt x="13" y="545"/>
                </a:lnTo>
                <a:lnTo>
                  <a:pt x="10" y="545"/>
                </a:lnTo>
                <a:lnTo>
                  <a:pt x="6" y="545"/>
                </a:lnTo>
                <a:lnTo>
                  <a:pt x="2" y="543"/>
                </a:lnTo>
                <a:lnTo>
                  <a:pt x="0" y="541"/>
                </a:lnTo>
                <a:lnTo>
                  <a:pt x="0" y="539"/>
                </a:lnTo>
                <a:lnTo>
                  <a:pt x="0" y="535"/>
                </a:lnTo>
                <a:lnTo>
                  <a:pt x="2" y="531"/>
                </a:lnTo>
                <a:lnTo>
                  <a:pt x="8" y="528"/>
                </a:lnTo>
                <a:lnTo>
                  <a:pt x="13" y="520"/>
                </a:lnTo>
                <a:lnTo>
                  <a:pt x="21" y="514"/>
                </a:lnTo>
                <a:lnTo>
                  <a:pt x="31" y="504"/>
                </a:lnTo>
                <a:lnTo>
                  <a:pt x="42" y="495"/>
                </a:lnTo>
                <a:lnTo>
                  <a:pt x="54" y="485"/>
                </a:lnTo>
                <a:lnTo>
                  <a:pt x="69" y="474"/>
                </a:lnTo>
                <a:lnTo>
                  <a:pt x="86" y="460"/>
                </a:lnTo>
                <a:lnTo>
                  <a:pt x="104" y="445"/>
                </a:lnTo>
                <a:lnTo>
                  <a:pt x="123" y="430"/>
                </a:lnTo>
                <a:lnTo>
                  <a:pt x="144" y="412"/>
                </a:lnTo>
                <a:lnTo>
                  <a:pt x="167" y="395"/>
                </a:lnTo>
                <a:lnTo>
                  <a:pt x="192" y="376"/>
                </a:lnTo>
                <a:lnTo>
                  <a:pt x="217" y="355"/>
                </a:lnTo>
                <a:lnTo>
                  <a:pt x="242" y="336"/>
                </a:lnTo>
                <a:lnTo>
                  <a:pt x="265" y="316"/>
                </a:lnTo>
                <a:lnTo>
                  <a:pt x="286" y="299"/>
                </a:lnTo>
                <a:lnTo>
                  <a:pt x="307" y="282"/>
                </a:lnTo>
                <a:lnTo>
                  <a:pt x="328" y="267"/>
                </a:lnTo>
                <a:lnTo>
                  <a:pt x="347" y="249"/>
                </a:lnTo>
                <a:lnTo>
                  <a:pt x="365" y="236"/>
                </a:lnTo>
                <a:lnTo>
                  <a:pt x="382" y="220"/>
                </a:lnTo>
                <a:lnTo>
                  <a:pt x="397" y="207"/>
                </a:lnTo>
                <a:lnTo>
                  <a:pt x="411" y="194"/>
                </a:lnTo>
                <a:lnTo>
                  <a:pt x="424" y="182"/>
                </a:lnTo>
                <a:lnTo>
                  <a:pt x="437" y="171"/>
                </a:lnTo>
                <a:lnTo>
                  <a:pt x="449" y="159"/>
                </a:lnTo>
                <a:lnTo>
                  <a:pt x="459" y="149"/>
                </a:lnTo>
                <a:lnTo>
                  <a:pt x="468" y="140"/>
                </a:lnTo>
                <a:lnTo>
                  <a:pt x="484" y="123"/>
                </a:lnTo>
                <a:lnTo>
                  <a:pt x="491" y="113"/>
                </a:lnTo>
                <a:lnTo>
                  <a:pt x="499" y="105"/>
                </a:lnTo>
                <a:lnTo>
                  <a:pt x="505" y="98"/>
                </a:lnTo>
                <a:lnTo>
                  <a:pt x="510" y="90"/>
                </a:lnTo>
                <a:lnTo>
                  <a:pt x="516" y="82"/>
                </a:lnTo>
                <a:lnTo>
                  <a:pt x="520" y="77"/>
                </a:lnTo>
                <a:lnTo>
                  <a:pt x="524" y="71"/>
                </a:lnTo>
                <a:lnTo>
                  <a:pt x="528" y="65"/>
                </a:lnTo>
                <a:lnTo>
                  <a:pt x="530" y="59"/>
                </a:lnTo>
                <a:lnTo>
                  <a:pt x="532" y="53"/>
                </a:lnTo>
                <a:lnTo>
                  <a:pt x="533" y="50"/>
                </a:lnTo>
                <a:lnTo>
                  <a:pt x="533" y="48"/>
                </a:lnTo>
                <a:lnTo>
                  <a:pt x="533" y="44"/>
                </a:lnTo>
                <a:lnTo>
                  <a:pt x="532" y="42"/>
                </a:lnTo>
                <a:lnTo>
                  <a:pt x="530" y="38"/>
                </a:lnTo>
                <a:lnTo>
                  <a:pt x="528" y="32"/>
                </a:lnTo>
                <a:lnTo>
                  <a:pt x="526" y="29"/>
                </a:lnTo>
                <a:lnTo>
                  <a:pt x="526" y="23"/>
                </a:lnTo>
                <a:lnTo>
                  <a:pt x="528" y="17"/>
                </a:lnTo>
                <a:lnTo>
                  <a:pt x="532" y="11"/>
                </a:lnTo>
                <a:lnTo>
                  <a:pt x="535" y="7"/>
                </a:lnTo>
                <a:lnTo>
                  <a:pt x="541" y="4"/>
                </a:lnTo>
                <a:lnTo>
                  <a:pt x="549" y="0"/>
                </a:lnTo>
                <a:lnTo>
                  <a:pt x="556" y="0"/>
                </a:lnTo>
                <a:lnTo>
                  <a:pt x="566" y="0"/>
                </a:lnTo>
                <a:lnTo>
                  <a:pt x="576" y="2"/>
                </a:lnTo>
                <a:lnTo>
                  <a:pt x="587" y="7"/>
                </a:lnTo>
                <a:lnTo>
                  <a:pt x="599" y="13"/>
                </a:lnTo>
                <a:lnTo>
                  <a:pt x="610" y="21"/>
                </a:lnTo>
                <a:lnTo>
                  <a:pt x="624" y="32"/>
                </a:lnTo>
                <a:lnTo>
                  <a:pt x="633" y="46"/>
                </a:lnTo>
                <a:lnTo>
                  <a:pt x="643" y="59"/>
                </a:lnTo>
                <a:lnTo>
                  <a:pt x="651" y="71"/>
                </a:lnTo>
                <a:lnTo>
                  <a:pt x="656" y="82"/>
                </a:lnTo>
                <a:lnTo>
                  <a:pt x="662" y="92"/>
                </a:lnTo>
                <a:lnTo>
                  <a:pt x="666" y="100"/>
                </a:lnTo>
                <a:lnTo>
                  <a:pt x="670" y="105"/>
                </a:lnTo>
                <a:lnTo>
                  <a:pt x="670" y="111"/>
                </a:lnTo>
                <a:lnTo>
                  <a:pt x="670" y="115"/>
                </a:lnTo>
                <a:lnTo>
                  <a:pt x="668" y="119"/>
                </a:lnTo>
                <a:lnTo>
                  <a:pt x="666" y="124"/>
                </a:lnTo>
                <a:lnTo>
                  <a:pt x="662" y="130"/>
                </a:lnTo>
                <a:lnTo>
                  <a:pt x="656" y="138"/>
                </a:lnTo>
                <a:lnTo>
                  <a:pt x="651" y="146"/>
                </a:lnTo>
                <a:lnTo>
                  <a:pt x="643" y="151"/>
                </a:lnTo>
                <a:lnTo>
                  <a:pt x="633" y="159"/>
                </a:lnTo>
                <a:lnTo>
                  <a:pt x="627" y="165"/>
                </a:lnTo>
                <a:lnTo>
                  <a:pt x="622" y="171"/>
                </a:lnTo>
                <a:lnTo>
                  <a:pt x="614" y="178"/>
                </a:lnTo>
                <a:lnTo>
                  <a:pt x="604" y="186"/>
                </a:lnTo>
                <a:lnTo>
                  <a:pt x="597" y="194"/>
                </a:lnTo>
                <a:lnTo>
                  <a:pt x="585" y="201"/>
                </a:lnTo>
                <a:lnTo>
                  <a:pt x="576" y="209"/>
                </a:lnTo>
                <a:lnTo>
                  <a:pt x="562" y="219"/>
                </a:lnTo>
                <a:lnTo>
                  <a:pt x="551" y="228"/>
                </a:lnTo>
                <a:lnTo>
                  <a:pt x="535" y="240"/>
                </a:lnTo>
                <a:lnTo>
                  <a:pt x="520" y="251"/>
                </a:lnTo>
                <a:lnTo>
                  <a:pt x="505" y="263"/>
                </a:lnTo>
                <a:lnTo>
                  <a:pt x="487" y="274"/>
                </a:lnTo>
                <a:lnTo>
                  <a:pt x="470" y="288"/>
                </a:lnTo>
                <a:lnTo>
                  <a:pt x="451" y="301"/>
                </a:lnTo>
                <a:lnTo>
                  <a:pt x="432" y="316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96960" y="3411360"/>
            <a:ext cx="849600" cy="619200"/>
          </a:xfrm>
          <a:custGeom>
            <a:avLst/>
            <a:gdLst/>
            <a:ahLst/>
            <a:rect l="l" t="t" r="r" b="b"/>
            <a:pathLst>
              <a:path w="1068" h="779">
                <a:moveTo>
                  <a:pt x="543" y="570"/>
                </a:moveTo>
                <a:lnTo>
                  <a:pt x="520" y="584"/>
                </a:lnTo>
                <a:lnTo>
                  <a:pt x="498" y="595"/>
                </a:lnTo>
                <a:lnTo>
                  <a:pt x="454" y="618"/>
                </a:lnTo>
                <a:lnTo>
                  <a:pt x="412" y="641"/>
                </a:lnTo>
                <a:lnTo>
                  <a:pt x="368" y="660"/>
                </a:lnTo>
                <a:lnTo>
                  <a:pt x="326" y="681"/>
                </a:lnTo>
                <a:lnTo>
                  <a:pt x="282" y="701"/>
                </a:lnTo>
                <a:lnTo>
                  <a:pt x="237" y="718"/>
                </a:lnTo>
                <a:lnTo>
                  <a:pt x="193" y="737"/>
                </a:lnTo>
                <a:lnTo>
                  <a:pt x="172" y="745"/>
                </a:lnTo>
                <a:lnTo>
                  <a:pt x="151" y="751"/>
                </a:lnTo>
                <a:lnTo>
                  <a:pt x="132" y="756"/>
                </a:lnTo>
                <a:lnTo>
                  <a:pt x="115" y="762"/>
                </a:lnTo>
                <a:lnTo>
                  <a:pt x="97" y="766"/>
                </a:lnTo>
                <a:lnTo>
                  <a:pt x="82" y="770"/>
                </a:lnTo>
                <a:lnTo>
                  <a:pt x="69" y="774"/>
                </a:lnTo>
                <a:lnTo>
                  <a:pt x="57" y="776"/>
                </a:lnTo>
                <a:lnTo>
                  <a:pt x="46" y="777"/>
                </a:lnTo>
                <a:lnTo>
                  <a:pt x="34" y="779"/>
                </a:lnTo>
                <a:lnTo>
                  <a:pt x="26" y="779"/>
                </a:lnTo>
                <a:lnTo>
                  <a:pt x="19" y="779"/>
                </a:lnTo>
                <a:lnTo>
                  <a:pt x="11" y="779"/>
                </a:lnTo>
                <a:lnTo>
                  <a:pt x="7" y="779"/>
                </a:lnTo>
                <a:lnTo>
                  <a:pt x="3" y="777"/>
                </a:lnTo>
                <a:lnTo>
                  <a:pt x="1" y="776"/>
                </a:lnTo>
                <a:lnTo>
                  <a:pt x="0" y="774"/>
                </a:lnTo>
                <a:lnTo>
                  <a:pt x="1" y="772"/>
                </a:lnTo>
                <a:lnTo>
                  <a:pt x="1" y="770"/>
                </a:lnTo>
                <a:lnTo>
                  <a:pt x="3" y="768"/>
                </a:lnTo>
                <a:lnTo>
                  <a:pt x="3" y="764"/>
                </a:lnTo>
                <a:lnTo>
                  <a:pt x="7" y="762"/>
                </a:lnTo>
                <a:lnTo>
                  <a:pt x="9" y="758"/>
                </a:lnTo>
                <a:lnTo>
                  <a:pt x="13" y="754"/>
                </a:lnTo>
                <a:lnTo>
                  <a:pt x="17" y="751"/>
                </a:lnTo>
                <a:lnTo>
                  <a:pt x="23" y="747"/>
                </a:lnTo>
                <a:lnTo>
                  <a:pt x="28" y="743"/>
                </a:lnTo>
                <a:lnTo>
                  <a:pt x="34" y="737"/>
                </a:lnTo>
                <a:lnTo>
                  <a:pt x="40" y="733"/>
                </a:lnTo>
                <a:lnTo>
                  <a:pt x="47" y="729"/>
                </a:lnTo>
                <a:lnTo>
                  <a:pt x="55" y="724"/>
                </a:lnTo>
                <a:lnTo>
                  <a:pt x="63" y="718"/>
                </a:lnTo>
                <a:lnTo>
                  <a:pt x="72" y="712"/>
                </a:lnTo>
                <a:lnTo>
                  <a:pt x="82" y="706"/>
                </a:lnTo>
                <a:lnTo>
                  <a:pt x="92" y="701"/>
                </a:lnTo>
                <a:lnTo>
                  <a:pt x="103" y="695"/>
                </a:lnTo>
                <a:lnTo>
                  <a:pt x="115" y="687"/>
                </a:lnTo>
                <a:lnTo>
                  <a:pt x="126" y="681"/>
                </a:lnTo>
                <a:lnTo>
                  <a:pt x="138" y="674"/>
                </a:lnTo>
                <a:lnTo>
                  <a:pt x="151" y="666"/>
                </a:lnTo>
                <a:lnTo>
                  <a:pt x="165" y="658"/>
                </a:lnTo>
                <a:lnTo>
                  <a:pt x="178" y="651"/>
                </a:lnTo>
                <a:lnTo>
                  <a:pt x="193" y="643"/>
                </a:lnTo>
                <a:lnTo>
                  <a:pt x="209" y="635"/>
                </a:lnTo>
                <a:lnTo>
                  <a:pt x="226" y="626"/>
                </a:lnTo>
                <a:lnTo>
                  <a:pt x="241" y="618"/>
                </a:lnTo>
                <a:lnTo>
                  <a:pt x="259" y="609"/>
                </a:lnTo>
                <a:lnTo>
                  <a:pt x="276" y="599"/>
                </a:lnTo>
                <a:lnTo>
                  <a:pt x="310" y="582"/>
                </a:lnTo>
                <a:lnTo>
                  <a:pt x="343" y="563"/>
                </a:lnTo>
                <a:lnTo>
                  <a:pt x="376" y="543"/>
                </a:lnTo>
                <a:lnTo>
                  <a:pt x="406" y="526"/>
                </a:lnTo>
                <a:lnTo>
                  <a:pt x="437" y="507"/>
                </a:lnTo>
                <a:lnTo>
                  <a:pt x="466" y="490"/>
                </a:lnTo>
                <a:lnTo>
                  <a:pt x="495" y="472"/>
                </a:lnTo>
                <a:lnTo>
                  <a:pt x="523" y="453"/>
                </a:lnTo>
                <a:lnTo>
                  <a:pt x="550" y="436"/>
                </a:lnTo>
                <a:lnTo>
                  <a:pt x="575" y="419"/>
                </a:lnTo>
                <a:lnTo>
                  <a:pt x="600" y="401"/>
                </a:lnTo>
                <a:lnTo>
                  <a:pt x="623" y="384"/>
                </a:lnTo>
                <a:lnTo>
                  <a:pt x="646" y="367"/>
                </a:lnTo>
                <a:lnTo>
                  <a:pt x="667" y="349"/>
                </a:lnTo>
                <a:lnTo>
                  <a:pt x="688" y="332"/>
                </a:lnTo>
                <a:lnTo>
                  <a:pt x="708" y="315"/>
                </a:lnTo>
                <a:lnTo>
                  <a:pt x="725" y="300"/>
                </a:lnTo>
                <a:lnTo>
                  <a:pt x="742" y="284"/>
                </a:lnTo>
                <a:lnTo>
                  <a:pt x="759" y="269"/>
                </a:lnTo>
                <a:lnTo>
                  <a:pt x="775" y="255"/>
                </a:lnTo>
                <a:lnTo>
                  <a:pt x="788" y="240"/>
                </a:lnTo>
                <a:lnTo>
                  <a:pt x="802" y="229"/>
                </a:lnTo>
                <a:lnTo>
                  <a:pt x="815" y="215"/>
                </a:lnTo>
                <a:lnTo>
                  <a:pt x="827" y="204"/>
                </a:lnTo>
                <a:lnTo>
                  <a:pt x="838" y="192"/>
                </a:lnTo>
                <a:lnTo>
                  <a:pt x="848" y="183"/>
                </a:lnTo>
                <a:lnTo>
                  <a:pt x="857" y="173"/>
                </a:lnTo>
                <a:lnTo>
                  <a:pt x="865" y="163"/>
                </a:lnTo>
                <a:lnTo>
                  <a:pt x="873" y="154"/>
                </a:lnTo>
                <a:lnTo>
                  <a:pt x="878" y="146"/>
                </a:lnTo>
                <a:lnTo>
                  <a:pt x="886" y="136"/>
                </a:lnTo>
                <a:lnTo>
                  <a:pt x="892" y="129"/>
                </a:lnTo>
                <a:lnTo>
                  <a:pt x="900" y="119"/>
                </a:lnTo>
                <a:lnTo>
                  <a:pt x="907" y="108"/>
                </a:lnTo>
                <a:lnTo>
                  <a:pt x="915" y="96"/>
                </a:lnTo>
                <a:lnTo>
                  <a:pt x="919" y="85"/>
                </a:lnTo>
                <a:lnTo>
                  <a:pt x="921" y="75"/>
                </a:lnTo>
                <a:lnTo>
                  <a:pt x="923" y="64"/>
                </a:lnTo>
                <a:lnTo>
                  <a:pt x="921" y="52"/>
                </a:lnTo>
                <a:lnTo>
                  <a:pt x="919" y="41"/>
                </a:lnTo>
                <a:lnTo>
                  <a:pt x="915" y="35"/>
                </a:lnTo>
                <a:lnTo>
                  <a:pt x="913" y="29"/>
                </a:lnTo>
                <a:lnTo>
                  <a:pt x="913" y="23"/>
                </a:lnTo>
                <a:lnTo>
                  <a:pt x="915" y="17"/>
                </a:lnTo>
                <a:lnTo>
                  <a:pt x="915" y="16"/>
                </a:lnTo>
                <a:lnTo>
                  <a:pt x="917" y="14"/>
                </a:lnTo>
                <a:lnTo>
                  <a:pt x="919" y="12"/>
                </a:lnTo>
                <a:lnTo>
                  <a:pt x="921" y="10"/>
                </a:lnTo>
                <a:lnTo>
                  <a:pt x="925" y="8"/>
                </a:lnTo>
                <a:lnTo>
                  <a:pt x="928" y="6"/>
                </a:lnTo>
                <a:lnTo>
                  <a:pt x="932" y="4"/>
                </a:lnTo>
                <a:lnTo>
                  <a:pt x="938" y="2"/>
                </a:lnTo>
                <a:lnTo>
                  <a:pt x="940" y="0"/>
                </a:lnTo>
                <a:lnTo>
                  <a:pt x="944" y="0"/>
                </a:lnTo>
                <a:lnTo>
                  <a:pt x="948" y="0"/>
                </a:lnTo>
                <a:lnTo>
                  <a:pt x="953" y="0"/>
                </a:lnTo>
                <a:lnTo>
                  <a:pt x="957" y="2"/>
                </a:lnTo>
                <a:lnTo>
                  <a:pt x="961" y="4"/>
                </a:lnTo>
                <a:lnTo>
                  <a:pt x="967" y="6"/>
                </a:lnTo>
                <a:lnTo>
                  <a:pt x="972" y="10"/>
                </a:lnTo>
                <a:lnTo>
                  <a:pt x="976" y="14"/>
                </a:lnTo>
                <a:lnTo>
                  <a:pt x="982" y="17"/>
                </a:lnTo>
                <a:lnTo>
                  <a:pt x="988" y="23"/>
                </a:lnTo>
                <a:lnTo>
                  <a:pt x="994" y="29"/>
                </a:lnTo>
                <a:lnTo>
                  <a:pt x="999" y="37"/>
                </a:lnTo>
                <a:lnTo>
                  <a:pt x="1007" y="44"/>
                </a:lnTo>
                <a:lnTo>
                  <a:pt x="1013" y="52"/>
                </a:lnTo>
                <a:lnTo>
                  <a:pt x="1020" y="62"/>
                </a:lnTo>
                <a:lnTo>
                  <a:pt x="1032" y="79"/>
                </a:lnTo>
                <a:lnTo>
                  <a:pt x="1043" y="94"/>
                </a:lnTo>
                <a:lnTo>
                  <a:pt x="1047" y="102"/>
                </a:lnTo>
                <a:lnTo>
                  <a:pt x="1053" y="108"/>
                </a:lnTo>
                <a:lnTo>
                  <a:pt x="1057" y="115"/>
                </a:lnTo>
                <a:lnTo>
                  <a:pt x="1059" y="121"/>
                </a:lnTo>
                <a:lnTo>
                  <a:pt x="1063" y="127"/>
                </a:lnTo>
                <a:lnTo>
                  <a:pt x="1065" y="133"/>
                </a:lnTo>
                <a:lnTo>
                  <a:pt x="1067" y="136"/>
                </a:lnTo>
                <a:lnTo>
                  <a:pt x="1067" y="142"/>
                </a:lnTo>
                <a:lnTo>
                  <a:pt x="1068" y="146"/>
                </a:lnTo>
                <a:lnTo>
                  <a:pt x="1068" y="152"/>
                </a:lnTo>
                <a:lnTo>
                  <a:pt x="1067" y="156"/>
                </a:lnTo>
                <a:lnTo>
                  <a:pt x="1065" y="159"/>
                </a:lnTo>
                <a:lnTo>
                  <a:pt x="1063" y="163"/>
                </a:lnTo>
                <a:lnTo>
                  <a:pt x="1059" y="167"/>
                </a:lnTo>
                <a:lnTo>
                  <a:pt x="1055" y="173"/>
                </a:lnTo>
                <a:lnTo>
                  <a:pt x="1049" y="181"/>
                </a:lnTo>
                <a:lnTo>
                  <a:pt x="1043" y="188"/>
                </a:lnTo>
                <a:lnTo>
                  <a:pt x="1036" y="196"/>
                </a:lnTo>
                <a:lnTo>
                  <a:pt x="1026" y="206"/>
                </a:lnTo>
                <a:lnTo>
                  <a:pt x="1017" y="215"/>
                </a:lnTo>
                <a:lnTo>
                  <a:pt x="1005" y="227"/>
                </a:lnTo>
                <a:lnTo>
                  <a:pt x="992" y="238"/>
                </a:lnTo>
                <a:lnTo>
                  <a:pt x="978" y="252"/>
                </a:lnTo>
                <a:lnTo>
                  <a:pt x="963" y="265"/>
                </a:lnTo>
                <a:lnTo>
                  <a:pt x="948" y="278"/>
                </a:lnTo>
                <a:lnTo>
                  <a:pt x="930" y="294"/>
                </a:lnTo>
                <a:lnTo>
                  <a:pt x="911" y="309"/>
                </a:lnTo>
                <a:lnTo>
                  <a:pt x="892" y="325"/>
                </a:lnTo>
                <a:lnTo>
                  <a:pt x="871" y="344"/>
                </a:lnTo>
                <a:lnTo>
                  <a:pt x="850" y="361"/>
                </a:lnTo>
                <a:lnTo>
                  <a:pt x="829" y="378"/>
                </a:lnTo>
                <a:lnTo>
                  <a:pt x="807" y="396"/>
                </a:lnTo>
                <a:lnTo>
                  <a:pt x="763" y="428"/>
                </a:lnTo>
                <a:lnTo>
                  <a:pt x="721" y="459"/>
                </a:lnTo>
                <a:lnTo>
                  <a:pt x="677" y="488"/>
                </a:lnTo>
                <a:lnTo>
                  <a:pt x="631" y="516"/>
                </a:lnTo>
                <a:lnTo>
                  <a:pt x="587" y="543"/>
                </a:lnTo>
                <a:lnTo>
                  <a:pt x="543" y="57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2436840" y="2755800"/>
            <a:ext cx="120600" cy="757440"/>
          </a:xfrm>
          <a:custGeom>
            <a:avLst/>
            <a:gdLst/>
            <a:ahLst/>
            <a:rect l="l" t="t" r="r" b="b"/>
            <a:pathLst>
              <a:path w="151" h="956">
                <a:moveTo>
                  <a:pt x="13" y="94"/>
                </a:moveTo>
                <a:lnTo>
                  <a:pt x="7" y="77"/>
                </a:lnTo>
                <a:lnTo>
                  <a:pt x="4" y="61"/>
                </a:lnTo>
                <a:lnTo>
                  <a:pt x="2" y="48"/>
                </a:lnTo>
                <a:lnTo>
                  <a:pt x="0" y="35"/>
                </a:lnTo>
                <a:lnTo>
                  <a:pt x="0" y="25"/>
                </a:lnTo>
                <a:lnTo>
                  <a:pt x="0" y="17"/>
                </a:lnTo>
                <a:lnTo>
                  <a:pt x="2" y="10"/>
                </a:lnTo>
                <a:lnTo>
                  <a:pt x="6" y="6"/>
                </a:lnTo>
                <a:lnTo>
                  <a:pt x="9" y="2"/>
                </a:lnTo>
                <a:lnTo>
                  <a:pt x="13" y="0"/>
                </a:lnTo>
                <a:lnTo>
                  <a:pt x="19" y="0"/>
                </a:lnTo>
                <a:lnTo>
                  <a:pt x="25" y="0"/>
                </a:lnTo>
                <a:lnTo>
                  <a:pt x="32" y="2"/>
                </a:lnTo>
                <a:lnTo>
                  <a:pt x="40" y="4"/>
                </a:lnTo>
                <a:lnTo>
                  <a:pt x="50" y="10"/>
                </a:lnTo>
                <a:lnTo>
                  <a:pt x="59" y="15"/>
                </a:lnTo>
                <a:lnTo>
                  <a:pt x="80" y="31"/>
                </a:lnTo>
                <a:lnTo>
                  <a:pt x="100" y="44"/>
                </a:lnTo>
                <a:lnTo>
                  <a:pt x="109" y="52"/>
                </a:lnTo>
                <a:lnTo>
                  <a:pt x="119" y="60"/>
                </a:lnTo>
                <a:lnTo>
                  <a:pt x="126" y="67"/>
                </a:lnTo>
                <a:lnTo>
                  <a:pt x="134" y="75"/>
                </a:lnTo>
                <a:lnTo>
                  <a:pt x="134" y="81"/>
                </a:lnTo>
                <a:lnTo>
                  <a:pt x="136" y="88"/>
                </a:lnTo>
                <a:lnTo>
                  <a:pt x="138" y="96"/>
                </a:lnTo>
                <a:lnTo>
                  <a:pt x="140" y="106"/>
                </a:lnTo>
                <a:lnTo>
                  <a:pt x="142" y="117"/>
                </a:lnTo>
                <a:lnTo>
                  <a:pt x="144" y="129"/>
                </a:lnTo>
                <a:lnTo>
                  <a:pt x="144" y="142"/>
                </a:lnTo>
                <a:lnTo>
                  <a:pt x="146" y="157"/>
                </a:lnTo>
                <a:lnTo>
                  <a:pt x="148" y="173"/>
                </a:lnTo>
                <a:lnTo>
                  <a:pt x="148" y="190"/>
                </a:lnTo>
                <a:lnTo>
                  <a:pt x="149" y="207"/>
                </a:lnTo>
                <a:lnTo>
                  <a:pt x="149" y="227"/>
                </a:lnTo>
                <a:lnTo>
                  <a:pt x="151" y="248"/>
                </a:lnTo>
                <a:lnTo>
                  <a:pt x="151" y="271"/>
                </a:lnTo>
                <a:lnTo>
                  <a:pt x="151" y="294"/>
                </a:lnTo>
                <a:lnTo>
                  <a:pt x="151" y="319"/>
                </a:lnTo>
                <a:lnTo>
                  <a:pt x="151" y="374"/>
                </a:lnTo>
                <a:lnTo>
                  <a:pt x="151" y="428"/>
                </a:lnTo>
                <a:lnTo>
                  <a:pt x="151" y="482"/>
                </a:lnTo>
                <a:lnTo>
                  <a:pt x="149" y="534"/>
                </a:lnTo>
                <a:lnTo>
                  <a:pt x="149" y="585"/>
                </a:lnTo>
                <a:lnTo>
                  <a:pt x="148" y="637"/>
                </a:lnTo>
                <a:lnTo>
                  <a:pt x="146" y="689"/>
                </a:lnTo>
                <a:lnTo>
                  <a:pt x="142" y="741"/>
                </a:lnTo>
                <a:lnTo>
                  <a:pt x="140" y="768"/>
                </a:lnTo>
                <a:lnTo>
                  <a:pt x="140" y="793"/>
                </a:lnTo>
                <a:lnTo>
                  <a:pt x="138" y="816"/>
                </a:lnTo>
                <a:lnTo>
                  <a:pt x="136" y="837"/>
                </a:lnTo>
                <a:lnTo>
                  <a:pt x="134" y="856"/>
                </a:lnTo>
                <a:lnTo>
                  <a:pt x="132" y="873"/>
                </a:lnTo>
                <a:lnTo>
                  <a:pt x="130" y="891"/>
                </a:lnTo>
                <a:lnTo>
                  <a:pt x="128" y="904"/>
                </a:lnTo>
                <a:lnTo>
                  <a:pt x="124" y="915"/>
                </a:lnTo>
                <a:lnTo>
                  <a:pt x="123" y="927"/>
                </a:lnTo>
                <a:lnTo>
                  <a:pt x="121" y="937"/>
                </a:lnTo>
                <a:lnTo>
                  <a:pt x="119" y="944"/>
                </a:lnTo>
                <a:lnTo>
                  <a:pt x="115" y="950"/>
                </a:lnTo>
                <a:lnTo>
                  <a:pt x="113" y="954"/>
                </a:lnTo>
                <a:lnTo>
                  <a:pt x="109" y="956"/>
                </a:lnTo>
                <a:lnTo>
                  <a:pt x="105" y="956"/>
                </a:lnTo>
                <a:lnTo>
                  <a:pt x="101" y="956"/>
                </a:lnTo>
                <a:lnTo>
                  <a:pt x="96" y="956"/>
                </a:lnTo>
                <a:lnTo>
                  <a:pt x="92" y="954"/>
                </a:lnTo>
                <a:lnTo>
                  <a:pt x="88" y="950"/>
                </a:lnTo>
                <a:lnTo>
                  <a:pt x="84" y="948"/>
                </a:lnTo>
                <a:lnTo>
                  <a:pt x="80" y="944"/>
                </a:lnTo>
                <a:lnTo>
                  <a:pt x="78" y="939"/>
                </a:lnTo>
                <a:lnTo>
                  <a:pt x="77" y="933"/>
                </a:lnTo>
                <a:lnTo>
                  <a:pt x="73" y="927"/>
                </a:lnTo>
                <a:lnTo>
                  <a:pt x="71" y="919"/>
                </a:lnTo>
                <a:lnTo>
                  <a:pt x="69" y="912"/>
                </a:lnTo>
                <a:lnTo>
                  <a:pt x="67" y="902"/>
                </a:lnTo>
                <a:lnTo>
                  <a:pt x="65" y="892"/>
                </a:lnTo>
                <a:lnTo>
                  <a:pt x="63" y="883"/>
                </a:lnTo>
                <a:lnTo>
                  <a:pt x="61" y="871"/>
                </a:lnTo>
                <a:lnTo>
                  <a:pt x="59" y="858"/>
                </a:lnTo>
                <a:lnTo>
                  <a:pt x="57" y="844"/>
                </a:lnTo>
                <a:lnTo>
                  <a:pt x="55" y="829"/>
                </a:lnTo>
                <a:lnTo>
                  <a:pt x="55" y="814"/>
                </a:lnTo>
                <a:lnTo>
                  <a:pt x="53" y="796"/>
                </a:lnTo>
                <a:lnTo>
                  <a:pt x="52" y="775"/>
                </a:lnTo>
                <a:lnTo>
                  <a:pt x="50" y="756"/>
                </a:lnTo>
                <a:lnTo>
                  <a:pt x="48" y="733"/>
                </a:lnTo>
                <a:lnTo>
                  <a:pt x="48" y="708"/>
                </a:lnTo>
                <a:lnTo>
                  <a:pt x="46" y="683"/>
                </a:lnTo>
                <a:lnTo>
                  <a:pt x="44" y="656"/>
                </a:lnTo>
                <a:lnTo>
                  <a:pt x="44" y="628"/>
                </a:lnTo>
                <a:lnTo>
                  <a:pt x="42" y="597"/>
                </a:lnTo>
                <a:lnTo>
                  <a:pt x="42" y="564"/>
                </a:lnTo>
                <a:lnTo>
                  <a:pt x="42" y="530"/>
                </a:lnTo>
                <a:lnTo>
                  <a:pt x="42" y="495"/>
                </a:lnTo>
                <a:lnTo>
                  <a:pt x="42" y="457"/>
                </a:lnTo>
                <a:lnTo>
                  <a:pt x="42" y="438"/>
                </a:lnTo>
                <a:lnTo>
                  <a:pt x="42" y="418"/>
                </a:lnTo>
                <a:lnTo>
                  <a:pt x="42" y="401"/>
                </a:lnTo>
                <a:lnTo>
                  <a:pt x="40" y="384"/>
                </a:lnTo>
                <a:lnTo>
                  <a:pt x="40" y="367"/>
                </a:lnTo>
                <a:lnTo>
                  <a:pt x="40" y="349"/>
                </a:lnTo>
                <a:lnTo>
                  <a:pt x="40" y="334"/>
                </a:lnTo>
                <a:lnTo>
                  <a:pt x="40" y="319"/>
                </a:lnTo>
                <a:lnTo>
                  <a:pt x="38" y="303"/>
                </a:lnTo>
                <a:lnTo>
                  <a:pt x="38" y="290"/>
                </a:lnTo>
                <a:lnTo>
                  <a:pt x="38" y="274"/>
                </a:lnTo>
                <a:lnTo>
                  <a:pt x="38" y="261"/>
                </a:lnTo>
                <a:lnTo>
                  <a:pt x="36" y="250"/>
                </a:lnTo>
                <a:lnTo>
                  <a:pt x="36" y="236"/>
                </a:lnTo>
                <a:lnTo>
                  <a:pt x="34" y="225"/>
                </a:lnTo>
                <a:lnTo>
                  <a:pt x="34" y="213"/>
                </a:lnTo>
                <a:lnTo>
                  <a:pt x="34" y="202"/>
                </a:lnTo>
                <a:lnTo>
                  <a:pt x="32" y="192"/>
                </a:lnTo>
                <a:lnTo>
                  <a:pt x="32" y="180"/>
                </a:lnTo>
                <a:lnTo>
                  <a:pt x="30" y="173"/>
                </a:lnTo>
                <a:lnTo>
                  <a:pt x="29" y="163"/>
                </a:lnTo>
                <a:lnTo>
                  <a:pt x="29" y="154"/>
                </a:lnTo>
                <a:lnTo>
                  <a:pt x="27" y="138"/>
                </a:lnTo>
                <a:lnTo>
                  <a:pt x="23" y="125"/>
                </a:lnTo>
                <a:lnTo>
                  <a:pt x="21" y="113"/>
                </a:lnTo>
                <a:lnTo>
                  <a:pt x="17" y="102"/>
                </a:lnTo>
                <a:lnTo>
                  <a:pt x="13" y="9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2701800" y="3000240"/>
            <a:ext cx="430200" cy="346320"/>
          </a:xfrm>
          <a:custGeom>
            <a:avLst/>
            <a:gdLst/>
            <a:ahLst/>
            <a:rect l="l" t="t" r="r" b="b"/>
            <a:pathLst>
              <a:path w="543" h="436">
                <a:moveTo>
                  <a:pt x="94" y="353"/>
                </a:moveTo>
                <a:lnTo>
                  <a:pt x="121" y="338"/>
                </a:lnTo>
                <a:lnTo>
                  <a:pt x="147" y="321"/>
                </a:lnTo>
                <a:lnTo>
                  <a:pt x="176" y="301"/>
                </a:lnTo>
                <a:lnTo>
                  <a:pt x="203" y="282"/>
                </a:lnTo>
                <a:lnTo>
                  <a:pt x="230" y="259"/>
                </a:lnTo>
                <a:lnTo>
                  <a:pt x="259" y="236"/>
                </a:lnTo>
                <a:lnTo>
                  <a:pt x="286" y="213"/>
                </a:lnTo>
                <a:lnTo>
                  <a:pt x="312" y="186"/>
                </a:lnTo>
                <a:lnTo>
                  <a:pt x="324" y="175"/>
                </a:lnTo>
                <a:lnTo>
                  <a:pt x="336" y="161"/>
                </a:lnTo>
                <a:lnTo>
                  <a:pt x="345" y="150"/>
                </a:lnTo>
                <a:lnTo>
                  <a:pt x="355" y="138"/>
                </a:lnTo>
                <a:lnTo>
                  <a:pt x="364" y="129"/>
                </a:lnTo>
                <a:lnTo>
                  <a:pt x="372" y="117"/>
                </a:lnTo>
                <a:lnTo>
                  <a:pt x="380" y="108"/>
                </a:lnTo>
                <a:lnTo>
                  <a:pt x="385" y="98"/>
                </a:lnTo>
                <a:lnTo>
                  <a:pt x="391" y="90"/>
                </a:lnTo>
                <a:lnTo>
                  <a:pt x="397" y="81"/>
                </a:lnTo>
                <a:lnTo>
                  <a:pt x="401" y="73"/>
                </a:lnTo>
                <a:lnTo>
                  <a:pt x="403" y="65"/>
                </a:lnTo>
                <a:lnTo>
                  <a:pt x="405" y="58"/>
                </a:lnTo>
                <a:lnTo>
                  <a:pt x="407" y="52"/>
                </a:lnTo>
                <a:lnTo>
                  <a:pt x="407" y="46"/>
                </a:lnTo>
                <a:lnTo>
                  <a:pt x="405" y="40"/>
                </a:lnTo>
                <a:lnTo>
                  <a:pt x="403" y="29"/>
                </a:lnTo>
                <a:lnTo>
                  <a:pt x="401" y="21"/>
                </a:lnTo>
                <a:lnTo>
                  <a:pt x="403" y="15"/>
                </a:lnTo>
                <a:lnTo>
                  <a:pt x="405" y="10"/>
                </a:lnTo>
                <a:lnTo>
                  <a:pt x="408" y="6"/>
                </a:lnTo>
                <a:lnTo>
                  <a:pt x="414" y="2"/>
                </a:lnTo>
                <a:lnTo>
                  <a:pt x="422" y="2"/>
                </a:lnTo>
                <a:lnTo>
                  <a:pt x="431" y="0"/>
                </a:lnTo>
                <a:lnTo>
                  <a:pt x="443" y="4"/>
                </a:lnTo>
                <a:lnTo>
                  <a:pt x="451" y="8"/>
                </a:lnTo>
                <a:lnTo>
                  <a:pt x="460" y="13"/>
                </a:lnTo>
                <a:lnTo>
                  <a:pt x="470" y="17"/>
                </a:lnTo>
                <a:lnTo>
                  <a:pt x="478" y="23"/>
                </a:lnTo>
                <a:lnTo>
                  <a:pt x="487" y="31"/>
                </a:lnTo>
                <a:lnTo>
                  <a:pt x="495" y="40"/>
                </a:lnTo>
                <a:lnTo>
                  <a:pt x="506" y="50"/>
                </a:lnTo>
                <a:lnTo>
                  <a:pt x="516" y="61"/>
                </a:lnTo>
                <a:lnTo>
                  <a:pt x="524" y="71"/>
                </a:lnTo>
                <a:lnTo>
                  <a:pt x="529" y="83"/>
                </a:lnTo>
                <a:lnTo>
                  <a:pt x="535" y="92"/>
                </a:lnTo>
                <a:lnTo>
                  <a:pt x="537" y="100"/>
                </a:lnTo>
                <a:lnTo>
                  <a:pt x="541" y="108"/>
                </a:lnTo>
                <a:lnTo>
                  <a:pt x="543" y="113"/>
                </a:lnTo>
                <a:lnTo>
                  <a:pt x="543" y="119"/>
                </a:lnTo>
                <a:lnTo>
                  <a:pt x="541" y="123"/>
                </a:lnTo>
                <a:lnTo>
                  <a:pt x="537" y="127"/>
                </a:lnTo>
                <a:lnTo>
                  <a:pt x="533" y="131"/>
                </a:lnTo>
                <a:lnTo>
                  <a:pt x="529" y="136"/>
                </a:lnTo>
                <a:lnTo>
                  <a:pt x="524" y="142"/>
                </a:lnTo>
                <a:lnTo>
                  <a:pt x="516" y="150"/>
                </a:lnTo>
                <a:lnTo>
                  <a:pt x="508" y="155"/>
                </a:lnTo>
                <a:lnTo>
                  <a:pt x="501" y="163"/>
                </a:lnTo>
                <a:lnTo>
                  <a:pt x="491" y="171"/>
                </a:lnTo>
                <a:lnTo>
                  <a:pt x="481" y="180"/>
                </a:lnTo>
                <a:lnTo>
                  <a:pt x="472" y="190"/>
                </a:lnTo>
                <a:lnTo>
                  <a:pt x="460" y="200"/>
                </a:lnTo>
                <a:lnTo>
                  <a:pt x="447" y="209"/>
                </a:lnTo>
                <a:lnTo>
                  <a:pt x="433" y="221"/>
                </a:lnTo>
                <a:lnTo>
                  <a:pt x="420" y="232"/>
                </a:lnTo>
                <a:lnTo>
                  <a:pt x="405" y="246"/>
                </a:lnTo>
                <a:lnTo>
                  <a:pt x="387" y="259"/>
                </a:lnTo>
                <a:lnTo>
                  <a:pt x="370" y="271"/>
                </a:lnTo>
                <a:lnTo>
                  <a:pt x="353" y="282"/>
                </a:lnTo>
                <a:lnTo>
                  <a:pt x="336" y="294"/>
                </a:lnTo>
                <a:lnTo>
                  <a:pt x="320" y="305"/>
                </a:lnTo>
                <a:lnTo>
                  <a:pt x="303" y="315"/>
                </a:lnTo>
                <a:lnTo>
                  <a:pt x="268" y="334"/>
                </a:lnTo>
                <a:lnTo>
                  <a:pt x="236" y="351"/>
                </a:lnTo>
                <a:lnTo>
                  <a:pt x="201" y="367"/>
                </a:lnTo>
                <a:lnTo>
                  <a:pt x="170" y="380"/>
                </a:lnTo>
                <a:lnTo>
                  <a:pt x="138" y="393"/>
                </a:lnTo>
                <a:lnTo>
                  <a:pt x="124" y="399"/>
                </a:lnTo>
                <a:lnTo>
                  <a:pt x="109" y="407"/>
                </a:lnTo>
                <a:lnTo>
                  <a:pt x="96" y="413"/>
                </a:lnTo>
                <a:lnTo>
                  <a:pt x="84" y="416"/>
                </a:lnTo>
                <a:lnTo>
                  <a:pt x="73" y="422"/>
                </a:lnTo>
                <a:lnTo>
                  <a:pt x="61" y="424"/>
                </a:lnTo>
                <a:lnTo>
                  <a:pt x="51" y="428"/>
                </a:lnTo>
                <a:lnTo>
                  <a:pt x="42" y="430"/>
                </a:lnTo>
                <a:lnTo>
                  <a:pt x="34" y="434"/>
                </a:lnTo>
                <a:lnTo>
                  <a:pt x="27" y="434"/>
                </a:lnTo>
                <a:lnTo>
                  <a:pt x="21" y="436"/>
                </a:lnTo>
                <a:lnTo>
                  <a:pt x="15" y="436"/>
                </a:lnTo>
                <a:lnTo>
                  <a:pt x="9" y="436"/>
                </a:lnTo>
                <a:lnTo>
                  <a:pt x="5" y="434"/>
                </a:lnTo>
                <a:lnTo>
                  <a:pt x="4" y="434"/>
                </a:lnTo>
                <a:lnTo>
                  <a:pt x="2" y="432"/>
                </a:lnTo>
                <a:lnTo>
                  <a:pt x="0" y="430"/>
                </a:lnTo>
                <a:lnTo>
                  <a:pt x="0" y="428"/>
                </a:lnTo>
                <a:lnTo>
                  <a:pt x="0" y="424"/>
                </a:lnTo>
                <a:lnTo>
                  <a:pt x="2" y="420"/>
                </a:lnTo>
                <a:lnTo>
                  <a:pt x="5" y="416"/>
                </a:lnTo>
                <a:lnTo>
                  <a:pt x="9" y="413"/>
                </a:lnTo>
                <a:lnTo>
                  <a:pt x="13" y="409"/>
                </a:lnTo>
                <a:lnTo>
                  <a:pt x="19" y="403"/>
                </a:lnTo>
                <a:lnTo>
                  <a:pt x="27" y="399"/>
                </a:lnTo>
                <a:lnTo>
                  <a:pt x="34" y="393"/>
                </a:lnTo>
                <a:lnTo>
                  <a:pt x="42" y="388"/>
                </a:lnTo>
                <a:lnTo>
                  <a:pt x="50" y="382"/>
                </a:lnTo>
                <a:lnTo>
                  <a:pt x="59" y="374"/>
                </a:lnTo>
                <a:lnTo>
                  <a:pt x="71" y="369"/>
                </a:lnTo>
                <a:lnTo>
                  <a:pt x="80" y="361"/>
                </a:lnTo>
                <a:lnTo>
                  <a:pt x="94" y="35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486400" y="1905120"/>
            <a:ext cx="3352680" cy="2166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堵上 堵车 堵塞 堵住 拥堵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28600" y="4724280"/>
            <a:ext cx="876312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堵上了那个窟窿，把羊圈修得结结实实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278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5"/>
          <p:cNvSpPr/>
          <p:nvPr/>
        </p:nvSpPr>
        <p:spPr>
          <a:xfrm>
            <a:off x="1905120" y="2286000"/>
            <a:ext cx="1844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1914480" y="2293920"/>
            <a:ext cx="1809720" cy="1817640"/>
          </a:xfrm>
          <a:custGeom>
            <a:avLst/>
            <a:gdLst/>
            <a:ahLst/>
            <a:rect l="l" t="t" r="r" b="b"/>
            <a:pathLst>
              <a:path w="2279" h="2289">
                <a:moveTo>
                  <a:pt x="130" y="1057"/>
                </a:moveTo>
                <a:lnTo>
                  <a:pt x="122" y="1053"/>
                </a:lnTo>
                <a:lnTo>
                  <a:pt x="117" y="1047"/>
                </a:lnTo>
                <a:lnTo>
                  <a:pt x="111" y="1042"/>
                </a:lnTo>
                <a:lnTo>
                  <a:pt x="107" y="1036"/>
                </a:lnTo>
                <a:lnTo>
                  <a:pt x="97" y="1024"/>
                </a:lnTo>
                <a:lnTo>
                  <a:pt x="94" y="1021"/>
                </a:lnTo>
                <a:lnTo>
                  <a:pt x="90" y="1017"/>
                </a:lnTo>
                <a:lnTo>
                  <a:pt x="90" y="1015"/>
                </a:lnTo>
                <a:lnTo>
                  <a:pt x="90" y="1013"/>
                </a:lnTo>
                <a:lnTo>
                  <a:pt x="92" y="1011"/>
                </a:lnTo>
                <a:lnTo>
                  <a:pt x="94" y="1009"/>
                </a:lnTo>
                <a:lnTo>
                  <a:pt x="95" y="1007"/>
                </a:lnTo>
                <a:lnTo>
                  <a:pt x="97" y="1007"/>
                </a:lnTo>
                <a:lnTo>
                  <a:pt x="101" y="1005"/>
                </a:lnTo>
                <a:lnTo>
                  <a:pt x="105" y="1003"/>
                </a:lnTo>
                <a:lnTo>
                  <a:pt x="111" y="1001"/>
                </a:lnTo>
                <a:lnTo>
                  <a:pt x="115" y="998"/>
                </a:lnTo>
                <a:lnTo>
                  <a:pt x="120" y="996"/>
                </a:lnTo>
                <a:lnTo>
                  <a:pt x="126" y="994"/>
                </a:lnTo>
                <a:lnTo>
                  <a:pt x="134" y="992"/>
                </a:lnTo>
                <a:lnTo>
                  <a:pt x="142" y="988"/>
                </a:lnTo>
                <a:lnTo>
                  <a:pt x="149" y="986"/>
                </a:lnTo>
                <a:lnTo>
                  <a:pt x="157" y="982"/>
                </a:lnTo>
                <a:lnTo>
                  <a:pt x="166" y="980"/>
                </a:lnTo>
                <a:lnTo>
                  <a:pt x="176" y="976"/>
                </a:lnTo>
                <a:lnTo>
                  <a:pt x="188" y="973"/>
                </a:lnTo>
                <a:lnTo>
                  <a:pt x="197" y="971"/>
                </a:lnTo>
                <a:lnTo>
                  <a:pt x="209" y="967"/>
                </a:lnTo>
                <a:lnTo>
                  <a:pt x="220" y="963"/>
                </a:lnTo>
                <a:lnTo>
                  <a:pt x="234" y="959"/>
                </a:lnTo>
                <a:lnTo>
                  <a:pt x="247" y="955"/>
                </a:lnTo>
                <a:lnTo>
                  <a:pt x="261" y="951"/>
                </a:lnTo>
                <a:lnTo>
                  <a:pt x="274" y="948"/>
                </a:lnTo>
                <a:lnTo>
                  <a:pt x="289" y="942"/>
                </a:lnTo>
                <a:lnTo>
                  <a:pt x="305" y="938"/>
                </a:lnTo>
                <a:lnTo>
                  <a:pt x="320" y="934"/>
                </a:lnTo>
                <a:lnTo>
                  <a:pt x="337" y="928"/>
                </a:lnTo>
                <a:lnTo>
                  <a:pt x="355" y="925"/>
                </a:lnTo>
                <a:lnTo>
                  <a:pt x="372" y="919"/>
                </a:lnTo>
                <a:lnTo>
                  <a:pt x="387" y="915"/>
                </a:lnTo>
                <a:lnTo>
                  <a:pt x="404" y="911"/>
                </a:lnTo>
                <a:lnTo>
                  <a:pt x="420" y="905"/>
                </a:lnTo>
                <a:lnTo>
                  <a:pt x="435" y="902"/>
                </a:lnTo>
                <a:lnTo>
                  <a:pt x="449" y="898"/>
                </a:lnTo>
                <a:lnTo>
                  <a:pt x="462" y="894"/>
                </a:lnTo>
                <a:lnTo>
                  <a:pt x="477" y="892"/>
                </a:lnTo>
                <a:lnTo>
                  <a:pt x="489" y="888"/>
                </a:lnTo>
                <a:lnTo>
                  <a:pt x="502" y="884"/>
                </a:lnTo>
                <a:lnTo>
                  <a:pt x="514" y="882"/>
                </a:lnTo>
                <a:lnTo>
                  <a:pt x="525" y="879"/>
                </a:lnTo>
                <a:lnTo>
                  <a:pt x="537" y="877"/>
                </a:lnTo>
                <a:lnTo>
                  <a:pt x="548" y="873"/>
                </a:lnTo>
                <a:lnTo>
                  <a:pt x="558" y="871"/>
                </a:lnTo>
                <a:lnTo>
                  <a:pt x="568" y="869"/>
                </a:lnTo>
                <a:lnTo>
                  <a:pt x="577" y="867"/>
                </a:lnTo>
                <a:lnTo>
                  <a:pt x="585" y="865"/>
                </a:lnTo>
                <a:lnTo>
                  <a:pt x="593" y="863"/>
                </a:lnTo>
                <a:lnTo>
                  <a:pt x="600" y="861"/>
                </a:lnTo>
                <a:lnTo>
                  <a:pt x="616" y="859"/>
                </a:lnTo>
                <a:lnTo>
                  <a:pt x="627" y="857"/>
                </a:lnTo>
                <a:lnTo>
                  <a:pt x="637" y="856"/>
                </a:lnTo>
                <a:lnTo>
                  <a:pt x="646" y="854"/>
                </a:lnTo>
                <a:lnTo>
                  <a:pt x="652" y="854"/>
                </a:lnTo>
                <a:lnTo>
                  <a:pt x="656" y="854"/>
                </a:lnTo>
                <a:lnTo>
                  <a:pt x="662" y="854"/>
                </a:lnTo>
                <a:lnTo>
                  <a:pt x="665" y="856"/>
                </a:lnTo>
                <a:lnTo>
                  <a:pt x="671" y="857"/>
                </a:lnTo>
                <a:lnTo>
                  <a:pt x="679" y="859"/>
                </a:lnTo>
                <a:lnTo>
                  <a:pt x="687" y="861"/>
                </a:lnTo>
                <a:lnTo>
                  <a:pt x="694" y="865"/>
                </a:lnTo>
                <a:lnTo>
                  <a:pt x="704" y="869"/>
                </a:lnTo>
                <a:lnTo>
                  <a:pt x="715" y="873"/>
                </a:lnTo>
                <a:lnTo>
                  <a:pt x="725" y="877"/>
                </a:lnTo>
                <a:lnTo>
                  <a:pt x="733" y="882"/>
                </a:lnTo>
                <a:lnTo>
                  <a:pt x="740" y="888"/>
                </a:lnTo>
                <a:lnTo>
                  <a:pt x="746" y="894"/>
                </a:lnTo>
                <a:lnTo>
                  <a:pt x="750" y="900"/>
                </a:lnTo>
                <a:lnTo>
                  <a:pt x="752" y="905"/>
                </a:lnTo>
                <a:lnTo>
                  <a:pt x="754" y="909"/>
                </a:lnTo>
                <a:lnTo>
                  <a:pt x="754" y="913"/>
                </a:lnTo>
                <a:lnTo>
                  <a:pt x="754" y="921"/>
                </a:lnTo>
                <a:lnTo>
                  <a:pt x="752" y="927"/>
                </a:lnTo>
                <a:lnTo>
                  <a:pt x="750" y="932"/>
                </a:lnTo>
                <a:lnTo>
                  <a:pt x="746" y="938"/>
                </a:lnTo>
                <a:lnTo>
                  <a:pt x="740" y="942"/>
                </a:lnTo>
                <a:lnTo>
                  <a:pt x="733" y="948"/>
                </a:lnTo>
                <a:lnTo>
                  <a:pt x="725" y="951"/>
                </a:lnTo>
                <a:lnTo>
                  <a:pt x="715" y="955"/>
                </a:lnTo>
                <a:lnTo>
                  <a:pt x="710" y="957"/>
                </a:lnTo>
                <a:lnTo>
                  <a:pt x="702" y="959"/>
                </a:lnTo>
                <a:lnTo>
                  <a:pt x="692" y="963"/>
                </a:lnTo>
                <a:lnTo>
                  <a:pt x="683" y="967"/>
                </a:lnTo>
                <a:lnTo>
                  <a:pt x="669" y="969"/>
                </a:lnTo>
                <a:lnTo>
                  <a:pt x="658" y="974"/>
                </a:lnTo>
                <a:lnTo>
                  <a:pt x="642" y="978"/>
                </a:lnTo>
                <a:lnTo>
                  <a:pt x="625" y="982"/>
                </a:lnTo>
                <a:lnTo>
                  <a:pt x="608" y="988"/>
                </a:lnTo>
                <a:lnTo>
                  <a:pt x="589" y="992"/>
                </a:lnTo>
                <a:lnTo>
                  <a:pt x="568" y="998"/>
                </a:lnTo>
                <a:lnTo>
                  <a:pt x="546" y="1003"/>
                </a:lnTo>
                <a:lnTo>
                  <a:pt x="523" y="1009"/>
                </a:lnTo>
                <a:lnTo>
                  <a:pt x="497" y="1015"/>
                </a:lnTo>
                <a:lnTo>
                  <a:pt x="470" y="1021"/>
                </a:lnTo>
                <a:lnTo>
                  <a:pt x="443" y="1026"/>
                </a:lnTo>
                <a:lnTo>
                  <a:pt x="414" y="1032"/>
                </a:lnTo>
                <a:lnTo>
                  <a:pt x="387" y="1038"/>
                </a:lnTo>
                <a:lnTo>
                  <a:pt x="362" y="1042"/>
                </a:lnTo>
                <a:lnTo>
                  <a:pt x="337" y="1047"/>
                </a:lnTo>
                <a:lnTo>
                  <a:pt x="316" y="1051"/>
                </a:lnTo>
                <a:lnTo>
                  <a:pt x="295" y="1055"/>
                </a:lnTo>
                <a:lnTo>
                  <a:pt x="278" y="1059"/>
                </a:lnTo>
                <a:lnTo>
                  <a:pt x="261" y="1063"/>
                </a:lnTo>
                <a:lnTo>
                  <a:pt x="245" y="1067"/>
                </a:lnTo>
                <a:lnTo>
                  <a:pt x="232" y="1069"/>
                </a:lnTo>
                <a:lnTo>
                  <a:pt x="220" y="1072"/>
                </a:lnTo>
                <a:lnTo>
                  <a:pt x="211" y="1074"/>
                </a:lnTo>
                <a:lnTo>
                  <a:pt x="201" y="1074"/>
                </a:lnTo>
                <a:lnTo>
                  <a:pt x="195" y="1076"/>
                </a:lnTo>
                <a:lnTo>
                  <a:pt x="191" y="1076"/>
                </a:lnTo>
                <a:lnTo>
                  <a:pt x="188" y="1076"/>
                </a:lnTo>
                <a:lnTo>
                  <a:pt x="184" y="1076"/>
                </a:lnTo>
                <a:lnTo>
                  <a:pt x="178" y="1074"/>
                </a:lnTo>
                <a:lnTo>
                  <a:pt x="172" y="1072"/>
                </a:lnTo>
                <a:lnTo>
                  <a:pt x="166" y="1070"/>
                </a:lnTo>
                <a:lnTo>
                  <a:pt x="159" y="1067"/>
                </a:lnTo>
                <a:lnTo>
                  <a:pt x="149" y="1065"/>
                </a:lnTo>
                <a:lnTo>
                  <a:pt x="140" y="1061"/>
                </a:lnTo>
                <a:lnTo>
                  <a:pt x="130" y="1057"/>
                </a:lnTo>
                <a:close/>
                <a:moveTo>
                  <a:pt x="569" y="312"/>
                </a:moveTo>
                <a:lnTo>
                  <a:pt x="571" y="320"/>
                </a:lnTo>
                <a:lnTo>
                  <a:pt x="573" y="328"/>
                </a:lnTo>
                <a:lnTo>
                  <a:pt x="575" y="335"/>
                </a:lnTo>
                <a:lnTo>
                  <a:pt x="575" y="345"/>
                </a:lnTo>
                <a:lnTo>
                  <a:pt x="575" y="353"/>
                </a:lnTo>
                <a:lnTo>
                  <a:pt x="573" y="362"/>
                </a:lnTo>
                <a:lnTo>
                  <a:pt x="571" y="374"/>
                </a:lnTo>
                <a:lnTo>
                  <a:pt x="569" y="383"/>
                </a:lnTo>
                <a:lnTo>
                  <a:pt x="566" y="397"/>
                </a:lnTo>
                <a:lnTo>
                  <a:pt x="562" y="410"/>
                </a:lnTo>
                <a:lnTo>
                  <a:pt x="558" y="426"/>
                </a:lnTo>
                <a:lnTo>
                  <a:pt x="554" y="445"/>
                </a:lnTo>
                <a:lnTo>
                  <a:pt x="550" y="462"/>
                </a:lnTo>
                <a:lnTo>
                  <a:pt x="546" y="483"/>
                </a:lnTo>
                <a:lnTo>
                  <a:pt x="543" y="504"/>
                </a:lnTo>
                <a:lnTo>
                  <a:pt x="539" y="527"/>
                </a:lnTo>
                <a:lnTo>
                  <a:pt x="537" y="554"/>
                </a:lnTo>
                <a:lnTo>
                  <a:pt x="533" y="581"/>
                </a:lnTo>
                <a:lnTo>
                  <a:pt x="531" y="608"/>
                </a:lnTo>
                <a:lnTo>
                  <a:pt x="531" y="633"/>
                </a:lnTo>
                <a:lnTo>
                  <a:pt x="529" y="687"/>
                </a:lnTo>
                <a:lnTo>
                  <a:pt x="529" y="740"/>
                </a:lnTo>
                <a:lnTo>
                  <a:pt x="529" y="748"/>
                </a:lnTo>
                <a:lnTo>
                  <a:pt x="527" y="756"/>
                </a:lnTo>
                <a:lnTo>
                  <a:pt x="527" y="765"/>
                </a:lnTo>
                <a:lnTo>
                  <a:pt x="527" y="777"/>
                </a:lnTo>
                <a:lnTo>
                  <a:pt x="525" y="788"/>
                </a:lnTo>
                <a:lnTo>
                  <a:pt x="525" y="802"/>
                </a:lnTo>
                <a:lnTo>
                  <a:pt x="525" y="817"/>
                </a:lnTo>
                <a:lnTo>
                  <a:pt x="523" y="832"/>
                </a:lnTo>
                <a:lnTo>
                  <a:pt x="523" y="850"/>
                </a:lnTo>
                <a:lnTo>
                  <a:pt x="523" y="867"/>
                </a:lnTo>
                <a:lnTo>
                  <a:pt x="522" y="886"/>
                </a:lnTo>
                <a:lnTo>
                  <a:pt x="522" y="905"/>
                </a:lnTo>
                <a:lnTo>
                  <a:pt x="522" y="927"/>
                </a:lnTo>
                <a:lnTo>
                  <a:pt x="522" y="950"/>
                </a:lnTo>
                <a:lnTo>
                  <a:pt x="520" y="973"/>
                </a:lnTo>
                <a:lnTo>
                  <a:pt x="520" y="998"/>
                </a:lnTo>
                <a:lnTo>
                  <a:pt x="520" y="1024"/>
                </a:lnTo>
                <a:lnTo>
                  <a:pt x="520" y="1051"/>
                </a:lnTo>
                <a:lnTo>
                  <a:pt x="518" y="1078"/>
                </a:lnTo>
                <a:lnTo>
                  <a:pt x="518" y="1109"/>
                </a:lnTo>
                <a:lnTo>
                  <a:pt x="518" y="1140"/>
                </a:lnTo>
                <a:lnTo>
                  <a:pt x="518" y="1170"/>
                </a:lnTo>
                <a:lnTo>
                  <a:pt x="516" y="1203"/>
                </a:lnTo>
                <a:lnTo>
                  <a:pt x="516" y="1237"/>
                </a:lnTo>
                <a:lnTo>
                  <a:pt x="516" y="1272"/>
                </a:lnTo>
                <a:lnTo>
                  <a:pt x="514" y="1306"/>
                </a:lnTo>
                <a:lnTo>
                  <a:pt x="514" y="1345"/>
                </a:lnTo>
                <a:lnTo>
                  <a:pt x="514" y="1383"/>
                </a:lnTo>
                <a:lnTo>
                  <a:pt x="512" y="1422"/>
                </a:lnTo>
                <a:lnTo>
                  <a:pt x="512" y="1462"/>
                </a:lnTo>
                <a:lnTo>
                  <a:pt x="510" y="1504"/>
                </a:lnTo>
                <a:lnTo>
                  <a:pt x="510" y="1546"/>
                </a:lnTo>
                <a:lnTo>
                  <a:pt x="403" y="1556"/>
                </a:lnTo>
                <a:lnTo>
                  <a:pt x="403" y="1521"/>
                </a:lnTo>
                <a:lnTo>
                  <a:pt x="403" y="1487"/>
                </a:lnTo>
                <a:lnTo>
                  <a:pt x="403" y="1454"/>
                </a:lnTo>
                <a:lnTo>
                  <a:pt x="403" y="1422"/>
                </a:lnTo>
                <a:lnTo>
                  <a:pt x="403" y="1389"/>
                </a:lnTo>
                <a:lnTo>
                  <a:pt x="403" y="1356"/>
                </a:lnTo>
                <a:lnTo>
                  <a:pt x="403" y="1324"/>
                </a:lnTo>
                <a:lnTo>
                  <a:pt x="403" y="1293"/>
                </a:lnTo>
                <a:lnTo>
                  <a:pt x="403" y="1262"/>
                </a:lnTo>
                <a:lnTo>
                  <a:pt x="403" y="1234"/>
                </a:lnTo>
                <a:lnTo>
                  <a:pt x="403" y="1205"/>
                </a:lnTo>
                <a:lnTo>
                  <a:pt x="403" y="1176"/>
                </a:lnTo>
                <a:lnTo>
                  <a:pt x="403" y="1147"/>
                </a:lnTo>
                <a:lnTo>
                  <a:pt x="403" y="1118"/>
                </a:lnTo>
                <a:lnTo>
                  <a:pt x="403" y="1092"/>
                </a:lnTo>
                <a:lnTo>
                  <a:pt x="403" y="1065"/>
                </a:lnTo>
                <a:lnTo>
                  <a:pt x="403" y="1038"/>
                </a:lnTo>
                <a:lnTo>
                  <a:pt x="403" y="1013"/>
                </a:lnTo>
                <a:lnTo>
                  <a:pt x="403" y="988"/>
                </a:lnTo>
                <a:lnTo>
                  <a:pt x="403" y="963"/>
                </a:lnTo>
                <a:lnTo>
                  <a:pt x="403" y="938"/>
                </a:lnTo>
                <a:lnTo>
                  <a:pt x="403" y="915"/>
                </a:lnTo>
                <a:lnTo>
                  <a:pt x="403" y="892"/>
                </a:lnTo>
                <a:lnTo>
                  <a:pt x="403" y="869"/>
                </a:lnTo>
                <a:lnTo>
                  <a:pt x="403" y="846"/>
                </a:lnTo>
                <a:lnTo>
                  <a:pt x="403" y="825"/>
                </a:lnTo>
                <a:lnTo>
                  <a:pt x="403" y="804"/>
                </a:lnTo>
                <a:lnTo>
                  <a:pt x="403" y="783"/>
                </a:lnTo>
                <a:lnTo>
                  <a:pt x="403" y="763"/>
                </a:lnTo>
                <a:lnTo>
                  <a:pt x="403" y="742"/>
                </a:lnTo>
                <a:lnTo>
                  <a:pt x="403" y="723"/>
                </a:lnTo>
                <a:lnTo>
                  <a:pt x="401" y="706"/>
                </a:lnTo>
                <a:lnTo>
                  <a:pt x="401" y="687"/>
                </a:lnTo>
                <a:lnTo>
                  <a:pt x="401" y="669"/>
                </a:lnTo>
                <a:lnTo>
                  <a:pt x="401" y="652"/>
                </a:lnTo>
                <a:lnTo>
                  <a:pt x="401" y="635"/>
                </a:lnTo>
                <a:lnTo>
                  <a:pt x="401" y="619"/>
                </a:lnTo>
                <a:lnTo>
                  <a:pt x="401" y="604"/>
                </a:lnTo>
                <a:lnTo>
                  <a:pt x="401" y="589"/>
                </a:lnTo>
                <a:lnTo>
                  <a:pt x="401" y="573"/>
                </a:lnTo>
                <a:lnTo>
                  <a:pt x="401" y="560"/>
                </a:lnTo>
                <a:lnTo>
                  <a:pt x="401" y="547"/>
                </a:lnTo>
                <a:lnTo>
                  <a:pt x="399" y="533"/>
                </a:lnTo>
                <a:lnTo>
                  <a:pt x="399" y="522"/>
                </a:lnTo>
                <a:lnTo>
                  <a:pt x="399" y="508"/>
                </a:lnTo>
                <a:lnTo>
                  <a:pt x="399" y="497"/>
                </a:lnTo>
                <a:lnTo>
                  <a:pt x="399" y="485"/>
                </a:lnTo>
                <a:lnTo>
                  <a:pt x="399" y="476"/>
                </a:lnTo>
                <a:lnTo>
                  <a:pt x="399" y="466"/>
                </a:lnTo>
                <a:lnTo>
                  <a:pt x="399" y="456"/>
                </a:lnTo>
                <a:lnTo>
                  <a:pt x="397" y="447"/>
                </a:lnTo>
                <a:lnTo>
                  <a:pt x="397" y="437"/>
                </a:lnTo>
                <a:lnTo>
                  <a:pt x="397" y="429"/>
                </a:lnTo>
                <a:lnTo>
                  <a:pt x="397" y="422"/>
                </a:lnTo>
                <a:lnTo>
                  <a:pt x="397" y="416"/>
                </a:lnTo>
                <a:lnTo>
                  <a:pt x="397" y="408"/>
                </a:lnTo>
                <a:lnTo>
                  <a:pt x="395" y="403"/>
                </a:lnTo>
                <a:lnTo>
                  <a:pt x="395" y="397"/>
                </a:lnTo>
                <a:lnTo>
                  <a:pt x="395" y="391"/>
                </a:lnTo>
                <a:lnTo>
                  <a:pt x="395" y="387"/>
                </a:lnTo>
                <a:lnTo>
                  <a:pt x="395" y="383"/>
                </a:lnTo>
                <a:lnTo>
                  <a:pt x="393" y="380"/>
                </a:lnTo>
                <a:lnTo>
                  <a:pt x="393" y="376"/>
                </a:lnTo>
                <a:lnTo>
                  <a:pt x="393" y="374"/>
                </a:lnTo>
                <a:lnTo>
                  <a:pt x="389" y="357"/>
                </a:lnTo>
                <a:lnTo>
                  <a:pt x="383" y="339"/>
                </a:lnTo>
                <a:lnTo>
                  <a:pt x="378" y="324"/>
                </a:lnTo>
                <a:lnTo>
                  <a:pt x="372" y="310"/>
                </a:lnTo>
                <a:lnTo>
                  <a:pt x="366" y="297"/>
                </a:lnTo>
                <a:lnTo>
                  <a:pt x="358" y="286"/>
                </a:lnTo>
                <a:lnTo>
                  <a:pt x="345" y="263"/>
                </a:lnTo>
                <a:lnTo>
                  <a:pt x="337" y="255"/>
                </a:lnTo>
                <a:lnTo>
                  <a:pt x="333" y="247"/>
                </a:lnTo>
                <a:lnTo>
                  <a:pt x="332" y="239"/>
                </a:lnTo>
                <a:lnTo>
                  <a:pt x="330" y="232"/>
                </a:lnTo>
                <a:lnTo>
                  <a:pt x="332" y="226"/>
                </a:lnTo>
                <a:lnTo>
                  <a:pt x="333" y="220"/>
                </a:lnTo>
                <a:lnTo>
                  <a:pt x="337" y="215"/>
                </a:lnTo>
                <a:lnTo>
                  <a:pt x="345" y="211"/>
                </a:lnTo>
                <a:lnTo>
                  <a:pt x="353" y="207"/>
                </a:lnTo>
                <a:lnTo>
                  <a:pt x="362" y="207"/>
                </a:lnTo>
                <a:lnTo>
                  <a:pt x="374" y="207"/>
                </a:lnTo>
                <a:lnTo>
                  <a:pt x="389" y="209"/>
                </a:lnTo>
                <a:lnTo>
                  <a:pt x="404" y="213"/>
                </a:lnTo>
                <a:lnTo>
                  <a:pt x="422" y="218"/>
                </a:lnTo>
                <a:lnTo>
                  <a:pt x="441" y="224"/>
                </a:lnTo>
                <a:lnTo>
                  <a:pt x="462" y="232"/>
                </a:lnTo>
                <a:lnTo>
                  <a:pt x="483" y="241"/>
                </a:lnTo>
                <a:lnTo>
                  <a:pt x="493" y="247"/>
                </a:lnTo>
                <a:lnTo>
                  <a:pt x="500" y="253"/>
                </a:lnTo>
                <a:lnTo>
                  <a:pt x="510" y="257"/>
                </a:lnTo>
                <a:lnTo>
                  <a:pt x="518" y="263"/>
                </a:lnTo>
                <a:lnTo>
                  <a:pt x="525" y="268"/>
                </a:lnTo>
                <a:lnTo>
                  <a:pt x="533" y="272"/>
                </a:lnTo>
                <a:lnTo>
                  <a:pt x="541" y="276"/>
                </a:lnTo>
                <a:lnTo>
                  <a:pt x="546" y="282"/>
                </a:lnTo>
                <a:lnTo>
                  <a:pt x="550" y="286"/>
                </a:lnTo>
                <a:lnTo>
                  <a:pt x="556" y="291"/>
                </a:lnTo>
                <a:lnTo>
                  <a:pt x="560" y="297"/>
                </a:lnTo>
                <a:lnTo>
                  <a:pt x="564" y="301"/>
                </a:lnTo>
                <a:lnTo>
                  <a:pt x="566" y="307"/>
                </a:lnTo>
                <a:lnTo>
                  <a:pt x="569" y="312"/>
                </a:lnTo>
                <a:close/>
                <a:moveTo>
                  <a:pt x="149" y="1800"/>
                </a:moveTo>
                <a:lnTo>
                  <a:pt x="138" y="1800"/>
                </a:lnTo>
                <a:lnTo>
                  <a:pt x="126" y="1798"/>
                </a:lnTo>
                <a:lnTo>
                  <a:pt x="117" y="1792"/>
                </a:lnTo>
                <a:lnTo>
                  <a:pt x="105" y="1786"/>
                </a:lnTo>
                <a:lnTo>
                  <a:pt x="94" y="1779"/>
                </a:lnTo>
                <a:lnTo>
                  <a:pt x="84" y="1771"/>
                </a:lnTo>
                <a:lnTo>
                  <a:pt x="72" y="1761"/>
                </a:lnTo>
                <a:lnTo>
                  <a:pt x="61" y="1750"/>
                </a:lnTo>
                <a:lnTo>
                  <a:pt x="47" y="1738"/>
                </a:lnTo>
                <a:lnTo>
                  <a:pt x="36" y="1725"/>
                </a:lnTo>
                <a:lnTo>
                  <a:pt x="26" y="1711"/>
                </a:lnTo>
                <a:lnTo>
                  <a:pt x="17" y="1698"/>
                </a:lnTo>
                <a:lnTo>
                  <a:pt x="11" y="1685"/>
                </a:lnTo>
                <a:lnTo>
                  <a:pt x="7" y="1673"/>
                </a:lnTo>
                <a:lnTo>
                  <a:pt x="3" y="1660"/>
                </a:lnTo>
                <a:lnTo>
                  <a:pt x="3" y="1648"/>
                </a:lnTo>
                <a:lnTo>
                  <a:pt x="1" y="1642"/>
                </a:lnTo>
                <a:lnTo>
                  <a:pt x="0" y="1637"/>
                </a:lnTo>
                <a:lnTo>
                  <a:pt x="0" y="1633"/>
                </a:lnTo>
                <a:lnTo>
                  <a:pt x="1" y="1629"/>
                </a:lnTo>
                <a:lnTo>
                  <a:pt x="1" y="1625"/>
                </a:lnTo>
                <a:lnTo>
                  <a:pt x="3" y="1621"/>
                </a:lnTo>
                <a:lnTo>
                  <a:pt x="7" y="1617"/>
                </a:lnTo>
                <a:lnTo>
                  <a:pt x="11" y="1615"/>
                </a:lnTo>
                <a:lnTo>
                  <a:pt x="15" y="1614"/>
                </a:lnTo>
                <a:lnTo>
                  <a:pt x="19" y="1612"/>
                </a:lnTo>
                <a:lnTo>
                  <a:pt x="24" y="1610"/>
                </a:lnTo>
                <a:lnTo>
                  <a:pt x="30" y="1610"/>
                </a:lnTo>
                <a:lnTo>
                  <a:pt x="36" y="1608"/>
                </a:lnTo>
                <a:lnTo>
                  <a:pt x="44" y="1608"/>
                </a:lnTo>
                <a:lnTo>
                  <a:pt x="53" y="1608"/>
                </a:lnTo>
                <a:lnTo>
                  <a:pt x="61" y="1608"/>
                </a:lnTo>
                <a:lnTo>
                  <a:pt x="78" y="1610"/>
                </a:lnTo>
                <a:lnTo>
                  <a:pt x="94" y="1614"/>
                </a:lnTo>
                <a:lnTo>
                  <a:pt x="109" y="1614"/>
                </a:lnTo>
                <a:lnTo>
                  <a:pt x="120" y="1615"/>
                </a:lnTo>
                <a:lnTo>
                  <a:pt x="132" y="1614"/>
                </a:lnTo>
                <a:lnTo>
                  <a:pt x="142" y="1614"/>
                </a:lnTo>
                <a:lnTo>
                  <a:pt x="151" y="1610"/>
                </a:lnTo>
                <a:lnTo>
                  <a:pt x="159" y="1608"/>
                </a:lnTo>
                <a:lnTo>
                  <a:pt x="161" y="1606"/>
                </a:lnTo>
                <a:lnTo>
                  <a:pt x="163" y="1604"/>
                </a:lnTo>
                <a:lnTo>
                  <a:pt x="166" y="1604"/>
                </a:lnTo>
                <a:lnTo>
                  <a:pt x="170" y="1602"/>
                </a:lnTo>
                <a:lnTo>
                  <a:pt x="174" y="1600"/>
                </a:lnTo>
                <a:lnTo>
                  <a:pt x="180" y="1598"/>
                </a:lnTo>
                <a:lnTo>
                  <a:pt x="184" y="1596"/>
                </a:lnTo>
                <a:lnTo>
                  <a:pt x="190" y="1592"/>
                </a:lnTo>
                <a:lnTo>
                  <a:pt x="195" y="1591"/>
                </a:lnTo>
                <a:lnTo>
                  <a:pt x="203" y="1589"/>
                </a:lnTo>
                <a:lnTo>
                  <a:pt x="211" y="1585"/>
                </a:lnTo>
                <a:lnTo>
                  <a:pt x="218" y="1581"/>
                </a:lnTo>
                <a:lnTo>
                  <a:pt x="226" y="1579"/>
                </a:lnTo>
                <a:lnTo>
                  <a:pt x="234" y="1575"/>
                </a:lnTo>
                <a:lnTo>
                  <a:pt x="243" y="1571"/>
                </a:lnTo>
                <a:lnTo>
                  <a:pt x="253" y="1567"/>
                </a:lnTo>
                <a:lnTo>
                  <a:pt x="262" y="1562"/>
                </a:lnTo>
                <a:lnTo>
                  <a:pt x="274" y="1558"/>
                </a:lnTo>
                <a:lnTo>
                  <a:pt x="297" y="1548"/>
                </a:lnTo>
                <a:lnTo>
                  <a:pt x="320" y="1537"/>
                </a:lnTo>
                <a:lnTo>
                  <a:pt x="347" y="1525"/>
                </a:lnTo>
                <a:lnTo>
                  <a:pt x="376" y="1512"/>
                </a:lnTo>
                <a:lnTo>
                  <a:pt x="406" y="1496"/>
                </a:lnTo>
                <a:lnTo>
                  <a:pt x="437" y="1481"/>
                </a:lnTo>
                <a:lnTo>
                  <a:pt x="472" y="1464"/>
                </a:lnTo>
                <a:lnTo>
                  <a:pt x="504" y="1448"/>
                </a:lnTo>
                <a:lnTo>
                  <a:pt x="537" y="1435"/>
                </a:lnTo>
                <a:lnTo>
                  <a:pt x="568" y="1422"/>
                </a:lnTo>
                <a:lnTo>
                  <a:pt x="594" y="1410"/>
                </a:lnTo>
                <a:lnTo>
                  <a:pt x="621" y="1399"/>
                </a:lnTo>
                <a:lnTo>
                  <a:pt x="646" y="1389"/>
                </a:lnTo>
                <a:lnTo>
                  <a:pt x="669" y="1379"/>
                </a:lnTo>
                <a:lnTo>
                  <a:pt x="690" y="1372"/>
                </a:lnTo>
                <a:lnTo>
                  <a:pt x="710" y="1364"/>
                </a:lnTo>
                <a:lnTo>
                  <a:pt x="727" y="1358"/>
                </a:lnTo>
                <a:lnTo>
                  <a:pt x="742" y="1353"/>
                </a:lnTo>
                <a:lnTo>
                  <a:pt x="756" y="1349"/>
                </a:lnTo>
                <a:lnTo>
                  <a:pt x="769" y="1347"/>
                </a:lnTo>
                <a:lnTo>
                  <a:pt x="779" y="1343"/>
                </a:lnTo>
                <a:lnTo>
                  <a:pt x="786" y="1343"/>
                </a:lnTo>
                <a:lnTo>
                  <a:pt x="794" y="1341"/>
                </a:lnTo>
                <a:lnTo>
                  <a:pt x="798" y="1341"/>
                </a:lnTo>
                <a:lnTo>
                  <a:pt x="804" y="1343"/>
                </a:lnTo>
                <a:lnTo>
                  <a:pt x="807" y="1343"/>
                </a:lnTo>
                <a:lnTo>
                  <a:pt x="809" y="1343"/>
                </a:lnTo>
                <a:lnTo>
                  <a:pt x="813" y="1345"/>
                </a:lnTo>
                <a:lnTo>
                  <a:pt x="815" y="1345"/>
                </a:lnTo>
                <a:lnTo>
                  <a:pt x="817" y="1347"/>
                </a:lnTo>
                <a:lnTo>
                  <a:pt x="817" y="1349"/>
                </a:lnTo>
                <a:lnTo>
                  <a:pt x="819" y="1351"/>
                </a:lnTo>
                <a:lnTo>
                  <a:pt x="817" y="1354"/>
                </a:lnTo>
                <a:lnTo>
                  <a:pt x="815" y="1358"/>
                </a:lnTo>
                <a:lnTo>
                  <a:pt x="813" y="1362"/>
                </a:lnTo>
                <a:lnTo>
                  <a:pt x="811" y="1364"/>
                </a:lnTo>
                <a:lnTo>
                  <a:pt x="809" y="1366"/>
                </a:lnTo>
                <a:lnTo>
                  <a:pt x="807" y="1370"/>
                </a:lnTo>
                <a:lnTo>
                  <a:pt x="804" y="1372"/>
                </a:lnTo>
                <a:lnTo>
                  <a:pt x="802" y="1376"/>
                </a:lnTo>
                <a:lnTo>
                  <a:pt x="796" y="1379"/>
                </a:lnTo>
                <a:lnTo>
                  <a:pt x="792" y="1383"/>
                </a:lnTo>
                <a:lnTo>
                  <a:pt x="786" y="1387"/>
                </a:lnTo>
                <a:lnTo>
                  <a:pt x="781" y="1391"/>
                </a:lnTo>
                <a:lnTo>
                  <a:pt x="775" y="1397"/>
                </a:lnTo>
                <a:lnTo>
                  <a:pt x="767" y="1401"/>
                </a:lnTo>
                <a:lnTo>
                  <a:pt x="759" y="1406"/>
                </a:lnTo>
                <a:lnTo>
                  <a:pt x="752" y="1412"/>
                </a:lnTo>
                <a:lnTo>
                  <a:pt x="744" y="1418"/>
                </a:lnTo>
                <a:lnTo>
                  <a:pt x="735" y="1425"/>
                </a:lnTo>
                <a:lnTo>
                  <a:pt x="725" y="1431"/>
                </a:lnTo>
                <a:lnTo>
                  <a:pt x="713" y="1439"/>
                </a:lnTo>
                <a:lnTo>
                  <a:pt x="704" y="1447"/>
                </a:lnTo>
                <a:lnTo>
                  <a:pt x="692" y="1454"/>
                </a:lnTo>
                <a:lnTo>
                  <a:pt x="679" y="1462"/>
                </a:lnTo>
                <a:lnTo>
                  <a:pt x="667" y="1470"/>
                </a:lnTo>
                <a:lnTo>
                  <a:pt x="654" y="1479"/>
                </a:lnTo>
                <a:lnTo>
                  <a:pt x="640" y="1489"/>
                </a:lnTo>
                <a:lnTo>
                  <a:pt x="625" y="1498"/>
                </a:lnTo>
                <a:lnTo>
                  <a:pt x="610" y="1508"/>
                </a:lnTo>
                <a:lnTo>
                  <a:pt x="594" y="1518"/>
                </a:lnTo>
                <a:lnTo>
                  <a:pt x="579" y="1529"/>
                </a:lnTo>
                <a:lnTo>
                  <a:pt x="562" y="1539"/>
                </a:lnTo>
                <a:lnTo>
                  <a:pt x="545" y="1550"/>
                </a:lnTo>
                <a:lnTo>
                  <a:pt x="527" y="1562"/>
                </a:lnTo>
                <a:lnTo>
                  <a:pt x="510" y="1573"/>
                </a:lnTo>
                <a:lnTo>
                  <a:pt x="491" y="1587"/>
                </a:lnTo>
                <a:lnTo>
                  <a:pt x="472" y="1598"/>
                </a:lnTo>
                <a:lnTo>
                  <a:pt x="454" y="1612"/>
                </a:lnTo>
                <a:lnTo>
                  <a:pt x="435" y="1623"/>
                </a:lnTo>
                <a:lnTo>
                  <a:pt x="418" y="1635"/>
                </a:lnTo>
                <a:lnTo>
                  <a:pt x="403" y="1644"/>
                </a:lnTo>
                <a:lnTo>
                  <a:pt x="385" y="1656"/>
                </a:lnTo>
                <a:lnTo>
                  <a:pt x="370" y="1665"/>
                </a:lnTo>
                <a:lnTo>
                  <a:pt x="355" y="1675"/>
                </a:lnTo>
                <a:lnTo>
                  <a:pt x="341" y="1685"/>
                </a:lnTo>
                <a:lnTo>
                  <a:pt x="328" y="1694"/>
                </a:lnTo>
                <a:lnTo>
                  <a:pt x="314" y="1702"/>
                </a:lnTo>
                <a:lnTo>
                  <a:pt x="301" y="1711"/>
                </a:lnTo>
                <a:lnTo>
                  <a:pt x="289" y="1719"/>
                </a:lnTo>
                <a:lnTo>
                  <a:pt x="276" y="1727"/>
                </a:lnTo>
                <a:lnTo>
                  <a:pt x="264" y="1733"/>
                </a:lnTo>
                <a:lnTo>
                  <a:pt x="255" y="1740"/>
                </a:lnTo>
                <a:lnTo>
                  <a:pt x="243" y="1746"/>
                </a:lnTo>
                <a:lnTo>
                  <a:pt x="234" y="1752"/>
                </a:lnTo>
                <a:lnTo>
                  <a:pt x="226" y="1757"/>
                </a:lnTo>
                <a:lnTo>
                  <a:pt x="216" y="1763"/>
                </a:lnTo>
                <a:lnTo>
                  <a:pt x="209" y="1769"/>
                </a:lnTo>
                <a:lnTo>
                  <a:pt x="201" y="1773"/>
                </a:lnTo>
                <a:lnTo>
                  <a:pt x="193" y="1777"/>
                </a:lnTo>
                <a:lnTo>
                  <a:pt x="186" y="1782"/>
                </a:lnTo>
                <a:lnTo>
                  <a:pt x="180" y="1784"/>
                </a:lnTo>
                <a:lnTo>
                  <a:pt x="174" y="1788"/>
                </a:lnTo>
                <a:lnTo>
                  <a:pt x="168" y="1792"/>
                </a:lnTo>
                <a:lnTo>
                  <a:pt x="165" y="1794"/>
                </a:lnTo>
                <a:lnTo>
                  <a:pt x="155" y="1798"/>
                </a:lnTo>
                <a:lnTo>
                  <a:pt x="149" y="1800"/>
                </a:lnTo>
                <a:close/>
                <a:moveTo>
                  <a:pt x="1067" y="700"/>
                </a:moveTo>
                <a:lnTo>
                  <a:pt x="1059" y="700"/>
                </a:lnTo>
                <a:lnTo>
                  <a:pt x="1051" y="698"/>
                </a:lnTo>
                <a:lnTo>
                  <a:pt x="1043" y="694"/>
                </a:lnTo>
                <a:lnTo>
                  <a:pt x="1038" y="690"/>
                </a:lnTo>
                <a:lnTo>
                  <a:pt x="1030" y="685"/>
                </a:lnTo>
                <a:lnTo>
                  <a:pt x="1022" y="679"/>
                </a:lnTo>
                <a:lnTo>
                  <a:pt x="1015" y="669"/>
                </a:lnTo>
                <a:lnTo>
                  <a:pt x="1011" y="666"/>
                </a:lnTo>
                <a:lnTo>
                  <a:pt x="1007" y="660"/>
                </a:lnTo>
                <a:lnTo>
                  <a:pt x="1003" y="656"/>
                </a:lnTo>
                <a:lnTo>
                  <a:pt x="997" y="652"/>
                </a:lnTo>
                <a:lnTo>
                  <a:pt x="994" y="648"/>
                </a:lnTo>
                <a:lnTo>
                  <a:pt x="992" y="646"/>
                </a:lnTo>
                <a:lnTo>
                  <a:pt x="988" y="642"/>
                </a:lnTo>
                <a:lnTo>
                  <a:pt x="986" y="641"/>
                </a:lnTo>
                <a:lnTo>
                  <a:pt x="986" y="637"/>
                </a:lnTo>
                <a:lnTo>
                  <a:pt x="984" y="635"/>
                </a:lnTo>
                <a:lnTo>
                  <a:pt x="984" y="633"/>
                </a:lnTo>
                <a:lnTo>
                  <a:pt x="984" y="631"/>
                </a:lnTo>
                <a:lnTo>
                  <a:pt x="986" y="629"/>
                </a:lnTo>
                <a:lnTo>
                  <a:pt x="988" y="627"/>
                </a:lnTo>
                <a:lnTo>
                  <a:pt x="990" y="623"/>
                </a:lnTo>
                <a:lnTo>
                  <a:pt x="992" y="621"/>
                </a:lnTo>
                <a:lnTo>
                  <a:pt x="994" y="619"/>
                </a:lnTo>
                <a:lnTo>
                  <a:pt x="997" y="618"/>
                </a:lnTo>
                <a:lnTo>
                  <a:pt x="1001" y="618"/>
                </a:lnTo>
                <a:lnTo>
                  <a:pt x="1005" y="618"/>
                </a:lnTo>
                <a:lnTo>
                  <a:pt x="1011" y="616"/>
                </a:lnTo>
                <a:lnTo>
                  <a:pt x="1019" y="616"/>
                </a:lnTo>
                <a:lnTo>
                  <a:pt x="1026" y="614"/>
                </a:lnTo>
                <a:lnTo>
                  <a:pt x="1038" y="610"/>
                </a:lnTo>
                <a:lnTo>
                  <a:pt x="1049" y="608"/>
                </a:lnTo>
                <a:lnTo>
                  <a:pt x="1061" y="604"/>
                </a:lnTo>
                <a:lnTo>
                  <a:pt x="1076" y="600"/>
                </a:lnTo>
                <a:lnTo>
                  <a:pt x="1091" y="596"/>
                </a:lnTo>
                <a:lnTo>
                  <a:pt x="1109" y="593"/>
                </a:lnTo>
                <a:lnTo>
                  <a:pt x="1128" y="589"/>
                </a:lnTo>
                <a:lnTo>
                  <a:pt x="1147" y="583"/>
                </a:lnTo>
                <a:lnTo>
                  <a:pt x="1168" y="579"/>
                </a:lnTo>
                <a:lnTo>
                  <a:pt x="1189" y="573"/>
                </a:lnTo>
                <a:lnTo>
                  <a:pt x="1212" y="568"/>
                </a:lnTo>
                <a:lnTo>
                  <a:pt x="1235" y="562"/>
                </a:lnTo>
                <a:lnTo>
                  <a:pt x="1258" y="556"/>
                </a:lnTo>
                <a:lnTo>
                  <a:pt x="1281" y="552"/>
                </a:lnTo>
                <a:lnTo>
                  <a:pt x="1303" y="548"/>
                </a:lnTo>
                <a:lnTo>
                  <a:pt x="1322" y="545"/>
                </a:lnTo>
                <a:lnTo>
                  <a:pt x="1343" y="541"/>
                </a:lnTo>
                <a:lnTo>
                  <a:pt x="1360" y="539"/>
                </a:lnTo>
                <a:lnTo>
                  <a:pt x="1379" y="535"/>
                </a:lnTo>
                <a:lnTo>
                  <a:pt x="1395" y="533"/>
                </a:lnTo>
                <a:lnTo>
                  <a:pt x="1412" y="531"/>
                </a:lnTo>
                <a:lnTo>
                  <a:pt x="1427" y="529"/>
                </a:lnTo>
                <a:lnTo>
                  <a:pt x="1441" y="529"/>
                </a:lnTo>
                <a:lnTo>
                  <a:pt x="1454" y="527"/>
                </a:lnTo>
                <a:lnTo>
                  <a:pt x="1466" y="527"/>
                </a:lnTo>
                <a:lnTo>
                  <a:pt x="1475" y="527"/>
                </a:lnTo>
                <a:lnTo>
                  <a:pt x="1487" y="527"/>
                </a:lnTo>
                <a:lnTo>
                  <a:pt x="1494" y="527"/>
                </a:lnTo>
                <a:lnTo>
                  <a:pt x="1504" y="527"/>
                </a:lnTo>
                <a:lnTo>
                  <a:pt x="1512" y="527"/>
                </a:lnTo>
                <a:lnTo>
                  <a:pt x="1519" y="529"/>
                </a:lnTo>
                <a:lnTo>
                  <a:pt x="1525" y="529"/>
                </a:lnTo>
                <a:lnTo>
                  <a:pt x="1533" y="531"/>
                </a:lnTo>
                <a:lnTo>
                  <a:pt x="1539" y="531"/>
                </a:lnTo>
                <a:lnTo>
                  <a:pt x="1542" y="533"/>
                </a:lnTo>
                <a:lnTo>
                  <a:pt x="1548" y="535"/>
                </a:lnTo>
                <a:lnTo>
                  <a:pt x="1552" y="537"/>
                </a:lnTo>
                <a:lnTo>
                  <a:pt x="1556" y="537"/>
                </a:lnTo>
                <a:lnTo>
                  <a:pt x="1558" y="539"/>
                </a:lnTo>
                <a:lnTo>
                  <a:pt x="1562" y="541"/>
                </a:lnTo>
                <a:lnTo>
                  <a:pt x="1562" y="543"/>
                </a:lnTo>
                <a:lnTo>
                  <a:pt x="1564" y="545"/>
                </a:lnTo>
                <a:lnTo>
                  <a:pt x="1564" y="547"/>
                </a:lnTo>
                <a:lnTo>
                  <a:pt x="1564" y="554"/>
                </a:lnTo>
                <a:lnTo>
                  <a:pt x="1562" y="562"/>
                </a:lnTo>
                <a:lnTo>
                  <a:pt x="1560" y="570"/>
                </a:lnTo>
                <a:lnTo>
                  <a:pt x="1556" y="577"/>
                </a:lnTo>
                <a:lnTo>
                  <a:pt x="1550" y="585"/>
                </a:lnTo>
                <a:lnTo>
                  <a:pt x="1542" y="593"/>
                </a:lnTo>
                <a:lnTo>
                  <a:pt x="1535" y="600"/>
                </a:lnTo>
                <a:lnTo>
                  <a:pt x="1525" y="608"/>
                </a:lnTo>
                <a:lnTo>
                  <a:pt x="1514" y="616"/>
                </a:lnTo>
                <a:lnTo>
                  <a:pt x="1504" y="621"/>
                </a:lnTo>
                <a:lnTo>
                  <a:pt x="1496" y="627"/>
                </a:lnTo>
                <a:lnTo>
                  <a:pt x="1487" y="631"/>
                </a:lnTo>
                <a:lnTo>
                  <a:pt x="1479" y="635"/>
                </a:lnTo>
                <a:lnTo>
                  <a:pt x="1471" y="637"/>
                </a:lnTo>
                <a:lnTo>
                  <a:pt x="1464" y="639"/>
                </a:lnTo>
                <a:lnTo>
                  <a:pt x="1456" y="639"/>
                </a:lnTo>
                <a:lnTo>
                  <a:pt x="1450" y="641"/>
                </a:lnTo>
                <a:lnTo>
                  <a:pt x="1445" y="642"/>
                </a:lnTo>
                <a:lnTo>
                  <a:pt x="1437" y="644"/>
                </a:lnTo>
                <a:lnTo>
                  <a:pt x="1429" y="646"/>
                </a:lnTo>
                <a:lnTo>
                  <a:pt x="1420" y="648"/>
                </a:lnTo>
                <a:lnTo>
                  <a:pt x="1410" y="650"/>
                </a:lnTo>
                <a:lnTo>
                  <a:pt x="1400" y="652"/>
                </a:lnTo>
                <a:lnTo>
                  <a:pt x="1389" y="654"/>
                </a:lnTo>
                <a:lnTo>
                  <a:pt x="1375" y="656"/>
                </a:lnTo>
                <a:lnTo>
                  <a:pt x="1362" y="658"/>
                </a:lnTo>
                <a:lnTo>
                  <a:pt x="1349" y="660"/>
                </a:lnTo>
                <a:lnTo>
                  <a:pt x="1333" y="662"/>
                </a:lnTo>
                <a:lnTo>
                  <a:pt x="1316" y="664"/>
                </a:lnTo>
                <a:lnTo>
                  <a:pt x="1299" y="666"/>
                </a:lnTo>
                <a:lnTo>
                  <a:pt x="1281" y="667"/>
                </a:lnTo>
                <a:lnTo>
                  <a:pt x="1262" y="669"/>
                </a:lnTo>
                <a:lnTo>
                  <a:pt x="1241" y="673"/>
                </a:lnTo>
                <a:lnTo>
                  <a:pt x="1224" y="677"/>
                </a:lnTo>
                <a:lnTo>
                  <a:pt x="1207" y="681"/>
                </a:lnTo>
                <a:lnTo>
                  <a:pt x="1189" y="683"/>
                </a:lnTo>
                <a:lnTo>
                  <a:pt x="1174" y="687"/>
                </a:lnTo>
                <a:lnTo>
                  <a:pt x="1161" y="689"/>
                </a:lnTo>
                <a:lnTo>
                  <a:pt x="1147" y="690"/>
                </a:lnTo>
                <a:lnTo>
                  <a:pt x="1134" y="692"/>
                </a:lnTo>
                <a:lnTo>
                  <a:pt x="1124" y="694"/>
                </a:lnTo>
                <a:lnTo>
                  <a:pt x="1113" y="696"/>
                </a:lnTo>
                <a:lnTo>
                  <a:pt x="1103" y="696"/>
                </a:lnTo>
                <a:lnTo>
                  <a:pt x="1093" y="698"/>
                </a:lnTo>
                <a:lnTo>
                  <a:pt x="1086" y="698"/>
                </a:lnTo>
                <a:lnTo>
                  <a:pt x="1078" y="700"/>
                </a:lnTo>
                <a:lnTo>
                  <a:pt x="1072" y="700"/>
                </a:lnTo>
                <a:lnTo>
                  <a:pt x="1067" y="700"/>
                </a:lnTo>
                <a:close/>
                <a:moveTo>
                  <a:pt x="1164" y="78"/>
                </a:moveTo>
                <a:lnTo>
                  <a:pt x="1157" y="71"/>
                </a:lnTo>
                <a:lnTo>
                  <a:pt x="1151" y="63"/>
                </a:lnTo>
                <a:lnTo>
                  <a:pt x="1147" y="55"/>
                </a:lnTo>
                <a:lnTo>
                  <a:pt x="1143" y="48"/>
                </a:lnTo>
                <a:lnTo>
                  <a:pt x="1141" y="40"/>
                </a:lnTo>
                <a:lnTo>
                  <a:pt x="1141" y="32"/>
                </a:lnTo>
                <a:lnTo>
                  <a:pt x="1141" y="25"/>
                </a:lnTo>
                <a:lnTo>
                  <a:pt x="1145" y="17"/>
                </a:lnTo>
                <a:lnTo>
                  <a:pt x="1149" y="11"/>
                </a:lnTo>
                <a:lnTo>
                  <a:pt x="1155" y="5"/>
                </a:lnTo>
                <a:lnTo>
                  <a:pt x="1164" y="2"/>
                </a:lnTo>
                <a:lnTo>
                  <a:pt x="1174" y="2"/>
                </a:lnTo>
                <a:lnTo>
                  <a:pt x="1186" y="0"/>
                </a:lnTo>
                <a:lnTo>
                  <a:pt x="1199" y="2"/>
                </a:lnTo>
                <a:lnTo>
                  <a:pt x="1214" y="3"/>
                </a:lnTo>
                <a:lnTo>
                  <a:pt x="1232" y="7"/>
                </a:lnTo>
                <a:lnTo>
                  <a:pt x="1251" y="11"/>
                </a:lnTo>
                <a:lnTo>
                  <a:pt x="1266" y="17"/>
                </a:lnTo>
                <a:lnTo>
                  <a:pt x="1283" y="23"/>
                </a:lnTo>
                <a:lnTo>
                  <a:pt x="1299" y="28"/>
                </a:lnTo>
                <a:lnTo>
                  <a:pt x="1312" y="36"/>
                </a:lnTo>
                <a:lnTo>
                  <a:pt x="1326" y="42"/>
                </a:lnTo>
                <a:lnTo>
                  <a:pt x="1337" y="49"/>
                </a:lnTo>
                <a:lnTo>
                  <a:pt x="1349" y="57"/>
                </a:lnTo>
                <a:lnTo>
                  <a:pt x="1360" y="69"/>
                </a:lnTo>
                <a:lnTo>
                  <a:pt x="1368" y="82"/>
                </a:lnTo>
                <a:lnTo>
                  <a:pt x="1374" y="94"/>
                </a:lnTo>
                <a:lnTo>
                  <a:pt x="1379" y="105"/>
                </a:lnTo>
                <a:lnTo>
                  <a:pt x="1381" y="119"/>
                </a:lnTo>
                <a:lnTo>
                  <a:pt x="1381" y="132"/>
                </a:lnTo>
                <a:lnTo>
                  <a:pt x="1381" y="145"/>
                </a:lnTo>
                <a:lnTo>
                  <a:pt x="1379" y="161"/>
                </a:lnTo>
                <a:lnTo>
                  <a:pt x="1377" y="170"/>
                </a:lnTo>
                <a:lnTo>
                  <a:pt x="1375" y="182"/>
                </a:lnTo>
                <a:lnTo>
                  <a:pt x="1374" y="195"/>
                </a:lnTo>
                <a:lnTo>
                  <a:pt x="1372" y="209"/>
                </a:lnTo>
                <a:lnTo>
                  <a:pt x="1370" y="226"/>
                </a:lnTo>
                <a:lnTo>
                  <a:pt x="1368" y="243"/>
                </a:lnTo>
                <a:lnTo>
                  <a:pt x="1366" y="263"/>
                </a:lnTo>
                <a:lnTo>
                  <a:pt x="1364" y="282"/>
                </a:lnTo>
                <a:lnTo>
                  <a:pt x="1362" y="305"/>
                </a:lnTo>
                <a:lnTo>
                  <a:pt x="1360" y="328"/>
                </a:lnTo>
                <a:lnTo>
                  <a:pt x="1358" y="351"/>
                </a:lnTo>
                <a:lnTo>
                  <a:pt x="1356" y="378"/>
                </a:lnTo>
                <a:lnTo>
                  <a:pt x="1354" y="405"/>
                </a:lnTo>
                <a:lnTo>
                  <a:pt x="1352" y="433"/>
                </a:lnTo>
                <a:lnTo>
                  <a:pt x="1351" y="464"/>
                </a:lnTo>
                <a:lnTo>
                  <a:pt x="1349" y="497"/>
                </a:lnTo>
                <a:lnTo>
                  <a:pt x="1343" y="625"/>
                </a:lnTo>
                <a:lnTo>
                  <a:pt x="1335" y="756"/>
                </a:lnTo>
                <a:lnTo>
                  <a:pt x="1333" y="821"/>
                </a:lnTo>
                <a:lnTo>
                  <a:pt x="1331" y="886"/>
                </a:lnTo>
                <a:lnTo>
                  <a:pt x="1329" y="951"/>
                </a:lnTo>
                <a:lnTo>
                  <a:pt x="1329" y="1017"/>
                </a:lnTo>
                <a:lnTo>
                  <a:pt x="1222" y="1017"/>
                </a:lnTo>
                <a:lnTo>
                  <a:pt x="1222" y="974"/>
                </a:lnTo>
                <a:lnTo>
                  <a:pt x="1222" y="936"/>
                </a:lnTo>
                <a:lnTo>
                  <a:pt x="1222" y="898"/>
                </a:lnTo>
                <a:lnTo>
                  <a:pt x="1222" y="859"/>
                </a:lnTo>
                <a:lnTo>
                  <a:pt x="1222" y="823"/>
                </a:lnTo>
                <a:lnTo>
                  <a:pt x="1222" y="788"/>
                </a:lnTo>
                <a:lnTo>
                  <a:pt x="1222" y="754"/>
                </a:lnTo>
                <a:lnTo>
                  <a:pt x="1222" y="721"/>
                </a:lnTo>
                <a:lnTo>
                  <a:pt x="1222" y="689"/>
                </a:lnTo>
                <a:lnTo>
                  <a:pt x="1222" y="658"/>
                </a:lnTo>
                <a:lnTo>
                  <a:pt x="1222" y="629"/>
                </a:lnTo>
                <a:lnTo>
                  <a:pt x="1222" y="598"/>
                </a:lnTo>
                <a:lnTo>
                  <a:pt x="1222" y="571"/>
                </a:lnTo>
                <a:lnTo>
                  <a:pt x="1222" y="545"/>
                </a:lnTo>
                <a:lnTo>
                  <a:pt x="1222" y="518"/>
                </a:lnTo>
                <a:lnTo>
                  <a:pt x="1222" y="493"/>
                </a:lnTo>
                <a:lnTo>
                  <a:pt x="1220" y="470"/>
                </a:lnTo>
                <a:lnTo>
                  <a:pt x="1220" y="447"/>
                </a:lnTo>
                <a:lnTo>
                  <a:pt x="1220" y="426"/>
                </a:lnTo>
                <a:lnTo>
                  <a:pt x="1220" y="405"/>
                </a:lnTo>
                <a:lnTo>
                  <a:pt x="1220" y="385"/>
                </a:lnTo>
                <a:lnTo>
                  <a:pt x="1220" y="366"/>
                </a:lnTo>
                <a:lnTo>
                  <a:pt x="1218" y="347"/>
                </a:lnTo>
                <a:lnTo>
                  <a:pt x="1218" y="332"/>
                </a:lnTo>
                <a:lnTo>
                  <a:pt x="1218" y="314"/>
                </a:lnTo>
                <a:lnTo>
                  <a:pt x="1216" y="301"/>
                </a:lnTo>
                <a:lnTo>
                  <a:pt x="1216" y="286"/>
                </a:lnTo>
                <a:lnTo>
                  <a:pt x="1216" y="274"/>
                </a:lnTo>
                <a:lnTo>
                  <a:pt x="1214" y="261"/>
                </a:lnTo>
                <a:lnTo>
                  <a:pt x="1214" y="251"/>
                </a:lnTo>
                <a:lnTo>
                  <a:pt x="1214" y="239"/>
                </a:lnTo>
                <a:lnTo>
                  <a:pt x="1212" y="232"/>
                </a:lnTo>
                <a:lnTo>
                  <a:pt x="1210" y="216"/>
                </a:lnTo>
                <a:lnTo>
                  <a:pt x="1209" y="201"/>
                </a:lnTo>
                <a:lnTo>
                  <a:pt x="1207" y="188"/>
                </a:lnTo>
                <a:lnTo>
                  <a:pt x="1205" y="176"/>
                </a:lnTo>
                <a:lnTo>
                  <a:pt x="1203" y="165"/>
                </a:lnTo>
                <a:lnTo>
                  <a:pt x="1201" y="153"/>
                </a:lnTo>
                <a:lnTo>
                  <a:pt x="1199" y="142"/>
                </a:lnTo>
                <a:lnTo>
                  <a:pt x="1195" y="132"/>
                </a:lnTo>
                <a:lnTo>
                  <a:pt x="1193" y="122"/>
                </a:lnTo>
                <a:lnTo>
                  <a:pt x="1189" y="115"/>
                </a:lnTo>
                <a:lnTo>
                  <a:pt x="1186" y="107"/>
                </a:lnTo>
                <a:lnTo>
                  <a:pt x="1182" y="99"/>
                </a:lnTo>
                <a:lnTo>
                  <a:pt x="1178" y="94"/>
                </a:lnTo>
                <a:lnTo>
                  <a:pt x="1174" y="88"/>
                </a:lnTo>
                <a:lnTo>
                  <a:pt x="1168" y="82"/>
                </a:lnTo>
                <a:lnTo>
                  <a:pt x="1164" y="78"/>
                </a:lnTo>
                <a:close/>
                <a:moveTo>
                  <a:pt x="1750" y="405"/>
                </a:moveTo>
                <a:lnTo>
                  <a:pt x="1754" y="393"/>
                </a:lnTo>
                <a:lnTo>
                  <a:pt x="1755" y="383"/>
                </a:lnTo>
                <a:lnTo>
                  <a:pt x="1757" y="372"/>
                </a:lnTo>
                <a:lnTo>
                  <a:pt x="1759" y="362"/>
                </a:lnTo>
                <a:lnTo>
                  <a:pt x="1761" y="353"/>
                </a:lnTo>
                <a:lnTo>
                  <a:pt x="1763" y="345"/>
                </a:lnTo>
                <a:lnTo>
                  <a:pt x="1765" y="335"/>
                </a:lnTo>
                <a:lnTo>
                  <a:pt x="1765" y="328"/>
                </a:lnTo>
                <a:lnTo>
                  <a:pt x="1765" y="320"/>
                </a:lnTo>
                <a:lnTo>
                  <a:pt x="1765" y="314"/>
                </a:lnTo>
                <a:lnTo>
                  <a:pt x="1765" y="301"/>
                </a:lnTo>
                <a:lnTo>
                  <a:pt x="1763" y="291"/>
                </a:lnTo>
                <a:lnTo>
                  <a:pt x="1759" y="282"/>
                </a:lnTo>
                <a:lnTo>
                  <a:pt x="1755" y="274"/>
                </a:lnTo>
                <a:lnTo>
                  <a:pt x="1754" y="266"/>
                </a:lnTo>
                <a:lnTo>
                  <a:pt x="1752" y="259"/>
                </a:lnTo>
                <a:lnTo>
                  <a:pt x="1752" y="251"/>
                </a:lnTo>
                <a:lnTo>
                  <a:pt x="1752" y="243"/>
                </a:lnTo>
                <a:lnTo>
                  <a:pt x="1754" y="236"/>
                </a:lnTo>
                <a:lnTo>
                  <a:pt x="1755" y="228"/>
                </a:lnTo>
                <a:lnTo>
                  <a:pt x="1759" y="220"/>
                </a:lnTo>
                <a:lnTo>
                  <a:pt x="1763" y="216"/>
                </a:lnTo>
                <a:lnTo>
                  <a:pt x="1769" y="215"/>
                </a:lnTo>
                <a:lnTo>
                  <a:pt x="1775" y="211"/>
                </a:lnTo>
                <a:lnTo>
                  <a:pt x="1780" y="209"/>
                </a:lnTo>
                <a:lnTo>
                  <a:pt x="1788" y="207"/>
                </a:lnTo>
                <a:lnTo>
                  <a:pt x="1798" y="207"/>
                </a:lnTo>
                <a:lnTo>
                  <a:pt x="1807" y="207"/>
                </a:lnTo>
                <a:lnTo>
                  <a:pt x="1813" y="209"/>
                </a:lnTo>
                <a:lnTo>
                  <a:pt x="1817" y="211"/>
                </a:lnTo>
                <a:lnTo>
                  <a:pt x="1828" y="216"/>
                </a:lnTo>
                <a:lnTo>
                  <a:pt x="1840" y="222"/>
                </a:lnTo>
                <a:lnTo>
                  <a:pt x="1851" y="230"/>
                </a:lnTo>
                <a:lnTo>
                  <a:pt x="1861" y="239"/>
                </a:lnTo>
                <a:lnTo>
                  <a:pt x="1873" y="249"/>
                </a:lnTo>
                <a:lnTo>
                  <a:pt x="1884" y="259"/>
                </a:lnTo>
                <a:lnTo>
                  <a:pt x="1894" y="270"/>
                </a:lnTo>
                <a:lnTo>
                  <a:pt x="1905" y="282"/>
                </a:lnTo>
                <a:lnTo>
                  <a:pt x="1917" y="293"/>
                </a:lnTo>
                <a:lnTo>
                  <a:pt x="1926" y="305"/>
                </a:lnTo>
                <a:lnTo>
                  <a:pt x="1934" y="316"/>
                </a:lnTo>
                <a:lnTo>
                  <a:pt x="1942" y="328"/>
                </a:lnTo>
                <a:lnTo>
                  <a:pt x="1947" y="337"/>
                </a:lnTo>
                <a:lnTo>
                  <a:pt x="1951" y="347"/>
                </a:lnTo>
                <a:lnTo>
                  <a:pt x="1953" y="357"/>
                </a:lnTo>
                <a:lnTo>
                  <a:pt x="1955" y="364"/>
                </a:lnTo>
                <a:lnTo>
                  <a:pt x="1953" y="372"/>
                </a:lnTo>
                <a:lnTo>
                  <a:pt x="1953" y="381"/>
                </a:lnTo>
                <a:lnTo>
                  <a:pt x="1949" y="391"/>
                </a:lnTo>
                <a:lnTo>
                  <a:pt x="1945" y="403"/>
                </a:lnTo>
                <a:lnTo>
                  <a:pt x="1940" y="414"/>
                </a:lnTo>
                <a:lnTo>
                  <a:pt x="1934" y="428"/>
                </a:lnTo>
                <a:lnTo>
                  <a:pt x="1924" y="441"/>
                </a:lnTo>
                <a:lnTo>
                  <a:pt x="1915" y="456"/>
                </a:lnTo>
                <a:lnTo>
                  <a:pt x="1909" y="466"/>
                </a:lnTo>
                <a:lnTo>
                  <a:pt x="1901" y="477"/>
                </a:lnTo>
                <a:lnTo>
                  <a:pt x="1894" y="493"/>
                </a:lnTo>
                <a:lnTo>
                  <a:pt x="1884" y="508"/>
                </a:lnTo>
                <a:lnTo>
                  <a:pt x="1873" y="527"/>
                </a:lnTo>
                <a:lnTo>
                  <a:pt x="1861" y="547"/>
                </a:lnTo>
                <a:lnTo>
                  <a:pt x="1848" y="570"/>
                </a:lnTo>
                <a:lnTo>
                  <a:pt x="1840" y="581"/>
                </a:lnTo>
                <a:lnTo>
                  <a:pt x="1832" y="593"/>
                </a:lnTo>
                <a:lnTo>
                  <a:pt x="1825" y="606"/>
                </a:lnTo>
                <a:lnTo>
                  <a:pt x="1817" y="618"/>
                </a:lnTo>
                <a:lnTo>
                  <a:pt x="1809" y="631"/>
                </a:lnTo>
                <a:lnTo>
                  <a:pt x="1800" y="646"/>
                </a:lnTo>
                <a:lnTo>
                  <a:pt x="1792" y="660"/>
                </a:lnTo>
                <a:lnTo>
                  <a:pt x="1782" y="675"/>
                </a:lnTo>
                <a:lnTo>
                  <a:pt x="1773" y="690"/>
                </a:lnTo>
                <a:lnTo>
                  <a:pt x="1761" y="708"/>
                </a:lnTo>
                <a:lnTo>
                  <a:pt x="1752" y="723"/>
                </a:lnTo>
                <a:lnTo>
                  <a:pt x="1742" y="740"/>
                </a:lnTo>
                <a:lnTo>
                  <a:pt x="1731" y="758"/>
                </a:lnTo>
                <a:lnTo>
                  <a:pt x="1719" y="777"/>
                </a:lnTo>
                <a:lnTo>
                  <a:pt x="1707" y="794"/>
                </a:lnTo>
                <a:lnTo>
                  <a:pt x="1696" y="813"/>
                </a:lnTo>
                <a:lnTo>
                  <a:pt x="1684" y="832"/>
                </a:lnTo>
                <a:lnTo>
                  <a:pt x="1671" y="854"/>
                </a:lnTo>
                <a:lnTo>
                  <a:pt x="1644" y="894"/>
                </a:lnTo>
                <a:lnTo>
                  <a:pt x="1617" y="934"/>
                </a:lnTo>
                <a:lnTo>
                  <a:pt x="1592" y="974"/>
                </a:lnTo>
                <a:lnTo>
                  <a:pt x="1565" y="1011"/>
                </a:lnTo>
                <a:lnTo>
                  <a:pt x="1541" y="1049"/>
                </a:lnTo>
                <a:lnTo>
                  <a:pt x="1516" y="1084"/>
                </a:lnTo>
                <a:lnTo>
                  <a:pt x="1491" y="1118"/>
                </a:lnTo>
                <a:lnTo>
                  <a:pt x="1468" y="1151"/>
                </a:lnTo>
                <a:lnTo>
                  <a:pt x="1443" y="1184"/>
                </a:lnTo>
                <a:lnTo>
                  <a:pt x="1420" y="1212"/>
                </a:lnTo>
                <a:lnTo>
                  <a:pt x="1397" y="1243"/>
                </a:lnTo>
                <a:lnTo>
                  <a:pt x="1375" y="1272"/>
                </a:lnTo>
                <a:lnTo>
                  <a:pt x="1352" y="1299"/>
                </a:lnTo>
                <a:lnTo>
                  <a:pt x="1331" y="1324"/>
                </a:lnTo>
                <a:lnTo>
                  <a:pt x="1310" y="1349"/>
                </a:lnTo>
                <a:lnTo>
                  <a:pt x="1291" y="1372"/>
                </a:lnTo>
                <a:lnTo>
                  <a:pt x="1251" y="1418"/>
                </a:lnTo>
                <a:lnTo>
                  <a:pt x="1210" y="1462"/>
                </a:lnTo>
                <a:lnTo>
                  <a:pt x="1170" y="1506"/>
                </a:lnTo>
                <a:lnTo>
                  <a:pt x="1132" y="1546"/>
                </a:lnTo>
                <a:lnTo>
                  <a:pt x="1091" y="1587"/>
                </a:lnTo>
                <a:lnTo>
                  <a:pt x="1053" y="1625"/>
                </a:lnTo>
                <a:lnTo>
                  <a:pt x="1015" y="1663"/>
                </a:lnTo>
                <a:lnTo>
                  <a:pt x="978" y="1698"/>
                </a:lnTo>
                <a:lnTo>
                  <a:pt x="961" y="1715"/>
                </a:lnTo>
                <a:lnTo>
                  <a:pt x="940" y="1733"/>
                </a:lnTo>
                <a:lnTo>
                  <a:pt x="921" y="1750"/>
                </a:lnTo>
                <a:lnTo>
                  <a:pt x="900" y="1767"/>
                </a:lnTo>
                <a:lnTo>
                  <a:pt x="878" y="1784"/>
                </a:lnTo>
                <a:lnTo>
                  <a:pt x="857" y="1802"/>
                </a:lnTo>
                <a:lnTo>
                  <a:pt x="834" y="1819"/>
                </a:lnTo>
                <a:lnTo>
                  <a:pt x="811" y="1834"/>
                </a:lnTo>
                <a:lnTo>
                  <a:pt x="788" y="1852"/>
                </a:lnTo>
                <a:lnTo>
                  <a:pt x="763" y="1867"/>
                </a:lnTo>
                <a:lnTo>
                  <a:pt x="738" y="1884"/>
                </a:lnTo>
                <a:lnTo>
                  <a:pt x="713" y="1899"/>
                </a:lnTo>
                <a:lnTo>
                  <a:pt x="688" y="1917"/>
                </a:lnTo>
                <a:lnTo>
                  <a:pt x="662" y="1932"/>
                </a:lnTo>
                <a:lnTo>
                  <a:pt x="608" y="1963"/>
                </a:lnTo>
                <a:lnTo>
                  <a:pt x="581" y="1980"/>
                </a:lnTo>
                <a:lnTo>
                  <a:pt x="556" y="1995"/>
                </a:lnTo>
                <a:lnTo>
                  <a:pt x="533" y="2011"/>
                </a:lnTo>
                <a:lnTo>
                  <a:pt x="512" y="2024"/>
                </a:lnTo>
                <a:lnTo>
                  <a:pt x="491" y="2036"/>
                </a:lnTo>
                <a:lnTo>
                  <a:pt x="472" y="2045"/>
                </a:lnTo>
                <a:lnTo>
                  <a:pt x="454" y="2055"/>
                </a:lnTo>
                <a:lnTo>
                  <a:pt x="439" y="2063"/>
                </a:lnTo>
                <a:lnTo>
                  <a:pt x="426" y="2070"/>
                </a:lnTo>
                <a:lnTo>
                  <a:pt x="414" y="2076"/>
                </a:lnTo>
                <a:lnTo>
                  <a:pt x="403" y="2080"/>
                </a:lnTo>
                <a:lnTo>
                  <a:pt x="393" y="2084"/>
                </a:lnTo>
                <a:lnTo>
                  <a:pt x="387" y="2086"/>
                </a:lnTo>
                <a:lnTo>
                  <a:pt x="379" y="2088"/>
                </a:lnTo>
                <a:lnTo>
                  <a:pt x="376" y="2088"/>
                </a:lnTo>
                <a:lnTo>
                  <a:pt x="374" y="2086"/>
                </a:lnTo>
                <a:lnTo>
                  <a:pt x="372" y="2084"/>
                </a:lnTo>
                <a:lnTo>
                  <a:pt x="374" y="2080"/>
                </a:lnTo>
                <a:lnTo>
                  <a:pt x="376" y="2074"/>
                </a:lnTo>
                <a:lnTo>
                  <a:pt x="381" y="2068"/>
                </a:lnTo>
                <a:lnTo>
                  <a:pt x="387" y="2061"/>
                </a:lnTo>
                <a:lnTo>
                  <a:pt x="397" y="2053"/>
                </a:lnTo>
                <a:lnTo>
                  <a:pt x="401" y="2049"/>
                </a:lnTo>
                <a:lnTo>
                  <a:pt x="406" y="2043"/>
                </a:lnTo>
                <a:lnTo>
                  <a:pt x="412" y="2038"/>
                </a:lnTo>
                <a:lnTo>
                  <a:pt x="420" y="2032"/>
                </a:lnTo>
                <a:lnTo>
                  <a:pt x="426" y="2026"/>
                </a:lnTo>
                <a:lnTo>
                  <a:pt x="433" y="2020"/>
                </a:lnTo>
                <a:lnTo>
                  <a:pt x="441" y="2015"/>
                </a:lnTo>
                <a:lnTo>
                  <a:pt x="450" y="2007"/>
                </a:lnTo>
                <a:lnTo>
                  <a:pt x="458" y="2001"/>
                </a:lnTo>
                <a:lnTo>
                  <a:pt x="468" y="1994"/>
                </a:lnTo>
                <a:lnTo>
                  <a:pt x="477" y="1986"/>
                </a:lnTo>
                <a:lnTo>
                  <a:pt x="487" y="1978"/>
                </a:lnTo>
                <a:lnTo>
                  <a:pt x="498" y="1969"/>
                </a:lnTo>
                <a:lnTo>
                  <a:pt x="510" y="1961"/>
                </a:lnTo>
                <a:lnTo>
                  <a:pt x="522" y="1951"/>
                </a:lnTo>
                <a:lnTo>
                  <a:pt x="535" y="1942"/>
                </a:lnTo>
                <a:lnTo>
                  <a:pt x="546" y="1932"/>
                </a:lnTo>
                <a:lnTo>
                  <a:pt x="560" y="1923"/>
                </a:lnTo>
                <a:lnTo>
                  <a:pt x="573" y="1913"/>
                </a:lnTo>
                <a:lnTo>
                  <a:pt x="589" y="1903"/>
                </a:lnTo>
                <a:lnTo>
                  <a:pt x="642" y="1859"/>
                </a:lnTo>
                <a:lnTo>
                  <a:pt x="694" y="1817"/>
                </a:lnTo>
                <a:lnTo>
                  <a:pt x="744" y="1777"/>
                </a:lnTo>
                <a:lnTo>
                  <a:pt x="794" y="1734"/>
                </a:lnTo>
                <a:lnTo>
                  <a:pt x="817" y="1713"/>
                </a:lnTo>
                <a:lnTo>
                  <a:pt x="840" y="1692"/>
                </a:lnTo>
                <a:lnTo>
                  <a:pt x="863" y="1671"/>
                </a:lnTo>
                <a:lnTo>
                  <a:pt x="884" y="1650"/>
                </a:lnTo>
                <a:lnTo>
                  <a:pt x="907" y="1629"/>
                </a:lnTo>
                <a:lnTo>
                  <a:pt x="928" y="1608"/>
                </a:lnTo>
                <a:lnTo>
                  <a:pt x="949" y="1587"/>
                </a:lnTo>
                <a:lnTo>
                  <a:pt x="969" y="1566"/>
                </a:lnTo>
                <a:lnTo>
                  <a:pt x="1009" y="1523"/>
                </a:lnTo>
                <a:lnTo>
                  <a:pt x="1047" y="1479"/>
                </a:lnTo>
                <a:lnTo>
                  <a:pt x="1086" y="1435"/>
                </a:lnTo>
                <a:lnTo>
                  <a:pt x="1124" y="1391"/>
                </a:lnTo>
                <a:lnTo>
                  <a:pt x="1164" y="1345"/>
                </a:lnTo>
                <a:lnTo>
                  <a:pt x="1203" y="1297"/>
                </a:lnTo>
                <a:lnTo>
                  <a:pt x="1241" y="1249"/>
                </a:lnTo>
                <a:lnTo>
                  <a:pt x="1281" y="1199"/>
                </a:lnTo>
                <a:lnTo>
                  <a:pt x="1301" y="1176"/>
                </a:lnTo>
                <a:lnTo>
                  <a:pt x="1320" y="1151"/>
                </a:lnTo>
                <a:lnTo>
                  <a:pt x="1341" y="1126"/>
                </a:lnTo>
                <a:lnTo>
                  <a:pt x="1360" y="1101"/>
                </a:lnTo>
                <a:lnTo>
                  <a:pt x="1379" y="1076"/>
                </a:lnTo>
                <a:lnTo>
                  <a:pt x="1399" y="1049"/>
                </a:lnTo>
                <a:lnTo>
                  <a:pt x="1418" y="1022"/>
                </a:lnTo>
                <a:lnTo>
                  <a:pt x="1437" y="994"/>
                </a:lnTo>
                <a:lnTo>
                  <a:pt x="1454" y="965"/>
                </a:lnTo>
                <a:lnTo>
                  <a:pt x="1473" y="936"/>
                </a:lnTo>
                <a:lnTo>
                  <a:pt x="1493" y="907"/>
                </a:lnTo>
                <a:lnTo>
                  <a:pt x="1510" y="877"/>
                </a:lnTo>
                <a:lnTo>
                  <a:pt x="1529" y="846"/>
                </a:lnTo>
                <a:lnTo>
                  <a:pt x="1546" y="815"/>
                </a:lnTo>
                <a:lnTo>
                  <a:pt x="1565" y="783"/>
                </a:lnTo>
                <a:lnTo>
                  <a:pt x="1583" y="752"/>
                </a:lnTo>
                <a:lnTo>
                  <a:pt x="1600" y="719"/>
                </a:lnTo>
                <a:lnTo>
                  <a:pt x="1615" y="689"/>
                </a:lnTo>
                <a:lnTo>
                  <a:pt x="1629" y="660"/>
                </a:lnTo>
                <a:lnTo>
                  <a:pt x="1642" y="633"/>
                </a:lnTo>
                <a:lnTo>
                  <a:pt x="1656" y="606"/>
                </a:lnTo>
                <a:lnTo>
                  <a:pt x="1669" y="581"/>
                </a:lnTo>
                <a:lnTo>
                  <a:pt x="1681" y="558"/>
                </a:lnTo>
                <a:lnTo>
                  <a:pt x="1692" y="535"/>
                </a:lnTo>
                <a:lnTo>
                  <a:pt x="1702" y="514"/>
                </a:lnTo>
                <a:lnTo>
                  <a:pt x="1711" y="495"/>
                </a:lnTo>
                <a:lnTo>
                  <a:pt x="1719" y="477"/>
                </a:lnTo>
                <a:lnTo>
                  <a:pt x="1727" y="460"/>
                </a:lnTo>
                <a:lnTo>
                  <a:pt x="1734" y="445"/>
                </a:lnTo>
                <a:lnTo>
                  <a:pt x="1740" y="429"/>
                </a:lnTo>
                <a:lnTo>
                  <a:pt x="1746" y="416"/>
                </a:lnTo>
                <a:lnTo>
                  <a:pt x="1750" y="405"/>
                </a:lnTo>
                <a:close/>
                <a:moveTo>
                  <a:pt x="1203" y="1341"/>
                </a:moveTo>
                <a:lnTo>
                  <a:pt x="1205" y="1387"/>
                </a:lnTo>
                <a:lnTo>
                  <a:pt x="1205" y="1431"/>
                </a:lnTo>
                <a:lnTo>
                  <a:pt x="1205" y="1473"/>
                </a:lnTo>
                <a:lnTo>
                  <a:pt x="1207" y="1514"/>
                </a:lnTo>
                <a:lnTo>
                  <a:pt x="1207" y="1554"/>
                </a:lnTo>
                <a:lnTo>
                  <a:pt x="1207" y="1592"/>
                </a:lnTo>
                <a:lnTo>
                  <a:pt x="1207" y="1629"/>
                </a:lnTo>
                <a:lnTo>
                  <a:pt x="1207" y="1665"/>
                </a:lnTo>
                <a:lnTo>
                  <a:pt x="1207" y="1700"/>
                </a:lnTo>
                <a:lnTo>
                  <a:pt x="1207" y="1733"/>
                </a:lnTo>
                <a:lnTo>
                  <a:pt x="1207" y="1763"/>
                </a:lnTo>
                <a:lnTo>
                  <a:pt x="1207" y="1794"/>
                </a:lnTo>
                <a:lnTo>
                  <a:pt x="1207" y="1823"/>
                </a:lnTo>
                <a:lnTo>
                  <a:pt x="1207" y="1850"/>
                </a:lnTo>
                <a:lnTo>
                  <a:pt x="1207" y="1876"/>
                </a:lnTo>
                <a:lnTo>
                  <a:pt x="1205" y="1901"/>
                </a:lnTo>
                <a:lnTo>
                  <a:pt x="1205" y="1924"/>
                </a:lnTo>
                <a:lnTo>
                  <a:pt x="1205" y="1947"/>
                </a:lnTo>
                <a:lnTo>
                  <a:pt x="1203" y="1967"/>
                </a:lnTo>
                <a:lnTo>
                  <a:pt x="1203" y="1986"/>
                </a:lnTo>
                <a:lnTo>
                  <a:pt x="1203" y="2005"/>
                </a:lnTo>
                <a:lnTo>
                  <a:pt x="1201" y="2022"/>
                </a:lnTo>
                <a:lnTo>
                  <a:pt x="1201" y="2038"/>
                </a:lnTo>
                <a:lnTo>
                  <a:pt x="1201" y="2051"/>
                </a:lnTo>
                <a:lnTo>
                  <a:pt x="1199" y="2065"/>
                </a:lnTo>
                <a:lnTo>
                  <a:pt x="1199" y="2076"/>
                </a:lnTo>
                <a:lnTo>
                  <a:pt x="1197" y="2086"/>
                </a:lnTo>
                <a:lnTo>
                  <a:pt x="1197" y="2095"/>
                </a:lnTo>
                <a:lnTo>
                  <a:pt x="1195" y="2101"/>
                </a:lnTo>
                <a:lnTo>
                  <a:pt x="1195" y="2109"/>
                </a:lnTo>
                <a:lnTo>
                  <a:pt x="1193" y="2112"/>
                </a:lnTo>
                <a:lnTo>
                  <a:pt x="1193" y="2116"/>
                </a:lnTo>
                <a:lnTo>
                  <a:pt x="1189" y="2126"/>
                </a:lnTo>
                <a:lnTo>
                  <a:pt x="1186" y="2136"/>
                </a:lnTo>
                <a:lnTo>
                  <a:pt x="1182" y="2143"/>
                </a:lnTo>
                <a:lnTo>
                  <a:pt x="1178" y="2149"/>
                </a:lnTo>
                <a:lnTo>
                  <a:pt x="1174" y="2153"/>
                </a:lnTo>
                <a:lnTo>
                  <a:pt x="1172" y="2155"/>
                </a:lnTo>
                <a:lnTo>
                  <a:pt x="1168" y="2157"/>
                </a:lnTo>
                <a:lnTo>
                  <a:pt x="1164" y="2157"/>
                </a:lnTo>
                <a:lnTo>
                  <a:pt x="1161" y="2157"/>
                </a:lnTo>
                <a:lnTo>
                  <a:pt x="1155" y="2153"/>
                </a:lnTo>
                <a:lnTo>
                  <a:pt x="1149" y="2149"/>
                </a:lnTo>
                <a:lnTo>
                  <a:pt x="1143" y="2141"/>
                </a:lnTo>
                <a:lnTo>
                  <a:pt x="1136" y="2134"/>
                </a:lnTo>
                <a:lnTo>
                  <a:pt x="1130" y="2122"/>
                </a:lnTo>
                <a:lnTo>
                  <a:pt x="1122" y="2111"/>
                </a:lnTo>
                <a:lnTo>
                  <a:pt x="1114" y="2095"/>
                </a:lnTo>
                <a:lnTo>
                  <a:pt x="1111" y="2088"/>
                </a:lnTo>
                <a:lnTo>
                  <a:pt x="1105" y="2080"/>
                </a:lnTo>
                <a:lnTo>
                  <a:pt x="1101" y="2070"/>
                </a:lnTo>
                <a:lnTo>
                  <a:pt x="1099" y="2061"/>
                </a:lnTo>
                <a:lnTo>
                  <a:pt x="1095" y="2051"/>
                </a:lnTo>
                <a:lnTo>
                  <a:pt x="1093" y="2041"/>
                </a:lnTo>
                <a:lnTo>
                  <a:pt x="1091" y="2032"/>
                </a:lnTo>
                <a:lnTo>
                  <a:pt x="1091" y="2020"/>
                </a:lnTo>
                <a:lnTo>
                  <a:pt x="1090" y="1997"/>
                </a:lnTo>
                <a:lnTo>
                  <a:pt x="1091" y="1974"/>
                </a:lnTo>
                <a:lnTo>
                  <a:pt x="1093" y="1949"/>
                </a:lnTo>
                <a:lnTo>
                  <a:pt x="1095" y="1923"/>
                </a:lnTo>
                <a:lnTo>
                  <a:pt x="1097" y="1909"/>
                </a:lnTo>
                <a:lnTo>
                  <a:pt x="1099" y="1894"/>
                </a:lnTo>
                <a:lnTo>
                  <a:pt x="1099" y="1878"/>
                </a:lnTo>
                <a:lnTo>
                  <a:pt x="1099" y="1861"/>
                </a:lnTo>
                <a:lnTo>
                  <a:pt x="1099" y="1844"/>
                </a:lnTo>
                <a:lnTo>
                  <a:pt x="1099" y="1825"/>
                </a:lnTo>
                <a:lnTo>
                  <a:pt x="1099" y="1805"/>
                </a:lnTo>
                <a:lnTo>
                  <a:pt x="1097" y="1784"/>
                </a:lnTo>
                <a:lnTo>
                  <a:pt x="1097" y="1763"/>
                </a:lnTo>
                <a:lnTo>
                  <a:pt x="1095" y="1742"/>
                </a:lnTo>
                <a:lnTo>
                  <a:pt x="1093" y="1717"/>
                </a:lnTo>
                <a:lnTo>
                  <a:pt x="1093" y="1694"/>
                </a:lnTo>
                <a:lnTo>
                  <a:pt x="1091" y="1667"/>
                </a:lnTo>
                <a:lnTo>
                  <a:pt x="1090" y="1642"/>
                </a:lnTo>
                <a:lnTo>
                  <a:pt x="1088" y="1615"/>
                </a:lnTo>
                <a:lnTo>
                  <a:pt x="1086" y="1587"/>
                </a:lnTo>
                <a:lnTo>
                  <a:pt x="1084" y="1560"/>
                </a:lnTo>
                <a:lnTo>
                  <a:pt x="1082" y="1537"/>
                </a:lnTo>
                <a:lnTo>
                  <a:pt x="1082" y="1512"/>
                </a:lnTo>
                <a:lnTo>
                  <a:pt x="1080" y="1491"/>
                </a:lnTo>
                <a:lnTo>
                  <a:pt x="1080" y="1472"/>
                </a:lnTo>
                <a:lnTo>
                  <a:pt x="1080" y="1452"/>
                </a:lnTo>
                <a:lnTo>
                  <a:pt x="1078" y="1435"/>
                </a:lnTo>
                <a:lnTo>
                  <a:pt x="1078" y="1420"/>
                </a:lnTo>
                <a:lnTo>
                  <a:pt x="1078" y="1406"/>
                </a:lnTo>
                <a:lnTo>
                  <a:pt x="1080" y="1393"/>
                </a:lnTo>
                <a:lnTo>
                  <a:pt x="1080" y="1381"/>
                </a:lnTo>
                <a:lnTo>
                  <a:pt x="1080" y="1374"/>
                </a:lnTo>
                <a:lnTo>
                  <a:pt x="1082" y="1366"/>
                </a:lnTo>
                <a:lnTo>
                  <a:pt x="1082" y="1360"/>
                </a:lnTo>
                <a:lnTo>
                  <a:pt x="1084" y="1354"/>
                </a:lnTo>
                <a:lnTo>
                  <a:pt x="1086" y="1353"/>
                </a:lnTo>
                <a:lnTo>
                  <a:pt x="1088" y="1351"/>
                </a:lnTo>
                <a:lnTo>
                  <a:pt x="1091" y="1349"/>
                </a:lnTo>
                <a:lnTo>
                  <a:pt x="1095" y="1347"/>
                </a:lnTo>
                <a:lnTo>
                  <a:pt x="1099" y="1347"/>
                </a:lnTo>
                <a:lnTo>
                  <a:pt x="1103" y="1345"/>
                </a:lnTo>
                <a:lnTo>
                  <a:pt x="1109" y="1345"/>
                </a:lnTo>
                <a:lnTo>
                  <a:pt x="1116" y="1343"/>
                </a:lnTo>
                <a:lnTo>
                  <a:pt x="1122" y="1343"/>
                </a:lnTo>
                <a:lnTo>
                  <a:pt x="1130" y="1343"/>
                </a:lnTo>
                <a:lnTo>
                  <a:pt x="1139" y="1343"/>
                </a:lnTo>
                <a:lnTo>
                  <a:pt x="1147" y="1343"/>
                </a:lnTo>
                <a:lnTo>
                  <a:pt x="1157" y="1341"/>
                </a:lnTo>
                <a:lnTo>
                  <a:pt x="1168" y="1341"/>
                </a:lnTo>
                <a:lnTo>
                  <a:pt x="1180" y="1341"/>
                </a:lnTo>
                <a:lnTo>
                  <a:pt x="1191" y="1341"/>
                </a:lnTo>
                <a:lnTo>
                  <a:pt x="1203" y="1341"/>
                </a:lnTo>
                <a:close/>
                <a:moveTo>
                  <a:pt x="1828" y="1811"/>
                </a:moveTo>
                <a:lnTo>
                  <a:pt x="1826" y="1846"/>
                </a:lnTo>
                <a:lnTo>
                  <a:pt x="1826" y="1880"/>
                </a:lnTo>
                <a:lnTo>
                  <a:pt x="1825" y="1913"/>
                </a:lnTo>
                <a:lnTo>
                  <a:pt x="1825" y="1944"/>
                </a:lnTo>
                <a:lnTo>
                  <a:pt x="1823" y="1974"/>
                </a:lnTo>
                <a:lnTo>
                  <a:pt x="1819" y="2001"/>
                </a:lnTo>
                <a:lnTo>
                  <a:pt x="1817" y="2028"/>
                </a:lnTo>
                <a:lnTo>
                  <a:pt x="1813" y="2053"/>
                </a:lnTo>
                <a:lnTo>
                  <a:pt x="1811" y="2078"/>
                </a:lnTo>
                <a:lnTo>
                  <a:pt x="1807" y="2099"/>
                </a:lnTo>
                <a:lnTo>
                  <a:pt x="1803" y="2120"/>
                </a:lnTo>
                <a:lnTo>
                  <a:pt x="1798" y="2139"/>
                </a:lnTo>
                <a:lnTo>
                  <a:pt x="1794" y="2157"/>
                </a:lnTo>
                <a:lnTo>
                  <a:pt x="1790" y="2172"/>
                </a:lnTo>
                <a:lnTo>
                  <a:pt x="1784" y="2185"/>
                </a:lnTo>
                <a:lnTo>
                  <a:pt x="1778" y="2199"/>
                </a:lnTo>
                <a:lnTo>
                  <a:pt x="1771" y="2208"/>
                </a:lnTo>
                <a:lnTo>
                  <a:pt x="1765" y="2220"/>
                </a:lnTo>
                <a:lnTo>
                  <a:pt x="1757" y="2230"/>
                </a:lnTo>
                <a:lnTo>
                  <a:pt x="1752" y="2237"/>
                </a:lnTo>
                <a:lnTo>
                  <a:pt x="1746" y="2247"/>
                </a:lnTo>
                <a:lnTo>
                  <a:pt x="1740" y="2255"/>
                </a:lnTo>
                <a:lnTo>
                  <a:pt x="1734" y="2260"/>
                </a:lnTo>
                <a:lnTo>
                  <a:pt x="1729" y="2266"/>
                </a:lnTo>
                <a:lnTo>
                  <a:pt x="1725" y="2272"/>
                </a:lnTo>
                <a:lnTo>
                  <a:pt x="1719" y="2278"/>
                </a:lnTo>
                <a:lnTo>
                  <a:pt x="1715" y="2281"/>
                </a:lnTo>
                <a:lnTo>
                  <a:pt x="1711" y="2283"/>
                </a:lnTo>
                <a:lnTo>
                  <a:pt x="1707" y="2287"/>
                </a:lnTo>
                <a:lnTo>
                  <a:pt x="1706" y="2289"/>
                </a:lnTo>
                <a:lnTo>
                  <a:pt x="1702" y="2289"/>
                </a:lnTo>
                <a:lnTo>
                  <a:pt x="1700" y="2289"/>
                </a:lnTo>
                <a:lnTo>
                  <a:pt x="1694" y="2285"/>
                </a:lnTo>
                <a:lnTo>
                  <a:pt x="1688" y="2279"/>
                </a:lnTo>
                <a:lnTo>
                  <a:pt x="1683" y="2272"/>
                </a:lnTo>
                <a:lnTo>
                  <a:pt x="1679" y="2264"/>
                </a:lnTo>
                <a:lnTo>
                  <a:pt x="1677" y="2258"/>
                </a:lnTo>
                <a:lnTo>
                  <a:pt x="1675" y="2255"/>
                </a:lnTo>
                <a:lnTo>
                  <a:pt x="1675" y="2247"/>
                </a:lnTo>
                <a:lnTo>
                  <a:pt x="1673" y="2241"/>
                </a:lnTo>
                <a:lnTo>
                  <a:pt x="1673" y="2233"/>
                </a:lnTo>
                <a:lnTo>
                  <a:pt x="1671" y="2226"/>
                </a:lnTo>
                <a:lnTo>
                  <a:pt x="1671" y="2218"/>
                </a:lnTo>
                <a:lnTo>
                  <a:pt x="1671" y="2208"/>
                </a:lnTo>
                <a:lnTo>
                  <a:pt x="1669" y="2199"/>
                </a:lnTo>
                <a:lnTo>
                  <a:pt x="1667" y="2187"/>
                </a:lnTo>
                <a:lnTo>
                  <a:pt x="1663" y="2176"/>
                </a:lnTo>
                <a:lnTo>
                  <a:pt x="1660" y="2164"/>
                </a:lnTo>
                <a:lnTo>
                  <a:pt x="1656" y="2151"/>
                </a:lnTo>
                <a:lnTo>
                  <a:pt x="1650" y="2137"/>
                </a:lnTo>
                <a:lnTo>
                  <a:pt x="1646" y="2124"/>
                </a:lnTo>
                <a:lnTo>
                  <a:pt x="1638" y="2109"/>
                </a:lnTo>
                <a:lnTo>
                  <a:pt x="1633" y="2093"/>
                </a:lnTo>
                <a:lnTo>
                  <a:pt x="1625" y="2076"/>
                </a:lnTo>
                <a:lnTo>
                  <a:pt x="1617" y="2061"/>
                </a:lnTo>
                <a:lnTo>
                  <a:pt x="1608" y="2041"/>
                </a:lnTo>
                <a:lnTo>
                  <a:pt x="1598" y="2024"/>
                </a:lnTo>
                <a:lnTo>
                  <a:pt x="1587" y="2005"/>
                </a:lnTo>
                <a:lnTo>
                  <a:pt x="1577" y="1984"/>
                </a:lnTo>
                <a:lnTo>
                  <a:pt x="1564" y="1963"/>
                </a:lnTo>
                <a:lnTo>
                  <a:pt x="1579" y="1963"/>
                </a:lnTo>
                <a:lnTo>
                  <a:pt x="1594" y="1961"/>
                </a:lnTo>
                <a:lnTo>
                  <a:pt x="1608" y="1959"/>
                </a:lnTo>
                <a:lnTo>
                  <a:pt x="1623" y="1957"/>
                </a:lnTo>
                <a:lnTo>
                  <a:pt x="1640" y="1953"/>
                </a:lnTo>
                <a:lnTo>
                  <a:pt x="1656" y="1951"/>
                </a:lnTo>
                <a:lnTo>
                  <a:pt x="1673" y="1947"/>
                </a:lnTo>
                <a:lnTo>
                  <a:pt x="1690" y="1944"/>
                </a:lnTo>
                <a:lnTo>
                  <a:pt x="1692" y="1913"/>
                </a:lnTo>
                <a:lnTo>
                  <a:pt x="1692" y="1882"/>
                </a:lnTo>
                <a:lnTo>
                  <a:pt x="1692" y="1853"/>
                </a:lnTo>
                <a:lnTo>
                  <a:pt x="1694" y="1825"/>
                </a:lnTo>
                <a:lnTo>
                  <a:pt x="1694" y="1798"/>
                </a:lnTo>
                <a:lnTo>
                  <a:pt x="1694" y="1771"/>
                </a:lnTo>
                <a:lnTo>
                  <a:pt x="1694" y="1746"/>
                </a:lnTo>
                <a:lnTo>
                  <a:pt x="1694" y="1721"/>
                </a:lnTo>
                <a:lnTo>
                  <a:pt x="1694" y="1698"/>
                </a:lnTo>
                <a:lnTo>
                  <a:pt x="1694" y="1675"/>
                </a:lnTo>
                <a:lnTo>
                  <a:pt x="1694" y="1654"/>
                </a:lnTo>
                <a:lnTo>
                  <a:pt x="1694" y="1633"/>
                </a:lnTo>
                <a:lnTo>
                  <a:pt x="1694" y="1614"/>
                </a:lnTo>
                <a:lnTo>
                  <a:pt x="1692" y="1594"/>
                </a:lnTo>
                <a:lnTo>
                  <a:pt x="1692" y="1575"/>
                </a:lnTo>
                <a:lnTo>
                  <a:pt x="1692" y="1558"/>
                </a:lnTo>
                <a:lnTo>
                  <a:pt x="1690" y="1543"/>
                </a:lnTo>
                <a:lnTo>
                  <a:pt x="1690" y="1527"/>
                </a:lnTo>
                <a:lnTo>
                  <a:pt x="1690" y="1512"/>
                </a:lnTo>
                <a:lnTo>
                  <a:pt x="1688" y="1498"/>
                </a:lnTo>
                <a:lnTo>
                  <a:pt x="1688" y="1487"/>
                </a:lnTo>
                <a:lnTo>
                  <a:pt x="1686" y="1473"/>
                </a:lnTo>
                <a:lnTo>
                  <a:pt x="1684" y="1464"/>
                </a:lnTo>
                <a:lnTo>
                  <a:pt x="1684" y="1452"/>
                </a:lnTo>
                <a:lnTo>
                  <a:pt x="1683" y="1445"/>
                </a:lnTo>
                <a:lnTo>
                  <a:pt x="1681" y="1435"/>
                </a:lnTo>
                <a:lnTo>
                  <a:pt x="1679" y="1427"/>
                </a:lnTo>
                <a:lnTo>
                  <a:pt x="1679" y="1422"/>
                </a:lnTo>
                <a:lnTo>
                  <a:pt x="1677" y="1416"/>
                </a:lnTo>
                <a:lnTo>
                  <a:pt x="1675" y="1410"/>
                </a:lnTo>
                <a:lnTo>
                  <a:pt x="1673" y="1406"/>
                </a:lnTo>
                <a:lnTo>
                  <a:pt x="1671" y="1402"/>
                </a:lnTo>
                <a:lnTo>
                  <a:pt x="1669" y="1401"/>
                </a:lnTo>
                <a:lnTo>
                  <a:pt x="1665" y="1399"/>
                </a:lnTo>
                <a:lnTo>
                  <a:pt x="1660" y="1395"/>
                </a:lnTo>
                <a:lnTo>
                  <a:pt x="1656" y="1393"/>
                </a:lnTo>
                <a:lnTo>
                  <a:pt x="1650" y="1391"/>
                </a:lnTo>
                <a:lnTo>
                  <a:pt x="1642" y="1389"/>
                </a:lnTo>
                <a:lnTo>
                  <a:pt x="1635" y="1389"/>
                </a:lnTo>
                <a:lnTo>
                  <a:pt x="1627" y="1387"/>
                </a:lnTo>
                <a:lnTo>
                  <a:pt x="1619" y="1387"/>
                </a:lnTo>
                <a:lnTo>
                  <a:pt x="1610" y="1385"/>
                </a:lnTo>
                <a:lnTo>
                  <a:pt x="1598" y="1385"/>
                </a:lnTo>
                <a:lnTo>
                  <a:pt x="1589" y="1385"/>
                </a:lnTo>
                <a:lnTo>
                  <a:pt x="1577" y="1385"/>
                </a:lnTo>
                <a:lnTo>
                  <a:pt x="1564" y="1385"/>
                </a:lnTo>
                <a:lnTo>
                  <a:pt x="1550" y="1385"/>
                </a:lnTo>
                <a:lnTo>
                  <a:pt x="1537" y="1385"/>
                </a:lnTo>
                <a:lnTo>
                  <a:pt x="1523" y="1387"/>
                </a:lnTo>
                <a:lnTo>
                  <a:pt x="1508" y="1387"/>
                </a:lnTo>
                <a:lnTo>
                  <a:pt x="1491" y="1389"/>
                </a:lnTo>
                <a:lnTo>
                  <a:pt x="1475" y="1391"/>
                </a:lnTo>
                <a:lnTo>
                  <a:pt x="1456" y="1393"/>
                </a:lnTo>
                <a:lnTo>
                  <a:pt x="1439" y="1395"/>
                </a:lnTo>
                <a:lnTo>
                  <a:pt x="1420" y="1397"/>
                </a:lnTo>
                <a:lnTo>
                  <a:pt x="1400" y="1399"/>
                </a:lnTo>
                <a:lnTo>
                  <a:pt x="1379" y="1401"/>
                </a:lnTo>
                <a:lnTo>
                  <a:pt x="1358" y="1404"/>
                </a:lnTo>
                <a:lnTo>
                  <a:pt x="1335" y="1406"/>
                </a:lnTo>
                <a:lnTo>
                  <a:pt x="1312" y="1410"/>
                </a:lnTo>
                <a:lnTo>
                  <a:pt x="1289" y="1412"/>
                </a:lnTo>
                <a:lnTo>
                  <a:pt x="1264" y="1416"/>
                </a:lnTo>
                <a:lnTo>
                  <a:pt x="1239" y="1420"/>
                </a:lnTo>
                <a:lnTo>
                  <a:pt x="1212" y="1424"/>
                </a:lnTo>
                <a:lnTo>
                  <a:pt x="1203" y="1341"/>
                </a:lnTo>
                <a:lnTo>
                  <a:pt x="1235" y="1341"/>
                </a:lnTo>
                <a:lnTo>
                  <a:pt x="1268" y="1341"/>
                </a:lnTo>
                <a:lnTo>
                  <a:pt x="1299" y="1337"/>
                </a:lnTo>
                <a:lnTo>
                  <a:pt x="1329" y="1335"/>
                </a:lnTo>
                <a:lnTo>
                  <a:pt x="1360" y="1333"/>
                </a:lnTo>
                <a:lnTo>
                  <a:pt x="1393" y="1330"/>
                </a:lnTo>
                <a:lnTo>
                  <a:pt x="1423" y="1326"/>
                </a:lnTo>
                <a:lnTo>
                  <a:pt x="1456" y="1322"/>
                </a:lnTo>
                <a:lnTo>
                  <a:pt x="1473" y="1320"/>
                </a:lnTo>
                <a:lnTo>
                  <a:pt x="1487" y="1318"/>
                </a:lnTo>
                <a:lnTo>
                  <a:pt x="1502" y="1314"/>
                </a:lnTo>
                <a:lnTo>
                  <a:pt x="1516" y="1312"/>
                </a:lnTo>
                <a:lnTo>
                  <a:pt x="1529" y="1310"/>
                </a:lnTo>
                <a:lnTo>
                  <a:pt x="1541" y="1306"/>
                </a:lnTo>
                <a:lnTo>
                  <a:pt x="1552" y="1305"/>
                </a:lnTo>
                <a:lnTo>
                  <a:pt x="1562" y="1301"/>
                </a:lnTo>
                <a:lnTo>
                  <a:pt x="1571" y="1299"/>
                </a:lnTo>
                <a:lnTo>
                  <a:pt x="1581" y="1295"/>
                </a:lnTo>
                <a:lnTo>
                  <a:pt x="1589" y="1293"/>
                </a:lnTo>
                <a:lnTo>
                  <a:pt x="1596" y="1289"/>
                </a:lnTo>
                <a:lnTo>
                  <a:pt x="1604" y="1287"/>
                </a:lnTo>
                <a:lnTo>
                  <a:pt x="1612" y="1285"/>
                </a:lnTo>
                <a:lnTo>
                  <a:pt x="1617" y="1283"/>
                </a:lnTo>
                <a:lnTo>
                  <a:pt x="1623" y="1282"/>
                </a:lnTo>
                <a:lnTo>
                  <a:pt x="1636" y="1274"/>
                </a:lnTo>
                <a:lnTo>
                  <a:pt x="1644" y="1270"/>
                </a:lnTo>
                <a:lnTo>
                  <a:pt x="1652" y="1266"/>
                </a:lnTo>
                <a:lnTo>
                  <a:pt x="1660" y="1264"/>
                </a:lnTo>
                <a:lnTo>
                  <a:pt x="1667" y="1262"/>
                </a:lnTo>
                <a:lnTo>
                  <a:pt x="1673" y="1260"/>
                </a:lnTo>
                <a:lnTo>
                  <a:pt x="1681" y="1260"/>
                </a:lnTo>
                <a:lnTo>
                  <a:pt x="1683" y="1260"/>
                </a:lnTo>
                <a:lnTo>
                  <a:pt x="1686" y="1260"/>
                </a:lnTo>
                <a:lnTo>
                  <a:pt x="1690" y="1262"/>
                </a:lnTo>
                <a:lnTo>
                  <a:pt x="1694" y="1264"/>
                </a:lnTo>
                <a:lnTo>
                  <a:pt x="1698" y="1266"/>
                </a:lnTo>
                <a:lnTo>
                  <a:pt x="1704" y="1268"/>
                </a:lnTo>
                <a:lnTo>
                  <a:pt x="1709" y="1272"/>
                </a:lnTo>
                <a:lnTo>
                  <a:pt x="1717" y="1274"/>
                </a:lnTo>
                <a:lnTo>
                  <a:pt x="1723" y="1278"/>
                </a:lnTo>
                <a:lnTo>
                  <a:pt x="1731" y="1282"/>
                </a:lnTo>
                <a:lnTo>
                  <a:pt x="1740" y="1285"/>
                </a:lnTo>
                <a:lnTo>
                  <a:pt x="1748" y="1291"/>
                </a:lnTo>
                <a:lnTo>
                  <a:pt x="1757" y="1295"/>
                </a:lnTo>
                <a:lnTo>
                  <a:pt x="1767" y="1301"/>
                </a:lnTo>
                <a:lnTo>
                  <a:pt x="1788" y="1312"/>
                </a:lnTo>
                <a:lnTo>
                  <a:pt x="1800" y="1318"/>
                </a:lnTo>
                <a:lnTo>
                  <a:pt x="1809" y="1326"/>
                </a:lnTo>
                <a:lnTo>
                  <a:pt x="1819" y="1333"/>
                </a:lnTo>
                <a:lnTo>
                  <a:pt x="1826" y="1339"/>
                </a:lnTo>
                <a:lnTo>
                  <a:pt x="1834" y="1347"/>
                </a:lnTo>
                <a:lnTo>
                  <a:pt x="1842" y="1353"/>
                </a:lnTo>
                <a:lnTo>
                  <a:pt x="1848" y="1358"/>
                </a:lnTo>
                <a:lnTo>
                  <a:pt x="1853" y="1364"/>
                </a:lnTo>
                <a:lnTo>
                  <a:pt x="1859" y="1368"/>
                </a:lnTo>
                <a:lnTo>
                  <a:pt x="1863" y="1374"/>
                </a:lnTo>
                <a:lnTo>
                  <a:pt x="1867" y="1377"/>
                </a:lnTo>
                <a:lnTo>
                  <a:pt x="1871" y="1381"/>
                </a:lnTo>
                <a:lnTo>
                  <a:pt x="1873" y="1385"/>
                </a:lnTo>
                <a:lnTo>
                  <a:pt x="1874" y="1389"/>
                </a:lnTo>
                <a:lnTo>
                  <a:pt x="1876" y="1391"/>
                </a:lnTo>
                <a:lnTo>
                  <a:pt x="1876" y="1393"/>
                </a:lnTo>
                <a:lnTo>
                  <a:pt x="1876" y="1401"/>
                </a:lnTo>
                <a:lnTo>
                  <a:pt x="1874" y="1408"/>
                </a:lnTo>
                <a:lnTo>
                  <a:pt x="1873" y="1416"/>
                </a:lnTo>
                <a:lnTo>
                  <a:pt x="1871" y="1425"/>
                </a:lnTo>
                <a:lnTo>
                  <a:pt x="1867" y="1433"/>
                </a:lnTo>
                <a:lnTo>
                  <a:pt x="1863" y="1443"/>
                </a:lnTo>
                <a:lnTo>
                  <a:pt x="1861" y="1452"/>
                </a:lnTo>
                <a:lnTo>
                  <a:pt x="1857" y="1464"/>
                </a:lnTo>
                <a:lnTo>
                  <a:pt x="1855" y="1468"/>
                </a:lnTo>
                <a:lnTo>
                  <a:pt x="1853" y="1472"/>
                </a:lnTo>
                <a:lnTo>
                  <a:pt x="1851" y="1475"/>
                </a:lnTo>
                <a:lnTo>
                  <a:pt x="1850" y="1479"/>
                </a:lnTo>
                <a:lnTo>
                  <a:pt x="1848" y="1485"/>
                </a:lnTo>
                <a:lnTo>
                  <a:pt x="1848" y="1491"/>
                </a:lnTo>
                <a:lnTo>
                  <a:pt x="1846" y="1496"/>
                </a:lnTo>
                <a:lnTo>
                  <a:pt x="1844" y="1504"/>
                </a:lnTo>
                <a:lnTo>
                  <a:pt x="1842" y="1512"/>
                </a:lnTo>
                <a:lnTo>
                  <a:pt x="1842" y="1520"/>
                </a:lnTo>
                <a:lnTo>
                  <a:pt x="1840" y="1527"/>
                </a:lnTo>
                <a:lnTo>
                  <a:pt x="1840" y="1537"/>
                </a:lnTo>
                <a:lnTo>
                  <a:pt x="1838" y="1546"/>
                </a:lnTo>
                <a:lnTo>
                  <a:pt x="1836" y="1556"/>
                </a:lnTo>
                <a:lnTo>
                  <a:pt x="1836" y="1566"/>
                </a:lnTo>
                <a:lnTo>
                  <a:pt x="1834" y="1577"/>
                </a:lnTo>
                <a:lnTo>
                  <a:pt x="1832" y="1600"/>
                </a:lnTo>
                <a:lnTo>
                  <a:pt x="1832" y="1623"/>
                </a:lnTo>
                <a:lnTo>
                  <a:pt x="1830" y="1650"/>
                </a:lnTo>
                <a:lnTo>
                  <a:pt x="1828" y="1679"/>
                </a:lnTo>
                <a:lnTo>
                  <a:pt x="1828" y="1709"/>
                </a:lnTo>
                <a:lnTo>
                  <a:pt x="1828" y="1742"/>
                </a:lnTo>
                <a:lnTo>
                  <a:pt x="1828" y="1775"/>
                </a:lnTo>
                <a:lnTo>
                  <a:pt x="1828" y="1811"/>
                </a:lnTo>
                <a:close/>
                <a:moveTo>
                  <a:pt x="1496" y="1679"/>
                </a:moveTo>
                <a:lnTo>
                  <a:pt x="1487" y="1681"/>
                </a:lnTo>
                <a:lnTo>
                  <a:pt x="1477" y="1683"/>
                </a:lnTo>
                <a:lnTo>
                  <a:pt x="1466" y="1685"/>
                </a:lnTo>
                <a:lnTo>
                  <a:pt x="1454" y="1686"/>
                </a:lnTo>
                <a:lnTo>
                  <a:pt x="1439" y="1688"/>
                </a:lnTo>
                <a:lnTo>
                  <a:pt x="1423" y="1688"/>
                </a:lnTo>
                <a:lnTo>
                  <a:pt x="1404" y="1690"/>
                </a:lnTo>
                <a:lnTo>
                  <a:pt x="1385" y="1692"/>
                </a:lnTo>
                <a:lnTo>
                  <a:pt x="1366" y="1694"/>
                </a:lnTo>
                <a:lnTo>
                  <a:pt x="1343" y="1694"/>
                </a:lnTo>
                <a:lnTo>
                  <a:pt x="1318" y="1696"/>
                </a:lnTo>
                <a:lnTo>
                  <a:pt x="1293" y="1696"/>
                </a:lnTo>
                <a:lnTo>
                  <a:pt x="1266" y="1698"/>
                </a:lnTo>
                <a:lnTo>
                  <a:pt x="1235" y="1698"/>
                </a:lnTo>
                <a:lnTo>
                  <a:pt x="1207" y="1698"/>
                </a:lnTo>
                <a:lnTo>
                  <a:pt x="1174" y="1698"/>
                </a:lnTo>
                <a:lnTo>
                  <a:pt x="1174" y="1637"/>
                </a:lnTo>
                <a:lnTo>
                  <a:pt x="1210" y="1629"/>
                </a:lnTo>
                <a:lnTo>
                  <a:pt x="1230" y="1625"/>
                </a:lnTo>
                <a:lnTo>
                  <a:pt x="1249" y="1621"/>
                </a:lnTo>
                <a:lnTo>
                  <a:pt x="1270" y="1617"/>
                </a:lnTo>
                <a:lnTo>
                  <a:pt x="1291" y="1615"/>
                </a:lnTo>
                <a:lnTo>
                  <a:pt x="1314" y="1612"/>
                </a:lnTo>
                <a:lnTo>
                  <a:pt x="1339" y="1608"/>
                </a:lnTo>
                <a:lnTo>
                  <a:pt x="1352" y="1606"/>
                </a:lnTo>
                <a:lnTo>
                  <a:pt x="1364" y="1604"/>
                </a:lnTo>
                <a:lnTo>
                  <a:pt x="1375" y="1602"/>
                </a:lnTo>
                <a:lnTo>
                  <a:pt x="1385" y="1600"/>
                </a:lnTo>
                <a:lnTo>
                  <a:pt x="1395" y="1598"/>
                </a:lnTo>
                <a:lnTo>
                  <a:pt x="1404" y="1596"/>
                </a:lnTo>
                <a:lnTo>
                  <a:pt x="1414" y="1594"/>
                </a:lnTo>
                <a:lnTo>
                  <a:pt x="1422" y="1592"/>
                </a:lnTo>
                <a:lnTo>
                  <a:pt x="1429" y="1591"/>
                </a:lnTo>
                <a:lnTo>
                  <a:pt x="1435" y="1591"/>
                </a:lnTo>
                <a:lnTo>
                  <a:pt x="1443" y="1589"/>
                </a:lnTo>
                <a:lnTo>
                  <a:pt x="1448" y="1589"/>
                </a:lnTo>
                <a:lnTo>
                  <a:pt x="1454" y="1587"/>
                </a:lnTo>
                <a:lnTo>
                  <a:pt x="1458" y="1587"/>
                </a:lnTo>
                <a:lnTo>
                  <a:pt x="1462" y="1587"/>
                </a:lnTo>
                <a:lnTo>
                  <a:pt x="1466" y="1587"/>
                </a:lnTo>
                <a:lnTo>
                  <a:pt x="1470" y="1587"/>
                </a:lnTo>
                <a:lnTo>
                  <a:pt x="1471" y="1587"/>
                </a:lnTo>
                <a:lnTo>
                  <a:pt x="1475" y="1587"/>
                </a:lnTo>
                <a:lnTo>
                  <a:pt x="1479" y="1589"/>
                </a:lnTo>
                <a:lnTo>
                  <a:pt x="1483" y="1589"/>
                </a:lnTo>
                <a:lnTo>
                  <a:pt x="1489" y="1591"/>
                </a:lnTo>
                <a:lnTo>
                  <a:pt x="1494" y="1592"/>
                </a:lnTo>
                <a:lnTo>
                  <a:pt x="1500" y="1594"/>
                </a:lnTo>
                <a:lnTo>
                  <a:pt x="1514" y="1598"/>
                </a:lnTo>
                <a:lnTo>
                  <a:pt x="1529" y="1604"/>
                </a:lnTo>
                <a:lnTo>
                  <a:pt x="1546" y="1610"/>
                </a:lnTo>
                <a:lnTo>
                  <a:pt x="1564" y="1617"/>
                </a:lnTo>
                <a:lnTo>
                  <a:pt x="1564" y="1623"/>
                </a:lnTo>
                <a:lnTo>
                  <a:pt x="1564" y="1629"/>
                </a:lnTo>
                <a:lnTo>
                  <a:pt x="1562" y="1633"/>
                </a:lnTo>
                <a:lnTo>
                  <a:pt x="1560" y="1638"/>
                </a:lnTo>
                <a:lnTo>
                  <a:pt x="1558" y="1642"/>
                </a:lnTo>
                <a:lnTo>
                  <a:pt x="1556" y="1646"/>
                </a:lnTo>
                <a:lnTo>
                  <a:pt x="1552" y="1652"/>
                </a:lnTo>
                <a:lnTo>
                  <a:pt x="1548" y="1656"/>
                </a:lnTo>
                <a:lnTo>
                  <a:pt x="1544" y="1660"/>
                </a:lnTo>
                <a:lnTo>
                  <a:pt x="1539" y="1662"/>
                </a:lnTo>
                <a:lnTo>
                  <a:pt x="1533" y="1665"/>
                </a:lnTo>
                <a:lnTo>
                  <a:pt x="1527" y="1669"/>
                </a:lnTo>
                <a:lnTo>
                  <a:pt x="1519" y="1671"/>
                </a:lnTo>
                <a:lnTo>
                  <a:pt x="1512" y="1673"/>
                </a:lnTo>
                <a:lnTo>
                  <a:pt x="1504" y="1677"/>
                </a:lnTo>
                <a:lnTo>
                  <a:pt x="1496" y="1679"/>
                </a:lnTo>
                <a:close/>
                <a:moveTo>
                  <a:pt x="1174" y="1932"/>
                </a:moveTo>
                <a:lnTo>
                  <a:pt x="1193" y="1930"/>
                </a:lnTo>
                <a:lnTo>
                  <a:pt x="1210" y="1926"/>
                </a:lnTo>
                <a:lnTo>
                  <a:pt x="1230" y="1924"/>
                </a:lnTo>
                <a:lnTo>
                  <a:pt x="1247" y="1923"/>
                </a:lnTo>
                <a:lnTo>
                  <a:pt x="1262" y="1919"/>
                </a:lnTo>
                <a:lnTo>
                  <a:pt x="1280" y="1917"/>
                </a:lnTo>
                <a:lnTo>
                  <a:pt x="1295" y="1915"/>
                </a:lnTo>
                <a:lnTo>
                  <a:pt x="1310" y="1911"/>
                </a:lnTo>
                <a:lnTo>
                  <a:pt x="1326" y="1909"/>
                </a:lnTo>
                <a:lnTo>
                  <a:pt x="1339" y="1907"/>
                </a:lnTo>
                <a:lnTo>
                  <a:pt x="1354" y="1905"/>
                </a:lnTo>
                <a:lnTo>
                  <a:pt x="1368" y="1903"/>
                </a:lnTo>
                <a:lnTo>
                  <a:pt x="1379" y="1901"/>
                </a:lnTo>
                <a:lnTo>
                  <a:pt x="1393" y="1899"/>
                </a:lnTo>
                <a:lnTo>
                  <a:pt x="1404" y="1898"/>
                </a:lnTo>
                <a:lnTo>
                  <a:pt x="1416" y="1896"/>
                </a:lnTo>
                <a:lnTo>
                  <a:pt x="1425" y="1894"/>
                </a:lnTo>
                <a:lnTo>
                  <a:pt x="1437" y="1892"/>
                </a:lnTo>
                <a:lnTo>
                  <a:pt x="1446" y="1892"/>
                </a:lnTo>
                <a:lnTo>
                  <a:pt x="1454" y="1890"/>
                </a:lnTo>
                <a:lnTo>
                  <a:pt x="1464" y="1888"/>
                </a:lnTo>
                <a:lnTo>
                  <a:pt x="1471" y="1888"/>
                </a:lnTo>
                <a:lnTo>
                  <a:pt x="1479" y="1886"/>
                </a:lnTo>
                <a:lnTo>
                  <a:pt x="1487" y="1886"/>
                </a:lnTo>
                <a:lnTo>
                  <a:pt x="1493" y="1884"/>
                </a:lnTo>
                <a:lnTo>
                  <a:pt x="1498" y="1884"/>
                </a:lnTo>
                <a:lnTo>
                  <a:pt x="1504" y="1884"/>
                </a:lnTo>
                <a:lnTo>
                  <a:pt x="1510" y="1882"/>
                </a:lnTo>
                <a:lnTo>
                  <a:pt x="1514" y="1882"/>
                </a:lnTo>
                <a:lnTo>
                  <a:pt x="1518" y="1882"/>
                </a:lnTo>
                <a:lnTo>
                  <a:pt x="1521" y="1882"/>
                </a:lnTo>
                <a:lnTo>
                  <a:pt x="1525" y="1882"/>
                </a:lnTo>
                <a:lnTo>
                  <a:pt x="1535" y="1882"/>
                </a:lnTo>
                <a:lnTo>
                  <a:pt x="1546" y="1884"/>
                </a:lnTo>
                <a:lnTo>
                  <a:pt x="1554" y="1886"/>
                </a:lnTo>
                <a:lnTo>
                  <a:pt x="1564" y="1890"/>
                </a:lnTo>
                <a:lnTo>
                  <a:pt x="1573" y="1896"/>
                </a:lnTo>
                <a:lnTo>
                  <a:pt x="1583" y="1903"/>
                </a:lnTo>
                <a:lnTo>
                  <a:pt x="1592" y="1913"/>
                </a:lnTo>
                <a:lnTo>
                  <a:pt x="1598" y="1917"/>
                </a:lnTo>
                <a:lnTo>
                  <a:pt x="1604" y="1923"/>
                </a:lnTo>
                <a:lnTo>
                  <a:pt x="1613" y="1934"/>
                </a:lnTo>
                <a:lnTo>
                  <a:pt x="1621" y="1944"/>
                </a:lnTo>
                <a:lnTo>
                  <a:pt x="1629" y="1953"/>
                </a:lnTo>
                <a:lnTo>
                  <a:pt x="1633" y="1963"/>
                </a:lnTo>
                <a:lnTo>
                  <a:pt x="1636" y="1970"/>
                </a:lnTo>
                <a:lnTo>
                  <a:pt x="1640" y="1978"/>
                </a:lnTo>
                <a:lnTo>
                  <a:pt x="1642" y="1986"/>
                </a:lnTo>
                <a:lnTo>
                  <a:pt x="1642" y="1994"/>
                </a:lnTo>
                <a:lnTo>
                  <a:pt x="1174" y="1994"/>
                </a:lnTo>
                <a:lnTo>
                  <a:pt x="1174" y="1932"/>
                </a:lnTo>
                <a:close/>
                <a:moveTo>
                  <a:pt x="2276" y="925"/>
                </a:moveTo>
                <a:lnTo>
                  <a:pt x="2274" y="928"/>
                </a:lnTo>
                <a:lnTo>
                  <a:pt x="2272" y="932"/>
                </a:lnTo>
                <a:lnTo>
                  <a:pt x="2266" y="934"/>
                </a:lnTo>
                <a:lnTo>
                  <a:pt x="2262" y="938"/>
                </a:lnTo>
                <a:lnTo>
                  <a:pt x="2256" y="940"/>
                </a:lnTo>
                <a:lnTo>
                  <a:pt x="2249" y="942"/>
                </a:lnTo>
                <a:lnTo>
                  <a:pt x="2241" y="946"/>
                </a:lnTo>
                <a:lnTo>
                  <a:pt x="2233" y="948"/>
                </a:lnTo>
                <a:lnTo>
                  <a:pt x="2224" y="950"/>
                </a:lnTo>
                <a:lnTo>
                  <a:pt x="2212" y="950"/>
                </a:lnTo>
                <a:lnTo>
                  <a:pt x="2201" y="951"/>
                </a:lnTo>
                <a:lnTo>
                  <a:pt x="2189" y="953"/>
                </a:lnTo>
                <a:lnTo>
                  <a:pt x="2176" y="953"/>
                </a:lnTo>
                <a:lnTo>
                  <a:pt x="2160" y="953"/>
                </a:lnTo>
                <a:lnTo>
                  <a:pt x="2145" y="955"/>
                </a:lnTo>
                <a:lnTo>
                  <a:pt x="2130" y="955"/>
                </a:lnTo>
                <a:lnTo>
                  <a:pt x="2095" y="955"/>
                </a:lnTo>
                <a:lnTo>
                  <a:pt x="2061" y="955"/>
                </a:lnTo>
                <a:lnTo>
                  <a:pt x="2028" y="955"/>
                </a:lnTo>
                <a:lnTo>
                  <a:pt x="1997" y="955"/>
                </a:lnTo>
                <a:lnTo>
                  <a:pt x="1967" y="957"/>
                </a:lnTo>
                <a:lnTo>
                  <a:pt x="1940" y="959"/>
                </a:lnTo>
                <a:lnTo>
                  <a:pt x="1913" y="961"/>
                </a:lnTo>
                <a:lnTo>
                  <a:pt x="1886" y="965"/>
                </a:lnTo>
                <a:lnTo>
                  <a:pt x="1873" y="967"/>
                </a:lnTo>
                <a:lnTo>
                  <a:pt x="1857" y="969"/>
                </a:lnTo>
                <a:lnTo>
                  <a:pt x="1842" y="973"/>
                </a:lnTo>
                <a:lnTo>
                  <a:pt x="1826" y="974"/>
                </a:lnTo>
                <a:lnTo>
                  <a:pt x="1807" y="976"/>
                </a:lnTo>
                <a:lnTo>
                  <a:pt x="1788" y="980"/>
                </a:lnTo>
                <a:lnTo>
                  <a:pt x="1769" y="984"/>
                </a:lnTo>
                <a:lnTo>
                  <a:pt x="1748" y="986"/>
                </a:lnTo>
                <a:lnTo>
                  <a:pt x="1725" y="990"/>
                </a:lnTo>
                <a:lnTo>
                  <a:pt x="1700" y="994"/>
                </a:lnTo>
                <a:lnTo>
                  <a:pt x="1677" y="998"/>
                </a:lnTo>
                <a:lnTo>
                  <a:pt x="1650" y="1001"/>
                </a:lnTo>
                <a:lnTo>
                  <a:pt x="1623" y="1005"/>
                </a:lnTo>
                <a:lnTo>
                  <a:pt x="1594" y="1009"/>
                </a:lnTo>
                <a:lnTo>
                  <a:pt x="1565" y="1013"/>
                </a:lnTo>
                <a:lnTo>
                  <a:pt x="1535" y="1017"/>
                </a:lnTo>
                <a:lnTo>
                  <a:pt x="1473" y="1028"/>
                </a:lnTo>
                <a:lnTo>
                  <a:pt x="1414" y="1040"/>
                </a:lnTo>
                <a:lnTo>
                  <a:pt x="1354" y="1051"/>
                </a:lnTo>
                <a:lnTo>
                  <a:pt x="1299" y="1063"/>
                </a:lnTo>
                <a:lnTo>
                  <a:pt x="1241" y="1076"/>
                </a:lnTo>
                <a:lnTo>
                  <a:pt x="1186" y="1090"/>
                </a:lnTo>
                <a:lnTo>
                  <a:pt x="1132" y="1103"/>
                </a:lnTo>
                <a:lnTo>
                  <a:pt x="1076" y="1118"/>
                </a:lnTo>
                <a:lnTo>
                  <a:pt x="1049" y="1126"/>
                </a:lnTo>
                <a:lnTo>
                  <a:pt x="1024" y="1132"/>
                </a:lnTo>
                <a:lnTo>
                  <a:pt x="1001" y="1140"/>
                </a:lnTo>
                <a:lnTo>
                  <a:pt x="980" y="1145"/>
                </a:lnTo>
                <a:lnTo>
                  <a:pt x="961" y="1151"/>
                </a:lnTo>
                <a:lnTo>
                  <a:pt x="944" y="1155"/>
                </a:lnTo>
                <a:lnTo>
                  <a:pt x="926" y="1161"/>
                </a:lnTo>
                <a:lnTo>
                  <a:pt x="913" y="1164"/>
                </a:lnTo>
                <a:lnTo>
                  <a:pt x="900" y="1168"/>
                </a:lnTo>
                <a:lnTo>
                  <a:pt x="888" y="1170"/>
                </a:lnTo>
                <a:lnTo>
                  <a:pt x="878" y="1172"/>
                </a:lnTo>
                <a:lnTo>
                  <a:pt x="871" y="1176"/>
                </a:lnTo>
                <a:lnTo>
                  <a:pt x="863" y="1176"/>
                </a:lnTo>
                <a:lnTo>
                  <a:pt x="857" y="1178"/>
                </a:lnTo>
                <a:lnTo>
                  <a:pt x="854" y="1178"/>
                </a:lnTo>
                <a:lnTo>
                  <a:pt x="852" y="1180"/>
                </a:lnTo>
                <a:lnTo>
                  <a:pt x="848" y="1178"/>
                </a:lnTo>
                <a:lnTo>
                  <a:pt x="840" y="1178"/>
                </a:lnTo>
                <a:lnTo>
                  <a:pt x="832" y="1174"/>
                </a:lnTo>
                <a:lnTo>
                  <a:pt x="825" y="1172"/>
                </a:lnTo>
                <a:lnTo>
                  <a:pt x="815" y="1166"/>
                </a:lnTo>
                <a:lnTo>
                  <a:pt x="806" y="1163"/>
                </a:lnTo>
                <a:lnTo>
                  <a:pt x="794" y="1155"/>
                </a:lnTo>
                <a:lnTo>
                  <a:pt x="782" y="1149"/>
                </a:lnTo>
                <a:lnTo>
                  <a:pt x="773" y="1141"/>
                </a:lnTo>
                <a:lnTo>
                  <a:pt x="763" y="1134"/>
                </a:lnTo>
                <a:lnTo>
                  <a:pt x="756" y="1128"/>
                </a:lnTo>
                <a:lnTo>
                  <a:pt x="748" y="1124"/>
                </a:lnTo>
                <a:lnTo>
                  <a:pt x="742" y="1120"/>
                </a:lnTo>
                <a:lnTo>
                  <a:pt x="738" y="1115"/>
                </a:lnTo>
                <a:lnTo>
                  <a:pt x="735" y="1111"/>
                </a:lnTo>
                <a:lnTo>
                  <a:pt x="735" y="1107"/>
                </a:lnTo>
                <a:lnTo>
                  <a:pt x="736" y="1105"/>
                </a:lnTo>
                <a:lnTo>
                  <a:pt x="740" y="1103"/>
                </a:lnTo>
                <a:lnTo>
                  <a:pt x="744" y="1101"/>
                </a:lnTo>
                <a:lnTo>
                  <a:pt x="750" y="1099"/>
                </a:lnTo>
                <a:lnTo>
                  <a:pt x="758" y="1097"/>
                </a:lnTo>
                <a:lnTo>
                  <a:pt x="765" y="1095"/>
                </a:lnTo>
                <a:lnTo>
                  <a:pt x="775" y="1093"/>
                </a:lnTo>
                <a:lnTo>
                  <a:pt x="786" y="1090"/>
                </a:lnTo>
                <a:lnTo>
                  <a:pt x="798" y="1086"/>
                </a:lnTo>
                <a:lnTo>
                  <a:pt x="811" y="1084"/>
                </a:lnTo>
                <a:lnTo>
                  <a:pt x="827" y="1080"/>
                </a:lnTo>
                <a:lnTo>
                  <a:pt x="842" y="1076"/>
                </a:lnTo>
                <a:lnTo>
                  <a:pt x="859" y="1070"/>
                </a:lnTo>
                <a:lnTo>
                  <a:pt x="877" y="1067"/>
                </a:lnTo>
                <a:lnTo>
                  <a:pt x="898" y="1063"/>
                </a:lnTo>
                <a:lnTo>
                  <a:pt x="919" y="1057"/>
                </a:lnTo>
                <a:lnTo>
                  <a:pt x="940" y="1053"/>
                </a:lnTo>
                <a:lnTo>
                  <a:pt x="963" y="1047"/>
                </a:lnTo>
                <a:lnTo>
                  <a:pt x="988" y="1042"/>
                </a:lnTo>
                <a:lnTo>
                  <a:pt x="1015" y="1036"/>
                </a:lnTo>
                <a:lnTo>
                  <a:pt x="1042" y="1030"/>
                </a:lnTo>
                <a:lnTo>
                  <a:pt x="1070" y="1022"/>
                </a:lnTo>
                <a:lnTo>
                  <a:pt x="1101" y="1017"/>
                </a:lnTo>
                <a:lnTo>
                  <a:pt x="1132" y="1009"/>
                </a:lnTo>
                <a:lnTo>
                  <a:pt x="1164" y="1003"/>
                </a:lnTo>
                <a:lnTo>
                  <a:pt x="1199" y="996"/>
                </a:lnTo>
                <a:lnTo>
                  <a:pt x="1233" y="988"/>
                </a:lnTo>
                <a:lnTo>
                  <a:pt x="1270" y="980"/>
                </a:lnTo>
                <a:lnTo>
                  <a:pt x="1308" y="973"/>
                </a:lnTo>
                <a:lnTo>
                  <a:pt x="1349" y="963"/>
                </a:lnTo>
                <a:lnTo>
                  <a:pt x="1389" y="955"/>
                </a:lnTo>
                <a:lnTo>
                  <a:pt x="1427" y="946"/>
                </a:lnTo>
                <a:lnTo>
                  <a:pt x="1466" y="938"/>
                </a:lnTo>
                <a:lnTo>
                  <a:pt x="1504" y="930"/>
                </a:lnTo>
                <a:lnTo>
                  <a:pt x="1541" y="923"/>
                </a:lnTo>
                <a:lnTo>
                  <a:pt x="1575" y="915"/>
                </a:lnTo>
                <a:lnTo>
                  <a:pt x="1610" y="907"/>
                </a:lnTo>
                <a:lnTo>
                  <a:pt x="1642" y="902"/>
                </a:lnTo>
                <a:lnTo>
                  <a:pt x="1675" y="894"/>
                </a:lnTo>
                <a:lnTo>
                  <a:pt x="1706" y="888"/>
                </a:lnTo>
                <a:lnTo>
                  <a:pt x="1736" y="882"/>
                </a:lnTo>
                <a:lnTo>
                  <a:pt x="1765" y="877"/>
                </a:lnTo>
                <a:lnTo>
                  <a:pt x="1792" y="871"/>
                </a:lnTo>
                <a:lnTo>
                  <a:pt x="1819" y="867"/>
                </a:lnTo>
                <a:lnTo>
                  <a:pt x="1844" y="861"/>
                </a:lnTo>
                <a:lnTo>
                  <a:pt x="1869" y="857"/>
                </a:lnTo>
                <a:lnTo>
                  <a:pt x="1892" y="854"/>
                </a:lnTo>
                <a:lnTo>
                  <a:pt x="1915" y="850"/>
                </a:lnTo>
                <a:lnTo>
                  <a:pt x="1936" y="846"/>
                </a:lnTo>
                <a:lnTo>
                  <a:pt x="1955" y="842"/>
                </a:lnTo>
                <a:lnTo>
                  <a:pt x="1974" y="840"/>
                </a:lnTo>
                <a:lnTo>
                  <a:pt x="1992" y="836"/>
                </a:lnTo>
                <a:lnTo>
                  <a:pt x="2007" y="834"/>
                </a:lnTo>
                <a:lnTo>
                  <a:pt x="2022" y="832"/>
                </a:lnTo>
                <a:lnTo>
                  <a:pt x="2038" y="831"/>
                </a:lnTo>
                <a:lnTo>
                  <a:pt x="2051" y="829"/>
                </a:lnTo>
                <a:lnTo>
                  <a:pt x="2063" y="827"/>
                </a:lnTo>
                <a:lnTo>
                  <a:pt x="2074" y="825"/>
                </a:lnTo>
                <a:lnTo>
                  <a:pt x="2084" y="825"/>
                </a:lnTo>
                <a:lnTo>
                  <a:pt x="2091" y="823"/>
                </a:lnTo>
                <a:lnTo>
                  <a:pt x="2099" y="823"/>
                </a:lnTo>
                <a:lnTo>
                  <a:pt x="2105" y="823"/>
                </a:lnTo>
                <a:lnTo>
                  <a:pt x="2110" y="823"/>
                </a:lnTo>
                <a:lnTo>
                  <a:pt x="2128" y="823"/>
                </a:lnTo>
                <a:lnTo>
                  <a:pt x="2147" y="825"/>
                </a:lnTo>
                <a:lnTo>
                  <a:pt x="2164" y="827"/>
                </a:lnTo>
                <a:lnTo>
                  <a:pt x="2182" y="831"/>
                </a:lnTo>
                <a:lnTo>
                  <a:pt x="2197" y="834"/>
                </a:lnTo>
                <a:lnTo>
                  <a:pt x="2212" y="840"/>
                </a:lnTo>
                <a:lnTo>
                  <a:pt x="2226" y="846"/>
                </a:lnTo>
                <a:lnTo>
                  <a:pt x="2237" y="854"/>
                </a:lnTo>
                <a:lnTo>
                  <a:pt x="2247" y="863"/>
                </a:lnTo>
                <a:lnTo>
                  <a:pt x="2256" y="875"/>
                </a:lnTo>
                <a:lnTo>
                  <a:pt x="2264" y="884"/>
                </a:lnTo>
                <a:lnTo>
                  <a:pt x="2272" y="892"/>
                </a:lnTo>
                <a:lnTo>
                  <a:pt x="2274" y="896"/>
                </a:lnTo>
                <a:lnTo>
                  <a:pt x="2276" y="902"/>
                </a:lnTo>
                <a:lnTo>
                  <a:pt x="2277" y="905"/>
                </a:lnTo>
                <a:lnTo>
                  <a:pt x="2277" y="909"/>
                </a:lnTo>
                <a:lnTo>
                  <a:pt x="2279" y="913"/>
                </a:lnTo>
                <a:lnTo>
                  <a:pt x="2279" y="917"/>
                </a:lnTo>
                <a:lnTo>
                  <a:pt x="2277" y="921"/>
                </a:lnTo>
                <a:lnTo>
                  <a:pt x="2276" y="9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1986120" y="2971800"/>
            <a:ext cx="527040" cy="176040"/>
          </a:xfrm>
          <a:custGeom>
            <a:avLst/>
            <a:gdLst/>
            <a:ahLst/>
            <a:rect l="l" t="t" r="r" b="b"/>
            <a:pathLst>
              <a:path w="664" h="222">
                <a:moveTo>
                  <a:pt x="40" y="203"/>
                </a:moveTo>
                <a:lnTo>
                  <a:pt x="32" y="199"/>
                </a:lnTo>
                <a:lnTo>
                  <a:pt x="27" y="193"/>
                </a:lnTo>
                <a:lnTo>
                  <a:pt x="21" y="188"/>
                </a:lnTo>
                <a:lnTo>
                  <a:pt x="17" y="182"/>
                </a:lnTo>
                <a:lnTo>
                  <a:pt x="7" y="170"/>
                </a:lnTo>
                <a:lnTo>
                  <a:pt x="4" y="167"/>
                </a:lnTo>
                <a:lnTo>
                  <a:pt x="0" y="163"/>
                </a:lnTo>
                <a:lnTo>
                  <a:pt x="0" y="161"/>
                </a:lnTo>
                <a:lnTo>
                  <a:pt x="0" y="159"/>
                </a:lnTo>
                <a:lnTo>
                  <a:pt x="2" y="157"/>
                </a:lnTo>
                <a:lnTo>
                  <a:pt x="4" y="155"/>
                </a:lnTo>
                <a:lnTo>
                  <a:pt x="5" y="153"/>
                </a:lnTo>
                <a:lnTo>
                  <a:pt x="7" y="153"/>
                </a:lnTo>
                <a:lnTo>
                  <a:pt x="11" y="151"/>
                </a:lnTo>
                <a:lnTo>
                  <a:pt x="15" y="149"/>
                </a:lnTo>
                <a:lnTo>
                  <a:pt x="21" y="147"/>
                </a:lnTo>
                <a:lnTo>
                  <a:pt x="25" y="144"/>
                </a:lnTo>
                <a:lnTo>
                  <a:pt x="30" y="142"/>
                </a:lnTo>
                <a:lnTo>
                  <a:pt x="36" y="140"/>
                </a:lnTo>
                <a:lnTo>
                  <a:pt x="44" y="138"/>
                </a:lnTo>
                <a:lnTo>
                  <a:pt x="52" y="134"/>
                </a:lnTo>
                <a:lnTo>
                  <a:pt x="59" y="132"/>
                </a:lnTo>
                <a:lnTo>
                  <a:pt x="67" y="128"/>
                </a:lnTo>
                <a:lnTo>
                  <a:pt x="76" y="126"/>
                </a:lnTo>
                <a:lnTo>
                  <a:pt x="86" y="122"/>
                </a:lnTo>
                <a:lnTo>
                  <a:pt x="98" y="119"/>
                </a:lnTo>
                <a:lnTo>
                  <a:pt x="107" y="117"/>
                </a:lnTo>
                <a:lnTo>
                  <a:pt x="119" y="113"/>
                </a:lnTo>
                <a:lnTo>
                  <a:pt x="130" y="109"/>
                </a:lnTo>
                <a:lnTo>
                  <a:pt x="144" y="105"/>
                </a:lnTo>
                <a:lnTo>
                  <a:pt x="157" y="101"/>
                </a:lnTo>
                <a:lnTo>
                  <a:pt x="171" y="97"/>
                </a:lnTo>
                <a:lnTo>
                  <a:pt x="184" y="94"/>
                </a:lnTo>
                <a:lnTo>
                  <a:pt x="199" y="88"/>
                </a:lnTo>
                <a:lnTo>
                  <a:pt x="215" y="84"/>
                </a:lnTo>
                <a:lnTo>
                  <a:pt x="230" y="80"/>
                </a:lnTo>
                <a:lnTo>
                  <a:pt x="247" y="74"/>
                </a:lnTo>
                <a:lnTo>
                  <a:pt x="265" y="71"/>
                </a:lnTo>
                <a:lnTo>
                  <a:pt x="282" y="65"/>
                </a:lnTo>
                <a:lnTo>
                  <a:pt x="297" y="61"/>
                </a:lnTo>
                <a:lnTo>
                  <a:pt x="314" y="57"/>
                </a:lnTo>
                <a:lnTo>
                  <a:pt x="330" y="51"/>
                </a:lnTo>
                <a:lnTo>
                  <a:pt x="345" y="48"/>
                </a:lnTo>
                <a:lnTo>
                  <a:pt x="359" y="44"/>
                </a:lnTo>
                <a:lnTo>
                  <a:pt x="372" y="40"/>
                </a:lnTo>
                <a:lnTo>
                  <a:pt x="387" y="38"/>
                </a:lnTo>
                <a:lnTo>
                  <a:pt x="399" y="34"/>
                </a:lnTo>
                <a:lnTo>
                  <a:pt x="412" y="30"/>
                </a:lnTo>
                <a:lnTo>
                  <a:pt x="424" y="28"/>
                </a:lnTo>
                <a:lnTo>
                  <a:pt x="435" y="25"/>
                </a:lnTo>
                <a:lnTo>
                  <a:pt x="447" y="23"/>
                </a:lnTo>
                <a:lnTo>
                  <a:pt x="458" y="19"/>
                </a:lnTo>
                <a:lnTo>
                  <a:pt x="468" y="17"/>
                </a:lnTo>
                <a:lnTo>
                  <a:pt x="478" y="15"/>
                </a:lnTo>
                <a:lnTo>
                  <a:pt x="487" y="13"/>
                </a:lnTo>
                <a:lnTo>
                  <a:pt x="495" y="11"/>
                </a:lnTo>
                <a:lnTo>
                  <a:pt x="503" y="9"/>
                </a:lnTo>
                <a:lnTo>
                  <a:pt x="510" y="7"/>
                </a:lnTo>
                <a:lnTo>
                  <a:pt x="526" y="5"/>
                </a:lnTo>
                <a:lnTo>
                  <a:pt x="537" y="3"/>
                </a:lnTo>
                <a:lnTo>
                  <a:pt x="547" y="2"/>
                </a:lnTo>
                <a:lnTo>
                  <a:pt x="556" y="0"/>
                </a:lnTo>
                <a:lnTo>
                  <a:pt x="562" y="0"/>
                </a:lnTo>
                <a:lnTo>
                  <a:pt x="566" y="0"/>
                </a:lnTo>
                <a:lnTo>
                  <a:pt x="572" y="0"/>
                </a:lnTo>
                <a:lnTo>
                  <a:pt x="575" y="2"/>
                </a:lnTo>
                <a:lnTo>
                  <a:pt x="581" y="3"/>
                </a:lnTo>
                <a:lnTo>
                  <a:pt x="589" y="5"/>
                </a:lnTo>
                <a:lnTo>
                  <a:pt x="597" y="7"/>
                </a:lnTo>
                <a:lnTo>
                  <a:pt x="604" y="11"/>
                </a:lnTo>
                <a:lnTo>
                  <a:pt x="614" y="15"/>
                </a:lnTo>
                <a:lnTo>
                  <a:pt x="625" y="19"/>
                </a:lnTo>
                <a:lnTo>
                  <a:pt x="635" y="23"/>
                </a:lnTo>
                <a:lnTo>
                  <a:pt x="643" y="28"/>
                </a:lnTo>
                <a:lnTo>
                  <a:pt x="650" y="34"/>
                </a:lnTo>
                <a:lnTo>
                  <a:pt x="656" y="40"/>
                </a:lnTo>
                <a:lnTo>
                  <a:pt x="660" y="46"/>
                </a:lnTo>
                <a:lnTo>
                  <a:pt x="662" y="51"/>
                </a:lnTo>
                <a:lnTo>
                  <a:pt x="664" y="55"/>
                </a:lnTo>
                <a:lnTo>
                  <a:pt x="664" y="59"/>
                </a:lnTo>
                <a:lnTo>
                  <a:pt x="664" y="67"/>
                </a:lnTo>
                <a:lnTo>
                  <a:pt x="662" y="73"/>
                </a:lnTo>
                <a:lnTo>
                  <a:pt x="660" y="78"/>
                </a:lnTo>
                <a:lnTo>
                  <a:pt x="656" y="84"/>
                </a:lnTo>
                <a:lnTo>
                  <a:pt x="650" y="88"/>
                </a:lnTo>
                <a:lnTo>
                  <a:pt x="643" y="94"/>
                </a:lnTo>
                <a:lnTo>
                  <a:pt x="635" y="97"/>
                </a:lnTo>
                <a:lnTo>
                  <a:pt x="625" y="101"/>
                </a:lnTo>
                <a:lnTo>
                  <a:pt x="620" y="103"/>
                </a:lnTo>
                <a:lnTo>
                  <a:pt x="612" y="105"/>
                </a:lnTo>
                <a:lnTo>
                  <a:pt x="602" y="109"/>
                </a:lnTo>
                <a:lnTo>
                  <a:pt x="593" y="113"/>
                </a:lnTo>
                <a:lnTo>
                  <a:pt x="579" y="115"/>
                </a:lnTo>
                <a:lnTo>
                  <a:pt x="568" y="120"/>
                </a:lnTo>
                <a:lnTo>
                  <a:pt x="552" y="124"/>
                </a:lnTo>
                <a:lnTo>
                  <a:pt x="535" y="128"/>
                </a:lnTo>
                <a:lnTo>
                  <a:pt x="518" y="134"/>
                </a:lnTo>
                <a:lnTo>
                  <a:pt x="499" y="138"/>
                </a:lnTo>
                <a:lnTo>
                  <a:pt x="478" y="144"/>
                </a:lnTo>
                <a:lnTo>
                  <a:pt x="456" y="149"/>
                </a:lnTo>
                <a:lnTo>
                  <a:pt x="433" y="155"/>
                </a:lnTo>
                <a:lnTo>
                  <a:pt x="407" y="161"/>
                </a:lnTo>
                <a:lnTo>
                  <a:pt x="380" y="167"/>
                </a:lnTo>
                <a:lnTo>
                  <a:pt x="353" y="172"/>
                </a:lnTo>
                <a:lnTo>
                  <a:pt x="324" y="178"/>
                </a:lnTo>
                <a:lnTo>
                  <a:pt x="297" y="184"/>
                </a:lnTo>
                <a:lnTo>
                  <a:pt x="272" y="188"/>
                </a:lnTo>
                <a:lnTo>
                  <a:pt x="247" y="193"/>
                </a:lnTo>
                <a:lnTo>
                  <a:pt x="226" y="197"/>
                </a:lnTo>
                <a:lnTo>
                  <a:pt x="205" y="201"/>
                </a:lnTo>
                <a:lnTo>
                  <a:pt x="188" y="205"/>
                </a:lnTo>
                <a:lnTo>
                  <a:pt x="171" y="209"/>
                </a:lnTo>
                <a:lnTo>
                  <a:pt x="155" y="213"/>
                </a:lnTo>
                <a:lnTo>
                  <a:pt x="142" y="215"/>
                </a:lnTo>
                <a:lnTo>
                  <a:pt x="130" y="218"/>
                </a:lnTo>
                <a:lnTo>
                  <a:pt x="121" y="220"/>
                </a:lnTo>
                <a:lnTo>
                  <a:pt x="111" y="220"/>
                </a:lnTo>
                <a:lnTo>
                  <a:pt x="105" y="222"/>
                </a:lnTo>
                <a:lnTo>
                  <a:pt x="101" y="222"/>
                </a:lnTo>
                <a:lnTo>
                  <a:pt x="98" y="222"/>
                </a:lnTo>
                <a:lnTo>
                  <a:pt x="94" y="222"/>
                </a:lnTo>
                <a:lnTo>
                  <a:pt x="88" y="220"/>
                </a:lnTo>
                <a:lnTo>
                  <a:pt x="82" y="218"/>
                </a:lnTo>
                <a:lnTo>
                  <a:pt x="76" y="216"/>
                </a:lnTo>
                <a:lnTo>
                  <a:pt x="69" y="213"/>
                </a:lnTo>
                <a:lnTo>
                  <a:pt x="59" y="211"/>
                </a:lnTo>
                <a:lnTo>
                  <a:pt x="50" y="207"/>
                </a:lnTo>
                <a:lnTo>
                  <a:pt x="40" y="20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176560" y="2457360"/>
            <a:ext cx="195120" cy="1071720"/>
          </a:xfrm>
          <a:custGeom>
            <a:avLst/>
            <a:gdLst/>
            <a:ahLst/>
            <a:rect l="l" t="t" r="r" b="b"/>
            <a:pathLst>
              <a:path w="245" h="1349">
                <a:moveTo>
                  <a:pt x="239" y="105"/>
                </a:moveTo>
                <a:lnTo>
                  <a:pt x="241" y="113"/>
                </a:lnTo>
                <a:lnTo>
                  <a:pt x="243" y="121"/>
                </a:lnTo>
                <a:lnTo>
                  <a:pt x="245" y="128"/>
                </a:lnTo>
                <a:lnTo>
                  <a:pt x="245" y="138"/>
                </a:lnTo>
                <a:lnTo>
                  <a:pt x="245" y="146"/>
                </a:lnTo>
                <a:lnTo>
                  <a:pt x="243" y="155"/>
                </a:lnTo>
                <a:lnTo>
                  <a:pt x="241" y="167"/>
                </a:lnTo>
                <a:lnTo>
                  <a:pt x="239" y="176"/>
                </a:lnTo>
                <a:lnTo>
                  <a:pt x="236" y="190"/>
                </a:lnTo>
                <a:lnTo>
                  <a:pt x="232" y="203"/>
                </a:lnTo>
                <a:lnTo>
                  <a:pt x="228" y="219"/>
                </a:lnTo>
                <a:lnTo>
                  <a:pt x="224" y="238"/>
                </a:lnTo>
                <a:lnTo>
                  <a:pt x="220" y="255"/>
                </a:lnTo>
                <a:lnTo>
                  <a:pt x="216" y="276"/>
                </a:lnTo>
                <a:lnTo>
                  <a:pt x="213" y="297"/>
                </a:lnTo>
                <a:lnTo>
                  <a:pt x="209" y="320"/>
                </a:lnTo>
                <a:lnTo>
                  <a:pt x="207" y="347"/>
                </a:lnTo>
                <a:lnTo>
                  <a:pt x="203" y="374"/>
                </a:lnTo>
                <a:lnTo>
                  <a:pt x="201" y="401"/>
                </a:lnTo>
                <a:lnTo>
                  <a:pt x="201" y="426"/>
                </a:lnTo>
                <a:lnTo>
                  <a:pt x="199" y="480"/>
                </a:lnTo>
                <a:lnTo>
                  <a:pt x="199" y="533"/>
                </a:lnTo>
                <a:lnTo>
                  <a:pt x="199" y="541"/>
                </a:lnTo>
                <a:lnTo>
                  <a:pt x="197" y="549"/>
                </a:lnTo>
                <a:lnTo>
                  <a:pt x="197" y="558"/>
                </a:lnTo>
                <a:lnTo>
                  <a:pt x="197" y="570"/>
                </a:lnTo>
                <a:lnTo>
                  <a:pt x="195" y="581"/>
                </a:lnTo>
                <a:lnTo>
                  <a:pt x="195" y="595"/>
                </a:lnTo>
                <a:lnTo>
                  <a:pt x="195" y="610"/>
                </a:lnTo>
                <a:lnTo>
                  <a:pt x="193" y="625"/>
                </a:lnTo>
                <a:lnTo>
                  <a:pt x="193" y="643"/>
                </a:lnTo>
                <a:lnTo>
                  <a:pt x="193" y="660"/>
                </a:lnTo>
                <a:lnTo>
                  <a:pt x="192" y="679"/>
                </a:lnTo>
                <a:lnTo>
                  <a:pt x="192" y="698"/>
                </a:lnTo>
                <a:lnTo>
                  <a:pt x="192" y="720"/>
                </a:lnTo>
                <a:lnTo>
                  <a:pt x="192" y="743"/>
                </a:lnTo>
                <a:lnTo>
                  <a:pt x="190" y="766"/>
                </a:lnTo>
                <a:lnTo>
                  <a:pt x="190" y="791"/>
                </a:lnTo>
                <a:lnTo>
                  <a:pt x="190" y="817"/>
                </a:lnTo>
                <a:lnTo>
                  <a:pt x="190" y="844"/>
                </a:lnTo>
                <a:lnTo>
                  <a:pt x="188" y="871"/>
                </a:lnTo>
                <a:lnTo>
                  <a:pt x="188" y="902"/>
                </a:lnTo>
                <a:lnTo>
                  <a:pt x="188" y="933"/>
                </a:lnTo>
                <a:lnTo>
                  <a:pt x="188" y="963"/>
                </a:lnTo>
                <a:lnTo>
                  <a:pt x="186" y="996"/>
                </a:lnTo>
                <a:lnTo>
                  <a:pt x="186" y="1030"/>
                </a:lnTo>
                <a:lnTo>
                  <a:pt x="186" y="1065"/>
                </a:lnTo>
                <a:lnTo>
                  <a:pt x="184" y="1099"/>
                </a:lnTo>
                <a:lnTo>
                  <a:pt x="184" y="1138"/>
                </a:lnTo>
                <a:lnTo>
                  <a:pt x="184" y="1176"/>
                </a:lnTo>
                <a:lnTo>
                  <a:pt x="182" y="1215"/>
                </a:lnTo>
                <a:lnTo>
                  <a:pt x="182" y="1255"/>
                </a:lnTo>
                <a:lnTo>
                  <a:pt x="180" y="1297"/>
                </a:lnTo>
                <a:lnTo>
                  <a:pt x="180" y="1339"/>
                </a:lnTo>
                <a:lnTo>
                  <a:pt x="73" y="1349"/>
                </a:lnTo>
                <a:lnTo>
                  <a:pt x="73" y="1314"/>
                </a:lnTo>
                <a:lnTo>
                  <a:pt x="73" y="1280"/>
                </a:lnTo>
                <a:lnTo>
                  <a:pt x="73" y="1247"/>
                </a:lnTo>
                <a:lnTo>
                  <a:pt x="73" y="1215"/>
                </a:lnTo>
                <a:lnTo>
                  <a:pt x="73" y="1182"/>
                </a:lnTo>
                <a:lnTo>
                  <a:pt x="73" y="1149"/>
                </a:lnTo>
                <a:lnTo>
                  <a:pt x="73" y="1117"/>
                </a:lnTo>
                <a:lnTo>
                  <a:pt x="73" y="1086"/>
                </a:lnTo>
                <a:lnTo>
                  <a:pt x="73" y="1055"/>
                </a:lnTo>
                <a:lnTo>
                  <a:pt x="73" y="1027"/>
                </a:lnTo>
                <a:lnTo>
                  <a:pt x="73" y="998"/>
                </a:lnTo>
                <a:lnTo>
                  <a:pt x="73" y="969"/>
                </a:lnTo>
                <a:lnTo>
                  <a:pt x="73" y="940"/>
                </a:lnTo>
                <a:lnTo>
                  <a:pt x="73" y="911"/>
                </a:lnTo>
                <a:lnTo>
                  <a:pt x="73" y="885"/>
                </a:lnTo>
                <a:lnTo>
                  <a:pt x="73" y="858"/>
                </a:lnTo>
                <a:lnTo>
                  <a:pt x="73" y="831"/>
                </a:lnTo>
                <a:lnTo>
                  <a:pt x="73" y="806"/>
                </a:lnTo>
                <a:lnTo>
                  <a:pt x="73" y="781"/>
                </a:lnTo>
                <a:lnTo>
                  <a:pt x="73" y="756"/>
                </a:lnTo>
                <a:lnTo>
                  <a:pt x="73" y="731"/>
                </a:lnTo>
                <a:lnTo>
                  <a:pt x="73" y="708"/>
                </a:lnTo>
                <a:lnTo>
                  <a:pt x="73" y="685"/>
                </a:lnTo>
                <a:lnTo>
                  <a:pt x="73" y="662"/>
                </a:lnTo>
                <a:lnTo>
                  <a:pt x="73" y="639"/>
                </a:lnTo>
                <a:lnTo>
                  <a:pt x="73" y="618"/>
                </a:lnTo>
                <a:lnTo>
                  <a:pt x="73" y="597"/>
                </a:lnTo>
                <a:lnTo>
                  <a:pt x="73" y="576"/>
                </a:lnTo>
                <a:lnTo>
                  <a:pt x="73" y="556"/>
                </a:lnTo>
                <a:lnTo>
                  <a:pt x="73" y="535"/>
                </a:lnTo>
                <a:lnTo>
                  <a:pt x="73" y="516"/>
                </a:lnTo>
                <a:lnTo>
                  <a:pt x="71" y="499"/>
                </a:lnTo>
                <a:lnTo>
                  <a:pt x="71" y="480"/>
                </a:lnTo>
                <a:lnTo>
                  <a:pt x="71" y="462"/>
                </a:lnTo>
                <a:lnTo>
                  <a:pt x="71" y="445"/>
                </a:lnTo>
                <a:lnTo>
                  <a:pt x="71" y="428"/>
                </a:lnTo>
                <a:lnTo>
                  <a:pt x="71" y="412"/>
                </a:lnTo>
                <a:lnTo>
                  <a:pt x="71" y="397"/>
                </a:lnTo>
                <a:lnTo>
                  <a:pt x="71" y="382"/>
                </a:lnTo>
                <a:lnTo>
                  <a:pt x="71" y="366"/>
                </a:lnTo>
                <a:lnTo>
                  <a:pt x="71" y="353"/>
                </a:lnTo>
                <a:lnTo>
                  <a:pt x="71" y="340"/>
                </a:lnTo>
                <a:lnTo>
                  <a:pt x="69" y="326"/>
                </a:lnTo>
                <a:lnTo>
                  <a:pt x="69" y="315"/>
                </a:lnTo>
                <a:lnTo>
                  <a:pt x="69" y="301"/>
                </a:lnTo>
                <a:lnTo>
                  <a:pt x="69" y="290"/>
                </a:lnTo>
                <a:lnTo>
                  <a:pt x="69" y="278"/>
                </a:lnTo>
                <a:lnTo>
                  <a:pt x="69" y="269"/>
                </a:lnTo>
                <a:lnTo>
                  <a:pt x="69" y="259"/>
                </a:lnTo>
                <a:lnTo>
                  <a:pt x="69" y="249"/>
                </a:lnTo>
                <a:lnTo>
                  <a:pt x="67" y="240"/>
                </a:lnTo>
                <a:lnTo>
                  <a:pt x="67" y="230"/>
                </a:lnTo>
                <a:lnTo>
                  <a:pt x="67" y="222"/>
                </a:lnTo>
                <a:lnTo>
                  <a:pt x="67" y="215"/>
                </a:lnTo>
                <a:lnTo>
                  <a:pt x="67" y="209"/>
                </a:lnTo>
                <a:lnTo>
                  <a:pt x="67" y="201"/>
                </a:lnTo>
                <a:lnTo>
                  <a:pt x="65" y="196"/>
                </a:lnTo>
                <a:lnTo>
                  <a:pt x="65" y="190"/>
                </a:lnTo>
                <a:lnTo>
                  <a:pt x="65" y="184"/>
                </a:lnTo>
                <a:lnTo>
                  <a:pt x="65" y="180"/>
                </a:lnTo>
                <a:lnTo>
                  <a:pt x="65" y="176"/>
                </a:lnTo>
                <a:lnTo>
                  <a:pt x="63" y="173"/>
                </a:lnTo>
                <a:lnTo>
                  <a:pt x="63" y="169"/>
                </a:lnTo>
                <a:lnTo>
                  <a:pt x="63" y="167"/>
                </a:lnTo>
                <a:lnTo>
                  <a:pt x="59" y="150"/>
                </a:lnTo>
                <a:lnTo>
                  <a:pt x="53" y="132"/>
                </a:lnTo>
                <a:lnTo>
                  <a:pt x="48" y="117"/>
                </a:lnTo>
                <a:lnTo>
                  <a:pt x="42" y="103"/>
                </a:lnTo>
                <a:lnTo>
                  <a:pt x="36" y="90"/>
                </a:lnTo>
                <a:lnTo>
                  <a:pt x="28" y="79"/>
                </a:lnTo>
                <a:lnTo>
                  <a:pt x="15" y="56"/>
                </a:lnTo>
                <a:lnTo>
                  <a:pt x="7" y="48"/>
                </a:lnTo>
                <a:lnTo>
                  <a:pt x="3" y="40"/>
                </a:lnTo>
                <a:lnTo>
                  <a:pt x="2" y="32"/>
                </a:lnTo>
                <a:lnTo>
                  <a:pt x="0" y="25"/>
                </a:lnTo>
                <a:lnTo>
                  <a:pt x="2" y="19"/>
                </a:lnTo>
                <a:lnTo>
                  <a:pt x="3" y="13"/>
                </a:lnTo>
                <a:lnTo>
                  <a:pt x="7" y="8"/>
                </a:lnTo>
                <a:lnTo>
                  <a:pt x="15" y="4"/>
                </a:lnTo>
                <a:lnTo>
                  <a:pt x="23" y="0"/>
                </a:lnTo>
                <a:lnTo>
                  <a:pt x="32" y="0"/>
                </a:lnTo>
                <a:lnTo>
                  <a:pt x="44" y="0"/>
                </a:lnTo>
                <a:lnTo>
                  <a:pt x="59" y="2"/>
                </a:lnTo>
                <a:lnTo>
                  <a:pt x="74" y="6"/>
                </a:lnTo>
                <a:lnTo>
                  <a:pt x="92" y="11"/>
                </a:lnTo>
                <a:lnTo>
                  <a:pt x="111" y="17"/>
                </a:lnTo>
                <a:lnTo>
                  <a:pt x="132" y="25"/>
                </a:lnTo>
                <a:lnTo>
                  <a:pt x="153" y="34"/>
                </a:lnTo>
                <a:lnTo>
                  <a:pt x="163" y="40"/>
                </a:lnTo>
                <a:lnTo>
                  <a:pt x="170" y="46"/>
                </a:lnTo>
                <a:lnTo>
                  <a:pt x="180" y="50"/>
                </a:lnTo>
                <a:lnTo>
                  <a:pt x="188" y="56"/>
                </a:lnTo>
                <a:lnTo>
                  <a:pt x="195" y="61"/>
                </a:lnTo>
                <a:lnTo>
                  <a:pt x="203" y="65"/>
                </a:lnTo>
                <a:lnTo>
                  <a:pt x="211" y="69"/>
                </a:lnTo>
                <a:lnTo>
                  <a:pt x="216" y="75"/>
                </a:lnTo>
                <a:lnTo>
                  <a:pt x="220" y="79"/>
                </a:lnTo>
                <a:lnTo>
                  <a:pt x="226" y="84"/>
                </a:lnTo>
                <a:lnTo>
                  <a:pt x="230" y="90"/>
                </a:lnTo>
                <a:lnTo>
                  <a:pt x="234" y="94"/>
                </a:lnTo>
                <a:lnTo>
                  <a:pt x="236" y="100"/>
                </a:lnTo>
                <a:lnTo>
                  <a:pt x="239" y="10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1914480" y="3359160"/>
            <a:ext cx="649440" cy="363600"/>
          </a:xfrm>
          <a:custGeom>
            <a:avLst/>
            <a:gdLst/>
            <a:ahLst/>
            <a:rect l="l" t="t" r="r" b="b"/>
            <a:pathLst>
              <a:path w="819" h="459">
                <a:moveTo>
                  <a:pt x="149" y="459"/>
                </a:moveTo>
                <a:lnTo>
                  <a:pt x="138" y="459"/>
                </a:lnTo>
                <a:lnTo>
                  <a:pt x="126" y="457"/>
                </a:lnTo>
                <a:lnTo>
                  <a:pt x="117" y="451"/>
                </a:lnTo>
                <a:lnTo>
                  <a:pt x="105" y="445"/>
                </a:lnTo>
                <a:lnTo>
                  <a:pt x="94" y="438"/>
                </a:lnTo>
                <a:lnTo>
                  <a:pt x="84" y="430"/>
                </a:lnTo>
                <a:lnTo>
                  <a:pt x="72" y="420"/>
                </a:lnTo>
                <a:lnTo>
                  <a:pt x="61" y="409"/>
                </a:lnTo>
                <a:lnTo>
                  <a:pt x="47" y="397"/>
                </a:lnTo>
                <a:lnTo>
                  <a:pt x="36" y="384"/>
                </a:lnTo>
                <a:lnTo>
                  <a:pt x="26" y="370"/>
                </a:lnTo>
                <a:lnTo>
                  <a:pt x="17" y="357"/>
                </a:lnTo>
                <a:lnTo>
                  <a:pt x="11" y="344"/>
                </a:lnTo>
                <a:lnTo>
                  <a:pt x="7" y="332"/>
                </a:lnTo>
                <a:lnTo>
                  <a:pt x="3" y="319"/>
                </a:lnTo>
                <a:lnTo>
                  <a:pt x="3" y="307"/>
                </a:lnTo>
                <a:lnTo>
                  <a:pt x="1" y="301"/>
                </a:lnTo>
                <a:lnTo>
                  <a:pt x="0" y="296"/>
                </a:lnTo>
                <a:lnTo>
                  <a:pt x="0" y="292"/>
                </a:lnTo>
                <a:lnTo>
                  <a:pt x="1" y="288"/>
                </a:lnTo>
                <a:lnTo>
                  <a:pt x="1" y="284"/>
                </a:lnTo>
                <a:lnTo>
                  <a:pt x="3" y="280"/>
                </a:lnTo>
                <a:lnTo>
                  <a:pt x="7" y="276"/>
                </a:lnTo>
                <a:lnTo>
                  <a:pt x="11" y="274"/>
                </a:lnTo>
                <a:lnTo>
                  <a:pt x="15" y="273"/>
                </a:lnTo>
                <a:lnTo>
                  <a:pt x="19" y="271"/>
                </a:lnTo>
                <a:lnTo>
                  <a:pt x="24" y="269"/>
                </a:lnTo>
                <a:lnTo>
                  <a:pt x="30" y="269"/>
                </a:lnTo>
                <a:lnTo>
                  <a:pt x="36" y="267"/>
                </a:lnTo>
                <a:lnTo>
                  <a:pt x="44" y="267"/>
                </a:lnTo>
                <a:lnTo>
                  <a:pt x="53" y="267"/>
                </a:lnTo>
                <a:lnTo>
                  <a:pt x="61" y="267"/>
                </a:lnTo>
                <a:lnTo>
                  <a:pt x="78" y="269"/>
                </a:lnTo>
                <a:lnTo>
                  <a:pt x="94" y="273"/>
                </a:lnTo>
                <a:lnTo>
                  <a:pt x="109" y="273"/>
                </a:lnTo>
                <a:lnTo>
                  <a:pt x="120" y="274"/>
                </a:lnTo>
                <a:lnTo>
                  <a:pt x="132" y="273"/>
                </a:lnTo>
                <a:lnTo>
                  <a:pt x="142" y="273"/>
                </a:lnTo>
                <a:lnTo>
                  <a:pt x="151" y="269"/>
                </a:lnTo>
                <a:lnTo>
                  <a:pt x="159" y="267"/>
                </a:lnTo>
                <a:lnTo>
                  <a:pt x="161" y="265"/>
                </a:lnTo>
                <a:lnTo>
                  <a:pt x="163" y="263"/>
                </a:lnTo>
                <a:lnTo>
                  <a:pt x="166" y="263"/>
                </a:lnTo>
                <a:lnTo>
                  <a:pt x="170" y="261"/>
                </a:lnTo>
                <a:lnTo>
                  <a:pt x="174" y="259"/>
                </a:lnTo>
                <a:lnTo>
                  <a:pt x="180" y="257"/>
                </a:lnTo>
                <a:lnTo>
                  <a:pt x="184" y="255"/>
                </a:lnTo>
                <a:lnTo>
                  <a:pt x="190" y="251"/>
                </a:lnTo>
                <a:lnTo>
                  <a:pt x="195" y="250"/>
                </a:lnTo>
                <a:lnTo>
                  <a:pt x="203" y="248"/>
                </a:lnTo>
                <a:lnTo>
                  <a:pt x="211" y="244"/>
                </a:lnTo>
                <a:lnTo>
                  <a:pt x="218" y="240"/>
                </a:lnTo>
                <a:lnTo>
                  <a:pt x="226" y="238"/>
                </a:lnTo>
                <a:lnTo>
                  <a:pt x="234" y="234"/>
                </a:lnTo>
                <a:lnTo>
                  <a:pt x="243" y="230"/>
                </a:lnTo>
                <a:lnTo>
                  <a:pt x="253" y="226"/>
                </a:lnTo>
                <a:lnTo>
                  <a:pt x="262" y="221"/>
                </a:lnTo>
                <a:lnTo>
                  <a:pt x="274" y="217"/>
                </a:lnTo>
                <a:lnTo>
                  <a:pt x="297" y="207"/>
                </a:lnTo>
                <a:lnTo>
                  <a:pt x="320" y="196"/>
                </a:lnTo>
                <a:lnTo>
                  <a:pt x="347" y="184"/>
                </a:lnTo>
                <a:lnTo>
                  <a:pt x="376" y="171"/>
                </a:lnTo>
                <a:lnTo>
                  <a:pt x="406" y="155"/>
                </a:lnTo>
                <a:lnTo>
                  <a:pt x="437" y="140"/>
                </a:lnTo>
                <a:lnTo>
                  <a:pt x="472" y="123"/>
                </a:lnTo>
                <a:lnTo>
                  <a:pt x="504" y="107"/>
                </a:lnTo>
                <a:lnTo>
                  <a:pt x="537" y="94"/>
                </a:lnTo>
                <a:lnTo>
                  <a:pt x="568" y="81"/>
                </a:lnTo>
                <a:lnTo>
                  <a:pt x="594" y="69"/>
                </a:lnTo>
                <a:lnTo>
                  <a:pt x="621" y="58"/>
                </a:lnTo>
                <a:lnTo>
                  <a:pt x="646" y="48"/>
                </a:lnTo>
                <a:lnTo>
                  <a:pt x="669" y="38"/>
                </a:lnTo>
                <a:lnTo>
                  <a:pt x="690" y="31"/>
                </a:lnTo>
                <a:lnTo>
                  <a:pt x="710" y="23"/>
                </a:lnTo>
                <a:lnTo>
                  <a:pt x="727" y="17"/>
                </a:lnTo>
                <a:lnTo>
                  <a:pt x="742" y="12"/>
                </a:lnTo>
                <a:lnTo>
                  <a:pt x="756" y="8"/>
                </a:lnTo>
                <a:lnTo>
                  <a:pt x="769" y="6"/>
                </a:lnTo>
                <a:lnTo>
                  <a:pt x="779" y="2"/>
                </a:lnTo>
                <a:lnTo>
                  <a:pt x="786" y="2"/>
                </a:lnTo>
                <a:lnTo>
                  <a:pt x="794" y="0"/>
                </a:lnTo>
                <a:lnTo>
                  <a:pt x="798" y="0"/>
                </a:lnTo>
                <a:lnTo>
                  <a:pt x="804" y="2"/>
                </a:lnTo>
                <a:lnTo>
                  <a:pt x="807" y="2"/>
                </a:lnTo>
                <a:lnTo>
                  <a:pt x="809" y="2"/>
                </a:lnTo>
                <a:lnTo>
                  <a:pt x="813" y="4"/>
                </a:lnTo>
                <a:lnTo>
                  <a:pt x="815" y="4"/>
                </a:lnTo>
                <a:lnTo>
                  <a:pt x="817" y="6"/>
                </a:lnTo>
                <a:lnTo>
                  <a:pt x="817" y="8"/>
                </a:lnTo>
                <a:lnTo>
                  <a:pt x="819" y="10"/>
                </a:lnTo>
                <a:lnTo>
                  <a:pt x="817" y="13"/>
                </a:lnTo>
                <a:lnTo>
                  <a:pt x="815" y="17"/>
                </a:lnTo>
                <a:lnTo>
                  <a:pt x="813" y="21"/>
                </a:lnTo>
                <a:lnTo>
                  <a:pt x="811" y="23"/>
                </a:lnTo>
                <a:lnTo>
                  <a:pt x="809" y="25"/>
                </a:lnTo>
                <a:lnTo>
                  <a:pt x="807" y="29"/>
                </a:lnTo>
                <a:lnTo>
                  <a:pt x="804" y="31"/>
                </a:lnTo>
                <a:lnTo>
                  <a:pt x="802" y="35"/>
                </a:lnTo>
                <a:lnTo>
                  <a:pt x="796" y="38"/>
                </a:lnTo>
                <a:lnTo>
                  <a:pt x="792" y="42"/>
                </a:lnTo>
                <a:lnTo>
                  <a:pt x="786" y="46"/>
                </a:lnTo>
                <a:lnTo>
                  <a:pt x="781" y="50"/>
                </a:lnTo>
                <a:lnTo>
                  <a:pt x="775" y="56"/>
                </a:lnTo>
                <a:lnTo>
                  <a:pt x="767" y="60"/>
                </a:lnTo>
                <a:lnTo>
                  <a:pt x="759" y="65"/>
                </a:lnTo>
                <a:lnTo>
                  <a:pt x="752" y="71"/>
                </a:lnTo>
                <a:lnTo>
                  <a:pt x="744" y="77"/>
                </a:lnTo>
                <a:lnTo>
                  <a:pt x="735" y="84"/>
                </a:lnTo>
                <a:lnTo>
                  <a:pt x="725" y="90"/>
                </a:lnTo>
                <a:lnTo>
                  <a:pt x="713" y="98"/>
                </a:lnTo>
                <a:lnTo>
                  <a:pt x="704" y="106"/>
                </a:lnTo>
                <a:lnTo>
                  <a:pt x="692" y="113"/>
                </a:lnTo>
                <a:lnTo>
                  <a:pt x="679" y="121"/>
                </a:lnTo>
                <a:lnTo>
                  <a:pt x="667" y="129"/>
                </a:lnTo>
                <a:lnTo>
                  <a:pt x="654" y="138"/>
                </a:lnTo>
                <a:lnTo>
                  <a:pt x="640" y="148"/>
                </a:lnTo>
                <a:lnTo>
                  <a:pt x="625" y="157"/>
                </a:lnTo>
                <a:lnTo>
                  <a:pt x="610" y="167"/>
                </a:lnTo>
                <a:lnTo>
                  <a:pt x="594" y="177"/>
                </a:lnTo>
                <a:lnTo>
                  <a:pt x="579" y="188"/>
                </a:lnTo>
                <a:lnTo>
                  <a:pt x="562" y="198"/>
                </a:lnTo>
                <a:lnTo>
                  <a:pt x="545" y="209"/>
                </a:lnTo>
                <a:lnTo>
                  <a:pt x="527" y="221"/>
                </a:lnTo>
                <a:lnTo>
                  <a:pt x="510" y="232"/>
                </a:lnTo>
                <a:lnTo>
                  <a:pt x="491" y="246"/>
                </a:lnTo>
                <a:lnTo>
                  <a:pt x="472" y="257"/>
                </a:lnTo>
                <a:lnTo>
                  <a:pt x="454" y="271"/>
                </a:lnTo>
                <a:lnTo>
                  <a:pt x="435" y="282"/>
                </a:lnTo>
                <a:lnTo>
                  <a:pt x="418" y="294"/>
                </a:lnTo>
                <a:lnTo>
                  <a:pt x="403" y="303"/>
                </a:lnTo>
                <a:lnTo>
                  <a:pt x="385" y="315"/>
                </a:lnTo>
                <a:lnTo>
                  <a:pt x="370" y="324"/>
                </a:lnTo>
                <a:lnTo>
                  <a:pt x="355" y="334"/>
                </a:lnTo>
                <a:lnTo>
                  <a:pt x="341" y="344"/>
                </a:lnTo>
                <a:lnTo>
                  <a:pt x="328" y="353"/>
                </a:lnTo>
                <a:lnTo>
                  <a:pt x="314" y="361"/>
                </a:lnTo>
                <a:lnTo>
                  <a:pt x="301" y="370"/>
                </a:lnTo>
                <a:lnTo>
                  <a:pt x="289" y="378"/>
                </a:lnTo>
                <a:lnTo>
                  <a:pt x="276" y="386"/>
                </a:lnTo>
                <a:lnTo>
                  <a:pt x="264" y="392"/>
                </a:lnTo>
                <a:lnTo>
                  <a:pt x="255" y="399"/>
                </a:lnTo>
                <a:lnTo>
                  <a:pt x="243" y="405"/>
                </a:lnTo>
                <a:lnTo>
                  <a:pt x="234" y="411"/>
                </a:lnTo>
                <a:lnTo>
                  <a:pt x="226" y="416"/>
                </a:lnTo>
                <a:lnTo>
                  <a:pt x="216" y="422"/>
                </a:lnTo>
                <a:lnTo>
                  <a:pt x="209" y="428"/>
                </a:lnTo>
                <a:lnTo>
                  <a:pt x="201" y="432"/>
                </a:lnTo>
                <a:lnTo>
                  <a:pt x="193" y="436"/>
                </a:lnTo>
                <a:lnTo>
                  <a:pt x="186" y="441"/>
                </a:lnTo>
                <a:lnTo>
                  <a:pt x="180" y="443"/>
                </a:lnTo>
                <a:lnTo>
                  <a:pt x="174" y="447"/>
                </a:lnTo>
                <a:lnTo>
                  <a:pt x="168" y="451"/>
                </a:lnTo>
                <a:lnTo>
                  <a:pt x="165" y="453"/>
                </a:lnTo>
                <a:lnTo>
                  <a:pt x="155" y="457"/>
                </a:lnTo>
                <a:lnTo>
                  <a:pt x="149" y="45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2695680" y="2712960"/>
            <a:ext cx="460440" cy="136440"/>
          </a:xfrm>
          <a:custGeom>
            <a:avLst/>
            <a:gdLst/>
            <a:ahLst/>
            <a:rect l="l" t="t" r="r" b="b"/>
            <a:pathLst>
              <a:path w="580" h="173">
                <a:moveTo>
                  <a:pt x="83" y="173"/>
                </a:moveTo>
                <a:lnTo>
                  <a:pt x="75" y="173"/>
                </a:lnTo>
                <a:lnTo>
                  <a:pt x="67" y="171"/>
                </a:lnTo>
                <a:lnTo>
                  <a:pt x="59" y="167"/>
                </a:lnTo>
                <a:lnTo>
                  <a:pt x="54" y="163"/>
                </a:lnTo>
                <a:lnTo>
                  <a:pt x="46" y="158"/>
                </a:lnTo>
                <a:lnTo>
                  <a:pt x="38" y="152"/>
                </a:lnTo>
                <a:lnTo>
                  <a:pt x="31" y="142"/>
                </a:lnTo>
                <a:lnTo>
                  <a:pt x="27" y="139"/>
                </a:lnTo>
                <a:lnTo>
                  <a:pt x="23" y="133"/>
                </a:lnTo>
                <a:lnTo>
                  <a:pt x="19" y="129"/>
                </a:lnTo>
                <a:lnTo>
                  <a:pt x="13" y="125"/>
                </a:lnTo>
                <a:lnTo>
                  <a:pt x="10" y="121"/>
                </a:lnTo>
                <a:lnTo>
                  <a:pt x="8" y="119"/>
                </a:lnTo>
                <a:lnTo>
                  <a:pt x="4" y="115"/>
                </a:lnTo>
                <a:lnTo>
                  <a:pt x="2" y="114"/>
                </a:lnTo>
                <a:lnTo>
                  <a:pt x="2" y="110"/>
                </a:lnTo>
                <a:lnTo>
                  <a:pt x="0" y="108"/>
                </a:lnTo>
                <a:lnTo>
                  <a:pt x="0" y="106"/>
                </a:lnTo>
                <a:lnTo>
                  <a:pt x="0" y="104"/>
                </a:lnTo>
                <a:lnTo>
                  <a:pt x="2" y="102"/>
                </a:lnTo>
                <a:lnTo>
                  <a:pt x="4" y="100"/>
                </a:lnTo>
                <a:lnTo>
                  <a:pt x="6" y="96"/>
                </a:lnTo>
                <a:lnTo>
                  <a:pt x="8" y="94"/>
                </a:lnTo>
                <a:lnTo>
                  <a:pt x="10" y="92"/>
                </a:lnTo>
                <a:lnTo>
                  <a:pt x="13" y="91"/>
                </a:lnTo>
                <a:lnTo>
                  <a:pt x="17" y="91"/>
                </a:lnTo>
                <a:lnTo>
                  <a:pt x="21" y="91"/>
                </a:lnTo>
                <a:lnTo>
                  <a:pt x="27" y="89"/>
                </a:lnTo>
                <a:lnTo>
                  <a:pt x="35" y="89"/>
                </a:lnTo>
                <a:lnTo>
                  <a:pt x="42" y="87"/>
                </a:lnTo>
                <a:lnTo>
                  <a:pt x="54" y="83"/>
                </a:lnTo>
                <a:lnTo>
                  <a:pt x="65" y="81"/>
                </a:lnTo>
                <a:lnTo>
                  <a:pt x="77" y="77"/>
                </a:lnTo>
                <a:lnTo>
                  <a:pt x="92" y="73"/>
                </a:lnTo>
                <a:lnTo>
                  <a:pt x="107" y="69"/>
                </a:lnTo>
                <a:lnTo>
                  <a:pt x="125" y="66"/>
                </a:lnTo>
                <a:lnTo>
                  <a:pt x="144" y="62"/>
                </a:lnTo>
                <a:lnTo>
                  <a:pt x="163" y="56"/>
                </a:lnTo>
                <a:lnTo>
                  <a:pt x="184" y="52"/>
                </a:lnTo>
                <a:lnTo>
                  <a:pt x="205" y="46"/>
                </a:lnTo>
                <a:lnTo>
                  <a:pt x="228" y="41"/>
                </a:lnTo>
                <a:lnTo>
                  <a:pt x="251" y="35"/>
                </a:lnTo>
                <a:lnTo>
                  <a:pt x="274" y="29"/>
                </a:lnTo>
                <a:lnTo>
                  <a:pt x="297" y="25"/>
                </a:lnTo>
                <a:lnTo>
                  <a:pt x="319" y="21"/>
                </a:lnTo>
                <a:lnTo>
                  <a:pt x="338" y="18"/>
                </a:lnTo>
                <a:lnTo>
                  <a:pt x="359" y="14"/>
                </a:lnTo>
                <a:lnTo>
                  <a:pt x="376" y="12"/>
                </a:lnTo>
                <a:lnTo>
                  <a:pt x="395" y="8"/>
                </a:lnTo>
                <a:lnTo>
                  <a:pt x="411" y="6"/>
                </a:lnTo>
                <a:lnTo>
                  <a:pt x="428" y="4"/>
                </a:lnTo>
                <a:lnTo>
                  <a:pt x="443" y="2"/>
                </a:lnTo>
                <a:lnTo>
                  <a:pt x="457" y="2"/>
                </a:lnTo>
                <a:lnTo>
                  <a:pt x="470" y="0"/>
                </a:lnTo>
                <a:lnTo>
                  <a:pt x="482" y="0"/>
                </a:lnTo>
                <a:lnTo>
                  <a:pt x="491" y="0"/>
                </a:lnTo>
                <a:lnTo>
                  <a:pt x="503" y="0"/>
                </a:lnTo>
                <a:lnTo>
                  <a:pt x="510" y="0"/>
                </a:lnTo>
                <a:lnTo>
                  <a:pt x="520" y="0"/>
                </a:lnTo>
                <a:lnTo>
                  <a:pt x="528" y="0"/>
                </a:lnTo>
                <a:lnTo>
                  <a:pt x="535" y="2"/>
                </a:lnTo>
                <a:lnTo>
                  <a:pt x="541" y="2"/>
                </a:lnTo>
                <a:lnTo>
                  <a:pt x="549" y="4"/>
                </a:lnTo>
                <a:lnTo>
                  <a:pt x="555" y="4"/>
                </a:lnTo>
                <a:lnTo>
                  <a:pt x="558" y="6"/>
                </a:lnTo>
                <a:lnTo>
                  <a:pt x="564" y="8"/>
                </a:lnTo>
                <a:lnTo>
                  <a:pt x="568" y="10"/>
                </a:lnTo>
                <a:lnTo>
                  <a:pt x="572" y="10"/>
                </a:lnTo>
                <a:lnTo>
                  <a:pt x="574" y="12"/>
                </a:lnTo>
                <a:lnTo>
                  <a:pt x="578" y="14"/>
                </a:lnTo>
                <a:lnTo>
                  <a:pt x="578" y="16"/>
                </a:lnTo>
                <a:lnTo>
                  <a:pt x="580" y="18"/>
                </a:lnTo>
                <a:lnTo>
                  <a:pt x="580" y="20"/>
                </a:lnTo>
                <a:lnTo>
                  <a:pt x="580" y="27"/>
                </a:lnTo>
                <a:lnTo>
                  <a:pt x="578" y="35"/>
                </a:lnTo>
                <a:lnTo>
                  <a:pt x="576" y="43"/>
                </a:lnTo>
                <a:lnTo>
                  <a:pt x="572" y="50"/>
                </a:lnTo>
                <a:lnTo>
                  <a:pt x="566" y="58"/>
                </a:lnTo>
                <a:lnTo>
                  <a:pt x="558" y="66"/>
                </a:lnTo>
                <a:lnTo>
                  <a:pt x="551" y="73"/>
                </a:lnTo>
                <a:lnTo>
                  <a:pt x="541" y="81"/>
                </a:lnTo>
                <a:lnTo>
                  <a:pt x="530" y="89"/>
                </a:lnTo>
                <a:lnTo>
                  <a:pt x="520" y="94"/>
                </a:lnTo>
                <a:lnTo>
                  <a:pt x="512" y="100"/>
                </a:lnTo>
                <a:lnTo>
                  <a:pt x="503" y="104"/>
                </a:lnTo>
                <a:lnTo>
                  <a:pt x="495" y="108"/>
                </a:lnTo>
                <a:lnTo>
                  <a:pt x="487" y="110"/>
                </a:lnTo>
                <a:lnTo>
                  <a:pt x="480" y="112"/>
                </a:lnTo>
                <a:lnTo>
                  <a:pt x="472" y="112"/>
                </a:lnTo>
                <a:lnTo>
                  <a:pt x="466" y="114"/>
                </a:lnTo>
                <a:lnTo>
                  <a:pt x="461" y="115"/>
                </a:lnTo>
                <a:lnTo>
                  <a:pt x="453" y="117"/>
                </a:lnTo>
                <a:lnTo>
                  <a:pt x="445" y="119"/>
                </a:lnTo>
                <a:lnTo>
                  <a:pt x="436" y="121"/>
                </a:lnTo>
                <a:lnTo>
                  <a:pt x="426" y="123"/>
                </a:lnTo>
                <a:lnTo>
                  <a:pt x="416" y="125"/>
                </a:lnTo>
                <a:lnTo>
                  <a:pt x="405" y="127"/>
                </a:lnTo>
                <a:lnTo>
                  <a:pt x="391" y="129"/>
                </a:lnTo>
                <a:lnTo>
                  <a:pt x="378" y="131"/>
                </a:lnTo>
                <a:lnTo>
                  <a:pt x="365" y="133"/>
                </a:lnTo>
                <a:lnTo>
                  <a:pt x="349" y="135"/>
                </a:lnTo>
                <a:lnTo>
                  <a:pt x="332" y="137"/>
                </a:lnTo>
                <a:lnTo>
                  <a:pt x="315" y="139"/>
                </a:lnTo>
                <a:lnTo>
                  <a:pt x="297" y="140"/>
                </a:lnTo>
                <a:lnTo>
                  <a:pt x="278" y="142"/>
                </a:lnTo>
                <a:lnTo>
                  <a:pt x="257" y="146"/>
                </a:lnTo>
                <a:lnTo>
                  <a:pt x="240" y="150"/>
                </a:lnTo>
                <a:lnTo>
                  <a:pt x="223" y="154"/>
                </a:lnTo>
                <a:lnTo>
                  <a:pt x="205" y="156"/>
                </a:lnTo>
                <a:lnTo>
                  <a:pt x="190" y="160"/>
                </a:lnTo>
                <a:lnTo>
                  <a:pt x="177" y="162"/>
                </a:lnTo>
                <a:lnTo>
                  <a:pt x="163" y="163"/>
                </a:lnTo>
                <a:lnTo>
                  <a:pt x="150" y="165"/>
                </a:lnTo>
                <a:lnTo>
                  <a:pt x="140" y="167"/>
                </a:lnTo>
                <a:lnTo>
                  <a:pt x="129" y="169"/>
                </a:lnTo>
                <a:lnTo>
                  <a:pt x="119" y="169"/>
                </a:lnTo>
                <a:lnTo>
                  <a:pt x="109" y="171"/>
                </a:lnTo>
                <a:lnTo>
                  <a:pt x="102" y="171"/>
                </a:lnTo>
                <a:lnTo>
                  <a:pt x="94" y="173"/>
                </a:lnTo>
                <a:lnTo>
                  <a:pt x="88" y="173"/>
                </a:lnTo>
                <a:lnTo>
                  <a:pt x="83" y="17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2820960" y="2293920"/>
            <a:ext cx="190440" cy="806400"/>
          </a:xfrm>
          <a:custGeom>
            <a:avLst/>
            <a:gdLst/>
            <a:ahLst/>
            <a:rect l="l" t="t" r="r" b="b"/>
            <a:pathLst>
              <a:path w="240" h="1017">
                <a:moveTo>
                  <a:pt x="23" y="78"/>
                </a:moveTo>
                <a:lnTo>
                  <a:pt x="16" y="71"/>
                </a:lnTo>
                <a:lnTo>
                  <a:pt x="10" y="63"/>
                </a:lnTo>
                <a:lnTo>
                  <a:pt x="6" y="55"/>
                </a:lnTo>
                <a:lnTo>
                  <a:pt x="2" y="48"/>
                </a:lnTo>
                <a:lnTo>
                  <a:pt x="0" y="40"/>
                </a:lnTo>
                <a:lnTo>
                  <a:pt x="0" y="32"/>
                </a:lnTo>
                <a:lnTo>
                  <a:pt x="0" y="25"/>
                </a:lnTo>
                <a:lnTo>
                  <a:pt x="4" y="17"/>
                </a:lnTo>
                <a:lnTo>
                  <a:pt x="8" y="11"/>
                </a:lnTo>
                <a:lnTo>
                  <a:pt x="14" y="5"/>
                </a:lnTo>
                <a:lnTo>
                  <a:pt x="23" y="2"/>
                </a:lnTo>
                <a:lnTo>
                  <a:pt x="33" y="2"/>
                </a:lnTo>
                <a:lnTo>
                  <a:pt x="45" y="0"/>
                </a:lnTo>
                <a:lnTo>
                  <a:pt x="58" y="2"/>
                </a:lnTo>
                <a:lnTo>
                  <a:pt x="73" y="3"/>
                </a:lnTo>
                <a:lnTo>
                  <a:pt x="91" y="7"/>
                </a:lnTo>
                <a:lnTo>
                  <a:pt x="110" y="11"/>
                </a:lnTo>
                <a:lnTo>
                  <a:pt x="125" y="17"/>
                </a:lnTo>
                <a:lnTo>
                  <a:pt x="142" y="23"/>
                </a:lnTo>
                <a:lnTo>
                  <a:pt x="158" y="28"/>
                </a:lnTo>
                <a:lnTo>
                  <a:pt x="171" y="36"/>
                </a:lnTo>
                <a:lnTo>
                  <a:pt x="185" y="42"/>
                </a:lnTo>
                <a:lnTo>
                  <a:pt x="196" y="49"/>
                </a:lnTo>
                <a:lnTo>
                  <a:pt x="208" y="57"/>
                </a:lnTo>
                <a:lnTo>
                  <a:pt x="219" y="69"/>
                </a:lnTo>
                <a:lnTo>
                  <a:pt x="227" y="82"/>
                </a:lnTo>
                <a:lnTo>
                  <a:pt x="233" y="94"/>
                </a:lnTo>
                <a:lnTo>
                  <a:pt x="238" y="105"/>
                </a:lnTo>
                <a:lnTo>
                  <a:pt x="240" y="119"/>
                </a:lnTo>
                <a:lnTo>
                  <a:pt x="240" y="132"/>
                </a:lnTo>
                <a:lnTo>
                  <a:pt x="240" y="145"/>
                </a:lnTo>
                <a:lnTo>
                  <a:pt x="238" y="161"/>
                </a:lnTo>
                <a:lnTo>
                  <a:pt x="236" y="170"/>
                </a:lnTo>
                <a:lnTo>
                  <a:pt x="234" y="182"/>
                </a:lnTo>
                <a:lnTo>
                  <a:pt x="233" y="195"/>
                </a:lnTo>
                <a:lnTo>
                  <a:pt x="231" y="209"/>
                </a:lnTo>
                <a:lnTo>
                  <a:pt x="229" y="226"/>
                </a:lnTo>
                <a:lnTo>
                  <a:pt x="227" y="243"/>
                </a:lnTo>
                <a:lnTo>
                  <a:pt x="225" y="263"/>
                </a:lnTo>
                <a:lnTo>
                  <a:pt x="223" y="282"/>
                </a:lnTo>
                <a:lnTo>
                  <a:pt x="221" y="305"/>
                </a:lnTo>
                <a:lnTo>
                  <a:pt x="219" y="328"/>
                </a:lnTo>
                <a:lnTo>
                  <a:pt x="217" y="351"/>
                </a:lnTo>
                <a:lnTo>
                  <a:pt x="215" y="378"/>
                </a:lnTo>
                <a:lnTo>
                  <a:pt x="213" y="405"/>
                </a:lnTo>
                <a:lnTo>
                  <a:pt x="211" y="433"/>
                </a:lnTo>
                <a:lnTo>
                  <a:pt x="210" y="464"/>
                </a:lnTo>
                <a:lnTo>
                  <a:pt x="208" y="497"/>
                </a:lnTo>
                <a:lnTo>
                  <a:pt x="202" y="625"/>
                </a:lnTo>
                <a:lnTo>
                  <a:pt x="194" y="756"/>
                </a:lnTo>
                <a:lnTo>
                  <a:pt x="192" y="821"/>
                </a:lnTo>
                <a:lnTo>
                  <a:pt x="190" y="886"/>
                </a:lnTo>
                <a:lnTo>
                  <a:pt x="188" y="951"/>
                </a:lnTo>
                <a:lnTo>
                  <a:pt x="188" y="1017"/>
                </a:lnTo>
                <a:lnTo>
                  <a:pt x="81" y="1017"/>
                </a:lnTo>
                <a:lnTo>
                  <a:pt x="81" y="974"/>
                </a:lnTo>
                <a:lnTo>
                  <a:pt x="81" y="936"/>
                </a:lnTo>
                <a:lnTo>
                  <a:pt x="81" y="898"/>
                </a:lnTo>
                <a:lnTo>
                  <a:pt x="81" y="859"/>
                </a:lnTo>
                <a:lnTo>
                  <a:pt x="81" y="823"/>
                </a:lnTo>
                <a:lnTo>
                  <a:pt x="81" y="788"/>
                </a:lnTo>
                <a:lnTo>
                  <a:pt x="81" y="754"/>
                </a:lnTo>
                <a:lnTo>
                  <a:pt x="81" y="721"/>
                </a:lnTo>
                <a:lnTo>
                  <a:pt x="81" y="689"/>
                </a:lnTo>
                <a:lnTo>
                  <a:pt x="81" y="658"/>
                </a:lnTo>
                <a:lnTo>
                  <a:pt x="81" y="629"/>
                </a:lnTo>
                <a:lnTo>
                  <a:pt x="81" y="598"/>
                </a:lnTo>
                <a:lnTo>
                  <a:pt x="81" y="571"/>
                </a:lnTo>
                <a:lnTo>
                  <a:pt x="81" y="545"/>
                </a:lnTo>
                <a:lnTo>
                  <a:pt x="81" y="518"/>
                </a:lnTo>
                <a:lnTo>
                  <a:pt x="81" y="493"/>
                </a:lnTo>
                <a:lnTo>
                  <a:pt x="79" y="470"/>
                </a:lnTo>
                <a:lnTo>
                  <a:pt x="79" y="447"/>
                </a:lnTo>
                <a:lnTo>
                  <a:pt x="79" y="426"/>
                </a:lnTo>
                <a:lnTo>
                  <a:pt x="79" y="405"/>
                </a:lnTo>
                <a:lnTo>
                  <a:pt x="79" y="385"/>
                </a:lnTo>
                <a:lnTo>
                  <a:pt x="79" y="366"/>
                </a:lnTo>
                <a:lnTo>
                  <a:pt x="77" y="347"/>
                </a:lnTo>
                <a:lnTo>
                  <a:pt x="77" y="332"/>
                </a:lnTo>
                <a:lnTo>
                  <a:pt x="77" y="314"/>
                </a:lnTo>
                <a:lnTo>
                  <a:pt x="75" y="301"/>
                </a:lnTo>
                <a:lnTo>
                  <a:pt x="75" y="286"/>
                </a:lnTo>
                <a:lnTo>
                  <a:pt x="75" y="274"/>
                </a:lnTo>
                <a:lnTo>
                  <a:pt x="73" y="261"/>
                </a:lnTo>
                <a:lnTo>
                  <a:pt x="73" y="251"/>
                </a:lnTo>
                <a:lnTo>
                  <a:pt x="73" y="239"/>
                </a:lnTo>
                <a:lnTo>
                  <a:pt x="71" y="232"/>
                </a:lnTo>
                <a:lnTo>
                  <a:pt x="69" y="216"/>
                </a:lnTo>
                <a:lnTo>
                  <a:pt x="68" y="201"/>
                </a:lnTo>
                <a:lnTo>
                  <a:pt x="66" y="188"/>
                </a:lnTo>
                <a:lnTo>
                  <a:pt x="64" y="176"/>
                </a:lnTo>
                <a:lnTo>
                  <a:pt x="62" y="165"/>
                </a:lnTo>
                <a:lnTo>
                  <a:pt x="60" y="153"/>
                </a:lnTo>
                <a:lnTo>
                  <a:pt x="58" y="142"/>
                </a:lnTo>
                <a:lnTo>
                  <a:pt x="54" y="132"/>
                </a:lnTo>
                <a:lnTo>
                  <a:pt x="52" y="122"/>
                </a:lnTo>
                <a:lnTo>
                  <a:pt x="48" y="115"/>
                </a:lnTo>
                <a:lnTo>
                  <a:pt x="45" y="107"/>
                </a:lnTo>
                <a:lnTo>
                  <a:pt x="41" y="99"/>
                </a:lnTo>
                <a:lnTo>
                  <a:pt x="37" y="94"/>
                </a:lnTo>
                <a:lnTo>
                  <a:pt x="33" y="88"/>
                </a:lnTo>
                <a:lnTo>
                  <a:pt x="27" y="82"/>
                </a:lnTo>
                <a:lnTo>
                  <a:pt x="23" y="7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2"/>
          <p:cNvSpPr/>
          <p:nvPr/>
        </p:nvSpPr>
        <p:spPr>
          <a:xfrm>
            <a:off x="2209680" y="2457360"/>
            <a:ext cx="1257480" cy="1494000"/>
          </a:xfrm>
          <a:custGeom>
            <a:avLst/>
            <a:gdLst/>
            <a:ahLst/>
            <a:rect l="l" t="t" r="r" b="b"/>
            <a:pathLst>
              <a:path w="1583" h="1881">
                <a:moveTo>
                  <a:pt x="1378" y="198"/>
                </a:moveTo>
                <a:lnTo>
                  <a:pt x="1382" y="186"/>
                </a:lnTo>
                <a:lnTo>
                  <a:pt x="1383" y="176"/>
                </a:lnTo>
                <a:lnTo>
                  <a:pt x="1385" y="165"/>
                </a:lnTo>
                <a:lnTo>
                  <a:pt x="1387" y="155"/>
                </a:lnTo>
                <a:lnTo>
                  <a:pt x="1389" y="146"/>
                </a:lnTo>
                <a:lnTo>
                  <a:pt x="1391" y="138"/>
                </a:lnTo>
                <a:lnTo>
                  <a:pt x="1393" y="128"/>
                </a:lnTo>
                <a:lnTo>
                  <a:pt x="1393" y="121"/>
                </a:lnTo>
                <a:lnTo>
                  <a:pt x="1393" y="113"/>
                </a:lnTo>
                <a:lnTo>
                  <a:pt x="1393" y="107"/>
                </a:lnTo>
                <a:lnTo>
                  <a:pt x="1393" y="94"/>
                </a:lnTo>
                <a:lnTo>
                  <a:pt x="1391" y="84"/>
                </a:lnTo>
                <a:lnTo>
                  <a:pt x="1387" y="75"/>
                </a:lnTo>
                <a:lnTo>
                  <a:pt x="1383" y="67"/>
                </a:lnTo>
                <a:lnTo>
                  <a:pt x="1382" y="59"/>
                </a:lnTo>
                <a:lnTo>
                  <a:pt x="1380" y="52"/>
                </a:lnTo>
                <a:lnTo>
                  <a:pt x="1380" y="44"/>
                </a:lnTo>
                <a:lnTo>
                  <a:pt x="1380" y="36"/>
                </a:lnTo>
                <a:lnTo>
                  <a:pt x="1382" y="29"/>
                </a:lnTo>
                <a:lnTo>
                  <a:pt x="1383" y="21"/>
                </a:lnTo>
                <a:lnTo>
                  <a:pt x="1387" y="13"/>
                </a:lnTo>
                <a:lnTo>
                  <a:pt x="1391" y="9"/>
                </a:lnTo>
                <a:lnTo>
                  <a:pt x="1397" y="8"/>
                </a:lnTo>
                <a:lnTo>
                  <a:pt x="1403" y="4"/>
                </a:lnTo>
                <a:lnTo>
                  <a:pt x="1408" y="2"/>
                </a:lnTo>
                <a:lnTo>
                  <a:pt x="1416" y="0"/>
                </a:lnTo>
                <a:lnTo>
                  <a:pt x="1426" y="0"/>
                </a:lnTo>
                <a:lnTo>
                  <a:pt x="1435" y="0"/>
                </a:lnTo>
                <a:lnTo>
                  <a:pt x="1441" y="2"/>
                </a:lnTo>
                <a:lnTo>
                  <a:pt x="1445" y="4"/>
                </a:lnTo>
                <a:lnTo>
                  <a:pt x="1456" y="9"/>
                </a:lnTo>
                <a:lnTo>
                  <a:pt x="1468" y="15"/>
                </a:lnTo>
                <a:lnTo>
                  <a:pt x="1479" y="23"/>
                </a:lnTo>
                <a:lnTo>
                  <a:pt x="1489" y="32"/>
                </a:lnTo>
                <a:lnTo>
                  <a:pt x="1501" y="42"/>
                </a:lnTo>
                <a:lnTo>
                  <a:pt x="1512" y="52"/>
                </a:lnTo>
                <a:lnTo>
                  <a:pt x="1522" y="63"/>
                </a:lnTo>
                <a:lnTo>
                  <a:pt x="1533" y="75"/>
                </a:lnTo>
                <a:lnTo>
                  <a:pt x="1545" y="86"/>
                </a:lnTo>
                <a:lnTo>
                  <a:pt x="1554" y="98"/>
                </a:lnTo>
                <a:lnTo>
                  <a:pt x="1562" y="109"/>
                </a:lnTo>
                <a:lnTo>
                  <a:pt x="1570" y="121"/>
                </a:lnTo>
                <a:lnTo>
                  <a:pt x="1575" y="130"/>
                </a:lnTo>
                <a:lnTo>
                  <a:pt x="1579" y="140"/>
                </a:lnTo>
                <a:lnTo>
                  <a:pt x="1581" y="150"/>
                </a:lnTo>
                <a:lnTo>
                  <a:pt x="1583" y="157"/>
                </a:lnTo>
                <a:lnTo>
                  <a:pt x="1581" y="165"/>
                </a:lnTo>
                <a:lnTo>
                  <a:pt x="1581" y="174"/>
                </a:lnTo>
                <a:lnTo>
                  <a:pt x="1577" y="184"/>
                </a:lnTo>
                <a:lnTo>
                  <a:pt x="1573" y="196"/>
                </a:lnTo>
                <a:lnTo>
                  <a:pt x="1568" y="207"/>
                </a:lnTo>
                <a:lnTo>
                  <a:pt x="1562" y="221"/>
                </a:lnTo>
                <a:lnTo>
                  <a:pt x="1552" y="234"/>
                </a:lnTo>
                <a:lnTo>
                  <a:pt x="1543" y="249"/>
                </a:lnTo>
                <a:lnTo>
                  <a:pt x="1537" y="259"/>
                </a:lnTo>
                <a:lnTo>
                  <a:pt x="1529" y="270"/>
                </a:lnTo>
                <a:lnTo>
                  <a:pt x="1522" y="286"/>
                </a:lnTo>
                <a:lnTo>
                  <a:pt x="1512" y="301"/>
                </a:lnTo>
                <a:lnTo>
                  <a:pt x="1501" y="320"/>
                </a:lnTo>
                <a:lnTo>
                  <a:pt x="1489" y="340"/>
                </a:lnTo>
                <a:lnTo>
                  <a:pt x="1476" y="363"/>
                </a:lnTo>
                <a:lnTo>
                  <a:pt x="1468" y="374"/>
                </a:lnTo>
                <a:lnTo>
                  <a:pt x="1460" y="386"/>
                </a:lnTo>
                <a:lnTo>
                  <a:pt x="1453" y="399"/>
                </a:lnTo>
                <a:lnTo>
                  <a:pt x="1445" y="411"/>
                </a:lnTo>
                <a:lnTo>
                  <a:pt x="1437" y="424"/>
                </a:lnTo>
                <a:lnTo>
                  <a:pt x="1428" y="439"/>
                </a:lnTo>
                <a:lnTo>
                  <a:pt x="1420" y="453"/>
                </a:lnTo>
                <a:lnTo>
                  <a:pt x="1410" y="468"/>
                </a:lnTo>
                <a:lnTo>
                  <a:pt x="1401" y="483"/>
                </a:lnTo>
                <a:lnTo>
                  <a:pt x="1389" y="501"/>
                </a:lnTo>
                <a:lnTo>
                  <a:pt x="1380" y="516"/>
                </a:lnTo>
                <a:lnTo>
                  <a:pt x="1370" y="533"/>
                </a:lnTo>
                <a:lnTo>
                  <a:pt x="1359" y="551"/>
                </a:lnTo>
                <a:lnTo>
                  <a:pt x="1347" y="570"/>
                </a:lnTo>
                <a:lnTo>
                  <a:pt x="1335" y="587"/>
                </a:lnTo>
                <a:lnTo>
                  <a:pt x="1324" y="606"/>
                </a:lnTo>
                <a:lnTo>
                  <a:pt x="1312" y="625"/>
                </a:lnTo>
                <a:lnTo>
                  <a:pt x="1299" y="647"/>
                </a:lnTo>
                <a:lnTo>
                  <a:pt x="1272" y="687"/>
                </a:lnTo>
                <a:lnTo>
                  <a:pt x="1245" y="727"/>
                </a:lnTo>
                <a:lnTo>
                  <a:pt x="1220" y="767"/>
                </a:lnTo>
                <a:lnTo>
                  <a:pt x="1193" y="804"/>
                </a:lnTo>
                <a:lnTo>
                  <a:pt x="1169" y="842"/>
                </a:lnTo>
                <a:lnTo>
                  <a:pt x="1144" y="877"/>
                </a:lnTo>
                <a:lnTo>
                  <a:pt x="1119" y="911"/>
                </a:lnTo>
                <a:lnTo>
                  <a:pt x="1096" y="944"/>
                </a:lnTo>
                <a:lnTo>
                  <a:pt x="1071" y="977"/>
                </a:lnTo>
                <a:lnTo>
                  <a:pt x="1048" y="1005"/>
                </a:lnTo>
                <a:lnTo>
                  <a:pt x="1025" y="1036"/>
                </a:lnTo>
                <a:lnTo>
                  <a:pt x="1003" y="1065"/>
                </a:lnTo>
                <a:lnTo>
                  <a:pt x="980" y="1092"/>
                </a:lnTo>
                <a:lnTo>
                  <a:pt x="959" y="1117"/>
                </a:lnTo>
                <a:lnTo>
                  <a:pt x="938" y="1142"/>
                </a:lnTo>
                <a:lnTo>
                  <a:pt x="919" y="1165"/>
                </a:lnTo>
                <a:lnTo>
                  <a:pt x="879" y="1211"/>
                </a:lnTo>
                <a:lnTo>
                  <a:pt x="838" y="1255"/>
                </a:lnTo>
                <a:lnTo>
                  <a:pt x="798" y="1299"/>
                </a:lnTo>
                <a:lnTo>
                  <a:pt x="760" y="1339"/>
                </a:lnTo>
                <a:lnTo>
                  <a:pt x="719" y="1380"/>
                </a:lnTo>
                <a:lnTo>
                  <a:pt x="681" y="1418"/>
                </a:lnTo>
                <a:lnTo>
                  <a:pt x="643" y="1456"/>
                </a:lnTo>
                <a:lnTo>
                  <a:pt x="606" y="1491"/>
                </a:lnTo>
                <a:lnTo>
                  <a:pt x="589" y="1508"/>
                </a:lnTo>
                <a:lnTo>
                  <a:pt x="568" y="1526"/>
                </a:lnTo>
                <a:lnTo>
                  <a:pt x="549" y="1543"/>
                </a:lnTo>
                <a:lnTo>
                  <a:pt x="528" y="1560"/>
                </a:lnTo>
                <a:lnTo>
                  <a:pt x="506" y="1577"/>
                </a:lnTo>
                <a:lnTo>
                  <a:pt x="485" y="1595"/>
                </a:lnTo>
                <a:lnTo>
                  <a:pt x="462" y="1612"/>
                </a:lnTo>
                <a:lnTo>
                  <a:pt x="439" y="1627"/>
                </a:lnTo>
                <a:lnTo>
                  <a:pt x="416" y="1645"/>
                </a:lnTo>
                <a:lnTo>
                  <a:pt x="391" y="1660"/>
                </a:lnTo>
                <a:lnTo>
                  <a:pt x="366" y="1677"/>
                </a:lnTo>
                <a:lnTo>
                  <a:pt x="341" y="1692"/>
                </a:lnTo>
                <a:lnTo>
                  <a:pt x="316" y="1710"/>
                </a:lnTo>
                <a:lnTo>
                  <a:pt x="290" y="1725"/>
                </a:lnTo>
                <a:lnTo>
                  <a:pt x="236" y="1756"/>
                </a:lnTo>
                <a:lnTo>
                  <a:pt x="209" y="1773"/>
                </a:lnTo>
                <a:lnTo>
                  <a:pt x="184" y="1788"/>
                </a:lnTo>
                <a:lnTo>
                  <a:pt x="161" y="1804"/>
                </a:lnTo>
                <a:lnTo>
                  <a:pt x="140" y="1817"/>
                </a:lnTo>
                <a:lnTo>
                  <a:pt x="119" y="1829"/>
                </a:lnTo>
                <a:lnTo>
                  <a:pt x="100" y="1838"/>
                </a:lnTo>
                <a:lnTo>
                  <a:pt x="82" y="1848"/>
                </a:lnTo>
                <a:lnTo>
                  <a:pt x="67" y="1856"/>
                </a:lnTo>
                <a:lnTo>
                  <a:pt x="54" y="1863"/>
                </a:lnTo>
                <a:lnTo>
                  <a:pt x="42" y="1869"/>
                </a:lnTo>
                <a:lnTo>
                  <a:pt x="31" y="1873"/>
                </a:lnTo>
                <a:lnTo>
                  <a:pt x="21" y="1877"/>
                </a:lnTo>
                <a:lnTo>
                  <a:pt x="15" y="1879"/>
                </a:lnTo>
                <a:lnTo>
                  <a:pt x="7" y="1881"/>
                </a:lnTo>
                <a:lnTo>
                  <a:pt x="4" y="1881"/>
                </a:lnTo>
                <a:lnTo>
                  <a:pt x="2" y="1879"/>
                </a:lnTo>
                <a:lnTo>
                  <a:pt x="0" y="1877"/>
                </a:lnTo>
                <a:lnTo>
                  <a:pt x="2" y="1873"/>
                </a:lnTo>
                <a:lnTo>
                  <a:pt x="4" y="1867"/>
                </a:lnTo>
                <a:lnTo>
                  <a:pt x="9" y="1861"/>
                </a:lnTo>
                <a:lnTo>
                  <a:pt x="15" y="1854"/>
                </a:lnTo>
                <a:lnTo>
                  <a:pt x="25" y="1846"/>
                </a:lnTo>
                <a:lnTo>
                  <a:pt x="29" y="1842"/>
                </a:lnTo>
                <a:lnTo>
                  <a:pt x="34" y="1836"/>
                </a:lnTo>
                <a:lnTo>
                  <a:pt x="40" y="1831"/>
                </a:lnTo>
                <a:lnTo>
                  <a:pt x="48" y="1825"/>
                </a:lnTo>
                <a:lnTo>
                  <a:pt x="54" y="1819"/>
                </a:lnTo>
                <a:lnTo>
                  <a:pt x="61" y="1813"/>
                </a:lnTo>
                <a:lnTo>
                  <a:pt x="69" y="1808"/>
                </a:lnTo>
                <a:lnTo>
                  <a:pt x="78" y="1800"/>
                </a:lnTo>
                <a:lnTo>
                  <a:pt x="86" y="1794"/>
                </a:lnTo>
                <a:lnTo>
                  <a:pt x="96" y="1787"/>
                </a:lnTo>
                <a:lnTo>
                  <a:pt x="105" y="1779"/>
                </a:lnTo>
                <a:lnTo>
                  <a:pt x="115" y="1771"/>
                </a:lnTo>
                <a:lnTo>
                  <a:pt x="126" y="1762"/>
                </a:lnTo>
                <a:lnTo>
                  <a:pt x="138" y="1754"/>
                </a:lnTo>
                <a:lnTo>
                  <a:pt x="150" y="1744"/>
                </a:lnTo>
                <a:lnTo>
                  <a:pt x="163" y="1735"/>
                </a:lnTo>
                <a:lnTo>
                  <a:pt x="174" y="1725"/>
                </a:lnTo>
                <a:lnTo>
                  <a:pt x="188" y="1716"/>
                </a:lnTo>
                <a:lnTo>
                  <a:pt x="201" y="1706"/>
                </a:lnTo>
                <a:lnTo>
                  <a:pt x="217" y="1696"/>
                </a:lnTo>
                <a:lnTo>
                  <a:pt x="270" y="1652"/>
                </a:lnTo>
                <a:lnTo>
                  <a:pt x="322" y="1610"/>
                </a:lnTo>
                <a:lnTo>
                  <a:pt x="372" y="1570"/>
                </a:lnTo>
                <a:lnTo>
                  <a:pt x="422" y="1527"/>
                </a:lnTo>
                <a:lnTo>
                  <a:pt x="445" y="1506"/>
                </a:lnTo>
                <a:lnTo>
                  <a:pt x="468" y="1485"/>
                </a:lnTo>
                <a:lnTo>
                  <a:pt x="491" y="1464"/>
                </a:lnTo>
                <a:lnTo>
                  <a:pt x="512" y="1443"/>
                </a:lnTo>
                <a:lnTo>
                  <a:pt x="535" y="1422"/>
                </a:lnTo>
                <a:lnTo>
                  <a:pt x="556" y="1401"/>
                </a:lnTo>
                <a:lnTo>
                  <a:pt x="577" y="1380"/>
                </a:lnTo>
                <a:lnTo>
                  <a:pt x="597" y="1359"/>
                </a:lnTo>
                <a:lnTo>
                  <a:pt x="637" y="1316"/>
                </a:lnTo>
                <a:lnTo>
                  <a:pt x="675" y="1272"/>
                </a:lnTo>
                <a:lnTo>
                  <a:pt x="714" y="1228"/>
                </a:lnTo>
                <a:lnTo>
                  <a:pt x="752" y="1184"/>
                </a:lnTo>
                <a:lnTo>
                  <a:pt x="792" y="1138"/>
                </a:lnTo>
                <a:lnTo>
                  <a:pt x="831" y="1090"/>
                </a:lnTo>
                <a:lnTo>
                  <a:pt x="869" y="1042"/>
                </a:lnTo>
                <a:lnTo>
                  <a:pt x="909" y="992"/>
                </a:lnTo>
                <a:lnTo>
                  <a:pt x="929" y="969"/>
                </a:lnTo>
                <a:lnTo>
                  <a:pt x="948" y="944"/>
                </a:lnTo>
                <a:lnTo>
                  <a:pt x="969" y="919"/>
                </a:lnTo>
                <a:lnTo>
                  <a:pt x="988" y="894"/>
                </a:lnTo>
                <a:lnTo>
                  <a:pt x="1007" y="869"/>
                </a:lnTo>
                <a:lnTo>
                  <a:pt x="1027" y="842"/>
                </a:lnTo>
                <a:lnTo>
                  <a:pt x="1046" y="815"/>
                </a:lnTo>
                <a:lnTo>
                  <a:pt x="1065" y="787"/>
                </a:lnTo>
                <a:lnTo>
                  <a:pt x="1082" y="758"/>
                </a:lnTo>
                <a:lnTo>
                  <a:pt x="1101" y="729"/>
                </a:lnTo>
                <a:lnTo>
                  <a:pt x="1121" y="700"/>
                </a:lnTo>
                <a:lnTo>
                  <a:pt x="1138" y="670"/>
                </a:lnTo>
                <a:lnTo>
                  <a:pt x="1157" y="639"/>
                </a:lnTo>
                <a:lnTo>
                  <a:pt x="1174" y="608"/>
                </a:lnTo>
                <a:lnTo>
                  <a:pt x="1193" y="576"/>
                </a:lnTo>
                <a:lnTo>
                  <a:pt x="1211" y="545"/>
                </a:lnTo>
                <a:lnTo>
                  <a:pt x="1228" y="512"/>
                </a:lnTo>
                <a:lnTo>
                  <a:pt x="1243" y="482"/>
                </a:lnTo>
                <a:lnTo>
                  <a:pt x="1257" y="453"/>
                </a:lnTo>
                <a:lnTo>
                  <a:pt x="1270" y="426"/>
                </a:lnTo>
                <a:lnTo>
                  <a:pt x="1284" y="399"/>
                </a:lnTo>
                <a:lnTo>
                  <a:pt x="1297" y="374"/>
                </a:lnTo>
                <a:lnTo>
                  <a:pt x="1309" y="351"/>
                </a:lnTo>
                <a:lnTo>
                  <a:pt x="1320" y="328"/>
                </a:lnTo>
                <a:lnTo>
                  <a:pt x="1330" y="307"/>
                </a:lnTo>
                <a:lnTo>
                  <a:pt x="1339" y="288"/>
                </a:lnTo>
                <a:lnTo>
                  <a:pt x="1347" y="270"/>
                </a:lnTo>
                <a:lnTo>
                  <a:pt x="1355" y="253"/>
                </a:lnTo>
                <a:lnTo>
                  <a:pt x="1362" y="238"/>
                </a:lnTo>
                <a:lnTo>
                  <a:pt x="1368" y="222"/>
                </a:lnTo>
                <a:lnTo>
                  <a:pt x="1374" y="209"/>
                </a:lnTo>
                <a:lnTo>
                  <a:pt x="1378" y="19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2770200" y="3359160"/>
            <a:ext cx="101520" cy="646200"/>
          </a:xfrm>
          <a:custGeom>
            <a:avLst/>
            <a:gdLst/>
            <a:ahLst/>
            <a:rect l="l" t="t" r="r" b="b"/>
            <a:pathLst>
              <a:path w="129" h="816">
                <a:moveTo>
                  <a:pt x="125" y="0"/>
                </a:moveTo>
                <a:lnTo>
                  <a:pt x="127" y="46"/>
                </a:lnTo>
                <a:lnTo>
                  <a:pt x="127" y="90"/>
                </a:lnTo>
                <a:lnTo>
                  <a:pt x="127" y="132"/>
                </a:lnTo>
                <a:lnTo>
                  <a:pt x="129" y="173"/>
                </a:lnTo>
                <a:lnTo>
                  <a:pt x="129" y="213"/>
                </a:lnTo>
                <a:lnTo>
                  <a:pt x="129" y="251"/>
                </a:lnTo>
                <a:lnTo>
                  <a:pt x="129" y="288"/>
                </a:lnTo>
                <a:lnTo>
                  <a:pt x="129" y="324"/>
                </a:lnTo>
                <a:lnTo>
                  <a:pt x="129" y="359"/>
                </a:lnTo>
                <a:lnTo>
                  <a:pt x="129" y="392"/>
                </a:lnTo>
                <a:lnTo>
                  <a:pt x="129" y="422"/>
                </a:lnTo>
                <a:lnTo>
                  <a:pt x="129" y="453"/>
                </a:lnTo>
                <a:lnTo>
                  <a:pt x="129" y="482"/>
                </a:lnTo>
                <a:lnTo>
                  <a:pt x="129" y="509"/>
                </a:lnTo>
                <a:lnTo>
                  <a:pt x="129" y="535"/>
                </a:lnTo>
                <a:lnTo>
                  <a:pt x="127" y="560"/>
                </a:lnTo>
                <a:lnTo>
                  <a:pt x="127" y="583"/>
                </a:lnTo>
                <a:lnTo>
                  <a:pt x="127" y="606"/>
                </a:lnTo>
                <a:lnTo>
                  <a:pt x="125" y="626"/>
                </a:lnTo>
                <a:lnTo>
                  <a:pt x="125" y="645"/>
                </a:lnTo>
                <a:lnTo>
                  <a:pt x="125" y="664"/>
                </a:lnTo>
                <a:lnTo>
                  <a:pt x="123" y="681"/>
                </a:lnTo>
                <a:lnTo>
                  <a:pt x="123" y="697"/>
                </a:lnTo>
                <a:lnTo>
                  <a:pt x="123" y="710"/>
                </a:lnTo>
                <a:lnTo>
                  <a:pt x="121" y="724"/>
                </a:lnTo>
                <a:lnTo>
                  <a:pt x="121" y="735"/>
                </a:lnTo>
                <a:lnTo>
                  <a:pt x="119" y="745"/>
                </a:lnTo>
                <a:lnTo>
                  <a:pt x="119" y="754"/>
                </a:lnTo>
                <a:lnTo>
                  <a:pt x="117" y="760"/>
                </a:lnTo>
                <a:lnTo>
                  <a:pt x="117" y="768"/>
                </a:lnTo>
                <a:lnTo>
                  <a:pt x="115" y="771"/>
                </a:lnTo>
                <a:lnTo>
                  <a:pt x="115" y="775"/>
                </a:lnTo>
                <a:lnTo>
                  <a:pt x="111" y="785"/>
                </a:lnTo>
                <a:lnTo>
                  <a:pt x="108" y="795"/>
                </a:lnTo>
                <a:lnTo>
                  <a:pt x="104" y="802"/>
                </a:lnTo>
                <a:lnTo>
                  <a:pt x="100" y="808"/>
                </a:lnTo>
                <a:lnTo>
                  <a:pt x="96" y="812"/>
                </a:lnTo>
                <a:lnTo>
                  <a:pt x="94" y="814"/>
                </a:lnTo>
                <a:lnTo>
                  <a:pt x="90" y="816"/>
                </a:lnTo>
                <a:lnTo>
                  <a:pt x="86" y="816"/>
                </a:lnTo>
                <a:lnTo>
                  <a:pt x="83" y="816"/>
                </a:lnTo>
                <a:lnTo>
                  <a:pt x="77" y="812"/>
                </a:lnTo>
                <a:lnTo>
                  <a:pt x="71" y="808"/>
                </a:lnTo>
                <a:lnTo>
                  <a:pt x="65" y="800"/>
                </a:lnTo>
                <a:lnTo>
                  <a:pt x="58" y="793"/>
                </a:lnTo>
                <a:lnTo>
                  <a:pt x="52" y="781"/>
                </a:lnTo>
                <a:lnTo>
                  <a:pt x="44" y="770"/>
                </a:lnTo>
                <a:lnTo>
                  <a:pt x="36" y="754"/>
                </a:lnTo>
                <a:lnTo>
                  <a:pt x="33" y="747"/>
                </a:lnTo>
                <a:lnTo>
                  <a:pt x="27" y="739"/>
                </a:lnTo>
                <a:lnTo>
                  <a:pt x="23" y="729"/>
                </a:lnTo>
                <a:lnTo>
                  <a:pt x="21" y="720"/>
                </a:lnTo>
                <a:lnTo>
                  <a:pt x="17" y="710"/>
                </a:lnTo>
                <a:lnTo>
                  <a:pt x="15" y="700"/>
                </a:lnTo>
                <a:lnTo>
                  <a:pt x="13" y="691"/>
                </a:lnTo>
                <a:lnTo>
                  <a:pt x="13" y="679"/>
                </a:lnTo>
                <a:lnTo>
                  <a:pt x="12" y="656"/>
                </a:lnTo>
                <a:lnTo>
                  <a:pt x="13" y="633"/>
                </a:lnTo>
                <a:lnTo>
                  <a:pt x="15" y="608"/>
                </a:lnTo>
                <a:lnTo>
                  <a:pt x="17" y="582"/>
                </a:lnTo>
                <a:lnTo>
                  <a:pt x="19" y="568"/>
                </a:lnTo>
                <a:lnTo>
                  <a:pt x="21" y="553"/>
                </a:lnTo>
                <a:lnTo>
                  <a:pt x="21" y="537"/>
                </a:lnTo>
                <a:lnTo>
                  <a:pt x="21" y="520"/>
                </a:lnTo>
                <a:lnTo>
                  <a:pt x="21" y="503"/>
                </a:lnTo>
                <a:lnTo>
                  <a:pt x="21" y="484"/>
                </a:lnTo>
                <a:lnTo>
                  <a:pt x="21" y="464"/>
                </a:lnTo>
                <a:lnTo>
                  <a:pt x="19" y="443"/>
                </a:lnTo>
                <a:lnTo>
                  <a:pt x="19" y="422"/>
                </a:lnTo>
                <a:lnTo>
                  <a:pt x="17" y="401"/>
                </a:lnTo>
                <a:lnTo>
                  <a:pt x="15" y="376"/>
                </a:lnTo>
                <a:lnTo>
                  <a:pt x="15" y="353"/>
                </a:lnTo>
                <a:lnTo>
                  <a:pt x="13" y="326"/>
                </a:lnTo>
                <a:lnTo>
                  <a:pt x="12" y="301"/>
                </a:lnTo>
                <a:lnTo>
                  <a:pt x="10" y="274"/>
                </a:lnTo>
                <a:lnTo>
                  <a:pt x="8" y="246"/>
                </a:lnTo>
                <a:lnTo>
                  <a:pt x="6" y="219"/>
                </a:lnTo>
                <a:lnTo>
                  <a:pt x="4" y="196"/>
                </a:lnTo>
                <a:lnTo>
                  <a:pt x="4" y="171"/>
                </a:lnTo>
                <a:lnTo>
                  <a:pt x="2" y="150"/>
                </a:lnTo>
                <a:lnTo>
                  <a:pt x="2" y="131"/>
                </a:lnTo>
                <a:lnTo>
                  <a:pt x="2" y="111"/>
                </a:lnTo>
                <a:lnTo>
                  <a:pt x="0" y="94"/>
                </a:lnTo>
                <a:lnTo>
                  <a:pt x="0" y="79"/>
                </a:lnTo>
                <a:lnTo>
                  <a:pt x="0" y="65"/>
                </a:lnTo>
                <a:lnTo>
                  <a:pt x="2" y="52"/>
                </a:lnTo>
                <a:lnTo>
                  <a:pt x="2" y="40"/>
                </a:lnTo>
                <a:lnTo>
                  <a:pt x="2" y="33"/>
                </a:lnTo>
                <a:lnTo>
                  <a:pt x="4" y="25"/>
                </a:lnTo>
                <a:lnTo>
                  <a:pt x="4" y="19"/>
                </a:lnTo>
                <a:lnTo>
                  <a:pt x="6" y="13"/>
                </a:lnTo>
                <a:lnTo>
                  <a:pt x="8" y="12"/>
                </a:lnTo>
                <a:lnTo>
                  <a:pt x="10" y="10"/>
                </a:lnTo>
                <a:lnTo>
                  <a:pt x="13" y="8"/>
                </a:lnTo>
                <a:lnTo>
                  <a:pt x="17" y="6"/>
                </a:lnTo>
                <a:lnTo>
                  <a:pt x="21" y="6"/>
                </a:lnTo>
                <a:lnTo>
                  <a:pt x="25" y="4"/>
                </a:lnTo>
                <a:lnTo>
                  <a:pt x="31" y="4"/>
                </a:lnTo>
                <a:lnTo>
                  <a:pt x="38" y="2"/>
                </a:lnTo>
                <a:lnTo>
                  <a:pt x="44" y="2"/>
                </a:lnTo>
                <a:lnTo>
                  <a:pt x="52" y="2"/>
                </a:lnTo>
                <a:lnTo>
                  <a:pt x="61" y="2"/>
                </a:lnTo>
                <a:lnTo>
                  <a:pt x="69" y="2"/>
                </a:lnTo>
                <a:lnTo>
                  <a:pt x="79" y="0"/>
                </a:lnTo>
                <a:lnTo>
                  <a:pt x="90" y="0"/>
                </a:lnTo>
                <a:lnTo>
                  <a:pt x="102" y="0"/>
                </a:lnTo>
                <a:lnTo>
                  <a:pt x="113" y="0"/>
                </a:lnTo>
                <a:lnTo>
                  <a:pt x="125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4"/>
          <p:cNvSpPr/>
          <p:nvPr/>
        </p:nvSpPr>
        <p:spPr>
          <a:xfrm>
            <a:off x="2868480" y="3294000"/>
            <a:ext cx="534960" cy="817560"/>
          </a:xfrm>
          <a:custGeom>
            <a:avLst/>
            <a:gdLst/>
            <a:ahLst/>
            <a:rect l="l" t="t" r="r" b="b"/>
            <a:pathLst>
              <a:path w="673" h="1029">
                <a:moveTo>
                  <a:pt x="625" y="551"/>
                </a:moveTo>
                <a:lnTo>
                  <a:pt x="623" y="586"/>
                </a:lnTo>
                <a:lnTo>
                  <a:pt x="623" y="620"/>
                </a:lnTo>
                <a:lnTo>
                  <a:pt x="622" y="653"/>
                </a:lnTo>
                <a:lnTo>
                  <a:pt x="622" y="684"/>
                </a:lnTo>
                <a:lnTo>
                  <a:pt x="620" y="714"/>
                </a:lnTo>
                <a:lnTo>
                  <a:pt x="616" y="741"/>
                </a:lnTo>
                <a:lnTo>
                  <a:pt x="614" y="768"/>
                </a:lnTo>
                <a:lnTo>
                  <a:pt x="610" y="793"/>
                </a:lnTo>
                <a:lnTo>
                  <a:pt x="608" y="818"/>
                </a:lnTo>
                <a:lnTo>
                  <a:pt x="604" y="839"/>
                </a:lnTo>
                <a:lnTo>
                  <a:pt x="600" y="860"/>
                </a:lnTo>
                <a:lnTo>
                  <a:pt x="595" y="879"/>
                </a:lnTo>
                <a:lnTo>
                  <a:pt x="591" y="897"/>
                </a:lnTo>
                <a:lnTo>
                  <a:pt x="587" y="912"/>
                </a:lnTo>
                <a:lnTo>
                  <a:pt x="581" y="925"/>
                </a:lnTo>
                <a:lnTo>
                  <a:pt x="575" y="939"/>
                </a:lnTo>
                <a:lnTo>
                  <a:pt x="568" y="948"/>
                </a:lnTo>
                <a:lnTo>
                  <a:pt x="562" y="960"/>
                </a:lnTo>
                <a:lnTo>
                  <a:pt x="554" y="970"/>
                </a:lnTo>
                <a:lnTo>
                  <a:pt x="549" y="977"/>
                </a:lnTo>
                <a:lnTo>
                  <a:pt x="543" y="987"/>
                </a:lnTo>
                <a:lnTo>
                  <a:pt x="537" y="995"/>
                </a:lnTo>
                <a:lnTo>
                  <a:pt x="531" y="1000"/>
                </a:lnTo>
                <a:lnTo>
                  <a:pt x="526" y="1006"/>
                </a:lnTo>
                <a:lnTo>
                  <a:pt x="522" y="1012"/>
                </a:lnTo>
                <a:lnTo>
                  <a:pt x="516" y="1018"/>
                </a:lnTo>
                <a:lnTo>
                  <a:pt x="512" y="1021"/>
                </a:lnTo>
                <a:lnTo>
                  <a:pt x="508" y="1023"/>
                </a:lnTo>
                <a:lnTo>
                  <a:pt x="504" y="1027"/>
                </a:lnTo>
                <a:lnTo>
                  <a:pt x="503" y="1029"/>
                </a:lnTo>
                <a:lnTo>
                  <a:pt x="499" y="1029"/>
                </a:lnTo>
                <a:lnTo>
                  <a:pt x="497" y="1029"/>
                </a:lnTo>
                <a:lnTo>
                  <a:pt x="491" y="1025"/>
                </a:lnTo>
                <a:lnTo>
                  <a:pt x="485" y="1019"/>
                </a:lnTo>
                <a:lnTo>
                  <a:pt x="480" y="1012"/>
                </a:lnTo>
                <a:lnTo>
                  <a:pt x="476" y="1004"/>
                </a:lnTo>
                <a:lnTo>
                  <a:pt x="474" y="998"/>
                </a:lnTo>
                <a:lnTo>
                  <a:pt x="472" y="995"/>
                </a:lnTo>
                <a:lnTo>
                  <a:pt x="472" y="987"/>
                </a:lnTo>
                <a:lnTo>
                  <a:pt x="470" y="981"/>
                </a:lnTo>
                <a:lnTo>
                  <a:pt x="470" y="973"/>
                </a:lnTo>
                <a:lnTo>
                  <a:pt x="468" y="966"/>
                </a:lnTo>
                <a:lnTo>
                  <a:pt x="468" y="958"/>
                </a:lnTo>
                <a:lnTo>
                  <a:pt x="468" y="948"/>
                </a:lnTo>
                <a:lnTo>
                  <a:pt x="466" y="939"/>
                </a:lnTo>
                <a:lnTo>
                  <a:pt x="464" y="927"/>
                </a:lnTo>
                <a:lnTo>
                  <a:pt x="460" y="916"/>
                </a:lnTo>
                <a:lnTo>
                  <a:pt x="457" y="904"/>
                </a:lnTo>
                <a:lnTo>
                  <a:pt x="453" y="891"/>
                </a:lnTo>
                <a:lnTo>
                  <a:pt x="447" y="877"/>
                </a:lnTo>
                <a:lnTo>
                  <a:pt x="443" y="864"/>
                </a:lnTo>
                <a:lnTo>
                  <a:pt x="435" y="849"/>
                </a:lnTo>
                <a:lnTo>
                  <a:pt x="430" y="833"/>
                </a:lnTo>
                <a:lnTo>
                  <a:pt x="422" y="816"/>
                </a:lnTo>
                <a:lnTo>
                  <a:pt x="414" y="801"/>
                </a:lnTo>
                <a:lnTo>
                  <a:pt x="405" y="781"/>
                </a:lnTo>
                <a:lnTo>
                  <a:pt x="395" y="764"/>
                </a:lnTo>
                <a:lnTo>
                  <a:pt x="384" y="745"/>
                </a:lnTo>
                <a:lnTo>
                  <a:pt x="374" y="724"/>
                </a:lnTo>
                <a:lnTo>
                  <a:pt x="361" y="703"/>
                </a:lnTo>
                <a:lnTo>
                  <a:pt x="376" y="703"/>
                </a:lnTo>
                <a:lnTo>
                  <a:pt x="391" y="701"/>
                </a:lnTo>
                <a:lnTo>
                  <a:pt x="405" y="699"/>
                </a:lnTo>
                <a:lnTo>
                  <a:pt x="420" y="697"/>
                </a:lnTo>
                <a:lnTo>
                  <a:pt x="437" y="693"/>
                </a:lnTo>
                <a:lnTo>
                  <a:pt x="453" y="691"/>
                </a:lnTo>
                <a:lnTo>
                  <a:pt x="470" y="687"/>
                </a:lnTo>
                <a:lnTo>
                  <a:pt x="487" y="684"/>
                </a:lnTo>
                <a:lnTo>
                  <a:pt x="489" y="653"/>
                </a:lnTo>
                <a:lnTo>
                  <a:pt x="489" y="622"/>
                </a:lnTo>
                <a:lnTo>
                  <a:pt x="489" y="593"/>
                </a:lnTo>
                <a:lnTo>
                  <a:pt x="491" y="565"/>
                </a:lnTo>
                <a:lnTo>
                  <a:pt x="491" y="538"/>
                </a:lnTo>
                <a:lnTo>
                  <a:pt x="491" y="511"/>
                </a:lnTo>
                <a:lnTo>
                  <a:pt x="491" y="486"/>
                </a:lnTo>
                <a:lnTo>
                  <a:pt x="491" y="461"/>
                </a:lnTo>
                <a:lnTo>
                  <a:pt x="491" y="438"/>
                </a:lnTo>
                <a:lnTo>
                  <a:pt x="491" y="415"/>
                </a:lnTo>
                <a:lnTo>
                  <a:pt x="491" y="394"/>
                </a:lnTo>
                <a:lnTo>
                  <a:pt x="491" y="373"/>
                </a:lnTo>
                <a:lnTo>
                  <a:pt x="491" y="354"/>
                </a:lnTo>
                <a:lnTo>
                  <a:pt x="489" y="334"/>
                </a:lnTo>
                <a:lnTo>
                  <a:pt x="489" y="315"/>
                </a:lnTo>
                <a:lnTo>
                  <a:pt x="489" y="298"/>
                </a:lnTo>
                <a:lnTo>
                  <a:pt x="487" y="283"/>
                </a:lnTo>
                <a:lnTo>
                  <a:pt x="487" y="267"/>
                </a:lnTo>
                <a:lnTo>
                  <a:pt x="487" y="252"/>
                </a:lnTo>
                <a:lnTo>
                  <a:pt x="485" y="238"/>
                </a:lnTo>
                <a:lnTo>
                  <a:pt x="485" y="227"/>
                </a:lnTo>
                <a:lnTo>
                  <a:pt x="483" y="213"/>
                </a:lnTo>
                <a:lnTo>
                  <a:pt x="481" y="204"/>
                </a:lnTo>
                <a:lnTo>
                  <a:pt x="481" y="192"/>
                </a:lnTo>
                <a:lnTo>
                  <a:pt x="480" y="185"/>
                </a:lnTo>
                <a:lnTo>
                  <a:pt x="478" y="175"/>
                </a:lnTo>
                <a:lnTo>
                  <a:pt x="476" y="167"/>
                </a:lnTo>
                <a:lnTo>
                  <a:pt x="476" y="162"/>
                </a:lnTo>
                <a:lnTo>
                  <a:pt x="474" y="156"/>
                </a:lnTo>
                <a:lnTo>
                  <a:pt x="472" y="150"/>
                </a:lnTo>
                <a:lnTo>
                  <a:pt x="470" y="146"/>
                </a:lnTo>
                <a:lnTo>
                  <a:pt x="468" y="142"/>
                </a:lnTo>
                <a:lnTo>
                  <a:pt x="466" y="141"/>
                </a:lnTo>
                <a:lnTo>
                  <a:pt x="462" y="139"/>
                </a:lnTo>
                <a:lnTo>
                  <a:pt x="457" y="135"/>
                </a:lnTo>
                <a:lnTo>
                  <a:pt x="453" y="133"/>
                </a:lnTo>
                <a:lnTo>
                  <a:pt x="447" y="131"/>
                </a:lnTo>
                <a:lnTo>
                  <a:pt x="439" y="129"/>
                </a:lnTo>
                <a:lnTo>
                  <a:pt x="432" y="129"/>
                </a:lnTo>
                <a:lnTo>
                  <a:pt x="424" y="127"/>
                </a:lnTo>
                <a:lnTo>
                  <a:pt x="416" y="127"/>
                </a:lnTo>
                <a:lnTo>
                  <a:pt x="407" y="125"/>
                </a:lnTo>
                <a:lnTo>
                  <a:pt x="395" y="125"/>
                </a:lnTo>
                <a:lnTo>
                  <a:pt x="386" y="125"/>
                </a:lnTo>
                <a:lnTo>
                  <a:pt x="374" y="125"/>
                </a:lnTo>
                <a:lnTo>
                  <a:pt x="361" y="125"/>
                </a:lnTo>
                <a:lnTo>
                  <a:pt x="347" y="125"/>
                </a:lnTo>
                <a:lnTo>
                  <a:pt x="334" y="125"/>
                </a:lnTo>
                <a:lnTo>
                  <a:pt x="320" y="127"/>
                </a:lnTo>
                <a:lnTo>
                  <a:pt x="305" y="127"/>
                </a:lnTo>
                <a:lnTo>
                  <a:pt x="288" y="129"/>
                </a:lnTo>
                <a:lnTo>
                  <a:pt x="272" y="131"/>
                </a:lnTo>
                <a:lnTo>
                  <a:pt x="253" y="133"/>
                </a:lnTo>
                <a:lnTo>
                  <a:pt x="236" y="135"/>
                </a:lnTo>
                <a:lnTo>
                  <a:pt x="217" y="137"/>
                </a:lnTo>
                <a:lnTo>
                  <a:pt x="197" y="139"/>
                </a:lnTo>
                <a:lnTo>
                  <a:pt x="176" y="141"/>
                </a:lnTo>
                <a:lnTo>
                  <a:pt x="155" y="144"/>
                </a:lnTo>
                <a:lnTo>
                  <a:pt x="132" y="146"/>
                </a:lnTo>
                <a:lnTo>
                  <a:pt x="109" y="150"/>
                </a:lnTo>
                <a:lnTo>
                  <a:pt x="86" y="152"/>
                </a:lnTo>
                <a:lnTo>
                  <a:pt x="61" y="156"/>
                </a:lnTo>
                <a:lnTo>
                  <a:pt x="36" y="160"/>
                </a:lnTo>
                <a:lnTo>
                  <a:pt x="9" y="164"/>
                </a:lnTo>
                <a:lnTo>
                  <a:pt x="0" y="81"/>
                </a:lnTo>
                <a:lnTo>
                  <a:pt x="32" y="81"/>
                </a:lnTo>
                <a:lnTo>
                  <a:pt x="65" y="81"/>
                </a:lnTo>
                <a:lnTo>
                  <a:pt x="96" y="77"/>
                </a:lnTo>
                <a:lnTo>
                  <a:pt x="126" y="75"/>
                </a:lnTo>
                <a:lnTo>
                  <a:pt x="157" y="73"/>
                </a:lnTo>
                <a:lnTo>
                  <a:pt x="190" y="70"/>
                </a:lnTo>
                <a:lnTo>
                  <a:pt x="220" y="66"/>
                </a:lnTo>
                <a:lnTo>
                  <a:pt x="253" y="62"/>
                </a:lnTo>
                <a:lnTo>
                  <a:pt x="270" y="60"/>
                </a:lnTo>
                <a:lnTo>
                  <a:pt x="284" y="58"/>
                </a:lnTo>
                <a:lnTo>
                  <a:pt x="299" y="54"/>
                </a:lnTo>
                <a:lnTo>
                  <a:pt x="313" y="52"/>
                </a:lnTo>
                <a:lnTo>
                  <a:pt x="326" y="50"/>
                </a:lnTo>
                <a:lnTo>
                  <a:pt x="338" y="46"/>
                </a:lnTo>
                <a:lnTo>
                  <a:pt x="349" y="45"/>
                </a:lnTo>
                <a:lnTo>
                  <a:pt x="359" y="41"/>
                </a:lnTo>
                <a:lnTo>
                  <a:pt x="368" y="39"/>
                </a:lnTo>
                <a:lnTo>
                  <a:pt x="378" y="35"/>
                </a:lnTo>
                <a:lnTo>
                  <a:pt x="386" y="33"/>
                </a:lnTo>
                <a:lnTo>
                  <a:pt x="393" y="29"/>
                </a:lnTo>
                <a:lnTo>
                  <a:pt x="401" y="27"/>
                </a:lnTo>
                <a:lnTo>
                  <a:pt x="409" y="25"/>
                </a:lnTo>
                <a:lnTo>
                  <a:pt x="414" y="23"/>
                </a:lnTo>
                <a:lnTo>
                  <a:pt x="420" y="22"/>
                </a:lnTo>
                <a:lnTo>
                  <a:pt x="433" y="14"/>
                </a:lnTo>
                <a:lnTo>
                  <a:pt x="441" y="10"/>
                </a:lnTo>
                <a:lnTo>
                  <a:pt x="449" y="6"/>
                </a:lnTo>
                <a:lnTo>
                  <a:pt x="457" y="4"/>
                </a:lnTo>
                <a:lnTo>
                  <a:pt x="464" y="2"/>
                </a:lnTo>
                <a:lnTo>
                  <a:pt x="470" y="0"/>
                </a:lnTo>
                <a:lnTo>
                  <a:pt x="478" y="0"/>
                </a:lnTo>
                <a:lnTo>
                  <a:pt x="480" y="0"/>
                </a:lnTo>
                <a:lnTo>
                  <a:pt x="483" y="0"/>
                </a:lnTo>
                <a:lnTo>
                  <a:pt x="487" y="2"/>
                </a:lnTo>
                <a:lnTo>
                  <a:pt x="491" y="4"/>
                </a:lnTo>
                <a:lnTo>
                  <a:pt x="495" y="6"/>
                </a:lnTo>
                <a:lnTo>
                  <a:pt x="501" y="8"/>
                </a:lnTo>
                <a:lnTo>
                  <a:pt x="506" y="12"/>
                </a:lnTo>
                <a:lnTo>
                  <a:pt x="514" y="14"/>
                </a:lnTo>
                <a:lnTo>
                  <a:pt x="520" y="18"/>
                </a:lnTo>
                <a:lnTo>
                  <a:pt x="528" y="22"/>
                </a:lnTo>
                <a:lnTo>
                  <a:pt x="537" y="25"/>
                </a:lnTo>
                <a:lnTo>
                  <a:pt x="545" y="31"/>
                </a:lnTo>
                <a:lnTo>
                  <a:pt x="554" y="35"/>
                </a:lnTo>
                <a:lnTo>
                  <a:pt x="564" y="41"/>
                </a:lnTo>
                <a:lnTo>
                  <a:pt x="585" y="52"/>
                </a:lnTo>
                <a:lnTo>
                  <a:pt x="597" y="58"/>
                </a:lnTo>
                <a:lnTo>
                  <a:pt x="606" y="66"/>
                </a:lnTo>
                <a:lnTo>
                  <a:pt x="616" y="73"/>
                </a:lnTo>
                <a:lnTo>
                  <a:pt x="623" y="79"/>
                </a:lnTo>
                <a:lnTo>
                  <a:pt x="631" y="87"/>
                </a:lnTo>
                <a:lnTo>
                  <a:pt x="639" y="93"/>
                </a:lnTo>
                <a:lnTo>
                  <a:pt x="645" y="98"/>
                </a:lnTo>
                <a:lnTo>
                  <a:pt x="650" y="104"/>
                </a:lnTo>
                <a:lnTo>
                  <a:pt x="656" y="108"/>
                </a:lnTo>
                <a:lnTo>
                  <a:pt x="660" y="114"/>
                </a:lnTo>
                <a:lnTo>
                  <a:pt x="664" y="117"/>
                </a:lnTo>
                <a:lnTo>
                  <a:pt x="668" y="121"/>
                </a:lnTo>
                <a:lnTo>
                  <a:pt x="670" y="125"/>
                </a:lnTo>
                <a:lnTo>
                  <a:pt x="671" y="129"/>
                </a:lnTo>
                <a:lnTo>
                  <a:pt x="673" y="131"/>
                </a:lnTo>
                <a:lnTo>
                  <a:pt x="673" y="133"/>
                </a:lnTo>
                <a:lnTo>
                  <a:pt x="673" y="141"/>
                </a:lnTo>
                <a:lnTo>
                  <a:pt x="671" y="148"/>
                </a:lnTo>
                <a:lnTo>
                  <a:pt x="670" y="156"/>
                </a:lnTo>
                <a:lnTo>
                  <a:pt x="668" y="165"/>
                </a:lnTo>
                <a:lnTo>
                  <a:pt x="664" y="173"/>
                </a:lnTo>
                <a:lnTo>
                  <a:pt x="660" y="183"/>
                </a:lnTo>
                <a:lnTo>
                  <a:pt x="658" y="192"/>
                </a:lnTo>
                <a:lnTo>
                  <a:pt x="654" y="204"/>
                </a:lnTo>
                <a:lnTo>
                  <a:pt x="652" y="208"/>
                </a:lnTo>
                <a:lnTo>
                  <a:pt x="650" y="212"/>
                </a:lnTo>
                <a:lnTo>
                  <a:pt x="648" y="215"/>
                </a:lnTo>
                <a:lnTo>
                  <a:pt x="647" y="219"/>
                </a:lnTo>
                <a:lnTo>
                  <a:pt x="645" y="225"/>
                </a:lnTo>
                <a:lnTo>
                  <a:pt x="645" y="231"/>
                </a:lnTo>
                <a:lnTo>
                  <a:pt x="643" y="236"/>
                </a:lnTo>
                <a:lnTo>
                  <a:pt x="641" y="244"/>
                </a:lnTo>
                <a:lnTo>
                  <a:pt x="639" y="252"/>
                </a:lnTo>
                <a:lnTo>
                  <a:pt x="639" y="260"/>
                </a:lnTo>
                <a:lnTo>
                  <a:pt x="637" y="267"/>
                </a:lnTo>
                <a:lnTo>
                  <a:pt x="637" y="277"/>
                </a:lnTo>
                <a:lnTo>
                  <a:pt x="635" y="286"/>
                </a:lnTo>
                <a:lnTo>
                  <a:pt x="633" y="296"/>
                </a:lnTo>
                <a:lnTo>
                  <a:pt x="633" y="306"/>
                </a:lnTo>
                <a:lnTo>
                  <a:pt x="631" y="317"/>
                </a:lnTo>
                <a:lnTo>
                  <a:pt x="629" y="340"/>
                </a:lnTo>
                <a:lnTo>
                  <a:pt x="629" y="363"/>
                </a:lnTo>
                <a:lnTo>
                  <a:pt x="627" y="390"/>
                </a:lnTo>
                <a:lnTo>
                  <a:pt x="625" y="419"/>
                </a:lnTo>
                <a:lnTo>
                  <a:pt x="625" y="449"/>
                </a:lnTo>
                <a:lnTo>
                  <a:pt x="625" y="482"/>
                </a:lnTo>
                <a:lnTo>
                  <a:pt x="625" y="515"/>
                </a:lnTo>
                <a:lnTo>
                  <a:pt x="625" y="551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5"/>
          <p:cNvSpPr/>
          <p:nvPr/>
        </p:nvSpPr>
        <p:spPr>
          <a:xfrm>
            <a:off x="2846520" y="3552840"/>
            <a:ext cx="309600" cy="88920"/>
          </a:xfrm>
          <a:custGeom>
            <a:avLst/>
            <a:gdLst/>
            <a:ahLst/>
            <a:rect l="l" t="t" r="r" b="b"/>
            <a:pathLst>
              <a:path w="390" h="111">
                <a:moveTo>
                  <a:pt x="322" y="92"/>
                </a:moveTo>
                <a:lnTo>
                  <a:pt x="313" y="94"/>
                </a:lnTo>
                <a:lnTo>
                  <a:pt x="303" y="96"/>
                </a:lnTo>
                <a:lnTo>
                  <a:pt x="292" y="98"/>
                </a:lnTo>
                <a:lnTo>
                  <a:pt x="280" y="99"/>
                </a:lnTo>
                <a:lnTo>
                  <a:pt x="265" y="101"/>
                </a:lnTo>
                <a:lnTo>
                  <a:pt x="249" y="101"/>
                </a:lnTo>
                <a:lnTo>
                  <a:pt x="230" y="103"/>
                </a:lnTo>
                <a:lnTo>
                  <a:pt x="211" y="105"/>
                </a:lnTo>
                <a:lnTo>
                  <a:pt x="192" y="107"/>
                </a:lnTo>
                <a:lnTo>
                  <a:pt x="169" y="107"/>
                </a:lnTo>
                <a:lnTo>
                  <a:pt x="144" y="109"/>
                </a:lnTo>
                <a:lnTo>
                  <a:pt x="119" y="109"/>
                </a:lnTo>
                <a:lnTo>
                  <a:pt x="92" y="111"/>
                </a:lnTo>
                <a:lnTo>
                  <a:pt x="61" y="111"/>
                </a:lnTo>
                <a:lnTo>
                  <a:pt x="33" y="111"/>
                </a:lnTo>
                <a:lnTo>
                  <a:pt x="0" y="111"/>
                </a:lnTo>
                <a:lnTo>
                  <a:pt x="0" y="50"/>
                </a:lnTo>
                <a:lnTo>
                  <a:pt x="36" y="42"/>
                </a:lnTo>
                <a:lnTo>
                  <a:pt x="56" y="38"/>
                </a:lnTo>
                <a:lnTo>
                  <a:pt x="75" y="34"/>
                </a:lnTo>
                <a:lnTo>
                  <a:pt x="96" y="30"/>
                </a:lnTo>
                <a:lnTo>
                  <a:pt x="117" y="28"/>
                </a:lnTo>
                <a:lnTo>
                  <a:pt x="140" y="25"/>
                </a:lnTo>
                <a:lnTo>
                  <a:pt x="165" y="21"/>
                </a:lnTo>
                <a:lnTo>
                  <a:pt x="178" y="19"/>
                </a:lnTo>
                <a:lnTo>
                  <a:pt x="190" y="17"/>
                </a:lnTo>
                <a:lnTo>
                  <a:pt x="201" y="15"/>
                </a:lnTo>
                <a:lnTo>
                  <a:pt x="211" y="13"/>
                </a:lnTo>
                <a:lnTo>
                  <a:pt x="221" y="11"/>
                </a:lnTo>
                <a:lnTo>
                  <a:pt x="230" y="9"/>
                </a:lnTo>
                <a:lnTo>
                  <a:pt x="240" y="7"/>
                </a:lnTo>
                <a:lnTo>
                  <a:pt x="248" y="5"/>
                </a:lnTo>
                <a:lnTo>
                  <a:pt x="255" y="4"/>
                </a:lnTo>
                <a:lnTo>
                  <a:pt x="261" y="4"/>
                </a:lnTo>
                <a:lnTo>
                  <a:pt x="269" y="2"/>
                </a:lnTo>
                <a:lnTo>
                  <a:pt x="274" y="2"/>
                </a:lnTo>
                <a:lnTo>
                  <a:pt x="280" y="0"/>
                </a:lnTo>
                <a:lnTo>
                  <a:pt x="284" y="0"/>
                </a:lnTo>
                <a:lnTo>
                  <a:pt x="288" y="0"/>
                </a:lnTo>
                <a:lnTo>
                  <a:pt x="292" y="0"/>
                </a:lnTo>
                <a:lnTo>
                  <a:pt x="296" y="0"/>
                </a:lnTo>
                <a:lnTo>
                  <a:pt x="297" y="0"/>
                </a:lnTo>
                <a:lnTo>
                  <a:pt x="301" y="0"/>
                </a:lnTo>
                <a:lnTo>
                  <a:pt x="305" y="2"/>
                </a:lnTo>
                <a:lnTo>
                  <a:pt x="309" y="2"/>
                </a:lnTo>
                <a:lnTo>
                  <a:pt x="315" y="4"/>
                </a:lnTo>
                <a:lnTo>
                  <a:pt x="320" y="5"/>
                </a:lnTo>
                <a:lnTo>
                  <a:pt x="326" y="7"/>
                </a:lnTo>
                <a:lnTo>
                  <a:pt x="340" y="11"/>
                </a:lnTo>
                <a:lnTo>
                  <a:pt x="355" y="17"/>
                </a:lnTo>
                <a:lnTo>
                  <a:pt x="372" y="23"/>
                </a:lnTo>
                <a:lnTo>
                  <a:pt x="390" y="30"/>
                </a:lnTo>
                <a:lnTo>
                  <a:pt x="390" y="36"/>
                </a:lnTo>
                <a:lnTo>
                  <a:pt x="390" y="42"/>
                </a:lnTo>
                <a:lnTo>
                  <a:pt x="388" y="46"/>
                </a:lnTo>
                <a:lnTo>
                  <a:pt x="386" y="51"/>
                </a:lnTo>
                <a:lnTo>
                  <a:pt x="384" y="55"/>
                </a:lnTo>
                <a:lnTo>
                  <a:pt x="382" y="59"/>
                </a:lnTo>
                <a:lnTo>
                  <a:pt x="378" y="65"/>
                </a:lnTo>
                <a:lnTo>
                  <a:pt x="374" y="69"/>
                </a:lnTo>
                <a:lnTo>
                  <a:pt x="370" y="73"/>
                </a:lnTo>
                <a:lnTo>
                  <a:pt x="365" y="75"/>
                </a:lnTo>
                <a:lnTo>
                  <a:pt x="359" y="78"/>
                </a:lnTo>
                <a:lnTo>
                  <a:pt x="353" y="82"/>
                </a:lnTo>
                <a:lnTo>
                  <a:pt x="345" y="84"/>
                </a:lnTo>
                <a:lnTo>
                  <a:pt x="338" y="86"/>
                </a:lnTo>
                <a:lnTo>
                  <a:pt x="330" y="90"/>
                </a:lnTo>
                <a:lnTo>
                  <a:pt x="322" y="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6"/>
          <p:cNvSpPr/>
          <p:nvPr/>
        </p:nvSpPr>
        <p:spPr>
          <a:xfrm>
            <a:off x="2846520" y="3787920"/>
            <a:ext cx="371520" cy="88920"/>
          </a:xfrm>
          <a:custGeom>
            <a:avLst/>
            <a:gdLst/>
            <a:ahLst/>
            <a:rect l="l" t="t" r="r" b="b"/>
            <a:pathLst>
              <a:path w="468" h="112">
                <a:moveTo>
                  <a:pt x="0" y="50"/>
                </a:moveTo>
                <a:lnTo>
                  <a:pt x="19" y="48"/>
                </a:lnTo>
                <a:lnTo>
                  <a:pt x="36" y="44"/>
                </a:lnTo>
                <a:lnTo>
                  <a:pt x="56" y="42"/>
                </a:lnTo>
                <a:lnTo>
                  <a:pt x="73" y="41"/>
                </a:lnTo>
                <a:lnTo>
                  <a:pt x="88" y="37"/>
                </a:lnTo>
                <a:lnTo>
                  <a:pt x="106" y="35"/>
                </a:lnTo>
                <a:lnTo>
                  <a:pt x="121" y="33"/>
                </a:lnTo>
                <a:lnTo>
                  <a:pt x="136" y="29"/>
                </a:lnTo>
                <a:lnTo>
                  <a:pt x="152" y="27"/>
                </a:lnTo>
                <a:lnTo>
                  <a:pt x="165" y="25"/>
                </a:lnTo>
                <a:lnTo>
                  <a:pt x="180" y="23"/>
                </a:lnTo>
                <a:lnTo>
                  <a:pt x="194" y="21"/>
                </a:lnTo>
                <a:lnTo>
                  <a:pt x="205" y="19"/>
                </a:lnTo>
                <a:lnTo>
                  <a:pt x="219" y="17"/>
                </a:lnTo>
                <a:lnTo>
                  <a:pt x="230" y="16"/>
                </a:lnTo>
                <a:lnTo>
                  <a:pt x="242" y="14"/>
                </a:lnTo>
                <a:lnTo>
                  <a:pt x="251" y="12"/>
                </a:lnTo>
                <a:lnTo>
                  <a:pt x="263" y="10"/>
                </a:lnTo>
                <a:lnTo>
                  <a:pt x="272" y="10"/>
                </a:lnTo>
                <a:lnTo>
                  <a:pt x="280" y="8"/>
                </a:lnTo>
                <a:lnTo>
                  <a:pt x="290" y="6"/>
                </a:lnTo>
                <a:lnTo>
                  <a:pt x="297" y="6"/>
                </a:lnTo>
                <a:lnTo>
                  <a:pt x="305" y="4"/>
                </a:lnTo>
                <a:lnTo>
                  <a:pt x="313" y="4"/>
                </a:lnTo>
                <a:lnTo>
                  <a:pt x="319" y="2"/>
                </a:lnTo>
                <a:lnTo>
                  <a:pt x="324" y="2"/>
                </a:lnTo>
                <a:lnTo>
                  <a:pt x="330" y="2"/>
                </a:lnTo>
                <a:lnTo>
                  <a:pt x="336" y="0"/>
                </a:lnTo>
                <a:lnTo>
                  <a:pt x="340" y="0"/>
                </a:lnTo>
                <a:lnTo>
                  <a:pt x="344" y="0"/>
                </a:lnTo>
                <a:lnTo>
                  <a:pt x="347" y="0"/>
                </a:lnTo>
                <a:lnTo>
                  <a:pt x="351" y="0"/>
                </a:lnTo>
                <a:lnTo>
                  <a:pt x="361" y="0"/>
                </a:lnTo>
                <a:lnTo>
                  <a:pt x="372" y="2"/>
                </a:lnTo>
                <a:lnTo>
                  <a:pt x="380" y="4"/>
                </a:lnTo>
                <a:lnTo>
                  <a:pt x="390" y="8"/>
                </a:lnTo>
                <a:lnTo>
                  <a:pt x="399" y="14"/>
                </a:lnTo>
                <a:lnTo>
                  <a:pt x="409" y="21"/>
                </a:lnTo>
                <a:lnTo>
                  <a:pt x="418" y="31"/>
                </a:lnTo>
                <a:lnTo>
                  <a:pt x="424" y="35"/>
                </a:lnTo>
                <a:lnTo>
                  <a:pt x="430" y="41"/>
                </a:lnTo>
                <a:lnTo>
                  <a:pt x="439" y="52"/>
                </a:lnTo>
                <a:lnTo>
                  <a:pt x="447" y="62"/>
                </a:lnTo>
                <a:lnTo>
                  <a:pt x="455" y="71"/>
                </a:lnTo>
                <a:lnTo>
                  <a:pt x="459" y="81"/>
                </a:lnTo>
                <a:lnTo>
                  <a:pt x="462" y="88"/>
                </a:lnTo>
                <a:lnTo>
                  <a:pt x="466" y="96"/>
                </a:lnTo>
                <a:lnTo>
                  <a:pt x="468" y="104"/>
                </a:lnTo>
                <a:lnTo>
                  <a:pt x="468" y="112"/>
                </a:lnTo>
                <a:lnTo>
                  <a:pt x="0" y="112"/>
                </a:lnTo>
                <a:lnTo>
                  <a:pt x="0" y="5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2496960" y="2946240"/>
            <a:ext cx="1227240" cy="284400"/>
          </a:xfrm>
          <a:custGeom>
            <a:avLst/>
            <a:gdLst/>
            <a:ahLst/>
            <a:rect l="l" t="t" r="r" b="b"/>
            <a:pathLst>
              <a:path w="1544" h="357">
                <a:moveTo>
                  <a:pt x="1541" y="102"/>
                </a:moveTo>
                <a:lnTo>
                  <a:pt x="1539" y="105"/>
                </a:lnTo>
                <a:lnTo>
                  <a:pt x="1537" y="109"/>
                </a:lnTo>
                <a:lnTo>
                  <a:pt x="1531" y="111"/>
                </a:lnTo>
                <a:lnTo>
                  <a:pt x="1527" y="115"/>
                </a:lnTo>
                <a:lnTo>
                  <a:pt x="1521" y="117"/>
                </a:lnTo>
                <a:lnTo>
                  <a:pt x="1514" y="119"/>
                </a:lnTo>
                <a:lnTo>
                  <a:pt x="1506" y="123"/>
                </a:lnTo>
                <a:lnTo>
                  <a:pt x="1498" y="125"/>
                </a:lnTo>
                <a:lnTo>
                  <a:pt x="1489" y="127"/>
                </a:lnTo>
                <a:lnTo>
                  <a:pt x="1477" y="127"/>
                </a:lnTo>
                <a:lnTo>
                  <a:pt x="1466" y="128"/>
                </a:lnTo>
                <a:lnTo>
                  <a:pt x="1454" y="130"/>
                </a:lnTo>
                <a:lnTo>
                  <a:pt x="1441" y="130"/>
                </a:lnTo>
                <a:lnTo>
                  <a:pt x="1425" y="130"/>
                </a:lnTo>
                <a:lnTo>
                  <a:pt x="1410" y="132"/>
                </a:lnTo>
                <a:lnTo>
                  <a:pt x="1395" y="132"/>
                </a:lnTo>
                <a:lnTo>
                  <a:pt x="1360" y="132"/>
                </a:lnTo>
                <a:lnTo>
                  <a:pt x="1326" y="132"/>
                </a:lnTo>
                <a:lnTo>
                  <a:pt x="1293" y="132"/>
                </a:lnTo>
                <a:lnTo>
                  <a:pt x="1262" y="132"/>
                </a:lnTo>
                <a:lnTo>
                  <a:pt x="1232" y="134"/>
                </a:lnTo>
                <a:lnTo>
                  <a:pt x="1205" y="136"/>
                </a:lnTo>
                <a:lnTo>
                  <a:pt x="1178" y="138"/>
                </a:lnTo>
                <a:lnTo>
                  <a:pt x="1151" y="142"/>
                </a:lnTo>
                <a:lnTo>
                  <a:pt x="1138" y="144"/>
                </a:lnTo>
                <a:lnTo>
                  <a:pt x="1122" y="146"/>
                </a:lnTo>
                <a:lnTo>
                  <a:pt x="1107" y="150"/>
                </a:lnTo>
                <a:lnTo>
                  <a:pt x="1091" y="151"/>
                </a:lnTo>
                <a:lnTo>
                  <a:pt x="1072" y="153"/>
                </a:lnTo>
                <a:lnTo>
                  <a:pt x="1053" y="157"/>
                </a:lnTo>
                <a:lnTo>
                  <a:pt x="1034" y="161"/>
                </a:lnTo>
                <a:lnTo>
                  <a:pt x="1013" y="163"/>
                </a:lnTo>
                <a:lnTo>
                  <a:pt x="990" y="167"/>
                </a:lnTo>
                <a:lnTo>
                  <a:pt x="965" y="171"/>
                </a:lnTo>
                <a:lnTo>
                  <a:pt x="942" y="175"/>
                </a:lnTo>
                <a:lnTo>
                  <a:pt x="915" y="178"/>
                </a:lnTo>
                <a:lnTo>
                  <a:pt x="888" y="182"/>
                </a:lnTo>
                <a:lnTo>
                  <a:pt x="859" y="186"/>
                </a:lnTo>
                <a:lnTo>
                  <a:pt x="830" y="190"/>
                </a:lnTo>
                <a:lnTo>
                  <a:pt x="800" y="194"/>
                </a:lnTo>
                <a:lnTo>
                  <a:pt x="738" y="205"/>
                </a:lnTo>
                <a:lnTo>
                  <a:pt x="679" y="217"/>
                </a:lnTo>
                <a:lnTo>
                  <a:pt x="619" y="228"/>
                </a:lnTo>
                <a:lnTo>
                  <a:pt x="564" y="240"/>
                </a:lnTo>
                <a:lnTo>
                  <a:pt x="506" y="253"/>
                </a:lnTo>
                <a:lnTo>
                  <a:pt x="451" y="267"/>
                </a:lnTo>
                <a:lnTo>
                  <a:pt x="397" y="280"/>
                </a:lnTo>
                <a:lnTo>
                  <a:pt x="341" y="295"/>
                </a:lnTo>
                <a:lnTo>
                  <a:pt x="314" y="303"/>
                </a:lnTo>
                <a:lnTo>
                  <a:pt x="289" y="309"/>
                </a:lnTo>
                <a:lnTo>
                  <a:pt x="266" y="317"/>
                </a:lnTo>
                <a:lnTo>
                  <a:pt x="245" y="322"/>
                </a:lnTo>
                <a:lnTo>
                  <a:pt x="226" y="328"/>
                </a:lnTo>
                <a:lnTo>
                  <a:pt x="209" y="332"/>
                </a:lnTo>
                <a:lnTo>
                  <a:pt x="191" y="338"/>
                </a:lnTo>
                <a:lnTo>
                  <a:pt x="178" y="341"/>
                </a:lnTo>
                <a:lnTo>
                  <a:pt x="165" y="345"/>
                </a:lnTo>
                <a:lnTo>
                  <a:pt x="153" y="347"/>
                </a:lnTo>
                <a:lnTo>
                  <a:pt x="143" y="349"/>
                </a:lnTo>
                <a:lnTo>
                  <a:pt x="136" y="353"/>
                </a:lnTo>
                <a:lnTo>
                  <a:pt x="128" y="353"/>
                </a:lnTo>
                <a:lnTo>
                  <a:pt x="122" y="355"/>
                </a:lnTo>
                <a:lnTo>
                  <a:pt x="119" y="355"/>
                </a:lnTo>
                <a:lnTo>
                  <a:pt x="117" y="357"/>
                </a:lnTo>
                <a:lnTo>
                  <a:pt x="113" y="355"/>
                </a:lnTo>
                <a:lnTo>
                  <a:pt x="105" y="355"/>
                </a:lnTo>
                <a:lnTo>
                  <a:pt x="97" y="351"/>
                </a:lnTo>
                <a:lnTo>
                  <a:pt x="90" y="349"/>
                </a:lnTo>
                <a:lnTo>
                  <a:pt x="80" y="343"/>
                </a:lnTo>
                <a:lnTo>
                  <a:pt x="71" y="340"/>
                </a:lnTo>
                <a:lnTo>
                  <a:pt x="59" y="332"/>
                </a:lnTo>
                <a:lnTo>
                  <a:pt x="47" y="326"/>
                </a:lnTo>
                <a:lnTo>
                  <a:pt x="38" y="318"/>
                </a:lnTo>
                <a:lnTo>
                  <a:pt x="28" y="311"/>
                </a:lnTo>
                <a:lnTo>
                  <a:pt x="21" y="305"/>
                </a:lnTo>
                <a:lnTo>
                  <a:pt x="13" y="301"/>
                </a:lnTo>
                <a:lnTo>
                  <a:pt x="7" y="297"/>
                </a:lnTo>
                <a:lnTo>
                  <a:pt x="3" y="292"/>
                </a:lnTo>
                <a:lnTo>
                  <a:pt x="0" y="288"/>
                </a:lnTo>
                <a:lnTo>
                  <a:pt x="0" y="284"/>
                </a:lnTo>
                <a:lnTo>
                  <a:pt x="1" y="282"/>
                </a:lnTo>
                <a:lnTo>
                  <a:pt x="5" y="280"/>
                </a:lnTo>
                <a:lnTo>
                  <a:pt x="9" y="278"/>
                </a:lnTo>
                <a:lnTo>
                  <a:pt x="15" y="276"/>
                </a:lnTo>
                <a:lnTo>
                  <a:pt x="23" y="274"/>
                </a:lnTo>
                <a:lnTo>
                  <a:pt x="30" y="272"/>
                </a:lnTo>
                <a:lnTo>
                  <a:pt x="40" y="270"/>
                </a:lnTo>
                <a:lnTo>
                  <a:pt x="51" y="267"/>
                </a:lnTo>
                <a:lnTo>
                  <a:pt x="63" y="263"/>
                </a:lnTo>
                <a:lnTo>
                  <a:pt x="76" y="261"/>
                </a:lnTo>
                <a:lnTo>
                  <a:pt x="92" y="257"/>
                </a:lnTo>
                <a:lnTo>
                  <a:pt x="107" y="253"/>
                </a:lnTo>
                <a:lnTo>
                  <a:pt x="124" y="247"/>
                </a:lnTo>
                <a:lnTo>
                  <a:pt x="142" y="244"/>
                </a:lnTo>
                <a:lnTo>
                  <a:pt x="163" y="240"/>
                </a:lnTo>
                <a:lnTo>
                  <a:pt x="184" y="234"/>
                </a:lnTo>
                <a:lnTo>
                  <a:pt x="205" y="230"/>
                </a:lnTo>
                <a:lnTo>
                  <a:pt x="228" y="224"/>
                </a:lnTo>
                <a:lnTo>
                  <a:pt x="253" y="219"/>
                </a:lnTo>
                <a:lnTo>
                  <a:pt x="280" y="213"/>
                </a:lnTo>
                <a:lnTo>
                  <a:pt x="307" y="207"/>
                </a:lnTo>
                <a:lnTo>
                  <a:pt x="335" y="199"/>
                </a:lnTo>
                <a:lnTo>
                  <a:pt x="366" y="194"/>
                </a:lnTo>
                <a:lnTo>
                  <a:pt x="397" y="186"/>
                </a:lnTo>
                <a:lnTo>
                  <a:pt x="429" y="180"/>
                </a:lnTo>
                <a:lnTo>
                  <a:pt x="464" y="173"/>
                </a:lnTo>
                <a:lnTo>
                  <a:pt x="498" y="165"/>
                </a:lnTo>
                <a:lnTo>
                  <a:pt x="535" y="157"/>
                </a:lnTo>
                <a:lnTo>
                  <a:pt x="573" y="150"/>
                </a:lnTo>
                <a:lnTo>
                  <a:pt x="614" y="140"/>
                </a:lnTo>
                <a:lnTo>
                  <a:pt x="654" y="132"/>
                </a:lnTo>
                <a:lnTo>
                  <a:pt x="692" y="123"/>
                </a:lnTo>
                <a:lnTo>
                  <a:pt x="731" y="115"/>
                </a:lnTo>
                <a:lnTo>
                  <a:pt x="769" y="107"/>
                </a:lnTo>
                <a:lnTo>
                  <a:pt x="806" y="100"/>
                </a:lnTo>
                <a:lnTo>
                  <a:pt x="840" y="92"/>
                </a:lnTo>
                <a:lnTo>
                  <a:pt x="875" y="84"/>
                </a:lnTo>
                <a:lnTo>
                  <a:pt x="907" y="79"/>
                </a:lnTo>
                <a:lnTo>
                  <a:pt x="940" y="71"/>
                </a:lnTo>
                <a:lnTo>
                  <a:pt x="971" y="65"/>
                </a:lnTo>
                <a:lnTo>
                  <a:pt x="1001" y="59"/>
                </a:lnTo>
                <a:lnTo>
                  <a:pt x="1030" y="54"/>
                </a:lnTo>
                <a:lnTo>
                  <a:pt x="1057" y="48"/>
                </a:lnTo>
                <a:lnTo>
                  <a:pt x="1084" y="44"/>
                </a:lnTo>
                <a:lnTo>
                  <a:pt x="1109" y="38"/>
                </a:lnTo>
                <a:lnTo>
                  <a:pt x="1134" y="34"/>
                </a:lnTo>
                <a:lnTo>
                  <a:pt x="1157" y="31"/>
                </a:lnTo>
                <a:lnTo>
                  <a:pt x="1180" y="27"/>
                </a:lnTo>
                <a:lnTo>
                  <a:pt x="1201" y="23"/>
                </a:lnTo>
                <a:lnTo>
                  <a:pt x="1220" y="19"/>
                </a:lnTo>
                <a:lnTo>
                  <a:pt x="1239" y="17"/>
                </a:lnTo>
                <a:lnTo>
                  <a:pt x="1257" y="13"/>
                </a:lnTo>
                <a:lnTo>
                  <a:pt x="1272" y="11"/>
                </a:lnTo>
                <a:lnTo>
                  <a:pt x="1287" y="9"/>
                </a:lnTo>
                <a:lnTo>
                  <a:pt x="1303" y="8"/>
                </a:lnTo>
                <a:lnTo>
                  <a:pt x="1316" y="6"/>
                </a:lnTo>
                <a:lnTo>
                  <a:pt x="1328" y="4"/>
                </a:lnTo>
                <a:lnTo>
                  <a:pt x="1339" y="2"/>
                </a:lnTo>
                <a:lnTo>
                  <a:pt x="1349" y="2"/>
                </a:lnTo>
                <a:lnTo>
                  <a:pt x="1356" y="0"/>
                </a:lnTo>
                <a:lnTo>
                  <a:pt x="1364" y="0"/>
                </a:lnTo>
                <a:lnTo>
                  <a:pt x="1370" y="0"/>
                </a:lnTo>
                <a:lnTo>
                  <a:pt x="1375" y="0"/>
                </a:lnTo>
                <a:lnTo>
                  <a:pt x="1393" y="0"/>
                </a:lnTo>
                <a:lnTo>
                  <a:pt x="1412" y="2"/>
                </a:lnTo>
                <a:lnTo>
                  <a:pt x="1429" y="4"/>
                </a:lnTo>
                <a:lnTo>
                  <a:pt x="1447" y="8"/>
                </a:lnTo>
                <a:lnTo>
                  <a:pt x="1462" y="11"/>
                </a:lnTo>
                <a:lnTo>
                  <a:pt x="1477" y="17"/>
                </a:lnTo>
                <a:lnTo>
                  <a:pt x="1491" y="23"/>
                </a:lnTo>
                <a:lnTo>
                  <a:pt x="1502" y="31"/>
                </a:lnTo>
                <a:lnTo>
                  <a:pt x="1512" y="40"/>
                </a:lnTo>
                <a:lnTo>
                  <a:pt x="1521" y="52"/>
                </a:lnTo>
                <a:lnTo>
                  <a:pt x="1529" y="61"/>
                </a:lnTo>
                <a:lnTo>
                  <a:pt x="1537" y="69"/>
                </a:lnTo>
                <a:lnTo>
                  <a:pt x="1539" y="73"/>
                </a:lnTo>
                <a:lnTo>
                  <a:pt x="1541" y="79"/>
                </a:lnTo>
                <a:lnTo>
                  <a:pt x="1542" y="82"/>
                </a:lnTo>
                <a:lnTo>
                  <a:pt x="1542" y="86"/>
                </a:lnTo>
                <a:lnTo>
                  <a:pt x="1544" y="90"/>
                </a:lnTo>
                <a:lnTo>
                  <a:pt x="1544" y="94"/>
                </a:lnTo>
                <a:lnTo>
                  <a:pt x="1542" y="98"/>
                </a:lnTo>
                <a:lnTo>
                  <a:pt x="1541" y="10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410080" y="1447920"/>
            <a:ext cx="3353040" cy="342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丢失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丢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丢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28600" y="5334120"/>
            <a:ext cx="876312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羊已经丢了，还修羊圈干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304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5"/>
          <p:cNvSpPr/>
          <p:nvPr/>
        </p:nvSpPr>
        <p:spPr>
          <a:xfrm>
            <a:off x="1905120" y="2286000"/>
            <a:ext cx="1844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1909800" y="2290680"/>
            <a:ext cx="1814400" cy="1819440"/>
          </a:xfrm>
          <a:custGeom>
            <a:avLst/>
            <a:gdLst/>
            <a:ahLst/>
            <a:rect l="l" t="t" r="r" b="b"/>
            <a:pathLst>
              <a:path w="2285" h="2291">
                <a:moveTo>
                  <a:pt x="652" y="405"/>
                </a:moveTo>
                <a:lnTo>
                  <a:pt x="652" y="403"/>
                </a:lnTo>
                <a:lnTo>
                  <a:pt x="654" y="399"/>
                </a:lnTo>
                <a:lnTo>
                  <a:pt x="656" y="397"/>
                </a:lnTo>
                <a:lnTo>
                  <a:pt x="658" y="395"/>
                </a:lnTo>
                <a:lnTo>
                  <a:pt x="660" y="393"/>
                </a:lnTo>
                <a:lnTo>
                  <a:pt x="664" y="391"/>
                </a:lnTo>
                <a:lnTo>
                  <a:pt x="668" y="389"/>
                </a:lnTo>
                <a:lnTo>
                  <a:pt x="671" y="385"/>
                </a:lnTo>
                <a:lnTo>
                  <a:pt x="675" y="384"/>
                </a:lnTo>
                <a:lnTo>
                  <a:pt x="681" y="382"/>
                </a:lnTo>
                <a:lnTo>
                  <a:pt x="687" y="378"/>
                </a:lnTo>
                <a:lnTo>
                  <a:pt x="693" y="376"/>
                </a:lnTo>
                <a:lnTo>
                  <a:pt x="700" y="372"/>
                </a:lnTo>
                <a:lnTo>
                  <a:pt x="708" y="370"/>
                </a:lnTo>
                <a:lnTo>
                  <a:pt x="716" y="366"/>
                </a:lnTo>
                <a:lnTo>
                  <a:pt x="725" y="362"/>
                </a:lnTo>
                <a:lnTo>
                  <a:pt x="735" y="361"/>
                </a:lnTo>
                <a:lnTo>
                  <a:pt x="744" y="357"/>
                </a:lnTo>
                <a:lnTo>
                  <a:pt x="754" y="353"/>
                </a:lnTo>
                <a:lnTo>
                  <a:pt x="765" y="349"/>
                </a:lnTo>
                <a:lnTo>
                  <a:pt x="777" y="345"/>
                </a:lnTo>
                <a:lnTo>
                  <a:pt x="788" y="341"/>
                </a:lnTo>
                <a:lnTo>
                  <a:pt x="800" y="338"/>
                </a:lnTo>
                <a:lnTo>
                  <a:pt x="813" y="334"/>
                </a:lnTo>
                <a:lnTo>
                  <a:pt x="827" y="330"/>
                </a:lnTo>
                <a:lnTo>
                  <a:pt x="840" y="326"/>
                </a:lnTo>
                <a:lnTo>
                  <a:pt x="856" y="322"/>
                </a:lnTo>
                <a:lnTo>
                  <a:pt x="871" y="316"/>
                </a:lnTo>
                <a:lnTo>
                  <a:pt x="886" y="313"/>
                </a:lnTo>
                <a:lnTo>
                  <a:pt x="902" y="307"/>
                </a:lnTo>
                <a:lnTo>
                  <a:pt x="919" y="303"/>
                </a:lnTo>
                <a:lnTo>
                  <a:pt x="936" y="297"/>
                </a:lnTo>
                <a:lnTo>
                  <a:pt x="969" y="288"/>
                </a:lnTo>
                <a:lnTo>
                  <a:pt x="1002" y="278"/>
                </a:lnTo>
                <a:lnTo>
                  <a:pt x="1034" y="268"/>
                </a:lnTo>
                <a:lnTo>
                  <a:pt x="1063" y="259"/>
                </a:lnTo>
                <a:lnTo>
                  <a:pt x="1092" y="249"/>
                </a:lnTo>
                <a:lnTo>
                  <a:pt x="1120" y="240"/>
                </a:lnTo>
                <a:lnTo>
                  <a:pt x="1145" y="232"/>
                </a:lnTo>
                <a:lnTo>
                  <a:pt x="1170" y="222"/>
                </a:lnTo>
                <a:lnTo>
                  <a:pt x="1195" y="215"/>
                </a:lnTo>
                <a:lnTo>
                  <a:pt x="1216" y="205"/>
                </a:lnTo>
                <a:lnTo>
                  <a:pt x="1238" y="195"/>
                </a:lnTo>
                <a:lnTo>
                  <a:pt x="1259" y="186"/>
                </a:lnTo>
                <a:lnTo>
                  <a:pt x="1278" y="178"/>
                </a:lnTo>
                <a:lnTo>
                  <a:pt x="1295" y="169"/>
                </a:lnTo>
                <a:lnTo>
                  <a:pt x="1310" y="159"/>
                </a:lnTo>
                <a:lnTo>
                  <a:pt x="1326" y="148"/>
                </a:lnTo>
                <a:lnTo>
                  <a:pt x="1339" y="140"/>
                </a:lnTo>
                <a:lnTo>
                  <a:pt x="1353" y="132"/>
                </a:lnTo>
                <a:lnTo>
                  <a:pt x="1366" y="124"/>
                </a:lnTo>
                <a:lnTo>
                  <a:pt x="1378" y="117"/>
                </a:lnTo>
                <a:lnTo>
                  <a:pt x="1387" y="111"/>
                </a:lnTo>
                <a:lnTo>
                  <a:pt x="1397" y="103"/>
                </a:lnTo>
                <a:lnTo>
                  <a:pt x="1406" y="98"/>
                </a:lnTo>
                <a:lnTo>
                  <a:pt x="1414" y="90"/>
                </a:lnTo>
                <a:lnTo>
                  <a:pt x="1420" y="84"/>
                </a:lnTo>
                <a:lnTo>
                  <a:pt x="1426" y="78"/>
                </a:lnTo>
                <a:lnTo>
                  <a:pt x="1431" y="71"/>
                </a:lnTo>
                <a:lnTo>
                  <a:pt x="1435" y="65"/>
                </a:lnTo>
                <a:lnTo>
                  <a:pt x="1439" y="59"/>
                </a:lnTo>
                <a:lnTo>
                  <a:pt x="1441" y="53"/>
                </a:lnTo>
                <a:lnTo>
                  <a:pt x="1443" y="48"/>
                </a:lnTo>
                <a:lnTo>
                  <a:pt x="1443" y="42"/>
                </a:lnTo>
                <a:lnTo>
                  <a:pt x="1443" y="36"/>
                </a:lnTo>
                <a:lnTo>
                  <a:pt x="1443" y="30"/>
                </a:lnTo>
                <a:lnTo>
                  <a:pt x="1445" y="21"/>
                </a:lnTo>
                <a:lnTo>
                  <a:pt x="1447" y="13"/>
                </a:lnTo>
                <a:lnTo>
                  <a:pt x="1451" y="7"/>
                </a:lnTo>
                <a:lnTo>
                  <a:pt x="1454" y="4"/>
                </a:lnTo>
                <a:lnTo>
                  <a:pt x="1460" y="2"/>
                </a:lnTo>
                <a:lnTo>
                  <a:pt x="1466" y="0"/>
                </a:lnTo>
                <a:lnTo>
                  <a:pt x="1472" y="0"/>
                </a:lnTo>
                <a:lnTo>
                  <a:pt x="1476" y="0"/>
                </a:lnTo>
                <a:lnTo>
                  <a:pt x="1481" y="0"/>
                </a:lnTo>
                <a:lnTo>
                  <a:pt x="1485" y="2"/>
                </a:lnTo>
                <a:lnTo>
                  <a:pt x="1491" y="4"/>
                </a:lnTo>
                <a:lnTo>
                  <a:pt x="1497" y="6"/>
                </a:lnTo>
                <a:lnTo>
                  <a:pt x="1502" y="7"/>
                </a:lnTo>
                <a:lnTo>
                  <a:pt x="1508" y="11"/>
                </a:lnTo>
                <a:lnTo>
                  <a:pt x="1516" y="15"/>
                </a:lnTo>
                <a:lnTo>
                  <a:pt x="1522" y="19"/>
                </a:lnTo>
                <a:lnTo>
                  <a:pt x="1529" y="23"/>
                </a:lnTo>
                <a:lnTo>
                  <a:pt x="1537" y="29"/>
                </a:lnTo>
                <a:lnTo>
                  <a:pt x="1545" y="34"/>
                </a:lnTo>
                <a:lnTo>
                  <a:pt x="1554" y="40"/>
                </a:lnTo>
                <a:lnTo>
                  <a:pt x="1562" y="48"/>
                </a:lnTo>
                <a:lnTo>
                  <a:pt x="1571" y="55"/>
                </a:lnTo>
                <a:lnTo>
                  <a:pt x="1579" y="63"/>
                </a:lnTo>
                <a:lnTo>
                  <a:pt x="1596" y="78"/>
                </a:lnTo>
                <a:lnTo>
                  <a:pt x="1612" y="94"/>
                </a:lnTo>
                <a:lnTo>
                  <a:pt x="1627" y="107"/>
                </a:lnTo>
                <a:lnTo>
                  <a:pt x="1639" y="121"/>
                </a:lnTo>
                <a:lnTo>
                  <a:pt x="1648" y="132"/>
                </a:lnTo>
                <a:lnTo>
                  <a:pt x="1656" y="146"/>
                </a:lnTo>
                <a:lnTo>
                  <a:pt x="1664" y="157"/>
                </a:lnTo>
                <a:lnTo>
                  <a:pt x="1667" y="171"/>
                </a:lnTo>
                <a:lnTo>
                  <a:pt x="1667" y="172"/>
                </a:lnTo>
                <a:lnTo>
                  <a:pt x="1666" y="176"/>
                </a:lnTo>
                <a:lnTo>
                  <a:pt x="1666" y="178"/>
                </a:lnTo>
                <a:lnTo>
                  <a:pt x="1664" y="182"/>
                </a:lnTo>
                <a:lnTo>
                  <a:pt x="1662" y="184"/>
                </a:lnTo>
                <a:lnTo>
                  <a:pt x="1658" y="188"/>
                </a:lnTo>
                <a:lnTo>
                  <a:pt x="1654" y="190"/>
                </a:lnTo>
                <a:lnTo>
                  <a:pt x="1650" y="194"/>
                </a:lnTo>
                <a:lnTo>
                  <a:pt x="1646" y="197"/>
                </a:lnTo>
                <a:lnTo>
                  <a:pt x="1641" y="199"/>
                </a:lnTo>
                <a:lnTo>
                  <a:pt x="1637" y="203"/>
                </a:lnTo>
                <a:lnTo>
                  <a:pt x="1629" y="207"/>
                </a:lnTo>
                <a:lnTo>
                  <a:pt x="1623" y="209"/>
                </a:lnTo>
                <a:lnTo>
                  <a:pt x="1616" y="213"/>
                </a:lnTo>
                <a:lnTo>
                  <a:pt x="1608" y="217"/>
                </a:lnTo>
                <a:lnTo>
                  <a:pt x="1600" y="220"/>
                </a:lnTo>
                <a:lnTo>
                  <a:pt x="1591" y="222"/>
                </a:lnTo>
                <a:lnTo>
                  <a:pt x="1583" y="226"/>
                </a:lnTo>
                <a:lnTo>
                  <a:pt x="1573" y="230"/>
                </a:lnTo>
                <a:lnTo>
                  <a:pt x="1562" y="234"/>
                </a:lnTo>
                <a:lnTo>
                  <a:pt x="1550" y="238"/>
                </a:lnTo>
                <a:lnTo>
                  <a:pt x="1539" y="242"/>
                </a:lnTo>
                <a:lnTo>
                  <a:pt x="1527" y="245"/>
                </a:lnTo>
                <a:lnTo>
                  <a:pt x="1516" y="249"/>
                </a:lnTo>
                <a:lnTo>
                  <a:pt x="1502" y="255"/>
                </a:lnTo>
                <a:lnTo>
                  <a:pt x="1489" y="259"/>
                </a:lnTo>
                <a:lnTo>
                  <a:pt x="1474" y="263"/>
                </a:lnTo>
                <a:lnTo>
                  <a:pt x="1458" y="266"/>
                </a:lnTo>
                <a:lnTo>
                  <a:pt x="1443" y="272"/>
                </a:lnTo>
                <a:lnTo>
                  <a:pt x="1428" y="276"/>
                </a:lnTo>
                <a:lnTo>
                  <a:pt x="1412" y="282"/>
                </a:lnTo>
                <a:lnTo>
                  <a:pt x="1395" y="288"/>
                </a:lnTo>
                <a:lnTo>
                  <a:pt x="1326" y="307"/>
                </a:lnTo>
                <a:lnTo>
                  <a:pt x="1257" y="324"/>
                </a:lnTo>
                <a:lnTo>
                  <a:pt x="1192" y="341"/>
                </a:lnTo>
                <a:lnTo>
                  <a:pt x="1126" y="359"/>
                </a:lnTo>
                <a:lnTo>
                  <a:pt x="1094" y="364"/>
                </a:lnTo>
                <a:lnTo>
                  <a:pt x="1063" y="372"/>
                </a:lnTo>
                <a:lnTo>
                  <a:pt x="1032" y="378"/>
                </a:lnTo>
                <a:lnTo>
                  <a:pt x="1002" y="384"/>
                </a:lnTo>
                <a:lnTo>
                  <a:pt x="973" y="389"/>
                </a:lnTo>
                <a:lnTo>
                  <a:pt x="944" y="395"/>
                </a:lnTo>
                <a:lnTo>
                  <a:pt x="915" y="399"/>
                </a:lnTo>
                <a:lnTo>
                  <a:pt x="886" y="405"/>
                </a:lnTo>
                <a:lnTo>
                  <a:pt x="858" y="409"/>
                </a:lnTo>
                <a:lnTo>
                  <a:pt x="833" y="410"/>
                </a:lnTo>
                <a:lnTo>
                  <a:pt x="808" y="414"/>
                </a:lnTo>
                <a:lnTo>
                  <a:pt x="785" y="416"/>
                </a:lnTo>
                <a:lnTo>
                  <a:pt x="764" y="418"/>
                </a:lnTo>
                <a:lnTo>
                  <a:pt x="744" y="420"/>
                </a:lnTo>
                <a:lnTo>
                  <a:pt x="727" y="420"/>
                </a:lnTo>
                <a:lnTo>
                  <a:pt x="712" y="420"/>
                </a:lnTo>
                <a:lnTo>
                  <a:pt x="698" y="420"/>
                </a:lnTo>
                <a:lnTo>
                  <a:pt x="685" y="420"/>
                </a:lnTo>
                <a:lnTo>
                  <a:pt x="675" y="418"/>
                </a:lnTo>
                <a:lnTo>
                  <a:pt x="668" y="416"/>
                </a:lnTo>
                <a:lnTo>
                  <a:pt x="662" y="414"/>
                </a:lnTo>
                <a:lnTo>
                  <a:pt x="656" y="410"/>
                </a:lnTo>
                <a:lnTo>
                  <a:pt x="654" y="409"/>
                </a:lnTo>
                <a:lnTo>
                  <a:pt x="652" y="405"/>
                </a:lnTo>
                <a:close/>
                <a:moveTo>
                  <a:pt x="1073" y="318"/>
                </a:moveTo>
                <a:lnTo>
                  <a:pt x="1101" y="324"/>
                </a:lnTo>
                <a:lnTo>
                  <a:pt x="1115" y="326"/>
                </a:lnTo>
                <a:lnTo>
                  <a:pt x="1126" y="328"/>
                </a:lnTo>
                <a:lnTo>
                  <a:pt x="1140" y="332"/>
                </a:lnTo>
                <a:lnTo>
                  <a:pt x="1151" y="336"/>
                </a:lnTo>
                <a:lnTo>
                  <a:pt x="1163" y="339"/>
                </a:lnTo>
                <a:lnTo>
                  <a:pt x="1174" y="343"/>
                </a:lnTo>
                <a:lnTo>
                  <a:pt x="1184" y="347"/>
                </a:lnTo>
                <a:lnTo>
                  <a:pt x="1193" y="351"/>
                </a:lnTo>
                <a:lnTo>
                  <a:pt x="1203" y="357"/>
                </a:lnTo>
                <a:lnTo>
                  <a:pt x="1211" y="361"/>
                </a:lnTo>
                <a:lnTo>
                  <a:pt x="1218" y="366"/>
                </a:lnTo>
                <a:lnTo>
                  <a:pt x="1226" y="372"/>
                </a:lnTo>
                <a:lnTo>
                  <a:pt x="1232" y="376"/>
                </a:lnTo>
                <a:lnTo>
                  <a:pt x="1238" y="384"/>
                </a:lnTo>
                <a:lnTo>
                  <a:pt x="1249" y="395"/>
                </a:lnTo>
                <a:lnTo>
                  <a:pt x="1257" y="405"/>
                </a:lnTo>
                <a:lnTo>
                  <a:pt x="1263" y="414"/>
                </a:lnTo>
                <a:lnTo>
                  <a:pt x="1268" y="422"/>
                </a:lnTo>
                <a:lnTo>
                  <a:pt x="1272" y="430"/>
                </a:lnTo>
                <a:lnTo>
                  <a:pt x="1276" y="437"/>
                </a:lnTo>
                <a:lnTo>
                  <a:pt x="1276" y="443"/>
                </a:lnTo>
                <a:lnTo>
                  <a:pt x="1278" y="447"/>
                </a:lnTo>
                <a:lnTo>
                  <a:pt x="1278" y="451"/>
                </a:lnTo>
                <a:lnTo>
                  <a:pt x="1276" y="456"/>
                </a:lnTo>
                <a:lnTo>
                  <a:pt x="1276" y="464"/>
                </a:lnTo>
                <a:lnTo>
                  <a:pt x="1276" y="470"/>
                </a:lnTo>
                <a:lnTo>
                  <a:pt x="1274" y="480"/>
                </a:lnTo>
                <a:lnTo>
                  <a:pt x="1272" y="489"/>
                </a:lnTo>
                <a:lnTo>
                  <a:pt x="1272" y="501"/>
                </a:lnTo>
                <a:lnTo>
                  <a:pt x="1270" y="512"/>
                </a:lnTo>
                <a:lnTo>
                  <a:pt x="1268" y="526"/>
                </a:lnTo>
                <a:lnTo>
                  <a:pt x="1266" y="539"/>
                </a:lnTo>
                <a:lnTo>
                  <a:pt x="1263" y="554"/>
                </a:lnTo>
                <a:lnTo>
                  <a:pt x="1261" y="572"/>
                </a:lnTo>
                <a:lnTo>
                  <a:pt x="1259" y="589"/>
                </a:lnTo>
                <a:lnTo>
                  <a:pt x="1255" y="608"/>
                </a:lnTo>
                <a:lnTo>
                  <a:pt x="1251" y="627"/>
                </a:lnTo>
                <a:lnTo>
                  <a:pt x="1247" y="648"/>
                </a:lnTo>
                <a:lnTo>
                  <a:pt x="1245" y="660"/>
                </a:lnTo>
                <a:lnTo>
                  <a:pt x="1245" y="673"/>
                </a:lnTo>
                <a:lnTo>
                  <a:pt x="1243" y="685"/>
                </a:lnTo>
                <a:lnTo>
                  <a:pt x="1241" y="698"/>
                </a:lnTo>
                <a:lnTo>
                  <a:pt x="1239" y="712"/>
                </a:lnTo>
                <a:lnTo>
                  <a:pt x="1238" y="727"/>
                </a:lnTo>
                <a:lnTo>
                  <a:pt x="1238" y="740"/>
                </a:lnTo>
                <a:lnTo>
                  <a:pt x="1236" y="758"/>
                </a:lnTo>
                <a:lnTo>
                  <a:pt x="1234" y="773"/>
                </a:lnTo>
                <a:lnTo>
                  <a:pt x="1232" y="790"/>
                </a:lnTo>
                <a:lnTo>
                  <a:pt x="1232" y="808"/>
                </a:lnTo>
                <a:lnTo>
                  <a:pt x="1230" y="825"/>
                </a:lnTo>
                <a:lnTo>
                  <a:pt x="1230" y="844"/>
                </a:lnTo>
                <a:lnTo>
                  <a:pt x="1228" y="863"/>
                </a:lnTo>
                <a:lnTo>
                  <a:pt x="1228" y="883"/>
                </a:lnTo>
                <a:lnTo>
                  <a:pt x="1226" y="904"/>
                </a:lnTo>
                <a:lnTo>
                  <a:pt x="1226" y="925"/>
                </a:lnTo>
                <a:lnTo>
                  <a:pt x="1224" y="946"/>
                </a:lnTo>
                <a:lnTo>
                  <a:pt x="1224" y="969"/>
                </a:lnTo>
                <a:lnTo>
                  <a:pt x="1222" y="992"/>
                </a:lnTo>
                <a:lnTo>
                  <a:pt x="1222" y="1015"/>
                </a:lnTo>
                <a:lnTo>
                  <a:pt x="1222" y="1038"/>
                </a:lnTo>
                <a:lnTo>
                  <a:pt x="1220" y="1063"/>
                </a:lnTo>
                <a:lnTo>
                  <a:pt x="1220" y="1088"/>
                </a:lnTo>
                <a:lnTo>
                  <a:pt x="1220" y="1115"/>
                </a:lnTo>
                <a:lnTo>
                  <a:pt x="1220" y="1140"/>
                </a:lnTo>
                <a:lnTo>
                  <a:pt x="1220" y="1167"/>
                </a:lnTo>
                <a:lnTo>
                  <a:pt x="1218" y="1195"/>
                </a:lnTo>
                <a:lnTo>
                  <a:pt x="1218" y="1222"/>
                </a:lnTo>
                <a:lnTo>
                  <a:pt x="1218" y="1251"/>
                </a:lnTo>
                <a:lnTo>
                  <a:pt x="1218" y="1280"/>
                </a:lnTo>
                <a:lnTo>
                  <a:pt x="1218" y="1310"/>
                </a:lnTo>
                <a:lnTo>
                  <a:pt x="1101" y="1310"/>
                </a:lnTo>
                <a:lnTo>
                  <a:pt x="1101" y="1268"/>
                </a:lnTo>
                <a:lnTo>
                  <a:pt x="1101" y="1226"/>
                </a:lnTo>
                <a:lnTo>
                  <a:pt x="1101" y="1184"/>
                </a:lnTo>
                <a:lnTo>
                  <a:pt x="1101" y="1143"/>
                </a:lnTo>
                <a:lnTo>
                  <a:pt x="1101" y="1105"/>
                </a:lnTo>
                <a:lnTo>
                  <a:pt x="1101" y="1067"/>
                </a:lnTo>
                <a:lnTo>
                  <a:pt x="1099" y="1028"/>
                </a:lnTo>
                <a:lnTo>
                  <a:pt x="1099" y="990"/>
                </a:lnTo>
                <a:lnTo>
                  <a:pt x="1099" y="954"/>
                </a:lnTo>
                <a:lnTo>
                  <a:pt x="1099" y="917"/>
                </a:lnTo>
                <a:lnTo>
                  <a:pt x="1097" y="883"/>
                </a:lnTo>
                <a:lnTo>
                  <a:pt x="1097" y="848"/>
                </a:lnTo>
                <a:lnTo>
                  <a:pt x="1097" y="815"/>
                </a:lnTo>
                <a:lnTo>
                  <a:pt x="1096" y="783"/>
                </a:lnTo>
                <a:lnTo>
                  <a:pt x="1096" y="750"/>
                </a:lnTo>
                <a:lnTo>
                  <a:pt x="1094" y="719"/>
                </a:lnTo>
                <a:lnTo>
                  <a:pt x="1094" y="689"/>
                </a:lnTo>
                <a:lnTo>
                  <a:pt x="1092" y="658"/>
                </a:lnTo>
                <a:lnTo>
                  <a:pt x="1092" y="629"/>
                </a:lnTo>
                <a:lnTo>
                  <a:pt x="1090" y="600"/>
                </a:lnTo>
                <a:lnTo>
                  <a:pt x="1090" y="574"/>
                </a:lnTo>
                <a:lnTo>
                  <a:pt x="1088" y="547"/>
                </a:lnTo>
                <a:lnTo>
                  <a:pt x="1086" y="520"/>
                </a:lnTo>
                <a:lnTo>
                  <a:pt x="1084" y="495"/>
                </a:lnTo>
                <a:lnTo>
                  <a:pt x="1084" y="470"/>
                </a:lnTo>
                <a:lnTo>
                  <a:pt x="1082" y="447"/>
                </a:lnTo>
                <a:lnTo>
                  <a:pt x="1080" y="424"/>
                </a:lnTo>
                <a:lnTo>
                  <a:pt x="1078" y="401"/>
                </a:lnTo>
                <a:lnTo>
                  <a:pt x="1078" y="380"/>
                </a:lnTo>
                <a:lnTo>
                  <a:pt x="1076" y="359"/>
                </a:lnTo>
                <a:lnTo>
                  <a:pt x="1074" y="338"/>
                </a:lnTo>
                <a:lnTo>
                  <a:pt x="1073" y="318"/>
                </a:lnTo>
                <a:close/>
                <a:moveTo>
                  <a:pt x="731" y="1886"/>
                </a:moveTo>
                <a:lnTo>
                  <a:pt x="756" y="1861"/>
                </a:lnTo>
                <a:lnTo>
                  <a:pt x="783" y="1834"/>
                </a:lnTo>
                <a:lnTo>
                  <a:pt x="794" y="1819"/>
                </a:lnTo>
                <a:lnTo>
                  <a:pt x="808" y="1806"/>
                </a:lnTo>
                <a:lnTo>
                  <a:pt x="821" y="1790"/>
                </a:lnTo>
                <a:lnTo>
                  <a:pt x="835" y="1775"/>
                </a:lnTo>
                <a:lnTo>
                  <a:pt x="848" y="1758"/>
                </a:lnTo>
                <a:lnTo>
                  <a:pt x="861" y="1740"/>
                </a:lnTo>
                <a:lnTo>
                  <a:pt x="875" y="1723"/>
                </a:lnTo>
                <a:lnTo>
                  <a:pt x="888" y="1706"/>
                </a:lnTo>
                <a:lnTo>
                  <a:pt x="904" y="1688"/>
                </a:lnTo>
                <a:lnTo>
                  <a:pt x="917" y="1669"/>
                </a:lnTo>
                <a:lnTo>
                  <a:pt x="931" y="1650"/>
                </a:lnTo>
                <a:lnTo>
                  <a:pt x="946" y="1631"/>
                </a:lnTo>
                <a:lnTo>
                  <a:pt x="957" y="1610"/>
                </a:lnTo>
                <a:lnTo>
                  <a:pt x="969" y="1593"/>
                </a:lnTo>
                <a:lnTo>
                  <a:pt x="978" y="1573"/>
                </a:lnTo>
                <a:lnTo>
                  <a:pt x="988" y="1558"/>
                </a:lnTo>
                <a:lnTo>
                  <a:pt x="998" y="1543"/>
                </a:lnTo>
                <a:lnTo>
                  <a:pt x="1005" y="1527"/>
                </a:lnTo>
                <a:lnTo>
                  <a:pt x="1011" y="1514"/>
                </a:lnTo>
                <a:lnTo>
                  <a:pt x="1017" y="1500"/>
                </a:lnTo>
                <a:lnTo>
                  <a:pt x="1021" y="1489"/>
                </a:lnTo>
                <a:lnTo>
                  <a:pt x="1025" y="1477"/>
                </a:lnTo>
                <a:lnTo>
                  <a:pt x="1028" y="1468"/>
                </a:lnTo>
                <a:lnTo>
                  <a:pt x="1028" y="1458"/>
                </a:lnTo>
                <a:lnTo>
                  <a:pt x="1028" y="1449"/>
                </a:lnTo>
                <a:lnTo>
                  <a:pt x="1028" y="1441"/>
                </a:lnTo>
                <a:lnTo>
                  <a:pt x="1026" y="1433"/>
                </a:lnTo>
                <a:lnTo>
                  <a:pt x="1025" y="1427"/>
                </a:lnTo>
                <a:lnTo>
                  <a:pt x="1017" y="1416"/>
                </a:lnTo>
                <a:lnTo>
                  <a:pt x="1013" y="1406"/>
                </a:lnTo>
                <a:lnTo>
                  <a:pt x="1009" y="1397"/>
                </a:lnTo>
                <a:lnTo>
                  <a:pt x="1007" y="1387"/>
                </a:lnTo>
                <a:lnTo>
                  <a:pt x="1007" y="1380"/>
                </a:lnTo>
                <a:lnTo>
                  <a:pt x="1009" y="1374"/>
                </a:lnTo>
                <a:lnTo>
                  <a:pt x="1011" y="1368"/>
                </a:lnTo>
                <a:lnTo>
                  <a:pt x="1013" y="1364"/>
                </a:lnTo>
                <a:lnTo>
                  <a:pt x="1017" y="1362"/>
                </a:lnTo>
                <a:lnTo>
                  <a:pt x="1019" y="1360"/>
                </a:lnTo>
                <a:lnTo>
                  <a:pt x="1023" y="1358"/>
                </a:lnTo>
                <a:lnTo>
                  <a:pt x="1026" y="1356"/>
                </a:lnTo>
                <a:lnTo>
                  <a:pt x="1030" y="1356"/>
                </a:lnTo>
                <a:lnTo>
                  <a:pt x="1036" y="1356"/>
                </a:lnTo>
                <a:lnTo>
                  <a:pt x="1042" y="1355"/>
                </a:lnTo>
                <a:lnTo>
                  <a:pt x="1049" y="1355"/>
                </a:lnTo>
                <a:lnTo>
                  <a:pt x="1055" y="1355"/>
                </a:lnTo>
                <a:lnTo>
                  <a:pt x="1065" y="1356"/>
                </a:lnTo>
                <a:lnTo>
                  <a:pt x="1073" y="1356"/>
                </a:lnTo>
                <a:lnTo>
                  <a:pt x="1080" y="1356"/>
                </a:lnTo>
                <a:lnTo>
                  <a:pt x="1090" y="1358"/>
                </a:lnTo>
                <a:lnTo>
                  <a:pt x="1099" y="1360"/>
                </a:lnTo>
                <a:lnTo>
                  <a:pt x="1111" y="1362"/>
                </a:lnTo>
                <a:lnTo>
                  <a:pt x="1120" y="1364"/>
                </a:lnTo>
                <a:lnTo>
                  <a:pt x="1140" y="1368"/>
                </a:lnTo>
                <a:lnTo>
                  <a:pt x="1155" y="1374"/>
                </a:lnTo>
                <a:lnTo>
                  <a:pt x="1172" y="1380"/>
                </a:lnTo>
                <a:lnTo>
                  <a:pt x="1186" y="1387"/>
                </a:lnTo>
                <a:lnTo>
                  <a:pt x="1199" y="1397"/>
                </a:lnTo>
                <a:lnTo>
                  <a:pt x="1211" y="1406"/>
                </a:lnTo>
                <a:lnTo>
                  <a:pt x="1220" y="1416"/>
                </a:lnTo>
                <a:lnTo>
                  <a:pt x="1228" y="1427"/>
                </a:lnTo>
                <a:lnTo>
                  <a:pt x="1236" y="1451"/>
                </a:lnTo>
                <a:lnTo>
                  <a:pt x="1238" y="1462"/>
                </a:lnTo>
                <a:lnTo>
                  <a:pt x="1241" y="1474"/>
                </a:lnTo>
                <a:lnTo>
                  <a:pt x="1241" y="1485"/>
                </a:lnTo>
                <a:lnTo>
                  <a:pt x="1241" y="1495"/>
                </a:lnTo>
                <a:lnTo>
                  <a:pt x="1241" y="1504"/>
                </a:lnTo>
                <a:lnTo>
                  <a:pt x="1238" y="1512"/>
                </a:lnTo>
                <a:lnTo>
                  <a:pt x="1236" y="1518"/>
                </a:lnTo>
                <a:lnTo>
                  <a:pt x="1232" y="1523"/>
                </a:lnTo>
                <a:lnTo>
                  <a:pt x="1226" y="1531"/>
                </a:lnTo>
                <a:lnTo>
                  <a:pt x="1220" y="1539"/>
                </a:lnTo>
                <a:lnTo>
                  <a:pt x="1211" y="1548"/>
                </a:lnTo>
                <a:lnTo>
                  <a:pt x="1201" y="1560"/>
                </a:lnTo>
                <a:lnTo>
                  <a:pt x="1192" y="1571"/>
                </a:lnTo>
                <a:lnTo>
                  <a:pt x="1178" y="1585"/>
                </a:lnTo>
                <a:lnTo>
                  <a:pt x="1165" y="1600"/>
                </a:lnTo>
                <a:lnTo>
                  <a:pt x="1149" y="1617"/>
                </a:lnTo>
                <a:lnTo>
                  <a:pt x="1132" y="1635"/>
                </a:lnTo>
                <a:lnTo>
                  <a:pt x="1113" y="1654"/>
                </a:lnTo>
                <a:lnTo>
                  <a:pt x="1094" y="1675"/>
                </a:lnTo>
                <a:lnTo>
                  <a:pt x="1071" y="1698"/>
                </a:lnTo>
                <a:lnTo>
                  <a:pt x="1048" y="1721"/>
                </a:lnTo>
                <a:lnTo>
                  <a:pt x="1025" y="1748"/>
                </a:lnTo>
                <a:lnTo>
                  <a:pt x="998" y="1773"/>
                </a:lnTo>
                <a:lnTo>
                  <a:pt x="973" y="1798"/>
                </a:lnTo>
                <a:lnTo>
                  <a:pt x="950" y="1821"/>
                </a:lnTo>
                <a:lnTo>
                  <a:pt x="929" y="1842"/>
                </a:lnTo>
                <a:lnTo>
                  <a:pt x="909" y="1861"/>
                </a:lnTo>
                <a:lnTo>
                  <a:pt x="892" y="1880"/>
                </a:lnTo>
                <a:lnTo>
                  <a:pt x="877" y="1898"/>
                </a:lnTo>
                <a:lnTo>
                  <a:pt x="863" y="1913"/>
                </a:lnTo>
                <a:lnTo>
                  <a:pt x="852" y="1926"/>
                </a:lnTo>
                <a:lnTo>
                  <a:pt x="840" y="1940"/>
                </a:lnTo>
                <a:lnTo>
                  <a:pt x="833" y="1951"/>
                </a:lnTo>
                <a:lnTo>
                  <a:pt x="827" y="1961"/>
                </a:lnTo>
                <a:lnTo>
                  <a:pt x="821" y="1969"/>
                </a:lnTo>
                <a:lnTo>
                  <a:pt x="819" y="1974"/>
                </a:lnTo>
                <a:lnTo>
                  <a:pt x="817" y="1978"/>
                </a:lnTo>
                <a:lnTo>
                  <a:pt x="819" y="1982"/>
                </a:lnTo>
                <a:lnTo>
                  <a:pt x="821" y="1984"/>
                </a:lnTo>
                <a:lnTo>
                  <a:pt x="825" y="1986"/>
                </a:lnTo>
                <a:lnTo>
                  <a:pt x="829" y="1986"/>
                </a:lnTo>
                <a:lnTo>
                  <a:pt x="833" y="1988"/>
                </a:lnTo>
                <a:lnTo>
                  <a:pt x="838" y="1988"/>
                </a:lnTo>
                <a:lnTo>
                  <a:pt x="846" y="1990"/>
                </a:lnTo>
                <a:lnTo>
                  <a:pt x="854" y="1990"/>
                </a:lnTo>
                <a:lnTo>
                  <a:pt x="863" y="1988"/>
                </a:lnTo>
                <a:lnTo>
                  <a:pt x="873" y="1988"/>
                </a:lnTo>
                <a:lnTo>
                  <a:pt x="883" y="1988"/>
                </a:lnTo>
                <a:lnTo>
                  <a:pt x="894" y="1986"/>
                </a:lnTo>
                <a:lnTo>
                  <a:pt x="906" y="1984"/>
                </a:lnTo>
                <a:lnTo>
                  <a:pt x="919" y="1982"/>
                </a:lnTo>
                <a:lnTo>
                  <a:pt x="934" y="1978"/>
                </a:lnTo>
                <a:lnTo>
                  <a:pt x="950" y="1974"/>
                </a:lnTo>
                <a:lnTo>
                  <a:pt x="965" y="1971"/>
                </a:lnTo>
                <a:lnTo>
                  <a:pt x="982" y="1969"/>
                </a:lnTo>
                <a:lnTo>
                  <a:pt x="1000" y="1967"/>
                </a:lnTo>
                <a:lnTo>
                  <a:pt x="1017" y="1963"/>
                </a:lnTo>
                <a:lnTo>
                  <a:pt x="1034" y="1959"/>
                </a:lnTo>
                <a:lnTo>
                  <a:pt x="1053" y="1955"/>
                </a:lnTo>
                <a:lnTo>
                  <a:pt x="1073" y="1951"/>
                </a:lnTo>
                <a:lnTo>
                  <a:pt x="1094" y="1948"/>
                </a:lnTo>
                <a:lnTo>
                  <a:pt x="1115" y="1942"/>
                </a:lnTo>
                <a:lnTo>
                  <a:pt x="1136" y="1936"/>
                </a:lnTo>
                <a:lnTo>
                  <a:pt x="1157" y="1932"/>
                </a:lnTo>
                <a:lnTo>
                  <a:pt x="1180" y="1926"/>
                </a:lnTo>
                <a:lnTo>
                  <a:pt x="1203" y="1921"/>
                </a:lnTo>
                <a:lnTo>
                  <a:pt x="1228" y="1915"/>
                </a:lnTo>
                <a:lnTo>
                  <a:pt x="1253" y="1909"/>
                </a:lnTo>
                <a:lnTo>
                  <a:pt x="1280" y="1903"/>
                </a:lnTo>
                <a:lnTo>
                  <a:pt x="1307" y="1898"/>
                </a:lnTo>
                <a:lnTo>
                  <a:pt x="1332" y="1890"/>
                </a:lnTo>
                <a:lnTo>
                  <a:pt x="1357" y="1886"/>
                </a:lnTo>
                <a:lnTo>
                  <a:pt x="1405" y="1877"/>
                </a:lnTo>
                <a:lnTo>
                  <a:pt x="1452" y="1869"/>
                </a:lnTo>
                <a:lnTo>
                  <a:pt x="1499" y="1861"/>
                </a:lnTo>
                <a:lnTo>
                  <a:pt x="1543" y="1857"/>
                </a:lnTo>
                <a:lnTo>
                  <a:pt x="1585" y="1852"/>
                </a:lnTo>
                <a:lnTo>
                  <a:pt x="1627" y="1848"/>
                </a:lnTo>
                <a:lnTo>
                  <a:pt x="1667" y="1844"/>
                </a:lnTo>
                <a:lnTo>
                  <a:pt x="1667" y="1928"/>
                </a:lnTo>
                <a:lnTo>
                  <a:pt x="1639" y="1934"/>
                </a:lnTo>
                <a:lnTo>
                  <a:pt x="1610" y="1940"/>
                </a:lnTo>
                <a:lnTo>
                  <a:pt x="1583" y="1946"/>
                </a:lnTo>
                <a:lnTo>
                  <a:pt x="1558" y="1951"/>
                </a:lnTo>
                <a:lnTo>
                  <a:pt x="1533" y="1955"/>
                </a:lnTo>
                <a:lnTo>
                  <a:pt x="1508" y="1961"/>
                </a:lnTo>
                <a:lnTo>
                  <a:pt x="1485" y="1965"/>
                </a:lnTo>
                <a:lnTo>
                  <a:pt x="1462" y="1971"/>
                </a:lnTo>
                <a:lnTo>
                  <a:pt x="1439" y="1974"/>
                </a:lnTo>
                <a:lnTo>
                  <a:pt x="1418" y="1978"/>
                </a:lnTo>
                <a:lnTo>
                  <a:pt x="1397" y="1982"/>
                </a:lnTo>
                <a:lnTo>
                  <a:pt x="1378" y="1988"/>
                </a:lnTo>
                <a:lnTo>
                  <a:pt x="1358" y="1992"/>
                </a:lnTo>
                <a:lnTo>
                  <a:pt x="1341" y="1996"/>
                </a:lnTo>
                <a:lnTo>
                  <a:pt x="1324" y="1999"/>
                </a:lnTo>
                <a:lnTo>
                  <a:pt x="1307" y="2003"/>
                </a:lnTo>
                <a:lnTo>
                  <a:pt x="1289" y="2009"/>
                </a:lnTo>
                <a:lnTo>
                  <a:pt x="1272" y="2015"/>
                </a:lnTo>
                <a:lnTo>
                  <a:pt x="1255" y="2020"/>
                </a:lnTo>
                <a:lnTo>
                  <a:pt x="1236" y="2028"/>
                </a:lnTo>
                <a:lnTo>
                  <a:pt x="1216" y="2034"/>
                </a:lnTo>
                <a:lnTo>
                  <a:pt x="1195" y="2040"/>
                </a:lnTo>
                <a:lnTo>
                  <a:pt x="1176" y="2045"/>
                </a:lnTo>
                <a:lnTo>
                  <a:pt x="1153" y="2051"/>
                </a:lnTo>
                <a:lnTo>
                  <a:pt x="1132" y="2057"/>
                </a:lnTo>
                <a:lnTo>
                  <a:pt x="1109" y="2063"/>
                </a:lnTo>
                <a:lnTo>
                  <a:pt x="1088" y="2068"/>
                </a:lnTo>
                <a:lnTo>
                  <a:pt x="1063" y="2074"/>
                </a:lnTo>
                <a:lnTo>
                  <a:pt x="1040" y="2082"/>
                </a:lnTo>
                <a:lnTo>
                  <a:pt x="1015" y="2088"/>
                </a:lnTo>
                <a:lnTo>
                  <a:pt x="965" y="2099"/>
                </a:lnTo>
                <a:lnTo>
                  <a:pt x="938" y="2105"/>
                </a:lnTo>
                <a:lnTo>
                  <a:pt x="913" y="2111"/>
                </a:lnTo>
                <a:lnTo>
                  <a:pt x="888" y="2118"/>
                </a:lnTo>
                <a:lnTo>
                  <a:pt x="865" y="2124"/>
                </a:lnTo>
                <a:lnTo>
                  <a:pt x="844" y="2130"/>
                </a:lnTo>
                <a:lnTo>
                  <a:pt x="825" y="2136"/>
                </a:lnTo>
                <a:lnTo>
                  <a:pt x="806" y="2141"/>
                </a:lnTo>
                <a:lnTo>
                  <a:pt x="788" y="2147"/>
                </a:lnTo>
                <a:lnTo>
                  <a:pt x="771" y="2153"/>
                </a:lnTo>
                <a:lnTo>
                  <a:pt x="756" y="2159"/>
                </a:lnTo>
                <a:lnTo>
                  <a:pt x="742" y="2164"/>
                </a:lnTo>
                <a:lnTo>
                  <a:pt x="731" y="2170"/>
                </a:lnTo>
                <a:lnTo>
                  <a:pt x="719" y="2178"/>
                </a:lnTo>
                <a:lnTo>
                  <a:pt x="708" y="2184"/>
                </a:lnTo>
                <a:lnTo>
                  <a:pt x="700" y="2189"/>
                </a:lnTo>
                <a:lnTo>
                  <a:pt x="693" y="2195"/>
                </a:lnTo>
                <a:lnTo>
                  <a:pt x="677" y="2203"/>
                </a:lnTo>
                <a:lnTo>
                  <a:pt x="664" y="2209"/>
                </a:lnTo>
                <a:lnTo>
                  <a:pt x="652" y="2214"/>
                </a:lnTo>
                <a:lnTo>
                  <a:pt x="641" y="2220"/>
                </a:lnTo>
                <a:lnTo>
                  <a:pt x="629" y="2222"/>
                </a:lnTo>
                <a:lnTo>
                  <a:pt x="620" y="2226"/>
                </a:lnTo>
                <a:lnTo>
                  <a:pt x="612" y="2226"/>
                </a:lnTo>
                <a:lnTo>
                  <a:pt x="604" y="2228"/>
                </a:lnTo>
                <a:lnTo>
                  <a:pt x="599" y="2228"/>
                </a:lnTo>
                <a:lnTo>
                  <a:pt x="593" y="2226"/>
                </a:lnTo>
                <a:lnTo>
                  <a:pt x="589" y="2224"/>
                </a:lnTo>
                <a:lnTo>
                  <a:pt x="583" y="2222"/>
                </a:lnTo>
                <a:lnTo>
                  <a:pt x="579" y="2220"/>
                </a:lnTo>
                <a:lnTo>
                  <a:pt x="574" y="2218"/>
                </a:lnTo>
                <a:lnTo>
                  <a:pt x="570" y="2214"/>
                </a:lnTo>
                <a:lnTo>
                  <a:pt x="564" y="2210"/>
                </a:lnTo>
                <a:lnTo>
                  <a:pt x="560" y="2205"/>
                </a:lnTo>
                <a:lnTo>
                  <a:pt x="556" y="2199"/>
                </a:lnTo>
                <a:lnTo>
                  <a:pt x="551" y="2193"/>
                </a:lnTo>
                <a:lnTo>
                  <a:pt x="547" y="2187"/>
                </a:lnTo>
                <a:lnTo>
                  <a:pt x="541" y="2180"/>
                </a:lnTo>
                <a:lnTo>
                  <a:pt x="537" y="2170"/>
                </a:lnTo>
                <a:lnTo>
                  <a:pt x="531" y="2162"/>
                </a:lnTo>
                <a:lnTo>
                  <a:pt x="526" y="2153"/>
                </a:lnTo>
                <a:lnTo>
                  <a:pt x="516" y="2138"/>
                </a:lnTo>
                <a:lnTo>
                  <a:pt x="506" y="2122"/>
                </a:lnTo>
                <a:lnTo>
                  <a:pt x="499" y="2109"/>
                </a:lnTo>
                <a:lnTo>
                  <a:pt x="491" y="2097"/>
                </a:lnTo>
                <a:lnTo>
                  <a:pt x="489" y="2091"/>
                </a:lnTo>
                <a:lnTo>
                  <a:pt x="487" y="2086"/>
                </a:lnTo>
                <a:lnTo>
                  <a:pt x="485" y="2080"/>
                </a:lnTo>
                <a:lnTo>
                  <a:pt x="485" y="2074"/>
                </a:lnTo>
                <a:lnTo>
                  <a:pt x="485" y="2070"/>
                </a:lnTo>
                <a:lnTo>
                  <a:pt x="485" y="2065"/>
                </a:lnTo>
                <a:lnTo>
                  <a:pt x="485" y="2061"/>
                </a:lnTo>
                <a:lnTo>
                  <a:pt x="487" y="2057"/>
                </a:lnTo>
                <a:lnTo>
                  <a:pt x="487" y="2053"/>
                </a:lnTo>
                <a:lnTo>
                  <a:pt x="487" y="2049"/>
                </a:lnTo>
                <a:lnTo>
                  <a:pt x="489" y="2045"/>
                </a:lnTo>
                <a:lnTo>
                  <a:pt x="493" y="2042"/>
                </a:lnTo>
                <a:lnTo>
                  <a:pt x="495" y="2038"/>
                </a:lnTo>
                <a:lnTo>
                  <a:pt x="499" y="2034"/>
                </a:lnTo>
                <a:lnTo>
                  <a:pt x="503" y="2030"/>
                </a:lnTo>
                <a:lnTo>
                  <a:pt x="508" y="2026"/>
                </a:lnTo>
                <a:lnTo>
                  <a:pt x="512" y="2022"/>
                </a:lnTo>
                <a:lnTo>
                  <a:pt x="518" y="2019"/>
                </a:lnTo>
                <a:lnTo>
                  <a:pt x="526" y="2017"/>
                </a:lnTo>
                <a:lnTo>
                  <a:pt x="531" y="2013"/>
                </a:lnTo>
                <a:lnTo>
                  <a:pt x="539" y="2011"/>
                </a:lnTo>
                <a:lnTo>
                  <a:pt x="547" y="2007"/>
                </a:lnTo>
                <a:lnTo>
                  <a:pt x="556" y="2005"/>
                </a:lnTo>
                <a:lnTo>
                  <a:pt x="566" y="2003"/>
                </a:lnTo>
                <a:lnTo>
                  <a:pt x="574" y="2001"/>
                </a:lnTo>
                <a:lnTo>
                  <a:pt x="583" y="1997"/>
                </a:lnTo>
                <a:lnTo>
                  <a:pt x="593" y="1994"/>
                </a:lnTo>
                <a:lnTo>
                  <a:pt x="602" y="1990"/>
                </a:lnTo>
                <a:lnTo>
                  <a:pt x="612" y="1984"/>
                </a:lnTo>
                <a:lnTo>
                  <a:pt x="622" y="1978"/>
                </a:lnTo>
                <a:lnTo>
                  <a:pt x="631" y="1972"/>
                </a:lnTo>
                <a:lnTo>
                  <a:pt x="641" y="1965"/>
                </a:lnTo>
                <a:lnTo>
                  <a:pt x="650" y="1957"/>
                </a:lnTo>
                <a:lnTo>
                  <a:pt x="662" y="1949"/>
                </a:lnTo>
                <a:lnTo>
                  <a:pt x="671" y="1940"/>
                </a:lnTo>
                <a:lnTo>
                  <a:pt x="683" y="1930"/>
                </a:lnTo>
                <a:lnTo>
                  <a:pt x="694" y="1921"/>
                </a:lnTo>
                <a:lnTo>
                  <a:pt x="706" y="1909"/>
                </a:lnTo>
                <a:lnTo>
                  <a:pt x="717" y="1898"/>
                </a:lnTo>
                <a:lnTo>
                  <a:pt x="731" y="1886"/>
                </a:lnTo>
                <a:close/>
                <a:moveTo>
                  <a:pt x="1804" y="1971"/>
                </a:moveTo>
                <a:lnTo>
                  <a:pt x="1813" y="1986"/>
                </a:lnTo>
                <a:lnTo>
                  <a:pt x="1821" y="1999"/>
                </a:lnTo>
                <a:lnTo>
                  <a:pt x="1827" y="2013"/>
                </a:lnTo>
                <a:lnTo>
                  <a:pt x="1832" y="2026"/>
                </a:lnTo>
                <a:lnTo>
                  <a:pt x="1838" y="2040"/>
                </a:lnTo>
                <a:lnTo>
                  <a:pt x="1842" y="2051"/>
                </a:lnTo>
                <a:lnTo>
                  <a:pt x="1846" y="2065"/>
                </a:lnTo>
                <a:lnTo>
                  <a:pt x="1850" y="2078"/>
                </a:lnTo>
                <a:lnTo>
                  <a:pt x="1852" y="2091"/>
                </a:lnTo>
                <a:lnTo>
                  <a:pt x="1852" y="2105"/>
                </a:lnTo>
                <a:lnTo>
                  <a:pt x="1852" y="2116"/>
                </a:lnTo>
                <a:lnTo>
                  <a:pt x="1852" y="2130"/>
                </a:lnTo>
                <a:lnTo>
                  <a:pt x="1852" y="2143"/>
                </a:lnTo>
                <a:lnTo>
                  <a:pt x="1850" y="2157"/>
                </a:lnTo>
                <a:lnTo>
                  <a:pt x="1846" y="2170"/>
                </a:lnTo>
                <a:lnTo>
                  <a:pt x="1844" y="2186"/>
                </a:lnTo>
                <a:lnTo>
                  <a:pt x="1840" y="2199"/>
                </a:lnTo>
                <a:lnTo>
                  <a:pt x="1836" y="2210"/>
                </a:lnTo>
                <a:lnTo>
                  <a:pt x="1832" y="2222"/>
                </a:lnTo>
                <a:lnTo>
                  <a:pt x="1829" y="2233"/>
                </a:lnTo>
                <a:lnTo>
                  <a:pt x="1825" y="2243"/>
                </a:lnTo>
                <a:lnTo>
                  <a:pt x="1821" y="2251"/>
                </a:lnTo>
                <a:lnTo>
                  <a:pt x="1817" y="2258"/>
                </a:lnTo>
                <a:lnTo>
                  <a:pt x="1813" y="2266"/>
                </a:lnTo>
                <a:lnTo>
                  <a:pt x="1811" y="2272"/>
                </a:lnTo>
                <a:lnTo>
                  <a:pt x="1808" y="2278"/>
                </a:lnTo>
                <a:lnTo>
                  <a:pt x="1804" y="2281"/>
                </a:lnTo>
                <a:lnTo>
                  <a:pt x="1800" y="2285"/>
                </a:lnTo>
                <a:lnTo>
                  <a:pt x="1796" y="2287"/>
                </a:lnTo>
                <a:lnTo>
                  <a:pt x="1792" y="2289"/>
                </a:lnTo>
                <a:lnTo>
                  <a:pt x="1788" y="2291"/>
                </a:lnTo>
                <a:lnTo>
                  <a:pt x="1784" y="2291"/>
                </a:lnTo>
                <a:lnTo>
                  <a:pt x="1781" y="2291"/>
                </a:lnTo>
                <a:lnTo>
                  <a:pt x="1777" y="2289"/>
                </a:lnTo>
                <a:lnTo>
                  <a:pt x="1773" y="2287"/>
                </a:lnTo>
                <a:lnTo>
                  <a:pt x="1767" y="2283"/>
                </a:lnTo>
                <a:lnTo>
                  <a:pt x="1763" y="2280"/>
                </a:lnTo>
                <a:lnTo>
                  <a:pt x="1758" y="2274"/>
                </a:lnTo>
                <a:lnTo>
                  <a:pt x="1752" y="2268"/>
                </a:lnTo>
                <a:lnTo>
                  <a:pt x="1746" y="2260"/>
                </a:lnTo>
                <a:lnTo>
                  <a:pt x="1740" y="2253"/>
                </a:lnTo>
                <a:lnTo>
                  <a:pt x="1735" y="2243"/>
                </a:lnTo>
                <a:lnTo>
                  <a:pt x="1727" y="2233"/>
                </a:lnTo>
                <a:lnTo>
                  <a:pt x="1719" y="2224"/>
                </a:lnTo>
                <a:lnTo>
                  <a:pt x="1712" y="2212"/>
                </a:lnTo>
                <a:lnTo>
                  <a:pt x="1704" y="2201"/>
                </a:lnTo>
                <a:lnTo>
                  <a:pt x="1696" y="2187"/>
                </a:lnTo>
                <a:lnTo>
                  <a:pt x="1687" y="2174"/>
                </a:lnTo>
                <a:lnTo>
                  <a:pt x="1669" y="2145"/>
                </a:lnTo>
                <a:lnTo>
                  <a:pt x="1650" y="2116"/>
                </a:lnTo>
                <a:lnTo>
                  <a:pt x="1633" y="2086"/>
                </a:lnTo>
                <a:lnTo>
                  <a:pt x="1614" y="2053"/>
                </a:lnTo>
                <a:lnTo>
                  <a:pt x="1595" y="2020"/>
                </a:lnTo>
                <a:lnTo>
                  <a:pt x="1577" y="1988"/>
                </a:lnTo>
                <a:lnTo>
                  <a:pt x="1558" y="1953"/>
                </a:lnTo>
                <a:lnTo>
                  <a:pt x="1541" y="1919"/>
                </a:lnTo>
                <a:lnTo>
                  <a:pt x="1529" y="1900"/>
                </a:lnTo>
                <a:lnTo>
                  <a:pt x="1520" y="1882"/>
                </a:lnTo>
                <a:lnTo>
                  <a:pt x="1508" y="1865"/>
                </a:lnTo>
                <a:lnTo>
                  <a:pt x="1499" y="1850"/>
                </a:lnTo>
                <a:lnTo>
                  <a:pt x="1489" y="1834"/>
                </a:lnTo>
                <a:lnTo>
                  <a:pt x="1479" y="1819"/>
                </a:lnTo>
                <a:lnTo>
                  <a:pt x="1470" y="1804"/>
                </a:lnTo>
                <a:lnTo>
                  <a:pt x="1462" y="1790"/>
                </a:lnTo>
                <a:lnTo>
                  <a:pt x="1452" y="1777"/>
                </a:lnTo>
                <a:lnTo>
                  <a:pt x="1445" y="1763"/>
                </a:lnTo>
                <a:lnTo>
                  <a:pt x="1437" y="1750"/>
                </a:lnTo>
                <a:lnTo>
                  <a:pt x="1429" y="1738"/>
                </a:lnTo>
                <a:lnTo>
                  <a:pt x="1422" y="1727"/>
                </a:lnTo>
                <a:lnTo>
                  <a:pt x="1416" y="1715"/>
                </a:lnTo>
                <a:lnTo>
                  <a:pt x="1410" y="1704"/>
                </a:lnTo>
                <a:lnTo>
                  <a:pt x="1405" y="1694"/>
                </a:lnTo>
                <a:lnTo>
                  <a:pt x="1395" y="1675"/>
                </a:lnTo>
                <a:lnTo>
                  <a:pt x="1385" y="1656"/>
                </a:lnTo>
                <a:lnTo>
                  <a:pt x="1380" y="1641"/>
                </a:lnTo>
                <a:lnTo>
                  <a:pt x="1378" y="1633"/>
                </a:lnTo>
                <a:lnTo>
                  <a:pt x="1376" y="1625"/>
                </a:lnTo>
                <a:lnTo>
                  <a:pt x="1374" y="1617"/>
                </a:lnTo>
                <a:lnTo>
                  <a:pt x="1372" y="1612"/>
                </a:lnTo>
                <a:lnTo>
                  <a:pt x="1372" y="1606"/>
                </a:lnTo>
                <a:lnTo>
                  <a:pt x="1372" y="1600"/>
                </a:lnTo>
                <a:lnTo>
                  <a:pt x="1372" y="1596"/>
                </a:lnTo>
                <a:lnTo>
                  <a:pt x="1372" y="1593"/>
                </a:lnTo>
                <a:lnTo>
                  <a:pt x="1374" y="1591"/>
                </a:lnTo>
                <a:lnTo>
                  <a:pt x="1376" y="1587"/>
                </a:lnTo>
                <a:lnTo>
                  <a:pt x="1380" y="1585"/>
                </a:lnTo>
                <a:lnTo>
                  <a:pt x="1385" y="1581"/>
                </a:lnTo>
                <a:lnTo>
                  <a:pt x="1395" y="1581"/>
                </a:lnTo>
                <a:lnTo>
                  <a:pt x="1399" y="1581"/>
                </a:lnTo>
                <a:lnTo>
                  <a:pt x="1405" y="1581"/>
                </a:lnTo>
                <a:lnTo>
                  <a:pt x="1410" y="1583"/>
                </a:lnTo>
                <a:lnTo>
                  <a:pt x="1416" y="1585"/>
                </a:lnTo>
                <a:lnTo>
                  <a:pt x="1422" y="1587"/>
                </a:lnTo>
                <a:lnTo>
                  <a:pt x="1429" y="1591"/>
                </a:lnTo>
                <a:lnTo>
                  <a:pt x="1437" y="1594"/>
                </a:lnTo>
                <a:lnTo>
                  <a:pt x="1445" y="1598"/>
                </a:lnTo>
                <a:lnTo>
                  <a:pt x="1454" y="1604"/>
                </a:lnTo>
                <a:lnTo>
                  <a:pt x="1462" y="1610"/>
                </a:lnTo>
                <a:lnTo>
                  <a:pt x="1481" y="1621"/>
                </a:lnTo>
                <a:lnTo>
                  <a:pt x="1500" y="1635"/>
                </a:lnTo>
                <a:lnTo>
                  <a:pt x="1522" y="1650"/>
                </a:lnTo>
                <a:lnTo>
                  <a:pt x="1543" y="1665"/>
                </a:lnTo>
                <a:lnTo>
                  <a:pt x="1566" y="1683"/>
                </a:lnTo>
                <a:lnTo>
                  <a:pt x="1589" y="1704"/>
                </a:lnTo>
                <a:lnTo>
                  <a:pt x="1600" y="1713"/>
                </a:lnTo>
                <a:lnTo>
                  <a:pt x="1614" y="1725"/>
                </a:lnTo>
                <a:lnTo>
                  <a:pt x="1625" y="1735"/>
                </a:lnTo>
                <a:lnTo>
                  <a:pt x="1639" y="1748"/>
                </a:lnTo>
                <a:lnTo>
                  <a:pt x="1664" y="1775"/>
                </a:lnTo>
                <a:lnTo>
                  <a:pt x="1687" y="1804"/>
                </a:lnTo>
                <a:lnTo>
                  <a:pt x="1708" y="1832"/>
                </a:lnTo>
                <a:lnTo>
                  <a:pt x="1729" y="1859"/>
                </a:lnTo>
                <a:lnTo>
                  <a:pt x="1748" y="1888"/>
                </a:lnTo>
                <a:lnTo>
                  <a:pt x="1767" y="1915"/>
                </a:lnTo>
                <a:lnTo>
                  <a:pt x="1786" y="1944"/>
                </a:lnTo>
                <a:lnTo>
                  <a:pt x="1804" y="1971"/>
                </a:lnTo>
                <a:close/>
                <a:moveTo>
                  <a:pt x="1560" y="1182"/>
                </a:moveTo>
                <a:lnTo>
                  <a:pt x="1587" y="1178"/>
                </a:lnTo>
                <a:lnTo>
                  <a:pt x="1612" y="1172"/>
                </a:lnTo>
                <a:lnTo>
                  <a:pt x="1637" y="1168"/>
                </a:lnTo>
                <a:lnTo>
                  <a:pt x="1660" y="1163"/>
                </a:lnTo>
                <a:lnTo>
                  <a:pt x="1683" y="1159"/>
                </a:lnTo>
                <a:lnTo>
                  <a:pt x="1706" y="1155"/>
                </a:lnTo>
                <a:lnTo>
                  <a:pt x="1727" y="1151"/>
                </a:lnTo>
                <a:lnTo>
                  <a:pt x="1746" y="1147"/>
                </a:lnTo>
                <a:lnTo>
                  <a:pt x="1767" y="1143"/>
                </a:lnTo>
                <a:lnTo>
                  <a:pt x="1786" y="1142"/>
                </a:lnTo>
                <a:lnTo>
                  <a:pt x="1804" y="1138"/>
                </a:lnTo>
                <a:lnTo>
                  <a:pt x="1821" y="1136"/>
                </a:lnTo>
                <a:lnTo>
                  <a:pt x="1838" y="1132"/>
                </a:lnTo>
                <a:lnTo>
                  <a:pt x="1854" y="1130"/>
                </a:lnTo>
                <a:lnTo>
                  <a:pt x="1869" y="1126"/>
                </a:lnTo>
                <a:lnTo>
                  <a:pt x="1884" y="1124"/>
                </a:lnTo>
                <a:lnTo>
                  <a:pt x="1898" y="1122"/>
                </a:lnTo>
                <a:lnTo>
                  <a:pt x="1909" y="1120"/>
                </a:lnTo>
                <a:lnTo>
                  <a:pt x="1923" y="1119"/>
                </a:lnTo>
                <a:lnTo>
                  <a:pt x="1932" y="1117"/>
                </a:lnTo>
                <a:lnTo>
                  <a:pt x="1944" y="1115"/>
                </a:lnTo>
                <a:lnTo>
                  <a:pt x="1953" y="1115"/>
                </a:lnTo>
                <a:lnTo>
                  <a:pt x="1963" y="1113"/>
                </a:lnTo>
                <a:lnTo>
                  <a:pt x="1971" y="1111"/>
                </a:lnTo>
                <a:lnTo>
                  <a:pt x="1978" y="1111"/>
                </a:lnTo>
                <a:lnTo>
                  <a:pt x="1984" y="1111"/>
                </a:lnTo>
                <a:lnTo>
                  <a:pt x="1990" y="1109"/>
                </a:lnTo>
                <a:lnTo>
                  <a:pt x="1996" y="1109"/>
                </a:lnTo>
                <a:lnTo>
                  <a:pt x="1999" y="1109"/>
                </a:lnTo>
                <a:lnTo>
                  <a:pt x="2003" y="1109"/>
                </a:lnTo>
                <a:lnTo>
                  <a:pt x="2007" y="1107"/>
                </a:lnTo>
                <a:lnTo>
                  <a:pt x="2009" y="1107"/>
                </a:lnTo>
                <a:lnTo>
                  <a:pt x="2011" y="1107"/>
                </a:lnTo>
                <a:lnTo>
                  <a:pt x="2015" y="1109"/>
                </a:lnTo>
                <a:lnTo>
                  <a:pt x="2019" y="1109"/>
                </a:lnTo>
                <a:lnTo>
                  <a:pt x="2022" y="1109"/>
                </a:lnTo>
                <a:lnTo>
                  <a:pt x="2026" y="1111"/>
                </a:lnTo>
                <a:lnTo>
                  <a:pt x="2032" y="1113"/>
                </a:lnTo>
                <a:lnTo>
                  <a:pt x="2038" y="1113"/>
                </a:lnTo>
                <a:lnTo>
                  <a:pt x="2045" y="1115"/>
                </a:lnTo>
                <a:lnTo>
                  <a:pt x="2053" y="1119"/>
                </a:lnTo>
                <a:lnTo>
                  <a:pt x="2061" y="1120"/>
                </a:lnTo>
                <a:lnTo>
                  <a:pt x="2070" y="1122"/>
                </a:lnTo>
                <a:lnTo>
                  <a:pt x="2080" y="1126"/>
                </a:lnTo>
                <a:lnTo>
                  <a:pt x="2092" y="1128"/>
                </a:lnTo>
                <a:lnTo>
                  <a:pt x="2101" y="1132"/>
                </a:lnTo>
                <a:lnTo>
                  <a:pt x="2115" y="1136"/>
                </a:lnTo>
                <a:lnTo>
                  <a:pt x="2126" y="1140"/>
                </a:lnTo>
                <a:lnTo>
                  <a:pt x="2147" y="1151"/>
                </a:lnTo>
                <a:lnTo>
                  <a:pt x="2166" y="1163"/>
                </a:lnTo>
                <a:lnTo>
                  <a:pt x="2184" y="1172"/>
                </a:lnTo>
                <a:lnTo>
                  <a:pt x="2201" y="1182"/>
                </a:lnTo>
                <a:lnTo>
                  <a:pt x="2216" y="1191"/>
                </a:lnTo>
                <a:lnTo>
                  <a:pt x="2230" y="1203"/>
                </a:lnTo>
                <a:lnTo>
                  <a:pt x="2241" y="1213"/>
                </a:lnTo>
                <a:lnTo>
                  <a:pt x="2253" y="1224"/>
                </a:lnTo>
                <a:lnTo>
                  <a:pt x="2262" y="1236"/>
                </a:lnTo>
                <a:lnTo>
                  <a:pt x="2272" y="1247"/>
                </a:lnTo>
                <a:lnTo>
                  <a:pt x="2278" y="1257"/>
                </a:lnTo>
                <a:lnTo>
                  <a:pt x="2282" y="1264"/>
                </a:lnTo>
                <a:lnTo>
                  <a:pt x="2285" y="1272"/>
                </a:lnTo>
                <a:lnTo>
                  <a:pt x="2285" y="1280"/>
                </a:lnTo>
                <a:lnTo>
                  <a:pt x="2285" y="1284"/>
                </a:lnTo>
                <a:lnTo>
                  <a:pt x="2282" y="1289"/>
                </a:lnTo>
                <a:lnTo>
                  <a:pt x="2280" y="1291"/>
                </a:lnTo>
                <a:lnTo>
                  <a:pt x="2276" y="1293"/>
                </a:lnTo>
                <a:lnTo>
                  <a:pt x="2268" y="1293"/>
                </a:lnTo>
                <a:lnTo>
                  <a:pt x="2260" y="1295"/>
                </a:lnTo>
                <a:lnTo>
                  <a:pt x="2251" y="1295"/>
                </a:lnTo>
                <a:lnTo>
                  <a:pt x="2239" y="1297"/>
                </a:lnTo>
                <a:lnTo>
                  <a:pt x="2224" y="1297"/>
                </a:lnTo>
                <a:lnTo>
                  <a:pt x="2209" y="1297"/>
                </a:lnTo>
                <a:lnTo>
                  <a:pt x="2191" y="1297"/>
                </a:lnTo>
                <a:lnTo>
                  <a:pt x="2172" y="1297"/>
                </a:lnTo>
                <a:lnTo>
                  <a:pt x="2151" y="1295"/>
                </a:lnTo>
                <a:lnTo>
                  <a:pt x="2128" y="1295"/>
                </a:lnTo>
                <a:lnTo>
                  <a:pt x="2103" y="1293"/>
                </a:lnTo>
                <a:lnTo>
                  <a:pt x="2078" y="1293"/>
                </a:lnTo>
                <a:lnTo>
                  <a:pt x="2049" y="1291"/>
                </a:lnTo>
                <a:lnTo>
                  <a:pt x="2019" y="1289"/>
                </a:lnTo>
                <a:lnTo>
                  <a:pt x="1988" y="1287"/>
                </a:lnTo>
                <a:lnTo>
                  <a:pt x="1957" y="1285"/>
                </a:lnTo>
                <a:lnTo>
                  <a:pt x="1896" y="1284"/>
                </a:lnTo>
                <a:lnTo>
                  <a:pt x="1836" y="1285"/>
                </a:lnTo>
                <a:lnTo>
                  <a:pt x="1779" y="1285"/>
                </a:lnTo>
                <a:lnTo>
                  <a:pt x="1721" y="1289"/>
                </a:lnTo>
                <a:lnTo>
                  <a:pt x="1666" y="1291"/>
                </a:lnTo>
                <a:lnTo>
                  <a:pt x="1612" y="1295"/>
                </a:lnTo>
                <a:lnTo>
                  <a:pt x="1560" y="1299"/>
                </a:lnTo>
                <a:lnTo>
                  <a:pt x="1533" y="1303"/>
                </a:lnTo>
                <a:lnTo>
                  <a:pt x="1504" y="1309"/>
                </a:lnTo>
                <a:lnTo>
                  <a:pt x="1476" y="1312"/>
                </a:lnTo>
                <a:lnTo>
                  <a:pt x="1445" y="1316"/>
                </a:lnTo>
                <a:lnTo>
                  <a:pt x="1414" y="1320"/>
                </a:lnTo>
                <a:lnTo>
                  <a:pt x="1383" y="1324"/>
                </a:lnTo>
                <a:lnTo>
                  <a:pt x="1351" y="1328"/>
                </a:lnTo>
                <a:lnTo>
                  <a:pt x="1318" y="1333"/>
                </a:lnTo>
                <a:lnTo>
                  <a:pt x="1286" y="1337"/>
                </a:lnTo>
                <a:lnTo>
                  <a:pt x="1251" y="1341"/>
                </a:lnTo>
                <a:lnTo>
                  <a:pt x="1216" y="1347"/>
                </a:lnTo>
                <a:lnTo>
                  <a:pt x="1182" y="1353"/>
                </a:lnTo>
                <a:lnTo>
                  <a:pt x="1145" y="1356"/>
                </a:lnTo>
                <a:lnTo>
                  <a:pt x="1109" y="1362"/>
                </a:lnTo>
                <a:lnTo>
                  <a:pt x="1071" y="1368"/>
                </a:lnTo>
                <a:lnTo>
                  <a:pt x="1034" y="1374"/>
                </a:lnTo>
                <a:lnTo>
                  <a:pt x="994" y="1381"/>
                </a:lnTo>
                <a:lnTo>
                  <a:pt x="954" y="1387"/>
                </a:lnTo>
                <a:lnTo>
                  <a:pt x="915" y="1393"/>
                </a:lnTo>
                <a:lnTo>
                  <a:pt x="879" y="1401"/>
                </a:lnTo>
                <a:lnTo>
                  <a:pt x="840" y="1406"/>
                </a:lnTo>
                <a:lnTo>
                  <a:pt x="804" y="1414"/>
                </a:lnTo>
                <a:lnTo>
                  <a:pt x="769" y="1420"/>
                </a:lnTo>
                <a:lnTo>
                  <a:pt x="733" y="1427"/>
                </a:lnTo>
                <a:lnTo>
                  <a:pt x="698" y="1435"/>
                </a:lnTo>
                <a:lnTo>
                  <a:pt x="666" y="1441"/>
                </a:lnTo>
                <a:lnTo>
                  <a:pt x="631" y="1449"/>
                </a:lnTo>
                <a:lnTo>
                  <a:pt x="600" y="1454"/>
                </a:lnTo>
                <a:lnTo>
                  <a:pt x="568" y="1462"/>
                </a:lnTo>
                <a:lnTo>
                  <a:pt x="537" y="1468"/>
                </a:lnTo>
                <a:lnTo>
                  <a:pt x="506" y="1475"/>
                </a:lnTo>
                <a:lnTo>
                  <a:pt x="478" y="1481"/>
                </a:lnTo>
                <a:lnTo>
                  <a:pt x="462" y="1483"/>
                </a:lnTo>
                <a:lnTo>
                  <a:pt x="447" y="1487"/>
                </a:lnTo>
                <a:lnTo>
                  <a:pt x="433" y="1489"/>
                </a:lnTo>
                <a:lnTo>
                  <a:pt x="418" y="1493"/>
                </a:lnTo>
                <a:lnTo>
                  <a:pt x="407" y="1495"/>
                </a:lnTo>
                <a:lnTo>
                  <a:pt x="393" y="1499"/>
                </a:lnTo>
                <a:lnTo>
                  <a:pt x="382" y="1500"/>
                </a:lnTo>
                <a:lnTo>
                  <a:pt x="368" y="1502"/>
                </a:lnTo>
                <a:lnTo>
                  <a:pt x="357" y="1506"/>
                </a:lnTo>
                <a:lnTo>
                  <a:pt x="347" y="1508"/>
                </a:lnTo>
                <a:lnTo>
                  <a:pt x="326" y="1512"/>
                </a:lnTo>
                <a:lnTo>
                  <a:pt x="309" y="1516"/>
                </a:lnTo>
                <a:lnTo>
                  <a:pt x="291" y="1520"/>
                </a:lnTo>
                <a:lnTo>
                  <a:pt x="278" y="1523"/>
                </a:lnTo>
                <a:lnTo>
                  <a:pt x="265" y="1525"/>
                </a:lnTo>
                <a:lnTo>
                  <a:pt x="253" y="1529"/>
                </a:lnTo>
                <a:lnTo>
                  <a:pt x="243" y="1531"/>
                </a:lnTo>
                <a:lnTo>
                  <a:pt x="236" y="1531"/>
                </a:lnTo>
                <a:lnTo>
                  <a:pt x="230" y="1533"/>
                </a:lnTo>
                <a:lnTo>
                  <a:pt x="226" y="1533"/>
                </a:lnTo>
                <a:lnTo>
                  <a:pt x="224" y="1535"/>
                </a:lnTo>
                <a:lnTo>
                  <a:pt x="220" y="1533"/>
                </a:lnTo>
                <a:lnTo>
                  <a:pt x="219" y="1533"/>
                </a:lnTo>
                <a:lnTo>
                  <a:pt x="215" y="1533"/>
                </a:lnTo>
                <a:lnTo>
                  <a:pt x="211" y="1531"/>
                </a:lnTo>
                <a:lnTo>
                  <a:pt x="205" y="1531"/>
                </a:lnTo>
                <a:lnTo>
                  <a:pt x="199" y="1529"/>
                </a:lnTo>
                <a:lnTo>
                  <a:pt x="194" y="1527"/>
                </a:lnTo>
                <a:lnTo>
                  <a:pt x="186" y="1525"/>
                </a:lnTo>
                <a:lnTo>
                  <a:pt x="178" y="1522"/>
                </a:lnTo>
                <a:lnTo>
                  <a:pt x="171" y="1520"/>
                </a:lnTo>
                <a:lnTo>
                  <a:pt x="161" y="1516"/>
                </a:lnTo>
                <a:lnTo>
                  <a:pt x="151" y="1512"/>
                </a:lnTo>
                <a:lnTo>
                  <a:pt x="142" y="1508"/>
                </a:lnTo>
                <a:lnTo>
                  <a:pt x="130" y="1502"/>
                </a:lnTo>
                <a:lnTo>
                  <a:pt x="119" y="1497"/>
                </a:lnTo>
                <a:lnTo>
                  <a:pt x="107" y="1491"/>
                </a:lnTo>
                <a:lnTo>
                  <a:pt x="94" y="1485"/>
                </a:lnTo>
                <a:lnTo>
                  <a:pt x="82" y="1479"/>
                </a:lnTo>
                <a:lnTo>
                  <a:pt x="71" y="1474"/>
                </a:lnTo>
                <a:lnTo>
                  <a:pt x="61" y="1470"/>
                </a:lnTo>
                <a:lnTo>
                  <a:pt x="52" y="1464"/>
                </a:lnTo>
                <a:lnTo>
                  <a:pt x="42" y="1460"/>
                </a:lnTo>
                <a:lnTo>
                  <a:pt x="34" y="1456"/>
                </a:lnTo>
                <a:lnTo>
                  <a:pt x="27" y="1451"/>
                </a:lnTo>
                <a:lnTo>
                  <a:pt x="21" y="1447"/>
                </a:lnTo>
                <a:lnTo>
                  <a:pt x="15" y="1445"/>
                </a:lnTo>
                <a:lnTo>
                  <a:pt x="9" y="1441"/>
                </a:lnTo>
                <a:lnTo>
                  <a:pt x="6" y="1437"/>
                </a:lnTo>
                <a:lnTo>
                  <a:pt x="4" y="1435"/>
                </a:lnTo>
                <a:lnTo>
                  <a:pt x="0" y="1431"/>
                </a:lnTo>
                <a:lnTo>
                  <a:pt x="0" y="1429"/>
                </a:lnTo>
                <a:lnTo>
                  <a:pt x="0" y="1427"/>
                </a:lnTo>
                <a:lnTo>
                  <a:pt x="0" y="1426"/>
                </a:lnTo>
                <a:lnTo>
                  <a:pt x="2" y="1424"/>
                </a:lnTo>
                <a:lnTo>
                  <a:pt x="4" y="1422"/>
                </a:lnTo>
                <a:lnTo>
                  <a:pt x="7" y="1422"/>
                </a:lnTo>
                <a:lnTo>
                  <a:pt x="13" y="1420"/>
                </a:lnTo>
                <a:lnTo>
                  <a:pt x="19" y="1420"/>
                </a:lnTo>
                <a:lnTo>
                  <a:pt x="27" y="1418"/>
                </a:lnTo>
                <a:lnTo>
                  <a:pt x="36" y="1418"/>
                </a:lnTo>
                <a:lnTo>
                  <a:pt x="46" y="1416"/>
                </a:lnTo>
                <a:lnTo>
                  <a:pt x="55" y="1414"/>
                </a:lnTo>
                <a:lnTo>
                  <a:pt x="69" y="1414"/>
                </a:lnTo>
                <a:lnTo>
                  <a:pt x="80" y="1412"/>
                </a:lnTo>
                <a:lnTo>
                  <a:pt x="96" y="1412"/>
                </a:lnTo>
                <a:lnTo>
                  <a:pt x="111" y="1410"/>
                </a:lnTo>
                <a:lnTo>
                  <a:pt x="128" y="1408"/>
                </a:lnTo>
                <a:lnTo>
                  <a:pt x="146" y="1406"/>
                </a:lnTo>
                <a:lnTo>
                  <a:pt x="153" y="1404"/>
                </a:lnTo>
                <a:lnTo>
                  <a:pt x="163" y="1404"/>
                </a:lnTo>
                <a:lnTo>
                  <a:pt x="172" y="1403"/>
                </a:lnTo>
                <a:lnTo>
                  <a:pt x="184" y="1403"/>
                </a:lnTo>
                <a:lnTo>
                  <a:pt x="194" y="1401"/>
                </a:lnTo>
                <a:lnTo>
                  <a:pt x="205" y="1399"/>
                </a:lnTo>
                <a:lnTo>
                  <a:pt x="219" y="1397"/>
                </a:lnTo>
                <a:lnTo>
                  <a:pt x="230" y="1397"/>
                </a:lnTo>
                <a:lnTo>
                  <a:pt x="245" y="1395"/>
                </a:lnTo>
                <a:lnTo>
                  <a:pt x="259" y="1393"/>
                </a:lnTo>
                <a:lnTo>
                  <a:pt x="272" y="1391"/>
                </a:lnTo>
                <a:lnTo>
                  <a:pt x="288" y="1389"/>
                </a:lnTo>
                <a:lnTo>
                  <a:pt x="305" y="1387"/>
                </a:lnTo>
                <a:lnTo>
                  <a:pt x="320" y="1385"/>
                </a:lnTo>
                <a:lnTo>
                  <a:pt x="338" y="1381"/>
                </a:lnTo>
                <a:lnTo>
                  <a:pt x="355" y="1380"/>
                </a:lnTo>
                <a:lnTo>
                  <a:pt x="374" y="1378"/>
                </a:lnTo>
                <a:lnTo>
                  <a:pt x="391" y="1374"/>
                </a:lnTo>
                <a:lnTo>
                  <a:pt x="410" y="1372"/>
                </a:lnTo>
                <a:lnTo>
                  <a:pt x="432" y="1368"/>
                </a:lnTo>
                <a:lnTo>
                  <a:pt x="451" y="1366"/>
                </a:lnTo>
                <a:lnTo>
                  <a:pt x="472" y="1362"/>
                </a:lnTo>
                <a:lnTo>
                  <a:pt x="493" y="1358"/>
                </a:lnTo>
                <a:lnTo>
                  <a:pt x="516" y="1356"/>
                </a:lnTo>
                <a:lnTo>
                  <a:pt x="539" y="1353"/>
                </a:lnTo>
                <a:lnTo>
                  <a:pt x="562" y="1349"/>
                </a:lnTo>
                <a:lnTo>
                  <a:pt x="585" y="1345"/>
                </a:lnTo>
                <a:lnTo>
                  <a:pt x="610" y="1339"/>
                </a:lnTo>
                <a:lnTo>
                  <a:pt x="635" y="1335"/>
                </a:lnTo>
                <a:lnTo>
                  <a:pt x="660" y="1332"/>
                </a:lnTo>
                <a:lnTo>
                  <a:pt x="685" y="1326"/>
                </a:lnTo>
                <a:lnTo>
                  <a:pt x="712" y="1322"/>
                </a:lnTo>
                <a:lnTo>
                  <a:pt x="817" y="1301"/>
                </a:lnTo>
                <a:lnTo>
                  <a:pt x="923" y="1282"/>
                </a:lnTo>
                <a:lnTo>
                  <a:pt x="1030" y="1264"/>
                </a:lnTo>
                <a:lnTo>
                  <a:pt x="1136" y="1247"/>
                </a:lnTo>
                <a:lnTo>
                  <a:pt x="1241" y="1232"/>
                </a:lnTo>
                <a:lnTo>
                  <a:pt x="1349" y="1214"/>
                </a:lnTo>
                <a:lnTo>
                  <a:pt x="1560" y="1182"/>
                </a:lnTo>
                <a:close/>
                <a:moveTo>
                  <a:pt x="1600" y="648"/>
                </a:moveTo>
                <a:lnTo>
                  <a:pt x="1614" y="650"/>
                </a:lnTo>
                <a:lnTo>
                  <a:pt x="1627" y="652"/>
                </a:lnTo>
                <a:lnTo>
                  <a:pt x="1639" y="654"/>
                </a:lnTo>
                <a:lnTo>
                  <a:pt x="1650" y="658"/>
                </a:lnTo>
                <a:lnTo>
                  <a:pt x="1662" y="664"/>
                </a:lnTo>
                <a:lnTo>
                  <a:pt x="1671" y="671"/>
                </a:lnTo>
                <a:lnTo>
                  <a:pt x="1679" y="681"/>
                </a:lnTo>
                <a:lnTo>
                  <a:pt x="1683" y="687"/>
                </a:lnTo>
                <a:lnTo>
                  <a:pt x="1687" y="693"/>
                </a:lnTo>
                <a:lnTo>
                  <a:pt x="1694" y="704"/>
                </a:lnTo>
                <a:lnTo>
                  <a:pt x="1696" y="708"/>
                </a:lnTo>
                <a:lnTo>
                  <a:pt x="1698" y="714"/>
                </a:lnTo>
                <a:lnTo>
                  <a:pt x="1700" y="719"/>
                </a:lnTo>
                <a:lnTo>
                  <a:pt x="1700" y="723"/>
                </a:lnTo>
                <a:lnTo>
                  <a:pt x="1700" y="727"/>
                </a:lnTo>
                <a:lnTo>
                  <a:pt x="1700" y="733"/>
                </a:lnTo>
                <a:lnTo>
                  <a:pt x="1700" y="737"/>
                </a:lnTo>
                <a:lnTo>
                  <a:pt x="1698" y="739"/>
                </a:lnTo>
                <a:lnTo>
                  <a:pt x="1696" y="742"/>
                </a:lnTo>
                <a:lnTo>
                  <a:pt x="1694" y="746"/>
                </a:lnTo>
                <a:lnTo>
                  <a:pt x="1690" y="748"/>
                </a:lnTo>
                <a:lnTo>
                  <a:pt x="1687" y="752"/>
                </a:lnTo>
                <a:lnTo>
                  <a:pt x="1683" y="754"/>
                </a:lnTo>
                <a:lnTo>
                  <a:pt x="1677" y="756"/>
                </a:lnTo>
                <a:lnTo>
                  <a:pt x="1671" y="760"/>
                </a:lnTo>
                <a:lnTo>
                  <a:pt x="1664" y="764"/>
                </a:lnTo>
                <a:lnTo>
                  <a:pt x="1654" y="767"/>
                </a:lnTo>
                <a:lnTo>
                  <a:pt x="1644" y="771"/>
                </a:lnTo>
                <a:lnTo>
                  <a:pt x="1633" y="777"/>
                </a:lnTo>
                <a:lnTo>
                  <a:pt x="1619" y="781"/>
                </a:lnTo>
                <a:lnTo>
                  <a:pt x="1604" y="785"/>
                </a:lnTo>
                <a:lnTo>
                  <a:pt x="1587" y="788"/>
                </a:lnTo>
                <a:lnTo>
                  <a:pt x="1570" y="794"/>
                </a:lnTo>
                <a:lnTo>
                  <a:pt x="1548" y="798"/>
                </a:lnTo>
                <a:lnTo>
                  <a:pt x="1527" y="804"/>
                </a:lnTo>
                <a:lnTo>
                  <a:pt x="1504" y="808"/>
                </a:lnTo>
                <a:lnTo>
                  <a:pt x="1479" y="813"/>
                </a:lnTo>
                <a:lnTo>
                  <a:pt x="1452" y="819"/>
                </a:lnTo>
                <a:lnTo>
                  <a:pt x="1424" y="825"/>
                </a:lnTo>
                <a:lnTo>
                  <a:pt x="1395" y="831"/>
                </a:lnTo>
                <a:lnTo>
                  <a:pt x="1364" y="836"/>
                </a:lnTo>
                <a:lnTo>
                  <a:pt x="1334" y="842"/>
                </a:lnTo>
                <a:lnTo>
                  <a:pt x="1305" y="848"/>
                </a:lnTo>
                <a:lnTo>
                  <a:pt x="1276" y="854"/>
                </a:lnTo>
                <a:lnTo>
                  <a:pt x="1247" y="858"/>
                </a:lnTo>
                <a:lnTo>
                  <a:pt x="1220" y="863"/>
                </a:lnTo>
                <a:lnTo>
                  <a:pt x="1193" y="869"/>
                </a:lnTo>
                <a:lnTo>
                  <a:pt x="1167" y="873"/>
                </a:lnTo>
                <a:lnTo>
                  <a:pt x="1142" y="879"/>
                </a:lnTo>
                <a:lnTo>
                  <a:pt x="1117" y="883"/>
                </a:lnTo>
                <a:lnTo>
                  <a:pt x="1094" y="888"/>
                </a:lnTo>
                <a:lnTo>
                  <a:pt x="1071" y="894"/>
                </a:lnTo>
                <a:lnTo>
                  <a:pt x="1048" y="898"/>
                </a:lnTo>
                <a:lnTo>
                  <a:pt x="1026" y="904"/>
                </a:lnTo>
                <a:lnTo>
                  <a:pt x="1005" y="909"/>
                </a:lnTo>
                <a:lnTo>
                  <a:pt x="984" y="915"/>
                </a:lnTo>
                <a:lnTo>
                  <a:pt x="963" y="921"/>
                </a:lnTo>
                <a:lnTo>
                  <a:pt x="942" y="927"/>
                </a:lnTo>
                <a:lnTo>
                  <a:pt x="923" y="932"/>
                </a:lnTo>
                <a:lnTo>
                  <a:pt x="906" y="936"/>
                </a:lnTo>
                <a:lnTo>
                  <a:pt x="888" y="940"/>
                </a:lnTo>
                <a:lnTo>
                  <a:pt x="873" y="944"/>
                </a:lnTo>
                <a:lnTo>
                  <a:pt x="858" y="946"/>
                </a:lnTo>
                <a:lnTo>
                  <a:pt x="844" y="950"/>
                </a:lnTo>
                <a:lnTo>
                  <a:pt x="831" y="952"/>
                </a:lnTo>
                <a:lnTo>
                  <a:pt x="819" y="954"/>
                </a:lnTo>
                <a:lnTo>
                  <a:pt x="810" y="955"/>
                </a:lnTo>
                <a:lnTo>
                  <a:pt x="800" y="955"/>
                </a:lnTo>
                <a:lnTo>
                  <a:pt x="790" y="957"/>
                </a:lnTo>
                <a:lnTo>
                  <a:pt x="783" y="957"/>
                </a:lnTo>
                <a:lnTo>
                  <a:pt x="775" y="957"/>
                </a:lnTo>
                <a:lnTo>
                  <a:pt x="769" y="959"/>
                </a:lnTo>
                <a:lnTo>
                  <a:pt x="760" y="957"/>
                </a:lnTo>
                <a:lnTo>
                  <a:pt x="750" y="957"/>
                </a:lnTo>
                <a:lnTo>
                  <a:pt x="741" y="954"/>
                </a:lnTo>
                <a:lnTo>
                  <a:pt x="731" y="950"/>
                </a:lnTo>
                <a:lnTo>
                  <a:pt x="721" y="946"/>
                </a:lnTo>
                <a:lnTo>
                  <a:pt x="712" y="940"/>
                </a:lnTo>
                <a:lnTo>
                  <a:pt x="702" y="934"/>
                </a:lnTo>
                <a:lnTo>
                  <a:pt x="693" y="927"/>
                </a:lnTo>
                <a:lnTo>
                  <a:pt x="681" y="923"/>
                </a:lnTo>
                <a:lnTo>
                  <a:pt x="673" y="917"/>
                </a:lnTo>
                <a:lnTo>
                  <a:pt x="666" y="911"/>
                </a:lnTo>
                <a:lnTo>
                  <a:pt x="662" y="906"/>
                </a:lnTo>
                <a:lnTo>
                  <a:pt x="658" y="900"/>
                </a:lnTo>
                <a:lnTo>
                  <a:pt x="654" y="894"/>
                </a:lnTo>
                <a:lnTo>
                  <a:pt x="654" y="888"/>
                </a:lnTo>
                <a:lnTo>
                  <a:pt x="652" y="884"/>
                </a:lnTo>
                <a:lnTo>
                  <a:pt x="654" y="881"/>
                </a:lnTo>
                <a:lnTo>
                  <a:pt x="654" y="877"/>
                </a:lnTo>
                <a:lnTo>
                  <a:pt x="658" y="875"/>
                </a:lnTo>
                <a:lnTo>
                  <a:pt x="662" y="873"/>
                </a:lnTo>
                <a:lnTo>
                  <a:pt x="666" y="871"/>
                </a:lnTo>
                <a:lnTo>
                  <a:pt x="673" y="869"/>
                </a:lnTo>
                <a:lnTo>
                  <a:pt x="681" y="865"/>
                </a:lnTo>
                <a:lnTo>
                  <a:pt x="693" y="863"/>
                </a:lnTo>
                <a:lnTo>
                  <a:pt x="694" y="861"/>
                </a:lnTo>
                <a:lnTo>
                  <a:pt x="698" y="861"/>
                </a:lnTo>
                <a:lnTo>
                  <a:pt x="704" y="861"/>
                </a:lnTo>
                <a:lnTo>
                  <a:pt x="708" y="861"/>
                </a:lnTo>
                <a:lnTo>
                  <a:pt x="714" y="859"/>
                </a:lnTo>
                <a:lnTo>
                  <a:pt x="721" y="858"/>
                </a:lnTo>
                <a:lnTo>
                  <a:pt x="727" y="856"/>
                </a:lnTo>
                <a:lnTo>
                  <a:pt x="737" y="856"/>
                </a:lnTo>
                <a:lnTo>
                  <a:pt x="744" y="852"/>
                </a:lnTo>
                <a:lnTo>
                  <a:pt x="754" y="850"/>
                </a:lnTo>
                <a:lnTo>
                  <a:pt x="764" y="848"/>
                </a:lnTo>
                <a:lnTo>
                  <a:pt x="775" y="846"/>
                </a:lnTo>
                <a:lnTo>
                  <a:pt x="787" y="842"/>
                </a:lnTo>
                <a:lnTo>
                  <a:pt x="798" y="838"/>
                </a:lnTo>
                <a:lnTo>
                  <a:pt x="812" y="836"/>
                </a:lnTo>
                <a:lnTo>
                  <a:pt x="825" y="833"/>
                </a:lnTo>
                <a:lnTo>
                  <a:pt x="838" y="829"/>
                </a:lnTo>
                <a:lnTo>
                  <a:pt x="854" y="825"/>
                </a:lnTo>
                <a:lnTo>
                  <a:pt x="869" y="821"/>
                </a:lnTo>
                <a:lnTo>
                  <a:pt x="886" y="815"/>
                </a:lnTo>
                <a:lnTo>
                  <a:pt x="904" y="811"/>
                </a:lnTo>
                <a:lnTo>
                  <a:pt x="921" y="806"/>
                </a:lnTo>
                <a:lnTo>
                  <a:pt x="940" y="800"/>
                </a:lnTo>
                <a:lnTo>
                  <a:pt x="959" y="796"/>
                </a:lnTo>
                <a:lnTo>
                  <a:pt x="980" y="790"/>
                </a:lnTo>
                <a:lnTo>
                  <a:pt x="1000" y="785"/>
                </a:lnTo>
                <a:lnTo>
                  <a:pt x="1023" y="779"/>
                </a:lnTo>
                <a:lnTo>
                  <a:pt x="1044" y="771"/>
                </a:lnTo>
                <a:lnTo>
                  <a:pt x="1067" y="765"/>
                </a:lnTo>
                <a:lnTo>
                  <a:pt x="1092" y="760"/>
                </a:lnTo>
                <a:lnTo>
                  <a:pt x="1115" y="752"/>
                </a:lnTo>
                <a:lnTo>
                  <a:pt x="1142" y="746"/>
                </a:lnTo>
                <a:lnTo>
                  <a:pt x="1165" y="739"/>
                </a:lnTo>
                <a:lnTo>
                  <a:pt x="1190" y="731"/>
                </a:lnTo>
                <a:lnTo>
                  <a:pt x="1213" y="725"/>
                </a:lnTo>
                <a:lnTo>
                  <a:pt x="1234" y="719"/>
                </a:lnTo>
                <a:lnTo>
                  <a:pt x="1257" y="714"/>
                </a:lnTo>
                <a:lnTo>
                  <a:pt x="1278" y="708"/>
                </a:lnTo>
                <a:lnTo>
                  <a:pt x="1297" y="702"/>
                </a:lnTo>
                <a:lnTo>
                  <a:pt x="1318" y="696"/>
                </a:lnTo>
                <a:lnTo>
                  <a:pt x="1337" y="693"/>
                </a:lnTo>
                <a:lnTo>
                  <a:pt x="1357" y="687"/>
                </a:lnTo>
                <a:lnTo>
                  <a:pt x="1374" y="683"/>
                </a:lnTo>
                <a:lnTo>
                  <a:pt x="1391" y="679"/>
                </a:lnTo>
                <a:lnTo>
                  <a:pt x="1408" y="675"/>
                </a:lnTo>
                <a:lnTo>
                  <a:pt x="1424" y="671"/>
                </a:lnTo>
                <a:lnTo>
                  <a:pt x="1439" y="668"/>
                </a:lnTo>
                <a:lnTo>
                  <a:pt x="1454" y="664"/>
                </a:lnTo>
                <a:lnTo>
                  <a:pt x="1468" y="662"/>
                </a:lnTo>
                <a:lnTo>
                  <a:pt x="1481" y="660"/>
                </a:lnTo>
                <a:lnTo>
                  <a:pt x="1495" y="656"/>
                </a:lnTo>
                <a:lnTo>
                  <a:pt x="1506" y="654"/>
                </a:lnTo>
                <a:lnTo>
                  <a:pt x="1518" y="652"/>
                </a:lnTo>
                <a:lnTo>
                  <a:pt x="1529" y="652"/>
                </a:lnTo>
                <a:lnTo>
                  <a:pt x="1539" y="650"/>
                </a:lnTo>
                <a:lnTo>
                  <a:pt x="1548" y="648"/>
                </a:lnTo>
                <a:lnTo>
                  <a:pt x="1556" y="648"/>
                </a:lnTo>
                <a:lnTo>
                  <a:pt x="1566" y="648"/>
                </a:lnTo>
                <a:lnTo>
                  <a:pt x="1571" y="646"/>
                </a:lnTo>
                <a:lnTo>
                  <a:pt x="1579" y="646"/>
                </a:lnTo>
                <a:lnTo>
                  <a:pt x="1585" y="646"/>
                </a:lnTo>
                <a:lnTo>
                  <a:pt x="1591" y="648"/>
                </a:lnTo>
                <a:lnTo>
                  <a:pt x="1595" y="648"/>
                </a:lnTo>
                <a:lnTo>
                  <a:pt x="1600" y="6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7"/>
          <p:cNvSpPr/>
          <p:nvPr/>
        </p:nvSpPr>
        <p:spPr>
          <a:xfrm>
            <a:off x="2427120" y="2290680"/>
            <a:ext cx="806760" cy="333360"/>
          </a:xfrm>
          <a:custGeom>
            <a:avLst/>
            <a:gdLst/>
            <a:ahLst/>
            <a:rect l="l" t="t" r="r" b="b"/>
            <a:pathLst>
              <a:path w="1015" h="420">
                <a:moveTo>
                  <a:pt x="0" y="405"/>
                </a:moveTo>
                <a:lnTo>
                  <a:pt x="0" y="403"/>
                </a:lnTo>
                <a:lnTo>
                  <a:pt x="2" y="399"/>
                </a:lnTo>
                <a:lnTo>
                  <a:pt x="4" y="397"/>
                </a:lnTo>
                <a:lnTo>
                  <a:pt x="6" y="395"/>
                </a:lnTo>
                <a:lnTo>
                  <a:pt x="8" y="393"/>
                </a:lnTo>
                <a:lnTo>
                  <a:pt x="12" y="391"/>
                </a:lnTo>
                <a:lnTo>
                  <a:pt x="16" y="389"/>
                </a:lnTo>
                <a:lnTo>
                  <a:pt x="19" y="385"/>
                </a:lnTo>
                <a:lnTo>
                  <a:pt x="23" y="384"/>
                </a:lnTo>
                <a:lnTo>
                  <a:pt x="29" y="382"/>
                </a:lnTo>
                <a:lnTo>
                  <a:pt x="35" y="378"/>
                </a:lnTo>
                <a:lnTo>
                  <a:pt x="41" y="376"/>
                </a:lnTo>
                <a:lnTo>
                  <a:pt x="48" y="372"/>
                </a:lnTo>
                <a:lnTo>
                  <a:pt x="56" y="370"/>
                </a:lnTo>
                <a:lnTo>
                  <a:pt x="64" y="366"/>
                </a:lnTo>
                <a:lnTo>
                  <a:pt x="73" y="362"/>
                </a:lnTo>
                <a:lnTo>
                  <a:pt x="83" y="361"/>
                </a:lnTo>
                <a:lnTo>
                  <a:pt x="92" y="357"/>
                </a:lnTo>
                <a:lnTo>
                  <a:pt x="102" y="353"/>
                </a:lnTo>
                <a:lnTo>
                  <a:pt x="113" y="349"/>
                </a:lnTo>
                <a:lnTo>
                  <a:pt x="125" y="345"/>
                </a:lnTo>
                <a:lnTo>
                  <a:pt x="136" y="341"/>
                </a:lnTo>
                <a:lnTo>
                  <a:pt x="148" y="338"/>
                </a:lnTo>
                <a:lnTo>
                  <a:pt x="161" y="334"/>
                </a:lnTo>
                <a:lnTo>
                  <a:pt x="175" y="330"/>
                </a:lnTo>
                <a:lnTo>
                  <a:pt x="188" y="326"/>
                </a:lnTo>
                <a:lnTo>
                  <a:pt x="204" y="322"/>
                </a:lnTo>
                <a:lnTo>
                  <a:pt x="219" y="316"/>
                </a:lnTo>
                <a:lnTo>
                  <a:pt x="234" y="313"/>
                </a:lnTo>
                <a:lnTo>
                  <a:pt x="250" y="307"/>
                </a:lnTo>
                <a:lnTo>
                  <a:pt x="267" y="303"/>
                </a:lnTo>
                <a:lnTo>
                  <a:pt x="284" y="297"/>
                </a:lnTo>
                <a:lnTo>
                  <a:pt x="317" y="288"/>
                </a:lnTo>
                <a:lnTo>
                  <a:pt x="350" y="278"/>
                </a:lnTo>
                <a:lnTo>
                  <a:pt x="382" y="268"/>
                </a:lnTo>
                <a:lnTo>
                  <a:pt x="411" y="259"/>
                </a:lnTo>
                <a:lnTo>
                  <a:pt x="440" y="249"/>
                </a:lnTo>
                <a:lnTo>
                  <a:pt x="468" y="240"/>
                </a:lnTo>
                <a:lnTo>
                  <a:pt x="493" y="232"/>
                </a:lnTo>
                <a:lnTo>
                  <a:pt x="518" y="222"/>
                </a:lnTo>
                <a:lnTo>
                  <a:pt x="543" y="215"/>
                </a:lnTo>
                <a:lnTo>
                  <a:pt x="564" y="205"/>
                </a:lnTo>
                <a:lnTo>
                  <a:pt x="586" y="195"/>
                </a:lnTo>
                <a:lnTo>
                  <a:pt x="607" y="186"/>
                </a:lnTo>
                <a:lnTo>
                  <a:pt x="626" y="178"/>
                </a:lnTo>
                <a:lnTo>
                  <a:pt x="643" y="169"/>
                </a:lnTo>
                <a:lnTo>
                  <a:pt x="658" y="159"/>
                </a:lnTo>
                <a:lnTo>
                  <a:pt x="674" y="148"/>
                </a:lnTo>
                <a:lnTo>
                  <a:pt x="687" y="140"/>
                </a:lnTo>
                <a:lnTo>
                  <a:pt x="701" y="132"/>
                </a:lnTo>
                <a:lnTo>
                  <a:pt x="714" y="124"/>
                </a:lnTo>
                <a:lnTo>
                  <a:pt x="726" y="117"/>
                </a:lnTo>
                <a:lnTo>
                  <a:pt x="735" y="111"/>
                </a:lnTo>
                <a:lnTo>
                  <a:pt x="745" y="103"/>
                </a:lnTo>
                <a:lnTo>
                  <a:pt x="754" y="98"/>
                </a:lnTo>
                <a:lnTo>
                  <a:pt x="762" y="90"/>
                </a:lnTo>
                <a:lnTo>
                  <a:pt x="768" y="84"/>
                </a:lnTo>
                <a:lnTo>
                  <a:pt x="774" y="78"/>
                </a:lnTo>
                <a:lnTo>
                  <a:pt x="779" y="71"/>
                </a:lnTo>
                <a:lnTo>
                  <a:pt x="783" y="65"/>
                </a:lnTo>
                <a:lnTo>
                  <a:pt x="787" y="59"/>
                </a:lnTo>
                <a:lnTo>
                  <a:pt x="789" y="53"/>
                </a:lnTo>
                <a:lnTo>
                  <a:pt x="791" y="48"/>
                </a:lnTo>
                <a:lnTo>
                  <a:pt x="791" y="42"/>
                </a:lnTo>
                <a:lnTo>
                  <a:pt x="791" y="36"/>
                </a:lnTo>
                <a:lnTo>
                  <a:pt x="791" y="30"/>
                </a:lnTo>
                <a:lnTo>
                  <a:pt x="793" y="21"/>
                </a:lnTo>
                <a:lnTo>
                  <a:pt x="795" y="13"/>
                </a:lnTo>
                <a:lnTo>
                  <a:pt x="799" y="7"/>
                </a:lnTo>
                <a:lnTo>
                  <a:pt x="802" y="4"/>
                </a:lnTo>
                <a:lnTo>
                  <a:pt x="808" y="2"/>
                </a:lnTo>
                <a:lnTo>
                  <a:pt x="814" y="0"/>
                </a:lnTo>
                <a:lnTo>
                  <a:pt x="820" y="0"/>
                </a:lnTo>
                <a:lnTo>
                  <a:pt x="824" y="0"/>
                </a:lnTo>
                <a:lnTo>
                  <a:pt x="829" y="0"/>
                </a:lnTo>
                <a:lnTo>
                  <a:pt x="833" y="2"/>
                </a:lnTo>
                <a:lnTo>
                  <a:pt x="839" y="4"/>
                </a:lnTo>
                <a:lnTo>
                  <a:pt x="845" y="6"/>
                </a:lnTo>
                <a:lnTo>
                  <a:pt x="850" y="7"/>
                </a:lnTo>
                <a:lnTo>
                  <a:pt x="856" y="11"/>
                </a:lnTo>
                <a:lnTo>
                  <a:pt x="864" y="15"/>
                </a:lnTo>
                <a:lnTo>
                  <a:pt x="870" y="19"/>
                </a:lnTo>
                <a:lnTo>
                  <a:pt x="877" y="23"/>
                </a:lnTo>
                <a:lnTo>
                  <a:pt x="885" y="29"/>
                </a:lnTo>
                <a:lnTo>
                  <a:pt x="893" y="34"/>
                </a:lnTo>
                <a:lnTo>
                  <a:pt x="902" y="40"/>
                </a:lnTo>
                <a:lnTo>
                  <a:pt x="910" y="48"/>
                </a:lnTo>
                <a:lnTo>
                  <a:pt x="919" y="55"/>
                </a:lnTo>
                <a:lnTo>
                  <a:pt x="927" y="63"/>
                </a:lnTo>
                <a:lnTo>
                  <a:pt x="944" y="78"/>
                </a:lnTo>
                <a:lnTo>
                  <a:pt x="960" y="94"/>
                </a:lnTo>
                <a:lnTo>
                  <a:pt x="975" y="107"/>
                </a:lnTo>
                <a:lnTo>
                  <a:pt x="987" y="121"/>
                </a:lnTo>
                <a:lnTo>
                  <a:pt x="996" y="132"/>
                </a:lnTo>
                <a:lnTo>
                  <a:pt x="1004" y="146"/>
                </a:lnTo>
                <a:lnTo>
                  <a:pt x="1012" y="157"/>
                </a:lnTo>
                <a:lnTo>
                  <a:pt x="1015" y="171"/>
                </a:lnTo>
                <a:lnTo>
                  <a:pt x="1015" y="172"/>
                </a:lnTo>
                <a:lnTo>
                  <a:pt x="1014" y="176"/>
                </a:lnTo>
                <a:lnTo>
                  <a:pt x="1014" y="178"/>
                </a:lnTo>
                <a:lnTo>
                  <a:pt x="1012" y="182"/>
                </a:lnTo>
                <a:lnTo>
                  <a:pt x="1010" y="184"/>
                </a:lnTo>
                <a:lnTo>
                  <a:pt x="1006" y="188"/>
                </a:lnTo>
                <a:lnTo>
                  <a:pt x="1002" y="190"/>
                </a:lnTo>
                <a:lnTo>
                  <a:pt x="998" y="194"/>
                </a:lnTo>
                <a:lnTo>
                  <a:pt x="994" y="197"/>
                </a:lnTo>
                <a:lnTo>
                  <a:pt x="989" y="199"/>
                </a:lnTo>
                <a:lnTo>
                  <a:pt x="985" y="203"/>
                </a:lnTo>
                <a:lnTo>
                  <a:pt x="977" y="207"/>
                </a:lnTo>
                <a:lnTo>
                  <a:pt x="971" y="209"/>
                </a:lnTo>
                <a:lnTo>
                  <a:pt x="964" y="213"/>
                </a:lnTo>
                <a:lnTo>
                  <a:pt x="956" y="217"/>
                </a:lnTo>
                <a:lnTo>
                  <a:pt x="948" y="220"/>
                </a:lnTo>
                <a:lnTo>
                  <a:pt x="939" y="222"/>
                </a:lnTo>
                <a:lnTo>
                  <a:pt x="931" y="226"/>
                </a:lnTo>
                <a:lnTo>
                  <a:pt x="921" y="230"/>
                </a:lnTo>
                <a:lnTo>
                  <a:pt x="910" y="234"/>
                </a:lnTo>
                <a:lnTo>
                  <a:pt x="898" y="238"/>
                </a:lnTo>
                <a:lnTo>
                  <a:pt x="887" y="242"/>
                </a:lnTo>
                <a:lnTo>
                  <a:pt x="875" y="245"/>
                </a:lnTo>
                <a:lnTo>
                  <a:pt x="864" y="249"/>
                </a:lnTo>
                <a:lnTo>
                  <a:pt x="850" y="255"/>
                </a:lnTo>
                <a:lnTo>
                  <a:pt x="837" y="259"/>
                </a:lnTo>
                <a:lnTo>
                  <a:pt x="822" y="263"/>
                </a:lnTo>
                <a:lnTo>
                  <a:pt x="806" y="266"/>
                </a:lnTo>
                <a:lnTo>
                  <a:pt x="791" y="272"/>
                </a:lnTo>
                <a:lnTo>
                  <a:pt x="776" y="276"/>
                </a:lnTo>
                <a:lnTo>
                  <a:pt x="760" y="282"/>
                </a:lnTo>
                <a:lnTo>
                  <a:pt x="743" y="288"/>
                </a:lnTo>
                <a:lnTo>
                  <a:pt x="674" y="307"/>
                </a:lnTo>
                <a:lnTo>
                  <a:pt x="605" y="324"/>
                </a:lnTo>
                <a:lnTo>
                  <a:pt x="540" y="341"/>
                </a:lnTo>
                <a:lnTo>
                  <a:pt x="474" y="359"/>
                </a:lnTo>
                <a:lnTo>
                  <a:pt x="442" y="364"/>
                </a:lnTo>
                <a:lnTo>
                  <a:pt x="411" y="372"/>
                </a:lnTo>
                <a:lnTo>
                  <a:pt x="380" y="378"/>
                </a:lnTo>
                <a:lnTo>
                  <a:pt x="350" y="384"/>
                </a:lnTo>
                <a:lnTo>
                  <a:pt x="321" y="389"/>
                </a:lnTo>
                <a:lnTo>
                  <a:pt x="292" y="395"/>
                </a:lnTo>
                <a:lnTo>
                  <a:pt x="263" y="399"/>
                </a:lnTo>
                <a:lnTo>
                  <a:pt x="234" y="405"/>
                </a:lnTo>
                <a:lnTo>
                  <a:pt x="206" y="409"/>
                </a:lnTo>
                <a:lnTo>
                  <a:pt x="181" y="410"/>
                </a:lnTo>
                <a:lnTo>
                  <a:pt x="156" y="414"/>
                </a:lnTo>
                <a:lnTo>
                  <a:pt x="133" y="416"/>
                </a:lnTo>
                <a:lnTo>
                  <a:pt x="112" y="418"/>
                </a:lnTo>
                <a:lnTo>
                  <a:pt x="92" y="420"/>
                </a:lnTo>
                <a:lnTo>
                  <a:pt x="75" y="420"/>
                </a:lnTo>
                <a:lnTo>
                  <a:pt x="60" y="420"/>
                </a:lnTo>
                <a:lnTo>
                  <a:pt x="46" y="420"/>
                </a:lnTo>
                <a:lnTo>
                  <a:pt x="33" y="420"/>
                </a:lnTo>
                <a:lnTo>
                  <a:pt x="23" y="418"/>
                </a:lnTo>
                <a:lnTo>
                  <a:pt x="16" y="416"/>
                </a:lnTo>
                <a:lnTo>
                  <a:pt x="10" y="414"/>
                </a:lnTo>
                <a:lnTo>
                  <a:pt x="4" y="410"/>
                </a:lnTo>
                <a:lnTo>
                  <a:pt x="2" y="409"/>
                </a:lnTo>
                <a:lnTo>
                  <a:pt x="0" y="40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2760840" y="2543040"/>
            <a:ext cx="163440" cy="787680"/>
          </a:xfrm>
          <a:custGeom>
            <a:avLst/>
            <a:gdLst/>
            <a:ahLst/>
            <a:rect l="l" t="t" r="r" b="b"/>
            <a:pathLst>
              <a:path w="205" h="992">
                <a:moveTo>
                  <a:pt x="0" y="0"/>
                </a:moveTo>
                <a:lnTo>
                  <a:pt x="28" y="6"/>
                </a:lnTo>
                <a:lnTo>
                  <a:pt x="42" y="8"/>
                </a:lnTo>
                <a:lnTo>
                  <a:pt x="53" y="10"/>
                </a:lnTo>
                <a:lnTo>
                  <a:pt x="67" y="14"/>
                </a:lnTo>
                <a:lnTo>
                  <a:pt x="78" y="18"/>
                </a:lnTo>
                <a:lnTo>
                  <a:pt x="90" y="21"/>
                </a:lnTo>
                <a:lnTo>
                  <a:pt x="101" y="25"/>
                </a:lnTo>
                <a:lnTo>
                  <a:pt x="111" y="29"/>
                </a:lnTo>
                <a:lnTo>
                  <a:pt x="120" y="33"/>
                </a:lnTo>
                <a:lnTo>
                  <a:pt x="130" y="39"/>
                </a:lnTo>
                <a:lnTo>
                  <a:pt x="138" y="43"/>
                </a:lnTo>
                <a:lnTo>
                  <a:pt x="145" y="48"/>
                </a:lnTo>
                <a:lnTo>
                  <a:pt x="153" y="54"/>
                </a:lnTo>
                <a:lnTo>
                  <a:pt x="159" y="58"/>
                </a:lnTo>
                <a:lnTo>
                  <a:pt x="165" y="66"/>
                </a:lnTo>
                <a:lnTo>
                  <a:pt x="176" y="77"/>
                </a:lnTo>
                <a:lnTo>
                  <a:pt x="184" y="87"/>
                </a:lnTo>
                <a:lnTo>
                  <a:pt x="190" y="96"/>
                </a:lnTo>
                <a:lnTo>
                  <a:pt x="195" y="104"/>
                </a:lnTo>
                <a:lnTo>
                  <a:pt x="199" y="112"/>
                </a:lnTo>
                <a:lnTo>
                  <a:pt x="203" y="119"/>
                </a:lnTo>
                <a:lnTo>
                  <a:pt x="203" y="125"/>
                </a:lnTo>
                <a:lnTo>
                  <a:pt x="205" y="129"/>
                </a:lnTo>
                <a:lnTo>
                  <a:pt x="205" y="133"/>
                </a:lnTo>
                <a:lnTo>
                  <a:pt x="203" y="138"/>
                </a:lnTo>
                <a:lnTo>
                  <a:pt x="203" y="146"/>
                </a:lnTo>
                <a:lnTo>
                  <a:pt x="203" y="152"/>
                </a:lnTo>
                <a:lnTo>
                  <a:pt x="201" y="162"/>
                </a:lnTo>
                <a:lnTo>
                  <a:pt x="199" y="171"/>
                </a:lnTo>
                <a:lnTo>
                  <a:pt x="199" y="183"/>
                </a:lnTo>
                <a:lnTo>
                  <a:pt x="197" y="194"/>
                </a:lnTo>
                <a:lnTo>
                  <a:pt x="195" y="208"/>
                </a:lnTo>
                <a:lnTo>
                  <a:pt x="193" y="221"/>
                </a:lnTo>
                <a:lnTo>
                  <a:pt x="190" y="236"/>
                </a:lnTo>
                <a:lnTo>
                  <a:pt x="188" y="254"/>
                </a:lnTo>
                <a:lnTo>
                  <a:pt x="186" y="271"/>
                </a:lnTo>
                <a:lnTo>
                  <a:pt x="182" y="290"/>
                </a:lnTo>
                <a:lnTo>
                  <a:pt x="178" y="309"/>
                </a:lnTo>
                <a:lnTo>
                  <a:pt x="174" y="330"/>
                </a:lnTo>
                <a:lnTo>
                  <a:pt x="172" y="342"/>
                </a:lnTo>
                <a:lnTo>
                  <a:pt x="172" y="355"/>
                </a:lnTo>
                <a:lnTo>
                  <a:pt x="170" y="367"/>
                </a:lnTo>
                <a:lnTo>
                  <a:pt x="168" y="380"/>
                </a:lnTo>
                <a:lnTo>
                  <a:pt x="166" y="394"/>
                </a:lnTo>
                <a:lnTo>
                  <a:pt x="165" y="409"/>
                </a:lnTo>
                <a:lnTo>
                  <a:pt x="165" y="422"/>
                </a:lnTo>
                <a:lnTo>
                  <a:pt x="163" y="440"/>
                </a:lnTo>
                <a:lnTo>
                  <a:pt x="161" y="455"/>
                </a:lnTo>
                <a:lnTo>
                  <a:pt x="159" y="472"/>
                </a:lnTo>
                <a:lnTo>
                  <a:pt x="159" y="490"/>
                </a:lnTo>
                <a:lnTo>
                  <a:pt x="157" y="507"/>
                </a:lnTo>
                <a:lnTo>
                  <a:pt x="157" y="526"/>
                </a:lnTo>
                <a:lnTo>
                  <a:pt x="155" y="545"/>
                </a:lnTo>
                <a:lnTo>
                  <a:pt x="155" y="565"/>
                </a:lnTo>
                <a:lnTo>
                  <a:pt x="153" y="586"/>
                </a:lnTo>
                <a:lnTo>
                  <a:pt x="153" y="607"/>
                </a:lnTo>
                <a:lnTo>
                  <a:pt x="151" y="628"/>
                </a:lnTo>
                <a:lnTo>
                  <a:pt x="151" y="651"/>
                </a:lnTo>
                <a:lnTo>
                  <a:pt x="149" y="674"/>
                </a:lnTo>
                <a:lnTo>
                  <a:pt x="149" y="697"/>
                </a:lnTo>
                <a:lnTo>
                  <a:pt x="149" y="720"/>
                </a:lnTo>
                <a:lnTo>
                  <a:pt x="147" y="745"/>
                </a:lnTo>
                <a:lnTo>
                  <a:pt x="147" y="770"/>
                </a:lnTo>
                <a:lnTo>
                  <a:pt x="147" y="797"/>
                </a:lnTo>
                <a:lnTo>
                  <a:pt x="147" y="822"/>
                </a:lnTo>
                <a:lnTo>
                  <a:pt x="147" y="849"/>
                </a:lnTo>
                <a:lnTo>
                  <a:pt x="145" y="877"/>
                </a:lnTo>
                <a:lnTo>
                  <a:pt x="145" y="904"/>
                </a:lnTo>
                <a:lnTo>
                  <a:pt x="145" y="933"/>
                </a:lnTo>
                <a:lnTo>
                  <a:pt x="145" y="962"/>
                </a:lnTo>
                <a:lnTo>
                  <a:pt x="145" y="992"/>
                </a:lnTo>
                <a:lnTo>
                  <a:pt x="28" y="992"/>
                </a:lnTo>
                <a:lnTo>
                  <a:pt x="28" y="950"/>
                </a:lnTo>
                <a:lnTo>
                  <a:pt x="28" y="908"/>
                </a:lnTo>
                <a:lnTo>
                  <a:pt x="28" y="866"/>
                </a:lnTo>
                <a:lnTo>
                  <a:pt x="28" y="825"/>
                </a:lnTo>
                <a:lnTo>
                  <a:pt x="28" y="787"/>
                </a:lnTo>
                <a:lnTo>
                  <a:pt x="28" y="749"/>
                </a:lnTo>
                <a:lnTo>
                  <a:pt x="26" y="710"/>
                </a:lnTo>
                <a:lnTo>
                  <a:pt x="26" y="672"/>
                </a:lnTo>
                <a:lnTo>
                  <a:pt x="26" y="636"/>
                </a:lnTo>
                <a:lnTo>
                  <a:pt x="26" y="599"/>
                </a:lnTo>
                <a:lnTo>
                  <a:pt x="24" y="565"/>
                </a:lnTo>
                <a:lnTo>
                  <a:pt x="24" y="530"/>
                </a:lnTo>
                <a:lnTo>
                  <a:pt x="24" y="497"/>
                </a:lnTo>
                <a:lnTo>
                  <a:pt x="23" y="465"/>
                </a:lnTo>
                <a:lnTo>
                  <a:pt x="23" y="432"/>
                </a:lnTo>
                <a:lnTo>
                  <a:pt x="21" y="401"/>
                </a:lnTo>
                <a:lnTo>
                  <a:pt x="21" y="371"/>
                </a:lnTo>
                <a:lnTo>
                  <a:pt x="19" y="340"/>
                </a:lnTo>
                <a:lnTo>
                  <a:pt x="19" y="311"/>
                </a:lnTo>
                <a:lnTo>
                  <a:pt x="17" y="282"/>
                </a:lnTo>
                <a:lnTo>
                  <a:pt x="17" y="256"/>
                </a:lnTo>
                <a:lnTo>
                  <a:pt x="15" y="229"/>
                </a:lnTo>
                <a:lnTo>
                  <a:pt x="13" y="202"/>
                </a:lnTo>
                <a:lnTo>
                  <a:pt x="11" y="177"/>
                </a:lnTo>
                <a:lnTo>
                  <a:pt x="11" y="152"/>
                </a:lnTo>
                <a:lnTo>
                  <a:pt x="9" y="129"/>
                </a:lnTo>
                <a:lnTo>
                  <a:pt x="7" y="106"/>
                </a:lnTo>
                <a:lnTo>
                  <a:pt x="5" y="83"/>
                </a:lnTo>
                <a:lnTo>
                  <a:pt x="5" y="62"/>
                </a:lnTo>
                <a:lnTo>
                  <a:pt x="3" y="41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2295360" y="3365640"/>
            <a:ext cx="938520" cy="693720"/>
          </a:xfrm>
          <a:custGeom>
            <a:avLst/>
            <a:gdLst/>
            <a:ahLst/>
            <a:rect l="l" t="t" r="r" b="b"/>
            <a:pathLst>
              <a:path w="1182" h="873">
                <a:moveTo>
                  <a:pt x="246" y="531"/>
                </a:moveTo>
                <a:lnTo>
                  <a:pt x="271" y="506"/>
                </a:lnTo>
                <a:lnTo>
                  <a:pt x="298" y="479"/>
                </a:lnTo>
                <a:lnTo>
                  <a:pt x="309" y="464"/>
                </a:lnTo>
                <a:lnTo>
                  <a:pt x="323" y="451"/>
                </a:lnTo>
                <a:lnTo>
                  <a:pt x="336" y="435"/>
                </a:lnTo>
                <a:lnTo>
                  <a:pt x="350" y="420"/>
                </a:lnTo>
                <a:lnTo>
                  <a:pt x="363" y="403"/>
                </a:lnTo>
                <a:lnTo>
                  <a:pt x="376" y="385"/>
                </a:lnTo>
                <a:lnTo>
                  <a:pt x="390" y="368"/>
                </a:lnTo>
                <a:lnTo>
                  <a:pt x="403" y="351"/>
                </a:lnTo>
                <a:lnTo>
                  <a:pt x="419" y="333"/>
                </a:lnTo>
                <a:lnTo>
                  <a:pt x="432" y="314"/>
                </a:lnTo>
                <a:lnTo>
                  <a:pt x="446" y="295"/>
                </a:lnTo>
                <a:lnTo>
                  <a:pt x="461" y="276"/>
                </a:lnTo>
                <a:lnTo>
                  <a:pt x="472" y="255"/>
                </a:lnTo>
                <a:lnTo>
                  <a:pt x="484" y="238"/>
                </a:lnTo>
                <a:lnTo>
                  <a:pt x="493" y="218"/>
                </a:lnTo>
                <a:lnTo>
                  <a:pt x="503" y="203"/>
                </a:lnTo>
                <a:lnTo>
                  <a:pt x="513" y="188"/>
                </a:lnTo>
                <a:lnTo>
                  <a:pt x="520" y="172"/>
                </a:lnTo>
                <a:lnTo>
                  <a:pt x="526" y="159"/>
                </a:lnTo>
                <a:lnTo>
                  <a:pt x="532" y="145"/>
                </a:lnTo>
                <a:lnTo>
                  <a:pt x="536" y="134"/>
                </a:lnTo>
                <a:lnTo>
                  <a:pt x="540" y="122"/>
                </a:lnTo>
                <a:lnTo>
                  <a:pt x="543" y="113"/>
                </a:lnTo>
                <a:lnTo>
                  <a:pt x="543" y="103"/>
                </a:lnTo>
                <a:lnTo>
                  <a:pt x="543" y="94"/>
                </a:lnTo>
                <a:lnTo>
                  <a:pt x="543" y="86"/>
                </a:lnTo>
                <a:lnTo>
                  <a:pt x="541" y="78"/>
                </a:lnTo>
                <a:lnTo>
                  <a:pt x="540" y="72"/>
                </a:lnTo>
                <a:lnTo>
                  <a:pt x="532" y="61"/>
                </a:lnTo>
                <a:lnTo>
                  <a:pt x="528" y="51"/>
                </a:lnTo>
                <a:lnTo>
                  <a:pt x="524" y="42"/>
                </a:lnTo>
                <a:lnTo>
                  <a:pt x="522" y="32"/>
                </a:lnTo>
                <a:lnTo>
                  <a:pt x="522" y="25"/>
                </a:lnTo>
                <a:lnTo>
                  <a:pt x="524" y="19"/>
                </a:lnTo>
                <a:lnTo>
                  <a:pt x="526" y="13"/>
                </a:lnTo>
                <a:lnTo>
                  <a:pt x="528" y="9"/>
                </a:lnTo>
                <a:lnTo>
                  <a:pt x="532" y="7"/>
                </a:lnTo>
                <a:lnTo>
                  <a:pt x="534" y="5"/>
                </a:lnTo>
                <a:lnTo>
                  <a:pt x="538" y="3"/>
                </a:lnTo>
                <a:lnTo>
                  <a:pt x="541" y="1"/>
                </a:lnTo>
                <a:lnTo>
                  <a:pt x="545" y="1"/>
                </a:lnTo>
                <a:lnTo>
                  <a:pt x="551" y="1"/>
                </a:lnTo>
                <a:lnTo>
                  <a:pt x="557" y="0"/>
                </a:lnTo>
                <a:lnTo>
                  <a:pt x="564" y="0"/>
                </a:lnTo>
                <a:lnTo>
                  <a:pt x="570" y="0"/>
                </a:lnTo>
                <a:lnTo>
                  <a:pt x="580" y="1"/>
                </a:lnTo>
                <a:lnTo>
                  <a:pt x="588" y="1"/>
                </a:lnTo>
                <a:lnTo>
                  <a:pt x="595" y="1"/>
                </a:lnTo>
                <a:lnTo>
                  <a:pt x="605" y="3"/>
                </a:lnTo>
                <a:lnTo>
                  <a:pt x="614" y="5"/>
                </a:lnTo>
                <a:lnTo>
                  <a:pt x="626" y="7"/>
                </a:lnTo>
                <a:lnTo>
                  <a:pt x="635" y="9"/>
                </a:lnTo>
                <a:lnTo>
                  <a:pt x="655" y="13"/>
                </a:lnTo>
                <a:lnTo>
                  <a:pt x="670" y="19"/>
                </a:lnTo>
                <a:lnTo>
                  <a:pt x="687" y="25"/>
                </a:lnTo>
                <a:lnTo>
                  <a:pt x="701" y="32"/>
                </a:lnTo>
                <a:lnTo>
                  <a:pt x="714" y="42"/>
                </a:lnTo>
                <a:lnTo>
                  <a:pt x="726" y="51"/>
                </a:lnTo>
                <a:lnTo>
                  <a:pt x="735" y="61"/>
                </a:lnTo>
                <a:lnTo>
                  <a:pt x="743" y="72"/>
                </a:lnTo>
                <a:lnTo>
                  <a:pt x="751" y="96"/>
                </a:lnTo>
                <a:lnTo>
                  <a:pt x="753" y="107"/>
                </a:lnTo>
                <a:lnTo>
                  <a:pt x="756" y="119"/>
                </a:lnTo>
                <a:lnTo>
                  <a:pt x="756" y="130"/>
                </a:lnTo>
                <a:lnTo>
                  <a:pt x="756" y="140"/>
                </a:lnTo>
                <a:lnTo>
                  <a:pt x="756" y="149"/>
                </a:lnTo>
                <a:lnTo>
                  <a:pt x="753" y="157"/>
                </a:lnTo>
                <a:lnTo>
                  <a:pt x="751" y="163"/>
                </a:lnTo>
                <a:lnTo>
                  <a:pt x="747" y="168"/>
                </a:lnTo>
                <a:lnTo>
                  <a:pt x="741" y="176"/>
                </a:lnTo>
                <a:lnTo>
                  <a:pt x="735" y="184"/>
                </a:lnTo>
                <a:lnTo>
                  <a:pt x="726" y="193"/>
                </a:lnTo>
                <a:lnTo>
                  <a:pt x="716" y="205"/>
                </a:lnTo>
                <a:lnTo>
                  <a:pt x="707" y="216"/>
                </a:lnTo>
                <a:lnTo>
                  <a:pt x="693" y="230"/>
                </a:lnTo>
                <a:lnTo>
                  <a:pt x="680" y="245"/>
                </a:lnTo>
                <a:lnTo>
                  <a:pt x="664" y="262"/>
                </a:lnTo>
                <a:lnTo>
                  <a:pt x="647" y="280"/>
                </a:lnTo>
                <a:lnTo>
                  <a:pt x="628" y="299"/>
                </a:lnTo>
                <a:lnTo>
                  <a:pt x="609" y="320"/>
                </a:lnTo>
                <a:lnTo>
                  <a:pt x="586" y="343"/>
                </a:lnTo>
                <a:lnTo>
                  <a:pt x="563" y="366"/>
                </a:lnTo>
                <a:lnTo>
                  <a:pt x="540" y="393"/>
                </a:lnTo>
                <a:lnTo>
                  <a:pt x="513" y="418"/>
                </a:lnTo>
                <a:lnTo>
                  <a:pt x="488" y="443"/>
                </a:lnTo>
                <a:lnTo>
                  <a:pt x="465" y="466"/>
                </a:lnTo>
                <a:lnTo>
                  <a:pt x="444" y="487"/>
                </a:lnTo>
                <a:lnTo>
                  <a:pt x="424" y="506"/>
                </a:lnTo>
                <a:lnTo>
                  <a:pt x="407" y="525"/>
                </a:lnTo>
                <a:lnTo>
                  <a:pt x="392" y="543"/>
                </a:lnTo>
                <a:lnTo>
                  <a:pt x="378" y="558"/>
                </a:lnTo>
                <a:lnTo>
                  <a:pt x="367" y="571"/>
                </a:lnTo>
                <a:lnTo>
                  <a:pt x="355" y="585"/>
                </a:lnTo>
                <a:lnTo>
                  <a:pt x="348" y="596"/>
                </a:lnTo>
                <a:lnTo>
                  <a:pt x="342" y="606"/>
                </a:lnTo>
                <a:lnTo>
                  <a:pt x="336" y="614"/>
                </a:lnTo>
                <a:lnTo>
                  <a:pt x="334" y="619"/>
                </a:lnTo>
                <a:lnTo>
                  <a:pt x="332" y="623"/>
                </a:lnTo>
                <a:lnTo>
                  <a:pt x="334" y="627"/>
                </a:lnTo>
                <a:lnTo>
                  <a:pt x="336" y="629"/>
                </a:lnTo>
                <a:lnTo>
                  <a:pt x="340" y="631"/>
                </a:lnTo>
                <a:lnTo>
                  <a:pt x="344" y="631"/>
                </a:lnTo>
                <a:lnTo>
                  <a:pt x="348" y="633"/>
                </a:lnTo>
                <a:lnTo>
                  <a:pt x="353" y="633"/>
                </a:lnTo>
                <a:lnTo>
                  <a:pt x="361" y="635"/>
                </a:lnTo>
                <a:lnTo>
                  <a:pt x="369" y="635"/>
                </a:lnTo>
                <a:lnTo>
                  <a:pt x="378" y="633"/>
                </a:lnTo>
                <a:lnTo>
                  <a:pt x="388" y="633"/>
                </a:lnTo>
                <a:lnTo>
                  <a:pt x="398" y="633"/>
                </a:lnTo>
                <a:lnTo>
                  <a:pt x="409" y="631"/>
                </a:lnTo>
                <a:lnTo>
                  <a:pt x="421" y="629"/>
                </a:lnTo>
                <a:lnTo>
                  <a:pt x="434" y="627"/>
                </a:lnTo>
                <a:lnTo>
                  <a:pt x="449" y="623"/>
                </a:lnTo>
                <a:lnTo>
                  <a:pt x="465" y="619"/>
                </a:lnTo>
                <a:lnTo>
                  <a:pt x="480" y="616"/>
                </a:lnTo>
                <a:lnTo>
                  <a:pt x="497" y="614"/>
                </a:lnTo>
                <a:lnTo>
                  <a:pt x="515" y="612"/>
                </a:lnTo>
                <a:lnTo>
                  <a:pt x="532" y="608"/>
                </a:lnTo>
                <a:lnTo>
                  <a:pt x="549" y="604"/>
                </a:lnTo>
                <a:lnTo>
                  <a:pt x="568" y="600"/>
                </a:lnTo>
                <a:lnTo>
                  <a:pt x="588" y="596"/>
                </a:lnTo>
                <a:lnTo>
                  <a:pt x="609" y="593"/>
                </a:lnTo>
                <a:lnTo>
                  <a:pt x="630" y="587"/>
                </a:lnTo>
                <a:lnTo>
                  <a:pt x="651" y="581"/>
                </a:lnTo>
                <a:lnTo>
                  <a:pt x="672" y="577"/>
                </a:lnTo>
                <a:lnTo>
                  <a:pt x="695" y="571"/>
                </a:lnTo>
                <a:lnTo>
                  <a:pt x="718" y="566"/>
                </a:lnTo>
                <a:lnTo>
                  <a:pt x="743" y="560"/>
                </a:lnTo>
                <a:lnTo>
                  <a:pt x="768" y="554"/>
                </a:lnTo>
                <a:lnTo>
                  <a:pt x="795" y="548"/>
                </a:lnTo>
                <a:lnTo>
                  <a:pt x="822" y="543"/>
                </a:lnTo>
                <a:lnTo>
                  <a:pt x="847" y="535"/>
                </a:lnTo>
                <a:lnTo>
                  <a:pt x="872" y="531"/>
                </a:lnTo>
                <a:lnTo>
                  <a:pt x="920" y="522"/>
                </a:lnTo>
                <a:lnTo>
                  <a:pt x="967" y="514"/>
                </a:lnTo>
                <a:lnTo>
                  <a:pt x="1014" y="506"/>
                </a:lnTo>
                <a:lnTo>
                  <a:pt x="1058" y="502"/>
                </a:lnTo>
                <a:lnTo>
                  <a:pt x="1100" y="497"/>
                </a:lnTo>
                <a:lnTo>
                  <a:pt x="1142" y="493"/>
                </a:lnTo>
                <a:lnTo>
                  <a:pt x="1182" y="489"/>
                </a:lnTo>
                <a:lnTo>
                  <a:pt x="1182" y="573"/>
                </a:lnTo>
                <a:lnTo>
                  <a:pt x="1154" y="579"/>
                </a:lnTo>
                <a:lnTo>
                  <a:pt x="1125" y="585"/>
                </a:lnTo>
                <a:lnTo>
                  <a:pt x="1098" y="591"/>
                </a:lnTo>
                <a:lnTo>
                  <a:pt x="1073" y="596"/>
                </a:lnTo>
                <a:lnTo>
                  <a:pt x="1048" y="600"/>
                </a:lnTo>
                <a:lnTo>
                  <a:pt x="1023" y="606"/>
                </a:lnTo>
                <a:lnTo>
                  <a:pt x="1000" y="610"/>
                </a:lnTo>
                <a:lnTo>
                  <a:pt x="977" y="616"/>
                </a:lnTo>
                <a:lnTo>
                  <a:pt x="954" y="619"/>
                </a:lnTo>
                <a:lnTo>
                  <a:pt x="933" y="623"/>
                </a:lnTo>
                <a:lnTo>
                  <a:pt x="912" y="627"/>
                </a:lnTo>
                <a:lnTo>
                  <a:pt x="893" y="633"/>
                </a:lnTo>
                <a:lnTo>
                  <a:pt x="873" y="637"/>
                </a:lnTo>
                <a:lnTo>
                  <a:pt x="856" y="641"/>
                </a:lnTo>
                <a:lnTo>
                  <a:pt x="839" y="644"/>
                </a:lnTo>
                <a:lnTo>
                  <a:pt x="822" y="648"/>
                </a:lnTo>
                <a:lnTo>
                  <a:pt x="804" y="654"/>
                </a:lnTo>
                <a:lnTo>
                  <a:pt x="787" y="660"/>
                </a:lnTo>
                <a:lnTo>
                  <a:pt x="770" y="665"/>
                </a:lnTo>
                <a:lnTo>
                  <a:pt x="751" y="673"/>
                </a:lnTo>
                <a:lnTo>
                  <a:pt x="731" y="679"/>
                </a:lnTo>
                <a:lnTo>
                  <a:pt x="710" y="685"/>
                </a:lnTo>
                <a:lnTo>
                  <a:pt x="691" y="690"/>
                </a:lnTo>
                <a:lnTo>
                  <a:pt x="668" y="696"/>
                </a:lnTo>
                <a:lnTo>
                  <a:pt x="647" y="702"/>
                </a:lnTo>
                <a:lnTo>
                  <a:pt x="624" y="708"/>
                </a:lnTo>
                <a:lnTo>
                  <a:pt x="603" y="713"/>
                </a:lnTo>
                <a:lnTo>
                  <a:pt x="578" y="719"/>
                </a:lnTo>
                <a:lnTo>
                  <a:pt x="555" y="727"/>
                </a:lnTo>
                <a:lnTo>
                  <a:pt x="530" y="733"/>
                </a:lnTo>
                <a:lnTo>
                  <a:pt x="480" y="744"/>
                </a:lnTo>
                <a:lnTo>
                  <a:pt x="453" y="750"/>
                </a:lnTo>
                <a:lnTo>
                  <a:pt x="428" y="756"/>
                </a:lnTo>
                <a:lnTo>
                  <a:pt x="403" y="763"/>
                </a:lnTo>
                <a:lnTo>
                  <a:pt x="380" y="769"/>
                </a:lnTo>
                <a:lnTo>
                  <a:pt x="359" y="775"/>
                </a:lnTo>
                <a:lnTo>
                  <a:pt x="340" y="781"/>
                </a:lnTo>
                <a:lnTo>
                  <a:pt x="321" y="786"/>
                </a:lnTo>
                <a:lnTo>
                  <a:pt x="303" y="792"/>
                </a:lnTo>
                <a:lnTo>
                  <a:pt x="286" y="798"/>
                </a:lnTo>
                <a:lnTo>
                  <a:pt x="271" y="804"/>
                </a:lnTo>
                <a:lnTo>
                  <a:pt x="257" y="809"/>
                </a:lnTo>
                <a:lnTo>
                  <a:pt x="246" y="815"/>
                </a:lnTo>
                <a:lnTo>
                  <a:pt x="234" y="823"/>
                </a:lnTo>
                <a:lnTo>
                  <a:pt x="223" y="829"/>
                </a:lnTo>
                <a:lnTo>
                  <a:pt x="215" y="834"/>
                </a:lnTo>
                <a:lnTo>
                  <a:pt x="208" y="840"/>
                </a:lnTo>
                <a:lnTo>
                  <a:pt x="192" y="848"/>
                </a:lnTo>
                <a:lnTo>
                  <a:pt x="179" y="854"/>
                </a:lnTo>
                <a:lnTo>
                  <a:pt x="167" y="859"/>
                </a:lnTo>
                <a:lnTo>
                  <a:pt x="156" y="865"/>
                </a:lnTo>
                <a:lnTo>
                  <a:pt x="144" y="867"/>
                </a:lnTo>
                <a:lnTo>
                  <a:pt x="135" y="871"/>
                </a:lnTo>
                <a:lnTo>
                  <a:pt x="127" y="871"/>
                </a:lnTo>
                <a:lnTo>
                  <a:pt x="119" y="873"/>
                </a:lnTo>
                <a:lnTo>
                  <a:pt x="114" y="873"/>
                </a:lnTo>
                <a:lnTo>
                  <a:pt x="108" y="871"/>
                </a:lnTo>
                <a:lnTo>
                  <a:pt x="104" y="869"/>
                </a:lnTo>
                <a:lnTo>
                  <a:pt x="98" y="867"/>
                </a:lnTo>
                <a:lnTo>
                  <a:pt x="94" y="865"/>
                </a:lnTo>
                <a:lnTo>
                  <a:pt x="89" y="863"/>
                </a:lnTo>
                <a:lnTo>
                  <a:pt x="85" y="859"/>
                </a:lnTo>
                <a:lnTo>
                  <a:pt x="79" y="855"/>
                </a:lnTo>
                <a:lnTo>
                  <a:pt x="75" y="850"/>
                </a:lnTo>
                <a:lnTo>
                  <a:pt x="71" y="844"/>
                </a:lnTo>
                <a:lnTo>
                  <a:pt x="66" y="838"/>
                </a:lnTo>
                <a:lnTo>
                  <a:pt x="62" y="832"/>
                </a:lnTo>
                <a:lnTo>
                  <a:pt x="56" y="825"/>
                </a:lnTo>
                <a:lnTo>
                  <a:pt x="52" y="815"/>
                </a:lnTo>
                <a:lnTo>
                  <a:pt x="46" y="807"/>
                </a:lnTo>
                <a:lnTo>
                  <a:pt x="41" y="798"/>
                </a:lnTo>
                <a:lnTo>
                  <a:pt x="31" y="783"/>
                </a:lnTo>
                <a:lnTo>
                  <a:pt x="21" y="767"/>
                </a:lnTo>
                <a:lnTo>
                  <a:pt x="14" y="754"/>
                </a:lnTo>
                <a:lnTo>
                  <a:pt x="6" y="742"/>
                </a:lnTo>
                <a:lnTo>
                  <a:pt x="4" y="736"/>
                </a:lnTo>
                <a:lnTo>
                  <a:pt x="2" y="731"/>
                </a:lnTo>
                <a:lnTo>
                  <a:pt x="0" y="725"/>
                </a:lnTo>
                <a:lnTo>
                  <a:pt x="0" y="719"/>
                </a:lnTo>
                <a:lnTo>
                  <a:pt x="0" y="715"/>
                </a:lnTo>
                <a:lnTo>
                  <a:pt x="0" y="710"/>
                </a:lnTo>
                <a:lnTo>
                  <a:pt x="0" y="706"/>
                </a:lnTo>
                <a:lnTo>
                  <a:pt x="2" y="702"/>
                </a:lnTo>
                <a:lnTo>
                  <a:pt x="2" y="698"/>
                </a:lnTo>
                <a:lnTo>
                  <a:pt x="2" y="694"/>
                </a:lnTo>
                <a:lnTo>
                  <a:pt x="4" y="690"/>
                </a:lnTo>
                <a:lnTo>
                  <a:pt x="8" y="687"/>
                </a:lnTo>
                <a:lnTo>
                  <a:pt x="10" y="683"/>
                </a:lnTo>
                <a:lnTo>
                  <a:pt x="14" y="679"/>
                </a:lnTo>
                <a:lnTo>
                  <a:pt x="18" y="675"/>
                </a:lnTo>
                <a:lnTo>
                  <a:pt x="23" y="671"/>
                </a:lnTo>
                <a:lnTo>
                  <a:pt x="27" y="667"/>
                </a:lnTo>
                <a:lnTo>
                  <a:pt x="33" y="664"/>
                </a:lnTo>
                <a:lnTo>
                  <a:pt x="41" y="662"/>
                </a:lnTo>
                <a:lnTo>
                  <a:pt x="46" y="658"/>
                </a:lnTo>
                <a:lnTo>
                  <a:pt x="54" y="656"/>
                </a:lnTo>
                <a:lnTo>
                  <a:pt x="62" y="652"/>
                </a:lnTo>
                <a:lnTo>
                  <a:pt x="71" y="650"/>
                </a:lnTo>
                <a:lnTo>
                  <a:pt x="81" y="648"/>
                </a:lnTo>
                <a:lnTo>
                  <a:pt x="89" y="646"/>
                </a:lnTo>
                <a:lnTo>
                  <a:pt x="98" y="642"/>
                </a:lnTo>
                <a:lnTo>
                  <a:pt x="108" y="639"/>
                </a:lnTo>
                <a:lnTo>
                  <a:pt x="117" y="635"/>
                </a:lnTo>
                <a:lnTo>
                  <a:pt x="127" y="629"/>
                </a:lnTo>
                <a:lnTo>
                  <a:pt x="137" y="623"/>
                </a:lnTo>
                <a:lnTo>
                  <a:pt x="146" y="617"/>
                </a:lnTo>
                <a:lnTo>
                  <a:pt x="156" y="610"/>
                </a:lnTo>
                <a:lnTo>
                  <a:pt x="165" y="602"/>
                </a:lnTo>
                <a:lnTo>
                  <a:pt x="177" y="594"/>
                </a:lnTo>
                <a:lnTo>
                  <a:pt x="186" y="585"/>
                </a:lnTo>
                <a:lnTo>
                  <a:pt x="198" y="575"/>
                </a:lnTo>
                <a:lnTo>
                  <a:pt x="209" y="566"/>
                </a:lnTo>
                <a:lnTo>
                  <a:pt x="221" y="554"/>
                </a:lnTo>
                <a:lnTo>
                  <a:pt x="232" y="543"/>
                </a:lnTo>
                <a:lnTo>
                  <a:pt x="246" y="531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2998800" y="3546360"/>
            <a:ext cx="380880" cy="563760"/>
          </a:xfrm>
          <a:custGeom>
            <a:avLst/>
            <a:gdLst/>
            <a:ahLst/>
            <a:rect l="l" t="t" r="r" b="b"/>
            <a:pathLst>
              <a:path w="480" h="710">
                <a:moveTo>
                  <a:pt x="432" y="390"/>
                </a:moveTo>
                <a:lnTo>
                  <a:pt x="441" y="405"/>
                </a:lnTo>
                <a:lnTo>
                  <a:pt x="449" y="418"/>
                </a:lnTo>
                <a:lnTo>
                  <a:pt x="455" y="432"/>
                </a:lnTo>
                <a:lnTo>
                  <a:pt x="460" y="445"/>
                </a:lnTo>
                <a:lnTo>
                  <a:pt x="466" y="459"/>
                </a:lnTo>
                <a:lnTo>
                  <a:pt x="470" y="470"/>
                </a:lnTo>
                <a:lnTo>
                  <a:pt x="474" y="484"/>
                </a:lnTo>
                <a:lnTo>
                  <a:pt x="478" y="497"/>
                </a:lnTo>
                <a:lnTo>
                  <a:pt x="480" y="510"/>
                </a:lnTo>
                <a:lnTo>
                  <a:pt x="480" y="524"/>
                </a:lnTo>
                <a:lnTo>
                  <a:pt x="480" y="535"/>
                </a:lnTo>
                <a:lnTo>
                  <a:pt x="480" y="549"/>
                </a:lnTo>
                <a:lnTo>
                  <a:pt x="480" y="562"/>
                </a:lnTo>
                <a:lnTo>
                  <a:pt x="478" y="576"/>
                </a:lnTo>
                <a:lnTo>
                  <a:pt x="474" y="589"/>
                </a:lnTo>
                <a:lnTo>
                  <a:pt x="472" y="605"/>
                </a:lnTo>
                <a:lnTo>
                  <a:pt x="468" y="618"/>
                </a:lnTo>
                <a:lnTo>
                  <a:pt x="464" y="629"/>
                </a:lnTo>
                <a:lnTo>
                  <a:pt x="460" y="641"/>
                </a:lnTo>
                <a:lnTo>
                  <a:pt x="457" y="652"/>
                </a:lnTo>
                <a:lnTo>
                  <a:pt x="453" y="662"/>
                </a:lnTo>
                <a:lnTo>
                  <a:pt x="449" y="670"/>
                </a:lnTo>
                <a:lnTo>
                  <a:pt x="445" y="677"/>
                </a:lnTo>
                <a:lnTo>
                  <a:pt x="441" y="685"/>
                </a:lnTo>
                <a:lnTo>
                  <a:pt x="439" y="691"/>
                </a:lnTo>
                <a:lnTo>
                  <a:pt x="436" y="697"/>
                </a:lnTo>
                <a:lnTo>
                  <a:pt x="432" y="700"/>
                </a:lnTo>
                <a:lnTo>
                  <a:pt x="428" y="704"/>
                </a:lnTo>
                <a:lnTo>
                  <a:pt x="424" y="706"/>
                </a:lnTo>
                <a:lnTo>
                  <a:pt x="420" y="708"/>
                </a:lnTo>
                <a:lnTo>
                  <a:pt x="416" y="710"/>
                </a:lnTo>
                <a:lnTo>
                  <a:pt x="412" y="710"/>
                </a:lnTo>
                <a:lnTo>
                  <a:pt x="409" y="710"/>
                </a:lnTo>
                <a:lnTo>
                  <a:pt x="405" y="708"/>
                </a:lnTo>
                <a:lnTo>
                  <a:pt x="401" y="706"/>
                </a:lnTo>
                <a:lnTo>
                  <a:pt x="395" y="702"/>
                </a:lnTo>
                <a:lnTo>
                  <a:pt x="391" y="699"/>
                </a:lnTo>
                <a:lnTo>
                  <a:pt x="386" y="693"/>
                </a:lnTo>
                <a:lnTo>
                  <a:pt x="380" y="687"/>
                </a:lnTo>
                <a:lnTo>
                  <a:pt x="374" y="679"/>
                </a:lnTo>
                <a:lnTo>
                  <a:pt x="368" y="672"/>
                </a:lnTo>
                <a:lnTo>
                  <a:pt x="363" y="662"/>
                </a:lnTo>
                <a:lnTo>
                  <a:pt x="355" y="652"/>
                </a:lnTo>
                <a:lnTo>
                  <a:pt x="347" y="643"/>
                </a:lnTo>
                <a:lnTo>
                  <a:pt x="340" y="631"/>
                </a:lnTo>
                <a:lnTo>
                  <a:pt x="332" y="620"/>
                </a:lnTo>
                <a:lnTo>
                  <a:pt x="324" y="606"/>
                </a:lnTo>
                <a:lnTo>
                  <a:pt x="315" y="593"/>
                </a:lnTo>
                <a:lnTo>
                  <a:pt x="297" y="564"/>
                </a:lnTo>
                <a:lnTo>
                  <a:pt x="278" y="535"/>
                </a:lnTo>
                <a:lnTo>
                  <a:pt x="261" y="505"/>
                </a:lnTo>
                <a:lnTo>
                  <a:pt x="242" y="472"/>
                </a:lnTo>
                <a:lnTo>
                  <a:pt x="223" y="439"/>
                </a:lnTo>
                <a:lnTo>
                  <a:pt x="205" y="407"/>
                </a:lnTo>
                <a:lnTo>
                  <a:pt x="186" y="372"/>
                </a:lnTo>
                <a:lnTo>
                  <a:pt x="169" y="338"/>
                </a:lnTo>
                <a:lnTo>
                  <a:pt x="157" y="319"/>
                </a:lnTo>
                <a:lnTo>
                  <a:pt x="148" y="301"/>
                </a:lnTo>
                <a:lnTo>
                  <a:pt x="136" y="284"/>
                </a:lnTo>
                <a:lnTo>
                  <a:pt x="127" y="269"/>
                </a:lnTo>
                <a:lnTo>
                  <a:pt x="117" y="253"/>
                </a:lnTo>
                <a:lnTo>
                  <a:pt x="107" y="238"/>
                </a:lnTo>
                <a:lnTo>
                  <a:pt x="98" y="223"/>
                </a:lnTo>
                <a:lnTo>
                  <a:pt x="90" y="209"/>
                </a:lnTo>
                <a:lnTo>
                  <a:pt x="80" y="196"/>
                </a:lnTo>
                <a:lnTo>
                  <a:pt x="73" y="182"/>
                </a:lnTo>
                <a:lnTo>
                  <a:pt x="65" y="169"/>
                </a:lnTo>
                <a:lnTo>
                  <a:pt x="57" y="157"/>
                </a:lnTo>
                <a:lnTo>
                  <a:pt x="50" y="146"/>
                </a:lnTo>
                <a:lnTo>
                  <a:pt x="44" y="134"/>
                </a:lnTo>
                <a:lnTo>
                  <a:pt x="38" y="123"/>
                </a:lnTo>
                <a:lnTo>
                  <a:pt x="33" y="113"/>
                </a:lnTo>
                <a:lnTo>
                  <a:pt x="23" y="94"/>
                </a:lnTo>
                <a:lnTo>
                  <a:pt x="13" y="75"/>
                </a:lnTo>
                <a:lnTo>
                  <a:pt x="8" y="60"/>
                </a:lnTo>
                <a:lnTo>
                  <a:pt x="6" y="52"/>
                </a:lnTo>
                <a:lnTo>
                  <a:pt x="4" y="44"/>
                </a:lnTo>
                <a:lnTo>
                  <a:pt x="2" y="36"/>
                </a:lnTo>
                <a:lnTo>
                  <a:pt x="0" y="31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0" y="12"/>
                </a:lnTo>
                <a:lnTo>
                  <a:pt x="2" y="10"/>
                </a:lnTo>
                <a:lnTo>
                  <a:pt x="4" y="6"/>
                </a:lnTo>
                <a:lnTo>
                  <a:pt x="8" y="4"/>
                </a:lnTo>
                <a:lnTo>
                  <a:pt x="13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38" y="2"/>
                </a:lnTo>
                <a:lnTo>
                  <a:pt x="44" y="4"/>
                </a:lnTo>
                <a:lnTo>
                  <a:pt x="50" y="6"/>
                </a:lnTo>
                <a:lnTo>
                  <a:pt x="57" y="10"/>
                </a:lnTo>
                <a:lnTo>
                  <a:pt x="65" y="13"/>
                </a:lnTo>
                <a:lnTo>
                  <a:pt x="73" y="17"/>
                </a:lnTo>
                <a:lnTo>
                  <a:pt x="82" y="23"/>
                </a:lnTo>
                <a:lnTo>
                  <a:pt x="90" y="29"/>
                </a:lnTo>
                <a:lnTo>
                  <a:pt x="109" y="40"/>
                </a:lnTo>
                <a:lnTo>
                  <a:pt x="128" y="54"/>
                </a:lnTo>
                <a:lnTo>
                  <a:pt x="150" y="69"/>
                </a:lnTo>
                <a:lnTo>
                  <a:pt x="171" y="84"/>
                </a:lnTo>
                <a:lnTo>
                  <a:pt x="194" y="102"/>
                </a:lnTo>
                <a:lnTo>
                  <a:pt x="217" y="123"/>
                </a:lnTo>
                <a:lnTo>
                  <a:pt x="228" y="132"/>
                </a:lnTo>
                <a:lnTo>
                  <a:pt x="242" y="144"/>
                </a:lnTo>
                <a:lnTo>
                  <a:pt x="253" y="154"/>
                </a:lnTo>
                <a:lnTo>
                  <a:pt x="267" y="167"/>
                </a:lnTo>
                <a:lnTo>
                  <a:pt x="292" y="194"/>
                </a:lnTo>
                <a:lnTo>
                  <a:pt x="315" y="223"/>
                </a:lnTo>
                <a:lnTo>
                  <a:pt x="336" y="251"/>
                </a:lnTo>
                <a:lnTo>
                  <a:pt x="357" y="278"/>
                </a:lnTo>
                <a:lnTo>
                  <a:pt x="376" y="307"/>
                </a:lnTo>
                <a:lnTo>
                  <a:pt x="395" y="334"/>
                </a:lnTo>
                <a:lnTo>
                  <a:pt x="414" y="363"/>
                </a:lnTo>
                <a:lnTo>
                  <a:pt x="432" y="39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1"/>
          <p:cNvSpPr/>
          <p:nvPr/>
        </p:nvSpPr>
        <p:spPr>
          <a:xfrm>
            <a:off x="1909800" y="3170160"/>
            <a:ext cx="1814400" cy="338040"/>
          </a:xfrm>
          <a:custGeom>
            <a:avLst/>
            <a:gdLst/>
            <a:ahLst/>
            <a:rect l="l" t="t" r="r" b="b"/>
            <a:pathLst>
              <a:path w="2285" h="428">
                <a:moveTo>
                  <a:pt x="1560" y="75"/>
                </a:moveTo>
                <a:lnTo>
                  <a:pt x="1587" y="71"/>
                </a:lnTo>
                <a:lnTo>
                  <a:pt x="1612" y="65"/>
                </a:lnTo>
                <a:lnTo>
                  <a:pt x="1637" y="61"/>
                </a:lnTo>
                <a:lnTo>
                  <a:pt x="1660" y="56"/>
                </a:lnTo>
                <a:lnTo>
                  <a:pt x="1683" y="52"/>
                </a:lnTo>
                <a:lnTo>
                  <a:pt x="1706" y="48"/>
                </a:lnTo>
                <a:lnTo>
                  <a:pt x="1727" y="44"/>
                </a:lnTo>
                <a:lnTo>
                  <a:pt x="1746" y="40"/>
                </a:lnTo>
                <a:lnTo>
                  <a:pt x="1767" y="36"/>
                </a:lnTo>
                <a:lnTo>
                  <a:pt x="1786" y="35"/>
                </a:lnTo>
                <a:lnTo>
                  <a:pt x="1804" y="31"/>
                </a:lnTo>
                <a:lnTo>
                  <a:pt x="1821" y="29"/>
                </a:lnTo>
                <a:lnTo>
                  <a:pt x="1838" y="25"/>
                </a:lnTo>
                <a:lnTo>
                  <a:pt x="1854" y="23"/>
                </a:lnTo>
                <a:lnTo>
                  <a:pt x="1869" y="19"/>
                </a:lnTo>
                <a:lnTo>
                  <a:pt x="1884" y="17"/>
                </a:lnTo>
                <a:lnTo>
                  <a:pt x="1898" y="15"/>
                </a:lnTo>
                <a:lnTo>
                  <a:pt x="1909" y="13"/>
                </a:lnTo>
                <a:lnTo>
                  <a:pt x="1923" y="12"/>
                </a:lnTo>
                <a:lnTo>
                  <a:pt x="1932" y="10"/>
                </a:lnTo>
                <a:lnTo>
                  <a:pt x="1944" y="8"/>
                </a:lnTo>
                <a:lnTo>
                  <a:pt x="1953" y="8"/>
                </a:lnTo>
                <a:lnTo>
                  <a:pt x="1963" y="6"/>
                </a:lnTo>
                <a:lnTo>
                  <a:pt x="1971" y="4"/>
                </a:lnTo>
                <a:lnTo>
                  <a:pt x="1978" y="4"/>
                </a:lnTo>
                <a:lnTo>
                  <a:pt x="1984" y="4"/>
                </a:lnTo>
                <a:lnTo>
                  <a:pt x="1990" y="2"/>
                </a:lnTo>
                <a:lnTo>
                  <a:pt x="1996" y="2"/>
                </a:lnTo>
                <a:lnTo>
                  <a:pt x="1999" y="2"/>
                </a:lnTo>
                <a:lnTo>
                  <a:pt x="2003" y="2"/>
                </a:lnTo>
                <a:lnTo>
                  <a:pt x="2007" y="0"/>
                </a:lnTo>
                <a:lnTo>
                  <a:pt x="2009" y="0"/>
                </a:lnTo>
                <a:lnTo>
                  <a:pt x="2011" y="0"/>
                </a:lnTo>
                <a:lnTo>
                  <a:pt x="2015" y="2"/>
                </a:lnTo>
                <a:lnTo>
                  <a:pt x="2019" y="2"/>
                </a:lnTo>
                <a:lnTo>
                  <a:pt x="2022" y="2"/>
                </a:lnTo>
                <a:lnTo>
                  <a:pt x="2026" y="4"/>
                </a:lnTo>
                <a:lnTo>
                  <a:pt x="2032" y="6"/>
                </a:lnTo>
                <a:lnTo>
                  <a:pt x="2038" y="6"/>
                </a:lnTo>
                <a:lnTo>
                  <a:pt x="2045" y="8"/>
                </a:lnTo>
                <a:lnTo>
                  <a:pt x="2053" y="12"/>
                </a:lnTo>
                <a:lnTo>
                  <a:pt x="2061" y="13"/>
                </a:lnTo>
                <a:lnTo>
                  <a:pt x="2070" y="15"/>
                </a:lnTo>
                <a:lnTo>
                  <a:pt x="2080" y="19"/>
                </a:lnTo>
                <a:lnTo>
                  <a:pt x="2092" y="21"/>
                </a:lnTo>
                <a:lnTo>
                  <a:pt x="2101" y="25"/>
                </a:lnTo>
                <a:lnTo>
                  <a:pt x="2115" y="29"/>
                </a:lnTo>
                <a:lnTo>
                  <a:pt x="2126" y="33"/>
                </a:lnTo>
                <a:lnTo>
                  <a:pt x="2147" y="44"/>
                </a:lnTo>
                <a:lnTo>
                  <a:pt x="2166" y="56"/>
                </a:lnTo>
                <a:lnTo>
                  <a:pt x="2184" y="65"/>
                </a:lnTo>
                <a:lnTo>
                  <a:pt x="2201" y="75"/>
                </a:lnTo>
                <a:lnTo>
                  <a:pt x="2216" y="84"/>
                </a:lnTo>
                <a:lnTo>
                  <a:pt x="2230" y="96"/>
                </a:lnTo>
                <a:lnTo>
                  <a:pt x="2241" y="106"/>
                </a:lnTo>
                <a:lnTo>
                  <a:pt x="2253" y="117"/>
                </a:lnTo>
                <a:lnTo>
                  <a:pt x="2262" y="129"/>
                </a:lnTo>
                <a:lnTo>
                  <a:pt x="2272" y="140"/>
                </a:lnTo>
                <a:lnTo>
                  <a:pt x="2278" y="150"/>
                </a:lnTo>
                <a:lnTo>
                  <a:pt x="2282" y="157"/>
                </a:lnTo>
                <a:lnTo>
                  <a:pt x="2285" y="165"/>
                </a:lnTo>
                <a:lnTo>
                  <a:pt x="2285" y="173"/>
                </a:lnTo>
                <a:lnTo>
                  <a:pt x="2285" y="177"/>
                </a:lnTo>
                <a:lnTo>
                  <a:pt x="2282" y="182"/>
                </a:lnTo>
                <a:lnTo>
                  <a:pt x="2280" y="184"/>
                </a:lnTo>
                <a:lnTo>
                  <a:pt x="2276" y="186"/>
                </a:lnTo>
                <a:lnTo>
                  <a:pt x="2268" y="186"/>
                </a:lnTo>
                <a:lnTo>
                  <a:pt x="2260" y="188"/>
                </a:lnTo>
                <a:lnTo>
                  <a:pt x="2251" y="188"/>
                </a:lnTo>
                <a:lnTo>
                  <a:pt x="2239" y="190"/>
                </a:lnTo>
                <a:lnTo>
                  <a:pt x="2224" y="190"/>
                </a:lnTo>
                <a:lnTo>
                  <a:pt x="2209" y="190"/>
                </a:lnTo>
                <a:lnTo>
                  <a:pt x="2191" y="190"/>
                </a:lnTo>
                <a:lnTo>
                  <a:pt x="2172" y="190"/>
                </a:lnTo>
                <a:lnTo>
                  <a:pt x="2151" y="188"/>
                </a:lnTo>
                <a:lnTo>
                  <a:pt x="2128" y="188"/>
                </a:lnTo>
                <a:lnTo>
                  <a:pt x="2103" y="186"/>
                </a:lnTo>
                <a:lnTo>
                  <a:pt x="2078" y="186"/>
                </a:lnTo>
                <a:lnTo>
                  <a:pt x="2049" y="184"/>
                </a:lnTo>
                <a:lnTo>
                  <a:pt x="2019" y="182"/>
                </a:lnTo>
                <a:lnTo>
                  <a:pt x="1988" y="180"/>
                </a:lnTo>
                <a:lnTo>
                  <a:pt x="1957" y="178"/>
                </a:lnTo>
                <a:lnTo>
                  <a:pt x="1896" y="177"/>
                </a:lnTo>
                <a:lnTo>
                  <a:pt x="1836" y="178"/>
                </a:lnTo>
                <a:lnTo>
                  <a:pt x="1779" y="178"/>
                </a:lnTo>
                <a:lnTo>
                  <a:pt x="1721" y="182"/>
                </a:lnTo>
                <a:lnTo>
                  <a:pt x="1666" y="184"/>
                </a:lnTo>
                <a:lnTo>
                  <a:pt x="1612" y="188"/>
                </a:lnTo>
                <a:lnTo>
                  <a:pt x="1560" y="192"/>
                </a:lnTo>
                <a:lnTo>
                  <a:pt x="1533" y="196"/>
                </a:lnTo>
                <a:lnTo>
                  <a:pt x="1504" y="202"/>
                </a:lnTo>
                <a:lnTo>
                  <a:pt x="1476" y="205"/>
                </a:lnTo>
                <a:lnTo>
                  <a:pt x="1445" y="209"/>
                </a:lnTo>
                <a:lnTo>
                  <a:pt x="1414" y="213"/>
                </a:lnTo>
                <a:lnTo>
                  <a:pt x="1383" y="217"/>
                </a:lnTo>
                <a:lnTo>
                  <a:pt x="1351" y="221"/>
                </a:lnTo>
                <a:lnTo>
                  <a:pt x="1318" y="226"/>
                </a:lnTo>
                <a:lnTo>
                  <a:pt x="1286" y="230"/>
                </a:lnTo>
                <a:lnTo>
                  <a:pt x="1251" y="234"/>
                </a:lnTo>
                <a:lnTo>
                  <a:pt x="1216" y="240"/>
                </a:lnTo>
                <a:lnTo>
                  <a:pt x="1182" y="246"/>
                </a:lnTo>
                <a:lnTo>
                  <a:pt x="1145" y="249"/>
                </a:lnTo>
                <a:lnTo>
                  <a:pt x="1109" y="255"/>
                </a:lnTo>
                <a:lnTo>
                  <a:pt x="1071" y="261"/>
                </a:lnTo>
                <a:lnTo>
                  <a:pt x="1034" y="267"/>
                </a:lnTo>
                <a:lnTo>
                  <a:pt x="994" y="274"/>
                </a:lnTo>
                <a:lnTo>
                  <a:pt x="954" y="280"/>
                </a:lnTo>
                <a:lnTo>
                  <a:pt x="915" y="286"/>
                </a:lnTo>
                <a:lnTo>
                  <a:pt x="879" y="294"/>
                </a:lnTo>
                <a:lnTo>
                  <a:pt x="840" y="299"/>
                </a:lnTo>
                <a:lnTo>
                  <a:pt x="804" y="307"/>
                </a:lnTo>
                <a:lnTo>
                  <a:pt x="769" y="313"/>
                </a:lnTo>
                <a:lnTo>
                  <a:pt x="733" y="320"/>
                </a:lnTo>
                <a:lnTo>
                  <a:pt x="698" y="328"/>
                </a:lnTo>
                <a:lnTo>
                  <a:pt x="666" y="334"/>
                </a:lnTo>
                <a:lnTo>
                  <a:pt x="631" y="342"/>
                </a:lnTo>
                <a:lnTo>
                  <a:pt x="600" y="347"/>
                </a:lnTo>
                <a:lnTo>
                  <a:pt x="568" y="355"/>
                </a:lnTo>
                <a:lnTo>
                  <a:pt x="537" y="361"/>
                </a:lnTo>
                <a:lnTo>
                  <a:pt x="506" y="368"/>
                </a:lnTo>
                <a:lnTo>
                  <a:pt x="478" y="374"/>
                </a:lnTo>
                <a:lnTo>
                  <a:pt x="462" y="376"/>
                </a:lnTo>
                <a:lnTo>
                  <a:pt x="447" y="380"/>
                </a:lnTo>
                <a:lnTo>
                  <a:pt x="433" y="382"/>
                </a:lnTo>
                <a:lnTo>
                  <a:pt x="418" y="386"/>
                </a:lnTo>
                <a:lnTo>
                  <a:pt x="407" y="388"/>
                </a:lnTo>
                <a:lnTo>
                  <a:pt x="393" y="392"/>
                </a:lnTo>
                <a:lnTo>
                  <a:pt x="382" y="393"/>
                </a:lnTo>
                <a:lnTo>
                  <a:pt x="368" y="395"/>
                </a:lnTo>
                <a:lnTo>
                  <a:pt x="357" y="399"/>
                </a:lnTo>
                <a:lnTo>
                  <a:pt x="347" y="401"/>
                </a:lnTo>
                <a:lnTo>
                  <a:pt x="326" y="405"/>
                </a:lnTo>
                <a:lnTo>
                  <a:pt x="309" y="409"/>
                </a:lnTo>
                <a:lnTo>
                  <a:pt x="291" y="413"/>
                </a:lnTo>
                <a:lnTo>
                  <a:pt x="278" y="416"/>
                </a:lnTo>
                <a:lnTo>
                  <a:pt x="265" y="418"/>
                </a:lnTo>
                <a:lnTo>
                  <a:pt x="253" y="422"/>
                </a:lnTo>
                <a:lnTo>
                  <a:pt x="243" y="424"/>
                </a:lnTo>
                <a:lnTo>
                  <a:pt x="236" y="424"/>
                </a:lnTo>
                <a:lnTo>
                  <a:pt x="230" y="426"/>
                </a:lnTo>
                <a:lnTo>
                  <a:pt x="226" y="426"/>
                </a:lnTo>
                <a:lnTo>
                  <a:pt x="224" y="428"/>
                </a:lnTo>
                <a:lnTo>
                  <a:pt x="220" y="426"/>
                </a:lnTo>
                <a:lnTo>
                  <a:pt x="219" y="426"/>
                </a:lnTo>
                <a:lnTo>
                  <a:pt x="215" y="426"/>
                </a:lnTo>
                <a:lnTo>
                  <a:pt x="211" y="424"/>
                </a:lnTo>
                <a:lnTo>
                  <a:pt x="205" y="424"/>
                </a:lnTo>
                <a:lnTo>
                  <a:pt x="199" y="422"/>
                </a:lnTo>
                <a:lnTo>
                  <a:pt x="194" y="420"/>
                </a:lnTo>
                <a:lnTo>
                  <a:pt x="186" y="418"/>
                </a:lnTo>
                <a:lnTo>
                  <a:pt x="178" y="415"/>
                </a:lnTo>
                <a:lnTo>
                  <a:pt x="171" y="413"/>
                </a:lnTo>
                <a:lnTo>
                  <a:pt x="161" y="409"/>
                </a:lnTo>
                <a:lnTo>
                  <a:pt x="151" y="405"/>
                </a:lnTo>
                <a:lnTo>
                  <a:pt x="142" y="401"/>
                </a:lnTo>
                <a:lnTo>
                  <a:pt x="130" y="395"/>
                </a:lnTo>
                <a:lnTo>
                  <a:pt x="119" y="390"/>
                </a:lnTo>
                <a:lnTo>
                  <a:pt x="107" y="384"/>
                </a:lnTo>
                <a:lnTo>
                  <a:pt x="94" y="378"/>
                </a:lnTo>
                <a:lnTo>
                  <a:pt x="82" y="372"/>
                </a:lnTo>
                <a:lnTo>
                  <a:pt x="71" y="367"/>
                </a:lnTo>
                <a:lnTo>
                  <a:pt x="61" y="363"/>
                </a:lnTo>
                <a:lnTo>
                  <a:pt x="52" y="357"/>
                </a:lnTo>
                <a:lnTo>
                  <a:pt x="42" y="353"/>
                </a:lnTo>
                <a:lnTo>
                  <a:pt x="34" y="349"/>
                </a:lnTo>
                <a:lnTo>
                  <a:pt x="27" y="344"/>
                </a:lnTo>
                <a:lnTo>
                  <a:pt x="21" y="340"/>
                </a:lnTo>
                <a:lnTo>
                  <a:pt x="15" y="338"/>
                </a:lnTo>
                <a:lnTo>
                  <a:pt x="9" y="334"/>
                </a:lnTo>
                <a:lnTo>
                  <a:pt x="6" y="330"/>
                </a:lnTo>
                <a:lnTo>
                  <a:pt x="4" y="328"/>
                </a:lnTo>
                <a:lnTo>
                  <a:pt x="0" y="324"/>
                </a:lnTo>
                <a:lnTo>
                  <a:pt x="0" y="322"/>
                </a:lnTo>
                <a:lnTo>
                  <a:pt x="0" y="320"/>
                </a:lnTo>
                <a:lnTo>
                  <a:pt x="0" y="319"/>
                </a:lnTo>
                <a:lnTo>
                  <a:pt x="2" y="317"/>
                </a:lnTo>
                <a:lnTo>
                  <a:pt x="4" y="315"/>
                </a:lnTo>
                <a:lnTo>
                  <a:pt x="7" y="315"/>
                </a:lnTo>
                <a:lnTo>
                  <a:pt x="13" y="313"/>
                </a:lnTo>
                <a:lnTo>
                  <a:pt x="19" y="313"/>
                </a:lnTo>
                <a:lnTo>
                  <a:pt x="27" y="311"/>
                </a:lnTo>
                <a:lnTo>
                  <a:pt x="36" y="311"/>
                </a:lnTo>
                <a:lnTo>
                  <a:pt x="46" y="309"/>
                </a:lnTo>
                <a:lnTo>
                  <a:pt x="55" y="307"/>
                </a:lnTo>
                <a:lnTo>
                  <a:pt x="69" y="307"/>
                </a:lnTo>
                <a:lnTo>
                  <a:pt x="80" y="305"/>
                </a:lnTo>
                <a:lnTo>
                  <a:pt x="96" y="305"/>
                </a:lnTo>
                <a:lnTo>
                  <a:pt x="111" y="303"/>
                </a:lnTo>
                <a:lnTo>
                  <a:pt x="128" y="301"/>
                </a:lnTo>
                <a:lnTo>
                  <a:pt x="146" y="299"/>
                </a:lnTo>
                <a:lnTo>
                  <a:pt x="153" y="297"/>
                </a:lnTo>
                <a:lnTo>
                  <a:pt x="163" y="297"/>
                </a:lnTo>
                <a:lnTo>
                  <a:pt x="172" y="296"/>
                </a:lnTo>
                <a:lnTo>
                  <a:pt x="184" y="296"/>
                </a:lnTo>
                <a:lnTo>
                  <a:pt x="194" y="294"/>
                </a:lnTo>
                <a:lnTo>
                  <a:pt x="205" y="292"/>
                </a:lnTo>
                <a:lnTo>
                  <a:pt x="219" y="290"/>
                </a:lnTo>
                <a:lnTo>
                  <a:pt x="230" y="290"/>
                </a:lnTo>
                <a:lnTo>
                  <a:pt x="245" y="288"/>
                </a:lnTo>
                <a:lnTo>
                  <a:pt x="259" y="286"/>
                </a:lnTo>
                <a:lnTo>
                  <a:pt x="272" y="284"/>
                </a:lnTo>
                <a:lnTo>
                  <a:pt x="288" y="282"/>
                </a:lnTo>
                <a:lnTo>
                  <a:pt x="305" y="280"/>
                </a:lnTo>
                <a:lnTo>
                  <a:pt x="320" y="278"/>
                </a:lnTo>
                <a:lnTo>
                  <a:pt x="338" y="274"/>
                </a:lnTo>
                <a:lnTo>
                  <a:pt x="355" y="273"/>
                </a:lnTo>
                <a:lnTo>
                  <a:pt x="374" y="271"/>
                </a:lnTo>
                <a:lnTo>
                  <a:pt x="391" y="267"/>
                </a:lnTo>
                <a:lnTo>
                  <a:pt x="410" y="265"/>
                </a:lnTo>
                <a:lnTo>
                  <a:pt x="432" y="261"/>
                </a:lnTo>
                <a:lnTo>
                  <a:pt x="451" y="259"/>
                </a:lnTo>
                <a:lnTo>
                  <a:pt x="472" y="255"/>
                </a:lnTo>
                <a:lnTo>
                  <a:pt x="493" y="251"/>
                </a:lnTo>
                <a:lnTo>
                  <a:pt x="516" y="249"/>
                </a:lnTo>
                <a:lnTo>
                  <a:pt x="539" y="246"/>
                </a:lnTo>
                <a:lnTo>
                  <a:pt x="562" y="242"/>
                </a:lnTo>
                <a:lnTo>
                  <a:pt x="585" y="238"/>
                </a:lnTo>
                <a:lnTo>
                  <a:pt x="610" y="232"/>
                </a:lnTo>
                <a:lnTo>
                  <a:pt x="635" y="228"/>
                </a:lnTo>
                <a:lnTo>
                  <a:pt x="660" y="225"/>
                </a:lnTo>
                <a:lnTo>
                  <a:pt x="685" y="219"/>
                </a:lnTo>
                <a:lnTo>
                  <a:pt x="712" y="215"/>
                </a:lnTo>
                <a:lnTo>
                  <a:pt x="817" y="194"/>
                </a:lnTo>
                <a:lnTo>
                  <a:pt x="923" y="175"/>
                </a:lnTo>
                <a:lnTo>
                  <a:pt x="1030" y="157"/>
                </a:lnTo>
                <a:lnTo>
                  <a:pt x="1136" y="140"/>
                </a:lnTo>
                <a:lnTo>
                  <a:pt x="1241" y="125"/>
                </a:lnTo>
                <a:lnTo>
                  <a:pt x="1349" y="107"/>
                </a:lnTo>
                <a:lnTo>
                  <a:pt x="1560" y="7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2"/>
          <p:cNvSpPr/>
          <p:nvPr/>
        </p:nvSpPr>
        <p:spPr>
          <a:xfrm>
            <a:off x="2427120" y="2803680"/>
            <a:ext cx="831960" cy="249120"/>
          </a:xfrm>
          <a:custGeom>
            <a:avLst/>
            <a:gdLst/>
            <a:ahLst/>
            <a:rect l="l" t="t" r="r" b="b"/>
            <a:pathLst>
              <a:path w="1048" h="313">
                <a:moveTo>
                  <a:pt x="948" y="2"/>
                </a:moveTo>
                <a:lnTo>
                  <a:pt x="962" y="4"/>
                </a:lnTo>
                <a:lnTo>
                  <a:pt x="975" y="6"/>
                </a:lnTo>
                <a:lnTo>
                  <a:pt x="987" y="8"/>
                </a:lnTo>
                <a:lnTo>
                  <a:pt x="998" y="12"/>
                </a:lnTo>
                <a:lnTo>
                  <a:pt x="1010" y="18"/>
                </a:lnTo>
                <a:lnTo>
                  <a:pt x="1019" y="25"/>
                </a:lnTo>
                <a:lnTo>
                  <a:pt x="1027" y="35"/>
                </a:lnTo>
                <a:lnTo>
                  <a:pt x="1031" y="41"/>
                </a:lnTo>
                <a:lnTo>
                  <a:pt x="1035" y="47"/>
                </a:lnTo>
                <a:lnTo>
                  <a:pt x="1042" y="58"/>
                </a:lnTo>
                <a:lnTo>
                  <a:pt x="1044" y="62"/>
                </a:lnTo>
                <a:lnTo>
                  <a:pt x="1046" y="68"/>
                </a:lnTo>
                <a:lnTo>
                  <a:pt x="1048" y="73"/>
                </a:lnTo>
                <a:lnTo>
                  <a:pt x="1048" y="77"/>
                </a:lnTo>
                <a:lnTo>
                  <a:pt x="1048" y="81"/>
                </a:lnTo>
                <a:lnTo>
                  <a:pt x="1048" y="87"/>
                </a:lnTo>
                <a:lnTo>
                  <a:pt x="1048" y="91"/>
                </a:lnTo>
                <a:lnTo>
                  <a:pt x="1046" y="93"/>
                </a:lnTo>
                <a:lnTo>
                  <a:pt x="1044" y="96"/>
                </a:lnTo>
                <a:lnTo>
                  <a:pt x="1042" y="100"/>
                </a:lnTo>
                <a:lnTo>
                  <a:pt x="1038" y="102"/>
                </a:lnTo>
                <a:lnTo>
                  <a:pt x="1035" y="106"/>
                </a:lnTo>
                <a:lnTo>
                  <a:pt x="1031" y="108"/>
                </a:lnTo>
                <a:lnTo>
                  <a:pt x="1025" y="110"/>
                </a:lnTo>
                <a:lnTo>
                  <a:pt x="1019" y="114"/>
                </a:lnTo>
                <a:lnTo>
                  <a:pt x="1012" y="118"/>
                </a:lnTo>
                <a:lnTo>
                  <a:pt x="1002" y="121"/>
                </a:lnTo>
                <a:lnTo>
                  <a:pt x="992" y="125"/>
                </a:lnTo>
                <a:lnTo>
                  <a:pt x="981" y="131"/>
                </a:lnTo>
                <a:lnTo>
                  <a:pt x="967" y="135"/>
                </a:lnTo>
                <a:lnTo>
                  <a:pt x="952" y="139"/>
                </a:lnTo>
                <a:lnTo>
                  <a:pt x="935" y="142"/>
                </a:lnTo>
                <a:lnTo>
                  <a:pt x="918" y="148"/>
                </a:lnTo>
                <a:lnTo>
                  <a:pt x="896" y="152"/>
                </a:lnTo>
                <a:lnTo>
                  <a:pt x="875" y="158"/>
                </a:lnTo>
                <a:lnTo>
                  <a:pt x="852" y="162"/>
                </a:lnTo>
                <a:lnTo>
                  <a:pt x="827" y="167"/>
                </a:lnTo>
                <a:lnTo>
                  <a:pt x="800" y="173"/>
                </a:lnTo>
                <a:lnTo>
                  <a:pt x="772" y="179"/>
                </a:lnTo>
                <a:lnTo>
                  <a:pt x="743" y="185"/>
                </a:lnTo>
                <a:lnTo>
                  <a:pt x="712" y="190"/>
                </a:lnTo>
                <a:lnTo>
                  <a:pt x="682" y="196"/>
                </a:lnTo>
                <a:lnTo>
                  <a:pt x="653" y="202"/>
                </a:lnTo>
                <a:lnTo>
                  <a:pt x="624" y="208"/>
                </a:lnTo>
                <a:lnTo>
                  <a:pt x="595" y="212"/>
                </a:lnTo>
                <a:lnTo>
                  <a:pt x="568" y="217"/>
                </a:lnTo>
                <a:lnTo>
                  <a:pt x="541" y="223"/>
                </a:lnTo>
                <a:lnTo>
                  <a:pt x="515" y="227"/>
                </a:lnTo>
                <a:lnTo>
                  <a:pt x="490" y="233"/>
                </a:lnTo>
                <a:lnTo>
                  <a:pt x="465" y="237"/>
                </a:lnTo>
                <a:lnTo>
                  <a:pt x="442" y="242"/>
                </a:lnTo>
                <a:lnTo>
                  <a:pt x="419" y="248"/>
                </a:lnTo>
                <a:lnTo>
                  <a:pt x="396" y="252"/>
                </a:lnTo>
                <a:lnTo>
                  <a:pt x="374" y="258"/>
                </a:lnTo>
                <a:lnTo>
                  <a:pt x="353" y="263"/>
                </a:lnTo>
                <a:lnTo>
                  <a:pt x="332" y="269"/>
                </a:lnTo>
                <a:lnTo>
                  <a:pt x="311" y="275"/>
                </a:lnTo>
                <a:lnTo>
                  <a:pt x="290" y="281"/>
                </a:lnTo>
                <a:lnTo>
                  <a:pt x="271" y="286"/>
                </a:lnTo>
                <a:lnTo>
                  <a:pt x="254" y="290"/>
                </a:lnTo>
                <a:lnTo>
                  <a:pt x="236" y="294"/>
                </a:lnTo>
                <a:lnTo>
                  <a:pt x="221" y="298"/>
                </a:lnTo>
                <a:lnTo>
                  <a:pt x="206" y="300"/>
                </a:lnTo>
                <a:lnTo>
                  <a:pt x="192" y="304"/>
                </a:lnTo>
                <a:lnTo>
                  <a:pt x="179" y="306"/>
                </a:lnTo>
                <a:lnTo>
                  <a:pt x="167" y="308"/>
                </a:lnTo>
                <a:lnTo>
                  <a:pt x="158" y="309"/>
                </a:lnTo>
                <a:lnTo>
                  <a:pt x="148" y="309"/>
                </a:lnTo>
                <a:lnTo>
                  <a:pt x="138" y="311"/>
                </a:lnTo>
                <a:lnTo>
                  <a:pt x="131" y="311"/>
                </a:lnTo>
                <a:lnTo>
                  <a:pt x="123" y="311"/>
                </a:lnTo>
                <a:lnTo>
                  <a:pt x="117" y="313"/>
                </a:lnTo>
                <a:lnTo>
                  <a:pt x="108" y="311"/>
                </a:lnTo>
                <a:lnTo>
                  <a:pt x="98" y="311"/>
                </a:lnTo>
                <a:lnTo>
                  <a:pt x="89" y="308"/>
                </a:lnTo>
                <a:lnTo>
                  <a:pt x="79" y="304"/>
                </a:lnTo>
                <a:lnTo>
                  <a:pt x="69" y="300"/>
                </a:lnTo>
                <a:lnTo>
                  <a:pt x="60" y="294"/>
                </a:lnTo>
                <a:lnTo>
                  <a:pt x="50" y="288"/>
                </a:lnTo>
                <a:lnTo>
                  <a:pt x="41" y="281"/>
                </a:lnTo>
                <a:lnTo>
                  <a:pt x="29" y="277"/>
                </a:lnTo>
                <a:lnTo>
                  <a:pt x="21" y="271"/>
                </a:lnTo>
                <a:lnTo>
                  <a:pt x="14" y="265"/>
                </a:lnTo>
                <a:lnTo>
                  <a:pt x="10" y="260"/>
                </a:lnTo>
                <a:lnTo>
                  <a:pt x="6" y="254"/>
                </a:lnTo>
                <a:lnTo>
                  <a:pt x="2" y="248"/>
                </a:lnTo>
                <a:lnTo>
                  <a:pt x="2" y="242"/>
                </a:lnTo>
                <a:lnTo>
                  <a:pt x="0" y="238"/>
                </a:lnTo>
                <a:lnTo>
                  <a:pt x="2" y="235"/>
                </a:lnTo>
                <a:lnTo>
                  <a:pt x="2" y="231"/>
                </a:lnTo>
                <a:lnTo>
                  <a:pt x="6" y="229"/>
                </a:lnTo>
                <a:lnTo>
                  <a:pt x="10" y="227"/>
                </a:lnTo>
                <a:lnTo>
                  <a:pt x="14" y="225"/>
                </a:lnTo>
                <a:lnTo>
                  <a:pt x="21" y="223"/>
                </a:lnTo>
                <a:lnTo>
                  <a:pt x="29" y="219"/>
                </a:lnTo>
                <a:lnTo>
                  <a:pt x="41" y="217"/>
                </a:lnTo>
                <a:lnTo>
                  <a:pt x="42" y="215"/>
                </a:lnTo>
                <a:lnTo>
                  <a:pt x="46" y="215"/>
                </a:lnTo>
                <a:lnTo>
                  <a:pt x="52" y="215"/>
                </a:lnTo>
                <a:lnTo>
                  <a:pt x="56" y="215"/>
                </a:lnTo>
                <a:lnTo>
                  <a:pt x="62" y="213"/>
                </a:lnTo>
                <a:lnTo>
                  <a:pt x="69" y="212"/>
                </a:lnTo>
                <a:lnTo>
                  <a:pt x="75" y="210"/>
                </a:lnTo>
                <a:lnTo>
                  <a:pt x="85" y="210"/>
                </a:lnTo>
                <a:lnTo>
                  <a:pt x="92" y="206"/>
                </a:lnTo>
                <a:lnTo>
                  <a:pt x="102" y="204"/>
                </a:lnTo>
                <a:lnTo>
                  <a:pt x="112" y="202"/>
                </a:lnTo>
                <a:lnTo>
                  <a:pt x="123" y="200"/>
                </a:lnTo>
                <a:lnTo>
                  <a:pt x="135" y="196"/>
                </a:lnTo>
                <a:lnTo>
                  <a:pt x="146" y="192"/>
                </a:lnTo>
                <a:lnTo>
                  <a:pt x="160" y="190"/>
                </a:lnTo>
                <a:lnTo>
                  <a:pt x="173" y="187"/>
                </a:lnTo>
                <a:lnTo>
                  <a:pt x="186" y="183"/>
                </a:lnTo>
                <a:lnTo>
                  <a:pt x="202" y="179"/>
                </a:lnTo>
                <a:lnTo>
                  <a:pt x="217" y="175"/>
                </a:lnTo>
                <a:lnTo>
                  <a:pt x="234" y="169"/>
                </a:lnTo>
                <a:lnTo>
                  <a:pt x="252" y="165"/>
                </a:lnTo>
                <a:lnTo>
                  <a:pt x="269" y="160"/>
                </a:lnTo>
                <a:lnTo>
                  <a:pt x="288" y="154"/>
                </a:lnTo>
                <a:lnTo>
                  <a:pt x="307" y="150"/>
                </a:lnTo>
                <a:lnTo>
                  <a:pt x="328" y="144"/>
                </a:lnTo>
                <a:lnTo>
                  <a:pt x="348" y="139"/>
                </a:lnTo>
                <a:lnTo>
                  <a:pt x="371" y="133"/>
                </a:lnTo>
                <a:lnTo>
                  <a:pt x="392" y="125"/>
                </a:lnTo>
                <a:lnTo>
                  <a:pt x="415" y="119"/>
                </a:lnTo>
                <a:lnTo>
                  <a:pt x="440" y="114"/>
                </a:lnTo>
                <a:lnTo>
                  <a:pt x="463" y="106"/>
                </a:lnTo>
                <a:lnTo>
                  <a:pt x="490" y="100"/>
                </a:lnTo>
                <a:lnTo>
                  <a:pt x="513" y="93"/>
                </a:lnTo>
                <a:lnTo>
                  <a:pt x="538" y="85"/>
                </a:lnTo>
                <a:lnTo>
                  <a:pt x="561" y="79"/>
                </a:lnTo>
                <a:lnTo>
                  <a:pt x="582" y="73"/>
                </a:lnTo>
                <a:lnTo>
                  <a:pt x="605" y="68"/>
                </a:lnTo>
                <a:lnTo>
                  <a:pt x="626" y="62"/>
                </a:lnTo>
                <a:lnTo>
                  <a:pt x="645" y="56"/>
                </a:lnTo>
                <a:lnTo>
                  <a:pt x="666" y="50"/>
                </a:lnTo>
                <a:lnTo>
                  <a:pt x="685" y="47"/>
                </a:lnTo>
                <a:lnTo>
                  <a:pt x="705" y="41"/>
                </a:lnTo>
                <a:lnTo>
                  <a:pt x="722" y="37"/>
                </a:lnTo>
                <a:lnTo>
                  <a:pt x="739" y="33"/>
                </a:lnTo>
                <a:lnTo>
                  <a:pt x="756" y="29"/>
                </a:lnTo>
                <a:lnTo>
                  <a:pt x="772" y="25"/>
                </a:lnTo>
                <a:lnTo>
                  <a:pt x="787" y="22"/>
                </a:lnTo>
                <a:lnTo>
                  <a:pt x="802" y="18"/>
                </a:lnTo>
                <a:lnTo>
                  <a:pt x="816" y="16"/>
                </a:lnTo>
                <a:lnTo>
                  <a:pt x="829" y="14"/>
                </a:lnTo>
                <a:lnTo>
                  <a:pt x="843" y="10"/>
                </a:lnTo>
                <a:lnTo>
                  <a:pt x="854" y="8"/>
                </a:lnTo>
                <a:lnTo>
                  <a:pt x="866" y="6"/>
                </a:lnTo>
                <a:lnTo>
                  <a:pt x="877" y="6"/>
                </a:lnTo>
                <a:lnTo>
                  <a:pt x="887" y="4"/>
                </a:lnTo>
                <a:lnTo>
                  <a:pt x="896" y="2"/>
                </a:lnTo>
                <a:lnTo>
                  <a:pt x="904" y="2"/>
                </a:lnTo>
                <a:lnTo>
                  <a:pt x="914" y="2"/>
                </a:lnTo>
                <a:lnTo>
                  <a:pt x="919" y="0"/>
                </a:lnTo>
                <a:lnTo>
                  <a:pt x="927" y="0"/>
                </a:lnTo>
                <a:lnTo>
                  <a:pt x="933" y="0"/>
                </a:lnTo>
                <a:lnTo>
                  <a:pt x="939" y="2"/>
                </a:lnTo>
                <a:lnTo>
                  <a:pt x="943" y="2"/>
                </a:lnTo>
                <a:lnTo>
                  <a:pt x="948" y="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5410080" y="1905120"/>
            <a:ext cx="3581640" cy="1739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悔 悔改 悔恨 反悔 追悔莫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380880" y="4648320"/>
            <a:ext cx="838224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后悔没有接受街坊的劝告，心想，现在修还不晚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325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5"/>
          <p:cNvSpPr/>
          <p:nvPr/>
        </p:nvSpPr>
        <p:spPr>
          <a:xfrm>
            <a:off x="1905120" y="2286000"/>
            <a:ext cx="1844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/>
          <p:cNvSpPr/>
          <p:nvPr/>
        </p:nvSpPr>
        <p:spPr>
          <a:xfrm>
            <a:off x="1909800" y="2297160"/>
            <a:ext cx="1820880" cy="1814400"/>
          </a:xfrm>
          <a:custGeom>
            <a:avLst/>
            <a:gdLst/>
            <a:ahLst/>
            <a:rect l="l" t="t" r="r" b="b"/>
            <a:pathLst>
              <a:path w="2293" h="2286">
                <a:moveTo>
                  <a:pt x="341" y="102"/>
                </a:moveTo>
                <a:lnTo>
                  <a:pt x="343" y="98"/>
                </a:lnTo>
                <a:lnTo>
                  <a:pt x="347" y="96"/>
                </a:lnTo>
                <a:lnTo>
                  <a:pt x="349" y="93"/>
                </a:lnTo>
                <a:lnTo>
                  <a:pt x="353" y="91"/>
                </a:lnTo>
                <a:lnTo>
                  <a:pt x="359" y="89"/>
                </a:lnTo>
                <a:lnTo>
                  <a:pt x="362" y="89"/>
                </a:lnTo>
                <a:lnTo>
                  <a:pt x="368" y="87"/>
                </a:lnTo>
                <a:lnTo>
                  <a:pt x="374" y="87"/>
                </a:lnTo>
                <a:lnTo>
                  <a:pt x="387" y="89"/>
                </a:lnTo>
                <a:lnTo>
                  <a:pt x="403" y="91"/>
                </a:lnTo>
                <a:lnTo>
                  <a:pt x="420" y="96"/>
                </a:lnTo>
                <a:lnTo>
                  <a:pt x="437" y="102"/>
                </a:lnTo>
                <a:lnTo>
                  <a:pt x="455" y="114"/>
                </a:lnTo>
                <a:lnTo>
                  <a:pt x="470" y="123"/>
                </a:lnTo>
                <a:lnTo>
                  <a:pt x="485" y="131"/>
                </a:lnTo>
                <a:lnTo>
                  <a:pt x="499" y="139"/>
                </a:lnTo>
                <a:lnTo>
                  <a:pt x="512" y="146"/>
                </a:lnTo>
                <a:lnTo>
                  <a:pt x="524" y="152"/>
                </a:lnTo>
                <a:lnTo>
                  <a:pt x="533" y="158"/>
                </a:lnTo>
                <a:lnTo>
                  <a:pt x="541" y="162"/>
                </a:lnTo>
                <a:lnTo>
                  <a:pt x="545" y="169"/>
                </a:lnTo>
                <a:lnTo>
                  <a:pt x="549" y="179"/>
                </a:lnTo>
                <a:lnTo>
                  <a:pt x="551" y="192"/>
                </a:lnTo>
                <a:lnTo>
                  <a:pt x="552" y="206"/>
                </a:lnTo>
                <a:lnTo>
                  <a:pt x="554" y="221"/>
                </a:lnTo>
                <a:lnTo>
                  <a:pt x="554" y="238"/>
                </a:lnTo>
                <a:lnTo>
                  <a:pt x="554" y="258"/>
                </a:lnTo>
                <a:lnTo>
                  <a:pt x="551" y="279"/>
                </a:lnTo>
                <a:lnTo>
                  <a:pt x="549" y="290"/>
                </a:lnTo>
                <a:lnTo>
                  <a:pt x="547" y="304"/>
                </a:lnTo>
                <a:lnTo>
                  <a:pt x="545" y="317"/>
                </a:lnTo>
                <a:lnTo>
                  <a:pt x="543" y="331"/>
                </a:lnTo>
                <a:lnTo>
                  <a:pt x="539" y="346"/>
                </a:lnTo>
                <a:lnTo>
                  <a:pt x="537" y="363"/>
                </a:lnTo>
                <a:lnTo>
                  <a:pt x="535" y="379"/>
                </a:lnTo>
                <a:lnTo>
                  <a:pt x="531" y="398"/>
                </a:lnTo>
                <a:lnTo>
                  <a:pt x="529" y="417"/>
                </a:lnTo>
                <a:lnTo>
                  <a:pt x="526" y="436"/>
                </a:lnTo>
                <a:lnTo>
                  <a:pt x="524" y="457"/>
                </a:lnTo>
                <a:lnTo>
                  <a:pt x="522" y="478"/>
                </a:lnTo>
                <a:lnTo>
                  <a:pt x="520" y="501"/>
                </a:lnTo>
                <a:lnTo>
                  <a:pt x="516" y="524"/>
                </a:lnTo>
                <a:lnTo>
                  <a:pt x="514" y="549"/>
                </a:lnTo>
                <a:lnTo>
                  <a:pt x="512" y="574"/>
                </a:lnTo>
                <a:lnTo>
                  <a:pt x="512" y="590"/>
                </a:lnTo>
                <a:lnTo>
                  <a:pt x="510" y="603"/>
                </a:lnTo>
                <a:lnTo>
                  <a:pt x="510" y="618"/>
                </a:lnTo>
                <a:lnTo>
                  <a:pt x="510" y="634"/>
                </a:lnTo>
                <a:lnTo>
                  <a:pt x="508" y="651"/>
                </a:lnTo>
                <a:lnTo>
                  <a:pt x="508" y="668"/>
                </a:lnTo>
                <a:lnTo>
                  <a:pt x="506" y="686"/>
                </a:lnTo>
                <a:lnTo>
                  <a:pt x="506" y="703"/>
                </a:lnTo>
                <a:lnTo>
                  <a:pt x="504" y="722"/>
                </a:lnTo>
                <a:lnTo>
                  <a:pt x="504" y="741"/>
                </a:lnTo>
                <a:lnTo>
                  <a:pt x="503" y="762"/>
                </a:lnTo>
                <a:lnTo>
                  <a:pt x="503" y="782"/>
                </a:lnTo>
                <a:lnTo>
                  <a:pt x="503" y="803"/>
                </a:lnTo>
                <a:lnTo>
                  <a:pt x="501" y="826"/>
                </a:lnTo>
                <a:lnTo>
                  <a:pt x="501" y="847"/>
                </a:lnTo>
                <a:lnTo>
                  <a:pt x="501" y="870"/>
                </a:lnTo>
                <a:lnTo>
                  <a:pt x="499" y="893"/>
                </a:lnTo>
                <a:lnTo>
                  <a:pt x="499" y="918"/>
                </a:lnTo>
                <a:lnTo>
                  <a:pt x="499" y="941"/>
                </a:lnTo>
                <a:lnTo>
                  <a:pt x="497" y="966"/>
                </a:lnTo>
                <a:lnTo>
                  <a:pt x="497" y="993"/>
                </a:lnTo>
                <a:lnTo>
                  <a:pt x="497" y="1019"/>
                </a:lnTo>
                <a:lnTo>
                  <a:pt x="495" y="1044"/>
                </a:lnTo>
                <a:lnTo>
                  <a:pt x="495" y="1073"/>
                </a:lnTo>
                <a:lnTo>
                  <a:pt x="495" y="1100"/>
                </a:lnTo>
                <a:lnTo>
                  <a:pt x="495" y="1129"/>
                </a:lnTo>
                <a:lnTo>
                  <a:pt x="495" y="1158"/>
                </a:lnTo>
                <a:lnTo>
                  <a:pt x="495" y="1188"/>
                </a:lnTo>
                <a:lnTo>
                  <a:pt x="495" y="1219"/>
                </a:lnTo>
                <a:lnTo>
                  <a:pt x="493" y="1250"/>
                </a:lnTo>
                <a:lnTo>
                  <a:pt x="493" y="1281"/>
                </a:lnTo>
                <a:lnTo>
                  <a:pt x="493" y="1313"/>
                </a:lnTo>
                <a:lnTo>
                  <a:pt x="493" y="1346"/>
                </a:lnTo>
                <a:lnTo>
                  <a:pt x="493" y="1378"/>
                </a:lnTo>
                <a:lnTo>
                  <a:pt x="493" y="1409"/>
                </a:lnTo>
                <a:lnTo>
                  <a:pt x="493" y="1440"/>
                </a:lnTo>
                <a:lnTo>
                  <a:pt x="493" y="1470"/>
                </a:lnTo>
                <a:lnTo>
                  <a:pt x="493" y="1499"/>
                </a:lnTo>
                <a:lnTo>
                  <a:pt x="493" y="1528"/>
                </a:lnTo>
                <a:lnTo>
                  <a:pt x="491" y="1557"/>
                </a:lnTo>
                <a:lnTo>
                  <a:pt x="491" y="1584"/>
                </a:lnTo>
                <a:lnTo>
                  <a:pt x="491" y="1611"/>
                </a:lnTo>
                <a:lnTo>
                  <a:pt x="491" y="1636"/>
                </a:lnTo>
                <a:lnTo>
                  <a:pt x="489" y="1660"/>
                </a:lnTo>
                <a:lnTo>
                  <a:pt x="489" y="1685"/>
                </a:lnTo>
                <a:lnTo>
                  <a:pt x="487" y="1708"/>
                </a:lnTo>
                <a:lnTo>
                  <a:pt x="487" y="1732"/>
                </a:lnTo>
                <a:lnTo>
                  <a:pt x="487" y="1755"/>
                </a:lnTo>
                <a:lnTo>
                  <a:pt x="485" y="1776"/>
                </a:lnTo>
                <a:lnTo>
                  <a:pt x="485" y="1797"/>
                </a:lnTo>
                <a:lnTo>
                  <a:pt x="483" y="1816"/>
                </a:lnTo>
                <a:lnTo>
                  <a:pt x="483" y="1837"/>
                </a:lnTo>
                <a:lnTo>
                  <a:pt x="481" y="1854"/>
                </a:lnTo>
                <a:lnTo>
                  <a:pt x="480" y="1874"/>
                </a:lnTo>
                <a:lnTo>
                  <a:pt x="480" y="1891"/>
                </a:lnTo>
                <a:lnTo>
                  <a:pt x="478" y="1906"/>
                </a:lnTo>
                <a:lnTo>
                  <a:pt x="476" y="1921"/>
                </a:lnTo>
                <a:lnTo>
                  <a:pt x="476" y="1937"/>
                </a:lnTo>
                <a:lnTo>
                  <a:pt x="474" y="1952"/>
                </a:lnTo>
                <a:lnTo>
                  <a:pt x="472" y="1966"/>
                </a:lnTo>
                <a:lnTo>
                  <a:pt x="470" y="1977"/>
                </a:lnTo>
                <a:lnTo>
                  <a:pt x="468" y="1991"/>
                </a:lnTo>
                <a:lnTo>
                  <a:pt x="466" y="2000"/>
                </a:lnTo>
                <a:lnTo>
                  <a:pt x="466" y="2012"/>
                </a:lnTo>
                <a:lnTo>
                  <a:pt x="460" y="2031"/>
                </a:lnTo>
                <a:lnTo>
                  <a:pt x="455" y="2050"/>
                </a:lnTo>
                <a:lnTo>
                  <a:pt x="451" y="2067"/>
                </a:lnTo>
                <a:lnTo>
                  <a:pt x="445" y="2083"/>
                </a:lnTo>
                <a:lnTo>
                  <a:pt x="441" y="2098"/>
                </a:lnTo>
                <a:lnTo>
                  <a:pt x="437" y="2111"/>
                </a:lnTo>
                <a:lnTo>
                  <a:pt x="433" y="2125"/>
                </a:lnTo>
                <a:lnTo>
                  <a:pt x="430" y="2136"/>
                </a:lnTo>
                <a:lnTo>
                  <a:pt x="426" y="2146"/>
                </a:lnTo>
                <a:lnTo>
                  <a:pt x="424" y="2154"/>
                </a:lnTo>
                <a:lnTo>
                  <a:pt x="420" y="2161"/>
                </a:lnTo>
                <a:lnTo>
                  <a:pt x="416" y="2167"/>
                </a:lnTo>
                <a:lnTo>
                  <a:pt x="414" y="2173"/>
                </a:lnTo>
                <a:lnTo>
                  <a:pt x="412" y="2177"/>
                </a:lnTo>
                <a:lnTo>
                  <a:pt x="410" y="2179"/>
                </a:lnTo>
                <a:lnTo>
                  <a:pt x="409" y="2179"/>
                </a:lnTo>
                <a:lnTo>
                  <a:pt x="405" y="2179"/>
                </a:lnTo>
                <a:lnTo>
                  <a:pt x="399" y="2175"/>
                </a:lnTo>
                <a:lnTo>
                  <a:pt x="393" y="2171"/>
                </a:lnTo>
                <a:lnTo>
                  <a:pt x="387" y="2163"/>
                </a:lnTo>
                <a:lnTo>
                  <a:pt x="382" y="2156"/>
                </a:lnTo>
                <a:lnTo>
                  <a:pt x="374" y="2146"/>
                </a:lnTo>
                <a:lnTo>
                  <a:pt x="368" y="2135"/>
                </a:lnTo>
                <a:lnTo>
                  <a:pt x="361" y="2119"/>
                </a:lnTo>
                <a:lnTo>
                  <a:pt x="355" y="2102"/>
                </a:lnTo>
                <a:lnTo>
                  <a:pt x="347" y="2087"/>
                </a:lnTo>
                <a:lnTo>
                  <a:pt x="343" y="2071"/>
                </a:lnTo>
                <a:lnTo>
                  <a:pt x="338" y="2058"/>
                </a:lnTo>
                <a:lnTo>
                  <a:pt x="334" y="2046"/>
                </a:lnTo>
                <a:lnTo>
                  <a:pt x="330" y="2035"/>
                </a:lnTo>
                <a:lnTo>
                  <a:pt x="322" y="2012"/>
                </a:lnTo>
                <a:lnTo>
                  <a:pt x="320" y="2006"/>
                </a:lnTo>
                <a:lnTo>
                  <a:pt x="320" y="2000"/>
                </a:lnTo>
                <a:lnTo>
                  <a:pt x="318" y="1993"/>
                </a:lnTo>
                <a:lnTo>
                  <a:pt x="318" y="1985"/>
                </a:lnTo>
                <a:lnTo>
                  <a:pt x="318" y="1977"/>
                </a:lnTo>
                <a:lnTo>
                  <a:pt x="320" y="1969"/>
                </a:lnTo>
                <a:lnTo>
                  <a:pt x="320" y="1960"/>
                </a:lnTo>
                <a:lnTo>
                  <a:pt x="322" y="1950"/>
                </a:lnTo>
                <a:lnTo>
                  <a:pt x="322" y="1941"/>
                </a:lnTo>
                <a:lnTo>
                  <a:pt x="324" y="1931"/>
                </a:lnTo>
                <a:lnTo>
                  <a:pt x="328" y="1920"/>
                </a:lnTo>
                <a:lnTo>
                  <a:pt x="330" y="1908"/>
                </a:lnTo>
                <a:lnTo>
                  <a:pt x="332" y="1895"/>
                </a:lnTo>
                <a:lnTo>
                  <a:pt x="336" y="1881"/>
                </a:lnTo>
                <a:lnTo>
                  <a:pt x="338" y="1868"/>
                </a:lnTo>
                <a:lnTo>
                  <a:pt x="341" y="1854"/>
                </a:lnTo>
                <a:lnTo>
                  <a:pt x="343" y="1839"/>
                </a:lnTo>
                <a:lnTo>
                  <a:pt x="345" y="1822"/>
                </a:lnTo>
                <a:lnTo>
                  <a:pt x="347" y="1803"/>
                </a:lnTo>
                <a:lnTo>
                  <a:pt x="351" y="1783"/>
                </a:lnTo>
                <a:lnTo>
                  <a:pt x="353" y="1762"/>
                </a:lnTo>
                <a:lnTo>
                  <a:pt x="355" y="1741"/>
                </a:lnTo>
                <a:lnTo>
                  <a:pt x="359" y="1716"/>
                </a:lnTo>
                <a:lnTo>
                  <a:pt x="361" y="1691"/>
                </a:lnTo>
                <a:lnTo>
                  <a:pt x="362" y="1664"/>
                </a:lnTo>
                <a:lnTo>
                  <a:pt x="366" y="1637"/>
                </a:lnTo>
                <a:lnTo>
                  <a:pt x="368" y="1609"/>
                </a:lnTo>
                <a:lnTo>
                  <a:pt x="370" y="1578"/>
                </a:lnTo>
                <a:lnTo>
                  <a:pt x="374" y="1545"/>
                </a:lnTo>
                <a:lnTo>
                  <a:pt x="376" y="1511"/>
                </a:lnTo>
                <a:lnTo>
                  <a:pt x="378" y="1476"/>
                </a:lnTo>
                <a:lnTo>
                  <a:pt x="380" y="1440"/>
                </a:lnTo>
                <a:lnTo>
                  <a:pt x="382" y="1405"/>
                </a:lnTo>
                <a:lnTo>
                  <a:pt x="384" y="1367"/>
                </a:lnTo>
                <a:lnTo>
                  <a:pt x="385" y="1328"/>
                </a:lnTo>
                <a:lnTo>
                  <a:pt x="387" y="1288"/>
                </a:lnTo>
                <a:lnTo>
                  <a:pt x="387" y="1246"/>
                </a:lnTo>
                <a:lnTo>
                  <a:pt x="389" y="1202"/>
                </a:lnTo>
                <a:lnTo>
                  <a:pt x="391" y="1158"/>
                </a:lnTo>
                <a:lnTo>
                  <a:pt x="393" y="1112"/>
                </a:lnTo>
                <a:lnTo>
                  <a:pt x="393" y="1064"/>
                </a:lnTo>
                <a:lnTo>
                  <a:pt x="395" y="1014"/>
                </a:lnTo>
                <a:lnTo>
                  <a:pt x="397" y="964"/>
                </a:lnTo>
                <a:lnTo>
                  <a:pt x="397" y="912"/>
                </a:lnTo>
                <a:lnTo>
                  <a:pt x="397" y="858"/>
                </a:lnTo>
                <a:lnTo>
                  <a:pt x="399" y="805"/>
                </a:lnTo>
                <a:lnTo>
                  <a:pt x="399" y="749"/>
                </a:lnTo>
                <a:lnTo>
                  <a:pt x="399" y="693"/>
                </a:lnTo>
                <a:lnTo>
                  <a:pt x="399" y="664"/>
                </a:lnTo>
                <a:lnTo>
                  <a:pt x="399" y="638"/>
                </a:lnTo>
                <a:lnTo>
                  <a:pt x="399" y="611"/>
                </a:lnTo>
                <a:lnTo>
                  <a:pt x="399" y="584"/>
                </a:lnTo>
                <a:lnTo>
                  <a:pt x="399" y="559"/>
                </a:lnTo>
                <a:lnTo>
                  <a:pt x="397" y="534"/>
                </a:lnTo>
                <a:lnTo>
                  <a:pt x="397" y="511"/>
                </a:lnTo>
                <a:lnTo>
                  <a:pt x="397" y="488"/>
                </a:lnTo>
                <a:lnTo>
                  <a:pt x="397" y="467"/>
                </a:lnTo>
                <a:lnTo>
                  <a:pt x="395" y="444"/>
                </a:lnTo>
                <a:lnTo>
                  <a:pt x="395" y="425"/>
                </a:lnTo>
                <a:lnTo>
                  <a:pt x="393" y="403"/>
                </a:lnTo>
                <a:lnTo>
                  <a:pt x="393" y="386"/>
                </a:lnTo>
                <a:lnTo>
                  <a:pt x="393" y="367"/>
                </a:lnTo>
                <a:lnTo>
                  <a:pt x="391" y="350"/>
                </a:lnTo>
                <a:lnTo>
                  <a:pt x="389" y="334"/>
                </a:lnTo>
                <a:lnTo>
                  <a:pt x="389" y="317"/>
                </a:lnTo>
                <a:lnTo>
                  <a:pt x="387" y="304"/>
                </a:lnTo>
                <a:lnTo>
                  <a:pt x="387" y="288"/>
                </a:lnTo>
                <a:lnTo>
                  <a:pt x="385" y="275"/>
                </a:lnTo>
                <a:lnTo>
                  <a:pt x="384" y="263"/>
                </a:lnTo>
                <a:lnTo>
                  <a:pt x="382" y="252"/>
                </a:lnTo>
                <a:lnTo>
                  <a:pt x="380" y="240"/>
                </a:lnTo>
                <a:lnTo>
                  <a:pt x="378" y="231"/>
                </a:lnTo>
                <a:lnTo>
                  <a:pt x="376" y="221"/>
                </a:lnTo>
                <a:lnTo>
                  <a:pt x="374" y="213"/>
                </a:lnTo>
                <a:lnTo>
                  <a:pt x="372" y="206"/>
                </a:lnTo>
                <a:lnTo>
                  <a:pt x="370" y="198"/>
                </a:lnTo>
                <a:lnTo>
                  <a:pt x="368" y="192"/>
                </a:lnTo>
                <a:lnTo>
                  <a:pt x="366" y="189"/>
                </a:lnTo>
                <a:lnTo>
                  <a:pt x="362" y="185"/>
                </a:lnTo>
                <a:lnTo>
                  <a:pt x="361" y="181"/>
                </a:lnTo>
                <a:lnTo>
                  <a:pt x="355" y="175"/>
                </a:lnTo>
                <a:lnTo>
                  <a:pt x="351" y="169"/>
                </a:lnTo>
                <a:lnTo>
                  <a:pt x="347" y="164"/>
                </a:lnTo>
                <a:lnTo>
                  <a:pt x="345" y="160"/>
                </a:lnTo>
                <a:lnTo>
                  <a:pt x="341" y="154"/>
                </a:lnTo>
                <a:lnTo>
                  <a:pt x="339" y="148"/>
                </a:lnTo>
                <a:lnTo>
                  <a:pt x="338" y="142"/>
                </a:lnTo>
                <a:lnTo>
                  <a:pt x="338" y="139"/>
                </a:lnTo>
                <a:lnTo>
                  <a:pt x="336" y="127"/>
                </a:lnTo>
                <a:lnTo>
                  <a:pt x="338" y="119"/>
                </a:lnTo>
                <a:lnTo>
                  <a:pt x="339" y="110"/>
                </a:lnTo>
                <a:lnTo>
                  <a:pt x="341" y="102"/>
                </a:lnTo>
                <a:close/>
                <a:moveTo>
                  <a:pt x="721" y="663"/>
                </a:moveTo>
                <a:lnTo>
                  <a:pt x="739" y="674"/>
                </a:lnTo>
                <a:lnTo>
                  <a:pt x="746" y="680"/>
                </a:lnTo>
                <a:lnTo>
                  <a:pt x="754" y="687"/>
                </a:lnTo>
                <a:lnTo>
                  <a:pt x="762" y="693"/>
                </a:lnTo>
                <a:lnTo>
                  <a:pt x="767" y="699"/>
                </a:lnTo>
                <a:lnTo>
                  <a:pt x="773" y="707"/>
                </a:lnTo>
                <a:lnTo>
                  <a:pt x="779" y="712"/>
                </a:lnTo>
                <a:lnTo>
                  <a:pt x="783" y="718"/>
                </a:lnTo>
                <a:lnTo>
                  <a:pt x="787" y="726"/>
                </a:lnTo>
                <a:lnTo>
                  <a:pt x="790" y="732"/>
                </a:lnTo>
                <a:lnTo>
                  <a:pt x="792" y="737"/>
                </a:lnTo>
                <a:lnTo>
                  <a:pt x="796" y="743"/>
                </a:lnTo>
                <a:lnTo>
                  <a:pt x="796" y="751"/>
                </a:lnTo>
                <a:lnTo>
                  <a:pt x="798" y="757"/>
                </a:lnTo>
                <a:lnTo>
                  <a:pt x="798" y="762"/>
                </a:lnTo>
                <a:lnTo>
                  <a:pt x="798" y="772"/>
                </a:lnTo>
                <a:lnTo>
                  <a:pt x="798" y="782"/>
                </a:lnTo>
                <a:lnTo>
                  <a:pt x="798" y="791"/>
                </a:lnTo>
                <a:lnTo>
                  <a:pt x="796" y="799"/>
                </a:lnTo>
                <a:lnTo>
                  <a:pt x="796" y="805"/>
                </a:lnTo>
                <a:lnTo>
                  <a:pt x="794" y="812"/>
                </a:lnTo>
                <a:lnTo>
                  <a:pt x="792" y="816"/>
                </a:lnTo>
                <a:lnTo>
                  <a:pt x="788" y="820"/>
                </a:lnTo>
                <a:lnTo>
                  <a:pt x="785" y="824"/>
                </a:lnTo>
                <a:lnTo>
                  <a:pt x="781" y="828"/>
                </a:lnTo>
                <a:lnTo>
                  <a:pt x="769" y="833"/>
                </a:lnTo>
                <a:lnTo>
                  <a:pt x="764" y="837"/>
                </a:lnTo>
                <a:lnTo>
                  <a:pt x="760" y="839"/>
                </a:lnTo>
                <a:lnTo>
                  <a:pt x="754" y="839"/>
                </a:lnTo>
                <a:lnTo>
                  <a:pt x="750" y="841"/>
                </a:lnTo>
                <a:lnTo>
                  <a:pt x="742" y="839"/>
                </a:lnTo>
                <a:lnTo>
                  <a:pt x="733" y="837"/>
                </a:lnTo>
                <a:lnTo>
                  <a:pt x="721" y="831"/>
                </a:lnTo>
                <a:lnTo>
                  <a:pt x="710" y="826"/>
                </a:lnTo>
                <a:lnTo>
                  <a:pt x="694" y="818"/>
                </a:lnTo>
                <a:lnTo>
                  <a:pt x="679" y="806"/>
                </a:lnTo>
                <a:lnTo>
                  <a:pt x="671" y="801"/>
                </a:lnTo>
                <a:lnTo>
                  <a:pt x="664" y="795"/>
                </a:lnTo>
                <a:lnTo>
                  <a:pt x="654" y="789"/>
                </a:lnTo>
                <a:lnTo>
                  <a:pt x="646" y="782"/>
                </a:lnTo>
                <a:lnTo>
                  <a:pt x="637" y="776"/>
                </a:lnTo>
                <a:lnTo>
                  <a:pt x="627" y="768"/>
                </a:lnTo>
                <a:lnTo>
                  <a:pt x="618" y="760"/>
                </a:lnTo>
                <a:lnTo>
                  <a:pt x="606" y="753"/>
                </a:lnTo>
                <a:lnTo>
                  <a:pt x="597" y="745"/>
                </a:lnTo>
                <a:lnTo>
                  <a:pt x="585" y="735"/>
                </a:lnTo>
                <a:lnTo>
                  <a:pt x="574" y="726"/>
                </a:lnTo>
                <a:lnTo>
                  <a:pt x="562" y="714"/>
                </a:lnTo>
                <a:lnTo>
                  <a:pt x="551" y="703"/>
                </a:lnTo>
                <a:lnTo>
                  <a:pt x="539" y="691"/>
                </a:lnTo>
                <a:lnTo>
                  <a:pt x="528" y="678"/>
                </a:lnTo>
                <a:lnTo>
                  <a:pt x="514" y="664"/>
                </a:lnTo>
                <a:lnTo>
                  <a:pt x="503" y="651"/>
                </a:lnTo>
                <a:lnTo>
                  <a:pt x="489" y="636"/>
                </a:lnTo>
                <a:lnTo>
                  <a:pt x="478" y="620"/>
                </a:lnTo>
                <a:lnTo>
                  <a:pt x="466" y="605"/>
                </a:lnTo>
                <a:lnTo>
                  <a:pt x="487" y="607"/>
                </a:lnTo>
                <a:lnTo>
                  <a:pt x="510" y="609"/>
                </a:lnTo>
                <a:lnTo>
                  <a:pt x="531" y="611"/>
                </a:lnTo>
                <a:lnTo>
                  <a:pt x="551" y="613"/>
                </a:lnTo>
                <a:lnTo>
                  <a:pt x="570" y="616"/>
                </a:lnTo>
                <a:lnTo>
                  <a:pt x="589" y="618"/>
                </a:lnTo>
                <a:lnTo>
                  <a:pt x="606" y="622"/>
                </a:lnTo>
                <a:lnTo>
                  <a:pt x="622" y="626"/>
                </a:lnTo>
                <a:lnTo>
                  <a:pt x="639" y="630"/>
                </a:lnTo>
                <a:lnTo>
                  <a:pt x="652" y="634"/>
                </a:lnTo>
                <a:lnTo>
                  <a:pt x="666" y="638"/>
                </a:lnTo>
                <a:lnTo>
                  <a:pt x="679" y="643"/>
                </a:lnTo>
                <a:lnTo>
                  <a:pt x="691" y="647"/>
                </a:lnTo>
                <a:lnTo>
                  <a:pt x="702" y="653"/>
                </a:lnTo>
                <a:lnTo>
                  <a:pt x="714" y="657"/>
                </a:lnTo>
                <a:lnTo>
                  <a:pt x="721" y="663"/>
                </a:lnTo>
                <a:close/>
                <a:moveTo>
                  <a:pt x="75" y="1342"/>
                </a:moveTo>
                <a:lnTo>
                  <a:pt x="71" y="1342"/>
                </a:lnTo>
                <a:lnTo>
                  <a:pt x="67" y="1338"/>
                </a:lnTo>
                <a:lnTo>
                  <a:pt x="61" y="1334"/>
                </a:lnTo>
                <a:lnTo>
                  <a:pt x="55" y="1327"/>
                </a:lnTo>
                <a:lnTo>
                  <a:pt x="48" y="1319"/>
                </a:lnTo>
                <a:lnTo>
                  <a:pt x="42" y="1309"/>
                </a:lnTo>
                <a:lnTo>
                  <a:pt x="34" y="1298"/>
                </a:lnTo>
                <a:lnTo>
                  <a:pt x="27" y="1282"/>
                </a:lnTo>
                <a:lnTo>
                  <a:pt x="21" y="1269"/>
                </a:lnTo>
                <a:lnTo>
                  <a:pt x="15" y="1256"/>
                </a:lnTo>
                <a:lnTo>
                  <a:pt x="9" y="1242"/>
                </a:lnTo>
                <a:lnTo>
                  <a:pt x="6" y="1231"/>
                </a:lnTo>
                <a:lnTo>
                  <a:pt x="4" y="1221"/>
                </a:lnTo>
                <a:lnTo>
                  <a:pt x="0" y="1211"/>
                </a:lnTo>
                <a:lnTo>
                  <a:pt x="0" y="1202"/>
                </a:lnTo>
                <a:lnTo>
                  <a:pt x="0" y="1194"/>
                </a:lnTo>
                <a:lnTo>
                  <a:pt x="0" y="1186"/>
                </a:lnTo>
                <a:lnTo>
                  <a:pt x="2" y="1179"/>
                </a:lnTo>
                <a:lnTo>
                  <a:pt x="4" y="1169"/>
                </a:lnTo>
                <a:lnTo>
                  <a:pt x="7" y="1158"/>
                </a:lnTo>
                <a:lnTo>
                  <a:pt x="13" y="1146"/>
                </a:lnTo>
                <a:lnTo>
                  <a:pt x="19" y="1135"/>
                </a:lnTo>
                <a:lnTo>
                  <a:pt x="27" y="1121"/>
                </a:lnTo>
                <a:lnTo>
                  <a:pt x="36" y="1106"/>
                </a:lnTo>
                <a:lnTo>
                  <a:pt x="42" y="1098"/>
                </a:lnTo>
                <a:lnTo>
                  <a:pt x="48" y="1089"/>
                </a:lnTo>
                <a:lnTo>
                  <a:pt x="53" y="1077"/>
                </a:lnTo>
                <a:lnTo>
                  <a:pt x="59" y="1064"/>
                </a:lnTo>
                <a:lnTo>
                  <a:pt x="63" y="1048"/>
                </a:lnTo>
                <a:lnTo>
                  <a:pt x="69" y="1033"/>
                </a:lnTo>
                <a:lnTo>
                  <a:pt x="75" y="1016"/>
                </a:lnTo>
                <a:lnTo>
                  <a:pt x="80" y="996"/>
                </a:lnTo>
                <a:lnTo>
                  <a:pt x="86" y="975"/>
                </a:lnTo>
                <a:lnTo>
                  <a:pt x="94" y="954"/>
                </a:lnTo>
                <a:lnTo>
                  <a:pt x="100" y="931"/>
                </a:lnTo>
                <a:lnTo>
                  <a:pt x="105" y="906"/>
                </a:lnTo>
                <a:lnTo>
                  <a:pt x="111" y="879"/>
                </a:lnTo>
                <a:lnTo>
                  <a:pt x="119" y="851"/>
                </a:lnTo>
                <a:lnTo>
                  <a:pt x="124" y="822"/>
                </a:lnTo>
                <a:lnTo>
                  <a:pt x="132" y="791"/>
                </a:lnTo>
                <a:lnTo>
                  <a:pt x="138" y="791"/>
                </a:lnTo>
                <a:lnTo>
                  <a:pt x="144" y="793"/>
                </a:lnTo>
                <a:lnTo>
                  <a:pt x="148" y="793"/>
                </a:lnTo>
                <a:lnTo>
                  <a:pt x="153" y="797"/>
                </a:lnTo>
                <a:lnTo>
                  <a:pt x="159" y="799"/>
                </a:lnTo>
                <a:lnTo>
                  <a:pt x="163" y="803"/>
                </a:lnTo>
                <a:lnTo>
                  <a:pt x="169" y="806"/>
                </a:lnTo>
                <a:lnTo>
                  <a:pt x="172" y="812"/>
                </a:lnTo>
                <a:lnTo>
                  <a:pt x="176" y="818"/>
                </a:lnTo>
                <a:lnTo>
                  <a:pt x="182" y="824"/>
                </a:lnTo>
                <a:lnTo>
                  <a:pt x="186" y="830"/>
                </a:lnTo>
                <a:lnTo>
                  <a:pt x="188" y="837"/>
                </a:lnTo>
                <a:lnTo>
                  <a:pt x="192" y="845"/>
                </a:lnTo>
                <a:lnTo>
                  <a:pt x="194" y="853"/>
                </a:lnTo>
                <a:lnTo>
                  <a:pt x="197" y="860"/>
                </a:lnTo>
                <a:lnTo>
                  <a:pt x="199" y="870"/>
                </a:lnTo>
                <a:lnTo>
                  <a:pt x="201" y="889"/>
                </a:lnTo>
                <a:lnTo>
                  <a:pt x="203" y="908"/>
                </a:lnTo>
                <a:lnTo>
                  <a:pt x="205" y="929"/>
                </a:lnTo>
                <a:lnTo>
                  <a:pt x="205" y="950"/>
                </a:lnTo>
                <a:lnTo>
                  <a:pt x="205" y="972"/>
                </a:lnTo>
                <a:lnTo>
                  <a:pt x="203" y="993"/>
                </a:lnTo>
                <a:lnTo>
                  <a:pt x="201" y="1016"/>
                </a:lnTo>
                <a:lnTo>
                  <a:pt x="199" y="1037"/>
                </a:lnTo>
                <a:lnTo>
                  <a:pt x="196" y="1062"/>
                </a:lnTo>
                <a:lnTo>
                  <a:pt x="192" y="1087"/>
                </a:lnTo>
                <a:lnTo>
                  <a:pt x="188" y="1112"/>
                </a:lnTo>
                <a:lnTo>
                  <a:pt x="182" y="1135"/>
                </a:lnTo>
                <a:lnTo>
                  <a:pt x="176" y="1160"/>
                </a:lnTo>
                <a:lnTo>
                  <a:pt x="169" y="1185"/>
                </a:lnTo>
                <a:lnTo>
                  <a:pt x="161" y="1208"/>
                </a:lnTo>
                <a:lnTo>
                  <a:pt x="151" y="1234"/>
                </a:lnTo>
                <a:lnTo>
                  <a:pt x="146" y="1246"/>
                </a:lnTo>
                <a:lnTo>
                  <a:pt x="140" y="1259"/>
                </a:lnTo>
                <a:lnTo>
                  <a:pt x="136" y="1269"/>
                </a:lnTo>
                <a:lnTo>
                  <a:pt x="130" y="1281"/>
                </a:lnTo>
                <a:lnTo>
                  <a:pt x="124" y="1290"/>
                </a:lnTo>
                <a:lnTo>
                  <a:pt x="121" y="1298"/>
                </a:lnTo>
                <a:lnTo>
                  <a:pt x="115" y="1307"/>
                </a:lnTo>
                <a:lnTo>
                  <a:pt x="109" y="1313"/>
                </a:lnTo>
                <a:lnTo>
                  <a:pt x="105" y="1321"/>
                </a:lnTo>
                <a:lnTo>
                  <a:pt x="100" y="1327"/>
                </a:lnTo>
                <a:lnTo>
                  <a:pt x="96" y="1330"/>
                </a:lnTo>
                <a:lnTo>
                  <a:pt x="92" y="1334"/>
                </a:lnTo>
                <a:lnTo>
                  <a:pt x="86" y="1338"/>
                </a:lnTo>
                <a:lnTo>
                  <a:pt x="82" y="1340"/>
                </a:lnTo>
                <a:lnTo>
                  <a:pt x="78" y="1342"/>
                </a:lnTo>
                <a:lnTo>
                  <a:pt x="75" y="1342"/>
                </a:lnTo>
                <a:close/>
                <a:moveTo>
                  <a:pt x="1197" y="64"/>
                </a:moveTo>
                <a:lnTo>
                  <a:pt x="1192" y="52"/>
                </a:lnTo>
                <a:lnTo>
                  <a:pt x="1188" y="43"/>
                </a:lnTo>
                <a:lnTo>
                  <a:pt x="1186" y="33"/>
                </a:lnTo>
                <a:lnTo>
                  <a:pt x="1184" y="25"/>
                </a:lnTo>
                <a:lnTo>
                  <a:pt x="1184" y="20"/>
                </a:lnTo>
                <a:lnTo>
                  <a:pt x="1188" y="14"/>
                </a:lnTo>
                <a:lnTo>
                  <a:pt x="1192" y="8"/>
                </a:lnTo>
                <a:lnTo>
                  <a:pt x="1197" y="4"/>
                </a:lnTo>
                <a:lnTo>
                  <a:pt x="1201" y="2"/>
                </a:lnTo>
                <a:lnTo>
                  <a:pt x="1207" y="0"/>
                </a:lnTo>
                <a:lnTo>
                  <a:pt x="1211" y="0"/>
                </a:lnTo>
                <a:lnTo>
                  <a:pt x="1216" y="2"/>
                </a:lnTo>
                <a:lnTo>
                  <a:pt x="1220" y="2"/>
                </a:lnTo>
                <a:lnTo>
                  <a:pt x="1226" y="4"/>
                </a:lnTo>
                <a:lnTo>
                  <a:pt x="1234" y="6"/>
                </a:lnTo>
                <a:lnTo>
                  <a:pt x="1239" y="8"/>
                </a:lnTo>
                <a:lnTo>
                  <a:pt x="1253" y="16"/>
                </a:lnTo>
                <a:lnTo>
                  <a:pt x="1268" y="23"/>
                </a:lnTo>
                <a:lnTo>
                  <a:pt x="1286" y="33"/>
                </a:lnTo>
                <a:lnTo>
                  <a:pt x="1303" y="43"/>
                </a:lnTo>
                <a:lnTo>
                  <a:pt x="1320" y="54"/>
                </a:lnTo>
                <a:lnTo>
                  <a:pt x="1335" y="66"/>
                </a:lnTo>
                <a:lnTo>
                  <a:pt x="1349" y="75"/>
                </a:lnTo>
                <a:lnTo>
                  <a:pt x="1360" y="87"/>
                </a:lnTo>
                <a:lnTo>
                  <a:pt x="1370" y="96"/>
                </a:lnTo>
                <a:lnTo>
                  <a:pt x="1378" y="106"/>
                </a:lnTo>
                <a:lnTo>
                  <a:pt x="1383" y="114"/>
                </a:lnTo>
                <a:lnTo>
                  <a:pt x="1389" y="121"/>
                </a:lnTo>
                <a:lnTo>
                  <a:pt x="1389" y="129"/>
                </a:lnTo>
                <a:lnTo>
                  <a:pt x="1389" y="135"/>
                </a:lnTo>
                <a:lnTo>
                  <a:pt x="1387" y="144"/>
                </a:lnTo>
                <a:lnTo>
                  <a:pt x="1385" y="154"/>
                </a:lnTo>
                <a:lnTo>
                  <a:pt x="1380" y="167"/>
                </a:lnTo>
                <a:lnTo>
                  <a:pt x="1374" y="179"/>
                </a:lnTo>
                <a:lnTo>
                  <a:pt x="1368" y="194"/>
                </a:lnTo>
                <a:lnTo>
                  <a:pt x="1358" y="210"/>
                </a:lnTo>
                <a:lnTo>
                  <a:pt x="1349" y="227"/>
                </a:lnTo>
                <a:lnTo>
                  <a:pt x="1339" y="246"/>
                </a:lnTo>
                <a:lnTo>
                  <a:pt x="1326" y="265"/>
                </a:lnTo>
                <a:lnTo>
                  <a:pt x="1312" y="288"/>
                </a:lnTo>
                <a:lnTo>
                  <a:pt x="1297" y="309"/>
                </a:lnTo>
                <a:lnTo>
                  <a:pt x="1282" y="334"/>
                </a:lnTo>
                <a:lnTo>
                  <a:pt x="1264" y="361"/>
                </a:lnTo>
                <a:lnTo>
                  <a:pt x="1245" y="388"/>
                </a:lnTo>
                <a:lnTo>
                  <a:pt x="1226" y="417"/>
                </a:lnTo>
                <a:lnTo>
                  <a:pt x="1207" y="444"/>
                </a:lnTo>
                <a:lnTo>
                  <a:pt x="1190" y="471"/>
                </a:lnTo>
                <a:lnTo>
                  <a:pt x="1170" y="496"/>
                </a:lnTo>
                <a:lnTo>
                  <a:pt x="1153" y="519"/>
                </a:lnTo>
                <a:lnTo>
                  <a:pt x="1136" y="540"/>
                </a:lnTo>
                <a:lnTo>
                  <a:pt x="1120" y="561"/>
                </a:lnTo>
                <a:lnTo>
                  <a:pt x="1103" y="580"/>
                </a:lnTo>
                <a:lnTo>
                  <a:pt x="1088" y="599"/>
                </a:lnTo>
                <a:lnTo>
                  <a:pt x="1073" y="616"/>
                </a:lnTo>
                <a:lnTo>
                  <a:pt x="1057" y="632"/>
                </a:lnTo>
                <a:lnTo>
                  <a:pt x="1042" y="645"/>
                </a:lnTo>
                <a:lnTo>
                  <a:pt x="1028" y="659"/>
                </a:lnTo>
                <a:lnTo>
                  <a:pt x="1015" y="672"/>
                </a:lnTo>
                <a:lnTo>
                  <a:pt x="1002" y="682"/>
                </a:lnTo>
                <a:lnTo>
                  <a:pt x="988" y="693"/>
                </a:lnTo>
                <a:lnTo>
                  <a:pt x="977" y="701"/>
                </a:lnTo>
                <a:lnTo>
                  <a:pt x="965" y="711"/>
                </a:lnTo>
                <a:lnTo>
                  <a:pt x="954" y="718"/>
                </a:lnTo>
                <a:lnTo>
                  <a:pt x="944" y="724"/>
                </a:lnTo>
                <a:lnTo>
                  <a:pt x="934" y="730"/>
                </a:lnTo>
                <a:lnTo>
                  <a:pt x="927" y="735"/>
                </a:lnTo>
                <a:lnTo>
                  <a:pt x="917" y="741"/>
                </a:lnTo>
                <a:lnTo>
                  <a:pt x="909" y="745"/>
                </a:lnTo>
                <a:lnTo>
                  <a:pt x="904" y="747"/>
                </a:lnTo>
                <a:lnTo>
                  <a:pt x="898" y="751"/>
                </a:lnTo>
                <a:lnTo>
                  <a:pt x="892" y="753"/>
                </a:lnTo>
                <a:lnTo>
                  <a:pt x="886" y="753"/>
                </a:lnTo>
                <a:lnTo>
                  <a:pt x="883" y="755"/>
                </a:lnTo>
                <a:lnTo>
                  <a:pt x="879" y="755"/>
                </a:lnTo>
                <a:lnTo>
                  <a:pt x="877" y="753"/>
                </a:lnTo>
                <a:lnTo>
                  <a:pt x="875" y="751"/>
                </a:lnTo>
                <a:lnTo>
                  <a:pt x="873" y="751"/>
                </a:lnTo>
                <a:lnTo>
                  <a:pt x="873" y="749"/>
                </a:lnTo>
                <a:lnTo>
                  <a:pt x="873" y="747"/>
                </a:lnTo>
                <a:lnTo>
                  <a:pt x="875" y="743"/>
                </a:lnTo>
                <a:lnTo>
                  <a:pt x="877" y="737"/>
                </a:lnTo>
                <a:lnTo>
                  <a:pt x="881" y="732"/>
                </a:lnTo>
                <a:lnTo>
                  <a:pt x="884" y="724"/>
                </a:lnTo>
                <a:lnTo>
                  <a:pt x="888" y="716"/>
                </a:lnTo>
                <a:lnTo>
                  <a:pt x="894" y="707"/>
                </a:lnTo>
                <a:lnTo>
                  <a:pt x="902" y="697"/>
                </a:lnTo>
                <a:lnTo>
                  <a:pt x="909" y="686"/>
                </a:lnTo>
                <a:lnTo>
                  <a:pt x="917" y="672"/>
                </a:lnTo>
                <a:lnTo>
                  <a:pt x="927" y="661"/>
                </a:lnTo>
                <a:lnTo>
                  <a:pt x="936" y="645"/>
                </a:lnTo>
                <a:lnTo>
                  <a:pt x="948" y="630"/>
                </a:lnTo>
                <a:lnTo>
                  <a:pt x="959" y="615"/>
                </a:lnTo>
                <a:lnTo>
                  <a:pt x="984" y="580"/>
                </a:lnTo>
                <a:lnTo>
                  <a:pt x="1009" y="544"/>
                </a:lnTo>
                <a:lnTo>
                  <a:pt x="1034" y="505"/>
                </a:lnTo>
                <a:lnTo>
                  <a:pt x="1059" y="467"/>
                </a:lnTo>
                <a:lnTo>
                  <a:pt x="1082" y="425"/>
                </a:lnTo>
                <a:lnTo>
                  <a:pt x="1107" y="382"/>
                </a:lnTo>
                <a:lnTo>
                  <a:pt x="1117" y="359"/>
                </a:lnTo>
                <a:lnTo>
                  <a:pt x="1128" y="336"/>
                </a:lnTo>
                <a:lnTo>
                  <a:pt x="1140" y="313"/>
                </a:lnTo>
                <a:lnTo>
                  <a:pt x="1151" y="288"/>
                </a:lnTo>
                <a:lnTo>
                  <a:pt x="1159" y="265"/>
                </a:lnTo>
                <a:lnTo>
                  <a:pt x="1167" y="244"/>
                </a:lnTo>
                <a:lnTo>
                  <a:pt x="1174" y="223"/>
                </a:lnTo>
                <a:lnTo>
                  <a:pt x="1180" y="204"/>
                </a:lnTo>
                <a:lnTo>
                  <a:pt x="1186" y="187"/>
                </a:lnTo>
                <a:lnTo>
                  <a:pt x="1192" y="169"/>
                </a:lnTo>
                <a:lnTo>
                  <a:pt x="1195" y="154"/>
                </a:lnTo>
                <a:lnTo>
                  <a:pt x="1199" y="139"/>
                </a:lnTo>
                <a:lnTo>
                  <a:pt x="1201" y="125"/>
                </a:lnTo>
                <a:lnTo>
                  <a:pt x="1203" y="114"/>
                </a:lnTo>
                <a:lnTo>
                  <a:pt x="1205" y="102"/>
                </a:lnTo>
                <a:lnTo>
                  <a:pt x="1205" y="93"/>
                </a:lnTo>
                <a:lnTo>
                  <a:pt x="1205" y="83"/>
                </a:lnTo>
                <a:lnTo>
                  <a:pt x="1203" y="75"/>
                </a:lnTo>
                <a:lnTo>
                  <a:pt x="1201" y="70"/>
                </a:lnTo>
                <a:lnTo>
                  <a:pt x="1197" y="64"/>
                </a:lnTo>
                <a:close/>
                <a:moveTo>
                  <a:pt x="1474" y="379"/>
                </a:moveTo>
                <a:lnTo>
                  <a:pt x="1504" y="371"/>
                </a:lnTo>
                <a:lnTo>
                  <a:pt x="1531" y="363"/>
                </a:lnTo>
                <a:lnTo>
                  <a:pt x="1558" y="357"/>
                </a:lnTo>
                <a:lnTo>
                  <a:pt x="1583" y="352"/>
                </a:lnTo>
                <a:lnTo>
                  <a:pt x="1606" y="346"/>
                </a:lnTo>
                <a:lnTo>
                  <a:pt x="1629" y="342"/>
                </a:lnTo>
                <a:lnTo>
                  <a:pt x="1650" y="336"/>
                </a:lnTo>
                <a:lnTo>
                  <a:pt x="1669" y="332"/>
                </a:lnTo>
                <a:lnTo>
                  <a:pt x="1687" y="331"/>
                </a:lnTo>
                <a:lnTo>
                  <a:pt x="1704" y="327"/>
                </a:lnTo>
                <a:lnTo>
                  <a:pt x="1719" y="325"/>
                </a:lnTo>
                <a:lnTo>
                  <a:pt x="1733" y="323"/>
                </a:lnTo>
                <a:lnTo>
                  <a:pt x="1746" y="321"/>
                </a:lnTo>
                <a:lnTo>
                  <a:pt x="1758" y="319"/>
                </a:lnTo>
                <a:lnTo>
                  <a:pt x="1769" y="319"/>
                </a:lnTo>
                <a:lnTo>
                  <a:pt x="1779" y="319"/>
                </a:lnTo>
                <a:lnTo>
                  <a:pt x="1792" y="319"/>
                </a:lnTo>
                <a:lnTo>
                  <a:pt x="1806" y="319"/>
                </a:lnTo>
                <a:lnTo>
                  <a:pt x="1817" y="319"/>
                </a:lnTo>
                <a:lnTo>
                  <a:pt x="1827" y="319"/>
                </a:lnTo>
                <a:lnTo>
                  <a:pt x="1836" y="321"/>
                </a:lnTo>
                <a:lnTo>
                  <a:pt x="1844" y="323"/>
                </a:lnTo>
                <a:lnTo>
                  <a:pt x="1850" y="325"/>
                </a:lnTo>
                <a:lnTo>
                  <a:pt x="1856" y="329"/>
                </a:lnTo>
                <a:lnTo>
                  <a:pt x="1857" y="332"/>
                </a:lnTo>
                <a:lnTo>
                  <a:pt x="1859" y="338"/>
                </a:lnTo>
                <a:lnTo>
                  <a:pt x="1861" y="342"/>
                </a:lnTo>
                <a:lnTo>
                  <a:pt x="1863" y="348"/>
                </a:lnTo>
                <a:lnTo>
                  <a:pt x="1863" y="359"/>
                </a:lnTo>
                <a:lnTo>
                  <a:pt x="1865" y="363"/>
                </a:lnTo>
                <a:lnTo>
                  <a:pt x="1865" y="367"/>
                </a:lnTo>
                <a:lnTo>
                  <a:pt x="1863" y="375"/>
                </a:lnTo>
                <a:lnTo>
                  <a:pt x="1861" y="382"/>
                </a:lnTo>
                <a:lnTo>
                  <a:pt x="1857" y="390"/>
                </a:lnTo>
                <a:lnTo>
                  <a:pt x="1852" y="396"/>
                </a:lnTo>
                <a:lnTo>
                  <a:pt x="1844" y="402"/>
                </a:lnTo>
                <a:lnTo>
                  <a:pt x="1836" y="407"/>
                </a:lnTo>
                <a:lnTo>
                  <a:pt x="1827" y="413"/>
                </a:lnTo>
                <a:lnTo>
                  <a:pt x="1817" y="417"/>
                </a:lnTo>
                <a:lnTo>
                  <a:pt x="1809" y="421"/>
                </a:lnTo>
                <a:lnTo>
                  <a:pt x="1800" y="425"/>
                </a:lnTo>
                <a:lnTo>
                  <a:pt x="1790" y="428"/>
                </a:lnTo>
                <a:lnTo>
                  <a:pt x="1779" y="432"/>
                </a:lnTo>
                <a:lnTo>
                  <a:pt x="1767" y="436"/>
                </a:lnTo>
                <a:lnTo>
                  <a:pt x="1754" y="440"/>
                </a:lnTo>
                <a:lnTo>
                  <a:pt x="1740" y="444"/>
                </a:lnTo>
                <a:lnTo>
                  <a:pt x="1725" y="446"/>
                </a:lnTo>
                <a:lnTo>
                  <a:pt x="1710" y="450"/>
                </a:lnTo>
                <a:lnTo>
                  <a:pt x="1692" y="453"/>
                </a:lnTo>
                <a:lnTo>
                  <a:pt x="1673" y="457"/>
                </a:lnTo>
                <a:lnTo>
                  <a:pt x="1654" y="461"/>
                </a:lnTo>
                <a:lnTo>
                  <a:pt x="1635" y="465"/>
                </a:lnTo>
                <a:lnTo>
                  <a:pt x="1614" y="469"/>
                </a:lnTo>
                <a:lnTo>
                  <a:pt x="1593" y="473"/>
                </a:lnTo>
                <a:lnTo>
                  <a:pt x="1570" y="476"/>
                </a:lnTo>
                <a:lnTo>
                  <a:pt x="1547" y="480"/>
                </a:lnTo>
                <a:lnTo>
                  <a:pt x="1525" y="484"/>
                </a:lnTo>
                <a:lnTo>
                  <a:pt x="1504" y="486"/>
                </a:lnTo>
                <a:lnTo>
                  <a:pt x="1483" y="490"/>
                </a:lnTo>
                <a:lnTo>
                  <a:pt x="1464" y="492"/>
                </a:lnTo>
                <a:lnTo>
                  <a:pt x="1447" y="496"/>
                </a:lnTo>
                <a:lnTo>
                  <a:pt x="1429" y="497"/>
                </a:lnTo>
                <a:lnTo>
                  <a:pt x="1414" y="499"/>
                </a:lnTo>
                <a:lnTo>
                  <a:pt x="1399" y="501"/>
                </a:lnTo>
                <a:lnTo>
                  <a:pt x="1383" y="503"/>
                </a:lnTo>
                <a:lnTo>
                  <a:pt x="1372" y="505"/>
                </a:lnTo>
                <a:lnTo>
                  <a:pt x="1358" y="507"/>
                </a:lnTo>
                <a:lnTo>
                  <a:pt x="1349" y="509"/>
                </a:lnTo>
                <a:lnTo>
                  <a:pt x="1337" y="511"/>
                </a:lnTo>
                <a:lnTo>
                  <a:pt x="1330" y="513"/>
                </a:lnTo>
                <a:lnTo>
                  <a:pt x="1322" y="515"/>
                </a:lnTo>
                <a:lnTo>
                  <a:pt x="1307" y="519"/>
                </a:lnTo>
                <a:lnTo>
                  <a:pt x="1293" y="519"/>
                </a:lnTo>
                <a:lnTo>
                  <a:pt x="1280" y="519"/>
                </a:lnTo>
                <a:lnTo>
                  <a:pt x="1266" y="517"/>
                </a:lnTo>
                <a:lnTo>
                  <a:pt x="1253" y="513"/>
                </a:lnTo>
                <a:lnTo>
                  <a:pt x="1239" y="509"/>
                </a:lnTo>
                <a:lnTo>
                  <a:pt x="1228" y="503"/>
                </a:lnTo>
                <a:lnTo>
                  <a:pt x="1216" y="496"/>
                </a:lnTo>
                <a:lnTo>
                  <a:pt x="1203" y="492"/>
                </a:lnTo>
                <a:lnTo>
                  <a:pt x="1192" y="486"/>
                </a:lnTo>
                <a:lnTo>
                  <a:pt x="1182" y="480"/>
                </a:lnTo>
                <a:lnTo>
                  <a:pt x="1172" y="474"/>
                </a:lnTo>
                <a:lnTo>
                  <a:pt x="1165" y="469"/>
                </a:lnTo>
                <a:lnTo>
                  <a:pt x="1159" y="461"/>
                </a:lnTo>
                <a:lnTo>
                  <a:pt x="1155" y="453"/>
                </a:lnTo>
                <a:lnTo>
                  <a:pt x="1151" y="448"/>
                </a:lnTo>
                <a:lnTo>
                  <a:pt x="1161" y="444"/>
                </a:lnTo>
                <a:lnTo>
                  <a:pt x="1174" y="442"/>
                </a:lnTo>
                <a:lnTo>
                  <a:pt x="1188" y="440"/>
                </a:lnTo>
                <a:lnTo>
                  <a:pt x="1203" y="436"/>
                </a:lnTo>
                <a:lnTo>
                  <a:pt x="1218" y="432"/>
                </a:lnTo>
                <a:lnTo>
                  <a:pt x="1236" y="428"/>
                </a:lnTo>
                <a:lnTo>
                  <a:pt x="1253" y="425"/>
                </a:lnTo>
                <a:lnTo>
                  <a:pt x="1272" y="419"/>
                </a:lnTo>
                <a:lnTo>
                  <a:pt x="1293" y="415"/>
                </a:lnTo>
                <a:lnTo>
                  <a:pt x="1316" y="409"/>
                </a:lnTo>
                <a:lnTo>
                  <a:pt x="1339" y="405"/>
                </a:lnTo>
                <a:lnTo>
                  <a:pt x="1362" y="400"/>
                </a:lnTo>
                <a:lnTo>
                  <a:pt x="1389" y="394"/>
                </a:lnTo>
                <a:lnTo>
                  <a:pt x="1416" y="388"/>
                </a:lnTo>
                <a:lnTo>
                  <a:pt x="1445" y="382"/>
                </a:lnTo>
                <a:lnTo>
                  <a:pt x="1474" y="379"/>
                </a:lnTo>
                <a:close/>
                <a:moveTo>
                  <a:pt x="1550" y="1766"/>
                </a:moveTo>
                <a:lnTo>
                  <a:pt x="1510" y="1760"/>
                </a:lnTo>
                <a:lnTo>
                  <a:pt x="1472" y="1756"/>
                </a:lnTo>
                <a:lnTo>
                  <a:pt x="1433" y="1751"/>
                </a:lnTo>
                <a:lnTo>
                  <a:pt x="1399" y="1749"/>
                </a:lnTo>
                <a:lnTo>
                  <a:pt x="1364" y="1745"/>
                </a:lnTo>
                <a:lnTo>
                  <a:pt x="1332" y="1743"/>
                </a:lnTo>
                <a:lnTo>
                  <a:pt x="1299" y="1741"/>
                </a:lnTo>
                <a:lnTo>
                  <a:pt x="1270" y="1741"/>
                </a:lnTo>
                <a:lnTo>
                  <a:pt x="1241" y="1739"/>
                </a:lnTo>
                <a:lnTo>
                  <a:pt x="1213" y="1739"/>
                </a:lnTo>
                <a:lnTo>
                  <a:pt x="1188" y="1739"/>
                </a:lnTo>
                <a:lnTo>
                  <a:pt x="1163" y="1741"/>
                </a:lnTo>
                <a:lnTo>
                  <a:pt x="1138" y="1741"/>
                </a:lnTo>
                <a:lnTo>
                  <a:pt x="1117" y="1743"/>
                </a:lnTo>
                <a:lnTo>
                  <a:pt x="1094" y="1743"/>
                </a:lnTo>
                <a:lnTo>
                  <a:pt x="1074" y="1745"/>
                </a:lnTo>
                <a:lnTo>
                  <a:pt x="1055" y="1747"/>
                </a:lnTo>
                <a:lnTo>
                  <a:pt x="1038" y="1751"/>
                </a:lnTo>
                <a:lnTo>
                  <a:pt x="1021" y="1753"/>
                </a:lnTo>
                <a:lnTo>
                  <a:pt x="1003" y="1755"/>
                </a:lnTo>
                <a:lnTo>
                  <a:pt x="990" y="1758"/>
                </a:lnTo>
                <a:lnTo>
                  <a:pt x="975" y="1760"/>
                </a:lnTo>
                <a:lnTo>
                  <a:pt x="963" y="1764"/>
                </a:lnTo>
                <a:lnTo>
                  <a:pt x="950" y="1766"/>
                </a:lnTo>
                <a:lnTo>
                  <a:pt x="940" y="1770"/>
                </a:lnTo>
                <a:lnTo>
                  <a:pt x="929" y="1774"/>
                </a:lnTo>
                <a:lnTo>
                  <a:pt x="919" y="1778"/>
                </a:lnTo>
                <a:lnTo>
                  <a:pt x="911" y="1779"/>
                </a:lnTo>
                <a:lnTo>
                  <a:pt x="904" y="1783"/>
                </a:lnTo>
                <a:lnTo>
                  <a:pt x="896" y="1787"/>
                </a:lnTo>
                <a:lnTo>
                  <a:pt x="890" y="1791"/>
                </a:lnTo>
                <a:lnTo>
                  <a:pt x="884" y="1795"/>
                </a:lnTo>
                <a:lnTo>
                  <a:pt x="873" y="1803"/>
                </a:lnTo>
                <a:lnTo>
                  <a:pt x="863" y="1808"/>
                </a:lnTo>
                <a:lnTo>
                  <a:pt x="852" y="1812"/>
                </a:lnTo>
                <a:lnTo>
                  <a:pt x="842" y="1818"/>
                </a:lnTo>
                <a:lnTo>
                  <a:pt x="833" y="1820"/>
                </a:lnTo>
                <a:lnTo>
                  <a:pt x="823" y="1822"/>
                </a:lnTo>
                <a:lnTo>
                  <a:pt x="815" y="1824"/>
                </a:lnTo>
                <a:lnTo>
                  <a:pt x="808" y="1824"/>
                </a:lnTo>
                <a:lnTo>
                  <a:pt x="800" y="1824"/>
                </a:lnTo>
                <a:lnTo>
                  <a:pt x="794" y="1820"/>
                </a:lnTo>
                <a:lnTo>
                  <a:pt x="787" y="1816"/>
                </a:lnTo>
                <a:lnTo>
                  <a:pt x="779" y="1810"/>
                </a:lnTo>
                <a:lnTo>
                  <a:pt x="771" y="1801"/>
                </a:lnTo>
                <a:lnTo>
                  <a:pt x="765" y="1791"/>
                </a:lnTo>
                <a:lnTo>
                  <a:pt x="758" y="1779"/>
                </a:lnTo>
                <a:lnTo>
                  <a:pt x="750" y="1766"/>
                </a:lnTo>
                <a:lnTo>
                  <a:pt x="744" y="1755"/>
                </a:lnTo>
                <a:lnTo>
                  <a:pt x="739" y="1743"/>
                </a:lnTo>
                <a:lnTo>
                  <a:pt x="735" y="1732"/>
                </a:lnTo>
                <a:lnTo>
                  <a:pt x="731" y="1722"/>
                </a:lnTo>
                <a:lnTo>
                  <a:pt x="729" y="1710"/>
                </a:lnTo>
                <a:lnTo>
                  <a:pt x="729" y="1699"/>
                </a:lnTo>
                <a:lnTo>
                  <a:pt x="729" y="1687"/>
                </a:lnTo>
                <a:lnTo>
                  <a:pt x="731" y="1678"/>
                </a:lnTo>
                <a:lnTo>
                  <a:pt x="733" y="1670"/>
                </a:lnTo>
                <a:lnTo>
                  <a:pt x="733" y="1662"/>
                </a:lnTo>
                <a:lnTo>
                  <a:pt x="737" y="1655"/>
                </a:lnTo>
                <a:lnTo>
                  <a:pt x="741" y="1649"/>
                </a:lnTo>
                <a:lnTo>
                  <a:pt x="744" y="1643"/>
                </a:lnTo>
                <a:lnTo>
                  <a:pt x="752" y="1637"/>
                </a:lnTo>
                <a:lnTo>
                  <a:pt x="760" y="1632"/>
                </a:lnTo>
                <a:lnTo>
                  <a:pt x="769" y="1628"/>
                </a:lnTo>
                <a:lnTo>
                  <a:pt x="781" y="1622"/>
                </a:lnTo>
                <a:lnTo>
                  <a:pt x="790" y="1616"/>
                </a:lnTo>
                <a:lnTo>
                  <a:pt x="802" y="1609"/>
                </a:lnTo>
                <a:lnTo>
                  <a:pt x="813" y="1599"/>
                </a:lnTo>
                <a:lnTo>
                  <a:pt x="823" y="1586"/>
                </a:lnTo>
                <a:lnTo>
                  <a:pt x="835" y="1572"/>
                </a:lnTo>
                <a:lnTo>
                  <a:pt x="844" y="1557"/>
                </a:lnTo>
                <a:lnTo>
                  <a:pt x="850" y="1547"/>
                </a:lnTo>
                <a:lnTo>
                  <a:pt x="856" y="1540"/>
                </a:lnTo>
                <a:lnTo>
                  <a:pt x="861" y="1530"/>
                </a:lnTo>
                <a:lnTo>
                  <a:pt x="867" y="1518"/>
                </a:lnTo>
                <a:lnTo>
                  <a:pt x="873" y="1507"/>
                </a:lnTo>
                <a:lnTo>
                  <a:pt x="879" y="1494"/>
                </a:lnTo>
                <a:lnTo>
                  <a:pt x="884" y="1480"/>
                </a:lnTo>
                <a:lnTo>
                  <a:pt x="890" y="1467"/>
                </a:lnTo>
                <a:lnTo>
                  <a:pt x="898" y="1449"/>
                </a:lnTo>
                <a:lnTo>
                  <a:pt x="904" y="1434"/>
                </a:lnTo>
                <a:lnTo>
                  <a:pt x="911" y="1415"/>
                </a:lnTo>
                <a:lnTo>
                  <a:pt x="917" y="1396"/>
                </a:lnTo>
                <a:lnTo>
                  <a:pt x="925" y="1375"/>
                </a:lnTo>
                <a:lnTo>
                  <a:pt x="932" y="1353"/>
                </a:lnTo>
                <a:lnTo>
                  <a:pt x="938" y="1330"/>
                </a:lnTo>
                <a:lnTo>
                  <a:pt x="946" y="1305"/>
                </a:lnTo>
                <a:lnTo>
                  <a:pt x="954" y="1281"/>
                </a:lnTo>
                <a:lnTo>
                  <a:pt x="959" y="1254"/>
                </a:lnTo>
                <a:lnTo>
                  <a:pt x="967" y="1229"/>
                </a:lnTo>
                <a:lnTo>
                  <a:pt x="973" y="1204"/>
                </a:lnTo>
                <a:lnTo>
                  <a:pt x="978" y="1181"/>
                </a:lnTo>
                <a:lnTo>
                  <a:pt x="984" y="1158"/>
                </a:lnTo>
                <a:lnTo>
                  <a:pt x="990" y="1137"/>
                </a:lnTo>
                <a:lnTo>
                  <a:pt x="994" y="1115"/>
                </a:lnTo>
                <a:lnTo>
                  <a:pt x="1000" y="1094"/>
                </a:lnTo>
                <a:lnTo>
                  <a:pt x="1003" y="1075"/>
                </a:lnTo>
                <a:lnTo>
                  <a:pt x="1005" y="1056"/>
                </a:lnTo>
                <a:lnTo>
                  <a:pt x="1009" y="1039"/>
                </a:lnTo>
                <a:lnTo>
                  <a:pt x="1011" y="1021"/>
                </a:lnTo>
                <a:lnTo>
                  <a:pt x="1013" y="1006"/>
                </a:lnTo>
                <a:lnTo>
                  <a:pt x="1015" y="991"/>
                </a:lnTo>
                <a:lnTo>
                  <a:pt x="1017" y="975"/>
                </a:lnTo>
                <a:lnTo>
                  <a:pt x="1017" y="962"/>
                </a:lnTo>
                <a:lnTo>
                  <a:pt x="1017" y="948"/>
                </a:lnTo>
                <a:lnTo>
                  <a:pt x="1017" y="927"/>
                </a:lnTo>
                <a:lnTo>
                  <a:pt x="1017" y="908"/>
                </a:lnTo>
                <a:lnTo>
                  <a:pt x="1017" y="889"/>
                </a:lnTo>
                <a:lnTo>
                  <a:pt x="1019" y="874"/>
                </a:lnTo>
                <a:lnTo>
                  <a:pt x="1019" y="858"/>
                </a:lnTo>
                <a:lnTo>
                  <a:pt x="1021" y="845"/>
                </a:lnTo>
                <a:lnTo>
                  <a:pt x="1025" y="831"/>
                </a:lnTo>
                <a:lnTo>
                  <a:pt x="1026" y="820"/>
                </a:lnTo>
                <a:lnTo>
                  <a:pt x="1026" y="814"/>
                </a:lnTo>
                <a:lnTo>
                  <a:pt x="1028" y="806"/>
                </a:lnTo>
                <a:lnTo>
                  <a:pt x="1030" y="799"/>
                </a:lnTo>
                <a:lnTo>
                  <a:pt x="1032" y="793"/>
                </a:lnTo>
                <a:lnTo>
                  <a:pt x="1036" y="785"/>
                </a:lnTo>
                <a:lnTo>
                  <a:pt x="1038" y="780"/>
                </a:lnTo>
                <a:lnTo>
                  <a:pt x="1042" y="776"/>
                </a:lnTo>
                <a:lnTo>
                  <a:pt x="1046" y="772"/>
                </a:lnTo>
                <a:lnTo>
                  <a:pt x="1048" y="770"/>
                </a:lnTo>
                <a:lnTo>
                  <a:pt x="1051" y="768"/>
                </a:lnTo>
                <a:lnTo>
                  <a:pt x="1053" y="766"/>
                </a:lnTo>
                <a:lnTo>
                  <a:pt x="1059" y="766"/>
                </a:lnTo>
                <a:lnTo>
                  <a:pt x="1063" y="766"/>
                </a:lnTo>
                <a:lnTo>
                  <a:pt x="1069" y="766"/>
                </a:lnTo>
                <a:lnTo>
                  <a:pt x="1074" y="766"/>
                </a:lnTo>
                <a:lnTo>
                  <a:pt x="1082" y="766"/>
                </a:lnTo>
                <a:lnTo>
                  <a:pt x="1090" y="768"/>
                </a:lnTo>
                <a:lnTo>
                  <a:pt x="1097" y="768"/>
                </a:lnTo>
                <a:lnTo>
                  <a:pt x="1105" y="772"/>
                </a:lnTo>
                <a:lnTo>
                  <a:pt x="1115" y="774"/>
                </a:lnTo>
                <a:lnTo>
                  <a:pt x="1126" y="778"/>
                </a:lnTo>
                <a:lnTo>
                  <a:pt x="1136" y="782"/>
                </a:lnTo>
                <a:lnTo>
                  <a:pt x="1147" y="785"/>
                </a:lnTo>
                <a:lnTo>
                  <a:pt x="1161" y="791"/>
                </a:lnTo>
                <a:lnTo>
                  <a:pt x="1153" y="837"/>
                </a:lnTo>
                <a:lnTo>
                  <a:pt x="1145" y="881"/>
                </a:lnTo>
                <a:lnTo>
                  <a:pt x="1138" y="924"/>
                </a:lnTo>
                <a:lnTo>
                  <a:pt x="1130" y="966"/>
                </a:lnTo>
                <a:lnTo>
                  <a:pt x="1122" y="1008"/>
                </a:lnTo>
                <a:lnTo>
                  <a:pt x="1113" y="1048"/>
                </a:lnTo>
                <a:lnTo>
                  <a:pt x="1105" y="1087"/>
                </a:lnTo>
                <a:lnTo>
                  <a:pt x="1096" y="1125"/>
                </a:lnTo>
                <a:lnTo>
                  <a:pt x="1086" y="1162"/>
                </a:lnTo>
                <a:lnTo>
                  <a:pt x="1076" y="1196"/>
                </a:lnTo>
                <a:lnTo>
                  <a:pt x="1067" y="1233"/>
                </a:lnTo>
                <a:lnTo>
                  <a:pt x="1057" y="1265"/>
                </a:lnTo>
                <a:lnTo>
                  <a:pt x="1048" y="1298"/>
                </a:lnTo>
                <a:lnTo>
                  <a:pt x="1038" y="1330"/>
                </a:lnTo>
                <a:lnTo>
                  <a:pt x="1028" y="1361"/>
                </a:lnTo>
                <a:lnTo>
                  <a:pt x="1017" y="1392"/>
                </a:lnTo>
                <a:lnTo>
                  <a:pt x="1007" y="1421"/>
                </a:lnTo>
                <a:lnTo>
                  <a:pt x="998" y="1447"/>
                </a:lnTo>
                <a:lnTo>
                  <a:pt x="988" y="1472"/>
                </a:lnTo>
                <a:lnTo>
                  <a:pt x="980" y="1495"/>
                </a:lnTo>
                <a:lnTo>
                  <a:pt x="973" y="1517"/>
                </a:lnTo>
                <a:lnTo>
                  <a:pt x="965" y="1536"/>
                </a:lnTo>
                <a:lnTo>
                  <a:pt x="959" y="1553"/>
                </a:lnTo>
                <a:lnTo>
                  <a:pt x="954" y="1570"/>
                </a:lnTo>
                <a:lnTo>
                  <a:pt x="950" y="1584"/>
                </a:lnTo>
                <a:lnTo>
                  <a:pt x="946" y="1597"/>
                </a:lnTo>
                <a:lnTo>
                  <a:pt x="944" y="1609"/>
                </a:lnTo>
                <a:lnTo>
                  <a:pt x="940" y="1616"/>
                </a:lnTo>
                <a:lnTo>
                  <a:pt x="940" y="1624"/>
                </a:lnTo>
                <a:lnTo>
                  <a:pt x="940" y="1630"/>
                </a:lnTo>
                <a:lnTo>
                  <a:pt x="940" y="1636"/>
                </a:lnTo>
                <a:lnTo>
                  <a:pt x="942" y="1637"/>
                </a:lnTo>
                <a:lnTo>
                  <a:pt x="948" y="1645"/>
                </a:lnTo>
                <a:lnTo>
                  <a:pt x="955" y="1651"/>
                </a:lnTo>
                <a:lnTo>
                  <a:pt x="959" y="1653"/>
                </a:lnTo>
                <a:lnTo>
                  <a:pt x="963" y="1655"/>
                </a:lnTo>
                <a:lnTo>
                  <a:pt x="967" y="1657"/>
                </a:lnTo>
                <a:lnTo>
                  <a:pt x="969" y="1657"/>
                </a:lnTo>
                <a:lnTo>
                  <a:pt x="973" y="1657"/>
                </a:lnTo>
                <a:lnTo>
                  <a:pt x="975" y="1657"/>
                </a:lnTo>
                <a:lnTo>
                  <a:pt x="978" y="1657"/>
                </a:lnTo>
                <a:lnTo>
                  <a:pt x="984" y="1655"/>
                </a:lnTo>
                <a:lnTo>
                  <a:pt x="990" y="1655"/>
                </a:lnTo>
                <a:lnTo>
                  <a:pt x="998" y="1653"/>
                </a:lnTo>
                <a:lnTo>
                  <a:pt x="1005" y="1653"/>
                </a:lnTo>
                <a:lnTo>
                  <a:pt x="1015" y="1651"/>
                </a:lnTo>
                <a:lnTo>
                  <a:pt x="1025" y="1649"/>
                </a:lnTo>
                <a:lnTo>
                  <a:pt x="1036" y="1649"/>
                </a:lnTo>
                <a:lnTo>
                  <a:pt x="1049" y="1647"/>
                </a:lnTo>
                <a:lnTo>
                  <a:pt x="1063" y="1645"/>
                </a:lnTo>
                <a:lnTo>
                  <a:pt x="1078" y="1643"/>
                </a:lnTo>
                <a:lnTo>
                  <a:pt x="1096" y="1641"/>
                </a:lnTo>
                <a:lnTo>
                  <a:pt x="1113" y="1639"/>
                </a:lnTo>
                <a:lnTo>
                  <a:pt x="1132" y="1637"/>
                </a:lnTo>
                <a:lnTo>
                  <a:pt x="1151" y="1636"/>
                </a:lnTo>
                <a:lnTo>
                  <a:pt x="1168" y="1634"/>
                </a:lnTo>
                <a:lnTo>
                  <a:pt x="1186" y="1634"/>
                </a:lnTo>
                <a:lnTo>
                  <a:pt x="1203" y="1632"/>
                </a:lnTo>
                <a:lnTo>
                  <a:pt x="1218" y="1632"/>
                </a:lnTo>
                <a:lnTo>
                  <a:pt x="1234" y="1630"/>
                </a:lnTo>
                <a:lnTo>
                  <a:pt x="1247" y="1630"/>
                </a:lnTo>
                <a:lnTo>
                  <a:pt x="1261" y="1628"/>
                </a:lnTo>
                <a:lnTo>
                  <a:pt x="1274" y="1628"/>
                </a:lnTo>
                <a:lnTo>
                  <a:pt x="1286" y="1628"/>
                </a:lnTo>
                <a:lnTo>
                  <a:pt x="1297" y="1628"/>
                </a:lnTo>
                <a:lnTo>
                  <a:pt x="1307" y="1628"/>
                </a:lnTo>
                <a:lnTo>
                  <a:pt x="1316" y="1628"/>
                </a:lnTo>
                <a:lnTo>
                  <a:pt x="1326" y="1628"/>
                </a:lnTo>
                <a:lnTo>
                  <a:pt x="1334" y="1628"/>
                </a:lnTo>
                <a:lnTo>
                  <a:pt x="1341" y="1628"/>
                </a:lnTo>
                <a:lnTo>
                  <a:pt x="1347" y="1628"/>
                </a:lnTo>
                <a:lnTo>
                  <a:pt x="1355" y="1628"/>
                </a:lnTo>
                <a:lnTo>
                  <a:pt x="1364" y="1628"/>
                </a:lnTo>
                <a:lnTo>
                  <a:pt x="1374" y="1628"/>
                </a:lnTo>
                <a:lnTo>
                  <a:pt x="1387" y="1628"/>
                </a:lnTo>
                <a:lnTo>
                  <a:pt x="1401" y="1628"/>
                </a:lnTo>
                <a:lnTo>
                  <a:pt x="1416" y="1628"/>
                </a:lnTo>
                <a:lnTo>
                  <a:pt x="1433" y="1628"/>
                </a:lnTo>
                <a:lnTo>
                  <a:pt x="1452" y="1630"/>
                </a:lnTo>
                <a:lnTo>
                  <a:pt x="1472" y="1630"/>
                </a:lnTo>
                <a:lnTo>
                  <a:pt x="1495" y="1632"/>
                </a:lnTo>
                <a:lnTo>
                  <a:pt x="1518" y="1632"/>
                </a:lnTo>
                <a:lnTo>
                  <a:pt x="1543" y="1634"/>
                </a:lnTo>
                <a:lnTo>
                  <a:pt x="1570" y="1634"/>
                </a:lnTo>
                <a:lnTo>
                  <a:pt x="1596" y="1636"/>
                </a:lnTo>
                <a:lnTo>
                  <a:pt x="1627" y="1637"/>
                </a:lnTo>
                <a:lnTo>
                  <a:pt x="1656" y="1639"/>
                </a:lnTo>
                <a:lnTo>
                  <a:pt x="1685" y="1641"/>
                </a:lnTo>
                <a:lnTo>
                  <a:pt x="1712" y="1645"/>
                </a:lnTo>
                <a:lnTo>
                  <a:pt x="1738" y="1649"/>
                </a:lnTo>
                <a:lnTo>
                  <a:pt x="1763" y="1653"/>
                </a:lnTo>
                <a:lnTo>
                  <a:pt x="1788" y="1657"/>
                </a:lnTo>
                <a:lnTo>
                  <a:pt x="1811" y="1660"/>
                </a:lnTo>
                <a:lnTo>
                  <a:pt x="1832" y="1664"/>
                </a:lnTo>
                <a:lnTo>
                  <a:pt x="1854" y="1670"/>
                </a:lnTo>
                <a:lnTo>
                  <a:pt x="1875" y="1674"/>
                </a:lnTo>
                <a:lnTo>
                  <a:pt x="1892" y="1680"/>
                </a:lnTo>
                <a:lnTo>
                  <a:pt x="1909" y="1684"/>
                </a:lnTo>
                <a:lnTo>
                  <a:pt x="1927" y="1689"/>
                </a:lnTo>
                <a:lnTo>
                  <a:pt x="1942" y="1695"/>
                </a:lnTo>
                <a:lnTo>
                  <a:pt x="1955" y="1701"/>
                </a:lnTo>
                <a:lnTo>
                  <a:pt x="1969" y="1707"/>
                </a:lnTo>
                <a:lnTo>
                  <a:pt x="1980" y="1714"/>
                </a:lnTo>
                <a:lnTo>
                  <a:pt x="1992" y="1720"/>
                </a:lnTo>
                <a:lnTo>
                  <a:pt x="2003" y="1728"/>
                </a:lnTo>
                <a:lnTo>
                  <a:pt x="2013" y="1733"/>
                </a:lnTo>
                <a:lnTo>
                  <a:pt x="2022" y="1741"/>
                </a:lnTo>
                <a:lnTo>
                  <a:pt x="2030" y="1747"/>
                </a:lnTo>
                <a:lnTo>
                  <a:pt x="2040" y="1753"/>
                </a:lnTo>
                <a:lnTo>
                  <a:pt x="2045" y="1760"/>
                </a:lnTo>
                <a:lnTo>
                  <a:pt x="2051" y="1766"/>
                </a:lnTo>
                <a:lnTo>
                  <a:pt x="2057" y="1772"/>
                </a:lnTo>
                <a:lnTo>
                  <a:pt x="2063" y="1778"/>
                </a:lnTo>
                <a:lnTo>
                  <a:pt x="2067" y="1783"/>
                </a:lnTo>
                <a:lnTo>
                  <a:pt x="2069" y="1787"/>
                </a:lnTo>
                <a:lnTo>
                  <a:pt x="2072" y="1793"/>
                </a:lnTo>
                <a:lnTo>
                  <a:pt x="2072" y="1799"/>
                </a:lnTo>
                <a:lnTo>
                  <a:pt x="2074" y="1804"/>
                </a:lnTo>
                <a:lnTo>
                  <a:pt x="2072" y="1810"/>
                </a:lnTo>
                <a:lnTo>
                  <a:pt x="2072" y="1814"/>
                </a:lnTo>
                <a:lnTo>
                  <a:pt x="2070" y="1818"/>
                </a:lnTo>
                <a:lnTo>
                  <a:pt x="2069" y="1822"/>
                </a:lnTo>
                <a:lnTo>
                  <a:pt x="2065" y="1824"/>
                </a:lnTo>
                <a:lnTo>
                  <a:pt x="2061" y="1826"/>
                </a:lnTo>
                <a:lnTo>
                  <a:pt x="2057" y="1827"/>
                </a:lnTo>
                <a:lnTo>
                  <a:pt x="2051" y="1827"/>
                </a:lnTo>
                <a:lnTo>
                  <a:pt x="2045" y="1829"/>
                </a:lnTo>
                <a:lnTo>
                  <a:pt x="2038" y="1827"/>
                </a:lnTo>
                <a:lnTo>
                  <a:pt x="2030" y="1827"/>
                </a:lnTo>
                <a:lnTo>
                  <a:pt x="2021" y="1826"/>
                </a:lnTo>
                <a:lnTo>
                  <a:pt x="2011" y="1824"/>
                </a:lnTo>
                <a:lnTo>
                  <a:pt x="2001" y="1822"/>
                </a:lnTo>
                <a:lnTo>
                  <a:pt x="1990" y="1818"/>
                </a:lnTo>
                <a:lnTo>
                  <a:pt x="1978" y="1814"/>
                </a:lnTo>
                <a:lnTo>
                  <a:pt x="1965" y="1812"/>
                </a:lnTo>
                <a:lnTo>
                  <a:pt x="1950" y="1810"/>
                </a:lnTo>
                <a:lnTo>
                  <a:pt x="1932" y="1808"/>
                </a:lnTo>
                <a:lnTo>
                  <a:pt x="1915" y="1806"/>
                </a:lnTo>
                <a:lnTo>
                  <a:pt x="1894" y="1803"/>
                </a:lnTo>
                <a:lnTo>
                  <a:pt x="1871" y="1801"/>
                </a:lnTo>
                <a:lnTo>
                  <a:pt x="1848" y="1797"/>
                </a:lnTo>
                <a:lnTo>
                  <a:pt x="1821" y="1793"/>
                </a:lnTo>
                <a:lnTo>
                  <a:pt x="1794" y="1791"/>
                </a:lnTo>
                <a:lnTo>
                  <a:pt x="1763" y="1787"/>
                </a:lnTo>
                <a:lnTo>
                  <a:pt x="1733" y="1783"/>
                </a:lnTo>
                <a:lnTo>
                  <a:pt x="1700" y="1779"/>
                </a:lnTo>
                <a:lnTo>
                  <a:pt x="1666" y="1776"/>
                </a:lnTo>
                <a:lnTo>
                  <a:pt x="1629" y="1774"/>
                </a:lnTo>
                <a:lnTo>
                  <a:pt x="1591" y="1770"/>
                </a:lnTo>
                <a:lnTo>
                  <a:pt x="1550" y="1766"/>
                </a:lnTo>
                <a:close/>
                <a:moveTo>
                  <a:pt x="2149" y="1096"/>
                </a:moveTo>
                <a:lnTo>
                  <a:pt x="2178" y="1104"/>
                </a:lnTo>
                <a:lnTo>
                  <a:pt x="2191" y="1108"/>
                </a:lnTo>
                <a:lnTo>
                  <a:pt x="2205" y="1114"/>
                </a:lnTo>
                <a:lnTo>
                  <a:pt x="2218" y="1119"/>
                </a:lnTo>
                <a:lnTo>
                  <a:pt x="2232" y="1127"/>
                </a:lnTo>
                <a:lnTo>
                  <a:pt x="2243" y="1135"/>
                </a:lnTo>
                <a:lnTo>
                  <a:pt x="2255" y="1146"/>
                </a:lnTo>
                <a:lnTo>
                  <a:pt x="2264" y="1156"/>
                </a:lnTo>
                <a:lnTo>
                  <a:pt x="2272" y="1165"/>
                </a:lnTo>
                <a:lnTo>
                  <a:pt x="2280" y="1175"/>
                </a:lnTo>
                <a:lnTo>
                  <a:pt x="2283" y="1183"/>
                </a:lnTo>
                <a:lnTo>
                  <a:pt x="2287" y="1188"/>
                </a:lnTo>
                <a:lnTo>
                  <a:pt x="2291" y="1196"/>
                </a:lnTo>
                <a:lnTo>
                  <a:pt x="2291" y="1200"/>
                </a:lnTo>
                <a:lnTo>
                  <a:pt x="2293" y="1204"/>
                </a:lnTo>
                <a:lnTo>
                  <a:pt x="2291" y="1206"/>
                </a:lnTo>
                <a:lnTo>
                  <a:pt x="2291" y="1208"/>
                </a:lnTo>
                <a:lnTo>
                  <a:pt x="2289" y="1209"/>
                </a:lnTo>
                <a:lnTo>
                  <a:pt x="2287" y="1211"/>
                </a:lnTo>
                <a:lnTo>
                  <a:pt x="2283" y="1213"/>
                </a:lnTo>
                <a:lnTo>
                  <a:pt x="2280" y="1215"/>
                </a:lnTo>
                <a:lnTo>
                  <a:pt x="2274" y="1215"/>
                </a:lnTo>
                <a:lnTo>
                  <a:pt x="2270" y="1217"/>
                </a:lnTo>
                <a:lnTo>
                  <a:pt x="2262" y="1219"/>
                </a:lnTo>
                <a:lnTo>
                  <a:pt x="2257" y="1221"/>
                </a:lnTo>
                <a:lnTo>
                  <a:pt x="2249" y="1221"/>
                </a:lnTo>
                <a:lnTo>
                  <a:pt x="2241" y="1223"/>
                </a:lnTo>
                <a:lnTo>
                  <a:pt x="2232" y="1223"/>
                </a:lnTo>
                <a:lnTo>
                  <a:pt x="2222" y="1225"/>
                </a:lnTo>
                <a:lnTo>
                  <a:pt x="2212" y="1225"/>
                </a:lnTo>
                <a:lnTo>
                  <a:pt x="2201" y="1227"/>
                </a:lnTo>
                <a:lnTo>
                  <a:pt x="2189" y="1227"/>
                </a:lnTo>
                <a:lnTo>
                  <a:pt x="2176" y="1229"/>
                </a:lnTo>
                <a:lnTo>
                  <a:pt x="2163" y="1229"/>
                </a:lnTo>
                <a:lnTo>
                  <a:pt x="2149" y="1231"/>
                </a:lnTo>
                <a:lnTo>
                  <a:pt x="2136" y="1231"/>
                </a:lnTo>
                <a:lnTo>
                  <a:pt x="2120" y="1231"/>
                </a:lnTo>
                <a:lnTo>
                  <a:pt x="2105" y="1233"/>
                </a:lnTo>
                <a:lnTo>
                  <a:pt x="2088" y="1233"/>
                </a:lnTo>
                <a:lnTo>
                  <a:pt x="2070" y="1233"/>
                </a:lnTo>
                <a:lnTo>
                  <a:pt x="2053" y="1233"/>
                </a:lnTo>
                <a:lnTo>
                  <a:pt x="2034" y="1233"/>
                </a:lnTo>
                <a:lnTo>
                  <a:pt x="2015" y="1234"/>
                </a:lnTo>
                <a:lnTo>
                  <a:pt x="1994" y="1234"/>
                </a:lnTo>
                <a:lnTo>
                  <a:pt x="1974" y="1234"/>
                </a:lnTo>
                <a:lnTo>
                  <a:pt x="1953" y="1234"/>
                </a:lnTo>
                <a:lnTo>
                  <a:pt x="1930" y="1234"/>
                </a:lnTo>
                <a:lnTo>
                  <a:pt x="1884" y="1236"/>
                </a:lnTo>
                <a:lnTo>
                  <a:pt x="1842" y="1238"/>
                </a:lnTo>
                <a:lnTo>
                  <a:pt x="1800" y="1240"/>
                </a:lnTo>
                <a:lnTo>
                  <a:pt x="1760" y="1242"/>
                </a:lnTo>
                <a:lnTo>
                  <a:pt x="1721" y="1244"/>
                </a:lnTo>
                <a:lnTo>
                  <a:pt x="1685" y="1246"/>
                </a:lnTo>
                <a:lnTo>
                  <a:pt x="1648" y="1248"/>
                </a:lnTo>
                <a:lnTo>
                  <a:pt x="1616" y="1248"/>
                </a:lnTo>
                <a:lnTo>
                  <a:pt x="1583" y="1250"/>
                </a:lnTo>
                <a:lnTo>
                  <a:pt x="1554" y="1252"/>
                </a:lnTo>
                <a:lnTo>
                  <a:pt x="1525" y="1254"/>
                </a:lnTo>
                <a:lnTo>
                  <a:pt x="1499" y="1256"/>
                </a:lnTo>
                <a:lnTo>
                  <a:pt x="1474" y="1257"/>
                </a:lnTo>
                <a:lnTo>
                  <a:pt x="1451" y="1259"/>
                </a:lnTo>
                <a:lnTo>
                  <a:pt x="1428" y="1261"/>
                </a:lnTo>
                <a:lnTo>
                  <a:pt x="1406" y="1263"/>
                </a:lnTo>
                <a:lnTo>
                  <a:pt x="1387" y="1265"/>
                </a:lnTo>
                <a:lnTo>
                  <a:pt x="1366" y="1267"/>
                </a:lnTo>
                <a:lnTo>
                  <a:pt x="1345" y="1271"/>
                </a:lnTo>
                <a:lnTo>
                  <a:pt x="1322" y="1273"/>
                </a:lnTo>
                <a:lnTo>
                  <a:pt x="1299" y="1275"/>
                </a:lnTo>
                <a:lnTo>
                  <a:pt x="1274" y="1279"/>
                </a:lnTo>
                <a:lnTo>
                  <a:pt x="1249" y="1282"/>
                </a:lnTo>
                <a:lnTo>
                  <a:pt x="1222" y="1286"/>
                </a:lnTo>
                <a:lnTo>
                  <a:pt x="1195" y="1290"/>
                </a:lnTo>
                <a:lnTo>
                  <a:pt x="1168" y="1294"/>
                </a:lnTo>
                <a:lnTo>
                  <a:pt x="1140" y="1298"/>
                </a:lnTo>
                <a:lnTo>
                  <a:pt x="1111" y="1302"/>
                </a:lnTo>
                <a:lnTo>
                  <a:pt x="1082" y="1307"/>
                </a:lnTo>
                <a:lnTo>
                  <a:pt x="1051" y="1311"/>
                </a:lnTo>
                <a:lnTo>
                  <a:pt x="1021" y="1317"/>
                </a:lnTo>
                <a:lnTo>
                  <a:pt x="988" y="1323"/>
                </a:lnTo>
                <a:lnTo>
                  <a:pt x="957" y="1328"/>
                </a:lnTo>
                <a:lnTo>
                  <a:pt x="927" y="1332"/>
                </a:lnTo>
                <a:lnTo>
                  <a:pt x="900" y="1338"/>
                </a:lnTo>
                <a:lnTo>
                  <a:pt x="873" y="1342"/>
                </a:lnTo>
                <a:lnTo>
                  <a:pt x="848" y="1344"/>
                </a:lnTo>
                <a:lnTo>
                  <a:pt x="823" y="1348"/>
                </a:lnTo>
                <a:lnTo>
                  <a:pt x="802" y="1350"/>
                </a:lnTo>
                <a:lnTo>
                  <a:pt x="781" y="1352"/>
                </a:lnTo>
                <a:lnTo>
                  <a:pt x="764" y="1353"/>
                </a:lnTo>
                <a:lnTo>
                  <a:pt x="746" y="1355"/>
                </a:lnTo>
                <a:lnTo>
                  <a:pt x="729" y="1355"/>
                </a:lnTo>
                <a:lnTo>
                  <a:pt x="716" y="1355"/>
                </a:lnTo>
                <a:lnTo>
                  <a:pt x="702" y="1355"/>
                </a:lnTo>
                <a:lnTo>
                  <a:pt x="693" y="1355"/>
                </a:lnTo>
                <a:lnTo>
                  <a:pt x="683" y="1353"/>
                </a:lnTo>
                <a:lnTo>
                  <a:pt x="675" y="1352"/>
                </a:lnTo>
                <a:lnTo>
                  <a:pt x="658" y="1348"/>
                </a:lnTo>
                <a:lnTo>
                  <a:pt x="643" y="1344"/>
                </a:lnTo>
                <a:lnTo>
                  <a:pt x="629" y="1340"/>
                </a:lnTo>
                <a:lnTo>
                  <a:pt x="618" y="1334"/>
                </a:lnTo>
                <a:lnTo>
                  <a:pt x="608" y="1328"/>
                </a:lnTo>
                <a:lnTo>
                  <a:pt x="600" y="1321"/>
                </a:lnTo>
                <a:lnTo>
                  <a:pt x="593" y="1313"/>
                </a:lnTo>
                <a:lnTo>
                  <a:pt x="589" y="1304"/>
                </a:lnTo>
                <a:lnTo>
                  <a:pt x="585" y="1292"/>
                </a:lnTo>
                <a:lnTo>
                  <a:pt x="583" y="1284"/>
                </a:lnTo>
                <a:lnTo>
                  <a:pt x="583" y="1277"/>
                </a:lnTo>
                <a:lnTo>
                  <a:pt x="581" y="1271"/>
                </a:lnTo>
                <a:lnTo>
                  <a:pt x="583" y="1265"/>
                </a:lnTo>
                <a:lnTo>
                  <a:pt x="583" y="1261"/>
                </a:lnTo>
                <a:lnTo>
                  <a:pt x="585" y="1257"/>
                </a:lnTo>
                <a:lnTo>
                  <a:pt x="589" y="1254"/>
                </a:lnTo>
                <a:lnTo>
                  <a:pt x="591" y="1254"/>
                </a:lnTo>
                <a:lnTo>
                  <a:pt x="595" y="1254"/>
                </a:lnTo>
                <a:lnTo>
                  <a:pt x="597" y="1254"/>
                </a:lnTo>
                <a:lnTo>
                  <a:pt x="602" y="1254"/>
                </a:lnTo>
                <a:lnTo>
                  <a:pt x="606" y="1254"/>
                </a:lnTo>
                <a:lnTo>
                  <a:pt x="612" y="1254"/>
                </a:lnTo>
                <a:lnTo>
                  <a:pt x="618" y="1254"/>
                </a:lnTo>
                <a:lnTo>
                  <a:pt x="625" y="1252"/>
                </a:lnTo>
                <a:lnTo>
                  <a:pt x="633" y="1252"/>
                </a:lnTo>
                <a:lnTo>
                  <a:pt x="641" y="1252"/>
                </a:lnTo>
                <a:lnTo>
                  <a:pt x="648" y="1250"/>
                </a:lnTo>
                <a:lnTo>
                  <a:pt x="658" y="1250"/>
                </a:lnTo>
                <a:lnTo>
                  <a:pt x="670" y="1248"/>
                </a:lnTo>
                <a:lnTo>
                  <a:pt x="679" y="1248"/>
                </a:lnTo>
                <a:lnTo>
                  <a:pt x="691" y="1246"/>
                </a:lnTo>
                <a:lnTo>
                  <a:pt x="704" y="1244"/>
                </a:lnTo>
                <a:lnTo>
                  <a:pt x="716" y="1244"/>
                </a:lnTo>
                <a:lnTo>
                  <a:pt x="727" y="1244"/>
                </a:lnTo>
                <a:lnTo>
                  <a:pt x="742" y="1242"/>
                </a:lnTo>
                <a:lnTo>
                  <a:pt x="758" y="1242"/>
                </a:lnTo>
                <a:lnTo>
                  <a:pt x="775" y="1240"/>
                </a:lnTo>
                <a:lnTo>
                  <a:pt x="794" y="1240"/>
                </a:lnTo>
                <a:lnTo>
                  <a:pt x="815" y="1238"/>
                </a:lnTo>
                <a:lnTo>
                  <a:pt x="838" y="1236"/>
                </a:lnTo>
                <a:lnTo>
                  <a:pt x="861" y="1234"/>
                </a:lnTo>
                <a:lnTo>
                  <a:pt x="886" y="1233"/>
                </a:lnTo>
                <a:lnTo>
                  <a:pt x="911" y="1231"/>
                </a:lnTo>
                <a:lnTo>
                  <a:pt x="940" y="1227"/>
                </a:lnTo>
                <a:lnTo>
                  <a:pt x="969" y="1225"/>
                </a:lnTo>
                <a:lnTo>
                  <a:pt x="1000" y="1221"/>
                </a:lnTo>
                <a:lnTo>
                  <a:pt x="1032" y="1217"/>
                </a:lnTo>
                <a:lnTo>
                  <a:pt x="1065" y="1215"/>
                </a:lnTo>
                <a:lnTo>
                  <a:pt x="1201" y="1200"/>
                </a:lnTo>
                <a:lnTo>
                  <a:pt x="1337" y="1183"/>
                </a:lnTo>
                <a:lnTo>
                  <a:pt x="1406" y="1175"/>
                </a:lnTo>
                <a:lnTo>
                  <a:pt x="1476" y="1165"/>
                </a:lnTo>
                <a:lnTo>
                  <a:pt x="1547" y="1156"/>
                </a:lnTo>
                <a:lnTo>
                  <a:pt x="1618" y="1146"/>
                </a:lnTo>
                <a:lnTo>
                  <a:pt x="1650" y="1142"/>
                </a:lnTo>
                <a:lnTo>
                  <a:pt x="1683" y="1138"/>
                </a:lnTo>
                <a:lnTo>
                  <a:pt x="1713" y="1135"/>
                </a:lnTo>
                <a:lnTo>
                  <a:pt x="1742" y="1131"/>
                </a:lnTo>
                <a:lnTo>
                  <a:pt x="1771" y="1127"/>
                </a:lnTo>
                <a:lnTo>
                  <a:pt x="1800" y="1123"/>
                </a:lnTo>
                <a:lnTo>
                  <a:pt x="1825" y="1119"/>
                </a:lnTo>
                <a:lnTo>
                  <a:pt x="1850" y="1117"/>
                </a:lnTo>
                <a:lnTo>
                  <a:pt x="1873" y="1114"/>
                </a:lnTo>
                <a:lnTo>
                  <a:pt x="1896" y="1112"/>
                </a:lnTo>
                <a:lnTo>
                  <a:pt x="1915" y="1108"/>
                </a:lnTo>
                <a:lnTo>
                  <a:pt x="1934" y="1106"/>
                </a:lnTo>
                <a:lnTo>
                  <a:pt x="1953" y="1102"/>
                </a:lnTo>
                <a:lnTo>
                  <a:pt x="1969" y="1100"/>
                </a:lnTo>
                <a:lnTo>
                  <a:pt x="1984" y="1098"/>
                </a:lnTo>
                <a:lnTo>
                  <a:pt x="1998" y="1096"/>
                </a:lnTo>
                <a:lnTo>
                  <a:pt x="2021" y="1092"/>
                </a:lnTo>
                <a:lnTo>
                  <a:pt x="2044" y="1091"/>
                </a:lnTo>
                <a:lnTo>
                  <a:pt x="2065" y="1089"/>
                </a:lnTo>
                <a:lnTo>
                  <a:pt x="2084" y="1089"/>
                </a:lnTo>
                <a:lnTo>
                  <a:pt x="2103" y="1089"/>
                </a:lnTo>
                <a:lnTo>
                  <a:pt x="2118" y="1091"/>
                </a:lnTo>
                <a:lnTo>
                  <a:pt x="2136" y="1092"/>
                </a:lnTo>
                <a:lnTo>
                  <a:pt x="2149" y="1096"/>
                </a:lnTo>
                <a:close/>
                <a:moveTo>
                  <a:pt x="1827" y="1225"/>
                </a:moveTo>
                <a:lnTo>
                  <a:pt x="1823" y="1309"/>
                </a:lnTo>
                <a:lnTo>
                  <a:pt x="1817" y="1392"/>
                </a:lnTo>
                <a:lnTo>
                  <a:pt x="1809" y="1474"/>
                </a:lnTo>
                <a:lnTo>
                  <a:pt x="1802" y="1553"/>
                </a:lnTo>
                <a:lnTo>
                  <a:pt x="1798" y="1593"/>
                </a:lnTo>
                <a:lnTo>
                  <a:pt x="1792" y="1632"/>
                </a:lnTo>
                <a:lnTo>
                  <a:pt x="1786" y="1670"/>
                </a:lnTo>
                <a:lnTo>
                  <a:pt x="1781" y="1708"/>
                </a:lnTo>
                <a:lnTo>
                  <a:pt x="1773" y="1745"/>
                </a:lnTo>
                <a:lnTo>
                  <a:pt x="1765" y="1783"/>
                </a:lnTo>
                <a:lnTo>
                  <a:pt x="1758" y="1818"/>
                </a:lnTo>
                <a:lnTo>
                  <a:pt x="1750" y="1854"/>
                </a:lnTo>
                <a:lnTo>
                  <a:pt x="1740" y="1889"/>
                </a:lnTo>
                <a:lnTo>
                  <a:pt x="1733" y="1921"/>
                </a:lnTo>
                <a:lnTo>
                  <a:pt x="1725" y="1952"/>
                </a:lnTo>
                <a:lnTo>
                  <a:pt x="1715" y="1983"/>
                </a:lnTo>
                <a:lnTo>
                  <a:pt x="1708" y="2012"/>
                </a:lnTo>
                <a:lnTo>
                  <a:pt x="1700" y="2039"/>
                </a:lnTo>
                <a:lnTo>
                  <a:pt x="1692" y="2064"/>
                </a:lnTo>
                <a:lnTo>
                  <a:pt x="1683" y="2088"/>
                </a:lnTo>
                <a:lnTo>
                  <a:pt x="1675" y="2110"/>
                </a:lnTo>
                <a:lnTo>
                  <a:pt x="1667" y="2131"/>
                </a:lnTo>
                <a:lnTo>
                  <a:pt x="1660" y="2150"/>
                </a:lnTo>
                <a:lnTo>
                  <a:pt x="1650" y="2167"/>
                </a:lnTo>
                <a:lnTo>
                  <a:pt x="1642" y="2182"/>
                </a:lnTo>
                <a:lnTo>
                  <a:pt x="1635" y="2196"/>
                </a:lnTo>
                <a:lnTo>
                  <a:pt x="1625" y="2207"/>
                </a:lnTo>
                <a:lnTo>
                  <a:pt x="1618" y="2219"/>
                </a:lnTo>
                <a:lnTo>
                  <a:pt x="1608" y="2227"/>
                </a:lnTo>
                <a:lnTo>
                  <a:pt x="1600" y="2234"/>
                </a:lnTo>
                <a:lnTo>
                  <a:pt x="1593" y="2242"/>
                </a:lnTo>
                <a:lnTo>
                  <a:pt x="1585" y="2250"/>
                </a:lnTo>
                <a:lnTo>
                  <a:pt x="1577" y="2255"/>
                </a:lnTo>
                <a:lnTo>
                  <a:pt x="1571" y="2261"/>
                </a:lnTo>
                <a:lnTo>
                  <a:pt x="1564" y="2267"/>
                </a:lnTo>
                <a:lnTo>
                  <a:pt x="1558" y="2271"/>
                </a:lnTo>
                <a:lnTo>
                  <a:pt x="1552" y="2275"/>
                </a:lnTo>
                <a:lnTo>
                  <a:pt x="1548" y="2278"/>
                </a:lnTo>
                <a:lnTo>
                  <a:pt x="1543" y="2280"/>
                </a:lnTo>
                <a:lnTo>
                  <a:pt x="1537" y="2282"/>
                </a:lnTo>
                <a:lnTo>
                  <a:pt x="1533" y="2284"/>
                </a:lnTo>
                <a:lnTo>
                  <a:pt x="1529" y="2286"/>
                </a:lnTo>
                <a:lnTo>
                  <a:pt x="1525" y="2286"/>
                </a:lnTo>
                <a:lnTo>
                  <a:pt x="1522" y="2286"/>
                </a:lnTo>
                <a:lnTo>
                  <a:pt x="1516" y="2286"/>
                </a:lnTo>
                <a:lnTo>
                  <a:pt x="1512" y="2286"/>
                </a:lnTo>
                <a:lnTo>
                  <a:pt x="1508" y="2284"/>
                </a:lnTo>
                <a:lnTo>
                  <a:pt x="1502" y="2282"/>
                </a:lnTo>
                <a:lnTo>
                  <a:pt x="1500" y="2280"/>
                </a:lnTo>
                <a:lnTo>
                  <a:pt x="1497" y="2278"/>
                </a:lnTo>
                <a:lnTo>
                  <a:pt x="1493" y="2275"/>
                </a:lnTo>
                <a:lnTo>
                  <a:pt x="1491" y="2271"/>
                </a:lnTo>
                <a:lnTo>
                  <a:pt x="1487" y="2267"/>
                </a:lnTo>
                <a:lnTo>
                  <a:pt x="1485" y="2261"/>
                </a:lnTo>
                <a:lnTo>
                  <a:pt x="1483" y="2255"/>
                </a:lnTo>
                <a:lnTo>
                  <a:pt x="1481" y="2250"/>
                </a:lnTo>
                <a:lnTo>
                  <a:pt x="1479" y="2242"/>
                </a:lnTo>
                <a:lnTo>
                  <a:pt x="1477" y="2234"/>
                </a:lnTo>
                <a:lnTo>
                  <a:pt x="1476" y="2227"/>
                </a:lnTo>
                <a:lnTo>
                  <a:pt x="1474" y="2219"/>
                </a:lnTo>
                <a:lnTo>
                  <a:pt x="1472" y="2209"/>
                </a:lnTo>
                <a:lnTo>
                  <a:pt x="1470" y="2200"/>
                </a:lnTo>
                <a:lnTo>
                  <a:pt x="1466" y="2192"/>
                </a:lnTo>
                <a:lnTo>
                  <a:pt x="1462" y="2182"/>
                </a:lnTo>
                <a:lnTo>
                  <a:pt x="1456" y="2175"/>
                </a:lnTo>
                <a:lnTo>
                  <a:pt x="1452" y="2167"/>
                </a:lnTo>
                <a:lnTo>
                  <a:pt x="1447" y="2159"/>
                </a:lnTo>
                <a:lnTo>
                  <a:pt x="1439" y="2152"/>
                </a:lnTo>
                <a:lnTo>
                  <a:pt x="1433" y="2144"/>
                </a:lnTo>
                <a:lnTo>
                  <a:pt x="1426" y="2138"/>
                </a:lnTo>
                <a:lnTo>
                  <a:pt x="1416" y="2131"/>
                </a:lnTo>
                <a:lnTo>
                  <a:pt x="1408" y="2125"/>
                </a:lnTo>
                <a:lnTo>
                  <a:pt x="1399" y="2117"/>
                </a:lnTo>
                <a:lnTo>
                  <a:pt x="1389" y="2111"/>
                </a:lnTo>
                <a:lnTo>
                  <a:pt x="1370" y="2100"/>
                </a:lnTo>
                <a:lnTo>
                  <a:pt x="1358" y="2092"/>
                </a:lnTo>
                <a:lnTo>
                  <a:pt x="1349" y="2087"/>
                </a:lnTo>
                <a:lnTo>
                  <a:pt x="1341" y="2079"/>
                </a:lnTo>
                <a:lnTo>
                  <a:pt x="1332" y="2073"/>
                </a:lnTo>
                <a:lnTo>
                  <a:pt x="1324" y="2065"/>
                </a:lnTo>
                <a:lnTo>
                  <a:pt x="1318" y="2060"/>
                </a:lnTo>
                <a:lnTo>
                  <a:pt x="1310" y="2054"/>
                </a:lnTo>
                <a:lnTo>
                  <a:pt x="1305" y="2048"/>
                </a:lnTo>
                <a:lnTo>
                  <a:pt x="1301" y="2042"/>
                </a:lnTo>
                <a:lnTo>
                  <a:pt x="1295" y="2039"/>
                </a:lnTo>
                <a:lnTo>
                  <a:pt x="1291" y="2033"/>
                </a:lnTo>
                <a:lnTo>
                  <a:pt x="1289" y="2029"/>
                </a:lnTo>
                <a:lnTo>
                  <a:pt x="1287" y="2023"/>
                </a:lnTo>
                <a:lnTo>
                  <a:pt x="1286" y="2019"/>
                </a:lnTo>
                <a:lnTo>
                  <a:pt x="1284" y="2016"/>
                </a:lnTo>
                <a:lnTo>
                  <a:pt x="1284" y="2012"/>
                </a:lnTo>
                <a:lnTo>
                  <a:pt x="1282" y="2010"/>
                </a:lnTo>
                <a:lnTo>
                  <a:pt x="1282" y="2008"/>
                </a:lnTo>
                <a:lnTo>
                  <a:pt x="1284" y="2006"/>
                </a:lnTo>
                <a:lnTo>
                  <a:pt x="1286" y="2006"/>
                </a:lnTo>
                <a:lnTo>
                  <a:pt x="1289" y="2006"/>
                </a:lnTo>
                <a:lnTo>
                  <a:pt x="1293" y="2004"/>
                </a:lnTo>
                <a:lnTo>
                  <a:pt x="1297" y="2004"/>
                </a:lnTo>
                <a:lnTo>
                  <a:pt x="1305" y="2004"/>
                </a:lnTo>
                <a:lnTo>
                  <a:pt x="1310" y="2004"/>
                </a:lnTo>
                <a:lnTo>
                  <a:pt x="1320" y="2004"/>
                </a:lnTo>
                <a:lnTo>
                  <a:pt x="1328" y="2006"/>
                </a:lnTo>
                <a:lnTo>
                  <a:pt x="1339" y="2006"/>
                </a:lnTo>
                <a:lnTo>
                  <a:pt x="1349" y="2006"/>
                </a:lnTo>
                <a:lnTo>
                  <a:pt x="1362" y="2008"/>
                </a:lnTo>
                <a:lnTo>
                  <a:pt x="1374" y="2010"/>
                </a:lnTo>
                <a:lnTo>
                  <a:pt x="1389" y="2012"/>
                </a:lnTo>
                <a:lnTo>
                  <a:pt x="1403" y="2014"/>
                </a:lnTo>
                <a:lnTo>
                  <a:pt x="1416" y="2016"/>
                </a:lnTo>
                <a:lnTo>
                  <a:pt x="1428" y="2016"/>
                </a:lnTo>
                <a:lnTo>
                  <a:pt x="1441" y="2017"/>
                </a:lnTo>
                <a:lnTo>
                  <a:pt x="1452" y="2017"/>
                </a:lnTo>
                <a:lnTo>
                  <a:pt x="1462" y="2017"/>
                </a:lnTo>
                <a:lnTo>
                  <a:pt x="1472" y="2017"/>
                </a:lnTo>
                <a:lnTo>
                  <a:pt x="1483" y="2017"/>
                </a:lnTo>
                <a:lnTo>
                  <a:pt x="1491" y="2017"/>
                </a:lnTo>
                <a:lnTo>
                  <a:pt x="1500" y="2016"/>
                </a:lnTo>
                <a:lnTo>
                  <a:pt x="1508" y="2016"/>
                </a:lnTo>
                <a:lnTo>
                  <a:pt x="1516" y="2014"/>
                </a:lnTo>
                <a:lnTo>
                  <a:pt x="1522" y="2012"/>
                </a:lnTo>
                <a:lnTo>
                  <a:pt x="1529" y="2008"/>
                </a:lnTo>
                <a:lnTo>
                  <a:pt x="1535" y="2006"/>
                </a:lnTo>
                <a:lnTo>
                  <a:pt x="1541" y="2002"/>
                </a:lnTo>
                <a:lnTo>
                  <a:pt x="1547" y="1998"/>
                </a:lnTo>
                <a:lnTo>
                  <a:pt x="1550" y="1993"/>
                </a:lnTo>
                <a:lnTo>
                  <a:pt x="1556" y="1985"/>
                </a:lnTo>
                <a:lnTo>
                  <a:pt x="1562" y="1977"/>
                </a:lnTo>
                <a:lnTo>
                  <a:pt x="1568" y="1968"/>
                </a:lnTo>
                <a:lnTo>
                  <a:pt x="1573" y="1958"/>
                </a:lnTo>
                <a:lnTo>
                  <a:pt x="1577" y="1946"/>
                </a:lnTo>
                <a:lnTo>
                  <a:pt x="1583" y="1933"/>
                </a:lnTo>
                <a:lnTo>
                  <a:pt x="1589" y="1920"/>
                </a:lnTo>
                <a:lnTo>
                  <a:pt x="1595" y="1904"/>
                </a:lnTo>
                <a:lnTo>
                  <a:pt x="1600" y="1889"/>
                </a:lnTo>
                <a:lnTo>
                  <a:pt x="1604" y="1870"/>
                </a:lnTo>
                <a:lnTo>
                  <a:pt x="1610" y="1850"/>
                </a:lnTo>
                <a:lnTo>
                  <a:pt x="1616" y="1829"/>
                </a:lnTo>
                <a:lnTo>
                  <a:pt x="1621" y="1808"/>
                </a:lnTo>
                <a:lnTo>
                  <a:pt x="1627" y="1785"/>
                </a:lnTo>
                <a:lnTo>
                  <a:pt x="1631" y="1760"/>
                </a:lnTo>
                <a:lnTo>
                  <a:pt x="1637" y="1735"/>
                </a:lnTo>
                <a:lnTo>
                  <a:pt x="1642" y="1710"/>
                </a:lnTo>
                <a:lnTo>
                  <a:pt x="1646" y="1685"/>
                </a:lnTo>
                <a:lnTo>
                  <a:pt x="1652" y="1659"/>
                </a:lnTo>
                <a:lnTo>
                  <a:pt x="1658" y="1632"/>
                </a:lnTo>
                <a:lnTo>
                  <a:pt x="1662" y="1605"/>
                </a:lnTo>
                <a:lnTo>
                  <a:pt x="1667" y="1578"/>
                </a:lnTo>
                <a:lnTo>
                  <a:pt x="1671" y="1549"/>
                </a:lnTo>
                <a:lnTo>
                  <a:pt x="1675" y="1520"/>
                </a:lnTo>
                <a:lnTo>
                  <a:pt x="1679" y="1490"/>
                </a:lnTo>
                <a:lnTo>
                  <a:pt x="1683" y="1459"/>
                </a:lnTo>
                <a:lnTo>
                  <a:pt x="1687" y="1428"/>
                </a:lnTo>
                <a:lnTo>
                  <a:pt x="1689" y="1398"/>
                </a:lnTo>
                <a:lnTo>
                  <a:pt x="1690" y="1365"/>
                </a:lnTo>
                <a:lnTo>
                  <a:pt x="1692" y="1332"/>
                </a:lnTo>
                <a:lnTo>
                  <a:pt x="1694" y="1302"/>
                </a:lnTo>
                <a:lnTo>
                  <a:pt x="1696" y="1273"/>
                </a:lnTo>
                <a:lnTo>
                  <a:pt x="1698" y="1244"/>
                </a:lnTo>
                <a:lnTo>
                  <a:pt x="1700" y="1215"/>
                </a:lnTo>
                <a:lnTo>
                  <a:pt x="1702" y="1190"/>
                </a:lnTo>
                <a:lnTo>
                  <a:pt x="1704" y="1165"/>
                </a:lnTo>
                <a:lnTo>
                  <a:pt x="1706" y="1142"/>
                </a:lnTo>
                <a:lnTo>
                  <a:pt x="1708" y="1119"/>
                </a:lnTo>
                <a:lnTo>
                  <a:pt x="1710" y="1098"/>
                </a:lnTo>
                <a:lnTo>
                  <a:pt x="1712" y="1079"/>
                </a:lnTo>
                <a:lnTo>
                  <a:pt x="1712" y="1060"/>
                </a:lnTo>
                <a:lnTo>
                  <a:pt x="1713" y="1043"/>
                </a:lnTo>
                <a:lnTo>
                  <a:pt x="1715" y="1027"/>
                </a:lnTo>
                <a:lnTo>
                  <a:pt x="1717" y="1012"/>
                </a:lnTo>
                <a:lnTo>
                  <a:pt x="1719" y="1000"/>
                </a:lnTo>
                <a:lnTo>
                  <a:pt x="1721" y="989"/>
                </a:lnTo>
                <a:lnTo>
                  <a:pt x="1721" y="966"/>
                </a:lnTo>
                <a:lnTo>
                  <a:pt x="1719" y="947"/>
                </a:lnTo>
                <a:lnTo>
                  <a:pt x="1717" y="929"/>
                </a:lnTo>
                <a:lnTo>
                  <a:pt x="1715" y="914"/>
                </a:lnTo>
                <a:lnTo>
                  <a:pt x="1712" y="901"/>
                </a:lnTo>
                <a:lnTo>
                  <a:pt x="1710" y="889"/>
                </a:lnTo>
                <a:lnTo>
                  <a:pt x="1706" y="877"/>
                </a:lnTo>
                <a:lnTo>
                  <a:pt x="1702" y="870"/>
                </a:lnTo>
                <a:lnTo>
                  <a:pt x="1698" y="862"/>
                </a:lnTo>
                <a:lnTo>
                  <a:pt x="1694" y="856"/>
                </a:lnTo>
                <a:lnTo>
                  <a:pt x="1689" y="851"/>
                </a:lnTo>
                <a:lnTo>
                  <a:pt x="1681" y="847"/>
                </a:lnTo>
                <a:lnTo>
                  <a:pt x="1673" y="843"/>
                </a:lnTo>
                <a:lnTo>
                  <a:pt x="1666" y="837"/>
                </a:lnTo>
                <a:lnTo>
                  <a:pt x="1656" y="833"/>
                </a:lnTo>
                <a:lnTo>
                  <a:pt x="1644" y="831"/>
                </a:lnTo>
                <a:lnTo>
                  <a:pt x="1642" y="831"/>
                </a:lnTo>
                <a:lnTo>
                  <a:pt x="1639" y="831"/>
                </a:lnTo>
                <a:lnTo>
                  <a:pt x="1633" y="831"/>
                </a:lnTo>
                <a:lnTo>
                  <a:pt x="1627" y="831"/>
                </a:lnTo>
                <a:lnTo>
                  <a:pt x="1619" y="831"/>
                </a:lnTo>
                <a:lnTo>
                  <a:pt x="1612" y="833"/>
                </a:lnTo>
                <a:lnTo>
                  <a:pt x="1604" y="833"/>
                </a:lnTo>
                <a:lnTo>
                  <a:pt x="1593" y="833"/>
                </a:lnTo>
                <a:lnTo>
                  <a:pt x="1583" y="835"/>
                </a:lnTo>
                <a:lnTo>
                  <a:pt x="1571" y="835"/>
                </a:lnTo>
                <a:lnTo>
                  <a:pt x="1558" y="837"/>
                </a:lnTo>
                <a:lnTo>
                  <a:pt x="1545" y="837"/>
                </a:lnTo>
                <a:lnTo>
                  <a:pt x="1531" y="839"/>
                </a:lnTo>
                <a:lnTo>
                  <a:pt x="1514" y="841"/>
                </a:lnTo>
                <a:lnTo>
                  <a:pt x="1499" y="843"/>
                </a:lnTo>
                <a:lnTo>
                  <a:pt x="1481" y="843"/>
                </a:lnTo>
                <a:lnTo>
                  <a:pt x="1462" y="845"/>
                </a:lnTo>
                <a:lnTo>
                  <a:pt x="1443" y="847"/>
                </a:lnTo>
                <a:lnTo>
                  <a:pt x="1424" y="849"/>
                </a:lnTo>
                <a:lnTo>
                  <a:pt x="1403" y="851"/>
                </a:lnTo>
                <a:lnTo>
                  <a:pt x="1380" y="853"/>
                </a:lnTo>
                <a:lnTo>
                  <a:pt x="1357" y="854"/>
                </a:lnTo>
                <a:lnTo>
                  <a:pt x="1334" y="856"/>
                </a:lnTo>
                <a:lnTo>
                  <a:pt x="1309" y="858"/>
                </a:lnTo>
                <a:lnTo>
                  <a:pt x="1282" y="862"/>
                </a:lnTo>
                <a:lnTo>
                  <a:pt x="1255" y="864"/>
                </a:lnTo>
                <a:lnTo>
                  <a:pt x="1228" y="866"/>
                </a:lnTo>
                <a:lnTo>
                  <a:pt x="1199" y="870"/>
                </a:lnTo>
                <a:lnTo>
                  <a:pt x="1168" y="872"/>
                </a:lnTo>
                <a:lnTo>
                  <a:pt x="1138" y="874"/>
                </a:lnTo>
                <a:lnTo>
                  <a:pt x="1107" y="877"/>
                </a:lnTo>
                <a:lnTo>
                  <a:pt x="1074" y="879"/>
                </a:lnTo>
                <a:lnTo>
                  <a:pt x="1074" y="791"/>
                </a:lnTo>
                <a:lnTo>
                  <a:pt x="1124" y="791"/>
                </a:lnTo>
                <a:lnTo>
                  <a:pt x="1172" y="789"/>
                </a:lnTo>
                <a:lnTo>
                  <a:pt x="1220" y="787"/>
                </a:lnTo>
                <a:lnTo>
                  <a:pt x="1268" y="783"/>
                </a:lnTo>
                <a:lnTo>
                  <a:pt x="1314" y="780"/>
                </a:lnTo>
                <a:lnTo>
                  <a:pt x="1362" y="774"/>
                </a:lnTo>
                <a:lnTo>
                  <a:pt x="1408" y="768"/>
                </a:lnTo>
                <a:lnTo>
                  <a:pt x="1454" y="762"/>
                </a:lnTo>
                <a:lnTo>
                  <a:pt x="1476" y="758"/>
                </a:lnTo>
                <a:lnTo>
                  <a:pt x="1495" y="755"/>
                </a:lnTo>
                <a:lnTo>
                  <a:pt x="1514" y="751"/>
                </a:lnTo>
                <a:lnTo>
                  <a:pt x="1531" y="747"/>
                </a:lnTo>
                <a:lnTo>
                  <a:pt x="1548" y="743"/>
                </a:lnTo>
                <a:lnTo>
                  <a:pt x="1562" y="739"/>
                </a:lnTo>
                <a:lnTo>
                  <a:pt x="1577" y="735"/>
                </a:lnTo>
                <a:lnTo>
                  <a:pt x="1589" y="732"/>
                </a:lnTo>
                <a:lnTo>
                  <a:pt x="1600" y="728"/>
                </a:lnTo>
                <a:lnTo>
                  <a:pt x="1612" y="724"/>
                </a:lnTo>
                <a:lnTo>
                  <a:pt x="1619" y="720"/>
                </a:lnTo>
                <a:lnTo>
                  <a:pt x="1627" y="716"/>
                </a:lnTo>
                <a:lnTo>
                  <a:pt x="1635" y="714"/>
                </a:lnTo>
                <a:lnTo>
                  <a:pt x="1639" y="711"/>
                </a:lnTo>
                <a:lnTo>
                  <a:pt x="1642" y="707"/>
                </a:lnTo>
                <a:lnTo>
                  <a:pt x="1644" y="703"/>
                </a:lnTo>
                <a:lnTo>
                  <a:pt x="1648" y="695"/>
                </a:lnTo>
                <a:lnTo>
                  <a:pt x="1654" y="689"/>
                </a:lnTo>
                <a:lnTo>
                  <a:pt x="1660" y="684"/>
                </a:lnTo>
                <a:lnTo>
                  <a:pt x="1666" y="680"/>
                </a:lnTo>
                <a:lnTo>
                  <a:pt x="1671" y="678"/>
                </a:lnTo>
                <a:lnTo>
                  <a:pt x="1679" y="674"/>
                </a:lnTo>
                <a:lnTo>
                  <a:pt x="1687" y="674"/>
                </a:lnTo>
                <a:lnTo>
                  <a:pt x="1692" y="672"/>
                </a:lnTo>
                <a:lnTo>
                  <a:pt x="1694" y="674"/>
                </a:lnTo>
                <a:lnTo>
                  <a:pt x="1698" y="678"/>
                </a:lnTo>
                <a:lnTo>
                  <a:pt x="1702" y="680"/>
                </a:lnTo>
                <a:lnTo>
                  <a:pt x="1706" y="682"/>
                </a:lnTo>
                <a:lnTo>
                  <a:pt x="1710" y="686"/>
                </a:lnTo>
                <a:lnTo>
                  <a:pt x="1715" y="687"/>
                </a:lnTo>
                <a:lnTo>
                  <a:pt x="1721" y="691"/>
                </a:lnTo>
                <a:lnTo>
                  <a:pt x="1727" y="695"/>
                </a:lnTo>
                <a:lnTo>
                  <a:pt x="1735" y="699"/>
                </a:lnTo>
                <a:lnTo>
                  <a:pt x="1742" y="703"/>
                </a:lnTo>
                <a:lnTo>
                  <a:pt x="1750" y="707"/>
                </a:lnTo>
                <a:lnTo>
                  <a:pt x="1758" y="711"/>
                </a:lnTo>
                <a:lnTo>
                  <a:pt x="1767" y="716"/>
                </a:lnTo>
                <a:lnTo>
                  <a:pt x="1777" y="722"/>
                </a:lnTo>
                <a:lnTo>
                  <a:pt x="1798" y="732"/>
                </a:lnTo>
                <a:lnTo>
                  <a:pt x="1808" y="739"/>
                </a:lnTo>
                <a:lnTo>
                  <a:pt x="1817" y="745"/>
                </a:lnTo>
                <a:lnTo>
                  <a:pt x="1827" y="753"/>
                </a:lnTo>
                <a:lnTo>
                  <a:pt x="1834" y="758"/>
                </a:lnTo>
                <a:lnTo>
                  <a:pt x="1842" y="764"/>
                </a:lnTo>
                <a:lnTo>
                  <a:pt x="1850" y="768"/>
                </a:lnTo>
                <a:lnTo>
                  <a:pt x="1856" y="774"/>
                </a:lnTo>
                <a:lnTo>
                  <a:pt x="1861" y="778"/>
                </a:lnTo>
                <a:lnTo>
                  <a:pt x="1867" y="782"/>
                </a:lnTo>
                <a:lnTo>
                  <a:pt x="1871" y="785"/>
                </a:lnTo>
                <a:lnTo>
                  <a:pt x="1875" y="789"/>
                </a:lnTo>
                <a:lnTo>
                  <a:pt x="1879" y="791"/>
                </a:lnTo>
                <a:lnTo>
                  <a:pt x="1880" y="795"/>
                </a:lnTo>
                <a:lnTo>
                  <a:pt x="1882" y="797"/>
                </a:lnTo>
                <a:lnTo>
                  <a:pt x="1882" y="799"/>
                </a:lnTo>
                <a:lnTo>
                  <a:pt x="1882" y="801"/>
                </a:lnTo>
                <a:lnTo>
                  <a:pt x="1882" y="805"/>
                </a:lnTo>
                <a:lnTo>
                  <a:pt x="1882" y="810"/>
                </a:lnTo>
                <a:lnTo>
                  <a:pt x="1880" y="814"/>
                </a:lnTo>
                <a:lnTo>
                  <a:pt x="1877" y="820"/>
                </a:lnTo>
                <a:lnTo>
                  <a:pt x="1871" y="831"/>
                </a:lnTo>
                <a:lnTo>
                  <a:pt x="1867" y="835"/>
                </a:lnTo>
                <a:lnTo>
                  <a:pt x="1865" y="841"/>
                </a:lnTo>
                <a:lnTo>
                  <a:pt x="1863" y="843"/>
                </a:lnTo>
                <a:lnTo>
                  <a:pt x="1861" y="845"/>
                </a:lnTo>
                <a:lnTo>
                  <a:pt x="1859" y="849"/>
                </a:lnTo>
                <a:lnTo>
                  <a:pt x="1857" y="853"/>
                </a:lnTo>
                <a:lnTo>
                  <a:pt x="1856" y="858"/>
                </a:lnTo>
                <a:lnTo>
                  <a:pt x="1854" y="862"/>
                </a:lnTo>
                <a:lnTo>
                  <a:pt x="1854" y="868"/>
                </a:lnTo>
                <a:lnTo>
                  <a:pt x="1852" y="876"/>
                </a:lnTo>
                <a:lnTo>
                  <a:pt x="1850" y="883"/>
                </a:lnTo>
                <a:lnTo>
                  <a:pt x="1850" y="891"/>
                </a:lnTo>
                <a:lnTo>
                  <a:pt x="1848" y="899"/>
                </a:lnTo>
                <a:lnTo>
                  <a:pt x="1846" y="908"/>
                </a:lnTo>
                <a:lnTo>
                  <a:pt x="1846" y="918"/>
                </a:lnTo>
                <a:lnTo>
                  <a:pt x="1844" y="927"/>
                </a:lnTo>
                <a:lnTo>
                  <a:pt x="1842" y="939"/>
                </a:lnTo>
                <a:lnTo>
                  <a:pt x="1842" y="950"/>
                </a:lnTo>
                <a:lnTo>
                  <a:pt x="1840" y="964"/>
                </a:lnTo>
                <a:lnTo>
                  <a:pt x="1840" y="975"/>
                </a:lnTo>
                <a:lnTo>
                  <a:pt x="1838" y="991"/>
                </a:lnTo>
                <a:lnTo>
                  <a:pt x="1836" y="1004"/>
                </a:lnTo>
                <a:lnTo>
                  <a:pt x="1836" y="1019"/>
                </a:lnTo>
                <a:lnTo>
                  <a:pt x="1834" y="1035"/>
                </a:lnTo>
                <a:lnTo>
                  <a:pt x="1834" y="1050"/>
                </a:lnTo>
                <a:lnTo>
                  <a:pt x="1832" y="1067"/>
                </a:lnTo>
                <a:lnTo>
                  <a:pt x="1832" y="1085"/>
                </a:lnTo>
                <a:lnTo>
                  <a:pt x="1831" y="1102"/>
                </a:lnTo>
                <a:lnTo>
                  <a:pt x="1831" y="1121"/>
                </a:lnTo>
                <a:lnTo>
                  <a:pt x="1829" y="1140"/>
                </a:lnTo>
                <a:lnTo>
                  <a:pt x="1829" y="1160"/>
                </a:lnTo>
                <a:lnTo>
                  <a:pt x="1829" y="1181"/>
                </a:lnTo>
                <a:lnTo>
                  <a:pt x="1827" y="1202"/>
                </a:lnTo>
                <a:lnTo>
                  <a:pt x="1827" y="1225"/>
                </a:lnTo>
                <a:close/>
                <a:moveTo>
                  <a:pt x="1293" y="910"/>
                </a:moveTo>
                <a:lnTo>
                  <a:pt x="1297" y="906"/>
                </a:lnTo>
                <a:lnTo>
                  <a:pt x="1305" y="906"/>
                </a:lnTo>
                <a:lnTo>
                  <a:pt x="1312" y="906"/>
                </a:lnTo>
                <a:lnTo>
                  <a:pt x="1322" y="908"/>
                </a:lnTo>
                <a:lnTo>
                  <a:pt x="1334" y="914"/>
                </a:lnTo>
                <a:lnTo>
                  <a:pt x="1347" y="920"/>
                </a:lnTo>
                <a:lnTo>
                  <a:pt x="1362" y="929"/>
                </a:lnTo>
                <a:lnTo>
                  <a:pt x="1380" y="939"/>
                </a:lnTo>
                <a:lnTo>
                  <a:pt x="1395" y="950"/>
                </a:lnTo>
                <a:lnTo>
                  <a:pt x="1403" y="956"/>
                </a:lnTo>
                <a:lnTo>
                  <a:pt x="1410" y="962"/>
                </a:lnTo>
                <a:lnTo>
                  <a:pt x="1418" y="966"/>
                </a:lnTo>
                <a:lnTo>
                  <a:pt x="1424" y="972"/>
                </a:lnTo>
                <a:lnTo>
                  <a:pt x="1429" y="977"/>
                </a:lnTo>
                <a:lnTo>
                  <a:pt x="1435" y="983"/>
                </a:lnTo>
                <a:lnTo>
                  <a:pt x="1439" y="989"/>
                </a:lnTo>
                <a:lnTo>
                  <a:pt x="1443" y="995"/>
                </a:lnTo>
                <a:lnTo>
                  <a:pt x="1447" y="1000"/>
                </a:lnTo>
                <a:lnTo>
                  <a:pt x="1451" y="1006"/>
                </a:lnTo>
                <a:lnTo>
                  <a:pt x="1452" y="1010"/>
                </a:lnTo>
                <a:lnTo>
                  <a:pt x="1454" y="1016"/>
                </a:lnTo>
                <a:lnTo>
                  <a:pt x="1454" y="1021"/>
                </a:lnTo>
                <a:lnTo>
                  <a:pt x="1454" y="1027"/>
                </a:lnTo>
                <a:lnTo>
                  <a:pt x="1454" y="1041"/>
                </a:lnTo>
                <a:lnTo>
                  <a:pt x="1452" y="1054"/>
                </a:lnTo>
                <a:lnTo>
                  <a:pt x="1451" y="1067"/>
                </a:lnTo>
                <a:lnTo>
                  <a:pt x="1449" y="1077"/>
                </a:lnTo>
                <a:lnTo>
                  <a:pt x="1447" y="1087"/>
                </a:lnTo>
                <a:lnTo>
                  <a:pt x="1443" y="1094"/>
                </a:lnTo>
                <a:lnTo>
                  <a:pt x="1439" y="1102"/>
                </a:lnTo>
                <a:lnTo>
                  <a:pt x="1435" y="1106"/>
                </a:lnTo>
                <a:lnTo>
                  <a:pt x="1429" y="1112"/>
                </a:lnTo>
                <a:lnTo>
                  <a:pt x="1422" y="1117"/>
                </a:lnTo>
                <a:lnTo>
                  <a:pt x="1414" y="1119"/>
                </a:lnTo>
                <a:lnTo>
                  <a:pt x="1406" y="1121"/>
                </a:lnTo>
                <a:lnTo>
                  <a:pt x="1401" y="1119"/>
                </a:lnTo>
                <a:lnTo>
                  <a:pt x="1393" y="1117"/>
                </a:lnTo>
                <a:lnTo>
                  <a:pt x="1385" y="1112"/>
                </a:lnTo>
                <a:lnTo>
                  <a:pt x="1380" y="1106"/>
                </a:lnTo>
                <a:lnTo>
                  <a:pt x="1376" y="1104"/>
                </a:lnTo>
                <a:lnTo>
                  <a:pt x="1372" y="1100"/>
                </a:lnTo>
                <a:lnTo>
                  <a:pt x="1368" y="1098"/>
                </a:lnTo>
                <a:lnTo>
                  <a:pt x="1364" y="1092"/>
                </a:lnTo>
                <a:lnTo>
                  <a:pt x="1360" y="1089"/>
                </a:lnTo>
                <a:lnTo>
                  <a:pt x="1357" y="1083"/>
                </a:lnTo>
                <a:lnTo>
                  <a:pt x="1355" y="1077"/>
                </a:lnTo>
                <a:lnTo>
                  <a:pt x="1351" y="1069"/>
                </a:lnTo>
                <a:lnTo>
                  <a:pt x="1347" y="1064"/>
                </a:lnTo>
                <a:lnTo>
                  <a:pt x="1343" y="1056"/>
                </a:lnTo>
                <a:lnTo>
                  <a:pt x="1339" y="1046"/>
                </a:lnTo>
                <a:lnTo>
                  <a:pt x="1335" y="1039"/>
                </a:lnTo>
                <a:lnTo>
                  <a:pt x="1332" y="1029"/>
                </a:lnTo>
                <a:lnTo>
                  <a:pt x="1328" y="1019"/>
                </a:lnTo>
                <a:lnTo>
                  <a:pt x="1326" y="1008"/>
                </a:lnTo>
                <a:lnTo>
                  <a:pt x="1322" y="998"/>
                </a:lnTo>
                <a:lnTo>
                  <a:pt x="1316" y="987"/>
                </a:lnTo>
                <a:lnTo>
                  <a:pt x="1312" y="977"/>
                </a:lnTo>
                <a:lnTo>
                  <a:pt x="1309" y="968"/>
                </a:lnTo>
                <a:lnTo>
                  <a:pt x="1305" y="958"/>
                </a:lnTo>
                <a:lnTo>
                  <a:pt x="1301" y="950"/>
                </a:lnTo>
                <a:lnTo>
                  <a:pt x="1297" y="943"/>
                </a:lnTo>
                <a:lnTo>
                  <a:pt x="1295" y="937"/>
                </a:lnTo>
                <a:lnTo>
                  <a:pt x="1293" y="931"/>
                </a:lnTo>
                <a:lnTo>
                  <a:pt x="1291" y="925"/>
                </a:lnTo>
                <a:lnTo>
                  <a:pt x="1291" y="922"/>
                </a:lnTo>
                <a:lnTo>
                  <a:pt x="1289" y="918"/>
                </a:lnTo>
                <a:lnTo>
                  <a:pt x="1289" y="914"/>
                </a:lnTo>
                <a:lnTo>
                  <a:pt x="1289" y="912"/>
                </a:lnTo>
                <a:lnTo>
                  <a:pt x="1291" y="910"/>
                </a:lnTo>
                <a:lnTo>
                  <a:pt x="1293" y="910"/>
                </a:lnTo>
                <a:close/>
                <a:moveTo>
                  <a:pt x="1389" y="1461"/>
                </a:moveTo>
                <a:lnTo>
                  <a:pt x="1391" y="1478"/>
                </a:lnTo>
                <a:lnTo>
                  <a:pt x="1393" y="1494"/>
                </a:lnTo>
                <a:lnTo>
                  <a:pt x="1393" y="1507"/>
                </a:lnTo>
                <a:lnTo>
                  <a:pt x="1393" y="1518"/>
                </a:lnTo>
                <a:lnTo>
                  <a:pt x="1391" y="1524"/>
                </a:lnTo>
                <a:lnTo>
                  <a:pt x="1391" y="1530"/>
                </a:lnTo>
                <a:lnTo>
                  <a:pt x="1389" y="1534"/>
                </a:lnTo>
                <a:lnTo>
                  <a:pt x="1385" y="1538"/>
                </a:lnTo>
                <a:lnTo>
                  <a:pt x="1381" y="1542"/>
                </a:lnTo>
                <a:lnTo>
                  <a:pt x="1380" y="1543"/>
                </a:lnTo>
                <a:lnTo>
                  <a:pt x="1374" y="1547"/>
                </a:lnTo>
                <a:lnTo>
                  <a:pt x="1370" y="1549"/>
                </a:lnTo>
                <a:lnTo>
                  <a:pt x="1364" y="1553"/>
                </a:lnTo>
                <a:lnTo>
                  <a:pt x="1358" y="1555"/>
                </a:lnTo>
                <a:lnTo>
                  <a:pt x="1355" y="1557"/>
                </a:lnTo>
                <a:lnTo>
                  <a:pt x="1349" y="1559"/>
                </a:lnTo>
                <a:lnTo>
                  <a:pt x="1345" y="1559"/>
                </a:lnTo>
                <a:lnTo>
                  <a:pt x="1339" y="1559"/>
                </a:lnTo>
                <a:lnTo>
                  <a:pt x="1335" y="1557"/>
                </a:lnTo>
                <a:lnTo>
                  <a:pt x="1332" y="1555"/>
                </a:lnTo>
                <a:lnTo>
                  <a:pt x="1326" y="1553"/>
                </a:lnTo>
                <a:lnTo>
                  <a:pt x="1322" y="1549"/>
                </a:lnTo>
                <a:lnTo>
                  <a:pt x="1318" y="1545"/>
                </a:lnTo>
                <a:lnTo>
                  <a:pt x="1312" y="1540"/>
                </a:lnTo>
                <a:lnTo>
                  <a:pt x="1309" y="1534"/>
                </a:lnTo>
                <a:lnTo>
                  <a:pt x="1303" y="1526"/>
                </a:lnTo>
                <a:lnTo>
                  <a:pt x="1299" y="1518"/>
                </a:lnTo>
                <a:lnTo>
                  <a:pt x="1293" y="1509"/>
                </a:lnTo>
                <a:lnTo>
                  <a:pt x="1284" y="1495"/>
                </a:lnTo>
                <a:lnTo>
                  <a:pt x="1276" y="1482"/>
                </a:lnTo>
                <a:lnTo>
                  <a:pt x="1268" y="1469"/>
                </a:lnTo>
                <a:lnTo>
                  <a:pt x="1263" y="1457"/>
                </a:lnTo>
                <a:lnTo>
                  <a:pt x="1257" y="1446"/>
                </a:lnTo>
                <a:lnTo>
                  <a:pt x="1253" y="1434"/>
                </a:lnTo>
                <a:lnTo>
                  <a:pt x="1245" y="1411"/>
                </a:lnTo>
                <a:lnTo>
                  <a:pt x="1243" y="1399"/>
                </a:lnTo>
                <a:lnTo>
                  <a:pt x="1239" y="1390"/>
                </a:lnTo>
                <a:lnTo>
                  <a:pt x="1239" y="1382"/>
                </a:lnTo>
                <a:lnTo>
                  <a:pt x="1238" y="1375"/>
                </a:lnTo>
                <a:lnTo>
                  <a:pt x="1239" y="1367"/>
                </a:lnTo>
                <a:lnTo>
                  <a:pt x="1239" y="1361"/>
                </a:lnTo>
                <a:lnTo>
                  <a:pt x="1243" y="1355"/>
                </a:lnTo>
                <a:lnTo>
                  <a:pt x="1245" y="1352"/>
                </a:lnTo>
                <a:lnTo>
                  <a:pt x="1249" y="1350"/>
                </a:lnTo>
                <a:lnTo>
                  <a:pt x="1255" y="1348"/>
                </a:lnTo>
                <a:lnTo>
                  <a:pt x="1261" y="1348"/>
                </a:lnTo>
                <a:lnTo>
                  <a:pt x="1270" y="1350"/>
                </a:lnTo>
                <a:lnTo>
                  <a:pt x="1274" y="1350"/>
                </a:lnTo>
                <a:lnTo>
                  <a:pt x="1280" y="1352"/>
                </a:lnTo>
                <a:lnTo>
                  <a:pt x="1286" y="1353"/>
                </a:lnTo>
                <a:lnTo>
                  <a:pt x="1291" y="1355"/>
                </a:lnTo>
                <a:lnTo>
                  <a:pt x="1297" y="1357"/>
                </a:lnTo>
                <a:lnTo>
                  <a:pt x="1305" y="1357"/>
                </a:lnTo>
                <a:lnTo>
                  <a:pt x="1312" y="1359"/>
                </a:lnTo>
                <a:lnTo>
                  <a:pt x="1322" y="1361"/>
                </a:lnTo>
                <a:lnTo>
                  <a:pt x="1335" y="1371"/>
                </a:lnTo>
                <a:lnTo>
                  <a:pt x="1347" y="1378"/>
                </a:lnTo>
                <a:lnTo>
                  <a:pt x="1357" y="1388"/>
                </a:lnTo>
                <a:lnTo>
                  <a:pt x="1366" y="1399"/>
                </a:lnTo>
                <a:lnTo>
                  <a:pt x="1374" y="1413"/>
                </a:lnTo>
                <a:lnTo>
                  <a:pt x="1380" y="1426"/>
                </a:lnTo>
                <a:lnTo>
                  <a:pt x="1383" y="1444"/>
                </a:lnTo>
                <a:lnTo>
                  <a:pt x="1389" y="14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/>
          <p:cNvSpPr/>
          <p:nvPr/>
        </p:nvSpPr>
        <p:spPr>
          <a:xfrm>
            <a:off x="2162160" y="2365200"/>
            <a:ext cx="187200" cy="1660680"/>
          </a:xfrm>
          <a:custGeom>
            <a:avLst/>
            <a:gdLst/>
            <a:ahLst/>
            <a:rect l="l" t="t" r="r" b="b"/>
            <a:pathLst>
              <a:path w="236" h="2092">
                <a:moveTo>
                  <a:pt x="23" y="15"/>
                </a:moveTo>
                <a:lnTo>
                  <a:pt x="25" y="11"/>
                </a:lnTo>
                <a:lnTo>
                  <a:pt x="29" y="9"/>
                </a:lnTo>
                <a:lnTo>
                  <a:pt x="31" y="6"/>
                </a:lnTo>
                <a:lnTo>
                  <a:pt x="35" y="4"/>
                </a:lnTo>
                <a:lnTo>
                  <a:pt x="41" y="2"/>
                </a:lnTo>
                <a:lnTo>
                  <a:pt x="44" y="2"/>
                </a:lnTo>
                <a:lnTo>
                  <a:pt x="50" y="0"/>
                </a:lnTo>
                <a:lnTo>
                  <a:pt x="56" y="0"/>
                </a:lnTo>
                <a:lnTo>
                  <a:pt x="69" y="2"/>
                </a:lnTo>
                <a:lnTo>
                  <a:pt x="85" y="4"/>
                </a:lnTo>
                <a:lnTo>
                  <a:pt x="102" y="9"/>
                </a:lnTo>
                <a:lnTo>
                  <a:pt x="119" y="15"/>
                </a:lnTo>
                <a:lnTo>
                  <a:pt x="137" y="27"/>
                </a:lnTo>
                <a:lnTo>
                  <a:pt x="152" y="36"/>
                </a:lnTo>
                <a:lnTo>
                  <a:pt x="167" y="44"/>
                </a:lnTo>
                <a:lnTo>
                  <a:pt x="181" y="52"/>
                </a:lnTo>
                <a:lnTo>
                  <a:pt x="194" y="59"/>
                </a:lnTo>
                <a:lnTo>
                  <a:pt x="206" y="65"/>
                </a:lnTo>
                <a:lnTo>
                  <a:pt x="215" y="71"/>
                </a:lnTo>
                <a:lnTo>
                  <a:pt x="223" y="75"/>
                </a:lnTo>
                <a:lnTo>
                  <a:pt x="227" y="82"/>
                </a:lnTo>
                <a:lnTo>
                  <a:pt x="231" y="92"/>
                </a:lnTo>
                <a:lnTo>
                  <a:pt x="233" y="105"/>
                </a:lnTo>
                <a:lnTo>
                  <a:pt x="234" y="119"/>
                </a:lnTo>
                <a:lnTo>
                  <a:pt x="236" y="134"/>
                </a:lnTo>
                <a:lnTo>
                  <a:pt x="236" y="151"/>
                </a:lnTo>
                <a:lnTo>
                  <a:pt x="236" y="171"/>
                </a:lnTo>
                <a:lnTo>
                  <a:pt x="233" y="192"/>
                </a:lnTo>
                <a:lnTo>
                  <a:pt x="231" y="203"/>
                </a:lnTo>
                <a:lnTo>
                  <a:pt x="229" y="217"/>
                </a:lnTo>
                <a:lnTo>
                  <a:pt x="227" y="230"/>
                </a:lnTo>
                <a:lnTo>
                  <a:pt x="225" y="244"/>
                </a:lnTo>
                <a:lnTo>
                  <a:pt x="221" y="259"/>
                </a:lnTo>
                <a:lnTo>
                  <a:pt x="219" y="276"/>
                </a:lnTo>
                <a:lnTo>
                  <a:pt x="217" y="292"/>
                </a:lnTo>
                <a:lnTo>
                  <a:pt x="213" y="311"/>
                </a:lnTo>
                <a:lnTo>
                  <a:pt x="211" y="330"/>
                </a:lnTo>
                <a:lnTo>
                  <a:pt x="208" y="349"/>
                </a:lnTo>
                <a:lnTo>
                  <a:pt x="206" y="370"/>
                </a:lnTo>
                <a:lnTo>
                  <a:pt x="204" y="391"/>
                </a:lnTo>
                <a:lnTo>
                  <a:pt x="202" y="414"/>
                </a:lnTo>
                <a:lnTo>
                  <a:pt x="198" y="437"/>
                </a:lnTo>
                <a:lnTo>
                  <a:pt x="196" y="462"/>
                </a:lnTo>
                <a:lnTo>
                  <a:pt x="194" y="487"/>
                </a:lnTo>
                <a:lnTo>
                  <a:pt x="194" y="503"/>
                </a:lnTo>
                <a:lnTo>
                  <a:pt x="192" y="516"/>
                </a:lnTo>
                <a:lnTo>
                  <a:pt x="192" y="531"/>
                </a:lnTo>
                <a:lnTo>
                  <a:pt x="192" y="547"/>
                </a:lnTo>
                <a:lnTo>
                  <a:pt x="190" y="564"/>
                </a:lnTo>
                <a:lnTo>
                  <a:pt x="190" y="581"/>
                </a:lnTo>
                <a:lnTo>
                  <a:pt x="188" y="599"/>
                </a:lnTo>
                <a:lnTo>
                  <a:pt x="188" y="616"/>
                </a:lnTo>
                <a:lnTo>
                  <a:pt x="186" y="635"/>
                </a:lnTo>
                <a:lnTo>
                  <a:pt x="186" y="654"/>
                </a:lnTo>
                <a:lnTo>
                  <a:pt x="185" y="675"/>
                </a:lnTo>
                <a:lnTo>
                  <a:pt x="185" y="695"/>
                </a:lnTo>
                <a:lnTo>
                  <a:pt x="185" y="716"/>
                </a:lnTo>
                <a:lnTo>
                  <a:pt x="183" y="739"/>
                </a:lnTo>
                <a:lnTo>
                  <a:pt x="183" y="760"/>
                </a:lnTo>
                <a:lnTo>
                  <a:pt x="183" y="783"/>
                </a:lnTo>
                <a:lnTo>
                  <a:pt x="181" y="806"/>
                </a:lnTo>
                <a:lnTo>
                  <a:pt x="181" y="831"/>
                </a:lnTo>
                <a:lnTo>
                  <a:pt x="181" y="854"/>
                </a:lnTo>
                <a:lnTo>
                  <a:pt x="179" y="879"/>
                </a:lnTo>
                <a:lnTo>
                  <a:pt x="179" y="906"/>
                </a:lnTo>
                <a:lnTo>
                  <a:pt x="179" y="932"/>
                </a:lnTo>
                <a:lnTo>
                  <a:pt x="177" y="957"/>
                </a:lnTo>
                <a:lnTo>
                  <a:pt x="177" y="986"/>
                </a:lnTo>
                <a:lnTo>
                  <a:pt x="177" y="1013"/>
                </a:lnTo>
                <a:lnTo>
                  <a:pt x="177" y="1042"/>
                </a:lnTo>
                <a:lnTo>
                  <a:pt x="177" y="1071"/>
                </a:lnTo>
                <a:lnTo>
                  <a:pt x="177" y="1101"/>
                </a:lnTo>
                <a:lnTo>
                  <a:pt x="177" y="1132"/>
                </a:lnTo>
                <a:lnTo>
                  <a:pt x="175" y="1163"/>
                </a:lnTo>
                <a:lnTo>
                  <a:pt x="175" y="1194"/>
                </a:lnTo>
                <a:lnTo>
                  <a:pt x="175" y="1226"/>
                </a:lnTo>
                <a:lnTo>
                  <a:pt x="175" y="1259"/>
                </a:lnTo>
                <a:lnTo>
                  <a:pt x="175" y="1291"/>
                </a:lnTo>
                <a:lnTo>
                  <a:pt x="175" y="1322"/>
                </a:lnTo>
                <a:lnTo>
                  <a:pt x="175" y="1353"/>
                </a:lnTo>
                <a:lnTo>
                  <a:pt x="175" y="1383"/>
                </a:lnTo>
                <a:lnTo>
                  <a:pt x="175" y="1412"/>
                </a:lnTo>
                <a:lnTo>
                  <a:pt x="175" y="1441"/>
                </a:lnTo>
                <a:lnTo>
                  <a:pt x="173" y="1470"/>
                </a:lnTo>
                <a:lnTo>
                  <a:pt x="173" y="1497"/>
                </a:lnTo>
                <a:lnTo>
                  <a:pt x="173" y="1524"/>
                </a:lnTo>
                <a:lnTo>
                  <a:pt x="173" y="1549"/>
                </a:lnTo>
                <a:lnTo>
                  <a:pt x="171" y="1573"/>
                </a:lnTo>
                <a:lnTo>
                  <a:pt x="171" y="1598"/>
                </a:lnTo>
                <a:lnTo>
                  <a:pt x="169" y="1621"/>
                </a:lnTo>
                <a:lnTo>
                  <a:pt x="169" y="1645"/>
                </a:lnTo>
                <a:lnTo>
                  <a:pt x="169" y="1668"/>
                </a:lnTo>
                <a:lnTo>
                  <a:pt x="167" y="1689"/>
                </a:lnTo>
                <a:lnTo>
                  <a:pt x="167" y="1710"/>
                </a:lnTo>
                <a:lnTo>
                  <a:pt x="165" y="1729"/>
                </a:lnTo>
                <a:lnTo>
                  <a:pt x="165" y="1750"/>
                </a:lnTo>
                <a:lnTo>
                  <a:pt x="163" y="1767"/>
                </a:lnTo>
                <a:lnTo>
                  <a:pt x="162" y="1787"/>
                </a:lnTo>
                <a:lnTo>
                  <a:pt x="162" y="1804"/>
                </a:lnTo>
                <a:lnTo>
                  <a:pt x="160" y="1819"/>
                </a:lnTo>
                <a:lnTo>
                  <a:pt x="158" y="1834"/>
                </a:lnTo>
                <a:lnTo>
                  <a:pt x="158" y="1850"/>
                </a:lnTo>
                <a:lnTo>
                  <a:pt x="156" y="1865"/>
                </a:lnTo>
                <a:lnTo>
                  <a:pt x="154" y="1879"/>
                </a:lnTo>
                <a:lnTo>
                  <a:pt x="152" y="1890"/>
                </a:lnTo>
                <a:lnTo>
                  <a:pt x="150" y="1904"/>
                </a:lnTo>
                <a:lnTo>
                  <a:pt x="148" y="1913"/>
                </a:lnTo>
                <a:lnTo>
                  <a:pt x="148" y="1925"/>
                </a:lnTo>
                <a:lnTo>
                  <a:pt x="142" y="1944"/>
                </a:lnTo>
                <a:lnTo>
                  <a:pt x="137" y="1963"/>
                </a:lnTo>
                <a:lnTo>
                  <a:pt x="133" y="1980"/>
                </a:lnTo>
                <a:lnTo>
                  <a:pt x="127" y="1996"/>
                </a:lnTo>
                <a:lnTo>
                  <a:pt x="123" y="2011"/>
                </a:lnTo>
                <a:lnTo>
                  <a:pt x="119" y="2024"/>
                </a:lnTo>
                <a:lnTo>
                  <a:pt x="115" y="2038"/>
                </a:lnTo>
                <a:lnTo>
                  <a:pt x="112" y="2049"/>
                </a:lnTo>
                <a:lnTo>
                  <a:pt x="108" y="2059"/>
                </a:lnTo>
                <a:lnTo>
                  <a:pt x="106" y="2067"/>
                </a:lnTo>
                <a:lnTo>
                  <a:pt x="102" y="2074"/>
                </a:lnTo>
                <a:lnTo>
                  <a:pt x="98" y="2080"/>
                </a:lnTo>
                <a:lnTo>
                  <a:pt x="96" y="2086"/>
                </a:lnTo>
                <a:lnTo>
                  <a:pt x="94" y="2090"/>
                </a:lnTo>
                <a:lnTo>
                  <a:pt x="92" y="2092"/>
                </a:lnTo>
                <a:lnTo>
                  <a:pt x="91" y="2092"/>
                </a:lnTo>
                <a:lnTo>
                  <a:pt x="87" y="2092"/>
                </a:lnTo>
                <a:lnTo>
                  <a:pt x="81" y="2088"/>
                </a:lnTo>
                <a:lnTo>
                  <a:pt x="75" y="2084"/>
                </a:lnTo>
                <a:lnTo>
                  <a:pt x="69" y="2076"/>
                </a:lnTo>
                <a:lnTo>
                  <a:pt x="64" y="2069"/>
                </a:lnTo>
                <a:lnTo>
                  <a:pt x="56" y="2059"/>
                </a:lnTo>
                <a:lnTo>
                  <a:pt x="50" y="2048"/>
                </a:lnTo>
                <a:lnTo>
                  <a:pt x="43" y="2032"/>
                </a:lnTo>
                <a:lnTo>
                  <a:pt x="37" y="2015"/>
                </a:lnTo>
                <a:lnTo>
                  <a:pt x="29" y="2000"/>
                </a:lnTo>
                <a:lnTo>
                  <a:pt x="25" y="1984"/>
                </a:lnTo>
                <a:lnTo>
                  <a:pt x="20" y="1971"/>
                </a:lnTo>
                <a:lnTo>
                  <a:pt x="16" y="1959"/>
                </a:lnTo>
                <a:lnTo>
                  <a:pt x="12" y="1948"/>
                </a:lnTo>
                <a:lnTo>
                  <a:pt x="4" y="1925"/>
                </a:lnTo>
                <a:lnTo>
                  <a:pt x="2" y="1919"/>
                </a:lnTo>
                <a:lnTo>
                  <a:pt x="2" y="1913"/>
                </a:lnTo>
                <a:lnTo>
                  <a:pt x="0" y="1906"/>
                </a:lnTo>
                <a:lnTo>
                  <a:pt x="0" y="1898"/>
                </a:lnTo>
                <a:lnTo>
                  <a:pt x="0" y="1890"/>
                </a:lnTo>
                <a:lnTo>
                  <a:pt x="2" y="1882"/>
                </a:lnTo>
                <a:lnTo>
                  <a:pt x="2" y="1873"/>
                </a:lnTo>
                <a:lnTo>
                  <a:pt x="4" y="1863"/>
                </a:lnTo>
                <a:lnTo>
                  <a:pt x="4" y="1854"/>
                </a:lnTo>
                <a:lnTo>
                  <a:pt x="6" y="1844"/>
                </a:lnTo>
                <a:lnTo>
                  <a:pt x="10" y="1833"/>
                </a:lnTo>
                <a:lnTo>
                  <a:pt x="12" y="1821"/>
                </a:lnTo>
                <a:lnTo>
                  <a:pt x="14" y="1808"/>
                </a:lnTo>
                <a:lnTo>
                  <a:pt x="18" y="1794"/>
                </a:lnTo>
                <a:lnTo>
                  <a:pt x="20" y="1781"/>
                </a:lnTo>
                <a:lnTo>
                  <a:pt x="23" y="1767"/>
                </a:lnTo>
                <a:lnTo>
                  <a:pt x="25" y="1752"/>
                </a:lnTo>
                <a:lnTo>
                  <a:pt x="27" y="1735"/>
                </a:lnTo>
                <a:lnTo>
                  <a:pt x="29" y="1716"/>
                </a:lnTo>
                <a:lnTo>
                  <a:pt x="33" y="1696"/>
                </a:lnTo>
                <a:lnTo>
                  <a:pt x="35" y="1675"/>
                </a:lnTo>
                <a:lnTo>
                  <a:pt x="37" y="1654"/>
                </a:lnTo>
                <a:lnTo>
                  <a:pt x="41" y="1629"/>
                </a:lnTo>
                <a:lnTo>
                  <a:pt x="43" y="1604"/>
                </a:lnTo>
                <a:lnTo>
                  <a:pt x="44" y="1577"/>
                </a:lnTo>
                <a:lnTo>
                  <a:pt x="48" y="1550"/>
                </a:lnTo>
                <a:lnTo>
                  <a:pt x="50" y="1522"/>
                </a:lnTo>
                <a:lnTo>
                  <a:pt x="52" y="1491"/>
                </a:lnTo>
                <a:lnTo>
                  <a:pt x="56" y="1458"/>
                </a:lnTo>
                <a:lnTo>
                  <a:pt x="58" y="1424"/>
                </a:lnTo>
                <a:lnTo>
                  <a:pt x="60" y="1389"/>
                </a:lnTo>
                <a:lnTo>
                  <a:pt x="62" y="1353"/>
                </a:lnTo>
                <a:lnTo>
                  <a:pt x="64" y="1318"/>
                </a:lnTo>
                <a:lnTo>
                  <a:pt x="66" y="1280"/>
                </a:lnTo>
                <a:lnTo>
                  <a:pt x="67" y="1241"/>
                </a:lnTo>
                <a:lnTo>
                  <a:pt x="69" y="1201"/>
                </a:lnTo>
                <a:lnTo>
                  <a:pt x="69" y="1159"/>
                </a:lnTo>
                <a:lnTo>
                  <a:pt x="71" y="1115"/>
                </a:lnTo>
                <a:lnTo>
                  <a:pt x="73" y="1071"/>
                </a:lnTo>
                <a:lnTo>
                  <a:pt x="75" y="1025"/>
                </a:lnTo>
                <a:lnTo>
                  <a:pt x="75" y="977"/>
                </a:lnTo>
                <a:lnTo>
                  <a:pt x="77" y="927"/>
                </a:lnTo>
                <a:lnTo>
                  <a:pt x="79" y="877"/>
                </a:lnTo>
                <a:lnTo>
                  <a:pt x="79" y="825"/>
                </a:lnTo>
                <a:lnTo>
                  <a:pt x="79" y="771"/>
                </a:lnTo>
                <a:lnTo>
                  <a:pt x="81" y="718"/>
                </a:lnTo>
                <a:lnTo>
                  <a:pt x="81" y="662"/>
                </a:lnTo>
                <a:lnTo>
                  <a:pt x="81" y="606"/>
                </a:lnTo>
                <a:lnTo>
                  <a:pt x="81" y="577"/>
                </a:lnTo>
                <a:lnTo>
                  <a:pt x="81" y="551"/>
                </a:lnTo>
                <a:lnTo>
                  <a:pt x="81" y="524"/>
                </a:lnTo>
                <a:lnTo>
                  <a:pt x="81" y="497"/>
                </a:lnTo>
                <a:lnTo>
                  <a:pt x="81" y="472"/>
                </a:lnTo>
                <a:lnTo>
                  <a:pt x="79" y="447"/>
                </a:lnTo>
                <a:lnTo>
                  <a:pt x="79" y="424"/>
                </a:lnTo>
                <a:lnTo>
                  <a:pt x="79" y="401"/>
                </a:lnTo>
                <a:lnTo>
                  <a:pt x="79" y="380"/>
                </a:lnTo>
                <a:lnTo>
                  <a:pt x="77" y="357"/>
                </a:lnTo>
                <a:lnTo>
                  <a:pt x="77" y="338"/>
                </a:lnTo>
                <a:lnTo>
                  <a:pt x="75" y="316"/>
                </a:lnTo>
                <a:lnTo>
                  <a:pt x="75" y="299"/>
                </a:lnTo>
                <a:lnTo>
                  <a:pt x="75" y="280"/>
                </a:lnTo>
                <a:lnTo>
                  <a:pt x="73" y="263"/>
                </a:lnTo>
                <a:lnTo>
                  <a:pt x="71" y="247"/>
                </a:lnTo>
                <a:lnTo>
                  <a:pt x="71" y="230"/>
                </a:lnTo>
                <a:lnTo>
                  <a:pt x="69" y="217"/>
                </a:lnTo>
                <a:lnTo>
                  <a:pt x="69" y="201"/>
                </a:lnTo>
                <a:lnTo>
                  <a:pt x="67" y="188"/>
                </a:lnTo>
                <a:lnTo>
                  <a:pt x="66" y="176"/>
                </a:lnTo>
                <a:lnTo>
                  <a:pt x="64" y="165"/>
                </a:lnTo>
                <a:lnTo>
                  <a:pt x="62" y="153"/>
                </a:lnTo>
                <a:lnTo>
                  <a:pt x="60" y="144"/>
                </a:lnTo>
                <a:lnTo>
                  <a:pt x="58" y="134"/>
                </a:lnTo>
                <a:lnTo>
                  <a:pt x="56" y="126"/>
                </a:lnTo>
                <a:lnTo>
                  <a:pt x="54" y="119"/>
                </a:lnTo>
                <a:lnTo>
                  <a:pt x="52" y="111"/>
                </a:lnTo>
                <a:lnTo>
                  <a:pt x="50" y="105"/>
                </a:lnTo>
                <a:lnTo>
                  <a:pt x="48" y="102"/>
                </a:lnTo>
                <a:lnTo>
                  <a:pt x="44" y="98"/>
                </a:lnTo>
                <a:lnTo>
                  <a:pt x="43" y="94"/>
                </a:lnTo>
                <a:lnTo>
                  <a:pt x="37" y="88"/>
                </a:lnTo>
                <a:lnTo>
                  <a:pt x="33" y="82"/>
                </a:lnTo>
                <a:lnTo>
                  <a:pt x="29" y="77"/>
                </a:lnTo>
                <a:lnTo>
                  <a:pt x="27" y="73"/>
                </a:lnTo>
                <a:lnTo>
                  <a:pt x="23" y="67"/>
                </a:lnTo>
                <a:lnTo>
                  <a:pt x="21" y="61"/>
                </a:lnTo>
                <a:lnTo>
                  <a:pt x="20" y="55"/>
                </a:lnTo>
                <a:lnTo>
                  <a:pt x="20" y="52"/>
                </a:lnTo>
                <a:lnTo>
                  <a:pt x="18" y="40"/>
                </a:lnTo>
                <a:lnTo>
                  <a:pt x="20" y="32"/>
                </a:lnTo>
                <a:lnTo>
                  <a:pt x="21" y="23"/>
                </a:lnTo>
                <a:lnTo>
                  <a:pt x="23" y="1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/>
          <p:cNvSpPr/>
          <p:nvPr/>
        </p:nvSpPr>
        <p:spPr>
          <a:xfrm>
            <a:off x="2279520" y="2776680"/>
            <a:ext cx="263520" cy="187200"/>
          </a:xfrm>
          <a:custGeom>
            <a:avLst/>
            <a:gdLst/>
            <a:ahLst/>
            <a:rect l="l" t="t" r="r" b="b"/>
            <a:pathLst>
              <a:path w="332" h="236">
                <a:moveTo>
                  <a:pt x="255" y="58"/>
                </a:moveTo>
                <a:lnTo>
                  <a:pt x="273" y="69"/>
                </a:lnTo>
                <a:lnTo>
                  <a:pt x="280" y="75"/>
                </a:lnTo>
                <a:lnTo>
                  <a:pt x="288" y="82"/>
                </a:lnTo>
                <a:lnTo>
                  <a:pt x="296" y="88"/>
                </a:lnTo>
                <a:lnTo>
                  <a:pt x="301" y="94"/>
                </a:lnTo>
                <a:lnTo>
                  <a:pt x="307" y="102"/>
                </a:lnTo>
                <a:lnTo>
                  <a:pt x="313" y="107"/>
                </a:lnTo>
                <a:lnTo>
                  <a:pt x="317" y="113"/>
                </a:lnTo>
                <a:lnTo>
                  <a:pt x="321" y="121"/>
                </a:lnTo>
                <a:lnTo>
                  <a:pt x="324" y="127"/>
                </a:lnTo>
                <a:lnTo>
                  <a:pt x="326" y="132"/>
                </a:lnTo>
                <a:lnTo>
                  <a:pt x="330" y="138"/>
                </a:lnTo>
                <a:lnTo>
                  <a:pt x="330" y="146"/>
                </a:lnTo>
                <a:lnTo>
                  <a:pt x="332" y="152"/>
                </a:lnTo>
                <a:lnTo>
                  <a:pt x="332" y="157"/>
                </a:lnTo>
                <a:lnTo>
                  <a:pt x="332" y="167"/>
                </a:lnTo>
                <a:lnTo>
                  <a:pt x="332" y="177"/>
                </a:lnTo>
                <a:lnTo>
                  <a:pt x="332" y="186"/>
                </a:lnTo>
                <a:lnTo>
                  <a:pt x="330" y="194"/>
                </a:lnTo>
                <a:lnTo>
                  <a:pt x="330" y="200"/>
                </a:lnTo>
                <a:lnTo>
                  <a:pt x="328" y="207"/>
                </a:lnTo>
                <a:lnTo>
                  <a:pt x="326" y="211"/>
                </a:lnTo>
                <a:lnTo>
                  <a:pt x="322" y="215"/>
                </a:lnTo>
                <a:lnTo>
                  <a:pt x="319" y="219"/>
                </a:lnTo>
                <a:lnTo>
                  <a:pt x="315" y="223"/>
                </a:lnTo>
                <a:lnTo>
                  <a:pt x="303" y="228"/>
                </a:lnTo>
                <a:lnTo>
                  <a:pt x="298" y="232"/>
                </a:lnTo>
                <a:lnTo>
                  <a:pt x="294" y="234"/>
                </a:lnTo>
                <a:lnTo>
                  <a:pt x="288" y="234"/>
                </a:lnTo>
                <a:lnTo>
                  <a:pt x="284" y="236"/>
                </a:lnTo>
                <a:lnTo>
                  <a:pt x="276" y="234"/>
                </a:lnTo>
                <a:lnTo>
                  <a:pt x="267" y="232"/>
                </a:lnTo>
                <a:lnTo>
                  <a:pt x="255" y="226"/>
                </a:lnTo>
                <a:lnTo>
                  <a:pt x="244" y="221"/>
                </a:lnTo>
                <a:lnTo>
                  <a:pt x="228" y="213"/>
                </a:lnTo>
                <a:lnTo>
                  <a:pt x="213" y="201"/>
                </a:lnTo>
                <a:lnTo>
                  <a:pt x="205" y="196"/>
                </a:lnTo>
                <a:lnTo>
                  <a:pt x="198" y="190"/>
                </a:lnTo>
                <a:lnTo>
                  <a:pt x="188" y="184"/>
                </a:lnTo>
                <a:lnTo>
                  <a:pt x="180" y="177"/>
                </a:lnTo>
                <a:lnTo>
                  <a:pt x="171" y="171"/>
                </a:lnTo>
                <a:lnTo>
                  <a:pt x="161" y="163"/>
                </a:lnTo>
                <a:lnTo>
                  <a:pt x="152" y="155"/>
                </a:lnTo>
                <a:lnTo>
                  <a:pt x="140" y="148"/>
                </a:lnTo>
                <a:lnTo>
                  <a:pt x="131" y="140"/>
                </a:lnTo>
                <a:lnTo>
                  <a:pt x="119" y="130"/>
                </a:lnTo>
                <a:lnTo>
                  <a:pt x="108" y="121"/>
                </a:lnTo>
                <a:lnTo>
                  <a:pt x="96" y="109"/>
                </a:lnTo>
                <a:lnTo>
                  <a:pt x="85" y="98"/>
                </a:lnTo>
                <a:lnTo>
                  <a:pt x="73" y="86"/>
                </a:lnTo>
                <a:lnTo>
                  <a:pt x="62" y="73"/>
                </a:lnTo>
                <a:lnTo>
                  <a:pt x="48" y="59"/>
                </a:lnTo>
                <a:lnTo>
                  <a:pt x="37" y="46"/>
                </a:lnTo>
                <a:lnTo>
                  <a:pt x="23" y="31"/>
                </a:lnTo>
                <a:lnTo>
                  <a:pt x="12" y="15"/>
                </a:lnTo>
                <a:lnTo>
                  <a:pt x="0" y="0"/>
                </a:lnTo>
                <a:lnTo>
                  <a:pt x="21" y="2"/>
                </a:lnTo>
                <a:lnTo>
                  <a:pt x="44" y="4"/>
                </a:lnTo>
                <a:lnTo>
                  <a:pt x="65" y="6"/>
                </a:lnTo>
                <a:lnTo>
                  <a:pt x="85" y="8"/>
                </a:lnTo>
                <a:lnTo>
                  <a:pt x="104" y="11"/>
                </a:lnTo>
                <a:lnTo>
                  <a:pt x="123" y="13"/>
                </a:lnTo>
                <a:lnTo>
                  <a:pt x="140" y="17"/>
                </a:lnTo>
                <a:lnTo>
                  <a:pt x="156" y="21"/>
                </a:lnTo>
                <a:lnTo>
                  <a:pt x="173" y="25"/>
                </a:lnTo>
                <a:lnTo>
                  <a:pt x="186" y="29"/>
                </a:lnTo>
                <a:lnTo>
                  <a:pt x="200" y="33"/>
                </a:lnTo>
                <a:lnTo>
                  <a:pt x="213" y="38"/>
                </a:lnTo>
                <a:lnTo>
                  <a:pt x="225" y="42"/>
                </a:lnTo>
                <a:lnTo>
                  <a:pt x="236" y="48"/>
                </a:lnTo>
                <a:lnTo>
                  <a:pt x="248" y="52"/>
                </a:lnTo>
                <a:lnTo>
                  <a:pt x="255" y="5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1909800" y="2924280"/>
            <a:ext cx="163440" cy="436320"/>
          </a:xfrm>
          <a:custGeom>
            <a:avLst/>
            <a:gdLst/>
            <a:ahLst/>
            <a:rect l="l" t="t" r="r" b="b"/>
            <a:pathLst>
              <a:path w="205" h="551">
                <a:moveTo>
                  <a:pt x="75" y="551"/>
                </a:moveTo>
                <a:lnTo>
                  <a:pt x="71" y="551"/>
                </a:lnTo>
                <a:lnTo>
                  <a:pt x="67" y="547"/>
                </a:lnTo>
                <a:lnTo>
                  <a:pt x="61" y="543"/>
                </a:lnTo>
                <a:lnTo>
                  <a:pt x="55" y="536"/>
                </a:lnTo>
                <a:lnTo>
                  <a:pt x="48" y="528"/>
                </a:lnTo>
                <a:lnTo>
                  <a:pt x="42" y="518"/>
                </a:lnTo>
                <a:lnTo>
                  <a:pt x="34" y="507"/>
                </a:lnTo>
                <a:lnTo>
                  <a:pt x="27" y="491"/>
                </a:lnTo>
                <a:lnTo>
                  <a:pt x="21" y="478"/>
                </a:lnTo>
                <a:lnTo>
                  <a:pt x="15" y="465"/>
                </a:lnTo>
                <a:lnTo>
                  <a:pt x="9" y="451"/>
                </a:lnTo>
                <a:lnTo>
                  <a:pt x="6" y="440"/>
                </a:lnTo>
                <a:lnTo>
                  <a:pt x="4" y="430"/>
                </a:lnTo>
                <a:lnTo>
                  <a:pt x="0" y="420"/>
                </a:lnTo>
                <a:lnTo>
                  <a:pt x="0" y="411"/>
                </a:lnTo>
                <a:lnTo>
                  <a:pt x="0" y="403"/>
                </a:lnTo>
                <a:lnTo>
                  <a:pt x="0" y="395"/>
                </a:lnTo>
                <a:lnTo>
                  <a:pt x="2" y="388"/>
                </a:lnTo>
                <a:lnTo>
                  <a:pt x="4" y="378"/>
                </a:lnTo>
                <a:lnTo>
                  <a:pt x="7" y="367"/>
                </a:lnTo>
                <a:lnTo>
                  <a:pt x="13" y="355"/>
                </a:lnTo>
                <a:lnTo>
                  <a:pt x="19" y="344"/>
                </a:lnTo>
                <a:lnTo>
                  <a:pt x="27" y="330"/>
                </a:lnTo>
                <a:lnTo>
                  <a:pt x="36" y="315"/>
                </a:lnTo>
                <a:lnTo>
                  <a:pt x="42" y="307"/>
                </a:lnTo>
                <a:lnTo>
                  <a:pt x="48" y="298"/>
                </a:lnTo>
                <a:lnTo>
                  <a:pt x="53" y="286"/>
                </a:lnTo>
                <a:lnTo>
                  <a:pt x="59" y="273"/>
                </a:lnTo>
                <a:lnTo>
                  <a:pt x="63" y="257"/>
                </a:lnTo>
                <a:lnTo>
                  <a:pt x="69" y="242"/>
                </a:lnTo>
                <a:lnTo>
                  <a:pt x="75" y="225"/>
                </a:lnTo>
                <a:lnTo>
                  <a:pt x="80" y="205"/>
                </a:lnTo>
                <a:lnTo>
                  <a:pt x="86" y="184"/>
                </a:lnTo>
                <a:lnTo>
                  <a:pt x="94" y="163"/>
                </a:lnTo>
                <a:lnTo>
                  <a:pt x="100" y="140"/>
                </a:lnTo>
                <a:lnTo>
                  <a:pt x="105" y="115"/>
                </a:lnTo>
                <a:lnTo>
                  <a:pt x="111" y="88"/>
                </a:lnTo>
                <a:lnTo>
                  <a:pt x="119" y="60"/>
                </a:lnTo>
                <a:lnTo>
                  <a:pt x="124" y="31"/>
                </a:lnTo>
                <a:lnTo>
                  <a:pt x="132" y="0"/>
                </a:lnTo>
                <a:lnTo>
                  <a:pt x="138" y="0"/>
                </a:lnTo>
                <a:lnTo>
                  <a:pt x="144" y="2"/>
                </a:lnTo>
                <a:lnTo>
                  <a:pt x="148" y="2"/>
                </a:lnTo>
                <a:lnTo>
                  <a:pt x="153" y="6"/>
                </a:lnTo>
                <a:lnTo>
                  <a:pt x="159" y="8"/>
                </a:lnTo>
                <a:lnTo>
                  <a:pt x="163" y="12"/>
                </a:lnTo>
                <a:lnTo>
                  <a:pt x="169" y="15"/>
                </a:lnTo>
                <a:lnTo>
                  <a:pt x="172" y="21"/>
                </a:lnTo>
                <a:lnTo>
                  <a:pt x="176" y="27"/>
                </a:lnTo>
                <a:lnTo>
                  <a:pt x="182" y="33"/>
                </a:lnTo>
                <a:lnTo>
                  <a:pt x="186" y="39"/>
                </a:lnTo>
                <a:lnTo>
                  <a:pt x="188" y="46"/>
                </a:lnTo>
                <a:lnTo>
                  <a:pt x="192" y="54"/>
                </a:lnTo>
                <a:lnTo>
                  <a:pt x="194" y="62"/>
                </a:lnTo>
                <a:lnTo>
                  <a:pt x="197" y="69"/>
                </a:lnTo>
                <a:lnTo>
                  <a:pt x="199" y="79"/>
                </a:lnTo>
                <a:lnTo>
                  <a:pt x="201" y="98"/>
                </a:lnTo>
                <a:lnTo>
                  <a:pt x="203" y="117"/>
                </a:lnTo>
                <a:lnTo>
                  <a:pt x="205" y="138"/>
                </a:lnTo>
                <a:lnTo>
                  <a:pt x="205" y="159"/>
                </a:lnTo>
                <a:lnTo>
                  <a:pt x="205" y="181"/>
                </a:lnTo>
                <a:lnTo>
                  <a:pt x="203" y="202"/>
                </a:lnTo>
                <a:lnTo>
                  <a:pt x="201" y="225"/>
                </a:lnTo>
                <a:lnTo>
                  <a:pt x="199" y="246"/>
                </a:lnTo>
                <a:lnTo>
                  <a:pt x="196" y="271"/>
                </a:lnTo>
                <a:lnTo>
                  <a:pt x="192" y="296"/>
                </a:lnTo>
                <a:lnTo>
                  <a:pt x="188" y="321"/>
                </a:lnTo>
                <a:lnTo>
                  <a:pt x="182" y="344"/>
                </a:lnTo>
                <a:lnTo>
                  <a:pt x="176" y="369"/>
                </a:lnTo>
                <a:lnTo>
                  <a:pt x="169" y="394"/>
                </a:lnTo>
                <a:lnTo>
                  <a:pt x="161" y="417"/>
                </a:lnTo>
                <a:lnTo>
                  <a:pt x="151" y="443"/>
                </a:lnTo>
                <a:lnTo>
                  <a:pt x="146" y="455"/>
                </a:lnTo>
                <a:lnTo>
                  <a:pt x="140" y="468"/>
                </a:lnTo>
                <a:lnTo>
                  <a:pt x="136" y="478"/>
                </a:lnTo>
                <a:lnTo>
                  <a:pt x="130" y="490"/>
                </a:lnTo>
                <a:lnTo>
                  <a:pt x="124" y="499"/>
                </a:lnTo>
                <a:lnTo>
                  <a:pt x="121" y="507"/>
                </a:lnTo>
                <a:lnTo>
                  <a:pt x="115" y="516"/>
                </a:lnTo>
                <a:lnTo>
                  <a:pt x="109" y="522"/>
                </a:lnTo>
                <a:lnTo>
                  <a:pt x="105" y="530"/>
                </a:lnTo>
                <a:lnTo>
                  <a:pt x="100" y="536"/>
                </a:lnTo>
                <a:lnTo>
                  <a:pt x="96" y="539"/>
                </a:lnTo>
                <a:lnTo>
                  <a:pt x="92" y="543"/>
                </a:lnTo>
                <a:lnTo>
                  <a:pt x="86" y="547"/>
                </a:lnTo>
                <a:lnTo>
                  <a:pt x="82" y="549"/>
                </a:lnTo>
                <a:lnTo>
                  <a:pt x="78" y="551"/>
                </a:lnTo>
                <a:lnTo>
                  <a:pt x="75" y="551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/>
          <p:cNvSpPr/>
          <p:nvPr/>
        </p:nvSpPr>
        <p:spPr>
          <a:xfrm>
            <a:off x="2602080" y="2297160"/>
            <a:ext cx="411120" cy="598320"/>
          </a:xfrm>
          <a:custGeom>
            <a:avLst/>
            <a:gdLst/>
            <a:ahLst/>
            <a:rect l="l" t="t" r="r" b="b"/>
            <a:pathLst>
              <a:path w="516" h="755">
                <a:moveTo>
                  <a:pt x="324" y="64"/>
                </a:moveTo>
                <a:lnTo>
                  <a:pt x="319" y="52"/>
                </a:lnTo>
                <a:lnTo>
                  <a:pt x="315" y="43"/>
                </a:lnTo>
                <a:lnTo>
                  <a:pt x="313" y="33"/>
                </a:lnTo>
                <a:lnTo>
                  <a:pt x="311" y="25"/>
                </a:lnTo>
                <a:lnTo>
                  <a:pt x="311" y="20"/>
                </a:lnTo>
                <a:lnTo>
                  <a:pt x="315" y="14"/>
                </a:lnTo>
                <a:lnTo>
                  <a:pt x="319" y="8"/>
                </a:lnTo>
                <a:lnTo>
                  <a:pt x="324" y="4"/>
                </a:lnTo>
                <a:lnTo>
                  <a:pt x="328" y="2"/>
                </a:lnTo>
                <a:lnTo>
                  <a:pt x="334" y="0"/>
                </a:lnTo>
                <a:lnTo>
                  <a:pt x="338" y="0"/>
                </a:lnTo>
                <a:lnTo>
                  <a:pt x="343" y="2"/>
                </a:lnTo>
                <a:lnTo>
                  <a:pt x="347" y="2"/>
                </a:lnTo>
                <a:lnTo>
                  <a:pt x="353" y="4"/>
                </a:lnTo>
                <a:lnTo>
                  <a:pt x="361" y="6"/>
                </a:lnTo>
                <a:lnTo>
                  <a:pt x="366" y="8"/>
                </a:lnTo>
                <a:lnTo>
                  <a:pt x="380" y="16"/>
                </a:lnTo>
                <a:lnTo>
                  <a:pt x="395" y="23"/>
                </a:lnTo>
                <a:lnTo>
                  <a:pt x="413" y="33"/>
                </a:lnTo>
                <a:lnTo>
                  <a:pt x="430" y="43"/>
                </a:lnTo>
                <a:lnTo>
                  <a:pt x="447" y="54"/>
                </a:lnTo>
                <a:lnTo>
                  <a:pt x="462" y="66"/>
                </a:lnTo>
                <a:lnTo>
                  <a:pt x="476" y="75"/>
                </a:lnTo>
                <a:lnTo>
                  <a:pt x="487" y="87"/>
                </a:lnTo>
                <a:lnTo>
                  <a:pt x="497" y="96"/>
                </a:lnTo>
                <a:lnTo>
                  <a:pt x="505" y="106"/>
                </a:lnTo>
                <a:lnTo>
                  <a:pt x="510" y="114"/>
                </a:lnTo>
                <a:lnTo>
                  <a:pt x="516" y="121"/>
                </a:lnTo>
                <a:lnTo>
                  <a:pt x="516" y="129"/>
                </a:lnTo>
                <a:lnTo>
                  <a:pt x="516" y="135"/>
                </a:lnTo>
                <a:lnTo>
                  <a:pt x="514" y="144"/>
                </a:lnTo>
                <a:lnTo>
                  <a:pt x="512" y="154"/>
                </a:lnTo>
                <a:lnTo>
                  <a:pt x="507" y="167"/>
                </a:lnTo>
                <a:lnTo>
                  <a:pt x="501" y="179"/>
                </a:lnTo>
                <a:lnTo>
                  <a:pt x="495" y="194"/>
                </a:lnTo>
                <a:lnTo>
                  <a:pt x="485" y="210"/>
                </a:lnTo>
                <a:lnTo>
                  <a:pt x="476" y="227"/>
                </a:lnTo>
                <a:lnTo>
                  <a:pt x="466" y="246"/>
                </a:lnTo>
                <a:lnTo>
                  <a:pt x="453" y="265"/>
                </a:lnTo>
                <a:lnTo>
                  <a:pt x="439" y="288"/>
                </a:lnTo>
                <a:lnTo>
                  <a:pt x="424" y="309"/>
                </a:lnTo>
                <a:lnTo>
                  <a:pt x="409" y="334"/>
                </a:lnTo>
                <a:lnTo>
                  <a:pt x="391" y="361"/>
                </a:lnTo>
                <a:lnTo>
                  <a:pt x="372" y="388"/>
                </a:lnTo>
                <a:lnTo>
                  <a:pt x="353" y="417"/>
                </a:lnTo>
                <a:lnTo>
                  <a:pt x="334" y="444"/>
                </a:lnTo>
                <a:lnTo>
                  <a:pt x="317" y="471"/>
                </a:lnTo>
                <a:lnTo>
                  <a:pt x="297" y="496"/>
                </a:lnTo>
                <a:lnTo>
                  <a:pt x="280" y="519"/>
                </a:lnTo>
                <a:lnTo>
                  <a:pt x="263" y="540"/>
                </a:lnTo>
                <a:lnTo>
                  <a:pt x="247" y="561"/>
                </a:lnTo>
                <a:lnTo>
                  <a:pt x="230" y="580"/>
                </a:lnTo>
                <a:lnTo>
                  <a:pt x="215" y="599"/>
                </a:lnTo>
                <a:lnTo>
                  <a:pt x="200" y="616"/>
                </a:lnTo>
                <a:lnTo>
                  <a:pt x="184" y="632"/>
                </a:lnTo>
                <a:lnTo>
                  <a:pt x="169" y="645"/>
                </a:lnTo>
                <a:lnTo>
                  <a:pt x="155" y="659"/>
                </a:lnTo>
                <a:lnTo>
                  <a:pt x="142" y="672"/>
                </a:lnTo>
                <a:lnTo>
                  <a:pt x="129" y="682"/>
                </a:lnTo>
                <a:lnTo>
                  <a:pt x="115" y="693"/>
                </a:lnTo>
                <a:lnTo>
                  <a:pt x="104" y="701"/>
                </a:lnTo>
                <a:lnTo>
                  <a:pt x="92" y="711"/>
                </a:lnTo>
                <a:lnTo>
                  <a:pt x="81" y="718"/>
                </a:lnTo>
                <a:lnTo>
                  <a:pt x="71" y="724"/>
                </a:lnTo>
                <a:lnTo>
                  <a:pt x="61" y="730"/>
                </a:lnTo>
                <a:lnTo>
                  <a:pt x="54" y="735"/>
                </a:lnTo>
                <a:lnTo>
                  <a:pt x="44" y="741"/>
                </a:lnTo>
                <a:lnTo>
                  <a:pt x="36" y="745"/>
                </a:lnTo>
                <a:lnTo>
                  <a:pt x="31" y="747"/>
                </a:lnTo>
                <a:lnTo>
                  <a:pt x="25" y="751"/>
                </a:lnTo>
                <a:lnTo>
                  <a:pt x="19" y="753"/>
                </a:lnTo>
                <a:lnTo>
                  <a:pt x="13" y="753"/>
                </a:lnTo>
                <a:lnTo>
                  <a:pt x="10" y="755"/>
                </a:lnTo>
                <a:lnTo>
                  <a:pt x="6" y="755"/>
                </a:lnTo>
                <a:lnTo>
                  <a:pt x="4" y="753"/>
                </a:lnTo>
                <a:lnTo>
                  <a:pt x="2" y="751"/>
                </a:lnTo>
                <a:lnTo>
                  <a:pt x="0" y="751"/>
                </a:lnTo>
                <a:lnTo>
                  <a:pt x="0" y="749"/>
                </a:lnTo>
                <a:lnTo>
                  <a:pt x="0" y="747"/>
                </a:lnTo>
                <a:lnTo>
                  <a:pt x="2" y="743"/>
                </a:lnTo>
                <a:lnTo>
                  <a:pt x="4" y="737"/>
                </a:lnTo>
                <a:lnTo>
                  <a:pt x="8" y="732"/>
                </a:lnTo>
                <a:lnTo>
                  <a:pt x="11" y="724"/>
                </a:lnTo>
                <a:lnTo>
                  <a:pt x="15" y="716"/>
                </a:lnTo>
                <a:lnTo>
                  <a:pt x="21" y="707"/>
                </a:lnTo>
                <a:lnTo>
                  <a:pt x="29" y="697"/>
                </a:lnTo>
                <a:lnTo>
                  <a:pt x="36" y="686"/>
                </a:lnTo>
                <a:lnTo>
                  <a:pt x="44" y="672"/>
                </a:lnTo>
                <a:lnTo>
                  <a:pt x="54" y="661"/>
                </a:lnTo>
                <a:lnTo>
                  <a:pt x="63" y="645"/>
                </a:lnTo>
                <a:lnTo>
                  <a:pt x="75" y="630"/>
                </a:lnTo>
                <a:lnTo>
                  <a:pt x="86" y="615"/>
                </a:lnTo>
                <a:lnTo>
                  <a:pt x="111" y="580"/>
                </a:lnTo>
                <a:lnTo>
                  <a:pt x="136" y="544"/>
                </a:lnTo>
                <a:lnTo>
                  <a:pt x="161" y="505"/>
                </a:lnTo>
                <a:lnTo>
                  <a:pt x="186" y="467"/>
                </a:lnTo>
                <a:lnTo>
                  <a:pt x="209" y="425"/>
                </a:lnTo>
                <a:lnTo>
                  <a:pt x="234" y="382"/>
                </a:lnTo>
                <a:lnTo>
                  <a:pt x="244" y="359"/>
                </a:lnTo>
                <a:lnTo>
                  <a:pt x="255" y="336"/>
                </a:lnTo>
                <a:lnTo>
                  <a:pt x="267" y="313"/>
                </a:lnTo>
                <a:lnTo>
                  <a:pt x="278" y="288"/>
                </a:lnTo>
                <a:lnTo>
                  <a:pt x="286" y="265"/>
                </a:lnTo>
                <a:lnTo>
                  <a:pt x="294" y="244"/>
                </a:lnTo>
                <a:lnTo>
                  <a:pt x="301" y="223"/>
                </a:lnTo>
                <a:lnTo>
                  <a:pt x="307" y="204"/>
                </a:lnTo>
                <a:lnTo>
                  <a:pt x="313" y="187"/>
                </a:lnTo>
                <a:lnTo>
                  <a:pt x="319" y="169"/>
                </a:lnTo>
                <a:lnTo>
                  <a:pt x="322" y="154"/>
                </a:lnTo>
                <a:lnTo>
                  <a:pt x="326" y="139"/>
                </a:lnTo>
                <a:lnTo>
                  <a:pt x="328" y="125"/>
                </a:lnTo>
                <a:lnTo>
                  <a:pt x="330" y="114"/>
                </a:lnTo>
                <a:lnTo>
                  <a:pt x="332" y="102"/>
                </a:lnTo>
                <a:lnTo>
                  <a:pt x="332" y="93"/>
                </a:lnTo>
                <a:lnTo>
                  <a:pt x="332" y="83"/>
                </a:lnTo>
                <a:lnTo>
                  <a:pt x="330" y="75"/>
                </a:lnTo>
                <a:lnTo>
                  <a:pt x="328" y="70"/>
                </a:lnTo>
                <a:lnTo>
                  <a:pt x="324" y="6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2824200" y="2549520"/>
            <a:ext cx="566640" cy="158760"/>
          </a:xfrm>
          <a:custGeom>
            <a:avLst/>
            <a:gdLst/>
            <a:ahLst/>
            <a:rect l="l" t="t" r="r" b="b"/>
            <a:pathLst>
              <a:path w="714" h="200">
                <a:moveTo>
                  <a:pt x="323" y="60"/>
                </a:moveTo>
                <a:lnTo>
                  <a:pt x="353" y="52"/>
                </a:lnTo>
                <a:lnTo>
                  <a:pt x="380" y="44"/>
                </a:lnTo>
                <a:lnTo>
                  <a:pt x="407" y="38"/>
                </a:lnTo>
                <a:lnTo>
                  <a:pt x="432" y="33"/>
                </a:lnTo>
                <a:lnTo>
                  <a:pt x="455" y="27"/>
                </a:lnTo>
                <a:lnTo>
                  <a:pt x="478" y="23"/>
                </a:lnTo>
                <a:lnTo>
                  <a:pt x="499" y="17"/>
                </a:lnTo>
                <a:lnTo>
                  <a:pt x="518" y="13"/>
                </a:lnTo>
                <a:lnTo>
                  <a:pt x="536" y="12"/>
                </a:lnTo>
                <a:lnTo>
                  <a:pt x="553" y="8"/>
                </a:lnTo>
                <a:lnTo>
                  <a:pt x="568" y="6"/>
                </a:lnTo>
                <a:lnTo>
                  <a:pt x="582" y="4"/>
                </a:lnTo>
                <a:lnTo>
                  <a:pt x="595" y="2"/>
                </a:lnTo>
                <a:lnTo>
                  <a:pt x="607" y="0"/>
                </a:lnTo>
                <a:lnTo>
                  <a:pt x="618" y="0"/>
                </a:lnTo>
                <a:lnTo>
                  <a:pt x="628" y="0"/>
                </a:lnTo>
                <a:lnTo>
                  <a:pt x="641" y="0"/>
                </a:lnTo>
                <a:lnTo>
                  <a:pt x="655" y="0"/>
                </a:lnTo>
                <a:lnTo>
                  <a:pt x="666" y="0"/>
                </a:lnTo>
                <a:lnTo>
                  <a:pt x="676" y="0"/>
                </a:lnTo>
                <a:lnTo>
                  <a:pt x="685" y="2"/>
                </a:lnTo>
                <a:lnTo>
                  <a:pt x="693" y="4"/>
                </a:lnTo>
                <a:lnTo>
                  <a:pt x="699" y="6"/>
                </a:lnTo>
                <a:lnTo>
                  <a:pt x="705" y="10"/>
                </a:lnTo>
                <a:lnTo>
                  <a:pt x="706" y="13"/>
                </a:lnTo>
                <a:lnTo>
                  <a:pt x="708" y="19"/>
                </a:lnTo>
                <a:lnTo>
                  <a:pt x="710" y="23"/>
                </a:lnTo>
                <a:lnTo>
                  <a:pt x="712" y="29"/>
                </a:lnTo>
                <a:lnTo>
                  <a:pt x="712" y="40"/>
                </a:lnTo>
                <a:lnTo>
                  <a:pt x="714" y="44"/>
                </a:lnTo>
                <a:lnTo>
                  <a:pt x="714" y="48"/>
                </a:lnTo>
                <a:lnTo>
                  <a:pt x="712" y="56"/>
                </a:lnTo>
                <a:lnTo>
                  <a:pt x="710" y="63"/>
                </a:lnTo>
                <a:lnTo>
                  <a:pt x="706" y="71"/>
                </a:lnTo>
                <a:lnTo>
                  <a:pt x="701" y="77"/>
                </a:lnTo>
                <a:lnTo>
                  <a:pt x="693" y="83"/>
                </a:lnTo>
                <a:lnTo>
                  <a:pt x="685" y="88"/>
                </a:lnTo>
                <a:lnTo>
                  <a:pt x="676" y="94"/>
                </a:lnTo>
                <a:lnTo>
                  <a:pt x="666" y="98"/>
                </a:lnTo>
                <a:lnTo>
                  <a:pt x="658" y="102"/>
                </a:lnTo>
                <a:lnTo>
                  <a:pt x="649" y="106"/>
                </a:lnTo>
                <a:lnTo>
                  <a:pt x="639" y="109"/>
                </a:lnTo>
                <a:lnTo>
                  <a:pt x="628" y="113"/>
                </a:lnTo>
                <a:lnTo>
                  <a:pt x="616" y="117"/>
                </a:lnTo>
                <a:lnTo>
                  <a:pt x="603" y="121"/>
                </a:lnTo>
                <a:lnTo>
                  <a:pt x="589" y="125"/>
                </a:lnTo>
                <a:lnTo>
                  <a:pt x="574" y="127"/>
                </a:lnTo>
                <a:lnTo>
                  <a:pt x="559" y="131"/>
                </a:lnTo>
                <a:lnTo>
                  <a:pt x="541" y="134"/>
                </a:lnTo>
                <a:lnTo>
                  <a:pt x="522" y="138"/>
                </a:lnTo>
                <a:lnTo>
                  <a:pt x="503" y="142"/>
                </a:lnTo>
                <a:lnTo>
                  <a:pt x="484" y="146"/>
                </a:lnTo>
                <a:lnTo>
                  <a:pt x="463" y="150"/>
                </a:lnTo>
                <a:lnTo>
                  <a:pt x="442" y="154"/>
                </a:lnTo>
                <a:lnTo>
                  <a:pt x="419" y="157"/>
                </a:lnTo>
                <a:lnTo>
                  <a:pt x="396" y="161"/>
                </a:lnTo>
                <a:lnTo>
                  <a:pt x="374" y="165"/>
                </a:lnTo>
                <a:lnTo>
                  <a:pt x="353" y="167"/>
                </a:lnTo>
                <a:lnTo>
                  <a:pt x="332" y="171"/>
                </a:lnTo>
                <a:lnTo>
                  <a:pt x="313" y="173"/>
                </a:lnTo>
                <a:lnTo>
                  <a:pt x="296" y="177"/>
                </a:lnTo>
                <a:lnTo>
                  <a:pt x="278" y="178"/>
                </a:lnTo>
                <a:lnTo>
                  <a:pt x="263" y="180"/>
                </a:lnTo>
                <a:lnTo>
                  <a:pt x="248" y="182"/>
                </a:lnTo>
                <a:lnTo>
                  <a:pt x="232" y="184"/>
                </a:lnTo>
                <a:lnTo>
                  <a:pt x="221" y="186"/>
                </a:lnTo>
                <a:lnTo>
                  <a:pt x="207" y="188"/>
                </a:lnTo>
                <a:lnTo>
                  <a:pt x="198" y="190"/>
                </a:lnTo>
                <a:lnTo>
                  <a:pt x="186" y="192"/>
                </a:lnTo>
                <a:lnTo>
                  <a:pt x="179" y="194"/>
                </a:lnTo>
                <a:lnTo>
                  <a:pt x="171" y="196"/>
                </a:lnTo>
                <a:lnTo>
                  <a:pt x="156" y="200"/>
                </a:lnTo>
                <a:lnTo>
                  <a:pt x="142" y="200"/>
                </a:lnTo>
                <a:lnTo>
                  <a:pt x="129" y="200"/>
                </a:lnTo>
                <a:lnTo>
                  <a:pt x="115" y="198"/>
                </a:lnTo>
                <a:lnTo>
                  <a:pt x="102" y="194"/>
                </a:lnTo>
                <a:lnTo>
                  <a:pt x="88" y="190"/>
                </a:lnTo>
                <a:lnTo>
                  <a:pt x="77" y="184"/>
                </a:lnTo>
                <a:lnTo>
                  <a:pt x="65" y="177"/>
                </a:lnTo>
                <a:lnTo>
                  <a:pt x="52" y="173"/>
                </a:lnTo>
                <a:lnTo>
                  <a:pt x="41" y="167"/>
                </a:lnTo>
                <a:lnTo>
                  <a:pt x="31" y="161"/>
                </a:lnTo>
                <a:lnTo>
                  <a:pt x="21" y="155"/>
                </a:lnTo>
                <a:lnTo>
                  <a:pt x="14" y="150"/>
                </a:lnTo>
                <a:lnTo>
                  <a:pt x="8" y="142"/>
                </a:lnTo>
                <a:lnTo>
                  <a:pt x="4" y="134"/>
                </a:lnTo>
                <a:lnTo>
                  <a:pt x="0" y="129"/>
                </a:lnTo>
                <a:lnTo>
                  <a:pt x="10" y="125"/>
                </a:lnTo>
                <a:lnTo>
                  <a:pt x="23" y="123"/>
                </a:lnTo>
                <a:lnTo>
                  <a:pt x="37" y="121"/>
                </a:lnTo>
                <a:lnTo>
                  <a:pt x="52" y="117"/>
                </a:lnTo>
                <a:lnTo>
                  <a:pt x="67" y="113"/>
                </a:lnTo>
                <a:lnTo>
                  <a:pt x="85" y="109"/>
                </a:lnTo>
                <a:lnTo>
                  <a:pt x="102" y="106"/>
                </a:lnTo>
                <a:lnTo>
                  <a:pt x="121" y="100"/>
                </a:lnTo>
                <a:lnTo>
                  <a:pt x="142" y="96"/>
                </a:lnTo>
                <a:lnTo>
                  <a:pt x="165" y="90"/>
                </a:lnTo>
                <a:lnTo>
                  <a:pt x="188" y="86"/>
                </a:lnTo>
                <a:lnTo>
                  <a:pt x="211" y="81"/>
                </a:lnTo>
                <a:lnTo>
                  <a:pt x="238" y="75"/>
                </a:lnTo>
                <a:lnTo>
                  <a:pt x="265" y="69"/>
                </a:lnTo>
                <a:lnTo>
                  <a:pt x="294" y="63"/>
                </a:lnTo>
                <a:lnTo>
                  <a:pt x="323" y="6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/>
          <p:cNvSpPr/>
          <p:nvPr/>
        </p:nvSpPr>
        <p:spPr>
          <a:xfrm>
            <a:off x="2489040" y="2905200"/>
            <a:ext cx="1067040" cy="842760"/>
          </a:xfrm>
          <a:custGeom>
            <a:avLst/>
            <a:gdLst/>
            <a:ahLst/>
            <a:rect l="l" t="t" r="r" b="b"/>
            <a:pathLst>
              <a:path w="1345" h="1063">
                <a:moveTo>
                  <a:pt x="821" y="1000"/>
                </a:moveTo>
                <a:lnTo>
                  <a:pt x="781" y="994"/>
                </a:lnTo>
                <a:lnTo>
                  <a:pt x="743" y="990"/>
                </a:lnTo>
                <a:lnTo>
                  <a:pt x="704" y="985"/>
                </a:lnTo>
                <a:lnTo>
                  <a:pt x="670" y="983"/>
                </a:lnTo>
                <a:lnTo>
                  <a:pt x="635" y="979"/>
                </a:lnTo>
                <a:lnTo>
                  <a:pt x="603" y="977"/>
                </a:lnTo>
                <a:lnTo>
                  <a:pt x="570" y="975"/>
                </a:lnTo>
                <a:lnTo>
                  <a:pt x="541" y="975"/>
                </a:lnTo>
                <a:lnTo>
                  <a:pt x="512" y="973"/>
                </a:lnTo>
                <a:lnTo>
                  <a:pt x="484" y="973"/>
                </a:lnTo>
                <a:lnTo>
                  <a:pt x="459" y="973"/>
                </a:lnTo>
                <a:lnTo>
                  <a:pt x="434" y="975"/>
                </a:lnTo>
                <a:lnTo>
                  <a:pt x="409" y="975"/>
                </a:lnTo>
                <a:lnTo>
                  <a:pt x="388" y="977"/>
                </a:lnTo>
                <a:lnTo>
                  <a:pt x="365" y="977"/>
                </a:lnTo>
                <a:lnTo>
                  <a:pt x="345" y="979"/>
                </a:lnTo>
                <a:lnTo>
                  <a:pt x="326" y="981"/>
                </a:lnTo>
                <a:lnTo>
                  <a:pt x="309" y="985"/>
                </a:lnTo>
                <a:lnTo>
                  <a:pt x="292" y="987"/>
                </a:lnTo>
                <a:lnTo>
                  <a:pt x="274" y="989"/>
                </a:lnTo>
                <a:lnTo>
                  <a:pt x="261" y="992"/>
                </a:lnTo>
                <a:lnTo>
                  <a:pt x="246" y="994"/>
                </a:lnTo>
                <a:lnTo>
                  <a:pt x="234" y="998"/>
                </a:lnTo>
                <a:lnTo>
                  <a:pt x="221" y="1000"/>
                </a:lnTo>
                <a:lnTo>
                  <a:pt x="211" y="1004"/>
                </a:lnTo>
                <a:lnTo>
                  <a:pt x="200" y="1008"/>
                </a:lnTo>
                <a:lnTo>
                  <a:pt x="190" y="1012"/>
                </a:lnTo>
                <a:lnTo>
                  <a:pt x="182" y="1013"/>
                </a:lnTo>
                <a:lnTo>
                  <a:pt x="175" y="1017"/>
                </a:lnTo>
                <a:lnTo>
                  <a:pt x="167" y="1021"/>
                </a:lnTo>
                <a:lnTo>
                  <a:pt x="161" y="1025"/>
                </a:lnTo>
                <a:lnTo>
                  <a:pt x="155" y="1029"/>
                </a:lnTo>
                <a:lnTo>
                  <a:pt x="144" y="1037"/>
                </a:lnTo>
                <a:lnTo>
                  <a:pt x="134" y="1042"/>
                </a:lnTo>
                <a:lnTo>
                  <a:pt x="123" y="1046"/>
                </a:lnTo>
                <a:lnTo>
                  <a:pt x="113" y="1052"/>
                </a:lnTo>
                <a:lnTo>
                  <a:pt x="104" y="1054"/>
                </a:lnTo>
                <a:lnTo>
                  <a:pt x="94" y="1056"/>
                </a:lnTo>
                <a:lnTo>
                  <a:pt x="86" y="1058"/>
                </a:lnTo>
                <a:lnTo>
                  <a:pt x="79" y="1058"/>
                </a:lnTo>
                <a:lnTo>
                  <a:pt x="71" y="1058"/>
                </a:lnTo>
                <a:lnTo>
                  <a:pt x="65" y="1054"/>
                </a:lnTo>
                <a:lnTo>
                  <a:pt x="58" y="1050"/>
                </a:lnTo>
                <a:lnTo>
                  <a:pt x="50" y="1044"/>
                </a:lnTo>
                <a:lnTo>
                  <a:pt x="42" y="1035"/>
                </a:lnTo>
                <a:lnTo>
                  <a:pt x="36" y="1025"/>
                </a:lnTo>
                <a:lnTo>
                  <a:pt x="29" y="1013"/>
                </a:lnTo>
                <a:lnTo>
                  <a:pt x="21" y="1000"/>
                </a:lnTo>
                <a:lnTo>
                  <a:pt x="15" y="989"/>
                </a:lnTo>
                <a:lnTo>
                  <a:pt x="10" y="977"/>
                </a:lnTo>
                <a:lnTo>
                  <a:pt x="6" y="966"/>
                </a:lnTo>
                <a:lnTo>
                  <a:pt x="2" y="956"/>
                </a:lnTo>
                <a:lnTo>
                  <a:pt x="0" y="944"/>
                </a:lnTo>
                <a:lnTo>
                  <a:pt x="0" y="933"/>
                </a:lnTo>
                <a:lnTo>
                  <a:pt x="0" y="921"/>
                </a:lnTo>
                <a:lnTo>
                  <a:pt x="2" y="912"/>
                </a:lnTo>
                <a:lnTo>
                  <a:pt x="4" y="904"/>
                </a:lnTo>
                <a:lnTo>
                  <a:pt x="4" y="896"/>
                </a:lnTo>
                <a:lnTo>
                  <a:pt x="8" y="889"/>
                </a:lnTo>
                <a:lnTo>
                  <a:pt x="12" y="883"/>
                </a:lnTo>
                <a:lnTo>
                  <a:pt x="15" y="877"/>
                </a:lnTo>
                <a:lnTo>
                  <a:pt x="23" y="871"/>
                </a:lnTo>
                <a:lnTo>
                  <a:pt x="31" y="866"/>
                </a:lnTo>
                <a:lnTo>
                  <a:pt x="40" y="862"/>
                </a:lnTo>
                <a:lnTo>
                  <a:pt x="52" y="856"/>
                </a:lnTo>
                <a:lnTo>
                  <a:pt x="61" y="850"/>
                </a:lnTo>
                <a:lnTo>
                  <a:pt x="73" y="843"/>
                </a:lnTo>
                <a:lnTo>
                  <a:pt x="84" y="833"/>
                </a:lnTo>
                <a:lnTo>
                  <a:pt x="94" y="820"/>
                </a:lnTo>
                <a:lnTo>
                  <a:pt x="106" y="806"/>
                </a:lnTo>
                <a:lnTo>
                  <a:pt x="115" y="791"/>
                </a:lnTo>
                <a:lnTo>
                  <a:pt x="121" y="781"/>
                </a:lnTo>
                <a:lnTo>
                  <a:pt x="127" y="774"/>
                </a:lnTo>
                <a:lnTo>
                  <a:pt x="132" y="764"/>
                </a:lnTo>
                <a:lnTo>
                  <a:pt x="138" y="752"/>
                </a:lnTo>
                <a:lnTo>
                  <a:pt x="144" y="741"/>
                </a:lnTo>
                <a:lnTo>
                  <a:pt x="150" y="728"/>
                </a:lnTo>
                <a:lnTo>
                  <a:pt x="155" y="714"/>
                </a:lnTo>
                <a:lnTo>
                  <a:pt x="161" y="701"/>
                </a:lnTo>
                <a:lnTo>
                  <a:pt x="169" y="683"/>
                </a:lnTo>
                <a:lnTo>
                  <a:pt x="175" y="668"/>
                </a:lnTo>
                <a:lnTo>
                  <a:pt x="182" y="649"/>
                </a:lnTo>
                <a:lnTo>
                  <a:pt x="188" y="630"/>
                </a:lnTo>
                <a:lnTo>
                  <a:pt x="196" y="609"/>
                </a:lnTo>
                <a:lnTo>
                  <a:pt x="203" y="587"/>
                </a:lnTo>
                <a:lnTo>
                  <a:pt x="209" y="564"/>
                </a:lnTo>
                <a:lnTo>
                  <a:pt x="217" y="539"/>
                </a:lnTo>
                <a:lnTo>
                  <a:pt x="225" y="515"/>
                </a:lnTo>
                <a:lnTo>
                  <a:pt x="230" y="488"/>
                </a:lnTo>
                <a:lnTo>
                  <a:pt x="238" y="463"/>
                </a:lnTo>
                <a:lnTo>
                  <a:pt x="244" y="438"/>
                </a:lnTo>
                <a:lnTo>
                  <a:pt x="249" y="415"/>
                </a:lnTo>
                <a:lnTo>
                  <a:pt x="255" y="392"/>
                </a:lnTo>
                <a:lnTo>
                  <a:pt x="261" y="371"/>
                </a:lnTo>
                <a:lnTo>
                  <a:pt x="265" y="349"/>
                </a:lnTo>
                <a:lnTo>
                  <a:pt x="271" y="328"/>
                </a:lnTo>
                <a:lnTo>
                  <a:pt x="274" y="309"/>
                </a:lnTo>
                <a:lnTo>
                  <a:pt x="276" y="290"/>
                </a:lnTo>
                <a:lnTo>
                  <a:pt x="280" y="273"/>
                </a:lnTo>
                <a:lnTo>
                  <a:pt x="282" y="255"/>
                </a:lnTo>
                <a:lnTo>
                  <a:pt x="284" y="240"/>
                </a:lnTo>
                <a:lnTo>
                  <a:pt x="286" y="225"/>
                </a:lnTo>
                <a:lnTo>
                  <a:pt x="288" y="209"/>
                </a:lnTo>
                <a:lnTo>
                  <a:pt x="288" y="196"/>
                </a:lnTo>
                <a:lnTo>
                  <a:pt x="288" y="182"/>
                </a:lnTo>
                <a:lnTo>
                  <a:pt x="288" y="161"/>
                </a:lnTo>
                <a:lnTo>
                  <a:pt x="288" y="142"/>
                </a:lnTo>
                <a:lnTo>
                  <a:pt x="288" y="123"/>
                </a:lnTo>
                <a:lnTo>
                  <a:pt x="290" y="108"/>
                </a:lnTo>
                <a:lnTo>
                  <a:pt x="290" y="92"/>
                </a:lnTo>
                <a:lnTo>
                  <a:pt x="292" y="79"/>
                </a:lnTo>
                <a:lnTo>
                  <a:pt x="296" y="65"/>
                </a:lnTo>
                <a:lnTo>
                  <a:pt x="297" y="54"/>
                </a:lnTo>
                <a:lnTo>
                  <a:pt x="297" y="48"/>
                </a:lnTo>
                <a:lnTo>
                  <a:pt x="299" y="40"/>
                </a:lnTo>
                <a:lnTo>
                  <a:pt x="301" y="33"/>
                </a:lnTo>
                <a:lnTo>
                  <a:pt x="303" y="27"/>
                </a:lnTo>
                <a:lnTo>
                  <a:pt x="307" y="19"/>
                </a:lnTo>
                <a:lnTo>
                  <a:pt x="309" y="14"/>
                </a:lnTo>
                <a:lnTo>
                  <a:pt x="313" y="10"/>
                </a:lnTo>
                <a:lnTo>
                  <a:pt x="317" y="6"/>
                </a:lnTo>
                <a:lnTo>
                  <a:pt x="319" y="4"/>
                </a:lnTo>
                <a:lnTo>
                  <a:pt x="322" y="2"/>
                </a:lnTo>
                <a:lnTo>
                  <a:pt x="324" y="0"/>
                </a:lnTo>
                <a:lnTo>
                  <a:pt x="330" y="0"/>
                </a:lnTo>
                <a:lnTo>
                  <a:pt x="334" y="0"/>
                </a:lnTo>
                <a:lnTo>
                  <a:pt x="340" y="0"/>
                </a:lnTo>
                <a:lnTo>
                  <a:pt x="345" y="0"/>
                </a:lnTo>
                <a:lnTo>
                  <a:pt x="353" y="0"/>
                </a:lnTo>
                <a:lnTo>
                  <a:pt x="361" y="2"/>
                </a:lnTo>
                <a:lnTo>
                  <a:pt x="368" y="2"/>
                </a:lnTo>
                <a:lnTo>
                  <a:pt x="376" y="6"/>
                </a:lnTo>
                <a:lnTo>
                  <a:pt x="386" y="8"/>
                </a:lnTo>
                <a:lnTo>
                  <a:pt x="397" y="12"/>
                </a:lnTo>
                <a:lnTo>
                  <a:pt x="407" y="16"/>
                </a:lnTo>
                <a:lnTo>
                  <a:pt x="418" y="19"/>
                </a:lnTo>
                <a:lnTo>
                  <a:pt x="432" y="25"/>
                </a:lnTo>
                <a:lnTo>
                  <a:pt x="424" y="71"/>
                </a:lnTo>
                <a:lnTo>
                  <a:pt x="416" y="115"/>
                </a:lnTo>
                <a:lnTo>
                  <a:pt x="409" y="158"/>
                </a:lnTo>
                <a:lnTo>
                  <a:pt x="401" y="200"/>
                </a:lnTo>
                <a:lnTo>
                  <a:pt x="393" y="242"/>
                </a:lnTo>
                <a:lnTo>
                  <a:pt x="384" y="282"/>
                </a:lnTo>
                <a:lnTo>
                  <a:pt x="376" y="321"/>
                </a:lnTo>
                <a:lnTo>
                  <a:pt x="367" y="359"/>
                </a:lnTo>
                <a:lnTo>
                  <a:pt x="357" y="396"/>
                </a:lnTo>
                <a:lnTo>
                  <a:pt x="347" y="430"/>
                </a:lnTo>
                <a:lnTo>
                  <a:pt x="338" y="467"/>
                </a:lnTo>
                <a:lnTo>
                  <a:pt x="328" y="499"/>
                </a:lnTo>
                <a:lnTo>
                  <a:pt x="319" y="532"/>
                </a:lnTo>
                <a:lnTo>
                  <a:pt x="309" y="564"/>
                </a:lnTo>
                <a:lnTo>
                  <a:pt x="299" y="595"/>
                </a:lnTo>
                <a:lnTo>
                  <a:pt x="288" y="626"/>
                </a:lnTo>
                <a:lnTo>
                  <a:pt x="278" y="655"/>
                </a:lnTo>
                <a:lnTo>
                  <a:pt x="269" y="681"/>
                </a:lnTo>
                <a:lnTo>
                  <a:pt x="259" y="706"/>
                </a:lnTo>
                <a:lnTo>
                  <a:pt x="251" y="729"/>
                </a:lnTo>
                <a:lnTo>
                  <a:pt x="244" y="751"/>
                </a:lnTo>
                <a:lnTo>
                  <a:pt x="236" y="770"/>
                </a:lnTo>
                <a:lnTo>
                  <a:pt x="230" y="787"/>
                </a:lnTo>
                <a:lnTo>
                  <a:pt x="225" y="804"/>
                </a:lnTo>
                <a:lnTo>
                  <a:pt x="221" y="818"/>
                </a:lnTo>
                <a:lnTo>
                  <a:pt x="217" y="831"/>
                </a:lnTo>
                <a:lnTo>
                  <a:pt x="215" y="843"/>
                </a:lnTo>
                <a:lnTo>
                  <a:pt x="211" y="850"/>
                </a:lnTo>
                <a:lnTo>
                  <a:pt x="211" y="858"/>
                </a:lnTo>
                <a:lnTo>
                  <a:pt x="211" y="864"/>
                </a:lnTo>
                <a:lnTo>
                  <a:pt x="211" y="870"/>
                </a:lnTo>
                <a:lnTo>
                  <a:pt x="213" y="871"/>
                </a:lnTo>
                <a:lnTo>
                  <a:pt x="219" y="879"/>
                </a:lnTo>
                <a:lnTo>
                  <a:pt x="226" y="885"/>
                </a:lnTo>
                <a:lnTo>
                  <a:pt x="230" y="887"/>
                </a:lnTo>
                <a:lnTo>
                  <a:pt x="234" y="889"/>
                </a:lnTo>
                <a:lnTo>
                  <a:pt x="238" y="891"/>
                </a:lnTo>
                <a:lnTo>
                  <a:pt x="240" y="891"/>
                </a:lnTo>
                <a:lnTo>
                  <a:pt x="244" y="891"/>
                </a:lnTo>
                <a:lnTo>
                  <a:pt x="246" y="891"/>
                </a:lnTo>
                <a:lnTo>
                  <a:pt x="249" y="891"/>
                </a:lnTo>
                <a:lnTo>
                  <a:pt x="255" y="889"/>
                </a:lnTo>
                <a:lnTo>
                  <a:pt x="261" y="889"/>
                </a:lnTo>
                <a:lnTo>
                  <a:pt x="269" y="887"/>
                </a:lnTo>
                <a:lnTo>
                  <a:pt x="276" y="887"/>
                </a:lnTo>
                <a:lnTo>
                  <a:pt x="286" y="885"/>
                </a:lnTo>
                <a:lnTo>
                  <a:pt x="296" y="883"/>
                </a:lnTo>
                <a:lnTo>
                  <a:pt x="307" y="883"/>
                </a:lnTo>
                <a:lnTo>
                  <a:pt x="320" y="881"/>
                </a:lnTo>
                <a:lnTo>
                  <a:pt x="334" y="879"/>
                </a:lnTo>
                <a:lnTo>
                  <a:pt x="349" y="877"/>
                </a:lnTo>
                <a:lnTo>
                  <a:pt x="367" y="875"/>
                </a:lnTo>
                <a:lnTo>
                  <a:pt x="384" y="873"/>
                </a:lnTo>
                <a:lnTo>
                  <a:pt x="403" y="871"/>
                </a:lnTo>
                <a:lnTo>
                  <a:pt x="422" y="870"/>
                </a:lnTo>
                <a:lnTo>
                  <a:pt x="439" y="868"/>
                </a:lnTo>
                <a:lnTo>
                  <a:pt x="457" y="868"/>
                </a:lnTo>
                <a:lnTo>
                  <a:pt x="474" y="866"/>
                </a:lnTo>
                <a:lnTo>
                  <a:pt x="489" y="866"/>
                </a:lnTo>
                <a:lnTo>
                  <a:pt x="505" y="864"/>
                </a:lnTo>
                <a:lnTo>
                  <a:pt x="518" y="864"/>
                </a:lnTo>
                <a:lnTo>
                  <a:pt x="532" y="862"/>
                </a:lnTo>
                <a:lnTo>
                  <a:pt x="545" y="862"/>
                </a:lnTo>
                <a:lnTo>
                  <a:pt x="557" y="862"/>
                </a:lnTo>
                <a:lnTo>
                  <a:pt x="568" y="862"/>
                </a:lnTo>
                <a:lnTo>
                  <a:pt x="578" y="862"/>
                </a:lnTo>
                <a:lnTo>
                  <a:pt x="587" y="862"/>
                </a:lnTo>
                <a:lnTo>
                  <a:pt x="597" y="862"/>
                </a:lnTo>
                <a:lnTo>
                  <a:pt x="605" y="862"/>
                </a:lnTo>
                <a:lnTo>
                  <a:pt x="612" y="862"/>
                </a:lnTo>
                <a:lnTo>
                  <a:pt x="618" y="862"/>
                </a:lnTo>
                <a:lnTo>
                  <a:pt x="626" y="862"/>
                </a:lnTo>
                <a:lnTo>
                  <a:pt x="635" y="862"/>
                </a:lnTo>
                <a:lnTo>
                  <a:pt x="645" y="862"/>
                </a:lnTo>
                <a:lnTo>
                  <a:pt x="658" y="862"/>
                </a:lnTo>
                <a:lnTo>
                  <a:pt x="672" y="862"/>
                </a:lnTo>
                <a:lnTo>
                  <a:pt x="687" y="862"/>
                </a:lnTo>
                <a:lnTo>
                  <a:pt x="704" y="862"/>
                </a:lnTo>
                <a:lnTo>
                  <a:pt x="723" y="864"/>
                </a:lnTo>
                <a:lnTo>
                  <a:pt x="743" y="864"/>
                </a:lnTo>
                <a:lnTo>
                  <a:pt x="766" y="866"/>
                </a:lnTo>
                <a:lnTo>
                  <a:pt x="789" y="866"/>
                </a:lnTo>
                <a:lnTo>
                  <a:pt x="814" y="868"/>
                </a:lnTo>
                <a:lnTo>
                  <a:pt x="841" y="868"/>
                </a:lnTo>
                <a:lnTo>
                  <a:pt x="867" y="870"/>
                </a:lnTo>
                <a:lnTo>
                  <a:pt x="898" y="871"/>
                </a:lnTo>
                <a:lnTo>
                  <a:pt x="927" y="873"/>
                </a:lnTo>
                <a:lnTo>
                  <a:pt x="956" y="875"/>
                </a:lnTo>
                <a:lnTo>
                  <a:pt x="983" y="879"/>
                </a:lnTo>
                <a:lnTo>
                  <a:pt x="1009" y="883"/>
                </a:lnTo>
                <a:lnTo>
                  <a:pt x="1034" y="887"/>
                </a:lnTo>
                <a:lnTo>
                  <a:pt x="1059" y="891"/>
                </a:lnTo>
                <a:lnTo>
                  <a:pt x="1082" y="894"/>
                </a:lnTo>
                <a:lnTo>
                  <a:pt x="1103" y="898"/>
                </a:lnTo>
                <a:lnTo>
                  <a:pt x="1125" y="904"/>
                </a:lnTo>
                <a:lnTo>
                  <a:pt x="1146" y="908"/>
                </a:lnTo>
                <a:lnTo>
                  <a:pt x="1163" y="914"/>
                </a:lnTo>
                <a:lnTo>
                  <a:pt x="1180" y="918"/>
                </a:lnTo>
                <a:lnTo>
                  <a:pt x="1198" y="923"/>
                </a:lnTo>
                <a:lnTo>
                  <a:pt x="1213" y="929"/>
                </a:lnTo>
                <a:lnTo>
                  <a:pt x="1226" y="935"/>
                </a:lnTo>
                <a:lnTo>
                  <a:pt x="1240" y="941"/>
                </a:lnTo>
                <a:lnTo>
                  <a:pt x="1251" y="948"/>
                </a:lnTo>
                <a:lnTo>
                  <a:pt x="1263" y="954"/>
                </a:lnTo>
                <a:lnTo>
                  <a:pt x="1274" y="962"/>
                </a:lnTo>
                <a:lnTo>
                  <a:pt x="1284" y="967"/>
                </a:lnTo>
                <a:lnTo>
                  <a:pt x="1293" y="975"/>
                </a:lnTo>
                <a:lnTo>
                  <a:pt x="1301" y="981"/>
                </a:lnTo>
                <a:lnTo>
                  <a:pt x="1311" y="987"/>
                </a:lnTo>
                <a:lnTo>
                  <a:pt x="1316" y="994"/>
                </a:lnTo>
                <a:lnTo>
                  <a:pt x="1322" y="1000"/>
                </a:lnTo>
                <a:lnTo>
                  <a:pt x="1328" y="1006"/>
                </a:lnTo>
                <a:lnTo>
                  <a:pt x="1334" y="1012"/>
                </a:lnTo>
                <a:lnTo>
                  <a:pt x="1338" y="1017"/>
                </a:lnTo>
                <a:lnTo>
                  <a:pt x="1340" y="1021"/>
                </a:lnTo>
                <a:lnTo>
                  <a:pt x="1343" y="1027"/>
                </a:lnTo>
                <a:lnTo>
                  <a:pt x="1343" y="1033"/>
                </a:lnTo>
                <a:lnTo>
                  <a:pt x="1345" y="1038"/>
                </a:lnTo>
                <a:lnTo>
                  <a:pt x="1343" y="1044"/>
                </a:lnTo>
                <a:lnTo>
                  <a:pt x="1343" y="1048"/>
                </a:lnTo>
                <a:lnTo>
                  <a:pt x="1341" y="1052"/>
                </a:lnTo>
                <a:lnTo>
                  <a:pt x="1340" y="1056"/>
                </a:lnTo>
                <a:lnTo>
                  <a:pt x="1336" y="1058"/>
                </a:lnTo>
                <a:lnTo>
                  <a:pt x="1332" y="1060"/>
                </a:lnTo>
                <a:lnTo>
                  <a:pt x="1328" y="1061"/>
                </a:lnTo>
                <a:lnTo>
                  <a:pt x="1322" y="1061"/>
                </a:lnTo>
                <a:lnTo>
                  <a:pt x="1316" y="1063"/>
                </a:lnTo>
                <a:lnTo>
                  <a:pt x="1309" y="1061"/>
                </a:lnTo>
                <a:lnTo>
                  <a:pt x="1301" y="1061"/>
                </a:lnTo>
                <a:lnTo>
                  <a:pt x="1292" y="1060"/>
                </a:lnTo>
                <a:lnTo>
                  <a:pt x="1282" y="1058"/>
                </a:lnTo>
                <a:lnTo>
                  <a:pt x="1272" y="1056"/>
                </a:lnTo>
                <a:lnTo>
                  <a:pt x="1261" y="1052"/>
                </a:lnTo>
                <a:lnTo>
                  <a:pt x="1249" y="1048"/>
                </a:lnTo>
                <a:lnTo>
                  <a:pt x="1236" y="1046"/>
                </a:lnTo>
                <a:lnTo>
                  <a:pt x="1221" y="1044"/>
                </a:lnTo>
                <a:lnTo>
                  <a:pt x="1203" y="1042"/>
                </a:lnTo>
                <a:lnTo>
                  <a:pt x="1186" y="1040"/>
                </a:lnTo>
                <a:lnTo>
                  <a:pt x="1165" y="1037"/>
                </a:lnTo>
                <a:lnTo>
                  <a:pt x="1142" y="1035"/>
                </a:lnTo>
                <a:lnTo>
                  <a:pt x="1119" y="1031"/>
                </a:lnTo>
                <a:lnTo>
                  <a:pt x="1092" y="1027"/>
                </a:lnTo>
                <a:lnTo>
                  <a:pt x="1065" y="1025"/>
                </a:lnTo>
                <a:lnTo>
                  <a:pt x="1034" y="1021"/>
                </a:lnTo>
                <a:lnTo>
                  <a:pt x="1004" y="1017"/>
                </a:lnTo>
                <a:lnTo>
                  <a:pt x="971" y="1013"/>
                </a:lnTo>
                <a:lnTo>
                  <a:pt x="937" y="1010"/>
                </a:lnTo>
                <a:lnTo>
                  <a:pt x="900" y="1008"/>
                </a:lnTo>
                <a:lnTo>
                  <a:pt x="862" y="1004"/>
                </a:lnTo>
                <a:lnTo>
                  <a:pt x="821" y="100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3"/>
          <p:cNvSpPr/>
          <p:nvPr/>
        </p:nvSpPr>
        <p:spPr>
          <a:xfrm>
            <a:off x="2371680" y="3160800"/>
            <a:ext cx="1359000" cy="210960"/>
          </a:xfrm>
          <a:custGeom>
            <a:avLst/>
            <a:gdLst/>
            <a:ahLst/>
            <a:rect l="l" t="t" r="r" b="b"/>
            <a:pathLst>
              <a:path w="1712" h="266">
                <a:moveTo>
                  <a:pt x="1568" y="7"/>
                </a:moveTo>
                <a:lnTo>
                  <a:pt x="1597" y="15"/>
                </a:lnTo>
                <a:lnTo>
                  <a:pt x="1610" y="19"/>
                </a:lnTo>
                <a:lnTo>
                  <a:pt x="1624" y="25"/>
                </a:lnTo>
                <a:lnTo>
                  <a:pt x="1637" y="30"/>
                </a:lnTo>
                <a:lnTo>
                  <a:pt x="1651" y="38"/>
                </a:lnTo>
                <a:lnTo>
                  <a:pt x="1662" y="46"/>
                </a:lnTo>
                <a:lnTo>
                  <a:pt x="1674" y="57"/>
                </a:lnTo>
                <a:lnTo>
                  <a:pt x="1683" y="67"/>
                </a:lnTo>
                <a:lnTo>
                  <a:pt x="1691" y="76"/>
                </a:lnTo>
                <a:lnTo>
                  <a:pt x="1699" y="86"/>
                </a:lnTo>
                <a:lnTo>
                  <a:pt x="1702" y="94"/>
                </a:lnTo>
                <a:lnTo>
                  <a:pt x="1706" y="99"/>
                </a:lnTo>
                <a:lnTo>
                  <a:pt x="1710" y="107"/>
                </a:lnTo>
                <a:lnTo>
                  <a:pt x="1710" y="111"/>
                </a:lnTo>
                <a:lnTo>
                  <a:pt x="1712" y="115"/>
                </a:lnTo>
                <a:lnTo>
                  <a:pt x="1710" y="117"/>
                </a:lnTo>
                <a:lnTo>
                  <a:pt x="1710" y="119"/>
                </a:lnTo>
                <a:lnTo>
                  <a:pt x="1708" y="120"/>
                </a:lnTo>
                <a:lnTo>
                  <a:pt x="1706" y="122"/>
                </a:lnTo>
                <a:lnTo>
                  <a:pt x="1702" y="124"/>
                </a:lnTo>
                <a:lnTo>
                  <a:pt x="1699" y="126"/>
                </a:lnTo>
                <a:lnTo>
                  <a:pt x="1693" y="126"/>
                </a:lnTo>
                <a:lnTo>
                  <a:pt x="1689" y="128"/>
                </a:lnTo>
                <a:lnTo>
                  <a:pt x="1681" y="130"/>
                </a:lnTo>
                <a:lnTo>
                  <a:pt x="1676" y="132"/>
                </a:lnTo>
                <a:lnTo>
                  <a:pt x="1668" y="132"/>
                </a:lnTo>
                <a:lnTo>
                  <a:pt x="1660" y="134"/>
                </a:lnTo>
                <a:lnTo>
                  <a:pt x="1651" y="134"/>
                </a:lnTo>
                <a:lnTo>
                  <a:pt x="1641" y="136"/>
                </a:lnTo>
                <a:lnTo>
                  <a:pt x="1631" y="136"/>
                </a:lnTo>
                <a:lnTo>
                  <a:pt x="1620" y="138"/>
                </a:lnTo>
                <a:lnTo>
                  <a:pt x="1608" y="138"/>
                </a:lnTo>
                <a:lnTo>
                  <a:pt x="1595" y="140"/>
                </a:lnTo>
                <a:lnTo>
                  <a:pt x="1582" y="140"/>
                </a:lnTo>
                <a:lnTo>
                  <a:pt x="1568" y="142"/>
                </a:lnTo>
                <a:lnTo>
                  <a:pt x="1555" y="142"/>
                </a:lnTo>
                <a:lnTo>
                  <a:pt x="1539" y="142"/>
                </a:lnTo>
                <a:lnTo>
                  <a:pt x="1524" y="144"/>
                </a:lnTo>
                <a:lnTo>
                  <a:pt x="1507" y="144"/>
                </a:lnTo>
                <a:lnTo>
                  <a:pt x="1489" y="144"/>
                </a:lnTo>
                <a:lnTo>
                  <a:pt x="1472" y="144"/>
                </a:lnTo>
                <a:lnTo>
                  <a:pt x="1453" y="144"/>
                </a:lnTo>
                <a:lnTo>
                  <a:pt x="1434" y="145"/>
                </a:lnTo>
                <a:lnTo>
                  <a:pt x="1413" y="145"/>
                </a:lnTo>
                <a:lnTo>
                  <a:pt x="1393" y="145"/>
                </a:lnTo>
                <a:lnTo>
                  <a:pt x="1372" y="145"/>
                </a:lnTo>
                <a:lnTo>
                  <a:pt x="1349" y="145"/>
                </a:lnTo>
                <a:lnTo>
                  <a:pt x="1303" y="147"/>
                </a:lnTo>
                <a:lnTo>
                  <a:pt x="1261" y="149"/>
                </a:lnTo>
                <a:lnTo>
                  <a:pt x="1219" y="151"/>
                </a:lnTo>
                <a:lnTo>
                  <a:pt x="1179" y="153"/>
                </a:lnTo>
                <a:lnTo>
                  <a:pt x="1140" y="155"/>
                </a:lnTo>
                <a:lnTo>
                  <a:pt x="1104" y="157"/>
                </a:lnTo>
                <a:lnTo>
                  <a:pt x="1067" y="159"/>
                </a:lnTo>
                <a:lnTo>
                  <a:pt x="1035" y="159"/>
                </a:lnTo>
                <a:lnTo>
                  <a:pt x="1002" y="161"/>
                </a:lnTo>
                <a:lnTo>
                  <a:pt x="973" y="163"/>
                </a:lnTo>
                <a:lnTo>
                  <a:pt x="944" y="165"/>
                </a:lnTo>
                <a:lnTo>
                  <a:pt x="918" y="167"/>
                </a:lnTo>
                <a:lnTo>
                  <a:pt x="893" y="168"/>
                </a:lnTo>
                <a:lnTo>
                  <a:pt x="870" y="170"/>
                </a:lnTo>
                <a:lnTo>
                  <a:pt x="847" y="172"/>
                </a:lnTo>
                <a:lnTo>
                  <a:pt x="825" y="174"/>
                </a:lnTo>
                <a:lnTo>
                  <a:pt x="806" y="176"/>
                </a:lnTo>
                <a:lnTo>
                  <a:pt x="785" y="178"/>
                </a:lnTo>
                <a:lnTo>
                  <a:pt x="764" y="182"/>
                </a:lnTo>
                <a:lnTo>
                  <a:pt x="741" y="184"/>
                </a:lnTo>
                <a:lnTo>
                  <a:pt x="718" y="186"/>
                </a:lnTo>
                <a:lnTo>
                  <a:pt x="693" y="190"/>
                </a:lnTo>
                <a:lnTo>
                  <a:pt x="668" y="193"/>
                </a:lnTo>
                <a:lnTo>
                  <a:pt x="641" y="197"/>
                </a:lnTo>
                <a:lnTo>
                  <a:pt x="614" y="201"/>
                </a:lnTo>
                <a:lnTo>
                  <a:pt x="587" y="205"/>
                </a:lnTo>
                <a:lnTo>
                  <a:pt x="559" y="209"/>
                </a:lnTo>
                <a:lnTo>
                  <a:pt x="530" y="213"/>
                </a:lnTo>
                <a:lnTo>
                  <a:pt x="501" y="218"/>
                </a:lnTo>
                <a:lnTo>
                  <a:pt x="470" y="222"/>
                </a:lnTo>
                <a:lnTo>
                  <a:pt x="440" y="228"/>
                </a:lnTo>
                <a:lnTo>
                  <a:pt x="407" y="234"/>
                </a:lnTo>
                <a:lnTo>
                  <a:pt x="376" y="239"/>
                </a:lnTo>
                <a:lnTo>
                  <a:pt x="346" y="243"/>
                </a:lnTo>
                <a:lnTo>
                  <a:pt x="319" y="249"/>
                </a:lnTo>
                <a:lnTo>
                  <a:pt x="292" y="253"/>
                </a:lnTo>
                <a:lnTo>
                  <a:pt x="267" y="255"/>
                </a:lnTo>
                <a:lnTo>
                  <a:pt x="242" y="259"/>
                </a:lnTo>
                <a:lnTo>
                  <a:pt x="221" y="261"/>
                </a:lnTo>
                <a:lnTo>
                  <a:pt x="200" y="263"/>
                </a:lnTo>
                <a:lnTo>
                  <a:pt x="183" y="264"/>
                </a:lnTo>
                <a:lnTo>
                  <a:pt x="165" y="266"/>
                </a:lnTo>
                <a:lnTo>
                  <a:pt x="148" y="266"/>
                </a:lnTo>
                <a:lnTo>
                  <a:pt x="135" y="266"/>
                </a:lnTo>
                <a:lnTo>
                  <a:pt x="121" y="266"/>
                </a:lnTo>
                <a:lnTo>
                  <a:pt x="112" y="266"/>
                </a:lnTo>
                <a:lnTo>
                  <a:pt x="102" y="264"/>
                </a:lnTo>
                <a:lnTo>
                  <a:pt x="94" y="263"/>
                </a:lnTo>
                <a:lnTo>
                  <a:pt x="77" y="259"/>
                </a:lnTo>
                <a:lnTo>
                  <a:pt x="62" y="255"/>
                </a:lnTo>
                <a:lnTo>
                  <a:pt x="48" y="251"/>
                </a:lnTo>
                <a:lnTo>
                  <a:pt x="37" y="245"/>
                </a:lnTo>
                <a:lnTo>
                  <a:pt x="27" y="239"/>
                </a:lnTo>
                <a:lnTo>
                  <a:pt x="19" y="232"/>
                </a:lnTo>
                <a:lnTo>
                  <a:pt x="12" y="224"/>
                </a:lnTo>
                <a:lnTo>
                  <a:pt x="8" y="215"/>
                </a:lnTo>
                <a:lnTo>
                  <a:pt x="4" y="203"/>
                </a:lnTo>
                <a:lnTo>
                  <a:pt x="2" y="195"/>
                </a:lnTo>
                <a:lnTo>
                  <a:pt x="2" y="188"/>
                </a:lnTo>
                <a:lnTo>
                  <a:pt x="0" y="182"/>
                </a:lnTo>
                <a:lnTo>
                  <a:pt x="2" y="176"/>
                </a:lnTo>
                <a:lnTo>
                  <a:pt x="2" y="172"/>
                </a:lnTo>
                <a:lnTo>
                  <a:pt x="4" y="168"/>
                </a:lnTo>
                <a:lnTo>
                  <a:pt x="8" y="165"/>
                </a:lnTo>
                <a:lnTo>
                  <a:pt x="10" y="165"/>
                </a:lnTo>
                <a:lnTo>
                  <a:pt x="14" y="165"/>
                </a:lnTo>
                <a:lnTo>
                  <a:pt x="16" y="165"/>
                </a:lnTo>
                <a:lnTo>
                  <a:pt x="21" y="165"/>
                </a:lnTo>
                <a:lnTo>
                  <a:pt x="25" y="165"/>
                </a:lnTo>
                <a:lnTo>
                  <a:pt x="31" y="165"/>
                </a:lnTo>
                <a:lnTo>
                  <a:pt x="37" y="165"/>
                </a:lnTo>
                <a:lnTo>
                  <a:pt x="44" y="163"/>
                </a:lnTo>
                <a:lnTo>
                  <a:pt x="52" y="163"/>
                </a:lnTo>
                <a:lnTo>
                  <a:pt x="60" y="163"/>
                </a:lnTo>
                <a:lnTo>
                  <a:pt x="67" y="161"/>
                </a:lnTo>
                <a:lnTo>
                  <a:pt x="77" y="161"/>
                </a:lnTo>
                <a:lnTo>
                  <a:pt x="89" y="159"/>
                </a:lnTo>
                <a:lnTo>
                  <a:pt x="98" y="159"/>
                </a:lnTo>
                <a:lnTo>
                  <a:pt x="110" y="157"/>
                </a:lnTo>
                <a:lnTo>
                  <a:pt x="123" y="155"/>
                </a:lnTo>
                <a:lnTo>
                  <a:pt x="135" y="155"/>
                </a:lnTo>
                <a:lnTo>
                  <a:pt x="146" y="155"/>
                </a:lnTo>
                <a:lnTo>
                  <a:pt x="161" y="153"/>
                </a:lnTo>
                <a:lnTo>
                  <a:pt x="177" y="153"/>
                </a:lnTo>
                <a:lnTo>
                  <a:pt x="194" y="151"/>
                </a:lnTo>
                <a:lnTo>
                  <a:pt x="213" y="151"/>
                </a:lnTo>
                <a:lnTo>
                  <a:pt x="234" y="149"/>
                </a:lnTo>
                <a:lnTo>
                  <a:pt x="257" y="147"/>
                </a:lnTo>
                <a:lnTo>
                  <a:pt x="280" y="145"/>
                </a:lnTo>
                <a:lnTo>
                  <a:pt x="305" y="144"/>
                </a:lnTo>
                <a:lnTo>
                  <a:pt x="330" y="142"/>
                </a:lnTo>
                <a:lnTo>
                  <a:pt x="359" y="138"/>
                </a:lnTo>
                <a:lnTo>
                  <a:pt x="388" y="136"/>
                </a:lnTo>
                <a:lnTo>
                  <a:pt x="419" y="132"/>
                </a:lnTo>
                <a:lnTo>
                  <a:pt x="451" y="128"/>
                </a:lnTo>
                <a:lnTo>
                  <a:pt x="484" y="126"/>
                </a:lnTo>
                <a:lnTo>
                  <a:pt x="620" y="111"/>
                </a:lnTo>
                <a:lnTo>
                  <a:pt x="756" y="94"/>
                </a:lnTo>
                <a:lnTo>
                  <a:pt x="825" y="86"/>
                </a:lnTo>
                <a:lnTo>
                  <a:pt x="895" y="76"/>
                </a:lnTo>
                <a:lnTo>
                  <a:pt x="966" y="67"/>
                </a:lnTo>
                <a:lnTo>
                  <a:pt x="1037" y="57"/>
                </a:lnTo>
                <a:lnTo>
                  <a:pt x="1069" y="53"/>
                </a:lnTo>
                <a:lnTo>
                  <a:pt x="1102" y="49"/>
                </a:lnTo>
                <a:lnTo>
                  <a:pt x="1132" y="46"/>
                </a:lnTo>
                <a:lnTo>
                  <a:pt x="1161" y="42"/>
                </a:lnTo>
                <a:lnTo>
                  <a:pt x="1190" y="38"/>
                </a:lnTo>
                <a:lnTo>
                  <a:pt x="1219" y="34"/>
                </a:lnTo>
                <a:lnTo>
                  <a:pt x="1244" y="30"/>
                </a:lnTo>
                <a:lnTo>
                  <a:pt x="1269" y="28"/>
                </a:lnTo>
                <a:lnTo>
                  <a:pt x="1292" y="25"/>
                </a:lnTo>
                <a:lnTo>
                  <a:pt x="1315" y="23"/>
                </a:lnTo>
                <a:lnTo>
                  <a:pt x="1334" y="19"/>
                </a:lnTo>
                <a:lnTo>
                  <a:pt x="1353" y="17"/>
                </a:lnTo>
                <a:lnTo>
                  <a:pt x="1372" y="13"/>
                </a:lnTo>
                <a:lnTo>
                  <a:pt x="1388" y="11"/>
                </a:lnTo>
                <a:lnTo>
                  <a:pt x="1403" y="9"/>
                </a:lnTo>
                <a:lnTo>
                  <a:pt x="1417" y="7"/>
                </a:lnTo>
                <a:lnTo>
                  <a:pt x="1440" y="3"/>
                </a:lnTo>
                <a:lnTo>
                  <a:pt x="1463" y="2"/>
                </a:lnTo>
                <a:lnTo>
                  <a:pt x="1484" y="0"/>
                </a:lnTo>
                <a:lnTo>
                  <a:pt x="1503" y="0"/>
                </a:lnTo>
                <a:lnTo>
                  <a:pt x="1522" y="0"/>
                </a:lnTo>
                <a:lnTo>
                  <a:pt x="1537" y="2"/>
                </a:lnTo>
                <a:lnTo>
                  <a:pt x="1555" y="3"/>
                </a:lnTo>
                <a:lnTo>
                  <a:pt x="1568" y="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2762280" y="2830680"/>
            <a:ext cx="641160" cy="1280880"/>
          </a:xfrm>
          <a:custGeom>
            <a:avLst/>
            <a:gdLst/>
            <a:ahLst/>
            <a:rect l="l" t="t" r="r" b="b"/>
            <a:pathLst>
              <a:path w="808" h="1614">
                <a:moveTo>
                  <a:pt x="753" y="553"/>
                </a:moveTo>
                <a:lnTo>
                  <a:pt x="749" y="637"/>
                </a:lnTo>
                <a:lnTo>
                  <a:pt x="743" y="720"/>
                </a:lnTo>
                <a:lnTo>
                  <a:pt x="735" y="802"/>
                </a:lnTo>
                <a:lnTo>
                  <a:pt x="728" y="881"/>
                </a:lnTo>
                <a:lnTo>
                  <a:pt x="724" y="921"/>
                </a:lnTo>
                <a:lnTo>
                  <a:pt x="718" y="960"/>
                </a:lnTo>
                <a:lnTo>
                  <a:pt x="712" y="998"/>
                </a:lnTo>
                <a:lnTo>
                  <a:pt x="707" y="1036"/>
                </a:lnTo>
                <a:lnTo>
                  <a:pt x="699" y="1073"/>
                </a:lnTo>
                <a:lnTo>
                  <a:pt x="691" y="1111"/>
                </a:lnTo>
                <a:lnTo>
                  <a:pt x="684" y="1146"/>
                </a:lnTo>
                <a:lnTo>
                  <a:pt x="676" y="1182"/>
                </a:lnTo>
                <a:lnTo>
                  <a:pt x="666" y="1217"/>
                </a:lnTo>
                <a:lnTo>
                  <a:pt x="659" y="1249"/>
                </a:lnTo>
                <a:lnTo>
                  <a:pt x="651" y="1280"/>
                </a:lnTo>
                <a:lnTo>
                  <a:pt x="641" y="1311"/>
                </a:lnTo>
                <a:lnTo>
                  <a:pt x="634" y="1340"/>
                </a:lnTo>
                <a:lnTo>
                  <a:pt x="626" y="1367"/>
                </a:lnTo>
                <a:lnTo>
                  <a:pt x="618" y="1392"/>
                </a:lnTo>
                <a:lnTo>
                  <a:pt x="609" y="1416"/>
                </a:lnTo>
                <a:lnTo>
                  <a:pt x="601" y="1438"/>
                </a:lnTo>
                <a:lnTo>
                  <a:pt x="593" y="1459"/>
                </a:lnTo>
                <a:lnTo>
                  <a:pt x="586" y="1478"/>
                </a:lnTo>
                <a:lnTo>
                  <a:pt x="576" y="1495"/>
                </a:lnTo>
                <a:lnTo>
                  <a:pt x="568" y="1510"/>
                </a:lnTo>
                <a:lnTo>
                  <a:pt x="561" y="1524"/>
                </a:lnTo>
                <a:lnTo>
                  <a:pt x="551" y="1535"/>
                </a:lnTo>
                <a:lnTo>
                  <a:pt x="544" y="1547"/>
                </a:lnTo>
                <a:lnTo>
                  <a:pt x="534" y="1555"/>
                </a:lnTo>
                <a:lnTo>
                  <a:pt x="526" y="1562"/>
                </a:lnTo>
                <a:lnTo>
                  <a:pt x="519" y="1570"/>
                </a:lnTo>
                <a:lnTo>
                  <a:pt x="511" y="1578"/>
                </a:lnTo>
                <a:lnTo>
                  <a:pt x="503" y="1583"/>
                </a:lnTo>
                <a:lnTo>
                  <a:pt x="497" y="1589"/>
                </a:lnTo>
                <a:lnTo>
                  <a:pt x="490" y="1595"/>
                </a:lnTo>
                <a:lnTo>
                  <a:pt x="484" y="1599"/>
                </a:lnTo>
                <a:lnTo>
                  <a:pt x="478" y="1603"/>
                </a:lnTo>
                <a:lnTo>
                  <a:pt x="474" y="1606"/>
                </a:lnTo>
                <a:lnTo>
                  <a:pt x="469" y="1608"/>
                </a:lnTo>
                <a:lnTo>
                  <a:pt x="463" y="1610"/>
                </a:lnTo>
                <a:lnTo>
                  <a:pt x="459" y="1612"/>
                </a:lnTo>
                <a:lnTo>
                  <a:pt x="455" y="1614"/>
                </a:lnTo>
                <a:lnTo>
                  <a:pt x="451" y="1614"/>
                </a:lnTo>
                <a:lnTo>
                  <a:pt x="448" y="1614"/>
                </a:lnTo>
                <a:lnTo>
                  <a:pt x="442" y="1614"/>
                </a:lnTo>
                <a:lnTo>
                  <a:pt x="438" y="1614"/>
                </a:lnTo>
                <a:lnTo>
                  <a:pt x="434" y="1612"/>
                </a:lnTo>
                <a:lnTo>
                  <a:pt x="428" y="1610"/>
                </a:lnTo>
                <a:lnTo>
                  <a:pt x="426" y="1608"/>
                </a:lnTo>
                <a:lnTo>
                  <a:pt x="423" y="1606"/>
                </a:lnTo>
                <a:lnTo>
                  <a:pt x="419" y="1603"/>
                </a:lnTo>
                <a:lnTo>
                  <a:pt x="417" y="1599"/>
                </a:lnTo>
                <a:lnTo>
                  <a:pt x="413" y="1595"/>
                </a:lnTo>
                <a:lnTo>
                  <a:pt x="411" y="1589"/>
                </a:lnTo>
                <a:lnTo>
                  <a:pt x="409" y="1583"/>
                </a:lnTo>
                <a:lnTo>
                  <a:pt x="407" y="1578"/>
                </a:lnTo>
                <a:lnTo>
                  <a:pt x="405" y="1570"/>
                </a:lnTo>
                <a:lnTo>
                  <a:pt x="403" y="1562"/>
                </a:lnTo>
                <a:lnTo>
                  <a:pt x="402" y="1555"/>
                </a:lnTo>
                <a:lnTo>
                  <a:pt x="400" y="1547"/>
                </a:lnTo>
                <a:lnTo>
                  <a:pt x="398" y="1537"/>
                </a:lnTo>
                <a:lnTo>
                  <a:pt x="396" y="1528"/>
                </a:lnTo>
                <a:lnTo>
                  <a:pt x="392" y="1520"/>
                </a:lnTo>
                <a:lnTo>
                  <a:pt x="388" y="1510"/>
                </a:lnTo>
                <a:lnTo>
                  <a:pt x="382" y="1503"/>
                </a:lnTo>
                <a:lnTo>
                  <a:pt x="378" y="1495"/>
                </a:lnTo>
                <a:lnTo>
                  <a:pt x="373" y="1487"/>
                </a:lnTo>
                <a:lnTo>
                  <a:pt x="365" y="1480"/>
                </a:lnTo>
                <a:lnTo>
                  <a:pt x="359" y="1472"/>
                </a:lnTo>
                <a:lnTo>
                  <a:pt x="352" y="1466"/>
                </a:lnTo>
                <a:lnTo>
                  <a:pt x="342" y="1459"/>
                </a:lnTo>
                <a:lnTo>
                  <a:pt x="334" y="1453"/>
                </a:lnTo>
                <a:lnTo>
                  <a:pt x="325" y="1445"/>
                </a:lnTo>
                <a:lnTo>
                  <a:pt x="315" y="1439"/>
                </a:lnTo>
                <a:lnTo>
                  <a:pt x="296" y="1428"/>
                </a:lnTo>
                <a:lnTo>
                  <a:pt x="284" y="1420"/>
                </a:lnTo>
                <a:lnTo>
                  <a:pt x="275" y="1415"/>
                </a:lnTo>
                <a:lnTo>
                  <a:pt x="267" y="1407"/>
                </a:lnTo>
                <a:lnTo>
                  <a:pt x="258" y="1401"/>
                </a:lnTo>
                <a:lnTo>
                  <a:pt x="250" y="1393"/>
                </a:lnTo>
                <a:lnTo>
                  <a:pt x="244" y="1388"/>
                </a:lnTo>
                <a:lnTo>
                  <a:pt x="236" y="1382"/>
                </a:lnTo>
                <a:lnTo>
                  <a:pt x="231" y="1376"/>
                </a:lnTo>
                <a:lnTo>
                  <a:pt x="227" y="1370"/>
                </a:lnTo>
                <a:lnTo>
                  <a:pt x="221" y="1367"/>
                </a:lnTo>
                <a:lnTo>
                  <a:pt x="217" y="1361"/>
                </a:lnTo>
                <a:lnTo>
                  <a:pt x="215" y="1357"/>
                </a:lnTo>
                <a:lnTo>
                  <a:pt x="213" y="1351"/>
                </a:lnTo>
                <a:lnTo>
                  <a:pt x="212" y="1347"/>
                </a:lnTo>
                <a:lnTo>
                  <a:pt x="210" y="1344"/>
                </a:lnTo>
                <a:lnTo>
                  <a:pt x="210" y="1340"/>
                </a:lnTo>
                <a:lnTo>
                  <a:pt x="208" y="1338"/>
                </a:lnTo>
                <a:lnTo>
                  <a:pt x="208" y="1336"/>
                </a:lnTo>
                <a:lnTo>
                  <a:pt x="210" y="1334"/>
                </a:lnTo>
                <a:lnTo>
                  <a:pt x="212" y="1334"/>
                </a:lnTo>
                <a:lnTo>
                  <a:pt x="215" y="1334"/>
                </a:lnTo>
                <a:lnTo>
                  <a:pt x="219" y="1332"/>
                </a:lnTo>
                <a:lnTo>
                  <a:pt x="223" y="1332"/>
                </a:lnTo>
                <a:lnTo>
                  <a:pt x="231" y="1332"/>
                </a:lnTo>
                <a:lnTo>
                  <a:pt x="236" y="1332"/>
                </a:lnTo>
                <a:lnTo>
                  <a:pt x="246" y="1332"/>
                </a:lnTo>
                <a:lnTo>
                  <a:pt x="254" y="1334"/>
                </a:lnTo>
                <a:lnTo>
                  <a:pt x="265" y="1334"/>
                </a:lnTo>
                <a:lnTo>
                  <a:pt x="275" y="1334"/>
                </a:lnTo>
                <a:lnTo>
                  <a:pt x="288" y="1336"/>
                </a:lnTo>
                <a:lnTo>
                  <a:pt x="300" y="1338"/>
                </a:lnTo>
                <a:lnTo>
                  <a:pt x="315" y="1340"/>
                </a:lnTo>
                <a:lnTo>
                  <a:pt x="329" y="1342"/>
                </a:lnTo>
                <a:lnTo>
                  <a:pt x="342" y="1344"/>
                </a:lnTo>
                <a:lnTo>
                  <a:pt x="354" y="1344"/>
                </a:lnTo>
                <a:lnTo>
                  <a:pt x="367" y="1345"/>
                </a:lnTo>
                <a:lnTo>
                  <a:pt x="378" y="1345"/>
                </a:lnTo>
                <a:lnTo>
                  <a:pt x="388" y="1345"/>
                </a:lnTo>
                <a:lnTo>
                  <a:pt x="398" y="1345"/>
                </a:lnTo>
                <a:lnTo>
                  <a:pt x="409" y="1345"/>
                </a:lnTo>
                <a:lnTo>
                  <a:pt x="417" y="1345"/>
                </a:lnTo>
                <a:lnTo>
                  <a:pt x="426" y="1344"/>
                </a:lnTo>
                <a:lnTo>
                  <a:pt x="434" y="1344"/>
                </a:lnTo>
                <a:lnTo>
                  <a:pt x="442" y="1342"/>
                </a:lnTo>
                <a:lnTo>
                  <a:pt x="448" y="1340"/>
                </a:lnTo>
                <a:lnTo>
                  <a:pt x="455" y="1336"/>
                </a:lnTo>
                <a:lnTo>
                  <a:pt x="461" y="1334"/>
                </a:lnTo>
                <a:lnTo>
                  <a:pt x="467" y="1330"/>
                </a:lnTo>
                <a:lnTo>
                  <a:pt x="473" y="1326"/>
                </a:lnTo>
                <a:lnTo>
                  <a:pt x="476" y="1321"/>
                </a:lnTo>
                <a:lnTo>
                  <a:pt x="482" y="1313"/>
                </a:lnTo>
                <a:lnTo>
                  <a:pt x="488" y="1305"/>
                </a:lnTo>
                <a:lnTo>
                  <a:pt x="494" y="1296"/>
                </a:lnTo>
                <a:lnTo>
                  <a:pt x="499" y="1286"/>
                </a:lnTo>
                <a:lnTo>
                  <a:pt x="503" y="1274"/>
                </a:lnTo>
                <a:lnTo>
                  <a:pt x="509" y="1261"/>
                </a:lnTo>
                <a:lnTo>
                  <a:pt x="515" y="1248"/>
                </a:lnTo>
                <a:lnTo>
                  <a:pt x="521" y="1232"/>
                </a:lnTo>
                <a:lnTo>
                  <a:pt x="526" y="1217"/>
                </a:lnTo>
                <a:lnTo>
                  <a:pt x="530" y="1198"/>
                </a:lnTo>
                <a:lnTo>
                  <a:pt x="536" y="1178"/>
                </a:lnTo>
                <a:lnTo>
                  <a:pt x="542" y="1157"/>
                </a:lnTo>
                <a:lnTo>
                  <a:pt x="547" y="1136"/>
                </a:lnTo>
                <a:lnTo>
                  <a:pt x="553" y="1113"/>
                </a:lnTo>
                <a:lnTo>
                  <a:pt x="557" y="1088"/>
                </a:lnTo>
                <a:lnTo>
                  <a:pt x="563" y="1063"/>
                </a:lnTo>
                <a:lnTo>
                  <a:pt x="568" y="1038"/>
                </a:lnTo>
                <a:lnTo>
                  <a:pt x="572" y="1013"/>
                </a:lnTo>
                <a:lnTo>
                  <a:pt x="578" y="987"/>
                </a:lnTo>
                <a:lnTo>
                  <a:pt x="584" y="960"/>
                </a:lnTo>
                <a:lnTo>
                  <a:pt x="588" y="933"/>
                </a:lnTo>
                <a:lnTo>
                  <a:pt x="593" y="906"/>
                </a:lnTo>
                <a:lnTo>
                  <a:pt x="597" y="877"/>
                </a:lnTo>
                <a:lnTo>
                  <a:pt x="601" y="848"/>
                </a:lnTo>
                <a:lnTo>
                  <a:pt x="605" y="818"/>
                </a:lnTo>
                <a:lnTo>
                  <a:pt x="609" y="787"/>
                </a:lnTo>
                <a:lnTo>
                  <a:pt x="613" y="756"/>
                </a:lnTo>
                <a:lnTo>
                  <a:pt x="615" y="726"/>
                </a:lnTo>
                <a:lnTo>
                  <a:pt x="616" y="693"/>
                </a:lnTo>
                <a:lnTo>
                  <a:pt x="618" y="660"/>
                </a:lnTo>
                <a:lnTo>
                  <a:pt x="620" y="630"/>
                </a:lnTo>
                <a:lnTo>
                  <a:pt x="622" y="601"/>
                </a:lnTo>
                <a:lnTo>
                  <a:pt x="624" y="572"/>
                </a:lnTo>
                <a:lnTo>
                  <a:pt x="626" y="543"/>
                </a:lnTo>
                <a:lnTo>
                  <a:pt x="628" y="518"/>
                </a:lnTo>
                <a:lnTo>
                  <a:pt x="630" y="493"/>
                </a:lnTo>
                <a:lnTo>
                  <a:pt x="632" y="470"/>
                </a:lnTo>
                <a:lnTo>
                  <a:pt x="634" y="447"/>
                </a:lnTo>
                <a:lnTo>
                  <a:pt x="636" y="426"/>
                </a:lnTo>
                <a:lnTo>
                  <a:pt x="638" y="407"/>
                </a:lnTo>
                <a:lnTo>
                  <a:pt x="638" y="388"/>
                </a:lnTo>
                <a:lnTo>
                  <a:pt x="639" y="371"/>
                </a:lnTo>
                <a:lnTo>
                  <a:pt x="641" y="355"/>
                </a:lnTo>
                <a:lnTo>
                  <a:pt x="643" y="340"/>
                </a:lnTo>
                <a:lnTo>
                  <a:pt x="645" y="328"/>
                </a:lnTo>
                <a:lnTo>
                  <a:pt x="647" y="317"/>
                </a:lnTo>
                <a:lnTo>
                  <a:pt x="647" y="294"/>
                </a:lnTo>
                <a:lnTo>
                  <a:pt x="645" y="275"/>
                </a:lnTo>
                <a:lnTo>
                  <a:pt x="643" y="257"/>
                </a:lnTo>
                <a:lnTo>
                  <a:pt x="641" y="242"/>
                </a:lnTo>
                <a:lnTo>
                  <a:pt x="638" y="229"/>
                </a:lnTo>
                <a:lnTo>
                  <a:pt x="636" y="217"/>
                </a:lnTo>
                <a:lnTo>
                  <a:pt x="632" y="205"/>
                </a:lnTo>
                <a:lnTo>
                  <a:pt x="628" y="198"/>
                </a:lnTo>
                <a:lnTo>
                  <a:pt x="624" y="190"/>
                </a:lnTo>
                <a:lnTo>
                  <a:pt x="620" y="184"/>
                </a:lnTo>
                <a:lnTo>
                  <a:pt x="615" y="179"/>
                </a:lnTo>
                <a:lnTo>
                  <a:pt x="607" y="175"/>
                </a:lnTo>
                <a:lnTo>
                  <a:pt x="599" y="171"/>
                </a:lnTo>
                <a:lnTo>
                  <a:pt x="592" y="165"/>
                </a:lnTo>
                <a:lnTo>
                  <a:pt x="582" y="161"/>
                </a:lnTo>
                <a:lnTo>
                  <a:pt x="570" y="159"/>
                </a:lnTo>
                <a:lnTo>
                  <a:pt x="568" y="159"/>
                </a:lnTo>
                <a:lnTo>
                  <a:pt x="565" y="159"/>
                </a:lnTo>
                <a:lnTo>
                  <a:pt x="559" y="159"/>
                </a:lnTo>
                <a:lnTo>
                  <a:pt x="553" y="159"/>
                </a:lnTo>
                <a:lnTo>
                  <a:pt x="545" y="159"/>
                </a:lnTo>
                <a:lnTo>
                  <a:pt x="538" y="161"/>
                </a:lnTo>
                <a:lnTo>
                  <a:pt x="530" y="161"/>
                </a:lnTo>
                <a:lnTo>
                  <a:pt x="519" y="161"/>
                </a:lnTo>
                <a:lnTo>
                  <a:pt x="509" y="163"/>
                </a:lnTo>
                <a:lnTo>
                  <a:pt x="497" y="163"/>
                </a:lnTo>
                <a:lnTo>
                  <a:pt x="484" y="165"/>
                </a:lnTo>
                <a:lnTo>
                  <a:pt x="471" y="165"/>
                </a:lnTo>
                <a:lnTo>
                  <a:pt x="457" y="167"/>
                </a:lnTo>
                <a:lnTo>
                  <a:pt x="440" y="169"/>
                </a:lnTo>
                <a:lnTo>
                  <a:pt x="425" y="171"/>
                </a:lnTo>
                <a:lnTo>
                  <a:pt x="407" y="171"/>
                </a:lnTo>
                <a:lnTo>
                  <a:pt x="388" y="173"/>
                </a:lnTo>
                <a:lnTo>
                  <a:pt x="369" y="175"/>
                </a:lnTo>
                <a:lnTo>
                  <a:pt x="350" y="177"/>
                </a:lnTo>
                <a:lnTo>
                  <a:pt x="329" y="179"/>
                </a:lnTo>
                <a:lnTo>
                  <a:pt x="306" y="181"/>
                </a:lnTo>
                <a:lnTo>
                  <a:pt x="283" y="182"/>
                </a:lnTo>
                <a:lnTo>
                  <a:pt x="260" y="184"/>
                </a:lnTo>
                <a:lnTo>
                  <a:pt x="235" y="186"/>
                </a:lnTo>
                <a:lnTo>
                  <a:pt x="208" y="190"/>
                </a:lnTo>
                <a:lnTo>
                  <a:pt x="181" y="192"/>
                </a:lnTo>
                <a:lnTo>
                  <a:pt x="154" y="194"/>
                </a:lnTo>
                <a:lnTo>
                  <a:pt x="125" y="198"/>
                </a:lnTo>
                <a:lnTo>
                  <a:pt x="94" y="200"/>
                </a:lnTo>
                <a:lnTo>
                  <a:pt x="64" y="202"/>
                </a:lnTo>
                <a:lnTo>
                  <a:pt x="33" y="205"/>
                </a:lnTo>
                <a:lnTo>
                  <a:pt x="0" y="207"/>
                </a:lnTo>
                <a:lnTo>
                  <a:pt x="0" y="119"/>
                </a:lnTo>
                <a:lnTo>
                  <a:pt x="50" y="119"/>
                </a:lnTo>
                <a:lnTo>
                  <a:pt x="98" y="117"/>
                </a:lnTo>
                <a:lnTo>
                  <a:pt x="146" y="115"/>
                </a:lnTo>
                <a:lnTo>
                  <a:pt x="194" y="111"/>
                </a:lnTo>
                <a:lnTo>
                  <a:pt x="240" y="108"/>
                </a:lnTo>
                <a:lnTo>
                  <a:pt x="288" y="102"/>
                </a:lnTo>
                <a:lnTo>
                  <a:pt x="334" y="96"/>
                </a:lnTo>
                <a:lnTo>
                  <a:pt x="380" y="90"/>
                </a:lnTo>
                <a:lnTo>
                  <a:pt x="402" y="86"/>
                </a:lnTo>
                <a:lnTo>
                  <a:pt x="421" y="83"/>
                </a:lnTo>
                <a:lnTo>
                  <a:pt x="440" y="79"/>
                </a:lnTo>
                <a:lnTo>
                  <a:pt x="457" y="75"/>
                </a:lnTo>
                <a:lnTo>
                  <a:pt x="474" y="71"/>
                </a:lnTo>
                <a:lnTo>
                  <a:pt x="488" y="67"/>
                </a:lnTo>
                <a:lnTo>
                  <a:pt x="503" y="63"/>
                </a:lnTo>
                <a:lnTo>
                  <a:pt x="515" y="60"/>
                </a:lnTo>
                <a:lnTo>
                  <a:pt x="526" y="56"/>
                </a:lnTo>
                <a:lnTo>
                  <a:pt x="538" y="52"/>
                </a:lnTo>
                <a:lnTo>
                  <a:pt x="545" y="48"/>
                </a:lnTo>
                <a:lnTo>
                  <a:pt x="553" y="44"/>
                </a:lnTo>
                <a:lnTo>
                  <a:pt x="561" y="42"/>
                </a:lnTo>
                <a:lnTo>
                  <a:pt x="565" y="39"/>
                </a:lnTo>
                <a:lnTo>
                  <a:pt x="568" y="35"/>
                </a:lnTo>
                <a:lnTo>
                  <a:pt x="570" y="31"/>
                </a:lnTo>
                <a:lnTo>
                  <a:pt x="574" y="23"/>
                </a:lnTo>
                <a:lnTo>
                  <a:pt x="580" y="17"/>
                </a:lnTo>
                <a:lnTo>
                  <a:pt x="586" y="12"/>
                </a:lnTo>
                <a:lnTo>
                  <a:pt x="592" y="8"/>
                </a:lnTo>
                <a:lnTo>
                  <a:pt x="597" y="6"/>
                </a:lnTo>
                <a:lnTo>
                  <a:pt x="605" y="2"/>
                </a:lnTo>
                <a:lnTo>
                  <a:pt x="613" y="2"/>
                </a:lnTo>
                <a:lnTo>
                  <a:pt x="618" y="0"/>
                </a:lnTo>
                <a:lnTo>
                  <a:pt x="620" y="2"/>
                </a:lnTo>
                <a:lnTo>
                  <a:pt x="624" y="6"/>
                </a:lnTo>
                <a:lnTo>
                  <a:pt x="628" y="8"/>
                </a:lnTo>
                <a:lnTo>
                  <a:pt x="632" y="10"/>
                </a:lnTo>
                <a:lnTo>
                  <a:pt x="636" y="14"/>
                </a:lnTo>
                <a:lnTo>
                  <a:pt x="641" y="15"/>
                </a:lnTo>
                <a:lnTo>
                  <a:pt x="647" y="19"/>
                </a:lnTo>
                <a:lnTo>
                  <a:pt x="653" y="23"/>
                </a:lnTo>
                <a:lnTo>
                  <a:pt x="661" y="27"/>
                </a:lnTo>
                <a:lnTo>
                  <a:pt x="668" y="31"/>
                </a:lnTo>
                <a:lnTo>
                  <a:pt x="676" y="35"/>
                </a:lnTo>
                <a:lnTo>
                  <a:pt x="684" y="39"/>
                </a:lnTo>
                <a:lnTo>
                  <a:pt x="693" y="44"/>
                </a:lnTo>
                <a:lnTo>
                  <a:pt x="703" y="50"/>
                </a:lnTo>
                <a:lnTo>
                  <a:pt x="724" y="60"/>
                </a:lnTo>
                <a:lnTo>
                  <a:pt x="734" y="67"/>
                </a:lnTo>
                <a:lnTo>
                  <a:pt x="743" y="73"/>
                </a:lnTo>
                <a:lnTo>
                  <a:pt x="753" y="81"/>
                </a:lnTo>
                <a:lnTo>
                  <a:pt x="760" y="86"/>
                </a:lnTo>
                <a:lnTo>
                  <a:pt x="768" y="92"/>
                </a:lnTo>
                <a:lnTo>
                  <a:pt x="776" y="96"/>
                </a:lnTo>
                <a:lnTo>
                  <a:pt x="782" y="102"/>
                </a:lnTo>
                <a:lnTo>
                  <a:pt x="787" y="106"/>
                </a:lnTo>
                <a:lnTo>
                  <a:pt x="793" y="110"/>
                </a:lnTo>
                <a:lnTo>
                  <a:pt x="797" y="113"/>
                </a:lnTo>
                <a:lnTo>
                  <a:pt x="801" y="117"/>
                </a:lnTo>
                <a:lnTo>
                  <a:pt x="805" y="119"/>
                </a:lnTo>
                <a:lnTo>
                  <a:pt x="806" y="123"/>
                </a:lnTo>
                <a:lnTo>
                  <a:pt x="808" y="125"/>
                </a:lnTo>
                <a:lnTo>
                  <a:pt x="808" y="127"/>
                </a:lnTo>
                <a:lnTo>
                  <a:pt x="808" y="129"/>
                </a:lnTo>
                <a:lnTo>
                  <a:pt x="808" y="133"/>
                </a:lnTo>
                <a:lnTo>
                  <a:pt x="808" y="138"/>
                </a:lnTo>
                <a:lnTo>
                  <a:pt x="806" y="142"/>
                </a:lnTo>
                <a:lnTo>
                  <a:pt x="803" y="148"/>
                </a:lnTo>
                <a:lnTo>
                  <a:pt x="797" y="159"/>
                </a:lnTo>
                <a:lnTo>
                  <a:pt x="793" y="163"/>
                </a:lnTo>
                <a:lnTo>
                  <a:pt x="791" y="169"/>
                </a:lnTo>
                <a:lnTo>
                  <a:pt x="789" y="171"/>
                </a:lnTo>
                <a:lnTo>
                  <a:pt x="787" y="173"/>
                </a:lnTo>
                <a:lnTo>
                  <a:pt x="785" y="177"/>
                </a:lnTo>
                <a:lnTo>
                  <a:pt x="783" y="181"/>
                </a:lnTo>
                <a:lnTo>
                  <a:pt x="782" y="186"/>
                </a:lnTo>
                <a:lnTo>
                  <a:pt x="780" y="190"/>
                </a:lnTo>
                <a:lnTo>
                  <a:pt x="780" y="196"/>
                </a:lnTo>
                <a:lnTo>
                  <a:pt x="778" y="204"/>
                </a:lnTo>
                <a:lnTo>
                  <a:pt x="776" y="211"/>
                </a:lnTo>
                <a:lnTo>
                  <a:pt x="776" y="219"/>
                </a:lnTo>
                <a:lnTo>
                  <a:pt x="774" y="227"/>
                </a:lnTo>
                <a:lnTo>
                  <a:pt x="772" y="236"/>
                </a:lnTo>
                <a:lnTo>
                  <a:pt x="772" y="246"/>
                </a:lnTo>
                <a:lnTo>
                  <a:pt x="770" y="255"/>
                </a:lnTo>
                <a:lnTo>
                  <a:pt x="768" y="267"/>
                </a:lnTo>
                <a:lnTo>
                  <a:pt x="768" y="278"/>
                </a:lnTo>
                <a:lnTo>
                  <a:pt x="766" y="292"/>
                </a:lnTo>
                <a:lnTo>
                  <a:pt x="766" y="303"/>
                </a:lnTo>
                <a:lnTo>
                  <a:pt x="764" y="319"/>
                </a:lnTo>
                <a:lnTo>
                  <a:pt x="762" y="332"/>
                </a:lnTo>
                <a:lnTo>
                  <a:pt x="762" y="347"/>
                </a:lnTo>
                <a:lnTo>
                  <a:pt x="760" y="363"/>
                </a:lnTo>
                <a:lnTo>
                  <a:pt x="760" y="378"/>
                </a:lnTo>
                <a:lnTo>
                  <a:pt x="758" y="395"/>
                </a:lnTo>
                <a:lnTo>
                  <a:pt x="758" y="413"/>
                </a:lnTo>
                <a:lnTo>
                  <a:pt x="757" y="430"/>
                </a:lnTo>
                <a:lnTo>
                  <a:pt x="757" y="449"/>
                </a:lnTo>
                <a:lnTo>
                  <a:pt x="755" y="468"/>
                </a:lnTo>
                <a:lnTo>
                  <a:pt x="755" y="488"/>
                </a:lnTo>
                <a:lnTo>
                  <a:pt x="755" y="509"/>
                </a:lnTo>
                <a:lnTo>
                  <a:pt x="753" y="530"/>
                </a:lnTo>
                <a:lnTo>
                  <a:pt x="753" y="55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2933640" y="3016080"/>
            <a:ext cx="130320" cy="169920"/>
          </a:xfrm>
          <a:custGeom>
            <a:avLst/>
            <a:gdLst/>
            <a:ahLst/>
            <a:rect l="l" t="t" r="r" b="b"/>
            <a:pathLst>
              <a:path w="165" h="215">
                <a:moveTo>
                  <a:pt x="4" y="4"/>
                </a:move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33" y="2"/>
                </a:lnTo>
                <a:lnTo>
                  <a:pt x="45" y="8"/>
                </a:lnTo>
                <a:lnTo>
                  <a:pt x="58" y="14"/>
                </a:lnTo>
                <a:lnTo>
                  <a:pt x="73" y="23"/>
                </a:lnTo>
                <a:lnTo>
                  <a:pt x="91" y="33"/>
                </a:lnTo>
                <a:lnTo>
                  <a:pt x="106" y="44"/>
                </a:lnTo>
                <a:lnTo>
                  <a:pt x="114" y="50"/>
                </a:lnTo>
                <a:lnTo>
                  <a:pt x="121" y="56"/>
                </a:lnTo>
                <a:lnTo>
                  <a:pt x="129" y="60"/>
                </a:lnTo>
                <a:lnTo>
                  <a:pt x="135" y="66"/>
                </a:lnTo>
                <a:lnTo>
                  <a:pt x="140" y="71"/>
                </a:lnTo>
                <a:lnTo>
                  <a:pt x="146" y="77"/>
                </a:lnTo>
                <a:lnTo>
                  <a:pt x="150" y="83"/>
                </a:lnTo>
                <a:lnTo>
                  <a:pt x="154" y="89"/>
                </a:lnTo>
                <a:lnTo>
                  <a:pt x="158" y="94"/>
                </a:lnTo>
                <a:lnTo>
                  <a:pt x="162" y="100"/>
                </a:lnTo>
                <a:lnTo>
                  <a:pt x="163" y="104"/>
                </a:lnTo>
                <a:lnTo>
                  <a:pt x="165" y="110"/>
                </a:lnTo>
                <a:lnTo>
                  <a:pt x="165" y="115"/>
                </a:lnTo>
                <a:lnTo>
                  <a:pt x="165" y="121"/>
                </a:lnTo>
                <a:lnTo>
                  <a:pt x="165" y="135"/>
                </a:lnTo>
                <a:lnTo>
                  <a:pt x="163" y="148"/>
                </a:lnTo>
                <a:lnTo>
                  <a:pt x="162" y="161"/>
                </a:lnTo>
                <a:lnTo>
                  <a:pt x="160" y="171"/>
                </a:lnTo>
                <a:lnTo>
                  <a:pt x="158" y="181"/>
                </a:lnTo>
                <a:lnTo>
                  <a:pt x="154" y="188"/>
                </a:lnTo>
                <a:lnTo>
                  <a:pt x="150" y="196"/>
                </a:lnTo>
                <a:lnTo>
                  <a:pt x="146" y="200"/>
                </a:lnTo>
                <a:lnTo>
                  <a:pt x="140" y="206"/>
                </a:lnTo>
                <a:lnTo>
                  <a:pt x="133" y="211"/>
                </a:lnTo>
                <a:lnTo>
                  <a:pt x="125" y="213"/>
                </a:lnTo>
                <a:lnTo>
                  <a:pt x="117" y="215"/>
                </a:lnTo>
                <a:lnTo>
                  <a:pt x="112" y="213"/>
                </a:lnTo>
                <a:lnTo>
                  <a:pt x="104" y="211"/>
                </a:lnTo>
                <a:lnTo>
                  <a:pt x="96" y="206"/>
                </a:lnTo>
                <a:lnTo>
                  <a:pt x="91" y="200"/>
                </a:lnTo>
                <a:lnTo>
                  <a:pt x="87" y="198"/>
                </a:lnTo>
                <a:lnTo>
                  <a:pt x="83" y="194"/>
                </a:lnTo>
                <a:lnTo>
                  <a:pt x="79" y="192"/>
                </a:lnTo>
                <a:lnTo>
                  <a:pt x="75" y="186"/>
                </a:lnTo>
                <a:lnTo>
                  <a:pt x="71" y="183"/>
                </a:lnTo>
                <a:lnTo>
                  <a:pt x="68" y="177"/>
                </a:lnTo>
                <a:lnTo>
                  <a:pt x="66" y="171"/>
                </a:lnTo>
                <a:lnTo>
                  <a:pt x="62" y="163"/>
                </a:lnTo>
                <a:lnTo>
                  <a:pt x="58" y="158"/>
                </a:lnTo>
                <a:lnTo>
                  <a:pt x="54" y="150"/>
                </a:lnTo>
                <a:lnTo>
                  <a:pt x="50" y="140"/>
                </a:lnTo>
                <a:lnTo>
                  <a:pt x="46" y="133"/>
                </a:lnTo>
                <a:lnTo>
                  <a:pt x="43" y="123"/>
                </a:lnTo>
                <a:lnTo>
                  <a:pt x="39" y="113"/>
                </a:lnTo>
                <a:lnTo>
                  <a:pt x="37" y="102"/>
                </a:lnTo>
                <a:lnTo>
                  <a:pt x="33" y="92"/>
                </a:lnTo>
                <a:lnTo>
                  <a:pt x="27" y="81"/>
                </a:lnTo>
                <a:lnTo>
                  <a:pt x="23" y="71"/>
                </a:lnTo>
                <a:lnTo>
                  <a:pt x="20" y="62"/>
                </a:lnTo>
                <a:lnTo>
                  <a:pt x="16" y="52"/>
                </a:lnTo>
                <a:lnTo>
                  <a:pt x="12" y="44"/>
                </a:lnTo>
                <a:lnTo>
                  <a:pt x="8" y="37"/>
                </a:lnTo>
                <a:lnTo>
                  <a:pt x="6" y="31"/>
                </a:lnTo>
                <a:lnTo>
                  <a:pt x="4" y="25"/>
                </a:lnTo>
                <a:lnTo>
                  <a:pt x="2" y="19"/>
                </a:lnTo>
                <a:lnTo>
                  <a:pt x="2" y="16"/>
                </a:lnTo>
                <a:lnTo>
                  <a:pt x="0" y="12"/>
                </a:lnTo>
                <a:lnTo>
                  <a:pt x="0" y="8"/>
                </a:lnTo>
                <a:lnTo>
                  <a:pt x="0" y="6"/>
                </a:lnTo>
                <a:lnTo>
                  <a:pt x="2" y="4"/>
                </a:lnTo>
                <a:lnTo>
                  <a:pt x="4" y="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2892600" y="3365640"/>
            <a:ext cx="123480" cy="168120"/>
          </a:xfrm>
          <a:custGeom>
            <a:avLst/>
            <a:gdLst/>
            <a:ahLst/>
            <a:rect l="l" t="t" r="r" b="b"/>
            <a:pathLst>
              <a:path w="155" h="211">
                <a:moveTo>
                  <a:pt x="151" y="113"/>
                </a:moveTo>
                <a:lnTo>
                  <a:pt x="153" y="130"/>
                </a:lnTo>
                <a:lnTo>
                  <a:pt x="155" y="146"/>
                </a:lnTo>
                <a:lnTo>
                  <a:pt x="155" y="159"/>
                </a:lnTo>
                <a:lnTo>
                  <a:pt x="155" y="170"/>
                </a:lnTo>
                <a:lnTo>
                  <a:pt x="153" y="176"/>
                </a:lnTo>
                <a:lnTo>
                  <a:pt x="153" y="182"/>
                </a:lnTo>
                <a:lnTo>
                  <a:pt x="151" y="186"/>
                </a:lnTo>
                <a:lnTo>
                  <a:pt x="147" y="190"/>
                </a:lnTo>
                <a:lnTo>
                  <a:pt x="143" y="194"/>
                </a:lnTo>
                <a:lnTo>
                  <a:pt x="142" y="195"/>
                </a:lnTo>
                <a:lnTo>
                  <a:pt x="136" y="199"/>
                </a:lnTo>
                <a:lnTo>
                  <a:pt x="132" y="201"/>
                </a:lnTo>
                <a:lnTo>
                  <a:pt x="126" y="205"/>
                </a:lnTo>
                <a:lnTo>
                  <a:pt x="120" y="207"/>
                </a:lnTo>
                <a:lnTo>
                  <a:pt x="117" y="209"/>
                </a:lnTo>
                <a:lnTo>
                  <a:pt x="111" y="211"/>
                </a:lnTo>
                <a:lnTo>
                  <a:pt x="107" y="211"/>
                </a:lnTo>
                <a:lnTo>
                  <a:pt x="101" y="211"/>
                </a:lnTo>
                <a:lnTo>
                  <a:pt x="97" y="209"/>
                </a:lnTo>
                <a:lnTo>
                  <a:pt x="94" y="207"/>
                </a:lnTo>
                <a:lnTo>
                  <a:pt x="88" y="205"/>
                </a:lnTo>
                <a:lnTo>
                  <a:pt x="84" y="201"/>
                </a:lnTo>
                <a:lnTo>
                  <a:pt x="80" y="197"/>
                </a:lnTo>
                <a:lnTo>
                  <a:pt x="74" y="192"/>
                </a:lnTo>
                <a:lnTo>
                  <a:pt x="71" y="186"/>
                </a:lnTo>
                <a:lnTo>
                  <a:pt x="65" y="178"/>
                </a:lnTo>
                <a:lnTo>
                  <a:pt x="61" y="170"/>
                </a:lnTo>
                <a:lnTo>
                  <a:pt x="55" y="161"/>
                </a:lnTo>
                <a:lnTo>
                  <a:pt x="46" y="147"/>
                </a:lnTo>
                <a:lnTo>
                  <a:pt x="38" y="134"/>
                </a:lnTo>
                <a:lnTo>
                  <a:pt x="30" y="121"/>
                </a:lnTo>
                <a:lnTo>
                  <a:pt x="25" y="109"/>
                </a:lnTo>
                <a:lnTo>
                  <a:pt x="19" y="98"/>
                </a:lnTo>
                <a:lnTo>
                  <a:pt x="15" y="86"/>
                </a:lnTo>
                <a:lnTo>
                  <a:pt x="7" y="63"/>
                </a:lnTo>
                <a:lnTo>
                  <a:pt x="5" y="51"/>
                </a:lnTo>
                <a:lnTo>
                  <a:pt x="1" y="42"/>
                </a:lnTo>
                <a:lnTo>
                  <a:pt x="1" y="34"/>
                </a:lnTo>
                <a:lnTo>
                  <a:pt x="0" y="27"/>
                </a:lnTo>
                <a:lnTo>
                  <a:pt x="1" y="19"/>
                </a:lnTo>
                <a:lnTo>
                  <a:pt x="1" y="13"/>
                </a:lnTo>
                <a:lnTo>
                  <a:pt x="5" y="7"/>
                </a:lnTo>
                <a:lnTo>
                  <a:pt x="7" y="4"/>
                </a:lnTo>
                <a:lnTo>
                  <a:pt x="11" y="2"/>
                </a:lnTo>
                <a:lnTo>
                  <a:pt x="17" y="0"/>
                </a:lnTo>
                <a:lnTo>
                  <a:pt x="23" y="0"/>
                </a:lnTo>
                <a:lnTo>
                  <a:pt x="32" y="2"/>
                </a:lnTo>
                <a:lnTo>
                  <a:pt x="36" y="2"/>
                </a:lnTo>
                <a:lnTo>
                  <a:pt x="42" y="4"/>
                </a:lnTo>
                <a:lnTo>
                  <a:pt x="48" y="5"/>
                </a:lnTo>
                <a:lnTo>
                  <a:pt x="53" y="7"/>
                </a:lnTo>
                <a:lnTo>
                  <a:pt x="59" y="9"/>
                </a:lnTo>
                <a:lnTo>
                  <a:pt x="67" y="9"/>
                </a:lnTo>
                <a:lnTo>
                  <a:pt x="74" y="11"/>
                </a:lnTo>
                <a:lnTo>
                  <a:pt x="84" y="13"/>
                </a:lnTo>
                <a:lnTo>
                  <a:pt x="97" y="23"/>
                </a:lnTo>
                <a:lnTo>
                  <a:pt x="109" y="30"/>
                </a:lnTo>
                <a:lnTo>
                  <a:pt x="119" y="40"/>
                </a:lnTo>
                <a:lnTo>
                  <a:pt x="128" y="51"/>
                </a:lnTo>
                <a:lnTo>
                  <a:pt x="136" y="65"/>
                </a:lnTo>
                <a:lnTo>
                  <a:pt x="142" y="78"/>
                </a:lnTo>
                <a:lnTo>
                  <a:pt x="145" y="96"/>
                </a:lnTo>
                <a:lnTo>
                  <a:pt x="151" y="11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648320" y="281952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羊补牢 亡国  逃亡 死亡      家破人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228600" y="4876920"/>
            <a:ext cx="868680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昨天他家的水管漏了一天的水，今天才修好，也算是亡羊补牢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1"/>
          <p:cNvGrpSpPr/>
          <p:nvPr/>
        </p:nvGrpSpPr>
        <p:grpSpPr>
          <a:xfrm>
            <a:off x="1566720" y="1886040"/>
            <a:ext cx="2657520" cy="2657520"/>
            <a:chOff x="1566720" y="1886040"/>
            <a:chExt cx="2657520" cy="2657520"/>
          </a:xfrm>
        </p:grpSpPr>
        <p:sp>
          <p:nvSpPr>
            <p:cNvPr id="351" name="Rectangle 12"/>
            <p:cNvSpPr/>
            <p:nvPr/>
          </p:nvSpPr>
          <p:spPr>
            <a:xfrm>
              <a:off x="1566720" y="188604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>
              <a:off x="1566720" y="322596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4"/>
            <p:cNvSpPr/>
            <p:nvPr/>
          </p:nvSpPr>
          <p:spPr>
            <a:xfrm>
              <a:off x="2879640" y="188604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Picture 15" descr="Noname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6"/>
          <p:cNvSpPr/>
          <p:nvPr/>
        </p:nvSpPr>
        <p:spPr>
          <a:xfrm>
            <a:off x="4648320" y="20574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2747880" y="2290680"/>
            <a:ext cx="335160" cy="384120"/>
          </a:xfrm>
          <a:custGeom>
            <a:avLst/>
            <a:gdLst/>
            <a:ahLst/>
            <a:rect l="l" t="t" r="r" b="b"/>
            <a:pathLst>
              <a:path w="422" h="483">
                <a:moveTo>
                  <a:pt x="422" y="339"/>
                </a:moveTo>
                <a:lnTo>
                  <a:pt x="421" y="355"/>
                </a:lnTo>
                <a:lnTo>
                  <a:pt x="421" y="368"/>
                </a:lnTo>
                <a:lnTo>
                  <a:pt x="421" y="382"/>
                </a:lnTo>
                <a:lnTo>
                  <a:pt x="421" y="395"/>
                </a:lnTo>
                <a:lnTo>
                  <a:pt x="419" y="407"/>
                </a:lnTo>
                <a:lnTo>
                  <a:pt x="419" y="418"/>
                </a:lnTo>
                <a:lnTo>
                  <a:pt x="417" y="428"/>
                </a:lnTo>
                <a:lnTo>
                  <a:pt x="415" y="437"/>
                </a:lnTo>
                <a:lnTo>
                  <a:pt x="413" y="445"/>
                </a:lnTo>
                <a:lnTo>
                  <a:pt x="413" y="453"/>
                </a:lnTo>
                <a:lnTo>
                  <a:pt x="411" y="458"/>
                </a:lnTo>
                <a:lnTo>
                  <a:pt x="409" y="466"/>
                </a:lnTo>
                <a:lnTo>
                  <a:pt x="407" y="470"/>
                </a:lnTo>
                <a:lnTo>
                  <a:pt x="405" y="474"/>
                </a:lnTo>
                <a:lnTo>
                  <a:pt x="403" y="478"/>
                </a:lnTo>
                <a:lnTo>
                  <a:pt x="401" y="481"/>
                </a:lnTo>
                <a:lnTo>
                  <a:pt x="399" y="483"/>
                </a:lnTo>
                <a:lnTo>
                  <a:pt x="396" y="483"/>
                </a:lnTo>
                <a:lnTo>
                  <a:pt x="392" y="483"/>
                </a:lnTo>
                <a:lnTo>
                  <a:pt x="388" y="483"/>
                </a:lnTo>
                <a:lnTo>
                  <a:pt x="382" y="481"/>
                </a:lnTo>
                <a:lnTo>
                  <a:pt x="376" y="478"/>
                </a:lnTo>
                <a:lnTo>
                  <a:pt x="371" y="474"/>
                </a:lnTo>
                <a:lnTo>
                  <a:pt x="363" y="470"/>
                </a:lnTo>
                <a:lnTo>
                  <a:pt x="355" y="462"/>
                </a:lnTo>
                <a:lnTo>
                  <a:pt x="346" y="456"/>
                </a:lnTo>
                <a:lnTo>
                  <a:pt x="336" y="447"/>
                </a:lnTo>
                <a:lnTo>
                  <a:pt x="326" y="437"/>
                </a:lnTo>
                <a:lnTo>
                  <a:pt x="315" y="428"/>
                </a:lnTo>
                <a:lnTo>
                  <a:pt x="303" y="414"/>
                </a:lnTo>
                <a:lnTo>
                  <a:pt x="292" y="401"/>
                </a:lnTo>
                <a:lnTo>
                  <a:pt x="279" y="387"/>
                </a:lnTo>
                <a:lnTo>
                  <a:pt x="252" y="359"/>
                </a:lnTo>
                <a:lnTo>
                  <a:pt x="225" y="332"/>
                </a:lnTo>
                <a:lnTo>
                  <a:pt x="200" y="303"/>
                </a:lnTo>
                <a:lnTo>
                  <a:pt x="173" y="274"/>
                </a:lnTo>
                <a:lnTo>
                  <a:pt x="148" y="243"/>
                </a:lnTo>
                <a:lnTo>
                  <a:pt x="125" y="213"/>
                </a:lnTo>
                <a:lnTo>
                  <a:pt x="104" y="182"/>
                </a:lnTo>
                <a:lnTo>
                  <a:pt x="94" y="167"/>
                </a:lnTo>
                <a:lnTo>
                  <a:pt x="85" y="151"/>
                </a:lnTo>
                <a:lnTo>
                  <a:pt x="73" y="136"/>
                </a:lnTo>
                <a:lnTo>
                  <a:pt x="62" y="123"/>
                </a:lnTo>
                <a:lnTo>
                  <a:pt x="52" y="109"/>
                </a:lnTo>
                <a:lnTo>
                  <a:pt x="44" y="96"/>
                </a:lnTo>
                <a:lnTo>
                  <a:pt x="37" y="84"/>
                </a:lnTo>
                <a:lnTo>
                  <a:pt x="29" y="75"/>
                </a:lnTo>
                <a:lnTo>
                  <a:pt x="21" y="63"/>
                </a:lnTo>
                <a:lnTo>
                  <a:pt x="16" y="55"/>
                </a:lnTo>
                <a:lnTo>
                  <a:pt x="12" y="46"/>
                </a:lnTo>
                <a:lnTo>
                  <a:pt x="8" y="38"/>
                </a:lnTo>
                <a:lnTo>
                  <a:pt x="4" y="32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2" y="7"/>
                </a:lnTo>
                <a:lnTo>
                  <a:pt x="4" y="6"/>
                </a:lnTo>
                <a:lnTo>
                  <a:pt x="6" y="4"/>
                </a:lnTo>
                <a:lnTo>
                  <a:pt x="8" y="4"/>
                </a:lnTo>
                <a:lnTo>
                  <a:pt x="12" y="2"/>
                </a:lnTo>
                <a:lnTo>
                  <a:pt x="14" y="2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1" y="0"/>
                </a:lnTo>
                <a:lnTo>
                  <a:pt x="48" y="0"/>
                </a:lnTo>
                <a:lnTo>
                  <a:pt x="56" y="0"/>
                </a:lnTo>
                <a:lnTo>
                  <a:pt x="64" y="0"/>
                </a:lnTo>
                <a:lnTo>
                  <a:pt x="73" y="0"/>
                </a:lnTo>
                <a:lnTo>
                  <a:pt x="81" y="0"/>
                </a:lnTo>
                <a:lnTo>
                  <a:pt x="90" y="0"/>
                </a:lnTo>
                <a:lnTo>
                  <a:pt x="100" y="2"/>
                </a:lnTo>
                <a:lnTo>
                  <a:pt x="110" y="6"/>
                </a:lnTo>
                <a:lnTo>
                  <a:pt x="121" y="9"/>
                </a:lnTo>
                <a:lnTo>
                  <a:pt x="133" y="13"/>
                </a:lnTo>
                <a:lnTo>
                  <a:pt x="144" y="17"/>
                </a:lnTo>
                <a:lnTo>
                  <a:pt x="158" y="23"/>
                </a:lnTo>
                <a:lnTo>
                  <a:pt x="173" y="30"/>
                </a:lnTo>
                <a:lnTo>
                  <a:pt x="186" y="36"/>
                </a:lnTo>
                <a:lnTo>
                  <a:pt x="202" y="44"/>
                </a:lnTo>
                <a:lnTo>
                  <a:pt x="217" y="53"/>
                </a:lnTo>
                <a:lnTo>
                  <a:pt x="234" y="61"/>
                </a:lnTo>
                <a:lnTo>
                  <a:pt x="252" y="73"/>
                </a:lnTo>
                <a:lnTo>
                  <a:pt x="269" y="82"/>
                </a:lnTo>
                <a:lnTo>
                  <a:pt x="288" y="94"/>
                </a:lnTo>
                <a:lnTo>
                  <a:pt x="305" y="107"/>
                </a:lnTo>
                <a:lnTo>
                  <a:pt x="321" y="121"/>
                </a:lnTo>
                <a:lnTo>
                  <a:pt x="336" y="134"/>
                </a:lnTo>
                <a:lnTo>
                  <a:pt x="350" y="148"/>
                </a:lnTo>
                <a:lnTo>
                  <a:pt x="361" y="163"/>
                </a:lnTo>
                <a:lnTo>
                  <a:pt x="373" y="178"/>
                </a:lnTo>
                <a:lnTo>
                  <a:pt x="384" y="192"/>
                </a:lnTo>
                <a:lnTo>
                  <a:pt x="394" y="207"/>
                </a:lnTo>
                <a:lnTo>
                  <a:pt x="401" y="224"/>
                </a:lnTo>
                <a:lnTo>
                  <a:pt x="407" y="240"/>
                </a:lnTo>
                <a:lnTo>
                  <a:pt x="413" y="255"/>
                </a:lnTo>
                <a:lnTo>
                  <a:pt x="419" y="272"/>
                </a:lnTo>
                <a:lnTo>
                  <a:pt x="421" y="288"/>
                </a:lnTo>
                <a:lnTo>
                  <a:pt x="422" y="305"/>
                </a:lnTo>
                <a:lnTo>
                  <a:pt x="422" y="322"/>
                </a:lnTo>
                <a:lnTo>
                  <a:pt x="422" y="33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3"/>
          <p:cNvSpPr/>
          <p:nvPr/>
        </p:nvSpPr>
        <p:spPr>
          <a:xfrm>
            <a:off x="1986120" y="2784600"/>
            <a:ext cx="1819080" cy="345960"/>
          </a:xfrm>
          <a:custGeom>
            <a:avLst/>
            <a:gdLst/>
            <a:ahLst/>
            <a:rect l="l" t="t" r="r" b="b"/>
            <a:pathLst>
              <a:path w="2291" h="435">
                <a:moveTo>
                  <a:pt x="123" y="282"/>
                </a:moveTo>
                <a:lnTo>
                  <a:pt x="153" y="282"/>
                </a:lnTo>
                <a:lnTo>
                  <a:pt x="184" y="280"/>
                </a:lnTo>
                <a:lnTo>
                  <a:pt x="215" y="278"/>
                </a:lnTo>
                <a:lnTo>
                  <a:pt x="245" y="274"/>
                </a:lnTo>
                <a:lnTo>
                  <a:pt x="276" y="270"/>
                </a:lnTo>
                <a:lnTo>
                  <a:pt x="307" y="266"/>
                </a:lnTo>
                <a:lnTo>
                  <a:pt x="368" y="259"/>
                </a:lnTo>
                <a:lnTo>
                  <a:pt x="384" y="257"/>
                </a:lnTo>
                <a:lnTo>
                  <a:pt x="399" y="253"/>
                </a:lnTo>
                <a:lnTo>
                  <a:pt x="416" y="251"/>
                </a:lnTo>
                <a:lnTo>
                  <a:pt x="435" y="249"/>
                </a:lnTo>
                <a:lnTo>
                  <a:pt x="453" y="247"/>
                </a:lnTo>
                <a:lnTo>
                  <a:pt x="474" y="245"/>
                </a:lnTo>
                <a:lnTo>
                  <a:pt x="493" y="241"/>
                </a:lnTo>
                <a:lnTo>
                  <a:pt x="514" y="239"/>
                </a:lnTo>
                <a:lnTo>
                  <a:pt x="537" y="236"/>
                </a:lnTo>
                <a:lnTo>
                  <a:pt x="560" y="234"/>
                </a:lnTo>
                <a:lnTo>
                  <a:pt x="583" y="230"/>
                </a:lnTo>
                <a:lnTo>
                  <a:pt x="608" y="226"/>
                </a:lnTo>
                <a:lnTo>
                  <a:pt x="633" y="224"/>
                </a:lnTo>
                <a:lnTo>
                  <a:pt x="660" y="220"/>
                </a:lnTo>
                <a:lnTo>
                  <a:pt x="687" y="216"/>
                </a:lnTo>
                <a:lnTo>
                  <a:pt x="716" y="211"/>
                </a:lnTo>
                <a:lnTo>
                  <a:pt x="729" y="211"/>
                </a:lnTo>
                <a:lnTo>
                  <a:pt x="744" y="209"/>
                </a:lnTo>
                <a:lnTo>
                  <a:pt x="758" y="207"/>
                </a:lnTo>
                <a:lnTo>
                  <a:pt x="773" y="205"/>
                </a:lnTo>
                <a:lnTo>
                  <a:pt x="790" y="203"/>
                </a:lnTo>
                <a:lnTo>
                  <a:pt x="806" y="201"/>
                </a:lnTo>
                <a:lnTo>
                  <a:pt x="823" y="199"/>
                </a:lnTo>
                <a:lnTo>
                  <a:pt x="842" y="195"/>
                </a:lnTo>
                <a:lnTo>
                  <a:pt x="859" y="193"/>
                </a:lnTo>
                <a:lnTo>
                  <a:pt x="879" y="191"/>
                </a:lnTo>
                <a:lnTo>
                  <a:pt x="900" y="188"/>
                </a:lnTo>
                <a:lnTo>
                  <a:pt x="919" y="184"/>
                </a:lnTo>
                <a:lnTo>
                  <a:pt x="940" y="182"/>
                </a:lnTo>
                <a:lnTo>
                  <a:pt x="961" y="178"/>
                </a:lnTo>
                <a:lnTo>
                  <a:pt x="984" y="174"/>
                </a:lnTo>
                <a:lnTo>
                  <a:pt x="1005" y="170"/>
                </a:lnTo>
                <a:lnTo>
                  <a:pt x="1028" y="166"/>
                </a:lnTo>
                <a:lnTo>
                  <a:pt x="1053" y="163"/>
                </a:lnTo>
                <a:lnTo>
                  <a:pt x="1076" y="159"/>
                </a:lnTo>
                <a:lnTo>
                  <a:pt x="1101" y="153"/>
                </a:lnTo>
                <a:lnTo>
                  <a:pt x="1126" y="149"/>
                </a:lnTo>
                <a:lnTo>
                  <a:pt x="1153" y="145"/>
                </a:lnTo>
                <a:lnTo>
                  <a:pt x="1180" y="140"/>
                </a:lnTo>
                <a:lnTo>
                  <a:pt x="1207" y="136"/>
                </a:lnTo>
                <a:lnTo>
                  <a:pt x="1234" y="130"/>
                </a:lnTo>
                <a:lnTo>
                  <a:pt x="1262" y="126"/>
                </a:lnTo>
                <a:lnTo>
                  <a:pt x="1291" y="120"/>
                </a:lnTo>
                <a:lnTo>
                  <a:pt x="1320" y="115"/>
                </a:lnTo>
                <a:lnTo>
                  <a:pt x="1349" y="111"/>
                </a:lnTo>
                <a:lnTo>
                  <a:pt x="1380" y="105"/>
                </a:lnTo>
                <a:lnTo>
                  <a:pt x="1410" y="99"/>
                </a:lnTo>
                <a:lnTo>
                  <a:pt x="1443" y="94"/>
                </a:lnTo>
                <a:lnTo>
                  <a:pt x="1474" y="88"/>
                </a:lnTo>
                <a:lnTo>
                  <a:pt x="1504" y="82"/>
                </a:lnTo>
                <a:lnTo>
                  <a:pt x="1533" y="78"/>
                </a:lnTo>
                <a:lnTo>
                  <a:pt x="1562" y="72"/>
                </a:lnTo>
                <a:lnTo>
                  <a:pt x="1591" y="67"/>
                </a:lnTo>
                <a:lnTo>
                  <a:pt x="1617" y="63"/>
                </a:lnTo>
                <a:lnTo>
                  <a:pt x="1642" y="57"/>
                </a:lnTo>
                <a:lnTo>
                  <a:pt x="1669" y="53"/>
                </a:lnTo>
                <a:lnTo>
                  <a:pt x="1692" y="49"/>
                </a:lnTo>
                <a:lnTo>
                  <a:pt x="1717" y="46"/>
                </a:lnTo>
                <a:lnTo>
                  <a:pt x="1740" y="42"/>
                </a:lnTo>
                <a:lnTo>
                  <a:pt x="1761" y="38"/>
                </a:lnTo>
                <a:lnTo>
                  <a:pt x="1783" y="34"/>
                </a:lnTo>
                <a:lnTo>
                  <a:pt x="1804" y="30"/>
                </a:lnTo>
                <a:lnTo>
                  <a:pt x="1823" y="26"/>
                </a:lnTo>
                <a:lnTo>
                  <a:pt x="1842" y="24"/>
                </a:lnTo>
                <a:lnTo>
                  <a:pt x="1859" y="21"/>
                </a:lnTo>
                <a:lnTo>
                  <a:pt x="1877" y="19"/>
                </a:lnTo>
                <a:lnTo>
                  <a:pt x="1892" y="17"/>
                </a:lnTo>
                <a:lnTo>
                  <a:pt x="1907" y="13"/>
                </a:lnTo>
                <a:lnTo>
                  <a:pt x="1923" y="11"/>
                </a:lnTo>
                <a:lnTo>
                  <a:pt x="1936" y="9"/>
                </a:lnTo>
                <a:lnTo>
                  <a:pt x="1948" y="7"/>
                </a:lnTo>
                <a:lnTo>
                  <a:pt x="1961" y="5"/>
                </a:lnTo>
                <a:lnTo>
                  <a:pt x="1971" y="5"/>
                </a:lnTo>
                <a:lnTo>
                  <a:pt x="1982" y="3"/>
                </a:lnTo>
                <a:lnTo>
                  <a:pt x="1992" y="1"/>
                </a:lnTo>
                <a:lnTo>
                  <a:pt x="1999" y="1"/>
                </a:lnTo>
                <a:lnTo>
                  <a:pt x="2007" y="0"/>
                </a:lnTo>
                <a:lnTo>
                  <a:pt x="2015" y="0"/>
                </a:lnTo>
                <a:lnTo>
                  <a:pt x="2020" y="0"/>
                </a:lnTo>
                <a:lnTo>
                  <a:pt x="2026" y="0"/>
                </a:lnTo>
                <a:lnTo>
                  <a:pt x="2036" y="0"/>
                </a:lnTo>
                <a:lnTo>
                  <a:pt x="2045" y="1"/>
                </a:lnTo>
                <a:lnTo>
                  <a:pt x="2055" y="1"/>
                </a:lnTo>
                <a:lnTo>
                  <a:pt x="2067" y="3"/>
                </a:lnTo>
                <a:lnTo>
                  <a:pt x="2088" y="9"/>
                </a:lnTo>
                <a:lnTo>
                  <a:pt x="2109" y="15"/>
                </a:lnTo>
                <a:lnTo>
                  <a:pt x="2132" y="24"/>
                </a:lnTo>
                <a:lnTo>
                  <a:pt x="2153" y="34"/>
                </a:lnTo>
                <a:lnTo>
                  <a:pt x="2176" y="46"/>
                </a:lnTo>
                <a:lnTo>
                  <a:pt x="2199" y="59"/>
                </a:lnTo>
                <a:lnTo>
                  <a:pt x="2210" y="67"/>
                </a:lnTo>
                <a:lnTo>
                  <a:pt x="2220" y="76"/>
                </a:lnTo>
                <a:lnTo>
                  <a:pt x="2230" y="84"/>
                </a:lnTo>
                <a:lnTo>
                  <a:pt x="2239" y="92"/>
                </a:lnTo>
                <a:lnTo>
                  <a:pt x="2247" y="99"/>
                </a:lnTo>
                <a:lnTo>
                  <a:pt x="2255" y="107"/>
                </a:lnTo>
                <a:lnTo>
                  <a:pt x="2262" y="115"/>
                </a:lnTo>
                <a:lnTo>
                  <a:pt x="2268" y="122"/>
                </a:lnTo>
                <a:lnTo>
                  <a:pt x="2274" y="128"/>
                </a:lnTo>
                <a:lnTo>
                  <a:pt x="2278" y="136"/>
                </a:lnTo>
                <a:lnTo>
                  <a:pt x="2283" y="143"/>
                </a:lnTo>
                <a:lnTo>
                  <a:pt x="2285" y="149"/>
                </a:lnTo>
                <a:lnTo>
                  <a:pt x="2289" y="157"/>
                </a:lnTo>
                <a:lnTo>
                  <a:pt x="2291" y="163"/>
                </a:lnTo>
                <a:lnTo>
                  <a:pt x="2291" y="168"/>
                </a:lnTo>
                <a:lnTo>
                  <a:pt x="2291" y="176"/>
                </a:lnTo>
                <a:lnTo>
                  <a:pt x="2291" y="180"/>
                </a:lnTo>
                <a:lnTo>
                  <a:pt x="2291" y="182"/>
                </a:lnTo>
                <a:lnTo>
                  <a:pt x="2289" y="186"/>
                </a:lnTo>
                <a:lnTo>
                  <a:pt x="2287" y="188"/>
                </a:lnTo>
                <a:lnTo>
                  <a:pt x="2285" y="191"/>
                </a:lnTo>
                <a:lnTo>
                  <a:pt x="2283" y="193"/>
                </a:lnTo>
                <a:lnTo>
                  <a:pt x="2280" y="195"/>
                </a:lnTo>
                <a:lnTo>
                  <a:pt x="2276" y="197"/>
                </a:lnTo>
                <a:lnTo>
                  <a:pt x="2272" y="201"/>
                </a:lnTo>
                <a:lnTo>
                  <a:pt x="2268" y="203"/>
                </a:lnTo>
                <a:lnTo>
                  <a:pt x="2262" y="205"/>
                </a:lnTo>
                <a:lnTo>
                  <a:pt x="2257" y="207"/>
                </a:lnTo>
                <a:lnTo>
                  <a:pt x="2251" y="209"/>
                </a:lnTo>
                <a:lnTo>
                  <a:pt x="2243" y="209"/>
                </a:lnTo>
                <a:lnTo>
                  <a:pt x="2237" y="211"/>
                </a:lnTo>
                <a:lnTo>
                  <a:pt x="2230" y="213"/>
                </a:lnTo>
                <a:lnTo>
                  <a:pt x="2220" y="214"/>
                </a:lnTo>
                <a:lnTo>
                  <a:pt x="2212" y="214"/>
                </a:lnTo>
                <a:lnTo>
                  <a:pt x="2203" y="216"/>
                </a:lnTo>
                <a:lnTo>
                  <a:pt x="2193" y="216"/>
                </a:lnTo>
                <a:lnTo>
                  <a:pt x="2184" y="218"/>
                </a:lnTo>
                <a:lnTo>
                  <a:pt x="2172" y="218"/>
                </a:lnTo>
                <a:lnTo>
                  <a:pt x="2161" y="220"/>
                </a:lnTo>
                <a:lnTo>
                  <a:pt x="2149" y="220"/>
                </a:lnTo>
                <a:lnTo>
                  <a:pt x="2138" y="220"/>
                </a:lnTo>
                <a:lnTo>
                  <a:pt x="2124" y="222"/>
                </a:lnTo>
                <a:lnTo>
                  <a:pt x="2111" y="222"/>
                </a:lnTo>
                <a:lnTo>
                  <a:pt x="2097" y="222"/>
                </a:lnTo>
                <a:lnTo>
                  <a:pt x="2082" y="222"/>
                </a:lnTo>
                <a:lnTo>
                  <a:pt x="2067" y="222"/>
                </a:lnTo>
                <a:lnTo>
                  <a:pt x="2051" y="222"/>
                </a:lnTo>
                <a:lnTo>
                  <a:pt x="2036" y="222"/>
                </a:lnTo>
                <a:lnTo>
                  <a:pt x="2003" y="222"/>
                </a:lnTo>
                <a:lnTo>
                  <a:pt x="1972" y="222"/>
                </a:lnTo>
                <a:lnTo>
                  <a:pt x="1944" y="222"/>
                </a:lnTo>
                <a:lnTo>
                  <a:pt x="1915" y="222"/>
                </a:lnTo>
                <a:lnTo>
                  <a:pt x="1888" y="224"/>
                </a:lnTo>
                <a:lnTo>
                  <a:pt x="1861" y="224"/>
                </a:lnTo>
                <a:lnTo>
                  <a:pt x="1836" y="224"/>
                </a:lnTo>
                <a:lnTo>
                  <a:pt x="1813" y="224"/>
                </a:lnTo>
                <a:lnTo>
                  <a:pt x="1790" y="224"/>
                </a:lnTo>
                <a:lnTo>
                  <a:pt x="1769" y="226"/>
                </a:lnTo>
                <a:lnTo>
                  <a:pt x="1750" y="226"/>
                </a:lnTo>
                <a:lnTo>
                  <a:pt x="1731" y="228"/>
                </a:lnTo>
                <a:lnTo>
                  <a:pt x="1713" y="230"/>
                </a:lnTo>
                <a:lnTo>
                  <a:pt x="1696" y="230"/>
                </a:lnTo>
                <a:lnTo>
                  <a:pt x="1681" y="232"/>
                </a:lnTo>
                <a:lnTo>
                  <a:pt x="1667" y="236"/>
                </a:lnTo>
                <a:lnTo>
                  <a:pt x="1660" y="236"/>
                </a:lnTo>
                <a:lnTo>
                  <a:pt x="1652" y="237"/>
                </a:lnTo>
                <a:lnTo>
                  <a:pt x="1637" y="239"/>
                </a:lnTo>
                <a:lnTo>
                  <a:pt x="1617" y="241"/>
                </a:lnTo>
                <a:lnTo>
                  <a:pt x="1598" y="243"/>
                </a:lnTo>
                <a:lnTo>
                  <a:pt x="1577" y="245"/>
                </a:lnTo>
                <a:lnTo>
                  <a:pt x="1552" y="249"/>
                </a:lnTo>
                <a:lnTo>
                  <a:pt x="1527" y="251"/>
                </a:lnTo>
                <a:lnTo>
                  <a:pt x="1500" y="253"/>
                </a:lnTo>
                <a:lnTo>
                  <a:pt x="1472" y="257"/>
                </a:lnTo>
                <a:lnTo>
                  <a:pt x="1441" y="259"/>
                </a:lnTo>
                <a:lnTo>
                  <a:pt x="1410" y="262"/>
                </a:lnTo>
                <a:lnTo>
                  <a:pt x="1376" y="266"/>
                </a:lnTo>
                <a:lnTo>
                  <a:pt x="1341" y="270"/>
                </a:lnTo>
                <a:lnTo>
                  <a:pt x="1305" y="274"/>
                </a:lnTo>
                <a:lnTo>
                  <a:pt x="1266" y="278"/>
                </a:lnTo>
                <a:lnTo>
                  <a:pt x="1228" y="282"/>
                </a:lnTo>
                <a:lnTo>
                  <a:pt x="1145" y="291"/>
                </a:lnTo>
                <a:lnTo>
                  <a:pt x="1065" y="301"/>
                </a:lnTo>
                <a:lnTo>
                  <a:pt x="980" y="312"/>
                </a:lnTo>
                <a:lnTo>
                  <a:pt x="898" y="324"/>
                </a:lnTo>
                <a:lnTo>
                  <a:pt x="811" y="337"/>
                </a:lnTo>
                <a:lnTo>
                  <a:pt x="727" y="349"/>
                </a:lnTo>
                <a:lnTo>
                  <a:pt x="639" y="362"/>
                </a:lnTo>
                <a:lnTo>
                  <a:pt x="552" y="376"/>
                </a:lnTo>
                <a:lnTo>
                  <a:pt x="529" y="379"/>
                </a:lnTo>
                <a:lnTo>
                  <a:pt x="508" y="381"/>
                </a:lnTo>
                <a:lnTo>
                  <a:pt x="487" y="385"/>
                </a:lnTo>
                <a:lnTo>
                  <a:pt x="468" y="389"/>
                </a:lnTo>
                <a:lnTo>
                  <a:pt x="449" y="391"/>
                </a:lnTo>
                <a:lnTo>
                  <a:pt x="430" y="395"/>
                </a:lnTo>
                <a:lnTo>
                  <a:pt x="412" y="397"/>
                </a:lnTo>
                <a:lnTo>
                  <a:pt x="395" y="401"/>
                </a:lnTo>
                <a:lnTo>
                  <a:pt x="378" y="403"/>
                </a:lnTo>
                <a:lnTo>
                  <a:pt x="362" y="404"/>
                </a:lnTo>
                <a:lnTo>
                  <a:pt x="345" y="408"/>
                </a:lnTo>
                <a:lnTo>
                  <a:pt x="332" y="410"/>
                </a:lnTo>
                <a:lnTo>
                  <a:pt x="316" y="412"/>
                </a:lnTo>
                <a:lnTo>
                  <a:pt x="303" y="414"/>
                </a:lnTo>
                <a:lnTo>
                  <a:pt x="290" y="416"/>
                </a:lnTo>
                <a:lnTo>
                  <a:pt x="278" y="418"/>
                </a:lnTo>
                <a:lnTo>
                  <a:pt x="266" y="420"/>
                </a:lnTo>
                <a:lnTo>
                  <a:pt x="255" y="422"/>
                </a:lnTo>
                <a:lnTo>
                  <a:pt x="245" y="424"/>
                </a:lnTo>
                <a:lnTo>
                  <a:pt x="236" y="426"/>
                </a:lnTo>
                <a:lnTo>
                  <a:pt x="226" y="427"/>
                </a:lnTo>
                <a:lnTo>
                  <a:pt x="219" y="427"/>
                </a:lnTo>
                <a:lnTo>
                  <a:pt x="211" y="429"/>
                </a:lnTo>
                <a:lnTo>
                  <a:pt x="203" y="429"/>
                </a:lnTo>
                <a:lnTo>
                  <a:pt x="197" y="431"/>
                </a:lnTo>
                <a:lnTo>
                  <a:pt x="192" y="431"/>
                </a:lnTo>
                <a:lnTo>
                  <a:pt x="186" y="433"/>
                </a:lnTo>
                <a:lnTo>
                  <a:pt x="182" y="433"/>
                </a:lnTo>
                <a:lnTo>
                  <a:pt x="178" y="433"/>
                </a:lnTo>
                <a:lnTo>
                  <a:pt x="176" y="435"/>
                </a:lnTo>
                <a:lnTo>
                  <a:pt x="174" y="435"/>
                </a:lnTo>
                <a:lnTo>
                  <a:pt x="172" y="435"/>
                </a:lnTo>
                <a:lnTo>
                  <a:pt x="165" y="433"/>
                </a:lnTo>
                <a:lnTo>
                  <a:pt x="155" y="431"/>
                </a:lnTo>
                <a:lnTo>
                  <a:pt x="146" y="429"/>
                </a:lnTo>
                <a:lnTo>
                  <a:pt x="132" y="424"/>
                </a:lnTo>
                <a:lnTo>
                  <a:pt x="121" y="418"/>
                </a:lnTo>
                <a:lnTo>
                  <a:pt x="113" y="414"/>
                </a:lnTo>
                <a:lnTo>
                  <a:pt x="105" y="410"/>
                </a:lnTo>
                <a:lnTo>
                  <a:pt x="98" y="404"/>
                </a:lnTo>
                <a:lnTo>
                  <a:pt x="88" y="401"/>
                </a:lnTo>
                <a:lnTo>
                  <a:pt x="80" y="393"/>
                </a:lnTo>
                <a:lnTo>
                  <a:pt x="71" y="387"/>
                </a:lnTo>
                <a:lnTo>
                  <a:pt x="61" y="381"/>
                </a:lnTo>
                <a:lnTo>
                  <a:pt x="53" y="374"/>
                </a:lnTo>
                <a:lnTo>
                  <a:pt x="46" y="368"/>
                </a:lnTo>
                <a:lnTo>
                  <a:pt x="38" y="362"/>
                </a:lnTo>
                <a:lnTo>
                  <a:pt x="30" y="356"/>
                </a:lnTo>
                <a:lnTo>
                  <a:pt x="25" y="353"/>
                </a:lnTo>
                <a:lnTo>
                  <a:pt x="21" y="347"/>
                </a:lnTo>
                <a:lnTo>
                  <a:pt x="15" y="341"/>
                </a:lnTo>
                <a:lnTo>
                  <a:pt x="11" y="337"/>
                </a:lnTo>
                <a:lnTo>
                  <a:pt x="7" y="332"/>
                </a:lnTo>
                <a:lnTo>
                  <a:pt x="6" y="328"/>
                </a:lnTo>
                <a:lnTo>
                  <a:pt x="4" y="324"/>
                </a:lnTo>
                <a:lnTo>
                  <a:pt x="2" y="318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0" y="303"/>
                </a:lnTo>
                <a:lnTo>
                  <a:pt x="2" y="301"/>
                </a:lnTo>
                <a:lnTo>
                  <a:pt x="4" y="299"/>
                </a:lnTo>
                <a:lnTo>
                  <a:pt x="7" y="297"/>
                </a:lnTo>
                <a:lnTo>
                  <a:pt x="11" y="295"/>
                </a:lnTo>
                <a:lnTo>
                  <a:pt x="17" y="293"/>
                </a:lnTo>
                <a:lnTo>
                  <a:pt x="23" y="291"/>
                </a:lnTo>
                <a:lnTo>
                  <a:pt x="30" y="289"/>
                </a:lnTo>
                <a:lnTo>
                  <a:pt x="38" y="287"/>
                </a:lnTo>
                <a:lnTo>
                  <a:pt x="48" y="285"/>
                </a:lnTo>
                <a:lnTo>
                  <a:pt x="57" y="285"/>
                </a:lnTo>
                <a:lnTo>
                  <a:pt x="69" y="284"/>
                </a:lnTo>
                <a:lnTo>
                  <a:pt x="80" y="284"/>
                </a:lnTo>
                <a:lnTo>
                  <a:pt x="94" y="282"/>
                </a:lnTo>
                <a:lnTo>
                  <a:pt x="107" y="282"/>
                </a:lnTo>
                <a:lnTo>
                  <a:pt x="123" y="282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4"/>
          <p:cNvSpPr/>
          <p:nvPr/>
        </p:nvSpPr>
        <p:spPr>
          <a:xfrm>
            <a:off x="2400480" y="3035160"/>
            <a:ext cx="1152360" cy="1067040"/>
          </a:xfrm>
          <a:custGeom>
            <a:avLst/>
            <a:gdLst/>
            <a:ahLst/>
            <a:rect l="l" t="t" r="r" b="b"/>
            <a:pathLst>
              <a:path w="1452" h="1343">
                <a:moveTo>
                  <a:pt x="224" y="1271"/>
                </a:moveTo>
                <a:lnTo>
                  <a:pt x="217" y="1278"/>
                </a:lnTo>
                <a:lnTo>
                  <a:pt x="209" y="1286"/>
                </a:lnTo>
                <a:lnTo>
                  <a:pt x="203" y="1294"/>
                </a:lnTo>
                <a:lnTo>
                  <a:pt x="195" y="1301"/>
                </a:lnTo>
                <a:lnTo>
                  <a:pt x="190" y="1307"/>
                </a:lnTo>
                <a:lnTo>
                  <a:pt x="184" y="1313"/>
                </a:lnTo>
                <a:lnTo>
                  <a:pt x="176" y="1319"/>
                </a:lnTo>
                <a:lnTo>
                  <a:pt x="172" y="1322"/>
                </a:lnTo>
                <a:lnTo>
                  <a:pt x="167" y="1326"/>
                </a:lnTo>
                <a:lnTo>
                  <a:pt x="161" y="1330"/>
                </a:lnTo>
                <a:lnTo>
                  <a:pt x="157" y="1334"/>
                </a:lnTo>
                <a:lnTo>
                  <a:pt x="153" y="1336"/>
                </a:lnTo>
                <a:lnTo>
                  <a:pt x="149" y="1338"/>
                </a:lnTo>
                <a:lnTo>
                  <a:pt x="147" y="1340"/>
                </a:lnTo>
                <a:lnTo>
                  <a:pt x="144" y="1340"/>
                </a:lnTo>
                <a:lnTo>
                  <a:pt x="142" y="1340"/>
                </a:lnTo>
                <a:lnTo>
                  <a:pt x="138" y="1342"/>
                </a:lnTo>
                <a:lnTo>
                  <a:pt x="134" y="1343"/>
                </a:lnTo>
                <a:lnTo>
                  <a:pt x="130" y="1343"/>
                </a:lnTo>
                <a:lnTo>
                  <a:pt x="124" y="1343"/>
                </a:lnTo>
                <a:lnTo>
                  <a:pt x="121" y="1342"/>
                </a:lnTo>
                <a:lnTo>
                  <a:pt x="115" y="1340"/>
                </a:lnTo>
                <a:lnTo>
                  <a:pt x="111" y="1336"/>
                </a:lnTo>
                <a:lnTo>
                  <a:pt x="105" y="1332"/>
                </a:lnTo>
                <a:lnTo>
                  <a:pt x="100" y="1326"/>
                </a:lnTo>
                <a:lnTo>
                  <a:pt x="94" y="1320"/>
                </a:lnTo>
                <a:lnTo>
                  <a:pt x="88" y="1315"/>
                </a:lnTo>
                <a:lnTo>
                  <a:pt x="82" y="1307"/>
                </a:lnTo>
                <a:lnTo>
                  <a:pt x="76" y="1299"/>
                </a:lnTo>
                <a:lnTo>
                  <a:pt x="71" y="1290"/>
                </a:lnTo>
                <a:lnTo>
                  <a:pt x="65" y="1280"/>
                </a:lnTo>
                <a:lnTo>
                  <a:pt x="61" y="1271"/>
                </a:lnTo>
                <a:lnTo>
                  <a:pt x="46" y="1253"/>
                </a:lnTo>
                <a:lnTo>
                  <a:pt x="34" y="1236"/>
                </a:lnTo>
                <a:lnTo>
                  <a:pt x="23" y="1223"/>
                </a:lnTo>
                <a:lnTo>
                  <a:pt x="15" y="1207"/>
                </a:lnTo>
                <a:lnTo>
                  <a:pt x="7" y="1196"/>
                </a:lnTo>
                <a:lnTo>
                  <a:pt x="5" y="1190"/>
                </a:lnTo>
                <a:lnTo>
                  <a:pt x="4" y="1184"/>
                </a:lnTo>
                <a:lnTo>
                  <a:pt x="2" y="1178"/>
                </a:lnTo>
                <a:lnTo>
                  <a:pt x="0" y="1173"/>
                </a:lnTo>
                <a:lnTo>
                  <a:pt x="0" y="1169"/>
                </a:lnTo>
                <a:lnTo>
                  <a:pt x="0" y="1165"/>
                </a:lnTo>
                <a:lnTo>
                  <a:pt x="0" y="1159"/>
                </a:lnTo>
                <a:lnTo>
                  <a:pt x="0" y="1155"/>
                </a:lnTo>
                <a:lnTo>
                  <a:pt x="2" y="1146"/>
                </a:lnTo>
                <a:lnTo>
                  <a:pt x="7" y="1138"/>
                </a:lnTo>
                <a:lnTo>
                  <a:pt x="13" y="1129"/>
                </a:lnTo>
                <a:lnTo>
                  <a:pt x="21" y="1121"/>
                </a:lnTo>
                <a:lnTo>
                  <a:pt x="29" y="1111"/>
                </a:lnTo>
                <a:lnTo>
                  <a:pt x="40" y="1102"/>
                </a:lnTo>
                <a:lnTo>
                  <a:pt x="50" y="1094"/>
                </a:lnTo>
                <a:lnTo>
                  <a:pt x="55" y="1088"/>
                </a:lnTo>
                <a:lnTo>
                  <a:pt x="61" y="1082"/>
                </a:lnTo>
                <a:lnTo>
                  <a:pt x="67" y="1075"/>
                </a:lnTo>
                <a:lnTo>
                  <a:pt x="73" y="1065"/>
                </a:lnTo>
                <a:lnTo>
                  <a:pt x="78" y="1054"/>
                </a:lnTo>
                <a:lnTo>
                  <a:pt x="84" y="1042"/>
                </a:lnTo>
                <a:lnTo>
                  <a:pt x="88" y="1031"/>
                </a:lnTo>
                <a:lnTo>
                  <a:pt x="94" y="1015"/>
                </a:lnTo>
                <a:lnTo>
                  <a:pt x="98" y="1000"/>
                </a:lnTo>
                <a:lnTo>
                  <a:pt x="103" y="983"/>
                </a:lnTo>
                <a:lnTo>
                  <a:pt x="107" y="965"/>
                </a:lnTo>
                <a:lnTo>
                  <a:pt x="111" y="946"/>
                </a:lnTo>
                <a:lnTo>
                  <a:pt x="115" y="927"/>
                </a:lnTo>
                <a:lnTo>
                  <a:pt x="117" y="904"/>
                </a:lnTo>
                <a:lnTo>
                  <a:pt x="119" y="883"/>
                </a:lnTo>
                <a:lnTo>
                  <a:pt x="123" y="858"/>
                </a:lnTo>
                <a:lnTo>
                  <a:pt x="124" y="810"/>
                </a:lnTo>
                <a:lnTo>
                  <a:pt x="128" y="764"/>
                </a:lnTo>
                <a:lnTo>
                  <a:pt x="128" y="741"/>
                </a:lnTo>
                <a:lnTo>
                  <a:pt x="130" y="720"/>
                </a:lnTo>
                <a:lnTo>
                  <a:pt x="130" y="697"/>
                </a:lnTo>
                <a:lnTo>
                  <a:pt x="130" y="676"/>
                </a:lnTo>
                <a:lnTo>
                  <a:pt x="130" y="656"/>
                </a:lnTo>
                <a:lnTo>
                  <a:pt x="132" y="635"/>
                </a:lnTo>
                <a:lnTo>
                  <a:pt x="132" y="616"/>
                </a:lnTo>
                <a:lnTo>
                  <a:pt x="132" y="597"/>
                </a:lnTo>
                <a:lnTo>
                  <a:pt x="132" y="580"/>
                </a:lnTo>
                <a:lnTo>
                  <a:pt x="132" y="562"/>
                </a:lnTo>
                <a:lnTo>
                  <a:pt x="132" y="545"/>
                </a:lnTo>
                <a:lnTo>
                  <a:pt x="132" y="530"/>
                </a:lnTo>
                <a:lnTo>
                  <a:pt x="132" y="522"/>
                </a:lnTo>
                <a:lnTo>
                  <a:pt x="132" y="513"/>
                </a:lnTo>
                <a:lnTo>
                  <a:pt x="132" y="505"/>
                </a:lnTo>
                <a:lnTo>
                  <a:pt x="132" y="495"/>
                </a:lnTo>
                <a:lnTo>
                  <a:pt x="132" y="484"/>
                </a:lnTo>
                <a:lnTo>
                  <a:pt x="130" y="474"/>
                </a:lnTo>
                <a:lnTo>
                  <a:pt x="130" y="463"/>
                </a:lnTo>
                <a:lnTo>
                  <a:pt x="130" y="451"/>
                </a:lnTo>
                <a:lnTo>
                  <a:pt x="130" y="438"/>
                </a:lnTo>
                <a:lnTo>
                  <a:pt x="128" y="424"/>
                </a:lnTo>
                <a:lnTo>
                  <a:pt x="128" y="411"/>
                </a:lnTo>
                <a:lnTo>
                  <a:pt x="128" y="397"/>
                </a:lnTo>
                <a:lnTo>
                  <a:pt x="128" y="382"/>
                </a:lnTo>
                <a:lnTo>
                  <a:pt x="126" y="367"/>
                </a:lnTo>
                <a:lnTo>
                  <a:pt x="126" y="351"/>
                </a:lnTo>
                <a:lnTo>
                  <a:pt x="126" y="336"/>
                </a:lnTo>
                <a:lnTo>
                  <a:pt x="124" y="319"/>
                </a:lnTo>
                <a:lnTo>
                  <a:pt x="124" y="301"/>
                </a:lnTo>
                <a:lnTo>
                  <a:pt x="123" y="284"/>
                </a:lnTo>
                <a:lnTo>
                  <a:pt x="123" y="265"/>
                </a:lnTo>
                <a:lnTo>
                  <a:pt x="123" y="246"/>
                </a:lnTo>
                <a:lnTo>
                  <a:pt x="121" y="227"/>
                </a:lnTo>
                <a:lnTo>
                  <a:pt x="121" y="207"/>
                </a:lnTo>
                <a:lnTo>
                  <a:pt x="119" y="186"/>
                </a:lnTo>
                <a:lnTo>
                  <a:pt x="119" y="165"/>
                </a:lnTo>
                <a:lnTo>
                  <a:pt x="117" y="142"/>
                </a:lnTo>
                <a:lnTo>
                  <a:pt x="117" y="121"/>
                </a:lnTo>
                <a:lnTo>
                  <a:pt x="115" y="98"/>
                </a:lnTo>
                <a:lnTo>
                  <a:pt x="115" y="75"/>
                </a:lnTo>
                <a:lnTo>
                  <a:pt x="113" y="50"/>
                </a:lnTo>
                <a:lnTo>
                  <a:pt x="113" y="25"/>
                </a:lnTo>
                <a:lnTo>
                  <a:pt x="111" y="0"/>
                </a:lnTo>
                <a:lnTo>
                  <a:pt x="132" y="16"/>
                </a:lnTo>
                <a:lnTo>
                  <a:pt x="151" y="31"/>
                </a:lnTo>
                <a:lnTo>
                  <a:pt x="169" y="44"/>
                </a:lnTo>
                <a:lnTo>
                  <a:pt x="186" y="58"/>
                </a:lnTo>
                <a:lnTo>
                  <a:pt x="201" y="71"/>
                </a:lnTo>
                <a:lnTo>
                  <a:pt x="217" y="83"/>
                </a:lnTo>
                <a:lnTo>
                  <a:pt x="230" y="94"/>
                </a:lnTo>
                <a:lnTo>
                  <a:pt x="242" y="104"/>
                </a:lnTo>
                <a:lnTo>
                  <a:pt x="253" y="113"/>
                </a:lnTo>
                <a:lnTo>
                  <a:pt x="263" y="123"/>
                </a:lnTo>
                <a:lnTo>
                  <a:pt x="270" y="131"/>
                </a:lnTo>
                <a:lnTo>
                  <a:pt x="278" y="136"/>
                </a:lnTo>
                <a:lnTo>
                  <a:pt x="284" y="142"/>
                </a:lnTo>
                <a:lnTo>
                  <a:pt x="289" y="148"/>
                </a:lnTo>
                <a:lnTo>
                  <a:pt x="293" y="152"/>
                </a:lnTo>
                <a:lnTo>
                  <a:pt x="295" y="154"/>
                </a:lnTo>
                <a:lnTo>
                  <a:pt x="297" y="156"/>
                </a:lnTo>
                <a:lnTo>
                  <a:pt x="297" y="159"/>
                </a:lnTo>
                <a:lnTo>
                  <a:pt x="299" y="167"/>
                </a:lnTo>
                <a:lnTo>
                  <a:pt x="299" y="175"/>
                </a:lnTo>
                <a:lnTo>
                  <a:pt x="299" y="186"/>
                </a:lnTo>
                <a:lnTo>
                  <a:pt x="299" y="200"/>
                </a:lnTo>
                <a:lnTo>
                  <a:pt x="299" y="215"/>
                </a:lnTo>
                <a:lnTo>
                  <a:pt x="299" y="230"/>
                </a:lnTo>
                <a:lnTo>
                  <a:pt x="299" y="250"/>
                </a:lnTo>
                <a:lnTo>
                  <a:pt x="297" y="269"/>
                </a:lnTo>
                <a:lnTo>
                  <a:pt x="295" y="292"/>
                </a:lnTo>
                <a:lnTo>
                  <a:pt x="295" y="315"/>
                </a:lnTo>
                <a:lnTo>
                  <a:pt x="293" y="340"/>
                </a:lnTo>
                <a:lnTo>
                  <a:pt x="291" y="367"/>
                </a:lnTo>
                <a:lnTo>
                  <a:pt x="289" y="395"/>
                </a:lnTo>
                <a:lnTo>
                  <a:pt x="288" y="426"/>
                </a:lnTo>
                <a:lnTo>
                  <a:pt x="286" y="459"/>
                </a:lnTo>
                <a:lnTo>
                  <a:pt x="284" y="491"/>
                </a:lnTo>
                <a:lnTo>
                  <a:pt x="282" y="524"/>
                </a:lnTo>
                <a:lnTo>
                  <a:pt x="280" y="555"/>
                </a:lnTo>
                <a:lnTo>
                  <a:pt x="278" y="585"/>
                </a:lnTo>
                <a:lnTo>
                  <a:pt x="276" y="614"/>
                </a:lnTo>
                <a:lnTo>
                  <a:pt x="274" y="643"/>
                </a:lnTo>
                <a:lnTo>
                  <a:pt x="272" y="670"/>
                </a:lnTo>
                <a:lnTo>
                  <a:pt x="270" y="697"/>
                </a:lnTo>
                <a:lnTo>
                  <a:pt x="268" y="724"/>
                </a:lnTo>
                <a:lnTo>
                  <a:pt x="266" y="749"/>
                </a:lnTo>
                <a:lnTo>
                  <a:pt x="265" y="772"/>
                </a:lnTo>
                <a:lnTo>
                  <a:pt x="263" y="797"/>
                </a:lnTo>
                <a:lnTo>
                  <a:pt x="261" y="820"/>
                </a:lnTo>
                <a:lnTo>
                  <a:pt x="259" y="841"/>
                </a:lnTo>
                <a:lnTo>
                  <a:pt x="257" y="862"/>
                </a:lnTo>
                <a:lnTo>
                  <a:pt x="255" y="883"/>
                </a:lnTo>
                <a:lnTo>
                  <a:pt x="253" y="900"/>
                </a:lnTo>
                <a:lnTo>
                  <a:pt x="251" y="919"/>
                </a:lnTo>
                <a:lnTo>
                  <a:pt x="251" y="935"/>
                </a:lnTo>
                <a:lnTo>
                  <a:pt x="251" y="950"/>
                </a:lnTo>
                <a:lnTo>
                  <a:pt x="251" y="965"/>
                </a:lnTo>
                <a:lnTo>
                  <a:pt x="251" y="977"/>
                </a:lnTo>
                <a:lnTo>
                  <a:pt x="251" y="988"/>
                </a:lnTo>
                <a:lnTo>
                  <a:pt x="253" y="1000"/>
                </a:lnTo>
                <a:lnTo>
                  <a:pt x="253" y="1010"/>
                </a:lnTo>
                <a:lnTo>
                  <a:pt x="255" y="1017"/>
                </a:lnTo>
                <a:lnTo>
                  <a:pt x="257" y="1025"/>
                </a:lnTo>
                <a:lnTo>
                  <a:pt x="257" y="1031"/>
                </a:lnTo>
                <a:lnTo>
                  <a:pt x="259" y="1036"/>
                </a:lnTo>
                <a:lnTo>
                  <a:pt x="261" y="1040"/>
                </a:lnTo>
                <a:lnTo>
                  <a:pt x="263" y="1044"/>
                </a:lnTo>
                <a:lnTo>
                  <a:pt x="265" y="1046"/>
                </a:lnTo>
                <a:lnTo>
                  <a:pt x="266" y="1048"/>
                </a:lnTo>
                <a:lnTo>
                  <a:pt x="268" y="1048"/>
                </a:lnTo>
                <a:lnTo>
                  <a:pt x="272" y="1050"/>
                </a:lnTo>
                <a:lnTo>
                  <a:pt x="276" y="1050"/>
                </a:lnTo>
                <a:lnTo>
                  <a:pt x="280" y="1050"/>
                </a:lnTo>
                <a:lnTo>
                  <a:pt x="286" y="1050"/>
                </a:lnTo>
                <a:lnTo>
                  <a:pt x="291" y="1050"/>
                </a:lnTo>
                <a:lnTo>
                  <a:pt x="299" y="1050"/>
                </a:lnTo>
                <a:lnTo>
                  <a:pt x="307" y="1050"/>
                </a:lnTo>
                <a:lnTo>
                  <a:pt x="316" y="1050"/>
                </a:lnTo>
                <a:lnTo>
                  <a:pt x="326" y="1050"/>
                </a:lnTo>
                <a:lnTo>
                  <a:pt x="337" y="1050"/>
                </a:lnTo>
                <a:lnTo>
                  <a:pt x="349" y="1048"/>
                </a:lnTo>
                <a:lnTo>
                  <a:pt x="361" y="1046"/>
                </a:lnTo>
                <a:lnTo>
                  <a:pt x="374" y="1046"/>
                </a:lnTo>
                <a:lnTo>
                  <a:pt x="387" y="1044"/>
                </a:lnTo>
                <a:lnTo>
                  <a:pt x="403" y="1042"/>
                </a:lnTo>
                <a:lnTo>
                  <a:pt x="418" y="1040"/>
                </a:lnTo>
                <a:lnTo>
                  <a:pt x="435" y="1038"/>
                </a:lnTo>
                <a:lnTo>
                  <a:pt x="453" y="1036"/>
                </a:lnTo>
                <a:lnTo>
                  <a:pt x="470" y="1033"/>
                </a:lnTo>
                <a:lnTo>
                  <a:pt x="489" y="1031"/>
                </a:lnTo>
                <a:lnTo>
                  <a:pt x="508" y="1027"/>
                </a:lnTo>
                <a:lnTo>
                  <a:pt x="529" y="1023"/>
                </a:lnTo>
                <a:lnTo>
                  <a:pt x="550" y="1021"/>
                </a:lnTo>
                <a:lnTo>
                  <a:pt x="574" y="1017"/>
                </a:lnTo>
                <a:lnTo>
                  <a:pt x="597" y="1011"/>
                </a:lnTo>
                <a:lnTo>
                  <a:pt x="621" y="1008"/>
                </a:lnTo>
                <a:lnTo>
                  <a:pt x="646" y="1004"/>
                </a:lnTo>
                <a:lnTo>
                  <a:pt x="671" y="998"/>
                </a:lnTo>
                <a:lnTo>
                  <a:pt x="698" y="992"/>
                </a:lnTo>
                <a:lnTo>
                  <a:pt x="725" y="988"/>
                </a:lnTo>
                <a:lnTo>
                  <a:pt x="754" y="983"/>
                </a:lnTo>
                <a:lnTo>
                  <a:pt x="779" y="977"/>
                </a:lnTo>
                <a:lnTo>
                  <a:pt x="806" y="971"/>
                </a:lnTo>
                <a:lnTo>
                  <a:pt x="831" y="967"/>
                </a:lnTo>
                <a:lnTo>
                  <a:pt x="856" y="962"/>
                </a:lnTo>
                <a:lnTo>
                  <a:pt x="879" y="958"/>
                </a:lnTo>
                <a:lnTo>
                  <a:pt x="904" y="954"/>
                </a:lnTo>
                <a:lnTo>
                  <a:pt x="925" y="950"/>
                </a:lnTo>
                <a:lnTo>
                  <a:pt x="948" y="946"/>
                </a:lnTo>
                <a:lnTo>
                  <a:pt x="967" y="942"/>
                </a:lnTo>
                <a:lnTo>
                  <a:pt x="988" y="939"/>
                </a:lnTo>
                <a:lnTo>
                  <a:pt x="1007" y="937"/>
                </a:lnTo>
                <a:lnTo>
                  <a:pt x="1026" y="933"/>
                </a:lnTo>
                <a:lnTo>
                  <a:pt x="1044" y="931"/>
                </a:lnTo>
                <a:lnTo>
                  <a:pt x="1063" y="927"/>
                </a:lnTo>
                <a:lnTo>
                  <a:pt x="1078" y="925"/>
                </a:lnTo>
                <a:lnTo>
                  <a:pt x="1095" y="923"/>
                </a:lnTo>
                <a:lnTo>
                  <a:pt x="1109" y="921"/>
                </a:lnTo>
                <a:lnTo>
                  <a:pt x="1124" y="919"/>
                </a:lnTo>
                <a:lnTo>
                  <a:pt x="1138" y="919"/>
                </a:lnTo>
                <a:lnTo>
                  <a:pt x="1151" y="917"/>
                </a:lnTo>
                <a:lnTo>
                  <a:pt x="1165" y="916"/>
                </a:lnTo>
                <a:lnTo>
                  <a:pt x="1176" y="916"/>
                </a:lnTo>
                <a:lnTo>
                  <a:pt x="1186" y="916"/>
                </a:lnTo>
                <a:lnTo>
                  <a:pt x="1197" y="914"/>
                </a:lnTo>
                <a:lnTo>
                  <a:pt x="1207" y="914"/>
                </a:lnTo>
                <a:lnTo>
                  <a:pt x="1214" y="914"/>
                </a:lnTo>
                <a:lnTo>
                  <a:pt x="1222" y="914"/>
                </a:lnTo>
                <a:lnTo>
                  <a:pt x="1230" y="916"/>
                </a:lnTo>
                <a:lnTo>
                  <a:pt x="1237" y="916"/>
                </a:lnTo>
                <a:lnTo>
                  <a:pt x="1243" y="916"/>
                </a:lnTo>
                <a:lnTo>
                  <a:pt x="1247" y="917"/>
                </a:lnTo>
                <a:lnTo>
                  <a:pt x="1266" y="923"/>
                </a:lnTo>
                <a:lnTo>
                  <a:pt x="1284" y="929"/>
                </a:lnTo>
                <a:lnTo>
                  <a:pt x="1303" y="937"/>
                </a:lnTo>
                <a:lnTo>
                  <a:pt x="1320" y="944"/>
                </a:lnTo>
                <a:lnTo>
                  <a:pt x="1337" y="956"/>
                </a:lnTo>
                <a:lnTo>
                  <a:pt x="1345" y="962"/>
                </a:lnTo>
                <a:lnTo>
                  <a:pt x="1355" y="969"/>
                </a:lnTo>
                <a:lnTo>
                  <a:pt x="1362" y="975"/>
                </a:lnTo>
                <a:lnTo>
                  <a:pt x="1372" y="983"/>
                </a:lnTo>
                <a:lnTo>
                  <a:pt x="1381" y="990"/>
                </a:lnTo>
                <a:lnTo>
                  <a:pt x="1391" y="1000"/>
                </a:lnTo>
                <a:lnTo>
                  <a:pt x="1404" y="1017"/>
                </a:lnTo>
                <a:lnTo>
                  <a:pt x="1418" y="1033"/>
                </a:lnTo>
                <a:lnTo>
                  <a:pt x="1427" y="1048"/>
                </a:lnTo>
                <a:lnTo>
                  <a:pt x="1437" y="1059"/>
                </a:lnTo>
                <a:lnTo>
                  <a:pt x="1443" y="1071"/>
                </a:lnTo>
                <a:lnTo>
                  <a:pt x="1447" y="1077"/>
                </a:lnTo>
                <a:lnTo>
                  <a:pt x="1449" y="1081"/>
                </a:lnTo>
                <a:lnTo>
                  <a:pt x="1450" y="1084"/>
                </a:lnTo>
                <a:lnTo>
                  <a:pt x="1450" y="1088"/>
                </a:lnTo>
                <a:lnTo>
                  <a:pt x="1452" y="1090"/>
                </a:lnTo>
                <a:lnTo>
                  <a:pt x="1452" y="1094"/>
                </a:lnTo>
                <a:lnTo>
                  <a:pt x="1449" y="1098"/>
                </a:lnTo>
                <a:lnTo>
                  <a:pt x="1445" y="1102"/>
                </a:lnTo>
                <a:lnTo>
                  <a:pt x="1439" y="1106"/>
                </a:lnTo>
                <a:lnTo>
                  <a:pt x="1431" y="1109"/>
                </a:lnTo>
                <a:lnTo>
                  <a:pt x="1422" y="1111"/>
                </a:lnTo>
                <a:lnTo>
                  <a:pt x="1410" y="1115"/>
                </a:lnTo>
                <a:lnTo>
                  <a:pt x="1397" y="1117"/>
                </a:lnTo>
                <a:lnTo>
                  <a:pt x="1389" y="1117"/>
                </a:lnTo>
                <a:lnTo>
                  <a:pt x="1381" y="1119"/>
                </a:lnTo>
                <a:lnTo>
                  <a:pt x="1372" y="1119"/>
                </a:lnTo>
                <a:lnTo>
                  <a:pt x="1364" y="1121"/>
                </a:lnTo>
                <a:lnTo>
                  <a:pt x="1355" y="1121"/>
                </a:lnTo>
                <a:lnTo>
                  <a:pt x="1345" y="1121"/>
                </a:lnTo>
                <a:lnTo>
                  <a:pt x="1333" y="1121"/>
                </a:lnTo>
                <a:lnTo>
                  <a:pt x="1324" y="1121"/>
                </a:lnTo>
                <a:lnTo>
                  <a:pt x="1312" y="1121"/>
                </a:lnTo>
                <a:lnTo>
                  <a:pt x="1299" y="1121"/>
                </a:lnTo>
                <a:lnTo>
                  <a:pt x="1287" y="1121"/>
                </a:lnTo>
                <a:lnTo>
                  <a:pt x="1274" y="1121"/>
                </a:lnTo>
                <a:lnTo>
                  <a:pt x="1261" y="1121"/>
                </a:lnTo>
                <a:lnTo>
                  <a:pt x="1247" y="1121"/>
                </a:lnTo>
                <a:lnTo>
                  <a:pt x="1234" y="1119"/>
                </a:lnTo>
                <a:lnTo>
                  <a:pt x="1218" y="1119"/>
                </a:lnTo>
                <a:lnTo>
                  <a:pt x="1203" y="1119"/>
                </a:lnTo>
                <a:lnTo>
                  <a:pt x="1186" y="1117"/>
                </a:lnTo>
                <a:lnTo>
                  <a:pt x="1120" y="1117"/>
                </a:lnTo>
                <a:lnTo>
                  <a:pt x="1053" y="1119"/>
                </a:lnTo>
                <a:lnTo>
                  <a:pt x="984" y="1123"/>
                </a:lnTo>
                <a:lnTo>
                  <a:pt x="915" y="1127"/>
                </a:lnTo>
                <a:lnTo>
                  <a:pt x="879" y="1129"/>
                </a:lnTo>
                <a:lnTo>
                  <a:pt x="842" y="1130"/>
                </a:lnTo>
                <a:lnTo>
                  <a:pt x="806" y="1134"/>
                </a:lnTo>
                <a:lnTo>
                  <a:pt x="769" y="1136"/>
                </a:lnTo>
                <a:lnTo>
                  <a:pt x="731" y="1140"/>
                </a:lnTo>
                <a:lnTo>
                  <a:pt x="692" y="1144"/>
                </a:lnTo>
                <a:lnTo>
                  <a:pt x="652" y="1148"/>
                </a:lnTo>
                <a:lnTo>
                  <a:pt x="614" y="1152"/>
                </a:lnTo>
                <a:lnTo>
                  <a:pt x="593" y="1155"/>
                </a:lnTo>
                <a:lnTo>
                  <a:pt x="574" y="1159"/>
                </a:lnTo>
                <a:lnTo>
                  <a:pt x="554" y="1163"/>
                </a:lnTo>
                <a:lnTo>
                  <a:pt x="537" y="1165"/>
                </a:lnTo>
                <a:lnTo>
                  <a:pt x="520" y="1169"/>
                </a:lnTo>
                <a:lnTo>
                  <a:pt x="503" y="1173"/>
                </a:lnTo>
                <a:lnTo>
                  <a:pt x="485" y="1177"/>
                </a:lnTo>
                <a:lnTo>
                  <a:pt x="468" y="1178"/>
                </a:lnTo>
                <a:lnTo>
                  <a:pt x="453" y="1182"/>
                </a:lnTo>
                <a:lnTo>
                  <a:pt x="437" y="1186"/>
                </a:lnTo>
                <a:lnTo>
                  <a:pt x="424" y="1190"/>
                </a:lnTo>
                <a:lnTo>
                  <a:pt x="408" y="1192"/>
                </a:lnTo>
                <a:lnTo>
                  <a:pt x="395" y="1196"/>
                </a:lnTo>
                <a:lnTo>
                  <a:pt x="382" y="1200"/>
                </a:lnTo>
                <a:lnTo>
                  <a:pt x="370" y="1203"/>
                </a:lnTo>
                <a:lnTo>
                  <a:pt x="357" y="1207"/>
                </a:lnTo>
                <a:lnTo>
                  <a:pt x="345" y="1211"/>
                </a:lnTo>
                <a:lnTo>
                  <a:pt x="334" y="1213"/>
                </a:lnTo>
                <a:lnTo>
                  <a:pt x="313" y="1221"/>
                </a:lnTo>
                <a:lnTo>
                  <a:pt x="293" y="1228"/>
                </a:lnTo>
                <a:lnTo>
                  <a:pt x="276" y="1236"/>
                </a:lnTo>
                <a:lnTo>
                  <a:pt x="261" y="1244"/>
                </a:lnTo>
                <a:lnTo>
                  <a:pt x="247" y="1253"/>
                </a:lnTo>
                <a:lnTo>
                  <a:pt x="234" y="1261"/>
                </a:lnTo>
                <a:lnTo>
                  <a:pt x="224" y="127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5"/>
          <p:cNvSpPr/>
          <p:nvPr/>
        </p:nvSpPr>
        <p:spPr>
          <a:xfrm>
            <a:off x="2757600" y="2286000"/>
            <a:ext cx="334800" cy="384120"/>
          </a:xfrm>
          <a:custGeom>
            <a:avLst/>
            <a:gdLst/>
            <a:ahLst/>
            <a:rect l="l" t="t" r="r" b="b"/>
            <a:pathLst>
              <a:path w="422" h="483">
                <a:moveTo>
                  <a:pt x="422" y="339"/>
                </a:moveTo>
                <a:lnTo>
                  <a:pt x="421" y="355"/>
                </a:lnTo>
                <a:lnTo>
                  <a:pt x="421" y="368"/>
                </a:lnTo>
                <a:lnTo>
                  <a:pt x="421" y="382"/>
                </a:lnTo>
                <a:lnTo>
                  <a:pt x="421" y="395"/>
                </a:lnTo>
                <a:lnTo>
                  <a:pt x="419" y="407"/>
                </a:lnTo>
                <a:lnTo>
                  <a:pt x="419" y="418"/>
                </a:lnTo>
                <a:lnTo>
                  <a:pt x="417" y="428"/>
                </a:lnTo>
                <a:lnTo>
                  <a:pt x="415" y="437"/>
                </a:lnTo>
                <a:lnTo>
                  <a:pt x="413" y="445"/>
                </a:lnTo>
                <a:lnTo>
                  <a:pt x="413" y="453"/>
                </a:lnTo>
                <a:lnTo>
                  <a:pt x="411" y="458"/>
                </a:lnTo>
                <a:lnTo>
                  <a:pt x="409" y="466"/>
                </a:lnTo>
                <a:lnTo>
                  <a:pt x="407" y="470"/>
                </a:lnTo>
                <a:lnTo>
                  <a:pt x="405" y="474"/>
                </a:lnTo>
                <a:lnTo>
                  <a:pt x="403" y="478"/>
                </a:lnTo>
                <a:lnTo>
                  <a:pt x="401" y="481"/>
                </a:lnTo>
                <a:lnTo>
                  <a:pt x="399" y="483"/>
                </a:lnTo>
                <a:lnTo>
                  <a:pt x="396" y="483"/>
                </a:lnTo>
                <a:lnTo>
                  <a:pt x="392" y="483"/>
                </a:lnTo>
                <a:lnTo>
                  <a:pt x="388" y="483"/>
                </a:lnTo>
                <a:lnTo>
                  <a:pt x="382" y="481"/>
                </a:lnTo>
                <a:lnTo>
                  <a:pt x="376" y="478"/>
                </a:lnTo>
                <a:lnTo>
                  <a:pt x="371" y="474"/>
                </a:lnTo>
                <a:lnTo>
                  <a:pt x="363" y="470"/>
                </a:lnTo>
                <a:lnTo>
                  <a:pt x="355" y="462"/>
                </a:lnTo>
                <a:lnTo>
                  <a:pt x="346" y="456"/>
                </a:lnTo>
                <a:lnTo>
                  <a:pt x="336" y="447"/>
                </a:lnTo>
                <a:lnTo>
                  <a:pt x="326" y="437"/>
                </a:lnTo>
                <a:lnTo>
                  <a:pt x="315" y="428"/>
                </a:lnTo>
                <a:lnTo>
                  <a:pt x="303" y="414"/>
                </a:lnTo>
                <a:lnTo>
                  <a:pt x="292" y="401"/>
                </a:lnTo>
                <a:lnTo>
                  <a:pt x="279" y="387"/>
                </a:lnTo>
                <a:lnTo>
                  <a:pt x="252" y="359"/>
                </a:lnTo>
                <a:lnTo>
                  <a:pt x="225" y="332"/>
                </a:lnTo>
                <a:lnTo>
                  <a:pt x="200" y="303"/>
                </a:lnTo>
                <a:lnTo>
                  <a:pt x="173" y="274"/>
                </a:lnTo>
                <a:lnTo>
                  <a:pt x="148" y="243"/>
                </a:lnTo>
                <a:lnTo>
                  <a:pt x="125" y="213"/>
                </a:lnTo>
                <a:lnTo>
                  <a:pt x="104" y="182"/>
                </a:lnTo>
                <a:lnTo>
                  <a:pt x="94" y="167"/>
                </a:lnTo>
                <a:lnTo>
                  <a:pt x="85" y="151"/>
                </a:lnTo>
                <a:lnTo>
                  <a:pt x="73" y="136"/>
                </a:lnTo>
                <a:lnTo>
                  <a:pt x="62" y="123"/>
                </a:lnTo>
                <a:lnTo>
                  <a:pt x="52" y="109"/>
                </a:lnTo>
                <a:lnTo>
                  <a:pt x="44" y="96"/>
                </a:lnTo>
                <a:lnTo>
                  <a:pt x="37" y="84"/>
                </a:lnTo>
                <a:lnTo>
                  <a:pt x="29" y="75"/>
                </a:lnTo>
                <a:lnTo>
                  <a:pt x="21" y="63"/>
                </a:lnTo>
                <a:lnTo>
                  <a:pt x="16" y="55"/>
                </a:lnTo>
                <a:lnTo>
                  <a:pt x="12" y="46"/>
                </a:lnTo>
                <a:lnTo>
                  <a:pt x="8" y="38"/>
                </a:lnTo>
                <a:lnTo>
                  <a:pt x="4" y="32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2" y="7"/>
                </a:lnTo>
                <a:lnTo>
                  <a:pt x="4" y="6"/>
                </a:lnTo>
                <a:lnTo>
                  <a:pt x="6" y="4"/>
                </a:lnTo>
                <a:lnTo>
                  <a:pt x="8" y="4"/>
                </a:lnTo>
                <a:lnTo>
                  <a:pt x="12" y="2"/>
                </a:lnTo>
                <a:lnTo>
                  <a:pt x="14" y="2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1" y="0"/>
                </a:lnTo>
                <a:lnTo>
                  <a:pt x="48" y="0"/>
                </a:lnTo>
                <a:lnTo>
                  <a:pt x="56" y="0"/>
                </a:lnTo>
                <a:lnTo>
                  <a:pt x="64" y="0"/>
                </a:lnTo>
                <a:lnTo>
                  <a:pt x="73" y="0"/>
                </a:lnTo>
                <a:lnTo>
                  <a:pt x="81" y="0"/>
                </a:lnTo>
                <a:lnTo>
                  <a:pt x="90" y="0"/>
                </a:lnTo>
                <a:lnTo>
                  <a:pt x="100" y="2"/>
                </a:lnTo>
                <a:lnTo>
                  <a:pt x="110" y="6"/>
                </a:lnTo>
                <a:lnTo>
                  <a:pt x="121" y="9"/>
                </a:lnTo>
                <a:lnTo>
                  <a:pt x="133" y="13"/>
                </a:lnTo>
                <a:lnTo>
                  <a:pt x="144" y="17"/>
                </a:lnTo>
                <a:lnTo>
                  <a:pt x="158" y="23"/>
                </a:lnTo>
                <a:lnTo>
                  <a:pt x="173" y="30"/>
                </a:lnTo>
                <a:lnTo>
                  <a:pt x="186" y="36"/>
                </a:lnTo>
                <a:lnTo>
                  <a:pt x="202" y="44"/>
                </a:lnTo>
                <a:lnTo>
                  <a:pt x="217" y="53"/>
                </a:lnTo>
                <a:lnTo>
                  <a:pt x="234" y="61"/>
                </a:lnTo>
                <a:lnTo>
                  <a:pt x="252" y="73"/>
                </a:lnTo>
                <a:lnTo>
                  <a:pt x="269" y="82"/>
                </a:lnTo>
                <a:lnTo>
                  <a:pt x="288" y="94"/>
                </a:lnTo>
                <a:lnTo>
                  <a:pt x="305" y="107"/>
                </a:lnTo>
                <a:lnTo>
                  <a:pt x="321" y="121"/>
                </a:lnTo>
                <a:lnTo>
                  <a:pt x="336" y="134"/>
                </a:lnTo>
                <a:lnTo>
                  <a:pt x="350" y="148"/>
                </a:lnTo>
                <a:lnTo>
                  <a:pt x="361" y="163"/>
                </a:lnTo>
                <a:lnTo>
                  <a:pt x="373" y="178"/>
                </a:lnTo>
                <a:lnTo>
                  <a:pt x="384" y="192"/>
                </a:lnTo>
                <a:lnTo>
                  <a:pt x="394" y="207"/>
                </a:lnTo>
                <a:lnTo>
                  <a:pt x="401" y="224"/>
                </a:lnTo>
                <a:lnTo>
                  <a:pt x="407" y="240"/>
                </a:lnTo>
                <a:lnTo>
                  <a:pt x="413" y="255"/>
                </a:lnTo>
                <a:lnTo>
                  <a:pt x="419" y="272"/>
                </a:lnTo>
                <a:lnTo>
                  <a:pt x="421" y="288"/>
                </a:lnTo>
                <a:lnTo>
                  <a:pt x="422" y="305"/>
                </a:lnTo>
                <a:lnTo>
                  <a:pt x="422" y="322"/>
                </a:lnTo>
                <a:lnTo>
                  <a:pt x="422" y="33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6"/>
          <p:cNvSpPr/>
          <p:nvPr/>
        </p:nvSpPr>
        <p:spPr>
          <a:xfrm>
            <a:off x="1995480" y="2779560"/>
            <a:ext cx="1819440" cy="346320"/>
          </a:xfrm>
          <a:custGeom>
            <a:avLst/>
            <a:gdLst/>
            <a:ahLst/>
            <a:rect l="l" t="t" r="r" b="b"/>
            <a:pathLst>
              <a:path w="2291" h="435">
                <a:moveTo>
                  <a:pt x="123" y="282"/>
                </a:moveTo>
                <a:lnTo>
                  <a:pt x="153" y="282"/>
                </a:lnTo>
                <a:lnTo>
                  <a:pt x="184" y="280"/>
                </a:lnTo>
                <a:lnTo>
                  <a:pt x="215" y="278"/>
                </a:lnTo>
                <a:lnTo>
                  <a:pt x="245" y="274"/>
                </a:lnTo>
                <a:lnTo>
                  <a:pt x="276" y="270"/>
                </a:lnTo>
                <a:lnTo>
                  <a:pt x="307" y="266"/>
                </a:lnTo>
                <a:lnTo>
                  <a:pt x="368" y="259"/>
                </a:lnTo>
                <a:lnTo>
                  <a:pt x="384" y="257"/>
                </a:lnTo>
                <a:lnTo>
                  <a:pt x="399" y="253"/>
                </a:lnTo>
                <a:lnTo>
                  <a:pt x="416" y="251"/>
                </a:lnTo>
                <a:lnTo>
                  <a:pt x="435" y="249"/>
                </a:lnTo>
                <a:lnTo>
                  <a:pt x="453" y="247"/>
                </a:lnTo>
                <a:lnTo>
                  <a:pt x="474" y="245"/>
                </a:lnTo>
                <a:lnTo>
                  <a:pt x="493" y="241"/>
                </a:lnTo>
                <a:lnTo>
                  <a:pt x="514" y="239"/>
                </a:lnTo>
                <a:lnTo>
                  <a:pt x="537" y="236"/>
                </a:lnTo>
                <a:lnTo>
                  <a:pt x="560" y="234"/>
                </a:lnTo>
                <a:lnTo>
                  <a:pt x="583" y="230"/>
                </a:lnTo>
                <a:lnTo>
                  <a:pt x="608" y="226"/>
                </a:lnTo>
                <a:lnTo>
                  <a:pt x="633" y="224"/>
                </a:lnTo>
                <a:lnTo>
                  <a:pt x="660" y="220"/>
                </a:lnTo>
                <a:lnTo>
                  <a:pt x="687" y="216"/>
                </a:lnTo>
                <a:lnTo>
                  <a:pt x="716" y="211"/>
                </a:lnTo>
                <a:lnTo>
                  <a:pt x="729" y="211"/>
                </a:lnTo>
                <a:lnTo>
                  <a:pt x="744" y="209"/>
                </a:lnTo>
                <a:lnTo>
                  <a:pt x="758" y="207"/>
                </a:lnTo>
                <a:lnTo>
                  <a:pt x="773" y="205"/>
                </a:lnTo>
                <a:lnTo>
                  <a:pt x="790" y="203"/>
                </a:lnTo>
                <a:lnTo>
                  <a:pt x="806" y="201"/>
                </a:lnTo>
                <a:lnTo>
                  <a:pt x="823" y="199"/>
                </a:lnTo>
                <a:lnTo>
                  <a:pt x="842" y="195"/>
                </a:lnTo>
                <a:lnTo>
                  <a:pt x="859" y="193"/>
                </a:lnTo>
                <a:lnTo>
                  <a:pt x="879" y="191"/>
                </a:lnTo>
                <a:lnTo>
                  <a:pt x="900" y="188"/>
                </a:lnTo>
                <a:lnTo>
                  <a:pt x="919" y="184"/>
                </a:lnTo>
                <a:lnTo>
                  <a:pt x="940" y="182"/>
                </a:lnTo>
                <a:lnTo>
                  <a:pt x="961" y="178"/>
                </a:lnTo>
                <a:lnTo>
                  <a:pt x="984" y="174"/>
                </a:lnTo>
                <a:lnTo>
                  <a:pt x="1005" y="170"/>
                </a:lnTo>
                <a:lnTo>
                  <a:pt x="1028" y="166"/>
                </a:lnTo>
                <a:lnTo>
                  <a:pt x="1053" y="163"/>
                </a:lnTo>
                <a:lnTo>
                  <a:pt x="1076" y="159"/>
                </a:lnTo>
                <a:lnTo>
                  <a:pt x="1101" y="153"/>
                </a:lnTo>
                <a:lnTo>
                  <a:pt x="1126" y="149"/>
                </a:lnTo>
                <a:lnTo>
                  <a:pt x="1153" y="145"/>
                </a:lnTo>
                <a:lnTo>
                  <a:pt x="1180" y="140"/>
                </a:lnTo>
                <a:lnTo>
                  <a:pt x="1207" y="136"/>
                </a:lnTo>
                <a:lnTo>
                  <a:pt x="1234" y="130"/>
                </a:lnTo>
                <a:lnTo>
                  <a:pt x="1262" y="126"/>
                </a:lnTo>
                <a:lnTo>
                  <a:pt x="1291" y="120"/>
                </a:lnTo>
                <a:lnTo>
                  <a:pt x="1320" y="115"/>
                </a:lnTo>
                <a:lnTo>
                  <a:pt x="1349" y="111"/>
                </a:lnTo>
                <a:lnTo>
                  <a:pt x="1380" y="105"/>
                </a:lnTo>
                <a:lnTo>
                  <a:pt x="1410" y="99"/>
                </a:lnTo>
                <a:lnTo>
                  <a:pt x="1443" y="94"/>
                </a:lnTo>
                <a:lnTo>
                  <a:pt x="1474" y="88"/>
                </a:lnTo>
                <a:lnTo>
                  <a:pt x="1504" y="82"/>
                </a:lnTo>
                <a:lnTo>
                  <a:pt x="1533" y="78"/>
                </a:lnTo>
                <a:lnTo>
                  <a:pt x="1562" y="72"/>
                </a:lnTo>
                <a:lnTo>
                  <a:pt x="1591" y="67"/>
                </a:lnTo>
                <a:lnTo>
                  <a:pt x="1617" y="63"/>
                </a:lnTo>
                <a:lnTo>
                  <a:pt x="1642" y="57"/>
                </a:lnTo>
                <a:lnTo>
                  <a:pt x="1669" y="53"/>
                </a:lnTo>
                <a:lnTo>
                  <a:pt x="1692" y="49"/>
                </a:lnTo>
                <a:lnTo>
                  <a:pt x="1717" y="46"/>
                </a:lnTo>
                <a:lnTo>
                  <a:pt x="1740" y="42"/>
                </a:lnTo>
                <a:lnTo>
                  <a:pt x="1761" y="38"/>
                </a:lnTo>
                <a:lnTo>
                  <a:pt x="1783" y="34"/>
                </a:lnTo>
                <a:lnTo>
                  <a:pt x="1804" y="30"/>
                </a:lnTo>
                <a:lnTo>
                  <a:pt x="1823" y="26"/>
                </a:lnTo>
                <a:lnTo>
                  <a:pt x="1842" y="24"/>
                </a:lnTo>
                <a:lnTo>
                  <a:pt x="1859" y="21"/>
                </a:lnTo>
                <a:lnTo>
                  <a:pt x="1877" y="19"/>
                </a:lnTo>
                <a:lnTo>
                  <a:pt x="1892" y="17"/>
                </a:lnTo>
                <a:lnTo>
                  <a:pt x="1907" y="13"/>
                </a:lnTo>
                <a:lnTo>
                  <a:pt x="1923" y="11"/>
                </a:lnTo>
                <a:lnTo>
                  <a:pt x="1936" y="9"/>
                </a:lnTo>
                <a:lnTo>
                  <a:pt x="1948" y="7"/>
                </a:lnTo>
                <a:lnTo>
                  <a:pt x="1961" y="5"/>
                </a:lnTo>
                <a:lnTo>
                  <a:pt x="1971" y="5"/>
                </a:lnTo>
                <a:lnTo>
                  <a:pt x="1982" y="3"/>
                </a:lnTo>
                <a:lnTo>
                  <a:pt x="1992" y="1"/>
                </a:lnTo>
                <a:lnTo>
                  <a:pt x="1999" y="1"/>
                </a:lnTo>
                <a:lnTo>
                  <a:pt x="2007" y="0"/>
                </a:lnTo>
                <a:lnTo>
                  <a:pt x="2015" y="0"/>
                </a:lnTo>
                <a:lnTo>
                  <a:pt x="2020" y="0"/>
                </a:lnTo>
                <a:lnTo>
                  <a:pt x="2026" y="0"/>
                </a:lnTo>
                <a:lnTo>
                  <a:pt x="2036" y="0"/>
                </a:lnTo>
                <a:lnTo>
                  <a:pt x="2045" y="1"/>
                </a:lnTo>
                <a:lnTo>
                  <a:pt x="2055" y="1"/>
                </a:lnTo>
                <a:lnTo>
                  <a:pt x="2067" y="3"/>
                </a:lnTo>
                <a:lnTo>
                  <a:pt x="2088" y="9"/>
                </a:lnTo>
                <a:lnTo>
                  <a:pt x="2109" y="15"/>
                </a:lnTo>
                <a:lnTo>
                  <a:pt x="2132" y="24"/>
                </a:lnTo>
                <a:lnTo>
                  <a:pt x="2153" y="34"/>
                </a:lnTo>
                <a:lnTo>
                  <a:pt x="2176" y="46"/>
                </a:lnTo>
                <a:lnTo>
                  <a:pt x="2199" y="59"/>
                </a:lnTo>
                <a:lnTo>
                  <a:pt x="2210" y="67"/>
                </a:lnTo>
                <a:lnTo>
                  <a:pt x="2220" y="76"/>
                </a:lnTo>
                <a:lnTo>
                  <a:pt x="2230" y="84"/>
                </a:lnTo>
                <a:lnTo>
                  <a:pt x="2239" y="92"/>
                </a:lnTo>
                <a:lnTo>
                  <a:pt x="2247" y="99"/>
                </a:lnTo>
                <a:lnTo>
                  <a:pt x="2255" y="107"/>
                </a:lnTo>
                <a:lnTo>
                  <a:pt x="2262" y="115"/>
                </a:lnTo>
                <a:lnTo>
                  <a:pt x="2268" y="122"/>
                </a:lnTo>
                <a:lnTo>
                  <a:pt x="2274" y="128"/>
                </a:lnTo>
                <a:lnTo>
                  <a:pt x="2278" y="136"/>
                </a:lnTo>
                <a:lnTo>
                  <a:pt x="2283" y="143"/>
                </a:lnTo>
                <a:lnTo>
                  <a:pt x="2285" y="149"/>
                </a:lnTo>
                <a:lnTo>
                  <a:pt x="2289" y="157"/>
                </a:lnTo>
                <a:lnTo>
                  <a:pt x="2291" y="163"/>
                </a:lnTo>
                <a:lnTo>
                  <a:pt x="2291" y="168"/>
                </a:lnTo>
                <a:lnTo>
                  <a:pt x="2291" y="176"/>
                </a:lnTo>
                <a:lnTo>
                  <a:pt x="2291" y="180"/>
                </a:lnTo>
                <a:lnTo>
                  <a:pt x="2291" y="182"/>
                </a:lnTo>
                <a:lnTo>
                  <a:pt x="2289" y="186"/>
                </a:lnTo>
                <a:lnTo>
                  <a:pt x="2287" y="188"/>
                </a:lnTo>
                <a:lnTo>
                  <a:pt x="2285" y="191"/>
                </a:lnTo>
                <a:lnTo>
                  <a:pt x="2283" y="193"/>
                </a:lnTo>
                <a:lnTo>
                  <a:pt x="2280" y="195"/>
                </a:lnTo>
                <a:lnTo>
                  <a:pt x="2276" y="197"/>
                </a:lnTo>
                <a:lnTo>
                  <a:pt x="2272" y="201"/>
                </a:lnTo>
                <a:lnTo>
                  <a:pt x="2268" y="203"/>
                </a:lnTo>
                <a:lnTo>
                  <a:pt x="2262" y="205"/>
                </a:lnTo>
                <a:lnTo>
                  <a:pt x="2257" y="207"/>
                </a:lnTo>
                <a:lnTo>
                  <a:pt x="2251" y="209"/>
                </a:lnTo>
                <a:lnTo>
                  <a:pt x="2243" y="209"/>
                </a:lnTo>
                <a:lnTo>
                  <a:pt x="2237" y="211"/>
                </a:lnTo>
                <a:lnTo>
                  <a:pt x="2230" y="213"/>
                </a:lnTo>
                <a:lnTo>
                  <a:pt x="2220" y="214"/>
                </a:lnTo>
                <a:lnTo>
                  <a:pt x="2212" y="214"/>
                </a:lnTo>
                <a:lnTo>
                  <a:pt x="2203" y="216"/>
                </a:lnTo>
                <a:lnTo>
                  <a:pt x="2193" y="216"/>
                </a:lnTo>
                <a:lnTo>
                  <a:pt x="2184" y="218"/>
                </a:lnTo>
                <a:lnTo>
                  <a:pt x="2172" y="218"/>
                </a:lnTo>
                <a:lnTo>
                  <a:pt x="2161" y="220"/>
                </a:lnTo>
                <a:lnTo>
                  <a:pt x="2149" y="220"/>
                </a:lnTo>
                <a:lnTo>
                  <a:pt x="2138" y="220"/>
                </a:lnTo>
                <a:lnTo>
                  <a:pt x="2124" y="222"/>
                </a:lnTo>
                <a:lnTo>
                  <a:pt x="2111" y="222"/>
                </a:lnTo>
                <a:lnTo>
                  <a:pt x="2097" y="222"/>
                </a:lnTo>
                <a:lnTo>
                  <a:pt x="2082" y="222"/>
                </a:lnTo>
                <a:lnTo>
                  <a:pt x="2067" y="222"/>
                </a:lnTo>
                <a:lnTo>
                  <a:pt x="2051" y="222"/>
                </a:lnTo>
                <a:lnTo>
                  <a:pt x="2036" y="222"/>
                </a:lnTo>
                <a:lnTo>
                  <a:pt x="2003" y="222"/>
                </a:lnTo>
                <a:lnTo>
                  <a:pt x="1972" y="222"/>
                </a:lnTo>
                <a:lnTo>
                  <a:pt x="1944" y="222"/>
                </a:lnTo>
                <a:lnTo>
                  <a:pt x="1915" y="222"/>
                </a:lnTo>
                <a:lnTo>
                  <a:pt x="1888" y="224"/>
                </a:lnTo>
                <a:lnTo>
                  <a:pt x="1861" y="224"/>
                </a:lnTo>
                <a:lnTo>
                  <a:pt x="1836" y="224"/>
                </a:lnTo>
                <a:lnTo>
                  <a:pt x="1813" y="224"/>
                </a:lnTo>
                <a:lnTo>
                  <a:pt x="1790" y="224"/>
                </a:lnTo>
                <a:lnTo>
                  <a:pt x="1769" y="226"/>
                </a:lnTo>
                <a:lnTo>
                  <a:pt x="1750" y="226"/>
                </a:lnTo>
                <a:lnTo>
                  <a:pt x="1731" y="228"/>
                </a:lnTo>
                <a:lnTo>
                  <a:pt x="1713" y="230"/>
                </a:lnTo>
                <a:lnTo>
                  <a:pt x="1696" y="230"/>
                </a:lnTo>
                <a:lnTo>
                  <a:pt x="1681" y="232"/>
                </a:lnTo>
                <a:lnTo>
                  <a:pt x="1667" y="236"/>
                </a:lnTo>
                <a:lnTo>
                  <a:pt x="1660" y="236"/>
                </a:lnTo>
                <a:lnTo>
                  <a:pt x="1652" y="237"/>
                </a:lnTo>
                <a:lnTo>
                  <a:pt x="1637" y="239"/>
                </a:lnTo>
                <a:lnTo>
                  <a:pt x="1617" y="241"/>
                </a:lnTo>
                <a:lnTo>
                  <a:pt x="1598" y="243"/>
                </a:lnTo>
                <a:lnTo>
                  <a:pt x="1577" y="245"/>
                </a:lnTo>
                <a:lnTo>
                  <a:pt x="1552" y="249"/>
                </a:lnTo>
                <a:lnTo>
                  <a:pt x="1527" y="251"/>
                </a:lnTo>
                <a:lnTo>
                  <a:pt x="1500" y="253"/>
                </a:lnTo>
                <a:lnTo>
                  <a:pt x="1472" y="257"/>
                </a:lnTo>
                <a:lnTo>
                  <a:pt x="1441" y="259"/>
                </a:lnTo>
                <a:lnTo>
                  <a:pt x="1410" y="262"/>
                </a:lnTo>
                <a:lnTo>
                  <a:pt x="1376" y="266"/>
                </a:lnTo>
                <a:lnTo>
                  <a:pt x="1341" y="270"/>
                </a:lnTo>
                <a:lnTo>
                  <a:pt x="1305" y="274"/>
                </a:lnTo>
                <a:lnTo>
                  <a:pt x="1266" y="278"/>
                </a:lnTo>
                <a:lnTo>
                  <a:pt x="1228" y="282"/>
                </a:lnTo>
                <a:lnTo>
                  <a:pt x="1145" y="291"/>
                </a:lnTo>
                <a:lnTo>
                  <a:pt x="1065" y="301"/>
                </a:lnTo>
                <a:lnTo>
                  <a:pt x="980" y="312"/>
                </a:lnTo>
                <a:lnTo>
                  <a:pt x="898" y="324"/>
                </a:lnTo>
                <a:lnTo>
                  <a:pt x="811" y="337"/>
                </a:lnTo>
                <a:lnTo>
                  <a:pt x="727" y="349"/>
                </a:lnTo>
                <a:lnTo>
                  <a:pt x="639" y="362"/>
                </a:lnTo>
                <a:lnTo>
                  <a:pt x="552" y="376"/>
                </a:lnTo>
                <a:lnTo>
                  <a:pt x="529" y="379"/>
                </a:lnTo>
                <a:lnTo>
                  <a:pt x="508" y="381"/>
                </a:lnTo>
                <a:lnTo>
                  <a:pt x="487" y="385"/>
                </a:lnTo>
                <a:lnTo>
                  <a:pt x="468" y="389"/>
                </a:lnTo>
                <a:lnTo>
                  <a:pt x="449" y="391"/>
                </a:lnTo>
                <a:lnTo>
                  <a:pt x="430" y="395"/>
                </a:lnTo>
                <a:lnTo>
                  <a:pt x="412" y="397"/>
                </a:lnTo>
                <a:lnTo>
                  <a:pt x="395" y="401"/>
                </a:lnTo>
                <a:lnTo>
                  <a:pt x="378" y="403"/>
                </a:lnTo>
                <a:lnTo>
                  <a:pt x="362" y="404"/>
                </a:lnTo>
                <a:lnTo>
                  <a:pt x="345" y="408"/>
                </a:lnTo>
                <a:lnTo>
                  <a:pt x="332" y="410"/>
                </a:lnTo>
                <a:lnTo>
                  <a:pt x="316" y="412"/>
                </a:lnTo>
                <a:lnTo>
                  <a:pt x="303" y="414"/>
                </a:lnTo>
                <a:lnTo>
                  <a:pt x="290" y="416"/>
                </a:lnTo>
                <a:lnTo>
                  <a:pt x="278" y="418"/>
                </a:lnTo>
                <a:lnTo>
                  <a:pt x="266" y="420"/>
                </a:lnTo>
                <a:lnTo>
                  <a:pt x="255" y="422"/>
                </a:lnTo>
                <a:lnTo>
                  <a:pt x="245" y="424"/>
                </a:lnTo>
                <a:lnTo>
                  <a:pt x="236" y="426"/>
                </a:lnTo>
                <a:lnTo>
                  <a:pt x="226" y="427"/>
                </a:lnTo>
                <a:lnTo>
                  <a:pt x="219" y="427"/>
                </a:lnTo>
                <a:lnTo>
                  <a:pt x="211" y="429"/>
                </a:lnTo>
                <a:lnTo>
                  <a:pt x="203" y="429"/>
                </a:lnTo>
                <a:lnTo>
                  <a:pt x="197" y="431"/>
                </a:lnTo>
                <a:lnTo>
                  <a:pt x="192" y="431"/>
                </a:lnTo>
                <a:lnTo>
                  <a:pt x="186" y="433"/>
                </a:lnTo>
                <a:lnTo>
                  <a:pt x="182" y="433"/>
                </a:lnTo>
                <a:lnTo>
                  <a:pt x="178" y="433"/>
                </a:lnTo>
                <a:lnTo>
                  <a:pt x="176" y="435"/>
                </a:lnTo>
                <a:lnTo>
                  <a:pt x="174" y="435"/>
                </a:lnTo>
                <a:lnTo>
                  <a:pt x="172" y="435"/>
                </a:lnTo>
                <a:lnTo>
                  <a:pt x="165" y="433"/>
                </a:lnTo>
                <a:lnTo>
                  <a:pt x="155" y="431"/>
                </a:lnTo>
                <a:lnTo>
                  <a:pt x="146" y="429"/>
                </a:lnTo>
                <a:lnTo>
                  <a:pt x="132" y="424"/>
                </a:lnTo>
                <a:lnTo>
                  <a:pt x="121" y="418"/>
                </a:lnTo>
                <a:lnTo>
                  <a:pt x="113" y="414"/>
                </a:lnTo>
                <a:lnTo>
                  <a:pt x="105" y="410"/>
                </a:lnTo>
                <a:lnTo>
                  <a:pt x="98" y="404"/>
                </a:lnTo>
                <a:lnTo>
                  <a:pt x="88" y="401"/>
                </a:lnTo>
                <a:lnTo>
                  <a:pt x="80" y="393"/>
                </a:lnTo>
                <a:lnTo>
                  <a:pt x="71" y="387"/>
                </a:lnTo>
                <a:lnTo>
                  <a:pt x="61" y="381"/>
                </a:lnTo>
                <a:lnTo>
                  <a:pt x="53" y="374"/>
                </a:lnTo>
                <a:lnTo>
                  <a:pt x="46" y="368"/>
                </a:lnTo>
                <a:lnTo>
                  <a:pt x="38" y="362"/>
                </a:lnTo>
                <a:lnTo>
                  <a:pt x="30" y="356"/>
                </a:lnTo>
                <a:lnTo>
                  <a:pt x="25" y="353"/>
                </a:lnTo>
                <a:lnTo>
                  <a:pt x="21" y="347"/>
                </a:lnTo>
                <a:lnTo>
                  <a:pt x="15" y="341"/>
                </a:lnTo>
                <a:lnTo>
                  <a:pt x="11" y="337"/>
                </a:lnTo>
                <a:lnTo>
                  <a:pt x="7" y="332"/>
                </a:lnTo>
                <a:lnTo>
                  <a:pt x="6" y="328"/>
                </a:lnTo>
                <a:lnTo>
                  <a:pt x="4" y="324"/>
                </a:lnTo>
                <a:lnTo>
                  <a:pt x="2" y="318"/>
                </a:lnTo>
                <a:lnTo>
                  <a:pt x="0" y="314"/>
                </a:lnTo>
                <a:lnTo>
                  <a:pt x="0" y="310"/>
                </a:lnTo>
                <a:lnTo>
                  <a:pt x="0" y="305"/>
                </a:lnTo>
                <a:lnTo>
                  <a:pt x="0" y="303"/>
                </a:lnTo>
                <a:lnTo>
                  <a:pt x="2" y="301"/>
                </a:lnTo>
                <a:lnTo>
                  <a:pt x="4" y="299"/>
                </a:lnTo>
                <a:lnTo>
                  <a:pt x="7" y="297"/>
                </a:lnTo>
                <a:lnTo>
                  <a:pt x="11" y="295"/>
                </a:lnTo>
                <a:lnTo>
                  <a:pt x="17" y="293"/>
                </a:lnTo>
                <a:lnTo>
                  <a:pt x="23" y="291"/>
                </a:lnTo>
                <a:lnTo>
                  <a:pt x="30" y="289"/>
                </a:lnTo>
                <a:lnTo>
                  <a:pt x="38" y="287"/>
                </a:lnTo>
                <a:lnTo>
                  <a:pt x="48" y="285"/>
                </a:lnTo>
                <a:lnTo>
                  <a:pt x="57" y="285"/>
                </a:lnTo>
                <a:lnTo>
                  <a:pt x="69" y="284"/>
                </a:lnTo>
                <a:lnTo>
                  <a:pt x="80" y="284"/>
                </a:lnTo>
                <a:lnTo>
                  <a:pt x="94" y="282"/>
                </a:lnTo>
                <a:lnTo>
                  <a:pt x="107" y="282"/>
                </a:lnTo>
                <a:lnTo>
                  <a:pt x="123" y="28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7"/>
          <p:cNvSpPr/>
          <p:nvPr/>
        </p:nvSpPr>
        <p:spPr>
          <a:xfrm>
            <a:off x="2409840" y="3030480"/>
            <a:ext cx="1152360" cy="1066680"/>
          </a:xfrm>
          <a:custGeom>
            <a:avLst/>
            <a:gdLst/>
            <a:ahLst/>
            <a:rect l="l" t="t" r="r" b="b"/>
            <a:pathLst>
              <a:path w="1452" h="1343">
                <a:moveTo>
                  <a:pt x="224" y="1271"/>
                </a:moveTo>
                <a:lnTo>
                  <a:pt x="217" y="1278"/>
                </a:lnTo>
                <a:lnTo>
                  <a:pt x="209" y="1286"/>
                </a:lnTo>
                <a:lnTo>
                  <a:pt x="203" y="1294"/>
                </a:lnTo>
                <a:lnTo>
                  <a:pt x="195" y="1301"/>
                </a:lnTo>
                <a:lnTo>
                  <a:pt x="190" y="1307"/>
                </a:lnTo>
                <a:lnTo>
                  <a:pt x="184" y="1313"/>
                </a:lnTo>
                <a:lnTo>
                  <a:pt x="176" y="1319"/>
                </a:lnTo>
                <a:lnTo>
                  <a:pt x="172" y="1322"/>
                </a:lnTo>
                <a:lnTo>
                  <a:pt x="167" y="1326"/>
                </a:lnTo>
                <a:lnTo>
                  <a:pt x="161" y="1330"/>
                </a:lnTo>
                <a:lnTo>
                  <a:pt x="157" y="1334"/>
                </a:lnTo>
                <a:lnTo>
                  <a:pt x="153" y="1336"/>
                </a:lnTo>
                <a:lnTo>
                  <a:pt x="149" y="1338"/>
                </a:lnTo>
                <a:lnTo>
                  <a:pt x="147" y="1340"/>
                </a:lnTo>
                <a:lnTo>
                  <a:pt x="144" y="1340"/>
                </a:lnTo>
                <a:lnTo>
                  <a:pt x="142" y="1340"/>
                </a:lnTo>
                <a:lnTo>
                  <a:pt x="138" y="1342"/>
                </a:lnTo>
                <a:lnTo>
                  <a:pt x="134" y="1343"/>
                </a:lnTo>
                <a:lnTo>
                  <a:pt x="130" y="1343"/>
                </a:lnTo>
                <a:lnTo>
                  <a:pt x="124" y="1343"/>
                </a:lnTo>
                <a:lnTo>
                  <a:pt x="121" y="1342"/>
                </a:lnTo>
                <a:lnTo>
                  <a:pt x="115" y="1340"/>
                </a:lnTo>
                <a:lnTo>
                  <a:pt x="111" y="1336"/>
                </a:lnTo>
                <a:lnTo>
                  <a:pt x="105" y="1332"/>
                </a:lnTo>
                <a:lnTo>
                  <a:pt x="100" y="1326"/>
                </a:lnTo>
                <a:lnTo>
                  <a:pt x="94" y="1320"/>
                </a:lnTo>
                <a:lnTo>
                  <a:pt x="88" y="1315"/>
                </a:lnTo>
                <a:lnTo>
                  <a:pt x="82" y="1307"/>
                </a:lnTo>
                <a:lnTo>
                  <a:pt x="76" y="1299"/>
                </a:lnTo>
                <a:lnTo>
                  <a:pt x="71" y="1290"/>
                </a:lnTo>
                <a:lnTo>
                  <a:pt x="65" y="1280"/>
                </a:lnTo>
                <a:lnTo>
                  <a:pt x="61" y="1271"/>
                </a:lnTo>
                <a:lnTo>
                  <a:pt x="46" y="1253"/>
                </a:lnTo>
                <a:lnTo>
                  <a:pt x="34" y="1236"/>
                </a:lnTo>
                <a:lnTo>
                  <a:pt x="23" y="1223"/>
                </a:lnTo>
                <a:lnTo>
                  <a:pt x="15" y="1207"/>
                </a:lnTo>
                <a:lnTo>
                  <a:pt x="7" y="1196"/>
                </a:lnTo>
                <a:lnTo>
                  <a:pt x="5" y="1190"/>
                </a:lnTo>
                <a:lnTo>
                  <a:pt x="4" y="1184"/>
                </a:lnTo>
                <a:lnTo>
                  <a:pt x="2" y="1178"/>
                </a:lnTo>
                <a:lnTo>
                  <a:pt x="0" y="1173"/>
                </a:lnTo>
                <a:lnTo>
                  <a:pt x="0" y="1169"/>
                </a:lnTo>
                <a:lnTo>
                  <a:pt x="0" y="1165"/>
                </a:lnTo>
                <a:lnTo>
                  <a:pt x="0" y="1159"/>
                </a:lnTo>
                <a:lnTo>
                  <a:pt x="0" y="1155"/>
                </a:lnTo>
                <a:lnTo>
                  <a:pt x="2" y="1146"/>
                </a:lnTo>
                <a:lnTo>
                  <a:pt x="7" y="1138"/>
                </a:lnTo>
                <a:lnTo>
                  <a:pt x="13" y="1129"/>
                </a:lnTo>
                <a:lnTo>
                  <a:pt x="21" y="1121"/>
                </a:lnTo>
                <a:lnTo>
                  <a:pt x="29" y="1111"/>
                </a:lnTo>
                <a:lnTo>
                  <a:pt x="40" y="1102"/>
                </a:lnTo>
                <a:lnTo>
                  <a:pt x="50" y="1094"/>
                </a:lnTo>
                <a:lnTo>
                  <a:pt x="55" y="1088"/>
                </a:lnTo>
                <a:lnTo>
                  <a:pt x="61" y="1082"/>
                </a:lnTo>
                <a:lnTo>
                  <a:pt x="67" y="1075"/>
                </a:lnTo>
                <a:lnTo>
                  <a:pt x="73" y="1065"/>
                </a:lnTo>
                <a:lnTo>
                  <a:pt x="78" y="1054"/>
                </a:lnTo>
                <a:lnTo>
                  <a:pt x="84" y="1042"/>
                </a:lnTo>
                <a:lnTo>
                  <a:pt x="88" y="1031"/>
                </a:lnTo>
                <a:lnTo>
                  <a:pt x="94" y="1015"/>
                </a:lnTo>
                <a:lnTo>
                  <a:pt x="98" y="1000"/>
                </a:lnTo>
                <a:lnTo>
                  <a:pt x="103" y="983"/>
                </a:lnTo>
                <a:lnTo>
                  <a:pt x="107" y="965"/>
                </a:lnTo>
                <a:lnTo>
                  <a:pt x="111" y="946"/>
                </a:lnTo>
                <a:lnTo>
                  <a:pt x="115" y="927"/>
                </a:lnTo>
                <a:lnTo>
                  <a:pt x="117" y="904"/>
                </a:lnTo>
                <a:lnTo>
                  <a:pt x="119" y="883"/>
                </a:lnTo>
                <a:lnTo>
                  <a:pt x="123" y="858"/>
                </a:lnTo>
                <a:lnTo>
                  <a:pt x="124" y="810"/>
                </a:lnTo>
                <a:lnTo>
                  <a:pt x="128" y="764"/>
                </a:lnTo>
                <a:lnTo>
                  <a:pt x="128" y="741"/>
                </a:lnTo>
                <a:lnTo>
                  <a:pt x="130" y="720"/>
                </a:lnTo>
                <a:lnTo>
                  <a:pt x="130" y="697"/>
                </a:lnTo>
                <a:lnTo>
                  <a:pt x="130" y="676"/>
                </a:lnTo>
                <a:lnTo>
                  <a:pt x="130" y="656"/>
                </a:lnTo>
                <a:lnTo>
                  <a:pt x="132" y="635"/>
                </a:lnTo>
                <a:lnTo>
                  <a:pt x="132" y="616"/>
                </a:lnTo>
                <a:lnTo>
                  <a:pt x="132" y="597"/>
                </a:lnTo>
                <a:lnTo>
                  <a:pt x="132" y="580"/>
                </a:lnTo>
                <a:lnTo>
                  <a:pt x="132" y="562"/>
                </a:lnTo>
                <a:lnTo>
                  <a:pt x="132" y="545"/>
                </a:lnTo>
                <a:lnTo>
                  <a:pt x="132" y="530"/>
                </a:lnTo>
                <a:lnTo>
                  <a:pt x="132" y="522"/>
                </a:lnTo>
                <a:lnTo>
                  <a:pt x="132" y="513"/>
                </a:lnTo>
                <a:lnTo>
                  <a:pt x="132" y="505"/>
                </a:lnTo>
                <a:lnTo>
                  <a:pt x="132" y="495"/>
                </a:lnTo>
                <a:lnTo>
                  <a:pt x="132" y="484"/>
                </a:lnTo>
                <a:lnTo>
                  <a:pt x="130" y="474"/>
                </a:lnTo>
                <a:lnTo>
                  <a:pt x="130" y="463"/>
                </a:lnTo>
                <a:lnTo>
                  <a:pt x="130" y="451"/>
                </a:lnTo>
                <a:lnTo>
                  <a:pt x="130" y="438"/>
                </a:lnTo>
                <a:lnTo>
                  <a:pt x="128" y="424"/>
                </a:lnTo>
                <a:lnTo>
                  <a:pt x="128" y="411"/>
                </a:lnTo>
                <a:lnTo>
                  <a:pt x="128" y="397"/>
                </a:lnTo>
                <a:lnTo>
                  <a:pt x="128" y="382"/>
                </a:lnTo>
                <a:lnTo>
                  <a:pt x="126" y="367"/>
                </a:lnTo>
                <a:lnTo>
                  <a:pt x="126" y="351"/>
                </a:lnTo>
                <a:lnTo>
                  <a:pt x="126" y="336"/>
                </a:lnTo>
                <a:lnTo>
                  <a:pt x="124" y="319"/>
                </a:lnTo>
                <a:lnTo>
                  <a:pt x="124" y="301"/>
                </a:lnTo>
                <a:lnTo>
                  <a:pt x="123" y="284"/>
                </a:lnTo>
                <a:lnTo>
                  <a:pt x="123" y="265"/>
                </a:lnTo>
                <a:lnTo>
                  <a:pt x="123" y="246"/>
                </a:lnTo>
                <a:lnTo>
                  <a:pt x="121" y="227"/>
                </a:lnTo>
                <a:lnTo>
                  <a:pt x="121" y="207"/>
                </a:lnTo>
                <a:lnTo>
                  <a:pt x="119" y="186"/>
                </a:lnTo>
                <a:lnTo>
                  <a:pt x="119" y="165"/>
                </a:lnTo>
                <a:lnTo>
                  <a:pt x="117" y="142"/>
                </a:lnTo>
                <a:lnTo>
                  <a:pt x="117" y="121"/>
                </a:lnTo>
                <a:lnTo>
                  <a:pt x="115" y="98"/>
                </a:lnTo>
                <a:lnTo>
                  <a:pt x="115" y="75"/>
                </a:lnTo>
                <a:lnTo>
                  <a:pt x="113" y="50"/>
                </a:lnTo>
                <a:lnTo>
                  <a:pt x="113" y="25"/>
                </a:lnTo>
                <a:lnTo>
                  <a:pt x="111" y="0"/>
                </a:lnTo>
                <a:lnTo>
                  <a:pt x="132" y="16"/>
                </a:lnTo>
                <a:lnTo>
                  <a:pt x="151" y="31"/>
                </a:lnTo>
                <a:lnTo>
                  <a:pt x="169" y="44"/>
                </a:lnTo>
                <a:lnTo>
                  <a:pt x="186" y="58"/>
                </a:lnTo>
                <a:lnTo>
                  <a:pt x="201" y="71"/>
                </a:lnTo>
                <a:lnTo>
                  <a:pt x="217" y="83"/>
                </a:lnTo>
                <a:lnTo>
                  <a:pt x="230" y="94"/>
                </a:lnTo>
                <a:lnTo>
                  <a:pt x="242" y="104"/>
                </a:lnTo>
                <a:lnTo>
                  <a:pt x="253" y="113"/>
                </a:lnTo>
                <a:lnTo>
                  <a:pt x="263" y="123"/>
                </a:lnTo>
                <a:lnTo>
                  <a:pt x="270" y="131"/>
                </a:lnTo>
                <a:lnTo>
                  <a:pt x="278" y="136"/>
                </a:lnTo>
                <a:lnTo>
                  <a:pt x="284" y="142"/>
                </a:lnTo>
                <a:lnTo>
                  <a:pt x="289" y="148"/>
                </a:lnTo>
                <a:lnTo>
                  <a:pt x="293" y="152"/>
                </a:lnTo>
                <a:lnTo>
                  <a:pt x="295" y="154"/>
                </a:lnTo>
                <a:lnTo>
                  <a:pt x="297" y="156"/>
                </a:lnTo>
                <a:lnTo>
                  <a:pt x="297" y="159"/>
                </a:lnTo>
                <a:lnTo>
                  <a:pt x="299" y="167"/>
                </a:lnTo>
                <a:lnTo>
                  <a:pt x="299" y="175"/>
                </a:lnTo>
                <a:lnTo>
                  <a:pt x="299" y="186"/>
                </a:lnTo>
                <a:lnTo>
                  <a:pt x="299" y="200"/>
                </a:lnTo>
                <a:lnTo>
                  <a:pt x="299" y="215"/>
                </a:lnTo>
                <a:lnTo>
                  <a:pt x="299" y="230"/>
                </a:lnTo>
                <a:lnTo>
                  <a:pt x="299" y="250"/>
                </a:lnTo>
                <a:lnTo>
                  <a:pt x="297" y="269"/>
                </a:lnTo>
                <a:lnTo>
                  <a:pt x="295" y="292"/>
                </a:lnTo>
                <a:lnTo>
                  <a:pt x="295" y="315"/>
                </a:lnTo>
                <a:lnTo>
                  <a:pt x="293" y="340"/>
                </a:lnTo>
                <a:lnTo>
                  <a:pt x="291" y="367"/>
                </a:lnTo>
                <a:lnTo>
                  <a:pt x="289" y="395"/>
                </a:lnTo>
                <a:lnTo>
                  <a:pt x="288" y="426"/>
                </a:lnTo>
                <a:lnTo>
                  <a:pt x="286" y="459"/>
                </a:lnTo>
                <a:lnTo>
                  <a:pt x="284" y="491"/>
                </a:lnTo>
                <a:lnTo>
                  <a:pt x="282" y="524"/>
                </a:lnTo>
                <a:lnTo>
                  <a:pt x="280" y="555"/>
                </a:lnTo>
                <a:lnTo>
                  <a:pt x="278" y="585"/>
                </a:lnTo>
                <a:lnTo>
                  <a:pt x="276" y="614"/>
                </a:lnTo>
                <a:lnTo>
                  <a:pt x="274" y="643"/>
                </a:lnTo>
                <a:lnTo>
                  <a:pt x="272" y="670"/>
                </a:lnTo>
                <a:lnTo>
                  <a:pt x="270" y="697"/>
                </a:lnTo>
                <a:lnTo>
                  <a:pt x="268" y="724"/>
                </a:lnTo>
                <a:lnTo>
                  <a:pt x="266" y="749"/>
                </a:lnTo>
                <a:lnTo>
                  <a:pt x="265" y="772"/>
                </a:lnTo>
                <a:lnTo>
                  <a:pt x="263" y="797"/>
                </a:lnTo>
                <a:lnTo>
                  <a:pt x="261" y="820"/>
                </a:lnTo>
                <a:lnTo>
                  <a:pt x="259" y="841"/>
                </a:lnTo>
                <a:lnTo>
                  <a:pt x="257" y="862"/>
                </a:lnTo>
                <a:lnTo>
                  <a:pt x="255" y="883"/>
                </a:lnTo>
                <a:lnTo>
                  <a:pt x="253" y="900"/>
                </a:lnTo>
                <a:lnTo>
                  <a:pt x="251" y="919"/>
                </a:lnTo>
                <a:lnTo>
                  <a:pt x="251" y="935"/>
                </a:lnTo>
                <a:lnTo>
                  <a:pt x="251" y="950"/>
                </a:lnTo>
                <a:lnTo>
                  <a:pt x="251" y="965"/>
                </a:lnTo>
                <a:lnTo>
                  <a:pt x="251" y="977"/>
                </a:lnTo>
                <a:lnTo>
                  <a:pt x="251" y="988"/>
                </a:lnTo>
                <a:lnTo>
                  <a:pt x="253" y="1000"/>
                </a:lnTo>
                <a:lnTo>
                  <a:pt x="253" y="1010"/>
                </a:lnTo>
                <a:lnTo>
                  <a:pt x="255" y="1017"/>
                </a:lnTo>
                <a:lnTo>
                  <a:pt x="257" y="1025"/>
                </a:lnTo>
                <a:lnTo>
                  <a:pt x="257" y="1031"/>
                </a:lnTo>
                <a:lnTo>
                  <a:pt x="259" y="1036"/>
                </a:lnTo>
                <a:lnTo>
                  <a:pt x="261" y="1040"/>
                </a:lnTo>
                <a:lnTo>
                  <a:pt x="263" y="1044"/>
                </a:lnTo>
                <a:lnTo>
                  <a:pt x="265" y="1046"/>
                </a:lnTo>
                <a:lnTo>
                  <a:pt x="266" y="1048"/>
                </a:lnTo>
                <a:lnTo>
                  <a:pt x="268" y="1048"/>
                </a:lnTo>
                <a:lnTo>
                  <a:pt x="272" y="1050"/>
                </a:lnTo>
                <a:lnTo>
                  <a:pt x="276" y="1050"/>
                </a:lnTo>
                <a:lnTo>
                  <a:pt x="280" y="1050"/>
                </a:lnTo>
                <a:lnTo>
                  <a:pt x="286" y="1050"/>
                </a:lnTo>
                <a:lnTo>
                  <a:pt x="291" y="1050"/>
                </a:lnTo>
                <a:lnTo>
                  <a:pt x="299" y="1050"/>
                </a:lnTo>
                <a:lnTo>
                  <a:pt x="307" y="1050"/>
                </a:lnTo>
                <a:lnTo>
                  <a:pt x="316" y="1050"/>
                </a:lnTo>
                <a:lnTo>
                  <a:pt x="326" y="1050"/>
                </a:lnTo>
                <a:lnTo>
                  <a:pt x="337" y="1050"/>
                </a:lnTo>
                <a:lnTo>
                  <a:pt x="349" y="1048"/>
                </a:lnTo>
                <a:lnTo>
                  <a:pt x="361" y="1046"/>
                </a:lnTo>
                <a:lnTo>
                  <a:pt x="374" y="1046"/>
                </a:lnTo>
                <a:lnTo>
                  <a:pt x="387" y="1044"/>
                </a:lnTo>
                <a:lnTo>
                  <a:pt x="403" y="1042"/>
                </a:lnTo>
                <a:lnTo>
                  <a:pt x="418" y="1040"/>
                </a:lnTo>
                <a:lnTo>
                  <a:pt x="435" y="1038"/>
                </a:lnTo>
                <a:lnTo>
                  <a:pt x="453" y="1036"/>
                </a:lnTo>
                <a:lnTo>
                  <a:pt x="470" y="1033"/>
                </a:lnTo>
                <a:lnTo>
                  <a:pt x="489" y="1031"/>
                </a:lnTo>
                <a:lnTo>
                  <a:pt x="508" y="1027"/>
                </a:lnTo>
                <a:lnTo>
                  <a:pt x="529" y="1023"/>
                </a:lnTo>
                <a:lnTo>
                  <a:pt x="550" y="1021"/>
                </a:lnTo>
                <a:lnTo>
                  <a:pt x="574" y="1017"/>
                </a:lnTo>
                <a:lnTo>
                  <a:pt x="597" y="1011"/>
                </a:lnTo>
                <a:lnTo>
                  <a:pt x="621" y="1008"/>
                </a:lnTo>
                <a:lnTo>
                  <a:pt x="646" y="1004"/>
                </a:lnTo>
                <a:lnTo>
                  <a:pt x="671" y="998"/>
                </a:lnTo>
                <a:lnTo>
                  <a:pt x="698" y="992"/>
                </a:lnTo>
                <a:lnTo>
                  <a:pt x="725" y="988"/>
                </a:lnTo>
                <a:lnTo>
                  <a:pt x="754" y="983"/>
                </a:lnTo>
                <a:lnTo>
                  <a:pt x="779" y="977"/>
                </a:lnTo>
                <a:lnTo>
                  <a:pt x="806" y="971"/>
                </a:lnTo>
                <a:lnTo>
                  <a:pt x="831" y="967"/>
                </a:lnTo>
                <a:lnTo>
                  <a:pt x="856" y="962"/>
                </a:lnTo>
                <a:lnTo>
                  <a:pt x="879" y="958"/>
                </a:lnTo>
                <a:lnTo>
                  <a:pt x="904" y="954"/>
                </a:lnTo>
                <a:lnTo>
                  <a:pt x="925" y="950"/>
                </a:lnTo>
                <a:lnTo>
                  <a:pt x="948" y="946"/>
                </a:lnTo>
                <a:lnTo>
                  <a:pt x="967" y="942"/>
                </a:lnTo>
                <a:lnTo>
                  <a:pt x="988" y="939"/>
                </a:lnTo>
                <a:lnTo>
                  <a:pt x="1007" y="937"/>
                </a:lnTo>
                <a:lnTo>
                  <a:pt x="1026" y="933"/>
                </a:lnTo>
                <a:lnTo>
                  <a:pt x="1044" y="931"/>
                </a:lnTo>
                <a:lnTo>
                  <a:pt x="1063" y="927"/>
                </a:lnTo>
                <a:lnTo>
                  <a:pt x="1078" y="925"/>
                </a:lnTo>
                <a:lnTo>
                  <a:pt x="1095" y="923"/>
                </a:lnTo>
                <a:lnTo>
                  <a:pt x="1109" y="921"/>
                </a:lnTo>
                <a:lnTo>
                  <a:pt x="1124" y="919"/>
                </a:lnTo>
                <a:lnTo>
                  <a:pt x="1138" y="919"/>
                </a:lnTo>
                <a:lnTo>
                  <a:pt x="1151" y="917"/>
                </a:lnTo>
                <a:lnTo>
                  <a:pt x="1165" y="916"/>
                </a:lnTo>
                <a:lnTo>
                  <a:pt x="1176" y="916"/>
                </a:lnTo>
                <a:lnTo>
                  <a:pt x="1186" y="916"/>
                </a:lnTo>
                <a:lnTo>
                  <a:pt x="1197" y="914"/>
                </a:lnTo>
                <a:lnTo>
                  <a:pt x="1207" y="914"/>
                </a:lnTo>
                <a:lnTo>
                  <a:pt x="1214" y="914"/>
                </a:lnTo>
                <a:lnTo>
                  <a:pt x="1222" y="914"/>
                </a:lnTo>
                <a:lnTo>
                  <a:pt x="1230" y="916"/>
                </a:lnTo>
                <a:lnTo>
                  <a:pt x="1237" y="916"/>
                </a:lnTo>
                <a:lnTo>
                  <a:pt x="1243" y="916"/>
                </a:lnTo>
                <a:lnTo>
                  <a:pt x="1247" y="917"/>
                </a:lnTo>
                <a:lnTo>
                  <a:pt x="1266" y="923"/>
                </a:lnTo>
                <a:lnTo>
                  <a:pt x="1284" y="929"/>
                </a:lnTo>
                <a:lnTo>
                  <a:pt x="1303" y="937"/>
                </a:lnTo>
                <a:lnTo>
                  <a:pt x="1320" y="944"/>
                </a:lnTo>
                <a:lnTo>
                  <a:pt x="1337" y="956"/>
                </a:lnTo>
                <a:lnTo>
                  <a:pt x="1345" y="962"/>
                </a:lnTo>
                <a:lnTo>
                  <a:pt x="1355" y="969"/>
                </a:lnTo>
                <a:lnTo>
                  <a:pt x="1362" y="975"/>
                </a:lnTo>
                <a:lnTo>
                  <a:pt x="1372" y="983"/>
                </a:lnTo>
                <a:lnTo>
                  <a:pt x="1381" y="990"/>
                </a:lnTo>
                <a:lnTo>
                  <a:pt x="1391" y="1000"/>
                </a:lnTo>
                <a:lnTo>
                  <a:pt x="1404" y="1017"/>
                </a:lnTo>
                <a:lnTo>
                  <a:pt x="1418" y="1033"/>
                </a:lnTo>
                <a:lnTo>
                  <a:pt x="1427" y="1048"/>
                </a:lnTo>
                <a:lnTo>
                  <a:pt x="1437" y="1059"/>
                </a:lnTo>
                <a:lnTo>
                  <a:pt x="1443" y="1071"/>
                </a:lnTo>
                <a:lnTo>
                  <a:pt x="1447" y="1077"/>
                </a:lnTo>
                <a:lnTo>
                  <a:pt x="1449" y="1081"/>
                </a:lnTo>
                <a:lnTo>
                  <a:pt x="1450" y="1084"/>
                </a:lnTo>
                <a:lnTo>
                  <a:pt x="1450" y="1088"/>
                </a:lnTo>
                <a:lnTo>
                  <a:pt x="1452" y="1090"/>
                </a:lnTo>
                <a:lnTo>
                  <a:pt x="1452" y="1094"/>
                </a:lnTo>
                <a:lnTo>
                  <a:pt x="1449" y="1098"/>
                </a:lnTo>
                <a:lnTo>
                  <a:pt x="1445" y="1102"/>
                </a:lnTo>
                <a:lnTo>
                  <a:pt x="1439" y="1106"/>
                </a:lnTo>
                <a:lnTo>
                  <a:pt x="1431" y="1109"/>
                </a:lnTo>
                <a:lnTo>
                  <a:pt x="1422" y="1111"/>
                </a:lnTo>
                <a:lnTo>
                  <a:pt x="1410" y="1115"/>
                </a:lnTo>
                <a:lnTo>
                  <a:pt x="1397" y="1117"/>
                </a:lnTo>
                <a:lnTo>
                  <a:pt x="1389" y="1117"/>
                </a:lnTo>
                <a:lnTo>
                  <a:pt x="1381" y="1119"/>
                </a:lnTo>
                <a:lnTo>
                  <a:pt x="1372" y="1119"/>
                </a:lnTo>
                <a:lnTo>
                  <a:pt x="1364" y="1121"/>
                </a:lnTo>
                <a:lnTo>
                  <a:pt x="1355" y="1121"/>
                </a:lnTo>
                <a:lnTo>
                  <a:pt x="1345" y="1121"/>
                </a:lnTo>
                <a:lnTo>
                  <a:pt x="1333" y="1121"/>
                </a:lnTo>
                <a:lnTo>
                  <a:pt x="1324" y="1121"/>
                </a:lnTo>
                <a:lnTo>
                  <a:pt x="1312" y="1121"/>
                </a:lnTo>
                <a:lnTo>
                  <a:pt x="1299" y="1121"/>
                </a:lnTo>
                <a:lnTo>
                  <a:pt x="1287" y="1121"/>
                </a:lnTo>
                <a:lnTo>
                  <a:pt x="1274" y="1121"/>
                </a:lnTo>
                <a:lnTo>
                  <a:pt x="1261" y="1121"/>
                </a:lnTo>
                <a:lnTo>
                  <a:pt x="1247" y="1121"/>
                </a:lnTo>
                <a:lnTo>
                  <a:pt x="1234" y="1119"/>
                </a:lnTo>
                <a:lnTo>
                  <a:pt x="1218" y="1119"/>
                </a:lnTo>
                <a:lnTo>
                  <a:pt x="1203" y="1119"/>
                </a:lnTo>
                <a:lnTo>
                  <a:pt x="1186" y="1117"/>
                </a:lnTo>
                <a:lnTo>
                  <a:pt x="1120" y="1117"/>
                </a:lnTo>
                <a:lnTo>
                  <a:pt x="1053" y="1119"/>
                </a:lnTo>
                <a:lnTo>
                  <a:pt x="984" y="1123"/>
                </a:lnTo>
                <a:lnTo>
                  <a:pt x="915" y="1127"/>
                </a:lnTo>
                <a:lnTo>
                  <a:pt x="879" y="1129"/>
                </a:lnTo>
                <a:lnTo>
                  <a:pt x="842" y="1130"/>
                </a:lnTo>
                <a:lnTo>
                  <a:pt x="806" y="1134"/>
                </a:lnTo>
                <a:lnTo>
                  <a:pt x="769" y="1136"/>
                </a:lnTo>
                <a:lnTo>
                  <a:pt x="731" y="1140"/>
                </a:lnTo>
                <a:lnTo>
                  <a:pt x="692" y="1144"/>
                </a:lnTo>
                <a:lnTo>
                  <a:pt x="652" y="1148"/>
                </a:lnTo>
                <a:lnTo>
                  <a:pt x="614" y="1152"/>
                </a:lnTo>
                <a:lnTo>
                  <a:pt x="593" y="1155"/>
                </a:lnTo>
                <a:lnTo>
                  <a:pt x="574" y="1159"/>
                </a:lnTo>
                <a:lnTo>
                  <a:pt x="554" y="1163"/>
                </a:lnTo>
                <a:lnTo>
                  <a:pt x="537" y="1165"/>
                </a:lnTo>
                <a:lnTo>
                  <a:pt x="520" y="1169"/>
                </a:lnTo>
                <a:lnTo>
                  <a:pt x="503" y="1173"/>
                </a:lnTo>
                <a:lnTo>
                  <a:pt x="485" y="1177"/>
                </a:lnTo>
                <a:lnTo>
                  <a:pt x="468" y="1178"/>
                </a:lnTo>
                <a:lnTo>
                  <a:pt x="453" y="1182"/>
                </a:lnTo>
                <a:lnTo>
                  <a:pt x="437" y="1186"/>
                </a:lnTo>
                <a:lnTo>
                  <a:pt x="424" y="1190"/>
                </a:lnTo>
                <a:lnTo>
                  <a:pt x="408" y="1192"/>
                </a:lnTo>
                <a:lnTo>
                  <a:pt x="395" y="1196"/>
                </a:lnTo>
                <a:lnTo>
                  <a:pt x="382" y="1200"/>
                </a:lnTo>
                <a:lnTo>
                  <a:pt x="370" y="1203"/>
                </a:lnTo>
                <a:lnTo>
                  <a:pt x="357" y="1207"/>
                </a:lnTo>
                <a:lnTo>
                  <a:pt x="345" y="1211"/>
                </a:lnTo>
                <a:lnTo>
                  <a:pt x="334" y="1213"/>
                </a:lnTo>
                <a:lnTo>
                  <a:pt x="313" y="1221"/>
                </a:lnTo>
                <a:lnTo>
                  <a:pt x="293" y="1228"/>
                </a:lnTo>
                <a:lnTo>
                  <a:pt x="276" y="1236"/>
                </a:lnTo>
                <a:lnTo>
                  <a:pt x="261" y="1244"/>
                </a:lnTo>
                <a:lnTo>
                  <a:pt x="247" y="1253"/>
                </a:lnTo>
                <a:lnTo>
                  <a:pt x="234" y="1261"/>
                </a:lnTo>
                <a:lnTo>
                  <a:pt x="224" y="1271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8"/>
          <p:cNvGrpSpPr/>
          <p:nvPr/>
        </p:nvGrpSpPr>
        <p:grpSpPr>
          <a:xfrm>
            <a:off x="4724280" y="1295280"/>
            <a:ext cx="3408480" cy="703440"/>
            <a:chOff x="4724280" y="1295280"/>
            <a:chExt cx="3408480" cy="703440"/>
          </a:xfrm>
        </p:grpSpPr>
        <p:sp>
          <p:nvSpPr>
            <p:cNvPr id="368" name="Text Box 29"/>
            <p:cNvSpPr/>
            <p:nvPr/>
          </p:nvSpPr>
          <p:spPr>
            <a:xfrm>
              <a:off x="5638680" y="12952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30"/>
            <p:cNvGrpSpPr/>
            <p:nvPr/>
          </p:nvGrpSpPr>
          <p:grpSpPr>
            <a:xfrm>
              <a:off x="6858000" y="1295280"/>
              <a:ext cx="1274760" cy="587520"/>
              <a:chOff x="6858000" y="1295280"/>
              <a:chExt cx="1274760" cy="587520"/>
            </a:xfrm>
          </p:grpSpPr>
          <p:sp>
            <p:nvSpPr>
              <p:cNvPr id="370" name="AutoShape 31"/>
              <p:cNvSpPr/>
              <p:nvPr/>
            </p:nvSpPr>
            <p:spPr>
              <a:xfrm>
                <a:off x="7391520" y="1295280"/>
                <a:ext cx="234720" cy="268560"/>
              </a:xfrm>
              <a:custGeom>
                <a:avLst/>
                <a:gdLst/>
                <a:ahLst/>
                <a:rect l="l" t="t" r="r" b="b"/>
                <a:pathLst>
                  <a:path w="422" h="483">
                    <a:moveTo>
                      <a:pt x="422" y="339"/>
                    </a:moveTo>
                    <a:lnTo>
                      <a:pt x="421" y="355"/>
                    </a:lnTo>
                    <a:lnTo>
                      <a:pt x="421" y="368"/>
                    </a:lnTo>
                    <a:lnTo>
                      <a:pt x="421" y="382"/>
                    </a:lnTo>
                    <a:lnTo>
                      <a:pt x="421" y="395"/>
                    </a:lnTo>
                    <a:lnTo>
                      <a:pt x="419" y="407"/>
                    </a:lnTo>
                    <a:lnTo>
                      <a:pt x="419" y="418"/>
                    </a:lnTo>
                    <a:lnTo>
                      <a:pt x="417" y="428"/>
                    </a:lnTo>
                    <a:lnTo>
                      <a:pt x="415" y="437"/>
                    </a:lnTo>
                    <a:lnTo>
                      <a:pt x="413" y="445"/>
                    </a:lnTo>
                    <a:lnTo>
                      <a:pt x="413" y="453"/>
                    </a:lnTo>
                    <a:lnTo>
                      <a:pt x="411" y="458"/>
                    </a:lnTo>
                    <a:lnTo>
                      <a:pt x="409" y="466"/>
                    </a:lnTo>
                    <a:lnTo>
                      <a:pt x="407" y="470"/>
                    </a:lnTo>
                    <a:lnTo>
                      <a:pt x="405" y="474"/>
                    </a:lnTo>
                    <a:lnTo>
                      <a:pt x="403" y="478"/>
                    </a:lnTo>
                    <a:lnTo>
                      <a:pt x="401" y="481"/>
                    </a:lnTo>
                    <a:lnTo>
                      <a:pt x="399" y="483"/>
                    </a:lnTo>
                    <a:lnTo>
                      <a:pt x="396" y="483"/>
                    </a:lnTo>
                    <a:lnTo>
                      <a:pt x="392" y="483"/>
                    </a:lnTo>
                    <a:lnTo>
                      <a:pt x="388" y="483"/>
                    </a:lnTo>
                    <a:lnTo>
                      <a:pt x="382" y="481"/>
                    </a:lnTo>
                    <a:lnTo>
                      <a:pt x="376" y="478"/>
                    </a:lnTo>
                    <a:lnTo>
                      <a:pt x="371" y="474"/>
                    </a:lnTo>
                    <a:lnTo>
                      <a:pt x="363" y="470"/>
                    </a:lnTo>
                    <a:lnTo>
                      <a:pt x="355" y="462"/>
                    </a:lnTo>
                    <a:lnTo>
                      <a:pt x="346" y="456"/>
                    </a:lnTo>
                    <a:lnTo>
                      <a:pt x="336" y="447"/>
                    </a:lnTo>
                    <a:lnTo>
                      <a:pt x="326" y="437"/>
                    </a:lnTo>
                    <a:lnTo>
                      <a:pt x="315" y="428"/>
                    </a:lnTo>
                    <a:lnTo>
                      <a:pt x="303" y="414"/>
                    </a:lnTo>
                    <a:lnTo>
                      <a:pt x="292" y="401"/>
                    </a:lnTo>
                    <a:lnTo>
                      <a:pt x="279" y="387"/>
                    </a:lnTo>
                    <a:lnTo>
                      <a:pt x="252" y="359"/>
                    </a:lnTo>
                    <a:lnTo>
                      <a:pt x="225" y="332"/>
                    </a:lnTo>
                    <a:lnTo>
                      <a:pt x="200" y="303"/>
                    </a:lnTo>
                    <a:lnTo>
                      <a:pt x="173" y="274"/>
                    </a:lnTo>
                    <a:lnTo>
                      <a:pt x="148" y="243"/>
                    </a:lnTo>
                    <a:lnTo>
                      <a:pt x="125" y="213"/>
                    </a:lnTo>
                    <a:lnTo>
                      <a:pt x="104" y="182"/>
                    </a:lnTo>
                    <a:lnTo>
                      <a:pt x="94" y="167"/>
                    </a:lnTo>
                    <a:lnTo>
                      <a:pt x="85" y="151"/>
                    </a:lnTo>
                    <a:lnTo>
                      <a:pt x="73" y="136"/>
                    </a:lnTo>
                    <a:lnTo>
                      <a:pt x="62" y="123"/>
                    </a:lnTo>
                    <a:lnTo>
                      <a:pt x="52" y="109"/>
                    </a:lnTo>
                    <a:lnTo>
                      <a:pt x="44" y="96"/>
                    </a:lnTo>
                    <a:lnTo>
                      <a:pt x="37" y="84"/>
                    </a:lnTo>
                    <a:lnTo>
                      <a:pt x="29" y="75"/>
                    </a:lnTo>
                    <a:lnTo>
                      <a:pt x="21" y="63"/>
                    </a:lnTo>
                    <a:lnTo>
                      <a:pt x="16" y="55"/>
                    </a:lnTo>
                    <a:lnTo>
                      <a:pt x="12" y="46"/>
                    </a:lnTo>
                    <a:lnTo>
                      <a:pt x="8" y="38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100" y="2"/>
                    </a:lnTo>
                    <a:lnTo>
                      <a:pt x="110" y="6"/>
                    </a:lnTo>
                    <a:lnTo>
                      <a:pt x="121" y="9"/>
                    </a:lnTo>
                    <a:lnTo>
                      <a:pt x="133" y="13"/>
                    </a:lnTo>
                    <a:lnTo>
                      <a:pt x="144" y="17"/>
                    </a:lnTo>
                    <a:lnTo>
                      <a:pt x="158" y="23"/>
                    </a:lnTo>
                    <a:lnTo>
                      <a:pt x="173" y="30"/>
                    </a:lnTo>
                    <a:lnTo>
                      <a:pt x="186" y="36"/>
                    </a:lnTo>
                    <a:lnTo>
                      <a:pt x="202" y="44"/>
                    </a:lnTo>
                    <a:lnTo>
                      <a:pt x="217" y="53"/>
                    </a:lnTo>
                    <a:lnTo>
                      <a:pt x="234" y="61"/>
                    </a:lnTo>
                    <a:lnTo>
                      <a:pt x="252" y="73"/>
                    </a:lnTo>
                    <a:lnTo>
                      <a:pt x="269" y="82"/>
                    </a:lnTo>
                    <a:lnTo>
                      <a:pt x="288" y="94"/>
                    </a:lnTo>
                    <a:lnTo>
                      <a:pt x="305" y="107"/>
                    </a:lnTo>
                    <a:lnTo>
                      <a:pt x="321" y="121"/>
                    </a:lnTo>
                    <a:lnTo>
                      <a:pt x="336" y="134"/>
                    </a:lnTo>
                    <a:lnTo>
                      <a:pt x="350" y="148"/>
                    </a:lnTo>
                    <a:lnTo>
                      <a:pt x="361" y="163"/>
                    </a:lnTo>
                    <a:lnTo>
                      <a:pt x="373" y="178"/>
                    </a:lnTo>
                    <a:lnTo>
                      <a:pt x="384" y="192"/>
                    </a:lnTo>
                    <a:lnTo>
                      <a:pt x="394" y="207"/>
                    </a:lnTo>
                    <a:lnTo>
                      <a:pt x="401" y="224"/>
                    </a:lnTo>
                    <a:lnTo>
                      <a:pt x="407" y="240"/>
                    </a:lnTo>
                    <a:lnTo>
                      <a:pt x="413" y="255"/>
                    </a:lnTo>
                    <a:lnTo>
                      <a:pt x="419" y="272"/>
                    </a:lnTo>
                    <a:lnTo>
                      <a:pt x="421" y="288"/>
                    </a:lnTo>
                    <a:lnTo>
                      <a:pt x="422" y="305"/>
                    </a:lnTo>
                    <a:lnTo>
                      <a:pt x="422" y="322"/>
                    </a:lnTo>
                    <a:lnTo>
                      <a:pt x="422" y="33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2"/>
              <p:cNvSpPr/>
              <p:nvPr/>
            </p:nvSpPr>
            <p:spPr>
              <a:xfrm>
                <a:off x="6858000" y="1641600"/>
                <a:ext cx="1274760" cy="241200"/>
              </a:xfrm>
              <a:custGeom>
                <a:avLst/>
                <a:gdLst/>
                <a:ahLst/>
                <a:rect l="l" t="t" r="r" b="b"/>
                <a:pathLst>
                  <a:path w="2291" h="435">
                    <a:moveTo>
                      <a:pt x="123" y="282"/>
                    </a:moveTo>
                    <a:lnTo>
                      <a:pt x="153" y="282"/>
                    </a:lnTo>
                    <a:lnTo>
                      <a:pt x="184" y="280"/>
                    </a:lnTo>
                    <a:lnTo>
                      <a:pt x="215" y="278"/>
                    </a:lnTo>
                    <a:lnTo>
                      <a:pt x="245" y="274"/>
                    </a:lnTo>
                    <a:lnTo>
                      <a:pt x="276" y="270"/>
                    </a:lnTo>
                    <a:lnTo>
                      <a:pt x="307" y="266"/>
                    </a:lnTo>
                    <a:lnTo>
                      <a:pt x="368" y="259"/>
                    </a:lnTo>
                    <a:lnTo>
                      <a:pt x="384" y="257"/>
                    </a:lnTo>
                    <a:lnTo>
                      <a:pt x="399" y="253"/>
                    </a:lnTo>
                    <a:lnTo>
                      <a:pt x="416" y="251"/>
                    </a:lnTo>
                    <a:lnTo>
                      <a:pt x="435" y="249"/>
                    </a:lnTo>
                    <a:lnTo>
                      <a:pt x="453" y="247"/>
                    </a:lnTo>
                    <a:lnTo>
                      <a:pt x="474" y="245"/>
                    </a:lnTo>
                    <a:lnTo>
                      <a:pt x="493" y="241"/>
                    </a:lnTo>
                    <a:lnTo>
                      <a:pt x="514" y="239"/>
                    </a:lnTo>
                    <a:lnTo>
                      <a:pt x="537" y="236"/>
                    </a:lnTo>
                    <a:lnTo>
                      <a:pt x="560" y="234"/>
                    </a:lnTo>
                    <a:lnTo>
                      <a:pt x="583" y="230"/>
                    </a:lnTo>
                    <a:lnTo>
                      <a:pt x="608" y="226"/>
                    </a:lnTo>
                    <a:lnTo>
                      <a:pt x="633" y="224"/>
                    </a:lnTo>
                    <a:lnTo>
                      <a:pt x="660" y="220"/>
                    </a:lnTo>
                    <a:lnTo>
                      <a:pt x="687" y="216"/>
                    </a:lnTo>
                    <a:lnTo>
                      <a:pt x="716" y="211"/>
                    </a:lnTo>
                    <a:lnTo>
                      <a:pt x="729" y="211"/>
                    </a:lnTo>
                    <a:lnTo>
                      <a:pt x="744" y="209"/>
                    </a:lnTo>
                    <a:lnTo>
                      <a:pt x="758" y="207"/>
                    </a:lnTo>
                    <a:lnTo>
                      <a:pt x="773" y="205"/>
                    </a:lnTo>
                    <a:lnTo>
                      <a:pt x="790" y="203"/>
                    </a:lnTo>
                    <a:lnTo>
                      <a:pt x="806" y="201"/>
                    </a:lnTo>
                    <a:lnTo>
                      <a:pt x="823" y="199"/>
                    </a:lnTo>
                    <a:lnTo>
                      <a:pt x="842" y="195"/>
                    </a:lnTo>
                    <a:lnTo>
                      <a:pt x="859" y="193"/>
                    </a:lnTo>
                    <a:lnTo>
                      <a:pt x="879" y="191"/>
                    </a:lnTo>
                    <a:lnTo>
                      <a:pt x="900" y="188"/>
                    </a:lnTo>
                    <a:lnTo>
                      <a:pt x="919" y="184"/>
                    </a:lnTo>
                    <a:lnTo>
                      <a:pt x="940" y="182"/>
                    </a:lnTo>
                    <a:lnTo>
                      <a:pt x="961" y="178"/>
                    </a:lnTo>
                    <a:lnTo>
                      <a:pt x="984" y="174"/>
                    </a:lnTo>
                    <a:lnTo>
                      <a:pt x="1005" y="170"/>
                    </a:lnTo>
                    <a:lnTo>
                      <a:pt x="1028" y="166"/>
                    </a:lnTo>
                    <a:lnTo>
                      <a:pt x="1053" y="163"/>
                    </a:lnTo>
                    <a:lnTo>
                      <a:pt x="1076" y="159"/>
                    </a:lnTo>
                    <a:lnTo>
                      <a:pt x="1101" y="153"/>
                    </a:lnTo>
                    <a:lnTo>
                      <a:pt x="1126" y="149"/>
                    </a:lnTo>
                    <a:lnTo>
                      <a:pt x="1153" y="145"/>
                    </a:lnTo>
                    <a:lnTo>
                      <a:pt x="1180" y="140"/>
                    </a:lnTo>
                    <a:lnTo>
                      <a:pt x="1207" y="136"/>
                    </a:lnTo>
                    <a:lnTo>
                      <a:pt x="1234" y="130"/>
                    </a:lnTo>
                    <a:lnTo>
                      <a:pt x="1262" y="126"/>
                    </a:lnTo>
                    <a:lnTo>
                      <a:pt x="1291" y="120"/>
                    </a:lnTo>
                    <a:lnTo>
                      <a:pt x="1320" y="115"/>
                    </a:lnTo>
                    <a:lnTo>
                      <a:pt x="1349" y="111"/>
                    </a:lnTo>
                    <a:lnTo>
                      <a:pt x="1380" y="105"/>
                    </a:lnTo>
                    <a:lnTo>
                      <a:pt x="1410" y="99"/>
                    </a:lnTo>
                    <a:lnTo>
                      <a:pt x="1443" y="94"/>
                    </a:lnTo>
                    <a:lnTo>
                      <a:pt x="1474" y="88"/>
                    </a:lnTo>
                    <a:lnTo>
                      <a:pt x="1504" y="82"/>
                    </a:lnTo>
                    <a:lnTo>
                      <a:pt x="1533" y="78"/>
                    </a:lnTo>
                    <a:lnTo>
                      <a:pt x="1562" y="72"/>
                    </a:lnTo>
                    <a:lnTo>
                      <a:pt x="1591" y="67"/>
                    </a:lnTo>
                    <a:lnTo>
                      <a:pt x="1617" y="63"/>
                    </a:lnTo>
                    <a:lnTo>
                      <a:pt x="1642" y="57"/>
                    </a:lnTo>
                    <a:lnTo>
                      <a:pt x="1669" y="53"/>
                    </a:lnTo>
                    <a:lnTo>
                      <a:pt x="1692" y="49"/>
                    </a:lnTo>
                    <a:lnTo>
                      <a:pt x="1717" y="46"/>
                    </a:lnTo>
                    <a:lnTo>
                      <a:pt x="1740" y="42"/>
                    </a:lnTo>
                    <a:lnTo>
                      <a:pt x="1761" y="38"/>
                    </a:lnTo>
                    <a:lnTo>
                      <a:pt x="1783" y="34"/>
                    </a:lnTo>
                    <a:lnTo>
                      <a:pt x="1804" y="30"/>
                    </a:lnTo>
                    <a:lnTo>
                      <a:pt x="1823" y="26"/>
                    </a:lnTo>
                    <a:lnTo>
                      <a:pt x="1842" y="24"/>
                    </a:lnTo>
                    <a:lnTo>
                      <a:pt x="1859" y="21"/>
                    </a:lnTo>
                    <a:lnTo>
                      <a:pt x="1877" y="19"/>
                    </a:lnTo>
                    <a:lnTo>
                      <a:pt x="1892" y="17"/>
                    </a:lnTo>
                    <a:lnTo>
                      <a:pt x="1907" y="13"/>
                    </a:lnTo>
                    <a:lnTo>
                      <a:pt x="1923" y="11"/>
                    </a:lnTo>
                    <a:lnTo>
                      <a:pt x="1936" y="9"/>
                    </a:lnTo>
                    <a:lnTo>
                      <a:pt x="1948" y="7"/>
                    </a:lnTo>
                    <a:lnTo>
                      <a:pt x="1961" y="5"/>
                    </a:lnTo>
                    <a:lnTo>
                      <a:pt x="1971" y="5"/>
                    </a:lnTo>
                    <a:lnTo>
                      <a:pt x="1982" y="3"/>
                    </a:lnTo>
                    <a:lnTo>
                      <a:pt x="1992" y="1"/>
                    </a:lnTo>
                    <a:lnTo>
                      <a:pt x="1999" y="1"/>
                    </a:lnTo>
                    <a:lnTo>
                      <a:pt x="2007" y="0"/>
                    </a:lnTo>
                    <a:lnTo>
                      <a:pt x="2015" y="0"/>
                    </a:lnTo>
                    <a:lnTo>
                      <a:pt x="2020" y="0"/>
                    </a:lnTo>
                    <a:lnTo>
                      <a:pt x="2026" y="0"/>
                    </a:lnTo>
                    <a:lnTo>
                      <a:pt x="2036" y="0"/>
                    </a:lnTo>
                    <a:lnTo>
                      <a:pt x="2045" y="1"/>
                    </a:lnTo>
                    <a:lnTo>
                      <a:pt x="2055" y="1"/>
                    </a:lnTo>
                    <a:lnTo>
                      <a:pt x="2067" y="3"/>
                    </a:lnTo>
                    <a:lnTo>
                      <a:pt x="2088" y="9"/>
                    </a:lnTo>
                    <a:lnTo>
                      <a:pt x="2109" y="15"/>
                    </a:lnTo>
                    <a:lnTo>
                      <a:pt x="2132" y="24"/>
                    </a:lnTo>
                    <a:lnTo>
                      <a:pt x="2153" y="34"/>
                    </a:lnTo>
                    <a:lnTo>
                      <a:pt x="2176" y="46"/>
                    </a:lnTo>
                    <a:lnTo>
                      <a:pt x="2199" y="59"/>
                    </a:lnTo>
                    <a:lnTo>
                      <a:pt x="2210" y="67"/>
                    </a:lnTo>
                    <a:lnTo>
                      <a:pt x="2220" y="76"/>
                    </a:lnTo>
                    <a:lnTo>
                      <a:pt x="2230" y="84"/>
                    </a:lnTo>
                    <a:lnTo>
                      <a:pt x="2239" y="92"/>
                    </a:lnTo>
                    <a:lnTo>
                      <a:pt x="2247" y="99"/>
                    </a:lnTo>
                    <a:lnTo>
                      <a:pt x="2255" y="107"/>
                    </a:lnTo>
                    <a:lnTo>
                      <a:pt x="2262" y="115"/>
                    </a:lnTo>
                    <a:lnTo>
                      <a:pt x="2268" y="122"/>
                    </a:lnTo>
                    <a:lnTo>
                      <a:pt x="2274" y="128"/>
                    </a:lnTo>
                    <a:lnTo>
                      <a:pt x="2278" y="136"/>
                    </a:lnTo>
                    <a:lnTo>
                      <a:pt x="2283" y="143"/>
                    </a:lnTo>
                    <a:lnTo>
                      <a:pt x="2285" y="149"/>
                    </a:lnTo>
                    <a:lnTo>
                      <a:pt x="2289" y="157"/>
                    </a:lnTo>
                    <a:lnTo>
                      <a:pt x="2291" y="163"/>
                    </a:lnTo>
                    <a:lnTo>
                      <a:pt x="2291" y="168"/>
                    </a:lnTo>
                    <a:lnTo>
                      <a:pt x="2291" y="176"/>
                    </a:lnTo>
                    <a:lnTo>
                      <a:pt x="2291" y="180"/>
                    </a:lnTo>
                    <a:lnTo>
                      <a:pt x="2291" y="182"/>
                    </a:lnTo>
                    <a:lnTo>
                      <a:pt x="2289" y="186"/>
                    </a:lnTo>
                    <a:lnTo>
                      <a:pt x="2287" y="188"/>
                    </a:lnTo>
                    <a:lnTo>
                      <a:pt x="2285" y="191"/>
                    </a:lnTo>
                    <a:lnTo>
                      <a:pt x="2283" y="193"/>
                    </a:lnTo>
                    <a:lnTo>
                      <a:pt x="2280" y="195"/>
                    </a:lnTo>
                    <a:lnTo>
                      <a:pt x="2276" y="197"/>
                    </a:lnTo>
                    <a:lnTo>
                      <a:pt x="2272" y="201"/>
                    </a:lnTo>
                    <a:lnTo>
                      <a:pt x="2268" y="203"/>
                    </a:lnTo>
                    <a:lnTo>
                      <a:pt x="2262" y="205"/>
                    </a:lnTo>
                    <a:lnTo>
                      <a:pt x="2257" y="207"/>
                    </a:lnTo>
                    <a:lnTo>
                      <a:pt x="2251" y="209"/>
                    </a:lnTo>
                    <a:lnTo>
                      <a:pt x="2243" y="209"/>
                    </a:lnTo>
                    <a:lnTo>
                      <a:pt x="2237" y="211"/>
                    </a:lnTo>
                    <a:lnTo>
                      <a:pt x="2230" y="213"/>
                    </a:lnTo>
                    <a:lnTo>
                      <a:pt x="2220" y="214"/>
                    </a:lnTo>
                    <a:lnTo>
                      <a:pt x="2212" y="214"/>
                    </a:lnTo>
                    <a:lnTo>
                      <a:pt x="2203" y="216"/>
                    </a:lnTo>
                    <a:lnTo>
                      <a:pt x="2193" y="216"/>
                    </a:lnTo>
                    <a:lnTo>
                      <a:pt x="2184" y="218"/>
                    </a:lnTo>
                    <a:lnTo>
                      <a:pt x="2172" y="218"/>
                    </a:lnTo>
                    <a:lnTo>
                      <a:pt x="2161" y="220"/>
                    </a:lnTo>
                    <a:lnTo>
                      <a:pt x="2149" y="220"/>
                    </a:lnTo>
                    <a:lnTo>
                      <a:pt x="2138" y="220"/>
                    </a:lnTo>
                    <a:lnTo>
                      <a:pt x="2124" y="222"/>
                    </a:lnTo>
                    <a:lnTo>
                      <a:pt x="2111" y="222"/>
                    </a:lnTo>
                    <a:lnTo>
                      <a:pt x="2097" y="222"/>
                    </a:lnTo>
                    <a:lnTo>
                      <a:pt x="2082" y="222"/>
                    </a:lnTo>
                    <a:lnTo>
                      <a:pt x="2067" y="222"/>
                    </a:lnTo>
                    <a:lnTo>
                      <a:pt x="2051" y="222"/>
                    </a:lnTo>
                    <a:lnTo>
                      <a:pt x="2036" y="222"/>
                    </a:lnTo>
                    <a:lnTo>
                      <a:pt x="2003" y="222"/>
                    </a:lnTo>
                    <a:lnTo>
                      <a:pt x="1972" y="222"/>
                    </a:lnTo>
                    <a:lnTo>
                      <a:pt x="1944" y="222"/>
                    </a:lnTo>
                    <a:lnTo>
                      <a:pt x="1915" y="222"/>
                    </a:lnTo>
                    <a:lnTo>
                      <a:pt x="1888" y="224"/>
                    </a:lnTo>
                    <a:lnTo>
                      <a:pt x="1861" y="224"/>
                    </a:lnTo>
                    <a:lnTo>
                      <a:pt x="1836" y="224"/>
                    </a:lnTo>
                    <a:lnTo>
                      <a:pt x="1813" y="224"/>
                    </a:lnTo>
                    <a:lnTo>
                      <a:pt x="1790" y="224"/>
                    </a:lnTo>
                    <a:lnTo>
                      <a:pt x="1769" y="226"/>
                    </a:lnTo>
                    <a:lnTo>
                      <a:pt x="1750" y="226"/>
                    </a:lnTo>
                    <a:lnTo>
                      <a:pt x="1731" y="228"/>
                    </a:lnTo>
                    <a:lnTo>
                      <a:pt x="1713" y="230"/>
                    </a:lnTo>
                    <a:lnTo>
                      <a:pt x="1696" y="230"/>
                    </a:lnTo>
                    <a:lnTo>
                      <a:pt x="1681" y="232"/>
                    </a:lnTo>
                    <a:lnTo>
                      <a:pt x="1667" y="236"/>
                    </a:lnTo>
                    <a:lnTo>
                      <a:pt x="1660" y="236"/>
                    </a:lnTo>
                    <a:lnTo>
                      <a:pt x="1652" y="237"/>
                    </a:lnTo>
                    <a:lnTo>
                      <a:pt x="1637" y="239"/>
                    </a:lnTo>
                    <a:lnTo>
                      <a:pt x="1617" y="241"/>
                    </a:lnTo>
                    <a:lnTo>
                      <a:pt x="1598" y="243"/>
                    </a:lnTo>
                    <a:lnTo>
                      <a:pt x="1577" y="245"/>
                    </a:lnTo>
                    <a:lnTo>
                      <a:pt x="1552" y="249"/>
                    </a:lnTo>
                    <a:lnTo>
                      <a:pt x="1527" y="251"/>
                    </a:lnTo>
                    <a:lnTo>
                      <a:pt x="1500" y="253"/>
                    </a:lnTo>
                    <a:lnTo>
                      <a:pt x="1472" y="257"/>
                    </a:lnTo>
                    <a:lnTo>
                      <a:pt x="1441" y="259"/>
                    </a:lnTo>
                    <a:lnTo>
                      <a:pt x="1410" y="262"/>
                    </a:lnTo>
                    <a:lnTo>
                      <a:pt x="1376" y="266"/>
                    </a:lnTo>
                    <a:lnTo>
                      <a:pt x="1341" y="270"/>
                    </a:lnTo>
                    <a:lnTo>
                      <a:pt x="1305" y="274"/>
                    </a:lnTo>
                    <a:lnTo>
                      <a:pt x="1266" y="278"/>
                    </a:lnTo>
                    <a:lnTo>
                      <a:pt x="1228" y="282"/>
                    </a:lnTo>
                    <a:lnTo>
                      <a:pt x="1145" y="291"/>
                    </a:lnTo>
                    <a:lnTo>
                      <a:pt x="1065" y="301"/>
                    </a:lnTo>
                    <a:lnTo>
                      <a:pt x="980" y="312"/>
                    </a:lnTo>
                    <a:lnTo>
                      <a:pt x="898" y="324"/>
                    </a:lnTo>
                    <a:lnTo>
                      <a:pt x="811" y="337"/>
                    </a:lnTo>
                    <a:lnTo>
                      <a:pt x="727" y="349"/>
                    </a:lnTo>
                    <a:lnTo>
                      <a:pt x="639" y="362"/>
                    </a:lnTo>
                    <a:lnTo>
                      <a:pt x="552" y="376"/>
                    </a:lnTo>
                    <a:lnTo>
                      <a:pt x="529" y="379"/>
                    </a:lnTo>
                    <a:lnTo>
                      <a:pt x="508" y="381"/>
                    </a:lnTo>
                    <a:lnTo>
                      <a:pt x="487" y="385"/>
                    </a:lnTo>
                    <a:lnTo>
                      <a:pt x="468" y="389"/>
                    </a:lnTo>
                    <a:lnTo>
                      <a:pt x="449" y="391"/>
                    </a:lnTo>
                    <a:lnTo>
                      <a:pt x="430" y="395"/>
                    </a:lnTo>
                    <a:lnTo>
                      <a:pt x="412" y="397"/>
                    </a:lnTo>
                    <a:lnTo>
                      <a:pt x="395" y="401"/>
                    </a:lnTo>
                    <a:lnTo>
                      <a:pt x="378" y="403"/>
                    </a:lnTo>
                    <a:lnTo>
                      <a:pt x="362" y="404"/>
                    </a:lnTo>
                    <a:lnTo>
                      <a:pt x="345" y="408"/>
                    </a:lnTo>
                    <a:lnTo>
                      <a:pt x="332" y="410"/>
                    </a:lnTo>
                    <a:lnTo>
                      <a:pt x="316" y="412"/>
                    </a:lnTo>
                    <a:lnTo>
                      <a:pt x="303" y="414"/>
                    </a:lnTo>
                    <a:lnTo>
                      <a:pt x="290" y="416"/>
                    </a:lnTo>
                    <a:lnTo>
                      <a:pt x="278" y="418"/>
                    </a:lnTo>
                    <a:lnTo>
                      <a:pt x="266" y="420"/>
                    </a:lnTo>
                    <a:lnTo>
                      <a:pt x="255" y="422"/>
                    </a:lnTo>
                    <a:lnTo>
                      <a:pt x="245" y="424"/>
                    </a:lnTo>
                    <a:lnTo>
                      <a:pt x="236" y="426"/>
                    </a:lnTo>
                    <a:lnTo>
                      <a:pt x="226" y="427"/>
                    </a:lnTo>
                    <a:lnTo>
                      <a:pt x="219" y="427"/>
                    </a:lnTo>
                    <a:lnTo>
                      <a:pt x="211" y="429"/>
                    </a:lnTo>
                    <a:lnTo>
                      <a:pt x="203" y="429"/>
                    </a:lnTo>
                    <a:lnTo>
                      <a:pt x="197" y="431"/>
                    </a:lnTo>
                    <a:lnTo>
                      <a:pt x="192" y="431"/>
                    </a:lnTo>
                    <a:lnTo>
                      <a:pt x="186" y="433"/>
                    </a:lnTo>
                    <a:lnTo>
                      <a:pt x="182" y="433"/>
                    </a:lnTo>
                    <a:lnTo>
                      <a:pt x="178" y="433"/>
                    </a:lnTo>
                    <a:lnTo>
                      <a:pt x="176" y="435"/>
                    </a:lnTo>
                    <a:lnTo>
                      <a:pt x="174" y="435"/>
                    </a:lnTo>
                    <a:lnTo>
                      <a:pt x="172" y="435"/>
                    </a:lnTo>
                    <a:lnTo>
                      <a:pt x="165" y="433"/>
                    </a:lnTo>
                    <a:lnTo>
                      <a:pt x="155" y="431"/>
                    </a:lnTo>
                    <a:lnTo>
                      <a:pt x="146" y="429"/>
                    </a:lnTo>
                    <a:lnTo>
                      <a:pt x="132" y="424"/>
                    </a:lnTo>
                    <a:lnTo>
                      <a:pt x="121" y="418"/>
                    </a:lnTo>
                    <a:lnTo>
                      <a:pt x="113" y="414"/>
                    </a:lnTo>
                    <a:lnTo>
                      <a:pt x="105" y="410"/>
                    </a:lnTo>
                    <a:lnTo>
                      <a:pt x="98" y="404"/>
                    </a:lnTo>
                    <a:lnTo>
                      <a:pt x="88" y="401"/>
                    </a:lnTo>
                    <a:lnTo>
                      <a:pt x="80" y="393"/>
                    </a:lnTo>
                    <a:lnTo>
                      <a:pt x="71" y="387"/>
                    </a:lnTo>
                    <a:lnTo>
                      <a:pt x="61" y="381"/>
                    </a:lnTo>
                    <a:lnTo>
                      <a:pt x="53" y="374"/>
                    </a:lnTo>
                    <a:lnTo>
                      <a:pt x="46" y="368"/>
                    </a:lnTo>
                    <a:lnTo>
                      <a:pt x="38" y="362"/>
                    </a:lnTo>
                    <a:lnTo>
                      <a:pt x="30" y="356"/>
                    </a:lnTo>
                    <a:lnTo>
                      <a:pt x="25" y="353"/>
                    </a:lnTo>
                    <a:lnTo>
                      <a:pt x="21" y="347"/>
                    </a:lnTo>
                    <a:lnTo>
                      <a:pt x="15" y="341"/>
                    </a:lnTo>
                    <a:lnTo>
                      <a:pt x="11" y="337"/>
                    </a:lnTo>
                    <a:lnTo>
                      <a:pt x="7" y="332"/>
                    </a:lnTo>
                    <a:lnTo>
                      <a:pt x="6" y="328"/>
                    </a:lnTo>
                    <a:lnTo>
                      <a:pt x="4" y="324"/>
                    </a:lnTo>
                    <a:lnTo>
                      <a:pt x="2" y="318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2" y="301"/>
                    </a:lnTo>
                    <a:lnTo>
                      <a:pt x="4" y="299"/>
                    </a:lnTo>
                    <a:lnTo>
                      <a:pt x="7" y="297"/>
                    </a:lnTo>
                    <a:lnTo>
                      <a:pt x="11" y="295"/>
                    </a:lnTo>
                    <a:lnTo>
                      <a:pt x="17" y="293"/>
                    </a:lnTo>
                    <a:lnTo>
                      <a:pt x="23" y="291"/>
                    </a:lnTo>
                    <a:lnTo>
                      <a:pt x="30" y="289"/>
                    </a:lnTo>
                    <a:lnTo>
                      <a:pt x="38" y="287"/>
                    </a:lnTo>
                    <a:lnTo>
                      <a:pt x="48" y="285"/>
                    </a:lnTo>
                    <a:lnTo>
                      <a:pt x="57" y="285"/>
                    </a:lnTo>
                    <a:lnTo>
                      <a:pt x="69" y="284"/>
                    </a:lnTo>
                    <a:lnTo>
                      <a:pt x="80" y="284"/>
                    </a:lnTo>
                    <a:lnTo>
                      <a:pt x="94" y="282"/>
                    </a:lnTo>
                    <a:lnTo>
                      <a:pt x="107" y="282"/>
                    </a:lnTo>
                    <a:lnTo>
                      <a:pt x="123" y="28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3"/>
            <p:cNvGrpSpPr/>
            <p:nvPr/>
          </p:nvGrpSpPr>
          <p:grpSpPr>
            <a:xfrm>
              <a:off x="4724280" y="1447920"/>
              <a:ext cx="911520" cy="420480"/>
              <a:chOff x="4724280" y="1447920"/>
              <a:chExt cx="911520" cy="420480"/>
            </a:xfrm>
          </p:grpSpPr>
          <p:sp>
            <p:nvSpPr>
              <p:cNvPr id="373" name="AutoShape 34"/>
              <p:cNvSpPr/>
              <p:nvPr/>
            </p:nvSpPr>
            <p:spPr>
              <a:xfrm>
                <a:off x="5105520" y="1447920"/>
                <a:ext cx="168120" cy="191880"/>
              </a:xfrm>
              <a:custGeom>
                <a:avLst/>
                <a:gdLst/>
                <a:ahLst/>
                <a:rect l="l" t="t" r="r" b="b"/>
                <a:pathLst>
                  <a:path w="422" h="483">
                    <a:moveTo>
                      <a:pt x="422" y="339"/>
                    </a:moveTo>
                    <a:lnTo>
                      <a:pt x="421" y="355"/>
                    </a:lnTo>
                    <a:lnTo>
                      <a:pt x="421" y="368"/>
                    </a:lnTo>
                    <a:lnTo>
                      <a:pt x="421" y="382"/>
                    </a:lnTo>
                    <a:lnTo>
                      <a:pt x="421" y="395"/>
                    </a:lnTo>
                    <a:lnTo>
                      <a:pt x="419" y="407"/>
                    </a:lnTo>
                    <a:lnTo>
                      <a:pt x="419" y="418"/>
                    </a:lnTo>
                    <a:lnTo>
                      <a:pt x="417" y="428"/>
                    </a:lnTo>
                    <a:lnTo>
                      <a:pt x="415" y="437"/>
                    </a:lnTo>
                    <a:lnTo>
                      <a:pt x="413" y="445"/>
                    </a:lnTo>
                    <a:lnTo>
                      <a:pt x="413" y="453"/>
                    </a:lnTo>
                    <a:lnTo>
                      <a:pt x="411" y="458"/>
                    </a:lnTo>
                    <a:lnTo>
                      <a:pt x="409" y="466"/>
                    </a:lnTo>
                    <a:lnTo>
                      <a:pt x="407" y="470"/>
                    </a:lnTo>
                    <a:lnTo>
                      <a:pt x="405" y="474"/>
                    </a:lnTo>
                    <a:lnTo>
                      <a:pt x="403" y="478"/>
                    </a:lnTo>
                    <a:lnTo>
                      <a:pt x="401" y="481"/>
                    </a:lnTo>
                    <a:lnTo>
                      <a:pt x="399" y="483"/>
                    </a:lnTo>
                    <a:lnTo>
                      <a:pt x="396" y="483"/>
                    </a:lnTo>
                    <a:lnTo>
                      <a:pt x="392" y="483"/>
                    </a:lnTo>
                    <a:lnTo>
                      <a:pt x="388" y="483"/>
                    </a:lnTo>
                    <a:lnTo>
                      <a:pt x="382" y="481"/>
                    </a:lnTo>
                    <a:lnTo>
                      <a:pt x="376" y="478"/>
                    </a:lnTo>
                    <a:lnTo>
                      <a:pt x="371" y="474"/>
                    </a:lnTo>
                    <a:lnTo>
                      <a:pt x="363" y="470"/>
                    </a:lnTo>
                    <a:lnTo>
                      <a:pt x="355" y="462"/>
                    </a:lnTo>
                    <a:lnTo>
                      <a:pt x="346" y="456"/>
                    </a:lnTo>
                    <a:lnTo>
                      <a:pt x="336" y="447"/>
                    </a:lnTo>
                    <a:lnTo>
                      <a:pt x="326" y="437"/>
                    </a:lnTo>
                    <a:lnTo>
                      <a:pt x="315" y="428"/>
                    </a:lnTo>
                    <a:lnTo>
                      <a:pt x="303" y="414"/>
                    </a:lnTo>
                    <a:lnTo>
                      <a:pt x="292" y="401"/>
                    </a:lnTo>
                    <a:lnTo>
                      <a:pt x="279" y="387"/>
                    </a:lnTo>
                    <a:lnTo>
                      <a:pt x="252" y="359"/>
                    </a:lnTo>
                    <a:lnTo>
                      <a:pt x="225" y="332"/>
                    </a:lnTo>
                    <a:lnTo>
                      <a:pt x="200" y="303"/>
                    </a:lnTo>
                    <a:lnTo>
                      <a:pt x="173" y="274"/>
                    </a:lnTo>
                    <a:lnTo>
                      <a:pt x="148" y="243"/>
                    </a:lnTo>
                    <a:lnTo>
                      <a:pt x="125" y="213"/>
                    </a:lnTo>
                    <a:lnTo>
                      <a:pt x="104" y="182"/>
                    </a:lnTo>
                    <a:lnTo>
                      <a:pt x="94" y="167"/>
                    </a:lnTo>
                    <a:lnTo>
                      <a:pt x="85" y="151"/>
                    </a:lnTo>
                    <a:lnTo>
                      <a:pt x="73" y="136"/>
                    </a:lnTo>
                    <a:lnTo>
                      <a:pt x="62" y="123"/>
                    </a:lnTo>
                    <a:lnTo>
                      <a:pt x="52" y="109"/>
                    </a:lnTo>
                    <a:lnTo>
                      <a:pt x="44" y="96"/>
                    </a:lnTo>
                    <a:lnTo>
                      <a:pt x="37" y="84"/>
                    </a:lnTo>
                    <a:lnTo>
                      <a:pt x="29" y="75"/>
                    </a:lnTo>
                    <a:lnTo>
                      <a:pt x="21" y="63"/>
                    </a:lnTo>
                    <a:lnTo>
                      <a:pt x="16" y="55"/>
                    </a:lnTo>
                    <a:lnTo>
                      <a:pt x="12" y="46"/>
                    </a:lnTo>
                    <a:lnTo>
                      <a:pt x="8" y="38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100" y="2"/>
                    </a:lnTo>
                    <a:lnTo>
                      <a:pt x="110" y="6"/>
                    </a:lnTo>
                    <a:lnTo>
                      <a:pt x="121" y="9"/>
                    </a:lnTo>
                    <a:lnTo>
                      <a:pt x="133" y="13"/>
                    </a:lnTo>
                    <a:lnTo>
                      <a:pt x="144" y="17"/>
                    </a:lnTo>
                    <a:lnTo>
                      <a:pt x="158" y="23"/>
                    </a:lnTo>
                    <a:lnTo>
                      <a:pt x="173" y="30"/>
                    </a:lnTo>
                    <a:lnTo>
                      <a:pt x="186" y="36"/>
                    </a:lnTo>
                    <a:lnTo>
                      <a:pt x="202" y="44"/>
                    </a:lnTo>
                    <a:lnTo>
                      <a:pt x="217" y="53"/>
                    </a:lnTo>
                    <a:lnTo>
                      <a:pt x="234" y="61"/>
                    </a:lnTo>
                    <a:lnTo>
                      <a:pt x="252" y="73"/>
                    </a:lnTo>
                    <a:lnTo>
                      <a:pt x="269" y="82"/>
                    </a:lnTo>
                    <a:lnTo>
                      <a:pt x="288" y="94"/>
                    </a:lnTo>
                    <a:lnTo>
                      <a:pt x="305" y="107"/>
                    </a:lnTo>
                    <a:lnTo>
                      <a:pt x="321" y="121"/>
                    </a:lnTo>
                    <a:lnTo>
                      <a:pt x="336" y="134"/>
                    </a:lnTo>
                    <a:lnTo>
                      <a:pt x="350" y="148"/>
                    </a:lnTo>
                    <a:lnTo>
                      <a:pt x="361" y="163"/>
                    </a:lnTo>
                    <a:lnTo>
                      <a:pt x="373" y="178"/>
                    </a:lnTo>
                    <a:lnTo>
                      <a:pt x="384" y="192"/>
                    </a:lnTo>
                    <a:lnTo>
                      <a:pt x="394" y="207"/>
                    </a:lnTo>
                    <a:lnTo>
                      <a:pt x="401" y="224"/>
                    </a:lnTo>
                    <a:lnTo>
                      <a:pt x="407" y="240"/>
                    </a:lnTo>
                    <a:lnTo>
                      <a:pt x="413" y="255"/>
                    </a:lnTo>
                    <a:lnTo>
                      <a:pt x="419" y="272"/>
                    </a:lnTo>
                    <a:lnTo>
                      <a:pt x="421" y="288"/>
                    </a:lnTo>
                    <a:lnTo>
                      <a:pt x="422" y="305"/>
                    </a:lnTo>
                    <a:lnTo>
                      <a:pt x="422" y="322"/>
                    </a:lnTo>
                    <a:lnTo>
                      <a:pt x="422" y="33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35"/>
              <p:cNvSpPr/>
              <p:nvPr/>
            </p:nvSpPr>
            <p:spPr>
              <a:xfrm>
                <a:off x="4724280" y="1695600"/>
                <a:ext cx="911520" cy="172800"/>
              </a:xfrm>
              <a:custGeom>
                <a:avLst/>
                <a:gdLst/>
                <a:ahLst/>
                <a:rect l="l" t="t" r="r" b="b"/>
                <a:pathLst>
                  <a:path w="2291" h="435">
                    <a:moveTo>
                      <a:pt x="123" y="282"/>
                    </a:moveTo>
                    <a:lnTo>
                      <a:pt x="153" y="282"/>
                    </a:lnTo>
                    <a:lnTo>
                      <a:pt x="184" y="280"/>
                    </a:lnTo>
                    <a:lnTo>
                      <a:pt x="215" y="278"/>
                    </a:lnTo>
                    <a:lnTo>
                      <a:pt x="245" y="274"/>
                    </a:lnTo>
                    <a:lnTo>
                      <a:pt x="276" y="270"/>
                    </a:lnTo>
                    <a:lnTo>
                      <a:pt x="307" y="266"/>
                    </a:lnTo>
                    <a:lnTo>
                      <a:pt x="368" y="259"/>
                    </a:lnTo>
                    <a:lnTo>
                      <a:pt x="384" y="257"/>
                    </a:lnTo>
                    <a:lnTo>
                      <a:pt x="399" y="253"/>
                    </a:lnTo>
                    <a:lnTo>
                      <a:pt x="416" y="251"/>
                    </a:lnTo>
                    <a:lnTo>
                      <a:pt x="435" y="249"/>
                    </a:lnTo>
                    <a:lnTo>
                      <a:pt x="453" y="247"/>
                    </a:lnTo>
                    <a:lnTo>
                      <a:pt x="474" y="245"/>
                    </a:lnTo>
                    <a:lnTo>
                      <a:pt x="493" y="241"/>
                    </a:lnTo>
                    <a:lnTo>
                      <a:pt x="514" y="239"/>
                    </a:lnTo>
                    <a:lnTo>
                      <a:pt x="537" y="236"/>
                    </a:lnTo>
                    <a:lnTo>
                      <a:pt x="560" y="234"/>
                    </a:lnTo>
                    <a:lnTo>
                      <a:pt x="583" y="230"/>
                    </a:lnTo>
                    <a:lnTo>
                      <a:pt x="608" y="226"/>
                    </a:lnTo>
                    <a:lnTo>
                      <a:pt x="633" y="224"/>
                    </a:lnTo>
                    <a:lnTo>
                      <a:pt x="660" y="220"/>
                    </a:lnTo>
                    <a:lnTo>
                      <a:pt x="687" y="216"/>
                    </a:lnTo>
                    <a:lnTo>
                      <a:pt x="716" y="211"/>
                    </a:lnTo>
                    <a:lnTo>
                      <a:pt x="729" y="211"/>
                    </a:lnTo>
                    <a:lnTo>
                      <a:pt x="744" y="209"/>
                    </a:lnTo>
                    <a:lnTo>
                      <a:pt x="758" y="207"/>
                    </a:lnTo>
                    <a:lnTo>
                      <a:pt x="773" y="205"/>
                    </a:lnTo>
                    <a:lnTo>
                      <a:pt x="790" y="203"/>
                    </a:lnTo>
                    <a:lnTo>
                      <a:pt x="806" y="201"/>
                    </a:lnTo>
                    <a:lnTo>
                      <a:pt x="823" y="199"/>
                    </a:lnTo>
                    <a:lnTo>
                      <a:pt x="842" y="195"/>
                    </a:lnTo>
                    <a:lnTo>
                      <a:pt x="859" y="193"/>
                    </a:lnTo>
                    <a:lnTo>
                      <a:pt x="879" y="191"/>
                    </a:lnTo>
                    <a:lnTo>
                      <a:pt x="900" y="188"/>
                    </a:lnTo>
                    <a:lnTo>
                      <a:pt x="919" y="184"/>
                    </a:lnTo>
                    <a:lnTo>
                      <a:pt x="940" y="182"/>
                    </a:lnTo>
                    <a:lnTo>
                      <a:pt x="961" y="178"/>
                    </a:lnTo>
                    <a:lnTo>
                      <a:pt x="984" y="174"/>
                    </a:lnTo>
                    <a:lnTo>
                      <a:pt x="1005" y="170"/>
                    </a:lnTo>
                    <a:lnTo>
                      <a:pt x="1028" y="166"/>
                    </a:lnTo>
                    <a:lnTo>
                      <a:pt x="1053" y="163"/>
                    </a:lnTo>
                    <a:lnTo>
                      <a:pt x="1076" y="159"/>
                    </a:lnTo>
                    <a:lnTo>
                      <a:pt x="1101" y="153"/>
                    </a:lnTo>
                    <a:lnTo>
                      <a:pt x="1126" y="149"/>
                    </a:lnTo>
                    <a:lnTo>
                      <a:pt x="1153" y="145"/>
                    </a:lnTo>
                    <a:lnTo>
                      <a:pt x="1180" y="140"/>
                    </a:lnTo>
                    <a:lnTo>
                      <a:pt x="1207" y="136"/>
                    </a:lnTo>
                    <a:lnTo>
                      <a:pt x="1234" y="130"/>
                    </a:lnTo>
                    <a:lnTo>
                      <a:pt x="1262" y="126"/>
                    </a:lnTo>
                    <a:lnTo>
                      <a:pt x="1291" y="120"/>
                    </a:lnTo>
                    <a:lnTo>
                      <a:pt x="1320" y="115"/>
                    </a:lnTo>
                    <a:lnTo>
                      <a:pt x="1349" y="111"/>
                    </a:lnTo>
                    <a:lnTo>
                      <a:pt x="1380" y="105"/>
                    </a:lnTo>
                    <a:lnTo>
                      <a:pt x="1410" y="99"/>
                    </a:lnTo>
                    <a:lnTo>
                      <a:pt x="1443" y="94"/>
                    </a:lnTo>
                    <a:lnTo>
                      <a:pt x="1474" y="88"/>
                    </a:lnTo>
                    <a:lnTo>
                      <a:pt x="1504" y="82"/>
                    </a:lnTo>
                    <a:lnTo>
                      <a:pt x="1533" y="78"/>
                    </a:lnTo>
                    <a:lnTo>
                      <a:pt x="1562" y="72"/>
                    </a:lnTo>
                    <a:lnTo>
                      <a:pt x="1591" y="67"/>
                    </a:lnTo>
                    <a:lnTo>
                      <a:pt x="1617" y="63"/>
                    </a:lnTo>
                    <a:lnTo>
                      <a:pt x="1642" y="57"/>
                    </a:lnTo>
                    <a:lnTo>
                      <a:pt x="1669" y="53"/>
                    </a:lnTo>
                    <a:lnTo>
                      <a:pt x="1692" y="49"/>
                    </a:lnTo>
                    <a:lnTo>
                      <a:pt x="1717" y="46"/>
                    </a:lnTo>
                    <a:lnTo>
                      <a:pt x="1740" y="42"/>
                    </a:lnTo>
                    <a:lnTo>
                      <a:pt x="1761" y="38"/>
                    </a:lnTo>
                    <a:lnTo>
                      <a:pt x="1783" y="34"/>
                    </a:lnTo>
                    <a:lnTo>
                      <a:pt x="1804" y="30"/>
                    </a:lnTo>
                    <a:lnTo>
                      <a:pt x="1823" y="26"/>
                    </a:lnTo>
                    <a:lnTo>
                      <a:pt x="1842" y="24"/>
                    </a:lnTo>
                    <a:lnTo>
                      <a:pt x="1859" y="21"/>
                    </a:lnTo>
                    <a:lnTo>
                      <a:pt x="1877" y="19"/>
                    </a:lnTo>
                    <a:lnTo>
                      <a:pt x="1892" y="17"/>
                    </a:lnTo>
                    <a:lnTo>
                      <a:pt x="1907" y="13"/>
                    </a:lnTo>
                    <a:lnTo>
                      <a:pt x="1923" y="11"/>
                    </a:lnTo>
                    <a:lnTo>
                      <a:pt x="1936" y="9"/>
                    </a:lnTo>
                    <a:lnTo>
                      <a:pt x="1948" y="7"/>
                    </a:lnTo>
                    <a:lnTo>
                      <a:pt x="1961" y="5"/>
                    </a:lnTo>
                    <a:lnTo>
                      <a:pt x="1971" y="5"/>
                    </a:lnTo>
                    <a:lnTo>
                      <a:pt x="1982" y="3"/>
                    </a:lnTo>
                    <a:lnTo>
                      <a:pt x="1992" y="1"/>
                    </a:lnTo>
                    <a:lnTo>
                      <a:pt x="1999" y="1"/>
                    </a:lnTo>
                    <a:lnTo>
                      <a:pt x="2007" y="0"/>
                    </a:lnTo>
                    <a:lnTo>
                      <a:pt x="2015" y="0"/>
                    </a:lnTo>
                    <a:lnTo>
                      <a:pt x="2020" y="0"/>
                    </a:lnTo>
                    <a:lnTo>
                      <a:pt x="2026" y="0"/>
                    </a:lnTo>
                    <a:lnTo>
                      <a:pt x="2036" y="0"/>
                    </a:lnTo>
                    <a:lnTo>
                      <a:pt x="2045" y="1"/>
                    </a:lnTo>
                    <a:lnTo>
                      <a:pt x="2055" y="1"/>
                    </a:lnTo>
                    <a:lnTo>
                      <a:pt x="2067" y="3"/>
                    </a:lnTo>
                    <a:lnTo>
                      <a:pt x="2088" y="9"/>
                    </a:lnTo>
                    <a:lnTo>
                      <a:pt x="2109" y="15"/>
                    </a:lnTo>
                    <a:lnTo>
                      <a:pt x="2132" y="24"/>
                    </a:lnTo>
                    <a:lnTo>
                      <a:pt x="2153" y="34"/>
                    </a:lnTo>
                    <a:lnTo>
                      <a:pt x="2176" y="46"/>
                    </a:lnTo>
                    <a:lnTo>
                      <a:pt x="2199" y="59"/>
                    </a:lnTo>
                    <a:lnTo>
                      <a:pt x="2210" y="67"/>
                    </a:lnTo>
                    <a:lnTo>
                      <a:pt x="2220" y="76"/>
                    </a:lnTo>
                    <a:lnTo>
                      <a:pt x="2230" y="84"/>
                    </a:lnTo>
                    <a:lnTo>
                      <a:pt x="2239" y="92"/>
                    </a:lnTo>
                    <a:lnTo>
                      <a:pt x="2247" y="99"/>
                    </a:lnTo>
                    <a:lnTo>
                      <a:pt x="2255" y="107"/>
                    </a:lnTo>
                    <a:lnTo>
                      <a:pt x="2262" y="115"/>
                    </a:lnTo>
                    <a:lnTo>
                      <a:pt x="2268" y="122"/>
                    </a:lnTo>
                    <a:lnTo>
                      <a:pt x="2274" y="128"/>
                    </a:lnTo>
                    <a:lnTo>
                      <a:pt x="2278" y="136"/>
                    </a:lnTo>
                    <a:lnTo>
                      <a:pt x="2283" y="143"/>
                    </a:lnTo>
                    <a:lnTo>
                      <a:pt x="2285" y="149"/>
                    </a:lnTo>
                    <a:lnTo>
                      <a:pt x="2289" y="157"/>
                    </a:lnTo>
                    <a:lnTo>
                      <a:pt x="2291" y="163"/>
                    </a:lnTo>
                    <a:lnTo>
                      <a:pt x="2291" y="168"/>
                    </a:lnTo>
                    <a:lnTo>
                      <a:pt x="2291" y="176"/>
                    </a:lnTo>
                    <a:lnTo>
                      <a:pt x="2291" y="180"/>
                    </a:lnTo>
                    <a:lnTo>
                      <a:pt x="2291" y="182"/>
                    </a:lnTo>
                    <a:lnTo>
                      <a:pt x="2289" y="186"/>
                    </a:lnTo>
                    <a:lnTo>
                      <a:pt x="2287" y="188"/>
                    </a:lnTo>
                    <a:lnTo>
                      <a:pt x="2285" y="191"/>
                    </a:lnTo>
                    <a:lnTo>
                      <a:pt x="2283" y="193"/>
                    </a:lnTo>
                    <a:lnTo>
                      <a:pt x="2280" y="195"/>
                    </a:lnTo>
                    <a:lnTo>
                      <a:pt x="2276" y="197"/>
                    </a:lnTo>
                    <a:lnTo>
                      <a:pt x="2272" y="201"/>
                    </a:lnTo>
                    <a:lnTo>
                      <a:pt x="2268" y="203"/>
                    </a:lnTo>
                    <a:lnTo>
                      <a:pt x="2262" y="205"/>
                    </a:lnTo>
                    <a:lnTo>
                      <a:pt x="2257" y="207"/>
                    </a:lnTo>
                    <a:lnTo>
                      <a:pt x="2251" y="209"/>
                    </a:lnTo>
                    <a:lnTo>
                      <a:pt x="2243" y="209"/>
                    </a:lnTo>
                    <a:lnTo>
                      <a:pt x="2237" y="211"/>
                    </a:lnTo>
                    <a:lnTo>
                      <a:pt x="2230" y="213"/>
                    </a:lnTo>
                    <a:lnTo>
                      <a:pt x="2220" y="214"/>
                    </a:lnTo>
                    <a:lnTo>
                      <a:pt x="2212" y="214"/>
                    </a:lnTo>
                    <a:lnTo>
                      <a:pt x="2203" y="216"/>
                    </a:lnTo>
                    <a:lnTo>
                      <a:pt x="2193" y="216"/>
                    </a:lnTo>
                    <a:lnTo>
                      <a:pt x="2184" y="218"/>
                    </a:lnTo>
                    <a:lnTo>
                      <a:pt x="2172" y="218"/>
                    </a:lnTo>
                    <a:lnTo>
                      <a:pt x="2161" y="220"/>
                    </a:lnTo>
                    <a:lnTo>
                      <a:pt x="2149" y="220"/>
                    </a:lnTo>
                    <a:lnTo>
                      <a:pt x="2138" y="220"/>
                    </a:lnTo>
                    <a:lnTo>
                      <a:pt x="2124" y="222"/>
                    </a:lnTo>
                    <a:lnTo>
                      <a:pt x="2111" y="222"/>
                    </a:lnTo>
                    <a:lnTo>
                      <a:pt x="2097" y="222"/>
                    </a:lnTo>
                    <a:lnTo>
                      <a:pt x="2082" y="222"/>
                    </a:lnTo>
                    <a:lnTo>
                      <a:pt x="2067" y="222"/>
                    </a:lnTo>
                    <a:lnTo>
                      <a:pt x="2051" y="222"/>
                    </a:lnTo>
                    <a:lnTo>
                      <a:pt x="2036" y="222"/>
                    </a:lnTo>
                    <a:lnTo>
                      <a:pt x="2003" y="222"/>
                    </a:lnTo>
                    <a:lnTo>
                      <a:pt x="1972" y="222"/>
                    </a:lnTo>
                    <a:lnTo>
                      <a:pt x="1944" y="222"/>
                    </a:lnTo>
                    <a:lnTo>
                      <a:pt x="1915" y="222"/>
                    </a:lnTo>
                    <a:lnTo>
                      <a:pt x="1888" y="224"/>
                    </a:lnTo>
                    <a:lnTo>
                      <a:pt x="1861" y="224"/>
                    </a:lnTo>
                    <a:lnTo>
                      <a:pt x="1836" y="224"/>
                    </a:lnTo>
                    <a:lnTo>
                      <a:pt x="1813" y="224"/>
                    </a:lnTo>
                    <a:lnTo>
                      <a:pt x="1790" y="224"/>
                    </a:lnTo>
                    <a:lnTo>
                      <a:pt x="1769" y="226"/>
                    </a:lnTo>
                    <a:lnTo>
                      <a:pt x="1750" y="226"/>
                    </a:lnTo>
                    <a:lnTo>
                      <a:pt x="1731" y="228"/>
                    </a:lnTo>
                    <a:lnTo>
                      <a:pt x="1713" y="230"/>
                    </a:lnTo>
                    <a:lnTo>
                      <a:pt x="1696" y="230"/>
                    </a:lnTo>
                    <a:lnTo>
                      <a:pt x="1681" y="232"/>
                    </a:lnTo>
                    <a:lnTo>
                      <a:pt x="1667" y="236"/>
                    </a:lnTo>
                    <a:lnTo>
                      <a:pt x="1660" y="236"/>
                    </a:lnTo>
                    <a:lnTo>
                      <a:pt x="1652" y="237"/>
                    </a:lnTo>
                    <a:lnTo>
                      <a:pt x="1637" y="239"/>
                    </a:lnTo>
                    <a:lnTo>
                      <a:pt x="1617" y="241"/>
                    </a:lnTo>
                    <a:lnTo>
                      <a:pt x="1598" y="243"/>
                    </a:lnTo>
                    <a:lnTo>
                      <a:pt x="1577" y="245"/>
                    </a:lnTo>
                    <a:lnTo>
                      <a:pt x="1552" y="249"/>
                    </a:lnTo>
                    <a:lnTo>
                      <a:pt x="1527" y="251"/>
                    </a:lnTo>
                    <a:lnTo>
                      <a:pt x="1500" y="253"/>
                    </a:lnTo>
                    <a:lnTo>
                      <a:pt x="1472" y="257"/>
                    </a:lnTo>
                    <a:lnTo>
                      <a:pt x="1441" y="259"/>
                    </a:lnTo>
                    <a:lnTo>
                      <a:pt x="1410" y="262"/>
                    </a:lnTo>
                    <a:lnTo>
                      <a:pt x="1376" y="266"/>
                    </a:lnTo>
                    <a:lnTo>
                      <a:pt x="1341" y="270"/>
                    </a:lnTo>
                    <a:lnTo>
                      <a:pt x="1305" y="274"/>
                    </a:lnTo>
                    <a:lnTo>
                      <a:pt x="1266" y="278"/>
                    </a:lnTo>
                    <a:lnTo>
                      <a:pt x="1228" y="282"/>
                    </a:lnTo>
                    <a:lnTo>
                      <a:pt x="1145" y="291"/>
                    </a:lnTo>
                    <a:lnTo>
                      <a:pt x="1065" y="301"/>
                    </a:lnTo>
                    <a:lnTo>
                      <a:pt x="980" y="312"/>
                    </a:lnTo>
                    <a:lnTo>
                      <a:pt x="898" y="324"/>
                    </a:lnTo>
                    <a:lnTo>
                      <a:pt x="811" y="337"/>
                    </a:lnTo>
                    <a:lnTo>
                      <a:pt x="727" y="349"/>
                    </a:lnTo>
                    <a:lnTo>
                      <a:pt x="639" y="362"/>
                    </a:lnTo>
                    <a:lnTo>
                      <a:pt x="552" y="376"/>
                    </a:lnTo>
                    <a:lnTo>
                      <a:pt x="529" y="379"/>
                    </a:lnTo>
                    <a:lnTo>
                      <a:pt x="508" y="381"/>
                    </a:lnTo>
                    <a:lnTo>
                      <a:pt x="487" y="385"/>
                    </a:lnTo>
                    <a:lnTo>
                      <a:pt x="468" y="389"/>
                    </a:lnTo>
                    <a:lnTo>
                      <a:pt x="449" y="391"/>
                    </a:lnTo>
                    <a:lnTo>
                      <a:pt x="430" y="395"/>
                    </a:lnTo>
                    <a:lnTo>
                      <a:pt x="412" y="397"/>
                    </a:lnTo>
                    <a:lnTo>
                      <a:pt x="395" y="401"/>
                    </a:lnTo>
                    <a:lnTo>
                      <a:pt x="378" y="403"/>
                    </a:lnTo>
                    <a:lnTo>
                      <a:pt x="362" y="404"/>
                    </a:lnTo>
                    <a:lnTo>
                      <a:pt x="345" y="408"/>
                    </a:lnTo>
                    <a:lnTo>
                      <a:pt x="332" y="410"/>
                    </a:lnTo>
                    <a:lnTo>
                      <a:pt x="316" y="412"/>
                    </a:lnTo>
                    <a:lnTo>
                      <a:pt x="303" y="414"/>
                    </a:lnTo>
                    <a:lnTo>
                      <a:pt x="290" y="416"/>
                    </a:lnTo>
                    <a:lnTo>
                      <a:pt x="278" y="418"/>
                    </a:lnTo>
                    <a:lnTo>
                      <a:pt x="266" y="420"/>
                    </a:lnTo>
                    <a:lnTo>
                      <a:pt x="255" y="422"/>
                    </a:lnTo>
                    <a:lnTo>
                      <a:pt x="245" y="424"/>
                    </a:lnTo>
                    <a:lnTo>
                      <a:pt x="236" y="426"/>
                    </a:lnTo>
                    <a:lnTo>
                      <a:pt x="226" y="427"/>
                    </a:lnTo>
                    <a:lnTo>
                      <a:pt x="219" y="427"/>
                    </a:lnTo>
                    <a:lnTo>
                      <a:pt x="211" y="429"/>
                    </a:lnTo>
                    <a:lnTo>
                      <a:pt x="203" y="429"/>
                    </a:lnTo>
                    <a:lnTo>
                      <a:pt x="197" y="431"/>
                    </a:lnTo>
                    <a:lnTo>
                      <a:pt x="192" y="431"/>
                    </a:lnTo>
                    <a:lnTo>
                      <a:pt x="186" y="433"/>
                    </a:lnTo>
                    <a:lnTo>
                      <a:pt x="182" y="433"/>
                    </a:lnTo>
                    <a:lnTo>
                      <a:pt x="178" y="433"/>
                    </a:lnTo>
                    <a:lnTo>
                      <a:pt x="176" y="435"/>
                    </a:lnTo>
                    <a:lnTo>
                      <a:pt x="174" y="435"/>
                    </a:lnTo>
                    <a:lnTo>
                      <a:pt x="172" y="435"/>
                    </a:lnTo>
                    <a:lnTo>
                      <a:pt x="165" y="433"/>
                    </a:lnTo>
                    <a:lnTo>
                      <a:pt x="155" y="431"/>
                    </a:lnTo>
                    <a:lnTo>
                      <a:pt x="146" y="429"/>
                    </a:lnTo>
                    <a:lnTo>
                      <a:pt x="132" y="424"/>
                    </a:lnTo>
                    <a:lnTo>
                      <a:pt x="121" y="418"/>
                    </a:lnTo>
                    <a:lnTo>
                      <a:pt x="113" y="414"/>
                    </a:lnTo>
                    <a:lnTo>
                      <a:pt x="105" y="410"/>
                    </a:lnTo>
                    <a:lnTo>
                      <a:pt x="98" y="404"/>
                    </a:lnTo>
                    <a:lnTo>
                      <a:pt x="88" y="401"/>
                    </a:lnTo>
                    <a:lnTo>
                      <a:pt x="80" y="393"/>
                    </a:lnTo>
                    <a:lnTo>
                      <a:pt x="71" y="387"/>
                    </a:lnTo>
                    <a:lnTo>
                      <a:pt x="61" y="381"/>
                    </a:lnTo>
                    <a:lnTo>
                      <a:pt x="53" y="374"/>
                    </a:lnTo>
                    <a:lnTo>
                      <a:pt x="46" y="368"/>
                    </a:lnTo>
                    <a:lnTo>
                      <a:pt x="38" y="362"/>
                    </a:lnTo>
                    <a:lnTo>
                      <a:pt x="30" y="356"/>
                    </a:lnTo>
                    <a:lnTo>
                      <a:pt x="25" y="353"/>
                    </a:lnTo>
                    <a:lnTo>
                      <a:pt x="21" y="347"/>
                    </a:lnTo>
                    <a:lnTo>
                      <a:pt x="15" y="341"/>
                    </a:lnTo>
                    <a:lnTo>
                      <a:pt x="11" y="337"/>
                    </a:lnTo>
                    <a:lnTo>
                      <a:pt x="7" y="332"/>
                    </a:lnTo>
                    <a:lnTo>
                      <a:pt x="6" y="328"/>
                    </a:lnTo>
                    <a:lnTo>
                      <a:pt x="4" y="324"/>
                    </a:lnTo>
                    <a:lnTo>
                      <a:pt x="2" y="318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2" y="301"/>
                    </a:lnTo>
                    <a:lnTo>
                      <a:pt x="4" y="299"/>
                    </a:lnTo>
                    <a:lnTo>
                      <a:pt x="7" y="297"/>
                    </a:lnTo>
                    <a:lnTo>
                      <a:pt x="11" y="295"/>
                    </a:lnTo>
                    <a:lnTo>
                      <a:pt x="17" y="293"/>
                    </a:lnTo>
                    <a:lnTo>
                      <a:pt x="23" y="291"/>
                    </a:lnTo>
                    <a:lnTo>
                      <a:pt x="30" y="289"/>
                    </a:lnTo>
                    <a:lnTo>
                      <a:pt x="38" y="287"/>
                    </a:lnTo>
                    <a:lnTo>
                      <a:pt x="48" y="285"/>
                    </a:lnTo>
                    <a:lnTo>
                      <a:pt x="57" y="285"/>
                    </a:lnTo>
                    <a:lnTo>
                      <a:pt x="69" y="284"/>
                    </a:lnTo>
                    <a:lnTo>
                      <a:pt x="80" y="284"/>
                    </a:lnTo>
                    <a:lnTo>
                      <a:pt x="94" y="282"/>
                    </a:lnTo>
                    <a:lnTo>
                      <a:pt x="107" y="282"/>
                    </a:lnTo>
                    <a:lnTo>
                      <a:pt x="123" y="28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4648320" y="289548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丢失 丢丑 丢掉 丢脸 丢面子    丢三落四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533520" y="4952880"/>
            <a:ext cx="807696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羊已经丢了，还修羊圈干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1"/>
          <p:cNvGrpSpPr/>
          <p:nvPr/>
        </p:nvGrpSpPr>
        <p:grpSpPr>
          <a:xfrm>
            <a:off x="1566720" y="1886040"/>
            <a:ext cx="2657520" cy="2657520"/>
            <a:chOff x="1566720" y="1886040"/>
            <a:chExt cx="2657520" cy="2657520"/>
          </a:xfrm>
        </p:grpSpPr>
        <p:sp>
          <p:nvSpPr>
            <p:cNvPr id="385" name="Rectangle 12"/>
            <p:cNvSpPr/>
            <p:nvPr/>
          </p:nvSpPr>
          <p:spPr>
            <a:xfrm>
              <a:off x="1566720" y="188604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1566720" y="322596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2879640" y="188604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Picture 15" descr="Noname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6"/>
          <p:cNvSpPr/>
          <p:nvPr/>
        </p:nvSpPr>
        <p:spPr>
          <a:xfrm>
            <a:off x="4648320" y="2133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2"/>
          <p:cNvGrpSpPr/>
          <p:nvPr/>
        </p:nvGrpSpPr>
        <p:grpSpPr>
          <a:xfrm>
            <a:off x="1986120" y="2290680"/>
            <a:ext cx="1814400" cy="1819440"/>
            <a:chOff x="1986120" y="2290680"/>
            <a:chExt cx="1814400" cy="1819440"/>
          </a:xfrm>
        </p:grpSpPr>
        <p:sp>
          <p:nvSpPr>
            <p:cNvPr id="396" name="AutoShape 23"/>
            <p:cNvSpPr/>
            <p:nvPr/>
          </p:nvSpPr>
          <p:spPr>
            <a:xfrm>
              <a:off x="2503440" y="2290680"/>
              <a:ext cx="806400" cy="333360"/>
            </a:xfrm>
            <a:custGeom>
              <a:avLst/>
              <a:gdLst/>
              <a:ahLst/>
              <a:rect l="l" t="t" r="r" b="b"/>
              <a:pathLst>
                <a:path w="1015" h="420">
                  <a:moveTo>
                    <a:pt x="0" y="405"/>
                  </a:moveTo>
                  <a:lnTo>
                    <a:pt x="0" y="403"/>
                  </a:lnTo>
                  <a:lnTo>
                    <a:pt x="2" y="399"/>
                  </a:lnTo>
                  <a:lnTo>
                    <a:pt x="4" y="397"/>
                  </a:lnTo>
                  <a:lnTo>
                    <a:pt x="6" y="395"/>
                  </a:lnTo>
                  <a:lnTo>
                    <a:pt x="8" y="393"/>
                  </a:lnTo>
                  <a:lnTo>
                    <a:pt x="12" y="391"/>
                  </a:lnTo>
                  <a:lnTo>
                    <a:pt x="16" y="389"/>
                  </a:lnTo>
                  <a:lnTo>
                    <a:pt x="19" y="385"/>
                  </a:lnTo>
                  <a:lnTo>
                    <a:pt x="23" y="384"/>
                  </a:lnTo>
                  <a:lnTo>
                    <a:pt x="29" y="382"/>
                  </a:lnTo>
                  <a:lnTo>
                    <a:pt x="35" y="378"/>
                  </a:lnTo>
                  <a:lnTo>
                    <a:pt x="41" y="376"/>
                  </a:lnTo>
                  <a:lnTo>
                    <a:pt x="48" y="372"/>
                  </a:lnTo>
                  <a:lnTo>
                    <a:pt x="56" y="370"/>
                  </a:lnTo>
                  <a:lnTo>
                    <a:pt x="64" y="366"/>
                  </a:lnTo>
                  <a:lnTo>
                    <a:pt x="73" y="362"/>
                  </a:lnTo>
                  <a:lnTo>
                    <a:pt x="83" y="361"/>
                  </a:lnTo>
                  <a:lnTo>
                    <a:pt x="92" y="357"/>
                  </a:lnTo>
                  <a:lnTo>
                    <a:pt x="102" y="353"/>
                  </a:lnTo>
                  <a:lnTo>
                    <a:pt x="113" y="349"/>
                  </a:lnTo>
                  <a:lnTo>
                    <a:pt x="125" y="345"/>
                  </a:lnTo>
                  <a:lnTo>
                    <a:pt x="136" y="341"/>
                  </a:lnTo>
                  <a:lnTo>
                    <a:pt x="148" y="338"/>
                  </a:lnTo>
                  <a:lnTo>
                    <a:pt x="161" y="334"/>
                  </a:lnTo>
                  <a:lnTo>
                    <a:pt x="175" y="330"/>
                  </a:lnTo>
                  <a:lnTo>
                    <a:pt x="188" y="326"/>
                  </a:lnTo>
                  <a:lnTo>
                    <a:pt x="204" y="322"/>
                  </a:lnTo>
                  <a:lnTo>
                    <a:pt x="219" y="316"/>
                  </a:lnTo>
                  <a:lnTo>
                    <a:pt x="234" y="313"/>
                  </a:lnTo>
                  <a:lnTo>
                    <a:pt x="250" y="307"/>
                  </a:lnTo>
                  <a:lnTo>
                    <a:pt x="267" y="303"/>
                  </a:lnTo>
                  <a:lnTo>
                    <a:pt x="284" y="297"/>
                  </a:lnTo>
                  <a:lnTo>
                    <a:pt x="317" y="288"/>
                  </a:lnTo>
                  <a:lnTo>
                    <a:pt x="350" y="278"/>
                  </a:lnTo>
                  <a:lnTo>
                    <a:pt x="382" y="268"/>
                  </a:lnTo>
                  <a:lnTo>
                    <a:pt x="411" y="259"/>
                  </a:lnTo>
                  <a:lnTo>
                    <a:pt x="440" y="249"/>
                  </a:lnTo>
                  <a:lnTo>
                    <a:pt x="468" y="240"/>
                  </a:lnTo>
                  <a:lnTo>
                    <a:pt x="493" y="232"/>
                  </a:lnTo>
                  <a:lnTo>
                    <a:pt x="518" y="222"/>
                  </a:lnTo>
                  <a:lnTo>
                    <a:pt x="543" y="215"/>
                  </a:lnTo>
                  <a:lnTo>
                    <a:pt x="564" y="205"/>
                  </a:lnTo>
                  <a:lnTo>
                    <a:pt x="586" y="195"/>
                  </a:lnTo>
                  <a:lnTo>
                    <a:pt x="607" y="186"/>
                  </a:lnTo>
                  <a:lnTo>
                    <a:pt x="626" y="178"/>
                  </a:lnTo>
                  <a:lnTo>
                    <a:pt x="643" y="169"/>
                  </a:lnTo>
                  <a:lnTo>
                    <a:pt x="658" y="159"/>
                  </a:lnTo>
                  <a:lnTo>
                    <a:pt x="674" y="148"/>
                  </a:lnTo>
                  <a:lnTo>
                    <a:pt x="687" y="140"/>
                  </a:lnTo>
                  <a:lnTo>
                    <a:pt x="701" y="132"/>
                  </a:lnTo>
                  <a:lnTo>
                    <a:pt x="714" y="124"/>
                  </a:lnTo>
                  <a:lnTo>
                    <a:pt x="726" y="117"/>
                  </a:lnTo>
                  <a:lnTo>
                    <a:pt x="735" y="111"/>
                  </a:lnTo>
                  <a:lnTo>
                    <a:pt x="745" y="103"/>
                  </a:lnTo>
                  <a:lnTo>
                    <a:pt x="754" y="98"/>
                  </a:lnTo>
                  <a:lnTo>
                    <a:pt x="762" y="90"/>
                  </a:lnTo>
                  <a:lnTo>
                    <a:pt x="768" y="84"/>
                  </a:lnTo>
                  <a:lnTo>
                    <a:pt x="774" y="78"/>
                  </a:lnTo>
                  <a:lnTo>
                    <a:pt x="779" y="71"/>
                  </a:lnTo>
                  <a:lnTo>
                    <a:pt x="783" y="65"/>
                  </a:lnTo>
                  <a:lnTo>
                    <a:pt x="787" y="59"/>
                  </a:lnTo>
                  <a:lnTo>
                    <a:pt x="789" y="53"/>
                  </a:lnTo>
                  <a:lnTo>
                    <a:pt x="791" y="48"/>
                  </a:lnTo>
                  <a:lnTo>
                    <a:pt x="791" y="42"/>
                  </a:lnTo>
                  <a:lnTo>
                    <a:pt x="791" y="36"/>
                  </a:lnTo>
                  <a:lnTo>
                    <a:pt x="791" y="30"/>
                  </a:lnTo>
                  <a:lnTo>
                    <a:pt x="793" y="21"/>
                  </a:lnTo>
                  <a:lnTo>
                    <a:pt x="795" y="13"/>
                  </a:lnTo>
                  <a:lnTo>
                    <a:pt x="799" y="7"/>
                  </a:lnTo>
                  <a:lnTo>
                    <a:pt x="802" y="4"/>
                  </a:lnTo>
                  <a:lnTo>
                    <a:pt x="808" y="2"/>
                  </a:lnTo>
                  <a:lnTo>
                    <a:pt x="814" y="0"/>
                  </a:lnTo>
                  <a:lnTo>
                    <a:pt x="820" y="0"/>
                  </a:lnTo>
                  <a:lnTo>
                    <a:pt x="824" y="0"/>
                  </a:lnTo>
                  <a:lnTo>
                    <a:pt x="829" y="0"/>
                  </a:lnTo>
                  <a:lnTo>
                    <a:pt x="833" y="2"/>
                  </a:lnTo>
                  <a:lnTo>
                    <a:pt x="839" y="4"/>
                  </a:lnTo>
                  <a:lnTo>
                    <a:pt x="845" y="6"/>
                  </a:lnTo>
                  <a:lnTo>
                    <a:pt x="850" y="7"/>
                  </a:lnTo>
                  <a:lnTo>
                    <a:pt x="856" y="11"/>
                  </a:lnTo>
                  <a:lnTo>
                    <a:pt x="864" y="15"/>
                  </a:lnTo>
                  <a:lnTo>
                    <a:pt x="870" y="19"/>
                  </a:lnTo>
                  <a:lnTo>
                    <a:pt x="877" y="23"/>
                  </a:lnTo>
                  <a:lnTo>
                    <a:pt x="885" y="29"/>
                  </a:lnTo>
                  <a:lnTo>
                    <a:pt x="893" y="34"/>
                  </a:lnTo>
                  <a:lnTo>
                    <a:pt x="902" y="40"/>
                  </a:lnTo>
                  <a:lnTo>
                    <a:pt x="910" y="48"/>
                  </a:lnTo>
                  <a:lnTo>
                    <a:pt x="919" y="55"/>
                  </a:lnTo>
                  <a:lnTo>
                    <a:pt x="927" y="63"/>
                  </a:lnTo>
                  <a:lnTo>
                    <a:pt x="944" y="78"/>
                  </a:lnTo>
                  <a:lnTo>
                    <a:pt x="960" y="94"/>
                  </a:lnTo>
                  <a:lnTo>
                    <a:pt x="975" y="107"/>
                  </a:lnTo>
                  <a:lnTo>
                    <a:pt x="987" y="121"/>
                  </a:lnTo>
                  <a:lnTo>
                    <a:pt x="996" y="132"/>
                  </a:lnTo>
                  <a:lnTo>
                    <a:pt x="1004" y="146"/>
                  </a:lnTo>
                  <a:lnTo>
                    <a:pt x="1012" y="157"/>
                  </a:lnTo>
                  <a:lnTo>
                    <a:pt x="1015" y="171"/>
                  </a:lnTo>
                  <a:lnTo>
                    <a:pt x="1015" y="172"/>
                  </a:lnTo>
                  <a:lnTo>
                    <a:pt x="1014" y="176"/>
                  </a:lnTo>
                  <a:lnTo>
                    <a:pt x="1014" y="178"/>
                  </a:lnTo>
                  <a:lnTo>
                    <a:pt x="1012" y="182"/>
                  </a:lnTo>
                  <a:lnTo>
                    <a:pt x="1010" y="184"/>
                  </a:lnTo>
                  <a:lnTo>
                    <a:pt x="1006" y="188"/>
                  </a:lnTo>
                  <a:lnTo>
                    <a:pt x="1002" y="190"/>
                  </a:lnTo>
                  <a:lnTo>
                    <a:pt x="998" y="194"/>
                  </a:lnTo>
                  <a:lnTo>
                    <a:pt x="994" y="197"/>
                  </a:lnTo>
                  <a:lnTo>
                    <a:pt x="989" y="199"/>
                  </a:lnTo>
                  <a:lnTo>
                    <a:pt x="985" y="203"/>
                  </a:lnTo>
                  <a:lnTo>
                    <a:pt x="977" y="207"/>
                  </a:lnTo>
                  <a:lnTo>
                    <a:pt x="971" y="209"/>
                  </a:lnTo>
                  <a:lnTo>
                    <a:pt x="964" y="213"/>
                  </a:lnTo>
                  <a:lnTo>
                    <a:pt x="956" y="217"/>
                  </a:lnTo>
                  <a:lnTo>
                    <a:pt x="948" y="220"/>
                  </a:lnTo>
                  <a:lnTo>
                    <a:pt x="939" y="222"/>
                  </a:lnTo>
                  <a:lnTo>
                    <a:pt x="931" y="226"/>
                  </a:lnTo>
                  <a:lnTo>
                    <a:pt x="921" y="230"/>
                  </a:lnTo>
                  <a:lnTo>
                    <a:pt x="910" y="234"/>
                  </a:lnTo>
                  <a:lnTo>
                    <a:pt x="898" y="238"/>
                  </a:lnTo>
                  <a:lnTo>
                    <a:pt x="887" y="242"/>
                  </a:lnTo>
                  <a:lnTo>
                    <a:pt x="875" y="245"/>
                  </a:lnTo>
                  <a:lnTo>
                    <a:pt x="864" y="249"/>
                  </a:lnTo>
                  <a:lnTo>
                    <a:pt x="850" y="255"/>
                  </a:lnTo>
                  <a:lnTo>
                    <a:pt x="837" y="259"/>
                  </a:lnTo>
                  <a:lnTo>
                    <a:pt x="822" y="263"/>
                  </a:lnTo>
                  <a:lnTo>
                    <a:pt x="806" y="266"/>
                  </a:lnTo>
                  <a:lnTo>
                    <a:pt x="791" y="272"/>
                  </a:lnTo>
                  <a:lnTo>
                    <a:pt x="776" y="276"/>
                  </a:lnTo>
                  <a:lnTo>
                    <a:pt x="760" y="282"/>
                  </a:lnTo>
                  <a:lnTo>
                    <a:pt x="743" y="288"/>
                  </a:lnTo>
                  <a:lnTo>
                    <a:pt x="674" y="307"/>
                  </a:lnTo>
                  <a:lnTo>
                    <a:pt x="605" y="324"/>
                  </a:lnTo>
                  <a:lnTo>
                    <a:pt x="540" y="341"/>
                  </a:lnTo>
                  <a:lnTo>
                    <a:pt x="474" y="359"/>
                  </a:lnTo>
                  <a:lnTo>
                    <a:pt x="442" y="364"/>
                  </a:lnTo>
                  <a:lnTo>
                    <a:pt x="411" y="372"/>
                  </a:lnTo>
                  <a:lnTo>
                    <a:pt x="380" y="378"/>
                  </a:lnTo>
                  <a:lnTo>
                    <a:pt x="350" y="384"/>
                  </a:lnTo>
                  <a:lnTo>
                    <a:pt x="321" y="389"/>
                  </a:lnTo>
                  <a:lnTo>
                    <a:pt x="292" y="395"/>
                  </a:lnTo>
                  <a:lnTo>
                    <a:pt x="263" y="399"/>
                  </a:lnTo>
                  <a:lnTo>
                    <a:pt x="234" y="405"/>
                  </a:lnTo>
                  <a:lnTo>
                    <a:pt x="206" y="409"/>
                  </a:lnTo>
                  <a:lnTo>
                    <a:pt x="181" y="410"/>
                  </a:lnTo>
                  <a:lnTo>
                    <a:pt x="156" y="414"/>
                  </a:lnTo>
                  <a:lnTo>
                    <a:pt x="133" y="416"/>
                  </a:lnTo>
                  <a:lnTo>
                    <a:pt x="112" y="418"/>
                  </a:lnTo>
                  <a:lnTo>
                    <a:pt x="92" y="420"/>
                  </a:lnTo>
                  <a:lnTo>
                    <a:pt x="75" y="420"/>
                  </a:lnTo>
                  <a:lnTo>
                    <a:pt x="60" y="420"/>
                  </a:lnTo>
                  <a:lnTo>
                    <a:pt x="46" y="420"/>
                  </a:lnTo>
                  <a:lnTo>
                    <a:pt x="33" y="420"/>
                  </a:lnTo>
                  <a:lnTo>
                    <a:pt x="23" y="418"/>
                  </a:lnTo>
                  <a:lnTo>
                    <a:pt x="16" y="416"/>
                  </a:lnTo>
                  <a:lnTo>
                    <a:pt x="10" y="414"/>
                  </a:lnTo>
                  <a:lnTo>
                    <a:pt x="4" y="410"/>
                  </a:lnTo>
                  <a:lnTo>
                    <a:pt x="2" y="409"/>
                  </a:lnTo>
                  <a:lnTo>
                    <a:pt x="0" y="40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24"/>
            <p:cNvSpPr/>
            <p:nvPr/>
          </p:nvSpPr>
          <p:spPr>
            <a:xfrm>
              <a:off x="2836800" y="2543040"/>
              <a:ext cx="163440" cy="787680"/>
            </a:xfrm>
            <a:custGeom>
              <a:avLst/>
              <a:gdLst/>
              <a:ahLst/>
              <a:rect l="l" t="t" r="r" b="b"/>
              <a:pathLst>
                <a:path w="205" h="992">
                  <a:moveTo>
                    <a:pt x="0" y="0"/>
                  </a:moveTo>
                  <a:lnTo>
                    <a:pt x="28" y="6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7" y="14"/>
                  </a:lnTo>
                  <a:lnTo>
                    <a:pt x="78" y="18"/>
                  </a:lnTo>
                  <a:lnTo>
                    <a:pt x="90" y="21"/>
                  </a:lnTo>
                  <a:lnTo>
                    <a:pt x="101" y="25"/>
                  </a:lnTo>
                  <a:lnTo>
                    <a:pt x="111" y="29"/>
                  </a:lnTo>
                  <a:lnTo>
                    <a:pt x="120" y="33"/>
                  </a:lnTo>
                  <a:lnTo>
                    <a:pt x="130" y="39"/>
                  </a:lnTo>
                  <a:lnTo>
                    <a:pt x="138" y="43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59" y="58"/>
                  </a:lnTo>
                  <a:lnTo>
                    <a:pt x="165" y="66"/>
                  </a:lnTo>
                  <a:lnTo>
                    <a:pt x="176" y="77"/>
                  </a:lnTo>
                  <a:lnTo>
                    <a:pt x="184" y="87"/>
                  </a:lnTo>
                  <a:lnTo>
                    <a:pt x="190" y="96"/>
                  </a:lnTo>
                  <a:lnTo>
                    <a:pt x="195" y="104"/>
                  </a:lnTo>
                  <a:lnTo>
                    <a:pt x="199" y="112"/>
                  </a:lnTo>
                  <a:lnTo>
                    <a:pt x="203" y="119"/>
                  </a:lnTo>
                  <a:lnTo>
                    <a:pt x="203" y="125"/>
                  </a:lnTo>
                  <a:lnTo>
                    <a:pt x="205" y="129"/>
                  </a:lnTo>
                  <a:lnTo>
                    <a:pt x="205" y="133"/>
                  </a:lnTo>
                  <a:lnTo>
                    <a:pt x="203" y="138"/>
                  </a:lnTo>
                  <a:lnTo>
                    <a:pt x="203" y="146"/>
                  </a:lnTo>
                  <a:lnTo>
                    <a:pt x="203" y="152"/>
                  </a:lnTo>
                  <a:lnTo>
                    <a:pt x="201" y="162"/>
                  </a:lnTo>
                  <a:lnTo>
                    <a:pt x="199" y="171"/>
                  </a:lnTo>
                  <a:lnTo>
                    <a:pt x="199" y="183"/>
                  </a:lnTo>
                  <a:lnTo>
                    <a:pt x="197" y="194"/>
                  </a:lnTo>
                  <a:lnTo>
                    <a:pt x="195" y="208"/>
                  </a:lnTo>
                  <a:lnTo>
                    <a:pt x="193" y="221"/>
                  </a:lnTo>
                  <a:lnTo>
                    <a:pt x="190" y="236"/>
                  </a:lnTo>
                  <a:lnTo>
                    <a:pt x="188" y="254"/>
                  </a:lnTo>
                  <a:lnTo>
                    <a:pt x="186" y="271"/>
                  </a:lnTo>
                  <a:lnTo>
                    <a:pt x="182" y="290"/>
                  </a:lnTo>
                  <a:lnTo>
                    <a:pt x="178" y="309"/>
                  </a:lnTo>
                  <a:lnTo>
                    <a:pt x="174" y="330"/>
                  </a:lnTo>
                  <a:lnTo>
                    <a:pt x="172" y="342"/>
                  </a:lnTo>
                  <a:lnTo>
                    <a:pt x="172" y="355"/>
                  </a:lnTo>
                  <a:lnTo>
                    <a:pt x="170" y="367"/>
                  </a:lnTo>
                  <a:lnTo>
                    <a:pt x="168" y="380"/>
                  </a:lnTo>
                  <a:lnTo>
                    <a:pt x="166" y="394"/>
                  </a:lnTo>
                  <a:lnTo>
                    <a:pt x="165" y="409"/>
                  </a:lnTo>
                  <a:lnTo>
                    <a:pt x="165" y="422"/>
                  </a:lnTo>
                  <a:lnTo>
                    <a:pt x="163" y="440"/>
                  </a:lnTo>
                  <a:lnTo>
                    <a:pt x="161" y="455"/>
                  </a:lnTo>
                  <a:lnTo>
                    <a:pt x="159" y="472"/>
                  </a:lnTo>
                  <a:lnTo>
                    <a:pt x="159" y="490"/>
                  </a:lnTo>
                  <a:lnTo>
                    <a:pt x="157" y="507"/>
                  </a:lnTo>
                  <a:lnTo>
                    <a:pt x="157" y="526"/>
                  </a:lnTo>
                  <a:lnTo>
                    <a:pt x="155" y="545"/>
                  </a:lnTo>
                  <a:lnTo>
                    <a:pt x="155" y="565"/>
                  </a:lnTo>
                  <a:lnTo>
                    <a:pt x="153" y="586"/>
                  </a:lnTo>
                  <a:lnTo>
                    <a:pt x="153" y="607"/>
                  </a:lnTo>
                  <a:lnTo>
                    <a:pt x="151" y="628"/>
                  </a:lnTo>
                  <a:lnTo>
                    <a:pt x="151" y="651"/>
                  </a:lnTo>
                  <a:lnTo>
                    <a:pt x="149" y="674"/>
                  </a:lnTo>
                  <a:lnTo>
                    <a:pt x="149" y="697"/>
                  </a:lnTo>
                  <a:lnTo>
                    <a:pt x="149" y="720"/>
                  </a:lnTo>
                  <a:lnTo>
                    <a:pt x="147" y="745"/>
                  </a:lnTo>
                  <a:lnTo>
                    <a:pt x="147" y="770"/>
                  </a:lnTo>
                  <a:lnTo>
                    <a:pt x="147" y="797"/>
                  </a:lnTo>
                  <a:lnTo>
                    <a:pt x="147" y="822"/>
                  </a:lnTo>
                  <a:lnTo>
                    <a:pt x="147" y="849"/>
                  </a:lnTo>
                  <a:lnTo>
                    <a:pt x="145" y="877"/>
                  </a:lnTo>
                  <a:lnTo>
                    <a:pt x="145" y="904"/>
                  </a:lnTo>
                  <a:lnTo>
                    <a:pt x="145" y="933"/>
                  </a:lnTo>
                  <a:lnTo>
                    <a:pt x="145" y="962"/>
                  </a:lnTo>
                  <a:lnTo>
                    <a:pt x="145" y="992"/>
                  </a:lnTo>
                  <a:lnTo>
                    <a:pt x="28" y="992"/>
                  </a:lnTo>
                  <a:lnTo>
                    <a:pt x="28" y="950"/>
                  </a:lnTo>
                  <a:lnTo>
                    <a:pt x="28" y="908"/>
                  </a:lnTo>
                  <a:lnTo>
                    <a:pt x="28" y="866"/>
                  </a:lnTo>
                  <a:lnTo>
                    <a:pt x="28" y="825"/>
                  </a:lnTo>
                  <a:lnTo>
                    <a:pt x="28" y="787"/>
                  </a:lnTo>
                  <a:lnTo>
                    <a:pt x="28" y="749"/>
                  </a:lnTo>
                  <a:lnTo>
                    <a:pt x="26" y="710"/>
                  </a:lnTo>
                  <a:lnTo>
                    <a:pt x="26" y="672"/>
                  </a:lnTo>
                  <a:lnTo>
                    <a:pt x="26" y="636"/>
                  </a:lnTo>
                  <a:lnTo>
                    <a:pt x="26" y="599"/>
                  </a:lnTo>
                  <a:lnTo>
                    <a:pt x="24" y="565"/>
                  </a:lnTo>
                  <a:lnTo>
                    <a:pt x="24" y="530"/>
                  </a:lnTo>
                  <a:lnTo>
                    <a:pt x="24" y="497"/>
                  </a:lnTo>
                  <a:lnTo>
                    <a:pt x="23" y="465"/>
                  </a:lnTo>
                  <a:lnTo>
                    <a:pt x="23" y="432"/>
                  </a:lnTo>
                  <a:lnTo>
                    <a:pt x="21" y="401"/>
                  </a:lnTo>
                  <a:lnTo>
                    <a:pt x="21" y="371"/>
                  </a:lnTo>
                  <a:lnTo>
                    <a:pt x="19" y="340"/>
                  </a:lnTo>
                  <a:lnTo>
                    <a:pt x="19" y="311"/>
                  </a:lnTo>
                  <a:lnTo>
                    <a:pt x="17" y="282"/>
                  </a:lnTo>
                  <a:lnTo>
                    <a:pt x="17" y="256"/>
                  </a:lnTo>
                  <a:lnTo>
                    <a:pt x="15" y="229"/>
                  </a:lnTo>
                  <a:lnTo>
                    <a:pt x="13" y="202"/>
                  </a:lnTo>
                  <a:lnTo>
                    <a:pt x="11" y="177"/>
                  </a:lnTo>
                  <a:lnTo>
                    <a:pt x="11" y="152"/>
                  </a:lnTo>
                  <a:lnTo>
                    <a:pt x="9" y="129"/>
                  </a:lnTo>
                  <a:lnTo>
                    <a:pt x="7" y="106"/>
                  </a:lnTo>
                  <a:lnTo>
                    <a:pt x="5" y="83"/>
                  </a:lnTo>
                  <a:lnTo>
                    <a:pt x="5" y="62"/>
                  </a:lnTo>
                  <a:lnTo>
                    <a:pt x="3" y="41"/>
                  </a:lnTo>
                  <a:lnTo>
                    <a:pt x="1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25"/>
            <p:cNvSpPr/>
            <p:nvPr/>
          </p:nvSpPr>
          <p:spPr>
            <a:xfrm>
              <a:off x="2371680" y="3365640"/>
              <a:ext cx="938160" cy="693720"/>
            </a:xfrm>
            <a:custGeom>
              <a:avLst/>
              <a:gdLst/>
              <a:ahLst/>
              <a:rect l="l" t="t" r="r" b="b"/>
              <a:pathLst>
                <a:path w="1182" h="873">
                  <a:moveTo>
                    <a:pt x="246" y="531"/>
                  </a:moveTo>
                  <a:lnTo>
                    <a:pt x="271" y="506"/>
                  </a:lnTo>
                  <a:lnTo>
                    <a:pt x="298" y="479"/>
                  </a:lnTo>
                  <a:lnTo>
                    <a:pt x="309" y="464"/>
                  </a:lnTo>
                  <a:lnTo>
                    <a:pt x="323" y="451"/>
                  </a:lnTo>
                  <a:lnTo>
                    <a:pt x="336" y="435"/>
                  </a:lnTo>
                  <a:lnTo>
                    <a:pt x="350" y="420"/>
                  </a:lnTo>
                  <a:lnTo>
                    <a:pt x="363" y="403"/>
                  </a:lnTo>
                  <a:lnTo>
                    <a:pt x="376" y="385"/>
                  </a:lnTo>
                  <a:lnTo>
                    <a:pt x="390" y="368"/>
                  </a:lnTo>
                  <a:lnTo>
                    <a:pt x="403" y="351"/>
                  </a:lnTo>
                  <a:lnTo>
                    <a:pt x="419" y="333"/>
                  </a:lnTo>
                  <a:lnTo>
                    <a:pt x="432" y="314"/>
                  </a:lnTo>
                  <a:lnTo>
                    <a:pt x="446" y="295"/>
                  </a:lnTo>
                  <a:lnTo>
                    <a:pt x="461" y="276"/>
                  </a:lnTo>
                  <a:lnTo>
                    <a:pt x="472" y="255"/>
                  </a:lnTo>
                  <a:lnTo>
                    <a:pt x="484" y="238"/>
                  </a:lnTo>
                  <a:lnTo>
                    <a:pt x="493" y="218"/>
                  </a:lnTo>
                  <a:lnTo>
                    <a:pt x="503" y="203"/>
                  </a:lnTo>
                  <a:lnTo>
                    <a:pt x="513" y="188"/>
                  </a:lnTo>
                  <a:lnTo>
                    <a:pt x="520" y="172"/>
                  </a:lnTo>
                  <a:lnTo>
                    <a:pt x="526" y="159"/>
                  </a:lnTo>
                  <a:lnTo>
                    <a:pt x="532" y="145"/>
                  </a:lnTo>
                  <a:lnTo>
                    <a:pt x="536" y="134"/>
                  </a:lnTo>
                  <a:lnTo>
                    <a:pt x="540" y="122"/>
                  </a:lnTo>
                  <a:lnTo>
                    <a:pt x="543" y="113"/>
                  </a:lnTo>
                  <a:lnTo>
                    <a:pt x="543" y="103"/>
                  </a:lnTo>
                  <a:lnTo>
                    <a:pt x="543" y="94"/>
                  </a:lnTo>
                  <a:lnTo>
                    <a:pt x="543" y="86"/>
                  </a:lnTo>
                  <a:lnTo>
                    <a:pt x="541" y="78"/>
                  </a:lnTo>
                  <a:lnTo>
                    <a:pt x="540" y="72"/>
                  </a:lnTo>
                  <a:lnTo>
                    <a:pt x="532" y="61"/>
                  </a:lnTo>
                  <a:lnTo>
                    <a:pt x="528" y="51"/>
                  </a:lnTo>
                  <a:lnTo>
                    <a:pt x="524" y="42"/>
                  </a:lnTo>
                  <a:lnTo>
                    <a:pt x="522" y="32"/>
                  </a:lnTo>
                  <a:lnTo>
                    <a:pt x="522" y="25"/>
                  </a:lnTo>
                  <a:lnTo>
                    <a:pt x="524" y="19"/>
                  </a:lnTo>
                  <a:lnTo>
                    <a:pt x="526" y="13"/>
                  </a:lnTo>
                  <a:lnTo>
                    <a:pt x="528" y="9"/>
                  </a:lnTo>
                  <a:lnTo>
                    <a:pt x="532" y="7"/>
                  </a:lnTo>
                  <a:lnTo>
                    <a:pt x="534" y="5"/>
                  </a:lnTo>
                  <a:lnTo>
                    <a:pt x="538" y="3"/>
                  </a:lnTo>
                  <a:lnTo>
                    <a:pt x="541" y="1"/>
                  </a:lnTo>
                  <a:lnTo>
                    <a:pt x="545" y="1"/>
                  </a:lnTo>
                  <a:lnTo>
                    <a:pt x="551" y="1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80" y="1"/>
                  </a:lnTo>
                  <a:lnTo>
                    <a:pt x="588" y="1"/>
                  </a:lnTo>
                  <a:lnTo>
                    <a:pt x="595" y="1"/>
                  </a:lnTo>
                  <a:lnTo>
                    <a:pt x="605" y="3"/>
                  </a:lnTo>
                  <a:lnTo>
                    <a:pt x="614" y="5"/>
                  </a:lnTo>
                  <a:lnTo>
                    <a:pt x="626" y="7"/>
                  </a:lnTo>
                  <a:lnTo>
                    <a:pt x="635" y="9"/>
                  </a:lnTo>
                  <a:lnTo>
                    <a:pt x="655" y="13"/>
                  </a:lnTo>
                  <a:lnTo>
                    <a:pt x="670" y="19"/>
                  </a:lnTo>
                  <a:lnTo>
                    <a:pt x="687" y="25"/>
                  </a:lnTo>
                  <a:lnTo>
                    <a:pt x="701" y="32"/>
                  </a:lnTo>
                  <a:lnTo>
                    <a:pt x="714" y="42"/>
                  </a:lnTo>
                  <a:lnTo>
                    <a:pt x="726" y="51"/>
                  </a:lnTo>
                  <a:lnTo>
                    <a:pt x="735" y="61"/>
                  </a:lnTo>
                  <a:lnTo>
                    <a:pt x="743" y="72"/>
                  </a:lnTo>
                  <a:lnTo>
                    <a:pt x="751" y="96"/>
                  </a:lnTo>
                  <a:lnTo>
                    <a:pt x="753" y="107"/>
                  </a:lnTo>
                  <a:lnTo>
                    <a:pt x="756" y="119"/>
                  </a:lnTo>
                  <a:lnTo>
                    <a:pt x="756" y="130"/>
                  </a:lnTo>
                  <a:lnTo>
                    <a:pt x="756" y="140"/>
                  </a:lnTo>
                  <a:lnTo>
                    <a:pt x="756" y="149"/>
                  </a:lnTo>
                  <a:lnTo>
                    <a:pt x="753" y="157"/>
                  </a:lnTo>
                  <a:lnTo>
                    <a:pt x="751" y="163"/>
                  </a:lnTo>
                  <a:lnTo>
                    <a:pt x="747" y="168"/>
                  </a:lnTo>
                  <a:lnTo>
                    <a:pt x="741" y="176"/>
                  </a:lnTo>
                  <a:lnTo>
                    <a:pt x="735" y="184"/>
                  </a:lnTo>
                  <a:lnTo>
                    <a:pt x="726" y="193"/>
                  </a:lnTo>
                  <a:lnTo>
                    <a:pt x="716" y="205"/>
                  </a:lnTo>
                  <a:lnTo>
                    <a:pt x="707" y="216"/>
                  </a:lnTo>
                  <a:lnTo>
                    <a:pt x="693" y="230"/>
                  </a:lnTo>
                  <a:lnTo>
                    <a:pt x="680" y="245"/>
                  </a:lnTo>
                  <a:lnTo>
                    <a:pt x="664" y="262"/>
                  </a:lnTo>
                  <a:lnTo>
                    <a:pt x="647" y="280"/>
                  </a:lnTo>
                  <a:lnTo>
                    <a:pt x="628" y="299"/>
                  </a:lnTo>
                  <a:lnTo>
                    <a:pt x="609" y="320"/>
                  </a:lnTo>
                  <a:lnTo>
                    <a:pt x="586" y="343"/>
                  </a:lnTo>
                  <a:lnTo>
                    <a:pt x="563" y="366"/>
                  </a:lnTo>
                  <a:lnTo>
                    <a:pt x="540" y="393"/>
                  </a:lnTo>
                  <a:lnTo>
                    <a:pt x="513" y="418"/>
                  </a:lnTo>
                  <a:lnTo>
                    <a:pt x="488" y="443"/>
                  </a:lnTo>
                  <a:lnTo>
                    <a:pt x="465" y="466"/>
                  </a:lnTo>
                  <a:lnTo>
                    <a:pt x="444" y="487"/>
                  </a:lnTo>
                  <a:lnTo>
                    <a:pt x="424" y="506"/>
                  </a:lnTo>
                  <a:lnTo>
                    <a:pt x="407" y="525"/>
                  </a:lnTo>
                  <a:lnTo>
                    <a:pt x="392" y="543"/>
                  </a:lnTo>
                  <a:lnTo>
                    <a:pt x="378" y="558"/>
                  </a:lnTo>
                  <a:lnTo>
                    <a:pt x="367" y="571"/>
                  </a:lnTo>
                  <a:lnTo>
                    <a:pt x="355" y="585"/>
                  </a:lnTo>
                  <a:lnTo>
                    <a:pt x="348" y="596"/>
                  </a:lnTo>
                  <a:lnTo>
                    <a:pt x="342" y="606"/>
                  </a:lnTo>
                  <a:lnTo>
                    <a:pt x="336" y="614"/>
                  </a:lnTo>
                  <a:lnTo>
                    <a:pt x="334" y="619"/>
                  </a:lnTo>
                  <a:lnTo>
                    <a:pt x="332" y="623"/>
                  </a:lnTo>
                  <a:lnTo>
                    <a:pt x="334" y="627"/>
                  </a:lnTo>
                  <a:lnTo>
                    <a:pt x="336" y="629"/>
                  </a:lnTo>
                  <a:lnTo>
                    <a:pt x="340" y="631"/>
                  </a:lnTo>
                  <a:lnTo>
                    <a:pt x="344" y="631"/>
                  </a:lnTo>
                  <a:lnTo>
                    <a:pt x="348" y="633"/>
                  </a:lnTo>
                  <a:lnTo>
                    <a:pt x="353" y="633"/>
                  </a:lnTo>
                  <a:lnTo>
                    <a:pt x="361" y="635"/>
                  </a:lnTo>
                  <a:lnTo>
                    <a:pt x="369" y="635"/>
                  </a:lnTo>
                  <a:lnTo>
                    <a:pt x="378" y="633"/>
                  </a:lnTo>
                  <a:lnTo>
                    <a:pt x="388" y="633"/>
                  </a:lnTo>
                  <a:lnTo>
                    <a:pt x="398" y="633"/>
                  </a:lnTo>
                  <a:lnTo>
                    <a:pt x="409" y="631"/>
                  </a:lnTo>
                  <a:lnTo>
                    <a:pt x="421" y="629"/>
                  </a:lnTo>
                  <a:lnTo>
                    <a:pt x="434" y="627"/>
                  </a:lnTo>
                  <a:lnTo>
                    <a:pt x="449" y="623"/>
                  </a:lnTo>
                  <a:lnTo>
                    <a:pt x="465" y="619"/>
                  </a:lnTo>
                  <a:lnTo>
                    <a:pt x="480" y="616"/>
                  </a:lnTo>
                  <a:lnTo>
                    <a:pt x="497" y="614"/>
                  </a:lnTo>
                  <a:lnTo>
                    <a:pt x="515" y="612"/>
                  </a:lnTo>
                  <a:lnTo>
                    <a:pt x="532" y="608"/>
                  </a:lnTo>
                  <a:lnTo>
                    <a:pt x="549" y="604"/>
                  </a:lnTo>
                  <a:lnTo>
                    <a:pt x="568" y="600"/>
                  </a:lnTo>
                  <a:lnTo>
                    <a:pt x="588" y="596"/>
                  </a:lnTo>
                  <a:lnTo>
                    <a:pt x="609" y="593"/>
                  </a:lnTo>
                  <a:lnTo>
                    <a:pt x="630" y="587"/>
                  </a:lnTo>
                  <a:lnTo>
                    <a:pt x="651" y="581"/>
                  </a:lnTo>
                  <a:lnTo>
                    <a:pt x="672" y="577"/>
                  </a:lnTo>
                  <a:lnTo>
                    <a:pt x="695" y="571"/>
                  </a:lnTo>
                  <a:lnTo>
                    <a:pt x="718" y="566"/>
                  </a:lnTo>
                  <a:lnTo>
                    <a:pt x="743" y="560"/>
                  </a:lnTo>
                  <a:lnTo>
                    <a:pt x="768" y="554"/>
                  </a:lnTo>
                  <a:lnTo>
                    <a:pt x="795" y="548"/>
                  </a:lnTo>
                  <a:lnTo>
                    <a:pt x="822" y="543"/>
                  </a:lnTo>
                  <a:lnTo>
                    <a:pt x="847" y="535"/>
                  </a:lnTo>
                  <a:lnTo>
                    <a:pt x="872" y="531"/>
                  </a:lnTo>
                  <a:lnTo>
                    <a:pt x="920" y="522"/>
                  </a:lnTo>
                  <a:lnTo>
                    <a:pt x="967" y="514"/>
                  </a:lnTo>
                  <a:lnTo>
                    <a:pt x="1014" y="506"/>
                  </a:lnTo>
                  <a:lnTo>
                    <a:pt x="1058" y="502"/>
                  </a:lnTo>
                  <a:lnTo>
                    <a:pt x="1100" y="497"/>
                  </a:lnTo>
                  <a:lnTo>
                    <a:pt x="1142" y="493"/>
                  </a:lnTo>
                  <a:lnTo>
                    <a:pt x="1182" y="489"/>
                  </a:lnTo>
                  <a:lnTo>
                    <a:pt x="1182" y="573"/>
                  </a:lnTo>
                  <a:lnTo>
                    <a:pt x="1154" y="579"/>
                  </a:lnTo>
                  <a:lnTo>
                    <a:pt x="1125" y="585"/>
                  </a:lnTo>
                  <a:lnTo>
                    <a:pt x="1098" y="591"/>
                  </a:lnTo>
                  <a:lnTo>
                    <a:pt x="1073" y="596"/>
                  </a:lnTo>
                  <a:lnTo>
                    <a:pt x="1048" y="600"/>
                  </a:lnTo>
                  <a:lnTo>
                    <a:pt x="1023" y="606"/>
                  </a:lnTo>
                  <a:lnTo>
                    <a:pt x="1000" y="610"/>
                  </a:lnTo>
                  <a:lnTo>
                    <a:pt x="977" y="616"/>
                  </a:lnTo>
                  <a:lnTo>
                    <a:pt x="954" y="619"/>
                  </a:lnTo>
                  <a:lnTo>
                    <a:pt x="933" y="623"/>
                  </a:lnTo>
                  <a:lnTo>
                    <a:pt x="912" y="627"/>
                  </a:lnTo>
                  <a:lnTo>
                    <a:pt x="893" y="633"/>
                  </a:lnTo>
                  <a:lnTo>
                    <a:pt x="873" y="637"/>
                  </a:lnTo>
                  <a:lnTo>
                    <a:pt x="856" y="641"/>
                  </a:lnTo>
                  <a:lnTo>
                    <a:pt x="839" y="644"/>
                  </a:lnTo>
                  <a:lnTo>
                    <a:pt x="822" y="648"/>
                  </a:lnTo>
                  <a:lnTo>
                    <a:pt x="804" y="654"/>
                  </a:lnTo>
                  <a:lnTo>
                    <a:pt x="787" y="660"/>
                  </a:lnTo>
                  <a:lnTo>
                    <a:pt x="770" y="665"/>
                  </a:lnTo>
                  <a:lnTo>
                    <a:pt x="751" y="673"/>
                  </a:lnTo>
                  <a:lnTo>
                    <a:pt x="731" y="679"/>
                  </a:lnTo>
                  <a:lnTo>
                    <a:pt x="710" y="685"/>
                  </a:lnTo>
                  <a:lnTo>
                    <a:pt x="691" y="690"/>
                  </a:lnTo>
                  <a:lnTo>
                    <a:pt x="668" y="696"/>
                  </a:lnTo>
                  <a:lnTo>
                    <a:pt x="647" y="702"/>
                  </a:lnTo>
                  <a:lnTo>
                    <a:pt x="624" y="708"/>
                  </a:lnTo>
                  <a:lnTo>
                    <a:pt x="603" y="713"/>
                  </a:lnTo>
                  <a:lnTo>
                    <a:pt x="578" y="719"/>
                  </a:lnTo>
                  <a:lnTo>
                    <a:pt x="555" y="727"/>
                  </a:lnTo>
                  <a:lnTo>
                    <a:pt x="530" y="733"/>
                  </a:lnTo>
                  <a:lnTo>
                    <a:pt x="480" y="744"/>
                  </a:lnTo>
                  <a:lnTo>
                    <a:pt x="453" y="750"/>
                  </a:lnTo>
                  <a:lnTo>
                    <a:pt x="428" y="756"/>
                  </a:lnTo>
                  <a:lnTo>
                    <a:pt x="403" y="763"/>
                  </a:lnTo>
                  <a:lnTo>
                    <a:pt x="380" y="769"/>
                  </a:lnTo>
                  <a:lnTo>
                    <a:pt x="359" y="775"/>
                  </a:lnTo>
                  <a:lnTo>
                    <a:pt x="340" y="781"/>
                  </a:lnTo>
                  <a:lnTo>
                    <a:pt x="321" y="786"/>
                  </a:lnTo>
                  <a:lnTo>
                    <a:pt x="303" y="792"/>
                  </a:lnTo>
                  <a:lnTo>
                    <a:pt x="286" y="798"/>
                  </a:lnTo>
                  <a:lnTo>
                    <a:pt x="271" y="804"/>
                  </a:lnTo>
                  <a:lnTo>
                    <a:pt x="257" y="809"/>
                  </a:lnTo>
                  <a:lnTo>
                    <a:pt x="246" y="815"/>
                  </a:lnTo>
                  <a:lnTo>
                    <a:pt x="234" y="823"/>
                  </a:lnTo>
                  <a:lnTo>
                    <a:pt x="223" y="829"/>
                  </a:lnTo>
                  <a:lnTo>
                    <a:pt x="215" y="834"/>
                  </a:lnTo>
                  <a:lnTo>
                    <a:pt x="208" y="840"/>
                  </a:lnTo>
                  <a:lnTo>
                    <a:pt x="192" y="848"/>
                  </a:lnTo>
                  <a:lnTo>
                    <a:pt x="179" y="854"/>
                  </a:lnTo>
                  <a:lnTo>
                    <a:pt x="167" y="859"/>
                  </a:lnTo>
                  <a:lnTo>
                    <a:pt x="156" y="865"/>
                  </a:lnTo>
                  <a:lnTo>
                    <a:pt x="144" y="867"/>
                  </a:lnTo>
                  <a:lnTo>
                    <a:pt x="135" y="871"/>
                  </a:lnTo>
                  <a:lnTo>
                    <a:pt x="127" y="871"/>
                  </a:lnTo>
                  <a:lnTo>
                    <a:pt x="119" y="873"/>
                  </a:lnTo>
                  <a:lnTo>
                    <a:pt x="114" y="873"/>
                  </a:lnTo>
                  <a:lnTo>
                    <a:pt x="108" y="871"/>
                  </a:lnTo>
                  <a:lnTo>
                    <a:pt x="104" y="869"/>
                  </a:lnTo>
                  <a:lnTo>
                    <a:pt x="98" y="867"/>
                  </a:lnTo>
                  <a:lnTo>
                    <a:pt x="94" y="865"/>
                  </a:lnTo>
                  <a:lnTo>
                    <a:pt x="89" y="863"/>
                  </a:lnTo>
                  <a:lnTo>
                    <a:pt x="85" y="859"/>
                  </a:lnTo>
                  <a:lnTo>
                    <a:pt x="79" y="855"/>
                  </a:lnTo>
                  <a:lnTo>
                    <a:pt x="75" y="850"/>
                  </a:lnTo>
                  <a:lnTo>
                    <a:pt x="71" y="844"/>
                  </a:lnTo>
                  <a:lnTo>
                    <a:pt x="66" y="838"/>
                  </a:lnTo>
                  <a:lnTo>
                    <a:pt x="62" y="832"/>
                  </a:lnTo>
                  <a:lnTo>
                    <a:pt x="56" y="825"/>
                  </a:lnTo>
                  <a:lnTo>
                    <a:pt x="52" y="815"/>
                  </a:lnTo>
                  <a:lnTo>
                    <a:pt x="46" y="807"/>
                  </a:lnTo>
                  <a:lnTo>
                    <a:pt x="41" y="798"/>
                  </a:lnTo>
                  <a:lnTo>
                    <a:pt x="31" y="783"/>
                  </a:lnTo>
                  <a:lnTo>
                    <a:pt x="21" y="767"/>
                  </a:lnTo>
                  <a:lnTo>
                    <a:pt x="14" y="754"/>
                  </a:lnTo>
                  <a:lnTo>
                    <a:pt x="6" y="742"/>
                  </a:lnTo>
                  <a:lnTo>
                    <a:pt x="4" y="736"/>
                  </a:lnTo>
                  <a:lnTo>
                    <a:pt x="2" y="731"/>
                  </a:lnTo>
                  <a:lnTo>
                    <a:pt x="0" y="725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0" y="710"/>
                  </a:lnTo>
                  <a:lnTo>
                    <a:pt x="0" y="706"/>
                  </a:lnTo>
                  <a:lnTo>
                    <a:pt x="2" y="702"/>
                  </a:lnTo>
                  <a:lnTo>
                    <a:pt x="2" y="698"/>
                  </a:lnTo>
                  <a:lnTo>
                    <a:pt x="2" y="694"/>
                  </a:lnTo>
                  <a:lnTo>
                    <a:pt x="4" y="690"/>
                  </a:lnTo>
                  <a:lnTo>
                    <a:pt x="8" y="687"/>
                  </a:lnTo>
                  <a:lnTo>
                    <a:pt x="10" y="683"/>
                  </a:lnTo>
                  <a:lnTo>
                    <a:pt x="14" y="679"/>
                  </a:lnTo>
                  <a:lnTo>
                    <a:pt x="18" y="675"/>
                  </a:lnTo>
                  <a:lnTo>
                    <a:pt x="23" y="671"/>
                  </a:lnTo>
                  <a:lnTo>
                    <a:pt x="27" y="667"/>
                  </a:lnTo>
                  <a:lnTo>
                    <a:pt x="33" y="664"/>
                  </a:lnTo>
                  <a:lnTo>
                    <a:pt x="41" y="662"/>
                  </a:lnTo>
                  <a:lnTo>
                    <a:pt x="46" y="658"/>
                  </a:lnTo>
                  <a:lnTo>
                    <a:pt x="54" y="656"/>
                  </a:lnTo>
                  <a:lnTo>
                    <a:pt x="62" y="652"/>
                  </a:lnTo>
                  <a:lnTo>
                    <a:pt x="71" y="650"/>
                  </a:lnTo>
                  <a:lnTo>
                    <a:pt x="81" y="648"/>
                  </a:lnTo>
                  <a:lnTo>
                    <a:pt x="89" y="646"/>
                  </a:lnTo>
                  <a:lnTo>
                    <a:pt x="98" y="642"/>
                  </a:lnTo>
                  <a:lnTo>
                    <a:pt x="108" y="639"/>
                  </a:lnTo>
                  <a:lnTo>
                    <a:pt x="117" y="635"/>
                  </a:lnTo>
                  <a:lnTo>
                    <a:pt x="127" y="629"/>
                  </a:lnTo>
                  <a:lnTo>
                    <a:pt x="137" y="623"/>
                  </a:lnTo>
                  <a:lnTo>
                    <a:pt x="146" y="617"/>
                  </a:lnTo>
                  <a:lnTo>
                    <a:pt x="156" y="610"/>
                  </a:lnTo>
                  <a:lnTo>
                    <a:pt x="165" y="602"/>
                  </a:lnTo>
                  <a:lnTo>
                    <a:pt x="177" y="594"/>
                  </a:lnTo>
                  <a:lnTo>
                    <a:pt x="186" y="585"/>
                  </a:lnTo>
                  <a:lnTo>
                    <a:pt x="198" y="575"/>
                  </a:lnTo>
                  <a:lnTo>
                    <a:pt x="209" y="566"/>
                  </a:lnTo>
                  <a:lnTo>
                    <a:pt x="221" y="554"/>
                  </a:lnTo>
                  <a:lnTo>
                    <a:pt x="232" y="543"/>
                  </a:lnTo>
                  <a:lnTo>
                    <a:pt x="246" y="53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26"/>
            <p:cNvSpPr/>
            <p:nvPr/>
          </p:nvSpPr>
          <p:spPr>
            <a:xfrm>
              <a:off x="3075120" y="3546360"/>
              <a:ext cx="380880" cy="563760"/>
            </a:xfrm>
            <a:custGeom>
              <a:avLst/>
              <a:gdLst/>
              <a:ahLst/>
              <a:rect l="l" t="t" r="r" b="b"/>
              <a:pathLst>
                <a:path w="480" h="710">
                  <a:moveTo>
                    <a:pt x="432" y="390"/>
                  </a:moveTo>
                  <a:lnTo>
                    <a:pt x="441" y="405"/>
                  </a:lnTo>
                  <a:lnTo>
                    <a:pt x="449" y="418"/>
                  </a:lnTo>
                  <a:lnTo>
                    <a:pt x="455" y="432"/>
                  </a:lnTo>
                  <a:lnTo>
                    <a:pt x="460" y="445"/>
                  </a:lnTo>
                  <a:lnTo>
                    <a:pt x="466" y="459"/>
                  </a:lnTo>
                  <a:lnTo>
                    <a:pt x="470" y="470"/>
                  </a:lnTo>
                  <a:lnTo>
                    <a:pt x="474" y="484"/>
                  </a:lnTo>
                  <a:lnTo>
                    <a:pt x="478" y="497"/>
                  </a:lnTo>
                  <a:lnTo>
                    <a:pt x="480" y="510"/>
                  </a:lnTo>
                  <a:lnTo>
                    <a:pt x="480" y="524"/>
                  </a:lnTo>
                  <a:lnTo>
                    <a:pt x="480" y="535"/>
                  </a:lnTo>
                  <a:lnTo>
                    <a:pt x="480" y="549"/>
                  </a:lnTo>
                  <a:lnTo>
                    <a:pt x="480" y="562"/>
                  </a:lnTo>
                  <a:lnTo>
                    <a:pt x="478" y="576"/>
                  </a:lnTo>
                  <a:lnTo>
                    <a:pt x="474" y="589"/>
                  </a:lnTo>
                  <a:lnTo>
                    <a:pt x="472" y="605"/>
                  </a:lnTo>
                  <a:lnTo>
                    <a:pt x="468" y="618"/>
                  </a:lnTo>
                  <a:lnTo>
                    <a:pt x="464" y="629"/>
                  </a:lnTo>
                  <a:lnTo>
                    <a:pt x="460" y="641"/>
                  </a:lnTo>
                  <a:lnTo>
                    <a:pt x="457" y="652"/>
                  </a:lnTo>
                  <a:lnTo>
                    <a:pt x="453" y="662"/>
                  </a:lnTo>
                  <a:lnTo>
                    <a:pt x="449" y="670"/>
                  </a:lnTo>
                  <a:lnTo>
                    <a:pt x="445" y="677"/>
                  </a:lnTo>
                  <a:lnTo>
                    <a:pt x="441" y="685"/>
                  </a:lnTo>
                  <a:lnTo>
                    <a:pt x="439" y="691"/>
                  </a:lnTo>
                  <a:lnTo>
                    <a:pt x="436" y="697"/>
                  </a:lnTo>
                  <a:lnTo>
                    <a:pt x="432" y="700"/>
                  </a:lnTo>
                  <a:lnTo>
                    <a:pt x="428" y="704"/>
                  </a:lnTo>
                  <a:lnTo>
                    <a:pt x="424" y="706"/>
                  </a:lnTo>
                  <a:lnTo>
                    <a:pt x="420" y="708"/>
                  </a:lnTo>
                  <a:lnTo>
                    <a:pt x="416" y="710"/>
                  </a:lnTo>
                  <a:lnTo>
                    <a:pt x="412" y="710"/>
                  </a:lnTo>
                  <a:lnTo>
                    <a:pt x="409" y="710"/>
                  </a:lnTo>
                  <a:lnTo>
                    <a:pt x="405" y="708"/>
                  </a:lnTo>
                  <a:lnTo>
                    <a:pt x="401" y="706"/>
                  </a:lnTo>
                  <a:lnTo>
                    <a:pt x="395" y="702"/>
                  </a:lnTo>
                  <a:lnTo>
                    <a:pt x="391" y="699"/>
                  </a:lnTo>
                  <a:lnTo>
                    <a:pt x="386" y="693"/>
                  </a:lnTo>
                  <a:lnTo>
                    <a:pt x="380" y="687"/>
                  </a:lnTo>
                  <a:lnTo>
                    <a:pt x="374" y="679"/>
                  </a:lnTo>
                  <a:lnTo>
                    <a:pt x="368" y="672"/>
                  </a:lnTo>
                  <a:lnTo>
                    <a:pt x="363" y="662"/>
                  </a:lnTo>
                  <a:lnTo>
                    <a:pt x="355" y="652"/>
                  </a:lnTo>
                  <a:lnTo>
                    <a:pt x="347" y="643"/>
                  </a:lnTo>
                  <a:lnTo>
                    <a:pt x="340" y="631"/>
                  </a:lnTo>
                  <a:lnTo>
                    <a:pt x="332" y="620"/>
                  </a:lnTo>
                  <a:lnTo>
                    <a:pt x="324" y="606"/>
                  </a:lnTo>
                  <a:lnTo>
                    <a:pt x="315" y="593"/>
                  </a:lnTo>
                  <a:lnTo>
                    <a:pt x="297" y="564"/>
                  </a:lnTo>
                  <a:lnTo>
                    <a:pt x="278" y="535"/>
                  </a:lnTo>
                  <a:lnTo>
                    <a:pt x="261" y="505"/>
                  </a:lnTo>
                  <a:lnTo>
                    <a:pt x="242" y="472"/>
                  </a:lnTo>
                  <a:lnTo>
                    <a:pt x="223" y="439"/>
                  </a:lnTo>
                  <a:lnTo>
                    <a:pt x="205" y="407"/>
                  </a:lnTo>
                  <a:lnTo>
                    <a:pt x="186" y="372"/>
                  </a:lnTo>
                  <a:lnTo>
                    <a:pt x="169" y="338"/>
                  </a:lnTo>
                  <a:lnTo>
                    <a:pt x="157" y="319"/>
                  </a:lnTo>
                  <a:lnTo>
                    <a:pt x="148" y="301"/>
                  </a:lnTo>
                  <a:lnTo>
                    <a:pt x="136" y="284"/>
                  </a:lnTo>
                  <a:lnTo>
                    <a:pt x="127" y="269"/>
                  </a:lnTo>
                  <a:lnTo>
                    <a:pt x="117" y="253"/>
                  </a:lnTo>
                  <a:lnTo>
                    <a:pt x="107" y="238"/>
                  </a:lnTo>
                  <a:lnTo>
                    <a:pt x="98" y="223"/>
                  </a:lnTo>
                  <a:lnTo>
                    <a:pt x="90" y="209"/>
                  </a:lnTo>
                  <a:lnTo>
                    <a:pt x="80" y="196"/>
                  </a:lnTo>
                  <a:lnTo>
                    <a:pt x="73" y="182"/>
                  </a:lnTo>
                  <a:lnTo>
                    <a:pt x="65" y="169"/>
                  </a:lnTo>
                  <a:lnTo>
                    <a:pt x="57" y="157"/>
                  </a:lnTo>
                  <a:lnTo>
                    <a:pt x="50" y="146"/>
                  </a:lnTo>
                  <a:lnTo>
                    <a:pt x="44" y="134"/>
                  </a:lnTo>
                  <a:lnTo>
                    <a:pt x="38" y="123"/>
                  </a:lnTo>
                  <a:lnTo>
                    <a:pt x="33" y="113"/>
                  </a:lnTo>
                  <a:lnTo>
                    <a:pt x="23" y="94"/>
                  </a:lnTo>
                  <a:lnTo>
                    <a:pt x="13" y="75"/>
                  </a:lnTo>
                  <a:lnTo>
                    <a:pt x="8" y="60"/>
                  </a:lnTo>
                  <a:lnTo>
                    <a:pt x="6" y="52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50" y="6"/>
                  </a:lnTo>
                  <a:lnTo>
                    <a:pt x="57" y="10"/>
                  </a:lnTo>
                  <a:lnTo>
                    <a:pt x="65" y="13"/>
                  </a:lnTo>
                  <a:lnTo>
                    <a:pt x="73" y="17"/>
                  </a:lnTo>
                  <a:lnTo>
                    <a:pt x="82" y="23"/>
                  </a:lnTo>
                  <a:lnTo>
                    <a:pt x="90" y="29"/>
                  </a:lnTo>
                  <a:lnTo>
                    <a:pt x="109" y="40"/>
                  </a:lnTo>
                  <a:lnTo>
                    <a:pt x="128" y="54"/>
                  </a:lnTo>
                  <a:lnTo>
                    <a:pt x="150" y="69"/>
                  </a:lnTo>
                  <a:lnTo>
                    <a:pt x="171" y="84"/>
                  </a:lnTo>
                  <a:lnTo>
                    <a:pt x="194" y="102"/>
                  </a:lnTo>
                  <a:lnTo>
                    <a:pt x="217" y="123"/>
                  </a:lnTo>
                  <a:lnTo>
                    <a:pt x="228" y="132"/>
                  </a:lnTo>
                  <a:lnTo>
                    <a:pt x="242" y="144"/>
                  </a:lnTo>
                  <a:lnTo>
                    <a:pt x="253" y="154"/>
                  </a:lnTo>
                  <a:lnTo>
                    <a:pt x="267" y="167"/>
                  </a:lnTo>
                  <a:lnTo>
                    <a:pt x="292" y="194"/>
                  </a:lnTo>
                  <a:lnTo>
                    <a:pt x="315" y="223"/>
                  </a:lnTo>
                  <a:lnTo>
                    <a:pt x="336" y="251"/>
                  </a:lnTo>
                  <a:lnTo>
                    <a:pt x="357" y="278"/>
                  </a:lnTo>
                  <a:lnTo>
                    <a:pt x="376" y="307"/>
                  </a:lnTo>
                  <a:lnTo>
                    <a:pt x="395" y="334"/>
                  </a:lnTo>
                  <a:lnTo>
                    <a:pt x="414" y="363"/>
                  </a:lnTo>
                  <a:lnTo>
                    <a:pt x="432" y="39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27"/>
            <p:cNvSpPr/>
            <p:nvPr/>
          </p:nvSpPr>
          <p:spPr>
            <a:xfrm>
              <a:off x="1986120" y="3170160"/>
              <a:ext cx="1814400" cy="338040"/>
            </a:xfrm>
            <a:custGeom>
              <a:avLst/>
              <a:gdLst/>
              <a:ahLst/>
              <a:rect l="l" t="t" r="r" b="b"/>
              <a:pathLst>
                <a:path w="2285" h="428">
                  <a:moveTo>
                    <a:pt x="1560" y="75"/>
                  </a:moveTo>
                  <a:lnTo>
                    <a:pt x="1587" y="71"/>
                  </a:lnTo>
                  <a:lnTo>
                    <a:pt x="1612" y="65"/>
                  </a:lnTo>
                  <a:lnTo>
                    <a:pt x="1637" y="61"/>
                  </a:lnTo>
                  <a:lnTo>
                    <a:pt x="1660" y="56"/>
                  </a:lnTo>
                  <a:lnTo>
                    <a:pt x="1683" y="52"/>
                  </a:lnTo>
                  <a:lnTo>
                    <a:pt x="1706" y="48"/>
                  </a:lnTo>
                  <a:lnTo>
                    <a:pt x="1727" y="44"/>
                  </a:lnTo>
                  <a:lnTo>
                    <a:pt x="1746" y="40"/>
                  </a:lnTo>
                  <a:lnTo>
                    <a:pt x="1767" y="36"/>
                  </a:lnTo>
                  <a:lnTo>
                    <a:pt x="1786" y="35"/>
                  </a:lnTo>
                  <a:lnTo>
                    <a:pt x="1804" y="31"/>
                  </a:lnTo>
                  <a:lnTo>
                    <a:pt x="1821" y="29"/>
                  </a:lnTo>
                  <a:lnTo>
                    <a:pt x="1838" y="25"/>
                  </a:lnTo>
                  <a:lnTo>
                    <a:pt x="1854" y="23"/>
                  </a:lnTo>
                  <a:lnTo>
                    <a:pt x="1869" y="19"/>
                  </a:lnTo>
                  <a:lnTo>
                    <a:pt x="1884" y="17"/>
                  </a:lnTo>
                  <a:lnTo>
                    <a:pt x="1898" y="15"/>
                  </a:lnTo>
                  <a:lnTo>
                    <a:pt x="1909" y="13"/>
                  </a:lnTo>
                  <a:lnTo>
                    <a:pt x="1923" y="12"/>
                  </a:lnTo>
                  <a:lnTo>
                    <a:pt x="1932" y="10"/>
                  </a:lnTo>
                  <a:lnTo>
                    <a:pt x="1944" y="8"/>
                  </a:lnTo>
                  <a:lnTo>
                    <a:pt x="1953" y="8"/>
                  </a:lnTo>
                  <a:lnTo>
                    <a:pt x="1963" y="6"/>
                  </a:lnTo>
                  <a:lnTo>
                    <a:pt x="1971" y="4"/>
                  </a:lnTo>
                  <a:lnTo>
                    <a:pt x="1978" y="4"/>
                  </a:lnTo>
                  <a:lnTo>
                    <a:pt x="1984" y="4"/>
                  </a:lnTo>
                  <a:lnTo>
                    <a:pt x="1990" y="2"/>
                  </a:lnTo>
                  <a:lnTo>
                    <a:pt x="1996" y="2"/>
                  </a:lnTo>
                  <a:lnTo>
                    <a:pt x="1999" y="2"/>
                  </a:lnTo>
                  <a:lnTo>
                    <a:pt x="2003" y="2"/>
                  </a:lnTo>
                  <a:lnTo>
                    <a:pt x="2007" y="0"/>
                  </a:lnTo>
                  <a:lnTo>
                    <a:pt x="2009" y="0"/>
                  </a:lnTo>
                  <a:lnTo>
                    <a:pt x="2011" y="0"/>
                  </a:lnTo>
                  <a:lnTo>
                    <a:pt x="2015" y="2"/>
                  </a:lnTo>
                  <a:lnTo>
                    <a:pt x="2019" y="2"/>
                  </a:lnTo>
                  <a:lnTo>
                    <a:pt x="2022" y="2"/>
                  </a:lnTo>
                  <a:lnTo>
                    <a:pt x="2026" y="4"/>
                  </a:lnTo>
                  <a:lnTo>
                    <a:pt x="2032" y="6"/>
                  </a:lnTo>
                  <a:lnTo>
                    <a:pt x="2038" y="6"/>
                  </a:lnTo>
                  <a:lnTo>
                    <a:pt x="2045" y="8"/>
                  </a:lnTo>
                  <a:lnTo>
                    <a:pt x="2053" y="12"/>
                  </a:lnTo>
                  <a:lnTo>
                    <a:pt x="2061" y="13"/>
                  </a:lnTo>
                  <a:lnTo>
                    <a:pt x="2070" y="15"/>
                  </a:lnTo>
                  <a:lnTo>
                    <a:pt x="2080" y="19"/>
                  </a:lnTo>
                  <a:lnTo>
                    <a:pt x="2092" y="21"/>
                  </a:lnTo>
                  <a:lnTo>
                    <a:pt x="2101" y="25"/>
                  </a:lnTo>
                  <a:lnTo>
                    <a:pt x="2115" y="29"/>
                  </a:lnTo>
                  <a:lnTo>
                    <a:pt x="2126" y="33"/>
                  </a:lnTo>
                  <a:lnTo>
                    <a:pt x="2147" y="44"/>
                  </a:lnTo>
                  <a:lnTo>
                    <a:pt x="2166" y="56"/>
                  </a:lnTo>
                  <a:lnTo>
                    <a:pt x="2184" y="65"/>
                  </a:lnTo>
                  <a:lnTo>
                    <a:pt x="2201" y="75"/>
                  </a:lnTo>
                  <a:lnTo>
                    <a:pt x="2216" y="84"/>
                  </a:lnTo>
                  <a:lnTo>
                    <a:pt x="2230" y="96"/>
                  </a:lnTo>
                  <a:lnTo>
                    <a:pt x="2241" y="106"/>
                  </a:lnTo>
                  <a:lnTo>
                    <a:pt x="2253" y="117"/>
                  </a:lnTo>
                  <a:lnTo>
                    <a:pt x="2262" y="129"/>
                  </a:lnTo>
                  <a:lnTo>
                    <a:pt x="2272" y="140"/>
                  </a:lnTo>
                  <a:lnTo>
                    <a:pt x="2278" y="150"/>
                  </a:lnTo>
                  <a:lnTo>
                    <a:pt x="2282" y="157"/>
                  </a:lnTo>
                  <a:lnTo>
                    <a:pt x="2285" y="165"/>
                  </a:lnTo>
                  <a:lnTo>
                    <a:pt x="2285" y="173"/>
                  </a:lnTo>
                  <a:lnTo>
                    <a:pt x="2285" y="177"/>
                  </a:lnTo>
                  <a:lnTo>
                    <a:pt x="2282" y="182"/>
                  </a:lnTo>
                  <a:lnTo>
                    <a:pt x="2280" y="184"/>
                  </a:lnTo>
                  <a:lnTo>
                    <a:pt x="2276" y="186"/>
                  </a:lnTo>
                  <a:lnTo>
                    <a:pt x="2268" y="186"/>
                  </a:lnTo>
                  <a:lnTo>
                    <a:pt x="2260" y="188"/>
                  </a:lnTo>
                  <a:lnTo>
                    <a:pt x="2251" y="188"/>
                  </a:lnTo>
                  <a:lnTo>
                    <a:pt x="2239" y="190"/>
                  </a:lnTo>
                  <a:lnTo>
                    <a:pt x="2224" y="190"/>
                  </a:lnTo>
                  <a:lnTo>
                    <a:pt x="2209" y="190"/>
                  </a:lnTo>
                  <a:lnTo>
                    <a:pt x="2191" y="190"/>
                  </a:lnTo>
                  <a:lnTo>
                    <a:pt x="2172" y="190"/>
                  </a:lnTo>
                  <a:lnTo>
                    <a:pt x="2151" y="188"/>
                  </a:lnTo>
                  <a:lnTo>
                    <a:pt x="2128" y="188"/>
                  </a:lnTo>
                  <a:lnTo>
                    <a:pt x="2103" y="186"/>
                  </a:lnTo>
                  <a:lnTo>
                    <a:pt x="2078" y="186"/>
                  </a:lnTo>
                  <a:lnTo>
                    <a:pt x="2049" y="184"/>
                  </a:lnTo>
                  <a:lnTo>
                    <a:pt x="2019" y="182"/>
                  </a:lnTo>
                  <a:lnTo>
                    <a:pt x="1988" y="180"/>
                  </a:lnTo>
                  <a:lnTo>
                    <a:pt x="1957" y="178"/>
                  </a:lnTo>
                  <a:lnTo>
                    <a:pt x="1896" y="177"/>
                  </a:lnTo>
                  <a:lnTo>
                    <a:pt x="1836" y="178"/>
                  </a:lnTo>
                  <a:lnTo>
                    <a:pt x="1779" y="178"/>
                  </a:lnTo>
                  <a:lnTo>
                    <a:pt x="1721" y="182"/>
                  </a:lnTo>
                  <a:lnTo>
                    <a:pt x="1666" y="184"/>
                  </a:lnTo>
                  <a:lnTo>
                    <a:pt x="1612" y="188"/>
                  </a:lnTo>
                  <a:lnTo>
                    <a:pt x="1560" y="192"/>
                  </a:lnTo>
                  <a:lnTo>
                    <a:pt x="1533" y="196"/>
                  </a:lnTo>
                  <a:lnTo>
                    <a:pt x="1504" y="202"/>
                  </a:lnTo>
                  <a:lnTo>
                    <a:pt x="1476" y="205"/>
                  </a:lnTo>
                  <a:lnTo>
                    <a:pt x="1445" y="209"/>
                  </a:lnTo>
                  <a:lnTo>
                    <a:pt x="1414" y="213"/>
                  </a:lnTo>
                  <a:lnTo>
                    <a:pt x="1383" y="217"/>
                  </a:lnTo>
                  <a:lnTo>
                    <a:pt x="1351" y="221"/>
                  </a:lnTo>
                  <a:lnTo>
                    <a:pt x="1318" y="226"/>
                  </a:lnTo>
                  <a:lnTo>
                    <a:pt x="1286" y="230"/>
                  </a:lnTo>
                  <a:lnTo>
                    <a:pt x="1251" y="234"/>
                  </a:lnTo>
                  <a:lnTo>
                    <a:pt x="1216" y="240"/>
                  </a:lnTo>
                  <a:lnTo>
                    <a:pt x="1182" y="246"/>
                  </a:lnTo>
                  <a:lnTo>
                    <a:pt x="1145" y="249"/>
                  </a:lnTo>
                  <a:lnTo>
                    <a:pt x="1109" y="255"/>
                  </a:lnTo>
                  <a:lnTo>
                    <a:pt x="1071" y="261"/>
                  </a:lnTo>
                  <a:lnTo>
                    <a:pt x="1034" y="267"/>
                  </a:lnTo>
                  <a:lnTo>
                    <a:pt x="994" y="274"/>
                  </a:lnTo>
                  <a:lnTo>
                    <a:pt x="954" y="280"/>
                  </a:lnTo>
                  <a:lnTo>
                    <a:pt x="915" y="286"/>
                  </a:lnTo>
                  <a:lnTo>
                    <a:pt x="879" y="294"/>
                  </a:lnTo>
                  <a:lnTo>
                    <a:pt x="840" y="299"/>
                  </a:lnTo>
                  <a:lnTo>
                    <a:pt x="804" y="307"/>
                  </a:lnTo>
                  <a:lnTo>
                    <a:pt x="769" y="313"/>
                  </a:lnTo>
                  <a:lnTo>
                    <a:pt x="733" y="320"/>
                  </a:lnTo>
                  <a:lnTo>
                    <a:pt x="698" y="328"/>
                  </a:lnTo>
                  <a:lnTo>
                    <a:pt x="666" y="334"/>
                  </a:lnTo>
                  <a:lnTo>
                    <a:pt x="631" y="342"/>
                  </a:lnTo>
                  <a:lnTo>
                    <a:pt x="600" y="347"/>
                  </a:lnTo>
                  <a:lnTo>
                    <a:pt x="568" y="355"/>
                  </a:lnTo>
                  <a:lnTo>
                    <a:pt x="537" y="361"/>
                  </a:lnTo>
                  <a:lnTo>
                    <a:pt x="506" y="368"/>
                  </a:lnTo>
                  <a:lnTo>
                    <a:pt x="478" y="374"/>
                  </a:lnTo>
                  <a:lnTo>
                    <a:pt x="462" y="376"/>
                  </a:lnTo>
                  <a:lnTo>
                    <a:pt x="447" y="380"/>
                  </a:lnTo>
                  <a:lnTo>
                    <a:pt x="433" y="382"/>
                  </a:lnTo>
                  <a:lnTo>
                    <a:pt x="418" y="386"/>
                  </a:lnTo>
                  <a:lnTo>
                    <a:pt x="407" y="388"/>
                  </a:lnTo>
                  <a:lnTo>
                    <a:pt x="393" y="392"/>
                  </a:lnTo>
                  <a:lnTo>
                    <a:pt x="382" y="393"/>
                  </a:lnTo>
                  <a:lnTo>
                    <a:pt x="368" y="395"/>
                  </a:lnTo>
                  <a:lnTo>
                    <a:pt x="357" y="399"/>
                  </a:lnTo>
                  <a:lnTo>
                    <a:pt x="347" y="401"/>
                  </a:lnTo>
                  <a:lnTo>
                    <a:pt x="326" y="405"/>
                  </a:lnTo>
                  <a:lnTo>
                    <a:pt x="309" y="409"/>
                  </a:lnTo>
                  <a:lnTo>
                    <a:pt x="291" y="413"/>
                  </a:lnTo>
                  <a:lnTo>
                    <a:pt x="278" y="416"/>
                  </a:lnTo>
                  <a:lnTo>
                    <a:pt x="265" y="418"/>
                  </a:lnTo>
                  <a:lnTo>
                    <a:pt x="253" y="422"/>
                  </a:lnTo>
                  <a:lnTo>
                    <a:pt x="243" y="424"/>
                  </a:lnTo>
                  <a:lnTo>
                    <a:pt x="236" y="424"/>
                  </a:lnTo>
                  <a:lnTo>
                    <a:pt x="230" y="426"/>
                  </a:lnTo>
                  <a:lnTo>
                    <a:pt x="226" y="426"/>
                  </a:lnTo>
                  <a:lnTo>
                    <a:pt x="224" y="428"/>
                  </a:lnTo>
                  <a:lnTo>
                    <a:pt x="220" y="426"/>
                  </a:lnTo>
                  <a:lnTo>
                    <a:pt x="219" y="426"/>
                  </a:lnTo>
                  <a:lnTo>
                    <a:pt x="215" y="426"/>
                  </a:lnTo>
                  <a:lnTo>
                    <a:pt x="211" y="424"/>
                  </a:lnTo>
                  <a:lnTo>
                    <a:pt x="205" y="424"/>
                  </a:lnTo>
                  <a:lnTo>
                    <a:pt x="199" y="422"/>
                  </a:lnTo>
                  <a:lnTo>
                    <a:pt x="194" y="420"/>
                  </a:lnTo>
                  <a:lnTo>
                    <a:pt x="186" y="418"/>
                  </a:lnTo>
                  <a:lnTo>
                    <a:pt x="178" y="415"/>
                  </a:lnTo>
                  <a:lnTo>
                    <a:pt x="171" y="413"/>
                  </a:lnTo>
                  <a:lnTo>
                    <a:pt x="161" y="409"/>
                  </a:lnTo>
                  <a:lnTo>
                    <a:pt x="151" y="405"/>
                  </a:lnTo>
                  <a:lnTo>
                    <a:pt x="142" y="401"/>
                  </a:lnTo>
                  <a:lnTo>
                    <a:pt x="130" y="395"/>
                  </a:lnTo>
                  <a:lnTo>
                    <a:pt x="119" y="390"/>
                  </a:lnTo>
                  <a:lnTo>
                    <a:pt x="107" y="384"/>
                  </a:lnTo>
                  <a:lnTo>
                    <a:pt x="94" y="378"/>
                  </a:lnTo>
                  <a:lnTo>
                    <a:pt x="82" y="372"/>
                  </a:lnTo>
                  <a:lnTo>
                    <a:pt x="71" y="367"/>
                  </a:lnTo>
                  <a:lnTo>
                    <a:pt x="61" y="363"/>
                  </a:lnTo>
                  <a:lnTo>
                    <a:pt x="52" y="357"/>
                  </a:lnTo>
                  <a:lnTo>
                    <a:pt x="42" y="353"/>
                  </a:lnTo>
                  <a:lnTo>
                    <a:pt x="34" y="349"/>
                  </a:lnTo>
                  <a:lnTo>
                    <a:pt x="27" y="344"/>
                  </a:lnTo>
                  <a:lnTo>
                    <a:pt x="21" y="340"/>
                  </a:lnTo>
                  <a:lnTo>
                    <a:pt x="15" y="338"/>
                  </a:lnTo>
                  <a:lnTo>
                    <a:pt x="9" y="334"/>
                  </a:lnTo>
                  <a:lnTo>
                    <a:pt x="6" y="330"/>
                  </a:lnTo>
                  <a:lnTo>
                    <a:pt x="4" y="328"/>
                  </a:lnTo>
                  <a:lnTo>
                    <a:pt x="0" y="324"/>
                  </a:lnTo>
                  <a:lnTo>
                    <a:pt x="0" y="322"/>
                  </a:lnTo>
                  <a:lnTo>
                    <a:pt x="0" y="320"/>
                  </a:lnTo>
                  <a:lnTo>
                    <a:pt x="0" y="319"/>
                  </a:lnTo>
                  <a:lnTo>
                    <a:pt x="2" y="317"/>
                  </a:lnTo>
                  <a:lnTo>
                    <a:pt x="4" y="315"/>
                  </a:lnTo>
                  <a:lnTo>
                    <a:pt x="7" y="315"/>
                  </a:lnTo>
                  <a:lnTo>
                    <a:pt x="13" y="313"/>
                  </a:lnTo>
                  <a:lnTo>
                    <a:pt x="19" y="313"/>
                  </a:lnTo>
                  <a:lnTo>
                    <a:pt x="27" y="311"/>
                  </a:lnTo>
                  <a:lnTo>
                    <a:pt x="36" y="311"/>
                  </a:lnTo>
                  <a:lnTo>
                    <a:pt x="46" y="309"/>
                  </a:lnTo>
                  <a:lnTo>
                    <a:pt x="55" y="307"/>
                  </a:lnTo>
                  <a:lnTo>
                    <a:pt x="69" y="307"/>
                  </a:lnTo>
                  <a:lnTo>
                    <a:pt x="80" y="305"/>
                  </a:lnTo>
                  <a:lnTo>
                    <a:pt x="96" y="305"/>
                  </a:lnTo>
                  <a:lnTo>
                    <a:pt x="111" y="303"/>
                  </a:lnTo>
                  <a:lnTo>
                    <a:pt x="128" y="301"/>
                  </a:lnTo>
                  <a:lnTo>
                    <a:pt x="146" y="299"/>
                  </a:lnTo>
                  <a:lnTo>
                    <a:pt x="153" y="297"/>
                  </a:lnTo>
                  <a:lnTo>
                    <a:pt x="163" y="297"/>
                  </a:lnTo>
                  <a:lnTo>
                    <a:pt x="172" y="296"/>
                  </a:lnTo>
                  <a:lnTo>
                    <a:pt x="184" y="296"/>
                  </a:lnTo>
                  <a:lnTo>
                    <a:pt x="194" y="294"/>
                  </a:lnTo>
                  <a:lnTo>
                    <a:pt x="205" y="292"/>
                  </a:lnTo>
                  <a:lnTo>
                    <a:pt x="219" y="290"/>
                  </a:lnTo>
                  <a:lnTo>
                    <a:pt x="230" y="290"/>
                  </a:lnTo>
                  <a:lnTo>
                    <a:pt x="245" y="288"/>
                  </a:lnTo>
                  <a:lnTo>
                    <a:pt x="259" y="286"/>
                  </a:lnTo>
                  <a:lnTo>
                    <a:pt x="272" y="284"/>
                  </a:lnTo>
                  <a:lnTo>
                    <a:pt x="288" y="282"/>
                  </a:lnTo>
                  <a:lnTo>
                    <a:pt x="305" y="280"/>
                  </a:lnTo>
                  <a:lnTo>
                    <a:pt x="320" y="278"/>
                  </a:lnTo>
                  <a:lnTo>
                    <a:pt x="338" y="274"/>
                  </a:lnTo>
                  <a:lnTo>
                    <a:pt x="355" y="273"/>
                  </a:lnTo>
                  <a:lnTo>
                    <a:pt x="374" y="271"/>
                  </a:lnTo>
                  <a:lnTo>
                    <a:pt x="391" y="267"/>
                  </a:lnTo>
                  <a:lnTo>
                    <a:pt x="410" y="265"/>
                  </a:lnTo>
                  <a:lnTo>
                    <a:pt x="432" y="261"/>
                  </a:lnTo>
                  <a:lnTo>
                    <a:pt x="451" y="259"/>
                  </a:lnTo>
                  <a:lnTo>
                    <a:pt x="472" y="255"/>
                  </a:lnTo>
                  <a:lnTo>
                    <a:pt x="493" y="251"/>
                  </a:lnTo>
                  <a:lnTo>
                    <a:pt x="516" y="249"/>
                  </a:lnTo>
                  <a:lnTo>
                    <a:pt x="539" y="246"/>
                  </a:lnTo>
                  <a:lnTo>
                    <a:pt x="562" y="242"/>
                  </a:lnTo>
                  <a:lnTo>
                    <a:pt x="585" y="238"/>
                  </a:lnTo>
                  <a:lnTo>
                    <a:pt x="610" y="232"/>
                  </a:lnTo>
                  <a:lnTo>
                    <a:pt x="635" y="228"/>
                  </a:lnTo>
                  <a:lnTo>
                    <a:pt x="660" y="225"/>
                  </a:lnTo>
                  <a:lnTo>
                    <a:pt x="685" y="219"/>
                  </a:lnTo>
                  <a:lnTo>
                    <a:pt x="712" y="215"/>
                  </a:lnTo>
                  <a:lnTo>
                    <a:pt x="817" y="194"/>
                  </a:lnTo>
                  <a:lnTo>
                    <a:pt x="923" y="175"/>
                  </a:lnTo>
                  <a:lnTo>
                    <a:pt x="1030" y="157"/>
                  </a:lnTo>
                  <a:lnTo>
                    <a:pt x="1136" y="140"/>
                  </a:lnTo>
                  <a:lnTo>
                    <a:pt x="1241" y="125"/>
                  </a:lnTo>
                  <a:lnTo>
                    <a:pt x="1349" y="107"/>
                  </a:lnTo>
                  <a:lnTo>
                    <a:pt x="1560" y="7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28"/>
            <p:cNvSpPr/>
            <p:nvPr/>
          </p:nvSpPr>
          <p:spPr>
            <a:xfrm>
              <a:off x="2503440" y="2803680"/>
              <a:ext cx="831960" cy="249120"/>
            </a:xfrm>
            <a:custGeom>
              <a:avLst/>
              <a:gdLst/>
              <a:ahLst/>
              <a:rect l="l" t="t" r="r" b="b"/>
              <a:pathLst>
                <a:path w="1048" h="313">
                  <a:moveTo>
                    <a:pt x="948" y="2"/>
                  </a:moveTo>
                  <a:lnTo>
                    <a:pt x="962" y="4"/>
                  </a:lnTo>
                  <a:lnTo>
                    <a:pt x="975" y="6"/>
                  </a:lnTo>
                  <a:lnTo>
                    <a:pt x="987" y="8"/>
                  </a:lnTo>
                  <a:lnTo>
                    <a:pt x="998" y="12"/>
                  </a:lnTo>
                  <a:lnTo>
                    <a:pt x="1010" y="18"/>
                  </a:lnTo>
                  <a:lnTo>
                    <a:pt x="1019" y="25"/>
                  </a:lnTo>
                  <a:lnTo>
                    <a:pt x="1027" y="35"/>
                  </a:lnTo>
                  <a:lnTo>
                    <a:pt x="1031" y="41"/>
                  </a:lnTo>
                  <a:lnTo>
                    <a:pt x="1035" y="47"/>
                  </a:lnTo>
                  <a:lnTo>
                    <a:pt x="1042" y="58"/>
                  </a:lnTo>
                  <a:lnTo>
                    <a:pt x="1044" y="62"/>
                  </a:lnTo>
                  <a:lnTo>
                    <a:pt x="1046" y="68"/>
                  </a:lnTo>
                  <a:lnTo>
                    <a:pt x="1048" y="73"/>
                  </a:lnTo>
                  <a:lnTo>
                    <a:pt x="1048" y="77"/>
                  </a:lnTo>
                  <a:lnTo>
                    <a:pt x="1048" y="81"/>
                  </a:lnTo>
                  <a:lnTo>
                    <a:pt x="1048" y="87"/>
                  </a:lnTo>
                  <a:lnTo>
                    <a:pt x="1048" y="91"/>
                  </a:lnTo>
                  <a:lnTo>
                    <a:pt x="1046" y="93"/>
                  </a:lnTo>
                  <a:lnTo>
                    <a:pt x="1044" y="96"/>
                  </a:lnTo>
                  <a:lnTo>
                    <a:pt x="1042" y="100"/>
                  </a:lnTo>
                  <a:lnTo>
                    <a:pt x="1038" y="102"/>
                  </a:lnTo>
                  <a:lnTo>
                    <a:pt x="1035" y="106"/>
                  </a:lnTo>
                  <a:lnTo>
                    <a:pt x="1031" y="108"/>
                  </a:lnTo>
                  <a:lnTo>
                    <a:pt x="1025" y="110"/>
                  </a:lnTo>
                  <a:lnTo>
                    <a:pt x="1019" y="114"/>
                  </a:lnTo>
                  <a:lnTo>
                    <a:pt x="1012" y="118"/>
                  </a:lnTo>
                  <a:lnTo>
                    <a:pt x="1002" y="121"/>
                  </a:lnTo>
                  <a:lnTo>
                    <a:pt x="992" y="125"/>
                  </a:lnTo>
                  <a:lnTo>
                    <a:pt x="981" y="131"/>
                  </a:lnTo>
                  <a:lnTo>
                    <a:pt x="967" y="135"/>
                  </a:lnTo>
                  <a:lnTo>
                    <a:pt x="952" y="139"/>
                  </a:lnTo>
                  <a:lnTo>
                    <a:pt x="935" y="142"/>
                  </a:lnTo>
                  <a:lnTo>
                    <a:pt x="918" y="148"/>
                  </a:lnTo>
                  <a:lnTo>
                    <a:pt x="896" y="152"/>
                  </a:lnTo>
                  <a:lnTo>
                    <a:pt x="875" y="158"/>
                  </a:lnTo>
                  <a:lnTo>
                    <a:pt x="852" y="162"/>
                  </a:lnTo>
                  <a:lnTo>
                    <a:pt x="827" y="167"/>
                  </a:lnTo>
                  <a:lnTo>
                    <a:pt x="800" y="173"/>
                  </a:lnTo>
                  <a:lnTo>
                    <a:pt x="772" y="179"/>
                  </a:lnTo>
                  <a:lnTo>
                    <a:pt x="743" y="185"/>
                  </a:lnTo>
                  <a:lnTo>
                    <a:pt x="712" y="190"/>
                  </a:lnTo>
                  <a:lnTo>
                    <a:pt x="682" y="196"/>
                  </a:lnTo>
                  <a:lnTo>
                    <a:pt x="653" y="202"/>
                  </a:lnTo>
                  <a:lnTo>
                    <a:pt x="624" y="208"/>
                  </a:lnTo>
                  <a:lnTo>
                    <a:pt x="595" y="212"/>
                  </a:lnTo>
                  <a:lnTo>
                    <a:pt x="568" y="217"/>
                  </a:lnTo>
                  <a:lnTo>
                    <a:pt x="541" y="223"/>
                  </a:lnTo>
                  <a:lnTo>
                    <a:pt x="515" y="227"/>
                  </a:lnTo>
                  <a:lnTo>
                    <a:pt x="490" y="233"/>
                  </a:lnTo>
                  <a:lnTo>
                    <a:pt x="465" y="237"/>
                  </a:lnTo>
                  <a:lnTo>
                    <a:pt x="442" y="242"/>
                  </a:lnTo>
                  <a:lnTo>
                    <a:pt x="419" y="248"/>
                  </a:lnTo>
                  <a:lnTo>
                    <a:pt x="396" y="252"/>
                  </a:lnTo>
                  <a:lnTo>
                    <a:pt x="374" y="258"/>
                  </a:lnTo>
                  <a:lnTo>
                    <a:pt x="353" y="263"/>
                  </a:lnTo>
                  <a:lnTo>
                    <a:pt x="332" y="269"/>
                  </a:lnTo>
                  <a:lnTo>
                    <a:pt x="311" y="275"/>
                  </a:lnTo>
                  <a:lnTo>
                    <a:pt x="290" y="281"/>
                  </a:lnTo>
                  <a:lnTo>
                    <a:pt x="271" y="286"/>
                  </a:lnTo>
                  <a:lnTo>
                    <a:pt x="254" y="290"/>
                  </a:lnTo>
                  <a:lnTo>
                    <a:pt x="236" y="294"/>
                  </a:lnTo>
                  <a:lnTo>
                    <a:pt x="221" y="298"/>
                  </a:lnTo>
                  <a:lnTo>
                    <a:pt x="206" y="300"/>
                  </a:lnTo>
                  <a:lnTo>
                    <a:pt x="192" y="304"/>
                  </a:lnTo>
                  <a:lnTo>
                    <a:pt x="179" y="306"/>
                  </a:lnTo>
                  <a:lnTo>
                    <a:pt x="167" y="308"/>
                  </a:lnTo>
                  <a:lnTo>
                    <a:pt x="158" y="309"/>
                  </a:lnTo>
                  <a:lnTo>
                    <a:pt x="148" y="309"/>
                  </a:lnTo>
                  <a:lnTo>
                    <a:pt x="138" y="311"/>
                  </a:lnTo>
                  <a:lnTo>
                    <a:pt x="131" y="311"/>
                  </a:lnTo>
                  <a:lnTo>
                    <a:pt x="123" y="311"/>
                  </a:lnTo>
                  <a:lnTo>
                    <a:pt x="117" y="313"/>
                  </a:lnTo>
                  <a:lnTo>
                    <a:pt x="108" y="311"/>
                  </a:lnTo>
                  <a:lnTo>
                    <a:pt x="98" y="311"/>
                  </a:lnTo>
                  <a:lnTo>
                    <a:pt x="89" y="308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60" y="294"/>
                  </a:lnTo>
                  <a:lnTo>
                    <a:pt x="50" y="288"/>
                  </a:lnTo>
                  <a:lnTo>
                    <a:pt x="41" y="281"/>
                  </a:lnTo>
                  <a:lnTo>
                    <a:pt x="29" y="277"/>
                  </a:lnTo>
                  <a:lnTo>
                    <a:pt x="21" y="271"/>
                  </a:lnTo>
                  <a:lnTo>
                    <a:pt x="14" y="265"/>
                  </a:lnTo>
                  <a:lnTo>
                    <a:pt x="10" y="260"/>
                  </a:lnTo>
                  <a:lnTo>
                    <a:pt x="6" y="254"/>
                  </a:lnTo>
                  <a:lnTo>
                    <a:pt x="2" y="248"/>
                  </a:lnTo>
                  <a:lnTo>
                    <a:pt x="2" y="242"/>
                  </a:lnTo>
                  <a:lnTo>
                    <a:pt x="0" y="238"/>
                  </a:lnTo>
                  <a:lnTo>
                    <a:pt x="2" y="235"/>
                  </a:lnTo>
                  <a:lnTo>
                    <a:pt x="2" y="231"/>
                  </a:lnTo>
                  <a:lnTo>
                    <a:pt x="6" y="229"/>
                  </a:lnTo>
                  <a:lnTo>
                    <a:pt x="10" y="227"/>
                  </a:lnTo>
                  <a:lnTo>
                    <a:pt x="14" y="225"/>
                  </a:lnTo>
                  <a:lnTo>
                    <a:pt x="21" y="223"/>
                  </a:lnTo>
                  <a:lnTo>
                    <a:pt x="29" y="219"/>
                  </a:lnTo>
                  <a:lnTo>
                    <a:pt x="41" y="217"/>
                  </a:lnTo>
                  <a:lnTo>
                    <a:pt x="42" y="215"/>
                  </a:lnTo>
                  <a:lnTo>
                    <a:pt x="46" y="215"/>
                  </a:lnTo>
                  <a:lnTo>
                    <a:pt x="52" y="215"/>
                  </a:lnTo>
                  <a:lnTo>
                    <a:pt x="56" y="215"/>
                  </a:lnTo>
                  <a:lnTo>
                    <a:pt x="62" y="213"/>
                  </a:lnTo>
                  <a:lnTo>
                    <a:pt x="69" y="212"/>
                  </a:lnTo>
                  <a:lnTo>
                    <a:pt x="75" y="210"/>
                  </a:lnTo>
                  <a:lnTo>
                    <a:pt x="85" y="210"/>
                  </a:lnTo>
                  <a:lnTo>
                    <a:pt x="92" y="206"/>
                  </a:lnTo>
                  <a:lnTo>
                    <a:pt x="102" y="204"/>
                  </a:lnTo>
                  <a:lnTo>
                    <a:pt x="112" y="202"/>
                  </a:lnTo>
                  <a:lnTo>
                    <a:pt x="123" y="200"/>
                  </a:lnTo>
                  <a:lnTo>
                    <a:pt x="135" y="196"/>
                  </a:lnTo>
                  <a:lnTo>
                    <a:pt x="146" y="192"/>
                  </a:lnTo>
                  <a:lnTo>
                    <a:pt x="160" y="190"/>
                  </a:lnTo>
                  <a:lnTo>
                    <a:pt x="173" y="187"/>
                  </a:lnTo>
                  <a:lnTo>
                    <a:pt x="186" y="183"/>
                  </a:lnTo>
                  <a:lnTo>
                    <a:pt x="202" y="179"/>
                  </a:lnTo>
                  <a:lnTo>
                    <a:pt x="217" y="175"/>
                  </a:lnTo>
                  <a:lnTo>
                    <a:pt x="234" y="169"/>
                  </a:lnTo>
                  <a:lnTo>
                    <a:pt x="252" y="165"/>
                  </a:lnTo>
                  <a:lnTo>
                    <a:pt x="269" y="160"/>
                  </a:lnTo>
                  <a:lnTo>
                    <a:pt x="288" y="154"/>
                  </a:lnTo>
                  <a:lnTo>
                    <a:pt x="307" y="150"/>
                  </a:lnTo>
                  <a:lnTo>
                    <a:pt x="328" y="144"/>
                  </a:lnTo>
                  <a:lnTo>
                    <a:pt x="348" y="139"/>
                  </a:lnTo>
                  <a:lnTo>
                    <a:pt x="371" y="133"/>
                  </a:lnTo>
                  <a:lnTo>
                    <a:pt x="392" y="125"/>
                  </a:lnTo>
                  <a:lnTo>
                    <a:pt x="415" y="119"/>
                  </a:lnTo>
                  <a:lnTo>
                    <a:pt x="440" y="114"/>
                  </a:lnTo>
                  <a:lnTo>
                    <a:pt x="463" y="106"/>
                  </a:lnTo>
                  <a:lnTo>
                    <a:pt x="490" y="100"/>
                  </a:lnTo>
                  <a:lnTo>
                    <a:pt x="513" y="93"/>
                  </a:lnTo>
                  <a:lnTo>
                    <a:pt x="538" y="85"/>
                  </a:lnTo>
                  <a:lnTo>
                    <a:pt x="561" y="79"/>
                  </a:lnTo>
                  <a:lnTo>
                    <a:pt x="582" y="73"/>
                  </a:lnTo>
                  <a:lnTo>
                    <a:pt x="605" y="68"/>
                  </a:lnTo>
                  <a:lnTo>
                    <a:pt x="626" y="62"/>
                  </a:lnTo>
                  <a:lnTo>
                    <a:pt x="645" y="56"/>
                  </a:lnTo>
                  <a:lnTo>
                    <a:pt x="666" y="50"/>
                  </a:lnTo>
                  <a:lnTo>
                    <a:pt x="685" y="47"/>
                  </a:lnTo>
                  <a:lnTo>
                    <a:pt x="705" y="41"/>
                  </a:lnTo>
                  <a:lnTo>
                    <a:pt x="722" y="37"/>
                  </a:lnTo>
                  <a:lnTo>
                    <a:pt x="739" y="33"/>
                  </a:lnTo>
                  <a:lnTo>
                    <a:pt x="756" y="29"/>
                  </a:lnTo>
                  <a:lnTo>
                    <a:pt x="772" y="25"/>
                  </a:lnTo>
                  <a:lnTo>
                    <a:pt x="787" y="22"/>
                  </a:lnTo>
                  <a:lnTo>
                    <a:pt x="802" y="18"/>
                  </a:lnTo>
                  <a:lnTo>
                    <a:pt x="816" y="16"/>
                  </a:lnTo>
                  <a:lnTo>
                    <a:pt x="829" y="14"/>
                  </a:lnTo>
                  <a:lnTo>
                    <a:pt x="843" y="10"/>
                  </a:lnTo>
                  <a:lnTo>
                    <a:pt x="854" y="8"/>
                  </a:lnTo>
                  <a:lnTo>
                    <a:pt x="866" y="6"/>
                  </a:lnTo>
                  <a:lnTo>
                    <a:pt x="877" y="6"/>
                  </a:lnTo>
                  <a:lnTo>
                    <a:pt x="887" y="4"/>
                  </a:lnTo>
                  <a:lnTo>
                    <a:pt x="896" y="2"/>
                  </a:lnTo>
                  <a:lnTo>
                    <a:pt x="904" y="2"/>
                  </a:lnTo>
                  <a:lnTo>
                    <a:pt x="914" y="2"/>
                  </a:lnTo>
                  <a:lnTo>
                    <a:pt x="919" y="0"/>
                  </a:lnTo>
                  <a:lnTo>
                    <a:pt x="927" y="0"/>
                  </a:lnTo>
                  <a:lnTo>
                    <a:pt x="933" y="0"/>
                  </a:lnTo>
                  <a:lnTo>
                    <a:pt x="939" y="2"/>
                  </a:lnTo>
                  <a:lnTo>
                    <a:pt x="943" y="2"/>
                  </a:lnTo>
                  <a:lnTo>
                    <a:pt x="948" y="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AutoShape 29"/>
          <p:cNvSpPr/>
          <p:nvPr/>
        </p:nvSpPr>
        <p:spPr>
          <a:xfrm>
            <a:off x="2498760" y="2286000"/>
            <a:ext cx="806400" cy="333360"/>
          </a:xfrm>
          <a:custGeom>
            <a:avLst/>
            <a:gdLst/>
            <a:ahLst/>
            <a:rect l="l" t="t" r="r" b="b"/>
            <a:pathLst>
              <a:path w="1015" h="420">
                <a:moveTo>
                  <a:pt x="0" y="405"/>
                </a:moveTo>
                <a:lnTo>
                  <a:pt x="0" y="403"/>
                </a:lnTo>
                <a:lnTo>
                  <a:pt x="2" y="399"/>
                </a:lnTo>
                <a:lnTo>
                  <a:pt x="4" y="397"/>
                </a:lnTo>
                <a:lnTo>
                  <a:pt x="6" y="395"/>
                </a:lnTo>
                <a:lnTo>
                  <a:pt x="8" y="393"/>
                </a:lnTo>
                <a:lnTo>
                  <a:pt x="12" y="391"/>
                </a:lnTo>
                <a:lnTo>
                  <a:pt x="16" y="389"/>
                </a:lnTo>
                <a:lnTo>
                  <a:pt x="19" y="385"/>
                </a:lnTo>
                <a:lnTo>
                  <a:pt x="23" y="384"/>
                </a:lnTo>
                <a:lnTo>
                  <a:pt x="29" y="382"/>
                </a:lnTo>
                <a:lnTo>
                  <a:pt x="35" y="378"/>
                </a:lnTo>
                <a:lnTo>
                  <a:pt x="41" y="376"/>
                </a:lnTo>
                <a:lnTo>
                  <a:pt x="48" y="372"/>
                </a:lnTo>
                <a:lnTo>
                  <a:pt x="56" y="370"/>
                </a:lnTo>
                <a:lnTo>
                  <a:pt x="64" y="366"/>
                </a:lnTo>
                <a:lnTo>
                  <a:pt x="73" y="362"/>
                </a:lnTo>
                <a:lnTo>
                  <a:pt x="83" y="361"/>
                </a:lnTo>
                <a:lnTo>
                  <a:pt x="92" y="357"/>
                </a:lnTo>
                <a:lnTo>
                  <a:pt x="102" y="353"/>
                </a:lnTo>
                <a:lnTo>
                  <a:pt x="113" y="349"/>
                </a:lnTo>
                <a:lnTo>
                  <a:pt x="125" y="345"/>
                </a:lnTo>
                <a:lnTo>
                  <a:pt x="136" y="341"/>
                </a:lnTo>
                <a:lnTo>
                  <a:pt x="148" y="338"/>
                </a:lnTo>
                <a:lnTo>
                  <a:pt x="161" y="334"/>
                </a:lnTo>
                <a:lnTo>
                  <a:pt x="175" y="330"/>
                </a:lnTo>
                <a:lnTo>
                  <a:pt x="188" y="326"/>
                </a:lnTo>
                <a:lnTo>
                  <a:pt x="204" y="322"/>
                </a:lnTo>
                <a:lnTo>
                  <a:pt x="219" y="316"/>
                </a:lnTo>
                <a:lnTo>
                  <a:pt x="234" y="313"/>
                </a:lnTo>
                <a:lnTo>
                  <a:pt x="250" y="307"/>
                </a:lnTo>
                <a:lnTo>
                  <a:pt x="267" y="303"/>
                </a:lnTo>
                <a:lnTo>
                  <a:pt x="284" y="297"/>
                </a:lnTo>
                <a:lnTo>
                  <a:pt x="317" y="288"/>
                </a:lnTo>
                <a:lnTo>
                  <a:pt x="350" y="278"/>
                </a:lnTo>
                <a:lnTo>
                  <a:pt x="382" y="268"/>
                </a:lnTo>
                <a:lnTo>
                  <a:pt x="411" y="259"/>
                </a:lnTo>
                <a:lnTo>
                  <a:pt x="440" y="249"/>
                </a:lnTo>
                <a:lnTo>
                  <a:pt x="468" y="240"/>
                </a:lnTo>
                <a:lnTo>
                  <a:pt x="493" y="232"/>
                </a:lnTo>
                <a:lnTo>
                  <a:pt x="518" y="222"/>
                </a:lnTo>
                <a:lnTo>
                  <a:pt x="543" y="215"/>
                </a:lnTo>
                <a:lnTo>
                  <a:pt x="564" y="205"/>
                </a:lnTo>
                <a:lnTo>
                  <a:pt x="586" y="195"/>
                </a:lnTo>
                <a:lnTo>
                  <a:pt x="607" y="186"/>
                </a:lnTo>
                <a:lnTo>
                  <a:pt x="626" y="178"/>
                </a:lnTo>
                <a:lnTo>
                  <a:pt x="643" y="169"/>
                </a:lnTo>
                <a:lnTo>
                  <a:pt x="658" y="159"/>
                </a:lnTo>
                <a:lnTo>
                  <a:pt x="674" y="148"/>
                </a:lnTo>
                <a:lnTo>
                  <a:pt x="687" y="140"/>
                </a:lnTo>
                <a:lnTo>
                  <a:pt x="701" y="132"/>
                </a:lnTo>
                <a:lnTo>
                  <a:pt x="714" y="124"/>
                </a:lnTo>
                <a:lnTo>
                  <a:pt x="726" y="117"/>
                </a:lnTo>
                <a:lnTo>
                  <a:pt x="735" y="111"/>
                </a:lnTo>
                <a:lnTo>
                  <a:pt x="745" y="103"/>
                </a:lnTo>
                <a:lnTo>
                  <a:pt x="754" y="98"/>
                </a:lnTo>
                <a:lnTo>
                  <a:pt x="762" y="90"/>
                </a:lnTo>
                <a:lnTo>
                  <a:pt x="768" y="84"/>
                </a:lnTo>
                <a:lnTo>
                  <a:pt x="774" y="78"/>
                </a:lnTo>
                <a:lnTo>
                  <a:pt x="779" y="71"/>
                </a:lnTo>
                <a:lnTo>
                  <a:pt x="783" y="65"/>
                </a:lnTo>
                <a:lnTo>
                  <a:pt x="787" y="59"/>
                </a:lnTo>
                <a:lnTo>
                  <a:pt x="789" y="53"/>
                </a:lnTo>
                <a:lnTo>
                  <a:pt x="791" y="48"/>
                </a:lnTo>
                <a:lnTo>
                  <a:pt x="791" y="42"/>
                </a:lnTo>
                <a:lnTo>
                  <a:pt x="791" y="36"/>
                </a:lnTo>
                <a:lnTo>
                  <a:pt x="791" y="30"/>
                </a:lnTo>
                <a:lnTo>
                  <a:pt x="793" y="21"/>
                </a:lnTo>
                <a:lnTo>
                  <a:pt x="795" y="13"/>
                </a:lnTo>
                <a:lnTo>
                  <a:pt x="799" y="7"/>
                </a:lnTo>
                <a:lnTo>
                  <a:pt x="802" y="4"/>
                </a:lnTo>
                <a:lnTo>
                  <a:pt x="808" y="2"/>
                </a:lnTo>
                <a:lnTo>
                  <a:pt x="814" y="0"/>
                </a:lnTo>
                <a:lnTo>
                  <a:pt x="820" y="0"/>
                </a:lnTo>
                <a:lnTo>
                  <a:pt x="824" y="0"/>
                </a:lnTo>
                <a:lnTo>
                  <a:pt x="829" y="0"/>
                </a:lnTo>
                <a:lnTo>
                  <a:pt x="833" y="2"/>
                </a:lnTo>
                <a:lnTo>
                  <a:pt x="839" y="4"/>
                </a:lnTo>
                <a:lnTo>
                  <a:pt x="845" y="6"/>
                </a:lnTo>
                <a:lnTo>
                  <a:pt x="850" y="7"/>
                </a:lnTo>
                <a:lnTo>
                  <a:pt x="856" y="11"/>
                </a:lnTo>
                <a:lnTo>
                  <a:pt x="864" y="15"/>
                </a:lnTo>
                <a:lnTo>
                  <a:pt x="870" y="19"/>
                </a:lnTo>
                <a:lnTo>
                  <a:pt x="877" y="23"/>
                </a:lnTo>
                <a:lnTo>
                  <a:pt x="885" y="29"/>
                </a:lnTo>
                <a:lnTo>
                  <a:pt x="893" y="34"/>
                </a:lnTo>
                <a:lnTo>
                  <a:pt x="902" y="40"/>
                </a:lnTo>
                <a:lnTo>
                  <a:pt x="910" y="48"/>
                </a:lnTo>
                <a:lnTo>
                  <a:pt x="919" y="55"/>
                </a:lnTo>
                <a:lnTo>
                  <a:pt x="927" y="63"/>
                </a:lnTo>
                <a:lnTo>
                  <a:pt x="944" y="78"/>
                </a:lnTo>
                <a:lnTo>
                  <a:pt x="960" y="94"/>
                </a:lnTo>
                <a:lnTo>
                  <a:pt x="975" y="107"/>
                </a:lnTo>
                <a:lnTo>
                  <a:pt x="987" y="121"/>
                </a:lnTo>
                <a:lnTo>
                  <a:pt x="996" y="132"/>
                </a:lnTo>
                <a:lnTo>
                  <a:pt x="1004" y="146"/>
                </a:lnTo>
                <a:lnTo>
                  <a:pt x="1012" y="157"/>
                </a:lnTo>
                <a:lnTo>
                  <a:pt x="1015" y="171"/>
                </a:lnTo>
                <a:lnTo>
                  <a:pt x="1015" y="172"/>
                </a:lnTo>
                <a:lnTo>
                  <a:pt x="1014" y="176"/>
                </a:lnTo>
                <a:lnTo>
                  <a:pt x="1014" y="178"/>
                </a:lnTo>
                <a:lnTo>
                  <a:pt x="1012" y="182"/>
                </a:lnTo>
                <a:lnTo>
                  <a:pt x="1010" y="184"/>
                </a:lnTo>
                <a:lnTo>
                  <a:pt x="1006" y="188"/>
                </a:lnTo>
                <a:lnTo>
                  <a:pt x="1002" y="190"/>
                </a:lnTo>
                <a:lnTo>
                  <a:pt x="998" y="194"/>
                </a:lnTo>
                <a:lnTo>
                  <a:pt x="994" y="197"/>
                </a:lnTo>
                <a:lnTo>
                  <a:pt x="989" y="199"/>
                </a:lnTo>
                <a:lnTo>
                  <a:pt x="985" y="203"/>
                </a:lnTo>
                <a:lnTo>
                  <a:pt x="977" y="207"/>
                </a:lnTo>
                <a:lnTo>
                  <a:pt x="971" y="209"/>
                </a:lnTo>
                <a:lnTo>
                  <a:pt x="964" y="213"/>
                </a:lnTo>
                <a:lnTo>
                  <a:pt x="956" y="217"/>
                </a:lnTo>
                <a:lnTo>
                  <a:pt x="948" y="220"/>
                </a:lnTo>
                <a:lnTo>
                  <a:pt x="939" y="222"/>
                </a:lnTo>
                <a:lnTo>
                  <a:pt x="931" y="226"/>
                </a:lnTo>
                <a:lnTo>
                  <a:pt x="921" y="230"/>
                </a:lnTo>
                <a:lnTo>
                  <a:pt x="910" y="234"/>
                </a:lnTo>
                <a:lnTo>
                  <a:pt x="898" y="238"/>
                </a:lnTo>
                <a:lnTo>
                  <a:pt x="887" y="242"/>
                </a:lnTo>
                <a:lnTo>
                  <a:pt x="875" y="245"/>
                </a:lnTo>
                <a:lnTo>
                  <a:pt x="864" y="249"/>
                </a:lnTo>
                <a:lnTo>
                  <a:pt x="850" y="255"/>
                </a:lnTo>
                <a:lnTo>
                  <a:pt x="837" y="259"/>
                </a:lnTo>
                <a:lnTo>
                  <a:pt x="822" y="263"/>
                </a:lnTo>
                <a:lnTo>
                  <a:pt x="806" y="266"/>
                </a:lnTo>
                <a:lnTo>
                  <a:pt x="791" y="272"/>
                </a:lnTo>
                <a:lnTo>
                  <a:pt x="776" y="276"/>
                </a:lnTo>
                <a:lnTo>
                  <a:pt x="760" y="282"/>
                </a:lnTo>
                <a:lnTo>
                  <a:pt x="743" y="288"/>
                </a:lnTo>
                <a:lnTo>
                  <a:pt x="674" y="307"/>
                </a:lnTo>
                <a:lnTo>
                  <a:pt x="605" y="324"/>
                </a:lnTo>
                <a:lnTo>
                  <a:pt x="540" y="341"/>
                </a:lnTo>
                <a:lnTo>
                  <a:pt x="474" y="359"/>
                </a:lnTo>
                <a:lnTo>
                  <a:pt x="442" y="364"/>
                </a:lnTo>
                <a:lnTo>
                  <a:pt x="411" y="372"/>
                </a:lnTo>
                <a:lnTo>
                  <a:pt x="380" y="378"/>
                </a:lnTo>
                <a:lnTo>
                  <a:pt x="350" y="384"/>
                </a:lnTo>
                <a:lnTo>
                  <a:pt x="321" y="389"/>
                </a:lnTo>
                <a:lnTo>
                  <a:pt x="292" y="395"/>
                </a:lnTo>
                <a:lnTo>
                  <a:pt x="263" y="399"/>
                </a:lnTo>
                <a:lnTo>
                  <a:pt x="234" y="405"/>
                </a:lnTo>
                <a:lnTo>
                  <a:pt x="206" y="409"/>
                </a:lnTo>
                <a:lnTo>
                  <a:pt x="181" y="410"/>
                </a:lnTo>
                <a:lnTo>
                  <a:pt x="156" y="414"/>
                </a:lnTo>
                <a:lnTo>
                  <a:pt x="133" y="416"/>
                </a:lnTo>
                <a:lnTo>
                  <a:pt x="112" y="418"/>
                </a:lnTo>
                <a:lnTo>
                  <a:pt x="92" y="420"/>
                </a:lnTo>
                <a:lnTo>
                  <a:pt x="75" y="420"/>
                </a:lnTo>
                <a:lnTo>
                  <a:pt x="60" y="420"/>
                </a:lnTo>
                <a:lnTo>
                  <a:pt x="46" y="420"/>
                </a:lnTo>
                <a:lnTo>
                  <a:pt x="33" y="420"/>
                </a:lnTo>
                <a:lnTo>
                  <a:pt x="23" y="418"/>
                </a:lnTo>
                <a:lnTo>
                  <a:pt x="16" y="416"/>
                </a:lnTo>
                <a:lnTo>
                  <a:pt x="10" y="414"/>
                </a:lnTo>
                <a:lnTo>
                  <a:pt x="4" y="410"/>
                </a:lnTo>
                <a:lnTo>
                  <a:pt x="2" y="409"/>
                </a:lnTo>
                <a:lnTo>
                  <a:pt x="0" y="40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0"/>
          <p:cNvSpPr/>
          <p:nvPr/>
        </p:nvSpPr>
        <p:spPr>
          <a:xfrm>
            <a:off x="2498760" y="2798640"/>
            <a:ext cx="831960" cy="249480"/>
          </a:xfrm>
          <a:custGeom>
            <a:avLst/>
            <a:gdLst/>
            <a:ahLst/>
            <a:rect l="l" t="t" r="r" b="b"/>
            <a:pathLst>
              <a:path w="1048" h="313">
                <a:moveTo>
                  <a:pt x="948" y="2"/>
                </a:moveTo>
                <a:lnTo>
                  <a:pt x="962" y="4"/>
                </a:lnTo>
                <a:lnTo>
                  <a:pt x="975" y="6"/>
                </a:lnTo>
                <a:lnTo>
                  <a:pt x="987" y="8"/>
                </a:lnTo>
                <a:lnTo>
                  <a:pt x="998" y="12"/>
                </a:lnTo>
                <a:lnTo>
                  <a:pt x="1010" y="18"/>
                </a:lnTo>
                <a:lnTo>
                  <a:pt x="1019" y="25"/>
                </a:lnTo>
                <a:lnTo>
                  <a:pt x="1027" y="35"/>
                </a:lnTo>
                <a:lnTo>
                  <a:pt x="1031" y="41"/>
                </a:lnTo>
                <a:lnTo>
                  <a:pt x="1035" y="47"/>
                </a:lnTo>
                <a:lnTo>
                  <a:pt x="1042" y="58"/>
                </a:lnTo>
                <a:lnTo>
                  <a:pt x="1044" y="62"/>
                </a:lnTo>
                <a:lnTo>
                  <a:pt x="1046" y="68"/>
                </a:lnTo>
                <a:lnTo>
                  <a:pt x="1048" y="73"/>
                </a:lnTo>
                <a:lnTo>
                  <a:pt x="1048" y="77"/>
                </a:lnTo>
                <a:lnTo>
                  <a:pt x="1048" y="81"/>
                </a:lnTo>
                <a:lnTo>
                  <a:pt x="1048" y="87"/>
                </a:lnTo>
                <a:lnTo>
                  <a:pt x="1048" y="91"/>
                </a:lnTo>
                <a:lnTo>
                  <a:pt x="1046" y="93"/>
                </a:lnTo>
                <a:lnTo>
                  <a:pt x="1044" y="96"/>
                </a:lnTo>
                <a:lnTo>
                  <a:pt x="1042" y="100"/>
                </a:lnTo>
                <a:lnTo>
                  <a:pt x="1038" y="102"/>
                </a:lnTo>
                <a:lnTo>
                  <a:pt x="1035" y="106"/>
                </a:lnTo>
                <a:lnTo>
                  <a:pt x="1031" y="108"/>
                </a:lnTo>
                <a:lnTo>
                  <a:pt x="1025" y="110"/>
                </a:lnTo>
                <a:lnTo>
                  <a:pt x="1019" y="114"/>
                </a:lnTo>
                <a:lnTo>
                  <a:pt x="1012" y="118"/>
                </a:lnTo>
                <a:lnTo>
                  <a:pt x="1002" y="121"/>
                </a:lnTo>
                <a:lnTo>
                  <a:pt x="992" y="125"/>
                </a:lnTo>
                <a:lnTo>
                  <a:pt x="981" y="131"/>
                </a:lnTo>
                <a:lnTo>
                  <a:pt x="967" y="135"/>
                </a:lnTo>
                <a:lnTo>
                  <a:pt x="952" y="139"/>
                </a:lnTo>
                <a:lnTo>
                  <a:pt x="935" y="142"/>
                </a:lnTo>
                <a:lnTo>
                  <a:pt x="918" y="148"/>
                </a:lnTo>
                <a:lnTo>
                  <a:pt x="896" y="152"/>
                </a:lnTo>
                <a:lnTo>
                  <a:pt x="875" y="158"/>
                </a:lnTo>
                <a:lnTo>
                  <a:pt x="852" y="162"/>
                </a:lnTo>
                <a:lnTo>
                  <a:pt x="827" y="167"/>
                </a:lnTo>
                <a:lnTo>
                  <a:pt x="800" y="173"/>
                </a:lnTo>
                <a:lnTo>
                  <a:pt x="772" y="179"/>
                </a:lnTo>
                <a:lnTo>
                  <a:pt x="743" y="185"/>
                </a:lnTo>
                <a:lnTo>
                  <a:pt x="712" y="190"/>
                </a:lnTo>
                <a:lnTo>
                  <a:pt x="682" y="196"/>
                </a:lnTo>
                <a:lnTo>
                  <a:pt x="653" y="202"/>
                </a:lnTo>
                <a:lnTo>
                  <a:pt x="624" y="208"/>
                </a:lnTo>
                <a:lnTo>
                  <a:pt x="595" y="212"/>
                </a:lnTo>
                <a:lnTo>
                  <a:pt x="568" y="217"/>
                </a:lnTo>
                <a:lnTo>
                  <a:pt x="541" y="223"/>
                </a:lnTo>
                <a:lnTo>
                  <a:pt x="515" y="227"/>
                </a:lnTo>
                <a:lnTo>
                  <a:pt x="490" y="233"/>
                </a:lnTo>
                <a:lnTo>
                  <a:pt x="465" y="237"/>
                </a:lnTo>
                <a:lnTo>
                  <a:pt x="442" y="242"/>
                </a:lnTo>
                <a:lnTo>
                  <a:pt x="419" y="248"/>
                </a:lnTo>
                <a:lnTo>
                  <a:pt x="396" y="252"/>
                </a:lnTo>
                <a:lnTo>
                  <a:pt x="374" y="258"/>
                </a:lnTo>
                <a:lnTo>
                  <a:pt x="353" y="263"/>
                </a:lnTo>
                <a:lnTo>
                  <a:pt x="332" y="269"/>
                </a:lnTo>
                <a:lnTo>
                  <a:pt x="311" y="275"/>
                </a:lnTo>
                <a:lnTo>
                  <a:pt x="290" y="281"/>
                </a:lnTo>
                <a:lnTo>
                  <a:pt x="271" y="286"/>
                </a:lnTo>
                <a:lnTo>
                  <a:pt x="254" y="290"/>
                </a:lnTo>
                <a:lnTo>
                  <a:pt x="236" y="294"/>
                </a:lnTo>
                <a:lnTo>
                  <a:pt x="221" y="298"/>
                </a:lnTo>
                <a:lnTo>
                  <a:pt x="206" y="300"/>
                </a:lnTo>
                <a:lnTo>
                  <a:pt x="192" y="304"/>
                </a:lnTo>
                <a:lnTo>
                  <a:pt x="179" y="306"/>
                </a:lnTo>
                <a:lnTo>
                  <a:pt x="167" y="308"/>
                </a:lnTo>
                <a:lnTo>
                  <a:pt x="158" y="309"/>
                </a:lnTo>
                <a:lnTo>
                  <a:pt x="148" y="309"/>
                </a:lnTo>
                <a:lnTo>
                  <a:pt x="138" y="311"/>
                </a:lnTo>
                <a:lnTo>
                  <a:pt x="131" y="311"/>
                </a:lnTo>
                <a:lnTo>
                  <a:pt x="123" y="311"/>
                </a:lnTo>
                <a:lnTo>
                  <a:pt x="117" y="313"/>
                </a:lnTo>
                <a:lnTo>
                  <a:pt x="108" y="311"/>
                </a:lnTo>
                <a:lnTo>
                  <a:pt x="98" y="311"/>
                </a:lnTo>
                <a:lnTo>
                  <a:pt x="89" y="308"/>
                </a:lnTo>
                <a:lnTo>
                  <a:pt x="79" y="304"/>
                </a:lnTo>
                <a:lnTo>
                  <a:pt x="69" y="300"/>
                </a:lnTo>
                <a:lnTo>
                  <a:pt x="60" y="294"/>
                </a:lnTo>
                <a:lnTo>
                  <a:pt x="50" y="288"/>
                </a:lnTo>
                <a:lnTo>
                  <a:pt x="41" y="281"/>
                </a:lnTo>
                <a:lnTo>
                  <a:pt x="29" y="277"/>
                </a:lnTo>
                <a:lnTo>
                  <a:pt x="21" y="271"/>
                </a:lnTo>
                <a:lnTo>
                  <a:pt x="14" y="265"/>
                </a:lnTo>
                <a:lnTo>
                  <a:pt x="10" y="260"/>
                </a:lnTo>
                <a:lnTo>
                  <a:pt x="6" y="254"/>
                </a:lnTo>
                <a:lnTo>
                  <a:pt x="2" y="248"/>
                </a:lnTo>
                <a:lnTo>
                  <a:pt x="2" y="242"/>
                </a:lnTo>
                <a:lnTo>
                  <a:pt x="0" y="238"/>
                </a:lnTo>
                <a:lnTo>
                  <a:pt x="2" y="235"/>
                </a:lnTo>
                <a:lnTo>
                  <a:pt x="2" y="231"/>
                </a:lnTo>
                <a:lnTo>
                  <a:pt x="6" y="229"/>
                </a:lnTo>
                <a:lnTo>
                  <a:pt x="10" y="227"/>
                </a:lnTo>
                <a:lnTo>
                  <a:pt x="14" y="225"/>
                </a:lnTo>
                <a:lnTo>
                  <a:pt x="21" y="223"/>
                </a:lnTo>
                <a:lnTo>
                  <a:pt x="29" y="219"/>
                </a:lnTo>
                <a:lnTo>
                  <a:pt x="41" y="217"/>
                </a:lnTo>
                <a:lnTo>
                  <a:pt x="42" y="215"/>
                </a:lnTo>
                <a:lnTo>
                  <a:pt x="46" y="215"/>
                </a:lnTo>
                <a:lnTo>
                  <a:pt x="52" y="215"/>
                </a:lnTo>
                <a:lnTo>
                  <a:pt x="56" y="215"/>
                </a:lnTo>
                <a:lnTo>
                  <a:pt x="62" y="213"/>
                </a:lnTo>
                <a:lnTo>
                  <a:pt x="69" y="212"/>
                </a:lnTo>
                <a:lnTo>
                  <a:pt x="75" y="210"/>
                </a:lnTo>
                <a:lnTo>
                  <a:pt x="85" y="210"/>
                </a:lnTo>
                <a:lnTo>
                  <a:pt x="92" y="206"/>
                </a:lnTo>
                <a:lnTo>
                  <a:pt x="102" y="204"/>
                </a:lnTo>
                <a:lnTo>
                  <a:pt x="112" y="202"/>
                </a:lnTo>
                <a:lnTo>
                  <a:pt x="123" y="200"/>
                </a:lnTo>
                <a:lnTo>
                  <a:pt x="135" y="196"/>
                </a:lnTo>
                <a:lnTo>
                  <a:pt x="146" y="192"/>
                </a:lnTo>
                <a:lnTo>
                  <a:pt x="160" y="190"/>
                </a:lnTo>
                <a:lnTo>
                  <a:pt x="173" y="187"/>
                </a:lnTo>
                <a:lnTo>
                  <a:pt x="186" y="183"/>
                </a:lnTo>
                <a:lnTo>
                  <a:pt x="202" y="179"/>
                </a:lnTo>
                <a:lnTo>
                  <a:pt x="217" y="175"/>
                </a:lnTo>
                <a:lnTo>
                  <a:pt x="234" y="169"/>
                </a:lnTo>
                <a:lnTo>
                  <a:pt x="252" y="165"/>
                </a:lnTo>
                <a:lnTo>
                  <a:pt x="269" y="160"/>
                </a:lnTo>
                <a:lnTo>
                  <a:pt x="288" y="154"/>
                </a:lnTo>
                <a:lnTo>
                  <a:pt x="307" y="150"/>
                </a:lnTo>
                <a:lnTo>
                  <a:pt x="328" y="144"/>
                </a:lnTo>
                <a:lnTo>
                  <a:pt x="348" y="139"/>
                </a:lnTo>
                <a:lnTo>
                  <a:pt x="371" y="133"/>
                </a:lnTo>
                <a:lnTo>
                  <a:pt x="392" y="125"/>
                </a:lnTo>
                <a:lnTo>
                  <a:pt x="415" y="119"/>
                </a:lnTo>
                <a:lnTo>
                  <a:pt x="440" y="114"/>
                </a:lnTo>
                <a:lnTo>
                  <a:pt x="463" y="106"/>
                </a:lnTo>
                <a:lnTo>
                  <a:pt x="490" y="100"/>
                </a:lnTo>
                <a:lnTo>
                  <a:pt x="513" y="93"/>
                </a:lnTo>
                <a:lnTo>
                  <a:pt x="538" y="85"/>
                </a:lnTo>
                <a:lnTo>
                  <a:pt x="561" y="79"/>
                </a:lnTo>
                <a:lnTo>
                  <a:pt x="582" y="73"/>
                </a:lnTo>
                <a:lnTo>
                  <a:pt x="605" y="68"/>
                </a:lnTo>
                <a:lnTo>
                  <a:pt x="626" y="62"/>
                </a:lnTo>
                <a:lnTo>
                  <a:pt x="645" y="56"/>
                </a:lnTo>
                <a:lnTo>
                  <a:pt x="666" y="50"/>
                </a:lnTo>
                <a:lnTo>
                  <a:pt x="685" y="47"/>
                </a:lnTo>
                <a:lnTo>
                  <a:pt x="705" y="41"/>
                </a:lnTo>
                <a:lnTo>
                  <a:pt x="722" y="37"/>
                </a:lnTo>
                <a:lnTo>
                  <a:pt x="739" y="33"/>
                </a:lnTo>
                <a:lnTo>
                  <a:pt x="756" y="29"/>
                </a:lnTo>
                <a:lnTo>
                  <a:pt x="772" y="25"/>
                </a:lnTo>
                <a:lnTo>
                  <a:pt x="787" y="22"/>
                </a:lnTo>
                <a:lnTo>
                  <a:pt x="802" y="18"/>
                </a:lnTo>
                <a:lnTo>
                  <a:pt x="816" y="16"/>
                </a:lnTo>
                <a:lnTo>
                  <a:pt x="829" y="14"/>
                </a:lnTo>
                <a:lnTo>
                  <a:pt x="843" y="10"/>
                </a:lnTo>
                <a:lnTo>
                  <a:pt x="854" y="8"/>
                </a:lnTo>
                <a:lnTo>
                  <a:pt x="866" y="6"/>
                </a:lnTo>
                <a:lnTo>
                  <a:pt x="877" y="6"/>
                </a:lnTo>
                <a:lnTo>
                  <a:pt x="887" y="4"/>
                </a:lnTo>
                <a:lnTo>
                  <a:pt x="896" y="2"/>
                </a:lnTo>
                <a:lnTo>
                  <a:pt x="904" y="2"/>
                </a:lnTo>
                <a:lnTo>
                  <a:pt x="914" y="2"/>
                </a:lnTo>
                <a:lnTo>
                  <a:pt x="919" y="0"/>
                </a:lnTo>
                <a:lnTo>
                  <a:pt x="927" y="0"/>
                </a:lnTo>
                <a:lnTo>
                  <a:pt x="933" y="0"/>
                </a:lnTo>
                <a:lnTo>
                  <a:pt x="939" y="2"/>
                </a:lnTo>
                <a:lnTo>
                  <a:pt x="943" y="2"/>
                </a:lnTo>
                <a:lnTo>
                  <a:pt x="948" y="2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2832120" y="2538360"/>
            <a:ext cx="163440" cy="787320"/>
          </a:xfrm>
          <a:custGeom>
            <a:avLst/>
            <a:gdLst/>
            <a:ahLst/>
            <a:rect l="l" t="t" r="r" b="b"/>
            <a:pathLst>
              <a:path w="205" h="992">
                <a:moveTo>
                  <a:pt x="0" y="0"/>
                </a:moveTo>
                <a:lnTo>
                  <a:pt x="28" y="6"/>
                </a:lnTo>
                <a:lnTo>
                  <a:pt x="42" y="8"/>
                </a:lnTo>
                <a:lnTo>
                  <a:pt x="53" y="10"/>
                </a:lnTo>
                <a:lnTo>
                  <a:pt x="67" y="14"/>
                </a:lnTo>
                <a:lnTo>
                  <a:pt x="78" y="18"/>
                </a:lnTo>
                <a:lnTo>
                  <a:pt x="90" y="21"/>
                </a:lnTo>
                <a:lnTo>
                  <a:pt x="101" y="25"/>
                </a:lnTo>
                <a:lnTo>
                  <a:pt x="111" y="29"/>
                </a:lnTo>
                <a:lnTo>
                  <a:pt x="120" y="33"/>
                </a:lnTo>
                <a:lnTo>
                  <a:pt x="130" y="39"/>
                </a:lnTo>
                <a:lnTo>
                  <a:pt x="138" y="43"/>
                </a:lnTo>
                <a:lnTo>
                  <a:pt x="145" y="48"/>
                </a:lnTo>
                <a:lnTo>
                  <a:pt x="153" y="54"/>
                </a:lnTo>
                <a:lnTo>
                  <a:pt x="159" y="58"/>
                </a:lnTo>
                <a:lnTo>
                  <a:pt x="165" y="66"/>
                </a:lnTo>
                <a:lnTo>
                  <a:pt x="176" y="77"/>
                </a:lnTo>
                <a:lnTo>
                  <a:pt x="184" y="87"/>
                </a:lnTo>
                <a:lnTo>
                  <a:pt x="190" y="96"/>
                </a:lnTo>
                <a:lnTo>
                  <a:pt x="195" y="104"/>
                </a:lnTo>
                <a:lnTo>
                  <a:pt x="199" y="112"/>
                </a:lnTo>
                <a:lnTo>
                  <a:pt x="203" y="119"/>
                </a:lnTo>
                <a:lnTo>
                  <a:pt x="203" y="125"/>
                </a:lnTo>
                <a:lnTo>
                  <a:pt x="205" y="129"/>
                </a:lnTo>
                <a:lnTo>
                  <a:pt x="205" y="133"/>
                </a:lnTo>
                <a:lnTo>
                  <a:pt x="203" y="138"/>
                </a:lnTo>
                <a:lnTo>
                  <a:pt x="203" y="146"/>
                </a:lnTo>
                <a:lnTo>
                  <a:pt x="203" y="152"/>
                </a:lnTo>
                <a:lnTo>
                  <a:pt x="201" y="162"/>
                </a:lnTo>
                <a:lnTo>
                  <a:pt x="199" y="171"/>
                </a:lnTo>
                <a:lnTo>
                  <a:pt x="199" y="183"/>
                </a:lnTo>
                <a:lnTo>
                  <a:pt x="197" y="194"/>
                </a:lnTo>
                <a:lnTo>
                  <a:pt x="195" y="208"/>
                </a:lnTo>
                <a:lnTo>
                  <a:pt x="193" y="221"/>
                </a:lnTo>
                <a:lnTo>
                  <a:pt x="190" y="236"/>
                </a:lnTo>
                <a:lnTo>
                  <a:pt x="188" y="254"/>
                </a:lnTo>
                <a:lnTo>
                  <a:pt x="186" y="271"/>
                </a:lnTo>
                <a:lnTo>
                  <a:pt x="182" y="290"/>
                </a:lnTo>
                <a:lnTo>
                  <a:pt x="178" y="309"/>
                </a:lnTo>
                <a:lnTo>
                  <a:pt x="174" y="330"/>
                </a:lnTo>
                <a:lnTo>
                  <a:pt x="172" y="342"/>
                </a:lnTo>
                <a:lnTo>
                  <a:pt x="172" y="355"/>
                </a:lnTo>
                <a:lnTo>
                  <a:pt x="170" y="367"/>
                </a:lnTo>
                <a:lnTo>
                  <a:pt x="168" y="380"/>
                </a:lnTo>
                <a:lnTo>
                  <a:pt x="166" y="394"/>
                </a:lnTo>
                <a:lnTo>
                  <a:pt x="165" y="409"/>
                </a:lnTo>
                <a:lnTo>
                  <a:pt x="165" y="422"/>
                </a:lnTo>
                <a:lnTo>
                  <a:pt x="163" y="440"/>
                </a:lnTo>
                <a:lnTo>
                  <a:pt x="161" y="455"/>
                </a:lnTo>
                <a:lnTo>
                  <a:pt x="159" y="472"/>
                </a:lnTo>
                <a:lnTo>
                  <a:pt x="159" y="490"/>
                </a:lnTo>
                <a:lnTo>
                  <a:pt x="157" y="507"/>
                </a:lnTo>
                <a:lnTo>
                  <a:pt x="157" y="526"/>
                </a:lnTo>
                <a:lnTo>
                  <a:pt x="155" y="545"/>
                </a:lnTo>
                <a:lnTo>
                  <a:pt x="155" y="565"/>
                </a:lnTo>
                <a:lnTo>
                  <a:pt x="153" y="586"/>
                </a:lnTo>
                <a:lnTo>
                  <a:pt x="153" y="607"/>
                </a:lnTo>
                <a:lnTo>
                  <a:pt x="151" y="628"/>
                </a:lnTo>
                <a:lnTo>
                  <a:pt x="151" y="651"/>
                </a:lnTo>
                <a:lnTo>
                  <a:pt x="149" y="674"/>
                </a:lnTo>
                <a:lnTo>
                  <a:pt x="149" y="697"/>
                </a:lnTo>
                <a:lnTo>
                  <a:pt x="149" y="720"/>
                </a:lnTo>
                <a:lnTo>
                  <a:pt x="147" y="745"/>
                </a:lnTo>
                <a:lnTo>
                  <a:pt x="147" y="770"/>
                </a:lnTo>
                <a:lnTo>
                  <a:pt x="147" y="797"/>
                </a:lnTo>
                <a:lnTo>
                  <a:pt x="147" y="822"/>
                </a:lnTo>
                <a:lnTo>
                  <a:pt x="147" y="849"/>
                </a:lnTo>
                <a:lnTo>
                  <a:pt x="145" y="877"/>
                </a:lnTo>
                <a:lnTo>
                  <a:pt x="145" y="904"/>
                </a:lnTo>
                <a:lnTo>
                  <a:pt x="145" y="933"/>
                </a:lnTo>
                <a:lnTo>
                  <a:pt x="145" y="962"/>
                </a:lnTo>
                <a:lnTo>
                  <a:pt x="145" y="992"/>
                </a:lnTo>
                <a:lnTo>
                  <a:pt x="28" y="992"/>
                </a:lnTo>
                <a:lnTo>
                  <a:pt x="28" y="950"/>
                </a:lnTo>
                <a:lnTo>
                  <a:pt x="28" y="908"/>
                </a:lnTo>
                <a:lnTo>
                  <a:pt x="28" y="866"/>
                </a:lnTo>
                <a:lnTo>
                  <a:pt x="28" y="825"/>
                </a:lnTo>
                <a:lnTo>
                  <a:pt x="28" y="787"/>
                </a:lnTo>
                <a:lnTo>
                  <a:pt x="28" y="749"/>
                </a:lnTo>
                <a:lnTo>
                  <a:pt x="26" y="710"/>
                </a:lnTo>
                <a:lnTo>
                  <a:pt x="26" y="672"/>
                </a:lnTo>
                <a:lnTo>
                  <a:pt x="26" y="636"/>
                </a:lnTo>
                <a:lnTo>
                  <a:pt x="26" y="599"/>
                </a:lnTo>
                <a:lnTo>
                  <a:pt x="24" y="565"/>
                </a:lnTo>
                <a:lnTo>
                  <a:pt x="24" y="530"/>
                </a:lnTo>
                <a:lnTo>
                  <a:pt x="24" y="497"/>
                </a:lnTo>
                <a:lnTo>
                  <a:pt x="23" y="465"/>
                </a:lnTo>
                <a:lnTo>
                  <a:pt x="23" y="432"/>
                </a:lnTo>
                <a:lnTo>
                  <a:pt x="21" y="401"/>
                </a:lnTo>
                <a:lnTo>
                  <a:pt x="21" y="371"/>
                </a:lnTo>
                <a:lnTo>
                  <a:pt x="19" y="340"/>
                </a:lnTo>
                <a:lnTo>
                  <a:pt x="19" y="311"/>
                </a:lnTo>
                <a:lnTo>
                  <a:pt x="17" y="282"/>
                </a:lnTo>
                <a:lnTo>
                  <a:pt x="17" y="256"/>
                </a:lnTo>
                <a:lnTo>
                  <a:pt x="15" y="229"/>
                </a:lnTo>
                <a:lnTo>
                  <a:pt x="13" y="202"/>
                </a:lnTo>
                <a:lnTo>
                  <a:pt x="11" y="177"/>
                </a:lnTo>
                <a:lnTo>
                  <a:pt x="11" y="152"/>
                </a:lnTo>
                <a:lnTo>
                  <a:pt x="9" y="129"/>
                </a:lnTo>
                <a:lnTo>
                  <a:pt x="7" y="106"/>
                </a:lnTo>
                <a:lnTo>
                  <a:pt x="5" y="83"/>
                </a:lnTo>
                <a:lnTo>
                  <a:pt x="5" y="62"/>
                </a:lnTo>
                <a:lnTo>
                  <a:pt x="3" y="41"/>
                </a:lnTo>
                <a:lnTo>
                  <a:pt x="1" y="2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32"/>
          <p:cNvSpPr/>
          <p:nvPr/>
        </p:nvSpPr>
        <p:spPr>
          <a:xfrm>
            <a:off x="1981080" y="3165480"/>
            <a:ext cx="1814760" cy="338040"/>
          </a:xfrm>
          <a:custGeom>
            <a:avLst/>
            <a:gdLst/>
            <a:ahLst/>
            <a:rect l="l" t="t" r="r" b="b"/>
            <a:pathLst>
              <a:path w="2285" h="428">
                <a:moveTo>
                  <a:pt x="1560" y="75"/>
                </a:moveTo>
                <a:lnTo>
                  <a:pt x="1587" y="71"/>
                </a:lnTo>
                <a:lnTo>
                  <a:pt x="1612" y="65"/>
                </a:lnTo>
                <a:lnTo>
                  <a:pt x="1637" y="61"/>
                </a:lnTo>
                <a:lnTo>
                  <a:pt x="1660" y="56"/>
                </a:lnTo>
                <a:lnTo>
                  <a:pt x="1683" y="52"/>
                </a:lnTo>
                <a:lnTo>
                  <a:pt x="1706" y="48"/>
                </a:lnTo>
                <a:lnTo>
                  <a:pt x="1727" y="44"/>
                </a:lnTo>
                <a:lnTo>
                  <a:pt x="1746" y="40"/>
                </a:lnTo>
                <a:lnTo>
                  <a:pt x="1767" y="36"/>
                </a:lnTo>
                <a:lnTo>
                  <a:pt x="1786" y="35"/>
                </a:lnTo>
                <a:lnTo>
                  <a:pt x="1804" y="31"/>
                </a:lnTo>
                <a:lnTo>
                  <a:pt x="1821" y="29"/>
                </a:lnTo>
                <a:lnTo>
                  <a:pt x="1838" y="25"/>
                </a:lnTo>
                <a:lnTo>
                  <a:pt x="1854" y="23"/>
                </a:lnTo>
                <a:lnTo>
                  <a:pt x="1869" y="19"/>
                </a:lnTo>
                <a:lnTo>
                  <a:pt x="1884" y="17"/>
                </a:lnTo>
                <a:lnTo>
                  <a:pt x="1898" y="15"/>
                </a:lnTo>
                <a:lnTo>
                  <a:pt x="1909" y="13"/>
                </a:lnTo>
                <a:lnTo>
                  <a:pt x="1923" y="12"/>
                </a:lnTo>
                <a:lnTo>
                  <a:pt x="1932" y="10"/>
                </a:lnTo>
                <a:lnTo>
                  <a:pt x="1944" y="8"/>
                </a:lnTo>
                <a:lnTo>
                  <a:pt x="1953" y="8"/>
                </a:lnTo>
                <a:lnTo>
                  <a:pt x="1963" y="6"/>
                </a:lnTo>
                <a:lnTo>
                  <a:pt x="1971" y="4"/>
                </a:lnTo>
                <a:lnTo>
                  <a:pt x="1978" y="4"/>
                </a:lnTo>
                <a:lnTo>
                  <a:pt x="1984" y="4"/>
                </a:lnTo>
                <a:lnTo>
                  <a:pt x="1990" y="2"/>
                </a:lnTo>
                <a:lnTo>
                  <a:pt x="1996" y="2"/>
                </a:lnTo>
                <a:lnTo>
                  <a:pt x="1999" y="2"/>
                </a:lnTo>
                <a:lnTo>
                  <a:pt x="2003" y="2"/>
                </a:lnTo>
                <a:lnTo>
                  <a:pt x="2007" y="0"/>
                </a:lnTo>
                <a:lnTo>
                  <a:pt x="2009" y="0"/>
                </a:lnTo>
                <a:lnTo>
                  <a:pt x="2011" y="0"/>
                </a:lnTo>
                <a:lnTo>
                  <a:pt x="2015" y="2"/>
                </a:lnTo>
                <a:lnTo>
                  <a:pt x="2019" y="2"/>
                </a:lnTo>
                <a:lnTo>
                  <a:pt x="2022" y="2"/>
                </a:lnTo>
                <a:lnTo>
                  <a:pt x="2026" y="4"/>
                </a:lnTo>
                <a:lnTo>
                  <a:pt x="2032" y="6"/>
                </a:lnTo>
                <a:lnTo>
                  <a:pt x="2038" y="6"/>
                </a:lnTo>
                <a:lnTo>
                  <a:pt x="2045" y="8"/>
                </a:lnTo>
                <a:lnTo>
                  <a:pt x="2053" y="12"/>
                </a:lnTo>
                <a:lnTo>
                  <a:pt x="2061" y="13"/>
                </a:lnTo>
                <a:lnTo>
                  <a:pt x="2070" y="15"/>
                </a:lnTo>
                <a:lnTo>
                  <a:pt x="2080" y="19"/>
                </a:lnTo>
                <a:lnTo>
                  <a:pt x="2092" y="21"/>
                </a:lnTo>
                <a:lnTo>
                  <a:pt x="2101" y="25"/>
                </a:lnTo>
                <a:lnTo>
                  <a:pt x="2115" y="29"/>
                </a:lnTo>
                <a:lnTo>
                  <a:pt x="2126" y="33"/>
                </a:lnTo>
                <a:lnTo>
                  <a:pt x="2147" y="44"/>
                </a:lnTo>
                <a:lnTo>
                  <a:pt x="2166" y="56"/>
                </a:lnTo>
                <a:lnTo>
                  <a:pt x="2184" y="65"/>
                </a:lnTo>
                <a:lnTo>
                  <a:pt x="2201" y="75"/>
                </a:lnTo>
                <a:lnTo>
                  <a:pt x="2216" y="84"/>
                </a:lnTo>
                <a:lnTo>
                  <a:pt x="2230" y="96"/>
                </a:lnTo>
                <a:lnTo>
                  <a:pt x="2241" y="106"/>
                </a:lnTo>
                <a:lnTo>
                  <a:pt x="2253" y="117"/>
                </a:lnTo>
                <a:lnTo>
                  <a:pt x="2262" y="129"/>
                </a:lnTo>
                <a:lnTo>
                  <a:pt x="2272" y="140"/>
                </a:lnTo>
                <a:lnTo>
                  <a:pt x="2278" y="150"/>
                </a:lnTo>
                <a:lnTo>
                  <a:pt x="2282" y="157"/>
                </a:lnTo>
                <a:lnTo>
                  <a:pt x="2285" y="165"/>
                </a:lnTo>
                <a:lnTo>
                  <a:pt x="2285" y="173"/>
                </a:lnTo>
                <a:lnTo>
                  <a:pt x="2285" y="177"/>
                </a:lnTo>
                <a:lnTo>
                  <a:pt x="2282" y="182"/>
                </a:lnTo>
                <a:lnTo>
                  <a:pt x="2280" y="184"/>
                </a:lnTo>
                <a:lnTo>
                  <a:pt x="2276" y="186"/>
                </a:lnTo>
                <a:lnTo>
                  <a:pt x="2268" y="186"/>
                </a:lnTo>
                <a:lnTo>
                  <a:pt x="2260" y="188"/>
                </a:lnTo>
                <a:lnTo>
                  <a:pt x="2251" y="188"/>
                </a:lnTo>
                <a:lnTo>
                  <a:pt x="2239" y="190"/>
                </a:lnTo>
                <a:lnTo>
                  <a:pt x="2224" y="190"/>
                </a:lnTo>
                <a:lnTo>
                  <a:pt x="2209" y="190"/>
                </a:lnTo>
                <a:lnTo>
                  <a:pt x="2191" y="190"/>
                </a:lnTo>
                <a:lnTo>
                  <a:pt x="2172" y="190"/>
                </a:lnTo>
                <a:lnTo>
                  <a:pt x="2151" y="188"/>
                </a:lnTo>
                <a:lnTo>
                  <a:pt x="2128" y="188"/>
                </a:lnTo>
                <a:lnTo>
                  <a:pt x="2103" y="186"/>
                </a:lnTo>
                <a:lnTo>
                  <a:pt x="2078" y="186"/>
                </a:lnTo>
                <a:lnTo>
                  <a:pt x="2049" y="184"/>
                </a:lnTo>
                <a:lnTo>
                  <a:pt x="2019" y="182"/>
                </a:lnTo>
                <a:lnTo>
                  <a:pt x="1988" y="180"/>
                </a:lnTo>
                <a:lnTo>
                  <a:pt x="1957" y="178"/>
                </a:lnTo>
                <a:lnTo>
                  <a:pt x="1896" y="177"/>
                </a:lnTo>
                <a:lnTo>
                  <a:pt x="1836" y="178"/>
                </a:lnTo>
                <a:lnTo>
                  <a:pt x="1779" y="178"/>
                </a:lnTo>
                <a:lnTo>
                  <a:pt x="1721" y="182"/>
                </a:lnTo>
                <a:lnTo>
                  <a:pt x="1666" y="184"/>
                </a:lnTo>
                <a:lnTo>
                  <a:pt x="1612" y="188"/>
                </a:lnTo>
                <a:lnTo>
                  <a:pt x="1560" y="192"/>
                </a:lnTo>
                <a:lnTo>
                  <a:pt x="1533" y="196"/>
                </a:lnTo>
                <a:lnTo>
                  <a:pt x="1504" y="202"/>
                </a:lnTo>
                <a:lnTo>
                  <a:pt x="1476" y="205"/>
                </a:lnTo>
                <a:lnTo>
                  <a:pt x="1445" y="209"/>
                </a:lnTo>
                <a:lnTo>
                  <a:pt x="1414" y="213"/>
                </a:lnTo>
                <a:lnTo>
                  <a:pt x="1383" y="217"/>
                </a:lnTo>
                <a:lnTo>
                  <a:pt x="1351" y="221"/>
                </a:lnTo>
                <a:lnTo>
                  <a:pt x="1318" y="226"/>
                </a:lnTo>
                <a:lnTo>
                  <a:pt x="1286" y="230"/>
                </a:lnTo>
                <a:lnTo>
                  <a:pt x="1251" y="234"/>
                </a:lnTo>
                <a:lnTo>
                  <a:pt x="1216" y="240"/>
                </a:lnTo>
                <a:lnTo>
                  <a:pt x="1182" y="246"/>
                </a:lnTo>
                <a:lnTo>
                  <a:pt x="1145" y="249"/>
                </a:lnTo>
                <a:lnTo>
                  <a:pt x="1109" y="255"/>
                </a:lnTo>
                <a:lnTo>
                  <a:pt x="1071" y="261"/>
                </a:lnTo>
                <a:lnTo>
                  <a:pt x="1034" y="267"/>
                </a:lnTo>
                <a:lnTo>
                  <a:pt x="994" y="274"/>
                </a:lnTo>
                <a:lnTo>
                  <a:pt x="954" y="280"/>
                </a:lnTo>
                <a:lnTo>
                  <a:pt x="915" y="286"/>
                </a:lnTo>
                <a:lnTo>
                  <a:pt x="879" y="294"/>
                </a:lnTo>
                <a:lnTo>
                  <a:pt x="840" y="299"/>
                </a:lnTo>
                <a:lnTo>
                  <a:pt x="804" y="307"/>
                </a:lnTo>
                <a:lnTo>
                  <a:pt x="769" y="313"/>
                </a:lnTo>
                <a:lnTo>
                  <a:pt x="733" y="320"/>
                </a:lnTo>
                <a:lnTo>
                  <a:pt x="698" y="328"/>
                </a:lnTo>
                <a:lnTo>
                  <a:pt x="666" y="334"/>
                </a:lnTo>
                <a:lnTo>
                  <a:pt x="631" y="342"/>
                </a:lnTo>
                <a:lnTo>
                  <a:pt x="600" y="347"/>
                </a:lnTo>
                <a:lnTo>
                  <a:pt x="568" y="355"/>
                </a:lnTo>
                <a:lnTo>
                  <a:pt x="537" y="361"/>
                </a:lnTo>
                <a:lnTo>
                  <a:pt x="506" y="368"/>
                </a:lnTo>
                <a:lnTo>
                  <a:pt x="478" y="374"/>
                </a:lnTo>
                <a:lnTo>
                  <a:pt x="462" y="376"/>
                </a:lnTo>
                <a:lnTo>
                  <a:pt x="447" y="380"/>
                </a:lnTo>
                <a:lnTo>
                  <a:pt x="433" y="382"/>
                </a:lnTo>
                <a:lnTo>
                  <a:pt x="418" y="386"/>
                </a:lnTo>
                <a:lnTo>
                  <a:pt x="407" y="388"/>
                </a:lnTo>
                <a:lnTo>
                  <a:pt x="393" y="392"/>
                </a:lnTo>
                <a:lnTo>
                  <a:pt x="382" y="393"/>
                </a:lnTo>
                <a:lnTo>
                  <a:pt x="368" y="395"/>
                </a:lnTo>
                <a:lnTo>
                  <a:pt x="357" y="399"/>
                </a:lnTo>
                <a:lnTo>
                  <a:pt x="347" y="401"/>
                </a:lnTo>
                <a:lnTo>
                  <a:pt x="326" y="405"/>
                </a:lnTo>
                <a:lnTo>
                  <a:pt x="309" y="409"/>
                </a:lnTo>
                <a:lnTo>
                  <a:pt x="291" y="413"/>
                </a:lnTo>
                <a:lnTo>
                  <a:pt x="278" y="416"/>
                </a:lnTo>
                <a:lnTo>
                  <a:pt x="265" y="418"/>
                </a:lnTo>
                <a:lnTo>
                  <a:pt x="253" y="422"/>
                </a:lnTo>
                <a:lnTo>
                  <a:pt x="243" y="424"/>
                </a:lnTo>
                <a:lnTo>
                  <a:pt x="236" y="424"/>
                </a:lnTo>
                <a:lnTo>
                  <a:pt x="230" y="426"/>
                </a:lnTo>
                <a:lnTo>
                  <a:pt x="226" y="426"/>
                </a:lnTo>
                <a:lnTo>
                  <a:pt x="224" y="428"/>
                </a:lnTo>
                <a:lnTo>
                  <a:pt x="220" y="426"/>
                </a:lnTo>
                <a:lnTo>
                  <a:pt x="219" y="426"/>
                </a:lnTo>
                <a:lnTo>
                  <a:pt x="215" y="426"/>
                </a:lnTo>
                <a:lnTo>
                  <a:pt x="211" y="424"/>
                </a:lnTo>
                <a:lnTo>
                  <a:pt x="205" y="424"/>
                </a:lnTo>
                <a:lnTo>
                  <a:pt x="199" y="422"/>
                </a:lnTo>
                <a:lnTo>
                  <a:pt x="194" y="420"/>
                </a:lnTo>
                <a:lnTo>
                  <a:pt x="186" y="418"/>
                </a:lnTo>
                <a:lnTo>
                  <a:pt x="178" y="415"/>
                </a:lnTo>
                <a:lnTo>
                  <a:pt x="171" y="413"/>
                </a:lnTo>
                <a:lnTo>
                  <a:pt x="161" y="409"/>
                </a:lnTo>
                <a:lnTo>
                  <a:pt x="151" y="405"/>
                </a:lnTo>
                <a:lnTo>
                  <a:pt x="142" y="401"/>
                </a:lnTo>
                <a:lnTo>
                  <a:pt x="130" y="395"/>
                </a:lnTo>
                <a:lnTo>
                  <a:pt x="119" y="390"/>
                </a:lnTo>
                <a:lnTo>
                  <a:pt x="107" y="384"/>
                </a:lnTo>
                <a:lnTo>
                  <a:pt x="94" y="378"/>
                </a:lnTo>
                <a:lnTo>
                  <a:pt x="82" y="372"/>
                </a:lnTo>
                <a:lnTo>
                  <a:pt x="71" y="367"/>
                </a:lnTo>
                <a:lnTo>
                  <a:pt x="61" y="363"/>
                </a:lnTo>
                <a:lnTo>
                  <a:pt x="52" y="357"/>
                </a:lnTo>
                <a:lnTo>
                  <a:pt x="42" y="353"/>
                </a:lnTo>
                <a:lnTo>
                  <a:pt x="34" y="349"/>
                </a:lnTo>
                <a:lnTo>
                  <a:pt x="27" y="344"/>
                </a:lnTo>
                <a:lnTo>
                  <a:pt x="21" y="340"/>
                </a:lnTo>
                <a:lnTo>
                  <a:pt x="15" y="338"/>
                </a:lnTo>
                <a:lnTo>
                  <a:pt x="9" y="334"/>
                </a:lnTo>
                <a:lnTo>
                  <a:pt x="6" y="330"/>
                </a:lnTo>
                <a:lnTo>
                  <a:pt x="4" y="328"/>
                </a:lnTo>
                <a:lnTo>
                  <a:pt x="0" y="324"/>
                </a:lnTo>
                <a:lnTo>
                  <a:pt x="0" y="322"/>
                </a:lnTo>
                <a:lnTo>
                  <a:pt x="0" y="320"/>
                </a:lnTo>
                <a:lnTo>
                  <a:pt x="0" y="319"/>
                </a:lnTo>
                <a:lnTo>
                  <a:pt x="2" y="317"/>
                </a:lnTo>
                <a:lnTo>
                  <a:pt x="4" y="315"/>
                </a:lnTo>
                <a:lnTo>
                  <a:pt x="7" y="315"/>
                </a:lnTo>
                <a:lnTo>
                  <a:pt x="13" y="313"/>
                </a:lnTo>
                <a:lnTo>
                  <a:pt x="19" y="313"/>
                </a:lnTo>
                <a:lnTo>
                  <a:pt x="27" y="311"/>
                </a:lnTo>
                <a:lnTo>
                  <a:pt x="36" y="311"/>
                </a:lnTo>
                <a:lnTo>
                  <a:pt x="46" y="309"/>
                </a:lnTo>
                <a:lnTo>
                  <a:pt x="55" y="307"/>
                </a:lnTo>
                <a:lnTo>
                  <a:pt x="69" y="307"/>
                </a:lnTo>
                <a:lnTo>
                  <a:pt x="80" y="305"/>
                </a:lnTo>
                <a:lnTo>
                  <a:pt x="96" y="305"/>
                </a:lnTo>
                <a:lnTo>
                  <a:pt x="111" y="303"/>
                </a:lnTo>
                <a:lnTo>
                  <a:pt x="128" y="301"/>
                </a:lnTo>
                <a:lnTo>
                  <a:pt x="146" y="299"/>
                </a:lnTo>
                <a:lnTo>
                  <a:pt x="153" y="297"/>
                </a:lnTo>
                <a:lnTo>
                  <a:pt x="163" y="297"/>
                </a:lnTo>
                <a:lnTo>
                  <a:pt x="172" y="296"/>
                </a:lnTo>
                <a:lnTo>
                  <a:pt x="184" y="296"/>
                </a:lnTo>
                <a:lnTo>
                  <a:pt x="194" y="294"/>
                </a:lnTo>
                <a:lnTo>
                  <a:pt x="205" y="292"/>
                </a:lnTo>
                <a:lnTo>
                  <a:pt x="219" y="290"/>
                </a:lnTo>
                <a:lnTo>
                  <a:pt x="230" y="290"/>
                </a:lnTo>
                <a:lnTo>
                  <a:pt x="245" y="288"/>
                </a:lnTo>
                <a:lnTo>
                  <a:pt x="259" y="286"/>
                </a:lnTo>
                <a:lnTo>
                  <a:pt x="272" y="284"/>
                </a:lnTo>
                <a:lnTo>
                  <a:pt x="288" y="282"/>
                </a:lnTo>
                <a:lnTo>
                  <a:pt x="305" y="280"/>
                </a:lnTo>
                <a:lnTo>
                  <a:pt x="320" y="278"/>
                </a:lnTo>
                <a:lnTo>
                  <a:pt x="338" y="274"/>
                </a:lnTo>
                <a:lnTo>
                  <a:pt x="355" y="273"/>
                </a:lnTo>
                <a:lnTo>
                  <a:pt x="374" y="271"/>
                </a:lnTo>
                <a:lnTo>
                  <a:pt x="391" y="267"/>
                </a:lnTo>
                <a:lnTo>
                  <a:pt x="410" y="265"/>
                </a:lnTo>
                <a:lnTo>
                  <a:pt x="432" y="261"/>
                </a:lnTo>
                <a:lnTo>
                  <a:pt x="451" y="259"/>
                </a:lnTo>
                <a:lnTo>
                  <a:pt x="472" y="255"/>
                </a:lnTo>
                <a:lnTo>
                  <a:pt x="493" y="251"/>
                </a:lnTo>
                <a:lnTo>
                  <a:pt x="516" y="249"/>
                </a:lnTo>
                <a:lnTo>
                  <a:pt x="539" y="246"/>
                </a:lnTo>
                <a:lnTo>
                  <a:pt x="562" y="242"/>
                </a:lnTo>
                <a:lnTo>
                  <a:pt x="585" y="238"/>
                </a:lnTo>
                <a:lnTo>
                  <a:pt x="610" y="232"/>
                </a:lnTo>
                <a:lnTo>
                  <a:pt x="635" y="228"/>
                </a:lnTo>
                <a:lnTo>
                  <a:pt x="660" y="225"/>
                </a:lnTo>
                <a:lnTo>
                  <a:pt x="685" y="219"/>
                </a:lnTo>
                <a:lnTo>
                  <a:pt x="712" y="215"/>
                </a:lnTo>
                <a:lnTo>
                  <a:pt x="817" y="194"/>
                </a:lnTo>
                <a:lnTo>
                  <a:pt x="923" y="175"/>
                </a:lnTo>
                <a:lnTo>
                  <a:pt x="1030" y="157"/>
                </a:lnTo>
                <a:lnTo>
                  <a:pt x="1136" y="140"/>
                </a:lnTo>
                <a:lnTo>
                  <a:pt x="1241" y="125"/>
                </a:lnTo>
                <a:lnTo>
                  <a:pt x="1349" y="107"/>
                </a:lnTo>
                <a:lnTo>
                  <a:pt x="1560" y="75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3" descr="7919436411396942839109.png"/>
          <p:cNvPicPr/>
          <p:nvPr/>
        </p:nvPicPr>
        <p:blipFill>
          <a:blip r:embed="rId9"/>
          <a:stretch/>
        </p:blipFill>
        <p:spPr>
          <a:xfrm>
            <a:off x="2373480" y="3357720"/>
            <a:ext cx="952200" cy="376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4" descr="7919436411396942839109.png"/>
          <p:cNvPicPr/>
          <p:nvPr/>
        </p:nvPicPr>
        <p:blipFill>
          <a:blip r:embed="rId10"/>
          <a:srcRect l="0" t="0" r="-10809" b="0"/>
          <a:stretch/>
        </p:blipFill>
        <p:spPr>
          <a:xfrm>
            <a:off x="2371680" y="3733920"/>
            <a:ext cx="1055880" cy="3380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5"/>
          <p:cNvSpPr/>
          <p:nvPr/>
        </p:nvSpPr>
        <p:spPr>
          <a:xfrm>
            <a:off x="3070080" y="3541680"/>
            <a:ext cx="381240" cy="563760"/>
          </a:xfrm>
          <a:custGeom>
            <a:avLst/>
            <a:gdLst/>
            <a:ahLst/>
            <a:rect l="l" t="t" r="r" b="b"/>
            <a:pathLst>
              <a:path w="480" h="710">
                <a:moveTo>
                  <a:pt x="432" y="390"/>
                </a:moveTo>
                <a:lnTo>
                  <a:pt x="441" y="405"/>
                </a:lnTo>
                <a:lnTo>
                  <a:pt x="449" y="418"/>
                </a:lnTo>
                <a:lnTo>
                  <a:pt x="455" y="432"/>
                </a:lnTo>
                <a:lnTo>
                  <a:pt x="460" y="445"/>
                </a:lnTo>
                <a:lnTo>
                  <a:pt x="466" y="459"/>
                </a:lnTo>
                <a:lnTo>
                  <a:pt x="470" y="470"/>
                </a:lnTo>
                <a:lnTo>
                  <a:pt x="474" y="484"/>
                </a:lnTo>
                <a:lnTo>
                  <a:pt x="478" y="497"/>
                </a:lnTo>
                <a:lnTo>
                  <a:pt x="480" y="510"/>
                </a:lnTo>
                <a:lnTo>
                  <a:pt x="480" y="524"/>
                </a:lnTo>
                <a:lnTo>
                  <a:pt x="480" y="535"/>
                </a:lnTo>
                <a:lnTo>
                  <a:pt x="480" y="549"/>
                </a:lnTo>
                <a:lnTo>
                  <a:pt x="480" y="562"/>
                </a:lnTo>
                <a:lnTo>
                  <a:pt x="478" y="576"/>
                </a:lnTo>
                <a:lnTo>
                  <a:pt x="474" y="589"/>
                </a:lnTo>
                <a:lnTo>
                  <a:pt x="472" y="605"/>
                </a:lnTo>
                <a:lnTo>
                  <a:pt x="468" y="618"/>
                </a:lnTo>
                <a:lnTo>
                  <a:pt x="464" y="629"/>
                </a:lnTo>
                <a:lnTo>
                  <a:pt x="460" y="641"/>
                </a:lnTo>
                <a:lnTo>
                  <a:pt x="457" y="652"/>
                </a:lnTo>
                <a:lnTo>
                  <a:pt x="453" y="662"/>
                </a:lnTo>
                <a:lnTo>
                  <a:pt x="449" y="670"/>
                </a:lnTo>
                <a:lnTo>
                  <a:pt x="445" y="677"/>
                </a:lnTo>
                <a:lnTo>
                  <a:pt x="441" y="685"/>
                </a:lnTo>
                <a:lnTo>
                  <a:pt x="439" y="691"/>
                </a:lnTo>
                <a:lnTo>
                  <a:pt x="436" y="697"/>
                </a:lnTo>
                <a:lnTo>
                  <a:pt x="432" y="700"/>
                </a:lnTo>
                <a:lnTo>
                  <a:pt x="428" y="704"/>
                </a:lnTo>
                <a:lnTo>
                  <a:pt x="424" y="706"/>
                </a:lnTo>
                <a:lnTo>
                  <a:pt x="420" y="708"/>
                </a:lnTo>
                <a:lnTo>
                  <a:pt x="416" y="710"/>
                </a:lnTo>
                <a:lnTo>
                  <a:pt x="412" y="710"/>
                </a:lnTo>
                <a:lnTo>
                  <a:pt x="409" y="710"/>
                </a:lnTo>
                <a:lnTo>
                  <a:pt x="405" y="708"/>
                </a:lnTo>
                <a:lnTo>
                  <a:pt x="401" y="706"/>
                </a:lnTo>
                <a:lnTo>
                  <a:pt x="395" y="702"/>
                </a:lnTo>
                <a:lnTo>
                  <a:pt x="391" y="699"/>
                </a:lnTo>
                <a:lnTo>
                  <a:pt x="386" y="693"/>
                </a:lnTo>
                <a:lnTo>
                  <a:pt x="380" y="687"/>
                </a:lnTo>
                <a:lnTo>
                  <a:pt x="374" y="679"/>
                </a:lnTo>
                <a:lnTo>
                  <a:pt x="368" y="672"/>
                </a:lnTo>
                <a:lnTo>
                  <a:pt x="363" y="662"/>
                </a:lnTo>
                <a:lnTo>
                  <a:pt x="355" y="652"/>
                </a:lnTo>
                <a:lnTo>
                  <a:pt x="347" y="643"/>
                </a:lnTo>
                <a:lnTo>
                  <a:pt x="340" y="631"/>
                </a:lnTo>
                <a:lnTo>
                  <a:pt x="332" y="620"/>
                </a:lnTo>
                <a:lnTo>
                  <a:pt x="324" y="606"/>
                </a:lnTo>
                <a:lnTo>
                  <a:pt x="315" y="593"/>
                </a:lnTo>
                <a:lnTo>
                  <a:pt x="297" y="564"/>
                </a:lnTo>
                <a:lnTo>
                  <a:pt x="278" y="535"/>
                </a:lnTo>
                <a:lnTo>
                  <a:pt x="261" y="505"/>
                </a:lnTo>
                <a:lnTo>
                  <a:pt x="242" y="472"/>
                </a:lnTo>
                <a:lnTo>
                  <a:pt x="223" y="439"/>
                </a:lnTo>
                <a:lnTo>
                  <a:pt x="205" y="407"/>
                </a:lnTo>
                <a:lnTo>
                  <a:pt x="186" y="372"/>
                </a:lnTo>
                <a:lnTo>
                  <a:pt x="169" y="338"/>
                </a:lnTo>
                <a:lnTo>
                  <a:pt x="157" y="319"/>
                </a:lnTo>
                <a:lnTo>
                  <a:pt x="148" y="301"/>
                </a:lnTo>
                <a:lnTo>
                  <a:pt x="136" y="284"/>
                </a:lnTo>
                <a:lnTo>
                  <a:pt x="127" y="269"/>
                </a:lnTo>
                <a:lnTo>
                  <a:pt x="117" y="253"/>
                </a:lnTo>
                <a:lnTo>
                  <a:pt x="107" y="238"/>
                </a:lnTo>
                <a:lnTo>
                  <a:pt x="98" y="223"/>
                </a:lnTo>
                <a:lnTo>
                  <a:pt x="90" y="209"/>
                </a:lnTo>
                <a:lnTo>
                  <a:pt x="80" y="196"/>
                </a:lnTo>
                <a:lnTo>
                  <a:pt x="73" y="182"/>
                </a:lnTo>
                <a:lnTo>
                  <a:pt x="65" y="169"/>
                </a:lnTo>
                <a:lnTo>
                  <a:pt x="57" y="157"/>
                </a:lnTo>
                <a:lnTo>
                  <a:pt x="50" y="146"/>
                </a:lnTo>
                <a:lnTo>
                  <a:pt x="44" y="134"/>
                </a:lnTo>
                <a:lnTo>
                  <a:pt x="38" y="123"/>
                </a:lnTo>
                <a:lnTo>
                  <a:pt x="33" y="113"/>
                </a:lnTo>
                <a:lnTo>
                  <a:pt x="23" y="94"/>
                </a:lnTo>
                <a:lnTo>
                  <a:pt x="13" y="75"/>
                </a:lnTo>
                <a:lnTo>
                  <a:pt x="8" y="60"/>
                </a:lnTo>
                <a:lnTo>
                  <a:pt x="6" y="52"/>
                </a:lnTo>
                <a:lnTo>
                  <a:pt x="4" y="44"/>
                </a:lnTo>
                <a:lnTo>
                  <a:pt x="2" y="36"/>
                </a:lnTo>
                <a:lnTo>
                  <a:pt x="0" y="31"/>
                </a:lnTo>
                <a:lnTo>
                  <a:pt x="0" y="25"/>
                </a:lnTo>
                <a:lnTo>
                  <a:pt x="0" y="19"/>
                </a:lnTo>
                <a:lnTo>
                  <a:pt x="0" y="15"/>
                </a:lnTo>
                <a:lnTo>
                  <a:pt x="0" y="12"/>
                </a:lnTo>
                <a:lnTo>
                  <a:pt x="2" y="10"/>
                </a:lnTo>
                <a:lnTo>
                  <a:pt x="4" y="6"/>
                </a:lnTo>
                <a:lnTo>
                  <a:pt x="8" y="4"/>
                </a:lnTo>
                <a:lnTo>
                  <a:pt x="13" y="0"/>
                </a:lnTo>
                <a:lnTo>
                  <a:pt x="23" y="0"/>
                </a:lnTo>
                <a:lnTo>
                  <a:pt x="27" y="0"/>
                </a:lnTo>
                <a:lnTo>
                  <a:pt x="33" y="0"/>
                </a:lnTo>
                <a:lnTo>
                  <a:pt x="38" y="2"/>
                </a:lnTo>
                <a:lnTo>
                  <a:pt x="44" y="4"/>
                </a:lnTo>
                <a:lnTo>
                  <a:pt x="50" y="6"/>
                </a:lnTo>
                <a:lnTo>
                  <a:pt x="57" y="10"/>
                </a:lnTo>
                <a:lnTo>
                  <a:pt x="65" y="13"/>
                </a:lnTo>
                <a:lnTo>
                  <a:pt x="73" y="17"/>
                </a:lnTo>
                <a:lnTo>
                  <a:pt x="82" y="23"/>
                </a:lnTo>
                <a:lnTo>
                  <a:pt x="90" y="29"/>
                </a:lnTo>
                <a:lnTo>
                  <a:pt x="109" y="40"/>
                </a:lnTo>
                <a:lnTo>
                  <a:pt x="128" y="54"/>
                </a:lnTo>
                <a:lnTo>
                  <a:pt x="150" y="69"/>
                </a:lnTo>
                <a:lnTo>
                  <a:pt x="171" y="84"/>
                </a:lnTo>
                <a:lnTo>
                  <a:pt x="194" y="102"/>
                </a:lnTo>
                <a:lnTo>
                  <a:pt x="217" y="123"/>
                </a:lnTo>
                <a:lnTo>
                  <a:pt x="228" y="132"/>
                </a:lnTo>
                <a:lnTo>
                  <a:pt x="242" y="144"/>
                </a:lnTo>
                <a:lnTo>
                  <a:pt x="253" y="154"/>
                </a:lnTo>
                <a:lnTo>
                  <a:pt x="267" y="167"/>
                </a:lnTo>
                <a:lnTo>
                  <a:pt x="292" y="194"/>
                </a:lnTo>
                <a:lnTo>
                  <a:pt x="315" y="223"/>
                </a:lnTo>
                <a:lnTo>
                  <a:pt x="336" y="251"/>
                </a:lnTo>
                <a:lnTo>
                  <a:pt x="357" y="278"/>
                </a:lnTo>
                <a:lnTo>
                  <a:pt x="376" y="307"/>
                </a:lnTo>
                <a:lnTo>
                  <a:pt x="395" y="334"/>
                </a:lnTo>
                <a:lnTo>
                  <a:pt x="414" y="363"/>
                </a:lnTo>
                <a:lnTo>
                  <a:pt x="432" y="39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6"/>
          <p:cNvGrpSpPr/>
          <p:nvPr/>
        </p:nvGrpSpPr>
        <p:grpSpPr>
          <a:xfrm>
            <a:off x="4800600" y="1295280"/>
            <a:ext cx="2984400" cy="779760"/>
            <a:chOff x="4800600" y="1295280"/>
            <a:chExt cx="2984400" cy="779760"/>
          </a:xfrm>
        </p:grpSpPr>
        <p:sp>
          <p:nvSpPr>
            <p:cNvPr id="410" name="Text Box 37"/>
            <p:cNvSpPr/>
            <p:nvPr/>
          </p:nvSpPr>
          <p:spPr>
            <a:xfrm>
              <a:off x="5638680" y="13716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8"/>
            <p:cNvGrpSpPr/>
            <p:nvPr/>
          </p:nvGrpSpPr>
          <p:grpSpPr>
            <a:xfrm>
              <a:off x="6705720" y="1295280"/>
              <a:ext cx="1079280" cy="747720"/>
              <a:chOff x="6705720" y="1295280"/>
              <a:chExt cx="1079280" cy="747720"/>
            </a:xfrm>
          </p:grpSpPr>
          <p:pic>
            <p:nvPicPr>
              <p:cNvPr id="412" name="Picture 39" descr="7919436411396942839109.png"/>
              <p:cNvPicPr/>
              <p:nvPr/>
            </p:nvPicPr>
            <p:blipFill>
              <a:blip r:embed="rId11"/>
              <a:stretch/>
            </p:blipFill>
            <p:spPr>
              <a:xfrm>
                <a:off x="6707160" y="1295280"/>
                <a:ext cx="9525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40" descr="7919436411396942839109.png"/>
              <p:cNvPicPr/>
              <p:nvPr/>
            </p:nvPicPr>
            <p:blipFill>
              <a:blip r:embed="rId12"/>
              <a:srcRect l="0" t="0" r="-10809" b="0"/>
              <a:stretch/>
            </p:blipFill>
            <p:spPr>
              <a:xfrm>
                <a:off x="6705720" y="1671480"/>
                <a:ext cx="1055520" cy="33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AutoShape 41"/>
              <p:cNvSpPr/>
              <p:nvPr/>
            </p:nvSpPr>
            <p:spPr>
              <a:xfrm>
                <a:off x="7404120" y="1479600"/>
                <a:ext cx="380880" cy="563400"/>
              </a:xfrm>
              <a:custGeom>
                <a:avLst/>
                <a:gdLst/>
                <a:ahLst/>
                <a:rect l="l" t="t" r="r" b="b"/>
                <a:pathLst>
                  <a:path w="480" h="710">
                    <a:moveTo>
                      <a:pt x="432" y="390"/>
                    </a:moveTo>
                    <a:lnTo>
                      <a:pt x="441" y="405"/>
                    </a:lnTo>
                    <a:lnTo>
                      <a:pt x="449" y="418"/>
                    </a:lnTo>
                    <a:lnTo>
                      <a:pt x="455" y="432"/>
                    </a:lnTo>
                    <a:lnTo>
                      <a:pt x="460" y="445"/>
                    </a:lnTo>
                    <a:lnTo>
                      <a:pt x="466" y="459"/>
                    </a:lnTo>
                    <a:lnTo>
                      <a:pt x="470" y="470"/>
                    </a:lnTo>
                    <a:lnTo>
                      <a:pt x="474" y="484"/>
                    </a:lnTo>
                    <a:lnTo>
                      <a:pt x="478" y="497"/>
                    </a:lnTo>
                    <a:lnTo>
                      <a:pt x="480" y="510"/>
                    </a:lnTo>
                    <a:lnTo>
                      <a:pt x="480" y="524"/>
                    </a:lnTo>
                    <a:lnTo>
                      <a:pt x="480" y="535"/>
                    </a:lnTo>
                    <a:lnTo>
                      <a:pt x="480" y="549"/>
                    </a:lnTo>
                    <a:lnTo>
                      <a:pt x="480" y="562"/>
                    </a:lnTo>
                    <a:lnTo>
                      <a:pt x="478" y="576"/>
                    </a:lnTo>
                    <a:lnTo>
                      <a:pt x="474" y="589"/>
                    </a:lnTo>
                    <a:lnTo>
                      <a:pt x="472" y="605"/>
                    </a:lnTo>
                    <a:lnTo>
                      <a:pt x="468" y="618"/>
                    </a:lnTo>
                    <a:lnTo>
                      <a:pt x="464" y="629"/>
                    </a:lnTo>
                    <a:lnTo>
                      <a:pt x="460" y="641"/>
                    </a:lnTo>
                    <a:lnTo>
                      <a:pt x="457" y="652"/>
                    </a:lnTo>
                    <a:lnTo>
                      <a:pt x="453" y="662"/>
                    </a:lnTo>
                    <a:lnTo>
                      <a:pt x="449" y="670"/>
                    </a:lnTo>
                    <a:lnTo>
                      <a:pt x="445" y="677"/>
                    </a:lnTo>
                    <a:lnTo>
                      <a:pt x="441" y="685"/>
                    </a:lnTo>
                    <a:lnTo>
                      <a:pt x="439" y="691"/>
                    </a:lnTo>
                    <a:lnTo>
                      <a:pt x="436" y="697"/>
                    </a:lnTo>
                    <a:lnTo>
                      <a:pt x="432" y="700"/>
                    </a:lnTo>
                    <a:lnTo>
                      <a:pt x="428" y="704"/>
                    </a:lnTo>
                    <a:lnTo>
                      <a:pt x="424" y="706"/>
                    </a:lnTo>
                    <a:lnTo>
                      <a:pt x="420" y="708"/>
                    </a:lnTo>
                    <a:lnTo>
                      <a:pt x="416" y="710"/>
                    </a:lnTo>
                    <a:lnTo>
                      <a:pt x="412" y="710"/>
                    </a:lnTo>
                    <a:lnTo>
                      <a:pt x="409" y="710"/>
                    </a:lnTo>
                    <a:lnTo>
                      <a:pt x="405" y="708"/>
                    </a:lnTo>
                    <a:lnTo>
                      <a:pt x="401" y="706"/>
                    </a:lnTo>
                    <a:lnTo>
                      <a:pt x="395" y="702"/>
                    </a:lnTo>
                    <a:lnTo>
                      <a:pt x="391" y="699"/>
                    </a:lnTo>
                    <a:lnTo>
                      <a:pt x="386" y="693"/>
                    </a:lnTo>
                    <a:lnTo>
                      <a:pt x="380" y="687"/>
                    </a:lnTo>
                    <a:lnTo>
                      <a:pt x="374" y="679"/>
                    </a:lnTo>
                    <a:lnTo>
                      <a:pt x="368" y="672"/>
                    </a:lnTo>
                    <a:lnTo>
                      <a:pt x="363" y="662"/>
                    </a:lnTo>
                    <a:lnTo>
                      <a:pt x="355" y="652"/>
                    </a:lnTo>
                    <a:lnTo>
                      <a:pt x="347" y="643"/>
                    </a:lnTo>
                    <a:lnTo>
                      <a:pt x="340" y="631"/>
                    </a:lnTo>
                    <a:lnTo>
                      <a:pt x="332" y="620"/>
                    </a:lnTo>
                    <a:lnTo>
                      <a:pt x="324" y="606"/>
                    </a:lnTo>
                    <a:lnTo>
                      <a:pt x="315" y="593"/>
                    </a:lnTo>
                    <a:lnTo>
                      <a:pt x="297" y="564"/>
                    </a:lnTo>
                    <a:lnTo>
                      <a:pt x="278" y="535"/>
                    </a:lnTo>
                    <a:lnTo>
                      <a:pt x="261" y="505"/>
                    </a:lnTo>
                    <a:lnTo>
                      <a:pt x="242" y="472"/>
                    </a:lnTo>
                    <a:lnTo>
                      <a:pt x="223" y="439"/>
                    </a:lnTo>
                    <a:lnTo>
                      <a:pt x="205" y="407"/>
                    </a:lnTo>
                    <a:lnTo>
                      <a:pt x="186" y="372"/>
                    </a:lnTo>
                    <a:lnTo>
                      <a:pt x="169" y="338"/>
                    </a:lnTo>
                    <a:lnTo>
                      <a:pt x="157" y="319"/>
                    </a:lnTo>
                    <a:lnTo>
                      <a:pt x="148" y="301"/>
                    </a:lnTo>
                    <a:lnTo>
                      <a:pt x="136" y="284"/>
                    </a:lnTo>
                    <a:lnTo>
                      <a:pt x="127" y="269"/>
                    </a:lnTo>
                    <a:lnTo>
                      <a:pt x="117" y="253"/>
                    </a:lnTo>
                    <a:lnTo>
                      <a:pt x="107" y="238"/>
                    </a:lnTo>
                    <a:lnTo>
                      <a:pt x="98" y="223"/>
                    </a:lnTo>
                    <a:lnTo>
                      <a:pt x="90" y="209"/>
                    </a:lnTo>
                    <a:lnTo>
                      <a:pt x="80" y="196"/>
                    </a:lnTo>
                    <a:lnTo>
                      <a:pt x="73" y="182"/>
                    </a:lnTo>
                    <a:lnTo>
                      <a:pt x="65" y="169"/>
                    </a:lnTo>
                    <a:lnTo>
                      <a:pt x="57" y="157"/>
                    </a:lnTo>
                    <a:lnTo>
                      <a:pt x="50" y="146"/>
                    </a:lnTo>
                    <a:lnTo>
                      <a:pt x="44" y="134"/>
                    </a:lnTo>
                    <a:lnTo>
                      <a:pt x="38" y="123"/>
                    </a:lnTo>
                    <a:lnTo>
                      <a:pt x="33" y="113"/>
                    </a:lnTo>
                    <a:lnTo>
                      <a:pt x="23" y="94"/>
                    </a:lnTo>
                    <a:lnTo>
                      <a:pt x="13" y="75"/>
                    </a:lnTo>
                    <a:lnTo>
                      <a:pt x="8" y="60"/>
                    </a:lnTo>
                    <a:lnTo>
                      <a:pt x="6" y="52"/>
                    </a:lnTo>
                    <a:lnTo>
                      <a:pt x="4" y="44"/>
                    </a:lnTo>
                    <a:lnTo>
                      <a:pt x="2" y="36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50" y="6"/>
                    </a:lnTo>
                    <a:lnTo>
                      <a:pt x="57" y="10"/>
                    </a:lnTo>
                    <a:lnTo>
                      <a:pt x="65" y="13"/>
                    </a:lnTo>
                    <a:lnTo>
                      <a:pt x="73" y="17"/>
                    </a:lnTo>
                    <a:lnTo>
                      <a:pt x="82" y="23"/>
                    </a:lnTo>
                    <a:lnTo>
                      <a:pt x="90" y="29"/>
                    </a:lnTo>
                    <a:lnTo>
                      <a:pt x="109" y="40"/>
                    </a:lnTo>
                    <a:lnTo>
                      <a:pt x="128" y="54"/>
                    </a:lnTo>
                    <a:lnTo>
                      <a:pt x="150" y="69"/>
                    </a:lnTo>
                    <a:lnTo>
                      <a:pt x="171" y="84"/>
                    </a:lnTo>
                    <a:lnTo>
                      <a:pt x="194" y="102"/>
                    </a:lnTo>
                    <a:lnTo>
                      <a:pt x="217" y="123"/>
                    </a:lnTo>
                    <a:lnTo>
                      <a:pt x="228" y="132"/>
                    </a:lnTo>
                    <a:lnTo>
                      <a:pt x="242" y="144"/>
                    </a:lnTo>
                    <a:lnTo>
                      <a:pt x="253" y="154"/>
                    </a:lnTo>
                    <a:lnTo>
                      <a:pt x="267" y="167"/>
                    </a:lnTo>
                    <a:lnTo>
                      <a:pt x="292" y="194"/>
                    </a:lnTo>
                    <a:lnTo>
                      <a:pt x="315" y="223"/>
                    </a:lnTo>
                    <a:lnTo>
                      <a:pt x="336" y="251"/>
                    </a:lnTo>
                    <a:lnTo>
                      <a:pt x="357" y="278"/>
                    </a:lnTo>
                    <a:lnTo>
                      <a:pt x="376" y="307"/>
                    </a:lnTo>
                    <a:lnTo>
                      <a:pt x="395" y="334"/>
                    </a:lnTo>
                    <a:lnTo>
                      <a:pt x="414" y="363"/>
                    </a:lnTo>
                    <a:lnTo>
                      <a:pt x="432" y="390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42"/>
            <p:cNvGrpSpPr/>
            <p:nvPr/>
          </p:nvGrpSpPr>
          <p:grpSpPr>
            <a:xfrm>
              <a:off x="4800600" y="1447920"/>
              <a:ext cx="723960" cy="495360"/>
              <a:chOff x="4800600" y="1447920"/>
              <a:chExt cx="723960" cy="495360"/>
            </a:xfrm>
          </p:grpSpPr>
          <p:sp>
            <p:nvSpPr>
              <p:cNvPr id="416" name="AutoShape 43"/>
              <p:cNvSpPr/>
              <p:nvPr/>
            </p:nvSpPr>
            <p:spPr>
              <a:xfrm>
                <a:off x="4800600" y="1447920"/>
                <a:ext cx="625320" cy="460080"/>
              </a:xfrm>
              <a:custGeom>
                <a:avLst/>
                <a:gdLst/>
                <a:ahLst/>
                <a:rect l="l" t="t" r="r" b="b"/>
                <a:pathLst>
                  <a:path w="789" h="582">
                    <a:moveTo>
                      <a:pt x="165" y="354"/>
                    </a:moveTo>
                    <a:lnTo>
                      <a:pt x="182" y="336"/>
                    </a:lnTo>
                    <a:lnTo>
                      <a:pt x="200" y="319"/>
                    </a:lnTo>
                    <a:lnTo>
                      <a:pt x="217" y="300"/>
                    </a:lnTo>
                    <a:lnTo>
                      <a:pt x="234" y="279"/>
                    </a:lnTo>
                    <a:lnTo>
                      <a:pt x="251" y="258"/>
                    </a:lnTo>
                    <a:lnTo>
                      <a:pt x="271" y="235"/>
                    </a:lnTo>
                    <a:lnTo>
                      <a:pt x="288" y="210"/>
                    </a:lnTo>
                    <a:lnTo>
                      <a:pt x="307" y="183"/>
                    </a:lnTo>
                    <a:lnTo>
                      <a:pt x="317" y="169"/>
                    </a:lnTo>
                    <a:lnTo>
                      <a:pt x="324" y="158"/>
                    </a:lnTo>
                    <a:lnTo>
                      <a:pt x="330" y="146"/>
                    </a:lnTo>
                    <a:lnTo>
                      <a:pt x="336" y="135"/>
                    </a:lnTo>
                    <a:lnTo>
                      <a:pt x="342" y="125"/>
                    </a:lnTo>
                    <a:lnTo>
                      <a:pt x="347" y="116"/>
                    </a:lnTo>
                    <a:lnTo>
                      <a:pt x="351" y="106"/>
                    </a:lnTo>
                    <a:lnTo>
                      <a:pt x="355" y="96"/>
                    </a:lnTo>
                    <a:lnTo>
                      <a:pt x="359" y="89"/>
                    </a:lnTo>
                    <a:lnTo>
                      <a:pt x="361" y="81"/>
                    </a:lnTo>
                    <a:lnTo>
                      <a:pt x="363" y="75"/>
                    </a:lnTo>
                    <a:lnTo>
                      <a:pt x="363" y="68"/>
                    </a:lnTo>
                    <a:lnTo>
                      <a:pt x="363" y="62"/>
                    </a:lnTo>
                    <a:lnTo>
                      <a:pt x="363" y="58"/>
                    </a:lnTo>
                    <a:lnTo>
                      <a:pt x="363" y="52"/>
                    </a:lnTo>
                    <a:lnTo>
                      <a:pt x="361" y="48"/>
                    </a:lnTo>
                    <a:lnTo>
                      <a:pt x="355" y="41"/>
                    </a:lnTo>
                    <a:lnTo>
                      <a:pt x="353" y="33"/>
                    </a:lnTo>
                    <a:lnTo>
                      <a:pt x="351" y="27"/>
                    </a:lnTo>
                    <a:lnTo>
                      <a:pt x="349" y="22"/>
                    </a:lnTo>
                    <a:lnTo>
                      <a:pt x="349" y="16"/>
                    </a:lnTo>
                    <a:lnTo>
                      <a:pt x="349" y="12"/>
                    </a:lnTo>
                    <a:lnTo>
                      <a:pt x="351" y="8"/>
                    </a:lnTo>
                    <a:lnTo>
                      <a:pt x="353" y="6"/>
                    </a:lnTo>
                    <a:lnTo>
                      <a:pt x="357" y="2"/>
                    </a:lnTo>
                    <a:lnTo>
                      <a:pt x="363" y="2"/>
                    </a:lnTo>
                    <a:lnTo>
                      <a:pt x="368" y="0"/>
                    </a:lnTo>
                    <a:lnTo>
                      <a:pt x="376" y="0"/>
                    </a:lnTo>
                    <a:lnTo>
                      <a:pt x="388" y="0"/>
                    </a:lnTo>
                    <a:lnTo>
                      <a:pt x="397" y="2"/>
                    </a:lnTo>
                    <a:lnTo>
                      <a:pt x="411" y="2"/>
                    </a:lnTo>
                    <a:lnTo>
                      <a:pt x="424" y="6"/>
                    </a:lnTo>
                    <a:lnTo>
                      <a:pt x="438" y="8"/>
                    </a:lnTo>
                    <a:lnTo>
                      <a:pt x="447" y="12"/>
                    </a:lnTo>
                    <a:lnTo>
                      <a:pt x="459" y="16"/>
                    </a:lnTo>
                    <a:lnTo>
                      <a:pt x="468" y="22"/>
                    </a:lnTo>
                    <a:lnTo>
                      <a:pt x="476" y="27"/>
                    </a:lnTo>
                    <a:lnTo>
                      <a:pt x="484" y="33"/>
                    </a:lnTo>
                    <a:lnTo>
                      <a:pt x="491" y="41"/>
                    </a:lnTo>
                    <a:lnTo>
                      <a:pt x="497" y="48"/>
                    </a:lnTo>
                    <a:lnTo>
                      <a:pt x="501" y="64"/>
                    </a:lnTo>
                    <a:lnTo>
                      <a:pt x="503" y="71"/>
                    </a:lnTo>
                    <a:lnTo>
                      <a:pt x="505" y="79"/>
                    </a:lnTo>
                    <a:lnTo>
                      <a:pt x="505" y="87"/>
                    </a:lnTo>
                    <a:lnTo>
                      <a:pt x="505" y="93"/>
                    </a:lnTo>
                    <a:lnTo>
                      <a:pt x="505" y="100"/>
                    </a:lnTo>
                    <a:lnTo>
                      <a:pt x="503" y="106"/>
                    </a:lnTo>
                    <a:lnTo>
                      <a:pt x="501" y="108"/>
                    </a:lnTo>
                    <a:lnTo>
                      <a:pt x="499" y="112"/>
                    </a:lnTo>
                    <a:lnTo>
                      <a:pt x="495" y="118"/>
                    </a:lnTo>
                    <a:lnTo>
                      <a:pt x="491" y="123"/>
                    </a:lnTo>
                    <a:lnTo>
                      <a:pt x="486" y="129"/>
                    </a:lnTo>
                    <a:lnTo>
                      <a:pt x="478" y="137"/>
                    </a:lnTo>
                    <a:lnTo>
                      <a:pt x="472" y="144"/>
                    </a:lnTo>
                    <a:lnTo>
                      <a:pt x="463" y="154"/>
                    </a:lnTo>
                    <a:lnTo>
                      <a:pt x="453" y="164"/>
                    </a:lnTo>
                    <a:lnTo>
                      <a:pt x="443" y="175"/>
                    </a:lnTo>
                    <a:lnTo>
                      <a:pt x="432" y="187"/>
                    </a:lnTo>
                    <a:lnTo>
                      <a:pt x="420" y="200"/>
                    </a:lnTo>
                    <a:lnTo>
                      <a:pt x="407" y="213"/>
                    </a:lnTo>
                    <a:lnTo>
                      <a:pt x="392" y="229"/>
                    </a:lnTo>
                    <a:lnTo>
                      <a:pt x="376" y="244"/>
                    </a:lnTo>
                    <a:lnTo>
                      <a:pt x="361" y="261"/>
                    </a:lnTo>
                    <a:lnTo>
                      <a:pt x="342" y="279"/>
                    </a:lnTo>
                    <a:lnTo>
                      <a:pt x="326" y="294"/>
                    </a:lnTo>
                    <a:lnTo>
                      <a:pt x="311" y="309"/>
                    </a:lnTo>
                    <a:lnTo>
                      <a:pt x="298" y="325"/>
                    </a:lnTo>
                    <a:lnTo>
                      <a:pt x="284" y="338"/>
                    </a:lnTo>
                    <a:lnTo>
                      <a:pt x="273" y="350"/>
                    </a:lnTo>
                    <a:lnTo>
                      <a:pt x="263" y="361"/>
                    </a:lnTo>
                    <a:lnTo>
                      <a:pt x="253" y="373"/>
                    </a:lnTo>
                    <a:lnTo>
                      <a:pt x="246" y="382"/>
                    </a:lnTo>
                    <a:lnTo>
                      <a:pt x="238" y="390"/>
                    </a:lnTo>
                    <a:lnTo>
                      <a:pt x="232" y="398"/>
                    </a:lnTo>
                    <a:lnTo>
                      <a:pt x="228" y="403"/>
                    </a:lnTo>
                    <a:lnTo>
                      <a:pt x="225" y="409"/>
                    </a:lnTo>
                    <a:lnTo>
                      <a:pt x="223" y="413"/>
                    </a:lnTo>
                    <a:lnTo>
                      <a:pt x="223" y="417"/>
                    </a:lnTo>
                    <a:lnTo>
                      <a:pt x="223" y="419"/>
                    </a:lnTo>
                    <a:lnTo>
                      <a:pt x="225" y="419"/>
                    </a:lnTo>
                    <a:lnTo>
                      <a:pt x="227" y="421"/>
                    </a:lnTo>
                    <a:lnTo>
                      <a:pt x="230" y="421"/>
                    </a:lnTo>
                    <a:lnTo>
                      <a:pt x="232" y="423"/>
                    </a:lnTo>
                    <a:lnTo>
                      <a:pt x="236" y="423"/>
                    </a:lnTo>
                    <a:lnTo>
                      <a:pt x="242" y="423"/>
                    </a:lnTo>
                    <a:lnTo>
                      <a:pt x="248" y="423"/>
                    </a:lnTo>
                    <a:lnTo>
                      <a:pt x="253" y="423"/>
                    </a:lnTo>
                    <a:lnTo>
                      <a:pt x="259" y="423"/>
                    </a:lnTo>
                    <a:lnTo>
                      <a:pt x="267" y="421"/>
                    </a:lnTo>
                    <a:lnTo>
                      <a:pt x="274" y="421"/>
                    </a:lnTo>
                    <a:lnTo>
                      <a:pt x="282" y="419"/>
                    </a:lnTo>
                    <a:lnTo>
                      <a:pt x="290" y="417"/>
                    </a:lnTo>
                    <a:lnTo>
                      <a:pt x="299" y="415"/>
                    </a:lnTo>
                    <a:lnTo>
                      <a:pt x="311" y="413"/>
                    </a:lnTo>
                    <a:lnTo>
                      <a:pt x="321" y="411"/>
                    </a:lnTo>
                    <a:lnTo>
                      <a:pt x="344" y="407"/>
                    </a:lnTo>
                    <a:lnTo>
                      <a:pt x="367" y="403"/>
                    </a:lnTo>
                    <a:lnTo>
                      <a:pt x="393" y="398"/>
                    </a:lnTo>
                    <a:lnTo>
                      <a:pt x="420" y="392"/>
                    </a:lnTo>
                    <a:lnTo>
                      <a:pt x="434" y="388"/>
                    </a:lnTo>
                    <a:lnTo>
                      <a:pt x="449" y="384"/>
                    </a:lnTo>
                    <a:lnTo>
                      <a:pt x="464" y="380"/>
                    </a:lnTo>
                    <a:lnTo>
                      <a:pt x="480" y="377"/>
                    </a:lnTo>
                    <a:lnTo>
                      <a:pt x="497" y="373"/>
                    </a:lnTo>
                    <a:lnTo>
                      <a:pt x="512" y="369"/>
                    </a:lnTo>
                    <a:lnTo>
                      <a:pt x="530" y="365"/>
                    </a:lnTo>
                    <a:lnTo>
                      <a:pt x="549" y="361"/>
                    </a:lnTo>
                    <a:lnTo>
                      <a:pt x="581" y="354"/>
                    </a:lnTo>
                    <a:lnTo>
                      <a:pt x="614" y="348"/>
                    </a:lnTo>
                    <a:lnTo>
                      <a:pt x="645" y="342"/>
                    </a:lnTo>
                    <a:lnTo>
                      <a:pt x="675" y="338"/>
                    </a:lnTo>
                    <a:lnTo>
                      <a:pt x="706" y="334"/>
                    </a:lnTo>
                    <a:lnTo>
                      <a:pt x="735" y="330"/>
                    </a:lnTo>
                    <a:lnTo>
                      <a:pt x="762" y="329"/>
                    </a:lnTo>
                    <a:lnTo>
                      <a:pt x="789" y="325"/>
                    </a:lnTo>
                    <a:lnTo>
                      <a:pt x="789" y="382"/>
                    </a:lnTo>
                    <a:lnTo>
                      <a:pt x="770" y="386"/>
                    </a:lnTo>
                    <a:lnTo>
                      <a:pt x="752" y="390"/>
                    </a:lnTo>
                    <a:lnTo>
                      <a:pt x="733" y="394"/>
                    </a:lnTo>
                    <a:lnTo>
                      <a:pt x="716" y="398"/>
                    </a:lnTo>
                    <a:lnTo>
                      <a:pt x="699" y="400"/>
                    </a:lnTo>
                    <a:lnTo>
                      <a:pt x="683" y="403"/>
                    </a:lnTo>
                    <a:lnTo>
                      <a:pt x="668" y="407"/>
                    </a:lnTo>
                    <a:lnTo>
                      <a:pt x="652" y="409"/>
                    </a:lnTo>
                    <a:lnTo>
                      <a:pt x="637" y="413"/>
                    </a:lnTo>
                    <a:lnTo>
                      <a:pt x="624" y="415"/>
                    </a:lnTo>
                    <a:lnTo>
                      <a:pt x="608" y="419"/>
                    </a:lnTo>
                    <a:lnTo>
                      <a:pt x="597" y="421"/>
                    </a:lnTo>
                    <a:lnTo>
                      <a:pt x="583" y="425"/>
                    </a:lnTo>
                    <a:lnTo>
                      <a:pt x="572" y="426"/>
                    </a:lnTo>
                    <a:lnTo>
                      <a:pt x="549" y="432"/>
                    </a:lnTo>
                    <a:lnTo>
                      <a:pt x="526" y="440"/>
                    </a:lnTo>
                    <a:lnTo>
                      <a:pt x="501" y="448"/>
                    </a:lnTo>
                    <a:lnTo>
                      <a:pt x="474" y="455"/>
                    </a:lnTo>
                    <a:lnTo>
                      <a:pt x="447" y="465"/>
                    </a:lnTo>
                    <a:lnTo>
                      <a:pt x="416" y="472"/>
                    </a:lnTo>
                    <a:lnTo>
                      <a:pt x="386" y="480"/>
                    </a:lnTo>
                    <a:lnTo>
                      <a:pt x="355" y="488"/>
                    </a:lnTo>
                    <a:lnTo>
                      <a:pt x="321" y="496"/>
                    </a:lnTo>
                    <a:lnTo>
                      <a:pt x="303" y="499"/>
                    </a:lnTo>
                    <a:lnTo>
                      <a:pt x="286" y="503"/>
                    </a:lnTo>
                    <a:lnTo>
                      <a:pt x="271" y="507"/>
                    </a:lnTo>
                    <a:lnTo>
                      <a:pt x="255" y="513"/>
                    </a:lnTo>
                    <a:lnTo>
                      <a:pt x="240" y="517"/>
                    </a:lnTo>
                    <a:lnTo>
                      <a:pt x="227" y="520"/>
                    </a:lnTo>
                    <a:lnTo>
                      <a:pt x="215" y="524"/>
                    </a:lnTo>
                    <a:lnTo>
                      <a:pt x="203" y="528"/>
                    </a:lnTo>
                    <a:lnTo>
                      <a:pt x="192" y="532"/>
                    </a:lnTo>
                    <a:lnTo>
                      <a:pt x="182" y="536"/>
                    </a:lnTo>
                    <a:lnTo>
                      <a:pt x="173" y="540"/>
                    </a:lnTo>
                    <a:lnTo>
                      <a:pt x="165" y="543"/>
                    </a:lnTo>
                    <a:lnTo>
                      <a:pt x="157" y="547"/>
                    </a:lnTo>
                    <a:lnTo>
                      <a:pt x="150" y="551"/>
                    </a:lnTo>
                    <a:lnTo>
                      <a:pt x="144" y="555"/>
                    </a:lnTo>
                    <a:lnTo>
                      <a:pt x="138" y="561"/>
                    </a:lnTo>
                    <a:lnTo>
                      <a:pt x="129" y="565"/>
                    </a:lnTo>
                    <a:lnTo>
                      <a:pt x="121" y="568"/>
                    </a:lnTo>
                    <a:lnTo>
                      <a:pt x="111" y="572"/>
                    </a:lnTo>
                    <a:lnTo>
                      <a:pt x="104" y="576"/>
                    </a:lnTo>
                    <a:lnTo>
                      <a:pt x="98" y="578"/>
                    </a:lnTo>
                    <a:lnTo>
                      <a:pt x="90" y="580"/>
                    </a:lnTo>
                    <a:lnTo>
                      <a:pt x="85" y="580"/>
                    </a:lnTo>
                    <a:lnTo>
                      <a:pt x="81" y="582"/>
                    </a:lnTo>
                    <a:lnTo>
                      <a:pt x="73" y="580"/>
                    </a:lnTo>
                    <a:lnTo>
                      <a:pt x="67" y="578"/>
                    </a:lnTo>
                    <a:lnTo>
                      <a:pt x="60" y="574"/>
                    </a:lnTo>
                    <a:lnTo>
                      <a:pt x="54" y="570"/>
                    </a:lnTo>
                    <a:lnTo>
                      <a:pt x="48" y="563"/>
                    </a:lnTo>
                    <a:lnTo>
                      <a:pt x="42" y="555"/>
                    </a:lnTo>
                    <a:lnTo>
                      <a:pt x="35" y="543"/>
                    </a:lnTo>
                    <a:lnTo>
                      <a:pt x="31" y="538"/>
                    </a:lnTo>
                    <a:lnTo>
                      <a:pt x="29" y="532"/>
                    </a:lnTo>
                    <a:lnTo>
                      <a:pt x="21" y="520"/>
                    </a:lnTo>
                    <a:lnTo>
                      <a:pt x="15" y="511"/>
                    </a:lnTo>
                    <a:lnTo>
                      <a:pt x="10" y="503"/>
                    </a:lnTo>
                    <a:lnTo>
                      <a:pt x="6" y="494"/>
                    </a:lnTo>
                    <a:lnTo>
                      <a:pt x="2" y="486"/>
                    </a:lnTo>
                    <a:lnTo>
                      <a:pt x="0" y="480"/>
                    </a:lnTo>
                    <a:lnTo>
                      <a:pt x="0" y="472"/>
                    </a:lnTo>
                    <a:lnTo>
                      <a:pt x="2" y="467"/>
                    </a:lnTo>
                    <a:lnTo>
                      <a:pt x="2" y="463"/>
                    </a:lnTo>
                    <a:lnTo>
                      <a:pt x="6" y="457"/>
                    </a:lnTo>
                    <a:lnTo>
                      <a:pt x="10" y="451"/>
                    </a:lnTo>
                    <a:lnTo>
                      <a:pt x="15" y="448"/>
                    </a:lnTo>
                    <a:lnTo>
                      <a:pt x="23" y="442"/>
                    </a:lnTo>
                    <a:lnTo>
                      <a:pt x="33" y="438"/>
                    </a:lnTo>
                    <a:lnTo>
                      <a:pt x="42" y="434"/>
                    </a:lnTo>
                    <a:lnTo>
                      <a:pt x="54" y="432"/>
                    </a:lnTo>
                    <a:lnTo>
                      <a:pt x="60" y="430"/>
                    </a:lnTo>
                    <a:lnTo>
                      <a:pt x="67" y="428"/>
                    </a:lnTo>
                    <a:lnTo>
                      <a:pt x="79" y="423"/>
                    </a:lnTo>
                    <a:lnTo>
                      <a:pt x="92" y="415"/>
                    </a:lnTo>
                    <a:lnTo>
                      <a:pt x="106" y="407"/>
                    </a:lnTo>
                    <a:lnTo>
                      <a:pt x="119" y="396"/>
                    </a:lnTo>
                    <a:lnTo>
                      <a:pt x="132" y="382"/>
                    </a:lnTo>
                    <a:lnTo>
                      <a:pt x="148" y="369"/>
                    </a:lnTo>
                    <a:lnTo>
                      <a:pt x="165" y="35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44"/>
              <p:cNvSpPr/>
              <p:nvPr/>
            </p:nvSpPr>
            <p:spPr>
              <a:xfrm>
                <a:off x="5270400" y="1566720"/>
                <a:ext cx="254160" cy="376560"/>
              </a:xfrm>
              <a:custGeom>
                <a:avLst/>
                <a:gdLst/>
                <a:ahLst/>
                <a:rect l="l" t="t" r="r" b="b"/>
                <a:pathLst>
                  <a:path w="320" h="474">
                    <a:moveTo>
                      <a:pt x="290" y="261"/>
                    </a:moveTo>
                    <a:lnTo>
                      <a:pt x="296" y="271"/>
                    </a:lnTo>
                    <a:lnTo>
                      <a:pt x="299" y="278"/>
                    </a:lnTo>
                    <a:lnTo>
                      <a:pt x="305" y="288"/>
                    </a:lnTo>
                    <a:lnTo>
                      <a:pt x="309" y="298"/>
                    </a:lnTo>
                    <a:lnTo>
                      <a:pt x="313" y="305"/>
                    </a:lnTo>
                    <a:lnTo>
                      <a:pt x="315" y="315"/>
                    </a:lnTo>
                    <a:lnTo>
                      <a:pt x="317" y="322"/>
                    </a:lnTo>
                    <a:lnTo>
                      <a:pt x="319" y="332"/>
                    </a:lnTo>
                    <a:lnTo>
                      <a:pt x="320" y="340"/>
                    </a:lnTo>
                    <a:lnTo>
                      <a:pt x="320" y="349"/>
                    </a:lnTo>
                    <a:lnTo>
                      <a:pt x="320" y="357"/>
                    </a:lnTo>
                    <a:lnTo>
                      <a:pt x="320" y="367"/>
                    </a:lnTo>
                    <a:lnTo>
                      <a:pt x="320" y="376"/>
                    </a:lnTo>
                    <a:lnTo>
                      <a:pt x="319" y="384"/>
                    </a:lnTo>
                    <a:lnTo>
                      <a:pt x="315" y="403"/>
                    </a:lnTo>
                    <a:lnTo>
                      <a:pt x="313" y="411"/>
                    </a:lnTo>
                    <a:lnTo>
                      <a:pt x="311" y="420"/>
                    </a:lnTo>
                    <a:lnTo>
                      <a:pt x="309" y="428"/>
                    </a:lnTo>
                    <a:lnTo>
                      <a:pt x="305" y="436"/>
                    </a:lnTo>
                    <a:lnTo>
                      <a:pt x="303" y="441"/>
                    </a:lnTo>
                    <a:lnTo>
                      <a:pt x="301" y="447"/>
                    </a:lnTo>
                    <a:lnTo>
                      <a:pt x="297" y="453"/>
                    </a:lnTo>
                    <a:lnTo>
                      <a:pt x="296" y="457"/>
                    </a:lnTo>
                    <a:lnTo>
                      <a:pt x="294" y="461"/>
                    </a:lnTo>
                    <a:lnTo>
                      <a:pt x="292" y="464"/>
                    </a:lnTo>
                    <a:lnTo>
                      <a:pt x="288" y="468"/>
                    </a:lnTo>
                    <a:lnTo>
                      <a:pt x="286" y="470"/>
                    </a:lnTo>
                    <a:lnTo>
                      <a:pt x="284" y="472"/>
                    </a:lnTo>
                    <a:lnTo>
                      <a:pt x="280" y="472"/>
                    </a:lnTo>
                    <a:lnTo>
                      <a:pt x="278" y="474"/>
                    </a:lnTo>
                    <a:lnTo>
                      <a:pt x="276" y="474"/>
                    </a:lnTo>
                    <a:lnTo>
                      <a:pt x="274" y="474"/>
                    </a:lnTo>
                    <a:lnTo>
                      <a:pt x="271" y="472"/>
                    </a:lnTo>
                    <a:lnTo>
                      <a:pt x="269" y="470"/>
                    </a:lnTo>
                    <a:lnTo>
                      <a:pt x="265" y="468"/>
                    </a:lnTo>
                    <a:lnTo>
                      <a:pt x="261" y="466"/>
                    </a:lnTo>
                    <a:lnTo>
                      <a:pt x="259" y="463"/>
                    </a:lnTo>
                    <a:lnTo>
                      <a:pt x="255" y="459"/>
                    </a:lnTo>
                    <a:lnTo>
                      <a:pt x="251" y="453"/>
                    </a:lnTo>
                    <a:lnTo>
                      <a:pt x="248" y="449"/>
                    </a:lnTo>
                    <a:lnTo>
                      <a:pt x="242" y="441"/>
                    </a:lnTo>
                    <a:lnTo>
                      <a:pt x="238" y="436"/>
                    </a:lnTo>
                    <a:lnTo>
                      <a:pt x="232" y="428"/>
                    </a:lnTo>
                    <a:lnTo>
                      <a:pt x="228" y="422"/>
                    </a:lnTo>
                    <a:lnTo>
                      <a:pt x="223" y="413"/>
                    </a:lnTo>
                    <a:lnTo>
                      <a:pt x="217" y="405"/>
                    </a:lnTo>
                    <a:lnTo>
                      <a:pt x="211" y="395"/>
                    </a:lnTo>
                    <a:lnTo>
                      <a:pt x="200" y="376"/>
                    </a:lnTo>
                    <a:lnTo>
                      <a:pt x="186" y="357"/>
                    </a:lnTo>
                    <a:lnTo>
                      <a:pt x="175" y="336"/>
                    </a:lnTo>
                    <a:lnTo>
                      <a:pt x="163" y="315"/>
                    </a:lnTo>
                    <a:lnTo>
                      <a:pt x="150" y="294"/>
                    </a:lnTo>
                    <a:lnTo>
                      <a:pt x="138" y="273"/>
                    </a:lnTo>
                    <a:lnTo>
                      <a:pt x="125" y="250"/>
                    </a:lnTo>
                    <a:lnTo>
                      <a:pt x="113" y="225"/>
                    </a:lnTo>
                    <a:lnTo>
                      <a:pt x="100" y="202"/>
                    </a:lnTo>
                    <a:lnTo>
                      <a:pt x="86" y="180"/>
                    </a:lnTo>
                    <a:lnTo>
                      <a:pt x="73" y="159"/>
                    </a:lnTo>
                    <a:lnTo>
                      <a:pt x="61" y="140"/>
                    </a:lnTo>
                    <a:lnTo>
                      <a:pt x="50" y="121"/>
                    </a:lnTo>
                    <a:lnTo>
                      <a:pt x="40" y="106"/>
                    </a:lnTo>
                    <a:lnTo>
                      <a:pt x="31" y="90"/>
                    </a:lnTo>
                    <a:lnTo>
                      <a:pt x="23" y="77"/>
                    </a:lnTo>
                    <a:lnTo>
                      <a:pt x="15" y="63"/>
                    </a:lnTo>
                    <a:lnTo>
                      <a:pt x="10" y="50"/>
                    </a:lnTo>
                    <a:lnTo>
                      <a:pt x="6" y="40"/>
                    </a:lnTo>
                    <a:lnTo>
                      <a:pt x="4" y="29"/>
                    </a:lnTo>
                    <a:lnTo>
                      <a:pt x="2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4"/>
                    </a:lnTo>
                    <a:lnTo>
                      <a:pt x="40" y="6"/>
                    </a:lnTo>
                    <a:lnTo>
                      <a:pt x="50" y="12"/>
                    </a:lnTo>
                    <a:lnTo>
                      <a:pt x="56" y="15"/>
                    </a:lnTo>
                    <a:lnTo>
                      <a:pt x="61" y="19"/>
                    </a:lnTo>
                    <a:lnTo>
                      <a:pt x="75" y="27"/>
                    </a:lnTo>
                    <a:lnTo>
                      <a:pt x="86" y="37"/>
                    </a:lnTo>
                    <a:lnTo>
                      <a:pt x="102" y="46"/>
                    </a:lnTo>
                    <a:lnTo>
                      <a:pt x="115" y="58"/>
                    </a:lnTo>
                    <a:lnTo>
                      <a:pt x="131" y="69"/>
                    </a:lnTo>
                    <a:lnTo>
                      <a:pt x="146" y="83"/>
                    </a:lnTo>
                    <a:lnTo>
                      <a:pt x="161" y="96"/>
                    </a:lnTo>
                    <a:lnTo>
                      <a:pt x="179" y="111"/>
                    </a:lnTo>
                    <a:lnTo>
                      <a:pt x="196" y="131"/>
                    </a:lnTo>
                    <a:lnTo>
                      <a:pt x="211" y="150"/>
                    </a:lnTo>
                    <a:lnTo>
                      <a:pt x="225" y="167"/>
                    </a:lnTo>
                    <a:lnTo>
                      <a:pt x="238" y="186"/>
                    </a:lnTo>
                    <a:lnTo>
                      <a:pt x="251" y="205"/>
                    </a:lnTo>
                    <a:lnTo>
                      <a:pt x="265" y="223"/>
                    </a:lnTo>
                    <a:lnTo>
                      <a:pt x="290" y="26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500"/>
                            </p:stCondLst>
                            <p:childTnLst>
                              <p:par>
                                <p:cTn id="2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4648320" y="3809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走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304920" y="4952880"/>
            <a:ext cx="853416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夜里，狼从窟窿钻进去，把那只羊叼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1"/>
          <p:cNvGrpSpPr/>
          <p:nvPr/>
        </p:nvGrpSpPr>
        <p:grpSpPr>
          <a:xfrm>
            <a:off x="1566720" y="1886040"/>
            <a:ext cx="2657520" cy="2657520"/>
            <a:chOff x="1566720" y="1886040"/>
            <a:chExt cx="2657520" cy="2657520"/>
          </a:xfrm>
        </p:grpSpPr>
        <p:sp>
          <p:nvSpPr>
            <p:cNvPr id="428" name="Rectangle 12"/>
            <p:cNvSpPr/>
            <p:nvPr/>
          </p:nvSpPr>
          <p:spPr>
            <a:xfrm>
              <a:off x="1566720" y="188604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1566720" y="322596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4"/>
            <p:cNvSpPr/>
            <p:nvPr/>
          </p:nvSpPr>
          <p:spPr>
            <a:xfrm>
              <a:off x="2879640" y="188604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15" descr="Noname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6"/>
          <p:cNvSpPr/>
          <p:nvPr/>
        </p:nvSpPr>
        <p:spPr>
          <a:xfrm>
            <a:off x="4648320" y="28195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2"/>
          <p:cNvSpPr/>
          <p:nvPr/>
        </p:nvSpPr>
        <p:spPr>
          <a:xfrm>
            <a:off x="1986120" y="2600280"/>
            <a:ext cx="264960" cy="969840"/>
          </a:xfrm>
          <a:custGeom>
            <a:avLst/>
            <a:gdLst/>
            <a:ahLst/>
            <a:rect l="l" t="t" r="r" b="b"/>
            <a:pathLst>
              <a:path w="334" h="1223">
                <a:moveTo>
                  <a:pt x="100" y="430"/>
                </a:moveTo>
                <a:lnTo>
                  <a:pt x="96" y="401"/>
                </a:lnTo>
                <a:lnTo>
                  <a:pt x="92" y="373"/>
                </a:lnTo>
                <a:lnTo>
                  <a:pt x="88" y="348"/>
                </a:lnTo>
                <a:lnTo>
                  <a:pt x="82" y="323"/>
                </a:lnTo>
                <a:lnTo>
                  <a:pt x="78" y="300"/>
                </a:lnTo>
                <a:lnTo>
                  <a:pt x="75" y="277"/>
                </a:lnTo>
                <a:lnTo>
                  <a:pt x="71" y="256"/>
                </a:lnTo>
                <a:lnTo>
                  <a:pt x="67" y="236"/>
                </a:lnTo>
                <a:lnTo>
                  <a:pt x="61" y="217"/>
                </a:lnTo>
                <a:lnTo>
                  <a:pt x="57" y="202"/>
                </a:lnTo>
                <a:lnTo>
                  <a:pt x="53" y="186"/>
                </a:lnTo>
                <a:lnTo>
                  <a:pt x="50" y="171"/>
                </a:lnTo>
                <a:lnTo>
                  <a:pt x="46" y="160"/>
                </a:lnTo>
                <a:lnTo>
                  <a:pt x="40" y="148"/>
                </a:lnTo>
                <a:lnTo>
                  <a:pt x="36" y="138"/>
                </a:lnTo>
                <a:lnTo>
                  <a:pt x="32" y="131"/>
                </a:lnTo>
                <a:lnTo>
                  <a:pt x="25" y="115"/>
                </a:lnTo>
                <a:lnTo>
                  <a:pt x="17" y="104"/>
                </a:lnTo>
                <a:lnTo>
                  <a:pt x="11" y="90"/>
                </a:lnTo>
                <a:lnTo>
                  <a:pt x="7" y="79"/>
                </a:lnTo>
                <a:lnTo>
                  <a:pt x="4" y="69"/>
                </a:lnTo>
                <a:lnTo>
                  <a:pt x="2" y="60"/>
                </a:lnTo>
                <a:lnTo>
                  <a:pt x="0" y="48"/>
                </a:lnTo>
                <a:lnTo>
                  <a:pt x="0" y="39"/>
                </a:lnTo>
                <a:lnTo>
                  <a:pt x="0" y="35"/>
                </a:lnTo>
                <a:lnTo>
                  <a:pt x="2" y="29"/>
                </a:lnTo>
                <a:lnTo>
                  <a:pt x="4" y="25"/>
                </a:lnTo>
                <a:lnTo>
                  <a:pt x="7" y="19"/>
                </a:lnTo>
                <a:lnTo>
                  <a:pt x="11" y="16"/>
                </a:lnTo>
                <a:lnTo>
                  <a:pt x="17" y="10"/>
                </a:lnTo>
                <a:lnTo>
                  <a:pt x="25" y="6"/>
                </a:lnTo>
                <a:lnTo>
                  <a:pt x="32" y="0"/>
                </a:lnTo>
                <a:lnTo>
                  <a:pt x="34" y="0"/>
                </a:lnTo>
                <a:lnTo>
                  <a:pt x="40" y="2"/>
                </a:lnTo>
                <a:lnTo>
                  <a:pt x="44" y="2"/>
                </a:lnTo>
                <a:lnTo>
                  <a:pt x="52" y="4"/>
                </a:lnTo>
                <a:lnTo>
                  <a:pt x="59" y="8"/>
                </a:lnTo>
                <a:lnTo>
                  <a:pt x="69" y="12"/>
                </a:lnTo>
                <a:lnTo>
                  <a:pt x="78" y="16"/>
                </a:lnTo>
                <a:lnTo>
                  <a:pt x="92" y="19"/>
                </a:lnTo>
                <a:lnTo>
                  <a:pt x="105" y="25"/>
                </a:lnTo>
                <a:lnTo>
                  <a:pt x="119" y="31"/>
                </a:lnTo>
                <a:lnTo>
                  <a:pt x="134" y="37"/>
                </a:lnTo>
                <a:lnTo>
                  <a:pt x="151" y="44"/>
                </a:lnTo>
                <a:lnTo>
                  <a:pt x="171" y="52"/>
                </a:lnTo>
                <a:lnTo>
                  <a:pt x="190" y="60"/>
                </a:lnTo>
                <a:lnTo>
                  <a:pt x="211" y="69"/>
                </a:lnTo>
                <a:lnTo>
                  <a:pt x="234" y="79"/>
                </a:lnTo>
                <a:lnTo>
                  <a:pt x="242" y="158"/>
                </a:lnTo>
                <a:lnTo>
                  <a:pt x="251" y="236"/>
                </a:lnTo>
                <a:lnTo>
                  <a:pt x="259" y="319"/>
                </a:lnTo>
                <a:lnTo>
                  <a:pt x="266" y="401"/>
                </a:lnTo>
                <a:lnTo>
                  <a:pt x="272" y="444"/>
                </a:lnTo>
                <a:lnTo>
                  <a:pt x="276" y="488"/>
                </a:lnTo>
                <a:lnTo>
                  <a:pt x="280" y="530"/>
                </a:lnTo>
                <a:lnTo>
                  <a:pt x="284" y="574"/>
                </a:lnTo>
                <a:lnTo>
                  <a:pt x="288" y="618"/>
                </a:lnTo>
                <a:lnTo>
                  <a:pt x="293" y="662"/>
                </a:lnTo>
                <a:lnTo>
                  <a:pt x="297" y="708"/>
                </a:lnTo>
                <a:lnTo>
                  <a:pt x="301" y="754"/>
                </a:lnTo>
                <a:lnTo>
                  <a:pt x="303" y="777"/>
                </a:lnTo>
                <a:lnTo>
                  <a:pt x="305" y="801"/>
                </a:lnTo>
                <a:lnTo>
                  <a:pt x="307" y="822"/>
                </a:lnTo>
                <a:lnTo>
                  <a:pt x="309" y="843"/>
                </a:lnTo>
                <a:lnTo>
                  <a:pt x="311" y="862"/>
                </a:lnTo>
                <a:lnTo>
                  <a:pt x="313" y="881"/>
                </a:lnTo>
                <a:lnTo>
                  <a:pt x="314" y="900"/>
                </a:lnTo>
                <a:lnTo>
                  <a:pt x="314" y="919"/>
                </a:lnTo>
                <a:lnTo>
                  <a:pt x="316" y="937"/>
                </a:lnTo>
                <a:lnTo>
                  <a:pt x="318" y="952"/>
                </a:lnTo>
                <a:lnTo>
                  <a:pt x="320" y="969"/>
                </a:lnTo>
                <a:lnTo>
                  <a:pt x="320" y="985"/>
                </a:lnTo>
                <a:lnTo>
                  <a:pt x="322" y="1000"/>
                </a:lnTo>
                <a:lnTo>
                  <a:pt x="324" y="1014"/>
                </a:lnTo>
                <a:lnTo>
                  <a:pt x="324" y="1027"/>
                </a:lnTo>
                <a:lnTo>
                  <a:pt x="326" y="1040"/>
                </a:lnTo>
                <a:lnTo>
                  <a:pt x="326" y="1054"/>
                </a:lnTo>
                <a:lnTo>
                  <a:pt x="328" y="1065"/>
                </a:lnTo>
                <a:lnTo>
                  <a:pt x="328" y="1077"/>
                </a:lnTo>
                <a:lnTo>
                  <a:pt x="330" y="1088"/>
                </a:lnTo>
                <a:lnTo>
                  <a:pt x="330" y="1098"/>
                </a:lnTo>
                <a:lnTo>
                  <a:pt x="332" y="1108"/>
                </a:lnTo>
                <a:lnTo>
                  <a:pt x="332" y="1115"/>
                </a:lnTo>
                <a:lnTo>
                  <a:pt x="332" y="1125"/>
                </a:lnTo>
                <a:lnTo>
                  <a:pt x="334" y="1132"/>
                </a:lnTo>
                <a:lnTo>
                  <a:pt x="334" y="1140"/>
                </a:lnTo>
                <a:lnTo>
                  <a:pt x="334" y="1146"/>
                </a:lnTo>
                <a:lnTo>
                  <a:pt x="334" y="1152"/>
                </a:lnTo>
                <a:lnTo>
                  <a:pt x="334" y="1157"/>
                </a:lnTo>
                <a:lnTo>
                  <a:pt x="334" y="1163"/>
                </a:lnTo>
                <a:lnTo>
                  <a:pt x="334" y="1167"/>
                </a:lnTo>
                <a:lnTo>
                  <a:pt x="334" y="1171"/>
                </a:lnTo>
                <a:lnTo>
                  <a:pt x="332" y="1179"/>
                </a:lnTo>
                <a:lnTo>
                  <a:pt x="330" y="1184"/>
                </a:lnTo>
                <a:lnTo>
                  <a:pt x="328" y="1190"/>
                </a:lnTo>
                <a:lnTo>
                  <a:pt x="326" y="1196"/>
                </a:lnTo>
                <a:lnTo>
                  <a:pt x="324" y="1200"/>
                </a:lnTo>
                <a:lnTo>
                  <a:pt x="322" y="1205"/>
                </a:lnTo>
                <a:lnTo>
                  <a:pt x="318" y="1209"/>
                </a:lnTo>
                <a:lnTo>
                  <a:pt x="316" y="1211"/>
                </a:lnTo>
                <a:lnTo>
                  <a:pt x="311" y="1217"/>
                </a:lnTo>
                <a:lnTo>
                  <a:pt x="305" y="1221"/>
                </a:lnTo>
                <a:lnTo>
                  <a:pt x="297" y="1223"/>
                </a:lnTo>
                <a:lnTo>
                  <a:pt x="290" y="1223"/>
                </a:lnTo>
                <a:lnTo>
                  <a:pt x="284" y="1223"/>
                </a:lnTo>
                <a:lnTo>
                  <a:pt x="278" y="1221"/>
                </a:lnTo>
                <a:lnTo>
                  <a:pt x="272" y="1217"/>
                </a:lnTo>
                <a:lnTo>
                  <a:pt x="266" y="1213"/>
                </a:lnTo>
                <a:lnTo>
                  <a:pt x="261" y="1207"/>
                </a:lnTo>
                <a:lnTo>
                  <a:pt x="257" y="1202"/>
                </a:lnTo>
                <a:lnTo>
                  <a:pt x="251" y="1194"/>
                </a:lnTo>
                <a:lnTo>
                  <a:pt x="247" y="1184"/>
                </a:lnTo>
                <a:lnTo>
                  <a:pt x="243" y="1175"/>
                </a:lnTo>
                <a:lnTo>
                  <a:pt x="240" y="1161"/>
                </a:lnTo>
                <a:lnTo>
                  <a:pt x="236" y="1150"/>
                </a:lnTo>
                <a:lnTo>
                  <a:pt x="232" y="1134"/>
                </a:lnTo>
                <a:lnTo>
                  <a:pt x="230" y="1121"/>
                </a:lnTo>
                <a:lnTo>
                  <a:pt x="226" y="1104"/>
                </a:lnTo>
                <a:lnTo>
                  <a:pt x="224" y="1086"/>
                </a:lnTo>
                <a:lnTo>
                  <a:pt x="222" y="1067"/>
                </a:lnTo>
                <a:lnTo>
                  <a:pt x="215" y="1029"/>
                </a:lnTo>
                <a:lnTo>
                  <a:pt x="205" y="990"/>
                </a:lnTo>
                <a:lnTo>
                  <a:pt x="197" y="954"/>
                </a:lnTo>
                <a:lnTo>
                  <a:pt x="190" y="919"/>
                </a:lnTo>
                <a:lnTo>
                  <a:pt x="184" y="883"/>
                </a:lnTo>
                <a:lnTo>
                  <a:pt x="176" y="848"/>
                </a:lnTo>
                <a:lnTo>
                  <a:pt x="171" y="816"/>
                </a:lnTo>
                <a:lnTo>
                  <a:pt x="167" y="781"/>
                </a:lnTo>
                <a:lnTo>
                  <a:pt x="165" y="764"/>
                </a:lnTo>
                <a:lnTo>
                  <a:pt x="161" y="745"/>
                </a:lnTo>
                <a:lnTo>
                  <a:pt x="159" y="728"/>
                </a:lnTo>
                <a:lnTo>
                  <a:pt x="155" y="708"/>
                </a:lnTo>
                <a:lnTo>
                  <a:pt x="153" y="687"/>
                </a:lnTo>
                <a:lnTo>
                  <a:pt x="149" y="668"/>
                </a:lnTo>
                <a:lnTo>
                  <a:pt x="146" y="647"/>
                </a:lnTo>
                <a:lnTo>
                  <a:pt x="142" y="624"/>
                </a:lnTo>
                <a:lnTo>
                  <a:pt x="138" y="603"/>
                </a:lnTo>
                <a:lnTo>
                  <a:pt x="132" y="580"/>
                </a:lnTo>
                <a:lnTo>
                  <a:pt x="128" y="557"/>
                </a:lnTo>
                <a:lnTo>
                  <a:pt x="123" y="532"/>
                </a:lnTo>
                <a:lnTo>
                  <a:pt x="117" y="507"/>
                </a:lnTo>
                <a:lnTo>
                  <a:pt x="111" y="482"/>
                </a:lnTo>
                <a:lnTo>
                  <a:pt x="105" y="455"/>
                </a:lnTo>
                <a:lnTo>
                  <a:pt x="100" y="43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3"/>
          <p:cNvSpPr/>
          <p:nvPr/>
        </p:nvSpPr>
        <p:spPr>
          <a:xfrm>
            <a:off x="2075040" y="2513160"/>
            <a:ext cx="664920" cy="655560"/>
          </a:xfrm>
          <a:custGeom>
            <a:avLst/>
            <a:gdLst/>
            <a:ahLst/>
            <a:rect l="l" t="t" r="r" b="b"/>
            <a:pathLst>
              <a:path w="839" h="825">
                <a:moveTo>
                  <a:pt x="693" y="434"/>
                </a:moveTo>
                <a:lnTo>
                  <a:pt x="689" y="453"/>
                </a:lnTo>
                <a:lnTo>
                  <a:pt x="685" y="470"/>
                </a:lnTo>
                <a:lnTo>
                  <a:pt x="681" y="489"/>
                </a:lnTo>
                <a:lnTo>
                  <a:pt x="677" y="510"/>
                </a:lnTo>
                <a:lnTo>
                  <a:pt x="676" y="531"/>
                </a:lnTo>
                <a:lnTo>
                  <a:pt x="672" y="553"/>
                </a:lnTo>
                <a:lnTo>
                  <a:pt x="670" y="576"/>
                </a:lnTo>
                <a:lnTo>
                  <a:pt x="668" y="601"/>
                </a:lnTo>
                <a:lnTo>
                  <a:pt x="666" y="625"/>
                </a:lnTo>
                <a:lnTo>
                  <a:pt x="664" y="650"/>
                </a:lnTo>
                <a:lnTo>
                  <a:pt x="662" y="677"/>
                </a:lnTo>
                <a:lnTo>
                  <a:pt x="662" y="706"/>
                </a:lnTo>
                <a:lnTo>
                  <a:pt x="660" y="733"/>
                </a:lnTo>
                <a:lnTo>
                  <a:pt x="660" y="764"/>
                </a:lnTo>
                <a:lnTo>
                  <a:pt x="660" y="794"/>
                </a:lnTo>
                <a:lnTo>
                  <a:pt x="660" y="825"/>
                </a:lnTo>
                <a:lnTo>
                  <a:pt x="526" y="825"/>
                </a:lnTo>
                <a:lnTo>
                  <a:pt x="526" y="808"/>
                </a:lnTo>
                <a:lnTo>
                  <a:pt x="526" y="789"/>
                </a:lnTo>
                <a:lnTo>
                  <a:pt x="526" y="771"/>
                </a:lnTo>
                <a:lnTo>
                  <a:pt x="528" y="752"/>
                </a:lnTo>
                <a:lnTo>
                  <a:pt x="528" y="731"/>
                </a:lnTo>
                <a:lnTo>
                  <a:pt x="530" y="712"/>
                </a:lnTo>
                <a:lnTo>
                  <a:pt x="532" y="691"/>
                </a:lnTo>
                <a:lnTo>
                  <a:pt x="532" y="670"/>
                </a:lnTo>
                <a:lnTo>
                  <a:pt x="534" y="647"/>
                </a:lnTo>
                <a:lnTo>
                  <a:pt x="535" y="624"/>
                </a:lnTo>
                <a:lnTo>
                  <a:pt x="537" y="601"/>
                </a:lnTo>
                <a:lnTo>
                  <a:pt x="539" y="576"/>
                </a:lnTo>
                <a:lnTo>
                  <a:pt x="541" y="551"/>
                </a:lnTo>
                <a:lnTo>
                  <a:pt x="543" y="526"/>
                </a:lnTo>
                <a:lnTo>
                  <a:pt x="545" y="501"/>
                </a:lnTo>
                <a:lnTo>
                  <a:pt x="547" y="474"/>
                </a:lnTo>
                <a:lnTo>
                  <a:pt x="549" y="447"/>
                </a:lnTo>
                <a:lnTo>
                  <a:pt x="551" y="422"/>
                </a:lnTo>
                <a:lnTo>
                  <a:pt x="551" y="399"/>
                </a:lnTo>
                <a:lnTo>
                  <a:pt x="551" y="378"/>
                </a:lnTo>
                <a:lnTo>
                  <a:pt x="551" y="359"/>
                </a:lnTo>
                <a:lnTo>
                  <a:pt x="551" y="340"/>
                </a:lnTo>
                <a:lnTo>
                  <a:pt x="551" y="322"/>
                </a:lnTo>
                <a:lnTo>
                  <a:pt x="549" y="307"/>
                </a:lnTo>
                <a:lnTo>
                  <a:pt x="547" y="292"/>
                </a:lnTo>
                <a:lnTo>
                  <a:pt x="545" y="278"/>
                </a:lnTo>
                <a:lnTo>
                  <a:pt x="543" y="267"/>
                </a:lnTo>
                <a:lnTo>
                  <a:pt x="539" y="255"/>
                </a:lnTo>
                <a:lnTo>
                  <a:pt x="535" y="247"/>
                </a:lnTo>
                <a:lnTo>
                  <a:pt x="534" y="238"/>
                </a:lnTo>
                <a:lnTo>
                  <a:pt x="530" y="232"/>
                </a:lnTo>
                <a:lnTo>
                  <a:pt x="526" y="226"/>
                </a:lnTo>
                <a:lnTo>
                  <a:pt x="522" y="224"/>
                </a:lnTo>
                <a:lnTo>
                  <a:pt x="520" y="224"/>
                </a:lnTo>
                <a:lnTo>
                  <a:pt x="514" y="224"/>
                </a:lnTo>
                <a:lnTo>
                  <a:pt x="511" y="223"/>
                </a:lnTo>
                <a:lnTo>
                  <a:pt x="505" y="223"/>
                </a:lnTo>
                <a:lnTo>
                  <a:pt x="497" y="223"/>
                </a:lnTo>
                <a:lnTo>
                  <a:pt x="489" y="223"/>
                </a:lnTo>
                <a:lnTo>
                  <a:pt x="482" y="224"/>
                </a:lnTo>
                <a:lnTo>
                  <a:pt x="472" y="224"/>
                </a:lnTo>
                <a:lnTo>
                  <a:pt x="463" y="226"/>
                </a:lnTo>
                <a:lnTo>
                  <a:pt x="451" y="228"/>
                </a:lnTo>
                <a:lnTo>
                  <a:pt x="440" y="228"/>
                </a:lnTo>
                <a:lnTo>
                  <a:pt x="426" y="230"/>
                </a:lnTo>
                <a:lnTo>
                  <a:pt x="413" y="234"/>
                </a:lnTo>
                <a:lnTo>
                  <a:pt x="399" y="236"/>
                </a:lnTo>
                <a:lnTo>
                  <a:pt x="384" y="238"/>
                </a:lnTo>
                <a:lnTo>
                  <a:pt x="369" y="242"/>
                </a:lnTo>
                <a:lnTo>
                  <a:pt x="351" y="246"/>
                </a:lnTo>
                <a:lnTo>
                  <a:pt x="334" y="249"/>
                </a:lnTo>
                <a:lnTo>
                  <a:pt x="315" y="253"/>
                </a:lnTo>
                <a:lnTo>
                  <a:pt x="296" y="257"/>
                </a:lnTo>
                <a:lnTo>
                  <a:pt x="276" y="263"/>
                </a:lnTo>
                <a:lnTo>
                  <a:pt x="255" y="269"/>
                </a:lnTo>
                <a:lnTo>
                  <a:pt x="234" y="272"/>
                </a:lnTo>
                <a:lnTo>
                  <a:pt x="211" y="278"/>
                </a:lnTo>
                <a:lnTo>
                  <a:pt x="188" y="286"/>
                </a:lnTo>
                <a:lnTo>
                  <a:pt x="165" y="292"/>
                </a:lnTo>
                <a:lnTo>
                  <a:pt x="140" y="299"/>
                </a:lnTo>
                <a:lnTo>
                  <a:pt x="115" y="307"/>
                </a:lnTo>
                <a:lnTo>
                  <a:pt x="88" y="315"/>
                </a:lnTo>
                <a:lnTo>
                  <a:pt x="61" y="322"/>
                </a:lnTo>
                <a:lnTo>
                  <a:pt x="33" y="330"/>
                </a:lnTo>
                <a:lnTo>
                  <a:pt x="17" y="265"/>
                </a:lnTo>
                <a:lnTo>
                  <a:pt x="0" y="199"/>
                </a:lnTo>
                <a:lnTo>
                  <a:pt x="27" y="194"/>
                </a:lnTo>
                <a:lnTo>
                  <a:pt x="54" y="188"/>
                </a:lnTo>
                <a:lnTo>
                  <a:pt x="81" y="182"/>
                </a:lnTo>
                <a:lnTo>
                  <a:pt x="106" y="176"/>
                </a:lnTo>
                <a:lnTo>
                  <a:pt x="131" y="171"/>
                </a:lnTo>
                <a:lnTo>
                  <a:pt x="155" y="165"/>
                </a:lnTo>
                <a:lnTo>
                  <a:pt x="179" y="159"/>
                </a:lnTo>
                <a:lnTo>
                  <a:pt x="202" y="153"/>
                </a:lnTo>
                <a:lnTo>
                  <a:pt x="223" y="148"/>
                </a:lnTo>
                <a:lnTo>
                  <a:pt x="244" y="142"/>
                </a:lnTo>
                <a:lnTo>
                  <a:pt x="263" y="138"/>
                </a:lnTo>
                <a:lnTo>
                  <a:pt x="282" y="132"/>
                </a:lnTo>
                <a:lnTo>
                  <a:pt x="301" y="127"/>
                </a:lnTo>
                <a:lnTo>
                  <a:pt x="319" y="123"/>
                </a:lnTo>
                <a:lnTo>
                  <a:pt x="336" y="117"/>
                </a:lnTo>
                <a:lnTo>
                  <a:pt x="351" y="111"/>
                </a:lnTo>
                <a:lnTo>
                  <a:pt x="367" y="107"/>
                </a:lnTo>
                <a:lnTo>
                  <a:pt x="382" y="102"/>
                </a:lnTo>
                <a:lnTo>
                  <a:pt x="395" y="98"/>
                </a:lnTo>
                <a:lnTo>
                  <a:pt x="409" y="94"/>
                </a:lnTo>
                <a:lnTo>
                  <a:pt x="420" y="88"/>
                </a:lnTo>
                <a:lnTo>
                  <a:pt x="432" y="84"/>
                </a:lnTo>
                <a:lnTo>
                  <a:pt x="443" y="81"/>
                </a:lnTo>
                <a:lnTo>
                  <a:pt x="453" y="77"/>
                </a:lnTo>
                <a:lnTo>
                  <a:pt x="463" y="71"/>
                </a:lnTo>
                <a:lnTo>
                  <a:pt x="470" y="67"/>
                </a:lnTo>
                <a:lnTo>
                  <a:pt x="478" y="63"/>
                </a:lnTo>
                <a:lnTo>
                  <a:pt x="484" y="59"/>
                </a:lnTo>
                <a:lnTo>
                  <a:pt x="489" y="56"/>
                </a:lnTo>
                <a:lnTo>
                  <a:pt x="495" y="52"/>
                </a:lnTo>
                <a:lnTo>
                  <a:pt x="499" y="48"/>
                </a:lnTo>
                <a:lnTo>
                  <a:pt x="503" y="44"/>
                </a:lnTo>
                <a:lnTo>
                  <a:pt x="507" y="36"/>
                </a:lnTo>
                <a:lnTo>
                  <a:pt x="512" y="31"/>
                </a:lnTo>
                <a:lnTo>
                  <a:pt x="516" y="25"/>
                </a:lnTo>
                <a:lnTo>
                  <a:pt x="522" y="19"/>
                </a:lnTo>
                <a:lnTo>
                  <a:pt x="528" y="15"/>
                </a:lnTo>
                <a:lnTo>
                  <a:pt x="534" y="11"/>
                </a:lnTo>
                <a:lnTo>
                  <a:pt x="539" y="8"/>
                </a:lnTo>
                <a:lnTo>
                  <a:pt x="545" y="6"/>
                </a:lnTo>
                <a:lnTo>
                  <a:pt x="553" y="4"/>
                </a:lnTo>
                <a:lnTo>
                  <a:pt x="560" y="2"/>
                </a:lnTo>
                <a:lnTo>
                  <a:pt x="568" y="0"/>
                </a:lnTo>
                <a:lnTo>
                  <a:pt x="576" y="0"/>
                </a:lnTo>
                <a:lnTo>
                  <a:pt x="585" y="0"/>
                </a:lnTo>
                <a:lnTo>
                  <a:pt x="595" y="2"/>
                </a:lnTo>
                <a:lnTo>
                  <a:pt x="605" y="4"/>
                </a:lnTo>
                <a:lnTo>
                  <a:pt x="614" y="6"/>
                </a:lnTo>
                <a:lnTo>
                  <a:pt x="635" y="11"/>
                </a:lnTo>
                <a:lnTo>
                  <a:pt x="654" y="17"/>
                </a:lnTo>
                <a:lnTo>
                  <a:pt x="674" y="25"/>
                </a:lnTo>
                <a:lnTo>
                  <a:pt x="693" y="34"/>
                </a:lnTo>
                <a:lnTo>
                  <a:pt x="712" y="44"/>
                </a:lnTo>
                <a:lnTo>
                  <a:pt x="731" y="56"/>
                </a:lnTo>
                <a:lnTo>
                  <a:pt x="750" y="69"/>
                </a:lnTo>
                <a:lnTo>
                  <a:pt x="772" y="82"/>
                </a:lnTo>
                <a:lnTo>
                  <a:pt x="779" y="90"/>
                </a:lnTo>
                <a:lnTo>
                  <a:pt x="787" y="98"/>
                </a:lnTo>
                <a:lnTo>
                  <a:pt x="795" y="104"/>
                </a:lnTo>
                <a:lnTo>
                  <a:pt x="800" y="109"/>
                </a:lnTo>
                <a:lnTo>
                  <a:pt x="806" y="117"/>
                </a:lnTo>
                <a:lnTo>
                  <a:pt x="812" y="123"/>
                </a:lnTo>
                <a:lnTo>
                  <a:pt x="818" y="127"/>
                </a:lnTo>
                <a:lnTo>
                  <a:pt x="821" y="132"/>
                </a:lnTo>
                <a:lnTo>
                  <a:pt x="825" y="136"/>
                </a:lnTo>
                <a:lnTo>
                  <a:pt x="829" y="142"/>
                </a:lnTo>
                <a:lnTo>
                  <a:pt x="831" y="146"/>
                </a:lnTo>
                <a:lnTo>
                  <a:pt x="835" y="150"/>
                </a:lnTo>
                <a:lnTo>
                  <a:pt x="837" y="153"/>
                </a:lnTo>
                <a:lnTo>
                  <a:pt x="837" y="155"/>
                </a:lnTo>
                <a:lnTo>
                  <a:pt x="839" y="159"/>
                </a:lnTo>
                <a:lnTo>
                  <a:pt x="839" y="161"/>
                </a:lnTo>
                <a:lnTo>
                  <a:pt x="835" y="167"/>
                </a:lnTo>
                <a:lnTo>
                  <a:pt x="829" y="173"/>
                </a:lnTo>
                <a:lnTo>
                  <a:pt x="825" y="180"/>
                </a:lnTo>
                <a:lnTo>
                  <a:pt x="819" y="188"/>
                </a:lnTo>
                <a:lnTo>
                  <a:pt x="812" y="198"/>
                </a:lnTo>
                <a:lnTo>
                  <a:pt x="804" y="207"/>
                </a:lnTo>
                <a:lnTo>
                  <a:pt x="795" y="217"/>
                </a:lnTo>
                <a:lnTo>
                  <a:pt x="789" y="221"/>
                </a:lnTo>
                <a:lnTo>
                  <a:pt x="783" y="226"/>
                </a:lnTo>
                <a:lnTo>
                  <a:pt x="775" y="234"/>
                </a:lnTo>
                <a:lnTo>
                  <a:pt x="770" y="242"/>
                </a:lnTo>
                <a:lnTo>
                  <a:pt x="764" y="251"/>
                </a:lnTo>
                <a:lnTo>
                  <a:pt x="758" y="261"/>
                </a:lnTo>
                <a:lnTo>
                  <a:pt x="754" y="270"/>
                </a:lnTo>
                <a:lnTo>
                  <a:pt x="748" y="282"/>
                </a:lnTo>
                <a:lnTo>
                  <a:pt x="743" y="294"/>
                </a:lnTo>
                <a:lnTo>
                  <a:pt x="737" y="307"/>
                </a:lnTo>
                <a:lnTo>
                  <a:pt x="731" y="318"/>
                </a:lnTo>
                <a:lnTo>
                  <a:pt x="727" y="334"/>
                </a:lnTo>
                <a:lnTo>
                  <a:pt x="722" y="347"/>
                </a:lnTo>
                <a:lnTo>
                  <a:pt x="716" y="363"/>
                </a:lnTo>
                <a:lnTo>
                  <a:pt x="710" y="380"/>
                </a:lnTo>
                <a:lnTo>
                  <a:pt x="704" y="397"/>
                </a:lnTo>
                <a:lnTo>
                  <a:pt x="699" y="414"/>
                </a:lnTo>
                <a:lnTo>
                  <a:pt x="693" y="43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4"/>
          <p:cNvSpPr/>
          <p:nvPr/>
        </p:nvSpPr>
        <p:spPr>
          <a:xfrm>
            <a:off x="2171880" y="3105000"/>
            <a:ext cx="469800" cy="196920"/>
          </a:xfrm>
          <a:custGeom>
            <a:avLst/>
            <a:gdLst/>
            <a:ahLst/>
            <a:rect l="l" t="t" r="r" b="b"/>
            <a:pathLst>
              <a:path w="593" h="248">
                <a:moveTo>
                  <a:pt x="547" y="117"/>
                </a:moveTo>
                <a:lnTo>
                  <a:pt x="541" y="121"/>
                </a:lnTo>
                <a:lnTo>
                  <a:pt x="533" y="123"/>
                </a:lnTo>
                <a:lnTo>
                  <a:pt x="524" y="127"/>
                </a:lnTo>
                <a:lnTo>
                  <a:pt x="514" y="129"/>
                </a:lnTo>
                <a:lnTo>
                  <a:pt x="503" y="133"/>
                </a:lnTo>
                <a:lnTo>
                  <a:pt x="491" y="139"/>
                </a:lnTo>
                <a:lnTo>
                  <a:pt x="478" y="142"/>
                </a:lnTo>
                <a:lnTo>
                  <a:pt x="464" y="146"/>
                </a:lnTo>
                <a:lnTo>
                  <a:pt x="449" y="152"/>
                </a:lnTo>
                <a:lnTo>
                  <a:pt x="432" y="158"/>
                </a:lnTo>
                <a:lnTo>
                  <a:pt x="414" y="164"/>
                </a:lnTo>
                <a:lnTo>
                  <a:pt x="397" y="169"/>
                </a:lnTo>
                <a:lnTo>
                  <a:pt x="378" y="175"/>
                </a:lnTo>
                <a:lnTo>
                  <a:pt x="357" y="181"/>
                </a:lnTo>
                <a:lnTo>
                  <a:pt x="336" y="188"/>
                </a:lnTo>
                <a:lnTo>
                  <a:pt x="313" y="196"/>
                </a:lnTo>
                <a:lnTo>
                  <a:pt x="290" y="204"/>
                </a:lnTo>
                <a:lnTo>
                  <a:pt x="267" y="210"/>
                </a:lnTo>
                <a:lnTo>
                  <a:pt x="246" y="215"/>
                </a:lnTo>
                <a:lnTo>
                  <a:pt x="222" y="221"/>
                </a:lnTo>
                <a:lnTo>
                  <a:pt x="201" y="225"/>
                </a:lnTo>
                <a:lnTo>
                  <a:pt x="180" y="231"/>
                </a:lnTo>
                <a:lnTo>
                  <a:pt x="159" y="233"/>
                </a:lnTo>
                <a:lnTo>
                  <a:pt x="140" y="236"/>
                </a:lnTo>
                <a:lnTo>
                  <a:pt x="119" y="240"/>
                </a:lnTo>
                <a:lnTo>
                  <a:pt x="102" y="242"/>
                </a:lnTo>
                <a:lnTo>
                  <a:pt x="82" y="244"/>
                </a:lnTo>
                <a:lnTo>
                  <a:pt x="65" y="246"/>
                </a:lnTo>
                <a:lnTo>
                  <a:pt x="48" y="246"/>
                </a:lnTo>
                <a:lnTo>
                  <a:pt x="31" y="248"/>
                </a:lnTo>
                <a:lnTo>
                  <a:pt x="15" y="248"/>
                </a:lnTo>
                <a:lnTo>
                  <a:pt x="0" y="248"/>
                </a:lnTo>
                <a:lnTo>
                  <a:pt x="0" y="144"/>
                </a:lnTo>
                <a:lnTo>
                  <a:pt x="8" y="144"/>
                </a:lnTo>
                <a:lnTo>
                  <a:pt x="15" y="142"/>
                </a:lnTo>
                <a:lnTo>
                  <a:pt x="27" y="140"/>
                </a:lnTo>
                <a:lnTo>
                  <a:pt x="38" y="139"/>
                </a:lnTo>
                <a:lnTo>
                  <a:pt x="54" y="137"/>
                </a:lnTo>
                <a:lnTo>
                  <a:pt x="69" y="133"/>
                </a:lnTo>
                <a:lnTo>
                  <a:pt x="86" y="129"/>
                </a:lnTo>
                <a:lnTo>
                  <a:pt x="105" y="125"/>
                </a:lnTo>
                <a:lnTo>
                  <a:pt x="127" y="119"/>
                </a:lnTo>
                <a:lnTo>
                  <a:pt x="150" y="114"/>
                </a:lnTo>
                <a:lnTo>
                  <a:pt x="173" y="108"/>
                </a:lnTo>
                <a:lnTo>
                  <a:pt x="198" y="100"/>
                </a:lnTo>
                <a:lnTo>
                  <a:pt x="224" y="92"/>
                </a:lnTo>
                <a:lnTo>
                  <a:pt x="253" y="85"/>
                </a:lnTo>
                <a:lnTo>
                  <a:pt x="282" y="75"/>
                </a:lnTo>
                <a:lnTo>
                  <a:pt x="313" y="66"/>
                </a:lnTo>
                <a:lnTo>
                  <a:pt x="343" y="58"/>
                </a:lnTo>
                <a:lnTo>
                  <a:pt x="372" y="52"/>
                </a:lnTo>
                <a:lnTo>
                  <a:pt x="399" y="45"/>
                </a:lnTo>
                <a:lnTo>
                  <a:pt x="426" y="39"/>
                </a:lnTo>
                <a:lnTo>
                  <a:pt x="449" y="33"/>
                </a:lnTo>
                <a:lnTo>
                  <a:pt x="472" y="27"/>
                </a:lnTo>
                <a:lnTo>
                  <a:pt x="493" y="23"/>
                </a:lnTo>
                <a:lnTo>
                  <a:pt x="510" y="18"/>
                </a:lnTo>
                <a:lnTo>
                  <a:pt x="528" y="14"/>
                </a:lnTo>
                <a:lnTo>
                  <a:pt x="543" y="10"/>
                </a:lnTo>
                <a:lnTo>
                  <a:pt x="551" y="10"/>
                </a:lnTo>
                <a:lnTo>
                  <a:pt x="556" y="8"/>
                </a:lnTo>
                <a:lnTo>
                  <a:pt x="562" y="6"/>
                </a:lnTo>
                <a:lnTo>
                  <a:pt x="568" y="6"/>
                </a:lnTo>
                <a:lnTo>
                  <a:pt x="572" y="4"/>
                </a:lnTo>
                <a:lnTo>
                  <a:pt x="577" y="2"/>
                </a:lnTo>
                <a:lnTo>
                  <a:pt x="581" y="2"/>
                </a:lnTo>
                <a:lnTo>
                  <a:pt x="583" y="2"/>
                </a:lnTo>
                <a:lnTo>
                  <a:pt x="587" y="0"/>
                </a:lnTo>
                <a:lnTo>
                  <a:pt x="589" y="0"/>
                </a:lnTo>
                <a:lnTo>
                  <a:pt x="591" y="0"/>
                </a:lnTo>
                <a:lnTo>
                  <a:pt x="593" y="0"/>
                </a:lnTo>
                <a:lnTo>
                  <a:pt x="593" y="12"/>
                </a:lnTo>
                <a:lnTo>
                  <a:pt x="591" y="23"/>
                </a:lnTo>
                <a:lnTo>
                  <a:pt x="591" y="35"/>
                </a:lnTo>
                <a:lnTo>
                  <a:pt x="589" y="45"/>
                </a:lnTo>
                <a:lnTo>
                  <a:pt x="589" y="54"/>
                </a:lnTo>
                <a:lnTo>
                  <a:pt x="587" y="64"/>
                </a:lnTo>
                <a:lnTo>
                  <a:pt x="585" y="71"/>
                </a:lnTo>
                <a:lnTo>
                  <a:pt x="583" y="79"/>
                </a:lnTo>
                <a:lnTo>
                  <a:pt x="579" y="85"/>
                </a:lnTo>
                <a:lnTo>
                  <a:pt x="576" y="92"/>
                </a:lnTo>
                <a:lnTo>
                  <a:pt x="572" y="98"/>
                </a:lnTo>
                <a:lnTo>
                  <a:pt x="568" y="102"/>
                </a:lnTo>
                <a:lnTo>
                  <a:pt x="564" y="108"/>
                </a:lnTo>
                <a:lnTo>
                  <a:pt x="558" y="112"/>
                </a:lnTo>
                <a:lnTo>
                  <a:pt x="554" y="116"/>
                </a:lnTo>
                <a:lnTo>
                  <a:pt x="547" y="11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5"/>
          <p:cNvSpPr/>
          <p:nvPr/>
        </p:nvSpPr>
        <p:spPr>
          <a:xfrm>
            <a:off x="2631960" y="2733840"/>
            <a:ext cx="792360" cy="847440"/>
          </a:xfrm>
          <a:custGeom>
            <a:avLst/>
            <a:gdLst/>
            <a:ahLst/>
            <a:rect l="l" t="t" r="r" b="b"/>
            <a:pathLst>
              <a:path w="998" h="1067">
                <a:moveTo>
                  <a:pt x="651" y="326"/>
                </a:moveTo>
                <a:lnTo>
                  <a:pt x="670" y="305"/>
                </a:lnTo>
                <a:lnTo>
                  <a:pt x="689" y="284"/>
                </a:lnTo>
                <a:lnTo>
                  <a:pt x="707" y="265"/>
                </a:lnTo>
                <a:lnTo>
                  <a:pt x="726" y="248"/>
                </a:lnTo>
                <a:lnTo>
                  <a:pt x="743" y="229"/>
                </a:lnTo>
                <a:lnTo>
                  <a:pt x="758" y="211"/>
                </a:lnTo>
                <a:lnTo>
                  <a:pt x="776" y="194"/>
                </a:lnTo>
                <a:lnTo>
                  <a:pt x="791" y="179"/>
                </a:lnTo>
                <a:lnTo>
                  <a:pt x="806" y="163"/>
                </a:lnTo>
                <a:lnTo>
                  <a:pt x="822" y="148"/>
                </a:lnTo>
                <a:lnTo>
                  <a:pt x="835" y="134"/>
                </a:lnTo>
                <a:lnTo>
                  <a:pt x="849" y="121"/>
                </a:lnTo>
                <a:lnTo>
                  <a:pt x="862" y="108"/>
                </a:lnTo>
                <a:lnTo>
                  <a:pt x="875" y="96"/>
                </a:lnTo>
                <a:lnTo>
                  <a:pt x="887" y="85"/>
                </a:lnTo>
                <a:lnTo>
                  <a:pt x="899" y="75"/>
                </a:lnTo>
                <a:lnTo>
                  <a:pt x="908" y="63"/>
                </a:lnTo>
                <a:lnTo>
                  <a:pt x="920" y="56"/>
                </a:lnTo>
                <a:lnTo>
                  <a:pt x="929" y="46"/>
                </a:lnTo>
                <a:lnTo>
                  <a:pt x="937" y="39"/>
                </a:lnTo>
                <a:lnTo>
                  <a:pt x="946" y="31"/>
                </a:lnTo>
                <a:lnTo>
                  <a:pt x="954" y="25"/>
                </a:lnTo>
                <a:lnTo>
                  <a:pt x="962" y="19"/>
                </a:lnTo>
                <a:lnTo>
                  <a:pt x="968" y="14"/>
                </a:lnTo>
                <a:lnTo>
                  <a:pt x="973" y="10"/>
                </a:lnTo>
                <a:lnTo>
                  <a:pt x="979" y="6"/>
                </a:lnTo>
                <a:lnTo>
                  <a:pt x="983" y="4"/>
                </a:lnTo>
                <a:lnTo>
                  <a:pt x="987" y="2"/>
                </a:lnTo>
                <a:lnTo>
                  <a:pt x="991" y="0"/>
                </a:lnTo>
                <a:lnTo>
                  <a:pt x="993" y="0"/>
                </a:lnTo>
                <a:lnTo>
                  <a:pt x="996" y="0"/>
                </a:lnTo>
                <a:lnTo>
                  <a:pt x="998" y="2"/>
                </a:lnTo>
                <a:lnTo>
                  <a:pt x="998" y="4"/>
                </a:lnTo>
                <a:lnTo>
                  <a:pt x="998" y="6"/>
                </a:lnTo>
                <a:lnTo>
                  <a:pt x="998" y="10"/>
                </a:lnTo>
                <a:lnTo>
                  <a:pt x="996" y="14"/>
                </a:lnTo>
                <a:lnTo>
                  <a:pt x="994" y="17"/>
                </a:lnTo>
                <a:lnTo>
                  <a:pt x="993" y="21"/>
                </a:lnTo>
                <a:lnTo>
                  <a:pt x="991" y="27"/>
                </a:lnTo>
                <a:lnTo>
                  <a:pt x="989" y="33"/>
                </a:lnTo>
                <a:lnTo>
                  <a:pt x="985" y="39"/>
                </a:lnTo>
                <a:lnTo>
                  <a:pt x="981" y="46"/>
                </a:lnTo>
                <a:lnTo>
                  <a:pt x="977" y="54"/>
                </a:lnTo>
                <a:lnTo>
                  <a:pt x="973" y="62"/>
                </a:lnTo>
                <a:lnTo>
                  <a:pt x="968" y="69"/>
                </a:lnTo>
                <a:lnTo>
                  <a:pt x="962" y="79"/>
                </a:lnTo>
                <a:lnTo>
                  <a:pt x="956" y="88"/>
                </a:lnTo>
                <a:lnTo>
                  <a:pt x="950" y="98"/>
                </a:lnTo>
                <a:lnTo>
                  <a:pt x="945" y="108"/>
                </a:lnTo>
                <a:lnTo>
                  <a:pt x="937" y="119"/>
                </a:lnTo>
                <a:lnTo>
                  <a:pt x="931" y="131"/>
                </a:lnTo>
                <a:lnTo>
                  <a:pt x="923" y="142"/>
                </a:lnTo>
                <a:lnTo>
                  <a:pt x="916" y="156"/>
                </a:lnTo>
                <a:lnTo>
                  <a:pt x="906" y="169"/>
                </a:lnTo>
                <a:lnTo>
                  <a:pt x="899" y="182"/>
                </a:lnTo>
                <a:lnTo>
                  <a:pt x="889" y="198"/>
                </a:lnTo>
                <a:lnTo>
                  <a:pt x="881" y="211"/>
                </a:lnTo>
                <a:lnTo>
                  <a:pt x="872" y="227"/>
                </a:lnTo>
                <a:lnTo>
                  <a:pt x="860" y="244"/>
                </a:lnTo>
                <a:lnTo>
                  <a:pt x="851" y="259"/>
                </a:lnTo>
                <a:lnTo>
                  <a:pt x="841" y="276"/>
                </a:lnTo>
                <a:lnTo>
                  <a:pt x="829" y="294"/>
                </a:lnTo>
                <a:lnTo>
                  <a:pt x="818" y="313"/>
                </a:lnTo>
                <a:lnTo>
                  <a:pt x="793" y="349"/>
                </a:lnTo>
                <a:lnTo>
                  <a:pt x="768" y="384"/>
                </a:lnTo>
                <a:lnTo>
                  <a:pt x="745" y="420"/>
                </a:lnTo>
                <a:lnTo>
                  <a:pt x="720" y="455"/>
                </a:lnTo>
                <a:lnTo>
                  <a:pt x="695" y="489"/>
                </a:lnTo>
                <a:lnTo>
                  <a:pt x="672" y="522"/>
                </a:lnTo>
                <a:lnTo>
                  <a:pt x="647" y="555"/>
                </a:lnTo>
                <a:lnTo>
                  <a:pt x="624" y="587"/>
                </a:lnTo>
                <a:lnTo>
                  <a:pt x="576" y="651"/>
                </a:lnTo>
                <a:lnTo>
                  <a:pt x="530" y="712"/>
                </a:lnTo>
                <a:lnTo>
                  <a:pt x="484" y="774"/>
                </a:lnTo>
                <a:lnTo>
                  <a:pt x="438" y="833"/>
                </a:lnTo>
                <a:lnTo>
                  <a:pt x="415" y="862"/>
                </a:lnTo>
                <a:lnTo>
                  <a:pt x="396" y="889"/>
                </a:lnTo>
                <a:lnTo>
                  <a:pt x="375" y="914"/>
                </a:lnTo>
                <a:lnTo>
                  <a:pt x="357" y="937"/>
                </a:lnTo>
                <a:lnTo>
                  <a:pt x="340" y="958"/>
                </a:lnTo>
                <a:lnTo>
                  <a:pt x="325" y="977"/>
                </a:lnTo>
                <a:lnTo>
                  <a:pt x="309" y="994"/>
                </a:lnTo>
                <a:lnTo>
                  <a:pt x="296" y="1010"/>
                </a:lnTo>
                <a:lnTo>
                  <a:pt x="284" y="1023"/>
                </a:lnTo>
                <a:lnTo>
                  <a:pt x="273" y="1034"/>
                </a:lnTo>
                <a:lnTo>
                  <a:pt x="263" y="1044"/>
                </a:lnTo>
                <a:lnTo>
                  <a:pt x="256" y="1052"/>
                </a:lnTo>
                <a:lnTo>
                  <a:pt x="250" y="1059"/>
                </a:lnTo>
                <a:lnTo>
                  <a:pt x="244" y="1063"/>
                </a:lnTo>
                <a:lnTo>
                  <a:pt x="240" y="1067"/>
                </a:lnTo>
                <a:lnTo>
                  <a:pt x="236" y="1067"/>
                </a:lnTo>
                <a:lnTo>
                  <a:pt x="233" y="1067"/>
                </a:lnTo>
                <a:lnTo>
                  <a:pt x="227" y="1065"/>
                </a:lnTo>
                <a:lnTo>
                  <a:pt x="221" y="1065"/>
                </a:lnTo>
                <a:lnTo>
                  <a:pt x="215" y="1063"/>
                </a:lnTo>
                <a:lnTo>
                  <a:pt x="210" y="1059"/>
                </a:lnTo>
                <a:lnTo>
                  <a:pt x="202" y="1058"/>
                </a:lnTo>
                <a:lnTo>
                  <a:pt x="194" y="1054"/>
                </a:lnTo>
                <a:lnTo>
                  <a:pt x="187" y="1050"/>
                </a:lnTo>
                <a:lnTo>
                  <a:pt x="177" y="1044"/>
                </a:lnTo>
                <a:lnTo>
                  <a:pt x="169" y="1040"/>
                </a:lnTo>
                <a:lnTo>
                  <a:pt x="160" y="1034"/>
                </a:lnTo>
                <a:lnTo>
                  <a:pt x="148" y="1029"/>
                </a:lnTo>
                <a:lnTo>
                  <a:pt x="139" y="1023"/>
                </a:lnTo>
                <a:lnTo>
                  <a:pt x="127" y="1017"/>
                </a:lnTo>
                <a:lnTo>
                  <a:pt x="116" y="1010"/>
                </a:lnTo>
                <a:lnTo>
                  <a:pt x="102" y="1002"/>
                </a:lnTo>
                <a:lnTo>
                  <a:pt x="91" y="994"/>
                </a:lnTo>
                <a:lnTo>
                  <a:pt x="79" y="987"/>
                </a:lnTo>
                <a:lnTo>
                  <a:pt x="70" y="981"/>
                </a:lnTo>
                <a:lnTo>
                  <a:pt x="58" y="973"/>
                </a:lnTo>
                <a:lnTo>
                  <a:pt x="50" y="965"/>
                </a:lnTo>
                <a:lnTo>
                  <a:pt x="41" y="958"/>
                </a:lnTo>
                <a:lnTo>
                  <a:pt x="33" y="952"/>
                </a:lnTo>
                <a:lnTo>
                  <a:pt x="27" y="944"/>
                </a:lnTo>
                <a:lnTo>
                  <a:pt x="22" y="939"/>
                </a:lnTo>
                <a:lnTo>
                  <a:pt x="16" y="933"/>
                </a:lnTo>
                <a:lnTo>
                  <a:pt x="12" y="925"/>
                </a:lnTo>
                <a:lnTo>
                  <a:pt x="8" y="919"/>
                </a:lnTo>
                <a:lnTo>
                  <a:pt x="6" y="914"/>
                </a:lnTo>
                <a:lnTo>
                  <a:pt x="4" y="908"/>
                </a:lnTo>
                <a:lnTo>
                  <a:pt x="2" y="904"/>
                </a:lnTo>
                <a:lnTo>
                  <a:pt x="2" y="898"/>
                </a:lnTo>
                <a:lnTo>
                  <a:pt x="0" y="892"/>
                </a:lnTo>
                <a:lnTo>
                  <a:pt x="0" y="889"/>
                </a:lnTo>
                <a:lnTo>
                  <a:pt x="0" y="883"/>
                </a:lnTo>
                <a:lnTo>
                  <a:pt x="2" y="879"/>
                </a:lnTo>
                <a:lnTo>
                  <a:pt x="4" y="873"/>
                </a:lnTo>
                <a:lnTo>
                  <a:pt x="8" y="869"/>
                </a:lnTo>
                <a:lnTo>
                  <a:pt x="12" y="866"/>
                </a:lnTo>
                <a:lnTo>
                  <a:pt x="16" y="860"/>
                </a:lnTo>
                <a:lnTo>
                  <a:pt x="22" y="856"/>
                </a:lnTo>
                <a:lnTo>
                  <a:pt x="27" y="852"/>
                </a:lnTo>
                <a:lnTo>
                  <a:pt x="35" y="848"/>
                </a:lnTo>
                <a:lnTo>
                  <a:pt x="43" y="845"/>
                </a:lnTo>
                <a:lnTo>
                  <a:pt x="52" y="843"/>
                </a:lnTo>
                <a:lnTo>
                  <a:pt x="60" y="839"/>
                </a:lnTo>
                <a:lnTo>
                  <a:pt x="70" y="835"/>
                </a:lnTo>
                <a:lnTo>
                  <a:pt x="81" y="833"/>
                </a:lnTo>
                <a:lnTo>
                  <a:pt x="91" y="831"/>
                </a:lnTo>
                <a:lnTo>
                  <a:pt x="100" y="827"/>
                </a:lnTo>
                <a:lnTo>
                  <a:pt x="112" y="823"/>
                </a:lnTo>
                <a:lnTo>
                  <a:pt x="121" y="818"/>
                </a:lnTo>
                <a:lnTo>
                  <a:pt x="133" y="814"/>
                </a:lnTo>
                <a:lnTo>
                  <a:pt x="142" y="808"/>
                </a:lnTo>
                <a:lnTo>
                  <a:pt x="154" y="802"/>
                </a:lnTo>
                <a:lnTo>
                  <a:pt x="164" y="797"/>
                </a:lnTo>
                <a:lnTo>
                  <a:pt x="185" y="781"/>
                </a:lnTo>
                <a:lnTo>
                  <a:pt x="206" y="766"/>
                </a:lnTo>
                <a:lnTo>
                  <a:pt x="227" y="749"/>
                </a:lnTo>
                <a:lnTo>
                  <a:pt x="248" y="729"/>
                </a:lnTo>
                <a:lnTo>
                  <a:pt x="254" y="726"/>
                </a:lnTo>
                <a:lnTo>
                  <a:pt x="259" y="720"/>
                </a:lnTo>
                <a:lnTo>
                  <a:pt x="265" y="716"/>
                </a:lnTo>
                <a:lnTo>
                  <a:pt x="273" y="710"/>
                </a:lnTo>
                <a:lnTo>
                  <a:pt x="281" y="703"/>
                </a:lnTo>
                <a:lnTo>
                  <a:pt x="288" y="697"/>
                </a:lnTo>
                <a:lnTo>
                  <a:pt x="296" y="689"/>
                </a:lnTo>
                <a:lnTo>
                  <a:pt x="306" y="681"/>
                </a:lnTo>
                <a:lnTo>
                  <a:pt x="313" y="672"/>
                </a:lnTo>
                <a:lnTo>
                  <a:pt x="323" y="662"/>
                </a:lnTo>
                <a:lnTo>
                  <a:pt x="334" y="653"/>
                </a:lnTo>
                <a:lnTo>
                  <a:pt x="344" y="643"/>
                </a:lnTo>
                <a:lnTo>
                  <a:pt x="355" y="632"/>
                </a:lnTo>
                <a:lnTo>
                  <a:pt x="367" y="620"/>
                </a:lnTo>
                <a:lnTo>
                  <a:pt x="378" y="608"/>
                </a:lnTo>
                <a:lnTo>
                  <a:pt x="392" y="597"/>
                </a:lnTo>
                <a:lnTo>
                  <a:pt x="403" y="584"/>
                </a:lnTo>
                <a:lnTo>
                  <a:pt x="417" y="570"/>
                </a:lnTo>
                <a:lnTo>
                  <a:pt x="430" y="555"/>
                </a:lnTo>
                <a:lnTo>
                  <a:pt x="446" y="541"/>
                </a:lnTo>
                <a:lnTo>
                  <a:pt x="459" y="526"/>
                </a:lnTo>
                <a:lnTo>
                  <a:pt x="474" y="511"/>
                </a:lnTo>
                <a:lnTo>
                  <a:pt x="490" y="493"/>
                </a:lnTo>
                <a:lnTo>
                  <a:pt x="507" y="478"/>
                </a:lnTo>
                <a:lnTo>
                  <a:pt x="522" y="461"/>
                </a:lnTo>
                <a:lnTo>
                  <a:pt x="540" y="442"/>
                </a:lnTo>
                <a:lnTo>
                  <a:pt x="557" y="424"/>
                </a:lnTo>
                <a:lnTo>
                  <a:pt x="574" y="405"/>
                </a:lnTo>
                <a:lnTo>
                  <a:pt x="593" y="386"/>
                </a:lnTo>
                <a:lnTo>
                  <a:pt x="613" y="367"/>
                </a:lnTo>
                <a:lnTo>
                  <a:pt x="630" y="346"/>
                </a:lnTo>
                <a:lnTo>
                  <a:pt x="651" y="32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6"/>
          <p:cNvSpPr/>
          <p:nvPr/>
        </p:nvSpPr>
        <p:spPr>
          <a:xfrm>
            <a:off x="2809800" y="2290680"/>
            <a:ext cx="995400" cy="1817640"/>
          </a:xfrm>
          <a:custGeom>
            <a:avLst/>
            <a:gdLst/>
            <a:ahLst/>
            <a:rect l="l" t="t" r="r" b="b"/>
            <a:pathLst>
              <a:path w="1253" h="2289">
                <a:moveTo>
                  <a:pt x="727" y="2289"/>
                </a:moveTo>
                <a:lnTo>
                  <a:pt x="723" y="2285"/>
                </a:lnTo>
                <a:lnTo>
                  <a:pt x="720" y="2283"/>
                </a:lnTo>
                <a:lnTo>
                  <a:pt x="716" y="2278"/>
                </a:lnTo>
                <a:lnTo>
                  <a:pt x="712" y="2274"/>
                </a:lnTo>
                <a:lnTo>
                  <a:pt x="710" y="2268"/>
                </a:lnTo>
                <a:lnTo>
                  <a:pt x="706" y="2262"/>
                </a:lnTo>
                <a:lnTo>
                  <a:pt x="704" y="2255"/>
                </a:lnTo>
                <a:lnTo>
                  <a:pt x="700" y="2247"/>
                </a:lnTo>
                <a:lnTo>
                  <a:pt x="698" y="2237"/>
                </a:lnTo>
                <a:lnTo>
                  <a:pt x="697" y="2228"/>
                </a:lnTo>
                <a:lnTo>
                  <a:pt x="693" y="2216"/>
                </a:lnTo>
                <a:lnTo>
                  <a:pt x="691" y="2205"/>
                </a:lnTo>
                <a:lnTo>
                  <a:pt x="689" y="2191"/>
                </a:lnTo>
                <a:lnTo>
                  <a:pt x="687" y="2178"/>
                </a:lnTo>
                <a:lnTo>
                  <a:pt x="685" y="2162"/>
                </a:lnTo>
                <a:lnTo>
                  <a:pt x="683" y="2145"/>
                </a:lnTo>
                <a:lnTo>
                  <a:pt x="679" y="2132"/>
                </a:lnTo>
                <a:lnTo>
                  <a:pt x="675" y="2116"/>
                </a:lnTo>
                <a:lnTo>
                  <a:pt x="672" y="2101"/>
                </a:lnTo>
                <a:lnTo>
                  <a:pt x="666" y="2088"/>
                </a:lnTo>
                <a:lnTo>
                  <a:pt x="660" y="2072"/>
                </a:lnTo>
                <a:lnTo>
                  <a:pt x="652" y="2057"/>
                </a:lnTo>
                <a:lnTo>
                  <a:pt x="643" y="2042"/>
                </a:lnTo>
                <a:lnTo>
                  <a:pt x="635" y="2026"/>
                </a:lnTo>
                <a:lnTo>
                  <a:pt x="626" y="2013"/>
                </a:lnTo>
                <a:lnTo>
                  <a:pt x="614" y="1995"/>
                </a:lnTo>
                <a:lnTo>
                  <a:pt x="603" y="1980"/>
                </a:lnTo>
                <a:lnTo>
                  <a:pt x="591" y="1965"/>
                </a:lnTo>
                <a:lnTo>
                  <a:pt x="578" y="1949"/>
                </a:lnTo>
                <a:lnTo>
                  <a:pt x="566" y="1932"/>
                </a:lnTo>
                <a:lnTo>
                  <a:pt x="551" y="1915"/>
                </a:lnTo>
                <a:lnTo>
                  <a:pt x="537" y="1898"/>
                </a:lnTo>
                <a:lnTo>
                  <a:pt x="522" y="1882"/>
                </a:lnTo>
                <a:lnTo>
                  <a:pt x="507" y="1865"/>
                </a:lnTo>
                <a:lnTo>
                  <a:pt x="491" y="1852"/>
                </a:lnTo>
                <a:lnTo>
                  <a:pt x="480" y="1836"/>
                </a:lnTo>
                <a:lnTo>
                  <a:pt x="466" y="1825"/>
                </a:lnTo>
                <a:lnTo>
                  <a:pt x="457" y="1811"/>
                </a:lnTo>
                <a:lnTo>
                  <a:pt x="447" y="1802"/>
                </a:lnTo>
                <a:lnTo>
                  <a:pt x="437" y="1790"/>
                </a:lnTo>
                <a:lnTo>
                  <a:pt x="432" y="1782"/>
                </a:lnTo>
                <a:lnTo>
                  <a:pt x="424" y="1773"/>
                </a:lnTo>
                <a:lnTo>
                  <a:pt x="420" y="1765"/>
                </a:lnTo>
                <a:lnTo>
                  <a:pt x="416" y="1759"/>
                </a:lnTo>
                <a:lnTo>
                  <a:pt x="414" y="1754"/>
                </a:lnTo>
                <a:lnTo>
                  <a:pt x="413" y="1750"/>
                </a:lnTo>
                <a:lnTo>
                  <a:pt x="413" y="1746"/>
                </a:lnTo>
                <a:lnTo>
                  <a:pt x="414" y="1742"/>
                </a:lnTo>
                <a:lnTo>
                  <a:pt x="414" y="1740"/>
                </a:lnTo>
                <a:lnTo>
                  <a:pt x="416" y="1738"/>
                </a:lnTo>
                <a:lnTo>
                  <a:pt x="420" y="1738"/>
                </a:lnTo>
                <a:lnTo>
                  <a:pt x="424" y="1736"/>
                </a:lnTo>
                <a:lnTo>
                  <a:pt x="430" y="1738"/>
                </a:lnTo>
                <a:lnTo>
                  <a:pt x="437" y="1738"/>
                </a:lnTo>
                <a:lnTo>
                  <a:pt x="445" y="1740"/>
                </a:lnTo>
                <a:lnTo>
                  <a:pt x="455" y="1742"/>
                </a:lnTo>
                <a:lnTo>
                  <a:pt x="466" y="1744"/>
                </a:lnTo>
                <a:lnTo>
                  <a:pt x="478" y="1748"/>
                </a:lnTo>
                <a:lnTo>
                  <a:pt x="489" y="1752"/>
                </a:lnTo>
                <a:lnTo>
                  <a:pt x="505" y="1758"/>
                </a:lnTo>
                <a:lnTo>
                  <a:pt x="518" y="1761"/>
                </a:lnTo>
                <a:lnTo>
                  <a:pt x="535" y="1767"/>
                </a:lnTo>
                <a:lnTo>
                  <a:pt x="553" y="1775"/>
                </a:lnTo>
                <a:lnTo>
                  <a:pt x="570" y="1781"/>
                </a:lnTo>
                <a:lnTo>
                  <a:pt x="589" y="1790"/>
                </a:lnTo>
                <a:lnTo>
                  <a:pt x="606" y="1800"/>
                </a:lnTo>
                <a:lnTo>
                  <a:pt x="626" y="1807"/>
                </a:lnTo>
                <a:lnTo>
                  <a:pt x="641" y="1813"/>
                </a:lnTo>
                <a:lnTo>
                  <a:pt x="658" y="1819"/>
                </a:lnTo>
                <a:lnTo>
                  <a:pt x="674" y="1825"/>
                </a:lnTo>
                <a:lnTo>
                  <a:pt x="689" y="1829"/>
                </a:lnTo>
                <a:lnTo>
                  <a:pt x="702" y="1830"/>
                </a:lnTo>
                <a:lnTo>
                  <a:pt x="716" y="1832"/>
                </a:lnTo>
                <a:lnTo>
                  <a:pt x="727" y="1834"/>
                </a:lnTo>
                <a:lnTo>
                  <a:pt x="739" y="1834"/>
                </a:lnTo>
                <a:lnTo>
                  <a:pt x="750" y="1832"/>
                </a:lnTo>
                <a:lnTo>
                  <a:pt x="760" y="1830"/>
                </a:lnTo>
                <a:lnTo>
                  <a:pt x="769" y="1829"/>
                </a:lnTo>
                <a:lnTo>
                  <a:pt x="777" y="1825"/>
                </a:lnTo>
                <a:lnTo>
                  <a:pt x="783" y="1821"/>
                </a:lnTo>
                <a:lnTo>
                  <a:pt x="789" y="1817"/>
                </a:lnTo>
                <a:lnTo>
                  <a:pt x="794" y="1813"/>
                </a:lnTo>
                <a:lnTo>
                  <a:pt x="800" y="1809"/>
                </a:lnTo>
                <a:lnTo>
                  <a:pt x="806" y="1804"/>
                </a:lnTo>
                <a:lnTo>
                  <a:pt x="812" y="1798"/>
                </a:lnTo>
                <a:lnTo>
                  <a:pt x="817" y="1790"/>
                </a:lnTo>
                <a:lnTo>
                  <a:pt x="821" y="1782"/>
                </a:lnTo>
                <a:lnTo>
                  <a:pt x="827" y="1773"/>
                </a:lnTo>
                <a:lnTo>
                  <a:pt x="831" y="1763"/>
                </a:lnTo>
                <a:lnTo>
                  <a:pt x="837" y="1754"/>
                </a:lnTo>
                <a:lnTo>
                  <a:pt x="840" y="1742"/>
                </a:lnTo>
                <a:lnTo>
                  <a:pt x="844" y="1731"/>
                </a:lnTo>
                <a:lnTo>
                  <a:pt x="848" y="1719"/>
                </a:lnTo>
                <a:lnTo>
                  <a:pt x="854" y="1706"/>
                </a:lnTo>
                <a:lnTo>
                  <a:pt x="858" y="1692"/>
                </a:lnTo>
                <a:lnTo>
                  <a:pt x="862" y="1677"/>
                </a:lnTo>
                <a:lnTo>
                  <a:pt x="863" y="1669"/>
                </a:lnTo>
                <a:lnTo>
                  <a:pt x="865" y="1662"/>
                </a:lnTo>
                <a:lnTo>
                  <a:pt x="867" y="1652"/>
                </a:lnTo>
                <a:lnTo>
                  <a:pt x="869" y="1644"/>
                </a:lnTo>
                <a:lnTo>
                  <a:pt x="871" y="1635"/>
                </a:lnTo>
                <a:lnTo>
                  <a:pt x="873" y="1623"/>
                </a:lnTo>
                <a:lnTo>
                  <a:pt x="877" y="1614"/>
                </a:lnTo>
                <a:lnTo>
                  <a:pt x="879" y="1602"/>
                </a:lnTo>
                <a:lnTo>
                  <a:pt x="881" y="1591"/>
                </a:lnTo>
                <a:lnTo>
                  <a:pt x="883" y="1577"/>
                </a:lnTo>
                <a:lnTo>
                  <a:pt x="885" y="1564"/>
                </a:lnTo>
                <a:lnTo>
                  <a:pt x="887" y="1550"/>
                </a:lnTo>
                <a:lnTo>
                  <a:pt x="888" y="1537"/>
                </a:lnTo>
                <a:lnTo>
                  <a:pt x="892" y="1521"/>
                </a:lnTo>
                <a:lnTo>
                  <a:pt x="894" y="1508"/>
                </a:lnTo>
                <a:lnTo>
                  <a:pt x="896" y="1493"/>
                </a:lnTo>
                <a:lnTo>
                  <a:pt x="898" y="1475"/>
                </a:lnTo>
                <a:lnTo>
                  <a:pt x="902" y="1458"/>
                </a:lnTo>
                <a:lnTo>
                  <a:pt x="904" y="1443"/>
                </a:lnTo>
                <a:lnTo>
                  <a:pt x="906" y="1424"/>
                </a:lnTo>
                <a:lnTo>
                  <a:pt x="910" y="1406"/>
                </a:lnTo>
                <a:lnTo>
                  <a:pt x="911" y="1387"/>
                </a:lnTo>
                <a:lnTo>
                  <a:pt x="913" y="1368"/>
                </a:lnTo>
                <a:lnTo>
                  <a:pt x="917" y="1349"/>
                </a:lnTo>
                <a:lnTo>
                  <a:pt x="919" y="1328"/>
                </a:lnTo>
                <a:lnTo>
                  <a:pt x="923" y="1307"/>
                </a:lnTo>
                <a:lnTo>
                  <a:pt x="925" y="1285"/>
                </a:lnTo>
                <a:lnTo>
                  <a:pt x="927" y="1262"/>
                </a:lnTo>
                <a:lnTo>
                  <a:pt x="931" y="1241"/>
                </a:lnTo>
                <a:lnTo>
                  <a:pt x="933" y="1218"/>
                </a:lnTo>
                <a:lnTo>
                  <a:pt x="936" y="1193"/>
                </a:lnTo>
                <a:lnTo>
                  <a:pt x="940" y="1170"/>
                </a:lnTo>
                <a:lnTo>
                  <a:pt x="946" y="1122"/>
                </a:lnTo>
                <a:lnTo>
                  <a:pt x="952" y="1074"/>
                </a:lnTo>
                <a:lnTo>
                  <a:pt x="956" y="1028"/>
                </a:lnTo>
                <a:lnTo>
                  <a:pt x="961" y="982"/>
                </a:lnTo>
                <a:lnTo>
                  <a:pt x="965" y="938"/>
                </a:lnTo>
                <a:lnTo>
                  <a:pt x="969" y="894"/>
                </a:lnTo>
                <a:lnTo>
                  <a:pt x="971" y="852"/>
                </a:lnTo>
                <a:lnTo>
                  <a:pt x="975" y="810"/>
                </a:lnTo>
                <a:lnTo>
                  <a:pt x="977" y="769"/>
                </a:lnTo>
                <a:lnTo>
                  <a:pt x="979" y="731"/>
                </a:lnTo>
                <a:lnTo>
                  <a:pt x="981" y="692"/>
                </a:lnTo>
                <a:lnTo>
                  <a:pt x="982" y="656"/>
                </a:lnTo>
                <a:lnTo>
                  <a:pt x="982" y="620"/>
                </a:lnTo>
                <a:lnTo>
                  <a:pt x="984" y="585"/>
                </a:lnTo>
                <a:lnTo>
                  <a:pt x="984" y="552"/>
                </a:lnTo>
                <a:lnTo>
                  <a:pt x="984" y="520"/>
                </a:lnTo>
                <a:lnTo>
                  <a:pt x="984" y="489"/>
                </a:lnTo>
                <a:lnTo>
                  <a:pt x="984" y="458"/>
                </a:lnTo>
                <a:lnTo>
                  <a:pt x="982" y="432"/>
                </a:lnTo>
                <a:lnTo>
                  <a:pt x="982" y="405"/>
                </a:lnTo>
                <a:lnTo>
                  <a:pt x="981" y="380"/>
                </a:lnTo>
                <a:lnTo>
                  <a:pt x="981" y="357"/>
                </a:lnTo>
                <a:lnTo>
                  <a:pt x="979" y="336"/>
                </a:lnTo>
                <a:lnTo>
                  <a:pt x="977" y="316"/>
                </a:lnTo>
                <a:lnTo>
                  <a:pt x="975" y="297"/>
                </a:lnTo>
                <a:lnTo>
                  <a:pt x="973" y="282"/>
                </a:lnTo>
                <a:lnTo>
                  <a:pt x="973" y="266"/>
                </a:lnTo>
                <a:lnTo>
                  <a:pt x="971" y="255"/>
                </a:lnTo>
                <a:lnTo>
                  <a:pt x="967" y="243"/>
                </a:lnTo>
                <a:lnTo>
                  <a:pt x="965" y="234"/>
                </a:lnTo>
                <a:lnTo>
                  <a:pt x="963" y="226"/>
                </a:lnTo>
                <a:lnTo>
                  <a:pt x="961" y="220"/>
                </a:lnTo>
                <a:lnTo>
                  <a:pt x="959" y="219"/>
                </a:lnTo>
                <a:lnTo>
                  <a:pt x="956" y="219"/>
                </a:lnTo>
                <a:lnTo>
                  <a:pt x="954" y="217"/>
                </a:lnTo>
                <a:lnTo>
                  <a:pt x="948" y="217"/>
                </a:lnTo>
                <a:lnTo>
                  <a:pt x="944" y="217"/>
                </a:lnTo>
                <a:lnTo>
                  <a:pt x="938" y="215"/>
                </a:lnTo>
                <a:lnTo>
                  <a:pt x="933" y="215"/>
                </a:lnTo>
                <a:lnTo>
                  <a:pt x="927" y="215"/>
                </a:lnTo>
                <a:lnTo>
                  <a:pt x="919" y="215"/>
                </a:lnTo>
                <a:lnTo>
                  <a:pt x="911" y="215"/>
                </a:lnTo>
                <a:lnTo>
                  <a:pt x="902" y="217"/>
                </a:lnTo>
                <a:lnTo>
                  <a:pt x="894" y="217"/>
                </a:lnTo>
                <a:lnTo>
                  <a:pt x="885" y="217"/>
                </a:lnTo>
                <a:lnTo>
                  <a:pt x="873" y="219"/>
                </a:lnTo>
                <a:lnTo>
                  <a:pt x="863" y="220"/>
                </a:lnTo>
                <a:lnTo>
                  <a:pt x="852" y="220"/>
                </a:lnTo>
                <a:lnTo>
                  <a:pt x="839" y="222"/>
                </a:lnTo>
                <a:lnTo>
                  <a:pt x="827" y="224"/>
                </a:lnTo>
                <a:lnTo>
                  <a:pt x="814" y="226"/>
                </a:lnTo>
                <a:lnTo>
                  <a:pt x="800" y="228"/>
                </a:lnTo>
                <a:lnTo>
                  <a:pt x="785" y="232"/>
                </a:lnTo>
                <a:lnTo>
                  <a:pt x="769" y="234"/>
                </a:lnTo>
                <a:lnTo>
                  <a:pt x="754" y="236"/>
                </a:lnTo>
                <a:lnTo>
                  <a:pt x="737" y="240"/>
                </a:lnTo>
                <a:lnTo>
                  <a:pt x="720" y="243"/>
                </a:lnTo>
                <a:lnTo>
                  <a:pt x="702" y="247"/>
                </a:lnTo>
                <a:lnTo>
                  <a:pt x="683" y="249"/>
                </a:lnTo>
                <a:lnTo>
                  <a:pt x="664" y="255"/>
                </a:lnTo>
                <a:lnTo>
                  <a:pt x="645" y="259"/>
                </a:lnTo>
                <a:lnTo>
                  <a:pt x="624" y="263"/>
                </a:lnTo>
                <a:lnTo>
                  <a:pt x="604" y="266"/>
                </a:lnTo>
                <a:lnTo>
                  <a:pt x="581" y="272"/>
                </a:lnTo>
                <a:lnTo>
                  <a:pt x="560" y="278"/>
                </a:lnTo>
                <a:lnTo>
                  <a:pt x="539" y="284"/>
                </a:lnTo>
                <a:lnTo>
                  <a:pt x="518" y="290"/>
                </a:lnTo>
                <a:lnTo>
                  <a:pt x="499" y="295"/>
                </a:lnTo>
                <a:lnTo>
                  <a:pt x="480" y="301"/>
                </a:lnTo>
                <a:lnTo>
                  <a:pt x="462" y="305"/>
                </a:lnTo>
                <a:lnTo>
                  <a:pt x="443" y="311"/>
                </a:lnTo>
                <a:lnTo>
                  <a:pt x="426" y="314"/>
                </a:lnTo>
                <a:lnTo>
                  <a:pt x="411" y="318"/>
                </a:lnTo>
                <a:lnTo>
                  <a:pt x="393" y="322"/>
                </a:lnTo>
                <a:lnTo>
                  <a:pt x="378" y="326"/>
                </a:lnTo>
                <a:lnTo>
                  <a:pt x="365" y="330"/>
                </a:lnTo>
                <a:lnTo>
                  <a:pt x="349" y="334"/>
                </a:lnTo>
                <a:lnTo>
                  <a:pt x="336" y="337"/>
                </a:lnTo>
                <a:lnTo>
                  <a:pt x="322" y="339"/>
                </a:lnTo>
                <a:lnTo>
                  <a:pt x="311" y="343"/>
                </a:lnTo>
                <a:lnTo>
                  <a:pt x="299" y="345"/>
                </a:lnTo>
                <a:lnTo>
                  <a:pt x="288" y="347"/>
                </a:lnTo>
                <a:lnTo>
                  <a:pt x="278" y="349"/>
                </a:lnTo>
                <a:lnTo>
                  <a:pt x="267" y="351"/>
                </a:lnTo>
                <a:lnTo>
                  <a:pt x="257" y="353"/>
                </a:lnTo>
                <a:lnTo>
                  <a:pt x="249" y="355"/>
                </a:lnTo>
                <a:lnTo>
                  <a:pt x="240" y="357"/>
                </a:lnTo>
                <a:lnTo>
                  <a:pt x="232" y="359"/>
                </a:lnTo>
                <a:lnTo>
                  <a:pt x="226" y="359"/>
                </a:lnTo>
                <a:lnTo>
                  <a:pt x="219" y="361"/>
                </a:lnTo>
                <a:lnTo>
                  <a:pt x="213" y="361"/>
                </a:lnTo>
                <a:lnTo>
                  <a:pt x="207" y="362"/>
                </a:lnTo>
                <a:lnTo>
                  <a:pt x="203" y="362"/>
                </a:lnTo>
                <a:lnTo>
                  <a:pt x="198" y="362"/>
                </a:lnTo>
                <a:lnTo>
                  <a:pt x="194" y="362"/>
                </a:lnTo>
                <a:lnTo>
                  <a:pt x="190" y="362"/>
                </a:lnTo>
                <a:lnTo>
                  <a:pt x="178" y="362"/>
                </a:lnTo>
                <a:lnTo>
                  <a:pt x="163" y="361"/>
                </a:lnTo>
                <a:lnTo>
                  <a:pt x="150" y="359"/>
                </a:lnTo>
                <a:lnTo>
                  <a:pt x="132" y="353"/>
                </a:lnTo>
                <a:lnTo>
                  <a:pt x="117" y="349"/>
                </a:lnTo>
                <a:lnTo>
                  <a:pt x="102" y="341"/>
                </a:lnTo>
                <a:lnTo>
                  <a:pt x="84" y="334"/>
                </a:lnTo>
                <a:lnTo>
                  <a:pt x="67" y="324"/>
                </a:lnTo>
                <a:lnTo>
                  <a:pt x="59" y="322"/>
                </a:lnTo>
                <a:lnTo>
                  <a:pt x="52" y="318"/>
                </a:lnTo>
                <a:lnTo>
                  <a:pt x="44" y="314"/>
                </a:lnTo>
                <a:lnTo>
                  <a:pt x="38" y="313"/>
                </a:lnTo>
                <a:lnTo>
                  <a:pt x="33" y="309"/>
                </a:lnTo>
                <a:lnTo>
                  <a:pt x="27" y="305"/>
                </a:lnTo>
                <a:lnTo>
                  <a:pt x="21" y="299"/>
                </a:lnTo>
                <a:lnTo>
                  <a:pt x="17" y="295"/>
                </a:lnTo>
                <a:lnTo>
                  <a:pt x="13" y="290"/>
                </a:lnTo>
                <a:lnTo>
                  <a:pt x="10" y="284"/>
                </a:lnTo>
                <a:lnTo>
                  <a:pt x="8" y="278"/>
                </a:lnTo>
                <a:lnTo>
                  <a:pt x="4" y="272"/>
                </a:lnTo>
                <a:lnTo>
                  <a:pt x="4" y="266"/>
                </a:lnTo>
                <a:lnTo>
                  <a:pt x="2" y="261"/>
                </a:lnTo>
                <a:lnTo>
                  <a:pt x="0" y="253"/>
                </a:lnTo>
                <a:lnTo>
                  <a:pt x="0" y="245"/>
                </a:lnTo>
                <a:lnTo>
                  <a:pt x="29" y="242"/>
                </a:lnTo>
                <a:lnTo>
                  <a:pt x="56" y="240"/>
                </a:lnTo>
                <a:lnTo>
                  <a:pt x="82" y="236"/>
                </a:lnTo>
                <a:lnTo>
                  <a:pt x="109" y="232"/>
                </a:lnTo>
                <a:lnTo>
                  <a:pt x="136" y="228"/>
                </a:lnTo>
                <a:lnTo>
                  <a:pt x="161" y="224"/>
                </a:lnTo>
                <a:lnTo>
                  <a:pt x="186" y="220"/>
                </a:lnTo>
                <a:lnTo>
                  <a:pt x="211" y="217"/>
                </a:lnTo>
                <a:lnTo>
                  <a:pt x="234" y="213"/>
                </a:lnTo>
                <a:lnTo>
                  <a:pt x="257" y="209"/>
                </a:lnTo>
                <a:lnTo>
                  <a:pt x="280" y="205"/>
                </a:lnTo>
                <a:lnTo>
                  <a:pt x="303" y="201"/>
                </a:lnTo>
                <a:lnTo>
                  <a:pt x="347" y="195"/>
                </a:lnTo>
                <a:lnTo>
                  <a:pt x="389" y="188"/>
                </a:lnTo>
                <a:lnTo>
                  <a:pt x="430" y="180"/>
                </a:lnTo>
                <a:lnTo>
                  <a:pt x="466" y="172"/>
                </a:lnTo>
                <a:lnTo>
                  <a:pt x="503" y="167"/>
                </a:lnTo>
                <a:lnTo>
                  <a:pt x="539" y="159"/>
                </a:lnTo>
                <a:lnTo>
                  <a:pt x="572" y="151"/>
                </a:lnTo>
                <a:lnTo>
                  <a:pt x="603" y="144"/>
                </a:lnTo>
                <a:lnTo>
                  <a:pt x="631" y="136"/>
                </a:lnTo>
                <a:lnTo>
                  <a:pt x="660" y="128"/>
                </a:lnTo>
                <a:lnTo>
                  <a:pt x="685" y="123"/>
                </a:lnTo>
                <a:lnTo>
                  <a:pt x="708" y="115"/>
                </a:lnTo>
                <a:lnTo>
                  <a:pt x="731" y="107"/>
                </a:lnTo>
                <a:lnTo>
                  <a:pt x="752" y="101"/>
                </a:lnTo>
                <a:lnTo>
                  <a:pt x="773" y="96"/>
                </a:lnTo>
                <a:lnTo>
                  <a:pt x="791" y="90"/>
                </a:lnTo>
                <a:lnTo>
                  <a:pt x="810" y="84"/>
                </a:lnTo>
                <a:lnTo>
                  <a:pt x="827" y="78"/>
                </a:lnTo>
                <a:lnTo>
                  <a:pt x="842" y="73"/>
                </a:lnTo>
                <a:lnTo>
                  <a:pt x="856" y="67"/>
                </a:lnTo>
                <a:lnTo>
                  <a:pt x="869" y="63"/>
                </a:lnTo>
                <a:lnTo>
                  <a:pt x="883" y="57"/>
                </a:lnTo>
                <a:lnTo>
                  <a:pt x="892" y="53"/>
                </a:lnTo>
                <a:lnTo>
                  <a:pt x="902" y="48"/>
                </a:lnTo>
                <a:lnTo>
                  <a:pt x="910" y="42"/>
                </a:lnTo>
                <a:lnTo>
                  <a:pt x="917" y="38"/>
                </a:lnTo>
                <a:lnTo>
                  <a:pt x="929" y="29"/>
                </a:lnTo>
                <a:lnTo>
                  <a:pt x="940" y="21"/>
                </a:lnTo>
                <a:lnTo>
                  <a:pt x="952" y="13"/>
                </a:lnTo>
                <a:lnTo>
                  <a:pt x="961" y="9"/>
                </a:lnTo>
                <a:lnTo>
                  <a:pt x="973" y="4"/>
                </a:lnTo>
                <a:lnTo>
                  <a:pt x="982" y="2"/>
                </a:lnTo>
                <a:lnTo>
                  <a:pt x="994" y="0"/>
                </a:lnTo>
                <a:lnTo>
                  <a:pt x="1007" y="0"/>
                </a:lnTo>
                <a:lnTo>
                  <a:pt x="1011" y="2"/>
                </a:lnTo>
                <a:lnTo>
                  <a:pt x="1015" y="4"/>
                </a:lnTo>
                <a:lnTo>
                  <a:pt x="1021" y="7"/>
                </a:lnTo>
                <a:lnTo>
                  <a:pt x="1029" y="11"/>
                </a:lnTo>
                <a:lnTo>
                  <a:pt x="1034" y="15"/>
                </a:lnTo>
                <a:lnTo>
                  <a:pt x="1042" y="19"/>
                </a:lnTo>
                <a:lnTo>
                  <a:pt x="1050" y="25"/>
                </a:lnTo>
                <a:lnTo>
                  <a:pt x="1059" y="30"/>
                </a:lnTo>
                <a:lnTo>
                  <a:pt x="1067" y="36"/>
                </a:lnTo>
                <a:lnTo>
                  <a:pt x="1078" y="42"/>
                </a:lnTo>
                <a:lnTo>
                  <a:pt x="1088" y="48"/>
                </a:lnTo>
                <a:lnTo>
                  <a:pt x="1100" y="55"/>
                </a:lnTo>
                <a:lnTo>
                  <a:pt x="1111" y="63"/>
                </a:lnTo>
                <a:lnTo>
                  <a:pt x="1124" y="71"/>
                </a:lnTo>
                <a:lnTo>
                  <a:pt x="1138" y="80"/>
                </a:lnTo>
                <a:lnTo>
                  <a:pt x="1151" y="90"/>
                </a:lnTo>
                <a:lnTo>
                  <a:pt x="1165" y="101"/>
                </a:lnTo>
                <a:lnTo>
                  <a:pt x="1174" y="113"/>
                </a:lnTo>
                <a:lnTo>
                  <a:pt x="1186" y="124"/>
                </a:lnTo>
                <a:lnTo>
                  <a:pt x="1195" y="134"/>
                </a:lnTo>
                <a:lnTo>
                  <a:pt x="1205" y="144"/>
                </a:lnTo>
                <a:lnTo>
                  <a:pt x="1213" y="153"/>
                </a:lnTo>
                <a:lnTo>
                  <a:pt x="1220" y="161"/>
                </a:lnTo>
                <a:lnTo>
                  <a:pt x="1228" y="169"/>
                </a:lnTo>
                <a:lnTo>
                  <a:pt x="1234" y="174"/>
                </a:lnTo>
                <a:lnTo>
                  <a:pt x="1238" y="182"/>
                </a:lnTo>
                <a:lnTo>
                  <a:pt x="1243" y="188"/>
                </a:lnTo>
                <a:lnTo>
                  <a:pt x="1245" y="192"/>
                </a:lnTo>
                <a:lnTo>
                  <a:pt x="1249" y="197"/>
                </a:lnTo>
                <a:lnTo>
                  <a:pt x="1251" y="201"/>
                </a:lnTo>
                <a:lnTo>
                  <a:pt x="1253" y="205"/>
                </a:lnTo>
                <a:lnTo>
                  <a:pt x="1253" y="207"/>
                </a:lnTo>
                <a:lnTo>
                  <a:pt x="1251" y="213"/>
                </a:lnTo>
                <a:lnTo>
                  <a:pt x="1251" y="219"/>
                </a:lnTo>
                <a:lnTo>
                  <a:pt x="1247" y="226"/>
                </a:lnTo>
                <a:lnTo>
                  <a:pt x="1243" y="234"/>
                </a:lnTo>
                <a:lnTo>
                  <a:pt x="1240" y="243"/>
                </a:lnTo>
                <a:lnTo>
                  <a:pt x="1234" y="253"/>
                </a:lnTo>
                <a:lnTo>
                  <a:pt x="1226" y="263"/>
                </a:lnTo>
                <a:lnTo>
                  <a:pt x="1219" y="272"/>
                </a:lnTo>
                <a:lnTo>
                  <a:pt x="1213" y="280"/>
                </a:lnTo>
                <a:lnTo>
                  <a:pt x="1207" y="290"/>
                </a:lnTo>
                <a:lnTo>
                  <a:pt x="1203" y="301"/>
                </a:lnTo>
                <a:lnTo>
                  <a:pt x="1197" y="314"/>
                </a:lnTo>
                <a:lnTo>
                  <a:pt x="1194" y="328"/>
                </a:lnTo>
                <a:lnTo>
                  <a:pt x="1190" y="345"/>
                </a:lnTo>
                <a:lnTo>
                  <a:pt x="1186" y="362"/>
                </a:lnTo>
                <a:lnTo>
                  <a:pt x="1182" y="382"/>
                </a:lnTo>
                <a:lnTo>
                  <a:pt x="1180" y="403"/>
                </a:lnTo>
                <a:lnTo>
                  <a:pt x="1176" y="424"/>
                </a:lnTo>
                <a:lnTo>
                  <a:pt x="1174" y="449"/>
                </a:lnTo>
                <a:lnTo>
                  <a:pt x="1172" y="476"/>
                </a:lnTo>
                <a:lnTo>
                  <a:pt x="1169" y="503"/>
                </a:lnTo>
                <a:lnTo>
                  <a:pt x="1167" y="533"/>
                </a:lnTo>
                <a:lnTo>
                  <a:pt x="1165" y="564"/>
                </a:lnTo>
                <a:lnTo>
                  <a:pt x="1163" y="597"/>
                </a:lnTo>
                <a:lnTo>
                  <a:pt x="1161" y="635"/>
                </a:lnTo>
                <a:lnTo>
                  <a:pt x="1159" y="671"/>
                </a:lnTo>
                <a:lnTo>
                  <a:pt x="1157" y="710"/>
                </a:lnTo>
                <a:lnTo>
                  <a:pt x="1155" y="748"/>
                </a:lnTo>
                <a:lnTo>
                  <a:pt x="1151" y="788"/>
                </a:lnTo>
                <a:lnTo>
                  <a:pt x="1149" y="829"/>
                </a:lnTo>
                <a:lnTo>
                  <a:pt x="1148" y="869"/>
                </a:lnTo>
                <a:lnTo>
                  <a:pt x="1146" y="909"/>
                </a:lnTo>
                <a:lnTo>
                  <a:pt x="1142" y="952"/>
                </a:lnTo>
                <a:lnTo>
                  <a:pt x="1140" y="994"/>
                </a:lnTo>
                <a:lnTo>
                  <a:pt x="1136" y="1036"/>
                </a:lnTo>
                <a:lnTo>
                  <a:pt x="1134" y="1080"/>
                </a:lnTo>
                <a:lnTo>
                  <a:pt x="1130" y="1124"/>
                </a:lnTo>
                <a:lnTo>
                  <a:pt x="1126" y="1168"/>
                </a:lnTo>
                <a:lnTo>
                  <a:pt x="1123" y="1214"/>
                </a:lnTo>
                <a:lnTo>
                  <a:pt x="1119" y="1261"/>
                </a:lnTo>
                <a:lnTo>
                  <a:pt x="1113" y="1308"/>
                </a:lnTo>
                <a:lnTo>
                  <a:pt x="1105" y="1356"/>
                </a:lnTo>
                <a:lnTo>
                  <a:pt x="1100" y="1403"/>
                </a:lnTo>
                <a:lnTo>
                  <a:pt x="1094" y="1447"/>
                </a:lnTo>
                <a:lnTo>
                  <a:pt x="1086" y="1489"/>
                </a:lnTo>
                <a:lnTo>
                  <a:pt x="1080" y="1531"/>
                </a:lnTo>
                <a:lnTo>
                  <a:pt x="1073" y="1573"/>
                </a:lnTo>
                <a:lnTo>
                  <a:pt x="1067" y="1612"/>
                </a:lnTo>
                <a:lnTo>
                  <a:pt x="1059" y="1650"/>
                </a:lnTo>
                <a:lnTo>
                  <a:pt x="1053" y="1688"/>
                </a:lnTo>
                <a:lnTo>
                  <a:pt x="1046" y="1723"/>
                </a:lnTo>
                <a:lnTo>
                  <a:pt x="1038" y="1758"/>
                </a:lnTo>
                <a:lnTo>
                  <a:pt x="1030" y="1792"/>
                </a:lnTo>
                <a:lnTo>
                  <a:pt x="1023" y="1825"/>
                </a:lnTo>
                <a:lnTo>
                  <a:pt x="1015" y="1855"/>
                </a:lnTo>
                <a:lnTo>
                  <a:pt x="1007" y="1886"/>
                </a:lnTo>
                <a:lnTo>
                  <a:pt x="998" y="1915"/>
                </a:lnTo>
                <a:lnTo>
                  <a:pt x="990" y="1942"/>
                </a:lnTo>
                <a:lnTo>
                  <a:pt x="981" y="1969"/>
                </a:lnTo>
                <a:lnTo>
                  <a:pt x="971" y="1994"/>
                </a:lnTo>
                <a:lnTo>
                  <a:pt x="961" y="2017"/>
                </a:lnTo>
                <a:lnTo>
                  <a:pt x="952" y="2040"/>
                </a:lnTo>
                <a:lnTo>
                  <a:pt x="942" y="2061"/>
                </a:lnTo>
                <a:lnTo>
                  <a:pt x="933" y="2080"/>
                </a:lnTo>
                <a:lnTo>
                  <a:pt x="923" y="2099"/>
                </a:lnTo>
                <a:lnTo>
                  <a:pt x="911" y="2116"/>
                </a:lnTo>
                <a:lnTo>
                  <a:pt x="902" y="2134"/>
                </a:lnTo>
                <a:lnTo>
                  <a:pt x="892" y="2149"/>
                </a:lnTo>
                <a:lnTo>
                  <a:pt x="881" y="2162"/>
                </a:lnTo>
                <a:lnTo>
                  <a:pt x="871" y="2176"/>
                </a:lnTo>
                <a:lnTo>
                  <a:pt x="860" y="2187"/>
                </a:lnTo>
                <a:lnTo>
                  <a:pt x="850" y="2197"/>
                </a:lnTo>
                <a:lnTo>
                  <a:pt x="840" y="2208"/>
                </a:lnTo>
                <a:lnTo>
                  <a:pt x="829" y="2220"/>
                </a:lnTo>
                <a:lnTo>
                  <a:pt x="819" y="2230"/>
                </a:lnTo>
                <a:lnTo>
                  <a:pt x="812" y="2239"/>
                </a:lnTo>
                <a:lnTo>
                  <a:pt x="802" y="2247"/>
                </a:lnTo>
                <a:lnTo>
                  <a:pt x="792" y="2255"/>
                </a:lnTo>
                <a:lnTo>
                  <a:pt x="785" y="2262"/>
                </a:lnTo>
                <a:lnTo>
                  <a:pt x="777" y="2268"/>
                </a:lnTo>
                <a:lnTo>
                  <a:pt x="769" y="2274"/>
                </a:lnTo>
                <a:lnTo>
                  <a:pt x="762" y="2278"/>
                </a:lnTo>
                <a:lnTo>
                  <a:pt x="754" y="2281"/>
                </a:lnTo>
                <a:lnTo>
                  <a:pt x="748" y="2283"/>
                </a:lnTo>
                <a:lnTo>
                  <a:pt x="743" y="2285"/>
                </a:lnTo>
                <a:lnTo>
                  <a:pt x="737" y="2287"/>
                </a:lnTo>
                <a:lnTo>
                  <a:pt x="731" y="2289"/>
                </a:lnTo>
                <a:lnTo>
                  <a:pt x="727" y="228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7"/>
          <p:cNvGrpSpPr/>
          <p:nvPr/>
        </p:nvGrpSpPr>
        <p:grpSpPr>
          <a:xfrm>
            <a:off x="4648320" y="1752480"/>
            <a:ext cx="2819160" cy="1057320"/>
            <a:chOff x="4648320" y="1752480"/>
            <a:chExt cx="2819160" cy="1057320"/>
          </a:xfrm>
        </p:grpSpPr>
        <p:sp>
          <p:nvSpPr>
            <p:cNvPr id="444" name="Text Box 28"/>
            <p:cNvSpPr/>
            <p:nvPr/>
          </p:nvSpPr>
          <p:spPr>
            <a:xfrm>
              <a:off x="4648320" y="190512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口字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29"/>
            <p:cNvGrpSpPr/>
            <p:nvPr/>
          </p:nvGrpSpPr>
          <p:grpSpPr>
            <a:xfrm>
              <a:off x="6629400" y="1752480"/>
              <a:ext cx="754200" cy="1057320"/>
              <a:chOff x="6629400" y="1752480"/>
              <a:chExt cx="754200" cy="1057320"/>
            </a:xfrm>
          </p:grpSpPr>
          <p:sp>
            <p:nvSpPr>
              <p:cNvPr id="446" name="AutoShape 30"/>
              <p:cNvSpPr/>
              <p:nvPr/>
            </p:nvSpPr>
            <p:spPr>
              <a:xfrm>
                <a:off x="6629400" y="1839960"/>
                <a:ext cx="264960" cy="969840"/>
              </a:xfrm>
              <a:custGeom>
                <a:avLst/>
                <a:gdLst/>
                <a:ahLst/>
                <a:rect l="l" t="t" r="r" b="b"/>
                <a:pathLst>
                  <a:path w="334" h="1223">
                    <a:moveTo>
                      <a:pt x="100" y="430"/>
                    </a:moveTo>
                    <a:lnTo>
                      <a:pt x="96" y="401"/>
                    </a:lnTo>
                    <a:lnTo>
                      <a:pt x="92" y="373"/>
                    </a:lnTo>
                    <a:lnTo>
                      <a:pt x="88" y="348"/>
                    </a:lnTo>
                    <a:lnTo>
                      <a:pt x="82" y="323"/>
                    </a:lnTo>
                    <a:lnTo>
                      <a:pt x="78" y="300"/>
                    </a:lnTo>
                    <a:lnTo>
                      <a:pt x="75" y="277"/>
                    </a:lnTo>
                    <a:lnTo>
                      <a:pt x="71" y="256"/>
                    </a:lnTo>
                    <a:lnTo>
                      <a:pt x="67" y="236"/>
                    </a:lnTo>
                    <a:lnTo>
                      <a:pt x="61" y="217"/>
                    </a:lnTo>
                    <a:lnTo>
                      <a:pt x="57" y="202"/>
                    </a:lnTo>
                    <a:lnTo>
                      <a:pt x="53" y="186"/>
                    </a:lnTo>
                    <a:lnTo>
                      <a:pt x="50" y="171"/>
                    </a:lnTo>
                    <a:lnTo>
                      <a:pt x="46" y="160"/>
                    </a:lnTo>
                    <a:lnTo>
                      <a:pt x="40" y="148"/>
                    </a:lnTo>
                    <a:lnTo>
                      <a:pt x="36" y="138"/>
                    </a:lnTo>
                    <a:lnTo>
                      <a:pt x="32" y="131"/>
                    </a:lnTo>
                    <a:lnTo>
                      <a:pt x="25" y="115"/>
                    </a:lnTo>
                    <a:lnTo>
                      <a:pt x="17" y="104"/>
                    </a:lnTo>
                    <a:lnTo>
                      <a:pt x="11" y="90"/>
                    </a:lnTo>
                    <a:lnTo>
                      <a:pt x="7" y="79"/>
                    </a:lnTo>
                    <a:lnTo>
                      <a:pt x="4" y="69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2" y="29"/>
                    </a:lnTo>
                    <a:lnTo>
                      <a:pt x="4" y="25"/>
                    </a:lnTo>
                    <a:lnTo>
                      <a:pt x="7" y="19"/>
                    </a:lnTo>
                    <a:lnTo>
                      <a:pt x="11" y="16"/>
                    </a:lnTo>
                    <a:lnTo>
                      <a:pt x="17" y="10"/>
                    </a:lnTo>
                    <a:lnTo>
                      <a:pt x="25" y="6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92" y="19"/>
                    </a:lnTo>
                    <a:lnTo>
                      <a:pt x="105" y="25"/>
                    </a:lnTo>
                    <a:lnTo>
                      <a:pt x="119" y="31"/>
                    </a:lnTo>
                    <a:lnTo>
                      <a:pt x="134" y="37"/>
                    </a:lnTo>
                    <a:lnTo>
                      <a:pt x="151" y="44"/>
                    </a:lnTo>
                    <a:lnTo>
                      <a:pt x="171" y="52"/>
                    </a:lnTo>
                    <a:lnTo>
                      <a:pt x="190" y="60"/>
                    </a:lnTo>
                    <a:lnTo>
                      <a:pt x="211" y="69"/>
                    </a:lnTo>
                    <a:lnTo>
                      <a:pt x="234" y="79"/>
                    </a:lnTo>
                    <a:lnTo>
                      <a:pt x="242" y="158"/>
                    </a:lnTo>
                    <a:lnTo>
                      <a:pt x="251" y="236"/>
                    </a:lnTo>
                    <a:lnTo>
                      <a:pt x="259" y="319"/>
                    </a:lnTo>
                    <a:lnTo>
                      <a:pt x="266" y="401"/>
                    </a:lnTo>
                    <a:lnTo>
                      <a:pt x="272" y="444"/>
                    </a:lnTo>
                    <a:lnTo>
                      <a:pt x="276" y="488"/>
                    </a:lnTo>
                    <a:lnTo>
                      <a:pt x="280" y="530"/>
                    </a:lnTo>
                    <a:lnTo>
                      <a:pt x="284" y="574"/>
                    </a:lnTo>
                    <a:lnTo>
                      <a:pt x="288" y="618"/>
                    </a:lnTo>
                    <a:lnTo>
                      <a:pt x="293" y="662"/>
                    </a:lnTo>
                    <a:lnTo>
                      <a:pt x="297" y="708"/>
                    </a:lnTo>
                    <a:lnTo>
                      <a:pt x="301" y="754"/>
                    </a:lnTo>
                    <a:lnTo>
                      <a:pt x="303" y="777"/>
                    </a:lnTo>
                    <a:lnTo>
                      <a:pt x="305" y="801"/>
                    </a:lnTo>
                    <a:lnTo>
                      <a:pt x="307" y="822"/>
                    </a:lnTo>
                    <a:lnTo>
                      <a:pt x="309" y="843"/>
                    </a:lnTo>
                    <a:lnTo>
                      <a:pt x="311" y="862"/>
                    </a:lnTo>
                    <a:lnTo>
                      <a:pt x="313" y="881"/>
                    </a:lnTo>
                    <a:lnTo>
                      <a:pt x="314" y="900"/>
                    </a:lnTo>
                    <a:lnTo>
                      <a:pt x="314" y="919"/>
                    </a:lnTo>
                    <a:lnTo>
                      <a:pt x="316" y="937"/>
                    </a:lnTo>
                    <a:lnTo>
                      <a:pt x="318" y="952"/>
                    </a:lnTo>
                    <a:lnTo>
                      <a:pt x="320" y="969"/>
                    </a:lnTo>
                    <a:lnTo>
                      <a:pt x="320" y="985"/>
                    </a:lnTo>
                    <a:lnTo>
                      <a:pt x="322" y="1000"/>
                    </a:lnTo>
                    <a:lnTo>
                      <a:pt x="324" y="1014"/>
                    </a:lnTo>
                    <a:lnTo>
                      <a:pt x="324" y="1027"/>
                    </a:lnTo>
                    <a:lnTo>
                      <a:pt x="326" y="1040"/>
                    </a:lnTo>
                    <a:lnTo>
                      <a:pt x="326" y="1054"/>
                    </a:lnTo>
                    <a:lnTo>
                      <a:pt x="328" y="1065"/>
                    </a:lnTo>
                    <a:lnTo>
                      <a:pt x="328" y="1077"/>
                    </a:lnTo>
                    <a:lnTo>
                      <a:pt x="330" y="1088"/>
                    </a:lnTo>
                    <a:lnTo>
                      <a:pt x="330" y="1098"/>
                    </a:lnTo>
                    <a:lnTo>
                      <a:pt x="332" y="1108"/>
                    </a:lnTo>
                    <a:lnTo>
                      <a:pt x="332" y="1115"/>
                    </a:lnTo>
                    <a:lnTo>
                      <a:pt x="332" y="1125"/>
                    </a:lnTo>
                    <a:lnTo>
                      <a:pt x="334" y="1132"/>
                    </a:lnTo>
                    <a:lnTo>
                      <a:pt x="334" y="1140"/>
                    </a:lnTo>
                    <a:lnTo>
                      <a:pt x="334" y="1146"/>
                    </a:lnTo>
                    <a:lnTo>
                      <a:pt x="334" y="1152"/>
                    </a:lnTo>
                    <a:lnTo>
                      <a:pt x="334" y="1157"/>
                    </a:lnTo>
                    <a:lnTo>
                      <a:pt x="334" y="1163"/>
                    </a:lnTo>
                    <a:lnTo>
                      <a:pt x="334" y="1167"/>
                    </a:lnTo>
                    <a:lnTo>
                      <a:pt x="334" y="1171"/>
                    </a:lnTo>
                    <a:lnTo>
                      <a:pt x="332" y="1179"/>
                    </a:lnTo>
                    <a:lnTo>
                      <a:pt x="330" y="1184"/>
                    </a:lnTo>
                    <a:lnTo>
                      <a:pt x="328" y="1190"/>
                    </a:lnTo>
                    <a:lnTo>
                      <a:pt x="326" y="1196"/>
                    </a:lnTo>
                    <a:lnTo>
                      <a:pt x="324" y="1200"/>
                    </a:lnTo>
                    <a:lnTo>
                      <a:pt x="322" y="1205"/>
                    </a:lnTo>
                    <a:lnTo>
                      <a:pt x="318" y="1209"/>
                    </a:lnTo>
                    <a:lnTo>
                      <a:pt x="316" y="1211"/>
                    </a:lnTo>
                    <a:lnTo>
                      <a:pt x="311" y="1217"/>
                    </a:lnTo>
                    <a:lnTo>
                      <a:pt x="305" y="1221"/>
                    </a:lnTo>
                    <a:lnTo>
                      <a:pt x="297" y="1223"/>
                    </a:lnTo>
                    <a:lnTo>
                      <a:pt x="290" y="1223"/>
                    </a:lnTo>
                    <a:lnTo>
                      <a:pt x="284" y="1223"/>
                    </a:lnTo>
                    <a:lnTo>
                      <a:pt x="278" y="1221"/>
                    </a:lnTo>
                    <a:lnTo>
                      <a:pt x="272" y="1217"/>
                    </a:lnTo>
                    <a:lnTo>
                      <a:pt x="266" y="1213"/>
                    </a:lnTo>
                    <a:lnTo>
                      <a:pt x="261" y="1207"/>
                    </a:lnTo>
                    <a:lnTo>
                      <a:pt x="257" y="1202"/>
                    </a:lnTo>
                    <a:lnTo>
                      <a:pt x="251" y="1194"/>
                    </a:lnTo>
                    <a:lnTo>
                      <a:pt x="247" y="1184"/>
                    </a:lnTo>
                    <a:lnTo>
                      <a:pt x="243" y="1175"/>
                    </a:lnTo>
                    <a:lnTo>
                      <a:pt x="240" y="1161"/>
                    </a:lnTo>
                    <a:lnTo>
                      <a:pt x="236" y="1150"/>
                    </a:lnTo>
                    <a:lnTo>
                      <a:pt x="232" y="1134"/>
                    </a:lnTo>
                    <a:lnTo>
                      <a:pt x="230" y="1121"/>
                    </a:lnTo>
                    <a:lnTo>
                      <a:pt x="226" y="1104"/>
                    </a:lnTo>
                    <a:lnTo>
                      <a:pt x="224" y="1086"/>
                    </a:lnTo>
                    <a:lnTo>
                      <a:pt x="222" y="1067"/>
                    </a:lnTo>
                    <a:lnTo>
                      <a:pt x="215" y="1029"/>
                    </a:lnTo>
                    <a:lnTo>
                      <a:pt x="205" y="990"/>
                    </a:lnTo>
                    <a:lnTo>
                      <a:pt x="197" y="954"/>
                    </a:lnTo>
                    <a:lnTo>
                      <a:pt x="190" y="919"/>
                    </a:lnTo>
                    <a:lnTo>
                      <a:pt x="184" y="883"/>
                    </a:lnTo>
                    <a:lnTo>
                      <a:pt x="176" y="848"/>
                    </a:lnTo>
                    <a:lnTo>
                      <a:pt x="171" y="816"/>
                    </a:lnTo>
                    <a:lnTo>
                      <a:pt x="167" y="781"/>
                    </a:lnTo>
                    <a:lnTo>
                      <a:pt x="165" y="764"/>
                    </a:lnTo>
                    <a:lnTo>
                      <a:pt x="161" y="745"/>
                    </a:lnTo>
                    <a:lnTo>
                      <a:pt x="159" y="728"/>
                    </a:lnTo>
                    <a:lnTo>
                      <a:pt x="155" y="708"/>
                    </a:lnTo>
                    <a:lnTo>
                      <a:pt x="153" y="687"/>
                    </a:lnTo>
                    <a:lnTo>
                      <a:pt x="149" y="668"/>
                    </a:lnTo>
                    <a:lnTo>
                      <a:pt x="146" y="647"/>
                    </a:lnTo>
                    <a:lnTo>
                      <a:pt x="142" y="624"/>
                    </a:lnTo>
                    <a:lnTo>
                      <a:pt x="138" y="603"/>
                    </a:lnTo>
                    <a:lnTo>
                      <a:pt x="132" y="580"/>
                    </a:lnTo>
                    <a:lnTo>
                      <a:pt x="128" y="557"/>
                    </a:lnTo>
                    <a:lnTo>
                      <a:pt x="123" y="532"/>
                    </a:lnTo>
                    <a:lnTo>
                      <a:pt x="117" y="507"/>
                    </a:lnTo>
                    <a:lnTo>
                      <a:pt x="111" y="482"/>
                    </a:lnTo>
                    <a:lnTo>
                      <a:pt x="105" y="455"/>
                    </a:lnTo>
                    <a:lnTo>
                      <a:pt x="100" y="430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31"/>
              <p:cNvSpPr/>
              <p:nvPr/>
            </p:nvSpPr>
            <p:spPr>
              <a:xfrm>
                <a:off x="6718320" y="1752480"/>
                <a:ext cx="665280" cy="655920"/>
              </a:xfrm>
              <a:custGeom>
                <a:avLst/>
                <a:gdLst/>
                <a:ahLst/>
                <a:rect l="l" t="t" r="r" b="b"/>
                <a:pathLst>
                  <a:path w="839" h="825">
                    <a:moveTo>
                      <a:pt x="693" y="434"/>
                    </a:moveTo>
                    <a:lnTo>
                      <a:pt x="689" y="453"/>
                    </a:lnTo>
                    <a:lnTo>
                      <a:pt x="685" y="470"/>
                    </a:lnTo>
                    <a:lnTo>
                      <a:pt x="681" y="489"/>
                    </a:lnTo>
                    <a:lnTo>
                      <a:pt x="677" y="510"/>
                    </a:lnTo>
                    <a:lnTo>
                      <a:pt x="676" y="531"/>
                    </a:lnTo>
                    <a:lnTo>
                      <a:pt x="672" y="553"/>
                    </a:lnTo>
                    <a:lnTo>
                      <a:pt x="670" y="576"/>
                    </a:lnTo>
                    <a:lnTo>
                      <a:pt x="668" y="601"/>
                    </a:lnTo>
                    <a:lnTo>
                      <a:pt x="666" y="625"/>
                    </a:lnTo>
                    <a:lnTo>
                      <a:pt x="664" y="650"/>
                    </a:lnTo>
                    <a:lnTo>
                      <a:pt x="662" y="677"/>
                    </a:lnTo>
                    <a:lnTo>
                      <a:pt x="662" y="706"/>
                    </a:lnTo>
                    <a:lnTo>
                      <a:pt x="660" y="733"/>
                    </a:lnTo>
                    <a:lnTo>
                      <a:pt x="660" y="764"/>
                    </a:lnTo>
                    <a:lnTo>
                      <a:pt x="660" y="794"/>
                    </a:lnTo>
                    <a:lnTo>
                      <a:pt x="660" y="825"/>
                    </a:lnTo>
                    <a:lnTo>
                      <a:pt x="526" y="825"/>
                    </a:lnTo>
                    <a:lnTo>
                      <a:pt x="526" y="808"/>
                    </a:lnTo>
                    <a:lnTo>
                      <a:pt x="526" y="789"/>
                    </a:lnTo>
                    <a:lnTo>
                      <a:pt x="526" y="771"/>
                    </a:lnTo>
                    <a:lnTo>
                      <a:pt x="528" y="752"/>
                    </a:lnTo>
                    <a:lnTo>
                      <a:pt x="528" y="731"/>
                    </a:lnTo>
                    <a:lnTo>
                      <a:pt x="530" y="712"/>
                    </a:lnTo>
                    <a:lnTo>
                      <a:pt x="532" y="691"/>
                    </a:lnTo>
                    <a:lnTo>
                      <a:pt x="532" y="670"/>
                    </a:lnTo>
                    <a:lnTo>
                      <a:pt x="534" y="647"/>
                    </a:lnTo>
                    <a:lnTo>
                      <a:pt x="535" y="624"/>
                    </a:lnTo>
                    <a:lnTo>
                      <a:pt x="537" y="601"/>
                    </a:lnTo>
                    <a:lnTo>
                      <a:pt x="539" y="576"/>
                    </a:lnTo>
                    <a:lnTo>
                      <a:pt x="541" y="551"/>
                    </a:lnTo>
                    <a:lnTo>
                      <a:pt x="543" y="526"/>
                    </a:lnTo>
                    <a:lnTo>
                      <a:pt x="545" y="501"/>
                    </a:lnTo>
                    <a:lnTo>
                      <a:pt x="547" y="474"/>
                    </a:lnTo>
                    <a:lnTo>
                      <a:pt x="549" y="447"/>
                    </a:lnTo>
                    <a:lnTo>
                      <a:pt x="551" y="422"/>
                    </a:lnTo>
                    <a:lnTo>
                      <a:pt x="551" y="399"/>
                    </a:lnTo>
                    <a:lnTo>
                      <a:pt x="551" y="378"/>
                    </a:lnTo>
                    <a:lnTo>
                      <a:pt x="551" y="359"/>
                    </a:lnTo>
                    <a:lnTo>
                      <a:pt x="551" y="340"/>
                    </a:lnTo>
                    <a:lnTo>
                      <a:pt x="551" y="322"/>
                    </a:lnTo>
                    <a:lnTo>
                      <a:pt x="549" y="307"/>
                    </a:lnTo>
                    <a:lnTo>
                      <a:pt x="547" y="292"/>
                    </a:lnTo>
                    <a:lnTo>
                      <a:pt x="545" y="278"/>
                    </a:lnTo>
                    <a:lnTo>
                      <a:pt x="543" y="267"/>
                    </a:lnTo>
                    <a:lnTo>
                      <a:pt x="539" y="255"/>
                    </a:lnTo>
                    <a:lnTo>
                      <a:pt x="535" y="247"/>
                    </a:lnTo>
                    <a:lnTo>
                      <a:pt x="534" y="238"/>
                    </a:lnTo>
                    <a:lnTo>
                      <a:pt x="530" y="232"/>
                    </a:lnTo>
                    <a:lnTo>
                      <a:pt x="526" y="226"/>
                    </a:lnTo>
                    <a:lnTo>
                      <a:pt x="522" y="224"/>
                    </a:lnTo>
                    <a:lnTo>
                      <a:pt x="520" y="224"/>
                    </a:lnTo>
                    <a:lnTo>
                      <a:pt x="514" y="224"/>
                    </a:lnTo>
                    <a:lnTo>
                      <a:pt x="511" y="223"/>
                    </a:lnTo>
                    <a:lnTo>
                      <a:pt x="505" y="223"/>
                    </a:lnTo>
                    <a:lnTo>
                      <a:pt x="497" y="223"/>
                    </a:lnTo>
                    <a:lnTo>
                      <a:pt x="489" y="223"/>
                    </a:lnTo>
                    <a:lnTo>
                      <a:pt x="482" y="224"/>
                    </a:lnTo>
                    <a:lnTo>
                      <a:pt x="472" y="224"/>
                    </a:lnTo>
                    <a:lnTo>
                      <a:pt x="463" y="226"/>
                    </a:lnTo>
                    <a:lnTo>
                      <a:pt x="451" y="228"/>
                    </a:lnTo>
                    <a:lnTo>
                      <a:pt x="440" y="228"/>
                    </a:lnTo>
                    <a:lnTo>
                      <a:pt x="426" y="230"/>
                    </a:lnTo>
                    <a:lnTo>
                      <a:pt x="413" y="234"/>
                    </a:lnTo>
                    <a:lnTo>
                      <a:pt x="399" y="236"/>
                    </a:lnTo>
                    <a:lnTo>
                      <a:pt x="384" y="238"/>
                    </a:lnTo>
                    <a:lnTo>
                      <a:pt x="369" y="242"/>
                    </a:lnTo>
                    <a:lnTo>
                      <a:pt x="351" y="246"/>
                    </a:lnTo>
                    <a:lnTo>
                      <a:pt x="334" y="249"/>
                    </a:lnTo>
                    <a:lnTo>
                      <a:pt x="315" y="253"/>
                    </a:lnTo>
                    <a:lnTo>
                      <a:pt x="296" y="257"/>
                    </a:lnTo>
                    <a:lnTo>
                      <a:pt x="276" y="263"/>
                    </a:lnTo>
                    <a:lnTo>
                      <a:pt x="255" y="269"/>
                    </a:lnTo>
                    <a:lnTo>
                      <a:pt x="234" y="272"/>
                    </a:lnTo>
                    <a:lnTo>
                      <a:pt x="211" y="278"/>
                    </a:lnTo>
                    <a:lnTo>
                      <a:pt x="188" y="286"/>
                    </a:lnTo>
                    <a:lnTo>
                      <a:pt x="165" y="292"/>
                    </a:lnTo>
                    <a:lnTo>
                      <a:pt x="140" y="299"/>
                    </a:lnTo>
                    <a:lnTo>
                      <a:pt x="115" y="307"/>
                    </a:lnTo>
                    <a:lnTo>
                      <a:pt x="88" y="315"/>
                    </a:lnTo>
                    <a:lnTo>
                      <a:pt x="61" y="322"/>
                    </a:lnTo>
                    <a:lnTo>
                      <a:pt x="33" y="330"/>
                    </a:lnTo>
                    <a:lnTo>
                      <a:pt x="17" y="265"/>
                    </a:lnTo>
                    <a:lnTo>
                      <a:pt x="0" y="199"/>
                    </a:lnTo>
                    <a:lnTo>
                      <a:pt x="27" y="194"/>
                    </a:lnTo>
                    <a:lnTo>
                      <a:pt x="54" y="188"/>
                    </a:lnTo>
                    <a:lnTo>
                      <a:pt x="81" y="182"/>
                    </a:lnTo>
                    <a:lnTo>
                      <a:pt x="106" y="176"/>
                    </a:lnTo>
                    <a:lnTo>
                      <a:pt x="131" y="171"/>
                    </a:lnTo>
                    <a:lnTo>
                      <a:pt x="155" y="165"/>
                    </a:lnTo>
                    <a:lnTo>
                      <a:pt x="179" y="159"/>
                    </a:lnTo>
                    <a:lnTo>
                      <a:pt x="202" y="153"/>
                    </a:lnTo>
                    <a:lnTo>
                      <a:pt x="223" y="148"/>
                    </a:lnTo>
                    <a:lnTo>
                      <a:pt x="244" y="142"/>
                    </a:lnTo>
                    <a:lnTo>
                      <a:pt x="263" y="138"/>
                    </a:lnTo>
                    <a:lnTo>
                      <a:pt x="282" y="132"/>
                    </a:lnTo>
                    <a:lnTo>
                      <a:pt x="301" y="127"/>
                    </a:lnTo>
                    <a:lnTo>
                      <a:pt x="319" y="123"/>
                    </a:lnTo>
                    <a:lnTo>
                      <a:pt x="336" y="117"/>
                    </a:lnTo>
                    <a:lnTo>
                      <a:pt x="351" y="111"/>
                    </a:lnTo>
                    <a:lnTo>
                      <a:pt x="367" y="107"/>
                    </a:lnTo>
                    <a:lnTo>
                      <a:pt x="382" y="102"/>
                    </a:lnTo>
                    <a:lnTo>
                      <a:pt x="395" y="98"/>
                    </a:lnTo>
                    <a:lnTo>
                      <a:pt x="409" y="94"/>
                    </a:lnTo>
                    <a:lnTo>
                      <a:pt x="420" y="88"/>
                    </a:lnTo>
                    <a:lnTo>
                      <a:pt x="432" y="84"/>
                    </a:lnTo>
                    <a:lnTo>
                      <a:pt x="443" y="81"/>
                    </a:lnTo>
                    <a:lnTo>
                      <a:pt x="453" y="77"/>
                    </a:lnTo>
                    <a:lnTo>
                      <a:pt x="463" y="71"/>
                    </a:lnTo>
                    <a:lnTo>
                      <a:pt x="470" y="67"/>
                    </a:lnTo>
                    <a:lnTo>
                      <a:pt x="478" y="63"/>
                    </a:lnTo>
                    <a:lnTo>
                      <a:pt x="484" y="59"/>
                    </a:lnTo>
                    <a:lnTo>
                      <a:pt x="489" y="56"/>
                    </a:lnTo>
                    <a:lnTo>
                      <a:pt x="495" y="52"/>
                    </a:lnTo>
                    <a:lnTo>
                      <a:pt x="499" y="48"/>
                    </a:lnTo>
                    <a:lnTo>
                      <a:pt x="503" y="44"/>
                    </a:lnTo>
                    <a:lnTo>
                      <a:pt x="507" y="36"/>
                    </a:lnTo>
                    <a:lnTo>
                      <a:pt x="512" y="31"/>
                    </a:lnTo>
                    <a:lnTo>
                      <a:pt x="516" y="25"/>
                    </a:lnTo>
                    <a:lnTo>
                      <a:pt x="522" y="19"/>
                    </a:lnTo>
                    <a:lnTo>
                      <a:pt x="528" y="15"/>
                    </a:lnTo>
                    <a:lnTo>
                      <a:pt x="534" y="11"/>
                    </a:lnTo>
                    <a:lnTo>
                      <a:pt x="539" y="8"/>
                    </a:lnTo>
                    <a:lnTo>
                      <a:pt x="545" y="6"/>
                    </a:lnTo>
                    <a:lnTo>
                      <a:pt x="553" y="4"/>
                    </a:lnTo>
                    <a:lnTo>
                      <a:pt x="560" y="2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2"/>
                    </a:lnTo>
                    <a:lnTo>
                      <a:pt x="605" y="4"/>
                    </a:lnTo>
                    <a:lnTo>
                      <a:pt x="614" y="6"/>
                    </a:lnTo>
                    <a:lnTo>
                      <a:pt x="635" y="11"/>
                    </a:lnTo>
                    <a:lnTo>
                      <a:pt x="654" y="17"/>
                    </a:lnTo>
                    <a:lnTo>
                      <a:pt x="674" y="25"/>
                    </a:lnTo>
                    <a:lnTo>
                      <a:pt x="693" y="34"/>
                    </a:lnTo>
                    <a:lnTo>
                      <a:pt x="712" y="44"/>
                    </a:lnTo>
                    <a:lnTo>
                      <a:pt x="731" y="56"/>
                    </a:lnTo>
                    <a:lnTo>
                      <a:pt x="750" y="69"/>
                    </a:lnTo>
                    <a:lnTo>
                      <a:pt x="772" y="82"/>
                    </a:lnTo>
                    <a:lnTo>
                      <a:pt x="779" y="90"/>
                    </a:lnTo>
                    <a:lnTo>
                      <a:pt x="787" y="98"/>
                    </a:lnTo>
                    <a:lnTo>
                      <a:pt x="795" y="104"/>
                    </a:lnTo>
                    <a:lnTo>
                      <a:pt x="800" y="109"/>
                    </a:lnTo>
                    <a:lnTo>
                      <a:pt x="806" y="117"/>
                    </a:lnTo>
                    <a:lnTo>
                      <a:pt x="812" y="123"/>
                    </a:lnTo>
                    <a:lnTo>
                      <a:pt x="818" y="127"/>
                    </a:lnTo>
                    <a:lnTo>
                      <a:pt x="821" y="132"/>
                    </a:lnTo>
                    <a:lnTo>
                      <a:pt x="825" y="136"/>
                    </a:lnTo>
                    <a:lnTo>
                      <a:pt x="829" y="142"/>
                    </a:lnTo>
                    <a:lnTo>
                      <a:pt x="831" y="146"/>
                    </a:lnTo>
                    <a:lnTo>
                      <a:pt x="835" y="150"/>
                    </a:lnTo>
                    <a:lnTo>
                      <a:pt x="837" y="153"/>
                    </a:lnTo>
                    <a:lnTo>
                      <a:pt x="837" y="155"/>
                    </a:lnTo>
                    <a:lnTo>
                      <a:pt x="839" y="159"/>
                    </a:lnTo>
                    <a:lnTo>
                      <a:pt x="839" y="161"/>
                    </a:lnTo>
                    <a:lnTo>
                      <a:pt x="835" y="167"/>
                    </a:lnTo>
                    <a:lnTo>
                      <a:pt x="829" y="173"/>
                    </a:lnTo>
                    <a:lnTo>
                      <a:pt x="825" y="180"/>
                    </a:lnTo>
                    <a:lnTo>
                      <a:pt x="819" y="188"/>
                    </a:lnTo>
                    <a:lnTo>
                      <a:pt x="812" y="198"/>
                    </a:lnTo>
                    <a:lnTo>
                      <a:pt x="804" y="207"/>
                    </a:lnTo>
                    <a:lnTo>
                      <a:pt x="795" y="217"/>
                    </a:lnTo>
                    <a:lnTo>
                      <a:pt x="789" y="221"/>
                    </a:lnTo>
                    <a:lnTo>
                      <a:pt x="783" y="226"/>
                    </a:lnTo>
                    <a:lnTo>
                      <a:pt x="775" y="234"/>
                    </a:lnTo>
                    <a:lnTo>
                      <a:pt x="770" y="242"/>
                    </a:lnTo>
                    <a:lnTo>
                      <a:pt x="764" y="251"/>
                    </a:lnTo>
                    <a:lnTo>
                      <a:pt x="758" y="261"/>
                    </a:lnTo>
                    <a:lnTo>
                      <a:pt x="754" y="270"/>
                    </a:lnTo>
                    <a:lnTo>
                      <a:pt x="748" y="282"/>
                    </a:lnTo>
                    <a:lnTo>
                      <a:pt x="743" y="294"/>
                    </a:lnTo>
                    <a:lnTo>
                      <a:pt x="737" y="307"/>
                    </a:lnTo>
                    <a:lnTo>
                      <a:pt x="731" y="318"/>
                    </a:lnTo>
                    <a:lnTo>
                      <a:pt x="727" y="334"/>
                    </a:lnTo>
                    <a:lnTo>
                      <a:pt x="722" y="347"/>
                    </a:lnTo>
                    <a:lnTo>
                      <a:pt x="716" y="363"/>
                    </a:lnTo>
                    <a:lnTo>
                      <a:pt x="710" y="380"/>
                    </a:lnTo>
                    <a:lnTo>
                      <a:pt x="704" y="397"/>
                    </a:lnTo>
                    <a:lnTo>
                      <a:pt x="699" y="414"/>
                    </a:lnTo>
                    <a:lnTo>
                      <a:pt x="693" y="434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32"/>
              <p:cNvSpPr/>
              <p:nvPr/>
            </p:nvSpPr>
            <p:spPr>
              <a:xfrm>
                <a:off x="6815160" y="2344680"/>
                <a:ext cx="469800" cy="196920"/>
              </a:xfrm>
              <a:custGeom>
                <a:avLst/>
                <a:gdLst/>
                <a:ahLst/>
                <a:rect l="l" t="t" r="r" b="b"/>
                <a:pathLst>
                  <a:path w="593" h="248">
                    <a:moveTo>
                      <a:pt x="547" y="117"/>
                    </a:moveTo>
                    <a:lnTo>
                      <a:pt x="541" y="121"/>
                    </a:lnTo>
                    <a:lnTo>
                      <a:pt x="533" y="123"/>
                    </a:lnTo>
                    <a:lnTo>
                      <a:pt x="524" y="127"/>
                    </a:lnTo>
                    <a:lnTo>
                      <a:pt x="514" y="129"/>
                    </a:lnTo>
                    <a:lnTo>
                      <a:pt x="503" y="133"/>
                    </a:lnTo>
                    <a:lnTo>
                      <a:pt x="491" y="139"/>
                    </a:lnTo>
                    <a:lnTo>
                      <a:pt x="478" y="142"/>
                    </a:lnTo>
                    <a:lnTo>
                      <a:pt x="464" y="146"/>
                    </a:lnTo>
                    <a:lnTo>
                      <a:pt x="449" y="152"/>
                    </a:lnTo>
                    <a:lnTo>
                      <a:pt x="432" y="158"/>
                    </a:lnTo>
                    <a:lnTo>
                      <a:pt x="414" y="164"/>
                    </a:lnTo>
                    <a:lnTo>
                      <a:pt x="397" y="169"/>
                    </a:lnTo>
                    <a:lnTo>
                      <a:pt x="378" y="175"/>
                    </a:lnTo>
                    <a:lnTo>
                      <a:pt x="357" y="181"/>
                    </a:lnTo>
                    <a:lnTo>
                      <a:pt x="336" y="188"/>
                    </a:lnTo>
                    <a:lnTo>
                      <a:pt x="313" y="196"/>
                    </a:lnTo>
                    <a:lnTo>
                      <a:pt x="290" y="204"/>
                    </a:lnTo>
                    <a:lnTo>
                      <a:pt x="267" y="210"/>
                    </a:lnTo>
                    <a:lnTo>
                      <a:pt x="246" y="215"/>
                    </a:lnTo>
                    <a:lnTo>
                      <a:pt x="222" y="221"/>
                    </a:lnTo>
                    <a:lnTo>
                      <a:pt x="201" y="225"/>
                    </a:lnTo>
                    <a:lnTo>
                      <a:pt x="180" y="231"/>
                    </a:lnTo>
                    <a:lnTo>
                      <a:pt x="159" y="233"/>
                    </a:lnTo>
                    <a:lnTo>
                      <a:pt x="140" y="236"/>
                    </a:lnTo>
                    <a:lnTo>
                      <a:pt x="119" y="240"/>
                    </a:lnTo>
                    <a:lnTo>
                      <a:pt x="102" y="242"/>
                    </a:lnTo>
                    <a:lnTo>
                      <a:pt x="82" y="244"/>
                    </a:lnTo>
                    <a:lnTo>
                      <a:pt x="65" y="246"/>
                    </a:lnTo>
                    <a:lnTo>
                      <a:pt x="48" y="246"/>
                    </a:lnTo>
                    <a:lnTo>
                      <a:pt x="31" y="248"/>
                    </a:lnTo>
                    <a:lnTo>
                      <a:pt x="15" y="248"/>
                    </a:lnTo>
                    <a:lnTo>
                      <a:pt x="0" y="248"/>
                    </a:lnTo>
                    <a:lnTo>
                      <a:pt x="0" y="144"/>
                    </a:lnTo>
                    <a:lnTo>
                      <a:pt x="8" y="144"/>
                    </a:lnTo>
                    <a:lnTo>
                      <a:pt x="15" y="142"/>
                    </a:lnTo>
                    <a:lnTo>
                      <a:pt x="27" y="140"/>
                    </a:lnTo>
                    <a:lnTo>
                      <a:pt x="38" y="139"/>
                    </a:lnTo>
                    <a:lnTo>
                      <a:pt x="54" y="137"/>
                    </a:lnTo>
                    <a:lnTo>
                      <a:pt x="69" y="133"/>
                    </a:lnTo>
                    <a:lnTo>
                      <a:pt x="86" y="129"/>
                    </a:lnTo>
                    <a:lnTo>
                      <a:pt x="105" y="125"/>
                    </a:lnTo>
                    <a:lnTo>
                      <a:pt x="127" y="119"/>
                    </a:lnTo>
                    <a:lnTo>
                      <a:pt x="150" y="114"/>
                    </a:lnTo>
                    <a:lnTo>
                      <a:pt x="173" y="108"/>
                    </a:lnTo>
                    <a:lnTo>
                      <a:pt x="198" y="100"/>
                    </a:lnTo>
                    <a:lnTo>
                      <a:pt x="224" y="92"/>
                    </a:lnTo>
                    <a:lnTo>
                      <a:pt x="253" y="85"/>
                    </a:lnTo>
                    <a:lnTo>
                      <a:pt x="282" y="75"/>
                    </a:lnTo>
                    <a:lnTo>
                      <a:pt x="313" y="66"/>
                    </a:lnTo>
                    <a:lnTo>
                      <a:pt x="343" y="58"/>
                    </a:lnTo>
                    <a:lnTo>
                      <a:pt x="372" y="52"/>
                    </a:lnTo>
                    <a:lnTo>
                      <a:pt x="399" y="45"/>
                    </a:lnTo>
                    <a:lnTo>
                      <a:pt x="426" y="39"/>
                    </a:lnTo>
                    <a:lnTo>
                      <a:pt x="449" y="33"/>
                    </a:lnTo>
                    <a:lnTo>
                      <a:pt x="472" y="27"/>
                    </a:lnTo>
                    <a:lnTo>
                      <a:pt x="493" y="23"/>
                    </a:lnTo>
                    <a:lnTo>
                      <a:pt x="510" y="18"/>
                    </a:lnTo>
                    <a:lnTo>
                      <a:pt x="528" y="14"/>
                    </a:lnTo>
                    <a:lnTo>
                      <a:pt x="543" y="10"/>
                    </a:lnTo>
                    <a:lnTo>
                      <a:pt x="551" y="10"/>
                    </a:lnTo>
                    <a:lnTo>
                      <a:pt x="556" y="8"/>
                    </a:lnTo>
                    <a:lnTo>
                      <a:pt x="562" y="6"/>
                    </a:lnTo>
                    <a:lnTo>
                      <a:pt x="568" y="6"/>
                    </a:lnTo>
                    <a:lnTo>
                      <a:pt x="572" y="4"/>
                    </a:lnTo>
                    <a:lnTo>
                      <a:pt x="577" y="2"/>
                    </a:lnTo>
                    <a:lnTo>
                      <a:pt x="581" y="2"/>
                    </a:lnTo>
                    <a:lnTo>
                      <a:pt x="583" y="2"/>
                    </a:lnTo>
                    <a:lnTo>
                      <a:pt x="587" y="0"/>
                    </a:lnTo>
                    <a:lnTo>
                      <a:pt x="589" y="0"/>
                    </a:lnTo>
                    <a:lnTo>
                      <a:pt x="591" y="0"/>
                    </a:lnTo>
                    <a:lnTo>
                      <a:pt x="593" y="0"/>
                    </a:lnTo>
                    <a:lnTo>
                      <a:pt x="593" y="12"/>
                    </a:lnTo>
                    <a:lnTo>
                      <a:pt x="591" y="23"/>
                    </a:lnTo>
                    <a:lnTo>
                      <a:pt x="591" y="35"/>
                    </a:lnTo>
                    <a:lnTo>
                      <a:pt x="589" y="45"/>
                    </a:lnTo>
                    <a:lnTo>
                      <a:pt x="589" y="54"/>
                    </a:lnTo>
                    <a:lnTo>
                      <a:pt x="587" y="64"/>
                    </a:lnTo>
                    <a:lnTo>
                      <a:pt x="585" y="71"/>
                    </a:lnTo>
                    <a:lnTo>
                      <a:pt x="583" y="79"/>
                    </a:lnTo>
                    <a:lnTo>
                      <a:pt x="579" y="85"/>
                    </a:lnTo>
                    <a:lnTo>
                      <a:pt x="576" y="92"/>
                    </a:lnTo>
                    <a:lnTo>
                      <a:pt x="572" y="98"/>
                    </a:lnTo>
                    <a:lnTo>
                      <a:pt x="568" y="102"/>
                    </a:lnTo>
                    <a:lnTo>
                      <a:pt x="564" y="108"/>
                    </a:lnTo>
                    <a:lnTo>
                      <a:pt x="558" y="112"/>
                    </a:lnTo>
                    <a:lnTo>
                      <a:pt x="554" y="116"/>
                    </a:lnTo>
                    <a:lnTo>
                      <a:pt x="547" y="117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AutoShape 33"/>
          <p:cNvSpPr/>
          <p:nvPr/>
        </p:nvSpPr>
        <p:spPr>
          <a:xfrm>
            <a:off x="1994040" y="2595600"/>
            <a:ext cx="264960" cy="969840"/>
          </a:xfrm>
          <a:custGeom>
            <a:avLst/>
            <a:gdLst/>
            <a:ahLst/>
            <a:rect l="l" t="t" r="r" b="b"/>
            <a:pathLst>
              <a:path w="334" h="1223">
                <a:moveTo>
                  <a:pt x="100" y="430"/>
                </a:moveTo>
                <a:lnTo>
                  <a:pt x="96" y="401"/>
                </a:lnTo>
                <a:lnTo>
                  <a:pt x="92" y="373"/>
                </a:lnTo>
                <a:lnTo>
                  <a:pt x="88" y="348"/>
                </a:lnTo>
                <a:lnTo>
                  <a:pt x="82" y="323"/>
                </a:lnTo>
                <a:lnTo>
                  <a:pt x="78" y="300"/>
                </a:lnTo>
                <a:lnTo>
                  <a:pt x="75" y="277"/>
                </a:lnTo>
                <a:lnTo>
                  <a:pt x="71" y="256"/>
                </a:lnTo>
                <a:lnTo>
                  <a:pt x="67" y="236"/>
                </a:lnTo>
                <a:lnTo>
                  <a:pt x="61" y="217"/>
                </a:lnTo>
                <a:lnTo>
                  <a:pt x="57" y="202"/>
                </a:lnTo>
                <a:lnTo>
                  <a:pt x="53" y="186"/>
                </a:lnTo>
                <a:lnTo>
                  <a:pt x="50" y="171"/>
                </a:lnTo>
                <a:lnTo>
                  <a:pt x="46" y="160"/>
                </a:lnTo>
                <a:lnTo>
                  <a:pt x="40" y="148"/>
                </a:lnTo>
                <a:lnTo>
                  <a:pt x="36" y="138"/>
                </a:lnTo>
                <a:lnTo>
                  <a:pt x="32" y="131"/>
                </a:lnTo>
                <a:lnTo>
                  <a:pt x="25" y="115"/>
                </a:lnTo>
                <a:lnTo>
                  <a:pt x="17" y="104"/>
                </a:lnTo>
                <a:lnTo>
                  <a:pt x="11" y="90"/>
                </a:lnTo>
                <a:lnTo>
                  <a:pt x="7" y="79"/>
                </a:lnTo>
                <a:lnTo>
                  <a:pt x="4" y="69"/>
                </a:lnTo>
                <a:lnTo>
                  <a:pt x="2" y="60"/>
                </a:lnTo>
                <a:lnTo>
                  <a:pt x="0" y="48"/>
                </a:lnTo>
                <a:lnTo>
                  <a:pt x="0" y="39"/>
                </a:lnTo>
                <a:lnTo>
                  <a:pt x="0" y="35"/>
                </a:lnTo>
                <a:lnTo>
                  <a:pt x="2" y="29"/>
                </a:lnTo>
                <a:lnTo>
                  <a:pt x="4" y="25"/>
                </a:lnTo>
                <a:lnTo>
                  <a:pt x="7" y="19"/>
                </a:lnTo>
                <a:lnTo>
                  <a:pt x="11" y="16"/>
                </a:lnTo>
                <a:lnTo>
                  <a:pt x="17" y="10"/>
                </a:lnTo>
                <a:lnTo>
                  <a:pt x="25" y="6"/>
                </a:lnTo>
                <a:lnTo>
                  <a:pt x="32" y="0"/>
                </a:lnTo>
                <a:lnTo>
                  <a:pt x="34" y="0"/>
                </a:lnTo>
                <a:lnTo>
                  <a:pt x="40" y="2"/>
                </a:lnTo>
                <a:lnTo>
                  <a:pt x="44" y="2"/>
                </a:lnTo>
                <a:lnTo>
                  <a:pt x="52" y="4"/>
                </a:lnTo>
                <a:lnTo>
                  <a:pt x="59" y="8"/>
                </a:lnTo>
                <a:lnTo>
                  <a:pt x="69" y="12"/>
                </a:lnTo>
                <a:lnTo>
                  <a:pt x="78" y="16"/>
                </a:lnTo>
                <a:lnTo>
                  <a:pt x="92" y="19"/>
                </a:lnTo>
                <a:lnTo>
                  <a:pt x="105" y="25"/>
                </a:lnTo>
                <a:lnTo>
                  <a:pt x="119" y="31"/>
                </a:lnTo>
                <a:lnTo>
                  <a:pt x="134" y="37"/>
                </a:lnTo>
                <a:lnTo>
                  <a:pt x="151" y="44"/>
                </a:lnTo>
                <a:lnTo>
                  <a:pt x="171" y="52"/>
                </a:lnTo>
                <a:lnTo>
                  <a:pt x="190" y="60"/>
                </a:lnTo>
                <a:lnTo>
                  <a:pt x="211" y="69"/>
                </a:lnTo>
                <a:lnTo>
                  <a:pt x="234" y="79"/>
                </a:lnTo>
                <a:lnTo>
                  <a:pt x="242" y="158"/>
                </a:lnTo>
                <a:lnTo>
                  <a:pt x="251" y="236"/>
                </a:lnTo>
                <a:lnTo>
                  <a:pt x="259" y="319"/>
                </a:lnTo>
                <a:lnTo>
                  <a:pt x="266" y="401"/>
                </a:lnTo>
                <a:lnTo>
                  <a:pt x="272" y="444"/>
                </a:lnTo>
                <a:lnTo>
                  <a:pt x="276" y="488"/>
                </a:lnTo>
                <a:lnTo>
                  <a:pt x="280" y="530"/>
                </a:lnTo>
                <a:lnTo>
                  <a:pt x="284" y="574"/>
                </a:lnTo>
                <a:lnTo>
                  <a:pt x="288" y="618"/>
                </a:lnTo>
                <a:lnTo>
                  <a:pt x="293" y="662"/>
                </a:lnTo>
                <a:lnTo>
                  <a:pt x="297" y="708"/>
                </a:lnTo>
                <a:lnTo>
                  <a:pt x="301" y="754"/>
                </a:lnTo>
                <a:lnTo>
                  <a:pt x="303" y="777"/>
                </a:lnTo>
                <a:lnTo>
                  <a:pt x="305" y="801"/>
                </a:lnTo>
                <a:lnTo>
                  <a:pt x="307" y="822"/>
                </a:lnTo>
                <a:lnTo>
                  <a:pt x="309" y="843"/>
                </a:lnTo>
                <a:lnTo>
                  <a:pt x="311" y="862"/>
                </a:lnTo>
                <a:lnTo>
                  <a:pt x="313" y="881"/>
                </a:lnTo>
                <a:lnTo>
                  <a:pt x="314" y="900"/>
                </a:lnTo>
                <a:lnTo>
                  <a:pt x="314" y="919"/>
                </a:lnTo>
                <a:lnTo>
                  <a:pt x="316" y="937"/>
                </a:lnTo>
                <a:lnTo>
                  <a:pt x="318" y="952"/>
                </a:lnTo>
                <a:lnTo>
                  <a:pt x="320" y="969"/>
                </a:lnTo>
                <a:lnTo>
                  <a:pt x="320" y="985"/>
                </a:lnTo>
                <a:lnTo>
                  <a:pt x="322" y="1000"/>
                </a:lnTo>
                <a:lnTo>
                  <a:pt x="324" y="1014"/>
                </a:lnTo>
                <a:lnTo>
                  <a:pt x="324" y="1027"/>
                </a:lnTo>
                <a:lnTo>
                  <a:pt x="326" y="1040"/>
                </a:lnTo>
                <a:lnTo>
                  <a:pt x="326" y="1054"/>
                </a:lnTo>
                <a:lnTo>
                  <a:pt x="328" y="1065"/>
                </a:lnTo>
                <a:lnTo>
                  <a:pt x="328" y="1077"/>
                </a:lnTo>
                <a:lnTo>
                  <a:pt x="330" y="1088"/>
                </a:lnTo>
                <a:lnTo>
                  <a:pt x="330" y="1098"/>
                </a:lnTo>
                <a:lnTo>
                  <a:pt x="332" y="1108"/>
                </a:lnTo>
                <a:lnTo>
                  <a:pt x="332" y="1115"/>
                </a:lnTo>
                <a:lnTo>
                  <a:pt x="332" y="1125"/>
                </a:lnTo>
                <a:lnTo>
                  <a:pt x="334" y="1132"/>
                </a:lnTo>
                <a:lnTo>
                  <a:pt x="334" y="1140"/>
                </a:lnTo>
                <a:lnTo>
                  <a:pt x="334" y="1146"/>
                </a:lnTo>
                <a:lnTo>
                  <a:pt x="334" y="1152"/>
                </a:lnTo>
                <a:lnTo>
                  <a:pt x="334" y="1157"/>
                </a:lnTo>
                <a:lnTo>
                  <a:pt x="334" y="1163"/>
                </a:lnTo>
                <a:lnTo>
                  <a:pt x="334" y="1167"/>
                </a:lnTo>
                <a:lnTo>
                  <a:pt x="334" y="1171"/>
                </a:lnTo>
                <a:lnTo>
                  <a:pt x="332" y="1179"/>
                </a:lnTo>
                <a:lnTo>
                  <a:pt x="330" y="1184"/>
                </a:lnTo>
                <a:lnTo>
                  <a:pt x="328" y="1190"/>
                </a:lnTo>
                <a:lnTo>
                  <a:pt x="326" y="1196"/>
                </a:lnTo>
                <a:lnTo>
                  <a:pt x="324" y="1200"/>
                </a:lnTo>
                <a:lnTo>
                  <a:pt x="322" y="1205"/>
                </a:lnTo>
                <a:lnTo>
                  <a:pt x="318" y="1209"/>
                </a:lnTo>
                <a:lnTo>
                  <a:pt x="316" y="1211"/>
                </a:lnTo>
                <a:lnTo>
                  <a:pt x="311" y="1217"/>
                </a:lnTo>
                <a:lnTo>
                  <a:pt x="305" y="1221"/>
                </a:lnTo>
                <a:lnTo>
                  <a:pt x="297" y="1223"/>
                </a:lnTo>
                <a:lnTo>
                  <a:pt x="290" y="1223"/>
                </a:lnTo>
                <a:lnTo>
                  <a:pt x="284" y="1223"/>
                </a:lnTo>
                <a:lnTo>
                  <a:pt x="278" y="1221"/>
                </a:lnTo>
                <a:lnTo>
                  <a:pt x="272" y="1217"/>
                </a:lnTo>
                <a:lnTo>
                  <a:pt x="266" y="1213"/>
                </a:lnTo>
                <a:lnTo>
                  <a:pt x="261" y="1207"/>
                </a:lnTo>
                <a:lnTo>
                  <a:pt x="257" y="1202"/>
                </a:lnTo>
                <a:lnTo>
                  <a:pt x="251" y="1194"/>
                </a:lnTo>
                <a:lnTo>
                  <a:pt x="247" y="1184"/>
                </a:lnTo>
                <a:lnTo>
                  <a:pt x="243" y="1175"/>
                </a:lnTo>
                <a:lnTo>
                  <a:pt x="240" y="1161"/>
                </a:lnTo>
                <a:lnTo>
                  <a:pt x="236" y="1150"/>
                </a:lnTo>
                <a:lnTo>
                  <a:pt x="232" y="1134"/>
                </a:lnTo>
                <a:lnTo>
                  <a:pt x="230" y="1121"/>
                </a:lnTo>
                <a:lnTo>
                  <a:pt x="226" y="1104"/>
                </a:lnTo>
                <a:lnTo>
                  <a:pt x="224" y="1086"/>
                </a:lnTo>
                <a:lnTo>
                  <a:pt x="222" y="1067"/>
                </a:lnTo>
                <a:lnTo>
                  <a:pt x="215" y="1029"/>
                </a:lnTo>
                <a:lnTo>
                  <a:pt x="205" y="990"/>
                </a:lnTo>
                <a:lnTo>
                  <a:pt x="197" y="954"/>
                </a:lnTo>
                <a:lnTo>
                  <a:pt x="190" y="919"/>
                </a:lnTo>
                <a:lnTo>
                  <a:pt x="184" y="883"/>
                </a:lnTo>
                <a:lnTo>
                  <a:pt x="176" y="848"/>
                </a:lnTo>
                <a:lnTo>
                  <a:pt x="171" y="816"/>
                </a:lnTo>
                <a:lnTo>
                  <a:pt x="167" y="781"/>
                </a:lnTo>
                <a:lnTo>
                  <a:pt x="165" y="764"/>
                </a:lnTo>
                <a:lnTo>
                  <a:pt x="161" y="745"/>
                </a:lnTo>
                <a:lnTo>
                  <a:pt x="159" y="728"/>
                </a:lnTo>
                <a:lnTo>
                  <a:pt x="155" y="708"/>
                </a:lnTo>
                <a:lnTo>
                  <a:pt x="153" y="687"/>
                </a:lnTo>
                <a:lnTo>
                  <a:pt x="149" y="668"/>
                </a:lnTo>
                <a:lnTo>
                  <a:pt x="146" y="647"/>
                </a:lnTo>
                <a:lnTo>
                  <a:pt x="142" y="624"/>
                </a:lnTo>
                <a:lnTo>
                  <a:pt x="138" y="603"/>
                </a:lnTo>
                <a:lnTo>
                  <a:pt x="132" y="580"/>
                </a:lnTo>
                <a:lnTo>
                  <a:pt x="128" y="557"/>
                </a:lnTo>
                <a:lnTo>
                  <a:pt x="123" y="532"/>
                </a:lnTo>
                <a:lnTo>
                  <a:pt x="117" y="507"/>
                </a:lnTo>
                <a:lnTo>
                  <a:pt x="111" y="482"/>
                </a:lnTo>
                <a:lnTo>
                  <a:pt x="105" y="455"/>
                </a:lnTo>
                <a:lnTo>
                  <a:pt x="100" y="43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4"/>
          <p:cNvSpPr/>
          <p:nvPr/>
        </p:nvSpPr>
        <p:spPr>
          <a:xfrm>
            <a:off x="2082960" y="2508120"/>
            <a:ext cx="664920" cy="655920"/>
          </a:xfrm>
          <a:custGeom>
            <a:avLst/>
            <a:gdLst/>
            <a:ahLst/>
            <a:rect l="l" t="t" r="r" b="b"/>
            <a:pathLst>
              <a:path w="839" h="825">
                <a:moveTo>
                  <a:pt x="693" y="434"/>
                </a:moveTo>
                <a:lnTo>
                  <a:pt x="689" y="453"/>
                </a:lnTo>
                <a:lnTo>
                  <a:pt x="685" y="470"/>
                </a:lnTo>
                <a:lnTo>
                  <a:pt x="681" y="489"/>
                </a:lnTo>
                <a:lnTo>
                  <a:pt x="677" y="510"/>
                </a:lnTo>
                <a:lnTo>
                  <a:pt x="676" y="531"/>
                </a:lnTo>
                <a:lnTo>
                  <a:pt x="672" y="553"/>
                </a:lnTo>
                <a:lnTo>
                  <a:pt x="670" y="576"/>
                </a:lnTo>
                <a:lnTo>
                  <a:pt x="668" y="601"/>
                </a:lnTo>
                <a:lnTo>
                  <a:pt x="666" y="625"/>
                </a:lnTo>
                <a:lnTo>
                  <a:pt x="664" y="650"/>
                </a:lnTo>
                <a:lnTo>
                  <a:pt x="662" y="677"/>
                </a:lnTo>
                <a:lnTo>
                  <a:pt x="662" y="706"/>
                </a:lnTo>
                <a:lnTo>
                  <a:pt x="660" y="733"/>
                </a:lnTo>
                <a:lnTo>
                  <a:pt x="660" y="764"/>
                </a:lnTo>
                <a:lnTo>
                  <a:pt x="660" y="794"/>
                </a:lnTo>
                <a:lnTo>
                  <a:pt x="660" y="825"/>
                </a:lnTo>
                <a:lnTo>
                  <a:pt x="526" y="825"/>
                </a:lnTo>
                <a:lnTo>
                  <a:pt x="526" y="808"/>
                </a:lnTo>
                <a:lnTo>
                  <a:pt x="526" y="789"/>
                </a:lnTo>
                <a:lnTo>
                  <a:pt x="526" y="771"/>
                </a:lnTo>
                <a:lnTo>
                  <a:pt x="528" y="752"/>
                </a:lnTo>
                <a:lnTo>
                  <a:pt x="528" y="731"/>
                </a:lnTo>
                <a:lnTo>
                  <a:pt x="530" y="712"/>
                </a:lnTo>
                <a:lnTo>
                  <a:pt x="532" y="691"/>
                </a:lnTo>
                <a:lnTo>
                  <a:pt x="532" y="670"/>
                </a:lnTo>
                <a:lnTo>
                  <a:pt x="534" y="647"/>
                </a:lnTo>
                <a:lnTo>
                  <a:pt x="535" y="624"/>
                </a:lnTo>
                <a:lnTo>
                  <a:pt x="537" y="601"/>
                </a:lnTo>
                <a:lnTo>
                  <a:pt x="539" y="576"/>
                </a:lnTo>
                <a:lnTo>
                  <a:pt x="541" y="551"/>
                </a:lnTo>
                <a:lnTo>
                  <a:pt x="543" y="526"/>
                </a:lnTo>
                <a:lnTo>
                  <a:pt x="545" y="501"/>
                </a:lnTo>
                <a:lnTo>
                  <a:pt x="547" y="474"/>
                </a:lnTo>
                <a:lnTo>
                  <a:pt x="549" y="447"/>
                </a:lnTo>
                <a:lnTo>
                  <a:pt x="551" y="422"/>
                </a:lnTo>
                <a:lnTo>
                  <a:pt x="551" y="399"/>
                </a:lnTo>
                <a:lnTo>
                  <a:pt x="551" y="378"/>
                </a:lnTo>
                <a:lnTo>
                  <a:pt x="551" y="359"/>
                </a:lnTo>
                <a:lnTo>
                  <a:pt x="551" y="340"/>
                </a:lnTo>
                <a:lnTo>
                  <a:pt x="551" y="322"/>
                </a:lnTo>
                <a:lnTo>
                  <a:pt x="549" y="307"/>
                </a:lnTo>
                <a:lnTo>
                  <a:pt x="547" y="292"/>
                </a:lnTo>
                <a:lnTo>
                  <a:pt x="545" y="278"/>
                </a:lnTo>
                <a:lnTo>
                  <a:pt x="543" y="267"/>
                </a:lnTo>
                <a:lnTo>
                  <a:pt x="539" y="255"/>
                </a:lnTo>
                <a:lnTo>
                  <a:pt x="535" y="247"/>
                </a:lnTo>
                <a:lnTo>
                  <a:pt x="534" y="238"/>
                </a:lnTo>
                <a:lnTo>
                  <a:pt x="530" y="232"/>
                </a:lnTo>
                <a:lnTo>
                  <a:pt x="526" y="226"/>
                </a:lnTo>
                <a:lnTo>
                  <a:pt x="522" y="224"/>
                </a:lnTo>
                <a:lnTo>
                  <a:pt x="520" y="224"/>
                </a:lnTo>
                <a:lnTo>
                  <a:pt x="514" y="224"/>
                </a:lnTo>
                <a:lnTo>
                  <a:pt x="511" y="223"/>
                </a:lnTo>
                <a:lnTo>
                  <a:pt x="505" y="223"/>
                </a:lnTo>
                <a:lnTo>
                  <a:pt x="497" y="223"/>
                </a:lnTo>
                <a:lnTo>
                  <a:pt x="489" y="223"/>
                </a:lnTo>
                <a:lnTo>
                  <a:pt x="482" y="224"/>
                </a:lnTo>
                <a:lnTo>
                  <a:pt x="472" y="224"/>
                </a:lnTo>
                <a:lnTo>
                  <a:pt x="463" y="226"/>
                </a:lnTo>
                <a:lnTo>
                  <a:pt x="451" y="228"/>
                </a:lnTo>
                <a:lnTo>
                  <a:pt x="440" y="228"/>
                </a:lnTo>
                <a:lnTo>
                  <a:pt x="426" y="230"/>
                </a:lnTo>
                <a:lnTo>
                  <a:pt x="413" y="234"/>
                </a:lnTo>
                <a:lnTo>
                  <a:pt x="399" y="236"/>
                </a:lnTo>
                <a:lnTo>
                  <a:pt x="384" y="238"/>
                </a:lnTo>
                <a:lnTo>
                  <a:pt x="369" y="242"/>
                </a:lnTo>
                <a:lnTo>
                  <a:pt x="351" y="246"/>
                </a:lnTo>
                <a:lnTo>
                  <a:pt x="334" y="249"/>
                </a:lnTo>
                <a:lnTo>
                  <a:pt x="315" y="253"/>
                </a:lnTo>
                <a:lnTo>
                  <a:pt x="296" y="257"/>
                </a:lnTo>
                <a:lnTo>
                  <a:pt x="276" y="263"/>
                </a:lnTo>
                <a:lnTo>
                  <a:pt x="255" y="269"/>
                </a:lnTo>
                <a:lnTo>
                  <a:pt x="234" y="272"/>
                </a:lnTo>
                <a:lnTo>
                  <a:pt x="211" y="278"/>
                </a:lnTo>
                <a:lnTo>
                  <a:pt x="188" y="286"/>
                </a:lnTo>
                <a:lnTo>
                  <a:pt x="165" y="292"/>
                </a:lnTo>
                <a:lnTo>
                  <a:pt x="140" y="299"/>
                </a:lnTo>
                <a:lnTo>
                  <a:pt x="115" y="307"/>
                </a:lnTo>
                <a:lnTo>
                  <a:pt x="88" y="315"/>
                </a:lnTo>
                <a:lnTo>
                  <a:pt x="61" y="322"/>
                </a:lnTo>
                <a:lnTo>
                  <a:pt x="33" y="330"/>
                </a:lnTo>
                <a:lnTo>
                  <a:pt x="17" y="265"/>
                </a:lnTo>
                <a:lnTo>
                  <a:pt x="0" y="199"/>
                </a:lnTo>
                <a:lnTo>
                  <a:pt x="27" y="194"/>
                </a:lnTo>
                <a:lnTo>
                  <a:pt x="54" y="188"/>
                </a:lnTo>
                <a:lnTo>
                  <a:pt x="81" y="182"/>
                </a:lnTo>
                <a:lnTo>
                  <a:pt x="106" y="176"/>
                </a:lnTo>
                <a:lnTo>
                  <a:pt x="131" y="171"/>
                </a:lnTo>
                <a:lnTo>
                  <a:pt x="155" y="165"/>
                </a:lnTo>
                <a:lnTo>
                  <a:pt x="179" y="159"/>
                </a:lnTo>
                <a:lnTo>
                  <a:pt x="202" y="153"/>
                </a:lnTo>
                <a:lnTo>
                  <a:pt x="223" y="148"/>
                </a:lnTo>
                <a:lnTo>
                  <a:pt x="244" y="142"/>
                </a:lnTo>
                <a:lnTo>
                  <a:pt x="263" y="138"/>
                </a:lnTo>
                <a:lnTo>
                  <a:pt x="282" y="132"/>
                </a:lnTo>
                <a:lnTo>
                  <a:pt x="301" y="127"/>
                </a:lnTo>
                <a:lnTo>
                  <a:pt x="319" y="123"/>
                </a:lnTo>
                <a:lnTo>
                  <a:pt x="336" y="117"/>
                </a:lnTo>
                <a:lnTo>
                  <a:pt x="351" y="111"/>
                </a:lnTo>
                <a:lnTo>
                  <a:pt x="367" y="107"/>
                </a:lnTo>
                <a:lnTo>
                  <a:pt x="382" y="102"/>
                </a:lnTo>
                <a:lnTo>
                  <a:pt x="395" y="98"/>
                </a:lnTo>
                <a:lnTo>
                  <a:pt x="409" y="94"/>
                </a:lnTo>
                <a:lnTo>
                  <a:pt x="420" y="88"/>
                </a:lnTo>
                <a:lnTo>
                  <a:pt x="432" y="84"/>
                </a:lnTo>
                <a:lnTo>
                  <a:pt x="443" y="81"/>
                </a:lnTo>
                <a:lnTo>
                  <a:pt x="453" y="77"/>
                </a:lnTo>
                <a:lnTo>
                  <a:pt x="463" y="71"/>
                </a:lnTo>
                <a:lnTo>
                  <a:pt x="470" y="67"/>
                </a:lnTo>
                <a:lnTo>
                  <a:pt x="478" y="63"/>
                </a:lnTo>
                <a:lnTo>
                  <a:pt x="484" y="59"/>
                </a:lnTo>
                <a:lnTo>
                  <a:pt x="489" y="56"/>
                </a:lnTo>
                <a:lnTo>
                  <a:pt x="495" y="52"/>
                </a:lnTo>
                <a:lnTo>
                  <a:pt x="499" y="48"/>
                </a:lnTo>
                <a:lnTo>
                  <a:pt x="503" y="44"/>
                </a:lnTo>
                <a:lnTo>
                  <a:pt x="507" y="36"/>
                </a:lnTo>
                <a:lnTo>
                  <a:pt x="512" y="31"/>
                </a:lnTo>
                <a:lnTo>
                  <a:pt x="516" y="25"/>
                </a:lnTo>
                <a:lnTo>
                  <a:pt x="522" y="19"/>
                </a:lnTo>
                <a:lnTo>
                  <a:pt x="528" y="15"/>
                </a:lnTo>
                <a:lnTo>
                  <a:pt x="534" y="11"/>
                </a:lnTo>
                <a:lnTo>
                  <a:pt x="539" y="8"/>
                </a:lnTo>
                <a:lnTo>
                  <a:pt x="545" y="6"/>
                </a:lnTo>
                <a:lnTo>
                  <a:pt x="553" y="4"/>
                </a:lnTo>
                <a:lnTo>
                  <a:pt x="560" y="2"/>
                </a:lnTo>
                <a:lnTo>
                  <a:pt x="568" y="0"/>
                </a:lnTo>
                <a:lnTo>
                  <a:pt x="576" y="0"/>
                </a:lnTo>
                <a:lnTo>
                  <a:pt x="585" y="0"/>
                </a:lnTo>
                <a:lnTo>
                  <a:pt x="595" y="2"/>
                </a:lnTo>
                <a:lnTo>
                  <a:pt x="605" y="4"/>
                </a:lnTo>
                <a:lnTo>
                  <a:pt x="614" y="6"/>
                </a:lnTo>
                <a:lnTo>
                  <a:pt x="635" y="11"/>
                </a:lnTo>
                <a:lnTo>
                  <a:pt x="654" y="17"/>
                </a:lnTo>
                <a:lnTo>
                  <a:pt x="674" y="25"/>
                </a:lnTo>
                <a:lnTo>
                  <a:pt x="693" y="34"/>
                </a:lnTo>
                <a:lnTo>
                  <a:pt x="712" y="44"/>
                </a:lnTo>
                <a:lnTo>
                  <a:pt x="731" y="56"/>
                </a:lnTo>
                <a:lnTo>
                  <a:pt x="750" y="69"/>
                </a:lnTo>
                <a:lnTo>
                  <a:pt x="772" y="82"/>
                </a:lnTo>
                <a:lnTo>
                  <a:pt x="779" y="90"/>
                </a:lnTo>
                <a:lnTo>
                  <a:pt x="787" y="98"/>
                </a:lnTo>
                <a:lnTo>
                  <a:pt x="795" y="104"/>
                </a:lnTo>
                <a:lnTo>
                  <a:pt x="800" y="109"/>
                </a:lnTo>
                <a:lnTo>
                  <a:pt x="806" y="117"/>
                </a:lnTo>
                <a:lnTo>
                  <a:pt x="812" y="123"/>
                </a:lnTo>
                <a:lnTo>
                  <a:pt x="818" y="127"/>
                </a:lnTo>
                <a:lnTo>
                  <a:pt x="821" y="132"/>
                </a:lnTo>
                <a:lnTo>
                  <a:pt x="825" y="136"/>
                </a:lnTo>
                <a:lnTo>
                  <a:pt x="829" y="142"/>
                </a:lnTo>
                <a:lnTo>
                  <a:pt x="831" y="146"/>
                </a:lnTo>
                <a:lnTo>
                  <a:pt x="835" y="150"/>
                </a:lnTo>
                <a:lnTo>
                  <a:pt x="837" y="153"/>
                </a:lnTo>
                <a:lnTo>
                  <a:pt x="837" y="155"/>
                </a:lnTo>
                <a:lnTo>
                  <a:pt x="839" y="159"/>
                </a:lnTo>
                <a:lnTo>
                  <a:pt x="839" y="161"/>
                </a:lnTo>
                <a:lnTo>
                  <a:pt x="835" y="167"/>
                </a:lnTo>
                <a:lnTo>
                  <a:pt x="829" y="173"/>
                </a:lnTo>
                <a:lnTo>
                  <a:pt x="825" y="180"/>
                </a:lnTo>
                <a:lnTo>
                  <a:pt x="819" y="188"/>
                </a:lnTo>
                <a:lnTo>
                  <a:pt x="812" y="198"/>
                </a:lnTo>
                <a:lnTo>
                  <a:pt x="804" y="207"/>
                </a:lnTo>
                <a:lnTo>
                  <a:pt x="795" y="217"/>
                </a:lnTo>
                <a:lnTo>
                  <a:pt x="789" y="221"/>
                </a:lnTo>
                <a:lnTo>
                  <a:pt x="783" y="226"/>
                </a:lnTo>
                <a:lnTo>
                  <a:pt x="775" y="234"/>
                </a:lnTo>
                <a:lnTo>
                  <a:pt x="770" y="242"/>
                </a:lnTo>
                <a:lnTo>
                  <a:pt x="764" y="251"/>
                </a:lnTo>
                <a:lnTo>
                  <a:pt x="758" y="261"/>
                </a:lnTo>
                <a:lnTo>
                  <a:pt x="754" y="270"/>
                </a:lnTo>
                <a:lnTo>
                  <a:pt x="748" y="282"/>
                </a:lnTo>
                <a:lnTo>
                  <a:pt x="743" y="294"/>
                </a:lnTo>
                <a:lnTo>
                  <a:pt x="737" y="307"/>
                </a:lnTo>
                <a:lnTo>
                  <a:pt x="731" y="318"/>
                </a:lnTo>
                <a:lnTo>
                  <a:pt x="727" y="334"/>
                </a:lnTo>
                <a:lnTo>
                  <a:pt x="722" y="347"/>
                </a:lnTo>
                <a:lnTo>
                  <a:pt x="716" y="363"/>
                </a:lnTo>
                <a:lnTo>
                  <a:pt x="710" y="380"/>
                </a:lnTo>
                <a:lnTo>
                  <a:pt x="704" y="397"/>
                </a:lnTo>
                <a:lnTo>
                  <a:pt x="699" y="414"/>
                </a:lnTo>
                <a:lnTo>
                  <a:pt x="693" y="43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5"/>
          <p:cNvSpPr/>
          <p:nvPr/>
        </p:nvSpPr>
        <p:spPr>
          <a:xfrm>
            <a:off x="2179800" y="3100320"/>
            <a:ext cx="469800" cy="196920"/>
          </a:xfrm>
          <a:custGeom>
            <a:avLst/>
            <a:gdLst/>
            <a:ahLst/>
            <a:rect l="l" t="t" r="r" b="b"/>
            <a:pathLst>
              <a:path w="593" h="248">
                <a:moveTo>
                  <a:pt x="547" y="117"/>
                </a:moveTo>
                <a:lnTo>
                  <a:pt x="541" y="121"/>
                </a:lnTo>
                <a:lnTo>
                  <a:pt x="533" y="123"/>
                </a:lnTo>
                <a:lnTo>
                  <a:pt x="524" y="127"/>
                </a:lnTo>
                <a:lnTo>
                  <a:pt x="514" y="129"/>
                </a:lnTo>
                <a:lnTo>
                  <a:pt x="503" y="133"/>
                </a:lnTo>
                <a:lnTo>
                  <a:pt x="491" y="139"/>
                </a:lnTo>
                <a:lnTo>
                  <a:pt x="478" y="142"/>
                </a:lnTo>
                <a:lnTo>
                  <a:pt x="464" y="146"/>
                </a:lnTo>
                <a:lnTo>
                  <a:pt x="449" y="152"/>
                </a:lnTo>
                <a:lnTo>
                  <a:pt x="432" y="158"/>
                </a:lnTo>
                <a:lnTo>
                  <a:pt x="414" y="164"/>
                </a:lnTo>
                <a:lnTo>
                  <a:pt x="397" y="169"/>
                </a:lnTo>
                <a:lnTo>
                  <a:pt x="378" y="175"/>
                </a:lnTo>
                <a:lnTo>
                  <a:pt x="357" y="181"/>
                </a:lnTo>
                <a:lnTo>
                  <a:pt x="336" y="188"/>
                </a:lnTo>
                <a:lnTo>
                  <a:pt x="313" y="196"/>
                </a:lnTo>
                <a:lnTo>
                  <a:pt x="290" y="204"/>
                </a:lnTo>
                <a:lnTo>
                  <a:pt x="267" y="210"/>
                </a:lnTo>
                <a:lnTo>
                  <a:pt x="246" y="215"/>
                </a:lnTo>
                <a:lnTo>
                  <a:pt x="222" y="221"/>
                </a:lnTo>
                <a:lnTo>
                  <a:pt x="201" y="225"/>
                </a:lnTo>
                <a:lnTo>
                  <a:pt x="180" y="231"/>
                </a:lnTo>
                <a:lnTo>
                  <a:pt x="159" y="233"/>
                </a:lnTo>
                <a:lnTo>
                  <a:pt x="140" y="236"/>
                </a:lnTo>
                <a:lnTo>
                  <a:pt x="119" y="240"/>
                </a:lnTo>
                <a:lnTo>
                  <a:pt x="102" y="242"/>
                </a:lnTo>
                <a:lnTo>
                  <a:pt x="82" y="244"/>
                </a:lnTo>
                <a:lnTo>
                  <a:pt x="65" y="246"/>
                </a:lnTo>
                <a:lnTo>
                  <a:pt x="48" y="246"/>
                </a:lnTo>
                <a:lnTo>
                  <a:pt x="31" y="248"/>
                </a:lnTo>
                <a:lnTo>
                  <a:pt x="15" y="248"/>
                </a:lnTo>
                <a:lnTo>
                  <a:pt x="0" y="248"/>
                </a:lnTo>
                <a:lnTo>
                  <a:pt x="0" y="144"/>
                </a:lnTo>
                <a:lnTo>
                  <a:pt x="8" y="144"/>
                </a:lnTo>
                <a:lnTo>
                  <a:pt x="15" y="142"/>
                </a:lnTo>
                <a:lnTo>
                  <a:pt x="27" y="140"/>
                </a:lnTo>
                <a:lnTo>
                  <a:pt x="38" y="139"/>
                </a:lnTo>
                <a:lnTo>
                  <a:pt x="54" y="137"/>
                </a:lnTo>
                <a:lnTo>
                  <a:pt x="69" y="133"/>
                </a:lnTo>
                <a:lnTo>
                  <a:pt x="86" y="129"/>
                </a:lnTo>
                <a:lnTo>
                  <a:pt x="105" y="125"/>
                </a:lnTo>
                <a:lnTo>
                  <a:pt x="127" y="119"/>
                </a:lnTo>
                <a:lnTo>
                  <a:pt x="150" y="114"/>
                </a:lnTo>
                <a:lnTo>
                  <a:pt x="173" y="108"/>
                </a:lnTo>
                <a:lnTo>
                  <a:pt x="198" y="100"/>
                </a:lnTo>
                <a:lnTo>
                  <a:pt x="224" y="92"/>
                </a:lnTo>
                <a:lnTo>
                  <a:pt x="253" y="85"/>
                </a:lnTo>
                <a:lnTo>
                  <a:pt x="282" y="75"/>
                </a:lnTo>
                <a:lnTo>
                  <a:pt x="313" y="66"/>
                </a:lnTo>
                <a:lnTo>
                  <a:pt x="343" y="58"/>
                </a:lnTo>
                <a:lnTo>
                  <a:pt x="372" y="52"/>
                </a:lnTo>
                <a:lnTo>
                  <a:pt x="399" y="45"/>
                </a:lnTo>
                <a:lnTo>
                  <a:pt x="426" y="39"/>
                </a:lnTo>
                <a:lnTo>
                  <a:pt x="449" y="33"/>
                </a:lnTo>
                <a:lnTo>
                  <a:pt x="472" y="27"/>
                </a:lnTo>
                <a:lnTo>
                  <a:pt x="493" y="23"/>
                </a:lnTo>
                <a:lnTo>
                  <a:pt x="510" y="18"/>
                </a:lnTo>
                <a:lnTo>
                  <a:pt x="528" y="14"/>
                </a:lnTo>
                <a:lnTo>
                  <a:pt x="543" y="10"/>
                </a:lnTo>
                <a:lnTo>
                  <a:pt x="551" y="10"/>
                </a:lnTo>
                <a:lnTo>
                  <a:pt x="556" y="8"/>
                </a:lnTo>
                <a:lnTo>
                  <a:pt x="562" y="6"/>
                </a:lnTo>
                <a:lnTo>
                  <a:pt x="568" y="6"/>
                </a:lnTo>
                <a:lnTo>
                  <a:pt x="572" y="4"/>
                </a:lnTo>
                <a:lnTo>
                  <a:pt x="577" y="2"/>
                </a:lnTo>
                <a:lnTo>
                  <a:pt x="581" y="2"/>
                </a:lnTo>
                <a:lnTo>
                  <a:pt x="583" y="2"/>
                </a:lnTo>
                <a:lnTo>
                  <a:pt x="587" y="0"/>
                </a:lnTo>
                <a:lnTo>
                  <a:pt x="589" y="0"/>
                </a:lnTo>
                <a:lnTo>
                  <a:pt x="591" y="0"/>
                </a:lnTo>
                <a:lnTo>
                  <a:pt x="593" y="0"/>
                </a:lnTo>
                <a:lnTo>
                  <a:pt x="593" y="12"/>
                </a:lnTo>
                <a:lnTo>
                  <a:pt x="591" y="23"/>
                </a:lnTo>
                <a:lnTo>
                  <a:pt x="591" y="35"/>
                </a:lnTo>
                <a:lnTo>
                  <a:pt x="589" y="45"/>
                </a:lnTo>
                <a:lnTo>
                  <a:pt x="589" y="54"/>
                </a:lnTo>
                <a:lnTo>
                  <a:pt x="587" y="64"/>
                </a:lnTo>
                <a:lnTo>
                  <a:pt x="585" y="71"/>
                </a:lnTo>
                <a:lnTo>
                  <a:pt x="583" y="79"/>
                </a:lnTo>
                <a:lnTo>
                  <a:pt x="579" y="85"/>
                </a:lnTo>
                <a:lnTo>
                  <a:pt x="576" y="92"/>
                </a:lnTo>
                <a:lnTo>
                  <a:pt x="572" y="98"/>
                </a:lnTo>
                <a:lnTo>
                  <a:pt x="568" y="102"/>
                </a:lnTo>
                <a:lnTo>
                  <a:pt x="564" y="108"/>
                </a:lnTo>
                <a:lnTo>
                  <a:pt x="558" y="112"/>
                </a:lnTo>
                <a:lnTo>
                  <a:pt x="554" y="116"/>
                </a:lnTo>
                <a:lnTo>
                  <a:pt x="547" y="117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6"/>
          <p:cNvSpPr/>
          <p:nvPr/>
        </p:nvSpPr>
        <p:spPr>
          <a:xfrm>
            <a:off x="2639880" y="2728800"/>
            <a:ext cx="792360" cy="847800"/>
          </a:xfrm>
          <a:custGeom>
            <a:avLst/>
            <a:gdLst/>
            <a:ahLst/>
            <a:rect l="l" t="t" r="r" b="b"/>
            <a:pathLst>
              <a:path w="998" h="1067">
                <a:moveTo>
                  <a:pt x="651" y="326"/>
                </a:moveTo>
                <a:lnTo>
                  <a:pt x="670" y="305"/>
                </a:lnTo>
                <a:lnTo>
                  <a:pt x="689" y="284"/>
                </a:lnTo>
                <a:lnTo>
                  <a:pt x="707" y="265"/>
                </a:lnTo>
                <a:lnTo>
                  <a:pt x="726" y="248"/>
                </a:lnTo>
                <a:lnTo>
                  <a:pt x="743" y="229"/>
                </a:lnTo>
                <a:lnTo>
                  <a:pt x="758" y="211"/>
                </a:lnTo>
                <a:lnTo>
                  <a:pt x="776" y="194"/>
                </a:lnTo>
                <a:lnTo>
                  <a:pt x="791" y="179"/>
                </a:lnTo>
                <a:lnTo>
                  <a:pt x="806" y="163"/>
                </a:lnTo>
                <a:lnTo>
                  <a:pt x="822" y="148"/>
                </a:lnTo>
                <a:lnTo>
                  <a:pt x="835" y="134"/>
                </a:lnTo>
                <a:lnTo>
                  <a:pt x="849" y="121"/>
                </a:lnTo>
                <a:lnTo>
                  <a:pt x="862" y="108"/>
                </a:lnTo>
                <a:lnTo>
                  <a:pt x="875" y="96"/>
                </a:lnTo>
                <a:lnTo>
                  <a:pt x="887" y="85"/>
                </a:lnTo>
                <a:lnTo>
                  <a:pt x="899" y="75"/>
                </a:lnTo>
                <a:lnTo>
                  <a:pt x="908" y="63"/>
                </a:lnTo>
                <a:lnTo>
                  <a:pt x="920" y="56"/>
                </a:lnTo>
                <a:lnTo>
                  <a:pt x="929" y="46"/>
                </a:lnTo>
                <a:lnTo>
                  <a:pt x="937" y="39"/>
                </a:lnTo>
                <a:lnTo>
                  <a:pt x="946" y="31"/>
                </a:lnTo>
                <a:lnTo>
                  <a:pt x="954" y="25"/>
                </a:lnTo>
                <a:lnTo>
                  <a:pt x="962" y="19"/>
                </a:lnTo>
                <a:lnTo>
                  <a:pt x="968" y="14"/>
                </a:lnTo>
                <a:lnTo>
                  <a:pt x="973" y="10"/>
                </a:lnTo>
                <a:lnTo>
                  <a:pt x="979" y="6"/>
                </a:lnTo>
                <a:lnTo>
                  <a:pt x="983" y="4"/>
                </a:lnTo>
                <a:lnTo>
                  <a:pt x="987" y="2"/>
                </a:lnTo>
                <a:lnTo>
                  <a:pt x="991" y="0"/>
                </a:lnTo>
                <a:lnTo>
                  <a:pt x="993" y="0"/>
                </a:lnTo>
                <a:lnTo>
                  <a:pt x="996" y="0"/>
                </a:lnTo>
                <a:lnTo>
                  <a:pt x="998" y="2"/>
                </a:lnTo>
                <a:lnTo>
                  <a:pt x="998" y="4"/>
                </a:lnTo>
                <a:lnTo>
                  <a:pt x="998" y="6"/>
                </a:lnTo>
                <a:lnTo>
                  <a:pt x="998" y="10"/>
                </a:lnTo>
                <a:lnTo>
                  <a:pt x="996" y="14"/>
                </a:lnTo>
                <a:lnTo>
                  <a:pt x="994" y="17"/>
                </a:lnTo>
                <a:lnTo>
                  <a:pt x="993" y="21"/>
                </a:lnTo>
                <a:lnTo>
                  <a:pt x="991" y="27"/>
                </a:lnTo>
                <a:lnTo>
                  <a:pt x="989" y="33"/>
                </a:lnTo>
                <a:lnTo>
                  <a:pt x="985" y="39"/>
                </a:lnTo>
                <a:lnTo>
                  <a:pt x="981" y="46"/>
                </a:lnTo>
                <a:lnTo>
                  <a:pt x="977" y="54"/>
                </a:lnTo>
                <a:lnTo>
                  <a:pt x="973" y="62"/>
                </a:lnTo>
                <a:lnTo>
                  <a:pt x="968" y="69"/>
                </a:lnTo>
                <a:lnTo>
                  <a:pt x="962" y="79"/>
                </a:lnTo>
                <a:lnTo>
                  <a:pt x="956" y="88"/>
                </a:lnTo>
                <a:lnTo>
                  <a:pt x="950" y="98"/>
                </a:lnTo>
                <a:lnTo>
                  <a:pt x="945" y="108"/>
                </a:lnTo>
                <a:lnTo>
                  <a:pt x="937" y="119"/>
                </a:lnTo>
                <a:lnTo>
                  <a:pt x="931" y="131"/>
                </a:lnTo>
                <a:lnTo>
                  <a:pt x="923" y="142"/>
                </a:lnTo>
                <a:lnTo>
                  <a:pt x="916" y="156"/>
                </a:lnTo>
                <a:lnTo>
                  <a:pt x="906" y="169"/>
                </a:lnTo>
                <a:lnTo>
                  <a:pt x="899" y="182"/>
                </a:lnTo>
                <a:lnTo>
                  <a:pt x="889" y="198"/>
                </a:lnTo>
                <a:lnTo>
                  <a:pt x="881" y="211"/>
                </a:lnTo>
                <a:lnTo>
                  <a:pt x="872" y="227"/>
                </a:lnTo>
                <a:lnTo>
                  <a:pt x="860" y="244"/>
                </a:lnTo>
                <a:lnTo>
                  <a:pt x="851" y="259"/>
                </a:lnTo>
                <a:lnTo>
                  <a:pt x="841" y="276"/>
                </a:lnTo>
                <a:lnTo>
                  <a:pt x="829" y="294"/>
                </a:lnTo>
                <a:lnTo>
                  <a:pt x="818" y="313"/>
                </a:lnTo>
                <a:lnTo>
                  <a:pt x="793" y="349"/>
                </a:lnTo>
                <a:lnTo>
                  <a:pt x="768" y="384"/>
                </a:lnTo>
                <a:lnTo>
                  <a:pt x="745" y="420"/>
                </a:lnTo>
                <a:lnTo>
                  <a:pt x="720" y="455"/>
                </a:lnTo>
                <a:lnTo>
                  <a:pt x="695" y="489"/>
                </a:lnTo>
                <a:lnTo>
                  <a:pt x="672" y="522"/>
                </a:lnTo>
                <a:lnTo>
                  <a:pt x="647" y="555"/>
                </a:lnTo>
                <a:lnTo>
                  <a:pt x="624" y="587"/>
                </a:lnTo>
                <a:lnTo>
                  <a:pt x="576" y="651"/>
                </a:lnTo>
                <a:lnTo>
                  <a:pt x="530" y="712"/>
                </a:lnTo>
                <a:lnTo>
                  <a:pt x="484" y="774"/>
                </a:lnTo>
                <a:lnTo>
                  <a:pt x="438" y="833"/>
                </a:lnTo>
                <a:lnTo>
                  <a:pt x="415" y="862"/>
                </a:lnTo>
                <a:lnTo>
                  <a:pt x="396" y="889"/>
                </a:lnTo>
                <a:lnTo>
                  <a:pt x="375" y="914"/>
                </a:lnTo>
                <a:lnTo>
                  <a:pt x="357" y="937"/>
                </a:lnTo>
                <a:lnTo>
                  <a:pt x="340" y="958"/>
                </a:lnTo>
                <a:lnTo>
                  <a:pt x="325" y="977"/>
                </a:lnTo>
                <a:lnTo>
                  <a:pt x="309" y="994"/>
                </a:lnTo>
                <a:lnTo>
                  <a:pt x="296" y="1010"/>
                </a:lnTo>
                <a:lnTo>
                  <a:pt x="284" y="1023"/>
                </a:lnTo>
                <a:lnTo>
                  <a:pt x="273" y="1034"/>
                </a:lnTo>
                <a:lnTo>
                  <a:pt x="263" y="1044"/>
                </a:lnTo>
                <a:lnTo>
                  <a:pt x="256" y="1052"/>
                </a:lnTo>
                <a:lnTo>
                  <a:pt x="250" y="1059"/>
                </a:lnTo>
                <a:lnTo>
                  <a:pt x="244" y="1063"/>
                </a:lnTo>
                <a:lnTo>
                  <a:pt x="240" y="1067"/>
                </a:lnTo>
                <a:lnTo>
                  <a:pt x="236" y="1067"/>
                </a:lnTo>
                <a:lnTo>
                  <a:pt x="233" y="1067"/>
                </a:lnTo>
                <a:lnTo>
                  <a:pt x="227" y="1065"/>
                </a:lnTo>
                <a:lnTo>
                  <a:pt x="221" y="1065"/>
                </a:lnTo>
                <a:lnTo>
                  <a:pt x="215" y="1063"/>
                </a:lnTo>
                <a:lnTo>
                  <a:pt x="210" y="1059"/>
                </a:lnTo>
                <a:lnTo>
                  <a:pt x="202" y="1058"/>
                </a:lnTo>
                <a:lnTo>
                  <a:pt x="194" y="1054"/>
                </a:lnTo>
                <a:lnTo>
                  <a:pt x="187" y="1050"/>
                </a:lnTo>
                <a:lnTo>
                  <a:pt x="177" y="1044"/>
                </a:lnTo>
                <a:lnTo>
                  <a:pt x="169" y="1040"/>
                </a:lnTo>
                <a:lnTo>
                  <a:pt x="160" y="1034"/>
                </a:lnTo>
                <a:lnTo>
                  <a:pt x="148" y="1029"/>
                </a:lnTo>
                <a:lnTo>
                  <a:pt x="139" y="1023"/>
                </a:lnTo>
                <a:lnTo>
                  <a:pt x="127" y="1017"/>
                </a:lnTo>
                <a:lnTo>
                  <a:pt x="116" y="1010"/>
                </a:lnTo>
                <a:lnTo>
                  <a:pt x="102" y="1002"/>
                </a:lnTo>
                <a:lnTo>
                  <a:pt x="91" y="994"/>
                </a:lnTo>
                <a:lnTo>
                  <a:pt x="79" y="987"/>
                </a:lnTo>
                <a:lnTo>
                  <a:pt x="70" y="981"/>
                </a:lnTo>
                <a:lnTo>
                  <a:pt x="58" y="973"/>
                </a:lnTo>
                <a:lnTo>
                  <a:pt x="50" y="965"/>
                </a:lnTo>
                <a:lnTo>
                  <a:pt x="41" y="958"/>
                </a:lnTo>
                <a:lnTo>
                  <a:pt x="33" y="952"/>
                </a:lnTo>
                <a:lnTo>
                  <a:pt x="27" y="944"/>
                </a:lnTo>
                <a:lnTo>
                  <a:pt x="22" y="939"/>
                </a:lnTo>
                <a:lnTo>
                  <a:pt x="16" y="933"/>
                </a:lnTo>
                <a:lnTo>
                  <a:pt x="12" y="925"/>
                </a:lnTo>
                <a:lnTo>
                  <a:pt x="8" y="919"/>
                </a:lnTo>
                <a:lnTo>
                  <a:pt x="6" y="914"/>
                </a:lnTo>
                <a:lnTo>
                  <a:pt x="4" y="908"/>
                </a:lnTo>
                <a:lnTo>
                  <a:pt x="2" y="904"/>
                </a:lnTo>
                <a:lnTo>
                  <a:pt x="2" y="898"/>
                </a:lnTo>
                <a:lnTo>
                  <a:pt x="0" y="892"/>
                </a:lnTo>
                <a:lnTo>
                  <a:pt x="0" y="889"/>
                </a:lnTo>
                <a:lnTo>
                  <a:pt x="0" y="883"/>
                </a:lnTo>
                <a:lnTo>
                  <a:pt x="2" y="879"/>
                </a:lnTo>
                <a:lnTo>
                  <a:pt x="4" y="873"/>
                </a:lnTo>
                <a:lnTo>
                  <a:pt x="8" y="869"/>
                </a:lnTo>
                <a:lnTo>
                  <a:pt x="12" y="866"/>
                </a:lnTo>
                <a:lnTo>
                  <a:pt x="16" y="860"/>
                </a:lnTo>
                <a:lnTo>
                  <a:pt x="22" y="856"/>
                </a:lnTo>
                <a:lnTo>
                  <a:pt x="27" y="852"/>
                </a:lnTo>
                <a:lnTo>
                  <a:pt x="35" y="848"/>
                </a:lnTo>
                <a:lnTo>
                  <a:pt x="43" y="845"/>
                </a:lnTo>
                <a:lnTo>
                  <a:pt x="52" y="843"/>
                </a:lnTo>
                <a:lnTo>
                  <a:pt x="60" y="839"/>
                </a:lnTo>
                <a:lnTo>
                  <a:pt x="70" y="835"/>
                </a:lnTo>
                <a:lnTo>
                  <a:pt x="81" y="833"/>
                </a:lnTo>
                <a:lnTo>
                  <a:pt x="91" y="831"/>
                </a:lnTo>
                <a:lnTo>
                  <a:pt x="100" y="827"/>
                </a:lnTo>
                <a:lnTo>
                  <a:pt x="112" y="823"/>
                </a:lnTo>
                <a:lnTo>
                  <a:pt x="121" y="818"/>
                </a:lnTo>
                <a:lnTo>
                  <a:pt x="133" y="814"/>
                </a:lnTo>
                <a:lnTo>
                  <a:pt x="142" y="808"/>
                </a:lnTo>
                <a:lnTo>
                  <a:pt x="154" y="802"/>
                </a:lnTo>
                <a:lnTo>
                  <a:pt x="164" y="797"/>
                </a:lnTo>
                <a:lnTo>
                  <a:pt x="185" y="781"/>
                </a:lnTo>
                <a:lnTo>
                  <a:pt x="206" y="766"/>
                </a:lnTo>
                <a:lnTo>
                  <a:pt x="227" y="749"/>
                </a:lnTo>
                <a:lnTo>
                  <a:pt x="248" y="729"/>
                </a:lnTo>
                <a:lnTo>
                  <a:pt x="254" y="726"/>
                </a:lnTo>
                <a:lnTo>
                  <a:pt x="259" y="720"/>
                </a:lnTo>
                <a:lnTo>
                  <a:pt x="265" y="716"/>
                </a:lnTo>
                <a:lnTo>
                  <a:pt x="273" y="710"/>
                </a:lnTo>
                <a:lnTo>
                  <a:pt x="281" y="703"/>
                </a:lnTo>
                <a:lnTo>
                  <a:pt x="288" y="697"/>
                </a:lnTo>
                <a:lnTo>
                  <a:pt x="296" y="689"/>
                </a:lnTo>
                <a:lnTo>
                  <a:pt x="306" y="681"/>
                </a:lnTo>
                <a:lnTo>
                  <a:pt x="313" y="672"/>
                </a:lnTo>
                <a:lnTo>
                  <a:pt x="323" y="662"/>
                </a:lnTo>
                <a:lnTo>
                  <a:pt x="334" y="653"/>
                </a:lnTo>
                <a:lnTo>
                  <a:pt x="344" y="643"/>
                </a:lnTo>
                <a:lnTo>
                  <a:pt x="355" y="632"/>
                </a:lnTo>
                <a:lnTo>
                  <a:pt x="367" y="620"/>
                </a:lnTo>
                <a:lnTo>
                  <a:pt x="378" y="608"/>
                </a:lnTo>
                <a:lnTo>
                  <a:pt x="392" y="597"/>
                </a:lnTo>
                <a:lnTo>
                  <a:pt x="403" y="584"/>
                </a:lnTo>
                <a:lnTo>
                  <a:pt x="417" y="570"/>
                </a:lnTo>
                <a:lnTo>
                  <a:pt x="430" y="555"/>
                </a:lnTo>
                <a:lnTo>
                  <a:pt x="446" y="541"/>
                </a:lnTo>
                <a:lnTo>
                  <a:pt x="459" y="526"/>
                </a:lnTo>
                <a:lnTo>
                  <a:pt x="474" y="511"/>
                </a:lnTo>
                <a:lnTo>
                  <a:pt x="490" y="493"/>
                </a:lnTo>
                <a:lnTo>
                  <a:pt x="507" y="478"/>
                </a:lnTo>
                <a:lnTo>
                  <a:pt x="522" y="461"/>
                </a:lnTo>
                <a:lnTo>
                  <a:pt x="540" y="442"/>
                </a:lnTo>
                <a:lnTo>
                  <a:pt x="557" y="424"/>
                </a:lnTo>
                <a:lnTo>
                  <a:pt x="574" y="405"/>
                </a:lnTo>
                <a:lnTo>
                  <a:pt x="593" y="386"/>
                </a:lnTo>
                <a:lnTo>
                  <a:pt x="613" y="367"/>
                </a:lnTo>
                <a:lnTo>
                  <a:pt x="630" y="346"/>
                </a:lnTo>
                <a:lnTo>
                  <a:pt x="651" y="32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7" descr="984435431396942839109.png"/>
          <p:cNvPicPr/>
          <p:nvPr/>
        </p:nvPicPr>
        <p:blipFill>
          <a:blip r:embed="rId9"/>
          <a:srcRect l="0" t="0" r="-15080" b="0"/>
          <a:stretch/>
        </p:blipFill>
        <p:spPr>
          <a:xfrm>
            <a:off x="2803680" y="2276640"/>
            <a:ext cx="1161720" cy="380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8" descr="984435431396942839109.png"/>
          <p:cNvPicPr/>
          <p:nvPr/>
        </p:nvPicPr>
        <p:blipFill>
          <a:blip r:embed="rId10"/>
          <a:srcRect l="0" t="0" r="-7522" b="0"/>
          <a:stretch/>
        </p:blipFill>
        <p:spPr>
          <a:xfrm>
            <a:off x="2800440" y="2584440"/>
            <a:ext cx="108576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4648320" y="350532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羊补牢 补充  修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304920" y="5181480"/>
            <a:ext cx="853416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件衣服不小心被挂破了一块，但修补一下还可以穿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1"/>
          <p:cNvGrpSpPr/>
          <p:nvPr/>
        </p:nvGrpSpPr>
        <p:grpSpPr>
          <a:xfrm>
            <a:off x="1566720" y="1886040"/>
            <a:ext cx="2657520" cy="2657520"/>
            <a:chOff x="1566720" y="1886040"/>
            <a:chExt cx="2657520" cy="2657520"/>
          </a:xfrm>
        </p:grpSpPr>
        <p:sp>
          <p:nvSpPr>
            <p:cNvPr id="465" name="Rectangle 12"/>
            <p:cNvSpPr/>
            <p:nvPr/>
          </p:nvSpPr>
          <p:spPr>
            <a:xfrm>
              <a:off x="1566720" y="188604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1566720" y="322596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>
              <a:off x="2879640" y="188604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Picture 15" descr="Noname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16"/>
          <p:cNvSpPr/>
          <p:nvPr/>
        </p:nvSpPr>
        <p:spPr>
          <a:xfrm>
            <a:off x="4648320" y="25909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左右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2"/>
          <p:cNvSpPr/>
          <p:nvPr/>
        </p:nvSpPr>
        <p:spPr>
          <a:xfrm>
            <a:off x="3252960" y="2970360"/>
            <a:ext cx="547560" cy="406080"/>
          </a:xfrm>
          <a:custGeom>
            <a:avLst/>
            <a:gdLst/>
            <a:ahLst/>
            <a:rect l="l" t="t" r="r" b="b"/>
            <a:pathLst>
              <a:path w="689" h="512">
                <a:moveTo>
                  <a:pt x="0" y="0"/>
                </a:moveTo>
                <a:lnTo>
                  <a:pt x="45" y="13"/>
                </a:lnTo>
                <a:lnTo>
                  <a:pt x="87" y="27"/>
                </a:lnTo>
                <a:lnTo>
                  <a:pt x="127" y="40"/>
                </a:lnTo>
                <a:lnTo>
                  <a:pt x="167" y="53"/>
                </a:lnTo>
                <a:lnTo>
                  <a:pt x="204" y="65"/>
                </a:lnTo>
                <a:lnTo>
                  <a:pt x="240" y="78"/>
                </a:lnTo>
                <a:lnTo>
                  <a:pt x="273" y="90"/>
                </a:lnTo>
                <a:lnTo>
                  <a:pt x="306" y="103"/>
                </a:lnTo>
                <a:lnTo>
                  <a:pt x="336" y="115"/>
                </a:lnTo>
                <a:lnTo>
                  <a:pt x="365" y="126"/>
                </a:lnTo>
                <a:lnTo>
                  <a:pt x="392" y="138"/>
                </a:lnTo>
                <a:lnTo>
                  <a:pt x="417" y="149"/>
                </a:lnTo>
                <a:lnTo>
                  <a:pt x="442" y="161"/>
                </a:lnTo>
                <a:lnTo>
                  <a:pt x="463" y="170"/>
                </a:lnTo>
                <a:lnTo>
                  <a:pt x="484" y="180"/>
                </a:lnTo>
                <a:lnTo>
                  <a:pt x="503" y="192"/>
                </a:lnTo>
                <a:lnTo>
                  <a:pt x="520" y="201"/>
                </a:lnTo>
                <a:lnTo>
                  <a:pt x="538" y="211"/>
                </a:lnTo>
                <a:lnTo>
                  <a:pt x="553" y="220"/>
                </a:lnTo>
                <a:lnTo>
                  <a:pt x="568" y="230"/>
                </a:lnTo>
                <a:lnTo>
                  <a:pt x="582" y="240"/>
                </a:lnTo>
                <a:lnTo>
                  <a:pt x="595" y="251"/>
                </a:lnTo>
                <a:lnTo>
                  <a:pt x="607" y="261"/>
                </a:lnTo>
                <a:lnTo>
                  <a:pt x="618" y="272"/>
                </a:lnTo>
                <a:lnTo>
                  <a:pt x="630" y="282"/>
                </a:lnTo>
                <a:lnTo>
                  <a:pt x="639" y="291"/>
                </a:lnTo>
                <a:lnTo>
                  <a:pt x="647" y="303"/>
                </a:lnTo>
                <a:lnTo>
                  <a:pt x="655" y="313"/>
                </a:lnTo>
                <a:lnTo>
                  <a:pt x="663" y="322"/>
                </a:lnTo>
                <a:lnTo>
                  <a:pt x="668" y="332"/>
                </a:lnTo>
                <a:lnTo>
                  <a:pt x="672" y="341"/>
                </a:lnTo>
                <a:lnTo>
                  <a:pt x="676" y="351"/>
                </a:lnTo>
                <a:lnTo>
                  <a:pt x="680" y="370"/>
                </a:lnTo>
                <a:lnTo>
                  <a:pt x="684" y="387"/>
                </a:lnTo>
                <a:lnTo>
                  <a:pt x="687" y="405"/>
                </a:lnTo>
                <a:lnTo>
                  <a:pt x="689" y="420"/>
                </a:lnTo>
                <a:lnTo>
                  <a:pt x="689" y="433"/>
                </a:lnTo>
                <a:lnTo>
                  <a:pt x="689" y="447"/>
                </a:lnTo>
                <a:lnTo>
                  <a:pt x="689" y="460"/>
                </a:lnTo>
                <a:lnTo>
                  <a:pt x="687" y="472"/>
                </a:lnTo>
                <a:lnTo>
                  <a:pt x="682" y="483"/>
                </a:lnTo>
                <a:lnTo>
                  <a:pt x="678" y="491"/>
                </a:lnTo>
                <a:lnTo>
                  <a:pt x="672" y="499"/>
                </a:lnTo>
                <a:lnTo>
                  <a:pt x="664" y="504"/>
                </a:lnTo>
                <a:lnTo>
                  <a:pt x="657" y="508"/>
                </a:lnTo>
                <a:lnTo>
                  <a:pt x="649" y="510"/>
                </a:lnTo>
                <a:lnTo>
                  <a:pt x="639" y="512"/>
                </a:lnTo>
                <a:lnTo>
                  <a:pt x="628" y="512"/>
                </a:lnTo>
                <a:lnTo>
                  <a:pt x="622" y="512"/>
                </a:lnTo>
                <a:lnTo>
                  <a:pt x="616" y="510"/>
                </a:lnTo>
                <a:lnTo>
                  <a:pt x="609" y="508"/>
                </a:lnTo>
                <a:lnTo>
                  <a:pt x="599" y="503"/>
                </a:lnTo>
                <a:lnTo>
                  <a:pt x="590" y="499"/>
                </a:lnTo>
                <a:lnTo>
                  <a:pt x="578" y="491"/>
                </a:lnTo>
                <a:lnTo>
                  <a:pt x="567" y="483"/>
                </a:lnTo>
                <a:lnTo>
                  <a:pt x="555" y="476"/>
                </a:lnTo>
                <a:lnTo>
                  <a:pt x="540" y="466"/>
                </a:lnTo>
                <a:lnTo>
                  <a:pt x="526" y="455"/>
                </a:lnTo>
                <a:lnTo>
                  <a:pt x="511" y="441"/>
                </a:lnTo>
                <a:lnTo>
                  <a:pt x="494" y="428"/>
                </a:lnTo>
                <a:lnTo>
                  <a:pt x="474" y="414"/>
                </a:lnTo>
                <a:lnTo>
                  <a:pt x="457" y="397"/>
                </a:lnTo>
                <a:lnTo>
                  <a:pt x="436" y="380"/>
                </a:lnTo>
                <a:lnTo>
                  <a:pt x="415" y="362"/>
                </a:lnTo>
                <a:lnTo>
                  <a:pt x="369" y="324"/>
                </a:lnTo>
                <a:lnTo>
                  <a:pt x="319" y="286"/>
                </a:lnTo>
                <a:lnTo>
                  <a:pt x="269" y="249"/>
                </a:lnTo>
                <a:lnTo>
                  <a:pt x="219" y="211"/>
                </a:lnTo>
                <a:lnTo>
                  <a:pt x="165" y="174"/>
                </a:lnTo>
                <a:lnTo>
                  <a:pt x="112" y="136"/>
                </a:lnTo>
                <a:lnTo>
                  <a:pt x="56" y="98"/>
                </a:lnTo>
                <a:lnTo>
                  <a:pt x="0" y="5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3"/>
          <p:cNvSpPr/>
          <p:nvPr/>
        </p:nvSpPr>
        <p:spPr>
          <a:xfrm>
            <a:off x="3149640" y="2297160"/>
            <a:ext cx="187200" cy="1808280"/>
          </a:xfrm>
          <a:custGeom>
            <a:avLst/>
            <a:gdLst/>
            <a:ahLst/>
            <a:rect l="l" t="t" r="r" b="b"/>
            <a:pathLst>
              <a:path w="236" h="2278">
                <a:moveTo>
                  <a:pt x="23" y="94"/>
                </a:moveTo>
                <a:lnTo>
                  <a:pt x="17" y="83"/>
                </a:lnTo>
                <a:lnTo>
                  <a:pt x="11" y="73"/>
                </a:lnTo>
                <a:lnTo>
                  <a:pt x="6" y="64"/>
                </a:lnTo>
                <a:lnTo>
                  <a:pt x="2" y="56"/>
                </a:lnTo>
                <a:lnTo>
                  <a:pt x="0" y="46"/>
                </a:lnTo>
                <a:lnTo>
                  <a:pt x="0" y="39"/>
                </a:lnTo>
                <a:lnTo>
                  <a:pt x="2" y="31"/>
                </a:lnTo>
                <a:lnTo>
                  <a:pt x="4" y="23"/>
                </a:lnTo>
                <a:lnTo>
                  <a:pt x="4" y="18"/>
                </a:lnTo>
                <a:lnTo>
                  <a:pt x="8" y="10"/>
                </a:lnTo>
                <a:lnTo>
                  <a:pt x="11" y="6"/>
                </a:lnTo>
                <a:lnTo>
                  <a:pt x="17" y="2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2" y="4"/>
                </a:lnTo>
                <a:lnTo>
                  <a:pt x="63" y="8"/>
                </a:lnTo>
                <a:lnTo>
                  <a:pt x="75" y="12"/>
                </a:lnTo>
                <a:lnTo>
                  <a:pt x="88" y="16"/>
                </a:lnTo>
                <a:lnTo>
                  <a:pt x="104" y="22"/>
                </a:lnTo>
                <a:lnTo>
                  <a:pt x="119" y="27"/>
                </a:lnTo>
                <a:lnTo>
                  <a:pt x="134" y="35"/>
                </a:lnTo>
                <a:lnTo>
                  <a:pt x="150" y="45"/>
                </a:lnTo>
                <a:lnTo>
                  <a:pt x="159" y="48"/>
                </a:lnTo>
                <a:lnTo>
                  <a:pt x="169" y="54"/>
                </a:lnTo>
                <a:lnTo>
                  <a:pt x="176" y="60"/>
                </a:lnTo>
                <a:lnTo>
                  <a:pt x="184" y="66"/>
                </a:lnTo>
                <a:lnTo>
                  <a:pt x="192" y="71"/>
                </a:lnTo>
                <a:lnTo>
                  <a:pt x="200" y="77"/>
                </a:lnTo>
                <a:lnTo>
                  <a:pt x="205" y="83"/>
                </a:lnTo>
                <a:lnTo>
                  <a:pt x="211" y="87"/>
                </a:lnTo>
                <a:lnTo>
                  <a:pt x="215" y="93"/>
                </a:lnTo>
                <a:lnTo>
                  <a:pt x="221" y="96"/>
                </a:lnTo>
                <a:lnTo>
                  <a:pt x="224" y="102"/>
                </a:lnTo>
                <a:lnTo>
                  <a:pt x="226" y="106"/>
                </a:lnTo>
                <a:lnTo>
                  <a:pt x="230" y="110"/>
                </a:lnTo>
                <a:lnTo>
                  <a:pt x="232" y="114"/>
                </a:lnTo>
                <a:lnTo>
                  <a:pt x="234" y="118"/>
                </a:lnTo>
                <a:lnTo>
                  <a:pt x="236" y="119"/>
                </a:lnTo>
                <a:lnTo>
                  <a:pt x="236" y="123"/>
                </a:lnTo>
                <a:lnTo>
                  <a:pt x="236" y="125"/>
                </a:lnTo>
                <a:lnTo>
                  <a:pt x="236" y="141"/>
                </a:lnTo>
                <a:lnTo>
                  <a:pt x="234" y="154"/>
                </a:lnTo>
                <a:lnTo>
                  <a:pt x="234" y="162"/>
                </a:lnTo>
                <a:lnTo>
                  <a:pt x="232" y="169"/>
                </a:lnTo>
                <a:lnTo>
                  <a:pt x="230" y="177"/>
                </a:lnTo>
                <a:lnTo>
                  <a:pt x="226" y="185"/>
                </a:lnTo>
                <a:lnTo>
                  <a:pt x="223" y="194"/>
                </a:lnTo>
                <a:lnTo>
                  <a:pt x="221" y="204"/>
                </a:lnTo>
                <a:lnTo>
                  <a:pt x="219" y="215"/>
                </a:lnTo>
                <a:lnTo>
                  <a:pt x="217" y="229"/>
                </a:lnTo>
                <a:lnTo>
                  <a:pt x="215" y="244"/>
                </a:lnTo>
                <a:lnTo>
                  <a:pt x="213" y="260"/>
                </a:lnTo>
                <a:lnTo>
                  <a:pt x="211" y="277"/>
                </a:lnTo>
                <a:lnTo>
                  <a:pt x="207" y="296"/>
                </a:lnTo>
                <a:lnTo>
                  <a:pt x="205" y="306"/>
                </a:lnTo>
                <a:lnTo>
                  <a:pt x="203" y="319"/>
                </a:lnTo>
                <a:lnTo>
                  <a:pt x="201" y="332"/>
                </a:lnTo>
                <a:lnTo>
                  <a:pt x="200" y="348"/>
                </a:lnTo>
                <a:lnTo>
                  <a:pt x="198" y="365"/>
                </a:lnTo>
                <a:lnTo>
                  <a:pt x="196" y="384"/>
                </a:lnTo>
                <a:lnTo>
                  <a:pt x="194" y="405"/>
                </a:lnTo>
                <a:lnTo>
                  <a:pt x="192" y="428"/>
                </a:lnTo>
                <a:lnTo>
                  <a:pt x="190" y="453"/>
                </a:lnTo>
                <a:lnTo>
                  <a:pt x="188" y="478"/>
                </a:lnTo>
                <a:lnTo>
                  <a:pt x="186" y="507"/>
                </a:lnTo>
                <a:lnTo>
                  <a:pt x="184" y="536"/>
                </a:lnTo>
                <a:lnTo>
                  <a:pt x="184" y="567"/>
                </a:lnTo>
                <a:lnTo>
                  <a:pt x="182" y="599"/>
                </a:lnTo>
                <a:lnTo>
                  <a:pt x="180" y="632"/>
                </a:lnTo>
                <a:lnTo>
                  <a:pt x="178" y="668"/>
                </a:lnTo>
                <a:lnTo>
                  <a:pt x="176" y="705"/>
                </a:lnTo>
                <a:lnTo>
                  <a:pt x="175" y="743"/>
                </a:lnTo>
                <a:lnTo>
                  <a:pt x="175" y="783"/>
                </a:lnTo>
                <a:lnTo>
                  <a:pt x="175" y="824"/>
                </a:lnTo>
                <a:lnTo>
                  <a:pt x="175" y="868"/>
                </a:lnTo>
                <a:lnTo>
                  <a:pt x="175" y="912"/>
                </a:lnTo>
                <a:lnTo>
                  <a:pt x="175" y="958"/>
                </a:lnTo>
                <a:lnTo>
                  <a:pt x="176" y="1008"/>
                </a:lnTo>
                <a:lnTo>
                  <a:pt x="176" y="1058"/>
                </a:lnTo>
                <a:lnTo>
                  <a:pt x="178" y="1108"/>
                </a:lnTo>
                <a:lnTo>
                  <a:pt x="178" y="1162"/>
                </a:lnTo>
                <a:lnTo>
                  <a:pt x="180" y="1217"/>
                </a:lnTo>
                <a:lnTo>
                  <a:pt x="182" y="1273"/>
                </a:lnTo>
                <a:lnTo>
                  <a:pt x="184" y="1330"/>
                </a:lnTo>
                <a:lnTo>
                  <a:pt x="186" y="1390"/>
                </a:lnTo>
                <a:lnTo>
                  <a:pt x="188" y="1451"/>
                </a:lnTo>
                <a:lnTo>
                  <a:pt x="188" y="1482"/>
                </a:lnTo>
                <a:lnTo>
                  <a:pt x="190" y="1513"/>
                </a:lnTo>
                <a:lnTo>
                  <a:pt x="190" y="1543"/>
                </a:lnTo>
                <a:lnTo>
                  <a:pt x="190" y="1572"/>
                </a:lnTo>
                <a:lnTo>
                  <a:pt x="192" y="1601"/>
                </a:lnTo>
                <a:lnTo>
                  <a:pt x="192" y="1628"/>
                </a:lnTo>
                <a:lnTo>
                  <a:pt x="192" y="1655"/>
                </a:lnTo>
                <a:lnTo>
                  <a:pt x="192" y="1682"/>
                </a:lnTo>
                <a:lnTo>
                  <a:pt x="194" y="1708"/>
                </a:lnTo>
                <a:lnTo>
                  <a:pt x="194" y="1733"/>
                </a:lnTo>
                <a:lnTo>
                  <a:pt x="194" y="1758"/>
                </a:lnTo>
                <a:lnTo>
                  <a:pt x="194" y="1781"/>
                </a:lnTo>
                <a:lnTo>
                  <a:pt x="194" y="1804"/>
                </a:lnTo>
                <a:lnTo>
                  <a:pt x="194" y="1827"/>
                </a:lnTo>
                <a:lnTo>
                  <a:pt x="194" y="1850"/>
                </a:lnTo>
                <a:lnTo>
                  <a:pt x="194" y="1872"/>
                </a:lnTo>
                <a:lnTo>
                  <a:pt x="194" y="1893"/>
                </a:lnTo>
                <a:lnTo>
                  <a:pt x="192" y="1914"/>
                </a:lnTo>
                <a:lnTo>
                  <a:pt x="192" y="1933"/>
                </a:lnTo>
                <a:lnTo>
                  <a:pt x="192" y="1952"/>
                </a:lnTo>
                <a:lnTo>
                  <a:pt x="192" y="1969"/>
                </a:lnTo>
                <a:lnTo>
                  <a:pt x="190" y="1987"/>
                </a:lnTo>
                <a:lnTo>
                  <a:pt x="190" y="2004"/>
                </a:lnTo>
                <a:lnTo>
                  <a:pt x="188" y="2021"/>
                </a:lnTo>
                <a:lnTo>
                  <a:pt x="188" y="2037"/>
                </a:lnTo>
                <a:lnTo>
                  <a:pt x="186" y="2050"/>
                </a:lnTo>
                <a:lnTo>
                  <a:pt x="186" y="2065"/>
                </a:lnTo>
                <a:lnTo>
                  <a:pt x="184" y="2079"/>
                </a:lnTo>
                <a:lnTo>
                  <a:pt x="182" y="2092"/>
                </a:lnTo>
                <a:lnTo>
                  <a:pt x="182" y="2104"/>
                </a:lnTo>
                <a:lnTo>
                  <a:pt x="180" y="2115"/>
                </a:lnTo>
                <a:lnTo>
                  <a:pt x="178" y="2127"/>
                </a:lnTo>
                <a:lnTo>
                  <a:pt x="175" y="2146"/>
                </a:lnTo>
                <a:lnTo>
                  <a:pt x="171" y="2165"/>
                </a:lnTo>
                <a:lnTo>
                  <a:pt x="167" y="2182"/>
                </a:lnTo>
                <a:lnTo>
                  <a:pt x="163" y="2198"/>
                </a:lnTo>
                <a:lnTo>
                  <a:pt x="159" y="2211"/>
                </a:lnTo>
                <a:lnTo>
                  <a:pt x="155" y="2225"/>
                </a:lnTo>
                <a:lnTo>
                  <a:pt x="153" y="2236"/>
                </a:lnTo>
                <a:lnTo>
                  <a:pt x="150" y="2246"/>
                </a:lnTo>
                <a:lnTo>
                  <a:pt x="146" y="2255"/>
                </a:lnTo>
                <a:lnTo>
                  <a:pt x="142" y="2263"/>
                </a:lnTo>
                <a:lnTo>
                  <a:pt x="138" y="2269"/>
                </a:lnTo>
                <a:lnTo>
                  <a:pt x="134" y="2273"/>
                </a:lnTo>
                <a:lnTo>
                  <a:pt x="130" y="2277"/>
                </a:lnTo>
                <a:lnTo>
                  <a:pt x="127" y="2278"/>
                </a:lnTo>
                <a:lnTo>
                  <a:pt x="123" y="2278"/>
                </a:lnTo>
                <a:lnTo>
                  <a:pt x="121" y="2277"/>
                </a:lnTo>
                <a:lnTo>
                  <a:pt x="113" y="2273"/>
                </a:lnTo>
                <a:lnTo>
                  <a:pt x="105" y="2265"/>
                </a:lnTo>
                <a:lnTo>
                  <a:pt x="98" y="2257"/>
                </a:lnTo>
                <a:lnTo>
                  <a:pt x="90" y="2246"/>
                </a:lnTo>
                <a:lnTo>
                  <a:pt x="84" y="2234"/>
                </a:lnTo>
                <a:lnTo>
                  <a:pt x="77" y="2221"/>
                </a:lnTo>
                <a:lnTo>
                  <a:pt x="69" y="2204"/>
                </a:lnTo>
                <a:lnTo>
                  <a:pt x="61" y="2186"/>
                </a:lnTo>
                <a:lnTo>
                  <a:pt x="56" y="2169"/>
                </a:lnTo>
                <a:lnTo>
                  <a:pt x="50" y="2152"/>
                </a:lnTo>
                <a:lnTo>
                  <a:pt x="44" y="2136"/>
                </a:lnTo>
                <a:lnTo>
                  <a:pt x="40" y="2123"/>
                </a:lnTo>
                <a:lnTo>
                  <a:pt x="36" y="2111"/>
                </a:lnTo>
                <a:lnTo>
                  <a:pt x="34" y="2098"/>
                </a:lnTo>
                <a:lnTo>
                  <a:pt x="33" y="2087"/>
                </a:lnTo>
                <a:lnTo>
                  <a:pt x="33" y="2075"/>
                </a:lnTo>
                <a:lnTo>
                  <a:pt x="33" y="2071"/>
                </a:lnTo>
                <a:lnTo>
                  <a:pt x="33" y="2067"/>
                </a:lnTo>
                <a:lnTo>
                  <a:pt x="34" y="2062"/>
                </a:lnTo>
                <a:lnTo>
                  <a:pt x="34" y="2056"/>
                </a:lnTo>
                <a:lnTo>
                  <a:pt x="34" y="2048"/>
                </a:lnTo>
                <a:lnTo>
                  <a:pt x="36" y="2040"/>
                </a:lnTo>
                <a:lnTo>
                  <a:pt x="38" y="2033"/>
                </a:lnTo>
                <a:lnTo>
                  <a:pt x="38" y="2023"/>
                </a:lnTo>
                <a:lnTo>
                  <a:pt x="40" y="2016"/>
                </a:lnTo>
                <a:lnTo>
                  <a:pt x="42" y="2004"/>
                </a:lnTo>
                <a:lnTo>
                  <a:pt x="44" y="1994"/>
                </a:lnTo>
                <a:lnTo>
                  <a:pt x="46" y="1983"/>
                </a:lnTo>
                <a:lnTo>
                  <a:pt x="46" y="1971"/>
                </a:lnTo>
                <a:lnTo>
                  <a:pt x="48" y="1960"/>
                </a:lnTo>
                <a:lnTo>
                  <a:pt x="50" y="1948"/>
                </a:lnTo>
                <a:lnTo>
                  <a:pt x="52" y="1935"/>
                </a:lnTo>
                <a:lnTo>
                  <a:pt x="54" y="1927"/>
                </a:lnTo>
                <a:lnTo>
                  <a:pt x="54" y="1920"/>
                </a:lnTo>
                <a:lnTo>
                  <a:pt x="56" y="1910"/>
                </a:lnTo>
                <a:lnTo>
                  <a:pt x="56" y="1898"/>
                </a:lnTo>
                <a:lnTo>
                  <a:pt x="56" y="1887"/>
                </a:lnTo>
                <a:lnTo>
                  <a:pt x="58" y="1875"/>
                </a:lnTo>
                <a:lnTo>
                  <a:pt x="58" y="1860"/>
                </a:lnTo>
                <a:lnTo>
                  <a:pt x="59" y="1847"/>
                </a:lnTo>
                <a:lnTo>
                  <a:pt x="59" y="1829"/>
                </a:lnTo>
                <a:lnTo>
                  <a:pt x="61" y="1812"/>
                </a:lnTo>
                <a:lnTo>
                  <a:pt x="61" y="1793"/>
                </a:lnTo>
                <a:lnTo>
                  <a:pt x="63" y="1774"/>
                </a:lnTo>
                <a:lnTo>
                  <a:pt x="63" y="1753"/>
                </a:lnTo>
                <a:lnTo>
                  <a:pt x="63" y="1732"/>
                </a:lnTo>
                <a:lnTo>
                  <a:pt x="65" y="1708"/>
                </a:lnTo>
                <a:lnTo>
                  <a:pt x="65" y="1684"/>
                </a:lnTo>
                <a:lnTo>
                  <a:pt x="65" y="1659"/>
                </a:lnTo>
                <a:lnTo>
                  <a:pt x="67" y="1632"/>
                </a:lnTo>
                <a:lnTo>
                  <a:pt x="67" y="1603"/>
                </a:lnTo>
                <a:lnTo>
                  <a:pt x="67" y="1574"/>
                </a:lnTo>
                <a:lnTo>
                  <a:pt x="69" y="1543"/>
                </a:lnTo>
                <a:lnTo>
                  <a:pt x="69" y="1513"/>
                </a:lnTo>
                <a:lnTo>
                  <a:pt x="69" y="1480"/>
                </a:lnTo>
                <a:lnTo>
                  <a:pt x="69" y="1446"/>
                </a:lnTo>
                <a:lnTo>
                  <a:pt x="71" y="1411"/>
                </a:lnTo>
                <a:lnTo>
                  <a:pt x="71" y="1375"/>
                </a:lnTo>
                <a:lnTo>
                  <a:pt x="71" y="1336"/>
                </a:lnTo>
                <a:lnTo>
                  <a:pt x="71" y="1298"/>
                </a:lnTo>
                <a:lnTo>
                  <a:pt x="71" y="1257"/>
                </a:lnTo>
                <a:lnTo>
                  <a:pt x="71" y="1217"/>
                </a:lnTo>
                <a:lnTo>
                  <a:pt x="71" y="1173"/>
                </a:lnTo>
                <a:lnTo>
                  <a:pt x="71" y="1131"/>
                </a:lnTo>
                <a:lnTo>
                  <a:pt x="71" y="1087"/>
                </a:lnTo>
                <a:lnTo>
                  <a:pt x="71" y="1044"/>
                </a:lnTo>
                <a:lnTo>
                  <a:pt x="71" y="1002"/>
                </a:lnTo>
                <a:lnTo>
                  <a:pt x="71" y="962"/>
                </a:lnTo>
                <a:lnTo>
                  <a:pt x="71" y="922"/>
                </a:lnTo>
                <a:lnTo>
                  <a:pt x="71" y="885"/>
                </a:lnTo>
                <a:lnTo>
                  <a:pt x="71" y="847"/>
                </a:lnTo>
                <a:lnTo>
                  <a:pt x="71" y="812"/>
                </a:lnTo>
                <a:lnTo>
                  <a:pt x="71" y="776"/>
                </a:lnTo>
                <a:lnTo>
                  <a:pt x="71" y="743"/>
                </a:lnTo>
                <a:lnTo>
                  <a:pt x="71" y="711"/>
                </a:lnTo>
                <a:lnTo>
                  <a:pt x="71" y="678"/>
                </a:lnTo>
                <a:lnTo>
                  <a:pt x="71" y="647"/>
                </a:lnTo>
                <a:lnTo>
                  <a:pt x="71" y="618"/>
                </a:lnTo>
                <a:lnTo>
                  <a:pt x="71" y="590"/>
                </a:lnTo>
                <a:lnTo>
                  <a:pt x="71" y="563"/>
                </a:lnTo>
                <a:lnTo>
                  <a:pt x="69" y="538"/>
                </a:lnTo>
                <a:lnTo>
                  <a:pt x="69" y="513"/>
                </a:lnTo>
                <a:lnTo>
                  <a:pt x="69" y="488"/>
                </a:lnTo>
                <a:lnTo>
                  <a:pt x="69" y="465"/>
                </a:lnTo>
                <a:lnTo>
                  <a:pt x="69" y="444"/>
                </a:lnTo>
                <a:lnTo>
                  <a:pt x="69" y="423"/>
                </a:lnTo>
                <a:lnTo>
                  <a:pt x="67" y="403"/>
                </a:lnTo>
                <a:lnTo>
                  <a:pt x="67" y="384"/>
                </a:lnTo>
                <a:lnTo>
                  <a:pt x="67" y="367"/>
                </a:lnTo>
                <a:lnTo>
                  <a:pt x="67" y="352"/>
                </a:lnTo>
                <a:lnTo>
                  <a:pt x="65" y="336"/>
                </a:lnTo>
                <a:lnTo>
                  <a:pt x="65" y="321"/>
                </a:lnTo>
                <a:lnTo>
                  <a:pt x="65" y="307"/>
                </a:lnTo>
                <a:lnTo>
                  <a:pt x="63" y="296"/>
                </a:lnTo>
                <a:lnTo>
                  <a:pt x="63" y="284"/>
                </a:lnTo>
                <a:lnTo>
                  <a:pt x="61" y="275"/>
                </a:lnTo>
                <a:lnTo>
                  <a:pt x="59" y="258"/>
                </a:lnTo>
                <a:lnTo>
                  <a:pt x="58" y="240"/>
                </a:lnTo>
                <a:lnTo>
                  <a:pt x="56" y="223"/>
                </a:lnTo>
                <a:lnTo>
                  <a:pt x="54" y="208"/>
                </a:lnTo>
                <a:lnTo>
                  <a:pt x="52" y="192"/>
                </a:lnTo>
                <a:lnTo>
                  <a:pt x="50" y="179"/>
                </a:lnTo>
                <a:lnTo>
                  <a:pt x="48" y="167"/>
                </a:lnTo>
                <a:lnTo>
                  <a:pt x="46" y="154"/>
                </a:lnTo>
                <a:lnTo>
                  <a:pt x="44" y="144"/>
                </a:lnTo>
                <a:lnTo>
                  <a:pt x="42" y="135"/>
                </a:lnTo>
                <a:lnTo>
                  <a:pt x="38" y="125"/>
                </a:lnTo>
                <a:lnTo>
                  <a:pt x="36" y="118"/>
                </a:lnTo>
                <a:lnTo>
                  <a:pt x="33" y="110"/>
                </a:lnTo>
                <a:lnTo>
                  <a:pt x="31" y="104"/>
                </a:lnTo>
                <a:lnTo>
                  <a:pt x="27" y="98"/>
                </a:lnTo>
                <a:lnTo>
                  <a:pt x="23" y="9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4"/>
          <p:cNvSpPr/>
          <p:nvPr/>
        </p:nvSpPr>
        <p:spPr>
          <a:xfrm>
            <a:off x="2476440" y="2355840"/>
            <a:ext cx="303120" cy="212760"/>
          </a:xfrm>
          <a:custGeom>
            <a:avLst/>
            <a:gdLst/>
            <a:ahLst/>
            <a:rect l="l" t="t" r="r" b="b"/>
            <a:pathLst>
              <a:path w="382" h="267">
                <a:moveTo>
                  <a:pt x="9" y="19"/>
                </a:moveTo>
                <a:lnTo>
                  <a:pt x="15" y="16"/>
                </a:lnTo>
                <a:lnTo>
                  <a:pt x="21" y="12"/>
                </a:lnTo>
                <a:lnTo>
                  <a:pt x="28" y="8"/>
                </a:lnTo>
                <a:lnTo>
                  <a:pt x="38" y="6"/>
                </a:lnTo>
                <a:lnTo>
                  <a:pt x="52" y="2"/>
                </a:lnTo>
                <a:lnTo>
                  <a:pt x="65" y="0"/>
                </a:lnTo>
                <a:lnTo>
                  <a:pt x="80" y="0"/>
                </a:lnTo>
                <a:lnTo>
                  <a:pt x="98" y="0"/>
                </a:lnTo>
                <a:lnTo>
                  <a:pt x="126" y="0"/>
                </a:lnTo>
                <a:lnTo>
                  <a:pt x="142" y="0"/>
                </a:lnTo>
                <a:lnTo>
                  <a:pt x="157" y="0"/>
                </a:lnTo>
                <a:lnTo>
                  <a:pt x="172" y="2"/>
                </a:lnTo>
                <a:lnTo>
                  <a:pt x="188" y="4"/>
                </a:lnTo>
                <a:lnTo>
                  <a:pt x="205" y="6"/>
                </a:lnTo>
                <a:lnTo>
                  <a:pt x="222" y="10"/>
                </a:lnTo>
                <a:lnTo>
                  <a:pt x="238" y="14"/>
                </a:lnTo>
                <a:lnTo>
                  <a:pt x="251" y="19"/>
                </a:lnTo>
                <a:lnTo>
                  <a:pt x="263" y="25"/>
                </a:lnTo>
                <a:lnTo>
                  <a:pt x="274" y="31"/>
                </a:lnTo>
                <a:lnTo>
                  <a:pt x="286" y="41"/>
                </a:lnTo>
                <a:lnTo>
                  <a:pt x="297" y="48"/>
                </a:lnTo>
                <a:lnTo>
                  <a:pt x="309" y="58"/>
                </a:lnTo>
                <a:lnTo>
                  <a:pt x="320" y="69"/>
                </a:lnTo>
                <a:lnTo>
                  <a:pt x="330" y="81"/>
                </a:lnTo>
                <a:lnTo>
                  <a:pt x="339" y="92"/>
                </a:lnTo>
                <a:lnTo>
                  <a:pt x="349" y="104"/>
                </a:lnTo>
                <a:lnTo>
                  <a:pt x="357" y="115"/>
                </a:lnTo>
                <a:lnTo>
                  <a:pt x="362" y="129"/>
                </a:lnTo>
                <a:lnTo>
                  <a:pt x="368" y="142"/>
                </a:lnTo>
                <a:lnTo>
                  <a:pt x="374" y="156"/>
                </a:lnTo>
                <a:lnTo>
                  <a:pt x="378" y="171"/>
                </a:lnTo>
                <a:lnTo>
                  <a:pt x="380" y="188"/>
                </a:lnTo>
                <a:lnTo>
                  <a:pt x="382" y="204"/>
                </a:lnTo>
                <a:lnTo>
                  <a:pt x="382" y="219"/>
                </a:lnTo>
                <a:lnTo>
                  <a:pt x="380" y="231"/>
                </a:lnTo>
                <a:lnTo>
                  <a:pt x="378" y="240"/>
                </a:lnTo>
                <a:lnTo>
                  <a:pt x="374" y="250"/>
                </a:lnTo>
                <a:lnTo>
                  <a:pt x="372" y="256"/>
                </a:lnTo>
                <a:lnTo>
                  <a:pt x="368" y="261"/>
                </a:lnTo>
                <a:lnTo>
                  <a:pt x="364" y="263"/>
                </a:lnTo>
                <a:lnTo>
                  <a:pt x="359" y="267"/>
                </a:lnTo>
                <a:lnTo>
                  <a:pt x="353" y="267"/>
                </a:lnTo>
                <a:lnTo>
                  <a:pt x="345" y="267"/>
                </a:lnTo>
                <a:lnTo>
                  <a:pt x="336" y="265"/>
                </a:lnTo>
                <a:lnTo>
                  <a:pt x="326" y="263"/>
                </a:lnTo>
                <a:lnTo>
                  <a:pt x="316" y="259"/>
                </a:lnTo>
                <a:lnTo>
                  <a:pt x="303" y="256"/>
                </a:lnTo>
                <a:lnTo>
                  <a:pt x="291" y="250"/>
                </a:lnTo>
                <a:lnTo>
                  <a:pt x="278" y="242"/>
                </a:lnTo>
                <a:lnTo>
                  <a:pt x="263" y="234"/>
                </a:lnTo>
                <a:lnTo>
                  <a:pt x="247" y="227"/>
                </a:lnTo>
                <a:lnTo>
                  <a:pt x="230" y="215"/>
                </a:lnTo>
                <a:lnTo>
                  <a:pt x="213" y="206"/>
                </a:lnTo>
                <a:lnTo>
                  <a:pt x="194" y="192"/>
                </a:lnTo>
                <a:lnTo>
                  <a:pt x="174" y="181"/>
                </a:lnTo>
                <a:lnTo>
                  <a:pt x="153" y="167"/>
                </a:lnTo>
                <a:lnTo>
                  <a:pt x="134" y="154"/>
                </a:lnTo>
                <a:lnTo>
                  <a:pt x="115" y="142"/>
                </a:lnTo>
                <a:lnTo>
                  <a:pt x="98" y="131"/>
                </a:lnTo>
                <a:lnTo>
                  <a:pt x="82" y="121"/>
                </a:lnTo>
                <a:lnTo>
                  <a:pt x="69" y="110"/>
                </a:lnTo>
                <a:lnTo>
                  <a:pt x="55" y="100"/>
                </a:lnTo>
                <a:lnTo>
                  <a:pt x="44" y="92"/>
                </a:lnTo>
                <a:lnTo>
                  <a:pt x="34" y="85"/>
                </a:lnTo>
                <a:lnTo>
                  <a:pt x="25" y="77"/>
                </a:lnTo>
                <a:lnTo>
                  <a:pt x="17" y="69"/>
                </a:lnTo>
                <a:lnTo>
                  <a:pt x="11" y="64"/>
                </a:lnTo>
                <a:lnTo>
                  <a:pt x="5" y="60"/>
                </a:lnTo>
                <a:lnTo>
                  <a:pt x="4" y="56"/>
                </a:lnTo>
                <a:lnTo>
                  <a:pt x="2" y="52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2" y="31"/>
                </a:lnTo>
                <a:lnTo>
                  <a:pt x="4" y="27"/>
                </a:lnTo>
                <a:lnTo>
                  <a:pt x="7" y="23"/>
                </a:lnTo>
                <a:lnTo>
                  <a:pt x="9" y="1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5"/>
          <p:cNvSpPr/>
          <p:nvPr/>
        </p:nvSpPr>
        <p:spPr>
          <a:xfrm>
            <a:off x="1992240" y="2746440"/>
            <a:ext cx="792360" cy="895320"/>
          </a:xfrm>
          <a:custGeom>
            <a:avLst/>
            <a:gdLst/>
            <a:ahLst/>
            <a:rect l="l" t="t" r="r" b="b"/>
            <a:pathLst>
              <a:path w="998" h="1128">
                <a:moveTo>
                  <a:pt x="766" y="40"/>
                </a:moveTo>
                <a:lnTo>
                  <a:pt x="772" y="34"/>
                </a:lnTo>
                <a:lnTo>
                  <a:pt x="778" y="30"/>
                </a:lnTo>
                <a:lnTo>
                  <a:pt x="787" y="21"/>
                </a:lnTo>
                <a:lnTo>
                  <a:pt x="797" y="15"/>
                </a:lnTo>
                <a:lnTo>
                  <a:pt x="806" y="9"/>
                </a:lnTo>
                <a:lnTo>
                  <a:pt x="816" y="5"/>
                </a:lnTo>
                <a:lnTo>
                  <a:pt x="824" y="2"/>
                </a:lnTo>
                <a:lnTo>
                  <a:pt x="829" y="2"/>
                </a:lnTo>
                <a:lnTo>
                  <a:pt x="833" y="0"/>
                </a:lnTo>
                <a:lnTo>
                  <a:pt x="835" y="0"/>
                </a:lnTo>
                <a:lnTo>
                  <a:pt x="839" y="2"/>
                </a:lnTo>
                <a:lnTo>
                  <a:pt x="843" y="2"/>
                </a:lnTo>
                <a:lnTo>
                  <a:pt x="847" y="2"/>
                </a:lnTo>
                <a:lnTo>
                  <a:pt x="851" y="3"/>
                </a:lnTo>
                <a:lnTo>
                  <a:pt x="856" y="5"/>
                </a:lnTo>
                <a:lnTo>
                  <a:pt x="862" y="7"/>
                </a:lnTo>
                <a:lnTo>
                  <a:pt x="868" y="9"/>
                </a:lnTo>
                <a:lnTo>
                  <a:pt x="881" y="15"/>
                </a:lnTo>
                <a:lnTo>
                  <a:pt x="897" y="21"/>
                </a:lnTo>
                <a:lnTo>
                  <a:pt x="914" y="30"/>
                </a:lnTo>
                <a:lnTo>
                  <a:pt x="922" y="34"/>
                </a:lnTo>
                <a:lnTo>
                  <a:pt x="931" y="40"/>
                </a:lnTo>
                <a:lnTo>
                  <a:pt x="939" y="46"/>
                </a:lnTo>
                <a:lnTo>
                  <a:pt x="947" y="51"/>
                </a:lnTo>
                <a:lnTo>
                  <a:pt x="954" y="57"/>
                </a:lnTo>
                <a:lnTo>
                  <a:pt x="962" y="63"/>
                </a:lnTo>
                <a:lnTo>
                  <a:pt x="968" y="69"/>
                </a:lnTo>
                <a:lnTo>
                  <a:pt x="973" y="73"/>
                </a:lnTo>
                <a:lnTo>
                  <a:pt x="977" y="78"/>
                </a:lnTo>
                <a:lnTo>
                  <a:pt x="983" y="84"/>
                </a:lnTo>
                <a:lnTo>
                  <a:pt x="987" y="88"/>
                </a:lnTo>
                <a:lnTo>
                  <a:pt x="989" y="92"/>
                </a:lnTo>
                <a:lnTo>
                  <a:pt x="993" y="96"/>
                </a:lnTo>
                <a:lnTo>
                  <a:pt x="995" y="99"/>
                </a:lnTo>
                <a:lnTo>
                  <a:pt x="996" y="103"/>
                </a:lnTo>
                <a:lnTo>
                  <a:pt x="996" y="105"/>
                </a:lnTo>
                <a:lnTo>
                  <a:pt x="998" y="109"/>
                </a:lnTo>
                <a:lnTo>
                  <a:pt x="998" y="111"/>
                </a:lnTo>
                <a:lnTo>
                  <a:pt x="996" y="115"/>
                </a:lnTo>
                <a:lnTo>
                  <a:pt x="995" y="120"/>
                </a:lnTo>
                <a:lnTo>
                  <a:pt x="991" y="126"/>
                </a:lnTo>
                <a:lnTo>
                  <a:pt x="985" y="134"/>
                </a:lnTo>
                <a:lnTo>
                  <a:pt x="977" y="142"/>
                </a:lnTo>
                <a:lnTo>
                  <a:pt x="970" y="151"/>
                </a:lnTo>
                <a:lnTo>
                  <a:pt x="960" y="161"/>
                </a:lnTo>
                <a:lnTo>
                  <a:pt x="950" y="170"/>
                </a:lnTo>
                <a:lnTo>
                  <a:pt x="935" y="184"/>
                </a:lnTo>
                <a:lnTo>
                  <a:pt x="922" y="195"/>
                </a:lnTo>
                <a:lnTo>
                  <a:pt x="906" y="209"/>
                </a:lnTo>
                <a:lnTo>
                  <a:pt x="893" y="224"/>
                </a:lnTo>
                <a:lnTo>
                  <a:pt x="879" y="239"/>
                </a:lnTo>
                <a:lnTo>
                  <a:pt x="866" y="257"/>
                </a:lnTo>
                <a:lnTo>
                  <a:pt x="854" y="274"/>
                </a:lnTo>
                <a:lnTo>
                  <a:pt x="843" y="291"/>
                </a:lnTo>
                <a:lnTo>
                  <a:pt x="837" y="301"/>
                </a:lnTo>
                <a:lnTo>
                  <a:pt x="831" y="310"/>
                </a:lnTo>
                <a:lnTo>
                  <a:pt x="818" y="332"/>
                </a:lnTo>
                <a:lnTo>
                  <a:pt x="803" y="353"/>
                </a:lnTo>
                <a:lnTo>
                  <a:pt x="787" y="378"/>
                </a:lnTo>
                <a:lnTo>
                  <a:pt x="778" y="389"/>
                </a:lnTo>
                <a:lnTo>
                  <a:pt x="768" y="403"/>
                </a:lnTo>
                <a:lnTo>
                  <a:pt x="758" y="416"/>
                </a:lnTo>
                <a:lnTo>
                  <a:pt x="749" y="429"/>
                </a:lnTo>
                <a:lnTo>
                  <a:pt x="739" y="445"/>
                </a:lnTo>
                <a:lnTo>
                  <a:pt x="730" y="460"/>
                </a:lnTo>
                <a:lnTo>
                  <a:pt x="718" y="476"/>
                </a:lnTo>
                <a:lnTo>
                  <a:pt x="709" y="493"/>
                </a:lnTo>
                <a:lnTo>
                  <a:pt x="695" y="510"/>
                </a:lnTo>
                <a:lnTo>
                  <a:pt x="682" y="527"/>
                </a:lnTo>
                <a:lnTo>
                  <a:pt x="668" y="547"/>
                </a:lnTo>
                <a:lnTo>
                  <a:pt x="653" y="564"/>
                </a:lnTo>
                <a:lnTo>
                  <a:pt x="639" y="583"/>
                </a:lnTo>
                <a:lnTo>
                  <a:pt x="624" y="602"/>
                </a:lnTo>
                <a:lnTo>
                  <a:pt x="607" y="621"/>
                </a:lnTo>
                <a:lnTo>
                  <a:pt x="592" y="642"/>
                </a:lnTo>
                <a:lnTo>
                  <a:pt x="574" y="664"/>
                </a:lnTo>
                <a:lnTo>
                  <a:pt x="555" y="683"/>
                </a:lnTo>
                <a:lnTo>
                  <a:pt x="538" y="704"/>
                </a:lnTo>
                <a:lnTo>
                  <a:pt x="519" y="725"/>
                </a:lnTo>
                <a:lnTo>
                  <a:pt x="499" y="748"/>
                </a:lnTo>
                <a:lnTo>
                  <a:pt x="478" y="769"/>
                </a:lnTo>
                <a:lnTo>
                  <a:pt x="459" y="792"/>
                </a:lnTo>
                <a:lnTo>
                  <a:pt x="438" y="815"/>
                </a:lnTo>
                <a:lnTo>
                  <a:pt x="415" y="838"/>
                </a:lnTo>
                <a:lnTo>
                  <a:pt x="392" y="861"/>
                </a:lnTo>
                <a:lnTo>
                  <a:pt x="369" y="884"/>
                </a:lnTo>
                <a:lnTo>
                  <a:pt x="348" y="903"/>
                </a:lnTo>
                <a:lnTo>
                  <a:pt x="329" y="923"/>
                </a:lnTo>
                <a:lnTo>
                  <a:pt x="307" y="942"/>
                </a:lnTo>
                <a:lnTo>
                  <a:pt x="288" y="959"/>
                </a:lnTo>
                <a:lnTo>
                  <a:pt x="269" y="975"/>
                </a:lnTo>
                <a:lnTo>
                  <a:pt x="252" y="990"/>
                </a:lnTo>
                <a:lnTo>
                  <a:pt x="233" y="1003"/>
                </a:lnTo>
                <a:lnTo>
                  <a:pt x="215" y="1017"/>
                </a:lnTo>
                <a:lnTo>
                  <a:pt x="198" y="1028"/>
                </a:lnTo>
                <a:lnTo>
                  <a:pt x="183" y="1040"/>
                </a:lnTo>
                <a:lnTo>
                  <a:pt x="167" y="1049"/>
                </a:lnTo>
                <a:lnTo>
                  <a:pt x="152" y="1059"/>
                </a:lnTo>
                <a:lnTo>
                  <a:pt x="137" y="1067"/>
                </a:lnTo>
                <a:lnTo>
                  <a:pt x="121" y="1076"/>
                </a:lnTo>
                <a:lnTo>
                  <a:pt x="106" y="1084"/>
                </a:lnTo>
                <a:lnTo>
                  <a:pt x="93" y="1092"/>
                </a:lnTo>
                <a:lnTo>
                  <a:pt x="81" y="1099"/>
                </a:lnTo>
                <a:lnTo>
                  <a:pt x="70" y="1105"/>
                </a:lnTo>
                <a:lnTo>
                  <a:pt x="58" y="1111"/>
                </a:lnTo>
                <a:lnTo>
                  <a:pt x="48" y="1115"/>
                </a:lnTo>
                <a:lnTo>
                  <a:pt x="41" y="1118"/>
                </a:lnTo>
                <a:lnTo>
                  <a:pt x="33" y="1122"/>
                </a:lnTo>
                <a:lnTo>
                  <a:pt x="25" y="1126"/>
                </a:lnTo>
                <a:lnTo>
                  <a:pt x="20" y="1128"/>
                </a:lnTo>
                <a:lnTo>
                  <a:pt x="14" y="1128"/>
                </a:lnTo>
                <a:lnTo>
                  <a:pt x="10" y="1128"/>
                </a:lnTo>
                <a:lnTo>
                  <a:pt x="6" y="1128"/>
                </a:lnTo>
                <a:lnTo>
                  <a:pt x="4" y="1128"/>
                </a:lnTo>
                <a:lnTo>
                  <a:pt x="2" y="1126"/>
                </a:lnTo>
                <a:lnTo>
                  <a:pt x="0" y="1124"/>
                </a:lnTo>
                <a:lnTo>
                  <a:pt x="2" y="1120"/>
                </a:lnTo>
                <a:lnTo>
                  <a:pt x="4" y="1115"/>
                </a:lnTo>
                <a:lnTo>
                  <a:pt x="10" y="1107"/>
                </a:lnTo>
                <a:lnTo>
                  <a:pt x="16" y="1099"/>
                </a:lnTo>
                <a:lnTo>
                  <a:pt x="23" y="1090"/>
                </a:lnTo>
                <a:lnTo>
                  <a:pt x="33" y="1078"/>
                </a:lnTo>
                <a:lnTo>
                  <a:pt x="46" y="1065"/>
                </a:lnTo>
                <a:lnTo>
                  <a:pt x="60" y="1051"/>
                </a:lnTo>
                <a:lnTo>
                  <a:pt x="75" y="1036"/>
                </a:lnTo>
                <a:lnTo>
                  <a:pt x="93" y="1017"/>
                </a:lnTo>
                <a:lnTo>
                  <a:pt x="112" y="998"/>
                </a:lnTo>
                <a:lnTo>
                  <a:pt x="133" y="978"/>
                </a:lnTo>
                <a:lnTo>
                  <a:pt x="154" y="955"/>
                </a:lnTo>
                <a:lnTo>
                  <a:pt x="179" y="930"/>
                </a:lnTo>
                <a:lnTo>
                  <a:pt x="206" y="905"/>
                </a:lnTo>
                <a:lnTo>
                  <a:pt x="256" y="856"/>
                </a:lnTo>
                <a:lnTo>
                  <a:pt x="304" y="804"/>
                </a:lnTo>
                <a:lnTo>
                  <a:pt x="352" y="750"/>
                </a:lnTo>
                <a:lnTo>
                  <a:pt x="400" y="694"/>
                </a:lnTo>
                <a:lnTo>
                  <a:pt x="446" y="639"/>
                </a:lnTo>
                <a:lnTo>
                  <a:pt x="490" y="581"/>
                </a:lnTo>
                <a:lnTo>
                  <a:pt x="511" y="552"/>
                </a:lnTo>
                <a:lnTo>
                  <a:pt x="532" y="524"/>
                </a:lnTo>
                <a:lnTo>
                  <a:pt x="553" y="493"/>
                </a:lnTo>
                <a:lnTo>
                  <a:pt x="572" y="462"/>
                </a:lnTo>
                <a:lnTo>
                  <a:pt x="592" y="433"/>
                </a:lnTo>
                <a:lnTo>
                  <a:pt x="609" y="405"/>
                </a:lnTo>
                <a:lnTo>
                  <a:pt x="626" y="380"/>
                </a:lnTo>
                <a:lnTo>
                  <a:pt x="641" y="355"/>
                </a:lnTo>
                <a:lnTo>
                  <a:pt x="655" y="332"/>
                </a:lnTo>
                <a:lnTo>
                  <a:pt x="666" y="312"/>
                </a:lnTo>
                <a:lnTo>
                  <a:pt x="678" y="293"/>
                </a:lnTo>
                <a:lnTo>
                  <a:pt x="687" y="276"/>
                </a:lnTo>
                <a:lnTo>
                  <a:pt x="697" y="259"/>
                </a:lnTo>
                <a:lnTo>
                  <a:pt x="703" y="245"/>
                </a:lnTo>
                <a:lnTo>
                  <a:pt x="709" y="234"/>
                </a:lnTo>
                <a:lnTo>
                  <a:pt x="714" y="224"/>
                </a:lnTo>
                <a:lnTo>
                  <a:pt x="716" y="215"/>
                </a:lnTo>
                <a:lnTo>
                  <a:pt x="718" y="209"/>
                </a:lnTo>
                <a:lnTo>
                  <a:pt x="718" y="205"/>
                </a:lnTo>
                <a:lnTo>
                  <a:pt x="718" y="201"/>
                </a:lnTo>
                <a:lnTo>
                  <a:pt x="714" y="199"/>
                </a:lnTo>
                <a:lnTo>
                  <a:pt x="710" y="199"/>
                </a:lnTo>
                <a:lnTo>
                  <a:pt x="707" y="199"/>
                </a:lnTo>
                <a:lnTo>
                  <a:pt x="699" y="199"/>
                </a:lnTo>
                <a:lnTo>
                  <a:pt x="691" y="199"/>
                </a:lnTo>
                <a:lnTo>
                  <a:pt x="682" y="201"/>
                </a:lnTo>
                <a:lnTo>
                  <a:pt x="672" y="205"/>
                </a:lnTo>
                <a:lnTo>
                  <a:pt x="659" y="207"/>
                </a:lnTo>
                <a:lnTo>
                  <a:pt x="645" y="211"/>
                </a:lnTo>
                <a:lnTo>
                  <a:pt x="632" y="215"/>
                </a:lnTo>
                <a:lnTo>
                  <a:pt x="615" y="220"/>
                </a:lnTo>
                <a:lnTo>
                  <a:pt x="597" y="224"/>
                </a:lnTo>
                <a:lnTo>
                  <a:pt x="580" y="230"/>
                </a:lnTo>
                <a:lnTo>
                  <a:pt x="559" y="238"/>
                </a:lnTo>
                <a:lnTo>
                  <a:pt x="538" y="243"/>
                </a:lnTo>
                <a:lnTo>
                  <a:pt x="515" y="251"/>
                </a:lnTo>
                <a:lnTo>
                  <a:pt x="492" y="261"/>
                </a:lnTo>
                <a:lnTo>
                  <a:pt x="471" y="268"/>
                </a:lnTo>
                <a:lnTo>
                  <a:pt x="449" y="278"/>
                </a:lnTo>
                <a:lnTo>
                  <a:pt x="430" y="284"/>
                </a:lnTo>
                <a:lnTo>
                  <a:pt x="411" y="291"/>
                </a:lnTo>
                <a:lnTo>
                  <a:pt x="394" y="297"/>
                </a:lnTo>
                <a:lnTo>
                  <a:pt x="377" y="301"/>
                </a:lnTo>
                <a:lnTo>
                  <a:pt x="361" y="307"/>
                </a:lnTo>
                <a:lnTo>
                  <a:pt x="348" y="310"/>
                </a:lnTo>
                <a:lnTo>
                  <a:pt x="336" y="312"/>
                </a:lnTo>
                <a:lnTo>
                  <a:pt x="323" y="316"/>
                </a:lnTo>
                <a:lnTo>
                  <a:pt x="313" y="318"/>
                </a:lnTo>
                <a:lnTo>
                  <a:pt x="304" y="320"/>
                </a:lnTo>
                <a:lnTo>
                  <a:pt x="296" y="320"/>
                </a:lnTo>
                <a:lnTo>
                  <a:pt x="288" y="322"/>
                </a:lnTo>
                <a:lnTo>
                  <a:pt x="283" y="322"/>
                </a:lnTo>
                <a:lnTo>
                  <a:pt x="271" y="324"/>
                </a:lnTo>
                <a:lnTo>
                  <a:pt x="260" y="326"/>
                </a:lnTo>
                <a:lnTo>
                  <a:pt x="246" y="326"/>
                </a:lnTo>
                <a:lnTo>
                  <a:pt x="235" y="324"/>
                </a:lnTo>
                <a:lnTo>
                  <a:pt x="221" y="320"/>
                </a:lnTo>
                <a:lnTo>
                  <a:pt x="208" y="314"/>
                </a:lnTo>
                <a:lnTo>
                  <a:pt x="196" y="309"/>
                </a:lnTo>
                <a:lnTo>
                  <a:pt x="185" y="301"/>
                </a:lnTo>
                <a:lnTo>
                  <a:pt x="171" y="297"/>
                </a:lnTo>
                <a:lnTo>
                  <a:pt x="160" y="291"/>
                </a:lnTo>
                <a:lnTo>
                  <a:pt x="150" y="286"/>
                </a:lnTo>
                <a:lnTo>
                  <a:pt x="141" y="280"/>
                </a:lnTo>
                <a:lnTo>
                  <a:pt x="133" y="270"/>
                </a:lnTo>
                <a:lnTo>
                  <a:pt x="127" y="263"/>
                </a:lnTo>
                <a:lnTo>
                  <a:pt x="121" y="253"/>
                </a:lnTo>
                <a:lnTo>
                  <a:pt x="117" y="241"/>
                </a:lnTo>
                <a:lnTo>
                  <a:pt x="116" y="236"/>
                </a:lnTo>
                <a:lnTo>
                  <a:pt x="116" y="232"/>
                </a:lnTo>
                <a:lnTo>
                  <a:pt x="116" y="226"/>
                </a:lnTo>
                <a:lnTo>
                  <a:pt x="117" y="222"/>
                </a:lnTo>
                <a:lnTo>
                  <a:pt x="119" y="218"/>
                </a:lnTo>
                <a:lnTo>
                  <a:pt x="123" y="215"/>
                </a:lnTo>
                <a:lnTo>
                  <a:pt x="129" y="213"/>
                </a:lnTo>
                <a:lnTo>
                  <a:pt x="133" y="211"/>
                </a:lnTo>
                <a:lnTo>
                  <a:pt x="141" y="207"/>
                </a:lnTo>
                <a:lnTo>
                  <a:pt x="148" y="207"/>
                </a:lnTo>
                <a:lnTo>
                  <a:pt x="156" y="205"/>
                </a:lnTo>
                <a:lnTo>
                  <a:pt x="165" y="203"/>
                </a:lnTo>
                <a:lnTo>
                  <a:pt x="175" y="203"/>
                </a:lnTo>
                <a:lnTo>
                  <a:pt x="189" y="201"/>
                </a:lnTo>
                <a:lnTo>
                  <a:pt x="200" y="201"/>
                </a:lnTo>
                <a:lnTo>
                  <a:pt x="215" y="201"/>
                </a:lnTo>
                <a:lnTo>
                  <a:pt x="229" y="201"/>
                </a:lnTo>
                <a:lnTo>
                  <a:pt x="244" y="201"/>
                </a:lnTo>
                <a:lnTo>
                  <a:pt x="261" y="199"/>
                </a:lnTo>
                <a:lnTo>
                  <a:pt x="279" y="197"/>
                </a:lnTo>
                <a:lnTo>
                  <a:pt x="296" y="195"/>
                </a:lnTo>
                <a:lnTo>
                  <a:pt x="313" y="193"/>
                </a:lnTo>
                <a:lnTo>
                  <a:pt x="332" y="190"/>
                </a:lnTo>
                <a:lnTo>
                  <a:pt x="352" y="186"/>
                </a:lnTo>
                <a:lnTo>
                  <a:pt x="373" y="182"/>
                </a:lnTo>
                <a:lnTo>
                  <a:pt x="394" y="178"/>
                </a:lnTo>
                <a:lnTo>
                  <a:pt x="415" y="172"/>
                </a:lnTo>
                <a:lnTo>
                  <a:pt x="438" y="168"/>
                </a:lnTo>
                <a:lnTo>
                  <a:pt x="461" y="161"/>
                </a:lnTo>
                <a:lnTo>
                  <a:pt x="484" y="155"/>
                </a:lnTo>
                <a:lnTo>
                  <a:pt x="509" y="149"/>
                </a:lnTo>
                <a:lnTo>
                  <a:pt x="534" y="142"/>
                </a:lnTo>
                <a:lnTo>
                  <a:pt x="557" y="134"/>
                </a:lnTo>
                <a:lnTo>
                  <a:pt x="578" y="126"/>
                </a:lnTo>
                <a:lnTo>
                  <a:pt x="599" y="119"/>
                </a:lnTo>
                <a:lnTo>
                  <a:pt x="618" y="113"/>
                </a:lnTo>
                <a:lnTo>
                  <a:pt x="638" y="105"/>
                </a:lnTo>
                <a:lnTo>
                  <a:pt x="655" y="99"/>
                </a:lnTo>
                <a:lnTo>
                  <a:pt x="672" y="94"/>
                </a:lnTo>
                <a:lnTo>
                  <a:pt x="686" y="86"/>
                </a:lnTo>
                <a:lnTo>
                  <a:pt x="701" y="80"/>
                </a:lnTo>
                <a:lnTo>
                  <a:pt x="712" y="74"/>
                </a:lnTo>
                <a:lnTo>
                  <a:pt x="724" y="69"/>
                </a:lnTo>
                <a:lnTo>
                  <a:pt x="735" y="63"/>
                </a:lnTo>
                <a:lnTo>
                  <a:pt x="745" y="57"/>
                </a:lnTo>
                <a:lnTo>
                  <a:pt x="753" y="51"/>
                </a:lnTo>
                <a:lnTo>
                  <a:pt x="760" y="46"/>
                </a:lnTo>
                <a:lnTo>
                  <a:pt x="766" y="4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6"/>
          <p:cNvSpPr/>
          <p:nvPr/>
        </p:nvSpPr>
        <p:spPr>
          <a:xfrm>
            <a:off x="2476440" y="3137040"/>
            <a:ext cx="136440" cy="863640"/>
          </a:xfrm>
          <a:custGeom>
            <a:avLst/>
            <a:gdLst/>
            <a:ahLst/>
            <a:rect l="l" t="t" r="r" b="b"/>
            <a:pathLst>
              <a:path w="172" h="1086">
                <a:moveTo>
                  <a:pt x="19" y="764"/>
                </a:moveTo>
                <a:lnTo>
                  <a:pt x="21" y="754"/>
                </a:lnTo>
                <a:lnTo>
                  <a:pt x="23" y="743"/>
                </a:lnTo>
                <a:lnTo>
                  <a:pt x="27" y="729"/>
                </a:lnTo>
                <a:lnTo>
                  <a:pt x="28" y="716"/>
                </a:lnTo>
                <a:lnTo>
                  <a:pt x="30" y="700"/>
                </a:lnTo>
                <a:lnTo>
                  <a:pt x="34" y="683"/>
                </a:lnTo>
                <a:lnTo>
                  <a:pt x="36" y="666"/>
                </a:lnTo>
                <a:lnTo>
                  <a:pt x="38" y="647"/>
                </a:lnTo>
                <a:lnTo>
                  <a:pt x="42" y="625"/>
                </a:lnTo>
                <a:lnTo>
                  <a:pt x="44" y="604"/>
                </a:lnTo>
                <a:lnTo>
                  <a:pt x="48" y="581"/>
                </a:lnTo>
                <a:lnTo>
                  <a:pt x="50" y="558"/>
                </a:lnTo>
                <a:lnTo>
                  <a:pt x="52" y="533"/>
                </a:lnTo>
                <a:lnTo>
                  <a:pt x="53" y="506"/>
                </a:lnTo>
                <a:lnTo>
                  <a:pt x="57" y="480"/>
                </a:lnTo>
                <a:lnTo>
                  <a:pt x="59" y="453"/>
                </a:lnTo>
                <a:lnTo>
                  <a:pt x="59" y="424"/>
                </a:lnTo>
                <a:lnTo>
                  <a:pt x="61" y="397"/>
                </a:lnTo>
                <a:lnTo>
                  <a:pt x="61" y="372"/>
                </a:lnTo>
                <a:lnTo>
                  <a:pt x="63" y="347"/>
                </a:lnTo>
                <a:lnTo>
                  <a:pt x="63" y="322"/>
                </a:lnTo>
                <a:lnTo>
                  <a:pt x="61" y="301"/>
                </a:lnTo>
                <a:lnTo>
                  <a:pt x="61" y="278"/>
                </a:lnTo>
                <a:lnTo>
                  <a:pt x="61" y="257"/>
                </a:lnTo>
                <a:lnTo>
                  <a:pt x="59" y="238"/>
                </a:lnTo>
                <a:lnTo>
                  <a:pt x="59" y="219"/>
                </a:lnTo>
                <a:lnTo>
                  <a:pt x="57" y="201"/>
                </a:lnTo>
                <a:lnTo>
                  <a:pt x="55" y="186"/>
                </a:lnTo>
                <a:lnTo>
                  <a:pt x="53" y="171"/>
                </a:lnTo>
                <a:lnTo>
                  <a:pt x="52" y="155"/>
                </a:lnTo>
                <a:lnTo>
                  <a:pt x="50" y="142"/>
                </a:lnTo>
                <a:lnTo>
                  <a:pt x="50" y="130"/>
                </a:lnTo>
                <a:lnTo>
                  <a:pt x="46" y="111"/>
                </a:lnTo>
                <a:lnTo>
                  <a:pt x="42" y="94"/>
                </a:lnTo>
                <a:lnTo>
                  <a:pt x="38" y="75"/>
                </a:lnTo>
                <a:lnTo>
                  <a:pt x="36" y="57"/>
                </a:lnTo>
                <a:lnTo>
                  <a:pt x="32" y="42"/>
                </a:lnTo>
                <a:lnTo>
                  <a:pt x="30" y="27"/>
                </a:lnTo>
                <a:lnTo>
                  <a:pt x="30" y="11"/>
                </a:lnTo>
                <a:lnTo>
                  <a:pt x="28" y="0"/>
                </a:lnTo>
                <a:lnTo>
                  <a:pt x="53" y="7"/>
                </a:lnTo>
                <a:lnTo>
                  <a:pt x="65" y="11"/>
                </a:lnTo>
                <a:lnTo>
                  <a:pt x="76" y="15"/>
                </a:lnTo>
                <a:lnTo>
                  <a:pt x="86" y="19"/>
                </a:lnTo>
                <a:lnTo>
                  <a:pt x="98" y="23"/>
                </a:lnTo>
                <a:lnTo>
                  <a:pt x="105" y="25"/>
                </a:lnTo>
                <a:lnTo>
                  <a:pt x="115" y="29"/>
                </a:lnTo>
                <a:lnTo>
                  <a:pt x="123" y="32"/>
                </a:lnTo>
                <a:lnTo>
                  <a:pt x="132" y="34"/>
                </a:lnTo>
                <a:lnTo>
                  <a:pt x="138" y="38"/>
                </a:lnTo>
                <a:lnTo>
                  <a:pt x="146" y="40"/>
                </a:lnTo>
                <a:lnTo>
                  <a:pt x="151" y="44"/>
                </a:lnTo>
                <a:lnTo>
                  <a:pt x="157" y="46"/>
                </a:lnTo>
                <a:lnTo>
                  <a:pt x="161" y="48"/>
                </a:lnTo>
                <a:lnTo>
                  <a:pt x="165" y="50"/>
                </a:lnTo>
                <a:lnTo>
                  <a:pt x="165" y="54"/>
                </a:lnTo>
                <a:lnTo>
                  <a:pt x="167" y="55"/>
                </a:lnTo>
                <a:lnTo>
                  <a:pt x="167" y="59"/>
                </a:lnTo>
                <a:lnTo>
                  <a:pt x="169" y="65"/>
                </a:lnTo>
                <a:lnTo>
                  <a:pt x="169" y="71"/>
                </a:lnTo>
                <a:lnTo>
                  <a:pt x="169" y="78"/>
                </a:lnTo>
                <a:lnTo>
                  <a:pt x="170" y="86"/>
                </a:lnTo>
                <a:lnTo>
                  <a:pt x="170" y="96"/>
                </a:lnTo>
                <a:lnTo>
                  <a:pt x="170" y="105"/>
                </a:lnTo>
                <a:lnTo>
                  <a:pt x="170" y="115"/>
                </a:lnTo>
                <a:lnTo>
                  <a:pt x="170" y="128"/>
                </a:lnTo>
                <a:lnTo>
                  <a:pt x="170" y="140"/>
                </a:lnTo>
                <a:lnTo>
                  <a:pt x="172" y="153"/>
                </a:lnTo>
                <a:lnTo>
                  <a:pt x="172" y="169"/>
                </a:lnTo>
                <a:lnTo>
                  <a:pt x="172" y="184"/>
                </a:lnTo>
                <a:lnTo>
                  <a:pt x="172" y="199"/>
                </a:lnTo>
                <a:lnTo>
                  <a:pt x="172" y="217"/>
                </a:lnTo>
                <a:lnTo>
                  <a:pt x="172" y="236"/>
                </a:lnTo>
                <a:lnTo>
                  <a:pt x="172" y="255"/>
                </a:lnTo>
                <a:lnTo>
                  <a:pt x="170" y="274"/>
                </a:lnTo>
                <a:lnTo>
                  <a:pt x="170" y="295"/>
                </a:lnTo>
                <a:lnTo>
                  <a:pt x="170" y="316"/>
                </a:lnTo>
                <a:lnTo>
                  <a:pt x="170" y="339"/>
                </a:lnTo>
                <a:lnTo>
                  <a:pt x="170" y="363"/>
                </a:lnTo>
                <a:lnTo>
                  <a:pt x="170" y="387"/>
                </a:lnTo>
                <a:lnTo>
                  <a:pt x="169" y="412"/>
                </a:lnTo>
                <a:lnTo>
                  <a:pt x="169" y="439"/>
                </a:lnTo>
                <a:lnTo>
                  <a:pt x="169" y="466"/>
                </a:lnTo>
                <a:lnTo>
                  <a:pt x="167" y="493"/>
                </a:lnTo>
                <a:lnTo>
                  <a:pt x="167" y="524"/>
                </a:lnTo>
                <a:lnTo>
                  <a:pt x="165" y="553"/>
                </a:lnTo>
                <a:lnTo>
                  <a:pt x="165" y="583"/>
                </a:lnTo>
                <a:lnTo>
                  <a:pt x="163" y="614"/>
                </a:lnTo>
                <a:lnTo>
                  <a:pt x="161" y="643"/>
                </a:lnTo>
                <a:lnTo>
                  <a:pt x="159" y="672"/>
                </a:lnTo>
                <a:lnTo>
                  <a:pt x="157" y="700"/>
                </a:lnTo>
                <a:lnTo>
                  <a:pt x="155" y="727"/>
                </a:lnTo>
                <a:lnTo>
                  <a:pt x="153" y="752"/>
                </a:lnTo>
                <a:lnTo>
                  <a:pt x="151" y="777"/>
                </a:lnTo>
                <a:lnTo>
                  <a:pt x="151" y="802"/>
                </a:lnTo>
                <a:lnTo>
                  <a:pt x="149" y="825"/>
                </a:lnTo>
                <a:lnTo>
                  <a:pt x="147" y="846"/>
                </a:lnTo>
                <a:lnTo>
                  <a:pt x="146" y="867"/>
                </a:lnTo>
                <a:lnTo>
                  <a:pt x="144" y="888"/>
                </a:lnTo>
                <a:lnTo>
                  <a:pt x="142" y="908"/>
                </a:lnTo>
                <a:lnTo>
                  <a:pt x="140" y="925"/>
                </a:lnTo>
                <a:lnTo>
                  <a:pt x="138" y="942"/>
                </a:lnTo>
                <a:lnTo>
                  <a:pt x="136" y="959"/>
                </a:lnTo>
                <a:lnTo>
                  <a:pt x="134" y="975"/>
                </a:lnTo>
                <a:lnTo>
                  <a:pt x="132" y="988"/>
                </a:lnTo>
                <a:lnTo>
                  <a:pt x="130" y="1002"/>
                </a:lnTo>
                <a:lnTo>
                  <a:pt x="128" y="1015"/>
                </a:lnTo>
                <a:lnTo>
                  <a:pt x="126" y="1027"/>
                </a:lnTo>
                <a:lnTo>
                  <a:pt x="124" y="1036"/>
                </a:lnTo>
                <a:lnTo>
                  <a:pt x="123" y="1046"/>
                </a:lnTo>
                <a:lnTo>
                  <a:pt x="121" y="1053"/>
                </a:lnTo>
                <a:lnTo>
                  <a:pt x="119" y="1061"/>
                </a:lnTo>
                <a:lnTo>
                  <a:pt x="117" y="1069"/>
                </a:lnTo>
                <a:lnTo>
                  <a:pt x="115" y="1075"/>
                </a:lnTo>
                <a:lnTo>
                  <a:pt x="115" y="1078"/>
                </a:lnTo>
                <a:lnTo>
                  <a:pt x="113" y="1082"/>
                </a:lnTo>
                <a:lnTo>
                  <a:pt x="111" y="1084"/>
                </a:lnTo>
                <a:lnTo>
                  <a:pt x="109" y="1086"/>
                </a:lnTo>
                <a:lnTo>
                  <a:pt x="107" y="1086"/>
                </a:lnTo>
                <a:lnTo>
                  <a:pt x="103" y="1086"/>
                </a:lnTo>
                <a:lnTo>
                  <a:pt x="99" y="1084"/>
                </a:lnTo>
                <a:lnTo>
                  <a:pt x="96" y="1082"/>
                </a:lnTo>
                <a:lnTo>
                  <a:pt x="92" y="1080"/>
                </a:lnTo>
                <a:lnTo>
                  <a:pt x="88" y="1076"/>
                </a:lnTo>
                <a:lnTo>
                  <a:pt x="84" y="1073"/>
                </a:lnTo>
                <a:lnTo>
                  <a:pt x="80" y="1069"/>
                </a:lnTo>
                <a:lnTo>
                  <a:pt x="76" y="1063"/>
                </a:lnTo>
                <a:lnTo>
                  <a:pt x="73" y="1057"/>
                </a:lnTo>
                <a:lnTo>
                  <a:pt x="67" y="1051"/>
                </a:lnTo>
                <a:lnTo>
                  <a:pt x="63" y="1044"/>
                </a:lnTo>
                <a:lnTo>
                  <a:pt x="59" y="1034"/>
                </a:lnTo>
                <a:lnTo>
                  <a:pt x="53" y="1027"/>
                </a:lnTo>
                <a:lnTo>
                  <a:pt x="50" y="1017"/>
                </a:lnTo>
                <a:lnTo>
                  <a:pt x="44" y="1007"/>
                </a:lnTo>
                <a:lnTo>
                  <a:pt x="38" y="996"/>
                </a:lnTo>
                <a:lnTo>
                  <a:pt x="28" y="977"/>
                </a:lnTo>
                <a:lnTo>
                  <a:pt x="21" y="959"/>
                </a:lnTo>
                <a:lnTo>
                  <a:pt x="13" y="942"/>
                </a:lnTo>
                <a:lnTo>
                  <a:pt x="9" y="927"/>
                </a:lnTo>
                <a:lnTo>
                  <a:pt x="5" y="913"/>
                </a:lnTo>
                <a:lnTo>
                  <a:pt x="2" y="900"/>
                </a:lnTo>
                <a:lnTo>
                  <a:pt x="2" y="886"/>
                </a:lnTo>
                <a:lnTo>
                  <a:pt x="0" y="875"/>
                </a:lnTo>
                <a:lnTo>
                  <a:pt x="2" y="863"/>
                </a:lnTo>
                <a:lnTo>
                  <a:pt x="2" y="852"/>
                </a:lnTo>
                <a:lnTo>
                  <a:pt x="4" y="840"/>
                </a:lnTo>
                <a:lnTo>
                  <a:pt x="5" y="827"/>
                </a:lnTo>
                <a:lnTo>
                  <a:pt x="9" y="814"/>
                </a:lnTo>
                <a:lnTo>
                  <a:pt x="13" y="798"/>
                </a:lnTo>
                <a:lnTo>
                  <a:pt x="17" y="783"/>
                </a:lnTo>
                <a:lnTo>
                  <a:pt x="19" y="76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7"/>
          <p:cNvSpPr/>
          <p:nvPr/>
        </p:nvSpPr>
        <p:spPr>
          <a:xfrm>
            <a:off x="2660760" y="3059280"/>
            <a:ext cx="253800" cy="277560"/>
          </a:xfrm>
          <a:custGeom>
            <a:avLst/>
            <a:gdLst/>
            <a:ahLst/>
            <a:rect l="l" t="t" r="r" b="b"/>
            <a:pathLst>
              <a:path w="320" h="351">
                <a:moveTo>
                  <a:pt x="155" y="131"/>
                </a:moveTo>
                <a:lnTo>
                  <a:pt x="161" y="119"/>
                </a:lnTo>
                <a:lnTo>
                  <a:pt x="167" y="107"/>
                </a:lnTo>
                <a:lnTo>
                  <a:pt x="173" y="96"/>
                </a:lnTo>
                <a:lnTo>
                  <a:pt x="176" y="84"/>
                </a:lnTo>
                <a:lnTo>
                  <a:pt x="178" y="73"/>
                </a:lnTo>
                <a:lnTo>
                  <a:pt x="178" y="61"/>
                </a:lnTo>
                <a:lnTo>
                  <a:pt x="176" y="52"/>
                </a:lnTo>
                <a:lnTo>
                  <a:pt x="175" y="40"/>
                </a:lnTo>
                <a:lnTo>
                  <a:pt x="173" y="29"/>
                </a:lnTo>
                <a:lnTo>
                  <a:pt x="171" y="21"/>
                </a:lnTo>
                <a:lnTo>
                  <a:pt x="173" y="13"/>
                </a:lnTo>
                <a:lnTo>
                  <a:pt x="175" y="8"/>
                </a:lnTo>
                <a:lnTo>
                  <a:pt x="178" y="4"/>
                </a:lnTo>
                <a:lnTo>
                  <a:pt x="186" y="2"/>
                </a:lnTo>
                <a:lnTo>
                  <a:pt x="194" y="0"/>
                </a:lnTo>
                <a:lnTo>
                  <a:pt x="203" y="0"/>
                </a:lnTo>
                <a:lnTo>
                  <a:pt x="211" y="0"/>
                </a:lnTo>
                <a:lnTo>
                  <a:pt x="221" y="2"/>
                </a:lnTo>
                <a:lnTo>
                  <a:pt x="228" y="4"/>
                </a:lnTo>
                <a:lnTo>
                  <a:pt x="240" y="8"/>
                </a:lnTo>
                <a:lnTo>
                  <a:pt x="249" y="13"/>
                </a:lnTo>
                <a:lnTo>
                  <a:pt x="259" y="21"/>
                </a:lnTo>
                <a:lnTo>
                  <a:pt x="270" y="29"/>
                </a:lnTo>
                <a:lnTo>
                  <a:pt x="276" y="35"/>
                </a:lnTo>
                <a:lnTo>
                  <a:pt x="282" y="40"/>
                </a:lnTo>
                <a:lnTo>
                  <a:pt x="292" y="52"/>
                </a:lnTo>
                <a:lnTo>
                  <a:pt x="299" y="61"/>
                </a:lnTo>
                <a:lnTo>
                  <a:pt x="305" y="73"/>
                </a:lnTo>
                <a:lnTo>
                  <a:pt x="311" y="84"/>
                </a:lnTo>
                <a:lnTo>
                  <a:pt x="315" y="94"/>
                </a:lnTo>
                <a:lnTo>
                  <a:pt x="318" y="104"/>
                </a:lnTo>
                <a:lnTo>
                  <a:pt x="318" y="111"/>
                </a:lnTo>
                <a:lnTo>
                  <a:pt x="320" y="121"/>
                </a:lnTo>
                <a:lnTo>
                  <a:pt x="318" y="123"/>
                </a:lnTo>
                <a:lnTo>
                  <a:pt x="317" y="127"/>
                </a:lnTo>
                <a:lnTo>
                  <a:pt x="315" y="129"/>
                </a:lnTo>
                <a:lnTo>
                  <a:pt x="313" y="132"/>
                </a:lnTo>
                <a:lnTo>
                  <a:pt x="309" y="136"/>
                </a:lnTo>
                <a:lnTo>
                  <a:pt x="305" y="142"/>
                </a:lnTo>
                <a:lnTo>
                  <a:pt x="301" y="146"/>
                </a:lnTo>
                <a:lnTo>
                  <a:pt x="295" y="150"/>
                </a:lnTo>
                <a:lnTo>
                  <a:pt x="292" y="155"/>
                </a:lnTo>
                <a:lnTo>
                  <a:pt x="286" y="161"/>
                </a:lnTo>
                <a:lnTo>
                  <a:pt x="278" y="165"/>
                </a:lnTo>
                <a:lnTo>
                  <a:pt x="272" y="171"/>
                </a:lnTo>
                <a:lnTo>
                  <a:pt x="265" y="178"/>
                </a:lnTo>
                <a:lnTo>
                  <a:pt x="257" y="184"/>
                </a:lnTo>
                <a:lnTo>
                  <a:pt x="247" y="190"/>
                </a:lnTo>
                <a:lnTo>
                  <a:pt x="240" y="198"/>
                </a:lnTo>
                <a:lnTo>
                  <a:pt x="230" y="205"/>
                </a:lnTo>
                <a:lnTo>
                  <a:pt x="221" y="211"/>
                </a:lnTo>
                <a:lnTo>
                  <a:pt x="209" y="221"/>
                </a:lnTo>
                <a:lnTo>
                  <a:pt x="199" y="228"/>
                </a:lnTo>
                <a:lnTo>
                  <a:pt x="188" y="236"/>
                </a:lnTo>
                <a:lnTo>
                  <a:pt x="176" y="246"/>
                </a:lnTo>
                <a:lnTo>
                  <a:pt x="163" y="253"/>
                </a:lnTo>
                <a:lnTo>
                  <a:pt x="150" y="263"/>
                </a:lnTo>
                <a:lnTo>
                  <a:pt x="136" y="273"/>
                </a:lnTo>
                <a:lnTo>
                  <a:pt x="123" y="284"/>
                </a:lnTo>
                <a:lnTo>
                  <a:pt x="109" y="294"/>
                </a:lnTo>
                <a:lnTo>
                  <a:pt x="94" y="305"/>
                </a:lnTo>
                <a:lnTo>
                  <a:pt x="79" y="315"/>
                </a:lnTo>
                <a:lnTo>
                  <a:pt x="63" y="326"/>
                </a:lnTo>
                <a:lnTo>
                  <a:pt x="46" y="340"/>
                </a:lnTo>
                <a:lnTo>
                  <a:pt x="29" y="351"/>
                </a:lnTo>
                <a:lnTo>
                  <a:pt x="15" y="336"/>
                </a:lnTo>
                <a:lnTo>
                  <a:pt x="0" y="321"/>
                </a:lnTo>
                <a:lnTo>
                  <a:pt x="15" y="303"/>
                </a:lnTo>
                <a:lnTo>
                  <a:pt x="31" y="284"/>
                </a:lnTo>
                <a:lnTo>
                  <a:pt x="46" y="269"/>
                </a:lnTo>
                <a:lnTo>
                  <a:pt x="57" y="253"/>
                </a:lnTo>
                <a:lnTo>
                  <a:pt x="71" y="238"/>
                </a:lnTo>
                <a:lnTo>
                  <a:pt x="82" y="225"/>
                </a:lnTo>
                <a:lnTo>
                  <a:pt x="94" y="211"/>
                </a:lnTo>
                <a:lnTo>
                  <a:pt x="104" y="200"/>
                </a:lnTo>
                <a:lnTo>
                  <a:pt x="111" y="188"/>
                </a:lnTo>
                <a:lnTo>
                  <a:pt x="121" y="177"/>
                </a:lnTo>
                <a:lnTo>
                  <a:pt x="128" y="167"/>
                </a:lnTo>
                <a:lnTo>
                  <a:pt x="134" y="159"/>
                </a:lnTo>
                <a:lnTo>
                  <a:pt x="142" y="150"/>
                </a:lnTo>
                <a:lnTo>
                  <a:pt x="146" y="142"/>
                </a:lnTo>
                <a:lnTo>
                  <a:pt x="152" y="136"/>
                </a:lnTo>
                <a:lnTo>
                  <a:pt x="155" y="13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2576520" y="3265560"/>
            <a:ext cx="304920" cy="255600"/>
          </a:xfrm>
          <a:custGeom>
            <a:avLst/>
            <a:gdLst/>
            <a:ahLst/>
            <a:rect l="l" t="t" r="r" b="b"/>
            <a:pathLst>
              <a:path w="384" h="322">
                <a:moveTo>
                  <a:pt x="0" y="0"/>
                </a:moveTo>
                <a:lnTo>
                  <a:pt x="31" y="10"/>
                </a:lnTo>
                <a:lnTo>
                  <a:pt x="62" y="19"/>
                </a:lnTo>
                <a:lnTo>
                  <a:pt x="91" y="27"/>
                </a:lnTo>
                <a:lnTo>
                  <a:pt x="117" y="36"/>
                </a:lnTo>
                <a:lnTo>
                  <a:pt x="142" y="44"/>
                </a:lnTo>
                <a:lnTo>
                  <a:pt x="167" y="52"/>
                </a:lnTo>
                <a:lnTo>
                  <a:pt x="188" y="60"/>
                </a:lnTo>
                <a:lnTo>
                  <a:pt x="210" y="67"/>
                </a:lnTo>
                <a:lnTo>
                  <a:pt x="229" y="75"/>
                </a:lnTo>
                <a:lnTo>
                  <a:pt x="244" y="83"/>
                </a:lnTo>
                <a:lnTo>
                  <a:pt x="259" y="90"/>
                </a:lnTo>
                <a:lnTo>
                  <a:pt x="273" y="96"/>
                </a:lnTo>
                <a:lnTo>
                  <a:pt x="284" y="102"/>
                </a:lnTo>
                <a:lnTo>
                  <a:pt x="296" y="109"/>
                </a:lnTo>
                <a:lnTo>
                  <a:pt x="304" y="115"/>
                </a:lnTo>
                <a:lnTo>
                  <a:pt x="309" y="121"/>
                </a:lnTo>
                <a:lnTo>
                  <a:pt x="321" y="131"/>
                </a:lnTo>
                <a:lnTo>
                  <a:pt x="330" y="142"/>
                </a:lnTo>
                <a:lnTo>
                  <a:pt x="342" y="152"/>
                </a:lnTo>
                <a:lnTo>
                  <a:pt x="352" y="161"/>
                </a:lnTo>
                <a:lnTo>
                  <a:pt x="359" y="171"/>
                </a:lnTo>
                <a:lnTo>
                  <a:pt x="367" y="180"/>
                </a:lnTo>
                <a:lnTo>
                  <a:pt x="373" y="190"/>
                </a:lnTo>
                <a:lnTo>
                  <a:pt x="376" y="202"/>
                </a:lnTo>
                <a:lnTo>
                  <a:pt x="380" y="211"/>
                </a:lnTo>
                <a:lnTo>
                  <a:pt x="382" y="223"/>
                </a:lnTo>
                <a:lnTo>
                  <a:pt x="384" y="232"/>
                </a:lnTo>
                <a:lnTo>
                  <a:pt x="384" y="242"/>
                </a:lnTo>
                <a:lnTo>
                  <a:pt x="384" y="251"/>
                </a:lnTo>
                <a:lnTo>
                  <a:pt x="382" y="261"/>
                </a:lnTo>
                <a:lnTo>
                  <a:pt x="380" y="271"/>
                </a:lnTo>
                <a:lnTo>
                  <a:pt x="376" y="282"/>
                </a:lnTo>
                <a:lnTo>
                  <a:pt x="373" y="292"/>
                </a:lnTo>
                <a:lnTo>
                  <a:pt x="369" y="301"/>
                </a:lnTo>
                <a:lnTo>
                  <a:pt x="363" y="307"/>
                </a:lnTo>
                <a:lnTo>
                  <a:pt x="357" y="313"/>
                </a:lnTo>
                <a:lnTo>
                  <a:pt x="353" y="317"/>
                </a:lnTo>
                <a:lnTo>
                  <a:pt x="348" y="319"/>
                </a:lnTo>
                <a:lnTo>
                  <a:pt x="342" y="321"/>
                </a:lnTo>
                <a:lnTo>
                  <a:pt x="338" y="322"/>
                </a:lnTo>
                <a:lnTo>
                  <a:pt x="336" y="321"/>
                </a:lnTo>
                <a:lnTo>
                  <a:pt x="334" y="321"/>
                </a:lnTo>
                <a:lnTo>
                  <a:pt x="330" y="319"/>
                </a:lnTo>
                <a:lnTo>
                  <a:pt x="327" y="317"/>
                </a:lnTo>
                <a:lnTo>
                  <a:pt x="323" y="315"/>
                </a:lnTo>
                <a:lnTo>
                  <a:pt x="317" y="313"/>
                </a:lnTo>
                <a:lnTo>
                  <a:pt x="311" y="309"/>
                </a:lnTo>
                <a:lnTo>
                  <a:pt x="305" y="305"/>
                </a:lnTo>
                <a:lnTo>
                  <a:pt x="300" y="301"/>
                </a:lnTo>
                <a:lnTo>
                  <a:pt x="292" y="296"/>
                </a:lnTo>
                <a:lnTo>
                  <a:pt x="284" y="290"/>
                </a:lnTo>
                <a:lnTo>
                  <a:pt x="277" y="284"/>
                </a:lnTo>
                <a:lnTo>
                  <a:pt x="267" y="276"/>
                </a:lnTo>
                <a:lnTo>
                  <a:pt x="258" y="271"/>
                </a:lnTo>
                <a:lnTo>
                  <a:pt x="248" y="263"/>
                </a:lnTo>
                <a:lnTo>
                  <a:pt x="238" y="255"/>
                </a:lnTo>
                <a:lnTo>
                  <a:pt x="227" y="246"/>
                </a:lnTo>
                <a:lnTo>
                  <a:pt x="215" y="236"/>
                </a:lnTo>
                <a:lnTo>
                  <a:pt x="204" y="226"/>
                </a:lnTo>
                <a:lnTo>
                  <a:pt x="190" y="217"/>
                </a:lnTo>
                <a:lnTo>
                  <a:pt x="177" y="205"/>
                </a:lnTo>
                <a:lnTo>
                  <a:pt x="163" y="194"/>
                </a:lnTo>
                <a:lnTo>
                  <a:pt x="150" y="182"/>
                </a:lnTo>
                <a:lnTo>
                  <a:pt x="135" y="169"/>
                </a:lnTo>
                <a:lnTo>
                  <a:pt x="119" y="157"/>
                </a:lnTo>
                <a:lnTo>
                  <a:pt x="104" y="142"/>
                </a:lnTo>
                <a:lnTo>
                  <a:pt x="89" y="129"/>
                </a:lnTo>
                <a:lnTo>
                  <a:pt x="71" y="113"/>
                </a:lnTo>
                <a:lnTo>
                  <a:pt x="54" y="100"/>
                </a:lnTo>
                <a:lnTo>
                  <a:pt x="37" y="83"/>
                </a:lnTo>
                <a:lnTo>
                  <a:pt x="18" y="67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4648320" y="1523880"/>
            <a:ext cx="2819160" cy="1150920"/>
            <a:chOff x="4648320" y="1523880"/>
            <a:chExt cx="2819160" cy="1150920"/>
          </a:xfrm>
        </p:grpSpPr>
        <p:sp>
          <p:nvSpPr>
            <p:cNvPr id="483" name="Text Box 30"/>
            <p:cNvSpPr/>
            <p:nvPr/>
          </p:nvSpPr>
          <p:spPr>
            <a:xfrm>
              <a:off x="4648320" y="175248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衣字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31"/>
            <p:cNvGrpSpPr/>
            <p:nvPr/>
          </p:nvGrpSpPr>
          <p:grpSpPr>
            <a:xfrm>
              <a:off x="6400800" y="1523880"/>
              <a:ext cx="644400" cy="1150920"/>
              <a:chOff x="6400800" y="1523880"/>
              <a:chExt cx="644400" cy="1150920"/>
            </a:xfrm>
          </p:grpSpPr>
          <p:sp>
            <p:nvSpPr>
              <p:cNvPr id="485" name="AutoShape 32"/>
              <p:cNvSpPr/>
              <p:nvPr/>
            </p:nvSpPr>
            <p:spPr>
              <a:xfrm>
                <a:off x="6738840" y="1523880"/>
                <a:ext cx="212760" cy="149400"/>
              </a:xfrm>
              <a:custGeom>
                <a:avLst/>
                <a:gdLst/>
                <a:ahLst/>
                <a:rect l="l" t="t" r="r" b="b"/>
                <a:pathLst>
                  <a:path w="382" h="267">
                    <a:moveTo>
                      <a:pt x="9" y="19"/>
                    </a:moveTo>
                    <a:lnTo>
                      <a:pt x="15" y="16"/>
                    </a:lnTo>
                    <a:lnTo>
                      <a:pt x="21" y="12"/>
                    </a:lnTo>
                    <a:lnTo>
                      <a:pt x="28" y="8"/>
                    </a:lnTo>
                    <a:lnTo>
                      <a:pt x="38" y="6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80" y="0"/>
                    </a:lnTo>
                    <a:lnTo>
                      <a:pt x="98" y="0"/>
                    </a:lnTo>
                    <a:lnTo>
                      <a:pt x="126" y="0"/>
                    </a:lnTo>
                    <a:lnTo>
                      <a:pt x="142" y="0"/>
                    </a:lnTo>
                    <a:lnTo>
                      <a:pt x="157" y="0"/>
                    </a:lnTo>
                    <a:lnTo>
                      <a:pt x="172" y="2"/>
                    </a:lnTo>
                    <a:lnTo>
                      <a:pt x="188" y="4"/>
                    </a:lnTo>
                    <a:lnTo>
                      <a:pt x="205" y="6"/>
                    </a:lnTo>
                    <a:lnTo>
                      <a:pt x="222" y="10"/>
                    </a:lnTo>
                    <a:lnTo>
                      <a:pt x="238" y="14"/>
                    </a:lnTo>
                    <a:lnTo>
                      <a:pt x="251" y="19"/>
                    </a:lnTo>
                    <a:lnTo>
                      <a:pt x="263" y="25"/>
                    </a:lnTo>
                    <a:lnTo>
                      <a:pt x="274" y="31"/>
                    </a:lnTo>
                    <a:lnTo>
                      <a:pt x="286" y="41"/>
                    </a:lnTo>
                    <a:lnTo>
                      <a:pt x="297" y="48"/>
                    </a:lnTo>
                    <a:lnTo>
                      <a:pt x="309" y="58"/>
                    </a:lnTo>
                    <a:lnTo>
                      <a:pt x="320" y="69"/>
                    </a:lnTo>
                    <a:lnTo>
                      <a:pt x="330" y="81"/>
                    </a:lnTo>
                    <a:lnTo>
                      <a:pt x="339" y="92"/>
                    </a:lnTo>
                    <a:lnTo>
                      <a:pt x="349" y="104"/>
                    </a:lnTo>
                    <a:lnTo>
                      <a:pt x="357" y="115"/>
                    </a:lnTo>
                    <a:lnTo>
                      <a:pt x="362" y="129"/>
                    </a:lnTo>
                    <a:lnTo>
                      <a:pt x="368" y="142"/>
                    </a:lnTo>
                    <a:lnTo>
                      <a:pt x="374" y="156"/>
                    </a:lnTo>
                    <a:lnTo>
                      <a:pt x="378" y="171"/>
                    </a:lnTo>
                    <a:lnTo>
                      <a:pt x="380" y="188"/>
                    </a:lnTo>
                    <a:lnTo>
                      <a:pt x="382" y="204"/>
                    </a:lnTo>
                    <a:lnTo>
                      <a:pt x="382" y="219"/>
                    </a:lnTo>
                    <a:lnTo>
                      <a:pt x="380" y="231"/>
                    </a:lnTo>
                    <a:lnTo>
                      <a:pt x="378" y="240"/>
                    </a:lnTo>
                    <a:lnTo>
                      <a:pt x="374" y="250"/>
                    </a:lnTo>
                    <a:lnTo>
                      <a:pt x="372" y="256"/>
                    </a:lnTo>
                    <a:lnTo>
                      <a:pt x="368" y="261"/>
                    </a:lnTo>
                    <a:lnTo>
                      <a:pt x="364" y="263"/>
                    </a:lnTo>
                    <a:lnTo>
                      <a:pt x="359" y="267"/>
                    </a:lnTo>
                    <a:lnTo>
                      <a:pt x="353" y="267"/>
                    </a:lnTo>
                    <a:lnTo>
                      <a:pt x="345" y="267"/>
                    </a:lnTo>
                    <a:lnTo>
                      <a:pt x="336" y="265"/>
                    </a:lnTo>
                    <a:lnTo>
                      <a:pt x="326" y="263"/>
                    </a:lnTo>
                    <a:lnTo>
                      <a:pt x="316" y="259"/>
                    </a:lnTo>
                    <a:lnTo>
                      <a:pt x="303" y="256"/>
                    </a:lnTo>
                    <a:lnTo>
                      <a:pt x="291" y="250"/>
                    </a:lnTo>
                    <a:lnTo>
                      <a:pt x="278" y="242"/>
                    </a:lnTo>
                    <a:lnTo>
                      <a:pt x="263" y="234"/>
                    </a:lnTo>
                    <a:lnTo>
                      <a:pt x="247" y="227"/>
                    </a:lnTo>
                    <a:lnTo>
                      <a:pt x="230" y="215"/>
                    </a:lnTo>
                    <a:lnTo>
                      <a:pt x="213" y="206"/>
                    </a:lnTo>
                    <a:lnTo>
                      <a:pt x="194" y="192"/>
                    </a:lnTo>
                    <a:lnTo>
                      <a:pt x="174" y="181"/>
                    </a:lnTo>
                    <a:lnTo>
                      <a:pt x="153" y="167"/>
                    </a:lnTo>
                    <a:lnTo>
                      <a:pt x="134" y="154"/>
                    </a:lnTo>
                    <a:lnTo>
                      <a:pt x="115" y="142"/>
                    </a:lnTo>
                    <a:lnTo>
                      <a:pt x="98" y="131"/>
                    </a:lnTo>
                    <a:lnTo>
                      <a:pt x="82" y="121"/>
                    </a:lnTo>
                    <a:lnTo>
                      <a:pt x="69" y="110"/>
                    </a:lnTo>
                    <a:lnTo>
                      <a:pt x="55" y="100"/>
                    </a:lnTo>
                    <a:lnTo>
                      <a:pt x="44" y="92"/>
                    </a:lnTo>
                    <a:lnTo>
                      <a:pt x="34" y="85"/>
                    </a:lnTo>
                    <a:lnTo>
                      <a:pt x="25" y="77"/>
                    </a:lnTo>
                    <a:lnTo>
                      <a:pt x="17" y="69"/>
                    </a:lnTo>
                    <a:lnTo>
                      <a:pt x="11" y="64"/>
                    </a:lnTo>
                    <a:lnTo>
                      <a:pt x="5" y="60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2" y="35"/>
                    </a:lnTo>
                    <a:lnTo>
                      <a:pt x="2" y="31"/>
                    </a:lnTo>
                    <a:lnTo>
                      <a:pt x="4" y="27"/>
                    </a:lnTo>
                    <a:lnTo>
                      <a:pt x="7" y="23"/>
                    </a:lnTo>
                    <a:lnTo>
                      <a:pt x="9" y="1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33"/>
              <p:cNvSpPr/>
              <p:nvPr/>
            </p:nvSpPr>
            <p:spPr>
              <a:xfrm>
                <a:off x="6400800" y="1797120"/>
                <a:ext cx="554040" cy="627120"/>
              </a:xfrm>
              <a:custGeom>
                <a:avLst/>
                <a:gdLst/>
                <a:ahLst/>
                <a:rect l="l" t="t" r="r" b="b"/>
                <a:pathLst>
                  <a:path w="998" h="1128">
                    <a:moveTo>
                      <a:pt x="766" y="40"/>
                    </a:moveTo>
                    <a:lnTo>
                      <a:pt x="772" y="34"/>
                    </a:lnTo>
                    <a:lnTo>
                      <a:pt x="778" y="30"/>
                    </a:lnTo>
                    <a:lnTo>
                      <a:pt x="787" y="21"/>
                    </a:lnTo>
                    <a:lnTo>
                      <a:pt x="797" y="15"/>
                    </a:lnTo>
                    <a:lnTo>
                      <a:pt x="806" y="9"/>
                    </a:lnTo>
                    <a:lnTo>
                      <a:pt x="816" y="5"/>
                    </a:lnTo>
                    <a:lnTo>
                      <a:pt x="824" y="2"/>
                    </a:lnTo>
                    <a:lnTo>
                      <a:pt x="829" y="2"/>
                    </a:lnTo>
                    <a:lnTo>
                      <a:pt x="833" y="0"/>
                    </a:lnTo>
                    <a:lnTo>
                      <a:pt x="835" y="0"/>
                    </a:lnTo>
                    <a:lnTo>
                      <a:pt x="839" y="2"/>
                    </a:lnTo>
                    <a:lnTo>
                      <a:pt x="843" y="2"/>
                    </a:lnTo>
                    <a:lnTo>
                      <a:pt x="847" y="2"/>
                    </a:lnTo>
                    <a:lnTo>
                      <a:pt x="851" y="3"/>
                    </a:lnTo>
                    <a:lnTo>
                      <a:pt x="856" y="5"/>
                    </a:lnTo>
                    <a:lnTo>
                      <a:pt x="862" y="7"/>
                    </a:lnTo>
                    <a:lnTo>
                      <a:pt x="868" y="9"/>
                    </a:lnTo>
                    <a:lnTo>
                      <a:pt x="881" y="15"/>
                    </a:lnTo>
                    <a:lnTo>
                      <a:pt x="897" y="21"/>
                    </a:lnTo>
                    <a:lnTo>
                      <a:pt x="914" y="30"/>
                    </a:lnTo>
                    <a:lnTo>
                      <a:pt x="922" y="34"/>
                    </a:lnTo>
                    <a:lnTo>
                      <a:pt x="931" y="40"/>
                    </a:lnTo>
                    <a:lnTo>
                      <a:pt x="939" y="46"/>
                    </a:lnTo>
                    <a:lnTo>
                      <a:pt x="947" y="51"/>
                    </a:lnTo>
                    <a:lnTo>
                      <a:pt x="954" y="57"/>
                    </a:lnTo>
                    <a:lnTo>
                      <a:pt x="962" y="63"/>
                    </a:lnTo>
                    <a:lnTo>
                      <a:pt x="968" y="69"/>
                    </a:lnTo>
                    <a:lnTo>
                      <a:pt x="973" y="73"/>
                    </a:lnTo>
                    <a:lnTo>
                      <a:pt x="977" y="78"/>
                    </a:lnTo>
                    <a:lnTo>
                      <a:pt x="983" y="84"/>
                    </a:lnTo>
                    <a:lnTo>
                      <a:pt x="987" y="88"/>
                    </a:lnTo>
                    <a:lnTo>
                      <a:pt x="989" y="92"/>
                    </a:lnTo>
                    <a:lnTo>
                      <a:pt x="993" y="96"/>
                    </a:lnTo>
                    <a:lnTo>
                      <a:pt x="995" y="99"/>
                    </a:lnTo>
                    <a:lnTo>
                      <a:pt x="996" y="103"/>
                    </a:lnTo>
                    <a:lnTo>
                      <a:pt x="996" y="105"/>
                    </a:lnTo>
                    <a:lnTo>
                      <a:pt x="998" y="109"/>
                    </a:lnTo>
                    <a:lnTo>
                      <a:pt x="998" y="111"/>
                    </a:lnTo>
                    <a:lnTo>
                      <a:pt x="996" y="115"/>
                    </a:lnTo>
                    <a:lnTo>
                      <a:pt x="995" y="120"/>
                    </a:lnTo>
                    <a:lnTo>
                      <a:pt x="991" y="126"/>
                    </a:lnTo>
                    <a:lnTo>
                      <a:pt x="985" y="134"/>
                    </a:lnTo>
                    <a:lnTo>
                      <a:pt x="977" y="142"/>
                    </a:lnTo>
                    <a:lnTo>
                      <a:pt x="970" y="151"/>
                    </a:lnTo>
                    <a:lnTo>
                      <a:pt x="960" y="161"/>
                    </a:lnTo>
                    <a:lnTo>
                      <a:pt x="950" y="170"/>
                    </a:lnTo>
                    <a:lnTo>
                      <a:pt x="935" y="184"/>
                    </a:lnTo>
                    <a:lnTo>
                      <a:pt x="922" y="195"/>
                    </a:lnTo>
                    <a:lnTo>
                      <a:pt x="906" y="209"/>
                    </a:lnTo>
                    <a:lnTo>
                      <a:pt x="893" y="224"/>
                    </a:lnTo>
                    <a:lnTo>
                      <a:pt x="879" y="239"/>
                    </a:lnTo>
                    <a:lnTo>
                      <a:pt x="866" y="257"/>
                    </a:lnTo>
                    <a:lnTo>
                      <a:pt x="854" y="274"/>
                    </a:lnTo>
                    <a:lnTo>
                      <a:pt x="843" y="291"/>
                    </a:lnTo>
                    <a:lnTo>
                      <a:pt x="837" y="301"/>
                    </a:lnTo>
                    <a:lnTo>
                      <a:pt x="831" y="310"/>
                    </a:lnTo>
                    <a:lnTo>
                      <a:pt x="818" y="332"/>
                    </a:lnTo>
                    <a:lnTo>
                      <a:pt x="803" y="353"/>
                    </a:lnTo>
                    <a:lnTo>
                      <a:pt x="787" y="378"/>
                    </a:lnTo>
                    <a:lnTo>
                      <a:pt x="778" y="389"/>
                    </a:lnTo>
                    <a:lnTo>
                      <a:pt x="768" y="403"/>
                    </a:lnTo>
                    <a:lnTo>
                      <a:pt x="758" y="416"/>
                    </a:lnTo>
                    <a:lnTo>
                      <a:pt x="749" y="429"/>
                    </a:lnTo>
                    <a:lnTo>
                      <a:pt x="739" y="445"/>
                    </a:lnTo>
                    <a:lnTo>
                      <a:pt x="730" y="460"/>
                    </a:lnTo>
                    <a:lnTo>
                      <a:pt x="718" y="476"/>
                    </a:lnTo>
                    <a:lnTo>
                      <a:pt x="709" y="493"/>
                    </a:lnTo>
                    <a:lnTo>
                      <a:pt x="695" y="510"/>
                    </a:lnTo>
                    <a:lnTo>
                      <a:pt x="682" y="527"/>
                    </a:lnTo>
                    <a:lnTo>
                      <a:pt x="668" y="547"/>
                    </a:lnTo>
                    <a:lnTo>
                      <a:pt x="653" y="564"/>
                    </a:lnTo>
                    <a:lnTo>
                      <a:pt x="639" y="583"/>
                    </a:lnTo>
                    <a:lnTo>
                      <a:pt x="624" y="602"/>
                    </a:lnTo>
                    <a:lnTo>
                      <a:pt x="607" y="621"/>
                    </a:lnTo>
                    <a:lnTo>
                      <a:pt x="592" y="642"/>
                    </a:lnTo>
                    <a:lnTo>
                      <a:pt x="574" y="664"/>
                    </a:lnTo>
                    <a:lnTo>
                      <a:pt x="555" y="683"/>
                    </a:lnTo>
                    <a:lnTo>
                      <a:pt x="538" y="704"/>
                    </a:lnTo>
                    <a:lnTo>
                      <a:pt x="519" y="725"/>
                    </a:lnTo>
                    <a:lnTo>
                      <a:pt x="499" y="748"/>
                    </a:lnTo>
                    <a:lnTo>
                      <a:pt x="478" y="769"/>
                    </a:lnTo>
                    <a:lnTo>
                      <a:pt x="459" y="792"/>
                    </a:lnTo>
                    <a:lnTo>
                      <a:pt x="438" y="815"/>
                    </a:lnTo>
                    <a:lnTo>
                      <a:pt x="415" y="838"/>
                    </a:lnTo>
                    <a:lnTo>
                      <a:pt x="392" y="861"/>
                    </a:lnTo>
                    <a:lnTo>
                      <a:pt x="369" y="884"/>
                    </a:lnTo>
                    <a:lnTo>
                      <a:pt x="348" y="903"/>
                    </a:lnTo>
                    <a:lnTo>
                      <a:pt x="329" y="923"/>
                    </a:lnTo>
                    <a:lnTo>
                      <a:pt x="307" y="942"/>
                    </a:lnTo>
                    <a:lnTo>
                      <a:pt x="288" y="959"/>
                    </a:lnTo>
                    <a:lnTo>
                      <a:pt x="269" y="975"/>
                    </a:lnTo>
                    <a:lnTo>
                      <a:pt x="252" y="990"/>
                    </a:lnTo>
                    <a:lnTo>
                      <a:pt x="233" y="1003"/>
                    </a:lnTo>
                    <a:lnTo>
                      <a:pt x="215" y="1017"/>
                    </a:lnTo>
                    <a:lnTo>
                      <a:pt x="198" y="1028"/>
                    </a:lnTo>
                    <a:lnTo>
                      <a:pt x="183" y="1040"/>
                    </a:lnTo>
                    <a:lnTo>
                      <a:pt x="167" y="1049"/>
                    </a:lnTo>
                    <a:lnTo>
                      <a:pt x="152" y="1059"/>
                    </a:lnTo>
                    <a:lnTo>
                      <a:pt x="137" y="1067"/>
                    </a:lnTo>
                    <a:lnTo>
                      <a:pt x="121" y="1076"/>
                    </a:lnTo>
                    <a:lnTo>
                      <a:pt x="106" y="1084"/>
                    </a:lnTo>
                    <a:lnTo>
                      <a:pt x="93" y="1092"/>
                    </a:lnTo>
                    <a:lnTo>
                      <a:pt x="81" y="1099"/>
                    </a:lnTo>
                    <a:lnTo>
                      <a:pt x="70" y="1105"/>
                    </a:lnTo>
                    <a:lnTo>
                      <a:pt x="58" y="1111"/>
                    </a:lnTo>
                    <a:lnTo>
                      <a:pt x="48" y="1115"/>
                    </a:lnTo>
                    <a:lnTo>
                      <a:pt x="41" y="1118"/>
                    </a:lnTo>
                    <a:lnTo>
                      <a:pt x="33" y="1122"/>
                    </a:lnTo>
                    <a:lnTo>
                      <a:pt x="25" y="1126"/>
                    </a:lnTo>
                    <a:lnTo>
                      <a:pt x="20" y="1128"/>
                    </a:lnTo>
                    <a:lnTo>
                      <a:pt x="14" y="1128"/>
                    </a:lnTo>
                    <a:lnTo>
                      <a:pt x="10" y="1128"/>
                    </a:lnTo>
                    <a:lnTo>
                      <a:pt x="6" y="1128"/>
                    </a:lnTo>
                    <a:lnTo>
                      <a:pt x="4" y="1128"/>
                    </a:lnTo>
                    <a:lnTo>
                      <a:pt x="2" y="1126"/>
                    </a:lnTo>
                    <a:lnTo>
                      <a:pt x="0" y="1124"/>
                    </a:lnTo>
                    <a:lnTo>
                      <a:pt x="2" y="1120"/>
                    </a:lnTo>
                    <a:lnTo>
                      <a:pt x="4" y="1115"/>
                    </a:lnTo>
                    <a:lnTo>
                      <a:pt x="10" y="1107"/>
                    </a:lnTo>
                    <a:lnTo>
                      <a:pt x="16" y="1099"/>
                    </a:lnTo>
                    <a:lnTo>
                      <a:pt x="23" y="1090"/>
                    </a:lnTo>
                    <a:lnTo>
                      <a:pt x="33" y="1078"/>
                    </a:lnTo>
                    <a:lnTo>
                      <a:pt x="46" y="1065"/>
                    </a:lnTo>
                    <a:lnTo>
                      <a:pt x="60" y="1051"/>
                    </a:lnTo>
                    <a:lnTo>
                      <a:pt x="75" y="1036"/>
                    </a:lnTo>
                    <a:lnTo>
                      <a:pt x="93" y="1017"/>
                    </a:lnTo>
                    <a:lnTo>
                      <a:pt x="112" y="998"/>
                    </a:lnTo>
                    <a:lnTo>
                      <a:pt x="133" y="978"/>
                    </a:lnTo>
                    <a:lnTo>
                      <a:pt x="154" y="955"/>
                    </a:lnTo>
                    <a:lnTo>
                      <a:pt x="179" y="930"/>
                    </a:lnTo>
                    <a:lnTo>
                      <a:pt x="206" y="905"/>
                    </a:lnTo>
                    <a:lnTo>
                      <a:pt x="256" y="856"/>
                    </a:lnTo>
                    <a:lnTo>
                      <a:pt x="304" y="804"/>
                    </a:lnTo>
                    <a:lnTo>
                      <a:pt x="352" y="750"/>
                    </a:lnTo>
                    <a:lnTo>
                      <a:pt x="400" y="694"/>
                    </a:lnTo>
                    <a:lnTo>
                      <a:pt x="446" y="639"/>
                    </a:lnTo>
                    <a:lnTo>
                      <a:pt x="490" y="581"/>
                    </a:lnTo>
                    <a:lnTo>
                      <a:pt x="511" y="552"/>
                    </a:lnTo>
                    <a:lnTo>
                      <a:pt x="532" y="524"/>
                    </a:lnTo>
                    <a:lnTo>
                      <a:pt x="553" y="493"/>
                    </a:lnTo>
                    <a:lnTo>
                      <a:pt x="572" y="462"/>
                    </a:lnTo>
                    <a:lnTo>
                      <a:pt x="592" y="433"/>
                    </a:lnTo>
                    <a:lnTo>
                      <a:pt x="609" y="405"/>
                    </a:lnTo>
                    <a:lnTo>
                      <a:pt x="626" y="380"/>
                    </a:lnTo>
                    <a:lnTo>
                      <a:pt x="641" y="355"/>
                    </a:lnTo>
                    <a:lnTo>
                      <a:pt x="655" y="332"/>
                    </a:lnTo>
                    <a:lnTo>
                      <a:pt x="666" y="312"/>
                    </a:lnTo>
                    <a:lnTo>
                      <a:pt x="678" y="293"/>
                    </a:lnTo>
                    <a:lnTo>
                      <a:pt x="687" y="276"/>
                    </a:lnTo>
                    <a:lnTo>
                      <a:pt x="697" y="259"/>
                    </a:lnTo>
                    <a:lnTo>
                      <a:pt x="703" y="245"/>
                    </a:lnTo>
                    <a:lnTo>
                      <a:pt x="709" y="234"/>
                    </a:lnTo>
                    <a:lnTo>
                      <a:pt x="714" y="224"/>
                    </a:lnTo>
                    <a:lnTo>
                      <a:pt x="716" y="215"/>
                    </a:lnTo>
                    <a:lnTo>
                      <a:pt x="718" y="209"/>
                    </a:lnTo>
                    <a:lnTo>
                      <a:pt x="718" y="205"/>
                    </a:lnTo>
                    <a:lnTo>
                      <a:pt x="718" y="201"/>
                    </a:lnTo>
                    <a:lnTo>
                      <a:pt x="714" y="199"/>
                    </a:lnTo>
                    <a:lnTo>
                      <a:pt x="710" y="199"/>
                    </a:lnTo>
                    <a:lnTo>
                      <a:pt x="707" y="199"/>
                    </a:lnTo>
                    <a:lnTo>
                      <a:pt x="699" y="199"/>
                    </a:lnTo>
                    <a:lnTo>
                      <a:pt x="691" y="199"/>
                    </a:lnTo>
                    <a:lnTo>
                      <a:pt x="682" y="201"/>
                    </a:lnTo>
                    <a:lnTo>
                      <a:pt x="672" y="205"/>
                    </a:lnTo>
                    <a:lnTo>
                      <a:pt x="659" y="207"/>
                    </a:lnTo>
                    <a:lnTo>
                      <a:pt x="645" y="211"/>
                    </a:lnTo>
                    <a:lnTo>
                      <a:pt x="632" y="215"/>
                    </a:lnTo>
                    <a:lnTo>
                      <a:pt x="615" y="220"/>
                    </a:lnTo>
                    <a:lnTo>
                      <a:pt x="597" y="224"/>
                    </a:lnTo>
                    <a:lnTo>
                      <a:pt x="580" y="230"/>
                    </a:lnTo>
                    <a:lnTo>
                      <a:pt x="559" y="238"/>
                    </a:lnTo>
                    <a:lnTo>
                      <a:pt x="538" y="243"/>
                    </a:lnTo>
                    <a:lnTo>
                      <a:pt x="515" y="251"/>
                    </a:lnTo>
                    <a:lnTo>
                      <a:pt x="492" y="261"/>
                    </a:lnTo>
                    <a:lnTo>
                      <a:pt x="471" y="268"/>
                    </a:lnTo>
                    <a:lnTo>
                      <a:pt x="449" y="278"/>
                    </a:lnTo>
                    <a:lnTo>
                      <a:pt x="430" y="284"/>
                    </a:lnTo>
                    <a:lnTo>
                      <a:pt x="411" y="291"/>
                    </a:lnTo>
                    <a:lnTo>
                      <a:pt x="394" y="297"/>
                    </a:lnTo>
                    <a:lnTo>
                      <a:pt x="377" y="301"/>
                    </a:lnTo>
                    <a:lnTo>
                      <a:pt x="361" y="307"/>
                    </a:lnTo>
                    <a:lnTo>
                      <a:pt x="348" y="310"/>
                    </a:lnTo>
                    <a:lnTo>
                      <a:pt x="336" y="312"/>
                    </a:lnTo>
                    <a:lnTo>
                      <a:pt x="323" y="316"/>
                    </a:lnTo>
                    <a:lnTo>
                      <a:pt x="313" y="318"/>
                    </a:lnTo>
                    <a:lnTo>
                      <a:pt x="304" y="320"/>
                    </a:lnTo>
                    <a:lnTo>
                      <a:pt x="296" y="320"/>
                    </a:lnTo>
                    <a:lnTo>
                      <a:pt x="288" y="322"/>
                    </a:lnTo>
                    <a:lnTo>
                      <a:pt x="283" y="322"/>
                    </a:lnTo>
                    <a:lnTo>
                      <a:pt x="271" y="324"/>
                    </a:lnTo>
                    <a:lnTo>
                      <a:pt x="260" y="326"/>
                    </a:lnTo>
                    <a:lnTo>
                      <a:pt x="246" y="326"/>
                    </a:lnTo>
                    <a:lnTo>
                      <a:pt x="235" y="324"/>
                    </a:lnTo>
                    <a:lnTo>
                      <a:pt x="221" y="320"/>
                    </a:lnTo>
                    <a:lnTo>
                      <a:pt x="208" y="314"/>
                    </a:lnTo>
                    <a:lnTo>
                      <a:pt x="196" y="309"/>
                    </a:lnTo>
                    <a:lnTo>
                      <a:pt x="185" y="301"/>
                    </a:lnTo>
                    <a:lnTo>
                      <a:pt x="171" y="297"/>
                    </a:lnTo>
                    <a:lnTo>
                      <a:pt x="160" y="291"/>
                    </a:lnTo>
                    <a:lnTo>
                      <a:pt x="150" y="286"/>
                    </a:lnTo>
                    <a:lnTo>
                      <a:pt x="141" y="280"/>
                    </a:lnTo>
                    <a:lnTo>
                      <a:pt x="133" y="270"/>
                    </a:lnTo>
                    <a:lnTo>
                      <a:pt x="127" y="263"/>
                    </a:lnTo>
                    <a:lnTo>
                      <a:pt x="121" y="253"/>
                    </a:lnTo>
                    <a:lnTo>
                      <a:pt x="117" y="241"/>
                    </a:lnTo>
                    <a:lnTo>
                      <a:pt x="116" y="236"/>
                    </a:lnTo>
                    <a:lnTo>
                      <a:pt x="116" y="232"/>
                    </a:lnTo>
                    <a:lnTo>
                      <a:pt x="116" y="226"/>
                    </a:lnTo>
                    <a:lnTo>
                      <a:pt x="117" y="222"/>
                    </a:lnTo>
                    <a:lnTo>
                      <a:pt x="119" y="218"/>
                    </a:lnTo>
                    <a:lnTo>
                      <a:pt x="123" y="215"/>
                    </a:lnTo>
                    <a:lnTo>
                      <a:pt x="129" y="213"/>
                    </a:lnTo>
                    <a:lnTo>
                      <a:pt x="133" y="211"/>
                    </a:lnTo>
                    <a:lnTo>
                      <a:pt x="141" y="207"/>
                    </a:lnTo>
                    <a:lnTo>
                      <a:pt x="148" y="207"/>
                    </a:lnTo>
                    <a:lnTo>
                      <a:pt x="156" y="205"/>
                    </a:lnTo>
                    <a:lnTo>
                      <a:pt x="165" y="203"/>
                    </a:lnTo>
                    <a:lnTo>
                      <a:pt x="175" y="203"/>
                    </a:lnTo>
                    <a:lnTo>
                      <a:pt x="189" y="201"/>
                    </a:lnTo>
                    <a:lnTo>
                      <a:pt x="200" y="201"/>
                    </a:lnTo>
                    <a:lnTo>
                      <a:pt x="215" y="201"/>
                    </a:lnTo>
                    <a:lnTo>
                      <a:pt x="229" y="201"/>
                    </a:lnTo>
                    <a:lnTo>
                      <a:pt x="244" y="201"/>
                    </a:lnTo>
                    <a:lnTo>
                      <a:pt x="261" y="199"/>
                    </a:lnTo>
                    <a:lnTo>
                      <a:pt x="279" y="197"/>
                    </a:lnTo>
                    <a:lnTo>
                      <a:pt x="296" y="195"/>
                    </a:lnTo>
                    <a:lnTo>
                      <a:pt x="313" y="193"/>
                    </a:lnTo>
                    <a:lnTo>
                      <a:pt x="332" y="190"/>
                    </a:lnTo>
                    <a:lnTo>
                      <a:pt x="352" y="186"/>
                    </a:lnTo>
                    <a:lnTo>
                      <a:pt x="373" y="182"/>
                    </a:lnTo>
                    <a:lnTo>
                      <a:pt x="394" y="178"/>
                    </a:lnTo>
                    <a:lnTo>
                      <a:pt x="415" y="172"/>
                    </a:lnTo>
                    <a:lnTo>
                      <a:pt x="438" y="168"/>
                    </a:lnTo>
                    <a:lnTo>
                      <a:pt x="461" y="161"/>
                    </a:lnTo>
                    <a:lnTo>
                      <a:pt x="484" y="155"/>
                    </a:lnTo>
                    <a:lnTo>
                      <a:pt x="509" y="149"/>
                    </a:lnTo>
                    <a:lnTo>
                      <a:pt x="534" y="142"/>
                    </a:lnTo>
                    <a:lnTo>
                      <a:pt x="557" y="134"/>
                    </a:lnTo>
                    <a:lnTo>
                      <a:pt x="578" y="126"/>
                    </a:lnTo>
                    <a:lnTo>
                      <a:pt x="599" y="119"/>
                    </a:lnTo>
                    <a:lnTo>
                      <a:pt x="618" y="113"/>
                    </a:lnTo>
                    <a:lnTo>
                      <a:pt x="638" y="105"/>
                    </a:lnTo>
                    <a:lnTo>
                      <a:pt x="655" y="99"/>
                    </a:lnTo>
                    <a:lnTo>
                      <a:pt x="672" y="94"/>
                    </a:lnTo>
                    <a:lnTo>
                      <a:pt x="686" y="86"/>
                    </a:lnTo>
                    <a:lnTo>
                      <a:pt x="701" y="80"/>
                    </a:lnTo>
                    <a:lnTo>
                      <a:pt x="712" y="74"/>
                    </a:lnTo>
                    <a:lnTo>
                      <a:pt x="724" y="69"/>
                    </a:lnTo>
                    <a:lnTo>
                      <a:pt x="735" y="63"/>
                    </a:lnTo>
                    <a:lnTo>
                      <a:pt x="745" y="57"/>
                    </a:lnTo>
                    <a:lnTo>
                      <a:pt x="753" y="51"/>
                    </a:lnTo>
                    <a:lnTo>
                      <a:pt x="760" y="46"/>
                    </a:lnTo>
                    <a:lnTo>
                      <a:pt x="766" y="40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34"/>
              <p:cNvSpPr/>
              <p:nvPr/>
            </p:nvSpPr>
            <p:spPr>
              <a:xfrm>
                <a:off x="6738840" y="2070000"/>
                <a:ext cx="95400" cy="604800"/>
              </a:xfrm>
              <a:custGeom>
                <a:avLst/>
                <a:gdLst/>
                <a:ahLst/>
                <a:rect l="l" t="t" r="r" b="b"/>
                <a:pathLst>
                  <a:path w="172" h="1086">
                    <a:moveTo>
                      <a:pt x="19" y="764"/>
                    </a:moveTo>
                    <a:lnTo>
                      <a:pt x="21" y="754"/>
                    </a:lnTo>
                    <a:lnTo>
                      <a:pt x="23" y="743"/>
                    </a:lnTo>
                    <a:lnTo>
                      <a:pt x="27" y="729"/>
                    </a:lnTo>
                    <a:lnTo>
                      <a:pt x="28" y="716"/>
                    </a:lnTo>
                    <a:lnTo>
                      <a:pt x="30" y="700"/>
                    </a:lnTo>
                    <a:lnTo>
                      <a:pt x="34" y="683"/>
                    </a:lnTo>
                    <a:lnTo>
                      <a:pt x="36" y="666"/>
                    </a:lnTo>
                    <a:lnTo>
                      <a:pt x="38" y="647"/>
                    </a:lnTo>
                    <a:lnTo>
                      <a:pt x="42" y="625"/>
                    </a:lnTo>
                    <a:lnTo>
                      <a:pt x="44" y="604"/>
                    </a:lnTo>
                    <a:lnTo>
                      <a:pt x="48" y="581"/>
                    </a:lnTo>
                    <a:lnTo>
                      <a:pt x="50" y="558"/>
                    </a:lnTo>
                    <a:lnTo>
                      <a:pt x="52" y="533"/>
                    </a:lnTo>
                    <a:lnTo>
                      <a:pt x="53" y="506"/>
                    </a:lnTo>
                    <a:lnTo>
                      <a:pt x="57" y="480"/>
                    </a:lnTo>
                    <a:lnTo>
                      <a:pt x="59" y="453"/>
                    </a:lnTo>
                    <a:lnTo>
                      <a:pt x="59" y="424"/>
                    </a:lnTo>
                    <a:lnTo>
                      <a:pt x="61" y="397"/>
                    </a:lnTo>
                    <a:lnTo>
                      <a:pt x="61" y="372"/>
                    </a:lnTo>
                    <a:lnTo>
                      <a:pt x="63" y="347"/>
                    </a:lnTo>
                    <a:lnTo>
                      <a:pt x="63" y="322"/>
                    </a:lnTo>
                    <a:lnTo>
                      <a:pt x="61" y="301"/>
                    </a:lnTo>
                    <a:lnTo>
                      <a:pt x="61" y="278"/>
                    </a:lnTo>
                    <a:lnTo>
                      <a:pt x="61" y="257"/>
                    </a:lnTo>
                    <a:lnTo>
                      <a:pt x="59" y="238"/>
                    </a:lnTo>
                    <a:lnTo>
                      <a:pt x="59" y="219"/>
                    </a:lnTo>
                    <a:lnTo>
                      <a:pt x="57" y="201"/>
                    </a:lnTo>
                    <a:lnTo>
                      <a:pt x="55" y="186"/>
                    </a:lnTo>
                    <a:lnTo>
                      <a:pt x="53" y="171"/>
                    </a:lnTo>
                    <a:lnTo>
                      <a:pt x="52" y="155"/>
                    </a:lnTo>
                    <a:lnTo>
                      <a:pt x="50" y="142"/>
                    </a:lnTo>
                    <a:lnTo>
                      <a:pt x="50" y="130"/>
                    </a:lnTo>
                    <a:lnTo>
                      <a:pt x="46" y="111"/>
                    </a:lnTo>
                    <a:lnTo>
                      <a:pt x="42" y="94"/>
                    </a:lnTo>
                    <a:lnTo>
                      <a:pt x="38" y="75"/>
                    </a:lnTo>
                    <a:lnTo>
                      <a:pt x="36" y="57"/>
                    </a:lnTo>
                    <a:lnTo>
                      <a:pt x="32" y="42"/>
                    </a:lnTo>
                    <a:lnTo>
                      <a:pt x="30" y="27"/>
                    </a:lnTo>
                    <a:lnTo>
                      <a:pt x="30" y="11"/>
                    </a:lnTo>
                    <a:lnTo>
                      <a:pt x="28" y="0"/>
                    </a:lnTo>
                    <a:lnTo>
                      <a:pt x="53" y="7"/>
                    </a:lnTo>
                    <a:lnTo>
                      <a:pt x="65" y="11"/>
                    </a:lnTo>
                    <a:lnTo>
                      <a:pt x="76" y="15"/>
                    </a:lnTo>
                    <a:lnTo>
                      <a:pt x="86" y="19"/>
                    </a:lnTo>
                    <a:lnTo>
                      <a:pt x="98" y="23"/>
                    </a:lnTo>
                    <a:lnTo>
                      <a:pt x="105" y="25"/>
                    </a:lnTo>
                    <a:lnTo>
                      <a:pt x="115" y="29"/>
                    </a:lnTo>
                    <a:lnTo>
                      <a:pt x="123" y="32"/>
                    </a:lnTo>
                    <a:lnTo>
                      <a:pt x="132" y="34"/>
                    </a:lnTo>
                    <a:lnTo>
                      <a:pt x="138" y="38"/>
                    </a:lnTo>
                    <a:lnTo>
                      <a:pt x="146" y="40"/>
                    </a:lnTo>
                    <a:lnTo>
                      <a:pt x="151" y="44"/>
                    </a:lnTo>
                    <a:lnTo>
                      <a:pt x="157" y="46"/>
                    </a:lnTo>
                    <a:lnTo>
                      <a:pt x="161" y="48"/>
                    </a:lnTo>
                    <a:lnTo>
                      <a:pt x="165" y="50"/>
                    </a:lnTo>
                    <a:lnTo>
                      <a:pt x="165" y="54"/>
                    </a:lnTo>
                    <a:lnTo>
                      <a:pt x="167" y="55"/>
                    </a:lnTo>
                    <a:lnTo>
                      <a:pt x="167" y="59"/>
                    </a:lnTo>
                    <a:lnTo>
                      <a:pt x="169" y="65"/>
                    </a:lnTo>
                    <a:lnTo>
                      <a:pt x="169" y="71"/>
                    </a:lnTo>
                    <a:lnTo>
                      <a:pt x="169" y="78"/>
                    </a:lnTo>
                    <a:lnTo>
                      <a:pt x="170" y="86"/>
                    </a:lnTo>
                    <a:lnTo>
                      <a:pt x="170" y="96"/>
                    </a:lnTo>
                    <a:lnTo>
                      <a:pt x="170" y="105"/>
                    </a:lnTo>
                    <a:lnTo>
                      <a:pt x="170" y="115"/>
                    </a:lnTo>
                    <a:lnTo>
                      <a:pt x="170" y="128"/>
                    </a:lnTo>
                    <a:lnTo>
                      <a:pt x="170" y="140"/>
                    </a:lnTo>
                    <a:lnTo>
                      <a:pt x="172" y="153"/>
                    </a:lnTo>
                    <a:lnTo>
                      <a:pt x="172" y="169"/>
                    </a:lnTo>
                    <a:lnTo>
                      <a:pt x="172" y="184"/>
                    </a:lnTo>
                    <a:lnTo>
                      <a:pt x="172" y="199"/>
                    </a:lnTo>
                    <a:lnTo>
                      <a:pt x="172" y="217"/>
                    </a:lnTo>
                    <a:lnTo>
                      <a:pt x="172" y="236"/>
                    </a:lnTo>
                    <a:lnTo>
                      <a:pt x="172" y="255"/>
                    </a:lnTo>
                    <a:lnTo>
                      <a:pt x="170" y="274"/>
                    </a:lnTo>
                    <a:lnTo>
                      <a:pt x="170" y="295"/>
                    </a:lnTo>
                    <a:lnTo>
                      <a:pt x="170" y="316"/>
                    </a:lnTo>
                    <a:lnTo>
                      <a:pt x="170" y="339"/>
                    </a:lnTo>
                    <a:lnTo>
                      <a:pt x="170" y="363"/>
                    </a:lnTo>
                    <a:lnTo>
                      <a:pt x="170" y="387"/>
                    </a:lnTo>
                    <a:lnTo>
                      <a:pt x="169" y="412"/>
                    </a:lnTo>
                    <a:lnTo>
                      <a:pt x="169" y="439"/>
                    </a:lnTo>
                    <a:lnTo>
                      <a:pt x="169" y="466"/>
                    </a:lnTo>
                    <a:lnTo>
                      <a:pt x="167" y="493"/>
                    </a:lnTo>
                    <a:lnTo>
                      <a:pt x="167" y="524"/>
                    </a:lnTo>
                    <a:lnTo>
                      <a:pt x="165" y="553"/>
                    </a:lnTo>
                    <a:lnTo>
                      <a:pt x="165" y="583"/>
                    </a:lnTo>
                    <a:lnTo>
                      <a:pt x="163" y="614"/>
                    </a:lnTo>
                    <a:lnTo>
                      <a:pt x="161" y="643"/>
                    </a:lnTo>
                    <a:lnTo>
                      <a:pt x="159" y="672"/>
                    </a:lnTo>
                    <a:lnTo>
                      <a:pt x="157" y="700"/>
                    </a:lnTo>
                    <a:lnTo>
                      <a:pt x="155" y="727"/>
                    </a:lnTo>
                    <a:lnTo>
                      <a:pt x="153" y="752"/>
                    </a:lnTo>
                    <a:lnTo>
                      <a:pt x="151" y="777"/>
                    </a:lnTo>
                    <a:lnTo>
                      <a:pt x="151" y="802"/>
                    </a:lnTo>
                    <a:lnTo>
                      <a:pt x="149" y="825"/>
                    </a:lnTo>
                    <a:lnTo>
                      <a:pt x="147" y="846"/>
                    </a:lnTo>
                    <a:lnTo>
                      <a:pt x="146" y="867"/>
                    </a:lnTo>
                    <a:lnTo>
                      <a:pt x="144" y="888"/>
                    </a:lnTo>
                    <a:lnTo>
                      <a:pt x="142" y="908"/>
                    </a:lnTo>
                    <a:lnTo>
                      <a:pt x="140" y="925"/>
                    </a:lnTo>
                    <a:lnTo>
                      <a:pt x="138" y="942"/>
                    </a:lnTo>
                    <a:lnTo>
                      <a:pt x="136" y="959"/>
                    </a:lnTo>
                    <a:lnTo>
                      <a:pt x="134" y="975"/>
                    </a:lnTo>
                    <a:lnTo>
                      <a:pt x="132" y="988"/>
                    </a:lnTo>
                    <a:lnTo>
                      <a:pt x="130" y="1002"/>
                    </a:lnTo>
                    <a:lnTo>
                      <a:pt x="128" y="1015"/>
                    </a:lnTo>
                    <a:lnTo>
                      <a:pt x="126" y="1027"/>
                    </a:lnTo>
                    <a:lnTo>
                      <a:pt x="124" y="1036"/>
                    </a:lnTo>
                    <a:lnTo>
                      <a:pt x="123" y="1046"/>
                    </a:lnTo>
                    <a:lnTo>
                      <a:pt x="121" y="1053"/>
                    </a:lnTo>
                    <a:lnTo>
                      <a:pt x="119" y="1061"/>
                    </a:lnTo>
                    <a:lnTo>
                      <a:pt x="117" y="1069"/>
                    </a:lnTo>
                    <a:lnTo>
                      <a:pt x="115" y="1075"/>
                    </a:lnTo>
                    <a:lnTo>
                      <a:pt x="115" y="1078"/>
                    </a:lnTo>
                    <a:lnTo>
                      <a:pt x="113" y="1082"/>
                    </a:lnTo>
                    <a:lnTo>
                      <a:pt x="111" y="1084"/>
                    </a:lnTo>
                    <a:lnTo>
                      <a:pt x="109" y="1086"/>
                    </a:lnTo>
                    <a:lnTo>
                      <a:pt x="107" y="1086"/>
                    </a:lnTo>
                    <a:lnTo>
                      <a:pt x="103" y="1086"/>
                    </a:lnTo>
                    <a:lnTo>
                      <a:pt x="99" y="1084"/>
                    </a:lnTo>
                    <a:lnTo>
                      <a:pt x="96" y="1082"/>
                    </a:lnTo>
                    <a:lnTo>
                      <a:pt x="92" y="1080"/>
                    </a:lnTo>
                    <a:lnTo>
                      <a:pt x="88" y="1076"/>
                    </a:lnTo>
                    <a:lnTo>
                      <a:pt x="84" y="1073"/>
                    </a:lnTo>
                    <a:lnTo>
                      <a:pt x="80" y="1069"/>
                    </a:lnTo>
                    <a:lnTo>
                      <a:pt x="76" y="1063"/>
                    </a:lnTo>
                    <a:lnTo>
                      <a:pt x="73" y="1057"/>
                    </a:lnTo>
                    <a:lnTo>
                      <a:pt x="67" y="1051"/>
                    </a:lnTo>
                    <a:lnTo>
                      <a:pt x="63" y="1044"/>
                    </a:lnTo>
                    <a:lnTo>
                      <a:pt x="59" y="1034"/>
                    </a:lnTo>
                    <a:lnTo>
                      <a:pt x="53" y="1027"/>
                    </a:lnTo>
                    <a:lnTo>
                      <a:pt x="50" y="1017"/>
                    </a:lnTo>
                    <a:lnTo>
                      <a:pt x="44" y="1007"/>
                    </a:lnTo>
                    <a:lnTo>
                      <a:pt x="38" y="996"/>
                    </a:lnTo>
                    <a:lnTo>
                      <a:pt x="28" y="977"/>
                    </a:lnTo>
                    <a:lnTo>
                      <a:pt x="21" y="959"/>
                    </a:lnTo>
                    <a:lnTo>
                      <a:pt x="13" y="942"/>
                    </a:lnTo>
                    <a:lnTo>
                      <a:pt x="9" y="927"/>
                    </a:lnTo>
                    <a:lnTo>
                      <a:pt x="5" y="913"/>
                    </a:lnTo>
                    <a:lnTo>
                      <a:pt x="2" y="900"/>
                    </a:lnTo>
                    <a:lnTo>
                      <a:pt x="2" y="886"/>
                    </a:lnTo>
                    <a:lnTo>
                      <a:pt x="0" y="875"/>
                    </a:lnTo>
                    <a:lnTo>
                      <a:pt x="2" y="863"/>
                    </a:lnTo>
                    <a:lnTo>
                      <a:pt x="2" y="852"/>
                    </a:lnTo>
                    <a:lnTo>
                      <a:pt x="4" y="840"/>
                    </a:lnTo>
                    <a:lnTo>
                      <a:pt x="5" y="827"/>
                    </a:lnTo>
                    <a:lnTo>
                      <a:pt x="9" y="814"/>
                    </a:lnTo>
                    <a:lnTo>
                      <a:pt x="13" y="798"/>
                    </a:lnTo>
                    <a:lnTo>
                      <a:pt x="17" y="783"/>
                    </a:lnTo>
                    <a:lnTo>
                      <a:pt x="19" y="764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35"/>
              <p:cNvSpPr/>
              <p:nvPr/>
            </p:nvSpPr>
            <p:spPr>
              <a:xfrm>
                <a:off x="6867360" y="2016000"/>
                <a:ext cx="177840" cy="193680"/>
              </a:xfrm>
              <a:custGeom>
                <a:avLst/>
                <a:gdLst/>
                <a:ahLst/>
                <a:rect l="l" t="t" r="r" b="b"/>
                <a:pathLst>
                  <a:path w="320" h="351">
                    <a:moveTo>
                      <a:pt x="155" y="131"/>
                    </a:moveTo>
                    <a:lnTo>
                      <a:pt x="161" y="119"/>
                    </a:lnTo>
                    <a:lnTo>
                      <a:pt x="167" y="107"/>
                    </a:lnTo>
                    <a:lnTo>
                      <a:pt x="173" y="96"/>
                    </a:lnTo>
                    <a:lnTo>
                      <a:pt x="176" y="84"/>
                    </a:lnTo>
                    <a:lnTo>
                      <a:pt x="178" y="73"/>
                    </a:lnTo>
                    <a:lnTo>
                      <a:pt x="178" y="61"/>
                    </a:lnTo>
                    <a:lnTo>
                      <a:pt x="176" y="52"/>
                    </a:lnTo>
                    <a:lnTo>
                      <a:pt x="175" y="40"/>
                    </a:lnTo>
                    <a:lnTo>
                      <a:pt x="173" y="29"/>
                    </a:lnTo>
                    <a:lnTo>
                      <a:pt x="171" y="21"/>
                    </a:lnTo>
                    <a:lnTo>
                      <a:pt x="173" y="13"/>
                    </a:lnTo>
                    <a:lnTo>
                      <a:pt x="175" y="8"/>
                    </a:lnTo>
                    <a:lnTo>
                      <a:pt x="178" y="4"/>
                    </a:lnTo>
                    <a:lnTo>
                      <a:pt x="186" y="2"/>
                    </a:lnTo>
                    <a:lnTo>
                      <a:pt x="194" y="0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21" y="2"/>
                    </a:lnTo>
                    <a:lnTo>
                      <a:pt x="228" y="4"/>
                    </a:lnTo>
                    <a:lnTo>
                      <a:pt x="240" y="8"/>
                    </a:lnTo>
                    <a:lnTo>
                      <a:pt x="249" y="13"/>
                    </a:lnTo>
                    <a:lnTo>
                      <a:pt x="259" y="21"/>
                    </a:lnTo>
                    <a:lnTo>
                      <a:pt x="270" y="29"/>
                    </a:lnTo>
                    <a:lnTo>
                      <a:pt x="276" y="35"/>
                    </a:lnTo>
                    <a:lnTo>
                      <a:pt x="282" y="40"/>
                    </a:lnTo>
                    <a:lnTo>
                      <a:pt x="292" y="52"/>
                    </a:lnTo>
                    <a:lnTo>
                      <a:pt x="299" y="61"/>
                    </a:lnTo>
                    <a:lnTo>
                      <a:pt x="305" y="73"/>
                    </a:lnTo>
                    <a:lnTo>
                      <a:pt x="311" y="84"/>
                    </a:lnTo>
                    <a:lnTo>
                      <a:pt x="315" y="94"/>
                    </a:lnTo>
                    <a:lnTo>
                      <a:pt x="318" y="104"/>
                    </a:lnTo>
                    <a:lnTo>
                      <a:pt x="318" y="111"/>
                    </a:lnTo>
                    <a:lnTo>
                      <a:pt x="320" y="121"/>
                    </a:lnTo>
                    <a:lnTo>
                      <a:pt x="318" y="123"/>
                    </a:lnTo>
                    <a:lnTo>
                      <a:pt x="317" y="127"/>
                    </a:lnTo>
                    <a:lnTo>
                      <a:pt x="315" y="129"/>
                    </a:lnTo>
                    <a:lnTo>
                      <a:pt x="313" y="132"/>
                    </a:lnTo>
                    <a:lnTo>
                      <a:pt x="309" y="136"/>
                    </a:lnTo>
                    <a:lnTo>
                      <a:pt x="305" y="142"/>
                    </a:lnTo>
                    <a:lnTo>
                      <a:pt x="301" y="146"/>
                    </a:lnTo>
                    <a:lnTo>
                      <a:pt x="295" y="150"/>
                    </a:lnTo>
                    <a:lnTo>
                      <a:pt x="292" y="155"/>
                    </a:lnTo>
                    <a:lnTo>
                      <a:pt x="286" y="161"/>
                    </a:lnTo>
                    <a:lnTo>
                      <a:pt x="278" y="165"/>
                    </a:lnTo>
                    <a:lnTo>
                      <a:pt x="272" y="171"/>
                    </a:lnTo>
                    <a:lnTo>
                      <a:pt x="265" y="178"/>
                    </a:lnTo>
                    <a:lnTo>
                      <a:pt x="257" y="184"/>
                    </a:lnTo>
                    <a:lnTo>
                      <a:pt x="247" y="190"/>
                    </a:lnTo>
                    <a:lnTo>
                      <a:pt x="240" y="198"/>
                    </a:lnTo>
                    <a:lnTo>
                      <a:pt x="230" y="205"/>
                    </a:lnTo>
                    <a:lnTo>
                      <a:pt x="221" y="211"/>
                    </a:lnTo>
                    <a:lnTo>
                      <a:pt x="209" y="221"/>
                    </a:lnTo>
                    <a:lnTo>
                      <a:pt x="199" y="228"/>
                    </a:lnTo>
                    <a:lnTo>
                      <a:pt x="188" y="236"/>
                    </a:lnTo>
                    <a:lnTo>
                      <a:pt x="176" y="246"/>
                    </a:lnTo>
                    <a:lnTo>
                      <a:pt x="163" y="253"/>
                    </a:lnTo>
                    <a:lnTo>
                      <a:pt x="150" y="263"/>
                    </a:lnTo>
                    <a:lnTo>
                      <a:pt x="136" y="273"/>
                    </a:lnTo>
                    <a:lnTo>
                      <a:pt x="123" y="284"/>
                    </a:lnTo>
                    <a:lnTo>
                      <a:pt x="109" y="294"/>
                    </a:lnTo>
                    <a:lnTo>
                      <a:pt x="94" y="305"/>
                    </a:lnTo>
                    <a:lnTo>
                      <a:pt x="79" y="315"/>
                    </a:lnTo>
                    <a:lnTo>
                      <a:pt x="63" y="326"/>
                    </a:lnTo>
                    <a:lnTo>
                      <a:pt x="46" y="340"/>
                    </a:lnTo>
                    <a:lnTo>
                      <a:pt x="29" y="351"/>
                    </a:lnTo>
                    <a:lnTo>
                      <a:pt x="15" y="336"/>
                    </a:lnTo>
                    <a:lnTo>
                      <a:pt x="0" y="321"/>
                    </a:lnTo>
                    <a:lnTo>
                      <a:pt x="15" y="303"/>
                    </a:lnTo>
                    <a:lnTo>
                      <a:pt x="31" y="284"/>
                    </a:lnTo>
                    <a:lnTo>
                      <a:pt x="46" y="269"/>
                    </a:lnTo>
                    <a:lnTo>
                      <a:pt x="57" y="253"/>
                    </a:lnTo>
                    <a:lnTo>
                      <a:pt x="71" y="238"/>
                    </a:lnTo>
                    <a:lnTo>
                      <a:pt x="82" y="225"/>
                    </a:lnTo>
                    <a:lnTo>
                      <a:pt x="94" y="211"/>
                    </a:lnTo>
                    <a:lnTo>
                      <a:pt x="104" y="200"/>
                    </a:lnTo>
                    <a:lnTo>
                      <a:pt x="111" y="188"/>
                    </a:lnTo>
                    <a:lnTo>
                      <a:pt x="121" y="177"/>
                    </a:lnTo>
                    <a:lnTo>
                      <a:pt x="128" y="167"/>
                    </a:lnTo>
                    <a:lnTo>
                      <a:pt x="134" y="159"/>
                    </a:lnTo>
                    <a:lnTo>
                      <a:pt x="142" y="150"/>
                    </a:lnTo>
                    <a:lnTo>
                      <a:pt x="146" y="142"/>
                    </a:lnTo>
                    <a:lnTo>
                      <a:pt x="152" y="136"/>
                    </a:lnTo>
                    <a:lnTo>
                      <a:pt x="155" y="131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36"/>
              <p:cNvSpPr/>
              <p:nvPr/>
            </p:nvSpPr>
            <p:spPr>
              <a:xfrm>
                <a:off x="6808680" y="2160720"/>
                <a:ext cx="212760" cy="179280"/>
              </a:xfrm>
              <a:custGeom>
                <a:avLst/>
                <a:gdLst/>
                <a:ahLst/>
                <a:rect l="l" t="t" r="r" b="b"/>
                <a:pathLst>
                  <a:path w="384" h="322">
                    <a:moveTo>
                      <a:pt x="0" y="0"/>
                    </a:moveTo>
                    <a:lnTo>
                      <a:pt x="31" y="10"/>
                    </a:lnTo>
                    <a:lnTo>
                      <a:pt x="62" y="19"/>
                    </a:lnTo>
                    <a:lnTo>
                      <a:pt x="91" y="27"/>
                    </a:lnTo>
                    <a:lnTo>
                      <a:pt x="117" y="36"/>
                    </a:lnTo>
                    <a:lnTo>
                      <a:pt x="142" y="44"/>
                    </a:lnTo>
                    <a:lnTo>
                      <a:pt x="167" y="52"/>
                    </a:lnTo>
                    <a:lnTo>
                      <a:pt x="188" y="60"/>
                    </a:lnTo>
                    <a:lnTo>
                      <a:pt x="210" y="67"/>
                    </a:lnTo>
                    <a:lnTo>
                      <a:pt x="229" y="75"/>
                    </a:lnTo>
                    <a:lnTo>
                      <a:pt x="244" y="83"/>
                    </a:lnTo>
                    <a:lnTo>
                      <a:pt x="259" y="90"/>
                    </a:lnTo>
                    <a:lnTo>
                      <a:pt x="273" y="96"/>
                    </a:lnTo>
                    <a:lnTo>
                      <a:pt x="284" y="102"/>
                    </a:lnTo>
                    <a:lnTo>
                      <a:pt x="296" y="109"/>
                    </a:lnTo>
                    <a:lnTo>
                      <a:pt x="304" y="115"/>
                    </a:lnTo>
                    <a:lnTo>
                      <a:pt x="309" y="121"/>
                    </a:lnTo>
                    <a:lnTo>
                      <a:pt x="321" y="131"/>
                    </a:lnTo>
                    <a:lnTo>
                      <a:pt x="330" y="142"/>
                    </a:lnTo>
                    <a:lnTo>
                      <a:pt x="342" y="152"/>
                    </a:lnTo>
                    <a:lnTo>
                      <a:pt x="352" y="161"/>
                    </a:lnTo>
                    <a:lnTo>
                      <a:pt x="359" y="171"/>
                    </a:lnTo>
                    <a:lnTo>
                      <a:pt x="367" y="180"/>
                    </a:lnTo>
                    <a:lnTo>
                      <a:pt x="373" y="190"/>
                    </a:lnTo>
                    <a:lnTo>
                      <a:pt x="376" y="202"/>
                    </a:lnTo>
                    <a:lnTo>
                      <a:pt x="380" y="211"/>
                    </a:lnTo>
                    <a:lnTo>
                      <a:pt x="382" y="223"/>
                    </a:lnTo>
                    <a:lnTo>
                      <a:pt x="384" y="232"/>
                    </a:lnTo>
                    <a:lnTo>
                      <a:pt x="384" y="242"/>
                    </a:lnTo>
                    <a:lnTo>
                      <a:pt x="384" y="251"/>
                    </a:lnTo>
                    <a:lnTo>
                      <a:pt x="382" y="261"/>
                    </a:lnTo>
                    <a:lnTo>
                      <a:pt x="380" y="271"/>
                    </a:lnTo>
                    <a:lnTo>
                      <a:pt x="376" y="282"/>
                    </a:lnTo>
                    <a:lnTo>
                      <a:pt x="373" y="292"/>
                    </a:lnTo>
                    <a:lnTo>
                      <a:pt x="369" y="301"/>
                    </a:lnTo>
                    <a:lnTo>
                      <a:pt x="363" y="307"/>
                    </a:lnTo>
                    <a:lnTo>
                      <a:pt x="357" y="313"/>
                    </a:lnTo>
                    <a:lnTo>
                      <a:pt x="353" y="317"/>
                    </a:lnTo>
                    <a:lnTo>
                      <a:pt x="348" y="319"/>
                    </a:lnTo>
                    <a:lnTo>
                      <a:pt x="342" y="321"/>
                    </a:lnTo>
                    <a:lnTo>
                      <a:pt x="338" y="322"/>
                    </a:lnTo>
                    <a:lnTo>
                      <a:pt x="336" y="321"/>
                    </a:lnTo>
                    <a:lnTo>
                      <a:pt x="334" y="321"/>
                    </a:lnTo>
                    <a:lnTo>
                      <a:pt x="330" y="319"/>
                    </a:lnTo>
                    <a:lnTo>
                      <a:pt x="327" y="317"/>
                    </a:lnTo>
                    <a:lnTo>
                      <a:pt x="323" y="315"/>
                    </a:lnTo>
                    <a:lnTo>
                      <a:pt x="317" y="313"/>
                    </a:lnTo>
                    <a:lnTo>
                      <a:pt x="311" y="309"/>
                    </a:lnTo>
                    <a:lnTo>
                      <a:pt x="305" y="305"/>
                    </a:lnTo>
                    <a:lnTo>
                      <a:pt x="300" y="301"/>
                    </a:lnTo>
                    <a:lnTo>
                      <a:pt x="292" y="296"/>
                    </a:lnTo>
                    <a:lnTo>
                      <a:pt x="284" y="290"/>
                    </a:lnTo>
                    <a:lnTo>
                      <a:pt x="277" y="284"/>
                    </a:lnTo>
                    <a:lnTo>
                      <a:pt x="267" y="276"/>
                    </a:lnTo>
                    <a:lnTo>
                      <a:pt x="258" y="271"/>
                    </a:lnTo>
                    <a:lnTo>
                      <a:pt x="248" y="263"/>
                    </a:lnTo>
                    <a:lnTo>
                      <a:pt x="238" y="255"/>
                    </a:lnTo>
                    <a:lnTo>
                      <a:pt x="227" y="246"/>
                    </a:lnTo>
                    <a:lnTo>
                      <a:pt x="215" y="236"/>
                    </a:lnTo>
                    <a:lnTo>
                      <a:pt x="204" y="226"/>
                    </a:lnTo>
                    <a:lnTo>
                      <a:pt x="190" y="217"/>
                    </a:lnTo>
                    <a:lnTo>
                      <a:pt x="177" y="205"/>
                    </a:lnTo>
                    <a:lnTo>
                      <a:pt x="163" y="194"/>
                    </a:lnTo>
                    <a:lnTo>
                      <a:pt x="150" y="182"/>
                    </a:lnTo>
                    <a:lnTo>
                      <a:pt x="135" y="169"/>
                    </a:lnTo>
                    <a:lnTo>
                      <a:pt x="119" y="157"/>
                    </a:lnTo>
                    <a:lnTo>
                      <a:pt x="104" y="142"/>
                    </a:lnTo>
                    <a:lnTo>
                      <a:pt x="89" y="129"/>
                    </a:lnTo>
                    <a:lnTo>
                      <a:pt x="71" y="113"/>
                    </a:lnTo>
                    <a:lnTo>
                      <a:pt x="54" y="100"/>
                    </a:lnTo>
                    <a:lnTo>
                      <a:pt x="37" y="83"/>
                    </a:lnTo>
                    <a:lnTo>
                      <a:pt x="18" y="6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AutoShape 37"/>
          <p:cNvSpPr/>
          <p:nvPr/>
        </p:nvSpPr>
        <p:spPr>
          <a:xfrm>
            <a:off x="3254400" y="2971800"/>
            <a:ext cx="547560" cy="406440"/>
          </a:xfrm>
          <a:custGeom>
            <a:avLst/>
            <a:gdLst/>
            <a:ahLst/>
            <a:rect l="l" t="t" r="r" b="b"/>
            <a:pathLst>
              <a:path w="689" h="512">
                <a:moveTo>
                  <a:pt x="0" y="0"/>
                </a:moveTo>
                <a:lnTo>
                  <a:pt x="45" y="13"/>
                </a:lnTo>
                <a:lnTo>
                  <a:pt x="87" y="27"/>
                </a:lnTo>
                <a:lnTo>
                  <a:pt x="127" y="40"/>
                </a:lnTo>
                <a:lnTo>
                  <a:pt x="167" y="53"/>
                </a:lnTo>
                <a:lnTo>
                  <a:pt x="204" y="65"/>
                </a:lnTo>
                <a:lnTo>
                  <a:pt x="240" y="78"/>
                </a:lnTo>
                <a:lnTo>
                  <a:pt x="273" y="90"/>
                </a:lnTo>
                <a:lnTo>
                  <a:pt x="306" y="103"/>
                </a:lnTo>
                <a:lnTo>
                  <a:pt x="336" y="115"/>
                </a:lnTo>
                <a:lnTo>
                  <a:pt x="365" y="126"/>
                </a:lnTo>
                <a:lnTo>
                  <a:pt x="392" y="138"/>
                </a:lnTo>
                <a:lnTo>
                  <a:pt x="417" y="149"/>
                </a:lnTo>
                <a:lnTo>
                  <a:pt x="442" y="161"/>
                </a:lnTo>
                <a:lnTo>
                  <a:pt x="463" y="170"/>
                </a:lnTo>
                <a:lnTo>
                  <a:pt x="484" y="180"/>
                </a:lnTo>
                <a:lnTo>
                  <a:pt x="503" y="192"/>
                </a:lnTo>
                <a:lnTo>
                  <a:pt x="520" y="201"/>
                </a:lnTo>
                <a:lnTo>
                  <a:pt x="538" y="211"/>
                </a:lnTo>
                <a:lnTo>
                  <a:pt x="553" y="220"/>
                </a:lnTo>
                <a:lnTo>
                  <a:pt x="568" y="230"/>
                </a:lnTo>
                <a:lnTo>
                  <a:pt x="582" y="240"/>
                </a:lnTo>
                <a:lnTo>
                  <a:pt x="595" y="251"/>
                </a:lnTo>
                <a:lnTo>
                  <a:pt x="607" y="261"/>
                </a:lnTo>
                <a:lnTo>
                  <a:pt x="618" y="272"/>
                </a:lnTo>
                <a:lnTo>
                  <a:pt x="630" y="282"/>
                </a:lnTo>
                <a:lnTo>
                  <a:pt x="639" y="291"/>
                </a:lnTo>
                <a:lnTo>
                  <a:pt x="647" y="303"/>
                </a:lnTo>
                <a:lnTo>
                  <a:pt x="655" y="313"/>
                </a:lnTo>
                <a:lnTo>
                  <a:pt x="663" y="322"/>
                </a:lnTo>
                <a:lnTo>
                  <a:pt x="668" y="332"/>
                </a:lnTo>
                <a:lnTo>
                  <a:pt x="672" y="341"/>
                </a:lnTo>
                <a:lnTo>
                  <a:pt x="676" y="351"/>
                </a:lnTo>
                <a:lnTo>
                  <a:pt x="680" y="370"/>
                </a:lnTo>
                <a:lnTo>
                  <a:pt x="684" y="387"/>
                </a:lnTo>
                <a:lnTo>
                  <a:pt x="687" y="405"/>
                </a:lnTo>
                <a:lnTo>
                  <a:pt x="689" y="420"/>
                </a:lnTo>
                <a:lnTo>
                  <a:pt x="689" y="433"/>
                </a:lnTo>
                <a:lnTo>
                  <a:pt x="689" y="447"/>
                </a:lnTo>
                <a:lnTo>
                  <a:pt x="689" y="460"/>
                </a:lnTo>
                <a:lnTo>
                  <a:pt x="687" y="472"/>
                </a:lnTo>
                <a:lnTo>
                  <a:pt x="682" y="483"/>
                </a:lnTo>
                <a:lnTo>
                  <a:pt x="678" y="491"/>
                </a:lnTo>
                <a:lnTo>
                  <a:pt x="672" y="499"/>
                </a:lnTo>
                <a:lnTo>
                  <a:pt x="664" y="504"/>
                </a:lnTo>
                <a:lnTo>
                  <a:pt x="657" y="508"/>
                </a:lnTo>
                <a:lnTo>
                  <a:pt x="649" y="510"/>
                </a:lnTo>
                <a:lnTo>
                  <a:pt x="639" y="512"/>
                </a:lnTo>
                <a:lnTo>
                  <a:pt x="628" y="512"/>
                </a:lnTo>
                <a:lnTo>
                  <a:pt x="622" y="512"/>
                </a:lnTo>
                <a:lnTo>
                  <a:pt x="616" y="510"/>
                </a:lnTo>
                <a:lnTo>
                  <a:pt x="609" y="508"/>
                </a:lnTo>
                <a:lnTo>
                  <a:pt x="599" y="503"/>
                </a:lnTo>
                <a:lnTo>
                  <a:pt x="590" y="499"/>
                </a:lnTo>
                <a:lnTo>
                  <a:pt x="578" y="491"/>
                </a:lnTo>
                <a:lnTo>
                  <a:pt x="567" y="483"/>
                </a:lnTo>
                <a:lnTo>
                  <a:pt x="555" y="476"/>
                </a:lnTo>
                <a:lnTo>
                  <a:pt x="540" y="466"/>
                </a:lnTo>
                <a:lnTo>
                  <a:pt x="526" y="455"/>
                </a:lnTo>
                <a:lnTo>
                  <a:pt x="511" y="441"/>
                </a:lnTo>
                <a:lnTo>
                  <a:pt x="494" y="428"/>
                </a:lnTo>
                <a:lnTo>
                  <a:pt x="474" y="414"/>
                </a:lnTo>
                <a:lnTo>
                  <a:pt x="457" y="397"/>
                </a:lnTo>
                <a:lnTo>
                  <a:pt x="436" y="380"/>
                </a:lnTo>
                <a:lnTo>
                  <a:pt x="415" y="362"/>
                </a:lnTo>
                <a:lnTo>
                  <a:pt x="369" y="324"/>
                </a:lnTo>
                <a:lnTo>
                  <a:pt x="319" y="286"/>
                </a:lnTo>
                <a:lnTo>
                  <a:pt x="269" y="249"/>
                </a:lnTo>
                <a:lnTo>
                  <a:pt x="219" y="211"/>
                </a:lnTo>
                <a:lnTo>
                  <a:pt x="165" y="174"/>
                </a:lnTo>
                <a:lnTo>
                  <a:pt x="112" y="136"/>
                </a:lnTo>
                <a:lnTo>
                  <a:pt x="56" y="98"/>
                </a:lnTo>
                <a:lnTo>
                  <a:pt x="0" y="59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8"/>
          <p:cNvSpPr/>
          <p:nvPr/>
        </p:nvSpPr>
        <p:spPr>
          <a:xfrm>
            <a:off x="3151080" y="2298600"/>
            <a:ext cx="187560" cy="1808280"/>
          </a:xfrm>
          <a:custGeom>
            <a:avLst/>
            <a:gdLst/>
            <a:ahLst/>
            <a:rect l="l" t="t" r="r" b="b"/>
            <a:pathLst>
              <a:path w="236" h="2278">
                <a:moveTo>
                  <a:pt x="23" y="94"/>
                </a:moveTo>
                <a:lnTo>
                  <a:pt x="17" y="83"/>
                </a:lnTo>
                <a:lnTo>
                  <a:pt x="11" y="73"/>
                </a:lnTo>
                <a:lnTo>
                  <a:pt x="6" y="64"/>
                </a:lnTo>
                <a:lnTo>
                  <a:pt x="2" y="56"/>
                </a:lnTo>
                <a:lnTo>
                  <a:pt x="0" y="46"/>
                </a:lnTo>
                <a:lnTo>
                  <a:pt x="0" y="39"/>
                </a:lnTo>
                <a:lnTo>
                  <a:pt x="2" y="31"/>
                </a:lnTo>
                <a:lnTo>
                  <a:pt x="4" y="23"/>
                </a:lnTo>
                <a:lnTo>
                  <a:pt x="4" y="18"/>
                </a:lnTo>
                <a:lnTo>
                  <a:pt x="8" y="10"/>
                </a:lnTo>
                <a:lnTo>
                  <a:pt x="11" y="6"/>
                </a:lnTo>
                <a:lnTo>
                  <a:pt x="17" y="2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2" y="4"/>
                </a:lnTo>
                <a:lnTo>
                  <a:pt x="63" y="8"/>
                </a:lnTo>
                <a:lnTo>
                  <a:pt x="75" y="12"/>
                </a:lnTo>
                <a:lnTo>
                  <a:pt x="88" y="16"/>
                </a:lnTo>
                <a:lnTo>
                  <a:pt x="104" y="22"/>
                </a:lnTo>
                <a:lnTo>
                  <a:pt x="119" y="27"/>
                </a:lnTo>
                <a:lnTo>
                  <a:pt x="134" y="35"/>
                </a:lnTo>
                <a:lnTo>
                  <a:pt x="150" y="45"/>
                </a:lnTo>
                <a:lnTo>
                  <a:pt x="159" y="48"/>
                </a:lnTo>
                <a:lnTo>
                  <a:pt x="169" y="54"/>
                </a:lnTo>
                <a:lnTo>
                  <a:pt x="176" y="60"/>
                </a:lnTo>
                <a:lnTo>
                  <a:pt x="184" y="66"/>
                </a:lnTo>
                <a:lnTo>
                  <a:pt x="192" y="71"/>
                </a:lnTo>
                <a:lnTo>
                  <a:pt x="200" y="77"/>
                </a:lnTo>
                <a:lnTo>
                  <a:pt x="205" y="83"/>
                </a:lnTo>
                <a:lnTo>
                  <a:pt x="211" y="87"/>
                </a:lnTo>
                <a:lnTo>
                  <a:pt x="215" y="93"/>
                </a:lnTo>
                <a:lnTo>
                  <a:pt x="221" y="96"/>
                </a:lnTo>
                <a:lnTo>
                  <a:pt x="224" y="102"/>
                </a:lnTo>
                <a:lnTo>
                  <a:pt x="226" y="106"/>
                </a:lnTo>
                <a:lnTo>
                  <a:pt x="230" y="110"/>
                </a:lnTo>
                <a:lnTo>
                  <a:pt x="232" y="114"/>
                </a:lnTo>
                <a:lnTo>
                  <a:pt x="234" y="118"/>
                </a:lnTo>
                <a:lnTo>
                  <a:pt x="236" y="119"/>
                </a:lnTo>
                <a:lnTo>
                  <a:pt x="236" y="123"/>
                </a:lnTo>
                <a:lnTo>
                  <a:pt x="236" y="125"/>
                </a:lnTo>
                <a:lnTo>
                  <a:pt x="236" y="141"/>
                </a:lnTo>
                <a:lnTo>
                  <a:pt x="234" y="154"/>
                </a:lnTo>
                <a:lnTo>
                  <a:pt x="234" y="162"/>
                </a:lnTo>
                <a:lnTo>
                  <a:pt x="232" y="169"/>
                </a:lnTo>
                <a:lnTo>
                  <a:pt x="230" y="177"/>
                </a:lnTo>
                <a:lnTo>
                  <a:pt x="226" y="185"/>
                </a:lnTo>
                <a:lnTo>
                  <a:pt x="223" y="194"/>
                </a:lnTo>
                <a:lnTo>
                  <a:pt x="221" y="204"/>
                </a:lnTo>
                <a:lnTo>
                  <a:pt x="219" y="215"/>
                </a:lnTo>
                <a:lnTo>
                  <a:pt x="217" y="229"/>
                </a:lnTo>
                <a:lnTo>
                  <a:pt x="215" y="244"/>
                </a:lnTo>
                <a:lnTo>
                  <a:pt x="213" y="260"/>
                </a:lnTo>
                <a:lnTo>
                  <a:pt x="211" y="277"/>
                </a:lnTo>
                <a:lnTo>
                  <a:pt x="207" y="296"/>
                </a:lnTo>
                <a:lnTo>
                  <a:pt x="205" y="306"/>
                </a:lnTo>
                <a:lnTo>
                  <a:pt x="203" y="319"/>
                </a:lnTo>
                <a:lnTo>
                  <a:pt x="201" y="332"/>
                </a:lnTo>
                <a:lnTo>
                  <a:pt x="200" y="348"/>
                </a:lnTo>
                <a:lnTo>
                  <a:pt x="198" y="365"/>
                </a:lnTo>
                <a:lnTo>
                  <a:pt x="196" y="384"/>
                </a:lnTo>
                <a:lnTo>
                  <a:pt x="194" y="405"/>
                </a:lnTo>
                <a:lnTo>
                  <a:pt x="192" y="428"/>
                </a:lnTo>
                <a:lnTo>
                  <a:pt x="190" y="453"/>
                </a:lnTo>
                <a:lnTo>
                  <a:pt x="188" y="478"/>
                </a:lnTo>
                <a:lnTo>
                  <a:pt x="186" y="507"/>
                </a:lnTo>
                <a:lnTo>
                  <a:pt x="184" y="536"/>
                </a:lnTo>
                <a:lnTo>
                  <a:pt x="184" y="567"/>
                </a:lnTo>
                <a:lnTo>
                  <a:pt x="182" y="599"/>
                </a:lnTo>
                <a:lnTo>
                  <a:pt x="180" y="632"/>
                </a:lnTo>
                <a:lnTo>
                  <a:pt x="178" y="668"/>
                </a:lnTo>
                <a:lnTo>
                  <a:pt x="176" y="705"/>
                </a:lnTo>
                <a:lnTo>
                  <a:pt x="175" y="743"/>
                </a:lnTo>
                <a:lnTo>
                  <a:pt x="175" y="783"/>
                </a:lnTo>
                <a:lnTo>
                  <a:pt x="175" y="824"/>
                </a:lnTo>
                <a:lnTo>
                  <a:pt x="175" y="868"/>
                </a:lnTo>
                <a:lnTo>
                  <a:pt x="175" y="912"/>
                </a:lnTo>
                <a:lnTo>
                  <a:pt x="175" y="958"/>
                </a:lnTo>
                <a:lnTo>
                  <a:pt x="176" y="1008"/>
                </a:lnTo>
                <a:lnTo>
                  <a:pt x="176" y="1058"/>
                </a:lnTo>
                <a:lnTo>
                  <a:pt x="178" y="1108"/>
                </a:lnTo>
                <a:lnTo>
                  <a:pt x="178" y="1162"/>
                </a:lnTo>
                <a:lnTo>
                  <a:pt x="180" y="1217"/>
                </a:lnTo>
                <a:lnTo>
                  <a:pt x="182" y="1273"/>
                </a:lnTo>
                <a:lnTo>
                  <a:pt x="184" y="1330"/>
                </a:lnTo>
                <a:lnTo>
                  <a:pt x="186" y="1390"/>
                </a:lnTo>
                <a:lnTo>
                  <a:pt x="188" y="1451"/>
                </a:lnTo>
                <a:lnTo>
                  <a:pt x="188" y="1482"/>
                </a:lnTo>
                <a:lnTo>
                  <a:pt x="190" y="1513"/>
                </a:lnTo>
                <a:lnTo>
                  <a:pt x="190" y="1543"/>
                </a:lnTo>
                <a:lnTo>
                  <a:pt x="190" y="1572"/>
                </a:lnTo>
                <a:lnTo>
                  <a:pt x="192" y="1601"/>
                </a:lnTo>
                <a:lnTo>
                  <a:pt x="192" y="1628"/>
                </a:lnTo>
                <a:lnTo>
                  <a:pt x="192" y="1655"/>
                </a:lnTo>
                <a:lnTo>
                  <a:pt x="192" y="1682"/>
                </a:lnTo>
                <a:lnTo>
                  <a:pt x="194" y="1708"/>
                </a:lnTo>
                <a:lnTo>
                  <a:pt x="194" y="1733"/>
                </a:lnTo>
                <a:lnTo>
                  <a:pt x="194" y="1758"/>
                </a:lnTo>
                <a:lnTo>
                  <a:pt x="194" y="1781"/>
                </a:lnTo>
                <a:lnTo>
                  <a:pt x="194" y="1804"/>
                </a:lnTo>
                <a:lnTo>
                  <a:pt x="194" y="1827"/>
                </a:lnTo>
                <a:lnTo>
                  <a:pt x="194" y="1850"/>
                </a:lnTo>
                <a:lnTo>
                  <a:pt x="194" y="1872"/>
                </a:lnTo>
                <a:lnTo>
                  <a:pt x="194" y="1893"/>
                </a:lnTo>
                <a:lnTo>
                  <a:pt x="192" y="1914"/>
                </a:lnTo>
                <a:lnTo>
                  <a:pt x="192" y="1933"/>
                </a:lnTo>
                <a:lnTo>
                  <a:pt x="192" y="1952"/>
                </a:lnTo>
                <a:lnTo>
                  <a:pt x="192" y="1969"/>
                </a:lnTo>
                <a:lnTo>
                  <a:pt x="190" y="1987"/>
                </a:lnTo>
                <a:lnTo>
                  <a:pt x="190" y="2004"/>
                </a:lnTo>
                <a:lnTo>
                  <a:pt x="188" y="2021"/>
                </a:lnTo>
                <a:lnTo>
                  <a:pt x="188" y="2037"/>
                </a:lnTo>
                <a:lnTo>
                  <a:pt x="186" y="2050"/>
                </a:lnTo>
                <a:lnTo>
                  <a:pt x="186" y="2065"/>
                </a:lnTo>
                <a:lnTo>
                  <a:pt x="184" y="2079"/>
                </a:lnTo>
                <a:lnTo>
                  <a:pt x="182" y="2092"/>
                </a:lnTo>
                <a:lnTo>
                  <a:pt x="182" y="2104"/>
                </a:lnTo>
                <a:lnTo>
                  <a:pt x="180" y="2115"/>
                </a:lnTo>
                <a:lnTo>
                  <a:pt x="178" y="2127"/>
                </a:lnTo>
                <a:lnTo>
                  <a:pt x="175" y="2146"/>
                </a:lnTo>
                <a:lnTo>
                  <a:pt x="171" y="2165"/>
                </a:lnTo>
                <a:lnTo>
                  <a:pt x="167" y="2182"/>
                </a:lnTo>
                <a:lnTo>
                  <a:pt x="163" y="2198"/>
                </a:lnTo>
                <a:lnTo>
                  <a:pt x="159" y="2211"/>
                </a:lnTo>
                <a:lnTo>
                  <a:pt x="155" y="2225"/>
                </a:lnTo>
                <a:lnTo>
                  <a:pt x="153" y="2236"/>
                </a:lnTo>
                <a:lnTo>
                  <a:pt x="150" y="2246"/>
                </a:lnTo>
                <a:lnTo>
                  <a:pt x="146" y="2255"/>
                </a:lnTo>
                <a:lnTo>
                  <a:pt x="142" y="2263"/>
                </a:lnTo>
                <a:lnTo>
                  <a:pt x="138" y="2269"/>
                </a:lnTo>
                <a:lnTo>
                  <a:pt x="134" y="2273"/>
                </a:lnTo>
                <a:lnTo>
                  <a:pt x="130" y="2277"/>
                </a:lnTo>
                <a:lnTo>
                  <a:pt x="127" y="2278"/>
                </a:lnTo>
                <a:lnTo>
                  <a:pt x="123" y="2278"/>
                </a:lnTo>
                <a:lnTo>
                  <a:pt x="121" y="2277"/>
                </a:lnTo>
                <a:lnTo>
                  <a:pt x="113" y="2273"/>
                </a:lnTo>
                <a:lnTo>
                  <a:pt x="105" y="2265"/>
                </a:lnTo>
                <a:lnTo>
                  <a:pt x="98" y="2257"/>
                </a:lnTo>
                <a:lnTo>
                  <a:pt x="90" y="2246"/>
                </a:lnTo>
                <a:lnTo>
                  <a:pt x="84" y="2234"/>
                </a:lnTo>
                <a:lnTo>
                  <a:pt x="77" y="2221"/>
                </a:lnTo>
                <a:lnTo>
                  <a:pt x="69" y="2204"/>
                </a:lnTo>
                <a:lnTo>
                  <a:pt x="61" y="2186"/>
                </a:lnTo>
                <a:lnTo>
                  <a:pt x="56" y="2169"/>
                </a:lnTo>
                <a:lnTo>
                  <a:pt x="50" y="2152"/>
                </a:lnTo>
                <a:lnTo>
                  <a:pt x="44" y="2136"/>
                </a:lnTo>
                <a:lnTo>
                  <a:pt x="40" y="2123"/>
                </a:lnTo>
                <a:lnTo>
                  <a:pt x="36" y="2111"/>
                </a:lnTo>
                <a:lnTo>
                  <a:pt x="34" y="2098"/>
                </a:lnTo>
                <a:lnTo>
                  <a:pt x="33" y="2087"/>
                </a:lnTo>
                <a:lnTo>
                  <a:pt x="33" y="2075"/>
                </a:lnTo>
                <a:lnTo>
                  <a:pt x="33" y="2071"/>
                </a:lnTo>
                <a:lnTo>
                  <a:pt x="33" y="2067"/>
                </a:lnTo>
                <a:lnTo>
                  <a:pt x="34" y="2062"/>
                </a:lnTo>
                <a:lnTo>
                  <a:pt x="34" y="2056"/>
                </a:lnTo>
                <a:lnTo>
                  <a:pt x="34" y="2048"/>
                </a:lnTo>
                <a:lnTo>
                  <a:pt x="36" y="2040"/>
                </a:lnTo>
                <a:lnTo>
                  <a:pt x="38" y="2033"/>
                </a:lnTo>
                <a:lnTo>
                  <a:pt x="38" y="2023"/>
                </a:lnTo>
                <a:lnTo>
                  <a:pt x="40" y="2016"/>
                </a:lnTo>
                <a:lnTo>
                  <a:pt x="42" y="2004"/>
                </a:lnTo>
                <a:lnTo>
                  <a:pt x="44" y="1994"/>
                </a:lnTo>
                <a:lnTo>
                  <a:pt x="46" y="1983"/>
                </a:lnTo>
                <a:lnTo>
                  <a:pt x="46" y="1971"/>
                </a:lnTo>
                <a:lnTo>
                  <a:pt x="48" y="1960"/>
                </a:lnTo>
                <a:lnTo>
                  <a:pt x="50" y="1948"/>
                </a:lnTo>
                <a:lnTo>
                  <a:pt x="52" y="1935"/>
                </a:lnTo>
                <a:lnTo>
                  <a:pt x="54" y="1927"/>
                </a:lnTo>
                <a:lnTo>
                  <a:pt x="54" y="1920"/>
                </a:lnTo>
                <a:lnTo>
                  <a:pt x="56" y="1910"/>
                </a:lnTo>
                <a:lnTo>
                  <a:pt x="56" y="1898"/>
                </a:lnTo>
                <a:lnTo>
                  <a:pt x="56" y="1887"/>
                </a:lnTo>
                <a:lnTo>
                  <a:pt x="58" y="1875"/>
                </a:lnTo>
                <a:lnTo>
                  <a:pt x="58" y="1860"/>
                </a:lnTo>
                <a:lnTo>
                  <a:pt x="59" y="1847"/>
                </a:lnTo>
                <a:lnTo>
                  <a:pt x="59" y="1829"/>
                </a:lnTo>
                <a:lnTo>
                  <a:pt x="61" y="1812"/>
                </a:lnTo>
                <a:lnTo>
                  <a:pt x="61" y="1793"/>
                </a:lnTo>
                <a:lnTo>
                  <a:pt x="63" y="1774"/>
                </a:lnTo>
                <a:lnTo>
                  <a:pt x="63" y="1753"/>
                </a:lnTo>
                <a:lnTo>
                  <a:pt x="63" y="1732"/>
                </a:lnTo>
                <a:lnTo>
                  <a:pt x="65" y="1708"/>
                </a:lnTo>
                <a:lnTo>
                  <a:pt x="65" y="1684"/>
                </a:lnTo>
                <a:lnTo>
                  <a:pt x="65" y="1659"/>
                </a:lnTo>
                <a:lnTo>
                  <a:pt x="67" y="1632"/>
                </a:lnTo>
                <a:lnTo>
                  <a:pt x="67" y="1603"/>
                </a:lnTo>
                <a:lnTo>
                  <a:pt x="67" y="1574"/>
                </a:lnTo>
                <a:lnTo>
                  <a:pt x="69" y="1543"/>
                </a:lnTo>
                <a:lnTo>
                  <a:pt x="69" y="1513"/>
                </a:lnTo>
                <a:lnTo>
                  <a:pt x="69" y="1480"/>
                </a:lnTo>
                <a:lnTo>
                  <a:pt x="69" y="1446"/>
                </a:lnTo>
                <a:lnTo>
                  <a:pt x="71" y="1411"/>
                </a:lnTo>
                <a:lnTo>
                  <a:pt x="71" y="1375"/>
                </a:lnTo>
                <a:lnTo>
                  <a:pt x="71" y="1336"/>
                </a:lnTo>
                <a:lnTo>
                  <a:pt x="71" y="1298"/>
                </a:lnTo>
                <a:lnTo>
                  <a:pt x="71" y="1257"/>
                </a:lnTo>
                <a:lnTo>
                  <a:pt x="71" y="1217"/>
                </a:lnTo>
                <a:lnTo>
                  <a:pt x="71" y="1173"/>
                </a:lnTo>
                <a:lnTo>
                  <a:pt x="71" y="1131"/>
                </a:lnTo>
                <a:lnTo>
                  <a:pt x="71" y="1087"/>
                </a:lnTo>
                <a:lnTo>
                  <a:pt x="71" y="1044"/>
                </a:lnTo>
                <a:lnTo>
                  <a:pt x="71" y="1002"/>
                </a:lnTo>
                <a:lnTo>
                  <a:pt x="71" y="962"/>
                </a:lnTo>
                <a:lnTo>
                  <a:pt x="71" y="922"/>
                </a:lnTo>
                <a:lnTo>
                  <a:pt x="71" y="885"/>
                </a:lnTo>
                <a:lnTo>
                  <a:pt x="71" y="847"/>
                </a:lnTo>
                <a:lnTo>
                  <a:pt x="71" y="812"/>
                </a:lnTo>
                <a:lnTo>
                  <a:pt x="71" y="776"/>
                </a:lnTo>
                <a:lnTo>
                  <a:pt x="71" y="743"/>
                </a:lnTo>
                <a:lnTo>
                  <a:pt x="71" y="711"/>
                </a:lnTo>
                <a:lnTo>
                  <a:pt x="71" y="678"/>
                </a:lnTo>
                <a:lnTo>
                  <a:pt x="71" y="647"/>
                </a:lnTo>
                <a:lnTo>
                  <a:pt x="71" y="618"/>
                </a:lnTo>
                <a:lnTo>
                  <a:pt x="71" y="590"/>
                </a:lnTo>
                <a:lnTo>
                  <a:pt x="71" y="563"/>
                </a:lnTo>
                <a:lnTo>
                  <a:pt x="69" y="538"/>
                </a:lnTo>
                <a:lnTo>
                  <a:pt x="69" y="513"/>
                </a:lnTo>
                <a:lnTo>
                  <a:pt x="69" y="488"/>
                </a:lnTo>
                <a:lnTo>
                  <a:pt x="69" y="465"/>
                </a:lnTo>
                <a:lnTo>
                  <a:pt x="69" y="444"/>
                </a:lnTo>
                <a:lnTo>
                  <a:pt x="69" y="423"/>
                </a:lnTo>
                <a:lnTo>
                  <a:pt x="67" y="403"/>
                </a:lnTo>
                <a:lnTo>
                  <a:pt x="67" y="384"/>
                </a:lnTo>
                <a:lnTo>
                  <a:pt x="67" y="367"/>
                </a:lnTo>
                <a:lnTo>
                  <a:pt x="67" y="352"/>
                </a:lnTo>
                <a:lnTo>
                  <a:pt x="65" y="336"/>
                </a:lnTo>
                <a:lnTo>
                  <a:pt x="65" y="321"/>
                </a:lnTo>
                <a:lnTo>
                  <a:pt x="65" y="307"/>
                </a:lnTo>
                <a:lnTo>
                  <a:pt x="63" y="296"/>
                </a:lnTo>
                <a:lnTo>
                  <a:pt x="63" y="284"/>
                </a:lnTo>
                <a:lnTo>
                  <a:pt x="61" y="275"/>
                </a:lnTo>
                <a:lnTo>
                  <a:pt x="59" y="258"/>
                </a:lnTo>
                <a:lnTo>
                  <a:pt x="58" y="240"/>
                </a:lnTo>
                <a:lnTo>
                  <a:pt x="56" y="223"/>
                </a:lnTo>
                <a:lnTo>
                  <a:pt x="54" y="208"/>
                </a:lnTo>
                <a:lnTo>
                  <a:pt x="52" y="192"/>
                </a:lnTo>
                <a:lnTo>
                  <a:pt x="50" y="179"/>
                </a:lnTo>
                <a:lnTo>
                  <a:pt x="48" y="167"/>
                </a:lnTo>
                <a:lnTo>
                  <a:pt x="46" y="154"/>
                </a:lnTo>
                <a:lnTo>
                  <a:pt x="44" y="144"/>
                </a:lnTo>
                <a:lnTo>
                  <a:pt x="42" y="135"/>
                </a:lnTo>
                <a:lnTo>
                  <a:pt x="38" y="125"/>
                </a:lnTo>
                <a:lnTo>
                  <a:pt x="36" y="118"/>
                </a:lnTo>
                <a:lnTo>
                  <a:pt x="33" y="110"/>
                </a:lnTo>
                <a:lnTo>
                  <a:pt x="31" y="104"/>
                </a:lnTo>
                <a:lnTo>
                  <a:pt x="27" y="98"/>
                </a:lnTo>
                <a:lnTo>
                  <a:pt x="23" y="9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39"/>
          <p:cNvSpPr/>
          <p:nvPr/>
        </p:nvSpPr>
        <p:spPr>
          <a:xfrm>
            <a:off x="2478240" y="2357280"/>
            <a:ext cx="303120" cy="212760"/>
          </a:xfrm>
          <a:custGeom>
            <a:avLst/>
            <a:gdLst/>
            <a:ahLst/>
            <a:rect l="l" t="t" r="r" b="b"/>
            <a:pathLst>
              <a:path w="382" h="267">
                <a:moveTo>
                  <a:pt x="9" y="19"/>
                </a:moveTo>
                <a:lnTo>
                  <a:pt x="15" y="16"/>
                </a:lnTo>
                <a:lnTo>
                  <a:pt x="21" y="12"/>
                </a:lnTo>
                <a:lnTo>
                  <a:pt x="28" y="8"/>
                </a:lnTo>
                <a:lnTo>
                  <a:pt x="38" y="6"/>
                </a:lnTo>
                <a:lnTo>
                  <a:pt x="52" y="2"/>
                </a:lnTo>
                <a:lnTo>
                  <a:pt x="65" y="0"/>
                </a:lnTo>
                <a:lnTo>
                  <a:pt x="80" y="0"/>
                </a:lnTo>
                <a:lnTo>
                  <a:pt x="98" y="0"/>
                </a:lnTo>
                <a:lnTo>
                  <a:pt x="126" y="0"/>
                </a:lnTo>
                <a:lnTo>
                  <a:pt x="142" y="0"/>
                </a:lnTo>
                <a:lnTo>
                  <a:pt x="157" y="0"/>
                </a:lnTo>
                <a:lnTo>
                  <a:pt x="172" y="2"/>
                </a:lnTo>
                <a:lnTo>
                  <a:pt x="188" y="4"/>
                </a:lnTo>
                <a:lnTo>
                  <a:pt x="205" y="6"/>
                </a:lnTo>
                <a:lnTo>
                  <a:pt x="222" y="10"/>
                </a:lnTo>
                <a:lnTo>
                  <a:pt x="238" y="14"/>
                </a:lnTo>
                <a:lnTo>
                  <a:pt x="251" y="19"/>
                </a:lnTo>
                <a:lnTo>
                  <a:pt x="263" y="25"/>
                </a:lnTo>
                <a:lnTo>
                  <a:pt x="274" y="31"/>
                </a:lnTo>
                <a:lnTo>
                  <a:pt x="286" y="41"/>
                </a:lnTo>
                <a:lnTo>
                  <a:pt x="297" y="48"/>
                </a:lnTo>
                <a:lnTo>
                  <a:pt x="309" y="58"/>
                </a:lnTo>
                <a:lnTo>
                  <a:pt x="320" y="69"/>
                </a:lnTo>
                <a:lnTo>
                  <a:pt x="330" y="81"/>
                </a:lnTo>
                <a:lnTo>
                  <a:pt x="339" y="92"/>
                </a:lnTo>
                <a:lnTo>
                  <a:pt x="349" y="104"/>
                </a:lnTo>
                <a:lnTo>
                  <a:pt x="357" y="115"/>
                </a:lnTo>
                <a:lnTo>
                  <a:pt x="362" y="129"/>
                </a:lnTo>
                <a:lnTo>
                  <a:pt x="368" y="142"/>
                </a:lnTo>
                <a:lnTo>
                  <a:pt x="374" y="156"/>
                </a:lnTo>
                <a:lnTo>
                  <a:pt x="378" y="171"/>
                </a:lnTo>
                <a:lnTo>
                  <a:pt x="380" y="188"/>
                </a:lnTo>
                <a:lnTo>
                  <a:pt x="382" y="204"/>
                </a:lnTo>
                <a:lnTo>
                  <a:pt x="382" y="219"/>
                </a:lnTo>
                <a:lnTo>
                  <a:pt x="380" y="231"/>
                </a:lnTo>
                <a:lnTo>
                  <a:pt x="378" y="240"/>
                </a:lnTo>
                <a:lnTo>
                  <a:pt x="374" y="250"/>
                </a:lnTo>
                <a:lnTo>
                  <a:pt x="372" y="256"/>
                </a:lnTo>
                <a:lnTo>
                  <a:pt x="368" y="261"/>
                </a:lnTo>
                <a:lnTo>
                  <a:pt x="364" y="263"/>
                </a:lnTo>
                <a:lnTo>
                  <a:pt x="359" y="267"/>
                </a:lnTo>
                <a:lnTo>
                  <a:pt x="353" y="267"/>
                </a:lnTo>
                <a:lnTo>
                  <a:pt x="345" y="267"/>
                </a:lnTo>
                <a:lnTo>
                  <a:pt x="336" y="265"/>
                </a:lnTo>
                <a:lnTo>
                  <a:pt x="326" y="263"/>
                </a:lnTo>
                <a:lnTo>
                  <a:pt x="316" y="259"/>
                </a:lnTo>
                <a:lnTo>
                  <a:pt x="303" y="256"/>
                </a:lnTo>
                <a:lnTo>
                  <a:pt x="291" y="250"/>
                </a:lnTo>
                <a:lnTo>
                  <a:pt x="278" y="242"/>
                </a:lnTo>
                <a:lnTo>
                  <a:pt x="263" y="234"/>
                </a:lnTo>
                <a:lnTo>
                  <a:pt x="247" y="227"/>
                </a:lnTo>
                <a:lnTo>
                  <a:pt x="230" y="215"/>
                </a:lnTo>
                <a:lnTo>
                  <a:pt x="213" y="206"/>
                </a:lnTo>
                <a:lnTo>
                  <a:pt x="194" y="192"/>
                </a:lnTo>
                <a:lnTo>
                  <a:pt x="174" y="181"/>
                </a:lnTo>
                <a:lnTo>
                  <a:pt x="153" y="167"/>
                </a:lnTo>
                <a:lnTo>
                  <a:pt x="134" y="154"/>
                </a:lnTo>
                <a:lnTo>
                  <a:pt x="115" y="142"/>
                </a:lnTo>
                <a:lnTo>
                  <a:pt x="98" y="131"/>
                </a:lnTo>
                <a:lnTo>
                  <a:pt x="82" y="121"/>
                </a:lnTo>
                <a:lnTo>
                  <a:pt x="69" y="110"/>
                </a:lnTo>
                <a:lnTo>
                  <a:pt x="55" y="100"/>
                </a:lnTo>
                <a:lnTo>
                  <a:pt x="44" y="92"/>
                </a:lnTo>
                <a:lnTo>
                  <a:pt x="34" y="85"/>
                </a:lnTo>
                <a:lnTo>
                  <a:pt x="25" y="77"/>
                </a:lnTo>
                <a:lnTo>
                  <a:pt x="17" y="69"/>
                </a:lnTo>
                <a:lnTo>
                  <a:pt x="11" y="64"/>
                </a:lnTo>
                <a:lnTo>
                  <a:pt x="5" y="60"/>
                </a:lnTo>
                <a:lnTo>
                  <a:pt x="4" y="56"/>
                </a:lnTo>
                <a:lnTo>
                  <a:pt x="2" y="52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2" y="31"/>
                </a:lnTo>
                <a:lnTo>
                  <a:pt x="4" y="27"/>
                </a:lnTo>
                <a:lnTo>
                  <a:pt x="7" y="23"/>
                </a:lnTo>
                <a:lnTo>
                  <a:pt x="9" y="19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0" descr="1116667721396942839109.png"/>
          <p:cNvPicPr/>
          <p:nvPr/>
        </p:nvPicPr>
        <p:blipFill>
          <a:blip r:embed="rId9"/>
          <a:srcRect l="0" t="0" r="-3468" b="0"/>
          <a:stretch/>
        </p:blipFill>
        <p:spPr>
          <a:xfrm>
            <a:off x="1981080" y="2743200"/>
            <a:ext cx="838440" cy="3049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1" descr="1116667721396942839109.png"/>
          <p:cNvPicPr/>
          <p:nvPr/>
        </p:nvPicPr>
        <p:blipFill>
          <a:blip r:embed="rId10"/>
          <a:srcRect l="0" t="0" r="0" b="-14217"/>
          <a:stretch/>
        </p:blipFill>
        <p:spPr>
          <a:xfrm>
            <a:off x="1981080" y="304812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42"/>
          <p:cNvSpPr/>
          <p:nvPr/>
        </p:nvSpPr>
        <p:spPr>
          <a:xfrm>
            <a:off x="2478240" y="3138480"/>
            <a:ext cx="136440" cy="863640"/>
          </a:xfrm>
          <a:custGeom>
            <a:avLst/>
            <a:gdLst/>
            <a:ahLst/>
            <a:rect l="l" t="t" r="r" b="b"/>
            <a:pathLst>
              <a:path w="172" h="1086">
                <a:moveTo>
                  <a:pt x="19" y="764"/>
                </a:moveTo>
                <a:lnTo>
                  <a:pt x="21" y="754"/>
                </a:lnTo>
                <a:lnTo>
                  <a:pt x="23" y="743"/>
                </a:lnTo>
                <a:lnTo>
                  <a:pt x="27" y="729"/>
                </a:lnTo>
                <a:lnTo>
                  <a:pt x="28" y="716"/>
                </a:lnTo>
                <a:lnTo>
                  <a:pt x="30" y="700"/>
                </a:lnTo>
                <a:lnTo>
                  <a:pt x="34" y="683"/>
                </a:lnTo>
                <a:lnTo>
                  <a:pt x="36" y="666"/>
                </a:lnTo>
                <a:lnTo>
                  <a:pt x="38" y="647"/>
                </a:lnTo>
                <a:lnTo>
                  <a:pt x="42" y="625"/>
                </a:lnTo>
                <a:lnTo>
                  <a:pt x="44" y="604"/>
                </a:lnTo>
                <a:lnTo>
                  <a:pt x="48" y="581"/>
                </a:lnTo>
                <a:lnTo>
                  <a:pt x="50" y="558"/>
                </a:lnTo>
                <a:lnTo>
                  <a:pt x="52" y="533"/>
                </a:lnTo>
                <a:lnTo>
                  <a:pt x="53" y="506"/>
                </a:lnTo>
                <a:lnTo>
                  <a:pt x="57" y="480"/>
                </a:lnTo>
                <a:lnTo>
                  <a:pt x="59" y="453"/>
                </a:lnTo>
                <a:lnTo>
                  <a:pt x="59" y="424"/>
                </a:lnTo>
                <a:lnTo>
                  <a:pt x="61" y="397"/>
                </a:lnTo>
                <a:lnTo>
                  <a:pt x="61" y="372"/>
                </a:lnTo>
                <a:lnTo>
                  <a:pt x="63" y="347"/>
                </a:lnTo>
                <a:lnTo>
                  <a:pt x="63" y="322"/>
                </a:lnTo>
                <a:lnTo>
                  <a:pt x="61" y="301"/>
                </a:lnTo>
                <a:lnTo>
                  <a:pt x="61" y="278"/>
                </a:lnTo>
                <a:lnTo>
                  <a:pt x="61" y="257"/>
                </a:lnTo>
                <a:lnTo>
                  <a:pt x="59" y="238"/>
                </a:lnTo>
                <a:lnTo>
                  <a:pt x="59" y="219"/>
                </a:lnTo>
                <a:lnTo>
                  <a:pt x="57" y="201"/>
                </a:lnTo>
                <a:lnTo>
                  <a:pt x="55" y="186"/>
                </a:lnTo>
                <a:lnTo>
                  <a:pt x="53" y="171"/>
                </a:lnTo>
                <a:lnTo>
                  <a:pt x="52" y="155"/>
                </a:lnTo>
                <a:lnTo>
                  <a:pt x="50" y="142"/>
                </a:lnTo>
                <a:lnTo>
                  <a:pt x="50" y="130"/>
                </a:lnTo>
                <a:lnTo>
                  <a:pt x="46" y="111"/>
                </a:lnTo>
                <a:lnTo>
                  <a:pt x="42" y="94"/>
                </a:lnTo>
                <a:lnTo>
                  <a:pt x="38" y="75"/>
                </a:lnTo>
                <a:lnTo>
                  <a:pt x="36" y="57"/>
                </a:lnTo>
                <a:lnTo>
                  <a:pt x="32" y="42"/>
                </a:lnTo>
                <a:lnTo>
                  <a:pt x="30" y="27"/>
                </a:lnTo>
                <a:lnTo>
                  <a:pt x="30" y="11"/>
                </a:lnTo>
                <a:lnTo>
                  <a:pt x="28" y="0"/>
                </a:lnTo>
                <a:lnTo>
                  <a:pt x="53" y="7"/>
                </a:lnTo>
                <a:lnTo>
                  <a:pt x="65" y="11"/>
                </a:lnTo>
                <a:lnTo>
                  <a:pt x="76" y="15"/>
                </a:lnTo>
                <a:lnTo>
                  <a:pt x="86" y="19"/>
                </a:lnTo>
                <a:lnTo>
                  <a:pt x="98" y="23"/>
                </a:lnTo>
                <a:lnTo>
                  <a:pt x="105" y="25"/>
                </a:lnTo>
                <a:lnTo>
                  <a:pt x="115" y="29"/>
                </a:lnTo>
                <a:lnTo>
                  <a:pt x="123" y="32"/>
                </a:lnTo>
                <a:lnTo>
                  <a:pt x="132" y="34"/>
                </a:lnTo>
                <a:lnTo>
                  <a:pt x="138" y="38"/>
                </a:lnTo>
                <a:lnTo>
                  <a:pt x="146" y="40"/>
                </a:lnTo>
                <a:lnTo>
                  <a:pt x="151" y="44"/>
                </a:lnTo>
                <a:lnTo>
                  <a:pt x="157" y="46"/>
                </a:lnTo>
                <a:lnTo>
                  <a:pt x="161" y="48"/>
                </a:lnTo>
                <a:lnTo>
                  <a:pt x="165" y="50"/>
                </a:lnTo>
                <a:lnTo>
                  <a:pt x="165" y="54"/>
                </a:lnTo>
                <a:lnTo>
                  <a:pt x="167" y="55"/>
                </a:lnTo>
                <a:lnTo>
                  <a:pt x="167" y="59"/>
                </a:lnTo>
                <a:lnTo>
                  <a:pt x="169" y="65"/>
                </a:lnTo>
                <a:lnTo>
                  <a:pt x="169" y="71"/>
                </a:lnTo>
                <a:lnTo>
                  <a:pt x="169" y="78"/>
                </a:lnTo>
                <a:lnTo>
                  <a:pt x="170" y="86"/>
                </a:lnTo>
                <a:lnTo>
                  <a:pt x="170" y="96"/>
                </a:lnTo>
                <a:lnTo>
                  <a:pt x="170" y="105"/>
                </a:lnTo>
                <a:lnTo>
                  <a:pt x="170" y="115"/>
                </a:lnTo>
                <a:lnTo>
                  <a:pt x="170" y="128"/>
                </a:lnTo>
                <a:lnTo>
                  <a:pt x="170" y="140"/>
                </a:lnTo>
                <a:lnTo>
                  <a:pt x="172" y="153"/>
                </a:lnTo>
                <a:lnTo>
                  <a:pt x="172" y="169"/>
                </a:lnTo>
                <a:lnTo>
                  <a:pt x="172" y="184"/>
                </a:lnTo>
                <a:lnTo>
                  <a:pt x="172" y="199"/>
                </a:lnTo>
                <a:lnTo>
                  <a:pt x="172" y="217"/>
                </a:lnTo>
                <a:lnTo>
                  <a:pt x="172" y="236"/>
                </a:lnTo>
                <a:lnTo>
                  <a:pt x="172" y="255"/>
                </a:lnTo>
                <a:lnTo>
                  <a:pt x="170" y="274"/>
                </a:lnTo>
                <a:lnTo>
                  <a:pt x="170" y="295"/>
                </a:lnTo>
                <a:lnTo>
                  <a:pt x="170" y="316"/>
                </a:lnTo>
                <a:lnTo>
                  <a:pt x="170" y="339"/>
                </a:lnTo>
                <a:lnTo>
                  <a:pt x="170" y="363"/>
                </a:lnTo>
                <a:lnTo>
                  <a:pt x="170" y="387"/>
                </a:lnTo>
                <a:lnTo>
                  <a:pt x="169" y="412"/>
                </a:lnTo>
                <a:lnTo>
                  <a:pt x="169" y="439"/>
                </a:lnTo>
                <a:lnTo>
                  <a:pt x="169" y="466"/>
                </a:lnTo>
                <a:lnTo>
                  <a:pt x="167" y="493"/>
                </a:lnTo>
                <a:lnTo>
                  <a:pt x="167" y="524"/>
                </a:lnTo>
                <a:lnTo>
                  <a:pt x="165" y="553"/>
                </a:lnTo>
                <a:lnTo>
                  <a:pt x="165" y="583"/>
                </a:lnTo>
                <a:lnTo>
                  <a:pt x="163" y="614"/>
                </a:lnTo>
                <a:lnTo>
                  <a:pt x="161" y="643"/>
                </a:lnTo>
                <a:lnTo>
                  <a:pt x="159" y="672"/>
                </a:lnTo>
                <a:lnTo>
                  <a:pt x="157" y="700"/>
                </a:lnTo>
                <a:lnTo>
                  <a:pt x="155" y="727"/>
                </a:lnTo>
                <a:lnTo>
                  <a:pt x="153" y="752"/>
                </a:lnTo>
                <a:lnTo>
                  <a:pt x="151" y="777"/>
                </a:lnTo>
                <a:lnTo>
                  <a:pt x="151" y="802"/>
                </a:lnTo>
                <a:lnTo>
                  <a:pt x="149" y="825"/>
                </a:lnTo>
                <a:lnTo>
                  <a:pt x="147" y="846"/>
                </a:lnTo>
                <a:lnTo>
                  <a:pt x="146" y="867"/>
                </a:lnTo>
                <a:lnTo>
                  <a:pt x="144" y="888"/>
                </a:lnTo>
                <a:lnTo>
                  <a:pt x="142" y="908"/>
                </a:lnTo>
                <a:lnTo>
                  <a:pt x="140" y="925"/>
                </a:lnTo>
                <a:lnTo>
                  <a:pt x="138" y="942"/>
                </a:lnTo>
                <a:lnTo>
                  <a:pt x="136" y="959"/>
                </a:lnTo>
                <a:lnTo>
                  <a:pt x="134" y="975"/>
                </a:lnTo>
                <a:lnTo>
                  <a:pt x="132" y="988"/>
                </a:lnTo>
                <a:lnTo>
                  <a:pt x="130" y="1002"/>
                </a:lnTo>
                <a:lnTo>
                  <a:pt x="128" y="1015"/>
                </a:lnTo>
                <a:lnTo>
                  <a:pt x="126" y="1027"/>
                </a:lnTo>
                <a:lnTo>
                  <a:pt x="124" y="1036"/>
                </a:lnTo>
                <a:lnTo>
                  <a:pt x="123" y="1046"/>
                </a:lnTo>
                <a:lnTo>
                  <a:pt x="121" y="1053"/>
                </a:lnTo>
                <a:lnTo>
                  <a:pt x="119" y="1061"/>
                </a:lnTo>
                <a:lnTo>
                  <a:pt x="117" y="1069"/>
                </a:lnTo>
                <a:lnTo>
                  <a:pt x="115" y="1075"/>
                </a:lnTo>
                <a:lnTo>
                  <a:pt x="115" y="1078"/>
                </a:lnTo>
                <a:lnTo>
                  <a:pt x="113" y="1082"/>
                </a:lnTo>
                <a:lnTo>
                  <a:pt x="111" y="1084"/>
                </a:lnTo>
                <a:lnTo>
                  <a:pt x="109" y="1086"/>
                </a:lnTo>
                <a:lnTo>
                  <a:pt x="107" y="1086"/>
                </a:lnTo>
                <a:lnTo>
                  <a:pt x="103" y="1086"/>
                </a:lnTo>
                <a:lnTo>
                  <a:pt x="99" y="1084"/>
                </a:lnTo>
                <a:lnTo>
                  <a:pt x="96" y="1082"/>
                </a:lnTo>
                <a:lnTo>
                  <a:pt x="92" y="1080"/>
                </a:lnTo>
                <a:lnTo>
                  <a:pt x="88" y="1076"/>
                </a:lnTo>
                <a:lnTo>
                  <a:pt x="84" y="1073"/>
                </a:lnTo>
                <a:lnTo>
                  <a:pt x="80" y="1069"/>
                </a:lnTo>
                <a:lnTo>
                  <a:pt x="76" y="1063"/>
                </a:lnTo>
                <a:lnTo>
                  <a:pt x="73" y="1057"/>
                </a:lnTo>
                <a:lnTo>
                  <a:pt x="67" y="1051"/>
                </a:lnTo>
                <a:lnTo>
                  <a:pt x="63" y="1044"/>
                </a:lnTo>
                <a:lnTo>
                  <a:pt x="59" y="1034"/>
                </a:lnTo>
                <a:lnTo>
                  <a:pt x="53" y="1027"/>
                </a:lnTo>
                <a:lnTo>
                  <a:pt x="50" y="1017"/>
                </a:lnTo>
                <a:lnTo>
                  <a:pt x="44" y="1007"/>
                </a:lnTo>
                <a:lnTo>
                  <a:pt x="38" y="996"/>
                </a:lnTo>
                <a:lnTo>
                  <a:pt x="28" y="977"/>
                </a:lnTo>
                <a:lnTo>
                  <a:pt x="21" y="959"/>
                </a:lnTo>
                <a:lnTo>
                  <a:pt x="13" y="942"/>
                </a:lnTo>
                <a:lnTo>
                  <a:pt x="9" y="927"/>
                </a:lnTo>
                <a:lnTo>
                  <a:pt x="5" y="913"/>
                </a:lnTo>
                <a:lnTo>
                  <a:pt x="2" y="900"/>
                </a:lnTo>
                <a:lnTo>
                  <a:pt x="2" y="886"/>
                </a:lnTo>
                <a:lnTo>
                  <a:pt x="0" y="875"/>
                </a:lnTo>
                <a:lnTo>
                  <a:pt x="2" y="863"/>
                </a:lnTo>
                <a:lnTo>
                  <a:pt x="2" y="852"/>
                </a:lnTo>
                <a:lnTo>
                  <a:pt x="4" y="840"/>
                </a:lnTo>
                <a:lnTo>
                  <a:pt x="5" y="827"/>
                </a:lnTo>
                <a:lnTo>
                  <a:pt x="9" y="814"/>
                </a:lnTo>
                <a:lnTo>
                  <a:pt x="13" y="798"/>
                </a:lnTo>
                <a:lnTo>
                  <a:pt x="17" y="783"/>
                </a:lnTo>
                <a:lnTo>
                  <a:pt x="19" y="76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3"/>
          <p:cNvSpPr/>
          <p:nvPr/>
        </p:nvSpPr>
        <p:spPr>
          <a:xfrm>
            <a:off x="2662200" y="3060720"/>
            <a:ext cx="254160" cy="277920"/>
          </a:xfrm>
          <a:custGeom>
            <a:avLst/>
            <a:gdLst/>
            <a:ahLst/>
            <a:rect l="l" t="t" r="r" b="b"/>
            <a:pathLst>
              <a:path w="320" h="351">
                <a:moveTo>
                  <a:pt x="155" y="131"/>
                </a:moveTo>
                <a:lnTo>
                  <a:pt x="161" y="119"/>
                </a:lnTo>
                <a:lnTo>
                  <a:pt x="167" y="107"/>
                </a:lnTo>
                <a:lnTo>
                  <a:pt x="173" y="96"/>
                </a:lnTo>
                <a:lnTo>
                  <a:pt x="176" y="84"/>
                </a:lnTo>
                <a:lnTo>
                  <a:pt x="178" y="73"/>
                </a:lnTo>
                <a:lnTo>
                  <a:pt x="178" y="61"/>
                </a:lnTo>
                <a:lnTo>
                  <a:pt x="176" y="52"/>
                </a:lnTo>
                <a:lnTo>
                  <a:pt x="175" y="40"/>
                </a:lnTo>
                <a:lnTo>
                  <a:pt x="173" y="29"/>
                </a:lnTo>
                <a:lnTo>
                  <a:pt x="171" y="21"/>
                </a:lnTo>
                <a:lnTo>
                  <a:pt x="173" y="13"/>
                </a:lnTo>
                <a:lnTo>
                  <a:pt x="175" y="8"/>
                </a:lnTo>
                <a:lnTo>
                  <a:pt x="178" y="4"/>
                </a:lnTo>
                <a:lnTo>
                  <a:pt x="186" y="2"/>
                </a:lnTo>
                <a:lnTo>
                  <a:pt x="194" y="0"/>
                </a:lnTo>
                <a:lnTo>
                  <a:pt x="203" y="0"/>
                </a:lnTo>
                <a:lnTo>
                  <a:pt x="211" y="0"/>
                </a:lnTo>
                <a:lnTo>
                  <a:pt x="221" y="2"/>
                </a:lnTo>
                <a:lnTo>
                  <a:pt x="228" y="4"/>
                </a:lnTo>
                <a:lnTo>
                  <a:pt x="240" y="8"/>
                </a:lnTo>
                <a:lnTo>
                  <a:pt x="249" y="13"/>
                </a:lnTo>
                <a:lnTo>
                  <a:pt x="259" y="21"/>
                </a:lnTo>
                <a:lnTo>
                  <a:pt x="270" y="29"/>
                </a:lnTo>
                <a:lnTo>
                  <a:pt x="276" y="35"/>
                </a:lnTo>
                <a:lnTo>
                  <a:pt x="282" y="40"/>
                </a:lnTo>
                <a:lnTo>
                  <a:pt x="292" y="52"/>
                </a:lnTo>
                <a:lnTo>
                  <a:pt x="299" y="61"/>
                </a:lnTo>
                <a:lnTo>
                  <a:pt x="305" y="73"/>
                </a:lnTo>
                <a:lnTo>
                  <a:pt x="311" y="84"/>
                </a:lnTo>
                <a:lnTo>
                  <a:pt x="315" y="94"/>
                </a:lnTo>
                <a:lnTo>
                  <a:pt x="318" y="104"/>
                </a:lnTo>
                <a:lnTo>
                  <a:pt x="318" y="111"/>
                </a:lnTo>
                <a:lnTo>
                  <a:pt x="320" y="121"/>
                </a:lnTo>
                <a:lnTo>
                  <a:pt x="318" y="123"/>
                </a:lnTo>
                <a:lnTo>
                  <a:pt x="317" y="127"/>
                </a:lnTo>
                <a:lnTo>
                  <a:pt x="315" y="129"/>
                </a:lnTo>
                <a:lnTo>
                  <a:pt x="313" y="132"/>
                </a:lnTo>
                <a:lnTo>
                  <a:pt x="309" y="136"/>
                </a:lnTo>
                <a:lnTo>
                  <a:pt x="305" y="142"/>
                </a:lnTo>
                <a:lnTo>
                  <a:pt x="301" y="146"/>
                </a:lnTo>
                <a:lnTo>
                  <a:pt x="295" y="150"/>
                </a:lnTo>
                <a:lnTo>
                  <a:pt x="292" y="155"/>
                </a:lnTo>
                <a:lnTo>
                  <a:pt x="286" y="161"/>
                </a:lnTo>
                <a:lnTo>
                  <a:pt x="278" y="165"/>
                </a:lnTo>
                <a:lnTo>
                  <a:pt x="272" y="171"/>
                </a:lnTo>
                <a:lnTo>
                  <a:pt x="265" y="178"/>
                </a:lnTo>
                <a:lnTo>
                  <a:pt x="257" y="184"/>
                </a:lnTo>
                <a:lnTo>
                  <a:pt x="247" y="190"/>
                </a:lnTo>
                <a:lnTo>
                  <a:pt x="240" y="198"/>
                </a:lnTo>
                <a:lnTo>
                  <a:pt x="230" y="205"/>
                </a:lnTo>
                <a:lnTo>
                  <a:pt x="221" y="211"/>
                </a:lnTo>
                <a:lnTo>
                  <a:pt x="209" y="221"/>
                </a:lnTo>
                <a:lnTo>
                  <a:pt x="199" y="228"/>
                </a:lnTo>
                <a:lnTo>
                  <a:pt x="188" y="236"/>
                </a:lnTo>
                <a:lnTo>
                  <a:pt x="176" y="246"/>
                </a:lnTo>
                <a:lnTo>
                  <a:pt x="163" y="253"/>
                </a:lnTo>
                <a:lnTo>
                  <a:pt x="150" y="263"/>
                </a:lnTo>
                <a:lnTo>
                  <a:pt x="136" y="273"/>
                </a:lnTo>
                <a:lnTo>
                  <a:pt x="123" y="284"/>
                </a:lnTo>
                <a:lnTo>
                  <a:pt x="109" y="294"/>
                </a:lnTo>
                <a:lnTo>
                  <a:pt x="94" y="305"/>
                </a:lnTo>
                <a:lnTo>
                  <a:pt x="79" y="315"/>
                </a:lnTo>
                <a:lnTo>
                  <a:pt x="63" y="326"/>
                </a:lnTo>
                <a:lnTo>
                  <a:pt x="46" y="340"/>
                </a:lnTo>
                <a:lnTo>
                  <a:pt x="29" y="351"/>
                </a:lnTo>
                <a:lnTo>
                  <a:pt x="15" y="336"/>
                </a:lnTo>
                <a:lnTo>
                  <a:pt x="0" y="321"/>
                </a:lnTo>
                <a:lnTo>
                  <a:pt x="15" y="303"/>
                </a:lnTo>
                <a:lnTo>
                  <a:pt x="31" y="284"/>
                </a:lnTo>
                <a:lnTo>
                  <a:pt x="46" y="269"/>
                </a:lnTo>
                <a:lnTo>
                  <a:pt x="57" y="253"/>
                </a:lnTo>
                <a:lnTo>
                  <a:pt x="71" y="238"/>
                </a:lnTo>
                <a:lnTo>
                  <a:pt x="82" y="225"/>
                </a:lnTo>
                <a:lnTo>
                  <a:pt x="94" y="211"/>
                </a:lnTo>
                <a:lnTo>
                  <a:pt x="104" y="200"/>
                </a:lnTo>
                <a:lnTo>
                  <a:pt x="111" y="188"/>
                </a:lnTo>
                <a:lnTo>
                  <a:pt x="121" y="177"/>
                </a:lnTo>
                <a:lnTo>
                  <a:pt x="128" y="167"/>
                </a:lnTo>
                <a:lnTo>
                  <a:pt x="134" y="159"/>
                </a:lnTo>
                <a:lnTo>
                  <a:pt x="142" y="150"/>
                </a:lnTo>
                <a:lnTo>
                  <a:pt x="146" y="142"/>
                </a:lnTo>
                <a:lnTo>
                  <a:pt x="152" y="136"/>
                </a:lnTo>
                <a:lnTo>
                  <a:pt x="155" y="131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44"/>
          <p:cNvSpPr/>
          <p:nvPr/>
        </p:nvSpPr>
        <p:spPr>
          <a:xfrm>
            <a:off x="2577960" y="3267000"/>
            <a:ext cx="304920" cy="255600"/>
          </a:xfrm>
          <a:custGeom>
            <a:avLst/>
            <a:gdLst/>
            <a:ahLst/>
            <a:rect l="l" t="t" r="r" b="b"/>
            <a:pathLst>
              <a:path w="384" h="322">
                <a:moveTo>
                  <a:pt x="0" y="0"/>
                </a:moveTo>
                <a:lnTo>
                  <a:pt x="31" y="10"/>
                </a:lnTo>
                <a:lnTo>
                  <a:pt x="62" y="19"/>
                </a:lnTo>
                <a:lnTo>
                  <a:pt x="91" y="27"/>
                </a:lnTo>
                <a:lnTo>
                  <a:pt x="117" y="36"/>
                </a:lnTo>
                <a:lnTo>
                  <a:pt x="142" y="44"/>
                </a:lnTo>
                <a:lnTo>
                  <a:pt x="167" y="52"/>
                </a:lnTo>
                <a:lnTo>
                  <a:pt x="188" y="60"/>
                </a:lnTo>
                <a:lnTo>
                  <a:pt x="210" y="67"/>
                </a:lnTo>
                <a:lnTo>
                  <a:pt x="229" y="75"/>
                </a:lnTo>
                <a:lnTo>
                  <a:pt x="244" y="83"/>
                </a:lnTo>
                <a:lnTo>
                  <a:pt x="259" y="90"/>
                </a:lnTo>
                <a:lnTo>
                  <a:pt x="273" y="96"/>
                </a:lnTo>
                <a:lnTo>
                  <a:pt x="284" y="102"/>
                </a:lnTo>
                <a:lnTo>
                  <a:pt x="296" y="109"/>
                </a:lnTo>
                <a:lnTo>
                  <a:pt x="304" y="115"/>
                </a:lnTo>
                <a:lnTo>
                  <a:pt x="309" y="121"/>
                </a:lnTo>
                <a:lnTo>
                  <a:pt x="321" y="131"/>
                </a:lnTo>
                <a:lnTo>
                  <a:pt x="330" y="142"/>
                </a:lnTo>
                <a:lnTo>
                  <a:pt x="342" y="152"/>
                </a:lnTo>
                <a:lnTo>
                  <a:pt x="352" y="161"/>
                </a:lnTo>
                <a:lnTo>
                  <a:pt x="359" y="171"/>
                </a:lnTo>
                <a:lnTo>
                  <a:pt x="367" y="180"/>
                </a:lnTo>
                <a:lnTo>
                  <a:pt x="373" y="190"/>
                </a:lnTo>
                <a:lnTo>
                  <a:pt x="376" y="202"/>
                </a:lnTo>
                <a:lnTo>
                  <a:pt x="380" y="211"/>
                </a:lnTo>
                <a:lnTo>
                  <a:pt x="382" y="223"/>
                </a:lnTo>
                <a:lnTo>
                  <a:pt x="384" y="232"/>
                </a:lnTo>
                <a:lnTo>
                  <a:pt x="384" y="242"/>
                </a:lnTo>
                <a:lnTo>
                  <a:pt x="384" y="251"/>
                </a:lnTo>
                <a:lnTo>
                  <a:pt x="382" y="261"/>
                </a:lnTo>
                <a:lnTo>
                  <a:pt x="380" y="271"/>
                </a:lnTo>
                <a:lnTo>
                  <a:pt x="376" y="282"/>
                </a:lnTo>
                <a:lnTo>
                  <a:pt x="373" y="292"/>
                </a:lnTo>
                <a:lnTo>
                  <a:pt x="369" y="301"/>
                </a:lnTo>
                <a:lnTo>
                  <a:pt x="363" y="307"/>
                </a:lnTo>
                <a:lnTo>
                  <a:pt x="357" y="313"/>
                </a:lnTo>
                <a:lnTo>
                  <a:pt x="353" y="317"/>
                </a:lnTo>
                <a:lnTo>
                  <a:pt x="348" y="319"/>
                </a:lnTo>
                <a:lnTo>
                  <a:pt x="342" y="321"/>
                </a:lnTo>
                <a:lnTo>
                  <a:pt x="338" y="322"/>
                </a:lnTo>
                <a:lnTo>
                  <a:pt x="336" y="321"/>
                </a:lnTo>
                <a:lnTo>
                  <a:pt x="334" y="321"/>
                </a:lnTo>
                <a:lnTo>
                  <a:pt x="330" y="319"/>
                </a:lnTo>
                <a:lnTo>
                  <a:pt x="327" y="317"/>
                </a:lnTo>
                <a:lnTo>
                  <a:pt x="323" y="315"/>
                </a:lnTo>
                <a:lnTo>
                  <a:pt x="317" y="313"/>
                </a:lnTo>
                <a:lnTo>
                  <a:pt x="311" y="309"/>
                </a:lnTo>
                <a:lnTo>
                  <a:pt x="305" y="305"/>
                </a:lnTo>
                <a:lnTo>
                  <a:pt x="300" y="301"/>
                </a:lnTo>
                <a:lnTo>
                  <a:pt x="292" y="296"/>
                </a:lnTo>
                <a:lnTo>
                  <a:pt x="284" y="290"/>
                </a:lnTo>
                <a:lnTo>
                  <a:pt x="277" y="284"/>
                </a:lnTo>
                <a:lnTo>
                  <a:pt x="267" y="276"/>
                </a:lnTo>
                <a:lnTo>
                  <a:pt x="258" y="271"/>
                </a:lnTo>
                <a:lnTo>
                  <a:pt x="248" y="263"/>
                </a:lnTo>
                <a:lnTo>
                  <a:pt x="238" y="255"/>
                </a:lnTo>
                <a:lnTo>
                  <a:pt x="227" y="246"/>
                </a:lnTo>
                <a:lnTo>
                  <a:pt x="215" y="236"/>
                </a:lnTo>
                <a:lnTo>
                  <a:pt x="204" y="226"/>
                </a:lnTo>
                <a:lnTo>
                  <a:pt x="190" y="217"/>
                </a:lnTo>
                <a:lnTo>
                  <a:pt x="177" y="205"/>
                </a:lnTo>
                <a:lnTo>
                  <a:pt x="163" y="194"/>
                </a:lnTo>
                <a:lnTo>
                  <a:pt x="150" y="182"/>
                </a:lnTo>
                <a:lnTo>
                  <a:pt x="135" y="169"/>
                </a:lnTo>
                <a:lnTo>
                  <a:pt x="119" y="157"/>
                </a:lnTo>
                <a:lnTo>
                  <a:pt x="104" y="142"/>
                </a:lnTo>
                <a:lnTo>
                  <a:pt x="89" y="129"/>
                </a:lnTo>
                <a:lnTo>
                  <a:pt x="71" y="113"/>
                </a:lnTo>
                <a:lnTo>
                  <a:pt x="54" y="100"/>
                </a:lnTo>
                <a:lnTo>
                  <a:pt x="37" y="83"/>
                </a:lnTo>
                <a:lnTo>
                  <a:pt x="18" y="67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500"/>
                            </p:stCondLst>
                            <p:childTnLst>
                              <p:par>
                                <p:cTn id="3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500"/>
                            </p:stCondLst>
                            <p:childTnLst>
                              <p:par>
                                <p:cTn id="41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Noname1"/>
          <p:cNvPicPr/>
          <p:nvPr/>
        </p:nvPicPr>
        <p:blipFill>
          <a:blip r:embed="rId1"/>
          <a:stretch/>
        </p:blipFill>
        <p:spPr>
          <a:xfrm>
            <a:off x="3048120" y="228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Noname1"/>
          <p:cNvPicPr/>
          <p:nvPr/>
        </p:nvPicPr>
        <p:blipFill>
          <a:blip r:embed="rId2"/>
          <a:stretch/>
        </p:blipFill>
        <p:spPr>
          <a:xfrm>
            <a:off x="7467480" y="27612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Noname1"/>
          <p:cNvPicPr/>
          <p:nvPr/>
        </p:nvPicPr>
        <p:blipFill>
          <a:blip r:embed="rId3"/>
          <a:stretch/>
        </p:blipFill>
        <p:spPr>
          <a:xfrm>
            <a:off x="5943600" y="30492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Noname1"/>
          <p:cNvPicPr/>
          <p:nvPr/>
        </p:nvPicPr>
        <p:blipFill>
          <a:blip r:embed="rId4"/>
          <a:stretch/>
        </p:blipFill>
        <p:spPr>
          <a:xfrm>
            <a:off x="4495680" y="22860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Noname1"/>
          <p:cNvPicPr/>
          <p:nvPr/>
        </p:nvPicPr>
        <p:blipFill>
          <a:blip r:embed="rId5"/>
          <a:stretch/>
        </p:blipFill>
        <p:spPr>
          <a:xfrm>
            <a:off x="1447920" y="23328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Noname1"/>
          <p:cNvPicPr/>
          <p:nvPr/>
        </p:nvPicPr>
        <p:blipFill>
          <a:blip r:embed="rId6"/>
          <a:stretch/>
        </p:blipFill>
        <p:spPr>
          <a:xfrm>
            <a:off x="152280" y="22860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243000" y="257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4724280" y="31240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夜 夜晚 夜色 深夜 夜长梦多 夜深人静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304920" y="5257800"/>
            <a:ext cx="8534160" cy="703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夜晚，周围静悄悄的，一点儿声音都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1"/>
          <p:cNvGrpSpPr/>
          <p:nvPr/>
        </p:nvGrpSpPr>
        <p:grpSpPr>
          <a:xfrm>
            <a:off x="1566720" y="1886040"/>
            <a:ext cx="2657520" cy="2657520"/>
            <a:chOff x="1566720" y="1886040"/>
            <a:chExt cx="2657520" cy="2657520"/>
          </a:xfrm>
        </p:grpSpPr>
        <p:sp>
          <p:nvSpPr>
            <p:cNvPr id="508" name="Rectangle 12"/>
            <p:cNvSpPr/>
            <p:nvPr/>
          </p:nvSpPr>
          <p:spPr>
            <a:xfrm>
              <a:off x="1566720" y="188604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3"/>
            <p:cNvSpPr/>
            <p:nvPr/>
          </p:nvSpPr>
          <p:spPr>
            <a:xfrm>
              <a:off x="1566720" y="322596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2879640" y="188604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Picture 15" descr="Noname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6"/>
          <p:cNvSpPr/>
          <p:nvPr/>
        </p:nvSpPr>
        <p:spPr>
          <a:xfrm>
            <a:off x="4724280" y="2286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下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1614600" y="285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结   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598644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751536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312408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部    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567320" y="30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笔   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2"/>
          <p:cNvSpPr/>
          <p:nvPr/>
        </p:nvSpPr>
        <p:spPr>
          <a:xfrm>
            <a:off x="2714760" y="2292480"/>
            <a:ext cx="264960" cy="23652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196" y="38"/>
                </a:moveTo>
                <a:lnTo>
                  <a:pt x="217" y="50"/>
                </a:lnTo>
                <a:lnTo>
                  <a:pt x="234" y="59"/>
                </a:lnTo>
                <a:lnTo>
                  <a:pt x="251" y="69"/>
                </a:lnTo>
                <a:lnTo>
                  <a:pt x="267" y="76"/>
                </a:lnTo>
                <a:lnTo>
                  <a:pt x="278" y="86"/>
                </a:lnTo>
                <a:lnTo>
                  <a:pt x="290" y="96"/>
                </a:lnTo>
                <a:lnTo>
                  <a:pt x="299" y="105"/>
                </a:lnTo>
                <a:lnTo>
                  <a:pt x="307" y="117"/>
                </a:lnTo>
                <a:lnTo>
                  <a:pt x="315" y="128"/>
                </a:lnTo>
                <a:lnTo>
                  <a:pt x="321" y="138"/>
                </a:lnTo>
                <a:lnTo>
                  <a:pt x="324" y="149"/>
                </a:lnTo>
                <a:lnTo>
                  <a:pt x="328" y="161"/>
                </a:lnTo>
                <a:lnTo>
                  <a:pt x="332" y="172"/>
                </a:lnTo>
                <a:lnTo>
                  <a:pt x="334" y="182"/>
                </a:lnTo>
                <a:lnTo>
                  <a:pt x="336" y="194"/>
                </a:lnTo>
                <a:lnTo>
                  <a:pt x="336" y="205"/>
                </a:lnTo>
                <a:lnTo>
                  <a:pt x="336" y="218"/>
                </a:lnTo>
                <a:lnTo>
                  <a:pt x="334" y="232"/>
                </a:lnTo>
                <a:lnTo>
                  <a:pt x="330" y="243"/>
                </a:lnTo>
                <a:lnTo>
                  <a:pt x="328" y="255"/>
                </a:lnTo>
                <a:lnTo>
                  <a:pt x="322" y="265"/>
                </a:lnTo>
                <a:lnTo>
                  <a:pt x="317" y="272"/>
                </a:lnTo>
                <a:lnTo>
                  <a:pt x="307" y="278"/>
                </a:lnTo>
                <a:lnTo>
                  <a:pt x="298" y="284"/>
                </a:lnTo>
                <a:lnTo>
                  <a:pt x="288" y="289"/>
                </a:lnTo>
                <a:lnTo>
                  <a:pt x="278" y="293"/>
                </a:lnTo>
                <a:lnTo>
                  <a:pt x="267" y="297"/>
                </a:lnTo>
                <a:lnTo>
                  <a:pt x="257" y="297"/>
                </a:lnTo>
                <a:lnTo>
                  <a:pt x="246" y="297"/>
                </a:lnTo>
                <a:lnTo>
                  <a:pt x="236" y="293"/>
                </a:lnTo>
                <a:lnTo>
                  <a:pt x="225" y="289"/>
                </a:lnTo>
                <a:lnTo>
                  <a:pt x="215" y="284"/>
                </a:lnTo>
                <a:lnTo>
                  <a:pt x="209" y="280"/>
                </a:lnTo>
                <a:lnTo>
                  <a:pt x="203" y="278"/>
                </a:lnTo>
                <a:lnTo>
                  <a:pt x="198" y="274"/>
                </a:lnTo>
                <a:lnTo>
                  <a:pt x="190" y="268"/>
                </a:lnTo>
                <a:lnTo>
                  <a:pt x="184" y="263"/>
                </a:lnTo>
                <a:lnTo>
                  <a:pt x="177" y="257"/>
                </a:lnTo>
                <a:lnTo>
                  <a:pt x="169" y="249"/>
                </a:lnTo>
                <a:lnTo>
                  <a:pt x="159" y="240"/>
                </a:lnTo>
                <a:lnTo>
                  <a:pt x="152" y="232"/>
                </a:lnTo>
                <a:lnTo>
                  <a:pt x="142" y="220"/>
                </a:lnTo>
                <a:lnTo>
                  <a:pt x="134" y="211"/>
                </a:lnTo>
                <a:lnTo>
                  <a:pt x="125" y="199"/>
                </a:lnTo>
                <a:lnTo>
                  <a:pt x="115" y="188"/>
                </a:lnTo>
                <a:lnTo>
                  <a:pt x="106" y="174"/>
                </a:lnTo>
                <a:lnTo>
                  <a:pt x="94" y="161"/>
                </a:lnTo>
                <a:lnTo>
                  <a:pt x="85" y="146"/>
                </a:lnTo>
                <a:lnTo>
                  <a:pt x="73" y="132"/>
                </a:lnTo>
                <a:lnTo>
                  <a:pt x="61" y="117"/>
                </a:lnTo>
                <a:lnTo>
                  <a:pt x="52" y="105"/>
                </a:lnTo>
                <a:lnTo>
                  <a:pt x="44" y="92"/>
                </a:lnTo>
                <a:lnTo>
                  <a:pt x="35" y="80"/>
                </a:lnTo>
                <a:lnTo>
                  <a:pt x="27" y="71"/>
                </a:lnTo>
                <a:lnTo>
                  <a:pt x="21" y="61"/>
                </a:lnTo>
                <a:lnTo>
                  <a:pt x="15" y="51"/>
                </a:lnTo>
                <a:lnTo>
                  <a:pt x="10" y="44"/>
                </a:lnTo>
                <a:lnTo>
                  <a:pt x="6" y="36"/>
                </a:lnTo>
                <a:lnTo>
                  <a:pt x="4" y="28"/>
                </a:lnTo>
                <a:lnTo>
                  <a:pt x="2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2" y="9"/>
                </a:lnTo>
                <a:lnTo>
                  <a:pt x="6" y="5"/>
                </a:lnTo>
                <a:lnTo>
                  <a:pt x="10" y="4"/>
                </a:lnTo>
                <a:lnTo>
                  <a:pt x="15" y="2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4" y="0"/>
                </a:lnTo>
                <a:lnTo>
                  <a:pt x="67" y="0"/>
                </a:lnTo>
                <a:lnTo>
                  <a:pt x="81" y="0"/>
                </a:lnTo>
                <a:lnTo>
                  <a:pt x="96" y="2"/>
                </a:lnTo>
                <a:lnTo>
                  <a:pt x="111" y="4"/>
                </a:lnTo>
                <a:lnTo>
                  <a:pt x="129" y="7"/>
                </a:lnTo>
                <a:lnTo>
                  <a:pt x="144" y="13"/>
                </a:lnTo>
                <a:lnTo>
                  <a:pt x="161" y="19"/>
                </a:lnTo>
                <a:lnTo>
                  <a:pt x="179" y="28"/>
                </a:lnTo>
                <a:lnTo>
                  <a:pt x="188" y="32"/>
                </a:lnTo>
                <a:lnTo>
                  <a:pt x="196" y="3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3"/>
          <p:cNvSpPr/>
          <p:nvPr/>
        </p:nvSpPr>
        <p:spPr>
          <a:xfrm>
            <a:off x="2263680" y="2494080"/>
            <a:ext cx="1225800" cy="303120"/>
          </a:xfrm>
          <a:custGeom>
            <a:avLst/>
            <a:gdLst/>
            <a:ahLst/>
            <a:rect l="l" t="t" r="r" b="b"/>
            <a:pathLst>
              <a:path w="1545" h="384">
                <a:moveTo>
                  <a:pt x="40" y="334"/>
                </a:moveTo>
                <a:lnTo>
                  <a:pt x="33" y="328"/>
                </a:lnTo>
                <a:lnTo>
                  <a:pt x="27" y="322"/>
                </a:lnTo>
                <a:lnTo>
                  <a:pt x="21" y="319"/>
                </a:lnTo>
                <a:lnTo>
                  <a:pt x="17" y="313"/>
                </a:lnTo>
                <a:lnTo>
                  <a:pt x="13" y="309"/>
                </a:lnTo>
                <a:lnTo>
                  <a:pt x="10" y="305"/>
                </a:lnTo>
                <a:lnTo>
                  <a:pt x="6" y="301"/>
                </a:lnTo>
                <a:lnTo>
                  <a:pt x="4" y="297"/>
                </a:lnTo>
                <a:lnTo>
                  <a:pt x="2" y="294"/>
                </a:lnTo>
                <a:lnTo>
                  <a:pt x="0" y="290"/>
                </a:lnTo>
                <a:lnTo>
                  <a:pt x="0" y="288"/>
                </a:lnTo>
                <a:lnTo>
                  <a:pt x="0" y="284"/>
                </a:lnTo>
                <a:lnTo>
                  <a:pt x="0" y="282"/>
                </a:lnTo>
                <a:lnTo>
                  <a:pt x="0" y="278"/>
                </a:lnTo>
                <a:lnTo>
                  <a:pt x="2" y="274"/>
                </a:lnTo>
                <a:lnTo>
                  <a:pt x="4" y="274"/>
                </a:lnTo>
                <a:lnTo>
                  <a:pt x="8" y="274"/>
                </a:lnTo>
                <a:lnTo>
                  <a:pt x="12" y="274"/>
                </a:lnTo>
                <a:lnTo>
                  <a:pt x="15" y="274"/>
                </a:lnTo>
                <a:lnTo>
                  <a:pt x="19" y="274"/>
                </a:lnTo>
                <a:lnTo>
                  <a:pt x="25" y="274"/>
                </a:lnTo>
                <a:lnTo>
                  <a:pt x="31" y="274"/>
                </a:lnTo>
                <a:lnTo>
                  <a:pt x="38" y="274"/>
                </a:lnTo>
                <a:lnTo>
                  <a:pt x="44" y="273"/>
                </a:lnTo>
                <a:lnTo>
                  <a:pt x="54" y="273"/>
                </a:lnTo>
                <a:lnTo>
                  <a:pt x="61" y="273"/>
                </a:lnTo>
                <a:lnTo>
                  <a:pt x="71" y="271"/>
                </a:lnTo>
                <a:lnTo>
                  <a:pt x="81" y="271"/>
                </a:lnTo>
                <a:lnTo>
                  <a:pt x="90" y="269"/>
                </a:lnTo>
                <a:lnTo>
                  <a:pt x="102" y="267"/>
                </a:lnTo>
                <a:lnTo>
                  <a:pt x="115" y="265"/>
                </a:lnTo>
                <a:lnTo>
                  <a:pt x="127" y="265"/>
                </a:lnTo>
                <a:lnTo>
                  <a:pt x="142" y="265"/>
                </a:lnTo>
                <a:lnTo>
                  <a:pt x="157" y="263"/>
                </a:lnTo>
                <a:lnTo>
                  <a:pt x="175" y="261"/>
                </a:lnTo>
                <a:lnTo>
                  <a:pt x="194" y="259"/>
                </a:lnTo>
                <a:lnTo>
                  <a:pt x="215" y="257"/>
                </a:lnTo>
                <a:lnTo>
                  <a:pt x="236" y="253"/>
                </a:lnTo>
                <a:lnTo>
                  <a:pt x="261" y="249"/>
                </a:lnTo>
                <a:lnTo>
                  <a:pt x="286" y="246"/>
                </a:lnTo>
                <a:lnTo>
                  <a:pt x="313" y="240"/>
                </a:lnTo>
                <a:lnTo>
                  <a:pt x="340" y="234"/>
                </a:lnTo>
                <a:lnTo>
                  <a:pt x="370" y="228"/>
                </a:lnTo>
                <a:lnTo>
                  <a:pt x="401" y="221"/>
                </a:lnTo>
                <a:lnTo>
                  <a:pt x="434" y="215"/>
                </a:lnTo>
                <a:lnTo>
                  <a:pt x="468" y="205"/>
                </a:lnTo>
                <a:lnTo>
                  <a:pt x="505" y="198"/>
                </a:lnTo>
                <a:lnTo>
                  <a:pt x="578" y="178"/>
                </a:lnTo>
                <a:lnTo>
                  <a:pt x="649" y="161"/>
                </a:lnTo>
                <a:lnTo>
                  <a:pt x="720" y="144"/>
                </a:lnTo>
                <a:lnTo>
                  <a:pt x="789" y="129"/>
                </a:lnTo>
                <a:lnTo>
                  <a:pt x="856" y="111"/>
                </a:lnTo>
                <a:lnTo>
                  <a:pt x="923" y="94"/>
                </a:lnTo>
                <a:lnTo>
                  <a:pt x="988" y="77"/>
                </a:lnTo>
                <a:lnTo>
                  <a:pt x="1052" y="59"/>
                </a:lnTo>
                <a:lnTo>
                  <a:pt x="1080" y="52"/>
                </a:lnTo>
                <a:lnTo>
                  <a:pt x="1109" y="46"/>
                </a:lnTo>
                <a:lnTo>
                  <a:pt x="1134" y="38"/>
                </a:lnTo>
                <a:lnTo>
                  <a:pt x="1159" y="33"/>
                </a:lnTo>
                <a:lnTo>
                  <a:pt x="1184" y="29"/>
                </a:lnTo>
                <a:lnTo>
                  <a:pt x="1205" y="23"/>
                </a:lnTo>
                <a:lnTo>
                  <a:pt x="1226" y="19"/>
                </a:lnTo>
                <a:lnTo>
                  <a:pt x="1246" y="15"/>
                </a:lnTo>
                <a:lnTo>
                  <a:pt x="1265" y="12"/>
                </a:lnTo>
                <a:lnTo>
                  <a:pt x="1280" y="8"/>
                </a:lnTo>
                <a:lnTo>
                  <a:pt x="1295" y="6"/>
                </a:lnTo>
                <a:lnTo>
                  <a:pt x="1309" y="4"/>
                </a:lnTo>
                <a:lnTo>
                  <a:pt x="1322" y="2"/>
                </a:lnTo>
                <a:lnTo>
                  <a:pt x="1332" y="2"/>
                </a:lnTo>
                <a:lnTo>
                  <a:pt x="1341" y="0"/>
                </a:lnTo>
                <a:lnTo>
                  <a:pt x="1349" y="0"/>
                </a:lnTo>
                <a:lnTo>
                  <a:pt x="1361" y="2"/>
                </a:lnTo>
                <a:lnTo>
                  <a:pt x="1374" y="2"/>
                </a:lnTo>
                <a:lnTo>
                  <a:pt x="1388" y="6"/>
                </a:lnTo>
                <a:lnTo>
                  <a:pt x="1403" y="10"/>
                </a:lnTo>
                <a:lnTo>
                  <a:pt x="1418" y="13"/>
                </a:lnTo>
                <a:lnTo>
                  <a:pt x="1435" y="21"/>
                </a:lnTo>
                <a:lnTo>
                  <a:pt x="1453" y="29"/>
                </a:lnTo>
                <a:lnTo>
                  <a:pt x="1470" y="40"/>
                </a:lnTo>
                <a:lnTo>
                  <a:pt x="1485" y="50"/>
                </a:lnTo>
                <a:lnTo>
                  <a:pt x="1493" y="56"/>
                </a:lnTo>
                <a:lnTo>
                  <a:pt x="1501" y="59"/>
                </a:lnTo>
                <a:lnTo>
                  <a:pt x="1508" y="65"/>
                </a:lnTo>
                <a:lnTo>
                  <a:pt x="1514" y="69"/>
                </a:lnTo>
                <a:lnTo>
                  <a:pt x="1520" y="73"/>
                </a:lnTo>
                <a:lnTo>
                  <a:pt x="1524" y="77"/>
                </a:lnTo>
                <a:lnTo>
                  <a:pt x="1530" y="81"/>
                </a:lnTo>
                <a:lnTo>
                  <a:pt x="1533" y="84"/>
                </a:lnTo>
                <a:lnTo>
                  <a:pt x="1537" y="86"/>
                </a:lnTo>
                <a:lnTo>
                  <a:pt x="1539" y="90"/>
                </a:lnTo>
                <a:lnTo>
                  <a:pt x="1541" y="92"/>
                </a:lnTo>
                <a:lnTo>
                  <a:pt x="1543" y="94"/>
                </a:lnTo>
                <a:lnTo>
                  <a:pt x="1543" y="96"/>
                </a:lnTo>
                <a:lnTo>
                  <a:pt x="1545" y="98"/>
                </a:lnTo>
                <a:lnTo>
                  <a:pt x="1543" y="106"/>
                </a:lnTo>
                <a:lnTo>
                  <a:pt x="1543" y="113"/>
                </a:lnTo>
                <a:lnTo>
                  <a:pt x="1539" y="121"/>
                </a:lnTo>
                <a:lnTo>
                  <a:pt x="1535" y="129"/>
                </a:lnTo>
                <a:lnTo>
                  <a:pt x="1531" y="134"/>
                </a:lnTo>
                <a:lnTo>
                  <a:pt x="1524" y="142"/>
                </a:lnTo>
                <a:lnTo>
                  <a:pt x="1516" y="150"/>
                </a:lnTo>
                <a:lnTo>
                  <a:pt x="1507" y="157"/>
                </a:lnTo>
                <a:lnTo>
                  <a:pt x="1495" y="165"/>
                </a:lnTo>
                <a:lnTo>
                  <a:pt x="1489" y="167"/>
                </a:lnTo>
                <a:lnTo>
                  <a:pt x="1483" y="171"/>
                </a:lnTo>
                <a:lnTo>
                  <a:pt x="1476" y="173"/>
                </a:lnTo>
                <a:lnTo>
                  <a:pt x="1468" y="175"/>
                </a:lnTo>
                <a:lnTo>
                  <a:pt x="1459" y="178"/>
                </a:lnTo>
                <a:lnTo>
                  <a:pt x="1451" y="180"/>
                </a:lnTo>
                <a:lnTo>
                  <a:pt x="1441" y="180"/>
                </a:lnTo>
                <a:lnTo>
                  <a:pt x="1432" y="182"/>
                </a:lnTo>
                <a:lnTo>
                  <a:pt x="1420" y="184"/>
                </a:lnTo>
                <a:lnTo>
                  <a:pt x="1409" y="184"/>
                </a:lnTo>
                <a:lnTo>
                  <a:pt x="1397" y="186"/>
                </a:lnTo>
                <a:lnTo>
                  <a:pt x="1386" y="186"/>
                </a:lnTo>
                <a:lnTo>
                  <a:pt x="1372" y="186"/>
                </a:lnTo>
                <a:lnTo>
                  <a:pt x="1359" y="186"/>
                </a:lnTo>
                <a:lnTo>
                  <a:pt x="1351" y="186"/>
                </a:lnTo>
                <a:lnTo>
                  <a:pt x="1343" y="188"/>
                </a:lnTo>
                <a:lnTo>
                  <a:pt x="1334" y="188"/>
                </a:lnTo>
                <a:lnTo>
                  <a:pt x="1324" y="188"/>
                </a:lnTo>
                <a:lnTo>
                  <a:pt x="1313" y="188"/>
                </a:lnTo>
                <a:lnTo>
                  <a:pt x="1301" y="190"/>
                </a:lnTo>
                <a:lnTo>
                  <a:pt x="1290" y="192"/>
                </a:lnTo>
                <a:lnTo>
                  <a:pt x="1276" y="192"/>
                </a:lnTo>
                <a:lnTo>
                  <a:pt x="1263" y="194"/>
                </a:lnTo>
                <a:lnTo>
                  <a:pt x="1247" y="196"/>
                </a:lnTo>
                <a:lnTo>
                  <a:pt x="1232" y="198"/>
                </a:lnTo>
                <a:lnTo>
                  <a:pt x="1217" y="200"/>
                </a:lnTo>
                <a:lnTo>
                  <a:pt x="1199" y="202"/>
                </a:lnTo>
                <a:lnTo>
                  <a:pt x="1180" y="203"/>
                </a:lnTo>
                <a:lnTo>
                  <a:pt x="1163" y="207"/>
                </a:lnTo>
                <a:lnTo>
                  <a:pt x="1142" y="209"/>
                </a:lnTo>
                <a:lnTo>
                  <a:pt x="1123" y="213"/>
                </a:lnTo>
                <a:lnTo>
                  <a:pt x="1102" y="217"/>
                </a:lnTo>
                <a:lnTo>
                  <a:pt x="1079" y="219"/>
                </a:lnTo>
                <a:lnTo>
                  <a:pt x="1056" y="223"/>
                </a:lnTo>
                <a:lnTo>
                  <a:pt x="1032" y="226"/>
                </a:lnTo>
                <a:lnTo>
                  <a:pt x="1008" y="230"/>
                </a:lnTo>
                <a:lnTo>
                  <a:pt x="983" y="236"/>
                </a:lnTo>
                <a:lnTo>
                  <a:pt x="956" y="240"/>
                </a:lnTo>
                <a:lnTo>
                  <a:pt x="929" y="246"/>
                </a:lnTo>
                <a:lnTo>
                  <a:pt x="902" y="249"/>
                </a:lnTo>
                <a:lnTo>
                  <a:pt x="873" y="255"/>
                </a:lnTo>
                <a:lnTo>
                  <a:pt x="844" y="261"/>
                </a:lnTo>
                <a:lnTo>
                  <a:pt x="814" y="267"/>
                </a:lnTo>
                <a:lnTo>
                  <a:pt x="783" y="273"/>
                </a:lnTo>
                <a:lnTo>
                  <a:pt x="750" y="278"/>
                </a:lnTo>
                <a:lnTo>
                  <a:pt x="718" y="284"/>
                </a:lnTo>
                <a:lnTo>
                  <a:pt x="685" y="292"/>
                </a:lnTo>
                <a:lnTo>
                  <a:pt x="654" y="297"/>
                </a:lnTo>
                <a:lnTo>
                  <a:pt x="624" y="303"/>
                </a:lnTo>
                <a:lnTo>
                  <a:pt x="593" y="309"/>
                </a:lnTo>
                <a:lnTo>
                  <a:pt x="564" y="315"/>
                </a:lnTo>
                <a:lnTo>
                  <a:pt x="535" y="321"/>
                </a:lnTo>
                <a:lnTo>
                  <a:pt x="509" y="324"/>
                </a:lnTo>
                <a:lnTo>
                  <a:pt x="484" y="330"/>
                </a:lnTo>
                <a:lnTo>
                  <a:pt x="459" y="334"/>
                </a:lnTo>
                <a:lnTo>
                  <a:pt x="434" y="338"/>
                </a:lnTo>
                <a:lnTo>
                  <a:pt x="411" y="344"/>
                </a:lnTo>
                <a:lnTo>
                  <a:pt x="388" y="347"/>
                </a:lnTo>
                <a:lnTo>
                  <a:pt x="367" y="351"/>
                </a:lnTo>
                <a:lnTo>
                  <a:pt x="345" y="353"/>
                </a:lnTo>
                <a:lnTo>
                  <a:pt x="326" y="357"/>
                </a:lnTo>
                <a:lnTo>
                  <a:pt x="309" y="361"/>
                </a:lnTo>
                <a:lnTo>
                  <a:pt x="290" y="363"/>
                </a:lnTo>
                <a:lnTo>
                  <a:pt x="274" y="367"/>
                </a:lnTo>
                <a:lnTo>
                  <a:pt x="259" y="368"/>
                </a:lnTo>
                <a:lnTo>
                  <a:pt x="244" y="370"/>
                </a:lnTo>
                <a:lnTo>
                  <a:pt x="230" y="372"/>
                </a:lnTo>
                <a:lnTo>
                  <a:pt x="217" y="374"/>
                </a:lnTo>
                <a:lnTo>
                  <a:pt x="205" y="376"/>
                </a:lnTo>
                <a:lnTo>
                  <a:pt x="194" y="378"/>
                </a:lnTo>
                <a:lnTo>
                  <a:pt x="184" y="378"/>
                </a:lnTo>
                <a:lnTo>
                  <a:pt x="175" y="380"/>
                </a:lnTo>
                <a:lnTo>
                  <a:pt x="167" y="380"/>
                </a:lnTo>
                <a:lnTo>
                  <a:pt x="161" y="382"/>
                </a:lnTo>
                <a:lnTo>
                  <a:pt x="154" y="382"/>
                </a:lnTo>
                <a:lnTo>
                  <a:pt x="150" y="382"/>
                </a:lnTo>
                <a:lnTo>
                  <a:pt x="146" y="382"/>
                </a:lnTo>
                <a:lnTo>
                  <a:pt x="142" y="384"/>
                </a:lnTo>
                <a:lnTo>
                  <a:pt x="131" y="382"/>
                </a:lnTo>
                <a:lnTo>
                  <a:pt x="119" y="380"/>
                </a:lnTo>
                <a:lnTo>
                  <a:pt x="107" y="376"/>
                </a:lnTo>
                <a:lnTo>
                  <a:pt x="94" y="370"/>
                </a:lnTo>
                <a:lnTo>
                  <a:pt x="81" y="363"/>
                </a:lnTo>
                <a:lnTo>
                  <a:pt x="67" y="353"/>
                </a:lnTo>
                <a:lnTo>
                  <a:pt x="54" y="344"/>
                </a:lnTo>
                <a:lnTo>
                  <a:pt x="40" y="33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4"/>
          <p:cNvSpPr/>
          <p:nvPr/>
        </p:nvSpPr>
        <p:spPr>
          <a:xfrm>
            <a:off x="1992240" y="2827440"/>
            <a:ext cx="663480" cy="780840"/>
          </a:xfrm>
          <a:custGeom>
            <a:avLst/>
            <a:gdLst/>
            <a:ahLst/>
            <a:rect l="l" t="t" r="r" b="b"/>
            <a:pathLst>
              <a:path w="837" h="985">
                <a:moveTo>
                  <a:pt x="0" y="983"/>
                </a:moveTo>
                <a:lnTo>
                  <a:pt x="0" y="977"/>
                </a:lnTo>
                <a:lnTo>
                  <a:pt x="0" y="973"/>
                </a:lnTo>
                <a:lnTo>
                  <a:pt x="2" y="968"/>
                </a:lnTo>
                <a:lnTo>
                  <a:pt x="6" y="960"/>
                </a:lnTo>
                <a:lnTo>
                  <a:pt x="12" y="952"/>
                </a:lnTo>
                <a:lnTo>
                  <a:pt x="18" y="945"/>
                </a:lnTo>
                <a:lnTo>
                  <a:pt x="25" y="935"/>
                </a:lnTo>
                <a:lnTo>
                  <a:pt x="35" y="923"/>
                </a:lnTo>
                <a:lnTo>
                  <a:pt x="45" y="912"/>
                </a:lnTo>
                <a:lnTo>
                  <a:pt x="56" y="900"/>
                </a:lnTo>
                <a:lnTo>
                  <a:pt x="70" y="887"/>
                </a:lnTo>
                <a:lnTo>
                  <a:pt x="83" y="872"/>
                </a:lnTo>
                <a:lnTo>
                  <a:pt x="98" y="856"/>
                </a:lnTo>
                <a:lnTo>
                  <a:pt x="114" y="841"/>
                </a:lnTo>
                <a:lnTo>
                  <a:pt x="131" y="824"/>
                </a:lnTo>
                <a:lnTo>
                  <a:pt x="150" y="806"/>
                </a:lnTo>
                <a:lnTo>
                  <a:pt x="189" y="768"/>
                </a:lnTo>
                <a:lnTo>
                  <a:pt x="227" y="728"/>
                </a:lnTo>
                <a:lnTo>
                  <a:pt x="263" y="687"/>
                </a:lnTo>
                <a:lnTo>
                  <a:pt x="302" y="645"/>
                </a:lnTo>
                <a:lnTo>
                  <a:pt x="340" y="601"/>
                </a:lnTo>
                <a:lnTo>
                  <a:pt x="377" y="557"/>
                </a:lnTo>
                <a:lnTo>
                  <a:pt x="411" y="511"/>
                </a:lnTo>
                <a:lnTo>
                  <a:pt x="448" y="463"/>
                </a:lnTo>
                <a:lnTo>
                  <a:pt x="463" y="440"/>
                </a:lnTo>
                <a:lnTo>
                  <a:pt x="476" y="417"/>
                </a:lnTo>
                <a:lnTo>
                  <a:pt x="492" y="396"/>
                </a:lnTo>
                <a:lnTo>
                  <a:pt x="505" y="375"/>
                </a:lnTo>
                <a:lnTo>
                  <a:pt x="519" y="353"/>
                </a:lnTo>
                <a:lnTo>
                  <a:pt x="532" y="334"/>
                </a:lnTo>
                <a:lnTo>
                  <a:pt x="545" y="317"/>
                </a:lnTo>
                <a:lnTo>
                  <a:pt x="557" y="298"/>
                </a:lnTo>
                <a:lnTo>
                  <a:pt x="568" y="280"/>
                </a:lnTo>
                <a:lnTo>
                  <a:pt x="580" y="265"/>
                </a:lnTo>
                <a:lnTo>
                  <a:pt x="590" y="250"/>
                </a:lnTo>
                <a:lnTo>
                  <a:pt x="599" y="234"/>
                </a:lnTo>
                <a:lnTo>
                  <a:pt x="609" y="219"/>
                </a:lnTo>
                <a:lnTo>
                  <a:pt x="618" y="206"/>
                </a:lnTo>
                <a:lnTo>
                  <a:pt x="626" y="192"/>
                </a:lnTo>
                <a:lnTo>
                  <a:pt x="632" y="179"/>
                </a:lnTo>
                <a:lnTo>
                  <a:pt x="641" y="158"/>
                </a:lnTo>
                <a:lnTo>
                  <a:pt x="649" y="138"/>
                </a:lnTo>
                <a:lnTo>
                  <a:pt x="657" y="119"/>
                </a:lnTo>
                <a:lnTo>
                  <a:pt x="661" y="104"/>
                </a:lnTo>
                <a:lnTo>
                  <a:pt x="663" y="89"/>
                </a:lnTo>
                <a:lnTo>
                  <a:pt x="664" y="75"/>
                </a:lnTo>
                <a:lnTo>
                  <a:pt x="663" y="62"/>
                </a:lnTo>
                <a:lnTo>
                  <a:pt x="661" y="50"/>
                </a:lnTo>
                <a:lnTo>
                  <a:pt x="657" y="44"/>
                </a:lnTo>
                <a:lnTo>
                  <a:pt x="655" y="37"/>
                </a:lnTo>
                <a:lnTo>
                  <a:pt x="655" y="29"/>
                </a:lnTo>
                <a:lnTo>
                  <a:pt x="655" y="23"/>
                </a:lnTo>
                <a:lnTo>
                  <a:pt x="657" y="18"/>
                </a:lnTo>
                <a:lnTo>
                  <a:pt x="659" y="12"/>
                </a:lnTo>
                <a:lnTo>
                  <a:pt x="664" y="6"/>
                </a:lnTo>
                <a:lnTo>
                  <a:pt x="670" y="2"/>
                </a:lnTo>
                <a:lnTo>
                  <a:pt x="674" y="0"/>
                </a:lnTo>
                <a:lnTo>
                  <a:pt x="678" y="0"/>
                </a:lnTo>
                <a:lnTo>
                  <a:pt x="682" y="0"/>
                </a:lnTo>
                <a:lnTo>
                  <a:pt x="687" y="0"/>
                </a:lnTo>
                <a:lnTo>
                  <a:pt x="693" y="0"/>
                </a:lnTo>
                <a:lnTo>
                  <a:pt x="699" y="2"/>
                </a:lnTo>
                <a:lnTo>
                  <a:pt x="705" y="4"/>
                </a:lnTo>
                <a:lnTo>
                  <a:pt x="710" y="6"/>
                </a:lnTo>
                <a:lnTo>
                  <a:pt x="724" y="14"/>
                </a:lnTo>
                <a:lnTo>
                  <a:pt x="739" y="21"/>
                </a:lnTo>
                <a:lnTo>
                  <a:pt x="755" y="31"/>
                </a:lnTo>
                <a:lnTo>
                  <a:pt x="772" y="41"/>
                </a:lnTo>
                <a:lnTo>
                  <a:pt x="780" y="46"/>
                </a:lnTo>
                <a:lnTo>
                  <a:pt x="787" y="52"/>
                </a:lnTo>
                <a:lnTo>
                  <a:pt x="795" y="58"/>
                </a:lnTo>
                <a:lnTo>
                  <a:pt x="801" y="64"/>
                </a:lnTo>
                <a:lnTo>
                  <a:pt x="808" y="69"/>
                </a:lnTo>
                <a:lnTo>
                  <a:pt x="812" y="75"/>
                </a:lnTo>
                <a:lnTo>
                  <a:pt x="818" y="81"/>
                </a:lnTo>
                <a:lnTo>
                  <a:pt x="822" y="85"/>
                </a:lnTo>
                <a:lnTo>
                  <a:pt x="826" y="90"/>
                </a:lnTo>
                <a:lnTo>
                  <a:pt x="829" y="96"/>
                </a:lnTo>
                <a:lnTo>
                  <a:pt x="831" y="102"/>
                </a:lnTo>
                <a:lnTo>
                  <a:pt x="833" y="108"/>
                </a:lnTo>
                <a:lnTo>
                  <a:pt x="835" y="114"/>
                </a:lnTo>
                <a:lnTo>
                  <a:pt x="835" y="119"/>
                </a:lnTo>
                <a:lnTo>
                  <a:pt x="837" y="129"/>
                </a:lnTo>
                <a:lnTo>
                  <a:pt x="837" y="135"/>
                </a:lnTo>
                <a:lnTo>
                  <a:pt x="835" y="142"/>
                </a:lnTo>
                <a:lnTo>
                  <a:pt x="833" y="148"/>
                </a:lnTo>
                <a:lnTo>
                  <a:pt x="831" y="156"/>
                </a:lnTo>
                <a:lnTo>
                  <a:pt x="828" y="163"/>
                </a:lnTo>
                <a:lnTo>
                  <a:pt x="824" y="171"/>
                </a:lnTo>
                <a:lnTo>
                  <a:pt x="820" y="181"/>
                </a:lnTo>
                <a:lnTo>
                  <a:pt x="814" y="190"/>
                </a:lnTo>
                <a:lnTo>
                  <a:pt x="808" y="202"/>
                </a:lnTo>
                <a:lnTo>
                  <a:pt x="801" y="211"/>
                </a:lnTo>
                <a:lnTo>
                  <a:pt x="795" y="225"/>
                </a:lnTo>
                <a:lnTo>
                  <a:pt x="785" y="236"/>
                </a:lnTo>
                <a:lnTo>
                  <a:pt x="776" y="250"/>
                </a:lnTo>
                <a:lnTo>
                  <a:pt x="766" y="265"/>
                </a:lnTo>
                <a:lnTo>
                  <a:pt x="757" y="280"/>
                </a:lnTo>
                <a:lnTo>
                  <a:pt x="745" y="296"/>
                </a:lnTo>
                <a:lnTo>
                  <a:pt x="732" y="313"/>
                </a:lnTo>
                <a:lnTo>
                  <a:pt x="718" y="330"/>
                </a:lnTo>
                <a:lnTo>
                  <a:pt x="705" y="348"/>
                </a:lnTo>
                <a:lnTo>
                  <a:pt x="689" y="367"/>
                </a:lnTo>
                <a:lnTo>
                  <a:pt x="676" y="384"/>
                </a:lnTo>
                <a:lnTo>
                  <a:pt x="659" y="403"/>
                </a:lnTo>
                <a:lnTo>
                  <a:pt x="643" y="423"/>
                </a:lnTo>
                <a:lnTo>
                  <a:pt x="626" y="444"/>
                </a:lnTo>
                <a:lnTo>
                  <a:pt x="607" y="463"/>
                </a:lnTo>
                <a:lnTo>
                  <a:pt x="590" y="484"/>
                </a:lnTo>
                <a:lnTo>
                  <a:pt x="570" y="505"/>
                </a:lnTo>
                <a:lnTo>
                  <a:pt x="551" y="528"/>
                </a:lnTo>
                <a:lnTo>
                  <a:pt x="530" y="549"/>
                </a:lnTo>
                <a:lnTo>
                  <a:pt x="509" y="572"/>
                </a:lnTo>
                <a:lnTo>
                  <a:pt x="488" y="595"/>
                </a:lnTo>
                <a:lnTo>
                  <a:pt x="465" y="620"/>
                </a:lnTo>
                <a:lnTo>
                  <a:pt x="444" y="643"/>
                </a:lnTo>
                <a:lnTo>
                  <a:pt x="421" y="666"/>
                </a:lnTo>
                <a:lnTo>
                  <a:pt x="400" y="687"/>
                </a:lnTo>
                <a:lnTo>
                  <a:pt x="378" y="708"/>
                </a:lnTo>
                <a:lnTo>
                  <a:pt x="357" y="728"/>
                </a:lnTo>
                <a:lnTo>
                  <a:pt x="338" y="747"/>
                </a:lnTo>
                <a:lnTo>
                  <a:pt x="317" y="766"/>
                </a:lnTo>
                <a:lnTo>
                  <a:pt x="298" y="783"/>
                </a:lnTo>
                <a:lnTo>
                  <a:pt x="279" y="801"/>
                </a:lnTo>
                <a:lnTo>
                  <a:pt x="260" y="818"/>
                </a:lnTo>
                <a:lnTo>
                  <a:pt x="240" y="833"/>
                </a:lnTo>
                <a:lnTo>
                  <a:pt x="221" y="849"/>
                </a:lnTo>
                <a:lnTo>
                  <a:pt x="202" y="862"/>
                </a:lnTo>
                <a:lnTo>
                  <a:pt x="185" y="877"/>
                </a:lnTo>
                <a:lnTo>
                  <a:pt x="150" y="904"/>
                </a:lnTo>
                <a:lnTo>
                  <a:pt x="133" y="916"/>
                </a:lnTo>
                <a:lnTo>
                  <a:pt x="117" y="927"/>
                </a:lnTo>
                <a:lnTo>
                  <a:pt x="102" y="937"/>
                </a:lnTo>
                <a:lnTo>
                  <a:pt x="89" y="946"/>
                </a:lnTo>
                <a:lnTo>
                  <a:pt x="77" y="954"/>
                </a:lnTo>
                <a:lnTo>
                  <a:pt x="64" y="962"/>
                </a:lnTo>
                <a:lnTo>
                  <a:pt x="54" y="968"/>
                </a:lnTo>
                <a:lnTo>
                  <a:pt x="45" y="973"/>
                </a:lnTo>
                <a:lnTo>
                  <a:pt x="35" y="977"/>
                </a:lnTo>
                <a:lnTo>
                  <a:pt x="27" y="979"/>
                </a:lnTo>
                <a:lnTo>
                  <a:pt x="22" y="983"/>
                </a:lnTo>
                <a:lnTo>
                  <a:pt x="16" y="983"/>
                </a:lnTo>
                <a:lnTo>
                  <a:pt x="10" y="985"/>
                </a:lnTo>
                <a:lnTo>
                  <a:pt x="6" y="985"/>
                </a:lnTo>
                <a:lnTo>
                  <a:pt x="4" y="983"/>
                </a:lnTo>
                <a:lnTo>
                  <a:pt x="0" y="98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5"/>
          <p:cNvSpPr/>
          <p:nvPr/>
        </p:nvSpPr>
        <p:spPr>
          <a:xfrm>
            <a:off x="2405160" y="3178080"/>
            <a:ext cx="139680" cy="935280"/>
          </a:xfrm>
          <a:custGeom>
            <a:avLst/>
            <a:gdLst/>
            <a:ahLst/>
            <a:rect l="l" t="t" r="r" b="b"/>
            <a:pathLst>
              <a:path w="176" h="1176">
                <a:moveTo>
                  <a:pt x="84" y="1176"/>
                </a:moveTo>
                <a:lnTo>
                  <a:pt x="82" y="1174"/>
                </a:lnTo>
                <a:lnTo>
                  <a:pt x="80" y="1174"/>
                </a:lnTo>
                <a:lnTo>
                  <a:pt x="78" y="1172"/>
                </a:lnTo>
                <a:lnTo>
                  <a:pt x="74" y="1170"/>
                </a:lnTo>
                <a:lnTo>
                  <a:pt x="72" y="1166"/>
                </a:lnTo>
                <a:lnTo>
                  <a:pt x="71" y="1163"/>
                </a:lnTo>
                <a:lnTo>
                  <a:pt x="67" y="1159"/>
                </a:lnTo>
                <a:lnTo>
                  <a:pt x="65" y="1155"/>
                </a:lnTo>
                <a:lnTo>
                  <a:pt x="61" y="1149"/>
                </a:lnTo>
                <a:lnTo>
                  <a:pt x="57" y="1143"/>
                </a:lnTo>
                <a:lnTo>
                  <a:pt x="55" y="1136"/>
                </a:lnTo>
                <a:lnTo>
                  <a:pt x="51" y="1130"/>
                </a:lnTo>
                <a:lnTo>
                  <a:pt x="47" y="1122"/>
                </a:lnTo>
                <a:lnTo>
                  <a:pt x="44" y="1115"/>
                </a:lnTo>
                <a:lnTo>
                  <a:pt x="42" y="1105"/>
                </a:lnTo>
                <a:lnTo>
                  <a:pt x="38" y="1097"/>
                </a:lnTo>
                <a:lnTo>
                  <a:pt x="32" y="1086"/>
                </a:lnTo>
                <a:lnTo>
                  <a:pt x="28" y="1076"/>
                </a:lnTo>
                <a:lnTo>
                  <a:pt x="24" y="1065"/>
                </a:lnTo>
                <a:lnTo>
                  <a:pt x="21" y="1057"/>
                </a:lnTo>
                <a:lnTo>
                  <a:pt x="17" y="1047"/>
                </a:lnTo>
                <a:lnTo>
                  <a:pt x="13" y="1040"/>
                </a:lnTo>
                <a:lnTo>
                  <a:pt x="11" y="1032"/>
                </a:lnTo>
                <a:lnTo>
                  <a:pt x="9" y="1024"/>
                </a:lnTo>
                <a:lnTo>
                  <a:pt x="7" y="1017"/>
                </a:lnTo>
                <a:lnTo>
                  <a:pt x="5" y="1011"/>
                </a:lnTo>
                <a:lnTo>
                  <a:pt x="3" y="1007"/>
                </a:lnTo>
                <a:lnTo>
                  <a:pt x="1" y="1001"/>
                </a:lnTo>
                <a:lnTo>
                  <a:pt x="1" y="998"/>
                </a:lnTo>
                <a:lnTo>
                  <a:pt x="1" y="994"/>
                </a:lnTo>
                <a:lnTo>
                  <a:pt x="0" y="992"/>
                </a:lnTo>
                <a:lnTo>
                  <a:pt x="0" y="988"/>
                </a:lnTo>
                <a:lnTo>
                  <a:pt x="1" y="980"/>
                </a:lnTo>
                <a:lnTo>
                  <a:pt x="1" y="973"/>
                </a:lnTo>
                <a:lnTo>
                  <a:pt x="3" y="963"/>
                </a:lnTo>
                <a:lnTo>
                  <a:pt x="5" y="952"/>
                </a:lnTo>
                <a:lnTo>
                  <a:pt x="9" y="938"/>
                </a:lnTo>
                <a:lnTo>
                  <a:pt x="13" y="925"/>
                </a:lnTo>
                <a:lnTo>
                  <a:pt x="15" y="907"/>
                </a:lnTo>
                <a:lnTo>
                  <a:pt x="19" y="890"/>
                </a:lnTo>
                <a:lnTo>
                  <a:pt x="21" y="881"/>
                </a:lnTo>
                <a:lnTo>
                  <a:pt x="23" y="871"/>
                </a:lnTo>
                <a:lnTo>
                  <a:pt x="24" y="857"/>
                </a:lnTo>
                <a:lnTo>
                  <a:pt x="26" y="844"/>
                </a:lnTo>
                <a:lnTo>
                  <a:pt x="28" y="831"/>
                </a:lnTo>
                <a:lnTo>
                  <a:pt x="28" y="813"/>
                </a:lnTo>
                <a:lnTo>
                  <a:pt x="30" y="796"/>
                </a:lnTo>
                <a:lnTo>
                  <a:pt x="32" y="779"/>
                </a:lnTo>
                <a:lnTo>
                  <a:pt x="34" y="758"/>
                </a:lnTo>
                <a:lnTo>
                  <a:pt x="36" y="737"/>
                </a:lnTo>
                <a:lnTo>
                  <a:pt x="38" y="714"/>
                </a:lnTo>
                <a:lnTo>
                  <a:pt x="40" y="691"/>
                </a:lnTo>
                <a:lnTo>
                  <a:pt x="42" y="664"/>
                </a:lnTo>
                <a:lnTo>
                  <a:pt x="44" y="637"/>
                </a:lnTo>
                <a:lnTo>
                  <a:pt x="46" y="608"/>
                </a:lnTo>
                <a:lnTo>
                  <a:pt x="47" y="577"/>
                </a:lnTo>
                <a:lnTo>
                  <a:pt x="47" y="548"/>
                </a:lnTo>
                <a:lnTo>
                  <a:pt x="49" y="522"/>
                </a:lnTo>
                <a:lnTo>
                  <a:pt x="51" y="495"/>
                </a:lnTo>
                <a:lnTo>
                  <a:pt x="53" y="470"/>
                </a:lnTo>
                <a:lnTo>
                  <a:pt x="55" y="445"/>
                </a:lnTo>
                <a:lnTo>
                  <a:pt x="57" y="422"/>
                </a:lnTo>
                <a:lnTo>
                  <a:pt x="57" y="401"/>
                </a:lnTo>
                <a:lnTo>
                  <a:pt x="59" y="380"/>
                </a:lnTo>
                <a:lnTo>
                  <a:pt x="61" y="360"/>
                </a:lnTo>
                <a:lnTo>
                  <a:pt x="61" y="343"/>
                </a:lnTo>
                <a:lnTo>
                  <a:pt x="63" y="326"/>
                </a:lnTo>
                <a:lnTo>
                  <a:pt x="63" y="311"/>
                </a:lnTo>
                <a:lnTo>
                  <a:pt x="65" y="297"/>
                </a:lnTo>
                <a:lnTo>
                  <a:pt x="65" y="286"/>
                </a:lnTo>
                <a:lnTo>
                  <a:pt x="65" y="274"/>
                </a:lnTo>
                <a:lnTo>
                  <a:pt x="65" y="264"/>
                </a:lnTo>
                <a:lnTo>
                  <a:pt x="65" y="255"/>
                </a:lnTo>
                <a:lnTo>
                  <a:pt x="65" y="243"/>
                </a:lnTo>
                <a:lnTo>
                  <a:pt x="65" y="232"/>
                </a:lnTo>
                <a:lnTo>
                  <a:pt x="63" y="220"/>
                </a:lnTo>
                <a:lnTo>
                  <a:pt x="63" y="207"/>
                </a:lnTo>
                <a:lnTo>
                  <a:pt x="61" y="192"/>
                </a:lnTo>
                <a:lnTo>
                  <a:pt x="61" y="176"/>
                </a:lnTo>
                <a:lnTo>
                  <a:pt x="59" y="161"/>
                </a:lnTo>
                <a:lnTo>
                  <a:pt x="57" y="144"/>
                </a:lnTo>
                <a:lnTo>
                  <a:pt x="57" y="126"/>
                </a:lnTo>
                <a:lnTo>
                  <a:pt x="55" y="107"/>
                </a:lnTo>
                <a:lnTo>
                  <a:pt x="53" y="88"/>
                </a:lnTo>
                <a:lnTo>
                  <a:pt x="51" y="67"/>
                </a:lnTo>
                <a:lnTo>
                  <a:pt x="49" y="46"/>
                </a:lnTo>
                <a:lnTo>
                  <a:pt x="47" y="23"/>
                </a:lnTo>
                <a:lnTo>
                  <a:pt x="47" y="0"/>
                </a:lnTo>
                <a:lnTo>
                  <a:pt x="61" y="7"/>
                </a:lnTo>
                <a:lnTo>
                  <a:pt x="76" y="17"/>
                </a:lnTo>
                <a:lnTo>
                  <a:pt x="88" y="26"/>
                </a:lnTo>
                <a:lnTo>
                  <a:pt x="101" y="34"/>
                </a:lnTo>
                <a:lnTo>
                  <a:pt x="111" y="42"/>
                </a:lnTo>
                <a:lnTo>
                  <a:pt x="122" y="50"/>
                </a:lnTo>
                <a:lnTo>
                  <a:pt x="132" y="57"/>
                </a:lnTo>
                <a:lnTo>
                  <a:pt x="140" y="65"/>
                </a:lnTo>
                <a:lnTo>
                  <a:pt x="147" y="71"/>
                </a:lnTo>
                <a:lnTo>
                  <a:pt x="153" y="76"/>
                </a:lnTo>
                <a:lnTo>
                  <a:pt x="159" y="84"/>
                </a:lnTo>
                <a:lnTo>
                  <a:pt x="165" y="88"/>
                </a:lnTo>
                <a:lnTo>
                  <a:pt x="168" y="94"/>
                </a:lnTo>
                <a:lnTo>
                  <a:pt x="172" y="99"/>
                </a:lnTo>
                <a:lnTo>
                  <a:pt x="174" y="103"/>
                </a:lnTo>
                <a:lnTo>
                  <a:pt x="176" y="107"/>
                </a:lnTo>
                <a:lnTo>
                  <a:pt x="176" y="111"/>
                </a:lnTo>
                <a:lnTo>
                  <a:pt x="176" y="117"/>
                </a:lnTo>
                <a:lnTo>
                  <a:pt x="176" y="122"/>
                </a:lnTo>
                <a:lnTo>
                  <a:pt x="176" y="128"/>
                </a:lnTo>
                <a:lnTo>
                  <a:pt x="176" y="138"/>
                </a:lnTo>
                <a:lnTo>
                  <a:pt x="176" y="145"/>
                </a:lnTo>
                <a:lnTo>
                  <a:pt x="176" y="155"/>
                </a:lnTo>
                <a:lnTo>
                  <a:pt x="176" y="167"/>
                </a:lnTo>
                <a:lnTo>
                  <a:pt x="174" y="178"/>
                </a:lnTo>
                <a:lnTo>
                  <a:pt x="174" y="192"/>
                </a:lnTo>
                <a:lnTo>
                  <a:pt x="174" y="207"/>
                </a:lnTo>
                <a:lnTo>
                  <a:pt x="172" y="222"/>
                </a:lnTo>
                <a:lnTo>
                  <a:pt x="172" y="238"/>
                </a:lnTo>
                <a:lnTo>
                  <a:pt x="170" y="255"/>
                </a:lnTo>
                <a:lnTo>
                  <a:pt x="168" y="274"/>
                </a:lnTo>
                <a:lnTo>
                  <a:pt x="168" y="293"/>
                </a:lnTo>
                <a:lnTo>
                  <a:pt x="165" y="334"/>
                </a:lnTo>
                <a:lnTo>
                  <a:pt x="163" y="376"/>
                </a:lnTo>
                <a:lnTo>
                  <a:pt x="161" y="418"/>
                </a:lnTo>
                <a:lnTo>
                  <a:pt x="159" y="460"/>
                </a:lnTo>
                <a:lnTo>
                  <a:pt x="159" y="548"/>
                </a:lnTo>
                <a:lnTo>
                  <a:pt x="159" y="637"/>
                </a:lnTo>
                <a:lnTo>
                  <a:pt x="151" y="725"/>
                </a:lnTo>
                <a:lnTo>
                  <a:pt x="143" y="813"/>
                </a:lnTo>
                <a:lnTo>
                  <a:pt x="142" y="859"/>
                </a:lnTo>
                <a:lnTo>
                  <a:pt x="138" y="905"/>
                </a:lnTo>
                <a:lnTo>
                  <a:pt x="134" y="952"/>
                </a:lnTo>
                <a:lnTo>
                  <a:pt x="130" y="999"/>
                </a:lnTo>
                <a:lnTo>
                  <a:pt x="126" y="1021"/>
                </a:lnTo>
                <a:lnTo>
                  <a:pt x="124" y="1040"/>
                </a:lnTo>
                <a:lnTo>
                  <a:pt x="120" y="1059"/>
                </a:lnTo>
                <a:lnTo>
                  <a:pt x="117" y="1076"/>
                </a:lnTo>
                <a:lnTo>
                  <a:pt x="113" y="1092"/>
                </a:lnTo>
                <a:lnTo>
                  <a:pt x="111" y="1107"/>
                </a:lnTo>
                <a:lnTo>
                  <a:pt x="107" y="1118"/>
                </a:lnTo>
                <a:lnTo>
                  <a:pt x="103" y="1132"/>
                </a:lnTo>
                <a:lnTo>
                  <a:pt x="101" y="1142"/>
                </a:lnTo>
                <a:lnTo>
                  <a:pt x="97" y="1151"/>
                </a:lnTo>
                <a:lnTo>
                  <a:pt x="95" y="1159"/>
                </a:lnTo>
                <a:lnTo>
                  <a:pt x="92" y="1165"/>
                </a:lnTo>
                <a:lnTo>
                  <a:pt x="90" y="1168"/>
                </a:lnTo>
                <a:lnTo>
                  <a:pt x="88" y="1172"/>
                </a:lnTo>
                <a:lnTo>
                  <a:pt x="86" y="1174"/>
                </a:lnTo>
                <a:lnTo>
                  <a:pt x="84" y="1176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6"/>
          <p:cNvSpPr/>
          <p:nvPr/>
        </p:nvSpPr>
        <p:spPr>
          <a:xfrm>
            <a:off x="2759040" y="2755800"/>
            <a:ext cx="331920" cy="536760"/>
          </a:xfrm>
          <a:custGeom>
            <a:avLst/>
            <a:gdLst/>
            <a:ahLst/>
            <a:rect l="l" t="t" r="r" b="b"/>
            <a:pathLst>
              <a:path w="416" h="678">
                <a:moveTo>
                  <a:pt x="222" y="200"/>
                </a:moveTo>
                <a:lnTo>
                  <a:pt x="226" y="186"/>
                </a:lnTo>
                <a:lnTo>
                  <a:pt x="230" y="173"/>
                </a:lnTo>
                <a:lnTo>
                  <a:pt x="234" y="159"/>
                </a:lnTo>
                <a:lnTo>
                  <a:pt x="238" y="146"/>
                </a:lnTo>
                <a:lnTo>
                  <a:pt x="240" y="134"/>
                </a:lnTo>
                <a:lnTo>
                  <a:pt x="241" y="125"/>
                </a:lnTo>
                <a:lnTo>
                  <a:pt x="243" y="113"/>
                </a:lnTo>
                <a:lnTo>
                  <a:pt x="245" y="104"/>
                </a:lnTo>
                <a:lnTo>
                  <a:pt x="245" y="96"/>
                </a:lnTo>
                <a:lnTo>
                  <a:pt x="245" y="86"/>
                </a:lnTo>
                <a:lnTo>
                  <a:pt x="245" y="81"/>
                </a:lnTo>
                <a:lnTo>
                  <a:pt x="245" y="73"/>
                </a:lnTo>
                <a:lnTo>
                  <a:pt x="243" y="67"/>
                </a:lnTo>
                <a:lnTo>
                  <a:pt x="243" y="62"/>
                </a:lnTo>
                <a:lnTo>
                  <a:pt x="241" y="58"/>
                </a:lnTo>
                <a:lnTo>
                  <a:pt x="240" y="54"/>
                </a:lnTo>
                <a:lnTo>
                  <a:pt x="234" y="46"/>
                </a:lnTo>
                <a:lnTo>
                  <a:pt x="230" y="38"/>
                </a:lnTo>
                <a:lnTo>
                  <a:pt x="228" y="31"/>
                </a:lnTo>
                <a:lnTo>
                  <a:pt x="226" y="25"/>
                </a:lnTo>
                <a:lnTo>
                  <a:pt x="228" y="19"/>
                </a:lnTo>
                <a:lnTo>
                  <a:pt x="230" y="14"/>
                </a:lnTo>
                <a:lnTo>
                  <a:pt x="234" y="8"/>
                </a:lnTo>
                <a:lnTo>
                  <a:pt x="240" y="4"/>
                </a:lnTo>
                <a:lnTo>
                  <a:pt x="241" y="2"/>
                </a:lnTo>
                <a:lnTo>
                  <a:pt x="245" y="0"/>
                </a:lnTo>
                <a:lnTo>
                  <a:pt x="249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66" y="2"/>
                </a:lnTo>
                <a:lnTo>
                  <a:pt x="272" y="2"/>
                </a:lnTo>
                <a:lnTo>
                  <a:pt x="286" y="6"/>
                </a:lnTo>
                <a:lnTo>
                  <a:pt x="301" y="10"/>
                </a:lnTo>
                <a:lnTo>
                  <a:pt x="316" y="17"/>
                </a:lnTo>
                <a:lnTo>
                  <a:pt x="334" y="23"/>
                </a:lnTo>
                <a:lnTo>
                  <a:pt x="349" y="35"/>
                </a:lnTo>
                <a:lnTo>
                  <a:pt x="364" y="44"/>
                </a:lnTo>
                <a:lnTo>
                  <a:pt x="378" y="54"/>
                </a:lnTo>
                <a:lnTo>
                  <a:pt x="389" y="62"/>
                </a:lnTo>
                <a:lnTo>
                  <a:pt x="399" y="69"/>
                </a:lnTo>
                <a:lnTo>
                  <a:pt x="406" y="77"/>
                </a:lnTo>
                <a:lnTo>
                  <a:pt x="412" y="85"/>
                </a:lnTo>
                <a:lnTo>
                  <a:pt x="416" y="92"/>
                </a:lnTo>
                <a:lnTo>
                  <a:pt x="416" y="100"/>
                </a:lnTo>
                <a:lnTo>
                  <a:pt x="414" y="109"/>
                </a:lnTo>
                <a:lnTo>
                  <a:pt x="410" y="123"/>
                </a:lnTo>
                <a:lnTo>
                  <a:pt x="405" y="136"/>
                </a:lnTo>
                <a:lnTo>
                  <a:pt x="397" y="152"/>
                </a:lnTo>
                <a:lnTo>
                  <a:pt x="389" y="169"/>
                </a:lnTo>
                <a:lnTo>
                  <a:pt x="380" y="188"/>
                </a:lnTo>
                <a:lnTo>
                  <a:pt x="370" y="209"/>
                </a:lnTo>
                <a:lnTo>
                  <a:pt x="359" y="232"/>
                </a:lnTo>
                <a:lnTo>
                  <a:pt x="347" y="255"/>
                </a:lnTo>
                <a:lnTo>
                  <a:pt x="332" y="280"/>
                </a:lnTo>
                <a:lnTo>
                  <a:pt x="316" y="305"/>
                </a:lnTo>
                <a:lnTo>
                  <a:pt x="301" y="332"/>
                </a:lnTo>
                <a:lnTo>
                  <a:pt x="284" y="359"/>
                </a:lnTo>
                <a:lnTo>
                  <a:pt x="266" y="386"/>
                </a:lnTo>
                <a:lnTo>
                  <a:pt x="249" y="415"/>
                </a:lnTo>
                <a:lnTo>
                  <a:pt x="241" y="432"/>
                </a:lnTo>
                <a:lnTo>
                  <a:pt x="232" y="447"/>
                </a:lnTo>
                <a:lnTo>
                  <a:pt x="222" y="463"/>
                </a:lnTo>
                <a:lnTo>
                  <a:pt x="215" y="478"/>
                </a:lnTo>
                <a:lnTo>
                  <a:pt x="195" y="507"/>
                </a:lnTo>
                <a:lnTo>
                  <a:pt x="176" y="534"/>
                </a:lnTo>
                <a:lnTo>
                  <a:pt x="157" y="559"/>
                </a:lnTo>
                <a:lnTo>
                  <a:pt x="138" y="582"/>
                </a:lnTo>
                <a:lnTo>
                  <a:pt x="119" y="603"/>
                </a:lnTo>
                <a:lnTo>
                  <a:pt x="101" y="622"/>
                </a:lnTo>
                <a:lnTo>
                  <a:pt x="92" y="630"/>
                </a:lnTo>
                <a:lnTo>
                  <a:pt x="82" y="639"/>
                </a:lnTo>
                <a:lnTo>
                  <a:pt x="73" y="645"/>
                </a:lnTo>
                <a:lnTo>
                  <a:pt x="63" y="653"/>
                </a:lnTo>
                <a:lnTo>
                  <a:pt x="55" y="658"/>
                </a:lnTo>
                <a:lnTo>
                  <a:pt x="48" y="664"/>
                </a:lnTo>
                <a:lnTo>
                  <a:pt x="40" y="668"/>
                </a:lnTo>
                <a:lnTo>
                  <a:pt x="32" y="672"/>
                </a:lnTo>
                <a:lnTo>
                  <a:pt x="27" y="674"/>
                </a:lnTo>
                <a:lnTo>
                  <a:pt x="21" y="676"/>
                </a:lnTo>
                <a:lnTo>
                  <a:pt x="15" y="678"/>
                </a:lnTo>
                <a:lnTo>
                  <a:pt x="11" y="678"/>
                </a:lnTo>
                <a:lnTo>
                  <a:pt x="7" y="678"/>
                </a:lnTo>
                <a:lnTo>
                  <a:pt x="3" y="676"/>
                </a:lnTo>
                <a:lnTo>
                  <a:pt x="2" y="674"/>
                </a:lnTo>
                <a:lnTo>
                  <a:pt x="0" y="670"/>
                </a:lnTo>
                <a:lnTo>
                  <a:pt x="23" y="628"/>
                </a:lnTo>
                <a:lnTo>
                  <a:pt x="44" y="585"/>
                </a:lnTo>
                <a:lnTo>
                  <a:pt x="65" y="545"/>
                </a:lnTo>
                <a:lnTo>
                  <a:pt x="86" y="509"/>
                </a:lnTo>
                <a:lnTo>
                  <a:pt x="103" y="472"/>
                </a:lnTo>
                <a:lnTo>
                  <a:pt x="121" y="438"/>
                </a:lnTo>
                <a:lnTo>
                  <a:pt x="136" y="407"/>
                </a:lnTo>
                <a:lnTo>
                  <a:pt x="151" y="376"/>
                </a:lnTo>
                <a:lnTo>
                  <a:pt x="165" y="347"/>
                </a:lnTo>
                <a:lnTo>
                  <a:pt x="176" y="321"/>
                </a:lnTo>
                <a:lnTo>
                  <a:pt x="188" y="296"/>
                </a:lnTo>
                <a:lnTo>
                  <a:pt x="197" y="273"/>
                </a:lnTo>
                <a:lnTo>
                  <a:pt x="205" y="252"/>
                </a:lnTo>
                <a:lnTo>
                  <a:pt x="213" y="232"/>
                </a:lnTo>
                <a:lnTo>
                  <a:pt x="218" y="215"/>
                </a:lnTo>
                <a:lnTo>
                  <a:pt x="222" y="2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7"/>
          <p:cNvSpPr/>
          <p:nvPr/>
        </p:nvSpPr>
        <p:spPr>
          <a:xfrm>
            <a:off x="2603520" y="2913120"/>
            <a:ext cx="803160" cy="901800"/>
          </a:xfrm>
          <a:custGeom>
            <a:avLst/>
            <a:gdLst/>
            <a:ahLst/>
            <a:rect l="l" t="t" r="r" b="b"/>
            <a:pathLst>
              <a:path w="1011" h="1136">
                <a:moveTo>
                  <a:pt x="436" y="804"/>
                </a:moveTo>
                <a:lnTo>
                  <a:pt x="455" y="785"/>
                </a:lnTo>
                <a:lnTo>
                  <a:pt x="474" y="765"/>
                </a:lnTo>
                <a:lnTo>
                  <a:pt x="491" y="744"/>
                </a:lnTo>
                <a:lnTo>
                  <a:pt x="508" y="723"/>
                </a:lnTo>
                <a:lnTo>
                  <a:pt x="526" y="702"/>
                </a:lnTo>
                <a:lnTo>
                  <a:pt x="543" y="681"/>
                </a:lnTo>
                <a:lnTo>
                  <a:pt x="560" y="658"/>
                </a:lnTo>
                <a:lnTo>
                  <a:pt x="576" y="635"/>
                </a:lnTo>
                <a:lnTo>
                  <a:pt x="591" y="610"/>
                </a:lnTo>
                <a:lnTo>
                  <a:pt x="606" y="585"/>
                </a:lnTo>
                <a:lnTo>
                  <a:pt x="622" y="560"/>
                </a:lnTo>
                <a:lnTo>
                  <a:pt x="635" y="533"/>
                </a:lnTo>
                <a:lnTo>
                  <a:pt x="649" y="506"/>
                </a:lnTo>
                <a:lnTo>
                  <a:pt x="662" y="479"/>
                </a:lnTo>
                <a:lnTo>
                  <a:pt x="675" y="451"/>
                </a:lnTo>
                <a:lnTo>
                  <a:pt x="687" y="422"/>
                </a:lnTo>
                <a:lnTo>
                  <a:pt x="698" y="393"/>
                </a:lnTo>
                <a:lnTo>
                  <a:pt x="710" y="366"/>
                </a:lnTo>
                <a:lnTo>
                  <a:pt x="720" y="339"/>
                </a:lnTo>
                <a:lnTo>
                  <a:pt x="729" y="316"/>
                </a:lnTo>
                <a:lnTo>
                  <a:pt x="737" y="293"/>
                </a:lnTo>
                <a:lnTo>
                  <a:pt x="745" y="274"/>
                </a:lnTo>
                <a:lnTo>
                  <a:pt x="750" y="255"/>
                </a:lnTo>
                <a:lnTo>
                  <a:pt x="756" y="238"/>
                </a:lnTo>
                <a:lnTo>
                  <a:pt x="762" y="222"/>
                </a:lnTo>
                <a:lnTo>
                  <a:pt x="766" y="207"/>
                </a:lnTo>
                <a:lnTo>
                  <a:pt x="768" y="195"/>
                </a:lnTo>
                <a:lnTo>
                  <a:pt x="771" y="184"/>
                </a:lnTo>
                <a:lnTo>
                  <a:pt x="771" y="174"/>
                </a:lnTo>
                <a:lnTo>
                  <a:pt x="773" y="167"/>
                </a:lnTo>
                <a:lnTo>
                  <a:pt x="771" y="161"/>
                </a:lnTo>
                <a:lnTo>
                  <a:pt x="771" y="157"/>
                </a:lnTo>
                <a:lnTo>
                  <a:pt x="764" y="149"/>
                </a:lnTo>
                <a:lnTo>
                  <a:pt x="758" y="147"/>
                </a:lnTo>
                <a:lnTo>
                  <a:pt x="754" y="146"/>
                </a:lnTo>
                <a:lnTo>
                  <a:pt x="748" y="144"/>
                </a:lnTo>
                <a:lnTo>
                  <a:pt x="741" y="144"/>
                </a:lnTo>
                <a:lnTo>
                  <a:pt x="735" y="142"/>
                </a:lnTo>
                <a:lnTo>
                  <a:pt x="727" y="142"/>
                </a:lnTo>
                <a:lnTo>
                  <a:pt x="720" y="142"/>
                </a:lnTo>
                <a:lnTo>
                  <a:pt x="712" y="144"/>
                </a:lnTo>
                <a:lnTo>
                  <a:pt x="702" y="144"/>
                </a:lnTo>
                <a:lnTo>
                  <a:pt x="693" y="146"/>
                </a:lnTo>
                <a:lnTo>
                  <a:pt x="683" y="147"/>
                </a:lnTo>
                <a:lnTo>
                  <a:pt x="673" y="149"/>
                </a:lnTo>
                <a:lnTo>
                  <a:pt x="662" y="153"/>
                </a:lnTo>
                <a:lnTo>
                  <a:pt x="650" y="157"/>
                </a:lnTo>
                <a:lnTo>
                  <a:pt x="637" y="159"/>
                </a:lnTo>
                <a:lnTo>
                  <a:pt x="626" y="163"/>
                </a:lnTo>
                <a:lnTo>
                  <a:pt x="614" y="163"/>
                </a:lnTo>
                <a:lnTo>
                  <a:pt x="601" y="165"/>
                </a:lnTo>
                <a:lnTo>
                  <a:pt x="589" y="165"/>
                </a:lnTo>
                <a:lnTo>
                  <a:pt x="578" y="163"/>
                </a:lnTo>
                <a:lnTo>
                  <a:pt x="566" y="161"/>
                </a:lnTo>
                <a:lnTo>
                  <a:pt x="553" y="159"/>
                </a:lnTo>
                <a:lnTo>
                  <a:pt x="541" y="155"/>
                </a:lnTo>
                <a:lnTo>
                  <a:pt x="530" y="149"/>
                </a:lnTo>
                <a:lnTo>
                  <a:pt x="518" y="146"/>
                </a:lnTo>
                <a:lnTo>
                  <a:pt x="507" y="140"/>
                </a:lnTo>
                <a:lnTo>
                  <a:pt x="497" y="132"/>
                </a:lnTo>
                <a:lnTo>
                  <a:pt x="485" y="124"/>
                </a:lnTo>
                <a:lnTo>
                  <a:pt x="474" y="117"/>
                </a:lnTo>
                <a:lnTo>
                  <a:pt x="464" y="107"/>
                </a:lnTo>
                <a:lnTo>
                  <a:pt x="484" y="103"/>
                </a:lnTo>
                <a:lnTo>
                  <a:pt x="501" y="99"/>
                </a:lnTo>
                <a:lnTo>
                  <a:pt x="518" y="98"/>
                </a:lnTo>
                <a:lnTo>
                  <a:pt x="533" y="94"/>
                </a:lnTo>
                <a:lnTo>
                  <a:pt x="549" y="90"/>
                </a:lnTo>
                <a:lnTo>
                  <a:pt x="564" y="86"/>
                </a:lnTo>
                <a:lnTo>
                  <a:pt x="578" y="82"/>
                </a:lnTo>
                <a:lnTo>
                  <a:pt x="591" y="80"/>
                </a:lnTo>
                <a:lnTo>
                  <a:pt x="604" y="76"/>
                </a:lnTo>
                <a:lnTo>
                  <a:pt x="616" y="73"/>
                </a:lnTo>
                <a:lnTo>
                  <a:pt x="627" y="71"/>
                </a:lnTo>
                <a:lnTo>
                  <a:pt x="639" y="67"/>
                </a:lnTo>
                <a:lnTo>
                  <a:pt x="650" y="65"/>
                </a:lnTo>
                <a:lnTo>
                  <a:pt x="660" y="63"/>
                </a:lnTo>
                <a:lnTo>
                  <a:pt x="670" y="61"/>
                </a:lnTo>
                <a:lnTo>
                  <a:pt x="677" y="59"/>
                </a:lnTo>
                <a:lnTo>
                  <a:pt x="695" y="55"/>
                </a:lnTo>
                <a:lnTo>
                  <a:pt x="710" y="52"/>
                </a:lnTo>
                <a:lnTo>
                  <a:pt x="723" y="48"/>
                </a:lnTo>
                <a:lnTo>
                  <a:pt x="735" y="42"/>
                </a:lnTo>
                <a:lnTo>
                  <a:pt x="745" y="38"/>
                </a:lnTo>
                <a:lnTo>
                  <a:pt x="754" y="32"/>
                </a:lnTo>
                <a:lnTo>
                  <a:pt x="764" y="27"/>
                </a:lnTo>
                <a:lnTo>
                  <a:pt x="771" y="19"/>
                </a:lnTo>
                <a:lnTo>
                  <a:pt x="775" y="15"/>
                </a:lnTo>
                <a:lnTo>
                  <a:pt x="779" y="13"/>
                </a:lnTo>
                <a:lnTo>
                  <a:pt x="785" y="9"/>
                </a:lnTo>
                <a:lnTo>
                  <a:pt x="791" y="5"/>
                </a:lnTo>
                <a:lnTo>
                  <a:pt x="798" y="4"/>
                </a:lnTo>
                <a:lnTo>
                  <a:pt x="808" y="2"/>
                </a:lnTo>
                <a:lnTo>
                  <a:pt x="816" y="0"/>
                </a:lnTo>
                <a:lnTo>
                  <a:pt x="827" y="0"/>
                </a:lnTo>
                <a:lnTo>
                  <a:pt x="837" y="0"/>
                </a:lnTo>
                <a:lnTo>
                  <a:pt x="848" y="2"/>
                </a:lnTo>
                <a:lnTo>
                  <a:pt x="862" y="5"/>
                </a:lnTo>
                <a:lnTo>
                  <a:pt x="875" y="9"/>
                </a:lnTo>
                <a:lnTo>
                  <a:pt x="890" y="13"/>
                </a:lnTo>
                <a:lnTo>
                  <a:pt x="906" y="21"/>
                </a:lnTo>
                <a:lnTo>
                  <a:pt x="921" y="28"/>
                </a:lnTo>
                <a:lnTo>
                  <a:pt x="938" y="40"/>
                </a:lnTo>
                <a:lnTo>
                  <a:pt x="954" y="50"/>
                </a:lnTo>
                <a:lnTo>
                  <a:pt x="961" y="55"/>
                </a:lnTo>
                <a:lnTo>
                  <a:pt x="969" y="61"/>
                </a:lnTo>
                <a:lnTo>
                  <a:pt x="975" y="67"/>
                </a:lnTo>
                <a:lnTo>
                  <a:pt x="982" y="71"/>
                </a:lnTo>
                <a:lnTo>
                  <a:pt x="986" y="76"/>
                </a:lnTo>
                <a:lnTo>
                  <a:pt x="992" y="80"/>
                </a:lnTo>
                <a:lnTo>
                  <a:pt x="996" y="86"/>
                </a:lnTo>
                <a:lnTo>
                  <a:pt x="1002" y="90"/>
                </a:lnTo>
                <a:lnTo>
                  <a:pt x="1004" y="94"/>
                </a:lnTo>
                <a:lnTo>
                  <a:pt x="1007" y="98"/>
                </a:lnTo>
                <a:lnTo>
                  <a:pt x="1009" y="99"/>
                </a:lnTo>
                <a:lnTo>
                  <a:pt x="1011" y="103"/>
                </a:lnTo>
                <a:lnTo>
                  <a:pt x="1011" y="105"/>
                </a:lnTo>
                <a:lnTo>
                  <a:pt x="1011" y="107"/>
                </a:lnTo>
                <a:lnTo>
                  <a:pt x="1005" y="123"/>
                </a:lnTo>
                <a:lnTo>
                  <a:pt x="998" y="136"/>
                </a:lnTo>
                <a:lnTo>
                  <a:pt x="992" y="142"/>
                </a:lnTo>
                <a:lnTo>
                  <a:pt x="986" y="147"/>
                </a:lnTo>
                <a:lnTo>
                  <a:pt x="981" y="153"/>
                </a:lnTo>
                <a:lnTo>
                  <a:pt x="975" y="157"/>
                </a:lnTo>
                <a:lnTo>
                  <a:pt x="969" y="159"/>
                </a:lnTo>
                <a:lnTo>
                  <a:pt x="963" y="165"/>
                </a:lnTo>
                <a:lnTo>
                  <a:pt x="958" y="170"/>
                </a:lnTo>
                <a:lnTo>
                  <a:pt x="950" y="178"/>
                </a:lnTo>
                <a:lnTo>
                  <a:pt x="944" y="190"/>
                </a:lnTo>
                <a:lnTo>
                  <a:pt x="936" y="201"/>
                </a:lnTo>
                <a:lnTo>
                  <a:pt x="927" y="215"/>
                </a:lnTo>
                <a:lnTo>
                  <a:pt x="919" y="230"/>
                </a:lnTo>
                <a:lnTo>
                  <a:pt x="910" y="247"/>
                </a:lnTo>
                <a:lnTo>
                  <a:pt x="900" y="266"/>
                </a:lnTo>
                <a:lnTo>
                  <a:pt x="890" y="288"/>
                </a:lnTo>
                <a:lnTo>
                  <a:pt x="881" y="311"/>
                </a:lnTo>
                <a:lnTo>
                  <a:pt x="869" y="336"/>
                </a:lnTo>
                <a:lnTo>
                  <a:pt x="860" y="362"/>
                </a:lnTo>
                <a:lnTo>
                  <a:pt x="848" y="391"/>
                </a:lnTo>
                <a:lnTo>
                  <a:pt x="837" y="422"/>
                </a:lnTo>
                <a:lnTo>
                  <a:pt x="821" y="453"/>
                </a:lnTo>
                <a:lnTo>
                  <a:pt x="808" y="481"/>
                </a:lnTo>
                <a:lnTo>
                  <a:pt x="794" y="510"/>
                </a:lnTo>
                <a:lnTo>
                  <a:pt x="781" y="537"/>
                </a:lnTo>
                <a:lnTo>
                  <a:pt x="766" y="564"/>
                </a:lnTo>
                <a:lnTo>
                  <a:pt x="752" y="589"/>
                </a:lnTo>
                <a:lnTo>
                  <a:pt x="737" y="614"/>
                </a:lnTo>
                <a:lnTo>
                  <a:pt x="723" y="637"/>
                </a:lnTo>
                <a:lnTo>
                  <a:pt x="708" y="660"/>
                </a:lnTo>
                <a:lnTo>
                  <a:pt x="695" y="681"/>
                </a:lnTo>
                <a:lnTo>
                  <a:pt x="679" y="702"/>
                </a:lnTo>
                <a:lnTo>
                  <a:pt x="664" y="721"/>
                </a:lnTo>
                <a:lnTo>
                  <a:pt x="649" y="740"/>
                </a:lnTo>
                <a:lnTo>
                  <a:pt x="635" y="760"/>
                </a:lnTo>
                <a:lnTo>
                  <a:pt x="620" y="777"/>
                </a:lnTo>
                <a:lnTo>
                  <a:pt x="604" y="794"/>
                </a:lnTo>
                <a:lnTo>
                  <a:pt x="587" y="810"/>
                </a:lnTo>
                <a:lnTo>
                  <a:pt x="574" y="825"/>
                </a:lnTo>
                <a:lnTo>
                  <a:pt x="558" y="840"/>
                </a:lnTo>
                <a:lnTo>
                  <a:pt x="543" y="856"/>
                </a:lnTo>
                <a:lnTo>
                  <a:pt x="528" y="869"/>
                </a:lnTo>
                <a:lnTo>
                  <a:pt x="514" y="881"/>
                </a:lnTo>
                <a:lnTo>
                  <a:pt x="499" y="894"/>
                </a:lnTo>
                <a:lnTo>
                  <a:pt x="485" y="906"/>
                </a:lnTo>
                <a:lnTo>
                  <a:pt x="472" y="917"/>
                </a:lnTo>
                <a:lnTo>
                  <a:pt x="459" y="927"/>
                </a:lnTo>
                <a:lnTo>
                  <a:pt x="445" y="936"/>
                </a:lnTo>
                <a:lnTo>
                  <a:pt x="432" y="946"/>
                </a:lnTo>
                <a:lnTo>
                  <a:pt x="418" y="955"/>
                </a:lnTo>
                <a:lnTo>
                  <a:pt x="405" y="965"/>
                </a:lnTo>
                <a:lnTo>
                  <a:pt x="380" y="980"/>
                </a:lnTo>
                <a:lnTo>
                  <a:pt x="355" y="994"/>
                </a:lnTo>
                <a:lnTo>
                  <a:pt x="328" y="1009"/>
                </a:lnTo>
                <a:lnTo>
                  <a:pt x="301" y="1025"/>
                </a:lnTo>
                <a:lnTo>
                  <a:pt x="270" y="1038"/>
                </a:lnTo>
                <a:lnTo>
                  <a:pt x="240" y="1053"/>
                </a:lnTo>
                <a:lnTo>
                  <a:pt x="207" y="1069"/>
                </a:lnTo>
                <a:lnTo>
                  <a:pt x="173" y="1082"/>
                </a:lnTo>
                <a:lnTo>
                  <a:pt x="140" y="1097"/>
                </a:lnTo>
                <a:lnTo>
                  <a:pt x="123" y="1105"/>
                </a:lnTo>
                <a:lnTo>
                  <a:pt x="107" y="1111"/>
                </a:lnTo>
                <a:lnTo>
                  <a:pt x="92" y="1117"/>
                </a:lnTo>
                <a:lnTo>
                  <a:pt x="79" y="1122"/>
                </a:lnTo>
                <a:lnTo>
                  <a:pt x="65" y="1126"/>
                </a:lnTo>
                <a:lnTo>
                  <a:pt x="54" y="1130"/>
                </a:lnTo>
                <a:lnTo>
                  <a:pt x="44" y="1132"/>
                </a:lnTo>
                <a:lnTo>
                  <a:pt x="34" y="1134"/>
                </a:lnTo>
                <a:lnTo>
                  <a:pt x="27" y="1136"/>
                </a:lnTo>
                <a:lnTo>
                  <a:pt x="19" y="1136"/>
                </a:lnTo>
                <a:lnTo>
                  <a:pt x="13" y="1136"/>
                </a:lnTo>
                <a:lnTo>
                  <a:pt x="9" y="1136"/>
                </a:lnTo>
                <a:lnTo>
                  <a:pt x="6" y="1134"/>
                </a:lnTo>
                <a:lnTo>
                  <a:pt x="2" y="1132"/>
                </a:lnTo>
                <a:lnTo>
                  <a:pt x="0" y="1130"/>
                </a:lnTo>
                <a:lnTo>
                  <a:pt x="0" y="1126"/>
                </a:lnTo>
                <a:lnTo>
                  <a:pt x="0" y="1122"/>
                </a:lnTo>
                <a:lnTo>
                  <a:pt x="2" y="1119"/>
                </a:lnTo>
                <a:lnTo>
                  <a:pt x="6" y="1115"/>
                </a:lnTo>
                <a:lnTo>
                  <a:pt x="9" y="1109"/>
                </a:lnTo>
                <a:lnTo>
                  <a:pt x="13" y="1103"/>
                </a:lnTo>
                <a:lnTo>
                  <a:pt x="21" y="1097"/>
                </a:lnTo>
                <a:lnTo>
                  <a:pt x="27" y="1092"/>
                </a:lnTo>
                <a:lnTo>
                  <a:pt x="36" y="1084"/>
                </a:lnTo>
                <a:lnTo>
                  <a:pt x="46" y="1078"/>
                </a:lnTo>
                <a:lnTo>
                  <a:pt x="57" y="1071"/>
                </a:lnTo>
                <a:lnTo>
                  <a:pt x="69" y="1063"/>
                </a:lnTo>
                <a:lnTo>
                  <a:pt x="82" y="1053"/>
                </a:lnTo>
                <a:lnTo>
                  <a:pt x="98" y="1046"/>
                </a:lnTo>
                <a:lnTo>
                  <a:pt x="113" y="1038"/>
                </a:lnTo>
                <a:lnTo>
                  <a:pt x="130" y="1028"/>
                </a:lnTo>
                <a:lnTo>
                  <a:pt x="148" y="1019"/>
                </a:lnTo>
                <a:lnTo>
                  <a:pt x="167" y="1009"/>
                </a:lnTo>
                <a:lnTo>
                  <a:pt x="186" y="1000"/>
                </a:lnTo>
                <a:lnTo>
                  <a:pt x="205" y="988"/>
                </a:lnTo>
                <a:lnTo>
                  <a:pt x="224" y="977"/>
                </a:lnTo>
                <a:lnTo>
                  <a:pt x="242" y="965"/>
                </a:lnTo>
                <a:lnTo>
                  <a:pt x="261" y="952"/>
                </a:lnTo>
                <a:lnTo>
                  <a:pt x="278" y="940"/>
                </a:lnTo>
                <a:lnTo>
                  <a:pt x="295" y="927"/>
                </a:lnTo>
                <a:lnTo>
                  <a:pt x="332" y="898"/>
                </a:lnTo>
                <a:lnTo>
                  <a:pt x="366" y="867"/>
                </a:lnTo>
                <a:lnTo>
                  <a:pt x="401" y="836"/>
                </a:lnTo>
                <a:lnTo>
                  <a:pt x="436" y="804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8"/>
          <p:cNvSpPr/>
          <p:nvPr/>
        </p:nvSpPr>
        <p:spPr>
          <a:xfrm>
            <a:off x="2900520" y="3116160"/>
            <a:ext cx="198360" cy="185760"/>
          </a:xfrm>
          <a:custGeom>
            <a:avLst/>
            <a:gdLst/>
            <a:ahLst/>
            <a:rect l="l" t="t" r="r" b="b"/>
            <a:pathLst>
              <a:path w="252" h="234">
                <a:moveTo>
                  <a:pt x="194" y="48"/>
                </a:moveTo>
                <a:lnTo>
                  <a:pt x="204" y="54"/>
                </a:lnTo>
                <a:lnTo>
                  <a:pt x="211" y="59"/>
                </a:lnTo>
                <a:lnTo>
                  <a:pt x="217" y="67"/>
                </a:lnTo>
                <a:lnTo>
                  <a:pt x="225" y="73"/>
                </a:lnTo>
                <a:lnTo>
                  <a:pt x="230" y="79"/>
                </a:lnTo>
                <a:lnTo>
                  <a:pt x="234" y="86"/>
                </a:lnTo>
                <a:lnTo>
                  <a:pt x="240" y="94"/>
                </a:lnTo>
                <a:lnTo>
                  <a:pt x="244" y="100"/>
                </a:lnTo>
                <a:lnTo>
                  <a:pt x="246" y="107"/>
                </a:lnTo>
                <a:lnTo>
                  <a:pt x="248" y="115"/>
                </a:lnTo>
                <a:lnTo>
                  <a:pt x="250" y="123"/>
                </a:lnTo>
                <a:lnTo>
                  <a:pt x="252" y="130"/>
                </a:lnTo>
                <a:lnTo>
                  <a:pt x="252" y="140"/>
                </a:lnTo>
                <a:lnTo>
                  <a:pt x="252" y="148"/>
                </a:lnTo>
                <a:lnTo>
                  <a:pt x="252" y="157"/>
                </a:lnTo>
                <a:lnTo>
                  <a:pt x="250" y="167"/>
                </a:lnTo>
                <a:lnTo>
                  <a:pt x="248" y="175"/>
                </a:lnTo>
                <a:lnTo>
                  <a:pt x="246" y="184"/>
                </a:lnTo>
                <a:lnTo>
                  <a:pt x="244" y="190"/>
                </a:lnTo>
                <a:lnTo>
                  <a:pt x="244" y="198"/>
                </a:lnTo>
                <a:lnTo>
                  <a:pt x="242" y="203"/>
                </a:lnTo>
                <a:lnTo>
                  <a:pt x="240" y="209"/>
                </a:lnTo>
                <a:lnTo>
                  <a:pt x="238" y="215"/>
                </a:lnTo>
                <a:lnTo>
                  <a:pt x="234" y="219"/>
                </a:lnTo>
                <a:lnTo>
                  <a:pt x="232" y="223"/>
                </a:lnTo>
                <a:lnTo>
                  <a:pt x="230" y="226"/>
                </a:lnTo>
                <a:lnTo>
                  <a:pt x="229" y="228"/>
                </a:lnTo>
                <a:lnTo>
                  <a:pt x="225" y="230"/>
                </a:lnTo>
                <a:lnTo>
                  <a:pt x="223" y="232"/>
                </a:lnTo>
                <a:lnTo>
                  <a:pt x="219" y="234"/>
                </a:lnTo>
                <a:lnTo>
                  <a:pt x="217" y="234"/>
                </a:lnTo>
                <a:lnTo>
                  <a:pt x="213" y="234"/>
                </a:lnTo>
                <a:lnTo>
                  <a:pt x="207" y="234"/>
                </a:lnTo>
                <a:lnTo>
                  <a:pt x="200" y="232"/>
                </a:lnTo>
                <a:lnTo>
                  <a:pt x="194" y="226"/>
                </a:lnTo>
                <a:lnTo>
                  <a:pt x="184" y="221"/>
                </a:lnTo>
                <a:lnTo>
                  <a:pt x="175" y="213"/>
                </a:lnTo>
                <a:lnTo>
                  <a:pt x="165" y="201"/>
                </a:lnTo>
                <a:lnTo>
                  <a:pt x="154" y="190"/>
                </a:lnTo>
                <a:lnTo>
                  <a:pt x="140" y="176"/>
                </a:lnTo>
                <a:lnTo>
                  <a:pt x="127" y="161"/>
                </a:lnTo>
                <a:lnTo>
                  <a:pt x="112" y="144"/>
                </a:lnTo>
                <a:lnTo>
                  <a:pt x="96" y="125"/>
                </a:lnTo>
                <a:lnTo>
                  <a:pt x="79" y="104"/>
                </a:lnTo>
                <a:lnTo>
                  <a:pt x="62" y="81"/>
                </a:lnTo>
                <a:lnTo>
                  <a:pt x="42" y="56"/>
                </a:lnTo>
                <a:lnTo>
                  <a:pt x="21" y="29"/>
                </a:lnTo>
                <a:lnTo>
                  <a:pt x="0" y="0"/>
                </a:lnTo>
                <a:lnTo>
                  <a:pt x="16" y="0"/>
                </a:lnTo>
                <a:lnTo>
                  <a:pt x="33" y="0"/>
                </a:lnTo>
                <a:lnTo>
                  <a:pt x="48" y="2"/>
                </a:lnTo>
                <a:lnTo>
                  <a:pt x="64" y="4"/>
                </a:lnTo>
                <a:lnTo>
                  <a:pt x="79" y="6"/>
                </a:lnTo>
                <a:lnTo>
                  <a:pt x="92" y="8"/>
                </a:lnTo>
                <a:lnTo>
                  <a:pt x="106" y="10"/>
                </a:lnTo>
                <a:lnTo>
                  <a:pt x="117" y="13"/>
                </a:lnTo>
                <a:lnTo>
                  <a:pt x="129" y="17"/>
                </a:lnTo>
                <a:lnTo>
                  <a:pt x="140" y="21"/>
                </a:lnTo>
                <a:lnTo>
                  <a:pt x="152" y="25"/>
                </a:lnTo>
                <a:lnTo>
                  <a:pt x="161" y="29"/>
                </a:lnTo>
                <a:lnTo>
                  <a:pt x="171" y="33"/>
                </a:lnTo>
                <a:lnTo>
                  <a:pt x="179" y="38"/>
                </a:lnTo>
                <a:lnTo>
                  <a:pt x="186" y="44"/>
                </a:lnTo>
                <a:lnTo>
                  <a:pt x="194" y="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9"/>
          <p:cNvSpPr/>
          <p:nvPr/>
        </p:nvSpPr>
        <p:spPr>
          <a:xfrm>
            <a:off x="2654280" y="3276720"/>
            <a:ext cx="1152720" cy="647640"/>
          </a:xfrm>
          <a:custGeom>
            <a:avLst/>
            <a:gdLst/>
            <a:ahLst/>
            <a:rect l="l" t="t" r="r" b="b"/>
            <a:pathLst>
              <a:path w="1451" h="818">
                <a:moveTo>
                  <a:pt x="39" y="73"/>
                </a:moveTo>
                <a:lnTo>
                  <a:pt x="29" y="70"/>
                </a:lnTo>
                <a:lnTo>
                  <a:pt x="19" y="64"/>
                </a:lnTo>
                <a:lnTo>
                  <a:pt x="14" y="58"/>
                </a:lnTo>
                <a:lnTo>
                  <a:pt x="6" y="54"/>
                </a:lnTo>
                <a:lnTo>
                  <a:pt x="4" y="50"/>
                </a:lnTo>
                <a:lnTo>
                  <a:pt x="2" y="48"/>
                </a:lnTo>
                <a:lnTo>
                  <a:pt x="0" y="45"/>
                </a:lnTo>
                <a:lnTo>
                  <a:pt x="0" y="43"/>
                </a:lnTo>
                <a:lnTo>
                  <a:pt x="0" y="41"/>
                </a:lnTo>
                <a:lnTo>
                  <a:pt x="0" y="39"/>
                </a:lnTo>
                <a:lnTo>
                  <a:pt x="0" y="35"/>
                </a:lnTo>
                <a:lnTo>
                  <a:pt x="2" y="33"/>
                </a:lnTo>
                <a:lnTo>
                  <a:pt x="10" y="27"/>
                </a:lnTo>
                <a:lnTo>
                  <a:pt x="18" y="20"/>
                </a:lnTo>
                <a:lnTo>
                  <a:pt x="21" y="16"/>
                </a:lnTo>
                <a:lnTo>
                  <a:pt x="27" y="12"/>
                </a:lnTo>
                <a:lnTo>
                  <a:pt x="33" y="8"/>
                </a:lnTo>
                <a:lnTo>
                  <a:pt x="39" y="4"/>
                </a:lnTo>
                <a:lnTo>
                  <a:pt x="44" y="2"/>
                </a:lnTo>
                <a:lnTo>
                  <a:pt x="50" y="0"/>
                </a:lnTo>
                <a:lnTo>
                  <a:pt x="58" y="0"/>
                </a:lnTo>
                <a:lnTo>
                  <a:pt x="65" y="2"/>
                </a:lnTo>
                <a:lnTo>
                  <a:pt x="75" y="4"/>
                </a:lnTo>
                <a:lnTo>
                  <a:pt x="87" y="6"/>
                </a:lnTo>
                <a:lnTo>
                  <a:pt x="100" y="10"/>
                </a:lnTo>
                <a:lnTo>
                  <a:pt x="113" y="14"/>
                </a:lnTo>
                <a:lnTo>
                  <a:pt x="127" y="22"/>
                </a:lnTo>
                <a:lnTo>
                  <a:pt x="142" y="31"/>
                </a:lnTo>
                <a:lnTo>
                  <a:pt x="160" y="41"/>
                </a:lnTo>
                <a:lnTo>
                  <a:pt x="177" y="52"/>
                </a:lnTo>
                <a:lnTo>
                  <a:pt x="194" y="64"/>
                </a:lnTo>
                <a:lnTo>
                  <a:pt x="213" y="79"/>
                </a:lnTo>
                <a:lnTo>
                  <a:pt x="232" y="94"/>
                </a:lnTo>
                <a:lnTo>
                  <a:pt x="242" y="104"/>
                </a:lnTo>
                <a:lnTo>
                  <a:pt x="254" y="112"/>
                </a:lnTo>
                <a:lnTo>
                  <a:pt x="263" y="121"/>
                </a:lnTo>
                <a:lnTo>
                  <a:pt x="277" y="133"/>
                </a:lnTo>
                <a:lnTo>
                  <a:pt x="292" y="142"/>
                </a:lnTo>
                <a:lnTo>
                  <a:pt x="307" y="154"/>
                </a:lnTo>
                <a:lnTo>
                  <a:pt x="326" y="167"/>
                </a:lnTo>
                <a:lnTo>
                  <a:pt x="346" y="181"/>
                </a:lnTo>
                <a:lnTo>
                  <a:pt x="369" y="194"/>
                </a:lnTo>
                <a:lnTo>
                  <a:pt x="392" y="210"/>
                </a:lnTo>
                <a:lnTo>
                  <a:pt x="417" y="225"/>
                </a:lnTo>
                <a:lnTo>
                  <a:pt x="442" y="242"/>
                </a:lnTo>
                <a:lnTo>
                  <a:pt x="470" y="261"/>
                </a:lnTo>
                <a:lnTo>
                  <a:pt x="499" y="279"/>
                </a:lnTo>
                <a:lnTo>
                  <a:pt x="532" y="300"/>
                </a:lnTo>
                <a:lnTo>
                  <a:pt x="564" y="321"/>
                </a:lnTo>
                <a:lnTo>
                  <a:pt x="597" y="344"/>
                </a:lnTo>
                <a:lnTo>
                  <a:pt x="634" y="367"/>
                </a:lnTo>
                <a:lnTo>
                  <a:pt x="670" y="390"/>
                </a:lnTo>
                <a:lnTo>
                  <a:pt x="706" y="413"/>
                </a:lnTo>
                <a:lnTo>
                  <a:pt x="741" y="436"/>
                </a:lnTo>
                <a:lnTo>
                  <a:pt x="777" y="455"/>
                </a:lnTo>
                <a:lnTo>
                  <a:pt x="812" y="474"/>
                </a:lnTo>
                <a:lnTo>
                  <a:pt x="848" y="494"/>
                </a:lnTo>
                <a:lnTo>
                  <a:pt x="883" y="511"/>
                </a:lnTo>
                <a:lnTo>
                  <a:pt x="919" y="528"/>
                </a:lnTo>
                <a:lnTo>
                  <a:pt x="954" y="544"/>
                </a:lnTo>
                <a:lnTo>
                  <a:pt x="989" y="557"/>
                </a:lnTo>
                <a:lnTo>
                  <a:pt x="1023" y="570"/>
                </a:lnTo>
                <a:lnTo>
                  <a:pt x="1056" y="584"/>
                </a:lnTo>
                <a:lnTo>
                  <a:pt x="1090" y="595"/>
                </a:lnTo>
                <a:lnTo>
                  <a:pt x="1125" y="605"/>
                </a:lnTo>
                <a:lnTo>
                  <a:pt x="1157" y="615"/>
                </a:lnTo>
                <a:lnTo>
                  <a:pt x="1190" y="622"/>
                </a:lnTo>
                <a:lnTo>
                  <a:pt x="1207" y="626"/>
                </a:lnTo>
                <a:lnTo>
                  <a:pt x="1223" y="632"/>
                </a:lnTo>
                <a:lnTo>
                  <a:pt x="1238" y="636"/>
                </a:lnTo>
                <a:lnTo>
                  <a:pt x="1251" y="640"/>
                </a:lnTo>
                <a:lnTo>
                  <a:pt x="1267" y="643"/>
                </a:lnTo>
                <a:lnTo>
                  <a:pt x="1280" y="647"/>
                </a:lnTo>
                <a:lnTo>
                  <a:pt x="1294" y="651"/>
                </a:lnTo>
                <a:lnTo>
                  <a:pt x="1305" y="655"/>
                </a:lnTo>
                <a:lnTo>
                  <a:pt x="1317" y="659"/>
                </a:lnTo>
                <a:lnTo>
                  <a:pt x="1328" y="663"/>
                </a:lnTo>
                <a:lnTo>
                  <a:pt x="1340" y="666"/>
                </a:lnTo>
                <a:lnTo>
                  <a:pt x="1349" y="670"/>
                </a:lnTo>
                <a:lnTo>
                  <a:pt x="1361" y="672"/>
                </a:lnTo>
                <a:lnTo>
                  <a:pt x="1369" y="676"/>
                </a:lnTo>
                <a:lnTo>
                  <a:pt x="1378" y="680"/>
                </a:lnTo>
                <a:lnTo>
                  <a:pt x="1386" y="682"/>
                </a:lnTo>
                <a:lnTo>
                  <a:pt x="1393" y="686"/>
                </a:lnTo>
                <a:lnTo>
                  <a:pt x="1401" y="687"/>
                </a:lnTo>
                <a:lnTo>
                  <a:pt x="1409" y="691"/>
                </a:lnTo>
                <a:lnTo>
                  <a:pt x="1415" y="693"/>
                </a:lnTo>
                <a:lnTo>
                  <a:pt x="1420" y="695"/>
                </a:lnTo>
                <a:lnTo>
                  <a:pt x="1426" y="699"/>
                </a:lnTo>
                <a:lnTo>
                  <a:pt x="1430" y="701"/>
                </a:lnTo>
                <a:lnTo>
                  <a:pt x="1436" y="703"/>
                </a:lnTo>
                <a:lnTo>
                  <a:pt x="1438" y="705"/>
                </a:lnTo>
                <a:lnTo>
                  <a:pt x="1441" y="709"/>
                </a:lnTo>
                <a:lnTo>
                  <a:pt x="1445" y="711"/>
                </a:lnTo>
                <a:lnTo>
                  <a:pt x="1447" y="712"/>
                </a:lnTo>
                <a:lnTo>
                  <a:pt x="1449" y="714"/>
                </a:lnTo>
                <a:lnTo>
                  <a:pt x="1449" y="716"/>
                </a:lnTo>
                <a:lnTo>
                  <a:pt x="1451" y="718"/>
                </a:lnTo>
                <a:lnTo>
                  <a:pt x="1451" y="720"/>
                </a:lnTo>
                <a:lnTo>
                  <a:pt x="1449" y="726"/>
                </a:lnTo>
                <a:lnTo>
                  <a:pt x="1447" y="730"/>
                </a:lnTo>
                <a:lnTo>
                  <a:pt x="1443" y="735"/>
                </a:lnTo>
                <a:lnTo>
                  <a:pt x="1438" y="739"/>
                </a:lnTo>
                <a:lnTo>
                  <a:pt x="1430" y="745"/>
                </a:lnTo>
                <a:lnTo>
                  <a:pt x="1420" y="749"/>
                </a:lnTo>
                <a:lnTo>
                  <a:pt x="1409" y="753"/>
                </a:lnTo>
                <a:lnTo>
                  <a:pt x="1395" y="759"/>
                </a:lnTo>
                <a:lnTo>
                  <a:pt x="1382" y="762"/>
                </a:lnTo>
                <a:lnTo>
                  <a:pt x="1367" y="766"/>
                </a:lnTo>
                <a:lnTo>
                  <a:pt x="1347" y="770"/>
                </a:lnTo>
                <a:lnTo>
                  <a:pt x="1328" y="774"/>
                </a:lnTo>
                <a:lnTo>
                  <a:pt x="1309" y="778"/>
                </a:lnTo>
                <a:lnTo>
                  <a:pt x="1286" y="782"/>
                </a:lnTo>
                <a:lnTo>
                  <a:pt x="1263" y="785"/>
                </a:lnTo>
                <a:lnTo>
                  <a:pt x="1236" y="789"/>
                </a:lnTo>
                <a:lnTo>
                  <a:pt x="1211" y="793"/>
                </a:lnTo>
                <a:lnTo>
                  <a:pt x="1186" y="795"/>
                </a:lnTo>
                <a:lnTo>
                  <a:pt x="1163" y="799"/>
                </a:lnTo>
                <a:lnTo>
                  <a:pt x="1142" y="801"/>
                </a:lnTo>
                <a:lnTo>
                  <a:pt x="1121" y="805"/>
                </a:lnTo>
                <a:lnTo>
                  <a:pt x="1100" y="806"/>
                </a:lnTo>
                <a:lnTo>
                  <a:pt x="1083" y="808"/>
                </a:lnTo>
                <a:lnTo>
                  <a:pt x="1063" y="810"/>
                </a:lnTo>
                <a:lnTo>
                  <a:pt x="1048" y="812"/>
                </a:lnTo>
                <a:lnTo>
                  <a:pt x="1033" y="814"/>
                </a:lnTo>
                <a:lnTo>
                  <a:pt x="1019" y="814"/>
                </a:lnTo>
                <a:lnTo>
                  <a:pt x="1006" y="816"/>
                </a:lnTo>
                <a:lnTo>
                  <a:pt x="994" y="816"/>
                </a:lnTo>
                <a:lnTo>
                  <a:pt x="985" y="818"/>
                </a:lnTo>
                <a:lnTo>
                  <a:pt x="975" y="818"/>
                </a:lnTo>
                <a:lnTo>
                  <a:pt x="967" y="818"/>
                </a:lnTo>
                <a:lnTo>
                  <a:pt x="960" y="816"/>
                </a:lnTo>
                <a:lnTo>
                  <a:pt x="952" y="812"/>
                </a:lnTo>
                <a:lnTo>
                  <a:pt x="944" y="808"/>
                </a:lnTo>
                <a:lnTo>
                  <a:pt x="937" y="805"/>
                </a:lnTo>
                <a:lnTo>
                  <a:pt x="927" y="799"/>
                </a:lnTo>
                <a:lnTo>
                  <a:pt x="918" y="793"/>
                </a:lnTo>
                <a:lnTo>
                  <a:pt x="908" y="787"/>
                </a:lnTo>
                <a:lnTo>
                  <a:pt x="898" y="780"/>
                </a:lnTo>
                <a:lnTo>
                  <a:pt x="887" y="772"/>
                </a:lnTo>
                <a:lnTo>
                  <a:pt x="875" y="762"/>
                </a:lnTo>
                <a:lnTo>
                  <a:pt x="864" y="753"/>
                </a:lnTo>
                <a:lnTo>
                  <a:pt x="852" y="743"/>
                </a:lnTo>
                <a:lnTo>
                  <a:pt x="841" y="732"/>
                </a:lnTo>
                <a:lnTo>
                  <a:pt x="827" y="718"/>
                </a:lnTo>
                <a:lnTo>
                  <a:pt x="814" y="705"/>
                </a:lnTo>
                <a:lnTo>
                  <a:pt x="800" y="691"/>
                </a:lnTo>
                <a:lnTo>
                  <a:pt x="785" y="676"/>
                </a:lnTo>
                <a:lnTo>
                  <a:pt x="768" y="659"/>
                </a:lnTo>
                <a:lnTo>
                  <a:pt x="751" y="643"/>
                </a:lnTo>
                <a:lnTo>
                  <a:pt x="731" y="626"/>
                </a:lnTo>
                <a:lnTo>
                  <a:pt x="710" y="609"/>
                </a:lnTo>
                <a:lnTo>
                  <a:pt x="689" y="590"/>
                </a:lnTo>
                <a:lnTo>
                  <a:pt x="668" y="570"/>
                </a:lnTo>
                <a:lnTo>
                  <a:pt x="645" y="549"/>
                </a:lnTo>
                <a:lnTo>
                  <a:pt x="620" y="528"/>
                </a:lnTo>
                <a:lnTo>
                  <a:pt x="595" y="507"/>
                </a:lnTo>
                <a:lnTo>
                  <a:pt x="568" y="484"/>
                </a:lnTo>
                <a:lnTo>
                  <a:pt x="541" y="461"/>
                </a:lnTo>
                <a:lnTo>
                  <a:pt x="513" y="436"/>
                </a:lnTo>
                <a:lnTo>
                  <a:pt x="484" y="411"/>
                </a:lnTo>
                <a:lnTo>
                  <a:pt x="451" y="384"/>
                </a:lnTo>
                <a:lnTo>
                  <a:pt x="421" y="357"/>
                </a:lnTo>
                <a:lnTo>
                  <a:pt x="388" y="331"/>
                </a:lnTo>
                <a:lnTo>
                  <a:pt x="357" y="306"/>
                </a:lnTo>
                <a:lnTo>
                  <a:pt x="330" y="281"/>
                </a:lnTo>
                <a:lnTo>
                  <a:pt x="303" y="260"/>
                </a:lnTo>
                <a:lnTo>
                  <a:pt x="278" y="238"/>
                </a:lnTo>
                <a:lnTo>
                  <a:pt x="255" y="219"/>
                </a:lnTo>
                <a:lnTo>
                  <a:pt x="234" y="202"/>
                </a:lnTo>
                <a:lnTo>
                  <a:pt x="215" y="187"/>
                </a:lnTo>
                <a:lnTo>
                  <a:pt x="198" y="171"/>
                </a:lnTo>
                <a:lnTo>
                  <a:pt x="183" y="160"/>
                </a:lnTo>
                <a:lnTo>
                  <a:pt x="169" y="148"/>
                </a:lnTo>
                <a:lnTo>
                  <a:pt x="156" y="139"/>
                </a:lnTo>
                <a:lnTo>
                  <a:pt x="146" y="129"/>
                </a:lnTo>
                <a:lnTo>
                  <a:pt x="136" y="123"/>
                </a:lnTo>
                <a:lnTo>
                  <a:pt x="129" y="118"/>
                </a:lnTo>
                <a:lnTo>
                  <a:pt x="123" y="112"/>
                </a:lnTo>
                <a:lnTo>
                  <a:pt x="112" y="106"/>
                </a:lnTo>
                <a:lnTo>
                  <a:pt x="102" y="98"/>
                </a:lnTo>
                <a:lnTo>
                  <a:pt x="92" y="94"/>
                </a:lnTo>
                <a:lnTo>
                  <a:pt x="81" y="89"/>
                </a:lnTo>
                <a:lnTo>
                  <a:pt x="60" y="81"/>
                </a:lnTo>
                <a:lnTo>
                  <a:pt x="39" y="73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0"/>
          <p:cNvSpPr/>
          <p:nvPr/>
        </p:nvSpPr>
        <p:spPr>
          <a:xfrm>
            <a:off x="2716200" y="2286000"/>
            <a:ext cx="264960" cy="23652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196" y="38"/>
                </a:moveTo>
                <a:lnTo>
                  <a:pt x="217" y="50"/>
                </a:lnTo>
                <a:lnTo>
                  <a:pt x="234" y="59"/>
                </a:lnTo>
                <a:lnTo>
                  <a:pt x="251" y="69"/>
                </a:lnTo>
                <a:lnTo>
                  <a:pt x="267" y="76"/>
                </a:lnTo>
                <a:lnTo>
                  <a:pt x="278" y="86"/>
                </a:lnTo>
                <a:lnTo>
                  <a:pt x="290" y="96"/>
                </a:lnTo>
                <a:lnTo>
                  <a:pt x="299" y="105"/>
                </a:lnTo>
                <a:lnTo>
                  <a:pt x="307" y="117"/>
                </a:lnTo>
                <a:lnTo>
                  <a:pt x="315" y="128"/>
                </a:lnTo>
                <a:lnTo>
                  <a:pt x="321" y="138"/>
                </a:lnTo>
                <a:lnTo>
                  <a:pt x="324" y="149"/>
                </a:lnTo>
                <a:lnTo>
                  <a:pt x="328" y="161"/>
                </a:lnTo>
                <a:lnTo>
                  <a:pt x="332" y="172"/>
                </a:lnTo>
                <a:lnTo>
                  <a:pt x="334" y="182"/>
                </a:lnTo>
                <a:lnTo>
                  <a:pt x="336" y="194"/>
                </a:lnTo>
                <a:lnTo>
                  <a:pt x="336" y="205"/>
                </a:lnTo>
                <a:lnTo>
                  <a:pt x="336" y="218"/>
                </a:lnTo>
                <a:lnTo>
                  <a:pt x="334" y="232"/>
                </a:lnTo>
                <a:lnTo>
                  <a:pt x="330" y="243"/>
                </a:lnTo>
                <a:lnTo>
                  <a:pt x="328" y="255"/>
                </a:lnTo>
                <a:lnTo>
                  <a:pt x="322" y="265"/>
                </a:lnTo>
                <a:lnTo>
                  <a:pt x="317" y="272"/>
                </a:lnTo>
                <a:lnTo>
                  <a:pt x="307" y="278"/>
                </a:lnTo>
                <a:lnTo>
                  <a:pt x="298" y="284"/>
                </a:lnTo>
                <a:lnTo>
                  <a:pt x="288" y="289"/>
                </a:lnTo>
                <a:lnTo>
                  <a:pt x="278" y="293"/>
                </a:lnTo>
                <a:lnTo>
                  <a:pt x="267" y="297"/>
                </a:lnTo>
                <a:lnTo>
                  <a:pt x="257" y="297"/>
                </a:lnTo>
                <a:lnTo>
                  <a:pt x="246" y="297"/>
                </a:lnTo>
                <a:lnTo>
                  <a:pt x="236" y="293"/>
                </a:lnTo>
                <a:lnTo>
                  <a:pt x="225" y="289"/>
                </a:lnTo>
                <a:lnTo>
                  <a:pt x="215" y="284"/>
                </a:lnTo>
                <a:lnTo>
                  <a:pt x="209" y="280"/>
                </a:lnTo>
                <a:lnTo>
                  <a:pt x="203" y="278"/>
                </a:lnTo>
                <a:lnTo>
                  <a:pt x="198" y="274"/>
                </a:lnTo>
                <a:lnTo>
                  <a:pt x="190" y="268"/>
                </a:lnTo>
                <a:lnTo>
                  <a:pt x="184" y="263"/>
                </a:lnTo>
                <a:lnTo>
                  <a:pt x="177" y="257"/>
                </a:lnTo>
                <a:lnTo>
                  <a:pt x="169" y="249"/>
                </a:lnTo>
                <a:lnTo>
                  <a:pt x="159" y="240"/>
                </a:lnTo>
                <a:lnTo>
                  <a:pt x="152" y="232"/>
                </a:lnTo>
                <a:lnTo>
                  <a:pt x="142" y="220"/>
                </a:lnTo>
                <a:lnTo>
                  <a:pt x="134" y="211"/>
                </a:lnTo>
                <a:lnTo>
                  <a:pt x="125" y="199"/>
                </a:lnTo>
                <a:lnTo>
                  <a:pt x="115" y="188"/>
                </a:lnTo>
                <a:lnTo>
                  <a:pt x="106" y="174"/>
                </a:lnTo>
                <a:lnTo>
                  <a:pt x="94" y="161"/>
                </a:lnTo>
                <a:lnTo>
                  <a:pt x="85" y="146"/>
                </a:lnTo>
                <a:lnTo>
                  <a:pt x="73" y="132"/>
                </a:lnTo>
                <a:lnTo>
                  <a:pt x="61" y="117"/>
                </a:lnTo>
                <a:lnTo>
                  <a:pt x="52" y="105"/>
                </a:lnTo>
                <a:lnTo>
                  <a:pt x="44" y="92"/>
                </a:lnTo>
                <a:lnTo>
                  <a:pt x="35" y="80"/>
                </a:lnTo>
                <a:lnTo>
                  <a:pt x="27" y="71"/>
                </a:lnTo>
                <a:lnTo>
                  <a:pt x="21" y="61"/>
                </a:lnTo>
                <a:lnTo>
                  <a:pt x="15" y="51"/>
                </a:lnTo>
                <a:lnTo>
                  <a:pt x="10" y="44"/>
                </a:lnTo>
                <a:lnTo>
                  <a:pt x="6" y="36"/>
                </a:lnTo>
                <a:lnTo>
                  <a:pt x="4" y="28"/>
                </a:lnTo>
                <a:lnTo>
                  <a:pt x="2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2" y="9"/>
                </a:lnTo>
                <a:lnTo>
                  <a:pt x="6" y="5"/>
                </a:lnTo>
                <a:lnTo>
                  <a:pt x="10" y="4"/>
                </a:lnTo>
                <a:lnTo>
                  <a:pt x="15" y="2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4" y="0"/>
                </a:lnTo>
                <a:lnTo>
                  <a:pt x="67" y="0"/>
                </a:lnTo>
                <a:lnTo>
                  <a:pt x="81" y="0"/>
                </a:lnTo>
                <a:lnTo>
                  <a:pt x="96" y="2"/>
                </a:lnTo>
                <a:lnTo>
                  <a:pt x="111" y="4"/>
                </a:lnTo>
                <a:lnTo>
                  <a:pt x="129" y="7"/>
                </a:lnTo>
                <a:lnTo>
                  <a:pt x="144" y="13"/>
                </a:lnTo>
                <a:lnTo>
                  <a:pt x="161" y="19"/>
                </a:lnTo>
                <a:lnTo>
                  <a:pt x="179" y="28"/>
                </a:lnTo>
                <a:lnTo>
                  <a:pt x="188" y="32"/>
                </a:lnTo>
                <a:lnTo>
                  <a:pt x="196" y="3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1"/>
          <p:cNvSpPr/>
          <p:nvPr/>
        </p:nvSpPr>
        <p:spPr>
          <a:xfrm>
            <a:off x="2265480" y="2487600"/>
            <a:ext cx="1225440" cy="303120"/>
          </a:xfrm>
          <a:custGeom>
            <a:avLst/>
            <a:gdLst/>
            <a:ahLst/>
            <a:rect l="l" t="t" r="r" b="b"/>
            <a:pathLst>
              <a:path w="1545" h="384">
                <a:moveTo>
                  <a:pt x="40" y="334"/>
                </a:moveTo>
                <a:lnTo>
                  <a:pt x="33" y="328"/>
                </a:lnTo>
                <a:lnTo>
                  <a:pt x="27" y="322"/>
                </a:lnTo>
                <a:lnTo>
                  <a:pt x="21" y="319"/>
                </a:lnTo>
                <a:lnTo>
                  <a:pt x="17" y="313"/>
                </a:lnTo>
                <a:lnTo>
                  <a:pt x="13" y="309"/>
                </a:lnTo>
                <a:lnTo>
                  <a:pt x="10" y="305"/>
                </a:lnTo>
                <a:lnTo>
                  <a:pt x="6" y="301"/>
                </a:lnTo>
                <a:lnTo>
                  <a:pt x="4" y="297"/>
                </a:lnTo>
                <a:lnTo>
                  <a:pt x="2" y="294"/>
                </a:lnTo>
                <a:lnTo>
                  <a:pt x="0" y="290"/>
                </a:lnTo>
                <a:lnTo>
                  <a:pt x="0" y="288"/>
                </a:lnTo>
                <a:lnTo>
                  <a:pt x="0" y="284"/>
                </a:lnTo>
                <a:lnTo>
                  <a:pt x="0" y="282"/>
                </a:lnTo>
                <a:lnTo>
                  <a:pt x="0" y="278"/>
                </a:lnTo>
                <a:lnTo>
                  <a:pt x="2" y="274"/>
                </a:lnTo>
                <a:lnTo>
                  <a:pt x="4" y="274"/>
                </a:lnTo>
                <a:lnTo>
                  <a:pt x="8" y="274"/>
                </a:lnTo>
                <a:lnTo>
                  <a:pt x="12" y="274"/>
                </a:lnTo>
                <a:lnTo>
                  <a:pt x="15" y="274"/>
                </a:lnTo>
                <a:lnTo>
                  <a:pt x="19" y="274"/>
                </a:lnTo>
                <a:lnTo>
                  <a:pt x="25" y="274"/>
                </a:lnTo>
                <a:lnTo>
                  <a:pt x="31" y="274"/>
                </a:lnTo>
                <a:lnTo>
                  <a:pt x="38" y="274"/>
                </a:lnTo>
                <a:lnTo>
                  <a:pt x="44" y="273"/>
                </a:lnTo>
                <a:lnTo>
                  <a:pt x="54" y="273"/>
                </a:lnTo>
                <a:lnTo>
                  <a:pt x="61" y="273"/>
                </a:lnTo>
                <a:lnTo>
                  <a:pt x="71" y="271"/>
                </a:lnTo>
                <a:lnTo>
                  <a:pt x="81" y="271"/>
                </a:lnTo>
                <a:lnTo>
                  <a:pt x="90" y="269"/>
                </a:lnTo>
                <a:lnTo>
                  <a:pt x="102" y="267"/>
                </a:lnTo>
                <a:lnTo>
                  <a:pt x="115" y="265"/>
                </a:lnTo>
                <a:lnTo>
                  <a:pt x="127" y="265"/>
                </a:lnTo>
                <a:lnTo>
                  <a:pt x="142" y="265"/>
                </a:lnTo>
                <a:lnTo>
                  <a:pt x="157" y="263"/>
                </a:lnTo>
                <a:lnTo>
                  <a:pt x="175" y="261"/>
                </a:lnTo>
                <a:lnTo>
                  <a:pt x="194" y="259"/>
                </a:lnTo>
                <a:lnTo>
                  <a:pt x="215" y="257"/>
                </a:lnTo>
                <a:lnTo>
                  <a:pt x="236" y="253"/>
                </a:lnTo>
                <a:lnTo>
                  <a:pt x="261" y="249"/>
                </a:lnTo>
                <a:lnTo>
                  <a:pt x="286" y="246"/>
                </a:lnTo>
                <a:lnTo>
                  <a:pt x="313" y="240"/>
                </a:lnTo>
                <a:lnTo>
                  <a:pt x="340" y="234"/>
                </a:lnTo>
                <a:lnTo>
                  <a:pt x="370" y="228"/>
                </a:lnTo>
                <a:lnTo>
                  <a:pt x="401" y="221"/>
                </a:lnTo>
                <a:lnTo>
                  <a:pt x="434" y="215"/>
                </a:lnTo>
                <a:lnTo>
                  <a:pt x="468" y="205"/>
                </a:lnTo>
                <a:lnTo>
                  <a:pt x="505" y="198"/>
                </a:lnTo>
                <a:lnTo>
                  <a:pt x="578" y="178"/>
                </a:lnTo>
                <a:lnTo>
                  <a:pt x="649" y="161"/>
                </a:lnTo>
                <a:lnTo>
                  <a:pt x="720" y="144"/>
                </a:lnTo>
                <a:lnTo>
                  <a:pt x="789" y="129"/>
                </a:lnTo>
                <a:lnTo>
                  <a:pt x="856" y="111"/>
                </a:lnTo>
                <a:lnTo>
                  <a:pt x="923" y="94"/>
                </a:lnTo>
                <a:lnTo>
                  <a:pt x="988" y="77"/>
                </a:lnTo>
                <a:lnTo>
                  <a:pt x="1052" y="59"/>
                </a:lnTo>
                <a:lnTo>
                  <a:pt x="1080" y="52"/>
                </a:lnTo>
                <a:lnTo>
                  <a:pt x="1109" y="46"/>
                </a:lnTo>
                <a:lnTo>
                  <a:pt x="1134" y="38"/>
                </a:lnTo>
                <a:lnTo>
                  <a:pt x="1159" y="33"/>
                </a:lnTo>
                <a:lnTo>
                  <a:pt x="1184" y="29"/>
                </a:lnTo>
                <a:lnTo>
                  <a:pt x="1205" y="23"/>
                </a:lnTo>
                <a:lnTo>
                  <a:pt x="1226" y="19"/>
                </a:lnTo>
                <a:lnTo>
                  <a:pt x="1246" y="15"/>
                </a:lnTo>
                <a:lnTo>
                  <a:pt x="1265" y="12"/>
                </a:lnTo>
                <a:lnTo>
                  <a:pt x="1280" y="8"/>
                </a:lnTo>
                <a:lnTo>
                  <a:pt x="1295" y="6"/>
                </a:lnTo>
                <a:lnTo>
                  <a:pt x="1309" y="4"/>
                </a:lnTo>
                <a:lnTo>
                  <a:pt x="1322" y="2"/>
                </a:lnTo>
                <a:lnTo>
                  <a:pt x="1332" y="2"/>
                </a:lnTo>
                <a:lnTo>
                  <a:pt x="1341" y="0"/>
                </a:lnTo>
                <a:lnTo>
                  <a:pt x="1349" y="0"/>
                </a:lnTo>
                <a:lnTo>
                  <a:pt x="1361" y="2"/>
                </a:lnTo>
                <a:lnTo>
                  <a:pt x="1374" y="2"/>
                </a:lnTo>
                <a:lnTo>
                  <a:pt x="1388" y="6"/>
                </a:lnTo>
                <a:lnTo>
                  <a:pt x="1403" y="10"/>
                </a:lnTo>
                <a:lnTo>
                  <a:pt x="1418" y="13"/>
                </a:lnTo>
                <a:lnTo>
                  <a:pt x="1435" y="21"/>
                </a:lnTo>
                <a:lnTo>
                  <a:pt x="1453" y="29"/>
                </a:lnTo>
                <a:lnTo>
                  <a:pt x="1470" y="40"/>
                </a:lnTo>
                <a:lnTo>
                  <a:pt x="1485" y="50"/>
                </a:lnTo>
                <a:lnTo>
                  <a:pt x="1493" y="56"/>
                </a:lnTo>
                <a:lnTo>
                  <a:pt x="1501" y="59"/>
                </a:lnTo>
                <a:lnTo>
                  <a:pt x="1508" y="65"/>
                </a:lnTo>
                <a:lnTo>
                  <a:pt x="1514" y="69"/>
                </a:lnTo>
                <a:lnTo>
                  <a:pt x="1520" y="73"/>
                </a:lnTo>
                <a:lnTo>
                  <a:pt x="1524" y="77"/>
                </a:lnTo>
                <a:lnTo>
                  <a:pt x="1530" y="81"/>
                </a:lnTo>
                <a:lnTo>
                  <a:pt x="1533" y="84"/>
                </a:lnTo>
                <a:lnTo>
                  <a:pt x="1537" y="86"/>
                </a:lnTo>
                <a:lnTo>
                  <a:pt x="1539" y="90"/>
                </a:lnTo>
                <a:lnTo>
                  <a:pt x="1541" y="92"/>
                </a:lnTo>
                <a:lnTo>
                  <a:pt x="1543" y="94"/>
                </a:lnTo>
                <a:lnTo>
                  <a:pt x="1543" y="96"/>
                </a:lnTo>
                <a:lnTo>
                  <a:pt x="1545" y="98"/>
                </a:lnTo>
                <a:lnTo>
                  <a:pt x="1543" y="106"/>
                </a:lnTo>
                <a:lnTo>
                  <a:pt x="1543" y="113"/>
                </a:lnTo>
                <a:lnTo>
                  <a:pt x="1539" y="121"/>
                </a:lnTo>
                <a:lnTo>
                  <a:pt x="1535" y="129"/>
                </a:lnTo>
                <a:lnTo>
                  <a:pt x="1531" y="134"/>
                </a:lnTo>
                <a:lnTo>
                  <a:pt x="1524" y="142"/>
                </a:lnTo>
                <a:lnTo>
                  <a:pt x="1516" y="150"/>
                </a:lnTo>
                <a:lnTo>
                  <a:pt x="1507" y="157"/>
                </a:lnTo>
                <a:lnTo>
                  <a:pt x="1495" y="165"/>
                </a:lnTo>
                <a:lnTo>
                  <a:pt x="1489" y="167"/>
                </a:lnTo>
                <a:lnTo>
                  <a:pt x="1483" y="171"/>
                </a:lnTo>
                <a:lnTo>
                  <a:pt x="1476" y="173"/>
                </a:lnTo>
                <a:lnTo>
                  <a:pt x="1468" y="175"/>
                </a:lnTo>
                <a:lnTo>
                  <a:pt x="1459" y="178"/>
                </a:lnTo>
                <a:lnTo>
                  <a:pt x="1451" y="180"/>
                </a:lnTo>
                <a:lnTo>
                  <a:pt x="1441" y="180"/>
                </a:lnTo>
                <a:lnTo>
                  <a:pt x="1432" y="182"/>
                </a:lnTo>
                <a:lnTo>
                  <a:pt x="1420" y="184"/>
                </a:lnTo>
                <a:lnTo>
                  <a:pt x="1409" y="184"/>
                </a:lnTo>
                <a:lnTo>
                  <a:pt x="1397" y="186"/>
                </a:lnTo>
                <a:lnTo>
                  <a:pt x="1386" y="186"/>
                </a:lnTo>
                <a:lnTo>
                  <a:pt x="1372" y="186"/>
                </a:lnTo>
                <a:lnTo>
                  <a:pt x="1359" y="186"/>
                </a:lnTo>
                <a:lnTo>
                  <a:pt x="1351" y="186"/>
                </a:lnTo>
                <a:lnTo>
                  <a:pt x="1343" y="188"/>
                </a:lnTo>
                <a:lnTo>
                  <a:pt x="1334" y="188"/>
                </a:lnTo>
                <a:lnTo>
                  <a:pt x="1324" y="188"/>
                </a:lnTo>
                <a:lnTo>
                  <a:pt x="1313" y="188"/>
                </a:lnTo>
                <a:lnTo>
                  <a:pt x="1301" y="190"/>
                </a:lnTo>
                <a:lnTo>
                  <a:pt x="1290" y="192"/>
                </a:lnTo>
                <a:lnTo>
                  <a:pt x="1276" y="192"/>
                </a:lnTo>
                <a:lnTo>
                  <a:pt x="1263" y="194"/>
                </a:lnTo>
                <a:lnTo>
                  <a:pt x="1247" y="196"/>
                </a:lnTo>
                <a:lnTo>
                  <a:pt x="1232" y="198"/>
                </a:lnTo>
                <a:lnTo>
                  <a:pt x="1217" y="200"/>
                </a:lnTo>
                <a:lnTo>
                  <a:pt x="1199" y="202"/>
                </a:lnTo>
                <a:lnTo>
                  <a:pt x="1180" y="203"/>
                </a:lnTo>
                <a:lnTo>
                  <a:pt x="1163" y="207"/>
                </a:lnTo>
                <a:lnTo>
                  <a:pt x="1142" y="209"/>
                </a:lnTo>
                <a:lnTo>
                  <a:pt x="1123" y="213"/>
                </a:lnTo>
                <a:lnTo>
                  <a:pt x="1102" y="217"/>
                </a:lnTo>
                <a:lnTo>
                  <a:pt x="1079" y="219"/>
                </a:lnTo>
                <a:lnTo>
                  <a:pt x="1056" y="223"/>
                </a:lnTo>
                <a:lnTo>
                  <a:pt x="1032" y="226"/>
                </a:lnTo>
                <a:lnTo>
                  <a:pt x="1008" y="230"/>
                </a:lnTo>
                <a:lnTo>
                  <a:pt x="983" y="236"/>
                </a:lnTo>
                <a:lnTo>
                  <a:pt x="956" y="240"/>
                </a:lnTo>
                <a:lnTo>
                  <a:pt x="929" y="246"/>
                </a:lnTo>
                <a:lnTo>
                  <a:pt x="902" y="249"/>
                </a:lnTo>
                <a:lnTo>
                  <a:pt x="873" y="255"/>
                </a:lnTo>
                <a:lnTo>
                  <a:pt x="844" y="261"/>
                </a:lnTo>
                <a:lnTo>
                  <a:pt x="814" y="267"/>
                </a:lnTo>
                <a:lnTo>
                  <a:pt x="783" y="273"/>
                </a:lnTo>
                <a:lnTo>
                  <a:pt x="750" y="278"/>
                </a:lnTo>
                <a:lnTo>
                  <a:pt x="718" y="284"/>
                </a:lnTo>
                <a:lnTo>
                  <a:pt x="685" y="292"/>
                </a:lnTo>
                <a:lnTo>
                  <a:pt x="654" y="297"/>
                </a:lnTo>
                <a:lnTo>
                  <a:pt x="624" y="303"/>
                </a:lnTo>
                <a:lnTo>
                  <a:pt x="593" y="309"/>
                </a:lnTo>
                <a:lnTo>
                  <a:pt x="564" y="315"/>
                </a:lnTo>
                <a:lnTo>
                  <a:pt x="535" y="321"/>
                </a:lnTo>
                <a:lnTo>
                  <a:pt x="509" y="324"/>
                </a:lnTo>
                <a:lnTo>
                  <a:pt x="484" y="330"/>
                </a:lnTo>
                <a:lnTo>
                  <a:pt x="459" y="334"/>
                </a:lnTo>
                <a:lnTo>
                  <a:pt x="434" y="338"/>
                </a:lnTo>
                <a:lnTo>
                  <a:pt x="411" y="344"/>
                </a:lnTo>
                <a:lnTo>
                  <a:pt x="388" y="347"/>
                </a:lnTo>
                <a:lnTo>
                  <a:pt x="367" y="351"/>
                </a:lnTo>
                <a:lnTo>
                  <a:pt x="345" y="353"/>
                </a:lnTo>
                <a:lnTo>
                  <a:pt x="326" y="357"/>
                </a:lnTo>
                <a:lnTo>
                  <a:pt x="309" y="361"/>
                </a:lnTo>
                <a:lnTo>
                  <a:pt x="290" y="363"/>
                </a:lnTo>
                <a:lnTo>
                  <a:pt x="274" y="367"/>
                </a:lnTo>
                <a:lnTo>
                  <a:pt x="259" y="368"/>
                </a:lnTo>
                <a:lnTo>
                  <a:pt x="244" y="370"/>
                </a:lnTo>
                <a:lnTo>
                  <a:pt x="230" y="372"/>
                </a:lnTo>
                <a:lnTo>
                  <a:pt x="217" y="374"/>
                </a:lnTo>
                <a:lnTo>
                  <a:pt x="205" y="376"/>
                </a:lnTo>
                <a:lnTo>
                  <a:pt x="194" y="378"/>
                </a:lnTo>
                <a:lnTo>
                  <a:pt x="184" y="378"/>
                </a:lnTo>
                <a:lnTo>
                  <a:pt x="175" y="380"/>
                </a:lnTo>
                <a:lnTo>
                  <a:pt x="167" y="380"/>
                </a:lnTo>
                <a:lnTo>
                  <a:pt x="161" y="382"/>
                </a:lnTo>
                <a:lnTo>
                  <a:pt x="154" y="382"/>
                </a:lnTo>
                <a:lnTo>
                  <a:pt x="150" y="382"/>
                </a:lnTo>
                <a:lnTo>
                  <a:pt x="146" y="382"/>
                </a:lnTo>
                <a:lnTo>
                  <a:pt x="142" y="384"/>
                </a:lnTo>
                <a:lnTo>
                  <a:pt x="131" y="382"/>
                </a:lnTo>
                <a:lnTo>
                  <a:pt x="119" y="380"/>
                </a:lnTo>
                <a:lnTo>
                  <a:pt x="107" y="376"/>
                </a:lnTo>
                <a:lnTo>
                  <a:pt x="94" y="370"/>
                </a:lnTo>
                <a:lnTo>
                  <a:pt x="81" y="363"/>
                </a:lnTo>
                <a:lnTo>
                  <a:pt x="67" y="353"/>
                </a:lnTo>
                <a:lnTo>
                  <a:pt x="54" y="344"/>
                </a:lnTo>
                <a:lnTo>
                  <a:pt x="40" y="334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2"/>
          <p:cNvSpPr/>
          <p:nvPr/>
        </p:nvSpPr>
        <p:spPr>
          <a:xfrm>
            <a:off x="1994040" y="2820960"/>
            <a:ext cx="663480" cy="781200"/>
          </a:xfrm>
          <a:custGeom>
            <a:avLst/>
            <a:gdLst/>
            <a:ahLst/>
            <a:rect l="l" t="t" r="r" b="b"/>
            <a:pathLst>
              <a:path w="837" h="985">
                <a:moveTo>
                  <a:pt x="0" y="983"/>
                </a:moveTo>
                <a:lnTo>
                  <a:pt x="0" y="977"/>
                </a:lnTo>
                <a:lnTo>
                  <a:pt x="0" y="973"/>
                </a:lnTo>
                <a:lnTo>
                  <a:pt x="2" y="968"/>
                </a:lnTo>
                <a:lnTo>
                  <a:pt x="6" y="960"/>
                </a:lnTo>
                <a:lnTo>
                  <a:pt x="12" y="952"/>
                </a:lnTo>
                <a:lnTo>
                  <a:pt x="18" y="945"/>
                </a:lnTo>
                <a:lnTo>
                  <a:pt x="25" y="935"/>
                </a:lnTo>
                <a:lnTo>
                  <a:pt x="35" y="923"/>
                </a:lnTo>
                <a:lnTo>
                  <a:pt x="45" y="912"/>
                </a:lnTo>
                <a:lnTo>
                  <a:pt x="56" y="900"/>
                </a:lnTo>
                <a:lnTo>
                  <a:pt x="70" y="887"/>
                </a:lnTo>
                <a:lnTo>
                  <a:pt x="83" y="872"/>
                </a:lnTo>
                <a:lnTo>
                  <a:pt x="98" y="856"/>
                </a:lnTo>
                <a:lnTo>
                  <a:pt x="114" y="841"/>
                </a:lnTo>
                <a:lnTo>
                  <a:pt x="131" y="824"/>
                </a:lnTo>
                <a:lnTo>
                  <a:pt x="150" y="806"/>
                </a:lnTo>
                <a:lnTo>
                  <a:pt x="189" y="768"/>
                </a:lnTo>
                <a:lnTo>
                  <a:pt x="227" y="728"/>
                </a:lnTo>
                <a:lnTo>
                  <a:pt x="263" y="687"/>
                </a:lnTo>
                <a:lnTo>
                  <a:pt x="302" y="645"/>
                </a:lnTo>
                <a:lnTo>
                  <a:pt x="340" y="601"/>
                </a:lnTo>
                <a:lnTo>
                  <a:pt x="377" y="557"/>
                </a:lnTo>
                <a:lnTo>
                  <a:pt x="411" y="511"/>
                </a:lnTo>
                <a:lnTo>
                  <a:pt x="448" y="463"/>
                </a:lnTo>
                <a:lnTo>
                  <a:pt x="463" y="440"/>
                </a:lnTo>
                <a:lnTo>
                  <a:pt x="476" y="417"/>
                </a:lnTo>
                <a:lnTo>
                  <a:pt x="492" y="396"/>
                </a:lnTo>
                <a:lnTo>
                  <a:pt x="505" y="375"/>
                </a:lnTo>
                <a:lnTo>
                  <a:pt x="519" y="353"/>
                </a:lnTo>
                <a:lnTo>
                  <a:pt x="532" y="334"/>
                </a:lnTo>
                <a:lnTo>
                  <a:pt x="545" y="317"/>
                </a:lnTo>
                <a:lnTo>
                  <a:pt x="557" y="298"/>
                </a:lnTo>
                <a:lnTo>
                  <a:pt x="568" y="280"/>
                </a:lnTo>
                <a:lnTo>
                  <a:pt x="580" y="265"/>
                </a:lnTo>
                <a:lnTo>
                  <a:pt x="590" y="250"/>
                </a:lnTo>
                <a:lnTo>
                  <a:pt x="599" y="234"/>
                </a:lnTo>
                <a:lnTo>
                  <a:pt x="609" y="219"/>
                </a:lnTo>
                <a:lnTo>
                  <a:pt x="618" y="206"/>
                </a:lnTo>
                <a:lnTo>
                  <a:pt x="626" y="192"/>
                </a:lnTo>
                <a:lnTo>
                  <a:pt x="632" y="179"/>
                </a:lnTo>
                <a:lnTo>
                  <a:pt x="641" y="158"/>
                </a:lnTo>
                <a:lnTo>
                  <a:pt x="649" y="138"/>
                </a:lnTo>
                <a:lnTo>
                  <a:pt x="657" y="119"/>
                </a:lnTo>
                <a:lnTo>
                  <a:pt x="661" y="104"/>
                </a:lnTo>
                <a:lnTo>
                  <a:pt x="663" y="89"/>
                </a:lnTo>
                <a:lnTo>
                  <a:pt x="664" y="75"/>
                </a:lnTo>
                <a:lnTo>
                  <a:pt x="663" y="62"/>
                </a:lnTo>
                <a:lnTo>
                  <a:pt x="661" y="50"/>
                </a:lnTo>
                <a:lnTo>
                  <a:pt x="657" y="44"/>
                </a:lnTo>
                <a:lnTo>
                  <a:pt x="655" y="37"/>
                </a:lnTo>
                <a:lnTo>
                  <a:pt x="655" y="29"/>
                </a:lnTo>
                <a:lnTo>
                  <a:pt x="655" y="23"/>
                </a:lnTo>
                <a:lnTo>
                  <a:pt x="657" y="18"/>
                </a:lnTo>
                <a:lnTo>
                  <a:pt x="659" y="12"/>
                </a:lnTo>
                <a:lnTo>
                  <a:pt x="664" y="6"/>
                </a:lnTo>
                <a:lnTo>
                  <a:pt x="670" y="2"/>
                </a:lnTo>
                <a:lnTo>
                  <a:pt x="674" y="0"/>
                </a:lnTo>
                <a:lnTo>
                  <a:pt x="678" y="0"/>
                </a:lnTo>
                <a:lnTo>
                  <a:pt x="682" y="0"/>
                </a:lnTo>
                <a:lnTo>
                  <a:pt x="687" y="0"/>
                </a:lnTo>
                <a:lnTo>
                  <a:pt x="693" y="0"/>
                </a:lnTo>
                <a:lnTo>
                  <a:pt x="699" y="2"/>
                </a:lnTo>
                <a:lnTo>
                  <a:pt x="705" y="4"/>
                </a:lnTo>
                <a:lnTo>
                  <a:pt x="710" y="6"/>
                </a:lnTo>
                <a:lnTo>
                  <a:pt x="724" y="14"/>
                </a:lnTo>
                <a:lnTo>
                  <a:pt x="739" y="21"/>
                </a:lnTo>
                <a:lnTo>
                  <a:pt x="755" y="31"/>
                </a:lnTo>
                <a:lnTo>
                  <a:pt x="772" y="41"/>
                </a:lnTo>
                <a:lnTo>
                  <a:pt x="780" y="46"/>
                </a:lnTo>
                <a:lnTo>
                  <a:pt x="787" y="52"/>
                </a:lnTo>
                <a:lnTo>
                  <a:pt x="795" y="58"/>
                </a:lnTo>
                <a:lnTo>
                  <a:pt x="801" y="64"/>
                </a:lnTo>
                <a:lnTo>
                  <a:pt x="808" y="69"/>
                </a:lnTo>
                <a:lnTo>
                  <a:pt x="812" y="75"/>
                </a:lnTo>
                <a:lnTo>
                  <a:pt x="818" y="81"/>
                </a:lnTo>
                <a:lnTo>
                  <a:pt x="822" y="85"/>
                </a:lnTo>
                <a:lnTo>
                  <a:pt x="826" y="90"/>
                </a:lnTo>
                <a:lnTo>
                  <a:pt x="829" y="96"/>
                </a:lnTo>
                <a:lnTo>
                  <a:pt x="831" y="102"/>
                </a:lnTo>
                <a:lnTo>
                  <a:pt x="833" y="108"/>
                </a:lnTo>
                <a:lnTo>
                  <a:pt x="835" y="114"/>
                </a:lnTo>
                <a:lnTo>
                  <a:pt x="835" y="119"/>
                </a:lnTo>
                <a:lnTo>
                  <a:pt x="837" y="129"/>
                </a:lnTo>
                <a:lnTo>
                  <a:pt x="837" y="135"/>
                </a:lnTo>
                <a:lnTo>
                  <a:pt x="835" y="142"/>
                </a:lnTo>
                <a:lnTo>
                  <a:pt x="833" y="148"/>
                </a:lnTo>
                <a:lnTo>
                  <a:pt x="831" y="156"/>
                </a:lnTo>
                <a:lnTo>
                  <a:pt x="828" y="163"/>
                </a:lnTo>
                <a:lnTo>
                  <a:pt x="824" y="171"/>
                </a:lnTo>
                <a:lnTo>
                  <a:pt x="820" y="181"/>
                </a:lnTo>
                <a:lnTo>
                  <a:pt x="814" y="190"/>
                </a:lnTo>
                <a:lnTo>
                  <a:pt x="808" y="202"/>
                </a:lnTo>
                <a:lnTo>
                  <a:pt x="801" y="211"/>
                </a:lnTo>
                <a:lnTo>
                  <a:pt x="795" y="225"/>
                </a:lnTo>
                <a:lnTo>
                  <a:pt x="785" y="236"/>
                </a:lnTo>
                <a:lnTo>
                  <a:pt x="776" y="250"/>
                </a:lnTo>
                <a:lnTo>
                  <a:pt x="766" y="265"/>
                </a:lnTo>
                <a:lnTo>
                  <a:pt x="757" y="280"/>
                </a:lnTo>
                <a:lnTo>
                  <a:pt x="745" y="296"/>
                </a:lnTo>
                <a:lnTo>
                  <a:pt x="732" y="313"/>
                </a:lnTo>
                <a:lnTo>
                  <a:pt x="718" y="330"/>
                </a:lnTo>
                <a:lnTo>
                  <a:pt x="705" y="348"/>
                </a:lnTo>
                <a:lnTo>
                  <a:pt x="689" y="367"/>
                </a:lnTo>
                <a:lnTo>
                  <a:pt x="676" y="384"/>
                </a:lnTo>
                <a:lnTo>
                  <a:pt x="659" y="403"/>
                </a:lnTo>
                <a:lnTo>
                  <a:pt x="643" y="423"/>
                </a:lnTo>
                <a:lnTo>
                  <a:pt x="626" y="444"/>
                </a:lnTo>
                <a:lnTo>
                  <a:pt x="607" y="463"/>
                </a:lnTo>
                <a:lnTo>
                  <a:pt x="590" y="484"/>
                </a:lnTo>
                <a:lnTo>
                  <a:pt x="570" y="505"/>
                </a:lnTo>
                <a:lnTo>
                  <a:pt x="551" y="528"/>
                </a:lnTo>
                <a:lnTo>
                  <a:pt x="530" y="549"/>
                </a:lnTo>
                <a:lnTo>
                  <a:pt x="509" y="572"/>
                </a:lnTo>
                <a:lnTo>
                  <a:pt x="488" y="595"/>
                </a:lnTo>
                <a:lnTo>
                  <a:pt x="465" y="620"/>
                </a:lnTo>
                <a:lnTo>
                  <a:pt x="444" y="643"/>
                </a:lnTo>
                <a:lnTo>
                  <a:pt x="421" y="666"/>
                </a:lnTo>
                <a:lnTo>
                  <a:pt x="400" y="687"/>
                </a:lnTo>
                <a:lnTo>
                  <a:pt x="378" y="708"/>
                </a:lnTo>
                <a:lnTo>
                  <a:pt x="357" y="728"/>
                </a:lnTo>
                <a:lnTo>
                  <a:pt x="338" y="747"/>
                </a:lnTo>
                <a:lnTo>
                  <a:pt x="317" y="766"/>
                </a:lnTo>
                <a:lnTo>
                  <a:pt x="298" y="783"/>
                </a:lnTo>
                <a:lnTo>
                  <a:pt x="279" y="801"/>
                </a:lnTo>
                <a:lnTo>
                  <a:pt x="260" y="818"/>
                </a:lnTo>
                <a:lnTo>
                  <a:pt x="240" y="833"/>
                </a:lnTo>
                <a:lnTo>
                  <a:pt x="221" y="849"/>
                </a:lnTo>
                <a:lnTo>
                  <a:pt x="202" y="862"/>
                </a:lnTo>
                <a:lnTo>
                  <a:pt x="185" y="877"/>
                </a:lnTo>
                <a:lnTo>
                  <a:pt x="150" y="904"/>
                </a:lnTo>
                <a:lnTo>
                  <a:pt x="133" y="916"/>
                </a:lnTo>
                <a:lnTo>
                  <a:pt x="117" y="927"/>
                </a:lnTo>
                <a:lnTo>
                  <a:pt x="102" y="937"/>
                </a:lnTo>
                <a:lnTo>
                  <a:pt x="89" y="946"/>
                </a:lnTo>
                <a:lnTo>
                  <a:pt x="77" y="954"/>
                </a:lnTo>
                <a:lnTo>
                  <a:pt x="64" y="962"/>
                </a:lnTo>
                <a:lnTo>
                  <a:pt x="54" y="968"/>
                </a:lnTo>
                <a:lnTo>
                  <a:pt x="45" y="973"/>
                </a:lnTo>
                <a:lnTo>
                  <a:pt x="35" y="977"/>
                </a:lnTo>
                <a:lnTo>
                  <a:pt x="27" y="979"/>
                </a:lnTo>
                <a:lnTo>
                  <a:pt x="22" y="983"/>
                </a:lnTo>
                <a:lnTo>
                  <a:pt x="16" y="983"/>
                </a:lnTo>
                <a:lnTo>
                  <a:pt x="10" y="985"/>
                </a:lnTo>
                <a:lnTo>
                  <a:pt x="6" y="985"/>
                </a:lnTo>
                <a:lnTo>
                  <a:pt x="4" y="983"/>
                </a:lnTo>
                <a:lnTo>
                  <a:pt x="0" y="98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3"/>
          <p:cNvSpPr/>
          <p:nvPr/>
        </p:nvSpPr>
        <p:spPr>
          <a:xfrm>
            <a:off x="2406600" y="3171960"/>
            <a:ext cx="139680" cy="934920"/>
          </a:xfrm>
          <a:custGeom>
            <a:avLst/>
            <a:gdLst/>
            <a:ahLst/>
            <a:rect l="l" t="t" r="r" b="b"/>
            <a:pathLst>
              <a:path w="176" h="1176">
                <a:moveTo>
                  <a:pt x="84" y="1176"/>
                </a:moveTo>
                <a:lnTo>
                  <a:pt x="82" y="1174"/>
                </a:lnTo>
                <a:lnTo>
                  <a:pt x="80" y="1174"/>
                </a:lnTo>
                <a:lnTo>
                  <a:pt x="78" y="1172"/>
                </a:lnTo>
                <a:lnTo>
                  <a:pt x="74" y="1170"/>
                </a:lnTo>
                <a:lnTo>
                  <a:pt x="72" y="1166"/>
                </a:lnTo>
                <a:lnTo>
                  <a:pt x="71" y="1163"/>
                </a:lnTo>
                <a:lnTo>
                  <a:pt x="67" y="1159"/>
                </a:lnTo>
                <a:lnTo>
                  <a:pt x="65" y="1155"/>
                </a:lnTo>
                <a:lnTo>
                  <a:pt x="61" y="1149"/>
                </a:lnTo>
                <a:lnTo>
                  <a:pt x="57" y="1143"/>
                </a:lnTo>
                <a:lnTo>
                  <a:pt x="55" y="1136"/>
                </a:lnTo>
                <a:lnTo>
                  <a:pt x="51" y="1130"/>
                </a:lnTo>
                <a:lnTo>
                  <a:pt x="47" y="1122"/>
                </a:lnTo>
                <a:lnTo>
                  <a:pt x="44" y="1115"/>
                </a:lnTo>
                <a:lnTo>
                  <a:pt x="42" y="1105"/>
                </a:lnTo>
                <a:lnTo>
                  <a:pt x="38" y="1097"/>
                </a:lnTo>
                <a:lnTo>
                  <a:pt x="32" y="1086"/>
                </a:lnTo>
                <a:lnTo>
                  <a:pt x="28" y="1076"/>
                </a:lnTo>
                <a:lnTo>
                  <a:pt x="24" y="1065"/>
                </a:lnTo>
                <a:lnTo>
                  <a:pt x="21" y="1057"/>
                </a:lnTo>
                <a:lnTo>
                  <a:pt x="17" y="1047"/>
                </a:lnTo>
                <a:lnTo>
                  <a:pt x="13" y="1040"/>
                </a:lnTo>
                <a:lnTo>
                  <a:pt x="11" y="1032"/>
                </a:lnTo>
                <a:lnTo>
                  <a:pt x="9" y="1024"/>
                </a:lnTo>
                <a:lnTo>
                  <a:pt x="7" y="1017"/>
                </a:lnTo>
                <a:lnTo>
                  <a:pt x="5" y="1011"/>
                </a:lnTo>
                <a:lnTo>
                  <a:pt x="3" y="1007"/>
                </a:lnTo>
                <a:lnTo>
                  <a:pt x="1" y="1001"/>
                </a:lnTo>
                <a:lnTo>
                  <a:pt x="1" y="998"/>
                </a:lnTo>
                <a:lnTo>
                  <a:pt x="1" y="994"/>
                </a:lnTo>
                <a:lnTo>
                  <a:pt x="0" y="992"/>
                </a:lnTo>
                <a:lnTo>
                  <a:pt x="0" y="988"/>
                </a:lnTo>
                <a:lnTo>
                  <a:pt x="1" y="980"/>
                </a:lnTo>
                <a:lnTo>
                  <a:pt x="1" y="973"/>
                </a:lnTo>
                <a:lnTo>
                  <a:pt x="3" y="963"/>
                </a:lnTo>
                <a:lnTo>
                  <a:pt x="5" y="952"/>
                </a:lnTo>
                <a:lnTo>
                  <a:pt x="9" y="938"/>
                </a:lnTo>
                <a:lnTo>
                  <a:pt x="13" y="925"/>
                </a:lnTo>
                <a:lnTo>
                  <a:pt x="15" y="907"/>
                </a:lnTo>
                <a:lnTo>
                  <a:pt x="19" y="890"/>
                </a:lnTo>
                <a:lnTo>
                  <a:pt x="21" y="881"/>
                </a:lnTo>
                <a:lnTo>
                  <a:pt x="23" y="871"/>
                </a:lnTo>
                <a:lnTo>
                  <a:pt x="24" y="857"/>
                </a:lnTo>
                <a:lnTo>
                  <a:pt x="26" y="844"/>
                </a:lnTo>
                <a:lnTo>
                  <a:pt x="28" y="831"/>
                </a:lnTo>
                <a:lnTo>
                  <a:pt x="28" y="813"/>
                </a:lnTo>
                <a:lnTo>
                  <a:pt x="30" y="796"/>
                </a:lnTo>
                <a:lnTo>
                  <a:pt x="32" y="779"/>
                </a:lnTo>
                <a:lnTo>
                  <a:pt x="34" y="758"/>
                </a:lnTo>
                <a:lnTo>
                  <a:pt x="36" y="737"/>
                </a:lnTo>
                <a:lnTo>
                  <a:pt x="38" y="714"/>
                </a:lnTo>
                <a:lnTo>
                  <a:pt x="40" y="691"/>
                </a:lnTo>
                <a:lnTo>
                  <a:pt x="42" y="664"/>
                </a:lnTo>
                <a:lnTo>
                  <a:pt x="44" y="637"/>
                </a:lnTo>
                <a:lnTo>
                  <a:pt x="46" y="608"/>
                </a:lnTo>
                <a:lnTo>
                  <a:pt x="47" y="577"/>
                </a:lnTo>
                <a:lnTo>
                  <a:pt x="47" y="548"/>
                </a:lnTo>
                <a:lnTo>
                  <a:pt x="49" y="522"/>
                </a:lnTo>
                <a:lnTo>
                  <a:pt x="51" y="495"/>
                </a:lnTo>
                <a:lnTo>
                  <a:pt x="53" y="470"/>
                </a:lnTo>
                <a:lnTo>
                  <a:pt x="55" y="445"/>
                </a:lnTo>
                <a:lnTo>
                  <a:pt x="57" y="422"/>
                </a:lnTo>
                <a:lnTo>
                  <a:pt x="57" y="401"/>
                </a:lnTo>
                <a:lnTo>
                  <a:pt x="59" y="380"/>
                </a:lnTo>
                <a:lnTo>
                  <a:pt x="61" y="360"/>
                </a:lnTo>
                <a:lnTo>
                  <a:pt x="61" y="343"/>
                </a:lnTo>
                <a:lnTo>
                  <a:pt x="63" y="326"/>
                </a:lnTo>
                <a:lnTo>
                  <a:pt x="63" y="311"/>
                </a:lnTo>
                <a:lnTo>
                  <a:pt x="65" y="297"/>
                </a:lnTo>
                <a:lnTo>
                  <a:pt x="65" y="286"/>
                </a:lnTo>
                <a:lnTo>
                  <a:pt x="65" y="274"/>
                </a:lnTo>
                <a:lnTo>
                  <a:pt x="65" y="264"/>
                </a:lnTo>
                <a:lnTo>
                  <a:pt x="65" y="255"/>
                </a:lnTo>
                <a:lnTo>
                  <a:pt x="65" y="243"/>
                </a:lnTo>
                <a:lnTo>
                  <a:pt x="65" y="232"/>
                </a:lnTo>
                <a:lnTo>
                  <a:pt x="63" y="220"/>
                </a:lnTo>
                <a:lnTo>
                  <a:pt x="63" y="207"/>
                </a:lnTo>
                <a:lnTo>
                  <a:pt x="61" y="192"/>
                </a:lnTo>
                <a:lnTo>
                  <a:pt x="61" y="176"/>
                </a:lnTo>
                <a:lnTo>
                  <a:pt x="59" y="161"/>
                </a:lnTo>
                <a:lnTo>
                  <a:pt x="57" y="144"/>
                </a:lnTo>
                <a:lnTo>
                  <a:pt x="57" y="126"/>
                </a:lnTo>
                <a:lnTo>
                  <a:pt x="55" y="107"/>
                </a:lnTo>
                <a:lnTo>
                  <a:pt x="53" y="88"/>
                </a:lnTo>
                <a:lnTo>
                  <a:pt x="51" y="67"/>
                </a:lnTo>
                <a:lnTo>
                  <a:pt x="49" y="46"/>
                </a:lnTo>
                <a:lnTo>
                  <a:pt x="47" y="23"/>
                </a:lnTo>
                <a:lnTo>
                  <a:pt x="47" y="0"/>
                </a:lnTo>
                <a:lnTo>
                  <a:pt x="61" y="7"/>
                </a:lnTo>
                <a:lnTo>
                  <a:pt x="76" y="17"/>
                </a:lnTo>
                <a:lnTo>
                  <a:pt x="88" y="26"/>
                </a:lnTo>
                <a:lnTo>
                  <a:pt x="101" y="34"/>
                </a:lnTo>
                <a:lnTo>
                  <a:pt x="111" y="42"/>
                </a:lnTo>
                <a:lnTo>
                  <a:pt x="122" y="50"/>
                </a:lnTo>
                <a:lnTo>
                  <a:pt x="132" y="57"/>
                </a:lnTo>
                <a:lnTo>
                  <a:pt x="140" y="65"/>
                </a:lnTo>
                <a:lnTo>
                  <a:pt x="147" y="71"/>
                </a:lnTo>
                <a:lnTo>
                  <a:pt x="153" y="76"/>
                </a:lnTo>
                <a:lnTo>
                  <a:pt x="159" y="84"/>
                </a:lnTo>
                <a:lnTo>
                  <a:pt x="165" y="88"/>
                </a:lnTo>
                <a:lnTo>
                  <a:pt x="168" y="94"/>
                </a:lnTo>
                <a:lnTo>
                  <a:pt x="172" y="99"/>
                </a:lnTo>
                <a:lnTo>
                  <a:pt x="174" y="103"/>
                </a:lnTo>
                <a:lnTo>
                  <a:pt x="176" y="107"/>
                </a:lnTo>
                <a:lnTo>
                  <a:pt x="176" y="111"/>
                </a:lnTo>
                <a:lnTo>
                  <a:pt x="176" y="117"/>
                </a:lnTo>
                <a:lnTo>
                  <a:pt x="176" y="122"/>
                </a:lnTo>
                <a:lnTo>
                  <a:pt x="176" y="128"/>
                </a:lnTo>
                <a:lnTo>
                  <a:pt x="176" y="138"/>
                </a:lnTo>
                <a:lnTo>
                  <a:pt x="176" y="145"/>
                </a:lnTo>
                <a:lnTo>
                  <a:pt x="176" y="155"/>
                </a:lnTo>
                <a:lnTo>
                  <a:pt x="176" y="167"/>
                </a:lnTo>
                <a:lnTo>
                  <a:pt x="174" y="178"/>
                </a:lnTo>
                <a:lnTo>
                  <a:pt x="174" y="192"/>
                </a:lnTo>
                <a:lnTo>
                  <a:pt x="174" y="207"/>
                </a:lnTo>
                <a:lnTo>
                  <a:pt x="172" y="222"/>
                </a:lnTo>
                <a:lnTo>
                  <a:pt x="172" y="238"/>
                </a:lnTo>
                <a:lnTo>
                  <a:pt x="170" y="255"/>
                </a:lnTo>
                <a:lnTo>
                  <a:pt x="168" y="274"/>
                </a:lnTo>
                <a:lnTo>
                  <a:pt x="168" y="293"/>
                </a:lnTo>
                <a:lnTo>
                  <a:pt x="165" y="334"/>
                </a:lnTo>
                <a:lnTo>
                  <a:pt x="163" y="376"/>
                </a:lnTo>
                <a:lnTo>
                  <a:pt x="161" y="418"/>
                </a:lnTo>
                <a:lnTo>
                  <a:pt x="159" y="460"/>
                </a:lnTo>
                <a:lnTo>
                  <a:pt x="159" y="548"/>
                </a:lnTo>
                <a:lnTo>
                  <a:pt x="159" y="637"/>
                </a:lnTo>
                <a:lnTo>
                  <a:pt x="151" y="725"/>
                </a:lnTo>
                <a:lnTo>
                  <a:pt x="143" y="813"/>
                </a:lnTo>
                <a:lnTo>
                  <a:pt x="142" y="859"/>
                </a:lnTo>
                <a:lnTo>
                  <a:pt x="138" y="905"/>
                </a:lnTo>
                <a:lnTo>
                  <a:pt x="134" y="952"/>
                </a:lnTo>
                <a:lnTo>
                  <a:pt x="130" y="999"/>
                </a:lnTo>
                <a:lnTo>
                  <a:pt x="126" y="1021"/>
                </a:lnTo>
                <a:lnTo>
                  <a:pt x="124" y="1040"/>
                </a:lnTo>
                <a:lnTo>
                  <a:pt x="120" y="1059"/>
                </a:lnTo>
                <a:lnTo>
                  <a:pt x="117" y="1076"/>
                </a:lnTo>
                <a:lnTo>
                  <a:pt x="113" y="1092"/>
                </a:lnTo>
                <a:lnTo>
                  <a:pt x="111" y="1107"/>
                </a:lnTo>
                <a:lnTo>
                  <a:pt x="107" y="1118"/>
                </a:lnTo>
                <a:lnTo>
                  <a:pt x="103" y="1132"/>
                </a:lnTo>
                <a:lnTo>
                  <a:pt x="101" y="1142"/>
                </a:lnTo>
                <a:lnTo>
                  <a:pt x="97" y="1151"/>
                </a:lnTo>
                <a:lnTo>
                  <a:pt x="95" y="1159"/>
                </a:lnTo>
                <a:lnTo>
                  <a:pt x="92" y="1165"/>
                </a:lnTo>
                <a:lnTo>
                  <a:pt x="90" y="1168"/>
                </a:lnTo>
                <a:lnTo>
                  <a:pt x="88" y="1172"/>
                </a:lnTo>
                <a:lnTo>
                  <a:pt x="86" y="1174"/>
                </a:lnTo>
                <a:lnTo>
                  <a:pt x="84" y="1176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4"/>
          <p:cNvSpPr/>
          <p:nvPr/>
        </p:nvSpPr>
        <p:spPr>
          <a:xfrm>
            <a:off x="2760840" y="2749680"/>
            <a:ext cx="331560" cy="536400"/>
          </a:xfrm>
          <a:custGeom>
            <a:avLst/>
            <a:gdLst/>
            <a:ahLst/>
            <a:rect l="l" t="t" r="r" b="b"/>
            <a:pathLst>
              <a:path w="416" h="678">
                <a:moveTo>
                  <a:pt x="222" y="200"/>
                </a:moveTo>
                <a:lnTo>
                  <a:pt x="226" y="186"/>
                </a:lnTo>
                <a:lnTo>
                  <a:pt x="230" y="173"/>
                </a:lnTo>
                <a:lnTo>
                  <a:pt x="234" y="159"/>
                </a:lnTo>
                <a:lnTo>
                  <a:pt x="238" y="146"/>
                </a:lnTo>
                <a:lnTo>
                  <a:pt x="240" y="134"/>
                </a:lnTo>
                <a:lnTo>
                  <a:pt x="241" y="125"/>
                </a:lnTo>
                <a:lnTo>
                  <a:pt x="243" y="113"/>
                </a:lnTo>
                <a:lnTo>
                  <a:pt x="245" y="104"/>
                </a:lnTo>
                <a:lnTo>
                  <a:pt x="245" y="96"/>
                </a:lnTo>
                <a:lnTo>
                  <a:pt x="245" y="86"/>
                </a:lnTo>
                <a:lnTo>
                  <a:pt x="245" y="81"/>
                </a:lnTo>
                <a:lnTo>
                  <a:pt x="245" y="73"/>
                </a:lnTo>
                <a:lnTo>
                  <a:pt x="243" y="67"/>
                </a:lnTo>
                <a:lnTo>
                  <a:pt x="243" y="62"/>
                </a:lnTo>
                <a:lnTo>
                  <a:pt x="241" y="58"/>
                </a:lnTo>
                <a:lnTo>
                  <a:pt x="240" y="54"/>
                </a:lnTo>
                <a:lnTo>
                  <a:pt x="234" y="46"/>
                </a:lnTo>
                <a:lnTo>
                  <a:pt x="230" y="38"/>
                </a:lnTo>
                <a:lnTo>
                  <a:pt x="228" y="31"/>
                </a:lnTo>
                <a:lnTo>
                  <a:pt x="226" y="25"/>
                </a:lnTo>
                <a:lnTo>
                  <a:pt x="228" y="19"/>
                </a:lnTo>
                <a:lnTo>
                  <a:pt x="230" y="14"/>
                </a:lnTo>
                <a:lnTo>
                  <a:pt x="234" y="8"/>
                </a:lnTo>
                <a:lnTo>
                  <a:pt x="240" y="4"/>
                </a:lnTo>
                <a:lnTo>
                  <a:pt x="241" y="2"/>
                </a:lnTo>
                <a:lnTo>
                  <a:pt x="245" y="0"/>
                </a:lnTo>
                <a:lnTo>
                  <a:pt x="249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66" y="2"/>
                </a:lnTo>
                <a:lnTo>
                  <a:pt x="272" y="2"/>
                </a:lnTo>
                <a:lnTo>
                  <a:pt x="286" y="6"/>
                </a:lnTo>
                <a:lnTo>
                  <a:pt x="301" y="10"/>
                </a:lnTo>
                <a:lnTo>
                  <a:pt x="316" y="17"/>
                </a:lnTo>
                <a:lnTo>
                  <a:pt x="334" y="23"/>
                </a:lnTo>
                <a:lnTo>
                  <a:pt x="349" y="35"/>
                </a:lnTo>
                <a:lnTo>
                  <a:pt x="364" y="44"/>
                </a:lnTo>
                <a:lnTo>
                  <a:pt x="378" y="54"/>
                </a:lnTo>
                <a:lnTo>
                  <a:pt x="389" y="62"/>
                </a:lnTo>
                <a:lnTo>
                  <a:pt x="399" y="69"/>
                </a:lnTo>
                <a:lnTo>
                  <a:pt x="406" y="77"/>
                </a:lnTo>
                <a:lnTo>
                  <a:pt x="412" y="85"/>
                </a:lnTo>
                <a:lnTo>
                  <a:pt x="416" y="92"/>
                </a:lnTo>
                <a:lnTo>
                  <a:pt x="416" y="100"/>
                </a:lnTo>
                <a:lnTo>
                  <a:pt x="414" y="109"/>
                </a:lnTo>
                <a:lnTo>
                  <a:pt x="410" y="123"/>
                </a:lnTo>
                <a:lnTo>
                  <a:pt x="405" y="136"/>
                </a:lnTo>
                <a:lnTo>
                  <a:pt x="397" y="152"/>
                </a:lnTo>
                <a:lnTo>
                  <a:pt x="389" y="169"/>
                </a:lnTo>
                <a:lnTo>
                  <a:pt x="380" y="188"/>
                </a:lnTo>
                <a:lnTo>
                  <a:pt x="370" y="209"/>
                </a:lnTo>
                <a:lnTo>
                  <a:pt x="359" y="232"/>
                </a:lnTo>
                <a:lnTo>
                  <a:pt x="347" y="255"/>
                </a:lnTo>
                <a:lnTo>
                  <a:pt x="332" y="280"/>
                </a:lnTo>
                <a:lnTo>
                  <a:pt x="316" y="305"/>
                </a:lnTo>
                <a:lnTo>
                  <a:pt x="301" y="332"/>
                </a:lnTo>
                <a:lnTo>
                  <a:pt x="284" y="359"/>
                </a:lnTo>
                <a:lnTo>
                  <a:pt x="266" y="386"/>
                </a:lnTo>
                <a:lnTo>
                  <a:pt x="249" y="415"/>
                </a:lnTo>
                <a:lnTo>
                  <a:pt x="241" y="432"/>
                </a:lnTo>
                <a:lnTo>
                  <a:pt x="232" y="447"/>
                </a:lnTo>
                <a:lnTo>
                  <a:pt x="222" y="463"/>
                </a:lnTo>
                <a:lnTo>
                  <a:pt x="215" y="478"/>
                </a:lnTo>
                <a:lnTo>
                  <a:pt x="195" y="507"/>
                </a:lnTo>
                <a:lnTo>
                  <a:pt x="176" y="534"/>
                </a:lnTo>
                <a:lnTo>
                  <a:pt x="157" y="559"/>
                </a:lnTo>
                <a:lnTo>
                  <a:pt x="138" y="582"/>
                </a:lnTo>
                <a:lnTo>
                  <a:pt x="119" y="603"/>
                </a:lnTo>
                <a:lnTo>
                  <a:pt x="101" y="622"/>
                </a:lnTo>
                <a:lnTo>
                  <a:pt x="92" y="630"/>
                </a:lnTo>
                <a:lnTo>
                  <a:pt x="82" y="639"/>
                </a:lnTo>
                <a:lnTo>
                  <a:pt x="73" y="645"/>
                </a:lnTo>
                <a:lnTo>
                  <a:pt x="63" y="653"/>
                </a:lnTo>
                <a:lnTo>
                  <a:pt x="55" y="658"/>
                </a:lnTo>
                <a:lnTo>
                  <a:pt x="48" y="664"/>
                </a:lnTo>
                <a:lnTo>
                  <a:pt x="40" y="668"/>
                </a:lnTo>
                <a:lnTo>
                  <a:pt x="32" y="672"/>
                </a:lnTo>
                <a:lnTo>
                  <a:pt x="27" y="674"/>
                </a:lnTo>
                <a:lnTo>
                  <a:pt x="21" y="676"/>
                </a:lnTo>
                <a:lnTo>
                  <a:pt x="15" y="678"/>
                </a:lnTo>
                <a:lnTo>
                  <a:pt x="11" y="678"/>
                </a:lnTo>
                <a:lnTo>
                  <a:pt x="7" y="678"/>
                </a:lnTo>
                <a:lnTo>
                  <a:pt x="3" y="676"/>
                </a:lnTo>
                <a:lnTo>
                  <a:pt x="2" y="674"/>
                </a:lnTo>
                <a:lnTo>
                  <a:pt x="0" y="670"/>
                </a:lnTo>
                <a:lnTo>
                  <a:pt x="23" y="628"/>
                </a:lnTo>
                <a:lnTo>
                  <a:pt x="44" y="585"/>
                </a:lnTo>
                <a:lnTo>
                  <a:pt x="65" y="545"/>
                </a:lnTo>
                <a:lnTo>
                  <a:pt x="86" y="509"/>
                </a:lnTo>
                <a:lnTo>
                  <a:pt x="103" y="472"/>
                </a:lnTo>
                <a:lnTo>
                  <a:pt x="121" y="438"/>
                </a:lnTo>
                <a:lnTo>
                  <a:pt x="136" y="407"/>
                </a:lnTo>
                <a:lnTo>
                  <a:pt x="151" y="376"/>
                </a:lnTo>
                <a:lnTo>
                  <a:pt x="165" y="347"/>
                </a:lnTo>
                <a:lnTo>
                  <a:pt x="176" y="321"/>
                </a:lnTo>
                <a:lnTo>
                  <a:pt x="188" y="296"/>
                </a:lnTo>
                <a:lnTo>
                  <a:pt x="197" y="273"/>
                </a:lnTo>
                <a:lnTo>
                  <a:pt x="205" y="252"/>
                </a:lnTo>
                <a:lnTo>
                  <a:pt x="213" y="232"/>
                </a:lnTo>
                <a:lnTo>
                  <a:pt x="218" y="215"/>
                </a:lnTo>
                <a:lnTo>
                  <a:pt x="222" y="20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5" descr="1259530571396942839109.png"/>
          <p:cNvPicPr/>
          <p:nvPr/>
        </p:nvPicPr>
        <p:blipFill>
          <a:blip r:embed="rId9"/>
          <a:srcRect l="0" t="0" r="-30198" b="0"/>
          <a:stretch/>
        </p:blipFill>
        <p:spPr>
          <a:xfrm>
            <a:off x="2603520" y="2901960"/>
            <a:ext cx="1066680" cy="152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6" descr="1259530571396942839109.png"/>
          <p:cNvPicPr/>
          <p:nvPr/>
        </p:nvPicPr>
        <p:blipFill>
          <a:blip r:embed="rId10"/>
          <a:srcRect l="0" t="0" r="-2286" b="-28371"/>
          <a:stretch/>
        </p:blipFill>
        <p:spPr>
          <a:xfrm>
            <a:off x="2603520" y="305424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37"/>
          <p:cNvSpPr/>
          <p:nvPr/>
        </p:nvSpPr>
        <p:spPr>
          <a:xfrm>
            <a:off x="2901960" y="3110040"/>
            <a:ext cx="198360" cy="185760"/>
          </a:xfrm>
          <a:custGeom>
            <a:avLst/>
            <a:gdLst/>
            <a:ahLst/>
            <a:rect l="l" t="t" r="r" b="b"/>
            <a:pathLst>
              <a:path w="252" h="234">
                <a:moveTo>
                  <a:pt x="194" y="48"/>
                </a:moveTo>
                <a:lnTo>
                  <a:pt x="204" y="54"/>
                </a:lnTo>
                <a:lnTo>
                  <a:pt x="211" y="59"/>
                </a:lnTo>
                <a:lnTo>
                  <a:pt x="217" y="67"/>
                </a:lnTo>
                <a:lnTo>
                  <a:pt x="225" y="73"/>
                </a:lnTo>
                <a:lnTo>
                  <a:pt x="230" y="79"/>
                </a:lnTo>
                <a:lnTo>
                  <a:pt x="234" y="86"/>
                </a:lnTo>
                <a:lnTo>
                  <a:pt x="240" y="94"/>
                </a:lnTo>
                <a:lnTo>
                  <a:pt x="244" y="100"/>
                </a:lnTo>
                <a:lnTo>
                  <a:pt x="246" y="107"/>
                </a:lnTo>
                <a:lnTo>
                  <a:pt x="248" y="115"/>
                </a:lnTo>
                <a:lnTo>
                  <a:pt x="250" y="123"/>
                </a:lnTo>
                <a:lnTo>
                  <a:pt x="252" y="130"/>
                </a:lnTo>
                <a:lnTo>
                  <a:pt x="252" y="140"/>
                </a:lnTo>
                <a:lnTo>
                  <a:pt x="252" y="148"/>
                </a:lnTo>
                <a:lnTo>
                  <a:pt x="252" y="157"/>
                </a:lnTo>
                <a:lnTo>
                  <a:pt x="250" y="167"/>
                </a:lnTo>
                <a:lnTo>
                  <a:pt x="248" y="175"/>
                </a:lnTo>
                <a:lnTo>
                  <a:pt x="246" y="184"/>
                </a:lnTo>
                <a:lnTo>
                  <a:pt x="244" y="190"/>
                </a:lnTo>
                <a:lnTo>
                  <a:pt x="244" y="198"/>
                </a:lnTo>
                <a:lnTo>
                  <a:pt x="242" y="203"/>
                </a:lnTo>
                <a:lnTo>
                  <a:pt x="240" y="209"/>
                </a:lnTo>
                <a:lnTo>
                  <a:pt x="238" y="215"/>
                </a:lnTo>
                <a:lnTo>
                  <a:pt x="234" y="219"/>
                </a:lnTo>
                <a:lnTo>
                  <a:pt x="232" y="223"/>
                </a:lnTo>
                <a:lnTo>
                  <a:pt x="230" y="226"/>
                </a:lnTo>
                <a:lnTo>
                  <a:pt x="229" y="228"/>
                </a:lnTo>
                <a:lnTo>
                  <a:pt x="225" y="230"/>
                </a:lnTo>
                <a:lnTo>
                  <a:pt x="223" y="232"/>
                </a:lnTo>
                <a:lnTo>
                  <a:pt x="219" y="234"/>
                </a:lnTo>
                <a:lnTo>
                  <a:pt x="217" y="234"/>
                </a:lnTo>
                <a:lnTo>
                  <a:pt x="213" y="234"/>
                </a:lnTo>
                <a:lnTo>
                  <a:pt x="207" y="234"/>
                </a:lnTo>
                <a:lnTo>
                  <a:pt x="200" y="232"/>
                </a:lnTo>
                <a:lnTo>
                  <a:pt x="194" y="226"/>
                </a:lnTo>
                <a:lnTo>
                  <a:pt x="184" y="221"/>
                </a:lnTo>
                <a:lnTo>
                  <a:pt x="175" y="213"/>
                </a:lnTo>
                <a:lnTo>
                  <a:pt x="165" y="201"/>
                </a:lnTo>
                <a:lnTo>
                  <a:pt x="154" y="190"/>
                </a:lnTo>
                <a:lnTo>
                  <a:pt x="140" y="176"/>
                </a:lnTo>
                <a:lnTo>
                  <a:pt x="127" y="161"/>
                </a:lnTo>
                <a:lnTo>
                  <a:pt x="112" y="144"/>
                </a:lnTo>
                <a:lnTo>
                  <a:pt x="96" y="125"/>
                </a:lnTo>
                <a:lnTo>
                  <a:pt x="79" y="104"/>
                </a:lnTo>
                <a:lnTo>
                  <a:pt x="62" y="81"/>
                </a:lnTo>
                <a:lnTo>
                  <a:pt x="42" y="56"/>
                </a:lnTo>
                <a:lnTo>
                  <a:pt x="21" y="29"/>
                </a:lnTo>
                <a:lnTo>
                  <a:pt x="0" y="0"/>
                </a:lnTo>
                <a:lnTo>
                  <a:pt x="16" y="0"/>
                </a:lnTo>
                <a:lnTo>
                  <a:pt x="33" y="0"/>
                </a:lnTo>
                <a:lnTo>
                  <a:pt x="48" y="2"/>
                </a:lnTo>
                <a:lnTo>
                  <a:pt x="64" y="4"/>
                </a:lnTo>
                <a:lnTo>
                  <a:pt x="79" y="6"/>
                </a:lnTo>
                <a:lnTo>
                  <a:pt x="92" y="8"/>
                </a:lnTo>
                <a:lnTo>
                  <a:pt x="106" y="10"/>
                </a:lnTo>
                <a:lnTo>
                  <a:pt x="117" y="13"/>
                </a:lnTo>
                <a:lnTo>
                  <a:pt x="129" y="17"/>
                </a:lnTo>
                <a:lnTo>
                  <a:pt x="140" y="21"/>
                </a:lnTo>
                <a:lnTo>
                  <a:pt x="152" y="25"/>
                </a:lnTo>
                <a:lnTo>
                  <a:pt x="161" y="29"/>
                </a:lnTo>
                <a:lnTo>
                  <a:pt x="171" y="33"/>
                </a:lnTo>
                <a:lnTo>
                  <a:pt x="179" y="38"/>
                </a:lnTo>
                <a:lnTo>
                  <a:pt x="186" y="44"/>
                </a:lnTo>
                <a:lnTo>
                  <a:pt x="194" y="48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8"/>
          <p:cNvSpPr/>
          <p:nvPr/>
        </p:nvSpPr>
        <p:spPr>
          <a:xfrm>
            <a:off x="2655720" y="3270240"/>
            <a:ext cx="1152720" cy="647640"/>
          </a:xfrm>
          <a:custGeom>
            <a:avLst/>
            <a:gdLst/>
            <a:ahLst/>
            <a:rect l="l" t="t" r="r" b="b"/>
            <a:pathLst>
              <a:path w="1451" h="818">
                <a:moveTo>
                  <a:pt x="39" y="73"/>
                </a:moveTo>
                <a:lnTo>
                  <a:pt x="29" y="70"/>
                </a:lnTo>
                <a:lnTo>
                  <a:pt x="19" y="64"/>
                </a:lnTo>
                <a:lnTo>
                  <a:pt x="14" y="58"/>
                </a:lnTo>
                <a:lnTo>
                  <a:pt x="6" y="54"/>
                </a:lnTo>
                <a:lnTo>
                  <a:pt x="4" y="50"/>
                </a:lnTo>
                <a:lnTo>
                  <a:pt x="2" y="48"/>
                </a:lnTo>
                <a:lnTo>
                  <a:pt x="0" y="45"/>
                </a:lnTo>
                <a:lnTo>
                  <a:pt x="0" y="43"/>
                </a:lnTo>
                <a:lnTo>
                  <a:pt x="0" y="41"/>
                </a:lnTo>
                <a:lnTo>
                  <a:pt x="0" y="39"/>
                </a:lnTo>
                <a:lnTo>
                  <a:pt x="0" y="35"/>
                </a:lnTo>
                <a:lnTo>
                  <a:pt x="2" y="33"/>
                </a:lnTo>
                <a:lnTo>
                  <a:pt x="10" y="27"/>
                </a:lnTo>
                <a:lnTo>
                  <a:pt x="18" y="20"/>
                </a:lnTo>
                <a:lnTo>
                  <a:pt x="21" y="16"/>
                </a:lnTo>
                <a:lnTo>
                  <a:pt x="27" y="12"/>
                </a:lnTo>
                <a:lnTo>
                  <a:pt x="33" y="8"/>
                </a:lnTo>
                <a:lnTo>
                  <a:pt x="39" y="4"/>
                </a:lnTo>
                <a:lnTo>
                  <a:pt x="44" y="2"/>
                </a:lnTo>
                <a:lnTo>
                  <a:pt x="50" y="0"/>
                </a:lnTo>
                <a:lnTo>
                  <a:pt x="58" y="0"/>
                </a:lnTo>
                <a:lnTo>
                  <a:pt x="65" y="2"/>
                </a:lnTo>
                <a:lnTo>
                  <a:pt x="75" y="4"/>
                </a:lnTo>
                <a:lnTo>
                  <a:pt x="87" y="6"/>
                </a:lnTo>
                <a:lnTo>
                  <a:pt x="100" y="10"/>
                </a:lnTo>
                <a:lnTo>
                  <a:pt x="113" y="14"/>
                </a:lnTo>
                <a:lnTo>
                  <a:pt x="127" y="22"/>
                </a:lnTo>
                <a:lnTo>
                  <a:pt x="142" y="31"/>
                </a:lnTo>
                <a:lnTo>
                  <a:pt x="160" y="41"/>
                </a:lnTo>
                <a:lnTo>
                  <a:pt x="177" y="52"/>
                </a:lnTo>
                <a:lnTo>
                  <a:pt x="194" y="64"/>
                </a:lnTo>
                <a:lnTo>
                  <a:pt x="213" y="79"/>
                </a:lnTo>
                <a:lnTo>
                  <a:pt x="232" y="94"/>
                </a:lnTo>
                <a:lnTo>
                  <a:pt x="242" y="104"/>
                </a:lnTo>
                <a:lnTo>
                  <a:pt x="254" y="112"/>
                </a:lnTo>
                <a:lnTo>
                  <a:pt x="263" y="121"/>
                </a:lnTo>
                <a:lnTo>
                  <a:pt x="277" y="133"/>
                </a:lnTo>
                <a:lnTo>
                  <a:pt x="292" y="142"/>
                </a:lnTo>
                <a:lnTo>
                  <a:pt x="307" y="154"/>
                </a:lnTo>
                <a:lnTo>
                  <a:pt x="326" y="167"/>
                </a:lnTo>
                <a:lnTo>
                  <a:pt x="346" y="181"/>
                </a:lnTo>
                <a:lnTo>
                  <a:pt x="369" y="194"/>
                </a:lnTo>
                <a:lnTo>
                  <a:pt x="392" y="210"/>
                </a:lnTo>
                <a:lnTo>
                  <a:pt x="417" y="225"/>
                </a:lnTo>
                <a:lnTo>
                  <a:pt x="442" y="242"/>
                </a:lnTo>
                <a:lnTo>
                  <a:pt x="470" y="261"/>
                </a:lnTo>
                <a:lnTo>
                  <a:pt x="499" y="279"/>
                </a:lnTo>
                <a:lnTo>
                  <a:pt x="532" y="300"/>
                </a:lnTo>
                <a:lnTo>
                  <a:pt x="564" y="321"/>
                </a:lnTo>
                <a:lnTo>
                  <a:pt x="597" y="344"/>
                </a:lnTo>
                <a:lnTo>
                  <a:pt x="634" y="367"/>
                </a:lnTo>
                <a:lnTo>
                  <a:pt x="670" y="390"/>
                </a:lnTo>
                <a:lnTo>
                  <a:pt x="706" y="413"/>
                </a:lnTo>
                <a:lnTo>
                  <a:pt x="741" y="436"/>
                </a:lnTo>
                <a:lnTo>
                  <a:pt x="777" y="455"/>
                </a:lnTo>
                <a:lnTo>
                  <a:pt x="812" y="474"/>
                </a:lnTo>
                <a:lnTo>
                  <a:pt x="848" y="494"/>
                </a:lnTo>
                <a:lnTo>
                  <a:pt x="883" y="511"/>
                </a:lnTo>
                <a:lnTo>
                  <a:pt x="919" y="528"/>
                </a:lnTo>
                <a:lnTo>
                  <a:pt x="954" y="544"/>
                </a:lnTo>
                <a:lnTo>
                  <a:pt x="989" y="557"/>
                </a:lnTo>
                <a:lnTo>
                  <a:pt x="1023" y="570"/>
                </a:lnTo>
                <a:lnTo>
                  <a:pt x="1056" y="584"/>
                </a:lnTo>
                <a:lnTo>
                  <a:pt x="1090" y="595"/>
                </a:lnTo>
                <a:lnTo>
                  <a:pt x="1125" y="605"/>
                </a:lnTo>
                <a:lnTo>
                  <a:pt x="1157" y="615"/>
                </a:lnTo>
                <a:lnTo>
                  <a:pt x="1190" y="622"/>
                </a:lnTo>
                <a:lnTo>
                  <a:pt x="1207" y="626"/>
                </a:lnTo>
                <a:lnTo>
                  <a:pt x="1223" y="632"/>
                </a:lnTo>
                <a:lnTo>
                  <a:pt x="1238" y="636"/>
                </a:lnTo>
                <a:lnTo>
                  <a:pt x="1251" y="640"/>
                </a:lnTo>
                <a:lnTo>
                  <a:pt x="1267" y="643"/>
                </a:lnTo>
                <a:lnTo>
                  <a:pt x="1280" y="647"/>
                </a:lnTo>
                <a:lnTo>
                  <a:pt x="1294" y="651"/>
                </a:lnTo>
                <a:lnTo>
                  <a:pt x="1305" y="655"/>
                </a:lnTo>
                <a:lnTo>
                  <a:pt x="1317" y="659"/>
                </a:lnTo>
                <a:lnTo>
                  <a:pt x="1328" y="663"/>
                </a:lnTo>
                <a:lnTo>
                  <a:pt x="1340" y="666"/>
                </a:lnTo>
                <a:lnTo>
                  <a:pt x="1349" y="670"/>
                </a:lnTo>
                <a:lnTo>
                  <a:pt x="1361" y="672"/>
                </a:lnTo>
                <a:lnTo>
                  <a:pt x="1369" y="676"/>
                </a:lnTo>
                <a:lnTo>
                  <a:pt x="1378" y="680"/>
                </a:lnTo>
                <a:lnTo>
                  <a:pt x="1386" y="682"/>
                </a:lnTo>
                <a:lnTo>
                  <a:pt x="1393" y="686"/>
                </a:lnTo>
                <a:lnTo>
                  <a:pt x="1401" y="687"/>
                </a:lnTo>
                <a:lnTo>
                  <a:pt x="1409" y="691"/>
                </a:lnTo>
                <a:lnTo>
                  <a:pt x="1415" y="693"/>
                </a:lnTo>
                <a:lnTo>
                  <a:pt x="1420" y="695"/>
                </a:lnTo>
                <a:lnTo>
                  <a:pt x="1426" y="699"/>
                </a:lnTo>
                <a:lnTo>
                  <a:pt x="1430" y="701"/>
                </a:lnTo>
                <a:lnTo>
                  <a:pt x="1436" y="703"/>
                </a:lnTo>
                <a:lnTo>
                  <a:pt x="1438" y="705"/>
                </a:lnTo>
                <a:lnTo>
                  <a:pt x="1441" y="709"/>
                </a:lnTo>
                <a:lnTo>
                  <a:pt x="1445" y="711"/>
                </a:lnTo>
                <a:lnTo>
                  <a:pt x="1447" y="712"/>
                </a:lnTo>
                <a:lnTo>
                  <a:pt x="1449" y="714"/>
                </a:lnTo>
                <a:lnTo>
                  <a:pt x="1449" y="716"/>
                </a:lnTo>
                <a:lnTo>
                  <a:pt x="1451" y="718"/>
                </a:lnTo>
                <a:lnTo>
                  <a:pt x="1451" y="720"/>
                </a:lnTo>
                <a:lnTo>
                  <a:pt x="1449" y="726"/>
                </a:lnTo>
                <a:lnTo>
                  <a:pt x="1447" y="730"/>
                </a:lnTo>
                <a:lnTo>
                  <a:pt x="1443" y="735"/>
                </a:lnTo>
                <a:lnTo>
                  <a:pt x="1438" y="739"/>
                </a:lnTo>
                <a:lnTo>
                  <a:pt x="1430" y="745"/>
                </a:lnTo>
                <a:lnTo>
                  <a:pt x="1420" y="749"/>
                </a:lnTo>
                <a:lnTo>
                  <a:pt x="1409" y="753"/>
                </a:lnTo>
                <a:lnTo>
                  <a:pt x="1395" y="759"/>
                </a:lnTo>
                <a:lnTo>
                  <a:pt x="1382" y="762"/>
                </a:lnTo>
                <a:lnTo>
                  <a:pt x="1367" y="766"/>
                </a:lnTo>
                <a:lnTo>
                  <a:pt x="1347" y="770"/>
                </a:lnTo>
                <a:lnTo>
                  <a:pt x="1328" y="774"/>
                </a:lnTo>
                <a:lnTo>
                  <a:pt x="1309" y="778"/>
                </a:lnTo>
                <a:lnTo>
                  <a:pt x="1286" y="782"/>
                </a:lnTo>
                <a:lnTo>
                  <a:pt x="1263" y="785"/>
                </a:lnTo>
                <a:lnTo>
                  <a:pt x="1236" y="789"/>
                </a:lnTo>
                <a:lnTo>
                  <a:pt x="1211" y="793"/>
                </a:lnTo>
                <a:lnTo>
                  <a:pt x="1186" y="795"/>
                </a:lnTo>
                <a:lnTo>
                  <a:pt x="1163" y="799"/>
                </a:lnTo>
                <a:lnTo>
                  <a:pt x="1142" y="801"/>
                </a:lnTo>
                <a:lnTo>
                  <a:pt x="1121" y="805"/>
                </a:lnTo>
                <a:lnTo>
                  <a:pt x="1100" y="806"/>
                </a:lnTo>
                <a:lnTo>
                  <a:pt x="1083" y="808"/>
                </a:lnTo>
                <a:lnTo>
                  <a:pt x="1063" y="810"/>
                </a:lnTo>
                <a:lnTo>
                  <a:pt x="1048" y="812"/>
                </a:lnTo>
                <a:lnTo>
                  <a:pt x="1033" y="814"/>
                </a:lnTo>
                <a:lnTo>
                  <a:pt x="1019" y="814"/>
                </a:lnTo>
                <a:lnTo>
                  <a:pt x="1006" y="816"/>
                </a:lnTo>
                <a:lnTo>
                  <a:pt x="994" y="816"/>
                </a:lnTo>
                <a:lnTo>
                  <a:pt x="985" y="818"/>
                </a:lnTo>
                <a:lnTo>
                  <a:pt x="975" y="818"/>
                </a:lnTo>
                <a:lnTo>
                  <a:pt x="967" y="818"/>
                </a:lnTo>
                <a:lnTo>
                  <a:pt x="960" y="816"/>
                </a:lnTo>
                <a:lnTo>
                  <a:pt x="952" y="812"/>
                </a:lnTo>
                <a:lnTo>
                  <a:pt x="944" y="808"/>
                </a:lnTo>
                <a:lnTo>
                  <a:pt x="937" y="805"/>
                </a:lnTo>
                <a:lnTo>
                  <a:pt x="927" y="799"/>
                </a:lnTo>
                <a:lnTo>
                  <a:pt x="918" y="793"/>
                </a:lnTo>
                <a:lnTo>
                  <a:pt x="908" y="787"/>
                </a:lnTo>
                <a:lnTo>
                  <a:pt x="898" y="780"/>
                </a:lnTo>
                <a:lnTo>
                  <a:pt x="887" y="772"/>
                </a:lnTo>
                <a:lnTo>
                  <a:pt x="875" y="762"/>
                </a:lnTo>
                <a:lnTo>
                  <a:pt x="864" y="753"/>
                </a:lnTo>
                <a:lnTo>
                  <a:pt x="852" y="743"/>
                </a:lnTo>
                <a:lnTo>
                  <a:pt x="841" y="732"/>
                </a:lnTo>
                <a:lnTo>
                  <a:pt x="827" y="718"/>
                </a:lnTo>
                <a:lnTo>
                  <a:pt x="814" y="705"/>
                </a:lnTo>
                <a:lnTo>
                  <a:pt x="800" y="691"/>
                </a:lnTo>
                <a:lnTo>
                  <a:pt x="785" y="676"/>
                </a:lnTo>
                <a:lnTo>
                  <a:pt x="768" y="659"/>
                </a:lnTo>
                <a:lnTo>
                  <a:pt x="751" y="643"/>
                </a:lnTo>
                <a:lnTo>
                  <a:pt x="731" y="626"/>
                </a:lnTo>
                <a:lnTo>
                  <a:pt x="710" y="609"/>
                </a:lnTo>
                <a:lnTo>
                  <a:pt x="689" y="590"/>
                </a:lnTo>
                <a:lnTo>
                  <a:pt x="668" y="570"/>
                </a:lnTo>
                <a:lnTo>
                  <a:pt x="645" y="549"/>
                </a:lnTo>
                <a:lnTo>
                  <a:pt x="620" y="528"/>
                </a:lnTo>
                <a:lnTo>
                  <a:pt x="595" y="507"/>
                </a:lnTo>
                <a:lnTo>
                  <a:pt x="568" y="484"/>
                </a:lnTo>
                <a:lnTo>
                  <a:pt x="541" y="461"/>
                </a:lnTo>
                <a:lnTo>
                  <a:pt x="513" y="436"/>
                </a:lnTo>
                <a:lnTo>
                  <a:pt x="484" y="411"/>
                </a:lnTo>
                <a:lnTo>
                  <a:pt x="451" y="384"/>
                </a:lnTo>
                <a:lnTo>
                  <a:pt x="421" y="357"/>
                </a:lnTo>
                <a:lnTo>
                  <a:pt x="388" y="331"/>
                </a:lnTo>
                <a:lnTo>
                  <a:pt x="357" y="306"/>
                </a:lnTo>
                <a:lnTo>
                  <a:pt x="330" y="281"/>
                </a:lnTo>
                <a:lnTo>
                  <a:pt x="303" y="260"/>
                </a:lnTo>
                <a:lnTo>
                  <a:pt x="278" y="238"/>
                </a:lnTo>
                <a:lnTo>
                  <a:pt x="255" y="219"/>
                </a:lnTo>
                <a:lnTo>
                  <a:pt x="234" y="202"/>
                </a:lnTo>
                <a:lnTo>
                  <a:pt x="215" y="187"/>
                </a:lnTo>
                <a:lnTo>
                  <a:pt x="198" y="171"/>
                </a:lnTo>
                <a:lnTo>
                  <a:pt x="183" y="160"/>
                </a:lnTo>
                <a:lnTo>
                  <a:pt x="169" y="148"/>
                </a:lnTo>
                <a:lnTo>
                  <a:pt x="156" y="139"/>
                </a:lnTo>
                <a:lnTo>
                  <a:pt x="146" y="129"/>
                </a:lnTo>
                <a:lnTo>
                  <a:pt x="136" y="123"/>
                </a:lnTo>
                <a:lnTo>
                  <a:pt x="129" y="118"/>
                </a:lnTo>
                <a:lnTo>
                  <a:pt x="123" y="112"/>
                </a:lnTo>
                <a:lnTo>
                  <a:pt x="112" y="106"/>
                </a:lnTo>
                <a:lnTo>
                  <a:pt x="102" y="98"/>
                </a:lnTo>
                <a:lnTo>
                  <a:pt x="92" y="94"/>
                </a:lnTo>
                <a:lnTo>
                  <a:pt x="81" y="89"/>
                </a:lnTo>
                <a:lnTo>
                  <a:pt x="60" y="81"/>
                </a:lnTo>
                <a:lnTo>
                  <a:pt x="39" y="73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9"/>
          <p:cNvGrpSpPr/>
          <p:nvPr/>
        </p:nvGrpSpPr>
        <p:grpSpPr>
          <a:xfrm>
            <a:off x="4800600" y="1447920"/>
            <a:ext cx="3408480" cy="703440"/>
            <a:chOff x="4800600" y="1447920"/>
            <a:chExt cx="3408480" cy="703440"/>
          </a:xfrm>
        </p:grpSpPr>
        <p:sp>
          <p:nvSpPr>
            <p:cNvPr id="536" name="Text Box 40"/>
            <p:cNvSpPr/>
            <p:nvPr/>
          </p:nvSpPr>
          <p:spPr>
            <a:xfrm>
              <a:off x="5715000" y="14479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41"/>
            <p:cNvGrpSpPr/>
            <p:nvPr/>
          </p:nvGrpSpPr>
          <p:grpSpPr>
            <a:xfrm>
              <a:off x="6934320" y="1447920"/>
              <a:ext cx="1274760" cy="587160"/>
              <a:chOff x="6934320" y="1447920"/>
              <a:chExt cx="1274760" cy="587160"/>
            </a:xfrm>
          </p:grpSpPr>
          <p:sp>
            <p:nvSpPr>
              <p:cNvPr id="538" name="AutoShape 42"/>
              <p:cNvSpPr/>
              <p:nvPr/>
            </p:nvSpPr>
            <p:spPr>
              <a:xfrm>
                <a:off x="7467480" y="1447920"/>
                <a:ext cx="235080" cy="268200"/>
              </a:xfrm>
              <a:custGeom>
                <a:avLst/>
                <a:gdLst/>
                <a:ahLst/>
                <a:rect l="l" t="t" r="r" b="b"/>
                <a:pathLst>
                  <a:path w="422" h="483">
                    <a:moveTo>
                      <a:pt x="422" y="339"/>
                    </a:moveTo>
                    <a:lnTo>
                      <a:pt x="421" y="355"/>
                    </a:lnTo>
                    <a:lnTo>
                      <a:pt x="421" y="368"/>
                    </a:lnTo>
                    <a:lnTo>
                      <a:pt x="421" y="382"/>
                    </a:lnTo>
                    <a:lnTo>
                      <a:pt x="421" y="395"/>
                    </a:lnTo>
                    <a:lnTo>
                      <a:pt x="419" y="407"/>
                    </a:lnTo>
                    <a:lnTo>
                      <a:pt x="419" y="418"/>
                    </a:lnTo>
                    <a:lnTo>
                      <a:pt x="417" y="428"/>
                    </a:lnTo>
                    <a:lnTo>
                      <a:pt x="415" y="437"/>
                    </a:lnTo>
                    <a:lnTo>
                      <a:pt x="413" y="445"/>
                    </a:lnTo>
                    <a:lnTo>
                      <a:pt x="413" y="453"/>
                    </a:lnTo>
                    <a:lnTo>
                      <a:pt x="411" y="458"/>
                    </a:lnTo>
                    <a:lnTo>
                      <a:pt x="409" y="466"/>
                    </a:lnTo>
                    <a:lnTo>
                      <a:pt x="407" y="470"/>
                    </a:lnTo>
                    <a:lnTo>
                      <a:pt x="405" y="474"/>
                    </a:lnTo>
                    <a:lnTo>
                      <a:pt x="403" y="478"/>
                    </a:lnTo>
                    <a:lnTo>
                      <a:pt x="401" y="481"/>
                    </a:lnTo>
                    <a:lnTo>
                      <a:pt x="399" y="483"/>
                    </a:lnTo>
                    <a:lnTo>
                      <a:pt x="396" y="483"/>
                    </a:lnTo>
                    <a:lnTo>
                      <a:pt x="392" y="483"/>
                    </a:lnTo>
                    <a:lnTo>
                      <a:pt x="388" y="483"/>
                    </a:lnTo>
                    <a:lnTo>
                      <a:pt x="382" y="481"/>
                    </a:lnTo>
                    <a:lnTo>
                      <a:pt x="376" y="478"/>
                    </a:lnTo>
                    <a:lnTo>
                      <a:pt x="371" y="474"/>
                    </a:lnTo>
                    <a:lnTo>
                      <a:pt x="363" y="470"/>
                    </a:lnTo>
                    <a:lnTo>
                      <a:pt x="355" y="462"/>
                    </a:lnTo>
                    <a:lnTo>
                      <a:pt x="346" y="456"/>
                    </a:lnTo>
                    <a:lnTo>
                      <a:pt x="336" y="447"/>
                    </a:lnTo>
                    <a:lnTo>
                      <a:pt x="326" y="437"/>
                    </a:lnTo>
                    <a:lnTo>
                      <a:pt x="315" y="428"/>
                    </a:lnTo>
                    <a:lnTo>
                      <a:pt x="303" y="414"/>
                    </a:lnTo>
                    <a:lnTo>
                      <a:pt x="292" y="401"/>
                    </a:lnTo>
                    <a:lnTo>
                      <a:pt x="279" y="387"/>
                    </a:lnTo>
                    <a:lnTo>
                      <a:pt x="252" y="359"/>
                    </a:lnTo>
                    <a:lnTo>
                      <a:pt x="225" y="332"/>
                    </a:lnTo>
                    <a:lnTo>
                      <a:pt x="200" y="303"/>
                    </a:lnTo>
                    <a:lnTo>
                      <a:pt x="173" y="274"/>
                    </a:lnTo>
                    <a:lnTo>
                      <a:pt x="148" y="243"/>
                    </a:lnTo>
                    <a:lnTo>
                      <a:pt x="125" y="213"/>
                    </a:lnTo>
                    <a:lnTo>
                      <a:pt x="104" y="182"/>
                    </a:lnTo>
                    <a:lnTo>
                      <a:pt x="94" y="167"/>
                    </a:lnTo>
                    <a:lnTo>
                      <a:pt x="85" y="151"/>
                    </a:lnTo>
                    <a:lnTo>
                      <a:pt x="73" y="136"/>
                    </a:lnTo>
                    <a:lnTo>
                      <a:pt x="62" y="123"/>
                    </a:lnTo>
                    <a:lnTo>
                      <a:pt x="52" y="109"/>
                    </a:lnTo>
                    <a:lnTo>
                      <a:pt x="44" y="96"/>
                    </a:lnTo>
                    <a:lnTo>
                      <a:pt x="37" y="84"/>
                    </a:lnTo>
                    <a:lnTo>
                      <a:pt x="29" y="75"/>
                    </a:lnTo>
                    <a:lnTo>
                      <a:pt x="21" y="63"/>
                    </a:lnTo>
                    <a:lnTo>
                      <a:pt x="16" y="55"/>
                    </a:lnTo>
                    <a:lnTo>
                      <a:pt x="12" y="46"/>
                    </a:lnTo>
                    <a:lnTo>
                      <a:pt x="8" y="38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100" y="2"/>
                    </a:lnTo>
                    <a:lnTo>
                      <a:pt x="110" y="6"/>
                    </a:lnTo>
                    <a:lnTo>
                      <a:pt x="121" y="9"/>
                    </a:lnTo>
                    <a:lnTo>
                      <a:pt x="133" y="13"/>
                    </a:lnTo>
                    <a:lnTo>
                      <a:pt x="144" y="17"/>
                    </a:lnTo>
                    <a:lnTo>
                      <a:pt x="158" y="23"/>
                    </a:lnTo>
                    <a:lnTo>
                      <a:pt x="173" y="30"/>
                    </a:lnTo>
                    <a:lnTo>
                      <a:pt x="186" y="36"/>
                    </a:lnTo>
                    <a:lnTo>
                      <a:pt x="202" y="44"/>
                    </a:lnTo>
                    <a:lnTo>
                      <a:pt x="217" y="53"/>
                    </a:lnTo>
                    <a:lnTo>
                      <a:pt x="234" y="61"/>
                    </a:lnTo>
                    <a:lnTo>
                      <a:pt x="252" y="73"/>
                    </a:lnTo>
                    <a:lnTo>
                      <a:pt x="269" y="82"/>
                    </a:lnTo>
                    <a:lnTo>
                      <a:pt x="288" y="94"/>
                    </a:lnTo>
                    <a:lnTo>
                      <a:pt x="305" y="107"/>
                    </a:lnTo>
                    <a:lnTo>
                      <a:pt x="321" y="121"/>
                    </a:lnTo>
                    <a:lnTo>
                      <a:pt x="336" y="134"/>
                    </a:lnTo>
                    <a:lnTo>
                      <a:pt x="350" y="148"/>
                    </a:lnTo>
                    <a:lnTo>
                      <a:pt x="361" y="163"/>
                    </a:lnTo>
                    <a:lnTo>
                      <a:pt x="373" y="178"/>
                    </a:lnTo>
                    <a:lnTo>
                      <a:pt x="384" y="192"/>
                    </a:lnTo>
                    <a:lnTo>
                      <a:pt x="394" y="207"/>
                    </a:lnTo>
                    <a:lnTo>
                      <a:pt x="401" y="224"/>
                    </a:lnTo>
                    <a:lnTo>
                      <a:pt x="407" y="240"/>
                    </a:lnTo>
                    <a:lnTo>
                      <a:pt x="413" y="255"/>
                    </a:lnTo>
                    <a:lnTo>
                      <a:pt x="419" y="272"/>
                    </a:lnTo>
                    <a:lnTo>
                      <a:pt x="421" y="288"/>
                    </a:lnTo>
                    <a:lnTo>
                      <a:pt x="422" y="305"/>
                    </a:lnTo>
                    <a:lnTo>
                      <a:pt x="422" y="322"/>
                    </a:lnTo>
                    <a:lnTo>
                      <a:pt x="422" y="339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43"/>
              <p:cNvSpPr/>
              <p:nvPr/>
            </p:nvSpPr>
            <p:spPr>
              <a:xfrm>
                <a:off x="6934320" y="1793880"/>
                <a:ext cx="1274760" cy="241200"/>
              </a:xfrm>
              <a:custGeom>
                <a:avLst/>
                <a:gdLst/>
                <a:ahLst/>
                <a:rect l="l" t="t" r="r" b="b"/>
                <a:pathLst>
                  <a:path w="2291" h="435">
                    <a:moveTo>
                      <a:pt x="123" y="282"/>
                    </a:moveTo>
                    <a:lnTo>
                      <a:pt x="153" y="282"/>
                    </a:lnTo>
                    <a:lnTo>
                      <a:pt x="184" y="280"/>
                    </a:lnTo>
                    <a:lnTo>
                      <a:pt x="215" y="278"/>
                    </a:lnTo>
                    <a:lnTo>
                      <a:pt x="245" y="274"/>
                    </a:lnTo>
                    <a:lnTo>
                      <a:pt x="276" y="270"/>
                    </a:lnTo>
                    <a:lnTo>
                      <a:pt x="307" y="266"/>
                    </a:lnTo>
                    <a:lnTo>
                      <a:pt x="368" y="259"/>
                    </a:lnTo>
                    <a:lnTo>
                      <a:pt x="384" y="257"/>
                    </a:lnTo>
                    <a:lnTo>
                      <a:pt x="399" y="253"/>
                    </a:lnTo>
                    <a:lnTo>
                      <a:pt x="416" y="251"/>
                    </a:lnTo>
                    <a:lnTo>
                      <a:pt x="435" y="249"/>
                    </a:lnTo>
                    <a:lnTo>
                      <a:pt x="453" y="247"/>
                    </a:lnTo>
                    <a:lnTo>
                      <a:pt x="474" y="245"/>
                    </a:lnTo>
                    <a:lnTo>
                      <a:pt x="493" y="241"/>
                    </a:lnTo>
                    <a:lnTo>
                      <a:pt x="514" y="239"/>
                    </a:lnTo>
                    <a:lnTo>
                      <a:pt x="537" y="236"/>
                    </a:lnTo>
                    <a:lnTo>
                      <a:pt x="560" y="234"/>
                    </a:lnTo>
                    <a:lnTo>
                      <a:pt x="583" y="230"/>
                    </a:lnTo>
                    <a:lnTo>
                      <a:pt x="608" y="226"/>
                    </a:lnTo>
                    <a:lnTo>
                      <a:pt x="633" y="224"/>
                    </a:lnTo>
                    <a:lnTo>
                      <a:pt x="660" y="220"/>
                    </a:lnTo>
                    <a:lnTo>
                      <a:pt x="687" y="216"/>
                    </a:lnTo>
                    <a:lnTo>
                      <a:pt x="716" y="211"/>
                    </a:lnTo>
                    <a:lnTo>
                      <a:pt x="729" y="211"/>
                    </a:lnTo>
                    <a:lnTo>
                      <a:pt x="744" y="209"/>
                    </a:lnTo>
                    <a:lnTo>
                      <a:pt x="758" y="207"/>
                    </a:lnTo>
                    <a:lnTo>
                      <a:pt x="773" y="205"/>
                    </a:lnTo>
                    <a:lnTo>
                      <a:pt x="790" y="203"/>
                    </a:lnTo>
                    <a:lnTo>
                      <a:pt x="806" y="201"/>
                    </a:lnTo>
                    <a:lnTo>
                      <a:pt x="823" y="199"/>
                    </a:lnTo>
                    <a:lnTo>
                      <a:pt x="842" y="195"/>
                    </a:lnTo>
                    <a:lnTo>
                      <a:pt x="859" y="193"/>
                    </a:lnTo>
                    <a:lnTo>
                      <a:pt x="879" y="191"/>
                    </a:lnTo>
                    <a:lnTo>
                      <a:pt x="900" y="188"/>
                    </a:lnTo>
                    <a:lnTo>
                      <a:pt x="919" y="184"/>
                    </a:lnTo>
                    <a:lnTo>
                      <a:pt x="940" y="182"/>
                    </a:lnTo>
                    <a:lnTo>
                      <a:pt x="961" y="178"/>
                    </a:lnTo>
                    <a:lnTo>
                      <a:pt x="984" y="174"/>
                    </a:lnTo>
                    <a:lnTo>
                      <a:pt x="1005" y="170"/>
                    </a:lnTo>
                    <a:lnTo>
                      <a:pt x="1028" y="166"/>
                    </a:lnTo>
                    <a:lnTo>
                      <a:pt x="1053" y="163"/>
                    </a:lnTo>
                    <a:lnTo>
                      <a:pt x="1076" y="159"/>
                    </a:lnTo>
                    <a:lnTo>
                      <a:pt x="1101" y="153"/>
                    </a:lnTo>
                    <a:lnTo>
                      <a:pt x="1126" y="149"/>
                    </a:lnTo>
                    <a:lnTo>
                      <a:pt x="1153" y="145"/>
                    </a:lnTo>
                    <a:lnTo>
                      <a:pt x="1180" y="140"/>
                    </a:lnTo>
                    <a:lnTo>
                      <a:pt x="1207" y="136"/>
                    </a:lnTo>
                    <a:lnTo>
                      <a:pt x="1234" y="130"/>
                    </a:lnTo>
                    <a:lnTo>
                      <a:pt x="1262" y="126"/>
                    </a:lnTo>
                    <a:lnTo>
                      <a:pt x="1291" y="120"/>
                    </a:lnTo>
                    <a:lnTo>
                      <a:pt x="1320" y="115"/>
                    </a:lnTo>
                    <a:lnTo>
                      <a:pt x="1349" y="111"/>
                    </a:lnTo>
                    <a:lnTo>
                      <a:pt x="1380" y="105"/>
                    </a:lnTo>
                    <a:lnTo>
                      <a:pt x="1410" y="99"/>
                    </a:lnTo>
                    <a:lnTo>
                      <a:pt x="1443" y="94"/>
                    </a:lnTo>
                    <a:lnTo>
                      <a:pt x="1474" y="88"/>
                    </a:lnTo>
                    <a:lnTo>
                      <a:pt x="1504" y="82"/>
                    </a:lnTo>
                    <a:lnTo>
                      <a:pt x="1533" y="78"/>
                    </a:lnTo>
                    <a:lnTo>
                      <a:pt x="1562" y="72"/>
                    </a:lnTo>
                    <a:lnTo>
                      <a:pt x="1591" y="67"/>
                    </a:lnTo>
                    <a:lnTo>
                      <a:pt x="1617" y="63"/>
                    </a:lnTo>
                    <a:lnTo>
                      <a:pt x="1642" y="57"/>
                    </a:lnTo>
                    <a:lnTo>
                      <a:pt x="1669" y="53"/>
                    </a:lnTo>
                    <a:lnTo>
                      <a:pt x="1692" y="49"/>
                    </a:lnTo>
                    <a:lnTo>
                      <a:pt x="1717" y="46"/>
                    </a:lnTo>
                    <a:lnTo>
                      <a:pt x="1740" y="42"/>
                    </a:lnTo>
                    <a:lnTo>
                      <a:pt x="1761" y="38"/>
                    </a:lnTo>
                    <a:lnTo>
                      <a:pt x="1783" y="34"/>
                    </a:lnTo>
                    <a:lnTo>
                      <a:pt x="1804" y="30"/>
                    </a:lnTo>
                    <a:lnTo>
                      <a:pt x="1823" y="26"/>
                    </a:lnTo>
                    <a:lnTo>
                      <a:pt x="1842" y="24"/>
                    </a:lnTo>
                    <a:lnTo>
                      <a:pt x="1859" y="21"/>
                    </a:lnTo>
                    <a:lnTo>
                      <a:pt x="1877" y="19"/>
                    </a:lnTo>
                    <a:lnTo>
                      <a:pt x="1892" y="17"/>
                    </a:lnTo>
                    <a:lnTo>
                      <a:pt x="1907" y="13"/>
                    </a:lnTo>
                    <a:lnTo>
                      <a:pt x="1923" y="11"/>
                    </a:lnTo>
                    <a:lnTo>
                      <a:pt x="1936" y="9"/>
                    </a:lnTo>
                    <a:lnTo>
                      <a:pt x="1948" y="7"/>
                    </a:lnTo>
                    <a:lnTo>
                      <a:pt x="1961" y="5"/>
                    </a:lnTo>
                    <a:lnTo>
                      <a:pt x="1971" y="5"/>
                    </a:lnTo>
                    <a:lnTo>
                      <a:pt x="1982" y="3"/>
                    </a:lnTo>
                    <a:lnTo>
                      <a:pt x="1992" y="1"/>
                    </a:lnTo>
                    <a:lnTo>
                      <a:pt x="1999" y="1"/>
                    </a:lnTo>
                    <a:lnTo>
                      <a:pt x="2007" y="0"/>
                    </a:lnTo>
                    <a:lnTo>
                      <a:pt x="2015" y="0"/>
                    </a:lnTo>
                    <a:lnTo>
                      <a:pt x="2020" y="0"/>
                    </a:lnTo>
                    <a:lnTo>
                      <a:pt x="2026" y="0"/>
                    </a:lnTo>
                    <a:lnTo>
                      <a:pt x="2036" y="0"/>
                    </a:lnTo>
                    <a:lnTo>
                      <a:pt x="2045" y="1"/>
                    </a:lnTo>
                    <a:lnTo>
                      <a:pt x="2055" y="1"/>
                    </a:lnTo>
                    <a:lnTo>
                      <a:pt x="2067" y="3"/>
                    </a:lnTo>
                    <a:lnTo>
                      <a:pt x="2088" y="9"/>
                    </a:lnTo>
                    <a:lnTo>
                      <a:pt x="2109" y="15"/>
                    </a:lnTo>
                    <a:lnTo>
                      <a:pt x="2132" y="24"/>
                    </a:lnTo>
                    <a:lnTo>
                      <a:pt x="2153" y="34"/>
                    </a:lnTo>
                    <a:lnTo>
                      <a:pt x="2176" y="46"/>
                    </a:lnTo>
                    <a:lnTo>
                      <a:pt x="2199" y="59"/>
                    </a:lnTo>
                    <a:lnTo>
                      <a:pt x="2210" y="67"/>
                    </a:lnTo>
                    <a:lnTo>
                      <a:pt x="2220" y="76"/>
                    </a:lnTo>
                    <a:lnTo>
                      <a:pt x="2230" y="84"/>
                    </a:lnTo>
                    <a:lnTo>
                      <a:pt x="2239" y="92"/>
                    </a:lnTo>
                    <a:lnTo>
                      <a:pt x="2247" y="99"/>
                    </a:lnTo>
                    <a:lnTo>
                      <a:pt x="2255" y="107"/>
                    </a:lnTo>
                    <a:lnTo>
                      <a:pt x="2262" y="115"/>
                    </a:lnTo>
                    <a:lnTo>
                      <a:pt x="2268" y="122"/>
                    </a:lnTo>
                    <a:lnTo>
                      <a:pt x="2274" y="128"/>
                    </a:lnTo>
                    <a:lnTo>
                      <a:pt x="2278" y="136"/>
                    </a:lnTo>
                    <a:lnTo>
                      <a:pt x="2283" y="143"/>
                    </a:lnTo>
                    <a:lnTo>
                      <a:pt x="2285" y="149"/>
                    </a:lnTo>
                    <a:lnTo>
                      <a:pt x="2289" y="157"/>
                    </a:lnTo>
                    <a:lnTo>
                      <a:pt x="2291" y="163"/>
                    </a:lnTo>
                    <a:lnTo>
                      <a:pt x="2291" y="168"/>
                    </a:lnTo>
                    <a:lnTo>
                      <a:pt x="2291" y="176"/>
                    </a:lnTo>
                    <a:lnTo>
                      <a:pt x="2291" y="180"/>
                    </a:lnTo>
                    <a:lnTo>
                      <a:pt x="2291" y="182"/>
                    </a:lnTo>
                    <a:lnTo>
                      <a:pt x="2289" y="186"/>
                    </a:lnTo>
                    <a:lnTo>
                      <a:pt x="2287" y="188"/>
                    </a:lnTo>
                    <a:lnTo>
                      <a:pt x="2285" y="191"/>
                    </a:lnTo>
                    <a:lnTo>
                      <a:pt x="2283" y="193"/>
                    </a:lnTo>
                    <a:lnTo>
                      <a:pt x="2280" y="195"/>
                    </a:lnTo>
                    <a:lnTo>
                      <a:pt x="2276" y="197"/>
                    </a:lnTo>
                    <a:lnTo>
                      <a:pt x="2272" y="201"/>
                    </a:lnTo>
                    <a:lnTo>
                      <a:pt x="2268" y="203"/>
                    </a:lnTo>
                    <a:lnTo>
                      <a:pt x="2262" y="205"/>
                    </a:lnTo>
                    <a:lnTo>
                      <a:pt x="2257" y="207"/>
                    </a:lnTo>
                    <a:lnTo>
                      <a:pt x="2251" y="209"/>
                    </a:lnTo>
                    <a:lnTo>
                      <a:pt x="2243" y="209"/>
                    </a:lnTo>
                    <a:lnTo>
                      <a:pt x="2237" y="211"/>
                    </a:lnTo>
                    <a:lnTo>
                      <a:pt x="2230" y="213"/>
                    </a:lnTo>
                    <a:lnTo>
                      <a:pt x="2220" y="214"/>
                    </a:lnTo>
                    <a:lnTo>
                      <a:pt x="2212" y="214"/>
                    </a:lnTo>
                    <a:lnTo>
                      <a:pt x="2203" y="216"/>
                    </a:lnTo>
                    <a:lnTo>
                      <a:pt x="2193" y="216"/>
                    </a:lnTo>
                    <a:lnTo>
                      <a:pt x="2184" y="218"/>
                    </a:lnTo>
                    <a:lnTo>
                      <a:pt x="2172" y="218"/>
                    </a:lnTo>
                    <a:lnTo>
                      <a:pt x="2161" y="220"/>
                    </a:lnTo>
                    <a:lnTo>
                      <a:pt x="2149" y="220"/>
                    </a:lnTo>
                    <a:lnTo>
                      <a:pt x="2138" y="220"/>
                    </a:lnTo>
                    <a:lnTo>
                      <a:pt x="2124" y="222"/>
                    </a:lnTo>
                    <a:lnTo>
                      <a:pt x="2111" y="222"/>
                    </a:lnTo>
                    <a:lnTo>
                      <a:pt x="2097" y="222"/>
                    </a:lnTo>
                    <a:lnTo>
                      <a:pt x="2082" y="222"/>
                    </a:lnTo>
                    <a:lnTo>
                      <a:pt x="2067" y="222"/>
                    </a:lnTo>
                    <a:lnTo>
                      <a:pt x="2051" y="222"/>
                    </a:lnTo>
                    <a:lnTo>
                      <a:pt x="2036" y="222"/>
                    </a:lnTo>
                    <a:lnTo>
                      <a:pt x="2003" y="222"/>
                    </a:lnTo>
                    <a:lnTo>
                      <a:pt x="1972" y="222"/>
                    </a:lnTo>
                    <a:lnTo>
                      <a:pt x="1944" y="222"/>
                    </a:lnTo>
                    <a:lnTo>
                      <a:pt x="1915" y="222"/>
                    </a:lnTo>
                    <a:lnTo>
                      <a:pt x="1888" y="224"/>
                    </a:lnTo>
                    <a:lnTo>
                      <a:pt x="1861" y="224"/>
                    </a:lnTo>
                    <a:lnTo>
                      <a:pt x="1836" y="224"/>
                    </a:lnTo>
                    <a:lnTo>
                      <a:pt x="1813" y="224"/>
                    </a:lnTo>
                    <a:lnTo>
                      <a:pt x="1790" y="224"/>
                    </a:lnTo>
                    <a:lnTo>
                      <a:pt x="1769" y="226"/>
                    </a:lnTo>
                    <a:lnTo>
                      <a:pt x="1750" y="226"/>
                    </a:lnTo>
                    <a:lnTo>
                      <a:pt x="1731" y="228"/>
                    </a:lnTo>
                    <a:lnTo>
                      <a:pt x="1713" y="230"/>
                    </a:lnTo>
                    <a:lnTo>
                      <a:pt x="1696" y="230"/>
                    </a:lnTo>
                    <a:lnTo>
                      <a:pt x="1681" y="232"/>
                    </a:lnTo>
                    <a:lnTo>
                      <a:pt x="1667" y="236"/>
                    </a:lnTo>
                    <a:lnTo>
                      <a:pt x="1660" y="236"/>
                    </a:lnTo>
                    <a:lnTo>
                      <a:pt x="1652" y="237"/>
                    </a:lnTo>
                    <a:lnTo>
                      <a:pt x="1637" y="239"/>
                    </a:lnTo>
                    <a:lnTo>
                      <a:pt x="1617" y="241"/>
                    </a:lnTo>
                    <a:lnTo>
                      <a:pt x="1598" y="243"/>
                    </a:lnTo>
                    <a:lnTo>
                      <a:pt x="1577" y="245"/>
                    </a:lnTo>
                    <a:lnTo>
                      <a:pt x="1552" y="249"/>
                    </a:lnTo>
                    <a:lnTo>
                      <a:pt x="1527" y="251"/>
                    </a:lnTo>
                    <a:lnTo>
                      <a:pt x="1500" y="253"/>
                    </a:lnTo>
                    <a:lnTo>
                      <a:pt x="1472" y="257"/>
                    </a:lnTo>
                    <a:lnTo>
                      <a:pt x="1441" y="259"/>
                    </a:lnTo>
                    <a:lnTo>
                      <a:pt x="1410" y="262"/>
                    </a:lnTo>
                    <a:lnTo>
                      <a:pt x="1376" y="266"/>
                    </a:lnTo>
                    <a:lnTo>
                      <a:pt x="1341" y="270"/>
                    </a:lnTo>
                    <a:lnTo>
                      <a:pt x="1305" y="274"/>
                    </a:lnTo>
                    <a:lnTo>
                      <a:pt x="1266" y="278"/>
                    </a:lnTo>
                    <a:lnTo>
                      <a:pt x="1228" y="282"/>
                    </a:lnTo>
                    <a:lnTo>
                      <a:pt x="1145" y="291"/>
                    </a:lnTo>
                    <a:lnTo>
                      <a:pt x="1065" y="301"/>
                    </a:lnTo>
                    <a:lnTo>
                      <a:pt x="980" y="312"/>
                    </a:lnTo>
                    <a:lnTo>
                      <a:pt x="898" y="324"/>
                    </a:lnTo>
                    <a:lnTo>
                      <a:pt x="811" y="337"/>
                    </a:lnTo>
                    <a:lnTo>
                      <a:pt x="727" y="349"/>
                    </a:lnTo>
                    <a:lnTo>
                      <a:pt x="639" y="362"/>
                    </a:lnTo>
                    <a:lnTo>
                      <a:pt x="552" y="376"/>
                    </a:lnTo>
                    <a:lnTo>
                      <a:pt x="529" y="379"/>
                    </a:lnTo>
                    <a:lnTo>
                      <a:pt x="508" y="381"/>
                    </a:lnTo>
                    <a:lnTo>
                      <a:pt x="487" y="385"/>
                    </a:lnTo>
                    <a:lnTo>
                      <a:pt x="468" y="389"/>
                    </a:lnTo>
                    <a:lnTo>
                      <a:pt x="449" y="391"/>
                    </a:lnTo>
                    <a:lnTo>
                      <a:pt x="430" y="395"/>
                    </a:lnTo>
                    <a:lnTo>
                      <a:pt x="412" y="397"/>
                    </a:lnTo>
                    <a:lnTo>
                      <a:pt x="395" y="401"/>
                    </a:lnTo>
                    <a:lnTo>
                      <a:pt x="378" y="403"/>
                    </a:lnTo>
                    <a:lnTo>
                      <a:pt x="362" y="404"/>
                    </a:lnTo>
                    <a:lnTo>
                      <a:pt x="345" y="408"/>
                    </a:lnTo>
                    <a:lnTo>
                      <a:pt x="332" y="410"/>
                    </a:lnTo>
                    <a:lnTo>
                      <a:pt x="316" y="412"/>
                    </a:lnTo>
                    <a:lnTo>
                      <a:pt x="303" y="414"/>
                    </a:lnTo>
                    <a:lnTo>
                      <a:pt x="290" y="416"/>
                    </a:lnTo>
                    <a:lnTo>
                      <a:pt x="278" y="418"/>
                    </a:lnTo>
                    <a:lnTo>
                      <a:pt x="266" y="420"/>
                    </a:lnTo>
                    <a:lnTo>
                      <a:pt x="255" y="422"/>
                    </a:lnTo>
                    <a:lnTo>
                      <a:pt x="245" y="424"/>
                    </a:lnTo>
                    <a:lnTo>
                      <a:pt x="236" y="426"/>
                    </a:lnTo>
                    <a:lnTo>
                      <a:pt x="226" y="427"/>
                    </a:lnTo>
                    <a:lnTo>
                      <a:pt x="219" y="427"/>
                    </a:lnTo>
                    <a:lnTo>
                      <a:pt x="211" y="429"/>
                    </a:lnTo>
                    <a:lnTo>
                      <a:pt x="203" y="429"/>
                    </a:lnTo>
                    <a:lnTo>
                      <a:pt x="197" y="431"/>
                    </a:lnTo>
                    <a:lnTo>
                      <a:pt x="192" y="431"/>
                    </a:lnTo>
                    <a:lnTo>
                      <a:pt x="186" y="433"/>
                    </a:lnTo>
                    <a:lnTo>
                      <a:pt x="182" y="433"/>
                    </a:lnTo>
                    <a:lnTo>
                      <a:pt x="178" y="433"/>
                    </a:lnTo>
                    <a:lnTo>
                      <a:pt x="176" y="435"/>
                    </a:lnTo>
                    <a:lnTo>
                      <a:pt x="174" y="435"/>
                    </a:lnTo>
                    <a:lnTo>
                      <a:pt x="172" y="435"/>
                    </a:lnTo>
                    <a:lnTo>
                      <a:pt x="165" y="433"/>
                    </a:lnTo>
                    <a:lnTo>
                      <a:pt x="155" y="431"/>
                    </a:lnTo>
                    <a:lnTo>
                      <a:pt x="146" y="429"/>
                    </a:lnTo>
                    <a:lnTo>
                      <a:pt x="132" y="424"/>
                    </a:lnTo>
                    <a:lnTo>
                      <a:pt x="121" y="418"/>
                    </a:lnTo>
                    <a:lnTo>
                      <a:pt x="113" y="414"/>
                    </a:lnTo>
                    <a:lnTo>
                      <a:pt x="105" y="410"/>
                    </a:lnTo>
                    <a:lnTo>
                      <a:pt x="98" y="404"/>
                    </a:lnTo>
                    <a:lnTo>
                      <a:pt x="88" y="401"/>
                    </a:lnTo>
                    <a:lnTo>
                      <a:pt x="80" y="393"/>
                    </a:lnTo>
                    <a:lnTo>
                      <a:pt x="71" y="387"/>
                    </a:lnTo>
                    <a:lnTo>
                      <a:pt x="61" y="381"/>
                    </a:lnTo>
                    <a:lnTo>
                      <a:pt x="53" y="374"/>
                    </a:lnTo>
                    <a:lnTo>
                      <a:pt x="46" y="368"/>
                    </a:lnTo>
                    <a:lnTo>
                      <a:pt x="38" y="362"/>
                    </a:lnTo>
                    <a:lnTo>
                      <a:pt x="30" y="356"/>
                    </a:lnTo>
                    <a:lnTo>
                      <a:pt x="25" y="353"/>
                    </a:lnTo>
                    <a:lnTo>
                      <a:pt x="21" y="347"/>
                    </a:lnTo>
                    <a:lnTo>
                      <a:pt x="15" y="341"/>
                    </a:lnTo>
                    <a:lnTo>
                      <a:pt x="11" y="337"/>
                    </a:lnTo>
                    <a:lnTo>
                      <a:pt x="7" y="332"/>
                    </a:lnTo>
                    <a:lnTo>
                      <a:pt x="6" y="328"/>
                    </a:lnTo>
                    <a:lnTo>
                      <a:pt x="4" y="324"/>
                    </a:lnTo>
                    <a:lnTo>
                      <a:pt x="2" y="318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2" y="301"/>
                    </a:lnTo>
                    <a:lnTo>
                      <a:pt x="4" y="299"/>
                    </a:lnTo>
                    <a:lnTo>
                      <a:pt x="7" y="297"/>
                    </a:lnTo>
                    <a:lnTo>
                      <a:pt x="11" y="295"/>
                    </a:lnTo>
                    <a:lnTo>
                      <a:pt x="17" y="293"/>
                    </a:lnTo>
                    <a:lnTo>
                      <a:pt x="23" y="291"/>
                    </a:lnTo>
                    <a:lnTo>
                      <a:pt x="30" y="289"/>
                    </a:lnTo>
                    <a:lnTo>
                      <a:pt x="38" y="287"/>
                    </a:lnTo>
                    <a:lnTo>
                      <a:pt x="48" y="285"/>
                    </a:lnTo>
                    <a:lnTo>
                      <a:pt x="57" y="285"/>
                    </a:lnTo>
                    <a:lnTo>
                      <a:pt x="69" y="284"/>
                    </a:lnTo>
                    <a:lnTo>
                      <a:pt x="80" y="284"/>
                    </a:lnTo>
                    <a:lnTo>
                      <a:pt x="94" y="282"/>
                    </a:lnTo>
                    <a:lnTo>
                      <a:pt x="107" y="282"/>
                    </a:lnTo>
                    <a:lnTo>
                      <a:pt x="123" y="282"/>
                    </a:ln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44"/>
            <p:cNvGrpSpPr/>
            <p:nvPr/>
          </p:nvGrpSpPr>
          <p:grpSpPr>
            <a:xfrm>
              <a:off x="4800600" y="1600200"/>
              <a:ext cx="911160" cy="420840"/>
              <a:chOff x="4800600" y="1600200"/>
              <a:chExt cx="911160" cy="420840"/>
            </a:xfrm>
          </p:grpSpPr>
          <p:sp>
            <p:nvSpPr>
              <p:cNvPr id="541" name="AutoShape 45"/>
              <p:cNvSpPr/>
              <p:nvPr/>
            </p:nvSpPr>
            <p:spPr>
              <a:xfrm>
                <a:off x="5181480" y="1600200"/>
                <a:ext cx="168480" cy="192240"/>
              </a:xfrm>
              <a:custGeom>
                <a:avLst/>
                <a:gdLst/>
                <a:ahLst/>
                <a:rect l="l" t="t" r="r" b="b"/>
                <a:pathLst>
                  <a:path w="422" h="483">
                    <a:moveTo>
                      <a:pt x="422" y="339"/>
                    </a:moveTo>
                    <a:lnTo>
                      <a:pt x="421" y="355"/>
                    </a:lnTo>
                    <a:lnTo>
                      <a:pt x="421" y="368"/>
                    </a:lnTo>
                    <a:lnTo>
                      <a:pt x="421" y="382"/>
                    </a:lnTo>
                    <a:lnTo>
                      <a:pt x="421" y="395"/>
                    </a:lnTo>
                    <a:lnTo>
                      <a:pt x="419" y="407"/>
                    </a:lnTo>
                    <a:lnTo>
                      <a:pt x="419" y="418"/>
                    </a:lnTo>
                    <a:lnTo>
                      <a:pt x="417" y="428"/>
                    </a:lnTo>
                    <a:lnTo>
                      <a:pt x="415" y="437"/>
                    </a:lnTo>
                    <a:lnTo>
                      <a:pt x="413" y="445"/>
                    </a:lnTo>
                    <a:lnTo>
                      <a:pt x="413" y="453"/>
                    </a:lnTo>
                    <a:lnTo>
                      <a:pt x="411" y="458"/>
                    </a:lnTo>
                    <a:lnTo>
                      <a:pt x="409" y="466"/>
                    </a:lnTo>
                    <a:lnTo>
                      <a:pt x="407" y="470"/>
                    </a:lnTo>
                    <a:lnTo>
                      <a:pt x="405" y="474"/>
                    </a:lnTo>
                    <a:lnTo>
                      <a:pt x="403" y="478"/>
                    </a:lnTo>
                    <a:lnTo>
                      <a:pt x="401" y="481"/>
                    </a:lnTo>
                    <a:lnTo>
                      <a:pt x="399" y="483"/>
                    </a:lnTo>
                    <a:lnTo>
                      <a:pt x="396" y="483"/>
                    </a:lnTo>
                    <a:lnTo>
                      <a:pt x="392" y="483"/>
                    </a:lnTo>
                    <a:lnTo>
                      <a:pt x="388" y="483"/>
                    </a:lnTo>
                    <a:lnTo>
                      <a:pt x="382" y="481"/>
                    </a:lnTo>
                    <a:lnTo>
                      <a:pt x="376" y="478"/>
                    </a:lnTo>
                    <a:lnTo>
                      <a:pt x="371" y="474"/>
                    </a:lnTo>
                    <a:lnTo>
                      <a:pt x="363" y="470"/>
                    </a:lnTo>
                    <a:lnTo>
                      <a:pt x="355" y="462"/>
                    </a:lnTo>
                    <a:lnTo>
                      <a:pt x="346" y="456"/>
                    </a:lnTo>
                    <a:lnTo>
                      <a:pt x="336" y="447"/>
                    </a:lnTo>
                    <a:lnTo>
                      <a:pt x="326" y="437"/>
                    </a:lnTo>
                    <a:lnTo>
                      <a:pt x="315" y="428"/>
                    </a:lnTo>
                    <a:lnTo>
                      <a:pt x="303" y="414"/>
                    </a:lnTo>
                    <a:lnTo>
                      <a:pt x="292" y="401"/>
                    </a:lnTo>
                    <a:lnTo>
                      <a:pt x="279" y="387"/>
                    </a:lnTo>
                    <a:lnTo>
                      <a:pt x="252" y="359"/>
                    </a:lnTo>
                    <a:lnTo>
                      <a:pt x="225" y="332"/>
                    </a:lnTo>
                    <a:lnTo>
                      <a:pt x="200" y="303"/>
                    </a:lnTo>
                    <a:lnTo>
                      <a:pt x="173" y="274"/>
                    </a:lnTo>
                    <a:lnTo>
                      <a:pt x="148" y="243"/>
                    </a:lnTo>
                    <a:lnTo>
                      <a:pt x="125" y="213"/>
                    </a:lnTo>
                    <a:lnTo>
                      <a:pt x="104" y="182"/>
                    </a:lnTo>
                    <a:lnTo>
                      <a:pt x="94" y="167"/>
                    </a:lnTo>
                    <a:lnTo>
                      <a:pt x="85" y="151"/>
                    </a:lnTo>
                    <a:lnTo>
                      <a:pt x="73" y="136"/>
                    </a:lnTo>
                    <a:lnTo>
                      <a:pt x="62" y="123"/>
                    </a:lnTo>
                    <a:lnTo>
                      <a:pt x="52" y="109"/>
                    </a:lnTo>
                    <a:lnTo>
                      <a:pt x="44" y="96"/>
                    </a:lnTo>
                    <a:lnTo>
                      <a:pt x="37" y="84"/>
                    </a:lnTo>
                    <a:lnTo>
                      <a:pt x="29" y="75"/>
                    </a:lnTo>
                    <a:lnTo>
                      <a:pt x="21" y="63"/>
                    </a:lnTo>
                    <a:lnTo>
                      <a:pt x="16" y="55"/>
                    </a:lnTo>
                    <a:lnTo>
                      <a:pt x="12" y="46"/>
                    </a:lnTo>
                    <a:lnTo>
                      <a:pt x="8" y="38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100" y="2"/>
                    </a:lnTo>
                    <a:lnTo>
                      <a:pt x="110" y="6"/>
                    </a:lnTo>
                    <a:lnTo>
                      <a:pt x="121" y="9"/>
                    </a:lnTo>
                    <a:lnTo>
                      <a:pt x="133" y="13"/>
                    </a:lnTo>
                    <a:lnTo>
                      <a:pt x="144" y="17"/>
                    </a:lnTo>
                    <a:lnTo>
                      <a:pt x="158" y="23"/>
                    </a:lnTo>
                    <a:lnTo>
                      <a:pt x="173" y="30"/>
                    </a:lnTo>
                    <a:lnTo>
                      <a:pt x="186" y="36"/>
                    </a:lnTo>
                    <a:lnTo>
                      <a:pt x="202" y="44"/>
                    </a:lnTo>
                    <a:lnTo>
                      <a:pt x="217" y="53"/>
                    </a:lnTo>
                    <a:lnTo>
                      <a:pt x="234" y="61"/>
                    </a:lnTo>
                    <a:lnTo>
                      <a:pt x="252" y="73"/>
                    </a:lnTo>
                    <a:lnTo>
                      <a:pt x="269" y="82"/>
                    </a:lnTo>
                    <a:lnTo>
                      <a:pt x="288" y="94"/>
                    </a:lnTo>
                    <a:lnTo>
                      <a:pt x="305" y="107"/>
                    </a:lnTo>
                    <a:lnTo>
                      <a:pt x="321" y="121"/>
                    </a:lnTo>
                    <a:lnTo>
                      <a:pt x="336" y="134"/>
                    </a:lnTo>
                    <a:lnTo>
                      <a:pt x="350" y="148"/>
                    </a:lnTo>
                    <a:lnTo>
                      <a:pt x="361" y="163"/>
                    </a:lnTo>
                    <a:lnTo>
                      <a:pt x="373" y="178"/>
                    </a:lnTo>
                    <a:lnTo>
                      <a:pt x="384" y="192"/>
                    </a:lnTo>
                    <a:lnTo>
                      <a:pt x="394" y="207"/>
                    </a:lnTo>
                    <a:lnTo>
                      <a:pt x="401" y="224"/>
                    </a:lnTo>
                    <a:lnTo>
                      <a:pt x="407" y="240"/>
                    </a:lnTo>
                    <a:lnTo>
                      <a:pt x="413" y="255"/>
                    </a:lnTo>
                    <a:lnTo>
                      <a:pt x="419" y="272"/>
                    </a:lnTo>
                    <a:lnTo>
                      <a:pt x="421" y="288"/>
                    </a:lnTo>
                    <a:lnTo>
                      <a:pt x="422" y="305"/>
                    </a:lnTo>
                    <a:lnTo>
                      <a:pt x="422" y="322"/>
                    </a:lnTo>
                    <a:lnTo>
                      <a:pt x="422" y="33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46"/>
              <p:cNvSpPr/>
              <p:nvPr/>
            </p:nvSpPr>
            <p:spPr>
              <a:xfrm>
                <a:off x="4800600" y="1847880"/>
                <a:ext cx="911160" cy="173160"/>
              </a:xfrm>
              <a:custGeom>
                <a:avLst/>
                <a:gdLst/>
                <a:ahLst/>
                <a:rect l="l" t="t" r="r" b="b"/>
                <a:pathLst>
                  <a:path w="2291" h="435">
                    <a:moveTo>
                      <a:pt x="123" y="282"/>
                    </a:moveTo>
                    <a:lnTo>
                      <a:pt x="153" y="282"/>
                    </a:lnTo>
                    <a:lnTo>
                      <a:pt x="184" y="280"/>
                    </a:lnTo>
                    <a:lnTo>
                      <a:pt x="215" y="278"/>
                    </a:lnTo>
                    <a:lnTo>
                      <a:pt x="245" y="274"/>
                    </a:lnTo>
                    <a:lnTo>
                      <a:pt x="276" y="270"/>
                    </a:lnTo>
                    <a:lnTo>
                      <a:pt x="307" y="266"/>
                    </a:lnTo>
                    <a:lnTo>
                      <a:pt x="368" y="259"/>
                    </a:lnTo>
                    <a:lnTo>
                      <a:pt x="384" y="257"/>
                    </a:lnTo>
                    <a:lnTo>
                      <a:pt x="399" y="253"/>
                    </a:lnTo>
                    <a:lnTo>
                      <a:pt x="416" y="251"/>
                    </a:lnTo>
                    <a:lnTo>
                      <a:pt x="435" y="249"/>
                    </a:lnTo>
                    <a:lnTo>
                      <a:pt x="453" y="247"/>
                    </a:lnTo>
                    <a:lnTo>
                      <a:pt x="474" y="245"/>
                    </a:lnTo>
                    <a:lnTo>
                      <a:pt x="493" y="241"/>
                    </a:lnTo>
                    <a:lnTo>
                      <a:pt x="514" y="239"/>
                    </a:lnTo>
                    <a:lnTo>
                      <a:pt x="537" y="236"/>
                    </a:lnTo>
                    <a:lnTo>
                      <a:pt x="560" y="234"/>
                    </a:lnTo>
                    <a:lnTo>
                      <a:pt x="583" y="230"/>
                    </a:lnTo>
                    <a:lnTo>
                      <a:pt x="608" y="226"/>
                    </a:lnTo>
                    <a:lnTo>
                      <a:pt x="633" y="224"/>
                    </a:lnTo>
                    <a:lnTo>
                      <a:pt x="660" y="220"/>
                    </a:lnTo>
                    <a:lnTo>
                      <a:pt x="687" y="216"/>
                    </a:lnTo>
                    <a:lnTo>
                      <a:pt x="716" y="211"/>
                    </a:lnTo>
                    <a:lnTo>
                      <a:pt x="729" y="211"/>
                    </a:lnTo>
                    <a:lnTo>
                      <a:pt x="744" y="209"/>
                    </a:lnTo>
                    <a:lnTo>
                      <a:pt x="758" y="207"/>
                    </a:lnTo>
                    <a:lnTo>
                      <a:pt x="773" y="205"/>
                    </a:lnTo>
                    <a:lnTo>
                      <a:pt x="790" y="203"/>
                    </a:lnTo>
                    <a:lnTo>
                      <a:pt x="806" y="201"/>
                    </a:lnTo>
                    <a:lnTo>
                      <a:pt x="823" y="199"/>
                    </a:lnTo>
                    <a:lnTo>
                      <a:pt x="842" y="195"/>
                    </a:lnTo>
                    <a:lnTo>
                      <a:pt x="859" y="193"/>
                    </a:lnTo>
                    <a:lnTo>
                      <a:pt x="879" y="191"/>
                    </a:lnTo>
                    <a:lnTo>
                      <a:pt x="900" y="188"/>
                    </a:lnTo>
                    <a:lnTo>
                      <a:pt x="919" y="184"/>
                    </a:lnTo>
                    <a:lnTo>
                      <a:pt x="940" y="182"/>
                    </a:lnTo>
                    <a:lnTo>
                      <a:pt x="961" y="178"/>
                    </a:lnTo>
                    <a:lnTo>
                      <a:pt x="984" y="174"/>
                    </a:lnTo>
                    <a:lnTo>
                      <a:pt x="1005" y="170"/>
                    </a:lnTo>
                    <a:lnTo>
                      <a:pt x="1028" y="166"/>
                    </a:lnTo>
                    <a:lnTo>
                      <a:pt x="1053" y="163"/>
                    </a:lnTo>
                    <a:lnTo>
                      <a:pt x="1076" y="159"/>
                    </a:lnTo>
                    <a:lnTo>
                      <a:pt x="1101" y="153"/>
                    </a:lnTo>
                    <a:lnTo>
                      <a:pt x="1126" y="149"/>
                    </a:lnTo>
                    <a:lnTo>
                      <a:pt x="1153" y="145"/>
                    </a:lnTo>
                    <a:lnTo>
                      <a:pt x="1180" y="140"/>
                    </a:lnTo>
                    <a:lnTo>
                      <a:pt x="1207" y="136"/>
                    </a:lnTo>
                    <a:lnTo>
                      <a:pt x="1234" y="130"/>
                    </a:lnTo>
                    <a:lnTo>
                      <a:pt x="1262" y="126"/>
                    </a:lnTo>
                    <a:lnTo>
                      <a:pt x="1291" y="120"/>
                    </a:lnTo>
                    <a:lnTo>
                      <a:pt x="1320" y="115"/>
                    </a:lnTo>
                    <a:lnTo>
                      <a:pt x="1349" y="111"/>
                    </a:lnTo>
                    <a:lnTo>
                      <a:pt x="1380" y="105"/>
                    </a:lnTo>
                    <a:lnTo>
                      <a:pt x="1410" y="99"/>
                    </a:lnTo>
                    <a:lnTo>
                      <a:pt x="1443" y="94"/>
                    </a:lnTo>
                    <a:lnTo>
                      <a:pt x="1474" y="88"/>
                    </a:lnTo>
                    <a:lnTo>
                      <a:pt x="1504" y="82"/>
                    </a:lnTo>
                    <a:lnTo>
                      <a:pt x="1533" y="78"/>
                    </a:lnTo>
                    <a:lnTo>
                      <a:pt x="1562" y="72"/>
                    </a:lnTo>
                    <a:lnTo>
                      <a:pt x="1591" y="67"/>
                    </a:lnTo>
                    <a:lnTo>
                      <a:pt x="1617" y="63"/>
                    </a:lnTo>
                    <a:lnTo>
                      <a:pt x="1642" y="57"/>
                    </a:lnTo>
                    <a:lnTo>
                      <a:pt x="1669" y="53"/>
                    </a:lnTo>
                    <a:lnTo>
                      <a:pt x="1692" y="49"/>
                    </a:lnTo>
                    <a:lnTo>
                      <a:pt x="1717" y="46"/>
                    </a:lnTo>
                    <a:lnTo>
                      <a:pt x="1740" y="42"/>
                    </a:lnTo>
                    <a:lnTo>
                      <a:pt x="1761" y="38"/>
                    </a:lnTo>
                    <a:lnTo>
                      <a:pt x="1783" y="34"/>
                    </a:lnTo>
                    <a:lnTo>
                      <a:pt x="1804" y="30"/>
                    </a:lnTo>
                    <a:lnTo>
                      <a:pt x="1823" y="26"/>
                    </a:lnTo>
                    <a:lnTo>
                      <a:pt x="1842" y="24"/>
                    </a:lnTo>
                    <a:lnTo>
                      <a:pt x="1859" y="21"/>
                    </a:lnTo>
                    <a:lnTo>
                      <a:pt x="1877" y="19"/>
                    </a:lnTo>
                    <a:lnTo>
                      <a:pt x="1892" y="17"/>
                    </a:lnTo>
                    <a:lnTo>
                      <a:pt x="1907" y="13"/>
                    </a:lnTo>
                    <a:lnTo>
                      <a:pt x="1923" y="11"/>
                    </a:lnTo>
                    <a:lnTo>
                      <a:pt x="1936" y="9"/>
                    </a:lnTo>
                    <a:lnTo>
                      <a:pt x="1948" y="7"/>
                    </a:lnTo>
                    <a:lnTo>
                      <a:pt x="1961" y="5"/>
                    </a:lnTo>
                    <a:lnTo>
                      <a:pt x="1971" y="5"/>
                    </a:lnTo>
                    <a:lnTo>
                      <a:pt x="1982" y="3"/>
                    </a:lnTo>
                    <a:lnTo>
                      <a:pt x="1992" y="1"/>
                    </a:lnTo>
                    <a:lnTo>
                      <a:pt x="1999" y="1"/>
                    </a:lnTo>
                    <a:lnTo>
                      <a:pt x="2007" y="0"/>
                    </a:lnTo>
                    <a:lnTo>
                      <a:pt x="2015" y="0"/>
                    </a:lnTo>
                    <a:lnTo>
                      <a:pt x="2020" y="0"/>
                    </a:lnTo>
                    <a:lnTo>
                      <a:pt x="2026" y="0"/>
                    </a:lnTo>
                    <a:lnTo>
                      <a:pt x="2036" y="0"/>
                    </a:lnTo>
                    <a:lnTo>
                      <a:pt x="2045" y="1"/>
                    </a:lnTo>
                    <a:lnTo>
                      <a:pt x="2055" y="1"/>
                    </a:lnTo>
                    <a:lnTo>
                      <a:pt x="2067" y="3"/>
                    </a:lnTo>
                    <a:lnTo>
                      <a:pt x="2088" y="9"/>
                    </a:lnTo>
                    <a:lnTo>
                      <a:pt x="2109" y="15"/>
                    </a:lnTo>
                    <a:lnTo>
                      <a:pt x="2132" y="24"/>
                    </a:lnTo>
                    <a:lnTo>
                      <a:pt x="2153" y="34"/>
                    </a:lnTo>
                    <a:lnTo>
                      <a:pt x="2176" y="46"/>
                    </a:lnTo>
                    <a:lnTo>
                      <a:pt x="2199" y="59"/>
                    </a:lnTo>
                    <a:lnTo>
                      <a:pt x="2210" y="67"/>
                    </a:lnTo>
                    <a:lnTo>
                      <a:pt x="2220" y="76"/>
                    </a:lnTo>
                    <a:lnTo>
                      <a:pt x="2230" y="84"/>
                    </a:lnTo>
                    <a:lnTo>
                      <a:pt x="2239" y="92"/>
                    </a:lnTo>
                    <a:lnTo>
                      <a:pt x="2247" y="99"/>
                    </a:lnTo>
                    <a:lnTo>
                      <a:pt x="2255" y="107"/>
                    </a:lnTo>
                    <a:lnTo>
                      <a:pt x="2262" y="115"/>
                    </a:lnTo>
                    <a:lnTo>
                      <a:pt x="2268" y="122"/>
                    </a:lnTo>
                    <a:lnTo>
                      <a:pt x="2274" y="128"/>
                    </a:lnTo>
                    <a:lnTo>
                      <a:pt x="2278" y="136"/>
                    </a:lnTo>
                    <a:lnTo>
                      <a:pt x="2283" y="143"/>
                    </a:lnTo>
                    <a:lnTo>
                      <a:pt x="2285" y="149"/>
                    </a:lnTo>
                    <a:lnTo>
                      <a:pt x="2289" y="157"/>
                    </a:lnTo>
                    <a:lnTo>
                      <a:pt x="2291" y="163"/>
                    </a:lnTo>
                    <a:lnTo>
                      <a:pt x="2291" y="168"/>
                    </a:lnTo>
                    <a:lnTo>
                      <a:pt x="2291" y="176"/>
                    </a:lnTo>
                    <a:lnTo>
                      <a:pt x="2291" y="180"/>
                    </a:lnTo>
                    <a:lnTo>
                      <a:pt x="2291" y="182"/>
                    </a:lnTo>
                    <a:lnTo>
                      <a:pt x="2289" y="186"/>
                    </a:lnTo>
                    <a:lnTo>
                      <a:pt x="2287" y="188"/>
                    </a:lnTo>
                    <a:lnTo>
                      <a:pt x="2285" y="191"/>
                    </a:lnTo>
                    <a:lnTo>
                      <a:pt x="2283" y="193"/>
                    </a:lnTo>
                    <a:lnTo>
                      <a:pt x="2280" y="195"/>
                    </a:lnTo>
                    <a:lnTo>
                      <a:pt x="2276" y="197"/>
                    </a:lnTo>
                    <a:lnTo>
                      <a:pt x="2272" y="201"/>
                    </a:lnTo>
                    <a:lnTo>
                      <a:pt x="2268" y="203"/>
                    </a:lnTo>
                    <a:lnTo>
                      <a:pt x="2262" y="205"/>
                    </a:lnTo>
                    <a:lnTo>
                      <a:pt x="2257" y="207"/>
                    </a:lnTo>
                    <a:lnTo>
                      <a:pt x="2251" y="209"/>
                    </a:lnTo>
                    <a:lnTo>
                      <a:pt x="2243" y="209"/>
                    </a:lnTo>
                    <a:lnTo>
                      <a:pt x="2237" y="211"/>
                    </a:lnTo>
                    <a:lnTo>
                      <a:pt x="2230" y="213"/>
                    </a:lnTo>
                    <a:lnTo>
                      <a:pt x="2220" y="214"/>
                    </a:lnTo>
                    <a:lnTo>
                      <a:pt x="2212" y="214"/>
                    </a:lnTo>
                    <a:lnTo>
                      <a:pt x="2203" y="216"/>
                    </a:lnTo>
                    <a:lnTo>
                      <a:pt x="2193" y="216"/>
                    </a:lnTo>
                    <a:lnTo>
                      <a:pt x="2184" y="218"/>
                    </a:lnTo>
                    <a:lnTo>
                      <a:pt x="2172" y="218"/>
                    </a:lnTo>
                    <a:lnTo>
                      <a:pt x="2161" y="220"/>
                    </a:lnTo>
                    <a:lnTo>
                      <a:pt x="2149" y="220"/>
                    </a:lnTo>
                    <a:lnTo>
                      <a:pt x="2138" y="220"/>
                    </a:lnTo>
                    <a:lnTo>
                      <a:pt x="2124" y="222"/>
                    </a:lnTo>
                    <a:lnTo>
                      <a:pt x="2111" y="222"/>
                    </a:lnTo>
                    <a:lnTo>
                      <a:pt x="2097" y="222"/>
                    </a:lnTo>
                    <a:lnTo>
                      <a:pt x="2082" y="222"/>
                    </a:lnTo>
                    <a:lnTo>
                      <a:pt x="2067" y="222"/>
                    </a:lnTo>
                    <a:lnTo>
                      <a:pt x="2051" y="222"/>
                    </a:lnTo>
                    <a:lnTo>
                      <a:pt x="2036" y="222"/>
                    </a:lnTo>
                    <a:lnTo>
                      <a:pt x="2003" y="222"/>
                    </a:lnTo>
                    <a:lnTo>
                      <a:pt x="1972" y="222"/>
                    </a:lnTo>
                    <a:lnTo>
                      <a:pt x="1944" y="222"/>
                    </a:lnTo>
                    <a:lnTo>
                      <a:pt x="1915" y="222"/>
                    </a:lnTo>
                    <a:lnTo>
                      <a:pt x="1888" y="224"/>
                    </a:lnTo>
                    <a:lnTo>
                      <a:pt x="1861" y="224"/>
                    </a:lnTo>
                    <a:lnTo>
                      <a:pt x="1836" y="224"/>
                    </a:lnTo>
                    <a:lnTo>
                      <a:pt x="1813" y="224"/>
                    </a:lnTo>
                    <a:lnTo>
                      <a:pt x="1790" y="224"/>
                    </a:lnTo>
                    <a:lnTo>
                      <a:pt x="1769" y="226"/>
                    </a:lnTo>
                    <a:lnTo>
                      <a:pt x="1750" y="226"/>
                    </a:lnTo>
                    <a:lnTo>
                      <a:pt x="1731" y="228"/>
                    </a:lnTo>
                    <a:lnTo>
                      <a:pt x="1713" y="230"/>
                    </a:lnTo>
                    <a:lnTo>
                      <a:pt x="1696" y="230"/>
                    </a:lnTo>
                    <a:lnTo>
                      <a:pt x="1681" y="232"/>
                    </a:lnTo>
                    <a:lnTo>
                      <a:pt x="1667" y="236"/>
                    </a:lnTo>
                    <a:lnTo>
                      <a:pt x="1660" y="236"/>
                    </a:lnTo>
                    <a:lnTo>
                      <a:pt x="1652" y="237"/>
                    </a:lnTo>
                    <a:lnTo>
                      <a:pt x="1637" y="239"/>
                    </a:lnTo>
                    <a:lnTo>
                      <a:pt x="1617" y="241"/>
                    </a:lnTo>
                    <a:lnTo>
                      <a:pt x="1598" y="243"/>
                    </a:lnTo>
                    <a:lnTo>
                      <a:pt x="1577" y="245"/>
                    </a:lnTo>
                    <a:lnTo>
                      <a:pt x="1552" y="249"/>
                    </a:lnTo>
                    <a:lnTo>
                      <a:pt x="1527" y="251"/>
                    </a:lnTo>
                    <a:lnTo>
                      <a:pt x="1500" y="253"/>
                    </a:lnTo>
                    <a:lnTo>
                      <a:pt x="1472" y="257"/>
                    </a:lnTo>
                    <a:lnTo>
                      <a:pt x="1441" y="259"/>
                    </a:lnTo>
                    <a:lnTo>
                      <a:pt x="1410" y="262"/>
                    </a:lnTo>
                    <a:lnTo>
                      <a:pt x="1376" y="266"/>
                    </a:lnTo>
                    <a:lnTo>
                      <a:pt x="1341" y="270"/>
                    </a:lnTo>
                    <a:lnTo>
                      <a:pt x="1305" y="274"/>
                    </a:lnTo>
                    <a:lnTo>
                      <a:pt x="1266" y="278"/>
                    </a:lnTo>
                    <a:lnTo>
                      <a:pt x="1228" y="282"/>
                    </a:lnTo>
                    <a:lnTo>
                      <a:pt x="1145" y="291"/>
                    </a:lnTo>
                    <a:lnTo>
                      <a:pt x="1065" y="301"/>
                    </a:lnTo>
                    <a:lnTo>
                      <a:pt x="980" y="312"/>
                    </a:lnTo>
                    <a:lnTo>
                      <a:pt x="898" y="324"/>
                    </a:lnTo>
                    <a:lnTo>
                      <a:pt x="811" y="337"/>
                    </a:lnTo>
                    <a:lnTo>
                      <a:pt x="727" y="349"/>
                    </a:lnTo>
                    <a:lnTo>
                      <a:pt x="639" y="362"/>
                    </a:lnTo>
                    <a:lnTo>
                      <a:pt x="552" y="376"/>
                    </a:lnTo>
                    <a:lnTo>
                      <a:pt x="529" y="379"/>
                    </a:lnTo>
                    <a:lnTo>
                      <a:pt x="508" y="381"/>
                    </a:lnTo>
                    <a:lnTo>
                      <a:pt x="487" y="385"/>
                    </a:lnTo>
                    <a:lnTo>
                      <a:pt x="468" y="389"/>
                    </a:lnTo>
                    <a:lnTo>
                      <a:pt x="449" y="391"/>
                    </a:lnTo>
                    <a:lnTo>
                      <a:pt x="430" y="395"/>
                    </a:lnTo>
                    <a:lnTo>
                      <a:pt x="412" y="397"/>
                    </a:lnTo>
                    <a:lnTo>
                      <a:pt x="395" y="401"/>
                    </a:lnTo>
                    <a:lnTo>
                      <a:pt x="378" y="403"/>
                    </a:lnTo>
                    <a:lnTo>
                      <a:pt x="362" y="404"/>
                    </a:lnTo>
                    <a:lnTo>
                      <a:pt x="345" y="408"/>
                    </a:lnTo>
                    <a:lnTo>
                      <a:pt x="332" y="410"/>
                    </a:lnTo>
                    <a:lnTo>
                      <a:pt x="316" y="412"/>
                    </a:lnTo>
                    <a:lnTo>
                      <a:pt x="303" y="414"/>
                    </a:lnTo>
                    <a:lnTo>
                      <a:pt x="290" y="416"/>
                    </a:lnTo>
                    <a:lnTo>
                      <a:pt x="278" y="418"/>
                    </a:lnTo>
                    <a:lnTo>
                      <a:pt x="266" y="420"/>
                    </a:lnTo>
                    <a:lnTo>
                      <a:pt x="255" y="422"/>
                    </a:lnTo>
                    <a:lnTo>
                      <a:pt x="245" y="424"/>
                    </a:lnTo>
                    <a:lnTo>
                      <a:pt x="236" y="426"/>
                    </a:lnTo>
                    <a:lnTo>
                      <a:pt x="226" y="427"/>
                    </a:lnTo>
                    <a:lnTo>
                      <a:pt x="219" y="427"/>
                    </a:lnTo>
                    <a:lnTo>
                      <a:pt x="211" y="429"/>
                    </a:lnTo>
                    <a:lnTo>
                      <a:pt x="203" y="429"/>
                    </a:lnTo>
                    <a:lnTo>
                      <a:pt x="197" y="431"/>
                    </a:lnTo>
                    <a:lnTo>
                      <a:pt x="192" y="431"/>
                    </a:lnTo>
                    <a:lnTo>
                      <a:pt x="186" y="433"/>
                    </a:lnTo>
                    <a:lnTo>
                      <a:pt x="182" y="433"/>
                    </a:lnTo>
                    <a:lnTo>
                      <a:pt x="178" y="433"/>
                    </a:lnTo>
                    <a:lnTo>
                      <a:pt x="176" y="435"/>
                    </a:lnTo>
                    <a:lnTo>
                      <a:pt x="174" y="435"/>
                    </a:lnTo>
                    <a:lnTo>
                      <a:pt x="172" y="435"/>
                    </a:lnTo>
                    <a:lnTo>
                      <a:pt x="165" y="433"/>
                    </a:lnTo>
                    <a:lnTo>
                      <a:pt x="155" y="431"/>
                    </a:lnTo>
                    <a:lnTo>
                      <a:pt x="146" y="429"/>
                    </a:lnTo>
                    <a:lnTo>
                      <a:pt x="132" y="424"/>
                    </a:lnTo>
                    <a:lnTo>
                      <a:pt x="121" y="418"/>
                    </a:lnTo>
                    <a:lnTo>
                      <a:pt x="113" y="414"/>
                    </a:lnTo>
                    <a:lnTo>
                      <a:pt x="105" y="410"/>
                    </a:lnTo>
                    <a:lnTo>
                      <a:pt x="98" y="404"/>
                    </a:lnTo>
                    <a:lnTo>
                      <a:pt x="88" y="401"/>
                    </a:lnTo>
                    <a:lnTo>
                      <a:pt x="80" y="393"/>
                    </a:lnTo>
                    <a:lnTo>
                      <a:pt x="71" y="387"/>
                    </a:lnTo>
                    <a:lnTo>
                      <a:pt x="61" y="381"/>
                    </a:lnTo>
                    <a:lnTo>
                      <a:pt x="53" y="374"/>
                    </a:lnTo>
                    <a:lnTo>
                      <a:pt x="46" y="368"/>
                    </a:lnTo>
                    <a:lnTo>
                      <a:pt x="38" y="362"/>
                    </a:lnTo>
                    <a:lnTo>
                      <a:pt x="30" y="356"/>
                    </a:lnTo>
                    <a:lnTo>
                      <a:pt x="25" y="353"/>
                    </a:lnTo>
                    <a:lnTo>
                      <a:pt x="21" y="347"/>
                    </a:lnTo>
                    <a:lnTo>
                      <a:pt x="15" y="341"/>
                    </a:lnTo>
                    <a:lnTo>
                      <a:pt x="11" y="337"/>
                    </a:lnTo>
                    <a:lnTo>
                      <a:pt x="7" y="332"/>
                    </a:lnTo>
                    <a:lnTo>
                      <a:pt x="6" y="328"/>
                    </a:lnTo>
                    <a:lnTo>
                      <a:pt x="4" y="324"/>
                    </a:lnTo>
                    <a:lnTo>
                      <a:pt x="2" y="318"/>
                    </a:lnTo>
                    <a:lnTo>
                      <a:pt x="0" y="314"/>
                    </a:lnTo>
                    <a:lnTo>
                      <a:pt x="0" y="310"/>
                    </a:lnTo>
                    <a:lnTo>
                      <a:pt x="0" y="305"/>
                    </a:lnTo>
                    <a:lnTo>
                      <a:pt x="0" y="303"/>
                    </a:lnTo>
                    <a:lnTo>
                      <a:pt x="2" y="301"/>
                    </a:lnTo>
                    <a:lnTo>
                      <a:pt x="4" y="299"/>
                    </a:lnTo>
                    <a:lnTo>
                      <a:pt x="7" y="297"/>
                    </a:lnTo>
                    <a:lnTo>
                      <a:pt x="11" y="295"/>
                    </a:lnTo>
                    <a:lnTo>
                      <a:pt x="17" y="293"/>
                    </a:lnTo>
                    <a:lnTo>
                      <a:pt x="23" y="291"/>
                    </a:lnTo>
                    <a:lnTo>
                      <a:pt x="30" y="289"/>
                    </a:lnTo>
                    <a:lnTo>
                      <a:pt x="38" y="287"/>
                    </a:lnTo>
                    <a:lnTo>
                      <a:pt x="48" y="285"/>
                    </a:lnTo>
                    <a:lnTo>
                      <a:pt x="57" y="285"/>
                    </a:lnTo>
                    <a:lnTo>
                      <a:pt x="69" y="284"/>
                    </a:lnTo>
                    <a:lnTo>
                      <a:pt x="80" y="284"/>
                    </a:lnTo>
                    <a:lnTo>
                      <a:pt x="94" y="282"/>
                    </a:lnTo>
                    <a:lnTo>
                      <a:pt x="107" y="282"/>
                    </a:lnTo>
                    <a:lnTo>
                      <a:pt x="123" y="28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500"/>
                            </p:stCondLst>
                            <p:childTnLst>
                              <p:par>
                                <p:cTn id="46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0"/>
                            </p:stCondLst>
                            <p:childTnLst>
                              <p:par>
                                <p:cTn id="4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8749050021396942839093.jpg"/>
          <p:cNvPicPr/>
          <p:nvPr/>
        </p:nvPicPr>
        <p:blipFill>
          <a:blip r:embed="rId1"/>
          <a:stretch/>
        </p:blipFill>
        <p:spPr>
          <a:xfrm>
            <a:off x="179280" y="193680"/>
            <a:ext cx="8964720" cy="6664320"/>
          </a:xfrm>
          <a:prstGeom prst="rect">
            <a:avLst/>
          </a:prstGeom>
          <a:ln w="0">
            <a:noFill/>
          </a:ln>
        </p:spPr>
      </p:pic>
      <p:sp>
        <p:nvSpPr>
          <p:cNvPr id="544" name="WordArt 3"/>
          <p:cNvSpPr txBox="1"/>
          <p:nvPr/>
        </p:nvSpPr>
        <p:spPr>
          <a:xfrm>
            <a:off x="0" y="152280"/>
            <a:ext cx="48006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宋体"/>
              </a:rPr>
              <a:t>亡羊补牢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66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0" y="518148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牢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143000" y="5105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代指丢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066680" y="5715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文中指羊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457200" y="990720"/>
            <a:ext cx="3827520" cy="493560"/>
            <a:chOff x="457200" y="990720"/>
            <a:chExt cx="3827520" cy="493560"/>
          </a:xfrm>
        </p:grpSpPr>
        <p:pic>
          <p:nvPicPr>
            <p:cNvPr id="549" name="Picture 8" descr="1139039141396942839078.gif"/>
            <p:cNvPicPr/>
            <p:nvPr/>
          </p:nvPicPr>
          <p:blipFill>
            <a:blip r:embed="rId2"/>
            <a:stretch/>
          </p:blipFill>
          <p:spPr>
            <a:xfrm>
              <a:off x="3770280" y="990720"/>
              <a:ext cx="5144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9" descr="1139039141396942839078.gif"/>
            <p:cNvPicPr/>
            <p:nvPr/>
          </p:nvPicPr>
          <p:blipFill>
            <a:blip r:embed="rId3"/>
            <a:stretch/>
          </p:blipFill>
          <p:spPr>
            <a:xfrm>
              <a:off x="457200" y="990720"/>
              <a:ext cx="5144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3625920" y="281772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625920" y="30654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362480" y="306540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362480" y="33130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5454720" y="33130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5454720" y="3560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6140520" y="356076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6140520" y="38750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0"/>
          <a:ext cx="9142560" cy="6826320"/>
        </p:xfrm>
        <a:graphic>
          <a:graphicData uri="http://schemas.openxmlformats.org/drawingml/2006/table">
            <a:tbl>
              <a:tblPr/>
              <a:tblGrid>
                <a:gridCol w="1187280"/>
                <a:gridCol w="2011680"/>
                <a:gridCol w="1377720"/>
                <a:gridCol w="1714680"/>
                <a:gridCol w="1076400"/>
                <a:gridCol w="1774800"/>
              </a:tblGrid>
              <a:tr h="10447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备课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授课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   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新授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课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、寓言两则之亡羊补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 rowSpan="6"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知识与能力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会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生字，及正确书写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汉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能分角色，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正确、流利、有感情地朗读课文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理解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亡羊补牢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这个成语的意思，并从中受到启发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过程与方法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运用多种形式的朗读；合作探究学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态度价值观：懂得知错就改还不算晚的道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gridSpan="6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教学重点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在理解课文内容的基础上能正确、流利、有感情地朗读 ；识字写字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680">
                <a:tc gridSpan="6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教学难点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懂得知错就改还不算晚的道理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2771640" y="2060640"/>
            <a:ext cx="576360" cy="3240000"/>
          </a:xfrm>
          <a:custGeom>
            <a:avLst/>
            <a:gdLst>
              <a:gd name="textAreaLeft" fmla="*/ 169200 w 576360"/>
              <a:gd name="textAreaRight" fmla="*/ 576720 w 576360"/>
              <a:gd name="textAreaTop" fmla="*/ 135000 h 3240000"/>
              <a:gd name="textAreaBottom" fmla="*/ 3105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3276720" y="2276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juà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55" name="WordArt 6"/>
          <p:cNvSpPr txBox="1"/>
          <p:nvPr/>
        </p:nvSpPr>
        <p:spPr>
          <a:xfrm>
            <a:off x="3276720" y="321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quā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56" name="WordArt 7"/>
          <p:cNvSpPr txBox="1"/>
          <p:nvPr/>
        </p:nvSpPr>
        <p:spPr>
          <a:xfrm>
            <a:off x="4427640" y="3284640"/>
            <a:ext cx="18288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（圆圈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7" name="WordArt 8"/>
          <p:cNvSpPr txBox="1"/>
          <p:nvPr/>
        </p:nvSpPr>
        <p:spPr>
          <a:xfrm>
            <a:off x="4427640" y="2276640"/>
            <a:ext cx="1828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（羊圈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8" name="WordArt 9"/>
          <p:cNvSpPr txBox="1"/>
          <p:nvPr/>
        </p:nvSpPr>
        <p:spPr>
          <a:xfrm>
            <a:off x="6443640" y="3284640"/>
            <a:ext cx="18288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（画圈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9" name="WordArt 10"/>
          <p:cNvSpPr txBox="1"/>
          <p:nvPr/>
        </p:nvSpPr>
        <p:spPr>
          <a:xfrm>
            <a:off x="3276720" y="429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juān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0" name="WordArt 11"/>
          <p:cNvSpPr txBox="1"/>
          <p:nvPr/>
        </p:nvSpPr>
        <p:spPr>
          <a:xfrm>
            <a:off x="4643280" y="4221000"/>
            <a:ext cx="29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（圈在家里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561" name="Picture 12" descr="168784601396942839093.jpg"/>
          <p:cNvPicPr/>
          <p:nvPr/>
        </p:nvPicPr>
        <p:blipFill>
          <a:blip r:embed="rId1"/>
          <a:stretch/>
        </p:blipFill>
        <p:spPr>
          <a:xfrm>
            <a:off x="611280" y="2781360"/>
            <a:ext cx="201780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8749050021396942839093.jpg"/>
          <p:cNvPicPr/>
          <p:nvPr/>
        </p:nvPicPr>
        <p:blipFill>
          <a:blip r:embed="rId1"/>
          <a:stretch/>
        </p:blipFill>
        <p:spPr>
          <a:xfrm>
            <a:off x="179280" y="193680"/>
            <a:ext cx="8964720" cy="6664320"/>
          </a:xfrm>
          <a:prstGeom prst="rect">
            <a:avLst/>
          </a:prstGeom>
          <a:ln w="0">
            <a:noFill/>
          </a:ln>
        </p:spPr>
      </p:pic>
      <p:sp>
        <p:nvSpPr>
          <p:cNvPr id="563" name="WordArt 3"/>
          <p:cNvSpPr txBox="1"/>
          <p:nvPr/>
        </p:nvSpPr>
        <p:spPr>
          <a:xfrm>
            <a:off x="0" y="152280"/>
            <a:ext cx="48006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宋体"/>
              </a:rPr>
              <a:t>亡羊补牢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66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324000" y="5013360"/>
            <a:ext cx="550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语言说说课文讲了一件什么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457200" y="990720"/>
            <a:ext cx="3827520" cy="493560"/>
            <a:chOff x="457200" y="990720"/>
            <a:chExt cx="3827520" cy="493560"/>
          </a:xfrm>
        </p:grpSpPr>
        <p:pic>
          <p:nvPicPr>
            <p:cNvPr id="566" name="Picture 6" descr="1139039141396942839078.gif"/>
            <p:cNvPicPr/>
            <p:nvPr/>
          </p:nvPicPr>
          <p:blipFill>
            <a:blip r:embed="rId2"/>
            <a:stretch/>
          </p:blipFill>
          <p:spPr>
            <a:xfrm>
              <a:off x="3770280" y="990720"/>
              <a:ext cx="5144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7" descr="1139039141396942839078.gif"/>
            <p:cNvPicPr/>
            <p:nvPr/>
          </p:nvPicPr>
          <p:blipFill>
            <a:blip r:embed="rId3"/>
            <a:stretch/>
          </p:blipFill>
          <p:spPr>
            <a:xfrm>
              <a:off x="457200" y="990720"/>
              <a:ext cx="5144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示：第一次丢羊    第二次丢羊   后悔    赶紧    从此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6516720" y="1844640"/>
            <a:ext cx="431640" cy="289080"/>
          </a:xfrm>
          <a:prstGeom prst="rightArrow">
            <a:avLst>
              <a:gd name="adj1" fmla="val 50000"/>
              <a:gd name="adj2" fmla="val 373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3492360" y="2637000"/>
            <a:ext cx="432000" cy="288720"/>
          </a:xfrm>
          <a:prstGeom prst="rightArrow">
            <a:avLst>
              <a:gd name="adj1" fmla="val 50000"/>
              <a:gd name="adj2" fmla="val 3739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5651640" y="2637000"/>
            <a:ext cx="431640" cy="288720"/>
          </a:xfrm>
          <a:prstGeom prst="rightArrow">
            <a:avLst>
              <a:gd name="adj1" fmla="val 50000"/>
              <a:gd name="adj2" fmla="val 3736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7956720" y="2637000"/>
            <a:ext cx="431640" cy="288720"/>
          </a:xfrm>
          <a:prstGeom prst="rightArrow">
            <a:avLst>
              <a:gd name="adj1" fmla="val 50000"/>
              <a:gd name="adj2" fmla="val 3736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3778122391396942839078.jpg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3778122391396942839078.jpg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>
            <a:off x="2050920" y="292428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900000" y="3573360"/>
            <a:ext cx="63360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1116000" y="558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¨¨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所以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¨¨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84360" y="19890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因为羊圈破了个窟窿，夜里狼从窟窿钻进去叼走了羊，所以羊少了一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3778122391396942839078.jpg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755640" y="747720"/>
            <a:ext cx="8642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赶快把羊圈修一修，堵上那个窟窿吧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d8ec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d9d8ec"/>
                </a:solidFill>
                <a:latin typeface="Arial"/>
                <a:ea typeface="楷体_GB2312"/>
              </a:rPr>
              <a:t>羊已经丢了，还修羊圈干什么呢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01480" y="46530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羊已经丢了，不用修羊圈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-605520" y="2637000"/>
            <a:ext cx="1399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换个说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6098215051396942839078.jpg"/>
          <p:cNvPicPr/>
          <p:nvPr/>
        </p:nvPicPr>
        <p:blipFill>
          <a:blip r:embed="rId1"/>
          <a:stretch/>
        </p:blipFill>
        <p:spPr>
          <a:xfrm>
            <a:off x="0" y="0"/>
            <a:ext cx="8748720" cy="5470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8574255141396942839093.png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2243686061396942839093.png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8574255141396942839093.png"/>
          <p:cNvPicPr/>
          <p:nvPr/>
        </p:nvPicPr>
        <p:blipFill>
          <a:blip r:embed="rId1"/>
          <a:stretch/>
        </p:blipFill>
        <p:spPr>
          <a:xfrm>
            <a:off x="2627280" y="3500280"/>
            <a:ext cx="3562560" cy="20671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丢羊后，养羊人又是怎么想、怎么做的？自由读第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划出相关的句子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4499717141396942839078.png"/>
          <p:cNvPicPr/>
          <p:nvPr/>
        </p:nvPicPr>
        <p:blipFill>
          <a:blip r:embed="rId2"/>
          <a:stretch/>
        </p:blipFill>
        <p:spPr>
          <a:xfrm>
            <a:off x="6156360" y="1700280"/>
            <a:ext cx="2184480" cy="14256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2243686061396942839093.png"/>
          <p:cNvPicPr/>
          <p:nvPr/>
        </p:nvPicPr>
        <p:blipFill>
          <a:blip r:embed="rId3"/>
          <a:stretch/>
        </p:blipFill>
        <p:spPr>
          <a:xfrm>
            <a:off x="1042920" y="2565360"/>
            <a:ext cx="227664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762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请同学们大声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1905120"/>
            <a:ext cx="883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、用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”画出课文中要求会认的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、用“</a:t>
            </a:r>
            <a:r>
              <a:rPr b="1" lang="en-US" sz="4000" spc="-1" strike="noStrike">
                <a:solidFill>
                  <a:srgbClr val="6767ff"/>
                </a:solidFill>
                <a:latin typeface="Arial"/>
              </a:rPr>
              <a:t>○”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圈出课文中要求会写的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、边读边标出自然段的序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6098215051396942839078.jpg"/>
          <p:cNvPicPr/>
          <p:nvPr/>
        </p:nvPicPr>
        <p:blipFill>
          <a:blip r:embed="rId1"/>
          <a:stretch/>
        </p:blipFill>
        <p:spPr>
          <a:xfrm>
            <a:off x="-900000" y="0"/>
            <a:ext cx="9648720" cy="54705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8574255141396942839093.png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2243686061396942839093.png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  <p:sp>
        <p:nvSpPr>
          <p:cNvPr id="594" name="Line 5"/>
          <p:cNvSpPr/>
          <p:nvPr/>
        </p:nvSpPr>
        <p:spPr>
          <a:xfrm>
            <a:off x="826920" y="3141720"/>
            <a:ext cx="6840720" cy="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"/>
          <p:cNvSpPr/>
          <p:nvPr/>
        </p:nvSpPr>
        <p:spPr>
          <a:xfrm>
            <a:off x="0" y="3716280"/>
            <a:ext cx="7667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7"/>
          <p:cNvSpPr/>
          <p:nvPr/>
        </p:nvSpPr>
        <p:spPr>
          <a:xfrm>
            <a:off x="0" y="4365720"/>
            <a:ext cx="2268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6098215051396942839078.jpg"/>
          <p:cNvPicPr/>
          <p:nvPr/>
        </p:nvPicPr>
        <p:blipFill>
          <a:blip r:embed="rId1"/>
          <a:stretch/>
        </p:blipFill>
        <p:spPr>
          <a:xfrm>
            <a:off x="-900000" y="0"/>
            <a:ext cx="9648720" cy="5470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8574255141396942839093.png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2243686061396942839093.png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5"/>
          <p:cNvSpPr/>
          <p:nvPr/>
        </p:nvSpPr>
        <p:spPr>
          <a:xfrm>
            <a:off x="5796000" y="1844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1258920" y="242100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169236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8"/>
          <p:cNvSpPr/>
          <p:nvPr/>
        </p:nvSpPr>
        <p:spPr>
          <a:xfrm>
            <a:off x="2050920" y="306864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392436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0"/>
          <p:cNvSpPr/>
          <p:nvPr/>
        </p:nvSpPr>
        <p:spPr>
          <a:xfrm>
            <a:off x="428472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1"/>
          <p:cNvSpPr/>
          <p:nvPr/>
        </p:nvSpPr>
        <p:spPr>
          <a:xfrm>
            <a:off x="3059280" y="371628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3492360" y="371628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76720" y="429264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5435640" y="4292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37155120139694283909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179280" y="170028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很后悔，不该不接受街坊的劝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108000" y="4292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很后悔，应该接受街坊的劝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2268360" y="2602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换个说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86899072" presetSubtype="2082558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84426891413969428390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92240"/>
            <a:ext cx="9144000" cy="705024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如果养羊人再不修羊圈，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会出现什么后果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371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犯了错误，只要（      ），就（ 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读完了这个故事，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9834208851396942839109.png"/>
          <p:cNvPicPr/>
          <p:nvPr/>
        </p:nvPicPr>
        <p:blipFill>
          <a:blip r:embed="rId1"/>
          <a:srcRect l="2460" t="0" r="1535" b="6088"/>
          <a:stretch/>
        </p:blipFill>
        <p:spPr>
          <a:xfrm>
            <a:off x="2666880" y="2373480"/>
            <a:ext cx="6477120" cy="44845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4"/>
          <p:cNvSpPr/>
          <p:nvPr/>
        </p:nvSpPr>
        <p:spPr>
          <a:xfrm>
            <a:off x="152280" y="16002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个人有错，只要及时纠正、就不算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0" y="3645000"/>
            <a:ext cx="66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亡羊补牢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未为迟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34298339713969428391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826920" y="1989000"/>
            <a:ext cx="69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羊补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780000" y="2781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错就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"/>
          <p:cNvSpPr/>
          <p:nvPr/>
        </p:nvSpPr>
        <p:spPr>
          <a:xfrm>
            <a:off x="826920" y="4757760"/>
            <a:ext cx="64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294497885139694283907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7800" y="-171360"/>
            <a:ext cx="9451800" cy="702936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吃一堑，长一智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未雨绸缪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浪子回头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知过则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悬崖勒马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幡然悔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回头是岸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迷途知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34298339713969428391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 txBox="1"/>
          <p:nvPr/>
        </p:nvSpPr>
        <p:spPr>
          <a:xfrm>
            <a:off x="901800" y="1771200"/>
            <a:ext cx="5649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树木被过量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眼睛近视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学习成绩下降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草原被破坏，出现沙尘暴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4EF4-7BB9-4A69-806C-BC56207A7B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57200" y="914400"/>
            <a:ext cx="7696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亡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羊补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牢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羊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窟窿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叼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走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街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劝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告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悔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9599149061396942839109.gif"/>
          <p:cNvPicPr/>
          <p:nvPr/>
        </p:nvPicPr>
        <p:blipFill>
          <a:blip r:embed="rId1"/>
          <a:stretch/>
        </p:blipFill>
        <p:spPr>
          <a:xfrm>
            <a:off x="7620120" y="487692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808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qu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04920" y="304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wá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80880" y="1905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k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348800" y="335268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hu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892120" y="30492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ju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072600" y="30492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l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711120" y="1828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fa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301040" y="1828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lo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3282120" y="190512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66"/>
                </a:solidFill>
                <a:latin typeface="Times New Roman"/>
              </a:rPr>
              <a:t>diā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732720" y="3500280"/>
            <a:ext cx="2232000" cy="1440000"/>
          </a:xfrm>
          <a:prstGeom prst="cloudCallout">
            <a:avLst>
              <a:gd name="adj1" fmla="val -51921"/>
              <a:gd name="adj2" fmla="val -59814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7020000" y="36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2b08"/>
                </a:solidFill>
                <a:latin typeface="Arial"/>
                <a:ea typeface="楷体_GB2312"/>
              </a:rPr>
              <a:t>邻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47640" y="5300640"/>
            <a:ext cx="2303640" cy="1368360"/>
          </a:xfrm>
          <a:prstGeom prst="cloudCallout">
            <a:avLst>
              <a:gd name="adj1" fmla="val -63439"/>
              <a:gd name="adj2" fmla="val -81671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35280" y="54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2b08"/>
                </a:solidFill>
                <a:latin typeface="Arial"/>
                <a:ea typeface="楷体_GB2312"/>
              </a:rPr>
              <a:t>劝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295960" y="1447920"/>
            <a:ext cx="3276720" cy="342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充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补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" y="5029200"/>
            <a:ext cx="800100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件衣服不小心被挂破了一块，但修补一下还可以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140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5"/>
          <p:cNvSpPr/>
          <p:nvPr/>
        </p:nvSpPr>
        <p:spPr>
          <a:xfrm>
            <a:off x="1905120" y="2209680"/>
            <a:ext cx="1844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1916280" y="2220840"/>
            <a:ext cx="1807920" cy="1808280"/>
          </a:xfrm>
          <a:custGeom>
            <a:avLst/>
            <a:gdLst/>
            <a:ahLst/>
            <a:rect l="l" t="t" r="r" b="b"/>
            <a:pathLst>
              <a:path w="2278" h="2278">
                <a:moveTo>
                  <a:pt x="1589" y="849"/>
                </a:moveTo>
                <a:lnTo>
                  <a:pt x="1634" y="862"/>
                </a:lnTo>
                <a:lnTo>
                  <a:pt x="1676" y="876"/>
                </a:lnTo>
                <a:lnTo>
                  <a:pt x="1716" y="889"/>
                </a:lnTo>
                <a:lnTo>
                  <a:pt x="1756" y="902"/>
                </a:lnTo>
                <a:lnTo>
                  <a:pt x="1793" y="914"/>
                </a:lnTo>
                <a:lnTo>
                  <a:pt x="1829" y="927"/>
                </a:lnTo>
                <a:lnTo>
                  <a:pt x="1862" y="939"/>
                </a:lnTo>
                <a:lnTo>
                  <a:pt x="1895" y="952"/>
                </a:lnTo>
                <a:lnTo>
                  <a:pt x="1925" y="964"/>
                </a:lnTo>
                <a:lnTo>
                  <a:pt x="1954" y="975"/>
                </a:lnTo>
                <a:lnTo>
                  <a:pt x="1981" y="987"/>
                </a:lnTo>
                <a:lnTo>
                  <a:pt x="2006" y="998"/>
                </a:lnTo>
                <a:lnTo>
                  <a:pt x="2031" y="1010"/>
                </a:lnTo>
                <a:lnTo>
                  <a:pt x="2052" y="1019"/>
                </a:lnTo>
                <a:lnTo>
                  <a:pt x="2073" y="1029"/>
                </a:lnTo>
                <a:lnTo>
                  <a:pt x="2092" y="1041"/>
                </a:lnTo>
                <a:lnTo>
                  <a:pt x="2109" y="1050"/>
                </a:lnTo>
                <a:lnTo>
                  <a:pt x="2127" y="1060"/>
                </a:lnTo>
                <a:lnTo>
                  <a:pt x="2142" y="1069"/>
                </a:lnTo>
                <a:lnTo>
                  <a:pt x="2157" y="1079"/>
                </a:lnTo>
                <a:lnTo>
                  <a:pt x="2171" y="1089"/>
                </a:lnTo>
                <a:lnTo>
                  <a:pt x="2184" y="1100"/>
                </a:lnTo>
                <a:lnTo>
                  <a:pt x="2196" y="1110"/>
                </a:lnTo>
                <a:lnTo>
                  <a:pt x="2207" y="1121"/>
                </a:lnTo>
                <a:lnTo>
                  <a:pt x="2219" y="1131"/>
                </a:lnTo>
                <a:lnTo>
                  <a:pt x="2228" y="1140"/>
                </a:lnTo>
                <a:lnTo>
                  <a:pt x="2236" y="1152"/>
                </a:lnTo>
                <a:lnTo>
                  <a:pt x="2244" y="1162"/>
                </a:lnTo>
                <a:lnTo>
                  <a:pt x="2252" y="1171"/>
                </a:lnTo>
                <a:lnTo>
                  <a:pt x="2257" y="1181"/>
                </a:lnTo>
                <a:lnTo>
                  <a:pt x="2261" y="1190"/>
                </a:lnTo>
                <a:lnTo>
                  <a:pt x="2265" y="1200"/>
                </a:lnTo>
                <a:lnTo>
                  <a:pt x="2269" y="1219"/>
                </a:lnTo>
                <a:lnTo>
                  <a:pt x="2273" y="1236"/>
                </a:lnTo>
                <a:lnTo>
                  <a:pt x="2276" y="1254"/>
                </a:lnTo>
                <a:lnTo>
                  <a:pt x="2278" y="1269"/>
                </a:lnTo>
                <a:lnTo>
                  <a:pt x="2278" y="1282"/>
                </a:lnTo>
                <a:lnTo>
                  <a:pt x="2278" y="1296"/>
                </a:lnTo>
                <a:lnTo>
                  <a:pt x="2278" y="1309"/>
                </a:lnTo>
                <a:lnTo>
                  <a:pt x="2276" y="1321"/>
                </a:lnTo>
                <a:lnTo>
                  <a:pt x="2271" y="1332"/>
                </a:lnTo>
                <a:lnTo>
                  <a:pt x="2267" y="1340"/>
                </a:lnTo>
                <a:lnTo>
                  <a:pt x="2261" y="1348"/>
                </a:lnTo>
                <a:lnTo>
                  <a:pt x="2253" y="1353"/>
                </a:lnTo>
                <a:lnTo>
                  <a:pt x="2246" y="1357"/>
                </a:lnTo>
                <a:lnTo>
                  <a:pt x="2238" y="1359"/>
                </a:lnTo>
                <a:lnTo>
                  <a:pt x="2228" y="1361"/>
                </a:lnTo>
                <a:lnTo>
                  <a:pt x="2217" y="1361"/>
                </a:lnTo>
                <a:lnTo>
                  <a:pt x="2211" y="1361"/>
                </a:lnTo>
                <a:lnTo>
                  <a:pt x="2205" y="1359"/>
                </a:lnTo>
                <a:lnTo>
                  <a:pt x="2198" y="1357"/>
                </a:lnTo>
                <a:lnTo>
                  <a:pt x="2188" y="1352"/>
                </a:lnTo>
                <a:lnTo>
                  <a:pt x="2179" y="1348"/>
                </a:lnTo>
                <a:lnTo>
                  <a:pt x="2167" y="1340"/>
                </a:lnTo>
                <a:lnTo>
                  <a:pt x="2156" y="1332"/>
                </a:lnTo>
                <a:lnTo>
                  <a:pt x="2144" y="1325"/>
                </a:lnTo>
                <a:lnTo>
                  <a:pt x="2129" y="1315"/>
                </a:lnTo>
                <a:lnTo>
                  <a:pt x="2115" y="1304"/>
                </a:lnTo>
                <a:lnTo>
                  <a:pt x="2100" y="1290"/>
                </a:lnTo>
                <a:lnTo>
                  <a:pt x="2083" y="1277"/>
                </a:lnTo>
                <a:lnTo>
                  <a:pt x="2063" y="1263"/>
                </a:lnTo>
                <a:lnTo>
                  <a:pt x="2046" y="1246"/>
                </a:lnTo>
                <a:lnTo>
                  <a:pt x="2025" y="1229"/>
                </a:lnTo>
                <a:lnTo>
                  <a:pt x="2004" y="1211"/>
                </a:lnTo>
                <a:lnTo>
                  <a:pt x="1958" y="1173"/>
                </a:lnTo>
                <a:lnTo>
                  <a:pt x="1908" y="1135"/>
                </a:lnTo>
                <a:lnTo>
                  <a:pt x="1858" y="1098"/>
                </a:lnTo>
                <a:lnTo>
                  <a:pt x="1808" y="1060"/>
                </a:lnTo>
                <a:lnTo>
                  <a:pt x="1754" y="1023"/>
                </a:lnTo>
                <a:lnTo>
                  <a:pt x="1701" y="985"/>
                </a:lnTo>
                <a:lnTo>
                  <a:pt x="1645" y="947"/>
                </a:lnTo>
                <a:lnTo>
                  <a:pt x="1589" y="908"/>
                </a:lnTo>
                <a:lnTo>
                  <a:pt x="1589" y="849"/>
                </a:lnTo>
                <a:close/>
                <a:moveTo>
                  <a:pt x="1482" y="94"/>
                </a:moveTo>
                <a:lnTo>
                  <a:pt x="1476" y="83"/>
                </a:lnTo>
                <a:lnTo>
                  <a:pt x="1470" y="73"/>
                </a:lnTo>
                <a:lnTo>
                  <a:pt x="1465" y="64"/>
                </a:lnTo>
                <a:lnTo>
                  <a:pt x="1461" y="56"/>
                </a:lnTo>
                <a:lnTo>
                  <a:pt x="1459" y="46"/>
                </a:lnTo>
                <a:lnTo>
                  <a:pt x="1459" y="39"/>
                </a:lnTo>
                <a:lnTo>
                  <a:pt x="1461" y="31"/>
                </a:lnTo>
                <a:lnTo>
                  <a:pt x="1463" y="23"/>
                </a:lnTo>
                <a:lnTo>
                  <a:pt x="1463" y="18"/>
                </a:lnTo>
                <a:lnTo>
                  <a:pt x="1467" y="10"/>
                </a:lnTo>
                <a:lnTo>
                  <a:pt x="1470" y="6"/>
                </a:lnTo>
                <a:lnTo>
                  <a:pt x="1476" y="2"/>
                </a:lnTo>
                <a:lnTo>
                  <a:pt x="1484" y="0"/>
                </a:lnTo>
                <a:lnTo>
                  <a:pt x="1492" y="0"/>
                </a:lnTo>
                <a:lnTo>
                  <a:pt x="1501" y="0"/>
                </a:lnTo>
                <a:lnTo>
                  <a:pt x="1511" y="4"/>
                </a:lnTo>
                <a:lnTo>
                  <a:pt x="1522" y="8"/>
                </a:lnTo>
                <a:lnTo>
                  <a:pt x="1534" y="12"/>
                </a:lnTo>
                <a:lnTo>
                  <a:pt x="1547" y="16"/>
                </a:lnTo>
                <a:lnTo>
                  <a:pt x="1563" y="22"/>
                </a:lnTo>
                <a:lnTo>
                  <a:pt x="1578" y="27"/>
                </a:lnTo>
                <a:lnTo>
                  <a:pt x="1593" y="35"/>
                </a:lnTo>
                <a:lnTo>
                  <a:pt x="1609" y="45"/>
                </a:lnTo>
                <a:lnTo>
                  <a:pt x="1618" y="48"/>
                </a:lnTo>
                <a:lnTo>
                  <a:pt x="1628" y="54"/>
                </a:lnTo>
                <a:lnTo>
                  <a:pt x="1635" y="60"/>
                </a:lnTo>
                <a:lnTo>
                  <a:pt x="1643" y="66"/>
                </a:lnTo>
                <a:lnTo>
                  <a:pt x="1651" y="71"/>
                </a:lnTo>
                <a:lnTo>
                  <a:pt x="1659" y="77"/>
                </a:lnTo>
                <a:lnTo>
                  <a:pt x="1664" y="83"/>
                </a:lnTo>
                <a:lnTo>
                  <a:pt x="1670" y="87"/>
                </a:lnTo>
                <a:lnTo>
                  <a:pt x="1674" y="93"/>
                </a:lnTo>
                <a:lnTo>
                  <a:pt x="1680" y="96"/>
                </a:lnTo>
                <a:lnTo>
                  <a:pt x="1683" y="102"/>
                </a:lnTo>
                <a:lnTo>
                  <a:pt x="1685" y="106"/>
                </a:lnTo>
                <a:lnTo>
                  <a:pt x="1689" y="110"/>
                </a:lnTo>
                <a:lnTo>
                  <a:pt x="1691" y="114"/>
                </a:lnTo>
                <a:lnTo>
                  <a:pt x="1693" y="118"/>
                </a:lnTo>
                <a:lnTo>
                  <a:pt x="1695" y="119"/>
                </a:lnTo>
                <a:lnTo>
                  <a:pt x="1695" y="123"/>
                </a:lnTo>
                <a:lnTo>
                  <a:pt x="1695" y="125"/>
                </a:lnTo>
                <a:lnTo>
                  <a:pt x="1695" y="141"/>
                </a:lnTo>
                <a:lnTo>
                  <a:pt x="1693" y="154"/>
                </a:lnTo>
                <a:lnTo>
                  <a:pt x="1693" y="162"/>
                </a:lnTo>
                <a:lnTo>
                  <a:pt x="1691" y="169"/>
                </a:lnTo>
                <a:lnTo>
                  <a:pt x="1689" y="177"/>
                </a:lnTo>
                <a:lnTo>
                  <a:pt x="1685" y="185"/>
                </a:lnTo>
                <a:lnTo>
                  <a:pt x="1682" y="194"/>
                </a:lnTo>
                <a:lnTo>
                  <a:pt x="1680" y="204"/>
                </a:lnTo>
                <a:lnTo>
                  <a:pt x="1678" y="215"/>
                </a:lnTo>
                <a:lnTo>
                  <a:pt x="1676" y="229"/>
                </a:lnTo>
                <a:lnTo>
                  <a:pt x="1674" y="244"/>
                </a:lnTo>
                <a:lnTo>
                  <a:pt x="1672" y="260"/>
                </a:lnTo>
                <a:lnTo>
                  <a:pt x="1670" y="277"/>
                </a:lnTo>
                <a:lnTo>
                  <a:pt x="1666" y="296"/>
                </a:lnTo>
                <a:lnTo>
                  <a:pt x="1664" y="306"/>
                </a:lnTo>
                <a:lnTo>
                  <a:pt x="1662" y="319"/>
                </a:lnTo>
                <a:lnTo>
                  <a:pt x="1660" y="332"/>
                </a:lnTo>
                <a:lnTo>
                  <a:pt x="1659" y="348"/>
                </a:lnTo>
                <a:lnTo>
                  <a:pt x="1657" y="365"/>
                </a:lnTo>
                <a:lnTo>
                  <a:pt x="1655" y="384"/>
                </a:lnTo>
                <a:lnTo>
                  <a:pt x="1653" y="405"/>
                </a:lnTo>
                <a:lnTo>
                  <a:pt x="1651" y="428"/>
                </a:lnTo>
                <a:lnTo>
                  <a:pt x="1649" y="453"/>
                </a:lnTo>
                <a:lnTo>
                  <a:pt x="1647" y="478"/>
                </a:lnTo>
                <a:lnTo>
                  <a:pt x="1645" y="507"/>
                </a:lnTo>
                <a:lnTo>
                  <a:pt x="1643" y="536"/>
                </a:lnTo>
                <a:lnTo>
                  <a:pt x="1643" y="567"/>
                </a:lnTo>
                <a:lnTo>
                  <a:pt x="1641" y="599"/>
                </a:lnTo>
                <a:lnTo>
                  <a:pt x="1639" y="632"/>
                </a:lnTo>
                <a:lnTo>
                  <a:pt x="1637" y="668"/>
                </a:lnTo>
                <a:lnTo>
                  <a:pt x="1635" y="705"/>
                </a:lnTo>
                <a:lnTo>
                  <a:pt x="1634" y="743"/>
                </a:lnTo>
                <a:lnTo>
                  <a:pt x="1634" y="783"/>
                </a:lnTo>
                <a:lnTo>
                  <a:pt x="1634" y="824"/>
                </a:lnTo>
                <a:lnTo>
                  <a:pt x="1634" y="868"/>
                </a:lnTo>
                <a:lnTo>
                  <a:pt x="1634" y="912"/>
                </a:lnTo>
                <a:lnTo>
                  <a:pt x="1634" y="958"/>
                </a:lnTo>
                <a:lnTo>
                  <a:pt x="1635" y="1008"/>
                </a:lnTo>
                <a:lnTo>
                  <a:pt x="1635" y="1058"/>
                </a:lnTo>
                <a:lnTo>
                  <a:pt x="1637" y="1108"/>
                </a:lnTo>
                <a:lnTo>
                  <a:pt x="1637" y="1162"/>
                </a:lnTo>
                <a:lnTo>
                  <a:pt x="1639" y="1217"/>
                </a:lnTo>
                <a:lnTo>
                  <a:pt x="1641" y="1273"/>
                </a:lnTo>
                <a:lnTo>
                  <a:pt x="1643" y="1330"/>
                </a:lnTo>
                <a:lnTo>
                  <a:pt x="1645" y="1390"/>
                </a:lnTo>
                <a:lnTo>
                  <a:pt x="1647" y="1451"/>
                </a:lnTo>
                <a:lnTo>
                  <a:pt x="1647" y="1482"/>
                </a:lnTo>
                <a:lnTo>
                  <a:pt x="1649" y="1513"/>
                </a:lnTo>
                <a:lnTo>
                  <a:pt x="1649" y="1543"/>
                </a:lnTo>
                <a:lnTo>
                  <a:pt x="1649" y="1572"/>
                </a:lnTo>
                <a:lnTo>
                  <a:pt x="1651" y="1601"/>
                </a:lnTo>
                <a:lnTo>
                  <a:pt x="1651" y="1628"/>
                </a:lnTo>
                <a:lnTo>
                  <a:pt x="1651" y="1655"/>
                </a:lnTo>
                <a:lnTo>
                  <a:pt x="1651" y="1682"/>
                </a:lnTo>
                <a:lnTo>
                  <a:pt x="1653" y="1708"/>
                </a:lnTo>
                <a:lnTo>
                  <a:pt x="1653" y="1733"/>
                </a:lnTo>
                <a:lnTo>
                  <a:pt x="1653" y="1758"/>
                </a:lnTo>
                <a:lnTo>
                  <a:pt x="1653" y="1781"/>
                </a:lnTo>
                <a:lnTo>
                  <a:pt x="1653" y="1804"/>
                </a:lnTo>
                <a:lnTo>
                  <a:pt x="1653" y="1827"/>
                </a:lnTo>
                <a:lnTo>
                  <a:pt x="1653" y="1850"/>
                </a:lnTo>
                <a:lnTo>
                  <a:pt x="1653" y="1872"/>
                </a:lnTo>
                <a:lnTo>
                  <a:pt x="1653" y="1893"/>
                </a:lnTo>
                <a:lnTo>
                  <a:pt x="1651" y="1914"/>
                </a:lnTo>
                <a:lnTo>
                  <a:pt x="1651" y="1933"/>
                </a:lnTo>
                <a:lnTo>
                  <a:pt x="1651" y="1952"/>
                </a:lnTo>
                <a:lnTo>
                  <a:pt x="1651" y="1969"/>
                </a:lnTo>
                <a:lnTo>
                  <a:pt x="1649" y="1987"/>
                </a:lnTo>
                <a:lnTo>
                  <a:pt x="1649" y="2004"/>
                </a:lnTo>
                <a:lnTo>
                  <a:pt x="1647" y="2021"/>
                </a:lnTo>
                <a:lnTo>
                  <a:pt x="1647" y="2037"/>
                </a:lnTo>
                <a:lnTo>
                  <a:pt x="1645" y="2050"/>
                </a:lnTo>
                <a:lnTo>
                  <a:pt x="1645" y="2065"/>
                </a:lnTo>
                <a:lnTo>
                  <a:pt x="1643" y="2079"/>
                </a:lnTo>
                <a:lnTo>
                  <a:pt x="1641" y="2092"/>
                </a:lnTo>
                <a:lnTo>
                  <a:pt x="1641" y="2104"/>
                </a:lnTo>
                <a:lnTo>
                  <a:pt x="1639" y="2115"/>
                </a:lnTo>
                <a:lnTo>
                  <a:pt x="1637" y="2127"/>
                </a:lnTo>
                <a:lnTo>
                  <a:pt x="1634" y="2146"/>
                </a:lnTo>
                <a:lnTo>
                  <a:pt x="1630" y="2165"/>
                </a:lnTo>
                <a:lnTo>
                  <a:pt x="1626" y="2182"/>
                </a:lnTo>
                <a:lnTo>
                  <a:pt x="1622" y="2198"/>
                </a:lnTo>
                <a:lnTo>
                  <a:pt x="1618" y="2211"/>
                </a:lnTo>
                <a:lnTo>
                  <a:pt x="1614" y="2225"/>
                </a:lnTo>
                <a:lnTo>
                  <a:pt x="1612" y="2236"/>
                </a:lnTo>
                <a:lnTo>
                  <a:pt x="1609" y="2246"/>
                </a:lnTo>
                <a:lnTo>
                  <a:pt x="1605" y="2255"/>
                </a:lnTo>
                <a:lnTo>
                  <a:pt x="1601" y="2263"/>
                </a:lnTo>
                <a:lnTo>
                  <a:pt x="1597" y="2269"/>
                </a:lnTo>
                <a:lnTo>
                  <a:pt x="1593" y="2273"/>
                </a:lnTo>
                <a:lnTo>
                  <a:pt x="1589" y="2277"/>
                </a:lnTo>
                <a:lnTo>
                  <a:pt x="1586" y="2278"/>
                </a:lnTo>
                <a:lnTo>
                  <a:pt x="1582" y="2278"/>
                </a:lnTo>
                <a:lnTo>
                  <a:pt x="1580" y="2277"/>
                </a:lnTo>
                <a:lnTo>
                  <a:pt x="1572" y="2273"/>
                </a:lnTo>
                <a:lnTo>
                  <a:pt x="1564" y="2265"/>
                </a:lnTo>
                <a:lnTo>
                  <a:pt x="1557" y="2257"/>
                </a:lnTo>
                <a:lnTo>
                  <a:pt x="1549" y="2246"/>
                </a:lnTo>
                <a:lnTo>
                  <a:pt x="1543" y="2234"/>
                </a:lnTo>
                <a:lnTo>
                  <a:pt x="1536" y="2221"/>
                </a:lnTo>
                <a:lnTo>
                  <a:pt x="1528" y="2204"/>
                </a:lnTo>
                <a:lnTo>
                  <a:pt x="1520" y="2186"/>
                </a:lnTo>
                <a:lnTo>
                  <a:pt x="1515" y="2169"/>
                </a:lnTo>
                <a:lnTo>
                  <a:pt x="1509" y="2152"/>
                </a:lnTo>
                <a:lnTo>
                  <a:pt x="1503" y="2136"/>
                </a:lnTo>
                <a:lnTo>
                  <a:pt x="1499" y="2123"/>
                </a:lnTo>
                <a:lnTo>
                  <a:pt x="1495" y="2111"/>
                </a:lnTo>
                <a:lnTo>
                  <a:pt x="1493" y="2098"/>
                </a:lnTo>
                <a:lnTo>
                  <a:pt x="1492" y="2087"/>
                </a:lnTo>
                <a:lnTo>
                  <a:pt x="1492" y="2075"/>
                </a:lnTo>
                <a:lnTo>
                  <a:pt x="1492" y="2071"/>
                </a:lnTo>
                <a:lnTo>
                  <a:pt x="1492" y="2067"/>
                </a:lnTo>
                <a:lnTo>
                  <a:pt x="1493" y="2062"/>
                </a:lnTo>
                <a:lnTo>
                  <a:pt x="1493" y="2056"/>
                </a:lnTo>
                <a:lnTo>
                  <a:pt x="1493" y="2048"/>
                </a:lnTo>
                <a:lnTo>
                  <a:pt x="1495" y="2040"/>
                </a:lnTo>
                <a:lnTo>
                  <a:pt x="1497" y="2033"/>
                </a:lnTo>
                <a:lnTo>
                  <a:pt x="1497" y="2023"/>
                </a:lnTo>
                <a:lnTo>
                  <a:pt x="1499" y="2016"/>
                </a:lnTo>
                <a:lnTo>
                  <a:pt x="1501" y="2004"/>
                </a:lnTo>
                <a:lnTo>
                  <a:pt x="1503" y="1994"/>
                </a:lnTo>
                <a:lnTo>
                  <a:pt x="1505" y="1983"/>
                </a:lnTo>
                <a:lnTo>
                  <a:pt x="1505" y="1971"/>
                </a:lnTo>
                <a:lnTo>
                  <a:pt x="1507" y="1960"/>
                </a:lnTo>
                <a:lnTo>
                  <a:pt x="1509" y="1948"/>
                </a:lnTo>
                <a:lnTo>
                  <a:pt x="1511" y="1935"/>
                </a:lnTo>
                <a:lnTo>
                  <a:pt x="1513" y="1927"/>
                </a:lnTo>
                <a:lnTo>
                  <a:pt x="1513" y="1920"/>
                </a:lnTo>
                <a:lnTo>
                  <a:pt x="1515" y="1910"/>
                </a:lnTo>
                <a:lnTo>
                  <a:pt x="1515" y="1898"/>
                </a:lnTo>
                <a:lnTo>
                  <a:pt x="1515" y="1887"/>
                </a:lnTo>
                <a:lnTo>
                  <a:pt x="1517" y="1875"/>
                </a:lnTo>
                <a:lnTo>
                  <a:pt x="1517" y="1860"/>
                </a:lnTo>
                <a:lnTo>
                  <a:pt x="1518" y="1847"/>
                </a:lnTo>
                <a:lnTo>
                  <a:pt x="1518" y="1829"/>
                </a:lnTo>
                <a:lnTo>
                  <a:pt x="1520" y="1812"/>
                </a:lnTo>
                <a:lnTo>
                  <a:pt x="1520" y="1793"/>
                </a:lnTo>
                <a:lnTo>
                  <a:pt x="1522" y="1774"/>
                </a:lnTo>
                <a:lnTo>
                  <a:pt x="1522" y="1753"/>
                </a:lnTo>
                <a:lnTo>
                  <a:pt x="1522" y="1732"/>
                </a:lnTo>
                <a:lnTo>
                  <a:pt x="1524" y="1708"/>
                </a:lnTo>
                <a:lnTo>
                  <a:pt x="1524" y="1684"/>
                </a:lnTo>
                <a:lnTo>
                  <a:pt x="1524" y="1659"/>
                </a:lnTo>
                <a:lnTo>
                  <a:pt x="1526" y="1632"/>
                </a:lnTo>
                <a:lnTo>
                  <a:pt x="1526" y="1603"/>
                </a:lnTo>
                <a:lnTo>
                  <a:pt x="1526" y="1574"/>
                </a:lnTo>
                <a:lnTo>
                  <a:pt x="1528" y="1543"/>
                </a:lnTo>
                <a:lnTo>
                  <a:pt x="1528" y="1513"/>
                </a:lnTo>
                <a:lnTo>
                  <a:pt x="1528" y="1480"/>
                </a:lnTo>
                <a:lnTo>
                  <a:pt x="1528" y="1446"/>
                </a:lnTo>
                <a:lnTo>
                  <a:pt x="1530" y="1411"/>
                </a:lnTo>
                <a:lnTo>
                  <a:pt x="1530" y="1375"/>
                </a:lnTo>
                <a:lnTo>
                  <a:pt x="1530" y="1336"/>
                </a:lnTo>
                <a:lnTo>
                  <a:pt x="1530" y="1298"/>
                </a:lnTo>
                <a:lnTo>
                  <a:pt x="1530" y="1257"/>
                </a:lnTo>
                <a:lnTo>
                  <a:pt x="1530" y="1217"/>
                </a:lnTo>
                <a:lnTo>
                  <a:pt x="1530" y="1173"/>
                </a:lnTo>
                <a:lnTo>
                  <a:pt x="1530" y="1131"/>
                </a:lnTo>
                <a:lnTo>
                  <a:pt x="1530" y="1087"/>
                </a:lnTo>
                <a:lnTo>
                  <a:pt x="1530" y="1044"/>
                </a:lnTo>
                <a:lnTo>
                  <a:pt x="1530" y="1002"/>
                </a:lnTo>
                <a:lnTo>
                  <a:pt x="1530" y="962"/>
                </a:lnTo>
                <a:lnTo>
                  <a:pt x="1530" y="922"/>
                </a:lnTo>
                <a:lnTo>
                  <a:pt x="1530" y="885"/>
                </a:lnTo>
                <a:lnTo>
                  <a:pt x="1530" y="847"/>
                </a:lnTo>
                <a:lnTo>
                  <a:pt x="1530" y="812"/>
                </a:lnTo>
                <a:lnTo>
                  <a:pt x="1530" y="776"/>
                </a:lnTo>
                <a:lnTo>
                  <a:pt x="1530" y="743"/>
                </a:lnTo>
                <a:lnTo>
                  <a:pt x="1530" y="711"/>
                </a:lnTo>
                <a:lnTo>
                  <a:pt x="1530" y="678"/>
                </a:lnTo>
                <a:lnTo>
                  <a:pt x="1530" y="647"/>
                </a:lnTo>
                <a:lnTo>
                  <a:pt x="1530" y="618"/>
                </a:lnTo>
                <a:lnTo>
                  <a:pt x="1530" y="590"/>
                </a:lnTo>
                <a:lnTo>
                  <a:pt x="1530" y="563"/>
                </a:lnTo>
                <a:lnTo>
                  <a:pt x="1528" y="538"/>
                </a:lnTo>
                <a:lnTo>
                  <a:pt x="1528" y="513"/>
                </a:lnTo>
                <a:lnTo>
                  <a:pt x="1528" y="488"/>
                </a:lnTo>
                <a:lnTo>
                  <a:pt x="1528" y="465"/>
                </a:lnTo>
                <a:lnTo>
                  <a:pt x="1528" y="444"/>
                </a:lnTo>
                <a:lnTo>
                  <a:pt x="1528" y="423"/>
                </a:lnTo>
                <a:lnTo>
                  <a:pt x="1526" y="403"/>
                </a:lnTo>
                <a:lnTo>
                  <a:pt x="1526" y="384"/>
                </a:lnTo>
                <a:lnTo>
                  <a:pt x="1526" y="367"/>
                </a:lnTo>
                <a:lnTo>
                  <a:pt x="1526" y="352"/>
                </a:lnTo>
                <a:lnTo>
                  <a:pt x="1524" y="336"/>
                </a:lnTo>
                <a:lnTo>
                  <a:pt x="1524" y="321"/>
                </a:lnTo>
                <a:lnTo>
                  <a:pt x="1524" y="307"/>
                </a:lnTo>
                <a:lnTo>
                  <a:pt x="1522" y="296"/>
                </a:lnTo>
                <a:lnTo>
                  <a:pt x="1522" y="284"/>
                </a:lnTo>
                <a:lnTo>
                  <a:pt x="1520" y="275"/>
                </a:lnTo>
                <a:lnTo>
                  <a:pt x="1518" y="258"/>
                </a:lnTo>
                <a:lnTo>
                  <a:pt x="1517" y="240"/>
                </a:lnTo>
                <a:lnTo>
                  <a:pt x="1515" y="223"/>
                </a:lnTo>
                <a:lnTo>
                  <a:pt x="1513" y="208"/>
                </a:lnTo>
                <a:lnTo>
                  <a:pt x="1511" y="192"/>
                </a:lnTo>
                <a:lnTo>
                  <a:pt x="1509" y="179"/>
                </a:lnTo>
                <a:lnTo>
                  <a:pt x="1507" y="167"/>
                </a:lnTo>
                <a:lnTo>
                  <a:pt x="1505" y="154"/>
                </a:lnTo>
                <a:lnTo>
                  <a:pt x="1503" y="144"/>
                </a:lnTo>
                <a:lnTo>
                  <a:pt x="1501" y="135"/>
                </a:lnTo>
                <a:lnTo>
                  <a:pt x="1497" y="125"/>
                </a:lnTo>
                <a:lnTo>
                  <a:pt x="1495" y="118"/>
                </a:lnTo>
                <a:lnTo>
                  <a:pt x="1492" y="110"/>
                </a:lnTo>
                <a:lnTo>
                  <a:pt x="1490" y="104"/>
                </a:lnTo>
                <a:lnTo>
                  <a:pt x="1486" y="98"/>
                </a:lnTo>
                <a:lnTo>
                  <a:pt x="1482" y="94"/>
                </a:lnTo>
                <a:close/>
                <a:moveTo>
                  <a:pt x="620" y="94"/>
                </a:moveTo>
                <a:lnTo>
                  <a:pt x="626" y="91"/>
                </a:lnTo>
                <a:lnTo>
                  <a:pt x="632" y="87"/>
                </a:lnTo>
                <a:lnTo>
                  <a:pt x="639" y="83"/>
                </a:lnTo>
                <a:lnTo>
                  <a:pt x="649" y="81"/>
                </a:lnTo>
                <a:lnTo>
                  <a:pt x="663" y="77"/>
                </a:lnTo>
                <a:lnTo>
                  <a:pt x="676" y="75"/>
                </a:lnTo>
                <a:lnTo>
                  <a:pt x="691" y="75"/>
                </a:lnTo>
                <a:lnTo>
                  <a:pt x="709" y="75"/>
                </a:lnTo>
                <a:lnTo>
                  <a:pt x="737" y="75"/>
                </a:lnTo>
                <a:lnTo>
                  <a:pt x="753" y="75"/>
                </a:lnTo>
                <a:lnTo>
                  <a:pt x="768" y="75"/>
                </a:lnTo>
                <a:lnTo>
                  <a:pt x="783" y="77"/>
                </a:lnTo>
                <a:lnTo>
                  <a:pt x="799" y="79"/>
                </a:lnTo>
                <a:lnTo>
                  <a:pt x="816" y="81"/>
                </a:lnTo>
                <a:lnTo>
                  <a:pt x="833" y="85"/>
                </a:lnTo>
                <a:lnTo>
                  <a:pt x="849" y="89"/>
                </a:lnTo>
                <a:lnTo>
                  <a:pt x="862" y="94"/>
                </a:lnTo>
                <a:lnTo>
                  <a:pt x="874" y="100"/>
                </a:lnTo>
                <a:lnTo>
                  <a:pt x="885" y="106"/>
                </a:lnTo>
                <a:lnTo>
                  <a:pt x="897" y="116"/>
                </a:lnTo>
                <a:lnTo>
                  <a:pt x="908" y="123"/>
                </a:lnTo>
                <a:lnTo>
                  <a:pt x="920" y="133"/>
                </a:lnTo>
                <a:lnTo>
                  <a:pt x="931" y="144"/>
                </a:lnTo>
                <a:lnTo>
                  <a:pt x="941" y="156"/>
                </a:lnTo>
                <a:lnTo>
                  <a:pt x="950" y="167"/>
                </a:lnTo>
                <a:lnTo>
                  <a:pt x="960" y="179"/>
                </a:lnTo>
                <a:lnTo>
                  <a:pt x="968" y="190"/>
                </a:lnTo>
                <a:lnTo>
                  <a:pt x="973" y="204"/>
                </a:lnTo>
                <a:lnTo>
                  <a:pt x="979" y="217"/>
                </a:lnTo>
                <a:lnTo>
                  <a:pt x="985" y="231"/>
                </a:lnTo>
                <a:lnTo>
                  <a:pt x="989" y="246"/>
                </a:lnTo>
                <a:lnTo>
                  <a:pt x="991" y="263"/>
                </a:lnTo>
                <a:lnTo>
                  <a:pt x="993" y="279"/>
                </a:lnTo>
                <a:lnTo>
                  <a:pt x="993" y="294"/>
                </a:lnTo>
                <a:lnTo>
                  <a:pt x="991" y="306"/>
                </a:lnTo>
                <a:lnTo>
                  <a:pt x="989" y="315"/>
                </a:lnTo>
                <a:lnTo>
                  <a:pt x="985" y="325"/>
                </a:lnTo>
                <a:lnTo>
                  <a:pt x="983" y="331"/>
                </a:lnTo>
                <a:lnTo>
                  <a:pt x="979" y="336"/>
                </a:lnTo>
                <a:lnTo>
                  <a:pt x="975" y="338"/>
                </a:lnTo>
                <a:lnTo>
                  <a:pt x="970" y="342"/>
                </a:lnTo>
                <a:lnTo>
                  <a:pt x="964" y="342"/>
                </a:lnTo>
                <a:lnTo>
                  <a:pt x="956" y="342"/>
                </a:lnTo>
                <a:lnTo>
                  <a:pt x="947" y="340"/>
                </a:lnTo>
                <a:lnTo>
                  <a:pt x="937" y="338"/>
                </a:lnTo>
                <a:lnTo>
                  <a:pt x="927" y="334"/>
                </a:lnTo>
                <a:lnTo>
                  <a:pt x="914" y="331"/>
                </a:lnTo>
                <a:lnTo>
                  <a:pt x="902" y="325"/>
                </a:lnTo>
                <a:lnTo>
                  <a:pt x="889" y="317"/>
                </a:lnTo>
                <a:lnTo>
                  <a:pt x="874" y="309"/>
                </a:lnTo>
                <a:lnTo>
                  <a:pt x="858" y="302"/>
                </a:lnTo>
                <a:lnTo>
                  <a:pt x="841" y="290"/>
                </a:lnTo>
                <a:lnTo>
                  <a:pt x="824" y="281"/>
                </a:lnTo>
                <a:lnTo>
                  <a:pt x="805" y="267"/>
                </a:lnTo>
                <a:lnTo>
                  <a:pt x="785" y="256"/>
                </a:lnTo>
                <a:lnTo>
                  <a:pt x="764" y="242"/>
                </a:lnTo>
                <a:lnTo>
                  <a:pt x="745" y="229"/>
                </a:lnTo>
                <a:lnTo>
                  <a:pt x="726" y="217"/>
                </a:lnTo>
                <a:lnTo>
                  <a:pt x="709" y="206"/>
                </a:lnTo>
                <a:lnTo>
                  <a:pt x="693" y="196"/>
                </a:lnTo>
                <a:lnTo>
                  <a:pt x="680" y="185"/>
                </a:lnTo>
                <a:lnTo>
                  <a:pt x="666" y="175"/>
                </a:lnTo>
                <a:lnTo>
                  <a:pt x="655" y="167"/>
                </a:lnTo>
                <a:lnTo>
                  <a:pt x="645" y="160"/>
                </a:lnTo>
                <a:lnTo>
                  <a:pt x="636" y="152"/>
                </a:lnTo>
                <a:lnTo>
                  <a:pt x="628" y="144"/>
                </a:lnTo>
                <a:lnTo>
                  <a:pt x="622" y="139"/>
                </a:lnTo>
                <a:lnTo>
                  <a:pt x="616" y="135"/>
                </a:lnTo>
                <a:lnTo>
                  <a:pt x="615" y="131"/>
                </a:lnTo>
                <a:lnTo>
                  <a:pt x="613" y="127"/>
                </a:lnTo>
                <a:lnTo>
                  <a:pt x="611" y="125"/>
                </a:lnTo>
                <a:lnTo>
                  <a:pt x="611" y="118"/>
                </a:lnTo>
                <a:lnTo>
                  <a:pt x="613" y="110"/>
                </a:lnTo>
                <a:lnTo>
                  <a:pt x="613" y="106"/>
                </a:lnTo>
                <a:lnTo>
                  <a:pt x="615" y="102"/>
                </a:lnTo>
                <a:lnTo>
                  <a:pt x="618" y="98"/>
                </a:lnTo>
                <a:lnTo>
                  <a:pt x="620" y="94"/>
                </a:lnTo>
                <a:close/>
                <a:moveTo>
                  <a:pt x="766" y="607"/>
                </a:moveTo>
                <a:lnTo>
                  <a:pt x="772" y="601"/>
                </a:lnTo>
                <a:lnTo>
                  <a:pt x="778" y="597"/>
                </a:lnTo>
                <a:lnTo>
                  <a:pt x="787" y="588"/>
                </a:lnTo>
                <a:lnTo>
                  <a:pt x="797" y="582"/>
                </a:lnTo>
                <a:lnTo>
                  <a:pt x="806" y="576"/>
                </a:lnTo>
                <a:lnTo>
                  <a:pt x="816" y="572"/>
                </a:lnTo>
                <a:lnTo>
                  <a:pt x="824" y="569"/>
                </a:lnTo>
                <a:lnTo>
                  <a:pt x="829" y="569"/>
                </a:lnTo>
                <a:lnTo>
                  <a:pt x="833" y="567"/>
                </a:lnTo>
                <a:lnTo>
                  <a:pt x="835" y="567"/>
                </a:lnTo>
                <a:lnTo>
                  <a:pt x="839" y="569"/>
                </a:lnTo>
                <a:lnTo>
                  <a:pt x="843" y="569"/>
                </a:lnTo>
                <a:lnTo>
                  <a:pt x="847" y="569"/>
                </a:lnTo>
                <a:lnTo>
                  <a:pt x="851" y="570"/>
                </a:lnTo>
                <a:lnTo>
                  <a:pt x="856" y="572"/>
                </a:lnTo>
                <a:lnTo>
                  <a:pt x="862" y="574"/>
                </a:lnTo>
                <a:lnTo>
                  <a:pt x="868" y="576"/>
                </a:lnTo>
                <a:lnTo>
                  <a:pt x="881" y="582"/>
                </a:lnTo>
                <a:lnTo>
                  <a:pt x="897" y="588"/>
                </a:lnTo>
                <a:lnTo>
                  <a:pt x="914" y="597"/>
                </a:lnTo>
                <a:lnTo>
                  <a:pt x="922" y="601"/>
                </a:lnTo>
                <a:lnTo>
                  <a:pt x="931" y="607"/>
                </a:lnTo>
                <a:lnTo>
                  <a:pt x="939" y="613"/>
                </a:lnTo>
                <a:lnTo>
                  <a:pt x="947" y="618"/>
                </a:lnTo>
                <a:lnTo>
                  <a:pt x="954" y="624"/>
                </a:lnTo>
                <a:lnTo>
                  <a:pt x="962" y="630"/>
                </a:lnTo>
                <a:lnTo>
                  <a:pt x="968" y="636"/>
                </a:lnTo>
                <a:lnTo>
                  <a:pt x="973" y="640"/>
                </a:lnTo>
                <a:lnTo>
                  <a:pt x="977" y="645"/>
                </a:lnTo>
                <a:lnTo>
                  <a:pt x="983" y="651"/>
                </a:lnTo>
                <a:lnTo>
                  <a:pt x="987" y="655"/>
                </a:lnTo>
                <a:lnTo>
                  <a:pt x="989" y="659"/>
                </a:lnTo>
                <a:lnTo>
                  <a:pt x="993" y="663"/>
                </a:lnTo>
                <a:lnTo>
                  <a:pt x="995" y="666"/>
                </a:lnTo>
                <a:lnTo>
                  <a:pt x="996" y="670"/>
                </a:lnTo>
                <a:lnTo>
                  <a:pt x="996" y="672"/>
                </a:lnTo>
                <a:lnTo>
                  <a:pt x="998" y="676"/>
                </a:lnTo>
                <a:lnTo>
                  <a:pt x="998" y="678"/>
                </a:lnTo>
                <a:lnTo>
                  <a:pt x="996" y="682"/>
                </a:lnTo>
                <a:lnTo>
                  <a:pt x="995" y="687"/>
                </a:lnTo>
                <a:lnTo>
                  <a:pt x="991" y="693"/>
                </a:lnTo>
                <a:lnTo>
                  <a:pt x="985" y="701"/>
                </a:lnTo>
                <a:lnTo>
                  <a:pt x="977" y="709"/>
                </a:lnTo>
                <a:lnTo>
                  <a:pt x="970" y="718"/>
                </a:lnTo>
                <a:lnTo>
                  <a:pt x="960" y="728"/>
                </a:lnTo>
                <a:lnTo>
                  <a:pt x="950" y="737"/>
                </a:lnTo>
                <a:lnTo>
                  <a:pt x="935" y="751"/>
                </a:lnTo>
                <a:lnTo>
                  <a:pt x="922" y="762"/>
                </a:lnTo>
                <a:lnTo>
                  <a:pt x="906" y="776"/>
                </a:lnTo>
                <a:lnTo>
                  <a:pt x="893" y="791"/>
                </a:lnTo>
                <a:lnTo>
                  <a:pt x="879" y="806"/>
                </a:lnTo>
                <a:lnTo>
                  <a:pt x="866" y="824"/>
                </a:lnTo>
                <a:lnTo>
                  <a:pt x="854" y="841"/>
                </a:lnTo>
                <a:lnTo>
                  <a:pt x="843" y="858"/>
                </a:lnTo>
                <a:lnTo>
                  <a:pt x="837" y="868"/>
                </a:lnTo>
                <a:lnTo>
                  <a:pt x="831" y="877"/>
                </a:lnTo>
                <a:lnTo>
                  <a:pt x="818" y="899"/>
                </a:lnTo>
                <a:lnTo>
                  <a:pt x="803" y="920"/>
                </a:lnTo>
                <a:lnTo>
                  <a:pt x="787" y="945"/>
                </a:lnTo>
                <a:lnTo>
                  <a:pt x="778" y="956"/>
                </a:lnTo>
                <a:lnTo>
                  <a:pt x="768" y="970"/>
                </a:lnTo>
                <a:lnTo>
                  <a:pt x="758" y="983"/>
                </a:lnTo>
                <a:lnTo>
                  <a:pt x="749" y="996"/>
                </a:lnTo>
                <a:lnTo>
                  <a:pt x="739" y="1012"/>
                </a:lnTo>
                <a:lnTo>
                  <a:pt x="730" y="1027"/>
                </a:lnTo>
                <a:lnTo>
                  <a:pt x="718" y="1043"/>
                </a:lnTo>
                <a:lnTo>
                  <a:pt x="709" y="1060"/>
                </a:lnTo>
                <a:lnTo>
                  <a:pt x="695" y="1077"/>
                </a:lnTo>
                <a:lnTo>
                  <a:pt x="682" y="1094"/>
                </a:lnTo>
                <a:lnTo>
                  <a:pt x="668" y="1114"/>
                </a:lnTo>
                <a:lnTo>
                  <a:pt x="653" y="1131"/>
                </a:lnTo>
                <a:lnTo>
                  <a:pt x="639" y="1150"/>
                </a:lnTo>
                <a:lnTo>
                  <a:pt x="624" y="1169"/>
                </a:lnTo>
                <a:lnTo>
                  <a:pt x="607" y="1188"/>
                </a:lnTo>
                <a:lnTo>
                  <a:pt x="592" y="1209"/>
                </a:lnTo>
                <a:lnTo>
                  <a:pt x="574" y="1231"/>
                </a:lnTo>
                <a:lnTo>
                  <a:pt x="555" y="1250"/>
                </a:lnTo>
                <a:lnTo>
                  <a:pt x="538" y="1271"/>
                </a:lnTo>
                <a:lnTo>
                  <a:pt x="519" y="1292"/>
                </a:lnTo>
                <a:lnTo>
                  <a:pt x="499" y="1315"/>
                </a:lnTo>
                <a:lnTo>
                  <a:pt x="478" y="1336"/>
                </a:lnTo>
                <a:lnTo>
                  <a:pt x="459" y="1359"/>
                </a:lnTo>
                <a:lnTo>
                  <a:pt x="438" y="1382"/>
                </a:lnTo>
                <a:lnTo>
                  <a:pt x="415" y="1405"/>
                </a:lnTo>
                <a:lnTo>
                  <a:pt x="392" y="1428"/>
                </a:lnTo>
                <a:lnTo>
                  <a:pt x="369" y="1451"/>
                </a:lnTo>
                <a:lnTo>
                  <a:pt x="348" y="1470"/>
                </a:lnTo>
                <a:lnTo>
                  <a:pt x="329" y="1490"/>
                </a:lnTo>
                <a:lnTo>
                  <a:pt x="307" y="1509"/>
                </a:lnTo>
                <a:lnTo>
                  <a:pt x="288" y="1526"/>
                </a:lnTo>
                <a:lnTo>
                  <a:pt x="269" y="1542"/>
                </a:lnTo>
                <a:lnTo>
                  <a:pt x="252" y="1557"/>
                </a:lnTo>
                <a:lnTo>
                  <a:pt x="233" y="1570"/>
                </a:lnTo>
                <a:lnTo>
                  <a:pt x="215" y="1584"/>
                </a:lnTo>
                <a:lnTo>
                  <a:pt x="198" y="1595"/>
                </a:lnTo>
                <a:lnTo>
                  <a:pt x="183" y="1607"/>
                </a:lnTo>
                <a:lnTo>
                  <a:pt x="167" y="1616"/>
                </a:lnTo>
                <a:lnTo>
                  <a:pt x="152" y="1626"/>
                </a:lnTo>
                <a:lnTo>
                  <a:pt x="137" y="1634"/>
                </a:lnTo>
                <a:lnTo>
                  <a:pt x="121" y="1643"/>
                </a:lnTo>
                <a:lnTo>
                  <a:pt x="106" y="1651"/>
                </a:lnTo>
                <a:lnTo>
                  <a:pt x="93" y="1659"/>
                </a:lnTo>
                <a:lnTo>
                  <a:pt x="81" y="1666"/>
                </a:lnTo>
                <a:lnTo>
                  <a:pt x="70" y="1672"/>
                </a:lnTo>
                <a:lnTo>
                  <a:pt x="58" y="1678"/>
                </a:lnTo>
                <a:lnTo>
                  <a:pt x="48" y="1682"/>
                </a:lnTo>
                <a:lnTo>
                  <a:pt x="41" y="1685"/>
                </a:lnTo>
                <a:lnTo>
                  <a:pt x="33" y="1689"/>
                </a:lnTo>
                <a:lnTo>
                  <a:pt x="25" y="1693"/>
                </a:lnTo>
                <a:lnTo>
                  <a:pt x="20" y="1695"/>
                </a:lnTo>
                <a:lnTo>
                  <a:pt x="14" y="1695"/>
                </a:lnTo>
                <a:lnTo>
                  <a:pt x="10" y="1695"/>
                </a:lnTo>
                <a:lnTo>
                  <a:pt x="6" y="1695"/>
                </a:lnTo>
                <a:lnTo>
                  <a:pt x="4" y="1695"/>
                </a:lnTo>
                <a:lnTo>
                  <a:pt x="2" y="1693"/>
                </a:lnTo>
                <a:lnTo>
                  <a:pt x="0" y="1691"/>
                </a:lnTo>
                <a:lnTo>
                  <a:pt x="2" y="1687"/>
                </a:lnTo>
                <a:lnTo>
                  <a:pt x="4" y="1682"/>
                </a:lnTo>
                <a:lnTo>
                  <a:pt x="10" y="1674"/>
                </a:lnTo>
                <a:lnTo>
                  <a:pt x="16" y="1666"/>
                </a:lnTo>
                <a:lnTo>
                  <a:pt x="23" y="1657"/>
                </a:lnTo>
                <a:lnTo>
                  <a:pt x="33" y="1645"/>
                </a:lnTo>
                <a:lnTo>
                  <a:pt x="46" y="1632"/>
                </a:lnTo>
                <a:lnTo>
                  <a:pt x="60" y="1618"/>
                </a:lnTo>
                <a:lnTo>
                  <a:pt x="75" y="1603"/>
                </a:lnTo>
                <a:lnTo>
                  <a:pt x="93" y="1584"/>
                </a:lnTo>
                <a:lnTo>
                  <a:pt x="112" y="1565"/>
                </a:lnTo>
                <a:lnTo>
                  <a:pt x="133" y="1545"/>
                </a:lnTo>
                <a:lnTo>
                  <a:pt x="154" y="1522"/>
                </a:lnTo>
                <a:lnTo>
                  <a:pt x="179" y="1497"/>
                </a:lnTo>
                <a:lnTo>
                  <a:pt x="206" y="1472"/>
                </a:lnTo>
                <a:lnTo>
                  <a:pt x="256" y="1423"/>
                </a:lnTo>
                <a:lnTo>
                  <a:pt x="304" y="1371"/>
                </a:lnTo>
                <a:lnTo>
                  <a:pt x="352" y="1317"/>
                </a:lnTo>
                <a:lnTo>
                  <a:pt x="400" y="1261"/>
                </a:lnTo>
                <a:lnTo>
                  <a:pt x="446" y="1206"/>
                </a:lnTo>
                <a:lnTo>
                  <a:pt x="490" y="1148"/>
                </a:lnTo>
                <a:lnTo>
                  <a:pt x="511" y="1119"/>
                </a:lnTo>
                <a:lnTo>
                  <a:pt x="532" y="1091"/>
                </a:lnTo>
                <a:lnTo>
                  <a:pt x="553" y="1060"/>
                </a:lnTo>
                <a:lnTo>
                  <a:pt x="572" y="1029"/>
                </a:lnTo>
                <a:lnTo>
                  <a:pt x="592" y="1000"/>
                </a:lnTo>
                <a:lnTo>
                  <a:pt x="609" y="972"/>
                </a:lnTo>
                <a:lnTo>
                  <a:pt x="626" y="947"/>
                </a:lnTo>
                <a:lnTo>
                  <a:pt x="641" y="922"/>
                </a:lnTo>
                <a:lnTo>
                  <a:pt x="655" y="899"/>
                </a:lnTo>
                <a:lnTo>
                  <a:pt x="666" y="879"/>
                </a:lnTo>
                <a:lnTo>
                  <a:pt x="678" y="860"/>
                </a:lnTo>
                <a:lnTo>
                  <a:pt x="687" y="843"/>
                </a:lnTo>
                <a:lnTo>
                  <a:pt x="697" y="826"/>
                </a:lnTo>
                <a:lnTo>
                  <a:pt x="703" y="812"/>
                </a:lnTo>
                <a:lnTo>
                  <a:pt x="709" y="801"/>
                </a:lnTo>
                <a:lnTo>
                  <a:pt x="714" y="791"/>
                </a:lnTo>
                <a:lnTo>
                  <a:pt x="716" y="782"/>
                </a:lnTo>
                <a:lnTo>
                  <a:pt x="718" y="776"/>
                </a:lnTo>
                <a:lnTo>
                  <a:pt x="718" y="772"/>
                </a:lnTo>
                <a:lnTo>
                  <a:pt x="718" y="768"/>
                </a:lnTo>
                <a:lnTo>
                  <a:pt x="714" y="766"/>
                </a:lnTo>
                <a:lnTo>
                  <a:pt x="710" y="766"/>
                </a:lnTo>
                <a:lnTo>
                  <a:pt x="707" y="766"/>
                </a:lnTo>
                <a:lnTo>
                  <a:pt x="699" y="766"/>
                </a:lnTo>
                <a:lnTo>
                  <a:pt x="691" y="766"/>
                </a:lnTo>
                <a:lnTo>
                  <a:pt x="682" y="768"/>
                </a:lnTo>
                <a:lnTo>
                  <a:pt x="672" y="772"/>
                </a:lnTo>
                <a:lnTo>
                  <a:pt x="659" y="774"/>
                </a:lnTo>
                <a:lnTo>
                  <a:pt x="645" y="778"/>
                </a:lnTo>
                <a:lnTo>
                  <a:pt x="632" y="782"/>
                </a:lnTo>
                <a:lnTo>
                  <a:pt x="615" y="787"/>
                </a:lnTo>
                <a:lnTo>
                  <a:pt x="597" y="791"/>
                </a:lnTo>
                <a:lnTo>
                  <a:pt x="580" y="797"/>
                </a:lnTo>
                <a:lnTo>
                  <a:pt x="559" y="805"/>
                </a:lnTo>
                <a:lnTo>
                  <a:pt x="538" y="810"/>
                </a:lnTo>
                <a:lnTo>
                  <a:pt x="515" y="818"/>
                </a:lnTo>
                <a:lnTo>
                  <a:pt x="492" y="828"/>
                </a:lnTo>
                <a:lnTo>
                  <a:pt x="471" y="835"/>
                </a:lnTo>
                <a:lnTo>
                  <a:pt x="449" y="845"/>
                </a:lnTo>
                <a:lnTo>
                  <a:pt x="430" y="851"/>
                </a:lnTo>
                <a:lnTo>
                  <a:pt x="411" y="858"/>
                </a:lnTo>
                <a:lnTo>
                  <a:pt x="394" y="864"/>
                </a:lnTo>
                <a:lnTo>
                  <a:pt x="377" y="868"/>
                </a:lnTo>
                <a:lnTo>
                  <a:pt x="361" y="874"/>
                </a:lnTo>
                <a:lnTo>
                  <a:pt x="348" y="877"/>
                </a:lnTo>
                <a:lnTo>
                  <a:pt x="336" y="879"/>
                </a:lnTo>
                <a:lnTo>
                  <a:pt x="323" y="883"/>
                </a:lnTo>
                <a:lnTo>
                  <a:pt x="313" y="885"/>
                </a:lnTo>
                <a:lnTo>
                  <a:pt x="304" y="887"/>
                </a:lnTo>
                <a:lnTo>
                  <a:pt x="296" y="887"/>
                </a:lnTo>
                <a:lnTo>
                  <a:pt x="288" y="889"/>
                </a:lnTo>
                <a:lnTo>
                  <a:pt x="283" y="889"/>
                </a:lnTo>
                <a:lnTo>
                  <a:pt x="271" y="891"/>
                </a:lnTo>
                <a:lnTo>
                  <a:pt x="260" y="893"/>
                </a:lnTo>
                <a:lnTo>
                  <a:pt x="246" y="893"/>
                </a:lnTo>
                <a:lnTo>
                  <a:pt x="235" y="891"/>
                </a:lnTo>
                <a:lnTo>
                  <a:pt x="221" y="887"/>
                </a:lnTo>
                <a:lnTo>
                  <a:pt x="208" y="881"/>
                </a:lnTo>
                <a:lnTo>
                  <a:pt x="196" y="876"/>
                </a:lnTo>
                <a:lnTo>
                  <a:pt x="185" y="868"/>
                </a:lnTo>
                <a:lnTo>
                  <a:pt x="171" y="864"/>
                </a:lnTo>
                <a:lnTo>
                  <a:pt x="160" y="858"/>
                </a:lnTo>
                <a:lnTo>
                  <a:pt x="150" y="853"/>
                </a:lnTo>
                <a:lnTo>
                  <a:pt x="141" y="847"/>
                </a:lnTo>
                <a:lnTo>
                  <a:pt x="133" y="837"/>
                </a:lnTo>
                <a:lnTo>
                  <a:pt x="127" y="830"/>
                </a:lnTo>
                <a:lnTo>
                  <a:pt x="121" y="820"/>
                </a:lnTo>
                <a:lnTo>
                  <a:pt x="117" y="808"/>
                </a:lnTo>
                <a:lnTo>
                  <a:pt x="116" y="803"/>
                </a:lnTo>
                <a:lnTo>
                  <a:pt x="116" y="799"/>
                </a:lnTo>
                <a:lnTo>
                  <a:pt x="116" y="793"/>
                </a:lnTo>
                <a:lnTo>
                  <a:pt x="117" y="789"/>
                </a:lnTo>
                <a:lnTo>
                  <a:pt x="119" y="785"/>
                </a:lnTo>
                <a:lnTo>
                  <a:pt x="123" y="782"/>
                </a:lnTo>
                <a:lnTo>
                  <a:pt x="129" y="780"/>
                </a:lnTo>
                <a:lnTo>
                  <a:pt x="133" y="778"/>
                </a:lnTo>
                <a:lnTo>
                  <a:pt x="141" y="774"/>
                </a:lnTo>
                <a:lnTo>
                  <a:pt x="148" y="774"/>
                </a:lnTo>
                <a:lnTo>
                  <a:pt x="156" y="772"/>
                </a:lnTo>
                <a:lnTo>
                  <a:pt x="165" y="770"/>
                </a:lnTo>
                <a:lnTo>
                  <a:pt x="175" y="770"/>
                </a:lnTo>
                <a:lnTo>
                  <a:pt x="189" y="768"/>
                </a:lnTo>
                <a:lnTo>
                  <a:pt x="200" y="768"/>
                </a:lnTo>
                <a:lnTo>
                  <a:pt x="215" y="768"/>
                </a:lnTo>
                <a:lnTo>
                  <a:pt x="229" y="768"/>
                </a:lnTo>
                <a:lnTo>
                  <a:pt x="244" y="768"/>
                </a:lnTo>
                <a:lnTo>
                  <a:pt x="261" y="766"/>
                </a:lnTo>
                <a:lnTo>
                  <a:pt x="279" y="764"/>
                </a:lnTo>
                <a:lnTo>
                  <a:pt x="296" y="762"/>
                </a:lnTo>
                <a:lnTo>
                  <a:pt x="313" y="760"/>
                </a:lnTo>
                <a:lnTo>
                  <a:pt x="332" y="757"/>
                </a:lnTo>
                <a:lnTo>
                  <a:pt x="352" y="753"/>
                </a:lnTo>
                <a:lnTo>
                  <a:pt x="373" y="749"/>
                </a:lnTo>
                <a:lnTo>
                  <a:pt x="394" y="745"/>
                </a:lnTo>
                <a:lnTo>
                  <a:pt x="415" y="739"/>
                </a:lnTo>
                <a:lnTo>
                  <a:pt x="438" y="735"/>
                </a:lnTo>
                <a:lnTo>
                  <a:pt x="461" y="728"/>
                </a:lnTo>
                <a:lnTo>
                  <a:pt x="484" y="722"/>
                </a:lnTo>
                <a:lnTo>
                  <a:pt x="509" y="716"/>
                </a:lnTo>
                <a:lnTo>
                  <a:pt x="534" y="709"/>
                </a:lnTo>
                <a:lnTo>
                  <a:pt x="557" y="701"/>
                </a:lnTo>
                <a:lnTo>
                  <a:pt x="578" y="693"/>
                </a:lnTo>
                <a:lnTo>
                  <a:pt x="599" y="686"/>
                </a:lnTo>
                <a:lnTo>
                  <a:pt x="618" y="680"/>
                </a:lnTo>
                <a:lnTo>
                  <a:pt x="638" y="672"/>
                </a:lnTo>
                <a:lnTo>
                  <a:pt x="655" y="666"/>
                </a:lnTo>
                <a:lnTo>
                  <a:pt x="672" y="661"/>
                </a:lnTo>
                <a:lnTo>
                  <a:pt x="686" y="653"/>
                </a:lnTo>
                <a:lnTo>
                  <a:pt x="701" y="647"/>
                </a:lnTo>
                <a:lnTo>
                  <a:pt x="712" y="641"/>
                </a:lnTo>
                <a:lnTo>
                  <a:pt x="724" y="636"/>
                </a:lnTo>
                <a:lnTo>
                  <a:pt x="735" y="630"/>
                </a:lnTo>
                <a:lnTo>
                  <a:pt x="745" y="624"/>
                </a:lnTo>
                <a:lnTo>
                  <a:pt x="753" y="618"/>
                </a:lnTo>
                <a:lnTo>
                  <a:pt x="760" y="613"/>
                </a:lnTo>
                <a:lnTo>
                  <a:pt x="766" y="607"/>
                </a:lnTo>
                <a:close/>
                <a:moveTo>
                  <a:pt x="630" y="1824"/>
                </a:moveTo>
                <a:lnTo>
                  <a:pt x="632" y="1814"/>
                </a:lnTo>
                <a:lnTo>
                  <a:pt x="634" y="1803"/>
                </a:lnTo>
                <a:lnTo>
                  <a:pt x="638" y="1789"/>
                </a:lnTo>
                <a:lnTo>
                  <a:pt x="639" y="1776"/>
                </a:lnTo>
                <a:lnTo>
                  <a:pt x="641" y="1760"/>
                </a:lnTo>
                <a:lnTo>
                  <a:pt x="645" y="1743"/>
                </a:lnTo>
                <a:lnTo>
                  <a:pt x="647" y="1726"/>
                </a:lnTo>
                <a:lnTo>
                  <a:pt x="649" y="1707"/>
                </a:lnTo>
                <a:lnTo>
                  <a:pt x="653" y="1685"/>
                </a:lnTo>
                <a:lnTo>
                  <a:pt x="655" y="1664"/>
                </a:lnTo>
                <a:lnTo>
                  <a:pt x="659" y="1641"/>
                </a:lnTo>
                <a:lnTo>
                  <a:pt x="661" y="1618"/>
                </a:lnTo>
                <a:lnTo>
                  <a:pt x="663" y="1593"/>
                </a:lnTo>
                <a:lnTo>
                  <a:pt x="664" y="1566"/>
                </a:lnTo>
                <a:lnTo>
                  <a:pt x="668" y="1540"/>
                </a:lnTo>
                <a:lnTo>
                  <a:pt x="670" y="1513"/>
                </a:lnTo>
                <a:lnTo>
                  <a:pt x="670" y="1484"/>
                </a:lnTo>
                <a:lnTo>
                  <a:pt x="672" y="1457"/>
                </a:lnTo>
                <a:lnTo>
                  <a:pt x="672" y="1432"/>
                </a:lnTo>
                <a:lnTo>
                  <a:pt x="674" y="1407"/>
                </a:lnTo>
                <a:lnTo>
                  <a:pt x="674" y="1382"/>
                </a:lnTo>
                <a:lnTo>
                  <a:pt x="672" y="1361"/>
                </a:lnTo>
                <a:lnTo>
                  <a:pt x="672" y="1338"/>
                </a:lnTo>
                <a:lnTo>
                  <a:pt x="672" y="1317"/>
                </a:lnTo>
                <a:lnTo>
                  <a:pt x="670" y="1298"/>
                </a:lnTo>
                <a:lnTo>
                  <a:pt x="670" y="1279"/>
                </a:lnTo>
                <a:lnTo>
                  <a:pt x="668" y="1261"/>
                </a:lnTo>
                <a:lnTo>
                  <a:pt x="666" y="1246"/>
                </a:lnTo>
                <a:lnTo>
                  <a:pt x="664" y="1231"/>
                </a:lnTo>
                <a:lnTo>
                  <a:pt x="663" y="1215"/>
                </a:lnTo>
                <a:lnTo>
                  <a:pt x="661" y="1202"/>
                </a:lnTo>
                <a:lnTo>
                  <a:pt x="661" y="1190"/>
                </a:lnTo>
                <a:lnTo>
                  <a:pt x="657" y="1171"/>
                </a:lnTo>
                <a:lnTo>
                  <a:pt x="653" y="1154"/>
                </a:lnTo>
                <a:lnTo>
                  <a:pt x="649" y="1135"/>
                </a:lnTo>
                <a:lnTo>
                  <a:pt x="647" y="1117"/>
                </a:lnTo>
                <a:lnTo>
                  <a:pt x="643" y="1102"/>
                </a:lnTo>
                <a:lnTo>
                  <a:pt x="641" y="1087"/>
                </a:lnTo>
                <a:lnTo>
                  <a:pt x="641" y="1071"/>
                </a:lnTo>
                <a:lnTo>
                  <a:pt x="639" y="1060"/>
                </a:lnTo>
                <a:lnTo>
                  <a:pt x="664" y="1067"/>
                </a:lnTo>
                <a:lnTo>
                  <a:pt x="676" y="1071"/>
                </a:lnTo>
                <a:lnTo>
                  <a:pt x="687" y="1075"/>
                </a:lnTo>
                <a:lnTo>
                  <a:pt x="697" y="1079"/>
                </a:lnTo>
                <a:lnTo>
                  <a:pt x="709" y="1083"/>
                </a:lnTo>
                <a:lnTo>
                  <a:pt x="716" y="1085"/>
                </a:lnTo>
                <a:lnTo>
                  <a:pt x="726" y="1089"/>
                </a:lnTo>
                <a:lnTo>
                  <a:pt x="734" y="1092"/>
                </a:lnTo>
                <a:lnTo>
                  <a:pt x="743" y="1094"/>
                </a:lnTo>
                <a:lnTo>
                  <a:pt x="749" y="1098"/>
                </a:lnTo>
                <a:lnTo>
                  <a:pt x="757" y="1100"/>
                </a:lnTo>
                <a:lnTo>
                  <a:pt x="762" y="1104"/>
                </a:lnTo>
                <a:lnTo>
                  <a:pt x="768" y="1106"/>
                </a:lnTo>
                <a:lnTo>
                  <a:pt x="772" y="1108"/>
                </a:lnTo>
                <a:lnTo>
                  <a:pt x="776" y="1110"/>
                </a:lnTo>
                <a:lnTo>
                  <a:pt x="776" y="1114"/>
                </a:lnTo>
                <a:lnTo>
                  <a:pt x="778" y="1115"/>
                </a:lnTo>
                <a:lnTo>
                  <a:pt x="778" y="1119"/>
                </a:lnTo>
                <a:lnTo>
                  <a:pt x="780" y="1125"/>
                </a:lnTo>
                <a:lnTo>
                  <a:pt x="780" y="1131"/>
                </a:lnTo>
                <a:lnTo>
                  <a:pt x="780" y="1138"/>
                </a:lnTo>
                <a:lnTo>
                  <a:pt x="781" y="1146"/>
                </a:lnTo>
                <a:lnTo>
                  <a:pt x="781" y="1156"/>
                </a:lnTo>
                <a:lnTo>
                  <a:pt x="781" y="1165"/>
                </a:lnTo>
                <a:lnTo>
                  <a:pt x="781" y="1175"/>
                </a:lnTo>
                <a:lnTo>
                  <a:pt x="781" y="1188"/>
                </a:lnTo>
                <a:lnTo>
                  <a:pt x="781" y="1200"/>
                </a:lnTo>
                <a:lnTo>
                  <a:pt x="783" y="1213"/>
                </a:lnTo>
                <a:lnTo>
                  <a:pt x="783" y="1229"/>
                </a:lnTo>
                <a:lnTo>
                  <a:pt x="783" y="1244"/>
                </a:lnTo>
                <a:lnTo>
                  <a:pt x="783" y="1259"/>
                </a:lnTo>
                <a:lnTo>
                  <a:pt x="783" y="1277"/>
                </a:lnTo>
                <a:lnTo>
                  <a:pt x="783" y="1296"/>
                </a:lnTo>
                <a:lnTo>
                  <a:pt x="783" y="1315"/>
                </a:lnTo>
                <a:lnTo>
                  <a:pt x="781" y="1334"/>
                </a:lnTo>
                <a:lnTo>
                  <a:pt x="781" y="1355"/>
                </a:lnTo>
                <a:lnTo>
                  <a:pt x="781" y="1376"/>
                </a:lnTo>
                <a:lnTo>
                  <a:pt x="781" y="1399"/>
                </a:lnTo>
                <a:lnTo>
                  <a:pt x="781" y="1423"/>
                </a:lnTo>
                <a:lnTo>
                  <a:pt x="781" y="1447"/>
                </a:lnTo>
                <a:lnTo>
                  <a:pt x="780" y="1472"/>
                </a:lnTo>
                <a:lnTo>
                  <a:pt x="780" y="1499"/>
                </a:lnTo>
                <a:lnTo>
                  <a:pt x="780" y="1526"/>
                </a:lnTo>
                <a:lnTo>
                  <a:pt x="778" y="1553"/>
                </a:lnTo>
                <a:lnTo>
                  <a:pt x="778" y="1584"/>
                </a:lnTo>
                <a:lnTo>
                  <a:pt x="776" y="1613"/>
                </a:lnTo>
                <a:lnTo>
                  <a:pt x="776" y="1643"/>
                </a:lnTo>
                <a:lnTo>
                  <a:pt x="774" y="1674"/>
                </a:lnTo>
                <a:lnTo>
                  <a:pt x="772" y="1703"/>
                </a:lnTo>
                <a:lnTo>
                  <a:pt x="770" y="1732"/>
                </a:lnTo>
                <a:lnTo>
                  <a:pt x="768" y="1760"/>
                </a:lnTo>
                <a:lnTo>
                  <a:pt x="766" y="1787"/>
                </a:lnTo>
                <a:lnTo>
                  <a:pt x="764" y="1812"/>
                </a:lnTo>
                <a:lnTo>
                  <a:pt x="762" y="1837"/>
                </a:lnTo>
                <a:lnTo>
                  <a:pt x="762" y="1862"/>
                </a:lnTo>
                <a:lnTo>
                  <a:pt x="760" y="1885"/>
                </a:lnTo>
                <a:lnTo>
                  <a:pt x="758" y="1906"/>
                </a:lnTo>
                <a:lnTo>
                  <a:pt x="757" y="1927"/>
                </a:lnTo>
                <a:lnTo>
                  <a:pt x="755" y="1948"/>
                </a:lnTo>
                <a:lnTo>
                  <a:pt x="753" y="1968"/>
                </a:lnTo>
                <a:lnTo>
                  <a:pt x="751" y="1985"/>
                </a:lnTo>
                <a:lnTo>
                  <a:pt x="749" y="2002"/>
                </a:lnTo>
                <a:lnTo>
                  <a:pt x="747" y="2019"/>
                </a:lnTo>
                <a:lnTo>
                  <a:pt x="745" y="2035"/>
                </a:lnTo>
                <a:lnTo>
                  <a:pt x="743" y="2048"/>
                </a:lnTo>
                <a:lnTo>
                  <a:pt x="741" y="2062"/>
                </a:lnTo>
                <a:lnTo>
                  <a:pt x="739" y="2075"/>
                </a:lnTo>
                <a:lnTo>
                  <a:pt x="737" y="2087"/>
                </a:lnTo>
                <a:lnTo>
                  <a:pt x="735" y="2096"/>
                </a:lnTo>
                <a:lnTo>
                  <a:pt x="734" y="2106"/>
                </a:lnTo>
                <a:lnTo>
                  <a:pt x="732" y="2113"/>
                </a:lnTo>
                <a:lnTo>
                  <a:pt x="730" y="2121"/>
                </a:lnTo>
                <a:lnTo>
                  <a:pt x="728" y="2129"/>
                </a:lnTo>
                <a:lnTo>
                  <a:pt x="726" y="2135"/>
                </a:lnTo>
                <a:lnTo>
                  <a:pt x="726" y="2138"/>
                </a:lnTo>
                <a:lnTo>
                  <a:pt x="724" y="2142"/>
                </a:lnTo>
                <a:lnTo>
                  <a:pt x="722" y="2144"/>
                </a:lnTo>
                <a:lnTo>
                  <a:pt x="720" y="2146"/>
                </a:lnTo>
                <a:lnTo>
                  <a:pt x="718" y="2146"/>
                </a:lnTo>
                <a:lnTo>
                  <a:pt x="714" y="2146"/>
                </a:lnTo>
                <a:lnTo>
                  <a:pt x="710" y="2144"/>
                </a:lnTo>
                <a:lnTo>
                  <a:pt x="707" y="2142"/>
                </a:lnTo>
                <a:lnTo>
                  <a:pt x="703" y="2140"/>
                </a:lnTo>
                <a:lnTo>
                  <a:pt x="699" y="2136"/>
                </a:lnTo>
                <a:lnTo>
                  <a:pt x="695" y="2133"/>
                </a:lnTo>
                <a:lnTo>
                  <a:pt x="691" y="2129"/>
                </a:lnTo>
                <a:lnTo>
                  <a:pt x="687" y="2123"/>
                </a:lnTo>
                <a:lnTo>
                  <a:pt x="684" y="2117"/>
                </a:lnTo>
                <a:lnTo>
                  <a:pt x="678" y="2111"/>
                </a:lnTo>
                <a:lnTo>
                  <a:pt x="674" y="2104"/>
                </a:lnTo>
                <a:lnTo>
                  <a:pt x="670" y="2094"/>
                </a:lnTo>
                <a:lnTo>
                  <a:pt x="664" y="2087"/>
                </a:lnTo>
                <a:lnTo>
                  <a:pt x="661" y="2077"/>
                </a:lnTo>
                <a:lnTo>
                  <a:pt x="655" y="2067"/>
                </a:lnTo>
                <a:lnTo>
                  <a:pt x="649" y="2056"/>
                </a:lnTo>
                <a:lnTo>
                  <a:pt x="639" y="2037"/>
                </a:lnTo>
                <a:lnTo>
                  <a:pt x="632" y="2019"/>
                </a:lnTo>
                <a:lnTo>
                  <a:pt x="624" y="2002"/>
                </a:lnTo>
                <a:lnTo>
                  <a:pt x="620" y="1987"/>
                </a:lnTo>
                <a:lnTo>
                  <a:pt x="616" y="1973"/>
                </a:lnTo>
                <a:lnTo>
                  <a:pt x="613" y="1960"/>
                </a:lnTo>
                <a:lnTo>
                  <a:pt x="613" y="1946"/>
                </a:lnTo>
                <a:lnTo>
                  <a:pt x="611" y="1935"/>
                </a:lnTo>
                <a:lnTo>
                  <a:pt x="613" y="1923"/>
                </a:lnTo>
                <a:lnTo>
                  <a:pt x="613" y="1912"/>
                </a:lnTo>
                <a:lnTo>
                  <a:pt x="615" y="1900"/>
                </a:lnTo>
                <a:lnTo>
                  <a:pt x="616" y="1887"/>
                </a:lnTo>
                <a:lnTo>
                  <a:pt x="620" y="1874"/>
                </a:lnTo>
                <a:lnTo>
                  <a:pt x="624" y="1858"/>
                </a:lnTo>
                <a:lnTo>
                  <a:pt x="628" y="1843"/>
                </a:lnTo>
                <a:lnTo>
                  <a:pt x="630" y="1824"/>
                </a:lnTo>
                <a:close/>
                <a:moveTo>
                  <a:pt x="998" y="1091"/>
                </a:moveTo>
                <a:lnTo>
                  <a:pt x="1004" y="1079"/>
                </a:lnTo>
                <a:lnTo>
                  <a:pt x="1010" y="1067"/>
                </a:lnTo>
                <a:lnTo>
                  <a:pt x="1016" y="1056"/>
                </a:lnTo>
                <a:lnTo>
                  <a:pt x="1019" y="1044"/>
                </a:lnTo>
                <a:lnTo>
                  <a:pt x="1021" y="1033"/>
                </a:lnTo>
                <a:lnTo>
                  <a:pt x="1021" y="1021"/>
                </a:lnTo>
                <a:lnTo>
                  <a:pt x="1019" y="1012"/>
                </a:lnTo>
                <a:lnTo>
                  <a:pt x="1018" y="1000"/>
                </a:lnTo>
                <a:lnTo>
                  <a:pt x="1016" y="989"/>
                </a:lnTo>
                <a:lnTo>
                  <a:pt x="1014" y="981"/>
                </a:lnTo>
                <a:lnTo>
                  <a:pt x="1016" y="973"/>
                </a:lnTo>
                <a:lnTo>
                  <a:pt x="1018" y="968"/>
                </a:lnTo>
                <a:lnTo>
                  <a:pt x="1021" y="964"/>
                </a:lnTo>
                <a:lnTo>
                  <a:pt x="1029" y="962"/>
                </a:lnTo>
                <a:lnTo>
                  <a:pt x="1037" y="960"/>
                </a:lnTo>
                <a:lnTo>
                  <a:pt x="1046" y="960"/>
                </a:lnTo>
                <a:lnTo>
                  <a:pt x="1054" y="960"/>
                </a:lnTo>
                <a:lnTo>
                  <a:pt x="1064" y="962"/>
                </a:lnTo>
                <a:lnTo>
                  <a:pt x="1071" y="964"/>
                </a:lnTo>
                <a:lnTo>
                  <a:pt x="1083" y="968"/>
                </a:lnTo>
                <a:lnTo>
                  <a:pt x="1092" y="973"/>
                </a:lnTo>
                <a:lnTo>
                  <a:pt x="1102" y="981"/>
                </a:lnTo>
                <a:lnTo>
                  <a:pt x="1113" y="989"/>
                </a:lnTo>
                <a:lnTo>
                  <a:pt x="1119" y="995"/>
                </a:lnTo>
                <a:lnTo>
                  <a:pt x="1125" y="1000"/>
                </a:lnTo>
                <a:lnTo>
                  <a:pt x="1135" y="1012"/>
                </a:lnTo>
                <a:lnTo>
                  <a:pt x="1142" y="1021"/>
                </a:lnTo>
                <a:lnTo>
                  <a:pt x="1148" y="1033"/>
                </a:lnTo>
                <a:lnTo>
                  <a:pt x="1154" y="1044"/>
                </a:lnTo>
                <a:lnTo>
                  <a:pt x="1158" y="1054"/>
                </a:lnTo>
                <a:lnTo>
                  <a:pt x="1161" y="1064"/>
                </a:lnTo>
                <a:lnTo>
                  <a:pt x="1161" y="1071"/>
                </a:lnTo>
                <a:lnTo>
                  <a:pt x="1163" y="1081"/>
                </a:lnTo>
                <a:lnTo>
                  <a:pt x="1161" y="1083"/>
                </a:lnTo>
                <a:lnTo>
                  <a:pt x="1160" y="1087"/>
                </a:lnTo>
                <a:lnTo>
                  <a:pt x="1158" y="1089"/>
                </a:lnTo>
                <a:lnTo>
                  <a:pt x="1156" y="1092"/>
                </a:lnTo>
                <a:lnTo>
                  <a:pt x="1152" y="1096"/>
                </a:lnTo>
                <a:lnTo>
                  <a:pt x="1148" y="1102"/>
                </a:lnTo>
                <a:lnTo>
                  <a:pt x="1144" y="1106"/>
                </a:lnTo>
                <a:lnTo>
                  <a:pt x="1138" y="1110"/>
                </a:lnTo>
                <a:lnTo>
                  <a:pt x="1135" y="1115"/>
                </a:lnTo>
                <a:lnTo>
                  <a:pt x="1129" y="1121"/>
                </a:lnTo>
                <a:lnTo>
                  <a:pt x="1121" y="1125"/>
                </a:lnTo>
                <a:lnTo>
                  <a:pt x="1115" y="1131"/>
                </a:lnTo>
                <a:lnTo>
                  <a:pt x="1108" y="1138"/>
                </a:lnTo>
                <a:lnTo>
                  <a:pt x="1100" y="1144"/>
                </a:lnTo>
                <a:lnTo>
                  <a:pt x="1090" y="1150"/>
                </a:lnTo>
                <a:lnTo>
                  <a:pt x="1083" y="1158"/>
                </a:lnTo>
                <a:lnTo>
                  <a:pt x="1073" y="1165"/>
                </a:lnTo>
                <a:lnTo>
                  <a:pt x="1064" y="1171"/>
                </a:lnTo>
                <a:lnTo>
                  <a:pt x="1052" y="1181"/>
                </a:lnTo>
                <a:lnTo>
                  <a:pt x="1042" y="1188"/>
                </a:lnTo>
                <a:lnTo>
                  <a:pt x="1031" y="1196"/>
                </a:lnTo>
                <a:lnTo>
                  <a:pt x="1019" y="1206"/>
                </a:lnTo>
                <a:lnTo>
                  <a:pt x="1006" y="1213"/>
                </a:lnTo>
                <a:lnTo>
                  <a:pt x="993" y="1223"/>
                </a:lnTo>
                <a:lnTo>
                  <a:pt x="979" y="1233"/>
                </a:lnTo>
                <a:lnTo>
                  <a:pt x="966" y="1244"/>
                </a:lnTo>
                <a:lnTo>
                  <a:pt x="952" y="1254"/>
                </a:lnTo>
                <a:lnTo>
                  <a:pt x="937" y="1265"/>
                </a:lnTo>
                <a:lnTo>
                  <a:pt x="922" y="1275"/>
                </a:lnTo>
                <a:lnTo>
                  <a:pt x="906" y="1286"/>
                </a:lnTo>
                <a:lnTo>
                  <a:pt x="889" y="1300"/>
                </a:lnTo>
                <a:lnTo>
                  <a:pt x="872" y="1311"/>
                </a:lnTo>
                <a:lnTo>
                  <a:pt x="858" y="1296"/>
                </a:lnTo>
                <a:lnTo>
                  <a:pt x="843" y="1281"/>
                </a:lnTo>
                <a:lnTo>
                  <a:pt x="858" y="1263"/>
                </a:lnTo>
                <a:lnTo>
                  <a:pt x="874" y="1244"/>
                </a:lnTo>
                <a:lnTo>
                  <a:pt x="889" y="1229"/>
                </a:lnTo>
                <a:lnTo>
                  <a:pt x="900" y="1213"/>
                </a:lnTo>
                <a:lnTo>
                  <a:pt x="914" y="1198"/>
                </a:lnTo>
                <a:lnTo>
                  <a:pt x="925" y="1185"/>
                </a:lnTo>
                <a:lnTo>
                  <a:pt x="937" y="1171"/>
                </a:lnTo>
                <a:lnTo>
                  <a:pt x="947" y="1160"/>
                </a:lnTo>
                <a:lnTo>
                  <a:pt x="954" y="1148"/>
                </a:lnTo>
                <a:lnTo>
                  <a:pt x="964" y="1137"/>
                </a:lnTo>
                <a:lnTo>
                  <a:pt x="971" y="1127"/>
                </a:lnTo>
                <a:lnTo>
                  <a:pt x="977" y="1119"/>
                </a:lnTo>
                <a:lnTo>
                  <a:pt x="985" y="1110"/>
                </a:lnTo>
                <a:lnTo>
                  <a:pt x="989" y="1102"/>
                </a:lnTo>
                <a:lnTo>
                  <a:pt x="995" y="1096"/>
                </a:lnTo>
                <a:lnTo>
                  <a:pt x="998" y="1091"/>
                </a:lnTo>
                <a:close/>
                <a:moveTo>
                  <a:pt x="737" y="1221"/>
                </a:moveTo>
                <a:lnTo>
                  <a:pt x="768" y="1231"/>
                </a:lnTo>
                <a:lnTo>
                  <a:pt x="799" y="1240"/>
                </a:lnTo>
                <a:lnTo>
                  <a:pt x="828" y="1248"/>
                </a:lnTo>
                <a:lnTo>
                  <a:pt x="854" y="1257"/>
                </a:lnTo>
                <a:lnTo>
                  <a:pt x="879" y="1265"/>
                </a:lnTo>
                <a:lnTo>
                  <a:pt x="904" y="1273"/>
                </a:lnTo>
                <a:lnTo>
                  <a:pt x="925" y="1281"/>
                </a:lnTo>
                <a:lnTo>
                  <a:pt x="947" y="1288"/>
                </a:lnTo>
                <a:lnTo>
                  <a:pt x="966" y="1296"/>
                </a:lnTo>
                <a:lnTo>
                  <a:pt x="981" y="1304"/>
                </a:lnTo>
                <a:lnTo>
                  <a:pt x="996" y="1311"/>
                </a:lnTo>
                <a:lnTo>
                  <a:pt x="1010" y="1317"/>
                </a:lnTo>
                <a:lnTo>
                  <a:pt x="1021" y="1323"/>
                </a:lnTo>
                <a:lnTo>
                  <a:pt x="1033" y="1330"/>
                </a:lnTo>
                <a:lnTo>
                  <a:pt x="1041" y="1336"/>
                </a:lnTo>
                <a:lnTo>
                  <a:pt x="1046" y="1342"/>
                </a:lnTo>
                <a:lnTo>
                  <a:pt x="1058" y="1352"/>
                </a:lnTo>
                <a:lnTo>
                  <a:pt x="1067" y="1363"/>
                </a:lnTo>
                <a:lnTo>
                  <a:pt x="1079" y="1373"/>
                </a:lnTo>
                <a:lnTo>
                  <a:pt x="1089" y="1382"/>
                </a:lnTo>
                <a:lnTo>
                  <a:pt x="1096" y="1392"/>
                </a:lnTo>
                <a:lnTo>
                  <a:pt x="1104" y="1401"/>
                </a:lnTo>
                <a:lnTo>
                  <a:pt x="1110" y="1411"/>
                </a:lnTo>
                <a:lnTo>
                  <a:pt x="1113" y="1423"/>
                </a:lnTo>
                <a:lnTo>
                  <a:pt x="1117" y="1432"/>
                </a:lnTo>
                <a:lnTo>
                  <a:pt x="1119" y="1444"/>
                </a:lnTo>
                <a:lnTo>
                  <a:pt x="1121" y="1453"/>
                </a:lnTo>
                <a:lnTo>
                  <a:pt x="1121" y="1463"/>
                </a:lnTo>
                <a:lnTo>
                  <a:pt x="1121" y="1472"/>
                </a:lnTo>
                <a:lnTo>
                  <a:pt x="1119" y="1482"/>
                </a:lnTo>
                <a:lnTo>
                  <a:pt x="1117" y="1492"/>
                </a:lnTo>
                <a:lnTo>
                  <a:pt x="1113" y="1503"/>
                </a:lnTo>
                <a:lnTo>
                  <a:pt x="1110" y="1513"/>
                </a:lnTo>
                <a:lnTo>
                  <a:pt x="1106" y="1522"/>
                </a:lnTo>
                <a:lnTo>
                  <a:pt x="1100" y="1528"/>
                </a:lnTo>
                <a:lnTo>
                  <a:pt x="1094" y="1534"/>
                </a:lnTo>
                <a:lnTo>
                  <a:pt x="1090" y="1538"/>
                </a:lnTo>
                <a:lnTo>
                  <a:pt x="1085" y="1540"/>
                </a:lnTo>
                <a:lnTo>
                  <a:pt x="1079" y="1542"/>
                </a:lnTo>
                <a:lnTo>
                  <a:pt x="1075" y="1543"/>
                </a:lnTo>
                <a:lnTo>
                  <a:pt x="1073" y="1542"/>
                </a:lnTo>
                <a:lnTo>
                  <a:pt x="1071" y="1542"/>
                </a:lnTo>
                <a:lnTo>
                  <a:pt x="1067" y="1540"/>
                </a:lnTo>
                <a:lnTo>
                  <a:pt x="1064" y="1538"/>
                </a:lnTo>
                <a:lnTo>
                  <a:pt x="1060" y="1536"/>
                </a:lnTo>
                <a:lnTo>
                  <a:pt x="1054" y="1534"/>
                </a:lnTo>
                <a:lnTo>
                  <a:pt x="1048" y="1530"/>
                </a:lnTo>
                <a:lnTo>
                  <a:pt x="1042" y="1526"/>
                </a:lnTo>
                <a:lnTo>
                  <a:pt x="1037" y="1522"/>
                </a:lnTo>
                <a:lnTo>
                  <a:pt x="1029" y="1517"/>
                </a:lnTo>
                <a:lnTo>
                  <a:pt x="1021" y="1511"/>
                </a:lnTo>
                <a:lnTo>
                  <a:pt x="1014" y="1505"/>
                </a:lnTo>
                <a:lnTo>
                  <a:pt x="1004" y="1497"/>
                </a:lnTo>
                <a:lnTo>
                  <a:pt x="995" y="1492"/>
                </a:lnTo>
                <a:lnTo>
                  <a:pt x="985" y="1484"/>
                </a:lnTo>
                <a:lnTo>
                  <a:pt x="975" y="1476"/>
                </a:lnTo>
                <a:lnTo>
                  <a:pt x="964" y="1467"/>
                </a:lnTo>
                <a:lnTo>
                  <a:pt x="952" y="1457"/>
                </a:lnTo>
                <a:lnTo>
                  <a:pt x="941" y="1447"/>
                </a:lnTo>
                <a:lnTo>
                  <a:pt x="927" y="1438"/>
                </a:lnTo>
                <a:lnTo>
                  <a:pt x="914" y="1426"/>
                </a:lnTo>
                <a:lnTo>
                  <a:pt x="900" y="1415"/>
                </a:lnTo>
                <a:lnTo>
                  <a:pt x="887" y="1403"/>
                </a:lnTo>
                <a:lnTo>
                  <a:pt x="872" y="1390"/>
                </a:lnTo>
                <a:lnTo>
                  <a:pt x="856" y="1378"/>
                </a:lnTo>
                <a:lnTo>
                  <a:pt x="841" y="1363"/>
                </a:lnTo>
                <a:lnTo>
                  <a:pt x="826" y="1350"/>
                </a:lnTo>
                <a:lnTo>
                  <a:pt x="808" y="1334"/>
                </a:lnTo>
                <a:lnTo>
                  <a:pt x="791" y="1321"/>
                </a:lnTo>
                <a:lnTo>
                  <a:pt x="774" y="1304"/>
                </a:lnTo>
                <a:lnTo>
                  <a:pt x="755" y="1288"/>
                </a:lnTo>
                <a:lnTo>
                  <a:pt x="737" y="1271"/>
                </a:lnTo>
                <a:lnTo>
                  <a:pt x="737" y="1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3176640" y="2894040"/>
            <a:ext cx="547560" cy="406440"/>
          </a:xfrm>
          <a:custGeom>
            <a:avLst/>
            <a:gdLst/>
            <a:ahLst/>
            <a:rect l="l" t="t" r="r" b="b"/>
            <a:pathLst>
              <a:path w="689" h="512">
                <a:moveTo>
                  <a:pt x="0" y="0"/>
                </a:moveTo>
                <a:lnTo>
                  <a:pt x="45" y="13"/>
                </a:lnTo>
                <a:lnTo>
                  <a:pt x="87" y="27"/>
                </a:lnTo>
                <a:lnTo>
                  <a:pt x="127" y="40"/>
                </a:lnTo>
                <a:lnTo>
                  <a:pt x="167" y="53"/>
                </a:lnTo>
                <a:lnTo>
                  <a:pt x="204" y="65"/>
                </a:lnTo>
                <a:lnTo>
                  <a:pt x="240" y="78"/>
                </a:lnTo>
                <a:lnTo>
                  <a:pt x="273" y="90"/>
                </a:lnTo>
                <a:lnTo>
                  <a:pt x="306" y="103"/>
                </a:lnTo>
                <a:lnTo>
                  <a:pt x="336" y="115"/>
                </a:lnTo>
                <a:lnTo>
                  <a:pt x="365" y="126"/>
                </a:lnTo>
                <a:lnTo>
                  <a:pt x="392" y="138"/>
                </a:lnTo>
                <a:lnTo>
                  <a:pt x="417" y="149"/>
                </a:lnTo>
                <a:lnTo>
                  <a:pt x="442" y="161"/>
                </a:lnTo>
                <a:lnTo>
                  <a:pt x="463" y="170"/>
                </a:lnTo>
                <a:lnTo>
                  <a:pt x="484" y="180"/>
                </a:lnTo>
                <a:lnTo>
                  <a:pt x="503" y="192"/>
                </a:lnTo>
                <a:lnTo>
                  <a:pt x="520" y="201"/>
                </a:lnTo>
                <a:lnTo>
                  <a:pt x="538" y="211"/>
                </a:lnTo>
                <a:lnTo>
                  <a:pt x="553" y="220"/>
                </a:lnTo>
                <a:lnTo>
                  <a:pt x="568" y="230"/>
                </a:lnTo>
                <a:lnTo>
                  <a:pt x="582" y="240"/>
                </a:lnTo>
                <a:lnTo>
                  <a:pt x="595" y="251"/>
                </a:lnTo>
                <a:lnTo>
                  <a:pt x="607" y="261"/>
                </a:lnTo>
                <a:lnTo>
                  <a:pt x="618" y="272"/>
                </a:lnTo>
                <a:lnTo>
                  <a:pt x="630" y="282"/>
                </a:lnTo>
                <a:lnTo>
                  <a:pt x="639" y="291"/>
                </a:lnTo>
                <a:lnTo>
                  <a:pt x="647" y="303"/>
                </a:lnTo>
                <a:lnTo>
                  <a:pt x="655" y="313"/>
                </a:lnTo>
                <a:lnTo>
                  <a:pt x="663" y="322"/>
                </a:lnTo>
                <a:lnTo>
                  <a:pt x="668" y="332"/>
                </a:lnTo>
                <a:lnTo>
                  <a:pt x="672" y="341"/>
                </a:lnTo>
                <a:lnTo>
                  <a:pt x="676" y="351"/>
                </a:lnTo>
                <a:lnTo>
                  <a:pt x="680" y="370"/>
                </a:lnTo>
                <a:lnTo>
                  <a:pt x="684" y="387"/>
                </a:lnTo>
                <a:lnTo>
                  <a:pt x="687" y="405"/>
                </a:lnTo>
                <a:lnTo>
                  <a:pt x="689" y="420"/>
                </a:lnTo>
                <a:lnTo>
                  <a:pt x="689" y="433"/>
                </a:lnTo>
                <a:lnTo>
                  <a:pt x="689" y="447"/>
                </a:lnTo>
                <a:lnTo>
                  <a:pt x="689" y="460"/>
                </a:lnTo>
                <a:lnTo>
                  <a:pt x="687" y="472"/>
                </a:lnTo>
                <a:lnTo>
                  <a:pt x="682" y="483"/>
                </a:lnTo>
                <a:lnTo>
                  <a:pt x="678" y="491"/>
                </a:lnTo>
                <a:lnTo>
                  <a:pt x="672" y="499"/>
                </a:lnTo>
                <a:lnTo>
                  <a:pt x="664" y="504"/>
                </a:lnTo>
                <a:lnTo>
                  <a:pt x="657" y="508"/>
                </a:lnTo>
                <a:lnTo>
                  <a:pt x="649" y="510"/>
                </a:lnTo>
                <a:lnTo>
                  <a:pt x="639" y="512"/>
                </a:lnTo>
                <a:lnTo>
                  <a:pt x="628" y="512"/>
                </a:lnTo>
                <a:lnTo>
                  <a:pt x="622" y="512"/>
                </a:lnTo>
                <a:lnTo>
                  <a:pt x="616" y="510"/>
                </a:lnTo>
                <a:lnTo>
                  <a:pt x="609" y="508"/>
                </a:lnTo>
                <a:lnTo>
                  <a:pt x="599" y="503"/>
                </a:lnTo>
                <a:lnTo>
                  <a:pt x="590" y="499"/>
                </a:lnTo>
                <a:lnTo>
                  <a:pt x="578" y="491"/>
                </a:lnTo>
                <a:lnTo>
                  <a:pt x="567" y="483"/>
                </a:lnTo>
                <a:lnTo>
                  <a:pt x="555" y="476"/>
                </a:lnTo>
                <a:lnTo>
                  <a:pt x="540" y="466"/>
                </a:lnTo>
                <a:lnTo>
                  <a:pt x="526" y="455"/>
                </a:lnTo>
                <a:lnTo>
                  <a:pt x="511" y="441"/>
                </a:lnTo>
                <a:lnTo>
                  <a:pt x="494" y="428"/>
                </a:lnTo>
                <a:lnTo>
                  <a:pt x="474" y="414"/>
                </a:lnTo>
                <a:lnTo>
                  <a:pt x="457" y="397"/>
                </a:lnTo>
                <a:lnTo>
                  <a:pt x="436" y="380"/>
                </a:lnTo>
                <a:lnTo>
                  <a:pt x="415" y="362"/>
                </a:lnTo>
                <a:lnTo>
                  <a:pt x="369" y="324"/>
                </a:lnTo>
                <a:lnTo>
                  <a:pt x="319" y="286"/>
                </a:lnTo>
                <a:lnTo>
                  <a:pt x="269" y="249"/>
                </a:lnTo>
                <a:lnTo>
                  <a:pt x="219" y="211"/>
                </a:lnTo>
                <a:lnTo>
                  <a:pt x="165" y="174"/>
                </a:lnTo>
                <a:lnTo>
                  <a:pt x="112" y="136"/>
                </a:lnTo>
                <a:lnTo>
                  <a:pt x="56" y="98"/>
                </a:lnTo>
                <a:lnTo>
                  <a:pt x="0" y="5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3073320" y="2220840"/>
            <a:ext cx="187560" cy="1808280"/>
          </a:xfrm>
          <a:custGeom>
            <a:avLst/>
            <a:gdLst/>
            <a:ahLst/>
            <a:rect l="l" t="t" r="r" b="b"/>
            <a:pathLst>
              <a:path w="236" h="2278">
                <a:moveTo>
                  <a:pt x="23" y="94"/>
                </a:moveTo>
                <a:lnTo>
                  <a:pt x="17" y="83"/>
                </a:lnTo>
                <a:lnTo>
                  <a:pt x="11" y="73"/>
                </a:lnTo>
                <a:lnTo>
                  <a:pt x="6" y="64"/>
                </a:lnTo>
                <a:lnTo>
                  <a:pt x="2" y="56"/>
                </a:lnTo>
                <a:lnTo>
                  <a:pt x="0" y="46"/>
                </a:lnTo>
                <a:lnTo>
                  <a:pt x="0" y="39"/>
                </a:lnTo>
                <a:lnTo>
                  <a:pt x="2" y="31"/>
                </a:lnTo>
                <a:lnTo>
                  <a:pt x="4" y="23"/>
                </a:lnTo>
                <a:lnTo>
                  <a:pt x="4" y="18"/>
                </a:lnTo>
                <a:lnTo>
                  <a:pt x="8" y="10"/>
                </a:lnTo>
                <a:lnTo>
                  <a:pt x="11" y="6"/>
                </a:lnTo>
                <a:lnTo>
                  <a:pt x="17" y="2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2" y="4"/>
                </a:lnTo>
                <a:lnTo>
                  <a:pt x="63" y="8"/>
                </a:lnTo>
                <a:lnTo>
                  <a:pt x="75" y="12"/>
                </a:lnTo>
                <a:lnTo>
                  <a:pt x="88" y="16"/>
                </a:lnTo>
                <a:lnTo>
                  <a:pt x="104" y="22"/>
                </a:lnTo>
                <a:lnTo>
                  <a:pt x="119" y="27"/>
                </a:lnTo>
                <a:lnTo>
                  <a:pt x="134" y="35"/>
                </a:lnTo>
                <a:lnTo>
                  <a:pt x="150" y="45"/>
                </a:lnTo>
                <a:lnTo>
                  <a:pt x="159" y="48"/>
                </a:lnTo>
                <a:lnTo>
                  <a:pt x="169" y="54"/>
                </a:lnTo>
                <a:lnTo>
                  <a:pt x="176" y="60"/>
                </a:lnTo>
                <a:lnTo>
                  <a:pt x="184" y="66"/>
                </a:lnTo>
                <a:lnTo>
                  <a:pt x="192" y="71"/>
                </a:lnTo>
                <a:lnTo>
                  <a:pt x="200" y="77"/>
                </a:lnTo>
                <a:lnTo>
                  <a:pt x="205" y="83"/>
                </a:lnTo>
                <a:lnTo>
                  <a:pt x="211" y="87"/>
                </a:lnTo>
                <a:lnTo>
                  <a:pt x="215" y="93"/>
                </a:lnTo>
                <a:lnTo>
                  <a:pt x="221" y="96"/>
                </a:lnTo>
                <a:lnTo>
                  <a:pt x="224" y="102"/>
                </a:lnTo>
                <a:lnTo>
                  <a:pt x="226" y="106"/>
                </a:lnTo>
                <a:lnTo>
                  <a:pt x="230" y="110"/>
                </a:lnTo>
                <a:lnTo>
                  <a:pt x="232" y="114"/>
                </a:lnTo>
                <a:lnTo>
                  <a:pt x="234" y="118"/>
                </a:lnTo>
                <a:lnTo>
                  <a:pt x="236" y="119"/>
                </a:lnTo>
                <a:lnTo>
                  <a:pt x="236" y="123"/>
                </a:lnTo>
                <a:lnTo>
                  <a:pt x="236" y="125"/>
                </a:lnTo>
                <a:lnTo>
                  <a:pt x="236" y="141"/>
                </a:lnTo>
                <a:lnTo>
                  <a:pt x="234" y="154"/>
                </a:lnTo>
                <a:lnTo>
                  <a:pt x="234" y="162"/>
                </a:lnTo>
                <a:lnTo>
                  <a:pt x="232" y="169"/>
                </a:lnTo>
                <a:lnTo>
                  <a:pt x="230" y="177"/>
                </a:lnTo>
                <a:lnTo>
                  <a:pt x="226" y="185"/>
                </a:lnTo>
                <a:lnTo>
                  <a:pt x="223" y="194"/>
                </a:lnTo>
                <a:lnTo>
                  <a:pt x="221" y="204"/>
                </a:lnTo>
                <a:lnTo>
                  <a:pt x="219" y="215"/>
                </a:lnTo>
                <a:lnTo>
                  <a:pt x="217" y="229"/>
                </a:lnTo>
                <a:lnTo>
                  <a:pt x="215" y="244"/>
                </a:lnTo>
                <a:lnTo>
                  <a:pt x="213" y="260"/>
                </a:lnTo>
                <a:lnTo>
                  <a:pt x="211" y="277"/>
                </a:lnTo>
                <a:lnTo>
                  <a:pt x="207" y="296"/>
                </a:lnTo>
                <a:lnTo>
                  <a:pt x="205" y="306"/>
                </a:lnTo>
                <a:lnTo>
                  <a:pt x="203" y="319"/>
                </a:lnTo>
                <a:lnTo>
                  <a:pt x="201" y="332"/>
                </a:lnTo>
                <a:lnTo>
                  <a:pt x="200" y="348"/>
                </a:lnTo>
                <a:lnTo>
                  <a:pt x="198" y="365"/>
                </a:lnTo>
                <a:lnTo>
                  <a:pt x="196" y="384"/>
                </a:lnTo>
                <a:lnTo>
                  <a:pt x="194" y="405"/>
                </a:lnTo>
                <a:lnTo>
                  <a:pt x="192" y="428"/>
                </a:lnTo>
                <a:lnTo>
                  <a:pt x="190" y="453"/>
                </a:lnTo>
                <a:lnTo>
                  <a:pt x="188" y="478"/>
                </a:lnTo>
                <a:lnTo>
                  <a:pt x="186" y="507"/>
                </a:lnTo>
                <a:lnTo>
                  <a:pt x="184" y="536"/>
                </a:lnTo>
                <a:lnTo>
                  <a:pt x="184" y="567"/>
                </a:lnTo>
                <a:lnTo>
                  <a:pt x="182" y="599"/>
                </a:lnTo>
                <a:lnTo>
                  <a:pt x="180" y="632"/>
                </a:lnTo>
                <a:lnTo>
                  <a:pt x="178" y="668"/>
                </a:lnTo>
                <a:lnTo>
                  <a:pt x="176" y="705"/>
                </a:lnTo>
                <a:lnTo>
                  <a:pt x="175" y="743"/>
                </a:lnTo>
                <a:lnTo>
                  <a:pt x="175" y="783"/>
                </a:lnTo>
                <a:lnTo>
                  <a:pt x="175" y="824"/>
                </a:lnTo>
                <a:lnTo>
                  <a:pt x="175" y="868"/>
                </a:lnTo>
                <a:lnTo>
                  <a:pt x="175" y="912"/>
                </a:lnTo>
                <a:lnTo>
                  <a:pt x="175" y="958"/>
                </a:lnTo>
                <a:lnTo>
                  <a:pt x="176" y="1008"/>
                </a:lnTo>
                <a:lnTo>
                  <a:pt x="176" y="1058"/>
                </a:lnTo>
                <a:lnTo>
                  <a:pt x="178" y="1108"/>
                </a:lnTo>
                <a:lnTo>
                  <a:pt x="178" y="1162"/>
                </a:lnTo>
                <a:lnTo>
                  <a:pt x="180" y="1217"/>
                </a:lnTo>
                <a:lnTo>
                  <a:pt x="182" y="1273"/>
                </a:lnTo>
                <a:lnTo>
                  <a:pt x="184" y="1330"/>
                </a:lnTo>
                <a:lnTo>
                  <a:pt x="186" y="1390"/>
                </a:lnTo>
                <a:lnTo>
                  <a:pt x="188" y="1451"/>
                </a:lnTo>
                <a:lnTo>
                  <a:pt x="188" y="1482"/>
                </a:lnTo>
                <a:lnTo>
                  <a:pt x="190" y="1513"/>
                </a:lnTo>
                <a:lnTo>
                  <a:pt x="190" y="1543"/>
                </a:lnTo>
                <a:lnTo>
                  <a:pt x="190" y="1572"/>
                </a:lnTo>
                <a:lnTo>
                  <a:pt x="192" y="1601"/>
                </a:lnTo>
                <a:lnTo>
                  <a:pt x="192" y="1628"/>
                </a:lnTo>
                <a:lnTo>
                  <a:pt x="192" y="1655"/>
                </a:lnTo>
                <a:lnTo>
                  <a:pt x="192" y="1682"/>
                </a:lnTo>
                <a:lnTo>
                  <a:pt x="194" y="1708"/>
                </a:lnTo>
                <a:lnTo>
                  <a:pt x="194" y="1733"/>
                </a:lnTo>
                <a:lnTo>
                  <a:pt x="194" y="1758"/>
                </a:lnTo>
                <a:lnTo>
                  <a:pt x="194" y="1781"/>
                </a:lnTo>
                <a:lnTo>
                  <a:pt x="194" y="1804"/>
                </a:lnTo>
                <a:lnTo>
                  <a:pt x="194" y="1827"/>
                </a:lnTo>
                <a:lnTo>
                  <a:pt x="194" y="1850"/>
                </a:lnTo>
                <a:lnTo>
                  <a:pt x="194" y="1872"/>
                </a:lnTo>
                <a:lnTo>
                  <a:pt x="194" y="1893"/>
                </a:lnTo>
                <a:lnTo>
                  <a:pt x="192" y="1914"/>
                </a:lnTo>
                <a:lnTo>
                  <a:pt x="192" y="1933"/>
                </a:lnTo>
                <a:lnTo>
                  <a:pt x="192" y="1952"/>
                </a:lnTo>
                <a:lnTo>
                  <a:pt x="192" y="1969"/>
                </a:lnTo>
                <a:lnTo>
                  <a:pt x="190" y="1987"/>
                </a:lnTo>
                <a:lnTo>
                  <a:pt x="190" y="2004"/>
                </a:lnTo>
                <a:lnTo>
                  <a:pt x="188" y="2021"/>
                </a:lnTo>
                <a:lnTo>
                  <a:pt x="188" y="2037"/>
                </a:lnTo>
                <a:lnTo>
                  <a:pt x="186" y="2050"/>
                </a:lnTo>
                <a:lnTo>
                  <a:pt x="186" y="2065"/>
                </a:lnTo>
                <a:lnTo>
                  <a:pt x="184" y="2079"/>
                </a:lnTo>
                <a:lnTo>
                  <a:pt x="182" y="2092"/>
                </a:lnTo>
                <a:lnTo>
                  <a:pt x="182" y="2104"/>
                </a:lnTo>
                <a:lnTo>
                  <a:pt x="180" y="2115"/>
                </a:lnTo>
                <a:lnTo>
                  <a:pt x="178" y="2127"/>
                </a:lnTo>
                <a:lnTo>
                  <a:pt x="175" y="2146"/>
                </a:lnTo>
                <a:lnTo>
                  <a:pt x="171" y="2165"/>
                </a:lnTo>
                <a:lnTo>
                  <a:pt x="167" y="2182"/>
                </a:lnTo>
                <a:lnTo>
                  <a:pt x="163" y="2198"/>
                </a:lnTo>
                <a:lnTo>
                  <a:pt x="159" y="2211"/>
                </a:lnTo>
                <a:lnTo>
                  <a:pt x="155" y="2225"/>
                </a:lnTo>
                <a:lnTo>
                  <a:pt x="153" y="2236"/>
                </a:lnTo>
                <a:lnTo>
                  <a:pt x="150" y="2246"/>
                </a:lnTo>
                <a:lnTo>
                  <a:pt x="146" y="2255"/>
                </a:lnTo>
                <a:lnTo>
                  <a:pt x="142" y="2263"/>
                </a:lnTo>
                <a:lnTo>
                  <a:pt x="138" y="2269"/>
                </a:lnTo>
                <a:lnTo>
                  <a:pt x="134" y="2273"/>
                </a:lnTo>
                <a:lnTo>
                  <a:pt x="130" y="2277"/>
                </a:lnTo>
                <a:lnTo>
                  <a:pt x="127" y="2278"/>
                </a:lnTo>
                <a:lnTo>
                  <a:pt x="123" y="2278"/>
                </a:lnTo>
                <a:lnTo>
                  <a:pt x="121" y="2277"/>
                </a:lnTo>
                <a:lnTo>
                  <a:pt x="113" y="2273"/>
                </a:lnTo>
                <a:lnTo>
                  <a:pt x="105" y="2265"/>
                </a:lnTo>
                <a:lnTo>
                  <a:pt x="98" y="2257"/>
                </a:lnTo>
                <a:lnTo>
                  <a:pt x="90" y="2246"/>
                </a:lnTo>
                <a:lnTo>
                  <a:pt x="84" y="2234"/>
                </a:lnTo>
                <a:lnTo>
                  <a:pt x="77" y="2221"/>
                </a:lnTo>
                <a:lnTo>
                  <a:pt x="69" y="2204"/>
                </a:lnTo>
                <a:lnTo>
                  <a:pt x="61" y="2186"/>
                </a:lnTo>
                <a:lnTo>
                  <a:pt x="56" y="2169"/>
                </a:lnTo>
                <a:lnTo>
                  <a:pt x="50" y="2152"/>
                </a:lnTo>
                <a:lnTo>
                  <a:pt x="44" y="2136"/>
                </a:lnTo>
                <a:lnTo>
                  <a:pt x="40" y="2123"/>
                </a:lnTo>
                <a:lnTo>
                  <a:pt x="36" y="2111"/>
                </a:lnTo>
                <a:lnTo>
                  <a:pt x="34" y="2098"/>
                </a:lnTo>
                <a:lnTo>
                  <a:pt x="33" y="2087"/>
                </a:lnTo>
                <a:lnTo>
                  <a:pt x="33" y="2075"/>
                </a:lnTo>
                <a:lnTo>
                  <a:pt x="33" y="2071"/>
                </a:lnTo>
                <a:lnTo>
                  <a:pt x="33" y="2067"/>
                </a:lnTo>
                <a:lnTo>
                  <a:pt x="34" y="2062"/>
                </a:lnTo>
                <a:lnTo>
                  <a:pt x="34" y="2056"/>
                </a:lnTo>
                <a:lnTo>
                  <a:pt x="34" y="2048"/>
                </a:lnTo>
                <a:lnTo>
                  <a:pt x="36" y="2040"/>
                </a:lnTo>
                <a:lnTo>
                  <a:pt x="38" y="2033"/>
                </a:lnTo>
                <a:lnTo>
                  <a:pt x="38" y="2023"/>
                </a:lnTo>
                <a:lnTo>
                  <a:pt x="40" y="2016"/>
                </a:lnTo>
                <a:lnTo>
                  <a:pt x="42" y="2004"/>
                </a:lnTo>
                <a:lnTo>
                  <a:pt x="44" y="1994"/>
                </a:lnTo>
                <a:lnTo>
                  <a:pt x="46" y="1983"/>
                </a:lnTo>
                <a:lnTo>
                  <a:pt x="46" y="1971"/>
                </a:lnTo>
                <a:lnTo>
                  <a:pt x="48" y="1960"/>
                </a:lnTo>
                <a:lnTo>
                  <a:pt x="50" y="1948"/>
                </a:lnTo>
                <a:lnTo>
                  <a:pt x="52" y="1935"/>
                </a:lnTo>
                <a:lnTo>
                  <a:pt x="54" y="1927"/>
                </a:lnTo>
                <a:lnTo>
                  <a:pt x="54" y="1920"/>
                </a:lnTo>
                <a:lnTo>
                  <a:pt x="56" y="1910"/>
                </a:lnTo>
                <a:lnTo>
                  <a:pt x="56" y="1898"/>
                </a:lnTo>
                <a:lnTo>
                  <a:pt x="56" y="1887"/>
                </a:lnTo>
                <a:lnTo>
                  <a:pt x="58" y="1875"/>
                </a:lnTo>
                <a:lnTo>
                  <a:pt x="58" y="1860"/>
                </a:lnTo>
                <a:lnTo>
                  <a:pt x="59" y="1847"/>
                </a:lnTo>
                <a:lnTo>
                  <a:pt x="59" y="1829"/>
                </a:lnTo>
                <a:lnTo>
                  <a:pt x="61" y="1812"/>
                </a:lnTo>
                <a:lnTo>
                  <a:pt x="61" y="1793"/>
                </a:lnTo>
                <a:lnTo>
                  <a:pt x="63" y="1774"/>
                </a:lnTo>
                <a:lnTo>
                  <a:pt x="63" y="1753"/>
                </a:lnTo>
                <a:lnTo>
                  <a:pt x="63" y="1732"/>
                </a:lnTo>
                <a:lnTo>
                  <a:pt x="65" y="1708"/>
                </a:lnTo>
                <a:lnTo>
                  <a:pt x="65" y="1684"/>
                </a:lnTo>
                <a:lnTo>
                  <a:pt x="65" y="1659"/>
                </a:lnTo>
                <a:lnTo>
                  <a:pt x="67" y="1632"/>
                </a:lnTo>
                <a:lnTo>
                  <a:pt x="67" y="1603"/>
                </a:lnTo>
                <a:lnTo>
                  <a:pt x="67" y="1574"/>
                </a:lnTo>
                <a:lnTo>
                  <a:pt x="69" y="1543"/>
                </a:lnTo>
                <a:lnTo>
                  <a:pt x="69" y="1513"/>
                </a:lnTo>
                <a:lnTo>
                  <a:pt x="69" y="1480"/>
                </a:lnTo>
                <a:lnTo>
                  <a:pt x="69" y="1446"/>
                </a:lnTo>
                <a:lnTo>
                  <a:pt x="71" y="1411"/>
                </a:lnTo>
                <a:lnTo>
                  <a:pt x="71" y="1375"/>
                </a:lnTo>
                <a:lnTo>
                  <a:pt x="71" y="1336"/>
                </a:lnTo>
                <a:lnTo>
                  <a:pt x="71" y="1298"/>
                </a:lnTo>
                <a:lnTo>
                  <a:pt x="71" y="1257"/>
                </a:lnTo>
                <a:lnTo>
                  <a:pt x="71" y="1217"/>
                </a:lnTo>
                <a:lnTo>
                  <a:pt x="71" y="1173"/>
                </a:lnTo>
                <a:lnTo>
                  <a:pt x="71" y="1131"/>
                </a:lnTo>
                <a:lnTo>
                  <a:pt x="71" y="1087"/>
                </a:lnTo>
                <a:lnTo>
                  <a:pt x="71" y="1044"/>
                </a:lnTo>
                <a:lnTo>
                  <a:pt x="71" y="1002"/>
                </a:lnTo>
                <a:lnTo>
                  <a:pt x="71" y="962"/>
                </a:lnTo>
                <a:lnTo>
                  <a:pt x="71" y="922"/>
                </a:lnTo>
                <a:lnTo>
                  <a:pt x="71" y="885"/>
                </a:lnTo>
                <a:lnTo>
                  <a:pt x="71" y="847"/>
                </a:lnTo>
                <a:lnTo>
                  <a:pt x="71" y="812"/>
                </a:lnTo>
                <a:lnTo>
                  <a:pt x="71" y="776"/>
                </a:lnTo>
                <a:lnTo>
                  <a:pt x="71" y="743"/>
                </a:lnTo>
                <a:lnTo>
                  <a:pt x="71" y="711"/>
                </a:lnTo>
                <a:lnTo>
                  <a:pt x="71" y="678"/>
                </a:lnTo>
                <a:lnTo>
                  <a:pt x="71" y="647"/>
                </a:lnTo>
                <a:lnTo>
                  <a:pt x="71" y="618"/>
                </a:lnTo>
                <a:lnTo>
                  <a:pt x="71" y="590"/>
                </a:lnTo>
                <a:lnTo>
                  <a:pt x="71" y="563"/>
                </a:lnTo>
                <a:lnTo>
                  <a:pt x="69" y="538"/>
                </a:lnTo>
                <a:lnTo>
                  <a:pt x="69" y="513"/>
                </a:lnTo>
                <a:lnTo>
                  <a:pt x="69" y="488"/>
                </a:lnTo>
                <a:lnTo>
                  <a:pt x="69" y="465"/>
                </a:lnTo>
                <a:lnTo>
                  <a:pt x="69" y="444"/>
                </a:lnTo>
                <a:lnTo>
                  <a:pt x="69" y="423"/>
                </a:lnTo>
                <a:lnTo>
                  <a:pt x="67" y="403"/>
                </a:lnTo>
                <a:lnTo>
                  <a:pt x="67" y="384"/>
                </a:lnTo>
                <a:lnTo>
                  <a:pt x="67" y="367"/>
                </a:lnTo>
                <a:lnTo>
                  <a:pt x="67" y="352"/>
                </a:lnTo>
                <a:lnTo>
                  <a:pt x="65" y="336"/>
                </a:lnTo>
                <a:lnTo>
                  <a:pt x="65" y="321"/>
                </a:lnTo>
                <a:lnTo>
                  <a:pt x="65" y="307"/>
                </a:lnTo>
                <a:lnTo>
                  <a:pt x="63" y="296"/>
                </a:lnTo>
                <a:lnTo>
                  <a:pt x="63" y="284"/>
                </a:lnTo>
                <a:lnTo>
                  <a:pt x="61" y="275"/>
                </a:lnTo>
                <a:lnTo>
                  <a:pt x="59" y="258"/>
                </a:lnTo>
                <a:lnTo>
                  <a:pt x="58" y="240"/>
                </a:lnTo>
                <a:lnTo>
                  <a:pt x="56" y="223"/>
                </a:lnTo>
                <a:lnTo>
                  <a:pt x="54" y="208"/>
                </a:lnTo>
                <a:lnTo>
                  <a:pt x="52" y="192"/>
                </a:lnTo>
                <a:lnTo>
                  <a:pt x="50" y="179"/>
                </a:lnTo>
                <a:lnTo>
                  <a:pt x="48" y="167"/>
                </a:lnTo>
                <a:lnTo>
                  <a:pt x="46" y="154"/>
                </a:lnTo>
                <a:lnTo>
                  <a:pt x="44" y="144"/>
                </a:lnTo>
                <a:lnTo>
                  <a:pt x="42" y="135"/>
                </a:lnTo>
                <a:lnTo>
                  <a:pt x="38" y="125"/>
                </a:lnTo>
                <a:lnTo>
                  <a:pt x="36" y="118"/>
                </a:lnTo>
                <a:lnTo>
                  <a:pt x="33" y="110"/>
                </a:lnTo>
                <a:lnTo>
                  <a:pt x="31" y="104"/>
                </a:lnTo>
                <a:lnTo>
                  <a:pt x="27" y="98"/>
                </a:lnTo>
                <a:lnTo>
                  <a:pt x="23" y="9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2400480" y="2279520"/>
            <a:ext cx="303120" cy="212760"/>
          </a:xfrm>
          <a:custGeom>
            <a:avLst/>
            <a:gdLst/>
            <a:ahLst/>
            <a:rect l="l" t="t" r="r" b="b"/>
            <a:pathLst>
              <a:path w="382" h="267">
                <a:moveTo>
                  <a:pt x="9" y="19"/>
                </a:moveTo>
                <a:lnTo>
                  <a:pt x="15" y="16"/>
                </a:lnTo>
                <a:lnTo>
                  <a:pt x="21" y="12"/>
                </a:lnTo>
                <a:lnTo>
                  <a:pt x="28" y="8"/>
                </a:lnTo>
                <a:lnTo>
                  <a:pt x="38" y="6"/>
                </a:lnTo>
                <a:lnTo>
                  <a:pt x="52" y="2"/>
                </a:lnTo>
                <a:lnTo>
                  <a:pt x="65" y="0"/>
                </a:lnTo>
                <a:lnTo>
                  <a:pt x="80" y="0"/>
                </a:lnTo>
                <a:lnTo>
                  <a:pt x="98" y="0"/>
                </a:lnTo>
                <a:lnTo>
                  <a:pt x="126" y="0"/>
                </a:lnTo>
                <a:lnTo>
                  <a:pt x="142" y="0"/>
                </a:lnTo>
                <a:lnTo>
                  <a:pt x="157" y="0"/>
                </a:lnTo>
                <a:lnTo>
                  <a:pt x="172" y="2"/>
                </a:lnTo>
                <a:lnTo>
                  <a:pt x="188" y="4"/>
                </a:lnTo>
                <a:lnTo>
                  <a:pt x="205" y="6"/>
                </a:lnTo>
                <a:lnTo>
                  <a:pt x="222" y="10"/>
                </a:lnTo>
                <a:lnTo>
                  <a:pt x="238" y="14"/>
                </a:lnTo>
                <a:lnTo>
                  <a:pt x="251" y="19"/>
                </a:lnTo>
                <a:lnTo>
                  <a:pt x="263" y="25"/>
                </a:lnTo>
                <a:lnTo>
                  <a:pt x="274" y="31"/>
                </a:lnTo>
                <a:lnTo>
                  <a:pt x="286" y="41"/>
                </a:lnTo>
                <a:lnTo>
                  <a:pt x="297" y="48"/>
                </a:lnTo>
                <a:lnTo>
                  <a:pt x="309" y="58"/>
                </a:lnTo>
                <a:lnTo>
                  <a:pt x="320" y="69"/>
                </a:lnTo>
                <a:lnTo>
                  <a:pt x="330" y="81"/>
                </a:lnTo>
                <a:lnTo>
                  <a:pt x="339" y="92"/>
                </a:lnTo>
                <a:lnTo>
                  <a:pt x="349" y="104"/>
                </a:lnTo>
                <a:lnTo>
                  <a:pt x="357" y="115"/>
                </a:lnTo>
                <a:lnTo>
                  <a:pt x="362" y="129"/>
                </a:lnTo>
                <a:lnTo>
                  <a:pt x="368" y="142"/>
                </a:lnTo>
                <a:lnTo>
                  <a:pt x="374" y="156"/>
                </a:lnTo>
                <a:lnTo>
                  <a:pt x="378" y="171"/>
                </a:lnTo>
                <a:lnTo>
                  <a:pt x="380" y="188"/>
                </a:lnTo>
                <a:lnTo>
                  <a:pt x="382" y="204"/>
                </a:lnTo>
                <a:lnTo>
                  <a:pt x="382" y="219"/>
                </a:lnTo>
                <a:lnTo>
                  <a:pt x="380" y="231"/>
                </a:lnTo>
                <a:lnTo>
                  <a:pt x="378" y="240"/>
                </a:lnTo>
                <a:lnTo>
                  <a:pt x="374" y="250"/>
                </a:lnTo>
                <a:lnTo>
                  <a:pt x="372" y="256"/>
                </a:lnTo>
                <a:lnTo>
                  <a:pt x="368" y="261"/>
                </a:lnTo>
                <a:lnTo>
                  <a:pt x="364" y="263"/>
                </a:lnTo>
                <a:lnTo>
                  <a:pt x="359" y="267"/>
                </a:lnTo>
                <a:lnTo>
                  <a:pt x="353" y="267"/>
                </a:lnTo>
                <a:lnTo>
                  <a:pt x="345" y="267"/>
                </a:lnTo>
                <a:lnTo>
                  <a:pt x="336" y="265"/>
                </a:lnTo>
                <a:lnTo>
                  <a:pt x="326" y="263"/>
                </a:lnTo>
                <a:lnTo>
                  <a:pt x="316" y="259"/>
                </a:lnTo>
                <a:lnTo>
                  <a:pt x="303" y="256"/>
                </a:lnTo>
                <a:lnTo>
                  <a:pt x="291" y="250"/>
                </a:lnTo>
                <a:lnTo>
                  <a:pt x="278" y="242"/>
                </a:lnTo>
                <a:lnTo>
                  <a:pt x="263" y="234"/>
                </a:lnTo>
                <a:lnTo>
                  <a:pt x="247" y="227"/>
                </a:lnTo>
                <a:lnTo>
                  <a:pt x="230" y="215"/>
                </a:lnTo>
                <a:lnTo>
                  <a:pt x="213" y="206"/>
                </a:lnTo>
                <a:lnTo>
                  <a:pt x="194" y="192"/>
                </a:lnTo>
                <a:lnTo>
                  <a:pt x="174" y="181"/>
                </a:lnTo>
                <a:lnTo>
                  <a:pt x="153" y="167"/>
                </a:lnTo>
                <a:lnTo>
                  <a:pt x="134" y="154"/>
                </a:lnTo>
                <a:lnTo>
                  <a:pt x="115" y="142"/>
                </a:lnTo>
                <a:lnTo>
                  <a:pt x="98" y="131"/>
                </a:lnTo>
                <a:lnTo>
                  <a:pt x="82" y="121"/>
                </a:lnTo>
                <a:lnTo>
                  <a:pt x="69" y="110"/>
                </a:lnTo>
                <a:lnTo>
                  <a:pt x="55" y="100"/>
                </a:lnTo>
                <a:lnTo>
                  <a:pt x="44" y="92"/>
                </a:lnTo>
                <a:lnTo>
                  <a:pt x="34" y="85"/>
                </a:lnTo>
                <a:lnTo>
                  <a:pt x="25" y="77"/>
                </a:lnTo>
                <a:lnTo>
                  <a:pt x="17" y="69"/>
                </a:lnTo>
                <a:lnTo>
                  <a:pt x="11" y="64"/>
                </a:lnTo>
                <a:lnTo>
                  <a:pt x="5" y="60"/>
                </a:lnTo>
                <a:lnTo>
                  <a:pt x="4" y="56"/>
                </a:lnTo>
                <a:lnTo>
                  <a:pt x="2" y="52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2" y="31"/>
                </a:lnTo>
                <a:lnTo>
                  <a:pt x="4" y="27"/>
                </a:lnTo>
                <a:lnTo>
                  <a:pt x="7" y="23"/>
                </a:lnTo>
                <a:lnTo>
                  <a:pt x="9" y="1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1916280" y="2670120"/>
            <a:ext cx="792000" cy="895320"/>
          </a:xfrm>
          <a:custGeom>
            <a:avLst/>
            <a:gdLst/>
            <a:ahLst/>
            <a:rect l="l" t="t" r="r" b="b"/>
            <a:pathLst>
              <a:path w="998" h="1128">
                <a:moveTo>
                  <a:pt x="766" y="40"/>
                </a:moveTo>
                <a:lnTo>
                  <a:pt x="772" y="34"/>
                </a:lnTo>
                <a:lnTo>
                  <a:pt x="778" y="30"/>
                </a:lnTo>
                <a:lnTo>
                  <a:pt x="787" y="21"/>
                </a:lnTo>
                <a:lnTo>
                  <a:pt x="797" y="15"/>
                </a:lnTo>
                <a:lnTo>
                  <a:pt x="806" y="9"/>
                </a:lnTo>
                <a:lnTo>
                  <a:pt x="816" y="5"/>
                </a:lnTo>
                <a:lnTo>
                  <a:pt x="824" y="2"/>
                </a:lnTo>
                <a:lnTo>
                  <a:pt x="829" y="2"/>
                </a:lnTo>
                <a:lnTo>
                  <a:pt x="833" y="0"/>
                </a:lnTo>
                <a:lnTo>
                  <a:pt x="835" y="0"/>
                </a:lnTo>
                <a:lnTo>
                  <a:pt x="839" y="2"/>
                </a:lnTo>
                <a:lnTo>
                  <a:pt x="843" y="2"/>
                </a:lnTo>
                <a:lnTo>
                  <a:pt x="847" y="2"/>
                </a:lnTo>
                <a:lnTo>
                  <a:pt x="851" y="3"/>
                </a:lnTo>
                <a:lnTo>
                  <a:pt x="856" y="5"/>
                </a:lnTo>
                <a:lnTo>
                  <a:pt x="862" y="7"/>
                </a:lnTo>
                <a:lnTo>
                  <a:pt x="868" y="9"/>
                </a:lnTo>
                <a:lnTo>
                  <a:pt x="881" y="15"/>
                </a:lnTo>
                <a:lnTo>
                  <a:pt x="897" y="21"/>
                </a:lnTo>
                <a:lnTo>
                  <a:pt x="914" y="30"/>
                </a:lnTo>
                <a:lnTo>
                  <a:pt x="922" y="34"/>
                </a:lnTo>
                <a:lnTo>
                  <a:pt x="931" y="40"/>
                </a:lnTo>
                <a:lnTo>
                  <a:pt x="939" y="46"/>
                </a:lnTo>
                <a:lnTo>
                  <a:pt x="947" y="51"/>
                </a:lnTo>
                <a:lnTo>
                  <a:pt x="954" y="57"/>
                </a:lnTo>
                <a:lnTo>
                  <a:pt x="962" y="63"/>
                </a:lnTo>
                <a:lnTo>
                  <a:pt x="968" y="69"/>
                </a:lnTo>
                <a:lnTo>
                  <a:pt x="973" y="73"/>
                </a:lnTo>
                <a:lnTo>
                  <a:pt x="977" y="78"/>
                </a:lnTo>
                <a:lnTo>
                  <a:pt x="983" y="84"/>
                </a:lnTo>
                <a:lnTo>
                  <a:pt x="987" y="88"/>
                </a:lnTo>
                <a:lnTo>
                  <a:pt x="989" y="92"/>
                </a:lnTo>
                <a:lnTo>
                  <a:pt x="993" y="96"/>
                </a:lnTo>
                <a:lnTo>
                  <a:pt x="995" y="99"/>
                </a:lnTo>
                <a:lnTo>
                  <a:pt x="996" y="103"/>
                </a:lnTo>
                <a:lnTo>
                  <a:pt x="996" y="105"/>
                </a:lnTo>
                <a:lnTo>
                  <a:pt x="998" y="109"/>
                </a:lnTo>
                <a:lnTo>
                  <a:pt x="998" y="111"/>
                </a:lnTo>
                <a:lnTo>
                  <a:pt x="996" y="115"/>
                </a:lnTo>
                <a:lnTo>
                  <a:pt x="995" y="120"/>
                </a:lnTo>
                <a:lnTo>
                  <a:pt x="991" y="126"/>
                </a:lnTo>
                <a:lnTo>
                  <a:pt x="985" y="134"/>
                </a:lnTo>
                <a:lnTo>
                  <a:pt x="977" y="142"/>
                </a:lnTo>
                <a:lnTo>
                  <a:pt x="970" y="151"/>
                </a:lnTo>
                <a:lnTo>
                  <a:pt x="960" y="161"/>
                </a:lnTo>
                <a:lnTo>
                  <a:pt x="950" y="170"/>
                </a:lnTo>
                <a:lnTo>
                  <a:pt x="935" y="184"/>
                </a:lnTo>
                <a:lnTo>
                  <a:pt x="922" y="195"/>
                </a:lnTo>
                <a:lnTo>
                  <a:pt x="906" y="209"/>
                </a:lnTo>
                <a:lnTo>
                  <a:pt x="893" y="224"/>
                </a:lnTo>
                <a:lnTo>
                  <a:pt x="879" y="239"/>
                </a:lnTo>
                <a:lnTo>
                  <a:pt x="866" y="257"/>
                </a:lnTo>
                <a:lnTo>
                  <a:pt x="854" y="274"/>
                </a:lnTo>
                <a:lnTo>
                  <a:pt x="843" y="291"/>
                </a:lnTo>
                <a:lnTo>
                  <a:pt x="837" y="301"/>
                </a:lnTo>
                <a:lnTo>
                  <a:pt x="831" y="310"/>
                </a:lnTo>
                <a:lnTo>
                  <a:pt x="818" y="332"/>
                </a:lnTo>
                <a:lnTo>
                  <a:pt x="803" y="353"/>
                </a:lnTo>
                <a:lnTo>
                  <a:pt x="787" y="378"/>
                </a:lnTo>
                <a:lnTo>
                  <a:pt x="778" y="389"/>
                </a:lnTo>
                <a:lnTo>
                  <a:pt x="768" y="403"/>
                </a:lnTo>
                <a:lnTo>
                  <a:pt x="758" y="416"/>
                </a:lnTo>
                <a:lnTo>
                  <a:pt x="749" y="429"/>
                </a:lnTo>
                <a:lnTo>
                  <a:pt x="739" y="445"/>
                </a:lnTo>
                <a:lnTo>
                  <a:pt x="730" y="460"/>
                </a:lnTo>
                <a:lnTo>
                  <a:pt x="718" y="476"/>
                </a:lnTo>
                <a:lnTo>
                  <a:pt x="709" y="493"/>
                </a:lnTo>
                <a:lnTo>
                  <a:pt x="695" y="510"/>
                </a:lnTo>
                <a:lnTo>
                  <a:pt x="682" y="527"/>
                </a:lnTo>
                <a:lnTo>
                  <a:pt x="668" y="547"/>
                </a:lnTo>
                <a:lnTo>
                  <a:pt x="653" y="564"/>
                </a:lnTo>
                <a:lnTo>
                  <a:pt x="639" y="583"/>
                </a:lnTo>
                <a:lnTo>
                  <a:pt x="624" y="602"/>
                </a:lnTo>
                <a:lnTo>
                  <a:pt x="607" y="621"/>
                </a:lnTo>
                <a:lnTo>
                  <a:pt x="592" y="642"/>
                </a:lnTo>
                <a:lnTo>
                  <a:pt x="574" y="664"/>
                </a:lnTo>
                <a:lnTo>
                  <a:pt x="555" y="683"/>
                </a:lnTo>
                <a:lnTo>
                  <a:pt x="538" y="704"/>
                </a:lnTo>
                <a:lnTo>
                  <a:pt x="519" y="725"/>
                </a:lnTo>
                <a:lnTo>
                  <a:pt x="499" y="748"/>
                </a:lnTo>
                <a:lnTo>
                  <a:pt x="478" y="769"/>
                </a:lnTo>
                <a:lnTo>
                  <a:pt x="459" y="792"/>
                </a:lnTo>
                <a:lnTo>
                  <a:pt x="438" y="815"/>
                </a:lnTo>
                <a:lnTo>
                  <a:pt x="415" y="838"/>
                </a:lnTo>
                <a:lnTo>
                  <a:pt x="392" y="861"/>
                </a:lnTo>
                <a:lnTo>
                  <a:pt x="369" y="884"/>
                </a:lnTo>
                <a:lnTo>
                  <a:pt x="348" y="903"/>
                </a:lnTo>
                <a:lnTo>
                  <a:pt x="329" y="923"/>
                </a:lnTo>
                <a:lnTo>
                  <a:pt x="307" y="942"/>
                </a:lnTo>
                <a:lnTo>
                  <a:pt x="288" y="959"/>
                </a:lnTo>
                <a:lnTo>
                  <a:pt x="269" y="975"/>
                </a:lnTo>
                <a:lnTo>
                  <a:pt x="252" y="990"/>
                </a:lnTo>
                <a:lnTo>
                  <a:pt x="233" y="1003"/>
                </a:lnTo>
                <a:lnTo>
                  <a:pt x="215" y="1017"/>
                </a:lnTo>
                <a:lnTo>
                  <a:pt x="198" y="1028"/>
                </a:lnTo>
                <a:lnTo>
                  <a:pt x="183" y="1040"/>
                </a:lnTo>
                <a:lnTo>
                  <a:pt x="167" y="1049"/>
                </a:lnTo>
                <a:lnTo>
                  <a:pt x="152" y="1059"/>
                </a:lnTo>
                <a:lnTo>
                  <a:pt x="137" y="1067"/>
                </a:lnTo>
                <a:lnTo>
                  <a:pt x="121" y="1076"/>
                </a:lnTo>
                <a:lnTo>
                  <a:pt x="106" y="1084"/>
                </a:lnTo>
                <a:lnTo>
                  <a:pt x="93" y="1092"/>
                </a:lnTo>
                <a:lnTo>
                  <a:pt x="81" y="1099"/>
                </a:lnTo>
                <a:lnTo>
                  <a:pt x="70" y="1105"/>
                </a:lnTo>
                <a:lnTo>
                  <a:pt x="58" y="1111"/>
                </a:lnTo>
                <a:lnTo>
                  <a:pt x="48" y="1115"/>
                </a:lnTo>
                <a:lnTo>
                  <a:pt x="41" y="1118"/>
                </a:lnTo>
                <a:lnTo>
                  <a:pt x="33" y="1122"/>
                </a:lnTo>
                <a:lnTo>
                  <a:pt x="25" y="1126"/>
                </a:lnTo>
                <a:lnTo>
                  <a:pt x="20" y="1128"/>
                </a:lnTo>
                <a:lnTo>
                  <a:pt x="14" y="1128"/>
                </a:lnTo>
                <a:lnTo>
                  <a:pt x="10" y="1128"/>
                </a:lnTo>
                <a:lnTo>
                  <a:pt x="6" y="1128"/>
                </a:lnTo>
                <a:lnTo>
                  <a:pt x="4" y="1128"/>
                </a:lnTo>
                <a:lnTo>
                  <a:pt x="2" y="1126"/>
                </a:lnTo>
                <a:lnTo>
                  <a:pt x="0" y="1124"/>
                </a:lnTo>
                <a:lnTo>
                  <a:pt x="2" y="1120"/>
                </a:lnTo>
                <a:lnTo>
                  <a:pt x="4" y="1115"/>
                </a:lnTo>
                <a:lnTo>
                  <a:pt x="10" y="1107"/>
                </a:lnTo>
                <a:lnTo>
                  <a:pt x="16" y="1099"/>
                </a:lnTo>
                <a:lnTo>
                  <a:pt x="23" y="1090"/>
                </a:lnTo>
                <a:lnTo>
                  <a:pt x="33" y="1078"/>
                </a:lnTo>
                <a:lnTo>
                  <a:pt x="46" y="1065"/>
                </a:lnTo>
                <a:lnTo>
                  <a:pt x="60" y="1051"/>
                </a:lnTo>
                <a:lnTo>
                  <a:pt x="75" y="1036"/>
                </a:lnTo>
                <a:lnTo>
                  <a:pt x="93" y="1017"/>
                </a:lnTo>
                <a:lnTo>
                  <a:pt x="112" y="998"/>
                </a:lnTo>
                <a:lnTo>
                  <a:pt x="133" y="978"/>
                </a:lnTo>
                <a:lnTo>
                  <a:pt x="154" y="955"/>
                </a:lnTo>
                <a:lnTo>
                  <a:pt x="179" y="930"/>
                </a:lnTo>
                <a:lnTo>
                  <a:pt x="206" y="905"/>
                </a:lnTo>
                <a:lnTo>
                  <a:pt x="256" y="856"/>
                </a:lnTo>
                <a:lnTo>
                  <a:pt x="304" y="804"/>
                </a:lnTo>
                <a:lnTo>
                  <a:pt x="352" y="750"/>
                </a:lnTo>
                <a:lnTo>
                  <a:pt x="400" y="694"/>
                </a:lnTo>
                <a:lnTo>
                  <a:pt x="446" y="639"/>
                </a:lnTo>
                <a:lnTo>
                  <a:pt x="490" y="581"/>
                </a:lnTo>
                <a:lnTo>
                  <a:pt x="511" y="552"/>
                </a:lnTo>
                <a:lnTo>
                  <a:pt x="532" y="524"/>
                </a:lnTo>
                <a:lnTo>
                  <a:pt x="553" y="493"/>
                </a:lnTo>
                <a:lnTo>
                  <a:pt x="572" y="462"/>
                </a:lnTo>
                <a:lnTo>
                  <a:pt x="592" y="433"/>
                </a:lnTo>
                <a:lnTo>
                  <a:pt x="609" y="405"/>
                </a:lnTo>
                <a:lnTo>
                  <a:pt x="626" y="380"/>
                </a:lnTo>
                <a:lnTo>
                  <a:pt x="641" y="355"/>
                </a:lnTo>
                <a:lnTo>
                  <a:pt x="655" y="332"/>
                </a:lnTo>
                <a:lnTo>
                  <a:pt x="666" y="312"/>
                </a:lnTo>
                <a:lnTo>
                  <a:pt x="678" y="293"/>
                </a:lnTo>
                <a:lnTo>
                  <a:pt x="687" y="276"/>
                </a:lnTo>
                <a:lnTo>
                  <a:pt x="697" y="259"/>
                </a:lnTo>
                <a:lnTo>
                  <a:pt x="703" y="245"/>
                </a:lnTo>
                <a:lnTo>
                  <a:pt x="709" y="234"/>
                </a:lnTo>
                <a:lnTo>
                  <a:pt x="714" y="224"/>
                </a:lnTo>
                <a:lnTo>
                  <a:pt x="716" y="215"/>
                </a:lnTo>
                <a:lnTo>
                  <a:pt x="718" y="209"/>
                </a:lnTo>
                <a:lnTo>
                  <a:pt x="718" y="205"/>
                </a:lnTo>
                <a:lnTo>
                  <a:pt x="718" y="201"/>
                </a:lnTo>
                <a:lnTo>
                  <a:pt x="714" y="199"/>
                </a:lnTo>
                <a:lnTo>
                  <a:pt x="710" y="199"/>
                </a:lnTo>
                <a:lnTo>
                  <a:pt x="707" y="199"/>
                </a:lnTo>
                <a:lnTo>
                  <a:pt x="699" y="199"/>
                </a:lnTo>
                <a:lnTo>
                  <a:pt x="691" y="199"/>
                </a:lnTo>
                <a:lnTo>
                  <a:pt x="682" y="201"/>
                </a:lnTo>
                <a:lnTo>
                  <a:pt x="672" y="205"/>
                </a:lnTo>
                <a:lnTo>
                  <a:pt x="659" y="207"/>
                </a:lnTo>
                <a:lnTo>
                  <a:pt x="645" y="211"/>
                </a:lnTo>
                <a:lnTo>
                  <a:pt x="632" y="215"/>
                </a:lnTo>
                <a:lnTo>
                  <a:pt x="615" y="220"/>
                </a:lnTo>
                <a:lnTo>
                  <a:pt x="597" y="224"/>
                </a:lnTo>
                <a:lnTo>
                  <a:pt x="580" y="230"/>
                </a:lnTo>
                <a:lnTo>
                  <a:pt x="559" y="238"/>
                </a:lnTo>
                <a:lnTo>
                  <a:pt x="538" y="243"/>
                </a:lnTo>
                <a:lnTo>
                  <a:pt x="515" y="251"/>
                </a:lnTo>
                <a:lnTo>
                  <a:pt x="492" y="261"/>
                </a:lnTo>
                <a:lnTo>
                  <a:pt x="471" y="268"/>
                </a:lnTo>
                <a:lnTo>
                  <a:pt x="449" y="278"/>
                </a:lnTo>
                <a:lnTo>
                  <a:pt x="430" y="284"/>
                </a:lnTo>
                <a:lnTo>
                  <a:pt x="411" y="291"/>
                </a:lnTo>
                <a:lnTo>
                  <a:pt x="394" y="297"/>
                </a:lnTo>
                <a:lnTo>
                  <a:pt x="377" y="301"/>
                </a:lnTo>
                <a:lnTo>
                  <a:pt x="361" y="307"/>
                </a:lnTo>
                <a:lnTo>
                  <a:pt x="348" y="310"/>
                </a:lnTo>
                <a:lnTo>
                  <a:pt x="336" y="312"/>
                </a:lnTo>
                <a:lnTo>
                  <a:pt x="323" y="316"/>
                </a:lnTo>
                <a:lnTo>
                  <a:pt x="313" y="318"/>
                </a:lnTo>
                <a:lnTo>
                  <a:pt x="304" y="320"/>
                </a:lnTo>
                <a:lnTo>
                  <a:pt x="296" y="320"/>
                </a:lnTo>
                <a:lnTo>
                  <a:pt x="288" y="322"/>
                </a:lnTo>
                <a:lnTo>
                  <a:pt x="283" y="322"/>
                </a:lnTo>
                <a:lnTo>
                  <a:pt x="271" y="324"/>
                </a:lnTo>
                <a:lnTo>
                  <a:pt x="260" y="326"/>
                </a:lnTo>
                <a:lnTo>
                  <a:pt x="246" y="326"/>
                </a:lnTo>
                <a:lnTo>
                  <a:pt x="235" y="324"/>
                </a:lnTo>
                <a:lnTo>
                  <a:pt x="221" y="320"/>
                </a:lnTo>
                <a:lnTo>
                  <a:pt x="208" y="314"/>
                </a:lnTo>
                <a:lnTo>
                  <a:pt x="196" y="309"/>
                </a:lnTo>
                <a:lnTo>
                  <a:pt x="185" y="301"/>
                </a:lnTo>
                <a:lnTo>
                  <a:pt x="171" y="297"/>
                </a:lnTo>
                <a:lnTo>
                  <a:pt x="160" y="291"/>
                </a:lnTo>
                <a:lnTo>
                  <a:pt x="150" y="286"/>
                </a:lnTo>
                <a:lnTo>
                  <a:pt x="141" y="280"/>
                </a:lnTo>
                <a:lnTo>
                  <a:pt x="133" y="270"/>
                </a:lnTo>
                <a:lnTo>
                  <a:pt x="127" y="263"/>
                </a:lnTo>
                <a:lnTo>
                  <a:pt x="121" y="253"/>
                </a:lnTo>
                <a:lnTo>
                  <a:pt x="117" y="241"/>
                </a:lnTo>
                <a:lnTo>
                  <a:pt x="116" y="236"/>
                </a:lnTo>
                <a:lnTo>
                  <a:pt x="116" y="232"/>
                </a:lnTo>
                <a:lnTo>
                  <a:pt x="116" y="226"/>
                </a:lnTo>
                <a:lnTo>
                  <a:pt x="117" y="222"/>
                </a:lnTo>
                <a:lnTo>
                  <a:pt x="119" y="218"/>
                </a:lnTo>
                <a:lnTo>
                  <a:pt x="123" y="215"/>
                </a:lnTo>
                <a:lnTo>
                  <a:pt x="129" y="213"/>
                </a:lnTo>
                <a:lnTo>
                  <a:pt x="133" y="211"/>
                </a:lnTo>
                <a:lnTo>
                  <a:pt x="141" y="207"/>
                </a:lnTo>
                <a:lnTo>
                  <a:pt x="148" y="207"/>
                </a:lnTo>
                <a:lnTo>
                  <a:pt x="156" y="205"/>
                </a:lnTo>
                <a:lnTo>
                  <a:pt x="165" y="203"/>
                </a:lnTo>
                <a:lnTo>
                  <a:pt x="175" y="203"/>
                </a:lnTo>
                <a:lnTo>
                  <a:pt x="189" y="201"/>
                </a:lnTo>
                <a:lnTo>
                  <a:pt x="200" y="201"/>
                </a:lnTo>
                <a:lnTo>
                  <a:pt x="215" y="201"/>
                </a:lnTo>
                <a:lnTo>
                  <a:pt x="229" y="201"/>
                </a:lnTo>
                <a:lnTo>
                  <a:pt x="244" y="201"/>
                </a:lnTo>
                <a:lnTo>
                  <a:pt x="261" y="199"/>
                </a:lnTo>
                <a:lnTo>
                  <a:pt x="279" y="197"/>
                </a:lnTo>
                <a:lnTo>
                  <a:pt x="296" y="195"/>
                </a:lnTo>
                <a:lnTo>
                  <a:pt x="313" y="193"/>
                </a:lnTo>
                <a:lnTo>
                  <a:pt x="332" y="190"/>
                </a:lnTo>
                <a:lnTo>
                  <a:pt x="352" y="186"/>
                </a:lnTo>
                <a:lnTo>
                  <a:pt x="373" y="182"/>
                </a:lnTo>
                <a:lnTo>
                  <a:pt x="394" y="178"/>
                </a:lnTo>
                <a:lnTo>
                  <a:pt x="415" y="172"/>
                </a:lnTo>
                <a:lnTo>
                  <a:pt x="438" y="168"/>
                </a:lnTo>
                <a:lnTo>
                  <a:pt x="461" y="161"/>
                </a:lnTo>
                <a:lnTo>
                  <a:pt x="484" y="155"/>
                </a:lnTo>
                <a:lnTo>
                  <a:pt x="509" y="149"/>
                </a:lnTo>
                <a:lnTo>
                  <a:pt x="534" y="142"/>
                </a:lnTo>
                <a:lnTo>
                  <a:pt x="557" y="134"/>
                </a:lnTo>
                <a:lnTo>
                  <a:pt x="578" y="126"/>
                </a:lnTo>
                <a:lnTo>
                  <a:pt x="599" y="119"/>
                </a:lnTo>
                <a:lnTo>
                  <a:pt x="618" y="113"/>
                </a:lnTo>
                <a:lnTo>
                  <a:pt x="638" y="105"/>
                </a:lnTo>
                <a:lnTo>
                  <a:pt x="655" y="99"/>
                </a:lnTo>
                <a:lnTo>
                  <a:pt x="672" y="94"/>
                </a:lnTo>
                <a:lnTo>
                  <a:pt x="686" y="86"/>
                </a:lnTo>
                <a:lnTo>
                  <a:pt x="701" y="80"/>
                </a:lnTo>
                <a:lnTo>
                  <a:pt x="712" y="74"/>
                </a:lnTo>
                <a:lnTo>
                  <a:pt x="724" y="69"/>
                </a:lnTo>
                <a:lnTo>
                  <a:pt x="735" y="63"/>
                </a:lnTo>
                <a:lnTo>
                  <a:pt x="745" y="57"/>
                </a:lnTo>
                <a:lnTo>
                  <a:pt x="753" y="51"/>
                </a:lnTo>
                <a:lnTo>
                  <a:pt x="760" y="46"/>
                </a:lnTo>
                <a:lnTo>
                  <a:pt x="766" y="4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2400480" y="3060720"/>
            <a:ext cx="136440" cy="863640"/>
          </a:xfrm>
          <a:custGeom>
            <a:avLst/>
            <a:gdLst/>
            <a:ahLst/>
            <a:rect l="l" t="t" r="r" b="b"/>
            <a:pathLst>
              <a:path w="172" h="1086">
                <a:moveTo>
                  <a:pt x="19" y="764"/>
                </a:moveTo>
                <a:lnTo>
                  <a:pt x="21" y="754"/>
                </a:lnTo>
                <a:lnTo>
                  <a:pt x="23" y="743"/>
                </a:lnTo>
                <a:lnTo>
                  <a:pt x="27" y="729"/>
                </a:lnTo>
                <a:lnTo>
                  <a:pt x="28" y="716"/>
                </a:lnTo>
                <a:lnTo>
                  <a:pt x="30" y="700"/>
                </a:lnTo>
                <a:lnTo>
                  <a:pt x="34" y="683"/>
                </a:lnTo>
                <a:lnTo>
                  <a:pt x="36" y="666"/>
                </a:lnTo>
                <a:lnTo>
                  <a:pt x="38" y="647"/>
                </a:lnTo>
                <a:lnTo>
                  <a:pt x="42" y="625"/>
                </a:lnTo>
                <a:lnTo>
                  <a:pt x="44" y="604"/>
                </a:lnTo>
                <a:lnTo>
                  <a:pt x="48" y="581"/>
                </a:lnTo>
                <a:lnTo>
                  <a:pt x="50" y="558"/>
                </a:lnTo>
                <a:lnTo>
                  <a:pt x="52" y="533"/>
                </a:lnTo>
                <a:lnTo>
                  <a:pt x="53" y="506"/>
                </a:lnTo>
                <a:lnTo>
                  <a:pt x="57" y="480"/>
                </a:lnTo>
                <a:lnTo>
                  <a:pt x="59" y="453"/>
                </a:lnTo>
                <a:lnTo>
                  <a:pt x="59" y="424"/>
                </a:lnTo>
                <a:lnTo>
                  <a:pt x="61" y="397"/>
                </a:lnTo>
                <a:lnTo>
                  <a:pt x="61" y="372"/>
                </a:lnTo>
                <a:lnTo>
                  <a:pt x="63" y="347"/>
                </a:lnTo>
                <a:lnTo>
                  <a:pt x="63" y="322"/>
                </a:lnTo>
                <a:lnTo>
                  <a:pt x="61" y="301"/>
                </a:lnTo>
                <a:lnTo>
                  <a:pt x="61" y="278"/>
                </a:lnTo>
                <a:lnTo>
                  <a:pt x="61" y="257"/>
                </a:lnTo>
                <a:lnTo>
                  <a:pt x="59" y="238"/>
                </a:lnTo>
                <a:lnTo>
                  <a:pt x="59" y="219"/>
                </a:lnTo>
                <a:lnTo>
                  <a:pt x="57" y="201"/>
                </a:lnTo>
                <a:lnTo>
                  <a:pt x="55" y="186"/>
                </a:lnTo>
                <a:lnTo>
                  <a:pt x="53" y="171"/>
                </a:lnTo>
                <a:lnTo>
                  <a:pt x="52" y="155"/>
                </a:lnTo>
                <a:lnTo>
                  <a:pt x="50" y="142"/>
                </a:lnTo>
                <a:lnTo>
                  <a:pt x="50" y="130"/>
                </a:lnTo>
                <a:lnTo>
                  <a:pt x="46" y="111"/>
                </a:lnTo>
                <a:lnTo>
                  <a:pt x="42" y="94"/>
                </a:lnTo>
                <a:lnTo>
                  <a:pt x="38" y="75"/>
                </a:lnTo>
                <a:lnTo>
                  <a:pt x="36" y="57"/>
                </a:lnTo>
                <a:lnTo>
                  <a:pt x="32" y="42"/>
                </a:lnTo>
                <a:lnTo>
                  <a:pt x="30" y="27"/>
                </a:lnTo>
                <a:lnTo>
                  <a:pt x="30" y="11"/>
                </a:lnTo>
                <a:lnTo>
                  <a:pt x="28" y="0"/>
                </a:lnTo>
                <a:lnTo>
                  <a:pt x="53" y="7"/>
                </a:lnTo>
                <a:lnTo>
                  <a:pt x="65" y="11"/>
                </a:lnTo>
                <a:lnTo>
                  <a:pt x="76" y="15"/>
                </a:lnTo>
                <a:lnTo>
                  <a:pt x="86" y="19"/>
                </a:lnTo>
                <a:lnTo>
                  <a:pt x="98" y="23"/>
                </a:lnTo>
                <a:lnTo>
                  <a:pt x="105" y="25"/>
                </a:lnTo>
                <a:lnTo>
                  <a:pt x="115" y="29"/>
                </a:lnTo>
                <a:lnTo>
                  <a:pt x="123" y="32"/>
                </a:lnTo>
                <a:lnTo>
                  <a:pt x="132" y="34"/>
                </a:lnTo>
                <a:lnTo>
                  <a:pt x="138" y="38"/>
                </a:lnTo>
                <a:lnTo>
                  <a:pt x="146" y="40"/>
                </a:lnTo>
                <a:lnTo>
                  <a:pt x="151" y="44"/>
                </a:lnTo>
                <a:lnTo>
                  <a:pt x="157" y="46"/>
                </a:lnTo>
                <a:lnTo>
                  <a:pt x="161" y="48"/>
                </a:lnTo>
                <a:lnTo>
                  <a:pt x="165" y="50"/>
                </a:lnTo>
                <a:lnTo>
                  <a:pt x="165" y="54"/>
                </a:lnTo>
                <a:lnTo>
                  <a:pt x="167" y="55"/>
                </a:lnTo>
                <a:lnTo>
                  <a:pt x="167" y="59"/>
                </a:lnTo>
                <a:lnTo>
                  <a:pt x="169" y="65"/>
                </a:lnTo>
                <a:lnTo>
                  <a:pt x="169" y="71"/>
                </a:lnTo>
                <a:lnTo>
                  <a:pt x="169" y="78"/>
                </a:lnTo>
                <a:lnTo>
                  <a:pt x="170" y="86"/>
                </a:lnTo>
                <a:lnTo>
                  <a:pt x="170" y="96"/>
                </a:lnTo>
                <a:lnTo>
                  <a:pt x="170" y="105"/>
                </a:lnTo>
                <a:lnTo>
                  <a:pt x="170" y="115"/>
                </a:lnTo>
                <a:lnTo>
                  <a:pt x="170" y="128"/>
                </a:lnTo>
                <a:lnTo>
                  <a:pt x="170" y="140"/>
                </a:lnTo>
                <a:lnTo>
                  <a:pt x="172" y="153"/>
                </a:lnTo>
                <a:lnTo>
                  <a:pt x="172" y="169"/>
                </a:lnTo>
                <a:lnTo>
                  <a:pt x="172" y="184"/>
                </a:lnTo>
                <a:lnTo>
                  <a:pt x="172" y="199"/>
                </a:lnTo>
                <a:lnTo>
                  <a:pt x="172" y="217"/>
                </a:lnTo>
                <a:lnTo>
                  <a:pt x="172" y="236"/>
                </a:lnTo>
                <a:lnTo>
                  <a:pt x="172" y="255"/>
                </a:lnTo>
                <a:lnTo>
                  <a:pt x="170" y="274"/>
                </a:lnTo>
                <a:lnTo>
                  <a:pt x="170" y="295"/>
                </a:lnTo>
                <a:lnTo>
                  <a:pt x="170" y="316"/>
                </a:lnTo>
                <a:lnTo>
                  <a:pt x="170" y="339"/>
                </a:lnTo>
                <a:lnTo>
                  <a:pt x="170" y="363"/>
                </a:lnTo>
                <a:lnTo>
                  <a:pt x="170" y="387"/>
                </a:lnTo>
                <a:lnTo>
                  <a:pt x="169" y="412"/>
                </a:lnTo>
                <a:lnTo>
                  <a:pt x="169" y="439"/>
                </a:lnTo>
                <a:lnTo>
                  <a:pt x="169" y="466"/>
                </a:lnTo>
                <a:lnTo>
                  <a:pt x="167" y="493"/>
                </a:lnTo>
                <a:lnTo>
                  <a:pt x="167" y="524"/>
                </a:lnTo>
                <a:lnTo>
                  <a:pt x="165" y="553"/>
                </a:lnTo>
                <a:lnTo>
                  <a:pt x="165" y="583"/>
                </a:lnTo>
                <a:lnTo>
                  <a:pt x="163" y="614"/>
                </a:lnTo>
                <a:lnTo>
                  <a:pt x="161" y="643"/>
                </a:lnTo>
                <a:lnTo>
                  <a:pt x="159" y="672"/>
                </a:lnTo>
                <a:lnTo>
                  <a:pt x="157" y="700"/>
                </a:lnTo>
                <a:lnTo>
                  <a:pt x="155" y="727"/>
                </a:lnTo>
                <a:lnTo>
                  <a:pt x="153" y="752"/>
                </a:lnTo>
                <a:lnTo>
                  <a:pt x="151" y="777"/>
                </a:lnTo>
                <a:lnTo>
                  <a:pt x="151" y="802"/>
                </a:lnTo>
                <a:lnTo>
                  <a:pt x="149" y="825"/>
                </a:lnTo>
                <a:lnTo>
                  <a:pt x="147" y="846"/>
                </a:lnTo>
                <a:lnTo>
                  <a:pt x="146" y="867"/>
                </a:lnTo>
                <a:lnTo>
                  <a:pt x="144" y="888"/>
                </a:lnTo>
                <a:lnTo>
                  <a:pt x="142" y="908"/>
                </a:lnTo>
                <a:lnTo>
                  <a:pt x="140" y="925"/>
                </a:lnTo>
                <a:lnTo>
                  <a:pt x="138" y="942"/>
                </a:lnTo>
                <a:lnTo>
                  <a:pt x="136" y="959"/>
                </a:lnTo>
                <a:lnTo>
                  <a:pt x="134" y="975"/>
                </a:lnTo>
                <a:lnTo>
                  <a:pt x="132" y="988"/>
                </a:lnTo>
                <a:lnTo>
                  <a:pt x="130" y="1002"/>
                </a:lnTo>
                <a:lnTo>
                  <a:pt x="128" y="1015"/>
                </a:lnTo>
                <a:lnTo>
                  <a:pt x="126" y="1027"/>
                </a:lnTo>
                <a:lnTo>
                  <a:pt x="124" y="1036"/>
                </a:lnTo>
                <a:lnTo>
                  <a:pt x="123" y="1046"/>
                </a:lnTo>
                <a:lnTo>
                  <a:pt x="121" y="1053"/>
                </a:lnTo>
                <a:lnTo>
                  <a:pt x="119" y="1061"/>
                </a:lnTo>
                <a:lnTo>
                  <a:pt x="117" y="1069"/>
                </a:lnTo>
                <a:lnTo>
                  <a:pt x="115" y="1075"/>
                </a:lnTo>
                <a:lnTo>
                  <a:pt x="115" y="1078"/>
                </a:lnTo>
                <a:lnTo>
                  <a:pt x="113" y="1082"/>
                </a:lnTo>
                <a:lnTo>
                  <a:pt x="111" y="1084"/>
                </a:lnTo>
                <a:lnTo>
                  <a:pt x="109" y="1086"/>
                </a:lnTo>
                <a:lnTo>
                  <a:pt x="107" y="1086"/>
                </a:lnTo>
                <a:lnTo>
                  <a:pt x="103" y="1086"/>
                </a:lnTo>
                <a:lnTo>
                  <a:pt x="99" y="1084"/>
                </a:lnTo>
                <a:lnTo>
                  <a:pt x="96" y="1082"/>
                </a:lnTo>
                <a:lnTo>
                  <a:pt x="92" y="1080"/>
                </a:lnTo>
                <a:lnTo>
                  <a:pt x="88" y="1076"/>
                </a:lnTo>
                <a:lnTo>
                  <a:pt x="84" y="1073"/>
                </a:lnTo>
                <a:lnTo>
                  <a:pt x="80" y="1069"/>
                </a:lnTo>
                <a:lnTo>
                  <a:pt x="76" y="1063"/>
                </a:lnTo>
                <a:lnTo>
                  <a:pt x="73" y="1057"/>
                </a:lnTo>
                <a:lnTo>
                  <a:pt x="67" y="1051"/>
                </a:lnTo>
                <a:lnTo>
                  <a:pt x="63" y="1044"/>
                </a:lnTo>
                <a:lnTo>
                  <a:pt x="59" y="1034"/>
                </a:lnTo>
                <a:lnTo>
                  <a:pt x="53" y="1027"/>
                </a:lnTo>
                <a:lnTo>
                  <a:pt x="50" y="1017"/>
                </a:lnTo>
                <a:lnTo>
                  <a:pt x="44" y="1007"/>
                </a:lnTo>
                <a:lnTo>
                  <a:pt x="38" y="996"/>
                </a:lnTo>
                <a:lnTo>
                  <a:pt x="28" y="977"/>
                </a:lnTo>
                <a:lnTo>
                  <a:pt x="21" y="959"/>
                </a:lnTo>
                <a:lnTo>
                  <a:pt x="13" y="942"/>
                </a:lnTo>
                <a:lnTo>
                  <a:pt x="9" y="927"/>
                </a:lnTo>
                <a:lnTo>
                  <a:pt x="5" y="913"/>
                </a:lnTo>
                <a:lnTo>
                  <a:pt x="2" y="900"/>
                </a:lnTo>
                <a:lnTo>
                  <a:pt x="2" y="886"/>
                </a:lnTo>
                <a:lnTo>
                  <a:pt x="0" y="875"/>
                </a:lnTo>
                <a:lnTo>
                  <a:pt x="2" y="863"/>
                </a:lnTo>
                <a:lnTo>
                  <a:pt x="2" y="852"/>
                </a:lnTo>
                <a:lnTo>
                  <a:pt x="4" y="840"/>
                </a:lnTo>
                <a:lnTo>
                  <a:pt x="5" y="827"/>
                </a:lnTo>
                <a:lnTo>
                  <a:pt x="9" y="814"/>
                </a:lnTo>
                <a:lnTo>
                  <a:pt x="13" y="798"/>
                </a:lnTo>
                <a:lnTo>
                  <a:pt x="17" y="783"/>
                </a:lnTo>
                <a:lnTo>
                  <a:pt x="19" y="76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2584440" y="2982960"/>
            <a:ext cx="254160" cy="277920"/>
          </a:xfrm>
          <a:custGeom>
            <a:avLst/>
            <a:gdLst/>
            <a:ahLst/>
            <a:rect l="l" t="t" r="r" b="b"/>
            <a:pathLst>
              <a:path w="320" h="351">
                <a:moveTo>
                  <a:pt x="155" y="131"/>
                </a:moveTo>
                <a:lnTo>
                  <a:pt x="161" y="119"/>
                </a:lnTo>
                <a:lnTo>
                  <a:pt x="167" y="107"/>
                </a:lnTo>
                <a:lnTo>
                  <a:pt x="173" y="96"/>
                </a:lnTo>
                <a:lnTo>
                  <a:pt x="176" y="84"/>
                </a:lnTo>
                <a:lnTo>
                  <a:pt x="178" y="73"/>
                </a:lnTo>
                <a:lnTo>
                  <a:pt x="178" y="61"/>
                </a:lnTo>
                <a:lnTo>
                  <a:pt x="176" y="52"/>
                </a:lnTo>
                <a:lnTo>
                  <a:pt x="175" y="40"/>
                </a:lnTo>
                <a:lnTo>
                  <a:pt x="173" y="29"/>
                </a:lnTo>
                <a:lnTo>
                  <a:pt x="171" y="21"/>
                </a:lnTo>
                <a:lnTo>
                  <a:pt x="173" y="13"/>
                </a:lnTo>
                <a:lnTo>
                  <a:pt x="175" y="8"/>
                </a:lnTo>
                <a:lnTo>
                  <a:pt x="178" y="4"/>
                </a:lnTo>
                <a:lnTo>
                  <a:pt x="186" y="2"/>
                </a:lnTo>
                <a:lnTo>
                  <a:pt x="194" y="0"/>
                </a:lnTo>
                <a:lnTo>
                  <a:pt x="203" y="0"/>
                </a:lnTo>
                <a:lnTo>
                  <a:pt x="211" y="0"/>
                </a:lnTo>
                <a:lnTo>
                  <a:pt x="221" y="2"/>
                </a:lnTo>
                <a:lnTo>
                  <a:pt x="228" y="4"/>
                </a:lnTo>
                <a:lnTo>
                  <a:pt x="240" y="8"/>
                </a:lnTo>
                <a:lnTo>
                  <a:pt x="249" y="13"/>
                </a:lnTo>
                <a:lnTo>
                  <a:pt x="259" y="21"/>
                </a:lnTo>
                <a:lnTo>
                  <a:pt x="270" y="29"/>
                </a:lnTo>
                <a:lnTo>
                  <a:pt x="276" y="35"/>
                </a:lnTo>
                <a:lnTo>
                  <a:pt x="282" y="40"/>
                </a:lnTo>
                <a:lnTo>
                  <a:pt x="292" y="52"/>
                </a:lnTo>
                <a:lnTo>
                  <a:pt x="299" y="61"/>
                </a:lnTo>
                <a:lnTo>
                  <a:pt x="305" y="73"/>
                </a:lnTo>
                <a:lnTo>
                  <a:pt x="311" y="84"/>
                </a:lnTo>
                <a:lnTo>
                  <a:pt x="315" y="94"/>
                </a:lnTo>
                <a:lnTo>
                  <a:pt x="318" y="104"/>
                </a:lnTo>
                <a:lnTo>
                  <a:pt x="318" y="111"/>
                </a:lnTo>
                <a:lnTo>
                  <a:pt x="320" y="121"/>
                </a:lnTo>
                <a:lnTo>
                  <a:pt x="318" y="123"/>
                </a:lnTo>
                <a:lnTo>
                  <a:pt x="317" y="127"/>
                </a:lnTo>
                <a:lnTo>
                  <a:pt x="315" y="129"/>
                </a:lnTo>
                <a:lnTo>
                  <a:pt x="313" y="132"/>
                </a:lnTo>
                <a:lnTo>
                  <a:pt x="309" y="136"/>
                </a:lnTo>
                <a:lnTo>
                  <a:pt x="305" y="142"/>
                </a:lnTo>
                <a:lnTo>
                  <a:pt x="301" y="146"/>
                </a:lnTo>
                <a:lnTo>
                  <a:pt x="295" y="150"/>
                </a:lnTo>
                <a:lnTo>
                  <a:pt x="292" y="155"/>
                </a:lnTo>
                <a:lnTo>
                  <a:pt x="286" y="161"/>
                </a:lnTo>
                <a:lnTo>
                  <a:pt x="278" y="165"/>
                </a:lnTo>
                <a:lnTo>
                  <a:pt x="272" y="171"/>
                </a:lnTo>
                <a:lnTo>
                  <a:pt x="265" y="178"/>
                </a:lnTo>
                <a:lnTo>
                  <a:pt x="257" y="184"/>
                </a:lnTo>
                <a:lnTo>
                  <a:pt x="247" y="190"/>
                </a:lnTo>
                <a:lnTo>
                  <a:pt x="240" y="198"/>
                </a:lnTo>
                <a:lnTo>
                  <a:pt x="230" y="205"/>
                </a:lnTo>
                <a:lnTo>
                  <a:pt x="221" y="211"/>
                </a:lnTo>
                <a:lnTo>
                  <a:pt x="209" y="221"/>
                </a:lnTo>
                <a:lnTo>
                  <a:pt x="199" y="228"/>
                </a:lnTo>
                <a:lnTo>
                  <a:pt x="188" y="236"/>
                </a:lnTo>
                <a:lnTo>
                  <a:pt x="176" y="246"/>
                </a:lnTo>
                <a:lnTo>
                  <a:pt x="163" y="253"/>
                </a:lnTo>
                <a:lnTo>
                  <a:pt x="150" y="263"/>
                </a:lnTo>
                <a:lnTo>
                  <a:pt x="136" y="273"/>
                </a:lnTo>
                <a:lnTo>
                  <a:pt x="123" y="284"/>
                </a:lnTo>
                <a:lnTo>
                  <a:pt x="109" y="294"/>
                </a:lnTo>
                <a:lnTo>
                  <a:pt x="94" y="305"/>
                </a:lnTo>
                <a:lnTo>
                  <a:pt x="79" y="315"/>
                </a:lnTo>
                <a:lnTo>
                  <a:pt x="63" y="326"/>
                </a:lnTo>
                <a:lnTo>
                  <a:pt x="46" y="340"/>
                </a:lnTo>
                <a:lnTo>
                  <a:pt x="29" y="351"/>
                </a:lnTo>
                <a:lnTo>
                  <a:pt x="15" y="336"/>
                </a:lnTo>
                <a:lnTo>
                  <a:pt x="0" y="321"/>
                </a:lnTo>
                <a:lnTo>
                  <a:pt x="15" y="303"/>
                </a:lnTo>
                <a:lnTo>
                  <a:pt x="31" y="284"/>
                </a:lnTo>
                <a:lnTo>
                  <a:pt x="46" y="269"/>
                </a:lnTo>
                <a:lnTo>
                  <a:pt x="57" y="253"/>
                </a:lnTo>
                <a:lnTo>
                  <a:pt x="71" y="238"/>
                </a:lnTo>
                <a:lnTo>
                  <a:pt x="82" y="225"/>
                </a:lnTo>
                <a:lnTo>
                  <a:pt x="94" y="211"/>
                </a:lnTo>
                <a:lnTo>
                  <a:pt x="104" y="200"/>
                </a:lnTo>
                <a:lnTo>
                  <a:pt x="111" y="188"/>
                </a:lnTo>
                <a:lnTo>
                  <a:pt x="121" y="177"/>
                </a:lnTo>
                <a:lnTo>
                  <a:pt x="128" y="167"/>
                </a:lnTo>
                <a:lnTo>
                  <a:pt x="134" y="159"/>
                </a:lnTo>
                <a:lnTo>
                  <a:pt x="142" y="150"/>
                </a:lnTo>
                <a:lnTo>
                  <a:pt x="146" y="142"/>
                </a:lnTo>
                <a:lnTo>
                  <a:pt x="152" y="136"/>
                </a:lnTo>
                <a:lnTo>
                  <a:pt x="155" y="131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2500200" y="3189240"/>
            <a:ext cx="304920" cy="255600"/>
          </a:xfrm>
          <a:custGeom>
            <a:avLst/>
            <a:gdLst/>
            <a:ahLst/>
            <a:rect l="l" t="t" r="r" b="b"/>
            <a:pathLst>
              <a:path w="384" h="322">
                <a:moveTo>
                  <a:pt x="0" y="0"/>
                </a:moveTo>
                <a:lnTo>
                  <a:pt x="31" y="10"/>
                </a:lnTo>
                <a:lnTo>
                  <a:pt x="62" y="19"/>
                </a:lnTo>
                <a:lnTo>
                  <a:pt x="91" y="27"/>
                </a:lnTo>
                <a:lnTo>
                  <a:pt x="117" y="36"/>
                </a:lnTo>
                <a:lnTo>
                  <a:pt x="142" y="44"/>
                </a:lnTo>
                <a:lnTo>
                  <a:pt x="167" y="52"/>
                </a:lnTo>
                <a:lnTo>
                  <a:pt x="188" y="60"/>
                </a:lnTo>
                <a:lnTo>
                  <a:pt x="210" y="67"/>
                </a:lnTo>
                <a:lnTo>
                  <a:pt x="229" y="75"/>
                </a:lnTo>
                <a:lnTo>
                  <a:pt x="244" y="83"/>
                </a:lnTo>
                <a:lnTo>
                  <a:pt x="259" y="90"/>
                </a:lnTo>
                <a:lnTo>
                  <a:pt x="273" y="96"/>
                </a:lnTo>
                <a:lnTo>
                  <a:pt x="284" y="102"/>
                </a:lnTo>
                <a:lnTo>
                  <a:pt x="296" y="109"/>
                </a:lnTo>
                <a:lnTo>
                  <a:pt x="304" y="115"/>
                </a:lnTo>
                <a:lnTo>
                  <a:pt x="309" y="121"/>
                </a:lnTo>
                <a:lnTo>
                  <a:pt x="321" y="131"/>
                </a:lnTo>
                <a:lnTo>
                  <a:pt x="330" y="142"/>
                </a:lnTo>
                <a:lnTo>
                  <a:pt x="342" y="152"/>
                </a:lnTo>
                <a:lnTo>
                  <a:pt x="352" y="161"/>
                </a:lnTo>
                <a:lnTo>
                  <a:pt x="359" y="171"/>
                </a:lnTo>
                <a:lnTo>
                  <a:pt x="367" y="180"/>
                </a:lnTo>
                <a:lnTo>
                  <a:pt x="373" y="190"/>
                </a:lnTo>
                <a:lnTo>
                  <a:pt x="376" y="202"/>
                </a:lnTo>
                <a:lnTo>
                  <a:pt x="380" y="211"/>
                </a:lnTo>
                <a:lnTo>
                  <a:pt x="382" y="223"/>
                </a:lnTo>
                <a:lnTo>
                  <a:pt x="384" y="232"/>
                </a:lnTo>
                <a:lnTo>
                  <a:pt x="384" y="242"/>
                </a:lnTo>
                <a:lnTo>
                  <a:pt x="384" y="251"/>
                </a:lnTo>
                <a:lnTo>
                  <a:pt x="382" y="261"/>
                </a:lnTo>
                <a:lnTo>
                  <a:pt x="380" y="271"/>
                </a:lnTo>
                <a:lnTo>
                  <a:pt x="376" y="282"/>
                </a:lnTo>
                <a:lnTo>
                  <a:pt x="373" y="292"/>
                </a:lnTo>
                <a:lnTo>
                  <a:pt x="369" y="301"/>
                </a:lnTo>
                <a:lnTo>
                  <a:pt x="363" y="307"/>
                </a:lnTo>
                <a:lnTo>
                  <a:pt x="357" y="313"/>
                </a:lnTo>
                <a:lnTo>
                  <a:pt x="353" y="317"/>
                </a:lnTo>
                <a:lnTo>
                  <a:pt x="348" y="319"/>
                </a:lnTo>
                <a:lnTo>
                  <a:pt x="342" y="321"/>
                </a:lnTo>
                <a:lnTo>
                  <a:pt x="338" y="322"/>
                </a:lnTo>
                <a:lnTo>
                  <a:pt x="336" y="321"/>
                </a:lnTo>
                <a:lnTo>
                  <a:pt x="334" y="321"/>
                </a:lnTo>
                <a:lnTo>
                  <a:pt x="330" y="319"/>
                </a:lnTo>
                <a:lnTo>
                  <a:pt x="327" y="317"/>
                </a:lnTo>
                <a:lnTo>
                  <a:pt x="323" y="315"/>
                </a:lnTo>
                <a:lnTo>
                  <a:pt x="317" y="313"/>
                </a:lnTo>
                <a:lnTo>
                  <a:pt x="311" y="309"/>
                </a:lnTo>
                <a:lnTo>
                  <a:pt x="305" y="305"/>
                </a:lnTo>
                <a:lnTo>
                  <a:pt x="300" y="301"/>
                </a:lnTo>
                <a:lnTo>
                  <a:pt x="292" y="296"/>
                </a:lnTo>
                <a:lnTo>
                  <a:pt x="284" y="290"/>
                </a:lnTo>
                <a:lnTo>
                  <a:pt x="277" y="284"/>
                </a:lnTo>
                <a:lnTo>
                  <a:pt x="267" y="276"/>
                </a:lnTo>
                <a:lnTo>
                  <a:pt x="258" y="271"/>
                </a:lnTo>
                <a:lnTo>
                  <a:pt x="248" y="263"/>
                </a:lnTo>
                <a:lnTo>
                  <a:pt x="238" y="255"/>
                </a:lnTo>
                <a:lnTo>
                  <a:pt x="227" y="246"/>
                </a:lnTo>
                <a:lnTo>
                  <a:pt x="215" y="236"/>
                </a:lnTo>
                <a:lnTo>
                  <a:pt x="204" y="226"/>
                </a:lnTo>
                <a:lnTo>
                  <a:pt x="190" y="217"/>
                </a:lnTo>
                <a:lnTo>
                  <a:pt x="177" y="205"/>
                </a:lnTo>
                <a:lnTo>
                  <a:pt x="163" y="194"/>
                </a:lnTo>
                <a:lnTo>
                  <a:pt x="150" y="182"/>
                </a:lnTo>
                <a:lnTo>
                  <a:pt x="135" y="169"/>
                </a:lnTo>
                <a:lnTo>
                  <a:pt x="119" y="157"/>
                </a:lnTo>
                <a:lnTo>
                  <a:pt x="104" y="142"/>
                </a:lnTo>
                <a:lnTo>
                  <a:pt x="89" y="129"/>
                </a:lnTo>
                <a:lnTo>
                  <a:pt x="71" y="113"/>
                </a:lnTo>
                <a:lnTo>
                  <a:pt x="54" y="100"/>
                </a:lnTo>
                <a:lnTo>
                  <a:pt x="37" y="83"/>
                </a:lnTo>
                <a:lnTo>
                  <a:pt x="18" y="67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334120" y="1905120"/>
            <a:ext cx="3276360" cy="2166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羊补牢 牢房 牢记 牢不可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9480" y="4876920"/>
            <a:ext cx="807732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亡羊补牢，为时不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162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5"/>
          <p:cNvSpPr/>
          <p:nvPr/>
        </p:nvSpPr>
        <p:spPr>
          <a:xfrm>
            <a:off x="1905120" y="2209680"/>
            <a:ext cx="184464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1911240" y="2220840"/>
            <a:ext cx="1819440" cy="1820880"/>
          </a:xfrm>
          <a:custGeom>
            <a:avLst/>
            <a:gdLst/>
            <a:ahLst/>
            <a:rect l="l" t="t" r="r" b="b"/>
            <a:pathLst>
              <a:path w="2291" h="2294">
                <a:moveTo>
                  <a:pt x="341" y="699"/>
                </a:moveTo>
                <a:lnTo>
                  <a:pt x="330" y="714"/>
                </a:lnTo>
                <a:lnTo>
                  <a:pt x="320" y="728"/>
                </a:lnTo>
                <a:lnTo>
                  <a:pt x="312" y="741"/>
                </a:lnTo>
                <a:lnTo>
                  <a:pt x="303" y="753"/>
                </a:lnTo>
                <a:lnTo>
                  <a:pt x="295" y="764"/>
                </a:lnTo>
                <a:lnTo>
                  <a:pt x="288" y="774"/>
                </a:lnTo>
                <a:lnTo>
                  <a:pt x="282" y="784"/>
                </a:lnTo>
                <a:lnTo>
                  <a:pt x="274" y="791"/>
                </a:lnTo>
                <a:lnTo>
                  <a:pt x="268" y="799"/>
                </a:lnTo>
                <a:lnTo>
                  <a:pt x="263" y="805"/>
                </a:lnTo>
                <a:lnTo>
                  <a:pt x="259" y="808"/>
                </a:lnTo>
                <a:lnTo>
                  <a:pt x="253" y="812"/>
                </a:lnTo>
                <a:lnTo>
                  <a:pt x="249" y="816"/>
                </a:lnTo>
                <a:lnTo>
                  <a:pt x="247" y="818"/>
                </a:lnTo>
                <a:lnTo>
                  <a:pt x="243" y="820"/>
                </a:lnTo>
                <a:lnTo>
                  <a:pt x="241" y="820"/>
                </a:lnTo>
                <a:lnTo>
                  <a:pt x="234" y="820"/>
                </a:lnTo>
                <a:lnTo>
                  <a:pt x="228" y="818"/>
                </a:lnTo>
                <a:lnTo>
                  <a:pt x="224" y="816"/>
                </a:lnTo>
                <a:lnTo>
                  <a:pt x="220" y="814"/>
                </a:lnTo>
                <a:lnTo>
                  <a:pt x="217" y="812"/>
                </a:lnTo>
                <a:lnTo>
                  <a:pt x="213" y="808"/>
                </a:lnTo>
                <a:lnTo>
                  <a:pt x="209" y="805"/>
                </a:lnTo>
                <a:lnTo>
                  <a:pt x="205" y="801"/>
                </a:lnTo>
                <a:lnTo>
                  <a:pt x="203" y="797"/>
                </a:lnTo>
                <a:lnTo>
                  <a:pt x="199" y="791"/>
                </a:lnTo>
                <a:lnTo>
                  <a:pt x="195" y="785"/>
                </a:lnTo>
                <a:lnTo>
                  <a:pt x="194" y="778"/>
                </a:lnTo>
                <a:lnTo>
                  <a:pt x="192" y="772"/>
                </a:lnTo>
                <a:lnTo>
                  <a:pt x="188" y="764"/>
                </a:lnTo>
                <a:lnTo>
                  <a:pt x="186" y="755"/>
                </a:lnTo>
                <a:lnTo>
                  <a:pt x="178" y="737"/>
                </a:lnTo>
                <a:lnTo>
                  <a:pt x="172" y="724"/>
                </a:lnTo>
                <a:lnTo>
                  <a:pt x="167" y="711"/>
                </a:lnTo>
                <a:lnTo>
                  <a:pt x="161" y="697"/>
                </a:lnTo>
                <a:lnTo>
                  <a:pt x="157" y="688"/>
                </a:lnTo>
                <a:lnTo>
                  <a:pt x="155" y="678"/>
                </a:lnTo>
                <a:lnTo>
                  <a:pt x="153" y="668"/>
                </a:lnTo>
                <a:lnTo>
                  <a:pt x="153" y="663"/>
                </a:lnTo>
                <a:lnTo>
                  <a:pt x="153" y="659"/>
                </a:lnTo>
                <a:lnTo>
                  <a:pt x="153" y="657"/>
                </a:lnTo>
                <a:lnTo>
                  <a:pt x="155" y="653"/>
                </a:lnTo>
                <a:lnTo>
                  <a:pt x="157" y="649"/>
                </a:lnTo>
                <a:lnTo>
                  <a:pt x="159" y="645"/>
                </a:lnTo>
                <a:lnTo>
                  <a:pt x="163" y="640"/>
                </a:lnTo>
                <a:lnTo>
                  <a:pt x="167" y="634"/>
                </a:lnTo>
                <a:lnTo>
                  <a:pt x="170" y="628"/>
                </a:lnTo>
                <a:lnTo>
                  <a:pt x="174" y="620"/>
                </a:lnTo>
                <a:lnTo>
                  <a:pt x="180" y="615"/>
                </a:lnTo>
                <a:lnTo>
                  <a:pt x="184" y="605"/>
                </a:lnTo>
                <a:lnTo>
                  <a:pt x="190" y="597"/>
                </a:lnTo>
                <a:lnTo>
                  <a:pt x="197" y="588"/>
                </a:lnTo>
                <a:lnTo>
                  <a:pt x="203" y="580"/>
                </a:lnTo>
                <a:lnTo>
                  <a:pt x="211" y="569"/>
                </a:lnTo>
                <a:lnTo>
                  <a:pt x="218" y="559"/>
                </a:lnTo>
                <a:lnTo>
                  <a:pt x="226" y="549"/>
                </a:lnTo>
                <a:lnTo>
                  <a:pt x="232" y="540"/>
                </a:lnTo>
                <a:lnTo>
                  <a:pt x="238" y="528"/>
                </a:lnTo>
                <a:lnTo>
                  <a:pt x="243" y="515"/>
                </a:lnTo>
                <a:lnTo>
                  <a:pt x="251" y="501"/>
                </a:lnTo>
                <a:lnTo>
                  <a:pt x="257" y="488"/>
                </a:lnTo>
                <a:lnTo>
                  <a:pt x="263" y="473"/>
                </a:lnTo>
                <a:lnTo>
                  <a:pt x="268" y="457"/>
                </a:lnTo>
                <a:lnTo>
                  <a:pt x="276" y="440"/>
                </a:lnTo>
                <a:lnTo>
                  <a:pt x="282" y="421"/>
                </a:lnTo>
                <a:lnTo>
                  <a:pt x="288" y="403"/>
                </a:lnTo>
                <a:lnTo>
                  <a:pt x="293" y="384"/>
                </a:lnTo>
                <a:lnTo>
                  <a:pt x="299" y="363"/>
                </a:lnTo>
                <a:lnTo>
                  <a:pt x="307" y="342"/>
                </a:lnTo>
                <a:lnTo>
                  <a:pt x="312" y="321"/>
                </a:lnTo>
                <a:lnTo>
                  <a:pt x="318" y="298"/>
                </a:lnTo>
                <a:lnTo>
                  <a:pt x="328" y="304"/>
                </a:lnTo>
                <a:lnTo>
                  <a:pt x="337" y="309"/>
                </a:lnTo>
                <a:lnTo>
                  <a:pt x="347" y="317"/>
                </a:lnTo>
                <a:lnTo>
                  <a:pt x="355" y="325"/>
                </a:lnTo>
                <a:lnTo>
                  <a:pt x="364" y="332"/>
                </a:lnTo>
                <a:lnTo>
                  <a:pt x="370" y="340"/>
                </a:lnTo>
                <a:lnTo>
                  <a:pt x="378" y="350"/>
                </a:lnTo>
                <a:lnTo>
                  <a:pt x="385" y="359"/>
                </a:lnTo>
                <a:lnTo>
                  <a:pt x="391" y="371"/>
                </a:lnTo>
                <a:lnTo>
                  <a:pt x="395" y="380"/>
                </a:lnTo>
                <a:lnTo>
                  <a:pt x="401" y="392"/>
                </a:lnTo>
                <a:lnTo>
                  <a:pt x="405" y="403"/>
                </a:lnTo>
                <a:lnTo>
                  <a:pt x="408" y="417"/>
                </a:lnTo>
                <a:lnTo>
                  <a:pt x="412" y="430"/>
                </a:lnTo>
                <a:lnTo>
                  <a:pt x="416" y="442"/>
                </a:lnTo>
                <a:lnTo>
                  <a:pt x="418" y="457"/>
                </a:lnTo>
                <a:lnTo>
                  <a:pt x="418" y="471"/>
                </a:lnTo>
                <a:lnTo>
                  <a:pt x="416" y="484"/>
                </a:lnTo>
                <a:lnTo>
                  <a:pt x="414" y="499"/>
                </a:lnTo>
                <a:lnTo>
                  <a:pt x="412" y="515"/>
                </a:lnTo>
                <a:lnTo>
                  <a:pt x="410" y="528"/>
                </a:lnTo>
                <a:lnTo>
                  <a:pt x="408" y="544"/>
                </a:lnTo>
                <a:lnTo>
                  <a:pt x="405" y="559"/>
                </a:lnTo>
                <a:lnTo>
                  <a:pt x="399" y="574"/>
                </a:lnTo>
                <a:lnTo>
                  <a:pt x="395" y="590"/>
                </a:lnTo>
                <a:lnTo>
                  <a:pt x="389" y="605"/>
                </a:lnTo>
                <a:lnTo>
                  <a:pt x="382" y="620"/>
                </a:lnTo>
                <a:lnTo>
                  <a:pt x="376" y="636"/>
                </a:lnTo>
                <a:lnTo>
                  <a:pt x="368" y="651"/>
                </a:lnTo>
                <a:lnTo>
                  <a:pt x="359" y="666"/>
                </a:lnTo>
                <a:lnTo>
                  <a:pt x="351" y="684"/>
                </a:lnTo>
                <a:lnTo>
                  <a:pt x="341" y="699"/>
                </a:lnTo>
                <a:close/>
                <a:moveTo>
                  <a:pt x="1243" y="279"/>
                </a:moveTo>
                <a:lnTo>
                  <a:pt x="1241" y="279"/>
                </a:lnTo>
                <a:lnTo>
                  <a:pt x="1237" y="277"/>
                </a:lnTo>
                <a:lnTo>
                  <a:pt x="1234" y="275"/>
                </a:lnTo>
                <a:lnTo>
                  <a:pt x="1228" y="273"/>
                </a:lnTo>
                <a:lnTo>
                  <a:pt x="1220" y="269"/>
                </a:lnTo>
                <a:lnTo>
                  <a:pt x="1213" y="263"/>
                </a:lnTo>
                <a:lnTo>
                  <a:pt x="1205" y="258"/>
                </a:lnTo>
                <a:lnTo>
                  <a:pt x="1195" y="252"/>
                </a:lnTo>
                <a:lnTo>
                  <a:pt x="1186" y="244"/>
                </a:lnTo>
                <a:lnTo>
                  <a:pt x="1174" y="237"/>
                </a:lnTo>
                <a:lnTo>
                  <a:pt x="1163" y="227"/>
                </a:lnTo>
                <a:lnTo>
                  <a:pt x="1149" y="217"/>
                </a:lnTo>
                <a:lnTo>
                  <a:pt x="1136" y="206"/>
                </a:lnTo>
                <a:lnTo>
                  <a:pt x="1120" y="194"/>
                </a:lnTo>
                <a:lnTo>
                  <a:pt x="1105" y="181"/>
                </a:lnTo>
                <a:lnTo>
                  <a:pt x="1090" y="167"/>
                </a:lnTo>
                <a:lnTo>
                  <a:pt x="1072" y="156"/>
                </a:lnTo>
                <a:lnTo>
                  <a:pt x="1055" y="142"/>
                </a:lnTo>
                <a:lnTo>
                  <a:pt x="1040" y="131"/>
                </a:lnTo>
                <a:lnTo>
                  <a:pt x="1026" y="119"/>
                </a:lnTo>
                <a:lnTo>
                  <a:pt x="1013" y="108"/>
                </a:lnTo>
                <a:lnTo>
                  <a:pt x="1000" y="98"/>
                </a:lnTo>
                <a:lnTo>
                  <a:pt x="990" y="87"/>
                </a:lnTo>
                <a:lnTo>
                  <a:pt x="980" y="75"/>
                </a:lnTo>
                <a:lnTo>
                  <a:pt x="971" y="66"/>
                </a:lnTo>
                <a:lnTo>
                  <a:pt x="963" y="56"/>
                </a:lnTo>
                <a:lnTo>
                  <a:pt x="955" y="46"/>
                </a:lnTo>
                <a:lnTo>
                  <a:pt x="950" y="37"/>
                </a:lnTo>
                <a:lnTo>
                  <a:pt x="946" y="27"/>
                </a:lnTo>
                <a:lnTo>
                  <a:pt x="942" y="18"/>
                </a:lnTo>
                <a:lnTo>
                  <a:pt x="938" y="8"/>
                </a:lnTo>
                <a:lnTo>
                  <a:pt x="936" y="0"/>
                </a:lnTo>
                <a:lnTo>
                  <a:pt x="961" y="2"/>
                </a:lnTo>
                <a:lnTo>
                  <a:pt x="986" y="6"/>
                </a:lnTo>
                <a:lnTo>
                  <a:pt x="1011" y="10"/>
                </a:lnTo>
                <a:lnTo>
                  <a:pt x="1032" y="14"/>
                </a:lnTo>
                <a:lnTo>
                  <a:pt x="1053" y="18"/>
                </a:lnTo>
                <a:lnTo>
                  <a:pt x="1074" y="22"/>
                </a:lnTo>
                <a:lnTo>
                  <a:pt x="1094" y="23"/>
                </a:lnTo>
                <a:lnTo>
                  <a:pt x="1111" y="27"/>
                </a:lnTo>
                <a:lnTo>
                  <a:pt x="1126" y="31"/>
                </a:lnTo>
                <a:lnTo>
                  <a:pt x="1142" y="35"/>
                </a:lnTo>
                <a:lnTo>
                  <a:pt x="1157" y="39"/>
                </a:lnTo>
                <a:lnTo>
                  <a:pt x="1170" y="41"/>
                </a:lnTo>
                <a:lnTo>
                  <a:pt x="1182" y="45"/>
                </a:lnTo>
                <a:lnTo>
                  <a:pt x="1191" y="48"/>
                </a:lnTo>
                <a:lnTo>
                  <a:pt x="1203" y="52"/>
                </a:lnTo>
                <a:lnTo>
                  <a:pt x="1211" y="56"/>
                </a:lnTo>
                <a:lnTo>
                  <a:pt x="1226" y="64"/>
                </a:lnTo>
                <a:lnTo>
                  <a:pt x="1241" y="71"/>
                </a:lnTo>
                <a:lnTo>
                  <a:pt x="1255" y="81"/>
                </a:lnTo>
                <a:lnTo>
                  <a:pt x="1268" y="91"/>
                </a:lnTo>
                <a:lnTo>
                  <a:pt x="1278" y="102"/>
                </a:lnTo>
                <a:lnTo>
                  <a:pt x="1287" y="114"/>
                </a:lnTo>
                <a:lnTo>
                  <a:pt x="1291" y="119"/>
                </a:lnTo>
                <a:lnTo>
                  <a:pt x="1293" y="125"/>
                </a:lnTo>
                <a:lnTo>
                  <a:pt x="1297" y="133"/>
                </a:lnTo>
                <a:lnTo>
                  <a:pt x="1299" y="139"/>
                </a:lnTo>
                <a:lnTo>
                  <a:pt x="1303" y="152"/>
                </a:lnTo>
                <a:lnTo>
                  <a:pt x="1305" y="165"/>
                </a:lnTo>
                <a:lnTo>
                  <a:pt x="1307" y="177"/>
                </a:lnTo>
                <a:lnTo>
                  <a:pt x="1307" y="190"/>
                </a:lnTo>
                <a:lnTo>
                  <a:pt x="1307" y="200"/>
                </a:lnTo>
                <a:lnTo>
                  <a:pt x="1305" y="212"/>
                </a:lnTo>
                <a:lnTo>
                  <a:pt x="1303" y="223"/>
                </a:lnTo>
                <a:lnTo>
                  <a:pt x="1299" y="233"/>
                </a:lnTo>
                <a:lnTo>
                  <a:pt x="1295" y="242"/>
                </a:lnTo>
                <a:lnTo>
                  <a:pt x="1289" y="250"/>
                </a:lnTo>
                <a:lnTo>
                  <a:pt x="1284" y="258"/>
                </a:lnTo>
                <a:lnTo>
                  <a:pt x="1276" y="263"/>
                </a:lnTo>
                <a:lnTo>
                  <a:pt x="1268" y="267"/>
                </a:lnTo>
                <a:lnTo>
                  <a:pt x="1261" y="271"/>
                </a:lnTo>
                <a:lnTo>
                  <a:pt x="1243" y="279"/>
                </a:lnTo>
                <a:close/>
                <a:moveTo>
                  <a:pt x="2235" y="475"/>
                </a:moveTo>
                <a:lnTo>
                  <a:pt x="2235" y="478"/>
                </a:lnTo>
                <a:lnTo>
                  <a:pt x="2233" y="482"/>
                </a:lnTo>
                <a:lnTo>
                  <a:pt x="2232" y="484"/>
                </a:lnTo>
                <a:lnTo>
                  <a:pt x="2230" y="488"/>
                </a:lnTo>
                <a:lnTo>
                  <a:pt x="2226" y="490"/>
                </a:lnTo>
                <a:lnTo>
                  <a:pt x="2222" y="492"/>
                </a:lnTo>
                <a:lnTo>
                  <a:pt x="2218" y="494"/>
                </a:lnTo>
                <a:lnTo>
                  <a:pt x="2212" y="496"/>
                </a:lnTo>
                <a:lnTo>
                  <a:pt x="2207" y="498"/>
                </a:lnTo>
                <a:lnTo>
                  <a:pt x="2199" y="499"/>
                </a:lnTo>
                <a:lnTo>
                  <a:pt x="2193" y="499"/>
                </a:lnTo>
                <a:lnTo>
                  <a:pt x="2184" y="501"/>
                </a:lnTo>
                <a:lnTo>
                  <a:pt x="2176" y="501"/>
                </a:lnTo>
                <a:lnTo>
                  <a:pt x="2166" y="503"/>
                </a:lnTo>
                <a:lnTo>
                  <a:pt x="2157" y="503"/>
                </a:lnTo>
                <a:lnTo>
                  <a:pt x="2147" y="503"/>
                </a:lnTo>
                <a:lnTo>
                  <a:pt x="2138" y="503"/>
                </a:lnTo>
                <a:lnTo>
                  <a:pt x="2126" y="503"/>
                </a:lnTo>
                <a:lnTo>
                  <a:pt x="2114" y="505"/>
                </a:lnTo>
                <a:lnTo>
                  <a:pt x="2103" y="507"/>
                </a:lnTo>
                <a:lnTo>
                  <a:pt x="2090" y="509"/>
                </a:lnTo>
                <a:lnTo>
                  <a:pt x="2076" y="511"/>
                </a:lnTo>
                <a:lnTo>
                  <a:pt x="2063" y="515"/>
                </a:lnTo>
                <a:lnTo>
                  <a:pt x="2049" y="519"/>
                </a:lnTo>
                <a:lnTo>
                  <a:pt x="2036" y="522"/>
                </a:lnTo>
                <a:lnTo>
                  <a:pt x="2020" y="526"/>
                </a:lnTo>
                <a:lnTo>
                  <a:pt x="2005" y="532"/>
                </a:lnTo>
                <a:lnTo>
                  <a:pt x="1992" y="538"/>
                </a:lnTo>
                <a:lnTo>
                  <a:pt x="1974" y="546"/>
                </a:lnTo>
                <a:lnTo>
                  <a:pt x="1959" y="551"/>
                </a:lnTo>
                <a:lnTo>
                  <a:pt x="1944" y="559"/>
                </a:lnTo>
                <a:lnTo>
                  <a:pt x="1926" y="569"/>
                </a:lnTo>
                <a:lnTo>
                  <a:pt x="1909" y="576"/>
                </a:lnTo>
                <a:lnTo>
                  <a:pt x="1892" y="586"/>
                </a:lnTo>
                <a:lnTo>
                  <a:pt x="1877" y="594"/>
                </a:lnTo>
                <a:lnTo>
                  <a:pt x="1863" y="599"/>
                </a:lnTo>
                <a:lnTo>
                  <a:pt x="1850" y="607"/>
                </a:lnTo>
                <a:lnTo>
                  <a:pt x="1838" y="613"/>
                </a:lnTo>
                <a:lnTo>
                  <a:pt x="1827" y="618"/>
                </a:lnTo>
                <a:lnTo>
                  <a:pt x="1817" y="622"/>
                </a:lnTo>
                <a:lnTo>
                  <a:pt x="1807" y="626"/>
                </a:lnTo>
                <a:lnTo>
                  <a:pt x="1800" y="630"/>
                </a:lnTo>
                <a:lnTo>
                  <a:pt x="1794" y="632"/>
                </a:lnTo>
                <a:lnTo>
                  <a:pt x="1788" y="634"/>
                </a:lnTo>
                <a:lnTo>
                  <a:pt x="1782" y="636"/>
                </a:lnTo>
                <a:lnTo>
                  <a:pt x="1779" y="636"/>
                </a:lnTo>
                <a:lnTo>
                  <a:pt x="1775" y="636"/>
                </a:lnTo>
                <a:lnTo>
                  <a:pt x="1773" y="634"/>
                </a:lnTo>
                <a:lnTo>
                  <a:pt x="1771" y="632"/>
                </a:lnTo>
                <a:lnTo>
                  <a:pt x="1769" y="628"/>
                </a:lnTo>
                <a:lnTo>
                  <a:pt x="1769" y="626"/>
                </a:lnTo>
                <a:lnTo>
                  <a:pt x="1769" y="622"/>
                </a:lnTo>
                <a:lnTo>
                  <a:pt x="1769" y="617"/>
                </a:lnTo>
                <a:lnTo>
                  <a:pt x="1769" y="611"/>
                </a:lnTo>
                <a:lnTo>
                  <a:pt x="1771" y="605"/>
                </a:lnTo>
                <a:lnTo>
                  <a:pt x="1773" y="599"/>
                </a:lnTo>
                <a:lnTo>
                  <a:pt x="1775" y="592"/>
                </a:lnTo>
                <a:lnTo>
                  <a:pt x="1779" y="584"/>
                </a:lnTo>
                <a:lnTo>
                  <a:pt x="1782" y="574"/>
                </a:lnTo>
                <a:lnTo>
                  <a:pt x="1786" y="565"/>
                </a:lnTo>
                <a:lnTo>
                  <a:pt x="1790" y="555"/>
                </a:lnTo>
                <a:lnTo>
                  <a:pt x="1794" y="546"/>
                </a:lnTo>
                <a:lnTo>
                  <a:pt x="1800" y="534"/>
                </a:lnTo>
                <a:lnTo>
                  <a:pt x="1806" y="522"/>
                </a:lnTo>
                <a:lnTo>
                  <a:pt x="1811" y="509"/>
                </a:lnTo>
                <a:lnTo>
                  <a:pt x="1817" y="499"/>
                </a:lnTo>
                <a:lnTo>
                  <a:pt x="1821" y="488"/>
                </a:lnTo>
                <a:lnTo>
                  <a:pt x="1825" y="478"/>
                </a:lnTo>
                <a:lnTo>
                  <a:pt x="1829" y="469"/>
                </a:lnTo>
                <a:lnTo>
                  <a:pt x="1830" y="459"/>
                </a:lnTo>
                <a:lnTo>
                  <a:pt x="1832" y="451"/>
                </a:lnTo>
                <a:lnTo>
                  <a:pt x="1832" y="444"/>
                </a:lnTo>
                <a:lnTo>
                  <a:pt x="1834" y="436"/>
                </a:lnTo>
                <a:lnTo>
                  <a:pt x="1834" y="430"/>
                </a:lnTo>
                <a:lnTo>
                  <a:pt x="1834" y="425"/>
                </a:lnTo>
                <a:lnTo>
                  <a:pt x="1834" y="419"/>
                </a:lnTo>
                <a:lnTo>
                  <a:pt x="1832" y="413"/>
                </a:lnTo>
                <a:lnTo>
                  <a:pt x="1830" y="409"/>
                </a:lnTo>
                <a:lnTo>
                  <a:pt x="1829" y="402"/>
                </a:lnTo>
                <a:lnTo>
                  <a:pt x="1823" y="400"/>
                </a:lnTo>
                <a:lnTo>
                  <a:pt x="1819" y="398"/>
                </a:lnTo>
                <a:lnTo>
                  <a:pt x="1811" y="396"/>
                </a:lnTo>
                <a:lnTo>
                  <a:pt x="1806" y="394"/>
                </a:lnTo>
                <a:lnTo>
                  <a:pt x="1798" y="392"/>
                </a:lnTo>
                <a:lnTo>
                  <a:pt x="1788" y="390"/>
                </a:lnTo>
                <a:lnTo>
                  <a:pt x="1779" y="390"/>
                </a:lnTo>
                <a:lnTo>
                  <a:pt x="1769" y="388"/>
                </a:lnTo>
                <a:lnTo>
                  <a:pt x="1758" y="388"/>
                </a:lnTo>
                <a:lnTo>
                  <a:pt x="1746" y="388"/>
                </a:lnTo>
                <a:lnTo>
                  <a:pt x="1733" y="388"/>
                </a:lnTo>
                <a:lnTo>
                  <a:pt x="1717" y="388"/>
                </a:lnTo>
                <a:lnTo>
                  <a:pt x="1702" y="388"/>
                </a:lnTo>
                <a:lnTo>
                  <a:pt x="1687" y="388"/>
                </a:lnTo>
                <a:lnTo>
                  <a:pt x="1669" y="390"/>
                </a:lnTo>
                <a:lnTo>
                  <a:pt x="1652" y="392"/>
                </a:lnTo>
                <a:lnTo>
                  <a:pt x="1633" y="394"/>
                </a:lnTo>
                <a:lnTo>
                  <a:pt x="1612" y="394"/>
                </a:lnTo>
                <a:lnTo>
                  <a:pt x="1591" y="396"/>
                </a:lnTo>
                <a:lnTo>
                  <a:pt x="1568" y="398"/>
                </a:lnTo>
                <a:lnTo>
                  <a:pt x="1543" y="400"/>
                </a:lnTo>
                <a:lnTo>
                  <a:pt x="1518" y="402"/>
                </a:lnTo>
                <a:lnTo>
                  <a:pt x="1491" y="403"/>
                </a:lnTo>
                <a:lnTo>
                  <a:pt x="1462" y="405"/>
                </a:lnTo>
                <a:lnTo>
                  <a:pt x="1433" y="409"/>
                </a:lnTo>
                <a:lnTo>
                  <a:pt x="1404" y="411"/>
                </a:lnTo>
                <a:lnTo>
                  <a:pt x="1372" y="413"/>
                </a:lnTo>
                <a:lnTo>
                  <a:pt x="1341" y="417"/>
                </a:lnTo>
                <a:lnTo>
                  <a:pt x="1307" y="419"/>
                </a:lnTo>
                <a:lnTo>
                  <a:pt x="1272" y="423"/>
                </a:lnTo>
                <a:lnTo>
                  <a:pt x="1237" y="425"/>
                </a:lnTo>
                <a:lnTo>
                  <a:pt x="1199" y="428"/>
                </a:lnTo>
                <a:lnTo>
                  <a:pt x="1182" y="430"/>
                </a:lnTo>
                <a:lnTo>
                  <a:pt x="1161" y="432"/>
                </a:lnTo>
                <a:lnTo>
                  <a:pt x="1142" y="434"/>
                </a:lnTo>
                <a:lnTo>
                  <a:pt x="1120" y="436"/>
                </a:lnTo>
                <a:lnTo>
                  <a:pt x="1101" y="438"/>
                </a:lnTo>
                <a:lnTo>
                  <a:pt x="1078" y="440"/>
                </a:lnTo>
                <a:lnTo>
                  <a:pt x="1057" y="442"/>
                </a:lnTo>
                <a:lnTo>
                  <a:pt x="1034" y="444"/>
                </a:lnTo>
                <a:lnTo>
                  <a:pt x="1011" y="446"/>
                </a:lnTo>
                <a:lnTo>
                  <a:pt x="988" y="448"/>
                </a:lnTo>
                <a:lnTo>
                  <a:pt x="965" y="451"/>
                </a:lnTo>
                <a:lnTo>
                  <a:pt x="940" y="453"/>
                </a:lnTo>
                <a:lnTo>
                  <a:pt x="915" y="455"/>
                </a:lnTo>
                <a:lnTo>
                  <a:pt x="890" y="457"/>
                </a:lnTo>
                <a:lnTo>
                  <a:pt x="863" y="459"/>
                </a:lnTo>
                <a:lnTo>
                  <a:pt x="838" y="463"/>
                </a:lnTo>
                <a:lnTo>
                  <a:pt x="811" y="465"/>
                </a:lnTo>
                <a:lnTo>
                  <a:pt x="783" y="467"/>
                </a:lnTo>
                <a:lnTo>
                  <a:pt x="756" y="469"/>
                </a:lnTo>
                <a:lnTo>
                  <a:pt x="727" y="473"/>
                </a:lnTo>
                <a:lnTo>
                  <a:pt x="669" y="476"/>
                </a:lnTo>
                <a:lnTo>
                  <a:pt x="610" y="482"/>
                </a:lnTo>
                <a:lnTo>
                  <a:pt x="549" y="488"/>
                </a:lnTo>
                <a:lnTo>
                  <a:pt x="483" y="492"/>
                </a:lnTo>
                <a:lnTo>
                  <a:pt x="418" y="498"/>
                </a:lnTo>
                <a:lnTo>
                  <a:pt x="351" y="503"/>
                </a:lnTo>
                <a:lnTo>
                  <a:pt x="351" y="419"/>
                </a:lnTo>
                <a:lnTo>
                  <a:pt x="362" y="419"/>
                </a:lnTo>
                <a:lnTo>
                  <a:pt x="374" y="419"/>
                </a:lnTo>
                <a:lnTo>
                  <a:pt x="385" y="419"/>
                </a:lnTo>
                <a:lnTo>
                  <a:pt x="399" y="419"/>
                </a:lnTo>
                <a:lnTo>
                  <a:pt x="412" y="419"/>
                </a:lnTo>
                <a:lnTo>
                  <a:pt x="426" y="419"/>
                </a:lnTo>
                <a:lnTo>
                  <a:pt x="441" y="419"/>
                </a:lnTo>
                <a:lnTo>
                  <a:pt x="456" y="419"/>
                </a:lnTo>
                <a:lnTo>
                  <a:pt x="472" y="417"/>
                </a:lnTo>
                <a:lnTo>
                  <a:pt x="489" y="417"/>
                </a:lnTo>
                <a:lnTo>
                  <a:pt x="522" y="415"/>
                </a:lnTo>
                <a:lnTo>
                  <a:pt x="558" y="413"/>
                </a:lnTo>
                <a:lnTo>
                  <a:pt x="595" y="409"/>
                </a:lnTo>
                <a:lnTo>
                  <a:pt x="614" y="407"/>
                </a:lnTo>
                <a:lnTo>
                  <a:pt x="633" y="407"/>
                </a:lnTo>
                <a:lnTo>
                  <a:pt x="654" y="405"/>
                </a:lnTo>
                <a:lnTo>
                  <a:pt x="675" y="403"/>
                </a:lnTo>
                <a:lnTo>
                  <a:pt x="696" y="402"/>
                </a:lnTo>
                <a:lnTo>
                  <a:pt x="721" y="398"/>
                </a:lnTo>
                <a:lnTo>
                  <a:pt x="744" y="396"/>
                </a:lnTo>
                <a:lnTo>
                  <a:pt x="771" y="394"/>
                </a:lnTo>
                <a:lnTo>
                  <a:pt x="796" y="390"/>
                </a:lnTo>
                <a:lnTo>
                  <a:pt x="825" y="388"/>
                </a:lnTo>
                <a:lnTo>
                  <a:pt x="852" y="384"/>
                </a:lnTo>
                <a:lnTo>
                  <a:pt x="882" y="380"/>
                </a:lnTo>
                <a:lnTo>
                  <a:pt x="913" y="377"/>
                </a:lnTo>
                <a:lnTo>
                  <a:pt x="946" y="373"/>
                </a:lnTo>
                <a:lnTo>
                  <a:pt x="978" y="369"/>
                </a:lnTo>
                <a:lnTo>
                  <a:pt x="1013" y="363"/>
                </a:lnTo>
                <a:lnTo>
                  <a:pt x="1145" y="350"/>
                </a:lnTo>
                <a:lnTo>
                  <a:pt x="1211" y="342"/>
                </a:lnTo>
                <a:lnTo>
                  <a:pt x="1276" y="334"/>
                </a:lnTo>
                <a:lnTo>
                  <a:pt x="1341" y="329"/>
                </a:lnTo>
                <a:lnTo>
                  <a:pt x="1404" y="321"/>
                </a:lnTo>
                <a:lnTo>
                  <a:pt x="1468" y="315"/>
                </a:lnTo>
                <a:lnTo>
                  <a:pt x="1531" y="308"/>
                </a:lnTo>
                <a:lnTo>
                  <a:pt x="1560" y="306"/>
                </a:lnTo>
                <a:lnTo>
                  <a:pt x="1589" y="304"/>
                </a:lnTo>
                <a:lnTo>
                  <a:pt x="1616" y="302"/>
                </a:lnTo>
                <a:lnTo>
                  <a:pt x="1640" y="298"/>
                </a:lnTo>
                <a:lnTo>
                  <a:pt x="1664" y="296"/>
                </a:lnTo>
                <a:lnTo>
                  <a:pt x="1685" y="294"/>
                </a:lnTo>
                <a:lnTo>
                  <a:pt x="1706" y="292"/>
                </a:lnTo>
                <a:lnTo>
                  <a:pt x="1723" y="288"/>
                </a:lnTo>
                <a:lnTo>
                  <a:pt x="1740" y="286"/>
                </a:lnTo>
                <a:lnTo>
                  <a:pt x="1756" y="283"/>
                </a:lnTo>
                <a:lnTo>
                  <a:pt x="1769" y="281"/>
                </a:lnTo>
                <a:lnTo>
                  <a:pt x="1781" y="279"/>
                </a:lnTo>
                <a:lnTo>
                  <a:pt x="1792" y="277"/>
                </a:lnTo>
                <a:lnTo>
                  <a:pt x="1802" y="275"/>
                </a:lnTo>
                <a:lnTo>
                  <a:pt x="1809" y="271"/>
                </a:lnTo>
                <a:lnTo>
                  <a:pt x="1817" y="271"/>
                </a:lnTo>
                <a:lnTo>
                  <a:pt x="1829" y="267"/>
                </a:lnTo>
                <a:lnTo>
                  <a:pt x="1840" y="263"/>
                </a:lnTo>
                <a:lnTo>
                  <a:pt x="1850" y="260"/>
                </a:lnTo>
                <a:lnTo>
                  <a:pt x="1861" y="258"/>
                </a:lnTo>
                <a:lnTo>
                  <a:pt x="1871" y="258"/>
                </a:lnTo>
                <a:lnTo>
                  <a:pt x="1882" y="258"/>
                </a:lnTo>
                <a:lnTo>
                  <a:pt x="1894" y="258"/>
                </a:lnTo>
                <a:lnTo>
                  <a:pt x="1905" y="261"/>
                </a:lnTo>
                <a:lnTo>
                  <a:pt x="1909" y="263"/>
                </a:lnTo>
                <a:lnTo>
                  <a:pt x="1915" y="265"/>
                </a:lnTo>
                <a:lnTo>
                  <a:pt x="1923" y="269"/>
                </a:lnTo>
                <a:lnTo>
                  <a:pt x="1930" y="273"/>
                </a:lnTo>
                <a:lnTo>
                  <a:pt x="1938" y="277"/>
                </a:lnTo>
                <a:lnTo>
                  <a:pt x="1948" y="283"/>
                </a:lnTo>
                <a:lnTo>
                  <a:pt x="1959" y="286"/>
                </a:lnTo>
                <a:lnTo>
                  <a:pt x="1971" y="292"/>
                </a:lnTo>
                <a:lnTo>
                  <a:pt x="1982" y="300"/>
                </a:lnTo>
                <a:lnTo>
                  <a:pt x="1996" y="306"/>
                </a:lnTo>
                <a:lnTo>
                  <a:pt x="2009" y="313"/>
                </a:lnTo>
                <a:lnTo>
                  <a:pt x="2024" y="321"/>
                </a:lnTo>
                <a:lnTo>
                  <a:pt x="2040" y="329"/>
                </a:lnTo>
                <a:lnTo>
                  <a:pt x="2057" y="336"/>
                </a:lnTo>
                <a:lnTo>
                  <a:pt x="2074" y="346"/>
                </a:lnTo>
                <a:lnTo>
                  <a:pt x="2093" y="354"/>
                </a:lnTo>
                <a:lnTo>
                  <a:pt x="2111" y="365"/>
                </a:lnTo>
                <a:lnTo>
                  <a:pt x="2126" y="375"/>
                </a:lnTo>
                <a:lnTo>
                  <a:pt x="2141" y="384"/>
                </a:lnTo>
                <a:lnTo>
                  <a:pt x="2157" y="392"/>
                </a:lnTo>
                <a:lnTo>
                  <a:pt x="2170" y="402"/>
                </a:lnTo>
                <a:lnTo>
                  <a:pt x="2182" y="409"/>
                </a:lnTo>
                <a:lnTo>
                  <a:pt x="2191" y="417"/>
                </a:lnTo>
                <a:lnTo>
                  <a:pt x="2201" y="425"/>
                </a:lnTo>
                <a:lnTo>
                  <a:pt x="2209" y="432"/>
                </a:lnTo>
                <a:lnTo>
                  <a:pt x="2216" y="440"/>
                </a:lnTo>
                <a:lnTo>
                  <a:pt x="2222" y="446"/>
                </a:lnTo>
                <a:lnTo>
                  <a:pt x="2228" y="453"/>
                </a:lnTo>
                <a:lnTo>
                  <a:pt x="2232" y="459"/>
                </a:lnTo>
                <a:lnTo>
                  <a:pt x="2233" y="465"/>
                </a:lnTo>
                <a:lnTo>
                  <a:pt x="2235" y="471"/>
                </a:lnTo>
                <a:lnTo>
                  <a:pt x="2235" y="475"/>
                </a:lnTo>
                <a:close/>
                <a:moveTo>
                  <a:pt x="683" y="885"/>
                </a:moveTo>
                <a:lnTo>
                  <a:pt x="689" y="876"/>
                </a:lnTo>
                <a:lnTo>
                  <a:pt x="692" y="866"/>
                </a:lnTo>
                <a:lnTo>
                  <a:pt x="696" y="856"/>
                </a:lnTo>
                <a:lnTo>
                  <a:pt x="700" y="847"/>
                </a:lnTo>
                <a:lnTo>
                  <a:pt x="704" y="837"/>
                </a:lnTo>
                <a:lnTo>
                  <a:pt x="706" y="830"/>
                </a:lnTo>
                <a:lnTo>
                  <a:pt x="708" y="822"/>
                </a:lnTo>
                <a:lnTo>
                  <a:pt x="708" y="814"/>
                </a:lnTo>
                <a:lnTo>
                  <a:pt x="708" y="807"/>
                </a:lnTo>
                <a:lnTo>
                  <a:pt x="708" y="801"/>
                </a:lnTo>
                <a:lnTo>
                  <a:pt x="706" y="793"/>
                </a:lnTo>
                <a:lnTo>
                  <a:pt x="706" y="787"/>
                </a:lnTo>
                <a:lnTo>
                  <a:pt x="702" y="782"/>
                </a:lnTo>
                <a:lnTo>
                  <a:pt x="700" y="776"/>
                </a:lnTo>
                <a:lnTo>
                  <a:pt x="696" y="770"/>
                </a:lnTo>
                <a:lnTo>
                  <a:pt x="692" y="764"/>
                </a:lnTo>
                <a:lnTo>
                  <a:pt x="689" y="759"/>
                </a:lnTo>
                <a:lnTo>
                  <a:pt x="687" y="755"/>
                </a:lnTo>
                <a:lnTo>
                  <a:pt x="683" y="749"/>
                </a:lnTo>
                <a:lnTo>
                  <a:pt x="681" y="745"/>
                </a:lnTo>
                <a:lnTo>
                  <a:pt x="679" y="741"/>
                </a:lnTo>
                <a:lnTo>
                  <a:pt x="677" y="737"/>
                </a:lnTo>
                <a:lnTo>
                  <a:pt x="677" y="734"/>
                </a:lnTo>
                <a:lnTo>
                  <a:pt x="677" y="730"/>
                </a:lnTo>
                <a:lnTo>
                  <a:pt x="677" y="726"/>
                </a:lnTo>
                <a:lnTo>
                  <a:pt x="677" y="722"/>
                </a:lnTo>
                <a:lnTo>
                  <a:pt x="679" y="720"/>
                </a:lnTo>
                <a:lnTo>
                  <a:pt x="681" y="716"/>
                </a:lnTo>
                <a:lnTo>
                  <a:pt x="683" y="714"/>
                </a:lnTo>
                <a:lnTo>
                  <a:pt x="687" y="713"/>
                </a:lnTo>
                <a:lnTo>
                  <a:pt x="689" y="711"/>
                </a:lnTo>
                <a:lnTo>
                  <a:pt x="692" y="709"/>
                </a:lnTo>
                <a:lnTo>
                  <a:pt x="702" y="705"/>
                </a:lnTo>
                <a:lnTo>
                  <a:pt x="712" y="705"/>
                </a:lnTo>
                <a:lnTo>
                  <a:pt x="723" y="705"/>
                </a:lnTo>
                <a:lnTo>
                  <a:pt x="737" y="709"/>
                </a:lnTo>
                <a:lnTo>
                  <a:pt x="750" y="713"/>
                </a:lnTo>
                <a:lnTo>
                  <a:pt x="765" y="718"/>
                </a:lnTo>
                <a:lnTo>
                  <a:pt x="783" y="726"/>
                </a:lnTo>
                <a:lnTo>
                  <a:pt x="792" y="732"/>
                </a:lnTo>
                <a:lnTo>
                  <a:pt x="804" y="736"/>
                </a:lnTo>
                <a:lnTo>
                  <a:pt x="813" y="741"/>
                </a:lnTo>
                <a:lnTo>
                  <a:pt x="823" y="747"/>
                </a:lnTo>
                <a:lnTo>
                  <a:pt x="831" y="751"/>
                </a:lnTo>
                <a:lnTo>
                  <a:pt x="838" y="757"/>
                </a:lnTo>
                <a:lnTo>
                  <a:pt x="846" y="760"/>
                </a:lnTo>
                <a:lnTo>
                  <a:pt x="852" y="764"/>
                </a:lnTo>
                <a:lnTo>
                  <a:pt x="858" y="770"/>
                </a:lnTo>
                <a:lnTo>
                  <a:pt x="863" y="774"/>
                </a:lnTo>
                <a:lnTo>
                  <a:pt x="869" y="778"/>
                </a:lnTo>
                <a:lnTo>
                  <a:pt x="873" y="782"/>
                </a:lnTo>
                <a:lnTo>
                  <a:pt x="881" y="791"/>
                </a:lnTo>
                <a:lnTo>
                  <a:pt x="886" y="801"/>
                </a:lnTo>
                <a:lnTo>
                  <a:pt x="892" y="810"/>
                </a:lnTo>
                <a:lnTo>
                  <a:pt x="892" y="816"/>
                </a:lnTo>
                <a:lnTo>
                  <a:pt x="894" y="822"/>
                </a:lnTo>
                <a:lnTo>
                  <a:pt x="892" y="830"/>
                </a:lnTo>
                <a:lnTo>
                  <a:pt x="892" y="835"/>
                </a:lnTo>
                <a:lnTo>
                  <a:pt x="888" y="843"/>
                </a:lnTo>
                <a:lnTo>
                  <a:pt x="884" y="851"/>
                </a:lnTo>
                <a:lnTo>
                  <a:pt x="881" y="858"/>
                </a:lnTo>
                <a:lnTo>
                  <a:pt x="875" y="868"/>
                </a:lnTo>
                <a:lnTo>
                  <a:pt x="867" y="878"/>
                </a:lnTo>
                <a:lnTo>
                  <a:pt x="859" y="887"/>
                </a:lnTo>
                <a:lnTo>
                  <a:pt x="852" y="899"/>
                </a:lnTo>
                <a:lnTo>
                  <a:pt x="842" y="908"/>
                </a:lnTo>
                <a:lnTo>
                  <a:pt x="831" y="922"/>
                </a:lnTo>
                <a:lnTo>
                  <a:pt x="819" y="933"/>
                </a:lnTo>
                <a:lnTo>
                  <a:pt x="806" y="947"/>
                </a:lnTo>
                <a:lnTo>
                  <a:pt x="792" y="960"/>
                </a:lnTo>
                <a:lnTo>
                  <a:pt x="763" y="987"/>
                </a:lnTo>
                <a:lnTo>
                  <a:pt x="735" y="1014"/>
                </a:lnTo>
                <a:lnTo>
                  <a:pt x="706" y="1041"/>
                </a:lnTo>
                <a:lnTo>
                  <a:pt x="677" y="1066"/>
                </a:lnTo>
                <a:lnTo>
                  <a:pt x="648" y="1089"/>
                </a:lnTo>
                <a:lnTo>
                  <a:pt x="618" y="1112"/>
                </a:lnTo>
                <a:lnTo>
                  <a:pt x="589" y="1135"/>
                </a:lnTo>
                <a:lnTo>
                  <a:pt x="560" y="1156"/>
                </a:lnTo>
                <a:lnTo>
                  <a:pt x="547" y="1167"/>
                </a:lnTo>
                <a:lnTo>
                  <a:pt x="533" y="1179"/>
                </a:lnTo>
                <a:lnTo>
                  <a:pt x="522" y="1189"/>
                </a:lnTo>
                <a:lnTo>
                  <a:pt x="510" y="1196"/>
                </a:lnTo>
                <a:lnTo>
                  <a:pt x="499" y="1204"/>
                </a:lnTo>
                <a:lnTo>
                  <a:pt x="489" y="1212"/>
                </a:lnTo>
                <a:lnTo>
                  <a:pt x="479" y="1217"/>
                </a:lnTo>
                <a:lnTo>
                  <a:pt x="470" y="1221"/>
                </a:lnTo>
                <a:lnTo>
                  <a:pt x="462" y="1225"/>
                </a:lnTo>
                <a:lnTo>
                  <a:pt x="454" y="1229"/>
                </a:lnTo>
                <a:lnTo>
                  <a:pt x="449" y="1231"/>
                </a:lnTo>
                <a:lnTo>
                  <a:pt x="443" y="1233"/>
                </a:lnTo>
                <a:lnTo>
                  <a:pt x="439" y="1233"/>
                </a:lnTo>
                <a:lnTo>
                  <a:pt x="433" y="1233"/>
                </a:lnTo>
                <a:lnTo>
                  <a:pt x="431" y="1233"/>
                </a:lnTo>
                <a:lnTo>
                  <a:pt x="430" y="1231"/>
                </a:lnTo>
                <a:lnTo>
                  <a:pt x="428" y="1229"/>
                </a:lnTo>
                <a:lnTo>
                  <a:pt x="426" y="1225"/>
                </a:lnTo>
                <a:lnTo>
                  <a:pt x="428" y="1221"/>
                </a:lnTo>
                <a:lnTo>
                  <a:pt x="430" y="1217"/>
                </a:lnTo>
                <a:lnTo>
                  <a:pt x="431" y="1212"/>
                </a:lnTo>
                <a:lnTo>
                  <a:pt x="435" y="1204"/>
                </a:lnTo>
                <a:lnTo>
                  <a:pt x="439" y="1196"/>
                </a:lnTo>
                <a:lnTo>
                  <a:pt x="445" y="1189"/>
                </a:lnTo>
                <a:lnTo>
                  <a:pt x="453" y="1179"/>
                </a:lnTo>
                <a:lnTo>
                  <a:pt x="460" y="1169"/>
                </a:lnTo>
                <a:lnTo>
                  <a:pt x="468" y="1158"/>
                </a:lnTo>
                <a:lnTo>
                  <a:pt x="479" y="1146"/>
                </a:lnTo>
                <a:lnTo>
                  <a:pt x="489" y="1135"/>
                </a:lnTo>
                <a:lnTo>
                  <a:pt x="501" y="1121"/>
                </a:lnTo>
                <a:lnTo>
                  <a:pt x="514" y="1106"/>
                </a:lnTo>
                <a:lnTo>
                  <a:pt x="527" y="1091"/>
                </a:lnTo>
                <a:lnTo>
                  <a:pt x="541" y="1075"/>
                </a:lnTo>
                <a:lnTo>
                  <a:pt x="554" y="1060"/>
                </a:lnTo>
                <a:lnTo>
                  <a:pt x="568" y="1045"/>
                </a:lnTo>
                <a:lnTo>
                  <a:pt x="579" y="1029"/>
                </a:lnTo>
                <a:lnTo>
                  <a:pt x="591" y="1016"/>
                </a:lnTo>
                <a:lnTo>
                  <a:pt x="602" y="1000"/>
                </a:lnTo>
                <a:lnTo>
                  <a:pt x="612" y="987"/>
                </a:lnTo>
                <a:lnTo>
                  <a:pt x="621" y="974"/>
                </a:lnTo>
                <a:lnTo>
                  <a:pt x="631" y="960"/>
                </a:lnTo>
                <a:lnTo>
                  <a:pt x="639" y="949"/>
                </a:lnTo>
                <a:lnTo>
                  <a:pt x="646" y="937"/>
                </a:lnTo>
                <a:lnTo>
                  <a:pt x="654" y="926"/>
                </a:lnTo>
                <a:lnTo>
                  <a:pt x="662" y="914"/>
                </a:lnTo>
                <a:lnTo>
                  <a:pt x="669" y="904"/>
                </a:lnTo>
                <a:lnTo>
                  <a:pt x="675" y="895"/>
                </a:lnTo>
                <a:lnTo>
                  <a:pt x="683" y="885"/>
                </a:lnTo>
                <a:close/>
                <a:moveTo>
                  <a:pt x="715" y="1062"/>
                </a:moveTo>
                <a:lnTo>
                  <a:pt x="702" y="1058"/>
                </a:lnTo>
                <a:lnTo>
                  <a:pt x="691" y="1054"/>
                </a:lnTo>
                <a:lnTo>
                  <a:pt x="679" y="1048"/>
                </a:lnTo>
                <a:lnTo>
                  <a:pt x="668" y="1041"/>
                </a:lnTo>
                <a:lnTo>
                  <a:pt x="658" y="1031"/>
                </a:lnTo>
                <a:lnTo>
                  <a:pt x="650" y="1022"/>
                </a:lnTo>
                <a:lnTo>
                  <a:pt x="643" y="1010"/>
                </a:lnTo>
                <a:lnTo>
                  <a:pt x="641" y="1004"/>
                </a:lnTo>
                <a:lnTo>
                  <a:pt x="639" y="997"/>
                </a:lnTo>
                <a:lnTo>
                  <a:pt x="660" y="995"/>
                </a:lnTo>
                <a:lnTo>
                  <a:pt x="681" y="991"/>
                </a:lnTo>
                <a:lnTo>
                  <a:pt x="704" y="987"/>
                </a:lnTo>
                <a:lnTo>
                  <a:pt x="727" y="983"/>
                </a:lnTo>
                <a:lnTo>
                  <a:pt x="748" y="979"/>
                </a:lnTo>
                <a:lnTo>
                  <a:pt x="771" y="977"/>
                </a:lnTo>
                <a:lnTo>
                  <a:pt x="792" y="974"/>
                </a:lnTo>
                <a:lnTo>
                  <a:pt x="813" y="970"/>
                </a:lnTo>
                <a:lnTo>
                  <a:pt x="825" y="968"/>
                </a:lnTo>
                <a:lnTo>
                  <a:pt x="838" y="966"/>
                </a:lnTo>
                <a:lnTo>
                  <a:pt x="854" y="964"/>
                </a:lnTo>
                <a:lnTo>
                  <a:pt x="871" y="960"/>
                </a:lnTo>
                <a:lnTo>
                  <a:pt x="888" y="958"/>
                </a:lnTo>
                <a:lnTo>
                  <a:pt x="909" y="954"/>
                </a:lnTo>
                <a:lnTo>
                  <a:pt x="930" y="951"/>
                </a:lnTo>
                <a:lnTo>
                  <a:pt x="955" y="947"/>
                </a:lnTo>
                <a:lnTo>
                  <a:pt x="980" y="943"/>
                </a:lnTo>
                <a:lnTo>
                  <a:pt x="1007" y="939"/>
                </a:lnTo>
                <a:lnTo>
                  <a:pt x="1038" y="933"/>
                </a:lnTo>
                <a:lnTo>
                  <a:pt x="1069" y="929"/>
                </a:lnTo>
                <a:lnTo>
                  <a:pt x="1101" y="924"/>
                </a:lnTo>
                <a:lnTo>
                  <a:pt x="1136" y="918"/>
                </a:lnTo>
                <a:lnTo>
                  <a:pt x="1172" y="910"/>
                </a:lnTo>
                <a:lnTo>
                  <a:pt x="1211" y="904"/>
                </a:lnTo>
                <a:lnTo>
                  <a:pt x="1230" y="901"/>
                </a:lnTo>
                <a:lnTo>
                  <a:pt x="1249" y="897"/>
                </a:lnTo>
                <a:lnTo>
                  <a:pt x="1266" y="893"/>
                </a:lnTo>
                <a:lnTo>
                  <a:pt x="1285" y="891"/>
                </a:lnTo>
                <a:lnTo>
                  <a:pt x="1303" y="887"/>
                </a:lnTo>
                <a:lnTo>
                  <a:pt x="1318" y="885"/>
                </a:lnTo>
                <a:lnTo>
                  <a:pt x="1333" y="881"/>
                </a:lnTo>
                <a:lnTo>
                  <a:pt x="1349" y="879"/>
                </a:lnTo>
                <a:lnTo>
                  <a:pt x="1364" y="878"/>
                </a:lnTo>
                <a:lnTo>
                  <a:pt x="1379" y="874"/>
                </a:lnTo>
                <a:lnTo>
                  <a:pt x="1393" y="872"/>
                </a:lnTo>
                <a:lnTo>
                  <a:pt x="1406" y="870"/>
                </a:lnTo>
                <a:lnTo>
                  <a:pt x="1418" y="868"/>
                </a:lnTo>
                <a:lnTo>
                  <a:pt x="1431" y="866"/>
                </a:lnTo>
                <a:lnTo>
                  <a:pt x="1443" y="864"/>
                </a:lnTo>
                <a:lnTo>
                  <a:pt x="1452" y="862"/>
                </a:lnTo>
                <a:lnTo>
                  <a:pt x="1464" y="860"/>
                </a:lnTo>
                <a:lnTo>
                  <a:pt x="1474" y="858"/>
                </a:lnTo>
                <a:lnTo>
                  <a:pt x="1483" y="856"/>
                </a:lnTo>
                <a:lnTo>
                  <a:pt x="1493" y="856"/>
                </a:lnTo>
                <a:lnTo>
                  <a:pt x="1500" y="855"/>
                </a:lnTo>
                <a:lnTo>
                  <a:pt x="1510" y="853"/>
                </a:lnTo>
                <a:lnTo>
                  <a:pt x="1518" y="853"/>
                </a:lnTo>
                <a:lnTo>
                  <a:pt x="1523" y="851"/>
                </a:lnTo>
                <a:lnTo>
                  <a:pt x="1531" y="851"/>
                </a:lnTo>
                <a:lnTo>
                  <a:pt x="1537" y="851"/>
                </a:lnTo>
                <a:lnTo>
                  <a:pt x="1548" y="849"/>
                </a:lnTo>
                <a:lnTo>
                  <a:pt x="1556" y="849"/>
                </a:lnTo>
                <a:lnTo>
                  <a:pt x="1564" y="849"/>
                </a:lnTo>
                <a:lnTo>
                  <a:pt x="1575" y="849"/>
                </a:lnTo>
                <a:lnTo>
                  <a:pt x="1589" y="849"/>
                </a:lnTo>
                <a:lnTo>
                  <a:pt x="1602" y="851"/>
                </a:lnTo>
                <a:lnTo>
                  <a:pt x="1614" y="855"/>
                </a:lnTo>
                <a:lnTo>
                  <a:pt x="1629" y="856"/>
                </a:lnTo>
                <a:lnTo>
                  <a:pt x="1642" y="860"/>
                </a:lnTo>
                <a:lnTo>
                  <a:pt x="1658" y="864"/>
                </a:lnTo>
                <a:lnTo>
                  <a:pt x="1673" y="866"/>
                </a:lnTo>
                <a:lnTo>
                  <a:pt x="1685" y="874"/>
                </a:lnTo>
                <a:lnTo>
                  <a:pt x="1696" y="881"/>
                </a:lnTo>
                <a:lnTo>
                  <a:pt x="1706" y="887"/>
                </a:lnTo>
                <a:lnTo>
                  <a:pt x="1710" y="891"/>
                </a:lnTo>
                <a:lnTo>
                  <a:pt x="1711" y="895"/>
                </a:lnTo>
                <a:lnTo>
                  <a:pt x="1715" y="899"/>
                </a:lnTo>
                <a:lnTo>
                  <a:pt x="1717" y="903"/>
                </a:lnTo>
                <a:lnTo>
                  <a:pt x="1719" y="904"/>
                </a:lnTo>
                <a:lnTo>
                  <a:pt x="1719" y="908"/>
                </a:lnTo>
                <a:lnTo>
                  <a:pt x="1721" y="912"/>
                </a:lnTo>
                <a:lnTo>
                  <a:pt x="1721" y="916"/>
                </a:lnTo>
                <a:lnTo>
                  <a:pt x="1719" y="920"/>
                </a:lnTo>
                <a:lnTo>
                  <a:pt x="1717" y="924"/>
                </a:lnTo>
                <a:lnTo>
                  <a:pt x="1715" y="926"/>
                </a:lnTo>
                <a:lnTo>
                  <a:pt x="1713" y="929"/>
                </a:lnTo>
                <a:lnTo>
                  <a:pt x="1710" y="933"/>
                </a:lnTo>
                <a:lnTo>
                  <a:pt x="1706" y="935"/>
                </a:lnTo>
                <a:lnTo>
                  <a:pt x="1696" y="941"/>
                </a:lnTo>
                <a:lnTo>
                  <a:pt x="1687" y="945"/>
                </a:lnTo>
                <a:lnTo>
                  <a:pt x="1673" y="949"/>
                </a:lnTo>
                <a:lnTo>
                  <a:pt x="1660" y="952"/>
                </a:lnTo>
                <a:lnTo>
                  <a:pt x="1646" y="956"/>
                </a:lnTo>
                <a:lnTo>
                  <a:pt x="1629" y="960"/>
                </a:lnTo>
                <a:lnTo>
                  <a:pt x="1625" y="960"/>
                </a:lnTo>
                <a:lnTo>
                  <a:pt x="1617" y="962"/>
                </a:lnTo>
                <a:lnTo>
                  <a:pt x="1612" y="964"/>
                </a:lnTo>
                <a:lnTo>
                  <a:pt x="1604" y="964"/>
                </a:lnTo>
                <a:lnTo>
                  <a:pt x="1596" y="966"/>
                </a:lnTo>
                <a:lnTo>
                  <a:pt x="1589" y="966"/>
                </a:lnTo>
                <a:lnTo>
                  <a:pt x="1579" y="968"/>
                </a:lnTo>
                <a:lnTo>
                  <a:pt x="1569" y="970"/>
                </a:lnTo>
                <a:lnTo>
                  <a:pt x="1560" y="970"/>
                </a:lnTo>
                <a:lnTo>
                  <a:pt x="1548" y="972"/>
                </a:lnTo>
                <a:lnTo>
                  <a:pt x="1537" y="974"/>
                </a:lnTo>
                <a:lnTo>
                  <a:pt x="1525" y="974"/>
                </a:lnTo>
                <a:lnTo>
                  <a:pt x="1514" y="975"/>
                </a:lnTo>
                <a:lnTo>
                  <a:pt x="1500" y="977"/>
                </a:lnTo>
                <a:lnTo>
                  <a:pt x="1487" y="979"/>
                </a:lnTo>
                <a:lnTo>
                  <a:pt x="1472" y="981"/>
                </a:lnTo>
                <a:lnTo>
                  <a:pt x="1458" y="983"/>
                </a:lnTo>
                <a:lnTo>
                  <a:pt x="1443" y="985"/>
                </a:lnTo>
                <a:lnTo>
                  <a:pt x="1427" y="987"/>
                </a:lnTo>
                <a:lnTo>
                  <a:pt x="1410" y="989"/>
                </a:lnTo>
                <a:lnTo>
                  <a:pt x="1393" y="991"/>
                </a:lnTo>
                <a:lnTo>
                  <a:pt x="1376" y="993"/>
                </a:lnTo>
                <a:lnTo>
                  <a:pt x="1356" y="995"/>
                </a:lnTo>
                <a:lnTo>
                  <a:pt x="1337" y="997"/>
                </a:lnTo>
                <a:lnTo>
                  <a:pt x="1318" y="998"/>
                </a:lnTo>
                <a:lnTo>
                  <a:pt x="1299" y="1000"/>
                </a:lnTo>
                <a:lnTo>
                  <a:pt x="1278" y="1004"/>
                </a:lnTo>
                <a:lnTo>
                  <a:pt x="1257" y="1006"/>
                </a:lnTo>
                <a:lnTo>
                  <a:pt x="1236" y="1008"/>
                </a:lnTo>
                <a:lnTo>
                  <a:pt x="1213" y="1010"/>
                </a:lnTo>
                <a:lnTo>
                  <a:pt x="1190" y="1014"/>
                </a:lnTo>
                <a:lnTo>
                  <a:pt x="1166" y="1016"/>
                </a:lnTo>
                <a:lnTo>
                  <a:pt x="1142" y="1020"/>
                </a:lnTo>
                <a:lnTo>
                  <a:pt x="1118" y="1023"/>
                </a:lnTo>
                <a:lnTo>
                  <a:pt x="1095" y="1025"/>
                </a:lnTo>
                <a:lnTo>
                  <a:pt x="1072" y="1029"/>
                </a:lnTo>
                <a:lnTo>
                  <a:pt x="1051" y="1033"/>
                </a:lnTo>
                <a:lnTo>
                  <a:pt x="1030" y="1035"/>
                </a:lnTo>
                <a:lnTo>
                  <a:pt x="1009" y="1039"/>
                </a:lnTo>
                <a:lnTo>
                  <a:pt x="990" y="1041"/>
                </a:lnTo>
                <a:lnTo>
                  <a:pt x="971" y="1043"/>
                </a:lnTo>
                <a:lnTo>
                  <a:pt x="952" y="1046"/>
                </a:lnTo>
                <a:lnTo>
                  <a:pt x="934" y="1048"/>
                </a:lnTo>
                <a:lnTo>
                  <a:pt x="917" y="1050"/>
                </a:lnTo>
                <a:lnTo>
                  <a:pt x="900" y="1052"/>
                </a:lnTo>
                <a:lnTo>
                  <a:pt x="884" y="1054"/>
                </a:lnTo>
                <a:lnTo>
                  <a:pt x="869" y="1056"/>
                </a:lnTo>
                <a:lnTo>
                  <a:pt x="854" y="1058"/>
                </a:lnTo>
                <a:lnTo>
                  <a:pt x="840" y="1058"/>
                </a:lnTo>
                <a:lnTo>
                  <a:pt x="827" y="1060"/>
                </a:lnTo>
                <a:lnTo>
                  <a:pt x="815" y="1062"/>
                </a:lnTo>
                <a:lnTo>
                  <a:pt x="804" y="1062"/>
                </a:lnTo>
                <a:lnTo>
                  <a:pt x="792" y="1064"/>
                </a:lnTo>
                <a:lnTo>
                  <a:pt x="781" y="1064"/>
                </a:lnTo>
                <a:lnTo>
                  <a:pt x="771" y="1064"/>
                </a:lnTo>
                <a:lnTo>
                  <a:pt x="762" y="1064"/>
                </a:lnTo>
                <a:lnTo>
                  <a:pt x="754" y="1066"/>
                </a:lnTo>
                <a:lnTo>
                  <a:pt x="746" y="1066"/>
                </a:lnTo>
                <a:lnTo>
                  <a:pt x="739" y="1066"/>
                </a:lnTo>
                <a:lnTo>
                  <a:pt x="733" y="1066"/>
                </a:lnTo>
                <a:lnTo>
                  <a:pt x="727" y="1064"/>
                </a:lnTo>
                <a:lnTo>
                  <a:pt x="723" y="1064"/>
                </a:lnTo>
                <a:lnTo>
                  <a:pt x="719" y="1064"/>
                </a:lnTo>
                <a:lnTo>
                  <a:pt x="715" y="1062"/>
                </a:lnTo>
                <a:close/>
                <a:moveTo>
                  <a:pt x="1113" y="745"/>
                </a:moveTo>
                <a:lnTo>
                  <a:pt x="1107" y="722"/>
                </a:lnTo>
                <a:lnTo>
                  <a:pt x="1105" y="711"/>
                </a:lnTo>
                <a:lnTo>
                  <a:pt x="1103" y="701"/>
                </a:lnTo>
                <a:lnTo>
                  <a:pt x="1101" y="689"/>
                </a:lnTo>
                <a:lnTo>
                  <a:pt x="1099" y="680"/>
                </a:lnTo>
                <a:lnTo>
                  <a:pt x="1097" y="672"/>
                </a:lnTo>
                <a:lnTo>
                  <a:pt x="1094" y="663"/>
                </a:lnTo>
                <a:lnTo>
                  <a:pt x="1092" y="655"/>
                </a:lnTo>
                <a:lnTo>
                  <a:pt x="1088" y="647"/>
                </a:lnTo>
                <a:lnTo>
                  <a:pt x="1086" y="640"/>
                </a:lnTo>
                <a:lnTo>
                  <a:pt x="1082" y="634"/>
                </a:lnTo>
                <a:lnTo>
                  <a:pt x="1078" y="628"/>
                </a:lnTo>
                <a:lnTo>
                  <a:pt x="1076" y="624"/>
                </a:lnTo>
                <a:lnTo>
                  <a:pt x="1072" y="618"/>
                </a:lnTo>
                <a:lnTo>
                  <a:pt x="1069" y="615"/>
                </a:lnTo>
                <a:lnTo>
                  <a:pt x="1059" y="611"/>
                </a:lnTo>
                <a:lnTo>
                  <a:pt x="1053" y="607"/>
                </a:lnTo>
                <a:lnTo>
                  <a:pt x="1047" y="601"/>
                </a:lnTo>
                <a:lnTo>
                  <a:pt x="1044" y="595"/>
                </a:lnTo>
                <a:lnTo>
                  <a:pt x="1042" y="590"/>
                </a:lnTo>
                <a:lnTo>
                  <a:pt x="1042" y="582"/>
                </a:lnTo>
                <a:lnTo>
                  <a:pt x="1042" y="576"/>
                </a:lnTo>
                <a:lnTo>
                  <a:pt x="1044" y="572"/>
                </a:lnTo>
                <a:lnTo>
                  <a:pt x="1046" y="569"/>
                </a:lnTo>
                <a:lnTo>
                  <a:pt x="1047" y="567"/>
                </a:lnTo>
                <a:lnTo>
                  <a:pt x="1051" y="565"/>
                </a:lnTo>
                <a:lnTo>
                  <a:pt x="1055" y="565"/>
                </a:lnTo>
                <a:lnTo>
                  <a:pt x="1061" y="563"/>
                </a:lnTo>
                <a:lnTo>
                  <a:pt x="1065" y="563"/>
                </a:lnTo>
                <a:lnTo>
                  <a:pt x="1072" y="561"/>
                </a:lnTo>
                <a:lnTo>
                  <a:pt x="1078" y="561"/>
                </a:lnTo>
                <a:lnTo>
                  <a:pt x="1088" y="561"/>
                </a:lnTo>
                <a:lnTo>
                  <a:pt x="1095" y="561"/>
                </a:lnTo>
                <a:lnTo>
                  <a:pt x="1105" y="561"/>
                </a:lnTo>
                <a:lnTo>
                  <a:pt x="1115" y="563"/>
                </a:lnTo>
                <a:lnTo>
                  <a:pt x="1126" y="563"/>
                </a:lnTo>
                <a:lnTo>
                  <a:pt x="1138" y="565"/>
                </a:lnTo>
                <a:lnTo>
                  <a:pt x="1151" y="565"/>
                </a:lnTo>
                <a:lnTo>
                  <a:pt x="1165" y="567"/>
                </a:lnTo>
                <a:lnTo>
                  <a:pt x="1178" y="569"/>
                </a:lnTo>
                <a:lnTo>
                  <a:pt x="1191" y="572"/>
                </a:lnTo>
                <a:lnTo>
                  <a:pt x="1205" y="576"/>
                </a:lnTo>
                <a:lnTo>
                  <a:pt x="1216" y="578"/>
                </a:lnTo>
                <a:lnTo>
                  <a:pt x="1228" y="582"/>
                </a:lnTo>
                <a:lnTo>
                  <a:pt x="1237" y="586"/>
                </a:lnTo>
                <a:lnTo>
                  <a:pt x="1247" y="590"/>
                </a:lnTo>
                <a:lnTo>
                  <a:pt x="1255" y="594"/>
                </a:lnTo>
                <a:lnTo>
                  <a:pt x="1262" y="597"/>
                </a:lnTo>
                <a:lnTo>
                  <a:pt x="1270" y="599"/>
                </a:lnTo>
                <a:lnTo>
                  <a:pt x="1276" y="603"/>
                </a:lnTo>
                <a:lnTo>
                  <a:pt x="1282" y="607"/>
                </a:lnTo>
                <a:lnTo>
                  <a:pt x="1285" y="611"/>
                </a:lnTo>
                <a:lnTo>
                  <a:pt x="1291" y="615"/>
                </a:lnTo>
                <a:lnTo>
                  <a:pt x="1293" y="617"/>
                </a:lnTo>
                <a:lnTo>
                  <a:pt x="1297" y="620"/>
                </a:lnTo>
                <a:lnTo>
                  <a:pt x="1299" y="624"/>
                </a:lnTo>
                <a:lnTo>
                  <a:pt x="1299" y="632"/>
                </a:lnTo>
                <a:lnTo>
                  <a:pt x="1299" y="641"/>
                </a:lnTo>
                <a:lnTo>
                  <a:pt x="1299" y="653"/>
                </a:lnTo>
                <a:lnTo>
                  <a:pt x="1297" y="665"/>
                </a:lnTo>
                <a:lnTo>
                  <a:pt x="1297" y="678"/>
                </a:lnTo>
                <a:lnTo>
                  <a:pt x="1295" y="693"/>
                </a:lnTo>
                <a:lnTo>
                  <a:pt x="1291" y="711"/>
                </a:lnTo>
                <a:lnTo>
                  <a:pt x="1287" y="728"/>
                </a:lnTo>
                <a:lnTo>
                  <a:pt x="1287" y="732"/>
                </a:lnTo>
                <a:lnTo>
                  <a:pt x="1285" y="737"/>
                </a:lnTo>
                <a:lnTo>
                  <a:pt x="1285" y="743"/>
                </a:lnTo>
                <a:lnTo>
                  <a:pt x="1284" y="751"/>
                </a:lnTo>
                <a:lnTo>
                  <a:pt x="1284" y="759"/>
                </a:lnTo>
                <a:lnTo>
                  <a:pt x="1282" y="766"/>
                </a:lnTo>
                <a:lnTo>
                  <a:pt x="1282" y="776"/>
                </a:lnTo>
                <a:lnTo>
                  <a:pt x="1280" y="785"/>
                </a:lnTo>
                <a:lnTo>
                  <a:pt x="1280" y="797"/>
                </a:lnTo>
                <a:lnTo>
                  <a:pt x="1278" y="808"/>
                </a:lnTo>
                <a:lnTo>
                  <a:pt x="1278" y="820"/>
                </a:lnTo>
                <a:lnTo>
                  <a:pt x="1276" y="833"/>
                </a:lnTo>
                <a:lnTo>
                  <a:pt x="1276" y="847"/>
                </a:lnTo>
                <a:lnTo>
                  <a:pt x="1274" y="862"/>
                </a:lnTo>
                <a:lnTo>
                  <a:pt x="1274" y="878"/>
                </a:lnTo>
                <a:lnTo>
                  <a:pt x="1272" y="893"/>
                </a:lnTo>
                <a:lnTo>
                  <a:pt x="1272" y="910"/>
                </a:lnTo>
                <a:lnTo>
                  <a:pt x="1272" y="927"/>
                </a:lnTo>
                <a:lnTo>
                  <a:pt x="1270" y="947"/>
                </a:lnTo>
                <a:lnTo>
                  <a:pt x="1270" y="966"/>
                </a:lnTo>
                <a:lnTo>
                  <a:pt x="1270" y="985"/>
                </a:lnTo>
                <a:lnTo>
                  <a:pt x="1268" y="1004"/>
                </a:lnTo>
                <a:lnTo>
                  <a:pt x="1268" y="1025"/>
                </a:lnTo>
                <a:lnTo>
                  <a:pt x="1268" y="1048"/>
                </a:lnTo>
                <a:lnTo>
                  <a:pt x="1268" y="1071"/>
                </a:lnTo>
                <a:lnTo>
                  <a:pt x="1266" y="1094"/>
                </a:lnTo>
                <a:lnTo>
                  <a:pt x="1266" y="1117"/>
                </a:lnTo>
                <a:lnTo>
                  <a:pt x="1266" y="1142"/>
                </a:lnTo>
                <a:lnTo>
                  <a:pt x="1266" y="1167"/>
                </a:lnTo>
                <a:lnTo>
                  <a:pt x="1266" y="1194"/>
                </a:lnTo>
                <a:lnTo>
                  <a:pt x="1266" y="1221"/>
                </a:lnTo>
                <a:lnTo>
                  <a:pt x="1266" y="1250"/>
                </a:lnTo>
                <a:lnTo>
                  <a:pt x="1266" y="1277"/>
                </a:lnTo>
                <a:lnTo>
                  <a:pt x="1266" y="1304"/>
                </a:lnTo>
                <a:lnTo>
                  <a:pt x="1266" y="1331"/>
                </a:lnTo>
                <a:lnTo>
                  <a:pt x="1266" y="1357"/>
                </a:lnTo>
                <a:lnTo>
                  <a:pt x="1266" y="1382"/>
                </a:lnTo>
                <a:lnTo>
                  <a:pt x="1266" y="1407"/>
                </a:lnTo>
                <a:lnTo>
                  <a:pt x="1266" y="1432"/>
                </a:lnTo>
                <a:lnTo>
                  <a:pt x="1266" y="1457"/>
                </a:lnTo>
                <a:lnTo>
                  <a:pt x="1266" y="1480"/>
                </a:lnTo>
                <a:lnTo>
                  <a:pt x="1266" y="1503"/>
                </a:lnTo>
                <a:lnTo>
                  <a:pt x="1266" y="1526"/>
                </a:lnTo>
                <a:lnTo>
                  <a:pt x="1266" y="1549"/>
                </a:lnTo>
                <a:lnTo>
                  <a:pt x="1264" y="1570"/>
                </a:lnTo>
                <a:lnTo>
                  <a:pt x="1264" y="1592"/>
                </a:lnTo>
                <a:lnTo>
                  <a:pt x="1264" y="1613"/>
                </a:lnTo>
                <a:lnTo>
                  <a:pt x="1264" y="1634"/>
                </a:lnTo>
                <a:lnTo>
                  <a:pt x="1264" y="1653"/>
                </a:lnTo>
                <a:lnTo>
                  <a:pt x="1264" y="1672"/>
                </a:lnTo>
                <a:lnTo>
                  <a:pt x="1264" y="1691"/>
                </a:lnTo>
                <a:lnTo>
                  <a:pt x="1262" y="1711"/>
                </a:lnTo>
                <a:lnTo>
                  <a:pt x="1262" y="1728"/>
                </a:lnTo>
                <a:lnTo>
                  <a:pt x="1262" y="1745"/>
                </a:lnTo>
                <a:lnTo>
                  <a:pt x="1262" y="1762"/>
                </a:lnTo>
                <a:lnTo>
                  <a:pt x="1261" y="1780"/>
                </a:lnTo>
                <a:lnTo>
                  <a:pt x="1261" y="1795"/>
                </a:lnTo>
                <a:lnTo>
                  <a:pt x="1261" y="1810"/>
                </a:lnTo>
                <a:lnTo>
                  <a:pt x="1259" y="1826"/>
                </a:lnTo>
                <a:lnTo>
                  <a:pt x="1259" y="1839"/>
                </a:lnTo>
                <a:lnTo>
                  <a:pt x="1259" y="1853"/>
                </a:lnTo>
                <a:lnTo>
                  <a:pt x="1257" y="1868"/>
                </a:lnTo>
                <a:lnTo>
                  <a:pt x="1257" y="1879"/>
                </a:lnTo>
                <a:lnTo>
                  <a:pt x="1255" y="1893"/>
                </a:lnTo>
                <a:lnTo>
                  <a:pt x="1253" y="1918"/>
                </a:lnTo>
                <a:lnTo>
                  <a:pt x="1251" y="1943"/>
                </a:lnTo>
                <a:lnTo>
                  <a:pt x="1249" y="1968"/>
                </a:lnTo>
                <a:lnTo>
                  <a:pt x="1249" y="1991"/>
                </a:lnTo>
                <a:lnTo>
                  <a:pt x="1247" y="2012"/>
                </a:lnTo>
                <a:lnTo>
                  <a:pt x="1247" y="2035"/>
                </a:lnTo>
                <a:lnTo>
                  <a:pt x="1245" y="2054"/>
                </a:lnTo>
                <a:lnTo>
                  <a:pt x="1243" y="2075"/>
                </a:lnTo>
                <a:lnTo>
                  <a:pt x="1243" y="2093"/>
                </a:lnTo>
                <a:lnTo>
                  <a:pt x="1241" y="2112"/>
                </a:lnTo>
                <a:lnTo>
                  <a:pt x="1241" y="2129"/>
                </a:lnTo>
                <a:lnTo>
                  <a:pt x="1239" y="2144"/>
                </a:lnTo>
                <a:lnTo>
                  <a:pt x="1237" y="2160"/>
                </a:lnTo>
                <a:lnTo>
                  <a:pt x="1237" y="2173"/>
                </a:lnTo>
                <a:lnTo>
                  <a:pt x="1236" y="2188"/>
                </a:lnTo>
                <a:lnTo>
                  <a:pt x="1234" y="2200"/>
                </a:lnTo>
                <a:lnTo>
                  <a:pt x="1232" y="2212"/>
                </a:lnTo>
                <a:lnTo>
                  <a:pt x="1228" y="2223"/>
                </a:lnTo>
                <a:lnTo>
                  <a:pt x="1226" y="2233"/>
                </a:lnTo>
                <a:lnTo>
                  <a:pt x="1222" y="2242"/>
                </a:lnTo>
                <a:lnTo>
                  <a:pt x="1220" y="2250"/>
                </a:lnTo>
                <a:lnTo>
                  <a:pt x="1216" y="2258"/>
                </a:lnTo>
                <a:lnTo>
                  <a:pt x="1213" y="2265"/>
                </a:lnTo>
                <a:lnTo>
                  <a:pt x="1209" y="2271"/>
                </a:lnTo>
                <a:lnTo>
                  <a:pt x="1207" y="2277"/>
                </a:lnTo>
                <a:lnTo>
                  <a:pt x="1203" y="2281"/>
                </a:lnTo>
                <a:lnTo>
                  <a:pt x="1199" y="2284"/>
                </a:lnTo>
                <a:lnTo>
                  <a:pt x="1193" y="2288"/>
                </a:lnTo>
                <a:lnTo>
                  <a:pt x="1190" y="2290"/>
                </a:lnTo>
                <a:lnTo>
                  <a:pt x="1186" y="2292"/>
                </a:lnTo>
                <a:lnTo>
                  <a:pt x="1182" y="2294"/>
                </a:lnTo>
                <a:lnTo>
                  <a:pt x="1178" y="2294"/>
                </a:lnTo>
                <a:lnTo>
                  <a:pt x="1176" y="2294"/>
                </a:lnTo>
                <a:lnTo>
                  <a:pt x="1174" y="2292"/>
                </a:lnTo>
                <a:lnTo>
                  <a:pt x="1172" y="2292"/>
                </a:lnTo>
                <a:lnTo>
                  <a:pt x="1170" y="2290"/>
                </a:lnTo>
                <a:lnTo>
                  <a:pt x="1168" y="2288"/>
                </a:lnTo>
                <a:lnTo>
                  <a:pt x="1166" y="2284"/>
                </a:lnTo>
                <a:lnTo>
                  <a:pt x="1165" y="2283"/>
                </a:lnTo>
                <a:lnTo>
                  <a:pt x="1163" y="2279"/>
                </a:lnTo>
                <a:lnTo>
                  <a:pt x="1161" y="2269"/>
                </a:lnTo>
                <a:lnTo>
                  <a:pt x="1157" y="2260"/>
                </a:lnTo>
                <a:lnTo>
                  <a:pt x="1155" y="2246"/>
                </a:lnTo>
                <a:lnTo>
                  <a:pt x="1151" y="2233"/>
                </a:lnTo>
                <a:lnTo>
                  <a:pt x="1149" y="2215"/>
                </a:lnTo>
                <a:lnTo>
                  <a:pt x="1147" y="2198"/>
                </a:lnTo>
                <a:lnTo>
                  <a:pt x="1143" y="2177"/>
                </a:lnTo>
                <a:lnTo>
                  <a:pt x="1142" y="2156"/>
                </a:lnTo>
                <a:lnTo>
                  <a:pt x="1140" y="2133"/>
                </a:lnTo>
                <a:lnTo>
                  <a:pt x="1138" y="2108"/>
                </a:lnTo>
                <a:lnTo>
                  <a:pt x="1136" y="2079"/>
                </a:lnTo>
                <a:lnTo>
                  <a:pt x="1134" y="2050"/>
                </a:lnTo>
                <a:lnTo>
                  <a:pt x="1132" y="2020"/>
                </a:lnTo>
                <a:lnTo>
                  <a:pt x="1130" y="1985"/>
                </a:lnTo>
                <a:lnTo>
                  <a:pt x="1128" y="1949"/>
                </a:lnTo>
                <a:lnTo>
                  <a:pt x="1126" y="1910"/>
                </a:lnTo>
                <a:lnTo>
                  <a:pt x="1124" y="1872"/>
                </a:lnTo>
                <a:lnTo>
                  <a:pt x="1122" y="1830"/>
                </a:lnTo>
                <a:lnTo>
                  <a:pt x="1122" y="1787"/>
                </a:lnTo>
                <a:lnTo>
                  <a:pt x="1120" y="1741"/>
                </a:lnTo>
                <a:lnTo>
                  <a:pt x="1118" y="1695"/>
                </a:lnTo>
                <a:lnTo>
                  <a:pt x="1118" y="1647"/>
                </a:lnTo>
                <a:lnTo>
                  <a:pt x="1118" y="1595"/>
                </a:lnTo>
                <a:lnTo>
                  <a:pt x="1118" y="1544"/>
                </a:lnTo>
                <a:lnTo>
                  <a:pt x="1118" y="1517"/>
                </a:lnTo>
                <a:lnTo>
                  <a:pt x="1118" y="1490"/>
                </a:lnTo>
                <a:lnTo>
                  <a:pt x="1118" y="1461"/>
                </a:lnTo>
                <a:lnTo>
                  <a:pt x="1120" y="1432"/>
                </a:lnTo>
                <a:lnTo>
                  <a:pt x="1120" y="1403"/>
                </a:lnTo>
                <a:lnTo>
                  <a:pt x="1120" y="1375"/>
                </a:lnTo>
                <a:lnTo>
                  <a:pt x="1122" y="1344"/>
                </a:lnTo>
                <a:lnTo>
                  <a:pt x="1122" y="1315"/>
                </a:lnTo>
                <a:lnTo>
                  <a:pt x="1124" y="1284"/>
                </a:lnTo>
                <a:lnTo>
                  <a:pt x="1124" y="1256"/>
                </a:lnTo>
                <a:lnTo>
                  <a:pt x="1126" y="1229"/>
                </a:lnTo>
                <a:lnTo>
                  <a:pt x="1126" y="1202"/>
                </a:lnTo>
                <a:lnTo>
                  <a:pt x="1126" y="1175"/>
                </a:lnTo>
                <a:lnTo>
                  <a:pt x="1126" y="1150"/>
                </a:lnTo>
                <a:lnTo>
                  <a:pt x="1126" y="1125"/>
                </a:lnTo>
                <a:lnTo>
                  <a:pt x="1128" y="1100"/>
                </a:lnTo>
                <a:lnTo>
                  <a:pt x="1128" y="1077"/>
                </a:lnTo>
                <a:lnTo>
                  <a:pt x="1128" y="1056"/>
                </a:lnTo>
                <a:lnTo>
                  <a:pt x="1128" y="1033"/>
                </a:lnTo>
                <a:lnTo>
                  <a:pt x="1126" y="1012"/>
                </a:lnTo>
                <a:lnTo>
                  <a:pt x="1126" y="993"/>
                </a:lnTo>
                <a:lnTo>
                  <a:pt x="1126" y="972"/>
                </a:lnTo>
                <a:lnTo>
                  <a:pt x="1126" y="954"/>
                </a:lnTo>
                <a:lnTo>
                  <a:pt x="1126" y="935"/>
                </a:lnTo>
                <a:lnTo>
                  <a:pt x="1124" y="918"/>
                </a:lnTo>
                <a:lnTo>
                  <a:pt x="1124" y="903"/>
                </a:lnTo>
                <a:lnTo>
                  <a:pt x="1124" y="885"/>
                </a:lnTo>
                <a:lnTo>
                  <a:pt x="1122" y="870"/>
                </a:lnTo>
                <a:lnTo>
                  <a:pt x="1122" y="856"/>
                </a:lnTo>
                <a:lnTo>
                  <a:pt x="1120" y="843"/>
                </a:lnTo>
                <a:lnTo>
                  <a:pt x="1120" y="830"/>
                </a:lnTo>
                <a:lnTo>
                  <a:pt x="1120" y="818"/>
                </a:lnTo>
                <a:lnTo>
                  <a:pt x="1118" y="807"/>
                </a:lnTo>
                <a:lnTo>
                  <a:pt x="1118" y="795"/>
                </a:lnTo>
                <a:lnTo>
                  <a:pt x="1117" y="785"/>
                </a:lnTo>
                <a:lnTo>
                  <a:pt x="1117" y="776"/>
                </a:lnTo>
                <a:lnTo>
                  <a:pt x="1115" y="768"/>
                </a:lnTo>
                <a:lnTo>
                  <a:pt x="1115" y="759"/>
                </a:lnTo>
                <a:lnTo>
                  <a:pt x="1113" y="753"/>
                </a:lnTo>
                <a:lnTo>
                  <a:pt x="1113" y="745"/>
                </a:lnTo>
                <a:close/>
                <a:moveTo>
                  <a:pt x="1608" y="1371"/>
                </a:moveTo>
                <a:lnTo>
                  <a:pt x="1589" y="1371"/>
                </a:lnTo>
                <a:lnTo>
                  <a:pt x="1571" y="1371"/>
                </a:lnTo>
                <a:lnTo>
                  <a:pt x="1537" y="1371"/>
                </a:lnTo>
                <a:lnTo>
                  <a:pt x="1504" y="1371"/>
                </a:lnTo>
                <a:lnTo>
                  <a:pt x="1474" y="1371"/>
                </a:lnTo>
                <a:lnTo>
                  <a:pt x="1443" y="1373"/>
                </a:lnTo>
                <a:lnTo>
                  <a:pt x="1412" y="1375"/>
                </a:lnTo>
                <a:lnTo>
                  <a:pt x="1383" y="1377"/>
                </a:lnTo>
                <a:lnTo>
                  <a:pt x="1355" y="1380"/>
                </a:lnTo>
                <a:lnTo>
                  <a:pt x="1339" y="1382"/>
                </a:lnTo>
                <a:lnTo>
                  <a:pt x="1322" y="1384"/>
                </a:lnTo>
                <a:lnTo>
                  <a:pt x="1305" y="1386"/>
                </a:lnTo>
                <a:lnTo>
                  <a:pt x="1284" y="1388"/>
                </a:lnTo>
                <a:lnTo>
                  <a:pt x="1262" y="1392"/>
                </a:lnTo>
                <a:lnTo>
                  <a:pt x="1239" y="1394"/>
                </a:lnTo>
                <a:lnTo>
                  <a:pt x="1214" y="1398"/>
                </a:lnTo>
                <a:lnTo>
                  <a:pt x="1190" y="1400"/>
                </a:lnTo>
                <a:lnTo>
                  <a:pt x="1161" y="1403"/>
                </a:lnTo>
                <a:lnTo>
                  <a:pt x="1132" y="1407"/>
                </a:lnTo>
                <a:lnTo>
                  <a:pt x="1101" y="1411"/>
                </a:lnTo>
                <a:lnTo>
                  <a:pt x="1069" y="1417"/>
                </a:lnTo>
                <a:lnTo>
                  <a:pt x="1036" y="1421"/>
                </a:lnTo>
                <a:lnTo>
                  <a:pt x="1000" y="1425"/>
                </a:lnTo>
                <a:lnTo>
                  <a:pt x="963" y="1430"/>
                </a:lnTo>
                <a:lnTo>
                  <a:pt x="925" y="1436"/>
                </a:lnTo>
                <a:lnTo>
                  <a:pt x="886" y="1440"/>
                </a:lnTo>
                <a:lnTo>
                  <a:pt x="848" y="1446"/>
                </a:lnTo>
                <a:lnTo>
                  <a:pt x="811" y="1451"/>
                </a:lnTo>
                <a:lnTo>
                  <a:pt x="775" y="1455"/>
                </a:lnTo>
                <a:lnTo>
                  <a:pt x="740" y="1459"/>
                </a:lnTo>
                <a:lnTo>
                  <a:pt x="708" y="1465"/>
                </a:lnTo>
                <a:lnTo>
                  <a:pt x="673" y="1469"/>
                </a:lnTo>
                <a:lnTo>
                  <a:pt x="643" y="1473"/>
                </a:lnTo>
                <a:lnTo>
                  <a:pt x="612" y="1476"/>
                </a:lnTo>
                <a:lnTo>
                  <a:pt x="581" y="1482"/>
                </a:lnTo>
                <a:lnTo>
                  <a:pt x="552" y="1486"/>
                </a:lnTo>
                <a:lnTo>
                  <a:pt x="524" y="1490"/>
                </a:lnTo>
                <a:lnTo>
                  <a:pt x="495" y="1496"/>
                </a:lnTo>
                <a:lnTo>
                  <a:pt x="468" y="1499"/>
                </a:lnTo>
                <a:lnTo>
                  <a:pt x="443" y="1505"/>
                </a:lnTo>
                <a:lnTo>
                  <a:pt x="418" y="1511"/>
                </a:lnTo>
                <a:lnTo>
                  <a:pt x="391" y="1515"/>
                </a:lnTo>
                <a:lnTo>
                  <a:pt x="366" y="1521"/>
                </a:lnTo>
                <a:lnTo>
                  <a:pt x="343" y="1524"/>
                </a:lnTo>
                <a:lnTo>
                  <a:pt x="322" y="1528"/>
                </a:lnTo>
                <a:lnTo>
                  <a:pt x="303" y="1532"/>
                </a:lnTo>
                <a:lnTo>
                  <a:pt x="284" y="1534"/>
                </a:lnTo>
                <a:lnTo>
                  <a:pt x="268" y="1538"/>
                </a:lnTo>
                <a:lnTo>
                  <a:pt x="253" y="1540"/>
                </a:lnTo>
                <a:lnTo>
                  <a:pt x="238" y="1542"/>
                </a:lnTo>
                <a:lnTo>
                  <a:pt x="226" y="1544"/>
                </a:lnTo>
                <a:lnTo>
                  <a:pt x="217" y="1546"/>
                </a:lnTo>
                <a:lnTo>
                  <a:pt x="207" y="1546"/>
                </a:lnTo>
                <a:lnTo>
                  <a:pt x="199" y="1547"/>
                </a:lnTo>
                <a:lnTo>
                  <a:pt x="194" y="1547"/>
                </a:lnTo>
                <a:lnTo>
                  <a:pt x="190" y="1547"/>
                </a:lnTo>
                <a:lnTo>
                  <a:pt x="186" y="1547"/>
                </a:lnTo>
                <a:lnTo>
                  <a:pt x="182" y="1549"/>
                </a:lnTo>
                <a:lnTo>
                  <a:pt x="178" y="1549"/>
                </a:lnTo>
                <a:lnTo>
                  <a:pt x="172" y="1549"/>
                </a:lnTo>
                <a:lnTo>
                  <a:pt x="167" y="1549"/>
                </a:lnTo>
                <a:lnTo>
                  <a:pt x="163" y="1549"/>
                </a:lnTo>
                <a:lnTo>
                  <a:pt x="157" y="1547"/>
                </a:lnTo>
                <a:lnTo>
                  <a:pt x="149" y="1546"/>
                </a:lnTo>
                <a:lnTo>
                  <a:pt x="144" y="1542"/>
                </a:lnTo>
                <a:lnTo>
                  <a:pt x="136" y="1538"/>
                </a:lnTo>
                <a:lnTo>
                  <a:pt x="128" y="1534"/>
                </a:lnTo>
                <a:lnTo>
                  <a:pt x="121" y="1530"/>
                </a:lnTo>
                <a:lnTo>
                  <a:pt x="113" y="1526"/>
                </a:lnTo>
                <a:lnTo>
                  <a:pt x="105" y="1521"/>
                </a:lnTo>
                <a:lnTo>
                  <a:pt x="96" y="1515"/>
                </a:lnTo>
                <a:lnTo>
                  <a:pt x="86" y="1507"/>
                </a:lnTo>
                <a:lnTo>
                  <a:pt x="76" y="1501"/>
                </a:lnTo>
                <a:lnTo>
                  <a:pt x="67" y="1494"/>
                </a:lnTo>
                <a:lnTo>
                  <a:pt x="57" y="1488"/>
                </a:lnTo>
                <a:lnTo>
                  <a:pt x="48" y="1480"/>
                </a:lnTo>
                <a:lnTo>
                  <a:pt x="40" y="1474"/>
                </a:lnTo>
                <a:lnTo>
                  <a:pt x="34" y="1469"/>
                </a:lnTo>
                <a:lnTo>
                  <a:pt x="28" y="1463"/>
                </a:lnTo>
                <a:lnTo>
                  <a:pt x="23" y="1457"/>
                </a:lnTo>
                <a:lnTo>
                  <a:pt x="17" y="1453"/>
                </a:lnTo>
                <a:lnTo>
                  <a:pt x="13" y="1448"/>
                </a:lnTo>
                <a:lnTo>
                  <a:pt x="9" y="1444"/>
                </a:lnTo>
                <a:lnTo>
                  <a:pt x="5" y="1440"/>
                </a:lnTo>
                <a:lnTo>
                  <a:pt x="4" y="1436"/>
                </a:lnTo>
                <a:lnTo>
                  <a:pt x="2" y="1434"/>
                </a:lnTo>
                <a:lnTo>
                  <a:pt x="0" y="1430"/>
                </a:lnTo>
                <a:lnTo>
                  <a:pt x="0" y="1428"/>
                </a:lnTo>
                <a:lnTo>
                  <a:pt x="0" y="1427"/>
                </a:lnTo>
                <a:lnTo>
                  <a:pt x="0" y="1425"/>
                </a:lnTo>
                <a:lnTo>
                  <a:pt x="0" y="1423"/>
                </a:lnTo>
                <a:lnTo>
                  <a:pt x="2" y="1423"/>
                </a:lnTo>
                <a:lnTo>
                  <a:pt x="5" y="1421"/>
                </a:lnTo>
                <a:lnTo>
                  <a:pt x="7" y="1421"/>
                </a:lnTo>
                <a:lnTo>
                  <a:pt x="11" y="1419"/>
                </a:lnTo>
                <a:lnTo>
                  <a:pt x="17" y="1419"/>
                </a:lnTo>
                <a:lnTo>
                  <a:pt x="23" y="1419"/>
                </a:lnTo>
                <a:lnTo>
                  <a:pt x="28" y="1417"/>
                </a:lnTo>
                <a:lnTo>
                  <a:pt x="34" y="1417"/>
                </a:lnTo>
                <a:lnTo>
                  <a:pt x="42" y="1417"/>
                </a:lnTo>
                <a:lnTo>
                  <a:pt x="50" y="1417"/>
                </a:lnTo>
                <a:lnTo>
                  <a:pt x="59" y="1417"/>
                </a:lnTo>
                <a:lnTo>
                  <a:pt x="67" y="1417"/>
                </a:lnTo>
                <a:lnTo>
                  <a:pt x="76" y="1417"/>
                </a:lnTo>
                <a:lnTo>
                  <a:pt x="88" y="1417"/>
                </a:lnTo>
                <a:lnTo>
                  <a:pt x="128" y="1417"/>
                </a:lnTo>
                <a:lnTo>
                  <a:pt x="170" y="1415"/>
                </a:lnTo>
                <a:lnTo>
                  <a:pt x="190" y="1415"/>
                </a:lnTo>
                <a:lnTo>
                  <a:pt x="211" y="1413"/>
                </a:lnTo>
                <a:lnTo>
                  <a:pt x="232" y="1411"/>
                </a:lnTo>
                <a:lnTo>
                  <a:pt x="253" y="1407"/>
                </a:lnTo>
                <a:lnTo>
                  <a:pt x="261" y="1405"/>
                </a:lnTo>
                <a:lnTo>
                  <a:pt x="272" y="1403"/>
                </a:lnTo>
                <a:lnTo>
                  <a:pt x="284" y="1402"/>
                </a:lnTo>
                <a:lnTo>
                  <a:pt x="297" y="1400"/>
                </a:lnTo>
                <a:lnTo>
                  <a:pt x="312" y="1398"/>
                </a:lnTo>
                <a:lnTo>
                  <a:pt x="330" y="1396"/>
                </a:lnTo>
                <a:lnTo>
                  <a:pt x="349" y="1394"/>
                </a:lnTo>
                <a:lnTo>
                  <a:pt x="368" y="1392"/>
                </a:lnTo>
                <a:lnTo>
                  <a:pt x="389" y="1390"/>
                </a:lnTo>
                <a:lnTo>
                  <a:pt x="412" y="1388"/>
                </a:lnTo>
                <a:lnTo>
                  <a:pt x="437" y="1386"/>
                </a:lnTo>
                <a:lnTo>
                  <a:pt x="462" y="1382"/>
                </a:lnTo>
                <a:lnTo>
                  <a:pt x="491" y="1380"/>
                </a:lnTo>
                <a:lnTo>
                  <a:pt x="520" y="1377"/>
                </a:lnTo>
                <a:lnTo>
                  <a:pt x="550" y="1375"/>
                </a:lnTo>
                <a:lnTo>
                  <a:pt x="583" y="1371"/>
                </a:lnTo>
                <a:lnTo>
                  <a:pt x="618" y="1367"/>
                </a:lnTo>
                <a:lnTo>
                  <a:pt x="652" y="1363"/>
                </a:lnTo>
                <a:lnTo>
                  <a:pt x="691" y="1359"/>
                </a:lnTo>
                <a:lnTo>
                  <a:pt x="729" y="1354"/>
                </a:lnTo>
                <a:lnTo>
                  <a:pt x="771" y="1350"/>
                </a:lnTo>
                <a:lnTo>
                  <a:pt x="813" y="1346"/>
                </a:lnTo>
                <a:lnTo>
                  <a:pt x="858" y="1340"/>
                </a:lnTo>
                <a:lnTo>
                  <a:pt x="904" y="1334"/>
                </a:lnTo>
                <a:lnTo>
                  <a:pt x="952" y="1329"/>
                </a:lnTo>
                <a:lnTo>
                  <a:pt x="1001" y="1323"/>
                </a:lnTo>
                <a:lnTo>
                  <a:pt x="1053" y="1315"/>
                </a:lnTo>
                <a:lnTo>
                  <a:pt x="1105" y="1309"/>
                </a:lnTo>
                <a:lnTo>
                  <a:pt x="1159" y="1302"/>
                </a:lnTo>
                <a:lnTo>
                  <a:pt x="1214" y="1294"/>
                </a:lnTo>
                <a:lnTo>
                  <a:pt x="1272" y="1286"/>
                </a:lnTo>
                <a:lnTo>
                  <a:pt x="1332" y="1277"/>
                </a:lnTo>
                <a:lnTo>
                  <a:pt x="1362" y="1273"/>
                </a:lnTo>
                <a:lnTo>
                  <a:pt x="1391" y="1271"/>
                </a:lnTo>
                <a:lnTo>
                  <a:pt x="1420" y="1267"/>
                </a:lnTo>
                <a:lnTo>
                  <a:pt x="1447" y="1263"/>
                </a:lnTo>
                <a:lnTo>
                  <a:pt x="1474" y="1261"/>
                </a:lnTo>
                <a:lnTo>
                  <a:pt x="1500" y="1258"/>
                </a:lnTo>
                <a:lnTo>
                  <a:pt x="1525" y="1256"/>
                </a:lnTo>
                <a:lnTo>
                  <a:pt x="1550" y="1252"/>
                </a:lnTo>
                <a:lnTo>
                  <a:pt x="1575" y="1250"/>
                </a:lnTo>
                <a:lnTo>
                  <a:pt x="1598" y="1248"/>
                </a:lnTo>
                <a:lnTo>
                  <a:pt x="1621" y="1244"/>
                </a:lnTo>
                <a:lnTo>
                  <a:pt x="1644" y="1242"/>
                </a:lnTo>
                <a:lnTo>
                  <a:pt x="1665" y="1240"/>
                </a:lnTo>
                <a:lnTo>
                  <a:pt x="1687" y="1238"/>
                </a:lnTo>
                <a:lnTo>
                  <a:pt x="1708" y="1236"/>
                </a:lnTo>
                <a:lnTo>
                  <a:pt x="1727" y="1235"/>
                </a:lnTo>
                <a:lnTo>
                  <a:pt x="1746" y="1233"/>
                </a:lnTo>
                <a:lnTo>
                  <a:pt x="1765" y="1231"/>
                </a:lnTo>
                <a:lnTo>
                  <a:pt x="1782" y="1231"/>
                </a:lnTo>
                <a:lnTo>
                  <a:pt x="1800" y="1229"/>
                </a:lnTo>
                <a:lnTo>
                  <a:pt x="1815" y="1227"/>
                </a:lnTo>
                <a:lnTo>
                  <a:pt x="1830" y="1227"/>
                </a:lnTo>
                <a:lnTo>
                  <a:pt x="1846" y="1225"/>
                </a:lnTo>
                <a:lnTo>
                  <a:pt x="1861" y="1225"/>
                </a:lnTo>
                <a:lnTo>
                  <a:pt x="1875" y="1223"/>
                </a:lnTo>
                <a:lnTo>
                  <a:pt x="1886" y="1223"/>
                </a:lnTo>
                <a:lnTo>
                  <a:pt x="1900" y="1223"/>
                </a:lnTo>
                <a:lnTo>
                  <a:pt x="1911" y="1221"/>
                </a:lnTo>
                <a:lnTo>
                  <a:pt x="1921" y="1221"/>
                </a:lnTo>
                <a:lnTo>
                  <a:pt x="1930" y="1221"/>
                </a:lnTo>
                <a:lnTo>
                  <a:pt x="1940" y="1221"/>
                </a:lnTo>
                <a:lnTo>
                  <a:pt x="1949" y="1221"/>
                </a:lnTo>
                <a:lnTo>
                  <a:pt x="1982" y="1221"/>
                </a:lnTo>
                <a:lnTo>
                  <a:pt x="2013" y="1225"/>
                </a:lnTo>
                <a:lnTo>
                  <a:pt x="2043" y="1229"/>
                </a:lnTo>
                <a:lnTo>
                  <a:pt x="2074" y="1235"/>
                </a:lnTo>
                <a:lnTo>
                  <a:pt x="2105" y="1240"/>
                </a:lnTo>
                <a:lnTo>
                  <a:pt x="2134" y="1248"/>
                </a:lnTo>
                <a:lnTo>
                  <a:pt x="2162" y="1258"/>
                </a:lnTo>
                <a:lnTo>
                  <a:pt x="2191" y="1267"/>
                </a:lnTo>
                <a:lnTo>
                  <a:pt x="2203" y="1275"/>
                </a:lnTo>
                <a:lnTo>
                  <a:pt x="2214" y="1281"/>
                </a:lnTo>
                <a:lnTo>
                  <a:pt x="2226" y="1288"/>
                </a:lnTo>
                <a:lnTo>
                  <a:pt x="2235" y="1294"/>
                </a:lnTo>
                <a:lnTo>
                  <a:pt x="2243" y="1300"/>
                </a:lnTo>
                <a:lnTo>
                  <a:pt x="2253" y="1306"/>
                </a:lnTo>
                <a:lnTo>
                  <a:pt x="2258" y="1311"/>
                </a:lnTo>
                <a:lnTo>
                  <a:pt x="2266" y="1315"/>
                </a:lnTo>
                <a:lnTo>
                  <a:pt x="2272" y="1321"/>
                </a:lnTo>
                <a:lnTo>
                  <a:pt x="2276" y="1325"/>
                </a:lnTo>
                <a:lnTo>
                  <a:pt x="2281" y="1329"/>
                </a:lnTo>
                <a:lnTo>
                  <a:pt x="2285" y="1332"/>
                </a:lnTo>
                <a:lnTo>
                  <a:pt x="2287" y="1334"/>
                </a:lnTo>
                <a:lnTo>
                  <a:pt x="2289" y="1338"/>
                </a:lnTo>
                <a:lnTo>
                  <a:pt x="2291" y="1340"/>
                </a:lnTo>
                <a:lnTo>
                  <a:pt x="2291" y="1342"/>
                </a:lnTo>
                <a:lnTo>
                  <a:pt x="2289" y="1350"/>
                </a:lnTo>
                <a:lnTo>
                  <a:pt x="2289" y="1355"/>
                </a:lnTo>
                <a:lnTo>
                  <a:pt x="2285" y="1359"/>
                </a:lnTo>
                <a:lnTo>
                  <a:pt x="2281" y="1365"/>
                </a:lnTo>
                <a:lnTo>
                  <a:pt x="2276" y="1369"/>
                </a:lnTo>
                <a:lnTo>
                  <a:pt x="2268" y="1373"/>
                </a:lnTo>
                <a:lnTo>
                  <a:pt x="2262" y="1375"/>
                </a:lnTo>
                <a:lnTo>
                  <a:pt x="2258" y="1377"/>
                </a:lnTo>
                <a:lnTo>
                  <a:pt x="2253" y="1379"/>
                </a:lnTo>
                <a:lnTo>
                  <a:pt x="2247" y="1380"/>
                </a:lnTo>
                <a:lnTo>
                  <a:pt x="2239" y="1382"/>
                </a:lnTo>
                <a:lnTo>
                  <a:pt x="2232" y="1382"/>
                </a:lnTo>
                <a:lnTo>
                  <a:pt x="2222" y="1384"/>
                </a:lnTo>
                <a:lnTo>
                  <a:pt x="2212" y="1384"/>
                </a:lnTo>
                <a:lnTo>
                  <a:pt x="2199" y="1386"/>
                </a:lnTo>
                <a:lnTo>
                  <a:pt x="2186" y="1386"/>
                </a:lnTo>
                <a:lnTo>
                  <a:pt x="2172" y="1386"/>
                </a:lnTo>
                <a:lnTo>
                  <a:pt x="2155" y="1386"/>
                </a:lnTo>
                <a:lnTo>
                  <a:pt x="2139" y="1386"/>
                </a:lnTo>
                <a:lnTo>
                  <a:pt x="2120" y="1386"/>
                </a:lnTo>
                <a:lnTo>
                  <a:pt x="2101" y="1386"/>
                </a:lnTo>
                <a:lnTo>
                  <a:pt x="2080" y="1384"/>
                </a:lnTo>
                <a:lnTo>
                  <a:pt x="2057" y="1384"/>
                </a:lnTo>
                <a:lnTo>
                  <a:pt x="2034" y="1382"/>
                </a:lnTo>
                <a:lnTo>
                  <a:pt x="2009" y="1382"/>
                </a:lnTo>
                <a:lnTo>
                  <a:pt x="1982" y="1380"/>
                </a:lnTo>
                <a:lnTo>
                  <a:pt x="1928" y="1377"/>
                </a:lnTo>
                <a:lnTo>
                  <a:pt x="1877" y="1373"/>
                </a:lnTo>
                <a:lnTo>
                  <a:pt x="1827" y="1371"/>
                </a:lnTo>
                <a:lnTo>
                  <a:pt x="1802" y="1369"/>
                </a:lnTo>
                <a:lnTo>
                  <a:pt x="1779" y="1367"/>
                </a:lnTo>
                <a:lnTo>
                  <a:pt x="1756" y="1367"/>
                </a:lnTo>
                <a:lnTo>
                  <a:pt x="1733" y="1367"/>
                </a:lnTo>
                <a:lnTo>
                  <a:pt x="1710" y="1367"/>
                </a:lnTo>
                <a:lnTo>
                  <a:pt x="1688" y="1367"/>
                </a:lnTo>
                <a:lnTo>
                  <a:pt x="1667" y="1367"/>
                </a:lnTo>
                <a:lnTo>
                  <a:pt x="1646" y="1367"/>
                </a:lnTo>
                <a:lnTo>
                  <a:pt x="1627" y="1369"/>
                </a:lnTo>
                <a:lnTo>
                  <a:pt x="1608" y="13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2033640" y="2455920"/>
            <a:ext cx="209520" cy="414360"/>
          </a:xfrm>
          <a:custGeom>
            <a:avLst/>
            <a:gdLst/>
            <a:ahLst/>
            <a:rect l="l" t="t" r="r" b="b"/>
            <a:pathLst>
              <a:path w="265" h="522">
                <a:moveTo>
                  <a:pt x="188" y="401"/>
                </a:moveTo>
                <a:lnTo>
                  <a:pt x="177" y="416"/>
                </a:lnTo>
                <a:lnTo>
                  <a:pt x="167" y="430"/>
                </a:lnTo>
                <a:lnTo>
                  <a:pt x="159" y="443"/>
                </a:lnTo>
                <a:lnTo>
                  <a:pt x="150" y="455"/>
                </a:lnTo>
                <a:lnTo>
                  <a:pt x="142" y="466"/>
                </a:lnTo>
                <a:lnTo>
                  <a:pt x="135" y="476"/>
                </a:lnTo>
                <a:lnTo>
                  <a:pt x="129" y="486"/>
                </a:lnTo>
                <a:lnTo>
                  <a:pt x="121" y="493"/>
                </a:lnTo>
                <a:lnTo>
                  <a:pt x="115" y="501"/>
                </a:lnTo>
                <a:lnTo>
                  <a:pt x="110" y="507"/>
                </a:lnTo>
                <a:lnTo>
                  <a:pt x="106" y="510"/>
                </a:lnTo>
                <a:lnTo>
                  <a:pt x="100" y="514"/>
                </a:lnTo>
                <a:lnTo>
                  <a:pt x="96" y="518"/>
                </a:lnTo>
                <a:lnTo>
                  <a:pt x="94" y="520"/>
                </a:lnTo>
                <a:lnTo>
                  <a:pt x="90" y="522"/>
                </a:lnTo>
                <a:lnTo>
                  <a:pt x="88" y="522"/>
                </a:lnTo>
                <a:lnTo>
                  <a:pt x="81" y="522"/>
                </a:lnTo>
                <a:lnTo>
                  <a:pt x="75" y="520"/>
                </a:lnTo>
                <a:lnTo>
                  <a:pt x="71" y="518"/>
                </a:lnTo>
                <a:lnTo>
                  <a:pt x="67" y="516"/>
                </a:lnTo>
                <a:lnTo>
                  <a:pt x="64" y="514"/>
                </a:lnTo>
                <a:lnTo>
                  <a:pt x="60" y="510"/>
                </a:lnTo>
                <a:lnTo>
                  <a:pt x="56" y="507"/>
                </a:lnTo>
                <a:lnTo>
                  <a:pt x="52" y="503"/>
                </a:lnTo>
                <a:lnTo>
                  <a:pt x="50" y="499"/>
                </a:lnTo>
                <a:lnTo>
                  <a:pt x="46" y="493"/>
                </a:lnTo>
                <a:lnTo>
                  <a:pt x="42" y="487"/>
                </a:lnTo>
                <a:lnTo>
                  <a:pt x="41" y="480"/>
                </a:lnTo>
                <a:lnTo>
                  <a:pt x="39" y="474"/>
                </a:lnTo>
                <a:lnTo>
                  <a:pt x="35" y="466"/>
                </a:lnTo>
                <a:lnTo>
                  <a:pt x="33" y="457"/>
                </a:lnTo>
                <a:lnTo>
                  <a:pt x="25" y="439"/>
                </a:lnTo>
                <a:lnTo>
                  <a:pt x="19" y="426"/>
                </a:lnTo>
                <a:lnTo>
                  <a:pt x="14" y="413"/>
                </a:lnTo>
                <a:lnTo>
                  <a:pt x="8" y="399"/>
                </a:lnTo>
                <a:lnTo>
                  <a:pt x="4" y="390"/>
                </a:lnTo>
                <a:lnTo>
                  <a:pt x="2" y="380"/>
                </a:lnTo>
                <a:lnTo>
                  <a:pt x="0" y="370"/>
                </a:lnTo>
                <a:lnTo>
                  <a:pt x="0" y="365"/>
                </a:lnTo>
                <a:lnTo>
                  <a:pt x="0" y="361"/>
                </a:lnTo>
                <a:lnTo>
                  <a:pt x="0" y="359"/>
                </a:lnTo>
                <a:lnTo>
                  <a:pt x="2" y="355"/>
                </a:lnTo>
                <a:lnTo>
                  <a:pt x="4" y="351"/>
                </a:lnTo>
                <a:lnTo>
                  <a:pt x="6" y="347"/>
                </a:lnTo>
                <a:lnTo>
                  <a:pt x="10" y="342"/>
                </a:lnTo>
                <a:lnTo>
                  <a:pt x="14" y="336"/>
                </a:lnTo>
                <a:lnTo>
                  <a:pt x="17" y="330"/>
                </a:lnTo>
                <a:lnTo>
                  <a:pt x="21" y="322"/>
                </a:lnTo>
                <a:lnTo>
                  <a:pt x="27" y="317"/>
                </a:lnTo>
                <a:lnTo>
                  <a:pt x="31" y="307"/>
                </a:lnTo>
                <a:lnTo>
                  <a:pt x="37" y="299"/>
                </a:lnTo>
                <a:lnTo>
                  <a:pt x="44" y="290"/>
                </a:lnTo>
                <a:lnTo>
                  <a:pt x="50" y="282"/>
                </a:lnTo>
                <a:lnTo>
                  <a:pt x="58" y="271"/>
                </a:lnTo>
                <a:lnTo>
                  <a:pt x="65" y="261"/>
                </a:lnTo>
                <a:lnTo>
                  <a:pt x="73" y="251"/>
                </a:lnTo>
                <a:lnTo>
                  <a:pt x="79" y="242"/>
                </a:lnTo>
                <a:lnTo>
                  <a:pt x="85" y="230"/>
                </a:lnTo>
                <a:lnTo>
                  <a:pt x="90" y="217"/>
                </a:lnTo>
                <a:lnTo>
                  <a:pt x="98" y="203"/>
                </a:lnTo>
                <a:lnTo>
                  <a:pt x="104" y="190"/>
                </a:lnTo>
                <a:lnTo>
                  <a:pt x="110" y="175"/>
                </a:lnTo>
                <a:lnTo>
                  <a:pt x="115" y="159"/>
                </a:lnTo>
                <a:lnTo>
                  <a:pt x="123" y="142"/>
                </a:lnTo>
                <a:lnTo>
                  <a:pt x="129" y="123"/>
                </a:lnTo>
                <a:lnTo>
                  <a:pt x="135" y="105"/>
                </a:lnTo>
                <a:lnTo>
                  <a:pt x="140" y="86"/>
                </a:lnTo>
                <a:lnTo>
                  <a:pt x="146" y="65"/>
                </a:lnTo>
                <a:lnTo>
                  <a:pt x="154" y="44"/>
                </a:lnTo>
                <a:lnTo>
                  <a:pt x="159" y="23"/>
                </a:lnTo>
                <a:lnTo>
                  <a:pt x="165" y="0"/>
                </a:lnTo>
                <a:lnTo>
                  <a:pt x="175" y="6"/>
                </a:lnTo>
                <a:lnTo>
                  <a:pt x="184" y="11"/>
                </a:lnTo>
                <a:lnTo>
                  <a:pt x="194" y="19"/>
                </a:lnTo>
                <a:lnTo>
                  <a:pt x="202" y="27"/>
                </a:lnTo>
                <a:lnTo>
                  <a:pt x="211" y="34"/>
                </a:lnTo>
                <a:lnTo>
                  <a:pt x="217" y="42"/>
                </a:lnTo>
                <a:lnTo>
                  <a:pt x="225" y="52"/>
                </a:lnTo>
                <a:lnTo>
                  <a:pt x="232" y="61"/>
                </a:lnTo>
                <a:lnTo>
                  <a:pt x="238" y="73"/>
                </a:lnTo>
                <a:lnTo>
                  <a:pt x="242" y="82"/>
                </a:lnTo>
                <a:lnTo>
                  <a:pt x="248" y="94"/>
                </a:lnTo>
                <a:lnTo>
                  <a:pt x="252" y="105"/>
                </a:lnTo>
                <a:lnTo>
                  <a:pt x="255" y="119"/>
                </a:lnTo>
                <a:lnTo>
                  <a:pt x="259" y="132"/>
                </a:lnTo>
                <a:lnTo>
                  <a:pt x="263" y="144"/>
                </a:lnTo>
                <a:lnTo>
                  <a:pt x="265" y="159"/>
                </a:lnTo>
                <a:lnTo>
                  <a:pt x="265" y="173"/>
                </a:lnTo>
                <a:lnTo>
                  <a:pt x="263" y="186"/>
                </a:lnTo>
                <a:lnTo>
                  <a:pt x="261" y="201"/>
                </a:lnTo>
                <a:lnTo>
                  <a:pt x="259" y="217"/>
                </a:lnTo>
                <a:lnTo>
                  <a:pt x="257" y="230"/>
                </a:lnTo>
                <a:lnTo>
                  <a:pt x="255" y="246"/>
                </a:lnTo>
                <a:lnTo>
                  <a:pt x="252" y="261"/>
                </a:lnTo>
                <a:lnTo>
                  <a:pt x="246" y="276"/>
                </a:lnTo>
                <a:lnTo>
                  <a:pt x="242" y="292"/>
                </a:lnTo>
                <a:lnTo>
                  <a:pt x="236" y="307"/>
                </a:lnTo>
                <a:lnTo>
                  <a:pt x="229" y="322"/>
                </a:lnTo>
                <a:lnTo>
                  <a:pt x="223" y="338"/>
                </a:lnTo>
                <a:lnTo>
                  <a:pt x="215" y="353"/>
                </a:lnTo>
                <a:lnTo>
                  <a:pt x="206" y="368"/>
                </a:lnTo>
                <a:lnTo>
                  <a:pt x="198" y="386"/>
                </a:lnTo>
                <a:lnTo>
                  <a:pt x="188" y="401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2654280" y="2220840"/>
            <a:ext cx="293760" cy="220680"/>
          </a:xfrm>
          <a:custGeom>
            <a:avLst/>
            <a:gdLst/>
            <a:ahLst/>
            <a:rect l="l" t="t" r="r" b="b"/>
            <a:pathLst>
              <a:path w="371" h="279">
                <a:moveTo>
                  <a:pt x="307" y="279"/>
                </a:moveTo>
                <a:lnTo>
                  <a:pt x="305" y="279"/>
                </a:lnTo>
                <a:lnTo>
                  <a:pt x="301" y="277"/>
                </a:lnTo>
                <a:lnTo>
                  <a:pt x="298" y="275"/>
                </a:lnTo>
                <a:lnTo>
                  <a:pt x="292" y="273"/>
                </a:lnTo>
                <a:lnTo>
                  <a:pt x="284" y="269"/>
                </a:lnTo>
                <a:lnTo>
                  <a:pt x="277" y="263"/>
                </a:lnTo>
                <a:lnTo>
                  <a:pt x="269" y="258"/>
                </a:lnTo>
                <a:lnTo>
                  <a:pt x="259" y="252"/>
                </a:lnTo>
                <a:lnTo>
                  <a:pt x="250" y="244"/>
                </a:lnTo>
                <a:lnTo>
                  <a:pt x="238" y="237"/>
                </a:lnTo>
                <a:lnTo>
                  <a:pt x="227" y="227"/>
                </a:lnTo>
                <a:lnTo>
                  <a:pt x="213" y="217"/>
                </a:lnTo>
                <a:lnTo>
                  <a:pt x="200" y="206"/>
                </a:lnTo>
                <a:lnTo>
                  <a:pt x="184" y="194"/>
                </a:lnTo>
                <a:lnTo>
                  <a:pt x="169" y="181"/>
                </a:lnTo>
                <a:lnTo>
                  <a:pt x="154" y="167"/>
                </a:lnTo>
                <a:lnTo>
                  <a:pt x="136" y="156"/>
                </a:lnTo>
                <a:lnTo>
                  <a:pt x="119" y="142"/>
                </a:lnTo>
                <a:lnTo>
                  <a:pt x="104" y="131"/>
                </a:lnTo>
                <a:lnTo>
                  <a:pt x="90" y="119"/>
                </a:lnTo>
                <a:lnTo>
                  <a:pt x="77" y="108"/>
                </a:lnTo>
                <a:lnTo>
                  <a:pt x="64" y="98"/>
                </a:lnTo>
                <a:lnTo>
                  <a:pt x="54" y="87"/>
                </a:lnTo>
                <a:lnTo>
                  <a:pt x="44" y="75"/>
                </a:lnTo>
                <a:lnTo>
                  <a:pt x="35" y="66"/>
                </a:lnTo>
                <a:lnTo>
                  <a:pt x="27" y="56"/>
                </a:lnTo>
                <a:lnTo>
                  <a:pt x="19" y="46"/>
                </a:lnTo>
                <a:lnTo>
                  <a:pt x="14" y="37"/>
                </a:lnTo>
                <a:lnTo>
                  <a:pt x="10" y="27"/>
                </a:lnTo>
                <a:lnTo>
                  <a:pt x="6" y="18"/>
                </a:lnTo>
                <a:lnTo>
                  <a:pt x="2" y="8"/>
                </a:lnTo>
                <a:lnTo>
                  <a:pt x="0" y="0"/>
                </a:lnTo>
                <a:lnTo>
                  <a:pt x="25" y="2"/>
                </a:lnTo>
                <a:lnTo>
                  <a:pt x="50" y="6"/>
                </a:lnTo>
                <a:lnTo>
                  <a:pt x="75" y="10"/>
                </a:lnTo>
                <a:lnTo>
                  <a:pt x="96" y="14"/>
                </a:lnTo>
                <a:lnTo>
                  <a:pt x="117" y="18"/>
                </a:lnTo>
                <a:lnTo>
                  <a:pt x="138" y="22"/>
                </a:lnTo>
                <a:lnTo>
                  <a:pt x="158" y="23"/>
                </a:lnTo>
                <a:lnTo>
                  <a:pt x="175" y="27"/>
                </a:lnTo>
                <a:lnTo>
                  <a:pt x="190" y="31"/>
                </a:lnTo>
                <a:lnTo>
                  <a:pt x="206" y="35"/>
                </a:lnTo>
                <a:lnTo>
                  <a:pt x="221" y="39"/>
                </a:lnTo>
                <a:lnTo>
                  <a:pt x="234" y="41"/>
                </a:lnTo>
                <a:lnTo>
                  <a:pt x="246" y="45"/>
                </a:lnTo>
                <a:lnTo>
                  <a:pt x="255" y="48"/>
                </a:lnTo>
                <a:lnTo>
                  <a:pt x="267" y="52"/>
                </a:lnTo>
                <a:lnTo>
                  <a:pt x="275" y="56"/>
                </a:lnTo>
                <a:lnTo>
                  <a:pt x="290" y="64"/>
                </a:lnTo>
                <a:lnTo>
                  <a:pt x="305" y="71"/>
                </a:lnTo>
                <a:lnTo>
                  <a:pt x="319" y="81"/>
                </a:lnTo>
                <a:lnTo>
                  <a:pt x="332" y="91"/>
                </a:lnTo>
                <a:lnTo>
                  <a:pt x="342" y="102"/>
                </a:lnTo>
                <a:lnTo>
                  <a:pt x="351" y="114"/>
                </a:lnTo>
                <a:lnTo>
                  <a:pt x="355" y="119"/>
                </a:lnTo>
                <a:lnTo>
                  <a:pt x="357" y="125"/>
                </a:lnTo>
                <a:lnTo>
                  <a:pt x="361" y="133"/>
                </a:lnTo>
                <a:lnTo>
                  <a:pt x="363" y="139"/>
                </a:lnTo>
                <a:lnTo>
                  <a:pt x="367" y="152"/>
                </a:lnTo>
                <a:lnTo>
                  <a:pt x="369" y="165"/>
                </a:lnTo>
                <a:lnTo>
                  <a:pt x="371" y="177"/>
                </a:lnTo>
                <a:lnTo>
                  <a:pt x="371" y="190"/>
                </a:lnTo>
                <a:lnTo>
                  <a:pt x="371" y="200"/>
                </a:lnTo>
                <a:lnTo>
                  <a:pt x="369" y="212"/>
                </a:lnTo>
                <a:lnTo>
                  <a:pt x="367" y="223"/>
                </a:lnTo>
                <a:lnTo>
                  <a:pt x="363" y="233"/>
                </a:lnTo>
                <a:lnTo>
                  <a:pt x="359" y="242"/>
                </a:lnTo>
                <a:lnTo>
                  <a:pt x="353" y="250"/>
                </a:lnTo>
                <a:lnTo>
                  <a:pt x="348" y="258"/>
                </a:lnTo>
                <a:lnTo>
                  <a:pt x="340" y="263"/>
                </a:lnTo>
                <a:lnTo>
                  <a:pt x="332" y="267"/>
                </a:lnTo>
                <a:lnTo>
                  <a:pt x="325" y="271"/>
                </a:lnTo>
                <a:lnTo>
                  <a:pt x="307" y="27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2189160" y="2424240"/>
            <a:ext cx="1496880" cy="299880"/>
          </a:xfrm>
          <a:custGeom>
            <a:avLst/>
            <a:gdLst/>
            <a:ahLst/>
            <a:rect l="l" t="t" r="r" b="b"/>
            <a:pathLst>
              <a:path w="1884" h="378">
                <a:moveTo>
                  <a:pt x="1884" y="217"/>
                </a:moveTo>
                <a:lnTo>
                  <a:pt x="1884" y="220"/>
                </a:lnTo>
                <a:lnTo>
                  <a:pt x="1882" y="224"/>
                </a:lnTo>
                <a:lnTo>
                  <a:pt x="1881" y="226"/>
                </a:lnTo>
                <a:lnTo>
                  <a:pt x="1879" y="230"/>
                </a:lnTo>
                <a:lnTo>
                  <a:pt x="1875" y="232"/>
                </a:lnTo>
                <a:lnTo>
                  <a:pt x="1871" y="234"/>
                </a:lnTo>
                <a:lnTo>
                  <a:pt x="1867" y="236"/>
                </a:lnTo>
                <a:lnTo>
                  <a:pt x="1861" y="238"/>
                </a:lnTo>
                <a:lnTo>
                  <a:pt x="1856" y="240"/>
                </a:lnTo>
                <a:lnTo>
                  <a:pt x="1848" y="241"/>
                </a:lnTo>
                <a:lnTo>
                  <a:pt x="1842" y="241"/>
                </a:lnTo>
                <a:lnTo>
                  <a:pt x="1833" y="243"/>
                </a:lnTo>
                <a:lnTo>
                  <a:pt x="1825" y="243"/>
                </a:lnTo>
                <a:lnTo>
                  <a:pt x="1815" y="245"/>
                </a:lnTo>
                <a:lnTo>
                  <a:pt x="1806" y="245"/>
                </a:lnTo>
                <a:lnTo>
                  <a:pt x="1796" y="245"/>
                </a:lnTo>
                <a:lnTo>
                  <a:pt x="1787" y="245"/>
                </a:lnTo>
                <a:lnTo>
                  <a:pt x="1775" y="245"/>
                </a:lnTo>
                <a:lnTo>
                  <a:pt x="1763" y="247"/>
                </a:lnTo>
                <a:lnTo>
                  <a:pt x="1752" y="249"/>
                </a:lnTo>
                <a:lnTo>
                  <a:pt x="1739" y="251"/>
                </a:lnTo>
                <a:lnTo>
                  <a:pt x="1725" y="253"/>
                </a:lnTo>
                <a:lnTo>
                  <a:pt x="1712" y="257"/>
                </a:lnTo>
                <a:lnTo>
                  <a:pt x="1698" y="261"/>
                </a:lnTo>
                <a:lnTo>
                  <a:pt x="1685" y="264"/>
                </a:lnTo>
                <a:lnTo>
                  <a:pt x="1669" y="268"/>
                </a:lnTo>
                <a:lnTo>
                  <a:pt x="1654" y="274"/>
                </a:lnTo>
                <a:lnTo>
                  <a:pt x="1641" y="280"/>
                </a:lnTo>
                <a:lnTo>
                  <a:pt x="1623" y="288"/>
                </a:lnTo>
                <a:lnTo>
                  <a:pt x="1608" y="293"/>
                </a:lnTo>
                <a:lnTo>
                  <a:pt x="1593" y="301"/>
                </a:lnTo>
                <a:lnTo>
                  <a:pt x="1575" y="311"/>
                </a:lnTo>
                <a:lnTo>
                  <a:pt x="1558" y="318"/>
                </a:lnTo>
                <a:lnTo>
                  <a:pt x="1541" y="328"/>
                </a:lnTo>
                <a:lnTo>
                  <a:pt x="1526" y="336"/>
                </a:lnTo>
                <a:lnTo>
                  <a:pt x="1512" y="341"/>
                </a:lnTo>
                <a:lnTo>
                  <a:pt x="1499" y="349"/>
                </a:lnTo>
                <a:lnTo>
                  <a:pt x="1487" y="355"/>
                </a:lnTo>
                <a:lnTo>
                  <a:pt x="1476" y="360"/>
                </a:lnTo>
                <a:lnTo>
                  <a:pt x="1466" y="364"/>
                </a:lnTo>
                <a:lnTo>
                  <a:pt x="1456" y="368"/>
                </a:lnTo>
                <a:lnTo>
                  <a:pt x="1449" y="372"/>
                </a:lnTo>
                <a:lnTo>
                  <a:pt x="1443" y="374"/>
                </a:lnTo>
                <a:lnTo>
                  <a:pt x="1437" y="376"/>
                </a:lnTo>
                <a:lnTo>
                  <a:pt x="1431" y="378"/>
                </a:lnTo>
                <a:lnTo>
                  <a:pt x="1428" y="378"/>
                </a:lnTo>
                <a:lnTo>
                  <a:pt x="1424" y="378"/>
                </a:lnTo>
                <a:lnTo>
                  <a:pt x="1422" y="376"/>
                </a:lnTo>
                <a:lnTo>
                  <a:pt x="1420" y="374"/>
                </a:lnTo>
                <a:lnTo>
                  <a:pt x="1418" y="370"/>
                </a:lnTo>
                <a:lnTo>
                  <a:pt x="1418" y="368"/>
                </a:lnTo>
                <a:lnTo>
                  <a:pt x="1418" y="364"/>
                </a:lnTo>
                <a:lnTo>
                  <a:pt x="1418" y="359"/>
                </a:lnTo>
                <a:lnTo>
                  <a:pt x="1418" y="353"/>
                </a:lnTo>
                <a:lnTo>
                  <a:pt x="1420" y="347"/>
                </a:lnTo>
                <a:lnTo>
                  <a:pt x="1422" y="341"/>
                </a:lnTo>
                <a:lnTo>
                  <a:pt x="1424" y="334"/>
                </a:lnTo>
                <a:lnTo>
                  <a:pt x="1428" y="326"/>
                </a:lnTo>
                <a:lnTo>
                  <a:pt x="1431" y="316"/>
                </a:lnTo>
                <a:lnTo>
                  <a:pt x="1435" y="307"/>
                </a:lnTo>
                <a:lnTo>
                  <a:pt x="1439" y="297"/>
                </a:lnTo>
                <a:lnTo>
                  <a:pt x="1443" y="288"/>
                </a:lnTo>
                <a:lnTo>
                  <a:pt x="1449" y="276"/>
                </a:lnTo>
                <a:lnTo>
                  <a:pt x="1455" y="264"/>
                </a:lnTo>
                <a:lnTo>
                  <a:pt x="1460" y="251"/>
                </a:lnTo>
                <a:lnTo>
                  <a:pt x="1466" y="241"/>
                </a:lnTo>
                <a:lnTo>
                  <a:pt x="1470" y="230"/>
                </a:lnTo>
                <a:lnTo>
                  <a:pt x="1474" y="220"/>
                </a:lnTo>
                <a:lnTo>
                  <a:pt x="1478" y="211"/>
                </a:lnTo>
                <a:lnTo>
                  <a:pt x="1479" y="201"/>
                </a:lnTo>
                <a:lnTo>
                  <a:pt x="1481" y="193"/>
                </a:lnTo>
                <a:lnTo>
                  <a:pt x="1481" y="186"/>
                </a:lnTo>
                <a:lnTo>
                  <a:pt x="1483" y="178"/>
                </a:lnTo>
                <a:lnTo>
                  <a:pt x="1483" y="172"/>
                </a:lnTo>
                <a:lnTo>
                  <a:pt x="1483" y="167"/>
                </a:lnTo>
                <a:lnTo>
                  <a:pt x="1483" y="161"/>
                </a:lnTo>
                <a:lnTo>
                  <a:pt x="1481" y="155"/>
                </a:lnTo>
                <a:lnTo>
                  <a:pt x="1479" y="151"/>
                </a:lnTo>
                <a:lnTo>
                  <a:pt x="1478" y="144"/>
                </a:lnTo>
                <a:lnTo>
                  <a:pt x="1472" y="142"/>
                </a:lnTo>
                <a:lnTo>
                  <a:pt x="1468" y="140"/>
                </a:lnTo>
                <a:lnTo>
                  <a:pt x="1460" y="138"/>
                </a:lnTo>
                <a:lnTo>
                  <a:pt x="1455" y="136"/>
                </a:lnTo>
                <a:lnTo>
                  <a:pt x="1447" y="134"/>
                </a:lnTo>
                <a:lnTo>
                  <a:pt x="1437" y="132"/>
                </a:lnTo>
                <a:lnTo>
                  <a:pt x="1428" y="132"/>
                </a:lnTo>
                <a:lnTo>
                  <a:pt x="1418" y="130"/>
                </a:lnTo>
                <a:lnTo>
                  <a:pt x="1407" y="130"/>
                </a:lnTo>
                <a:lnTo>
                  <a:pt x="1395" y="130"/>
                </a:lnTo>
                <a:lnTo>
                  <a:pt x="1382" y="130"/>
                </a:lnTo>
                <a:lnTo>
                  <a:pt x="1366" y="130"/>
                </a:lnTo>
                <a:lnTo>
                  <a:pt x="1351" y="130"/>
                </a:lnTo>
                <a:lnTo>
                  <a:pt x="1336" y="130"/>
                </a:lnTo>
                <a:lnTo>
                  <a:pt x="1318" y="132"/>
                </a:lnTo>
                <a:lnTo>
                  <a:pt x="1301" y="134"/>
                </a:lnTo>
                <a:lnTo>
                  <a:pt x="1282" y="136"/>
                </a:lnTo>
                <a:lnTo>
                  <a:pt x="1261" y="136"/>
                </a:lnTo>
                <a:lnTo>
                  <a:pt x="1240" y="138"/>
                </a:lnTo>
                <a:lnTo>
                  <a:pt x="1217" y="140"/>
                </a:lnTo>
                <a:lnTo>
                  <a:pt x="1192" y="142"/>
                </a:lnTo>
                <a:lnTo>
                  <a:pt x="1167" y="144"/>
                </a:lnTo>
                <a:lnTo>
                  <a:pt x="1140" y="145"/>
                </a:lnTo>
                <a:lnTo>
                  <a:pt x="1111" y="147"/>
                </a:lnTo>
                <a:lnTo>
                  <a:pt x="1082" y="151"/>
                </a:lnTo>
                <a:lnTo>
                  <a:pt x="1053" y="153"/>
                </a:lnTo>
                <a:lnTo>
                  <a:pt x="1021" y="155"/>
                </a:lnTo>
                <a:lnTo>
                  <a:pt x="990" y="159"/>
                </a:lnTo>
                <a:lnTo>
                  <a:pt x="956" y="161"/>
                </a:lnTo>
                <a:lnTo>
                  <a:pt x="921" y="165"/>
                </a:lnTo>
                <a:lnTo>
                  <a:pt x="886" y="167"/>
                </a:lnTo>
                <a:lnTo>
                  <a:pt x="848" y="170"/>
                </a:lnTo>
                <a:lnTo>
                  <a:pt x="831" y="172"/>
                </a:lnTo>
                <a:lnTo>
                  <a:pt x="810" y="174"/>
                </a:lnTo>
                <a:lnTo>
                  <a:pt x="791" y="176"/>
                </a:lnTo>
                <a:lnTo>
                  <a:pt x="769" y="178"/>
                </a:lnTo>
                <a:lnTo>
                  <a:pt x="750" y="180"/>
                </a:lnTo>
                <a:lnTo>
                  <a:pt x="727" y="182"/>
                </a:lnTo>
                <a:lnTo>
                  <a:pt x="706" y="184"/>
                </a:lnTo>
                <a:lnTo>
                  <a:pt x="683" y="186"/>
                </a:lnTo>
                <a:lnTo>
                  <a:pt x="660" y="188"/>
                </a:lnTo>
                <a:lnTo>
                  <a:pt x="637" y="190"/>
                </a:lnTo>
                <a:lnTo>
                  <a:pt x="614" y="193"/>
                </a:lnTo>
                <a:lnTo>
                  <a:pt x="589" y="195"/>
                </a:lnTo>
                <a:lnTo>
                  <a:pt x="564" y="197"/>
                </a:lnTo>
                <a:lnTo>
                  <a:pt x="539" y="199"/>
                </a:lnTo>
                <a:lnTo>
                  <a:pt x="512" y="201"/>
                </a:lnTo>
                <a:lnTo>
                  <a:pt x="487" y="205"/>
                </a:lnTo>
                <a:lnTo>
                  <a:pt x="460" y="207"/>
                </a:lnTo>
                <a:lnTo>
                  <a:pt x="432" y="209"/>
                </a:lnTo>
                <a:lnTo>
                  <a:pt x="405" y="211"/>
                </a:lnTo>
                <a:lnTo>
                  <a:pt x="376" y="215"/>
                </a:lnTo>
                <a:lnTo>
                  <a:pt x="318" y="218"/>
                </a:lnTo>
                <a:lnTo>
                  <a:pt x="259" y="224"/>
                </a:lnTo>
                <a:lnTo>
                  <a:pt x="198" y="230"/>
                </a:lnTo>
                <a:lnTo>
                  <a:pt x="132" y="234"/>
                </a:lnTo>
                <a:lnTo>
                  <a:pt x="67" y="240"/>
                </a:lnTo>
                <a:lnTo>
                  <a:pt x="0" y="245"/>
                </a:lnTo>
                <a:lnTo>
                  <a:pt x="0" y="161"/>
                </a:lnTo>
                <a:lnTo>
                  <a:pt x="11" y="161"/>
                </a:lnTo>
                <a:lnTo>
                  <a:pt x="23" y="161"/>
                </a:lnTo>
                <a:lnTo>
                  <a:pt x="34" y="161"/>
                </a:lnTo>
                <a:lnTo>
                  <a:pt x="48" y="161"/>
                </a:lnTo>
                <a:lnTo>
                  <a:pt x="61" y="161"/>
                </a:lnTo>
                <a:lnTo>
                  <a:pt x="75" y="161"/>
                </a:lnTo>
                <a:lnTo>
                  <a:pt x="90" y="161"/>
                </a:lnTo>
                <a:lnTo>
                  <a:pt x="105" y="161"/>
                </a:lnTo>
                <a:lnTo>
                  <a:pt x="121" y="159"/>
                </a:lnTo>
                <a:lnTo>
                  <a:pt x="138" y="159"/>
                </a:lnTo>
                <a:lnTo>
                  <a:pt x="171" y="157"/>
                </a:lnTo>
                <a:lnTo>
                  <a:pt x="207" y="155"/>
                </a:lnTo>
                <a:lnTo>
                  <a:pt x="244" y="151"/>
                </a:lnTo>
                <a:lnTo>
                  <a:pt x="263" y="149"/>
                </a:lnTo>
                <a:lnTo>
                  <a:pt x="282" y="149"/>
                </a:lnTo>
                <a:lnTo>
                  <a:pt x="303" y="147"/>
                </a:lnTo>
                <a:lnTo>
                  <a:pt x="324" y="145"/>
                </a:lnTo>
                <a:lnTo>
                  <a:pt x="345" y="144"/>
                </a:lnTo>
                <a:lnTo>
                  <a:pt x="370" y="140"/>
                </a:lnTo>
                <a:lnTo>
                  <a:pt x="393" y="138"/>
                </a:lnTo>
                <a:lnTo>
                  <a:pt x="420" y="136"/>
                </a:lnTo>
                <a:lnTo>
                  <a:pt x="445" y="132"/>
                </a:lnTo>
                <a:lnTo>
                  <a:pt x="474" y="130"/>
                </a:lnTo>
                <a:lnTo>
                  <a:pt x="501" y="126"/>
                </a:lnTo>
                <a:lnTo>
                  <a:pt x="531" y="122"/>
                </a:lnTo>
                <a:lnTo>
                  <a:pt x="562" y="119"/>
                </a:lnTo>
                <a:lnTo>
                  <a:pt x="595" y="115"/>
                </a:lnTo>
                <a:lnTo>
                  <a:pt x="627" y="111"/>
                </a:lnTo>
                <a:lnTo>
                  <a:pt x="662" y="105"/>
                </a:lnTo>
                <a:lnTo>
                  <a:pt x="794" y="92"/>
                </a:lnTo>
                <a:lnTo>
                  <a:pt x="860" y="84"/>
                </a:lnTo>
                <a:lnTo>
                  <a:pt x="925" y="76"/>
                </a:lnTo>
                <a:lnTo>
                  <a:pt x="990" y="71"/>
                </a:lnTo>
                <a:lnTo>
                  <a:pt x="1053" y="63"/>
                </a:lnTo>
                <a:lnTo>
                  <a:pt x="1117" y="57"/>
                </a:lnTo>
                <a:lnTo>
                  <a:pt x="1180" y="50"/>
                </a:lnTo>
                <a:lnTo>
                  <a:pt x="1209" y="48"/>
                </a:lnTo>
                <a:lnTo>
                  <a:pt x="1238" y="46"/>
                </a:lnTo>
                <a:lnTo>
                  <a:pt x="1265" y="44"/>
                </a:lnTo>
                <a:lnTo>
                  <a:pt x="1289" y="40"/>
                </a:lnTo>
                <a:lnTo>
                  <a:pt x="1313" y="38"/>
                </a:lnTo>
                <a:lnTo>
                  <a:pt x="1334" y="36"/>
                </a:lnTo>
                <a:lnTo>
                  <a:pt x="1355" y="34"/>
                </a:lnTo>
                <a:lnTo>
                  <a:pt x="1372" y="30"/>
                </a:lnTo>
                <a:lnTo>
                  <a:pt x="1389" y="28"/>
                </a:lnTo>
                <a:lnTo>
                  <a:pt x="1405" y="25"/>
                </a:lnTo>
                <a:lnTo>
                  <a:pt x="1418" y="23"/>
                </a:lnTo>
                <a:lnTo>
                  <a:pt x="1430" y="21"/>
                </a:lnTo>
                <a:lnTo>
                  <a:pt x="1441" y="19"/>
                </a:lnTo>
                <a:lnTo>
                  <a:pt x="1451" y="17"/>
                </a:lnTo>
                <a:lnTo>
                  <a:pt x="1458" y="13"/>
                </a:lnTo>
                <a:lnTo>
                  <a:pt x="1466" y="13"/>
                </a:lnTo>
                <a:lnTo>
                  <a:pt x="1478" y="9"/>
                </a:lnTo>
                <a:lnTo>
                  <a:pt x="1489" y="5"/>
                </a:lnTo>
                <a:lnTo>
                  <a:pt x="1499" y="2"/>
                </a:lnTo>
                <a:lnTo>
                  <a:pt x="1510" y="0"/>
                </a:lnTo>
                <a:lnTo>
                  <a:pt x="1520" y="0"/>
                </a:lnTo>
                <a:lnTo>
                  <a:pt x="1531" y="0"/>
                </a:lnTo>
                <a:lnTo>
                  <a:pt x="1543" y="0"/>
                </a:lnTo>
                <a:lnTo>
                  <a:pt x="1554" y="3"/>
                </a:lnTo>
                <a:lnTo>
                  <a:pt x="1558" y="5"/>
                </a:lnTo>
                <a:lnTo>
                  <a:pt x="1564" y="7"/>
                </a:lnTo>
                <a:lnTo>
                  <a:pt x="1572" y="11"/>
                </a:lnTo>
                <a:lnTo>
                  <a:pt x="1579" y="15"/>
                </a:lnTo>
                <a:lnTo>
                  <a:pt x="1587" y="19"/>
                </a:lnTo>
                <a:lnTo>
                  <a:pt x="1597" y="25"/>
                </a:lnTo>
                <a:lnTo>
                  <a:pt x="1608" y="28"/>
                </a:lnTo>
                <a:lnTo>
                  <a:pt x="1620" y="34"/>
                </a:lnTo>
                <a:lnTo>
                  <a:pt x="1631" y="42"/>
                </a:lnTo>
                <a:lnTo>
                  <a:pt x="1645" y="48"/>
                </a:lnTo>
                <a:lnTo>
                  <a:pt x="1658" y="55"/>
                </a:lnTo>
                <a:lnTo>
                  <a:pt x="1673" y="63"/>
                </a:lnTo>
                <a:lnTo>
                  <a:pt x="1689" y="71"/>
                </a:lnTo>
                <a:lnTo>
                  <a:pt x="1706" y="78"/>
                </a:lnTo>
                <a:lnTo>
                  <a:pt x="1723" y="88"/>
                </a:lnTo>
                <a:lnTo>
                  <a:pt x="1742" y="96"/>
                </a:lnTo>
                <a:lnTo>
                  <a:pt x="1760" y="107"/>
                </a:lnTo>
                <a:lnTo>
                  <a:pt x="1775" y="117"/>
                </a:lnTo>
                <a:lnTo>
                  <a:pt x="1790" y="126"/>
                </a:lnTo>
                <a:lnTo>
                  <a:pt x="1806" y="134"/>
                </a:lnTo>
                <a:lnTo>
                  <a:pt x="1819" y="144"/>
                </a:lnTo>
                <a:lnTo>
                  <a:pt x="1831" y="151"/>
                </a:lnTo>
                <a:lnTo>
                  <a:pt x="1840" y="159"/>
                </a:lnTo>
                <a:lnTo>
                  <a:pt x="1850" y="167"/>
                </a:lnTo>
                <a:lnTo>
                  <a:pt x="1858" y="174"/>
                </a:lnTo>
                <a:lnTo>
                  <a:pt x="1865" y="182"/>
                </a:lnTo>
                <a:lnTo>
                  <a:pt x="1871" y="188"/>
                </a:lnTo>
                <a:lnTo>
                  <a:pt x="1877" y="195"/>
                </a:lnTo>
                <a:lnTo>
                  <a:pt x="1881" y="201"/>
                </a:lnTo>
                <a:lnTo>
                  <a:pt x="1882" y="207"/>
                </a:lnTo>
                <a:lnTo>
                  <a:pt x="1884" y="213"/>
                </a:lnTo>
                <a:lnTo>
                  <a:pt x="1884" y="21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2249640" y="2779560"/>
            <a:ext cx="371160" cy="419400"/>
          </a:xfrm>
          <a:custGeom>
            <a:avLst/>
            <a:gdLst/>
            <a:ahLst/>
            <a:rect l="l" t="t" r="r" b="b"/>
            <a:pathLst>
              <a:path w="468" h="528">
                <a:moveTo>
                  <a:pt x="257" y="180"/>
                </a:moveTo>
                <a:lnTo>
                  <a:pt x="263" y="171"/>
                </a:lnTo>
                <a:lnTo>
                  <a:pt x="266" y="161"/>
                </a:lnTo>
                <a:lnTo>
                  <a:pt x="270" y="151"/>
                </a:lnTo>
                <a:lnTo>
                  <a:pt x="274" y="142"/>
                </a:lnTo>
                <a:lnTo>
                  <a:pt x="278" y="132"/>
                </a:lnTo>
                <a:lnTo>
                  <a:pt x="280" y="125"/>
                </a:lnTo>
                <a:lnTo>
                  <a:pt x="282" y="117"/>
                </a:lnTo>
                <a:lnTo>
                  <a:pt x="282" y="109"/>
                </a:lnTo>
                <a:lnTo>
                  <a:pt x="282" y="102"/>
                </a:lnTo>
                <a:lnTo>
                  <a:pt x="282" y="96"/>
                </a:lnTo>
                <a:lnTo>
                  <a:pt x="280" y="88"/>
                </a:lnTo>
                <a:lnTo>
                  <a:pt x="280" y="82"/>
                </a:lnTo>
                <a:lnTo>
                  <a:pt x="276" y="77"/>
                </a:lnTo>
                <a:lnTo>
                  <a:pt x="274" y="71"/>
                </a:lnTo>
                <a:lnTo>
                  <a:pt x="270" y="65"/>
                </a:lnTo>
                <a:lnTo>
                  <a:pt x="266" y="59"/>
                </a:lnTo>
                <a:lnTo>
                  <a:pt x="263" y="54"/>
                </a:lnTo>
                <a:lnTo>
                  <a:pt x="261" y="50"/>
                </a:lnTo>
                <a:lnTo>
                  <a:pt x="257" y="44"/>
                </a:lnTo>
                <a:lnTo>
                  <a:pt x="255" y="40"/>
                </a:lnTo>
                <a:lnTo>
                  <a:pt x="253" y="36"/>
                </a:lnTo>
                <a:lnTo>
                  <a:pt x="251" y="32"/>
                </a:lnTo>
                <a:lnTo>
                  <a:pt x="251" y="29"/>
                </a:lnTo>
                <a:lnTo>
                  <a:pt x="251" y="25"/>
                </a:lnTo>
                <a:lnTo>
                  <a:pt x="251" y="21"/>
                </a:lnTo>
                <a:lnTo>
                  <a:pt x="251" y="17"/>
                </a:lnTo>
                <a:lnTo>
                  <a:pt x="253" y="15"/>
                </a:lnTo>
                <a:lnTo>
                  <a:pt x="255" y="11"/>
                </a:lnTo>
                <a:lnTo>
                  <a:pt x="257" y="9"/>
                </a:lnTo>
                <a:lnTo>
                  <a:pt x="261" y="8"/>
                </a:lnTo>
                <a:lnTo>
                  <a:pt x="263" y="6"/>
                </a:lnTo>
                <a:lnTo>
                  <a:pt x="266" y="4"/>
                </a:lnTo>
                <a:lnTo>
                  <a:pt x="276" y="0"/>
                </a:lnTo>
                <a:lnTo>
                  <a:pt x="286" y="0"/>
                </a:lnTo>
                <a:lnTo>
                  <a:pt x="297" y="0"/>
                </a:lnTo>
                <a:lnTo>
                  <a:pt x="311" y="4"/>
                </a:lnTo>
                <a:lnTo>
                  <a:pt x="324" y="8"/>
                </a:lnTo>
                <a:lnTo>
                  <a:pt x="339" y="13"/>
                </a:lnTo>
                <a:lnTo>
                  <a:pt x="357" y="21"/>
                </a:lnTo>
                <a:lnTo>
                  <a:pt x="366" y="27"/>
                </a:lnTo>
                <a:lnTo>
                  <a:pt x="378" y="31"/>
                </a:lnTo>
                <a:lnTo>
                  <a:pt x="387" y="36"/>
                </a:lnTo>
                <a:lnTo>
                  <a:pt x="397" y="42"/>
                </a:lnTo>
                <a:lnTo>
                  <a:pt x="405" y="46"/>
                </a:lnTo>
                <a:lnTo>
                  <a:pt x="412" y="52"/>
                </a:lnTo>
                <a:lnTo>
                  <a:pt x="420" y="55"/>
                </a:lnTo>
                <a:lnTo>
                  <a:pt x="426" y="59"/>
                </a:lnTo>
                <a:lnTo>
                  <a:pt x="432" y="65"/>
                </a:lnTo>
                <a:lnTo>
                  <a:pt x="437" y="69"/>
                </a:lnTo>
                <a:lnTo>
                  <a:pt x="443" y="73"/>
                </a:lnTo>
                <a:lnTo>
                  <a:pt x="447" y="77"/>
                </a:lnTo>
                <a:lnTo>
                  <a:pt x="455" y="86"/>
                </a:lnTo>
                <a:lnTo>
                  <a:pt x="460" y="96"/>
                </a:lnTo>
                <a:lnTo>
                  <a:pt x="466" y="105"/>
                </a:lnTo>
                <a:lnTo>
                  <a:pt x="466" y="111"/>
                </a:lnTo>
                <a:lnTo>
                  <a:pt x="468" y="117"/>
                </a:lnTo>
                <a:lnTo>
                  <a:pt x="466" y="125"/>
                </a:lnTo>
                <a:lnTo>
                  <a:pt x="466" y="130"/>
                </a:lnTo>
                <a:lnTo>
                  <a:pt x="462" y="138"/>
                </a:lnTo>
                <a:lnTo>
                  <a:pt x="458" y="146"/>
                </a:lnTo>
                <a:lnTo>
                  <a:pt x="455" y="153"/>
                </a:lnTo>
                <a:lnTo>
                  <a:pt x="449" y="163"/>
                </a:lnTo>
                <a:lnTo>
                  <a:pt x="441" y="173"/>
                </a:lnTo>
                <a:lnTo>
                  <a:pt x="433" y="182"/>
                </a:lnTo>
                <a:lnTo>
                  <a:pt x="426" y="194"/>
                </a:lnTo>
                <a:lnTo>
                  <a:pt x="416" y="203"/>
                </a:lnTo>
                <a:lnTo>
                  <a:pt x="405" y="217"/>
                </a:lnTo>
                <a:lnTo>
                  <a:pt x="393" y="228"/>
                </a:lnTo>
                <a:lnTo>
                  <a:pt x="380" y="242"/>
                </a:lnTo>
                <a:lnTo>
                  <a:pt x="366" y="255"/>
                </a:lnTo>
                <a:lnTo>
                  <a:pt x="337" y="282"/>
                </a:lnTo>
                <a:lnTo>
                  <a:pt x="309" y="309"/>
                </a:lnTo>
                <a:lnTo>
                  <a:pt x="280" y="336"/>
                </a:lnTo>
                <a:lnTo>
                  <a:pt x="251" y="361"/>
                </a:lnTo>
                <a:lnTo>
                  <a:pt x="222" y="384"/>
                </a:lnTo>
                <a:lnTo>
                  <a:pt x="192" y="407"/>
                </a:lnTo>
                <a:lnTo>
                  <a:pt x="163" y="430"/>
                </a:lnTo>
                <a:lnTo>
                  <a:pt x="134" y="451"/>
                </a:lnTo>
                <a:lnTo>
                  <a:pt x="121" y="462"/>
                </a:lnTo>
                <a:lnTo>
                  <a:pt x="107" y="474"/>
                </a:lnTo>
                <a:lnTo>
                  <a:pt x="96" y="484"/>
                </a:lnTo>
                <a:lnTo>
                  <a:pt x="84" y="491"/>
                </a:lnTo>
                <a:lnTo>
                  <a:pt x="73" y="499"/>
                </a:lnTo>
                <a:lnTo>
                  <a:pt x="63" y="507"/>
                </a:lnTo>
                <a:lnTo>
                  <a:pt x="53" y="512"/>
                </a:lnTo>
                <a:lnTo>
                  <a:pt x="44" y="516"/>
                </a:lnTo>
                <a:lnTo>
                  <a:pt x="36" y="520"/>
                </a:lnTo>
                <a:lnTo>
                  <a:pt x="28" y="524"/>
                </a:lnTo>
                <a:lnTo>
                  <a:pt x="23" y="526"/>
                </a:lnTo>
                <a:lnTo>
                  <a:pt x="17" y="528"/>
                </a:lnTo>
                <a:lnTo>
                  <a:pt x="13" y="528"/>
                </a:lnTo>
                <a:lnTo>
                  <a:pt x="7" y="528"/>
                </a:lnTo>
                <a:lnTo>
                  <a:pt x="5" y="528"/>
                </a:lnTo>
                <a:lnTo>
                  <a:pt x="4" y="526"/>
                </a:lnTo>
                <a:lnTo>
                  <a:pt x="2" y="524"/>
                </a:lnTo>
                <a:lnTo>
                  <a:pt x="0" y="520"/>
                </a:lnTo>
                <a:lnTo>
                  <a:pt x="2" y="516"/>
                </a:lnTo>
                <a:lnTo>
                  <a:pt x="4" y="512"/>
                </a:lnTo>
                <a:lnTo>
                  <a:pt x="5" y="507"/>
                </a:lnTo>
                <a:lnTo>
                  <a:pt x="9" y="499"/>
                </a:lnTo>
                <a:lnTo>
                  <a:pt x="13" y="491"/>
                </a:lnTo>
                <a:lnTo>
                  <a:pt x="19" y="484"/>
                </a:lnTo>
                <a:lnTo>
                  <a:pt x="27" y="474"/>
                </a:lnTo>
                <a:lnTo>
                  <a:pt x="34" y="464"/>
                </a:lnTo>
                <a:lnTo>
                  <a:pt x="42" y="453"/>
                </a:lnTo>
                <a:lnTo>
                  <a:pt x="53" y="441"/>
                </a:lnTo>
                <a:lnTo>
                  <a:pt x="63" y="430"/>
                </a:lnTo>
                <a:lnTo>
                  <a:pt x="75" y="416"/>
                </a:lnTo>
                <a:lnTo>
                  <a:pt x="88" y="401"/>
                </a:lnTo>
                <a:lnTo>
                  <a:pt x="101" y="386"/>
                </a:lnTo>
                <a:lnTo>
                  <a:pt x="115" y="370"/>
                </a:lnTo>
                <a:lnTo>
                  <a:pt x="128" y="355"/>
                </a:lnTo>
                <a:lnTo>
                  <a:pt x="142" y="340"/>
                </a:lnTo>
                <a:lnTo>
                  <a:pt x="153" y="324"/>
                </a:lnTo>
                <a:lnTo>
                  <a:pt x="165" y="311"/>
                </a:lnTo>
                <a:lnTo>
                  <a:pt x="176" y="295"/>
                </a:lnTo>
                <a:lnTo>
                  <a:pt x="186" y="282"/>
                </a:lnTo>
                <a:lnTo>
                  <a:pt x="195" y="269"/>
                </a:lnTo>
                <a:lnTo>
                  <a:pt x="205" y="255"/>
                </a:lnTo>
                <a:lnTo>
                  <a:pt x="213" y="244"/>
                </a:lnTo>
                <a:lnTo>
                  <a:pt x="220" y="232"/>
                </a:lnTo>
                <a:lnTo>
                  <a:pt x="228" y="221"/>
                </a:lnTo>
                <a:lnTo>
                  <a:pt x="236" y="209"/>
                </a:lnTo>
                <a:lnTo>
                  <a:pt x="243" y="199"/>
                </a:lnTo>
                <a:lnTo>
                  <a:pt x="249" y="190"/>
                </a:lnTo>
                <a:lnTo>
                  <a:pt x="257" y="18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2417760" y="2894040"/>
            <a:ext cx="860400" cy="171360"/>
          </a:xfrm>
          <a:custGeom>
            <a:avLst/>
            <a:gdLst/>
            <a:ahLst/>
            <a:rect l="l" t="t" r="r" b="b"/>
            <a:pathLst>
              <a:path w="1082" h="217">
                <a:moveTo>
                  <a:pt x="76" y="213"/>
                </a:moveTo>
                <a:lnTo>
                  <a:pt x="63" y="209"/>
                </a:lnTo>
                <a:lnTo>
                  <a:pt x="52" y="205"/>
                </a:lnTo>
                <a:lnTo>
                  <a:pt x="40" y="199"/>
                </a:lnTo>
                <a:lnTo>
                  <a:pt x="29" y="192"/>
                </a:lnTo>
                <a:lnTo>
                  <a:pt x="19" y="182"/>
                </a:lnTo>
                <a:lnTo>
                  <a:pt x="11" y="173"/>
                </a:lnTo>
                <a:lnTo>
                  <a:pt x="4" y="161"/>
                </a:lnTo>
                <a:lnTo>
                  <a:pt x="2" y="155"/>
                </a:lnTo>
                <a:lnTo>
                  <a:pt x="0" y="148"/>
                </a:lnTo>
                <a:lnTo>
                  <a:pt x="21" y="146"/>
                </a:lnTo>
                <a:lnTo>
                  <a:pt x="42" y="142"/>
                </a:lnTo>
                <a:lnTo>
                  <a:pt x="65" y="138"/>
                </a:lnTo>
                <a:lnTo>
                  <a:pt x="88" y="134"/>
                </a:lnTo>
                <a:lnTo>
                  <a:pt x="109" y="130"/>
                </a:lnTo>
                <a:lnTo>
                  <a:pt x="132" y="128"/>
                </a:lnTo>
                <a:lnTo>
                  <a:pt x="153" y="125"/>
                </a:lnTo>
                <a:lnTo>
                  <a:pt x="174" y="121"/>
                </a:lnTo>
                <a:lnTo>
                  <a:pt x="186" y="119"/>
                </a:lnTo>
                <a:lnTo>
                  <a:pt x="199" y="117"/>
                </a:lnTo>
                <a:lnTo>
                  <a:pt x="215" y="115"/>
                </a:lnTo>
                <a:lnTo>
                  <a:pt x="232" y="111"/>
                </a:lnTo>
                <a:lnTo>
                  <a:pt x="249" y="109"/>
                </a:lnTo>
                <a:lnTo>
                  <a:pt x="270" y="105"/>
                </a:lnTo>
                <a:lnTo>
                  <a:pt x="291" y="102"/>
                </a:lnTo>
                <a:lnTo>
                  <a:pt x="316" y="98"/>
                </a:lnTo>
                <a:lnTo>
                  <a:pt x="341" y="94"/>
                </a:lnTo>
                <a:lnTo>
                  <a:pt x="368" y="90"/>
                </a:lnTo>
                <a:lnTo>
                  <a:pt x="399" y="84"/>
                </a:lnTo>
                <a:lnTo>
                  <a:pt x="430" y="80"/>
                </a:lnTo>
                <a:lnTo>
                  <a:pt x="462" y="75"/>
                </a:lnTo>
                <a:lnTo>
                  <a:pt x="497" y="69"/>
                </a:lnTo>
                <a:lnTo>
                  <a:pt x="533" y="61"/>
                </a:lnTo>
                <a:lnTo>
                  <a:pt x="572" y="55"/>
                </a:lnTo>
                <a:lnTo>
                  <a:pt x="591" y="52"/>
                </a:lnTo>
                <a:lnTo>
                  <a:pt x="610" y="48"/>
                </a:lnTo>
                <a:lnTo>
                  <a:pt x="627" y="44"/>
                </a:lnTo>
                <a:lnTo>
                  <a:pt x="646" y="42"/>
                </a:lnTo>
                <a:lnTo>
                  <a:pt x="664" y="38"/>
                </a:lnTo>
                <a:lnTo>
                  <a:pt x="679" y="36"/>
                </a:lnTo>
                <a:lnTo>
                  <a:pt x="694" y="32"/>
                </a:lnTo>
                <a:lnTo>
                  <a:pt x="710" y="30"/>
                </a:lnTo>
                <a:lnTo>
                  <a:pt x="725" y="29"/>
                </a:lnTo>
                <a:lnTo>
                  <a:pt x="740" y="25"/>
                </a:lnTo>
                <a:lnTo>
                  <a:pt x="754" y="23"/>
                </a:lnTo>
                <a:lnTo>
                  <a:pt x="767" y="21"/>
                </a:lnTo>
                <a:lnTo>
                  <a:pt x="779" y="19"/>
                </a:lnTo>
                <a:lnTo>
                  <a:pt x="792" y="17"/>
                </a:lnTo>
                <a:lnTo>
                  <a:pt x="804" y="15"/>
                </a:lnTo>
                <a:lnTo>
                  <a:pt x="813" y="13"/>
                </a:lnTo>
                <a:lnTo>
                  <a:pt x="825" y="11"/>
                </a:lnTo>
                <a:lnTo>
                  <a:pt x="835" y="9"/>
                </a:lnTo>
                <a:lnTo>
                  <a:pt x="844" y="7"/>
                </a:lnTo>
                <a:lnTo>
                  <a:pt x="854" y="7"/>
                </a:lnTo>
                <a:lnTo>
                  <a:pt x="861" y="6"/>
                </a:lnTo>
                <a:lnTo>
                  <a:pt x="871" y="4"/>
                </a:lnTo>
                <a:lnTo>
                  <a:pt x="879" y="4"/>
                </a:lnTo>
                <a:lnTo>
                  <a:pt x="884" y="2"/>
                </a:lnTo>
                <a:lnTo>
                  <a:pt x="892" y="2"/>
                </a:lnTo>
                <a:lnTo>
                  <a:pt x="898" y="2"/>
                </a:lnTo>
                <a:lnTo>
                  <a:pt x="909" y="0"/>
                </a:lnTo>
                <a:lnTo>
                  <a:pt x="917" y="0"/>
                </a:lnTo>
                <a:lnTo>
                  <a:pt x="925" y="0"/>
                </a:lnTo>
                <a:lnTo>
                  <a:pt x="936" y="0"/>
                </a:lnTo>
                <a:lnTo>
                  <a:pt x="950" y="0"/>
                </a:lnTo>
                <a:lnTo>
                  <a:pt x="963" y="2"/>
                </a:lnTo>
                <a:lnTo>
                  <a:pt x="975" y="6"/>
                </a:lnTo>
                <a:lnTo>
                  <a:pt x="990" y="7"/>
                </a:lnTo>
                <a:lnTo>
                  <a:pt x="1003" y="11"/>
                </a:lnTo>
                <a:lnTo>
                  <a:pt x="1019" y="15"/>
                </a:lnTo>
                <a:lnTo>
                  <a:pt x="1034" y="17"/>
                </a:lnTo>
                <a:lnTo>
                  <a:pt x="1046" y="25"/>
                </a:lnTo>
                <a:lnTo>
                  <a:pt x="1057" y="32"/>
                </a:lnTo>
                <a:lnTo>
                  <a:pt x="1067" y="38"/>
                </a:lnTo>
                <a:lnTo>
                  <a:pt x="1071" y="42"/>
                </a:lnTo>
                <a:lnTo>
                  <a:pt x="1072" y="46"/>
                </a:lnTo>
                <a:lnTo>
                  <a:pt x="1076" y="50"/>
                </a:lnTo>
                <a:lnTo>
                  <a:pt x="1078" y="54"/>
                </a:lnTo>
                <a:lnTo>
                  <a:pt x="1080" y="55"/>
                </a:lnTo>
                <a:lnTo>
                  <a:pt x="1080" y="59"/>
                </a:lnTo>
                <a:lnTo>
                  <a:pt x="1082" y="63"/>
                </a:lnTo>
                <a:lnTo>
                  <a:pt x="1082" y="67"/>
                </a:lnTo>
                <a:lnTo>
                  <a:pt x="1080" y="71"/>
                </a:lnTo>
                <a:lnTo>
                  <a:pt x="1078" y="75"/>
                </a:lnTo>
                <a:lnTo>
                  <a:pt x="1076" y="77"/>
                </a:lnTo>
                <a:lnTo>
                  <a:pt x="1074" y="80"/>
                </a:lnTo>
                <a:lnTo>
                  <a:pt x="1071" y="84"/>
                </a:lnTo>
                <a:lnTo>
                  <a:pt x="1067" y="86"/>
                </a:lnTo>
                <a:lnTo>
                  <a:pt x="1057" y="92"/>
                </a:lnTo>
                <a:lnTo>
                  <a:pt x="1048" y="96"/>
                </a:lnTo>
                <a:lnTo>
                  <a:pt x="1034" y="100"/>
                </a:lnTo>
                <a:lnTo>
                  <a:pt x="1021" y="103"/>
                </a:lnTo>
                <a:lnTo>
                  <a:pt x="1007" y="107"/>
                </a:lnTo>
                <a:lnTo>
                  <a:pt x="990" y="111"/>
                </a:lnTo>
                <a:lnTo>
                  <a:pt x="986" y="111"/>
                </a:lnTo>
                <a:lnTo>
                  <a:pt x="978" y="113"/>
                </a:lnTo>
                <a:lnTo>
                  <a:pt x="973" y="115"/>
                </a:lnTo>
                <a:lnTo>
                  <a:pt x="965" y="115"/>
                </a:lnTo>
                <a:lnTo>
                  <a:pt x="957" y="117"/>
                </a:lnTo>
                <a:lnTo>
                  <a:pt x="950" y="117"/>
                </a:lnTo>
                <a:lnTo>
                  <a:pt x="940" y="119"/>
                </a:lnTo>
                <a:lnTo>
                  <a:pt x="930" y="121"/>
                </a:lnTo>
                <a:lnTo>
                  <a:pt x="921" y="121"/>
                </a:lnTo>
                <a:lnTo>
                  <a:pt x="909" y="123"/>
                </a:lnTo>
                <a:lnTo>
                  <a:pt x="898" y="125"/>
                </a:lnTo>
                <a:lnTo>
                  <a:pt x="886" y="125"/>
                </a:lnTo>
                <a:lnTo>
                  <a:pt x="875" y="126"/>
                </a:lnTo>
                <a:lnTo>
                  <a:pt x="861" y="128"/>
                </a:lnTo>
                <a:lnTo>
                  <a:pt x="848" y="130"/>
                </a:lnTo>
                <a:lnTo>
                  <a:pt x="833" y="132"/>
                </a:lnTo>
                <a:lnTo>
                  <a:pt x="819" y="134"/>
                </a:lnTo>
                <a:lnTo>
                  <a:pt x="804" y="136"/>
                </a:lnTo>
                <a:lnTo>
                  <a:pt x="788" y="138"/>
                </a:lnTo>
                <a:lnTo>
                  <a:pt x="771" y="140"/>
                </a:lnTo>
                <a:lnTo>
                  <a:pt x="754" y="142"/>
                </a:lnTo>
                <a:lnTo>
                  <a:pt x="737" y="144"/>
                </a:lnTo>
                <a:lnTo>
                  <a:pt x="717" y="146"/>
                </a:lnTo>
                <a:lnTo>
                  <a:pt x="698" y="148"/>
                </a:lnTo>
                <a:lnTo>
                  <a:pt x="679" y="149"/>
                </a:lnTo>
                <a:lnTo>
                  <a:pt x="660" y="151"/>
                </a:lnTo>
                <a:lnTo>
                  <a:pt x="639" y="155"/>
                </a:lnTo>
                <a:lnTo>
                  <a:pt x="618" y="157"/>
                </a:lnTo>
                <a:lnTo>
                  <a:pt x="597" y="159"/>
                </a:lnTo>
                <a:lnTo>
                  <a:pt x="574" y="161"/>
                </a:lnTo>
                <a:lnTo>
                  <a:pt x="551" y="165"/>
                </a:lnTo>
                <a:lnTo>
                  <a:pt x="527" y="167"/>
                </a:lnTo>
                <a:lnTo>
                  <a:pt x="503" y="171"/>
                </a:lnTo>
                <a:lnTo>
                  <a:pt x="479" y="174"/>
                </a:lnTo>
                <a:lnTo>
                  <a:pt x="456" y="176"/>
                </a:lnTo>
                <a:lnTo>
                  <a:pt x="433" y="180"/>
                </a:lnTo>
                <a:lnTo>
                  <a:pt x="412" y="184"/>
                </a:lnTo>
                <a:lnTo>
                  <a:pt x="391" y="186"/>
                </a:lnTo>
                <a:lnTo>
                  <a:pt x="370" y="190"/>
                </a:lnTo>
                <a:lnTo>
                  <a:pt x="351" y="192"/>
                </a:lnTo>
                <a:lnTo>
                  <a:pt x="332" y="194"/>
                </a:lnTo>
                <a:lnTo>
                  <a:pt x="313" y="197"/>
                </a:lnTo>
                <a:lnTo>
                  <a:pt x="295" y="199"/>
                </a:lnTo>
                <a:lnTo>
                  <a:pt x="278" y="201"/>
                </a:lnTo>
                <a:lnTo>
                  <a:pt x="261" y="203"/>
                </a:lnTo>
                <a:lnTo>
                  <a:pt x="245" y="205"/>
                </a:lnTo>
                <a:lnTo>
                  <a:pt x="230" y="207"/>
                </a:lnTo>
                <a:lnTo>
                  <a:pt x="215" y="209"/>
                </a:lnTo>
                <a:lnTo>
                  <a:pt x="201" y="209"/>
                </a:lnTo>
                <a:lnTo>
                  <a:pt x="188" y="211"/>
                </a:lnTo>
                <a:lnTo>
                  <a:pt x="176" y="213"/>
                </a:lnTo>
                <a:lnTo>
                  <a:pt x="165" y="213"/>
                </a:lnTo>
                <a:lnTo>
                  <a:pt x="153" y="215"/>
                </a:lnTo>
                <a:lnTo>
                  <a:pt x="142" y="215"/>
                </a:lnTo>
                <a:lnTo>
                  <a:pt x="132" y="215"/>
                </a:lnTo>
                <a:lnTo>
                  <a:pt x="123" y="215"/>
                </a:lnTo>
                <a:lnTo>
                  <a:pt x="115" y="217"/>
                </a:lnTo>
                <a:lnTo>
                  <a:pt x="107" y="217"/>
                </a:lnTo>
                <a:lnTo>
                  <a:pt x="100" y="217"/>
                </a:lnTo>
                <a:lnTo>
                  <a:pt x="94" y="217"/>
                </a:lnTo>
                <a:lnTo>
                  <a:pt x="88" y="215"/>
                </a:lnTo>
                <a:lnTo>
                  <a:pt x="84" y="215"/>
                </a:lnTo>
                <a:lnTo>
                  <a:pt x="80" y="215"/>
                </a:lnTo>
                <a:lnTo>
                  <a:pt x="76" y="21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2738520" y="2665440"/>
            <a:ext cx="203040" cy="1376280"/>
          </a:xfrm>
          <a:custGeom>
            <a:avLst/>
            <a:gdLst/>
            <a:ahLst/>
            <a:rect l="l" t="t" r="r" b="b"/>
            <a:pathLst>
              <a:path w="257" h="1733">
                <a:moveTo>
                  <a:pt x="71" y="184"/>
                </a:moveTo>
                <a:lnTo>
                  <a:pt x="65" y="161"/>
                </a:lnTo>
                <a:lnTo>
                  <a:pt x="63" y="150"/>
                </a:lnTo>
                <a:lnTo>
                  <a:pt x="61" y="140"/>
                </a:lnTo>
                <a:lnTo>
                  <a:pt x="59" y="128"/>
                </a:lnTo>
                <a:lnTo>
                  <a:pt x="57" y="119"/>
                </a:lnTo>
                <a:lnTo>
                  <a:pt x="55" y="111"/>
                </a:lnTo>
                <a:lnTo>
                  <a:pt x="52" y="102"/>
                </a:lnTo>
                <a:lnTo>
                  <a:pt x="50" y="94"/>
                </a:lnTo>
                <a:lnTo>
                  <a:pt x="46" y="86"/>
                </a:lnTo>
                <a:lnTo>
                  <a:pt x="44" y="79"/>
                </a:lnTo>
                <a:lnTo>
                  <a:pt x="40" y="73"/>
                </a:lnTo>
                <a:lnTo>
                  <a:pt x="36" y="67"/>
                </a:lnTo>
                <a:lnTo>
                  <a:pt x="34" y="63"/>
                </a:lnTo>
                <a:lnTo>
                  <a:pt x="30" y="57"/>
                </a:lnTo>
                <a:lnTo>
                  <a:pt x="27" y="54"/>
                </a:lnTo>
                <a:lnTo>
                  <a:pt x="17" y="50"/>
                </a:lnTo>
                <a:lnTo>
                  <a:pt x="11" y="46"/>
                </a:lnTo>
                <a:lnTo>
                  <a:pt x="5" y="40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2" y="11"/>
                </a:lnTo>
                <a:lnTo>
                  <a:pt x="4" y="8"/>
                </a:lnTo>
                <a:lnTo>
                  <a:pt x="5" y="6"/>
                </a:lnTo>
                <a:lnTo>
                  <a:pt x="9" y="4"/>
                </a:lnTo>
                <a:lnTo>
                  <a:pt x="13" y="4"/>
                </a:lnTo>
                <a:lnTo>
                  <a:pt x="19" y="2"/>
                </a:lnTo>
                <a:lnTo>
                  <a:pt x="23" y="2"/>
                </a:lnTo>
                <a:lnTo>
                  <a:pt x="30" y="0"/>
                </a:lnTo>
                <a:lnTo>
                  <a:pt x="36" y="0"/>
                </a:lnTo>
                <a:lnTo>
                  <a:pt x="46" y="0"/>
                </a:lnTo>
                <a:lnTo>
                  <a:pt x="53" y="0"/>
                </a:lnTo>
                <a:lnTo>
                  <a:pt x="63" y="0"/>
                </a:lnTo>
                <a:lnTo>
                  <a:pt x="73" y="2"/>
                </a:lnTo>
                <a:lnTo>
                  <a:pt x="84" y="2"/>
                </a:lnTo>
                <a:lnTo>
                  <a:pt x="96" y="4"/>
                </a:lnTo>
                <a:lnTo>
                  <a:pt x="109" y="4"/>
                </a:lnTo>
                <a:lnTo>
                  <a:pt x="123" y="6"/>
                </a:lnTo>
                <a:lnTo>
                  <a:pt x="136" y="8"/>
                </a:lnTo>
                <a:lnTo>
                  <a:pt x="149" y="11"/>
                </a:lnTo>
                <a:lnTo>
                  <a:pt x="163" y="15"/>
                </a:lnTo>
                <a:lnTo>
                  <a:pt x="174" y="17"/>
                </a:lnTo>
                <a:lnTo>
                  <a:pt x="186" y="21"/>
                </a:lnTo>
                <a:lnTo>
                  <a:pt x="195" y="25"/>
                </a:lnTo>
                <a:lnTo>
                  <a:pt x="205" y="29"/>
                </a:lnTo>
                <a:lnTo>
                  <a:pt x="213" y="33"/>
                </a:lnTo>
                <a:lnTo>
                  <a:pt x="220" y="36"/>
                </a:lnTo>
                <a:lnTo>
                  <a:pt x="228" y="38"/>
                </a:lnTo>
                <a:lnTo>
                  <a:pt x="234" y="42"/>
                </a:lnTo>
                <a:lnTo>
                  <a:pt x="240" y="46"/>
                </a:lnTo>
                <a:lnTo>
                  <a:pt x="243" y="50"/>
                </a:lnTo>
                <a:lnTo>
                  <a:pt x="249" y="54"/>
                </a:lnTo>
                <a:lnTo>
                  <a:pt x="251" y="56"/>
                </a:lnTo>
                <a:lnTo>
                  <a:pt x="255" y="59"/>
                </a:lnTo>
                <a:lnTo>
                  <a:pt x="257" y="63"/>
                </a:lnTo>
                <a:lnTo>
                  <a:pt x="257" y="71"/>
                </a:lnTo>
                <a:lnTo>
                  <a:pt x="257" y="80"/>
                </a:lnTo>
                <a:lnTo>
                  <a:pt x="257" y="92"/>
                </a:lnTo>
                <a:lnTo>
                  <a:pt x="255" y="104"/>
                </a:lnTo>
                <a:lnTo>
                  <a:pt x="255" y="117"/>
                </a:lnTo>
                <a:lnTo>
                  <a:pt x="253" y="132"/>
                </a:lnTo>
                <a:lnTo>
                  <a:pt x="249" y="150"/>
                </a:lnTo>
                <a:lnTo>
                  <a:pt x="245" y="167"/>
                </a:lnTo>
                <a:lnTo>
                  <a:pt x="245" y="171"/>
                </a:lnTo>
                <a:lnTo>
                  <a:pt x="243" y="176"/>
                </a:lnTo>
                <a:lnTo>
                  <a:pt x="243" y="182"/>
                </a:lnTo>
                <a:lnTo>
                  <a:pt x="242" y="190"/>
                </a:lnTo>
                <a:lnTo>
                  <a:pt x="242" y="198"/>
                </a:lnTo>
                <a:lnTo>
                  <a:pt x="240" y="205"/>
                </a:lnTo>
                <a:lnTo>
                  <a:pt x="240" y="215"/>
                </a:lnTo>
                <a:lnTo>
                  <a:pt x="238" y="224"/>
                </a:lnTo>
                <a:lnTo>
                  <a:pt x="238" y="236"/>
                </a:lnTo>
                <a:lnTo>
                  <a:pt x="236" y="247"/>
                </a:lnTo>
                <a:lnTo>
                  <a:pt x="236" y="259"/>
                </a:lnTo>
                <a:lnTo>
                  <a:pt x="234" y="272"/>
                </a:lnTo>
                <a:lnTo>
                  <a:pt x="234" y="286"/>
                </a:lnTo>
                <a:lnTo>
                  <a:pt x="232" y="301"/>
                </a:lnTo>
                <a:lnTo>
                  <a:pt x="232" y="317"/>
                </a:lnTo>
                <a:lnTo>
                  <a:pt x="230" y="332"/>
                </a:lnTo>
                <a:lnTo>
                  <a:pt x="230" y="349"/>
                </a:lnTo>
                <a:lnTo>
                  <a:pt x="230" y="366"/>
                </a:lnTo>
                <a:lnTo>
                  <a:pt x="228" y="386"/>
                </a:lnTo>
                <a:lnTo>
                  <a:pt x="228" y="405"/>
                </a:lnTo>
                <a:lnTo>
                  <a:pt x="228" y="424"/>
                </a:lnTo>
                <a:lnTo>
                  <a:pt x="226" y="443"/>
                </a:lnTo>
                <a:lnTo>
                  <a:pt x="226" y="464"/>
                </a:lnTo>
                <a:lnTo>
                  <a:pt x="226" y="487"/>
                </a:lnTo>
                <a:lnTo>
                  <a:pt x="226" y="510"/>
                </a:lnTo>
                <a:lnTo>
                  <a:pt x="224" y="533"/>
                </a:lnTo>
                <a:lnTo>
                  <a:pt x="224" y="556"/>
                </a:lnTo>
                <a:lnTo>
                  <a:pt x="224" y="581"/>
                </a:lnTo>
                <a:lnTo>
                  <a:pt x="224" y="606"/>
                </a:lnTo>
                <a:lnTo>
                  <a:pt x="224" y="633"/>
                </a:lnTo>
                <a:lnTo>
                  <a:pt x="224" y="660"/>
                </a:lnTo>
                <a:lnTo>
                  <a:pt x="224" y="689"/>
                </a:lnTo>
                <a:lnTo>
                  <a:pt x="224" y="716"/>
                </a:lnTo>
                <a:lnTo>
                  <a:pt x="224" y="743"/>
                </a:lnTo>
                <a:lnTo>
                  <a:pt x="224" y="770"/>
                </a:lnTo>
                <a:lnTo>
                  <a:pt x="224" y="796"/>
                </a:lnTo>
                <a:lnTo>
                  <a:pt x="224" y="821"/>
                </a:lnTo>
                <a:lnTo>
                  <a:pt x="224" y="846"/>
                </a:lnTo>
                <a:lnTo>
                  <a:pt x="224" y="871"/>
                </a:lnTo>
                <a:lnTo>
                  <a:pt x="224" y="896"/>
                </a:lnTo>
                <a:lnTo>
                  <a:pt x="224" y="919"/>
                </a:lnTo>
                <a:lnTo>
                  <a:pt x="224" y="942"/>
                </a:lnTo>
                <a:lnTo>
                  <a:pt x="224" y="965"/>
                </a:lnTo>
                <a:lnTo>
                  <a:pt x="224" y="988"/>
                </a:lnTo>
                <a:lnTo>
                  <a:pt x="222" y="1009"/>
                </a:lnTo>
                <a:lnTo>
                  <a:pt x="222" y="1031"/>
                </a:lnTo>
                <a:lnTo>
                  <a:pt x="222" y="1052"/>
                </a:lnTo>
                <a:lnTo>
                  <a:pt x="222" y="1073"/>
                </a:lnTo>
                <a:lnTo>
                  <a:pt x="222" y="1092"/>
                </a:lnTo>
                <a:lnTo>
                  <a:pt x="222" y="1111"/>
                </a:lnTo>
                <a:lnTo>
                  <a:pt x="222" y="1130"/>
                </a:lnTo>
                <a:lnTo>
                  <a:pt x="220" y="1150"/>
                </a:lnTo>
                <a:lnTo>
                  <a:pt x="220" y="1167"/>
                </a:lnTo>
                <a:lnTo>
                  <a:pt x="220" y="1184"/>
                </a:lnTo>
                <a:lnTo>
                  <a:pt x="220" y="1201"/>
                </a:lnTo>
                <a:lnTo>
                  <a:pt x="219" y="1219"/>
                </a:lnTo>
                <a:lnTo>
                  <a:pt x="219" y="1234"/>
                </a:lnTo>
                <a:lnTo>
                  <a:pt x="219" y="1249"/>
                </a:lnTo>
                <a:lnTo>
                  <a:pt x="217" y="1265"/>
                </a:lnTo>
                <a:lnTo>
                  <a:pt x="217" y="1278"/>
                </a:lnTo>
                <a:lnTo>
                  <a:pt x="217" y="1292"/>
                </a:lnTo>
                <a:lnTo>
                  <a:pt x="215" y="1307"/>
                </a:lnTo>
                <a:lnTo>
                  <a:pt x="215" y="1318"/>
                </a:lnTo>
                <a:lnTo>
                  <a:pt x="213" y="1332"/>
                </a:lnTo>
                <a:lnTo>
                  <a:pt x="211" y="1357"/>
                </a:lnTo>
                <a:lnTo>
                  <a:pt x="209" y="1382"/>
                </a:lnTo>
                <a:lnTo>
                  <a:pt x="207" y="1407"/>
                </a:lnTo>
                <a:lnTo>
                  <a:pt x="207" y="1430"/>
                </a:lnTo>
                <a:lnTo>
                  <a:pt x="205" y="1451"/>
                </a:lnTo>
                <a:lnTo>
                  <a:pt x="205" y="1474"/>
                </a:lnTo>
                <a:lnTo>
                  <a:pt x="203" y="1493"/>
                </a:lnTo>
                <a:lnTo>
                  <a:pt x="201" y="1514"/>
                </a:lnTo>
                <a:lnTo>
                  <a:pt x="201" y="1532"/>
                </a:lnTo>
                <a:lnTo>
                  <a:pt x="199" y="1551"/>
                </a:lnTo>
                <a:lnTo>
                  <a:pt x="199" y="1568"/>
                </a:lnTo>
                <a:lnTo>
                  <a:pt x="197" y="1583"/>
                </a:lnTo>
                <a:lnTo>
                  <a:pt x="195" y="1599"/>
                </a:lnTo>
                <a:lnTo>
                  <a:pt x="195" y="1612"/>
                </a:lnTo>
                <a:lnTo>
                  <a:pt x="194" y="1627"/>
                </a:lnTo>
                <a:lnTo>
                  <a:pt x="192" y="1639"/>
                </a:lnTo>
                <a:lnTo>
                  <a:pt x="190" y="1651"/>
                </a:lnTo>
                <a:lnTo>
                  <a:pt x="186" y="1662"/>
                </a:lnTo>
                <a:lnTo>
                  <a:pt x="184" y="1672"/>
                </a:lnTo>
                <a:lnTo>
                  <a:pt x="180" y="1681"/>
                </a:lnTo>
                <a:lnTo>
                  <a:pt x="178" y="1689"/>
                </a:lnTo>
                <a:lnTo>
                  <a:pt x="174" y="1697"/>
                </a:lnTo>
                <a:lnTo>
                  <a:pt x="171" y="1704"/>
                </a:lnTo>
                <a:lnTo>
                  <a:pt x="167" y="1710"/>
                </a:lnTo>
                <a:lnTo>
                  <a:pt x="165" y="1716"/>
                </a:lnTo>
                <a:lnTo>
                  <a:pt x="161" y="1720"/>
                </a:lnTo>
                <a:lnTo>
                  <a:pt x="157" y="1723"/>
                </a:lnTo>
                <a:lnTo>
                  <a:pt x="151" y="1727"/>
                </a:lnTo>
                <a:lnTo>
                  <a:pt x="148" y="1729"/>
                </a:lnTo>
                <a:lnTo>
                  <a:pt x="144" y="1731"/>
                </a:lnTo>
                <a:lnTo>
                  <a:pt x="140" y="1733"/>
                </a:lnTo>
                <a:lnTo>
                  <a:pt x="136" y="1733"/>
                </a:lnTo>
                <a:lnTo>
                  <a:pt x="134" y="1733"/>
                </a:lnTo>
                <a:lnTo>
                  <a:pt x="132" y="1731"/>
                </a:lnTo>
                <a:lnTo>
                  <a:pt x="130" y="1731"/>
                </a:lnTo>
                <a:lnTo>
                  <a:pt x="128" y="1729"/>
                </a:lnTo>
                <a:lnTo>
                  <a:pt x="126" y="1727"/>
                </a:lnTo>
                <a:lnTo>
                  <a:pt x="124" y="1723"/>
                </a:lnTo>
                <a:lnTo>
                  <a:pt x="123" y="1722"/>
                </a:lnTo>
                <a:lnTo>
                  <a:pt x="121" y="1718"/>
                </a:lnTo>
                <a:lnTo>
                  <a:pt x="119" y="1708"/>
                </a:lnTo>
                <a:lnTo>
                  <a:pt x="115" y="1699"/>
                </a:lnTo>
                <a:lnTo>
                  <a:pt x="113" y="1685"/>
                </a:lnTo>
                <a:lnTo>
                  <a:pt x="109" y="1672"/>
                </a:lnTo>
                <a:lnTo>
                  <a:pt x="107" y="1654"/>
                </a:lnTo>
                <a:lnTo>
                  <a:pt x="105" y="1637"/>
                </a:lnTo>
                <a:lnTo>
                  <a:pt x="101" y="1616"/>
                </a:lnTo>
                <a:lnTo>
                  <a:pt x="100" y="1595"/>
                </a:lnTo>
                <a:lnTo>
                  <a:pt x="98" y="1572"/>
                </a:lnTo>
                <a:lnTo>
                  <a:pt x="96" y="1547"/>
                </a:lnTo>
                <a:lnTo>
                  <a:pt x="94" y="1518"/>
                </a:lnTo>
                <a:lnTo>
                  <a:pt x="92" y="1489"/>
                </a:lnTo>
                <a:lnTo>
                  <a:pt x="90" y="1459"/>
                </a:lnTo>
                <a:lnTo>
                  <a:pt x="88" y="1424"/>
                </a:lnTo>
                <a:lnTo>
                  <a:pt x="86" y="1388"/>
                </a:lnTo>
                <a:lnTo>
                  <a:pt x="84" y="1349"/>
                </a:lnTo>
                <a:lnTo>
                  <a:pt x="82" y="1311"/>
                </a:lnTo>
                <a:lnTo>
                  <a:pt x="80" y="1269"/>
                </a:lnTo>
                <a:lnTo>
                  <a:pt x="80" y="1226"/>
                </a:lnTo>
                <a:lnTo>
                  <a:pt x="78" y="1180"/>
                </a:lnTo>
                <a:lnTo>
                  <a:pt x="76" y="1134"/>
                </a:lnTo>
                <a:lnTo>
                  <a:pt x="76" y="1086"/>
                </a:lnTo>
                <a:lnTo>
                  <a:pt x="76" y="1034"/>
                </a:lnTo>
                <a:lnTo>
                  <a:pt x="76" y="983"/>
                </a:lnTo>
                <a:lnTo>
                  <a:pt x="76" y="956"/>
                </a:lnTo>
                <a:lnTo>
                  <a:pt x="76" y="929"/>
                </a:lnTo>
                <a:lnTo>
                  <a:pt x="76" y="900"/>
                </a:lnTo>
                <a:lnTo>
                  <a:pt x="78" y="871"/>
                </a:lnTo>
                <a:lnTo>
                  <a:pt x="78" y="842"/>
                </a:lnTo>
                <a:lnTo>
                  <a:pt x="78" y="814"/>
                </a:lnTo>
                <a:lnTo>
                  <a:pt x="80" y="783"/>
                </a:lnTo>
                <a:lnTo>
                  <a:pt x="80" y="754"/>
                </a:lnTo>
                <a:lnTo>
                  <a:pt x="82" y="723"/>
                </a:lnTo>
                <a:lnTo>
                  <a:pt x="82" y="695"/>
                </a:lnTo>
                <a:lnTo>
                  <a:pt x="84" y="668"/>
                </a:lnTo>
                <a:lnTo>
                  <a:pt x="84" y="641"/>
                </a:lnTo>
                <a:lnTo>
                  <a:pt x="84" y="614"/>
                </a:lnTo>
                <a:lnTo>
                  <a:pt x="84" y="589"/>
                </a:lnTo>
                <a:lnTo>
                  <a:pt x="84" y="564"/>
                </a:lnTo>
                <a:lnTo>
                  <a:pt x="86" y="539"/>
                </a:lnTo>
                <a:lnTo>
                  <a:pt x="86" y="516"/>
                </a:lnTo>
                <a:lnTo>
                  <a:pt x="86" y="495"/>
                </a:lnTo>
                <a:lnTo>
                  <a:pt x="86" y="472"/>
                </a:lnTo>
                <a:lnTo>
                  <a:pt x="84" y="451"/>
                </a:lnTo>
                <a:lnTo>
                  <a:pt x="84" y="432"/>
                </a:lnTo>
                <a:lnTo>
                  <a:pt x="84" y="411"/>
                </a:lnTo>
                <a:lnTo>
                  <a:pt x="84" y="393"/>
                </a:lnTo>
                <a:lnTo>
                  <a:pt x="84" y="374"/>
                </a:lnTo>
                <a:lnTo>
                  <a:pt x="82" y="357"/>
                </a:lnTo>
                <a:lnTo>
                  <a:pt x="82" y="342"/>
                </a:lnTo>
                <a:lnTo>
                  <a:pt x="82" y="324"/>
                </a:lnTo>
                <a:lnTo>
                  <a:pt x="80" y="309"/>
                </a:lnTo>
                <a:lnTo>
                  <a:pt x="80" y="295"/>
                </a:lnTo>
                <a:lnTo>
                  <a:pt x="78" y="282"/>
                </a:lnTo>
                <a:lnTo>
                  <a:pt x="78" y="269"/>
                </a:lnTo>
                <a:lnTo>
                  <a:pt x="78" y="257"/>
                </a:lnTo>
                <a:lnTo>
                  <a:pt x="76" y="246"/>
                </a:lnTo>
                <a:lnTo>
                  <a:pt x="76" y="234"/>
                </a:lnTo>
                <a:lnTo>
                  <a:pt x="75" y="224"/>
                </a:lnTo>
                <a:lnTo>
                  <a:pt x="75" y="215"/>
                </a:lnTo>
                <a:lnTo>
                  <a:pt x="73" y="207"/>
                </a:lnTo>
                <a:lnTo>
                  <a:pt x="73" y="198"/>
                </a:lnTo>
                <a:lnTo>
                  <a:pt x="71" y="192"/>
                </a:lnTo>
                <a:lnTo>
                  <a:pt x="71" y="18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1911240" y="3189240"/>
            <a:ext cx="1819440" cy="260280"/>
          </a:xfrm>
          <a:custGeom>
            <a:avLst/>
            <a:gdLst/>
            <a:ahLst/>
            <a:rect l="l" t="t" r="r" b="b"/>
            <a:pathLst>
              <a:path w="2291" h="328">
                <a:moveTo>
                  <a:pt x="1608" y="150"/>
                </a:moveTo>
                <a:lnTo>
                  <a:pt x="1589" y="150"/>
                </a:lnTo>
                <a:lnTo>
                  <a:pt x="1571" y="150"/>
                </a:lnTo>
                <a:lnTo>
                  <a:pt x="1537" y="150"/>
                </a:lnTo>
                <a:lnTo>
                  <a:pt x="1504" y="150"/>
                </a:lnTo>
                <a:lnTo>
                  <a:pt x="1474" y="150"/>
                </a:lnTo>
                <a:lnTo>
                  <a:pt x="1443" y="152"/>
                </a:lnTo>
                <a:lnTo>
                  <a:pt x="1412" y="154"/>
                </a:lnTo>
                <a:lnTo>
                  <a:pt x="1383" y="156"/>
                </a:lnTo>
                <a:lnTo>
                  <a:pt x="1355" y="159"/>
                </a:lnTo>
                <a:lnTo>
                  <a:pt x="1339" y="161"/>
                </a:lnTo>
                <a:lnTo>
                  <a:pt x="1322" y="163"/>
                </a:lnTo>
                <a:lnTo>
                  <a:pt x="1305" y="165"/>
                </a:lnTo>
                <a:lnTo>
                  <a:pt x="1284" y="167"/>
                </a:lnTo>
                <a:lnTo>
                  <a:pt x="1262" y="171"/>
                </a:lnTo>
                <a:lnTo>
                  <a:pt x="1239" y="173"/>
                </a:lnTo>
                <a:lnTo>
                  <a:pt x="1214" y="177"/>
                </a:lnTo>
                <a:lnTo>
                  <a:pt x="1190" y="179"/>
                </a:lnTo>
                <a:lnTo>
                  <a:pt x="1161" y="182"/>
                </a:lnTo>
                <a:lnTo>
                  <a:pt x="1132" y="186"/>
                </a:lnTo>
                <a:lnTo>
                  <a:pt x="1101" y="190"/>
                </a:lnTo>
                <a:lnTo>
                  <a:pt x="1069" y="196"/>
                </a:lnTo>
                <a:lnTo>
                  <a:pt x="1036" y="200"/>
                </a:lnTo>
                <a:lnTo>
                  <a:pt x="1000" y="204"/>
                </a:lnTo>
                <a:lnTo>
                  <a:pt x="963" y="209"/>
                </a:lnTo>
                <a:lnTo>
                  <a:pt x="925" y="215"/>
                </a:lnTo>
                <a:lnTo>
                  <a:pt x="886" y="219"/>
                </a:lnTo>
                <a:lnTo>
                  <a:pt x="848" y="225"/>
                </a:lnTo>
                <a:lnTo>
                  <a:pt x="811" y="230"/>
                </a:lnTo>
                <a:lnTo>
                  <a:pt x="775" y="234"/>
                </a:lnTo>
                <a:lnTo>
                  <a:pt x="740" y="238"/>
                </a:lnTo>
                <a:lnTo>
                  <a:pt x="708" y="244"/>
                </a:lnTo>
                <a:lnTo>
                  <a:pt x="673" y="248"/>
                </a:lnTo>
                <a:lnTo>
                  <a:pt x="643" y="252"/>
                </a:lnTo>
                <a:lnTo>
                  <a:pt x="612" y="255"/>
                </a:lnTo>
                <a:lnTo>
                  <a:pt x="581" y="261"/>
                </a:lnTo>
                <a:lnTo>
                  <a:pt x="552" y="265"/>
                </a:lnTo>
                <a:lnTo>
                  <a:pt x="524" y="269"/>
                </a:lnTo>
                <a:lnTo>
                  <a:pt x="495" y="275"/>
                </a:lnTo>
                <a:lnTo>
                  <a:pt x="468" y="278"/>
                </a:lnTo>
                <a:lnTo>
                  <a:pt x="443" y="284"/>
                </a:lnTo>
                <a:lnTo>
                  <a:pt x="418" y="290"/>
                </a:lnTo>
                <a:lnTo>
                  <a:pt x="391" y="294"/>
                </a:lnTo>
                <a:lnTo>
                  <a:pt x="366" y="300"/>
                </a:lnTo>
                <a:lnTo>
                  <a:pt x="343" y="303"/>
                </a:lnTo>
                <a:lnTo>
                  <a:pt x="322" y="307"/>
                </a:lnTo>
                <a:lnTo>
                  <a:pt x="303" y="311"/>
                </a:lnTo>
                <a:lnTo>
                  <a:pt x="284" y="313"/>
                </a:lnTo>
                <a:lnTo>
                  <a:pt x="268" y="317"/>
                </a:lnTo>
                <a:lnTo>
                  <a:pt x="253" y="319"/>
                </a:lnTo>
                <a:lnTo>
                  <a:pt x="238" y="321"/>
                </a:lnTo>
                <a:lnTo>
                  <a:pt x="226" y="323"/>
                </a:lnTo>
                <a:lnTo>
                  <a:pt x="217" y="325"/>
                </a:lnTo>
                <a:lnTo>
                  <a:pt x="207" y="325"/>
                </a:lnTo>
                <a:lnTo>
                  <a:pt x="199" y="326"/>
                </a:lnTo>
                <a:lnTo>
                  <a:pt x="194" y="326"/>
                </a:lnTo>
                <a:lnTo>
                  <a:pt x="190" y="326"/>
                </a:lnTo>
                <a:lnTo>
                  <a:pt x="186" y="326"/>
                </a:lnTo>
                <a:lnTo>
                  <a:pt x="182" y="328"/>
                </a:lnTo>
                <a:lnTo>
                  <a:pt x="178" y="328"/>
                </a:lnTo>
                <a:lnTo>
                  <a:pt x="172" y="328"/>
                </a:lnTo>
                <a:lnTo>
                  <a:pt x="167" y="328"/>
                </a:lnTo>
                <a:lnTo>
                  <a:pt x="163" y="328"/>
                </a:lnTo>
                <a:lnTo>
                  <a:pt x="157" y="326"/>
                </a:lnTo>
                <a:lnTo>
                  <a:pt x="149" y="325"/>
                </a:lnTo>
                <a:lnTo>
                  <a:pt x="144" y="321"/>
                </a:lnTo>
                <a:lnTo>
                  <a:pt x="136" y="317"/>
                </a:lnTo>
                <a:lnTo>
                  <a:pt x="128" y="313"/>
                </a:lnTo>
                <a:lnTo>
                  <a:pt x="121" y="309"/>
                </a:lnTo>
                <a:lnTo>
                  <a:pt x="113" y="305"/>
                </a:lnTo>
                <a:lnTo>
                  <a:pt x="105" y="300"/>
                </a:lnTo>
                <a:lnTo>
                  <a:pt x="96" y="294"/>
                </a:lnTo>
                <a:lnTo>
                  <a:pt x="86" y="286"/>
                </a:lnTo>
                <a:lnTo>
                  <a:pt x="76" y="280"/>
                </a:lnTo>
                <a:lnTo>
                  <a:pt x="67" y="273"/>
                </a:lnTo>
                <a:lnTo>
                  <a:pt x="57" y="267"/>
                </a:lnTo>
                <a:lnTo>
                  <a:pt x="48" y="259"/>
                </a:lnTo>
                <a:lnTo>
                  <a:pt x="40" y="253"/>
                </a:lnTo>
                <a:lnTo>
                  <a:pt x="34" y="248"/>
                </a:lnTo>
                <a:lnTo>
                  <a:pt x="28" y="242"/>
                </a:lnTo>
                <a:lnTo>
                  <a:pt x="23" y="236"/>
                </a:lnTo>
                <a:lnTo>
                  <a:pt x="17" y="232"/>
                </a:lnTo>
                <a:lnTo>
                  <a:pt x="13" y="227"/>
                </a:lnTo>
                <a:lnTo>
                  <a:pt x="9" y="223"/>
                </a:lnTo>
                <a:lnTo>
                  <a:pt x="5" y="219"/>
                </a:lnTo>
                <a:lnTo>
                  <a:pt x="4" y="215"/>
                </a:lnTo>
                <a:lnTo>
                  <a:pt x="2" y="213"/>
                </a:lnTo>
                <a:lnTo>
                  <a:pt x="0" y="209"/>
                </a:lnTo>
                <a:lnTo>
                  <a:pt x="0" y="207"/>
                </a:lnTo>
                <a:lnTo>
                  <a:pt x="0" y="206"/>
                </a:lnTo>
                <a:lnTo>
                  <a:pt x="0" y="204"/>
                </a:lnTo>
                <a:lnTo>
                  <a:pt x="0" y="202"/>
                </a:lnTo>
                <a:lnTo>
                  <a:pt x="2" y="202"/>
                </a:lnTo>
                <a:lnTo>
                  <a:pt x="5" y="200"/>
                </a:lnTo>
                <a:lnTo>
                  <a:pt x="7" y="200"/>
                </a:lnTo>
                <a:lnTo>
                  <a:pt x="11" y="198"/>
                </a:lnTo>
                <a:lnTo>
                  <a:pt x="17" y="198"/>
                </a:lnTo>
                <a:lnTo>
                  <a:pt x="23" y="198"/>
                </a:lnTo>
                <a:lnTo>
                  <a:pt x="28" y="196"/>
                </a:lnTo>
                <a:lnTo>
                  <a:pt x="34" y="196"/>
                </a:lnTo>
                <a:lnTo>
                  <a:pt x="42" y="196"/>
                </a:lnTo>
                <a:lnTo>
                  <a:pt x="50" y="196"/>
                </a:lnTo>
                <a:lnTo>
                  <a:pt x="59" y="196"/>
                </a:lnTo>
                <a:lnTo>
                  <a:pt x="67" y="196"/>
                </a:lnTo>
                <a:lnTo>
                  <a:pt x="76" y="196"/>
                </a:lnTo>
                <a:lnTo>
                  <a:pt x="88" y="196"/>
                </a:lnTo>
                <a:lnTo>
                  <a:pt x="128" y="196"/>
                </a:lnTo>
                <a:lnTo>
                  <a:pt x="170" y="194"/>
                </a:lnTo>
                <a:lnTo>
                  <a:pt x="190" y="194"/>
                </a:lnTo>
                <a:lnTo>
                  <a:pt x="211" y="192"/>
                </a:lnTo>
                <a:lnTo>
                  <a:pt x="232" y="190"/>
                </a:lnTo>
                <a:lnTo>
                  <a:pt x="253" y="186"/>
                </a:lnTo>
                <a:lnTo>
                  <a:pt x="261" y="184"/>
                </a:lnTo>
                <a:lnTo>
                  <a:pt x="272" y="182"/>
                </a:lnTo>
                <a:lnTo>
                  <a:pt x="284" y="181"/>
                </a:lnTo>
                <a:lnTo>
                  <a:pt x="297" y="179"/>
                </a:lnTo>
                <a:lnTo>
                  <a:pt x="312" y="177"/>
                </a:lnTo>
                <a:lnTo>
                  <a:pt x="330" y="175"/>
                </a:lnTo>
                <a:lnTo>
                  <a:pt x="349" y="173"/>
                </a:lnTo>
                <a:lnTo>
                  <a:pt x="368" y="171"/>
                </a:lnTo>
                <a:lnTo>
                  <a:pt x="389" y="169"/>
                </a:lnTo>
                <a:lnTo>
                  <a:pt x="412" y="167"/>
                </a:lnTo>
                <a:lnTo>
                  <a:pt x="437" y="165"/>
                </a:lnTo>
                <a:lnTo>
                  <a:pt x="462" y="161"/>
                </a:lnTo>
                <a:lnTo>
                  <a:pt x="491" y="159"/>
                </a:lnTo>
                <a:lnTo>
                  <a:pt x="520" y="156"/>
                </a:lnTo>
                <a:lnTo>
                  <a:pt x="550" y="154"/>
                </a:lnTo>
                <a:lnTo>
                  <a:pt x="583" y="150"/>
                </a:lnTo>
                <a:lnTo>
                  <a:pt x="618" y="146"/>
                </a:lnTo>
                <a:lnTo>
                  <a:pt x="652" y="142"/>
                </a:lnTo>
                <a:lnTo>
                  <a:pt x="691" y="138"/>
                </a:lnTo>
                <a:lnTo>
                  <a:pt x="729" y="133"/>
                </a:lnTo>
                <a:lnTo>
                  <a:pt x="771" y="129"/>
                </a:lnTo>
                <a:lnTo>
                  <a:pt x="813" y="125"/>
                </a:lnTo>
                <a:lnTo>
                  <a:pt x="858" y="119"/>
                </a:lnTo>
                <a:lnTo>
                  <a:pt x="904" y="113"/>
                </a:lnTo>
                <a:lnTo>
                  <a:pt x="952" y="108"/>
                </a:lnTo>
                <a:lnTo>
                  <a:pt x="1001" y="102"/>
                </a:lnTo>
                <a:lnTo>
                  <a:pt x="1053" y="94"/>
                </a:lnTo>
                <a:lnTo>
                  <a:pt x="1105" y="88"/>
                </a:lnTo>
                <a:lnTo>
                  <a:pt x="1159" y="81"/>
                </a:lnTo>
                <a:lnTo>
                  <a:pt x="1214" y="73"/>
                </a:lnTo>
                <a:lnTo>
                  <a:pt x="1272" y="65"/>
                </a:lnTo>
                <a:lnTo>
                  <a:pt x="1332" y="56"/>
                </a:lnTo>
                <a:lnTo>
                  <a:pt x="1362" y="52"/>
                </a:lnTo>
                <a:lnTo>
                  <a:pt x="1391" y="50"/>
                </a:lnTo>
                <a:lnTo>
                  <a:pt x="1420" y="46"/>
                </a:lnTo>
                <a:lnTo>
                  <a:pt x="1447" y="42"/>
                </a:lnTo>
                <a:lnTo>
                  <a:pt x="1474" y="40"/>
                </a:lnTo>
                <a:lnTo>
                  <a:pt x="1500" y="37"/>
                </a:lnTo>
                <a:lnTo>
                  <a:pt x="1525" y="35"/>
                </a:lnTo>
                <a:lnTo>
                  <a:pt x="1550" y="31"/>
                </a:lnTo>
                <a:lnTo>
                  <a:pt x="1575" y="29"/>
                </a:lnTo>
                <a:lnTo>
                  <a:pt x="1598" y="27"/>
                </a:lnTo>
                <a:lnTo>
                  <a:pt x="1621" y="23"/>
                </a:lnTo>
                <a:lnTo>
                  <a:pt x="1644" y="21"/>
                </a:lnTo>
                <a:lnTo>
                  <a:pt x="1665" y="19"/>
                </a:lnTo>
                <a:lnTo>
                  <a:pt x="1687" y="17"/>
                </a:lnTo>
                <a:lnTo>
                  <a:pt x="1708" y="15"/>
                </a:lnTo>
                <a:lnTo>
                  <a:pt x="1727" y="14"/>
                </a:lnTo>
                <a:lnTo>
                  <a:pt x="1746" y="12"/>
                </a:lnTo>
                <a:lnTo>
                  <a:pt x="1765" y="10"/>
                </a:lnTo>
                <a:lnTo>
                  <a:pt x="1782" y="10"/>
                </a:lnTo>
                <a:lnTo>
                  <a:pt x="1800" y="8"/>
                </a:lnTo>
                <a:lnTo>
                  <a:pt x="1815" y="6"/>
                </a:lnTo>
                <a:lnTo>
                  <a:pt x="1830" y="6"/>
                </a:lnTo>
                <a:lnTo>
                  <a:pt x="1846" y="4"/>
                </a:lnTo>
                <a:lnTo>
                  <a:pt x="1861" y="4"/>
                </a:lnTo>
                <a:lnTo>
                  <a:pt x="1875" y="2"/>
                </a:lnTo>
                <a:lnTo>
                  <a:pt x="1886" y="2"/>
                </a:lnTo>
                <a:lnTo>
                  <a:pt x="1900" y="2"/>
                </a:lnTo>
                <a:lnTo>
                  <a:pt x="1911" y="0"/>
                </a:lnTo>
                <a:lnTo>
                  <a:pt x="1921" y="0"/>
                </a:lnTo>
                <a:lnTo>
                  <a:pt x="1930" y="0"/>
                </a:lnTo>
                <a:lnTo>
                  <a:pt x="1940" y="0"/>
                </a:lnTo>
                <a:lnTo>
                  <a:pt x="1949" y="0"/>
                </a:lnTo>
                <a:lnTo>
                  <a:pt x="1982" y="0"/>
                </a:lnTo>
                <a:lnTo>
                  <a:pt x="2013" y="4"/>
                </a:lnTo>
                <a:lnTo>
                  <a:pt x="2043" y="8"/>
                </a:lnTo>
                <a:lnTo>
                  <a:pt x="2074" y="14"/>
                </a:lnTo>
                <a:lnTo>
                  <a:pt x="2105" y="19"/>
                </a:lnTo>
                <a:lnTo>
                  <a:pt x="2134" y="27"/>
                </a:lnTo>
                <a:lnTo>
                  <a:pt x="2162" y="37"/>
                </a:lnTo>
                <a:lnTo>
                  <a:pt x="2191" y="46"/>
                </a:lnTo>
                <a:lnTo>
                  <a:pt x="2203" y="54"/>
                </a:lnTo>
                <a:lnTo>
                  <a:pt x="2214" y="60"/>
                </a:lnTo>
                <a:lnTo>
                  <a:pt x="2226" y="67"/>
                </a:lnTo>
                <a:lnTo>
                  <a:pt x="2235" y="73"/>
                </a:lnTo>
                <a:lnTo>
                  <a:pt x="2243" y="79"/>
                </a:lnTo>
                <a:lnTo>
                  <a:pt x="2253" y="85"/>
                </a:lnTo>
                <a:lnTo>
                  <a:pt x="2258" y="90"/>
                </a:lnTo>
                <a:lnTo>
                  <a:pt x="2266" y="94"/>
                </a:lnTo>
                <a:lnTo>
                  <a:pt x="2272" y="100"/>
                </a:lnTo>
                <a:lnTo>
                  <a:pt x="2276" y="104"/>
                </a:lnTo>
                <a:lnTo>
                  <a:pt x="2281" y="108"/>
                </a:lnTo>
                <a:lnTo>
                  <a:pt x="2285" y="111"/>
                </a:lnTo>
                <a:lnTo>
                  <a:pt x="2287" y="113"/>
                </a:lnTo>
                <a:lnTo>
                  <a:pt x="2289" y="117"/>
                </a:lnTo>
                <a:lnTo>
                  <a:pt x="2291" y="119"/>
                </a:lnTo>
                <a:lnTo>
                  <a:pt x="2291" y="121"/>
                </a:lnTo>
                <a:lnTo>
                  <a:pt x="2289" y="129"/>
                </a:lnTo>
                <a:lnTo>
                  <a:pt x="2289" y="134"/>
                </a:lnTo>
                <a:lnTo>
                  <a:pt x="2285" y="138"/>
                </a:lnTo>
                <a:lnTo>
                  <a:pt x="2281" y="144"/>
                </a:lnTo>
                <a:lnTo>
                  <a:pt x="2276" y="148"/>
                </a:lnTo>
                <a:lnTo>
                  <a:pt x="2268" y="152"/>
                </a:lnTo>
                <a:lnTo>
                  <a:pt x="2262" y="154"/>
                </a:lnTo>
                <a:lnTo>
                  <a:pt x="2258" y="156"/>
                </a:lnTo>
                <a:lnTo>
                  <a:pt x="2253" y="158"/>
                </a:lnTo>
                <a:lnTo>
                  <a:pt x="2247" y="159"/>
                </a:lnTo>
                <a:lnTo>
                  <a:pt x="2239" y="161"/>
                </a:lnTo>
                <a:lnTo>
                  <a:pt x="2232" y="161"/>
                </a:lnTo>
                <a:lnTo>
                  <a:pt x="2222" y="163"/>
                </a:lnTo>
                <a:lnTo>
                  <a:pt x="2212" y="163"/>
                </a:lnTo>
                <a:lnTo>
                  <a:pt x="2199" y="165"/>
                </a:lnTo>
                <a:lnTo>
                  <a:pt x="2186" y="165"/>
                </a:lnTo>
                <a:lnTo>
                  <a:pt x="2172" y="165"/>
                </a:lnTo>
                <a:lnTo>
                  <a:pt x="2155" y="165"/>
                </a:lnTo>
                <a:lnTo>
                  <a:pt x="2139" y="165"/>
                </a:lnTo>
                <a:lnTo>
                  <a:pt x="2120" y="165"/>
                </a:lnTo>
                <a:lnTo>
                  <a:pt x="2101" y="165"/>
                </a:lnTo>
                <a:lnTo>
                  <a:pt x="2080" y="163"/>
                </a:lnTo>
                <a:lnTo>
                  <a:pt x="2057" y="163"/>
                </a:lnTo>
                <a:lnTo>
                  <a:pt x="2034" y="161"/>
                </a:lnTo>
                <a:lnTo>
                  <a:pt x="2009" y="161"/>
                </a:lnTo>
                <a:lnTo>
                  <a:pt x="1982" y="159"/>
                </a:lnTo>
                <a:lnTo>
                  <a:pt x="1928" y="156"/>
                </a:lnTo>
                <a:lnTo>
                  <a:pt x="1877" y="152"/>
                </a:lnTo>
                <a:lnTo>
                  <a:pt x="1827" y="150"/>
                </a:lnTo>
                <a:lnTo>
                  <a:pt x="1802" y="148"/>
                </a:lnTo>
                <a:lnTo>
                  <a:pt x="1779" y="146"/>
                </a:lnTo>
                <a:lnTo>
                  <a:pt x="1756" y="146"/>
                </a:lnTo>
                <a:lnTo>
                  <a:pt x="1733" y="146"/>
                </a:lnTo>
                <a:lnTo>
                  <a:pt x="1710" y="146"/>
                </a:lnTo>
                <a:lnTo>
                  <a:pt x="1688" y="146"/>
                </a:lnTo>
                <a:lnTo>
                  <a:pt x="1667" y="146"/>
                </a:lnTo>
                <a:lnTo>
                  <a:pt x="1646" y="146"/>
                </a:lnTo>
                <a:lnTo>
                  <a:pt x="1627" y="148"/>
                </a:lnTo>
                <a:lnTo>
                  <a:pt x="1608" y="15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334120" y="1905120"/>
            <a:ext cx="3276360" cy="916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09480" y="4876920"/>
            <a:ext cx="807732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夜里，狼从窟窿钻进去，把那只羊叼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184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5"/>
          <p:cNvSpPr/>
          <p:nvPr/>
        </p:nvSpPr>
        <p:spPr>
          <a:xfrm>
            <a:off x="1905120" y="2209680"/>
            <a:ext cx="184464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905120" y="2286000"/>
            <a:ext cx="18428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1909800" y="2290680"/>
            <a:ext cx="1819080" cy="1817640"/>
          </a:xfrm>
          <a:custGeom>
            <a:avLst/>
            <a:gdLst/>
            <a:ahLst/>
            <a:rect l="l" t="t" r="r" b="b"/>
            <a:pathLst>
              <a:path w="2291" h="2289">
                <a:moveTo>
                  <a:pt x="100" y="819"/>
                </a:moveTo>
                <a:lnTo>
                  <a:pt x="96" y="790"/>
                </a:lnTo>
                <a:lnTo>
                  <a:pt x="92" y="762"/>
                </a:lnTo>
                <a:lnTo>
                  <a:pt x="88" y="737"/>
                </a:lnTo>
                <a:lnTo>
                  <a:pt x="82" y="712"/>
                </a:lnTo>
                <a:lnTo>
                  <a:pt x="78" y="689"/>
                </a:lnTo>
                <a:lnTo>
                  <a:pt x="75" y="666"/>
                </a:lnTo>
                <a:lnTo>
                  <a:pt x="71" y="645"/>
                </a:lnTo>
                <a:lnTo>
                  <a:pt x="67" y="625"/>
                </a:lnTo>
                <a:lnTo>
                  <a:pt x="61" y="606"/>
                </a:lnTo>
                <a:lnTo>
                  <a:pt x="57" y="591"/>
                </a:lnTo>
                <a:lnTo>
                  <a:pt x="53" y="575"/>
                </a:lnTo>
                <a:lnTo>
                  <a:pt x="50" y="560"/>
                </a:lnTo>
                <a:lnTo>
                  <a:pt x="46" y="549"/>
                </a:lnTo>
                <a:lnTo>
                  <a:pt x="40" y="537"/>
                </a:lnTo>
                <a:lnTo>
                  <a:pt x="36" y="527"/>
                </a:lnTo>
                <a:lnTo>
                  <a:pt x="32" y="520"/>
                </a:lnTo>
                <a:lnTo>
                  <a:pt x="25" y="504"/>
                </a:lnTo>
                <a:lnTo>
                  <a:pt x="17" y="493"/>
                </a:lnTo>
                <a:lnTo>
                  <a:pt x="11" y="479"/>
                </a:lnTo>
                <a:lnTo>
                  <a:pt x="7" y="468"/>
                </a:lnTo>
                <a:lnTo>
                  <a:pt x="4" y="458"/>
                </a:lnTo>
                <a:lnTo>
                  <a:pt x="2" y="449"/>
                </a:lnTo>
                <a:lnTo>
                  <a:pt x="0" y="437"/>
                </a:lnTo>
                <a:lnTo>
                  <a:pt x="0" y="428"/>
                </a:lnTo>
                <a:lnTo>
                  <a:pt x="0" y="424"/>
                </a:lnTo>
                <a:lnTo>
                  <a:pt x="2" y="418"/>
                </a:lnTo>
                <a:lnTo>
                  <a:pt x="4" y="414"/>
                </a:lnTo>
                <a:lnTo>
                  <a:pt x="7" y="408"/>
                </a:lnTo>
                <a:lnTo>
                  <a:pt x="11" y="405"/>
                </a:lnTo>
                <a:lnTo>
                  <a:pt x="17" y="399"/>
                </a:lnTo>
                <a:lnTo>
                  <a:pt x="25" y="395"/>
                </a:lnTo>
                <a:lnTo>
                  <a:pt x="32" y="389"/>
                </a:lnTo>
                <a:lnTo>
                  <a:pt x="34" y="389"/>
                </a:lnTo>
                <a:lnTo>
                  <a:pt x="40" y="391"/>
                </a:lnTo>
                <a:lnTo>
                  <a:pt x="44" y="391"/>
                </a:lnTo>
                <a:lnTo>
                  <a:pt x="52" y="393"/>
                </a:lnTo>
                <a:lnTo>
                  <a:pt x="59" y="397"/>
                </a:lnTo>
                <a:lnTo>
                  <a:pt x="69" y="401"/>
                </a:lnTo>
                <a:lnTo>
                  <a:pt x="78" y="405"/>
                </a:lnTo>
                <a:lnTo>
                  <a:pt x="92" y="408"/>
                </a:lnTo>
                <a:lnTo>
                  <a:pt x="105" y="414"/>
                </a:lnTo>
                <a:lnTo>
                  <a:pt x="119" y="420"/>
                </a:lnTo>
                <a:lnTo>
                  <a:pt x="134" y="426"/>
                </a:lnTo>
                <a:lnTo>
                  <a:pt x="151" y="433"/>
                </a:lnTo>
                <a:lnTo>
                  <a:pt x="171" y="441"/>
                </a:lnTo>
                <a:lnTo>
                  <a:pt x="190" y="449"/>
                </a:lnTo>
                <a:lnTo>
                  <a:pt x="211" y="458"/>
                </a:lnTo>
                <a:lnTo>
                  <a:pt x="234" y="468"/>
                </a:lnTo>
                <a:lnTo>
                  <a:pt x="242" y="547"/>
                </a:lnTo>
                <a:lnTo>
                  <a:pt x="251" y="625"/>
                </a:lnTo>
                <a:lnTo>
                  <a:pt x="259" y="708"/>
                </a:lnTo>
                <a:lnTo>
                  <a:pt x="266" y="790"/>
                </a:lnTo>
                <a:lnTo>
                  <a:pt x="272" y="833"/>
                </a:lnTo>
                <a:lnTo>
                  <a:pt x="276" y="877"/>
                </a:lnTo>
                <a:lnTo>
                  <a:pt x="280" y="919"/>
                </a:lnTo>
                <a:lnTo>
                  <a:pt x="284" y="963"/>
                </a:lnTo>
                <a:lnTo>
                  <a:pt x="288" y="1007"/>
                </a:lnTo>
                <a:lnTo>
                  <a:pt x="293" y="1051"/>
                </a:lnTo>
                <a:lnTo>
                  <a:pt x="297" y="1097"/>
                </a:lnTo>
                <a:lnTo>
                  <a:pt x="301" y="1143"/>
                </a:lnTo>
                <a:lnTo>
                  <a:pt x="303" y="1166"/>
                </a:lnTo>
                <a:lnTo>
                  <a:pt x="305" y="1190"/>
                </a:lnTo>
                <a:lnTo>
                  <a:pt x="307" y="1211"/>
                </a:lnTo>
                <a:lnTo>
                  <a:pt x="309" y="1232"/>
                </a:lnTo>
                <a:lnTo>
                  <a:pt x="311" y="1251"/>
                </a:lnTo>
                <a:lnTo>
                  <a:pt x="313" y="1270"/>
                </a:lnTo>
                <a:lnTo>
                  <a:pt x="314" y="1289"/>
                </a:lnTo>
                <a:lnTo>
                  <a:pt x="314" y="1308"/>
                </a:lnTo>
                <a:lnTo>
                  <a:pt x="316" y="1326"/>
                </a:lnTo>
                <a:lnTo>
                  <a:pt x="318" y="1341"/>
                </a:lnTo>
                <a:lnTo>
                  <a:pt x="320" y="1358"/>
                </a:lnTo>
                <a:lnTo>
                  <a:pt x="320" y="1374"/>
                </a:lnTo>
                <a:lnTo>
                  <a:pt x="322" y="1389"/>
                </a:lnTo>
                <a:lnTo>
                  <a:pt x="324" y="1403"/>
                </a:lnTo>
                <a:lnTo>
                  <a:pt x="324" y="1416"/>
                </a:lnTo>
                <a:lnTo>
                  <a:pt x="326" y="1429"/>
                </a:lnTo>
                <a:lnTo>
                  <a:pt x="326" y="1443"/>
                </a:lnTo>
                <a:lnTo>
                  <a:pt x="328" y="1454"/>
                </a:lnTo>
                <a:lnTo>
                  <a:pt x="328" y="1466"/>
                </a:lnTo>
                <a:lnTo>
                  <a:pt x="330" y="1477"/>
                </a:lnTo>
                <a:lnTo>
                  <a:pt x="330" y="1487"/>
                </a:lnTo>
                <a:lnTo>
                  <a:pt x="332" y="1497"/>
                </a:lnTo>
                <a:lnTo>
                  <a:pt x="332" y="1504"/>
                </a:lnTo>
                <a:lnTo>
                  <a:pt x="332" y="1514"/>
                </a:lnTo>
                <a:lnTo>
                  <a:pt x="334" y="1521"/>
                </a:lnTo>
                <a:lnTo>
                  <a:pt x="334" y="1529"/>
                </a:lnTo>
                <a:lnTo>
                  <a:pt x="334" y="1535"/>
                </a:lnTo>
                <a:lnTo>
                  <a:pt x="334" y="1541"/>
                </a:lnTo>
                <a:lnTo>
                  <a:pt x="334" y="1546"/>
                </a:lnTo>
                <a:lnTo>
                  <a:pt x="334" y="1552"/>
                </a:lnTo>
                <a:lnTo>
                  <a:pt x="334" y="1556"/>
                </a:lnTo>
                <a:lnTo>
                  <a:pt x="334" y="1560"/>
                </a:lnTo>
                <a:lnTo>
                  <a:pt x="332" y="1568"/>
                </a:lnTo>
                <a:lnTo>
                  <a:pt x="330" y="1573"/>
                </a:lnTo>
                <a:lnTo>
                  <a:pt x="328" y="1579"/>
                </a:lnTo>
                <a:lnTo>
                  <a:pt x="326" y="1585"/>
                </a:lnTo>
                <a:lnTo>
                  <a:pt x="324" y="1589"/>
                </a:lnTo>
                <a:lnTo>
                  <a:pt x="322" y="1594"/>
                </a:lnTo>
                <a:lnTo>
                  <a:pt x="318" y="1598"/>
                </a:lnTo>
                <a:lnTo>
                  <a:pt x="316" y="1600"/>
                </a:lnTo>
                <a:lnTo>
                  <a:pt x="311" y="1606"/>
                </a:lnTo>
                <a:lnTo>
                  <a:pt x="305" y="1610"/>
                </a:lnTo>
                <a:lnTo>
                  <a:pt x="297" y="1612"/>
                </a:lnTo>
                <a:lnTo>
                  <a:pt x="290" y="1612"/>
                </a:lnTo>
                <a:lnTo>
                  <a:pt x="284" y="1612"/>
                </a:lnTo>
                <a:lnTo>
                  <a:pt x="278" y="1610"/>
                </a:lnTo>
                <a:lnTo>
                  <a:pt x="272" y="1606"/>
                </a:lnTo>
                <a:lnTo>
                  <a:pt x="266" y="1602"/>
                </a:lnTo>
                <a:lnTo>
                  <a:pt x="261" y="1596"/>
                </a:lnTo>
                <a:lnTo>
                  <a:pt x="257" y="1591"/>
                </a:lnTo>
                <a:lnTo>
                  <a:pt x="251" y="1583"/>
                </a:lnTo>
                <a:lnTo>
                  <a:pt x="247" y="1573"/>
                </a:lnTo>
                <a:lnTo>
                  <a:pt x="243" y="1564"/>
                </a:lnTo>
                <a:lnTo>
                  <a:pt x="240" y="1550"/>
                </a:lnTo>
                <a:lnTo>
                  <a:pt x="236" y="1539"/>
                </a:lnTo>
                <a:lnTo>
                  <a:pt x="232" y="1523"/>
                </a:lnTo>
                <a:lnTo>
                  <a:pt x="230" y="1510"/>
                </a:lnTo>
                <a:lnTo>
                  <a:pt x="226" y="1493"/>
                </a:lnTo>
                <a:lnTo>
                  <a:pt x="224" y="1475"/>
                </a:lnTo>
                <a:lnTo>
                  <a:pt x="222" y="1456"/>
                </a:lnTo>
                <a:lnTo>
                  <a:pt x="215" y="1418"/>
                </a:lnTo>
                <a:lnTo>
                  <a:pt x="205" y="1379"/>
                </a:lnTo>
                <a:lnTo>
                  <a:pt x="197" y="1343"/>
                </a:lnTo>
                <a:lnTo>
                  <a:pt x="190" y="1308"/>
                </a:lnTo>
                <a:lnTo>
                  <a:pt x="184" y="1272"/>
                </a:lnTo>
                <a:lnTo>
                  <a:pt x="176" y="1237"/>
                </a:lnTo>
                <a:lnTo>
                  <a:pt x="171" y="1205"/>
                </a:lnTo>
                <a:lnTo>
                  <a:pt x="167" y="1170"/>
                </a:lnTo>
                <a:lnTo>
                  <a:pt x="165" y="1153"/>
                </a:lnTo>
                <a:lnTo>
                  <a:pt x="161" y="1134"/>
                </a:lnTo>
                <a:lnTo>
                  <a:pt x="159" y="1117"/>
                </a:lnTo>
                <a:lnTo>
                  <a:pt x="155" y="1097"/>
                </a:lnTo>
                <a:lnTo>
                  <a:pt x="153" y="1076"/>
                </a:lnTo>
                <a:lnTo>
                  <a:pt x="149" y="1057"/>
                </a:lnTo>
                <a:lnTo>
                  <a:pt x="146" y="1036"/>
                </a:lnTo>
                <a:lnTo>
                  <a:pt x="142" y="1013"/>
                </a:lnTo>
                <a:lnTo>
                  <a:pt x="138" y="992"/>
                </a:lnTo>
                <a:lnTo>
                  <a:pt x="132" y="969"/>
                </a:lnTo>
                <a:lnTo>
                  <a:pt x="128" y="946"/>
                </a:lnTo>
                <a:lnTo>
                  <a:pt x="123" y="921"/>
                </a:lnTo>
                <a:lnTo>
                  <a:pt x="117" y="896"/>
                </a:lnTo>
                <a:lnTo>
                  <a:pt x="111" y="871"/>
                </a:lnTo>
                <a:lnTo>
                  <a:pt x="105" y="844"/>
                </a:lnTo>
                <a:lnTo>
                  <a:pt x="100" y="819"/>
                </a:lnTo>
                <a:close/>
                <a:moveTo>
                  <a:pt x="804" y="714"/>
                </a:moveTo>
                <a:lnTo>
                  <a:pt x="800" y="733"/>
                </a:lnTo>
                <a:lnTo>
                  <a:pt x="796" y="750"/>
                </a:lnTo>
                <a:lnTo>
                  <a:pt x="792" y="769"/>
                </a:lnTo>
                <a:lnTo>
                  <a:pt x="788" y="790"/>
                </a:lnTo>
                <a:lnTo>
                  <a:pt x="787" y="811"/>
                </a:lnTo>
                <a:lnTo>
                  <a:pt x="783" y="833"/>
                </a:lnTo>
                <a:lnTo>
                  <a:pt x="781" y="856"/>
                </a:lnTo>
                <a:lnTo>
                  <a:pt x="779" y="881"/>
                </a:lnTo>
                <a:lnTo>
                  <a:pt x="777" y="905"/>
                </a:lnTo>
                <a:lnTo>
                  <a:pt x="775" y="930"/>
                </a:lnTo>
                <a:lnTo>
                  <a:pt x="773" y="957"/>
                </a:lnTo>
                <a:lnTo>
                  <a:pt x="773" y="986"/>
                </a:lnTo>
                <a:lnTo>
                  <a:pt x="771" y="1013"/>
                </a:lnTo>
                <a:lnTo>
                  <a:pt x="771" y="1044"/>
                </a:lnTo>
                <a:lnTo>
                  <a:pt x="771" y="1074"/>
                </a:lnTo>
                <a:lnTo>
                  <a:pt x="771" y="1105"/>
                </a:lnTo>
                <a:lnTo>
                  <a:pt x="637" y="1105"/>
                </a:lnTo>
                <a:lnTo>
                  <a:pt x="637" y="1088"/>
                </a:lnTo>
                <a:lnTo>
                  <a:pt x="637" y="1069"/>
                </a:lnTo>
                <a:lnTo>
                  <a:pt x="637" y="1051"/>
                </a:lnTo>
                <a:lnTo>
                  <a:pt x="639" y="1032"/>
                </a:lnTo>
                <a:lnTo>
                  <a:pt x="639" y="1011"/>
                </a:lnTo>
                <a:lnTo>
                  <a:pt x="641" y="992"/>
                </a:lnTo>
                <a:lnTo>
                  <a:pt x="643" y="971"/>
                </a:lnTo>
                <a:lnTo>
                  <a:pt x="643" y="950"/>
                </a:lnTo>
                <a:lnTo>
                  <a:pt x="645" y="927"/>
                </a:lnTo>
                <a:lnTo>
                  <a:pt x="646" y="904"/>
                </a:lnTo>
                <a:lnTo>
                  <a:pt x="648" y="881"/>
                </a:lnTo>
                <a:lnTo>
                  <a:pt x="650" y="856"/>
                </a:lnTo>
                <a:lnTo>
                  <a:pt x="652" y="831"/>
                </a:lnTo>
                <a:lnTo>
                  <a:pt x="654" y="806"/>
                </a:lnTo>
                <a:lnTo>
                  <a:pt x="656" y="781"/>
                </a:lnTo>
                <a:lnTo>
                  <a:pt x="658" y="754"/>
                </a:lnTo>
                <a:lnTo>
                  <a:pt x="660" y="727"/>
                </a:lnTo>
                <a:lnTo>
                  <a:pt x="662" y="702"/>
                </a:lnTo>
                <a:lnTo>
                  <a:pt x="662" y="679"/>
                </a:lnTo>
                <a:lnTo>
                  <a:pt x="662" y="658"/>
                </a:lnTo>
                <a:lnTo>
                  <a:pt x="662" y="639"/>
                </a:lnTo>
                <a:lnTo>
                  <a:pt x="662" y="620"/>
                </a:lnTo>
                <a:lnTo>
                  <a:pt x="662" y="602"/>
                </a:lnTo>
                <a:lnTo>
                  <a:pt x="660" y="587"/>
                </a:lnTo>
                <a:lnTo>
                  <a:pt x="658" y="572"/>
                </a:lnTo>
                <a:lnTo>
                  <a:pt x="656" y="558"/>
                </a:lnTo>
                <a:lnTo>
                  <a:pt x="654" y="547"/>
                </a:lnTo>
                <a:lnTo>
                  <a:pt x="650" y="535"/>
                </a:lnTo>
                <a:lnTo>
                  <a:pt x="646" y="527"/>
                </a:lnTo>
                <a:lnTo>
                  <a:pt x="645" y="518"/>
                </a:lnTo>
                <a:lnTo>
                  <a:pt x="641" y="512"/>
                </a:lnTo>
                <a:lnTo>
                  <a:pt x="637" y="506"/>
                </a:lnTo>
                <a:lnTo>
                  <a:pt x="633" y="504"/>
                </a:lnTo>
                <a:lnTo>
                  <a:pt x="631" y="504"/>
                </a:lnTo>
                <a:lnTo>
                  <a:pt x="625" y="504"/>
                </a:lnTo>
                <a:lnTo>
                  <a:pt x="622" y="503"/>
                </a:lnTo>
                <a:lnTo>
                  <a:pt x="616" y="503"/>
                </a:lnTo>
                <a:lnTo>
                  <a:pt x="608" y="503"/>
                </a:lnTo>
                <a:lnTo>
                  <a:pt x="600" y="503"/>
                </a:lnTo>
                <a:lnTo>
                  <a:pt x="593" y="504"/>
                </a:lnTo>
                <a:lnTo>
                  <a:pt x="583" y="504"/>
                </a:lnTo>
                <a:lnTo>
                  <a:pt x="574" y="506"/>
                </a:lnTo>
                <a:lnTo>
                  <a:pt x="562" y="508"/>
                </a:lnTo>
                <a:lnTo>
                  <a:pt x="551" y="508"/>
                </a:lnTo>
                <a:lnTo>
                  <a:pt x="537" y="510"/>
                </a:lnTo>
                <a:lnTo>
                  <a:pt x="524" y="514"/>
                </a:lnTo>
                <a:lnTo>
                  <a:pt x="510" y="516"/>
                </a:lnTo>
                <a:lnTo>
                  <a:pt x="495" y="518"/>
                </a:lnTo>
                <a:lnTo>
                  <a:pt x="480" y="522"/>
                </a:lnTo>
                <a:lnTo>
                  <a:pt x="462" y="526"/>
                </a:lnTo>
                <a:lnTo>
                  <a:pt x="445" y="529"/>
                </a:lnTo>
                <a:lnTo>
                  <a:pt x="426" y="533"/>
                </a:lnTo>
                <a:lnTo>
                  <a:pt x="407" y="537"/>
                </a:lnTo>
                <a:lnTo>
                  <a:pt x="387" y="543"/>
                </a:lnTo>
                <a:lnTo>
                  <a:pt x="366" y="549"/>
                </a:lnTo>
                <a:lnTo>
                  <a:pt x="345" y="552"/>
                </a:lnTo>
                <a:lnTo>
                  <a:pt x="322" y="558"/>
                </a:lnTo>
                <a:lnTo>
                  <a:pt x="299" y="566"/>
                </a:lnTo>
                <a:lnTo>
                  <a:pt x="276" y="572"/>
                </a:lnTo>
                <a:lnTo>
                  <a:pt x="251" y="579"/>
                </a:lnTo>
                <a:lnTo>
                  <a:pt x="226" y="587"/>
                </a:lnTo>
                <a:lnTo>
                  <a:pt x="199" y="595"/>
                </a:lnTo>
                <a:lnTo>
                  <a:pt x="172" y="602"/>
                </a:lnTo>
                <a:lnTo>
                  <a:pt x="144" y="610"/>
                </a:lnTo>
                <a:lnTo>
                  <a:pt x="128" y="545"/>
                </a:lnTo>
                <a:lnTo>
                  <a:pt x="111" y="479"/>
                </a:lnTo>
                <a:lnTo>
                  <a:pt x="138" y="474"/>
                </a:lnTo>
                <a:lnTo>
                  <a:pt x="165" y="468"/>
                </a:lnTo>
                <a:lnTo>
                  <a:pt x="192" y="462"/>
                </a:lnTo>
                <a:lnTo>
                  <a:pt x="217" y="456"/>
                </a:lnTo>
                <a:lnTo>
                  <a:pt x="242" y="451"/>
                </a:lnTo>
                <a:lnTo>
                  <a:pt x="266" y="445"/>
                </a:lnTo>
                <a:lnTo>
                  <a:pt x="290" y="439"/>
                </a:lnTo>
                <a:lnTo>
                  <a:pt x="313" y="433"/>
                </a:lnTo>
                <a:lnTo>
                  <a:pt x="334" y="428"/>
                </a:lnTo>
                <a:lnTo>
                  <a:pt x="355" y="422"/>
                </a:lnTo>
                <a:lnTo>
                  <a:pt x="374" y="418"/>
                </a:lnTo>
                <a:lnTo>
                  <a:pt x="393" y="412"/>
                </a:lnTo>
                <a:lnTo>
                  <a:pt x="412" y="407"/>
                </a:lnTo>
                <a:lnTo>
                  <a:pt x="430" y="403"/>
                </a:lnTo>
                <a:lnTo>
                  <a:pt x="447" y="397"/>
                </a:lnTo>
                <a:lnTo>
                  <a:pt x="462" y="391"/>
                </a:lnTo>
                <a:lnTo>
                  <a:pt x="478" y="387"/>
                </a:lnTo>
                <a:lnTo>
                  <a:pt x="493" y="382"/>
                </a:lnTo>
                <a:lnTo>
                  <a:pt x="506" y="378"/>
                </a:lnTo>
                <a:lnTo>
                  <a:pt x="520" y="374"/>
                </a:lnTo>
                <a:lnTo>
                  <a:pt x="531" y="368"/>
                </a:lnTo>
                <a:lnTo>
                  <a:pt x="543" y="364"/>
                </a:lnTo>
                <a:lnTo>
                  <a:pt x="554" y="361"/>
                </a:lnTo>
                <a:lnTo>
                  <a:pt x="564" y="357"/>
                </a:lnTo>
                <a:lnTo>
                  <a:pt x="574" y="351"/>
                </a:lnTo>
                <a:lnTo>
                  <a:pt x="581" y="347"/>
                </a:lnTo>
                <a:lnTo>
                  <a:pt x="589" y="343"/>
                </a:lnTo>
                <a:lnTo>
                  <a:pt x="595" y="339"/>
                </a:lnTo>
                <a:lnTo>
                  <a:pt x="600" y="336"/>
                </a:lnTo>
                <a:lnTo>
                  <a:pt x="606" y="332"/>
                </a:lnTo>
                <a:lnTo>
                  <a:pt x="610" y="328"/>
                </a:lnTo>
                <a:lnTo>
                  <a:pt x="614" y="324"/>
                </a:lnTo>
                <a:lnTo>
                  <a:pt x="618" y="316"/>
                </a:lnTo>
                <a:lnTo>
                  <a:pt x="623" y="311"/>
                </a:lnTo>
                <a:lnTo>
                  <a:pt x="627" y="305"/>
                </a:lnTo>
                <a:lnTo>
                  <a:pt x="633" y="299"/>
                </a:lnTo>
                <a:lnTo>
                  <a:pt x="639" y="295"/>
                </a:lnTo>
                <a:lnTo>
                  <a:pt x="645" y="291"/>
                </a:lnTo>
                <a:lnTo>
                  <a:pt x="650" y="288"/>
                </a:lnTo>
                <a:lnTo>
                  <a:pt x="656" y="286"/>
                </a:lnTo>
                <a:lnTo>
                  <a:pt x="664" y="284"/>
                </a:lnTo>
                <a:lnTo>
                  <a:pt x="671" y="282"/>
                </a:lnTo>
                <a:lnTo>
                  <a:pt x="679" y="280"/>
                </a:lnTo>
                <a:lnTo>
                  <a:pt x="687" y="280"/>
                </a:lnTo>
                <a:lnTo>
                  <a:pt x="696" y="280"/>
                </a:lnTo>
                <a:lnTo>
                  <a:pt x="706" y="282"/>
                </a:lnTo>
                <a:lnTo>
                  <a:pt x="716" y="284"/>
                </a:lnTo>
                <a:lnTo>
                  <a:pt x="725" y="286"/>
                </a:lnTo>
                <a:lnTo>
                  <a:pt x="746" y="291"/>
                </a:lnTo>
                <a:lnTo>
                  <a:pt x="765" y="297"/>
                </a:lnTo>
                <a:lnTo>
                  <a:pt x="785" y="305"/>
                </a:lnTo>
                <a:lnTo>
                  <a:pt x="804" y="314"/>
                </a:lnTo>
                <a:lnTo>
                  <a:pt x="823" y="324"/>
                </a:lnTo>
                <a:lnTo>
                  <a:pt x="842" y="336"/>
                </a:lnTo>
                <a:lnTo>
                  <a:pt x="861" y="349"/>
                </a:lnTo>
                <a:lnTo>
                  <a:pt x="883" y="362"/>
                </a:lnTo>
                <a:lnTo>
                  <a:pt x="890" y="370"/>
                </a:lnTo>
                <a:lnTo>
                  <a:pt x="898" y="378"/>
                </a:lnTo>
                <a:lnTo>
                  <a:pt x="906" y="384"/>
                </a:lnTo>
                <a:lnTo>
                  <a:pt x="911" y="389"/>
                </a:lnTo>
                <a:lnTo>
                  <a:pt x="917" y="397"/>
                </a:lnTo>
                <a:lnTo>
                  <a:pt x="923" y="403"/>
                </a:lnTo>
                <a:lnTo>
                  <a:pt x="929" y="407"/>
                </a:lnTo>
                <a:lnTo>
                  <a:pt x="932" y="412"/>
                </a:lnTo>
                <a:lnTo>
                  <a:pt x="936" y="416"/>
                </a:lnTo>
                <a:lnTo>
                  <a:pt x="940" y="422"/>
                </a:lnTo>
                <a:lnTo>
                  <a:pt x="942" y="426"/>
                </a:lnTo>
                <a:lnTo>
                  <a:pt x="946" y="430"/>
                </a:lnTo>
                <a:lnTo>
                  <a:pt x="948" y="433"/>
                </a:lnTo>
                <a:lnTo>
                  <a:pt x="948" y="435"/>
                </a:lnTo>
                <a:lnTo>
                  <a:pt x="950" y="439"/>
                </a:lnTo>
                <a:lnTo>
                  <a:pt x="950" y="441"/>
                </a:lnTo>
                <a:lnTo>
                  <a:pt x="946" y="447"/>
                </a:lnTo>
                <a:lnTo>
                  <a:pt x="940" y="453"/>
                </a:lnTo>
                <a:lnTo>
                  <a:pt x="936" y="460"/>
                </a:lnTo>
                <a:lnTo>
                  <a:pt x="930" y="468"/>
                </a:lnTo>
                <a:lnTo>
                  <a:pt x="923" y="478"/>
                </a:lnTo>
                <a:lnTo>
                  <a:pt x="915" y="487"/>
                </a:lnTo>
                <a:lnTo>
                  <a:pt x="906" y="497"/>
                </a:lnTo>
                <a:lnTo>
                  <a:pt x="900" y="501"/>
                </a:lnTo>
                <a:lnTo>
                  <a:pt x="894" y="506"/>
                </a:lnTo>
                <a:lnTo>
                  <a:pt x="886" y="514"/>
                </a:lnTo>
                <a:lnTo>
                  <a:pt x="881" y="522"/>
                </a:lnTo>
                <a:lnTo>
                  <a:pt x="875" y="531"/>
                </a:lnTo>
                <a:lnTo>
                  <a:pt x="869" y="541"/>
                </a:lnTo>
                <a:lnTo>
                  <a:pt x="865" y="550"/>
                </a:lnTo>
                <a:lnTo>
                  <a:pt x="859" y="562"/>
                </a:lnTo>
                <a:lnTo>
                  <a:pt x="854" y="574"/>
                </a:lnTo>
                <a:lnTo>
                  <a:pt x="848" y="587"/>
                </a:lnTo>
                <a:lnTo>
                  <a:pt x="842" y="598"/>
                </a:lnTo>
                <a:lnTo>
                  <a:pt x="838" y="614"/>
                </a:lnTo>
                <a:lnTo>
                  <a:pt x="833" y="627"/>
                </a:lnTo>
                <a:lnTo>
                  <a:pt x="827" y="643"/>
                </a:lnTo>
                <a:lnTo>
                  <a:pt x="821" y="660"/>
                </a:lnTo>
                <a:lnTo>
                  <a:pt x="815" y="677"/>
                </a:lnTo>
                <a:lnTo>
                  <a:pt x="810" y="694"/>
                </a:lnTo>
                <a:lnTo>
                  <a:pt x="804" y="714"/>
                </a:lnTo>
                <a:close/>
                <a:moveTo>
                  <a:pt x="781" y="1143"/>
                </a:moveTo>
                <a:lnTo>
                  <a:pt x="775" y="1147"/>
                </a:lnTo>
                <a:lnTo>
                  <a:pt x="767" y="1149"/>
                </a:lnTo>
                <a:lnTo>
                  <a:pt x="758" y="1153"/>
                </a:lnTo>
                <a:lnTo>
                  <a:pt x="748" y="1155"/>
                </a:lnTo>
                <a:lnTo>
                  <a:pt x="737" y="1159"/>
                </a:lnTo>
                <a:lnTo>
                  <a:pt x="725" y="1165"/>
                </a:lnTo>
                <a:lnTo>
                  <a:pt x="712" y="1168"/>
                </a:lnTo>
                <a:lnTo>
                  <a:pt x="698" y="1172"/>
                </a:lnTo>
                <a:lnTo>
                  <a:pt x="683" y="1178"/>
                </a:lnTo>
                <a:lnTo>
                  <a:pt x="666" y="1184"/>
                </a:lnTo>
                <a:lnTo>
                  <a:pt x="648" y="1190"/>
                </a:lnTo>
                <a:lnTo>
                  <a:pt x="631" y="1195"/>
                </a:lnTo>
                <a:lnTo>
                  <a:pt x="612" y="1201"/>
                </a:lnTo>
                <a:lnTo>
                  <a:pt x="591" y="1207"/>
                </a:lnTo>
                <a:lnTo>
                  <a:pt x="570" y="1214"/>
                </a:lnTo>
                <a:lnTo>
                  <a:pt x="547" y="1222"/>
                </a:lnTo>
                <a:lnTo>
                  <a:pt x="524" y="1230"/>
                </a:lnTo>
                <a:lnTo>
                  <a:pt x="501" y="1236"/>
                </a:lnTo>
                <a:lnTo>
                  <a:pt x="480" y="1241"/>
                </a:lnTo>
                <a:lnTo>
                  <a:pt x="456" y="1247"/>
                </a:lnTo>
                <a:lnTo>
                  <a:pt x="435" y="1251"/>
                </a:lnTo>
                <a:lnTo>
                  <a:pt x="414" y="1257"/>
                </a:lnTo>
                <a:lnTo>
                  <a:pt x="393" y="1259"/>
                </a:lnTo>
                <a:lnTo>
                  <a:pt x="374" y="1262"/>
                </a:lnTo>
                <a:lnTo>
                  <a:pt x="353" y="1266"/>
                </a:lnTo>
                <a:lnTo>
                  <a:pt x="336" y="1268"/>
                </a:lnTo>
                <a:lnTo>
                  <a:pt x="316" y="1270"/>
                </a:lnTo>
                <a:lnTo>
                  <a:pt x="299" y="1272"/>
                </a:lnTo>
                <a:lnTo>
                  <a:pt x="282" y="1272"/>
                </a:lnTo>
                <a:lnTo>
                  <a:pt x="265" y="1274"/>
                </a:lnTo>
                <a:lnTo>
                  <a:pt x="249" y="1274"/>
                </a:lnTo>
                <a:lnTo>
                  <a:pt x="234" y="1274"/>
                </a:lnTo>
                <a:lnTo>
                  <a:pt x="234" y="1170"/>
                </a:lnTo>
                <a:lnTo>
                  <a:pt x="242" y="1170"/>
                </a:lnTo>
                <a:lnTo>
                  <a:pt x="249" y="1168"/>
                </a:lnTo>
                <a:lnTo>
                  <a:pt x="261" y="1166"/>
                </a:lnTo>
                <a:lnTo>
                  <a:pt x="272" y="1165"/>
                </a:lnTo>
                <a:lnTo>
                  <a:pt x="288" y="1163"/>
                </a:lnTo>
                <a:lnTo>
                  <a:pt x="303" y="1159"/>
                </a:lnTo>
                <a:lnTo>
                  <a:pt x="320" y="1155"/>
                </a:lnTo>
                <a:lnTo>
                  <a:pt x="339" y="1151"/>
                </a:lnTo>
                <a:lnTo>
                  <a:pt x="361" y="1145"/>
                </a:lnTo>
                <a:lnTo>
                  <a:pt x="384" y="1140"/>
                </a:lnTo>
                <a:lnTo>
                  <a:pt x="407" y="1134"/>
                </a:lnTo>
                <a:lnTo>
                  <a:pt x="432" y="1126"/>
                </a:lnTo>
                <a:lnTo>
                  <a:pt x="458" y="1118"/>
                </a:lnTo>
                <a:lnTo>
                  <a:pt x="487" y="1111"/>
                </a:lnTo>
                <a:lnTo>
                  <a:pt x="516" y="1101"/>
                </a:lnTo>
                <a:lnTo>
                  <a:pt x="547" y="1092"/>
                </a:lnTo>
                <a:lnTo>
                  <a:pt x="577" y="1084"/>
                </a:lnTo>
                <a:lnTo>
                  <a:pt x="606" y="1078"/>
                </a:lnTo>
                <a:lnTo>
                  <a:pt x="633" y="1071"/>
                </a:lnTo>
                <a:lnTo>
                  <a:pt x="660" y="1065"/>
                </a:lnTo>
                <a:lnTo>
                  <a:pt x="683" y="1059"/>
                </a:lnTo>
                <a:lnTo>
                  <a:pt x="706" y="1053"/>
                </a:lnTo>
                <a:lnTo>
                  <a:pt x="727" y="1049"/>
                </a:lnTo>
                <a:lnTo>
                  <a:pt x="744" y="1044"/>
                </a:lnTo>
                <a:lnTo>
                  <a:pt x="762" y="1040"/>
                </a:lnTo>
                <a:lnTo>
                  <a:pt x="777" y="1036"/>
                </a:lnTo>
                <a:lnTo>
                  <a:pt x="785" y="1036"/>
                </a:lnTo>
                <a:lnTo>
                  <a:pt x="790" y="1034"/>
                </a:lnTo>
                <a:lnTo>
                  <a:pt x="796" y="1032"/>
                </a:lnTo>
                <a:lnTo>
                  <a:pt x="802" y="1032"/>
                </a:lnTo>
                <a:lnTo>
                  <a:pt x="806" y="1030"/>
                </a:lnTo>
                <a:lnTo>
                  <a:pt x="811" y="1028"/>
                </a:lnTo>
                <a:lnTo>
                  <a:pt x="815" y="1028"/>
                </a:lnTo>
                <a:lnTo>
                  <a:pt x="817" y="1028"/>
                </a:lnTo>
                <a:lnTo>
                  <a:pt x="821" y="1026"/>
                </a:lnTo>
                <a:lnTo>
                  <a:pt x="823" y="1026"/>
                </a:lnTo>
                <a:lnTo>
                  <a:pt x="825" y="1026"/>
                </a:lnTo>
                <a:lnTo>
                  <a:pt x="827" y="1026"/>
                </a:lnTo>
                <a:lnTo>
                  <a:pt x="827" y="1038"/>
                </a:lnTo>
                <a:lnTo>
                  <a:pt x="825" y="1049"/>
                </a:lnTo>
                <a:lnTo>
                  <a:pt x="825" y="1061"/>
                </a:lnTo>
                <a:lnTo>
                  <a:pt x="823" y="1071"/>
                </a:lnTo>
                <a:lnTo>
                  <a:pt x="823" y="1080"/>
                </a:lnTo>
                <a:lnTo>
                  <a:pt x="821" y="1090"/>
                </a:lnTo>
                <a:lnTo>
                  <a:pt x="819" y="1097"/>
                </a:lnTo>
                <a:lnTo>
                  <a:pt x="817" y="1105"/>
                </a:lnTo>
                <a:lnTo>
                  <a:pt x="813" y="1111"/>
                </a:lnTo>
                <a:lnTo>
                  <a:pt x="810" y="1118"/>
                </a:lnTo>
                <a:lnTo>
                  <a:pt x="806" y="1124"/>
                </a:lnTo>
                <a:lnTo>
                  <a:pt x="802" y="1128"/>
                </a:lnTo>
                <a:lnTo>
                  <a:pt x="798" y="1134"/>
                </a:lnTo>
                <a:lnTo>
                  <a:pt x="792" y="1138"/>
                </a:lnTo>
                <a:lnTo>
                  <a:pt x="788" y="1142"/>
                </a:lnTo>
                <a:lnTo>
                  <a:pt x="781" y="1143"/>
                </a:lnTo>
                <a:close/>
                <a:moveTo>
                  <a:pt x="1464" y="884"/>
                </a:moveTo>
                <a:lnTo>
                  <a:pt x="1483" y="863"/>
                </a:lnTo>
                <a:lnTo>
                  <a:pt x="1502" y="842"/>
                </a:lnTo>
                <a:lnTo>
                  <a:pt x="1520" y="823"/>
                </a:lnTo>
                <a:lnTo>
                  <a:pt x="1539" y="806"/>
                </a:lnTo>
                <a:lnTo>
                  <a:pt x="1556" y="787"/>
                </a:lnTo>
                <a:lnTo>
                  <a:pt x="1571" y="769"/>
                </a:lnTo>
                <a:lnTo>
                  <a:pt x="1589" y="752"/>
                </a:lnTo>
                <a:lnTo>
                  <a:pt x="1604" y="737"/>
                </a:lnTo>
                <a:lnTo>
                  <a:pt x="1619" y="721"/>
                </a:lnTo>
                <a:lnTo>
                  <a:pt x="1635" y="706"/>
                </a:lnTo>
                <a:lnTo>
                  <a:pt x="1648" y="692"/>
                </a:lnTo>
                <a:lnTo>
                  <a:pt x="1662" y="679"/>
                </a:lnTo>
                <a:lnTo>
                  <a:pt x="1675" y="666"/>
                </a:lnTo>
                <a:lnTo>
                  <a:pt x="1688" y="654"/>
                </a:lnTo>
                <a:lnTo>
                  <a:pt x="1700" y="643"/>
                </a:lnTo>
                <a:lnTo>
                  <a:pt x="1712" y="633"/>
                </a:lnTo>
                <a:lnTo>
                  <a:pt x="1721" y="621"/>
                </a:lnTo>
                <a:lnTo>
                  <a:pt x="1733" y="614"/>
                </a:lnTo>
                <a:lnTo>
                  <a:pt x="1742" y="604"/>
                </a:lnTo>
                <a:lnTo>
                  <a:pt x="1750" y="597"/>
                </a:lnTo>
                <a:lnTo>
                  <a:pt x="1759" y="589"/>
                </a:lnTo>
                <a:lnTo>
                  <a:pt x="1767" y="583"/>
                </a:lnTo>
                <a:lnTo>
                  <a:pt x="1775" y="577"/>
                </a:lnTo>
                <a:lnTo>
                  <a:pt x="1781" y="572"/>
                </a:lnTo>
                <a:lnTo>
                  <a:pt x="1786" y="568"/>
                </a:lnTo>
                <a:lnTo>
                  <a:pt x="1792" y="564"/>
                </a:lnTo>
                <a:lnTo>
                  <a:pt x="1796" y="562"/>
                </a:lnTo>
                <a:lnTo>
                  <a:pt x="1800" y="560"/>
                </a:lnTo>
                <a:lnTo>
                  <a:pt x="1804" y="558"/>
                </a:lnTo>
                <a:lnTo>
                  <a:pt x="1806" y="558"/>
                </a:lnTo>
                <a:lnTo>
                  <a:pt x="1809" y="558"/>
                </a:lnTo>
                <a:lnTo>
                  <a:pt x="1811" y="560"/>
                </a:lnTo>
                <a:lnTo>
                  <a:pt x="1811" y="562"/>
                </a:lnTo>
                <a:lnTo>
                  <a:pt x="1811" y="564"/>
                </a:lnTo>
                <a:lnTo>
                  <a:pt x="1811" y="568"/>
                </a:lnTo>
                <a:lnTo>
                  <a:pt x="1809" y="572"/>
                </a:lnTo>
                <a:lnTo>
                  <a:pt x="1807" y="575"/>
                </a:lnTo>
                <a:lnTo>
                  <a:pt x="1806" y="579"/>
                </a:lnTo>
                <a:lnTo>
                  <a:pt x="1804" y="585"/>
                </a:lnTo>
                <a:lnTo>
                  <a:pt x="1802" y="591"/>
                </a:lnTo>
                <a:lnTo>
                  <a:pt x="1798" y="597"/>
                </a:lnTo>
                <a:lnTo>
                  <a:pt x="1794" y="604"/>
                </a:lnTo>
                <a:lnTo>
                  <a:pt x="1790" y="612"/>
                </a:lnTo>
                <a:lnTo>
                  <a:pt x="1786" y="620"/>
                </a:lnTo>
                <a:lnTo>
                  <a:pt x="1781" y="627"/>
                </a:lnTo>
                <a:lnTo>
                  <a:pt x="1775" y="637"/>
                </a:lnTo>
                <a:lnTo>
                  <a:pt x="1769" y="646"/>
                </a:lnTo>
                <a:lnTo>
                  <a:pt x="1763" y="656"/>
                </a:lnTo>
                <a:lnTo>
                  <a:pt x="1758" y="666"/>
                </a:lnTo>
                <a:lnTo>
                  <a:pt x="1750" y="677"/>
                </a:lnTo>
                <a:lnTo>
                  <a:pt x="1744" y="689"/>
                </a:lnTo>
                <a:lnTo>
                  <a:pt x="1736" y="700"/>
                </a:lnTo>
                <a:lnTo>
                  <a:pt x="1729" y="714"/>
                </a:lnTo>
                <a:lnTo>
                  <a:pt x="1719" y="727"/>
                </a:lnTo>
                <a:lnTo>
                  <a:pt x="1712" y="740"/>
                </a:lnTo>
                <a:lnTo>
                  <a:pt x="1702" y="756"/>
                </a:lnTo>
                <a:lnTo>
                  <a:pt x="1694" y="769"/>
                </a:lnTo>
                <a:lnTo>
                  <a:pt x="1685" y="785"/>
                </a:lnTo>
                <a:lnTo>
                  <a:pt x="1673" y="802"/>
                </a:lnTo>
                <a:lnTo>
                  <a:pt x="1664" y="817"/>
                </a:lnTo>
                <a:lnTo>
                  <a:pt x="1654" y="834"/>
                </a:lnTo>
                <a:lnTo>
                  <a:pt x="1642" y="852"/>
                </a:lnTo>
                <a:lnTo>
                  <a:pt x="1631" y="871"/>
                </a:lnTo>
                <a:lnTo>
                  <a:pt x="1606" y="907"/>
                </a:lnTo>
                <a:lnTo>
                  <a:pt x="1581" y="942"/>
                </a:lnTo>
                <a:lnTo>
                  <a:pt x="1558" y="978"/>
                </a:lnTo>
                <a:lnTo>
                  <a:pt x="1533" y="1013"/>
                </a:lnTo>
                <a:lnTo>
                  <a:pt x="1508" y="1047"/>
                </a:lnTo>
                <a:lnTo>
                  <a:pt x="1485" y="1080"/>
                </a:lnTo>
                <a:lnTo>
                  <a:pt x="1460" y="1113"/>
                </a:lnTo>
                <a:lnTo>
                  <a:pt x="1437" y="1145"/>
                </a:lnTo>
                <a:lnTo>
                  <a:pt x="1389" y="1209"/>
                </a:lnTo>
                <a:lnTo>
                  <a:pt x="1343" y="1270"/>
                </a:lnTo>
                <a:lnTo>
                  <a:pt x="1297" y="1332"/>
                </a:lnTo>
                <a:lnTo>
                  <a:pt x="1251" y="1391"/>
                </a:lnTo>
                <a:lnTo>
                  <a:pt x="1228" y="1420"/>
                </a:lnTo>
                <a:lnTo>
                  <a:pt x="1209" y="1447"/>
                </a:lnTo>
                <a:lnTo>
                  <a:pt x="1188" y="1472"/>
                </a:lnTo>
                <a:lnTo>
                  <a:pt x="1170" y="1495"/>
                </a:lnTo>
                <a:lnTo>
                  <a:pt x="1153" y="1516"/>
                </a:lnTo>
                <a:lnTo>
                  <a:pt x="1138" y="1535"/>
                </a:lnTo>
                <a:lnTo>
                  <a:pt x="1122" y="1552"/>
                </a:lnTo>
                <a:lnTo>
                  <a:pt x="1109" y="1568"/>
                </a:lnTo>
                <a:lnTo>
                  <a:pt x="1097" y="1581"/>
                </a:lnTo>
                <a:lnTo>
                  <a:pt x="1086" y="1592"/>
                </a:lnTo>
                <a:lnTo>
                  <a:pt x="1076" y="1602"/>
                </a:lnTo>
                <a:lnTo>
                  <a:pt x="1069" y="1610"/>
                </a:lnTo>
                <a:lnTo>
                  <a:pt x="1063" y="1617"/>
                </a:lnTo>
                <a:lnTo>
                  <a:pt x="1057" y="1621"/>
                </a:lnTo>
                <a:lnTo>
                  <a:pt x="1053" y="1625"/>
                </a:lnTo>
                <a:lnTo>
                  <a:pt x="1049" y="1625"/>
                </a:lnTo>
                <a:lnTo>
                  <a:pt x="1046" y="1625"/>
                </a:lnTo>
                <a:lnTo>
                  <a:pt x="1040" y="1623"/>
                </a:lnTo>
                <a:lnTo>
                  <a:pt x="1034" y="1623"/>
                </a:lnTo>
                <a:lnTo>
                  <a:pt x="1028" y="1621"/>
                </a:lnTo>
                <a:lnTo>
                  <a:pt x="1023" y="1617"/>
                </a:lnTo>
                <a:lnTo>
                  <a:pt x="1015" y="1616"/>
                </a:lnTo>
                <a:lnTo>
                  <a:pt x="1007" y="1612"/>
                </a:lnTo>
                <a:lnTo>
                  <a:pt x="1000" y="1608"/>
                </a:lnTo>
                <a:lnTo>
                  <a:pt x="990" y="1602"/>
                </a:lnTo>
                <a:lnTo>
                  <a:pt x="982" y="1598"/>
                </a:lnTo>
                <a:lnTo>
                  <a:pt x="973" y="1592"/>
                </a:lnTo>
                <a:lnTo>
                  <a:pt x="961" y="1587"/>
                </a:lnTo>
                <a:lnTo>
                  <a:pt x="952" y="1581"/>
                </a:lnTo>
                <a:lnTo>
                  <a:pt x="940" y="1575"/>
                </a:lnTo>
                <a:lnTo>
                  <a:pt x="929" y="1568"/>
                </a:lnTo>
                <a:lnTo>
                  <a:pt x="915" y="1560"/>
                </a:lnTo>
                <a:lnTo>
                  <a:pt x="904" y="1552"/>
                </a:lnTo>
                <a:lnTo>
                  <a:pt x="892" y="1545"/>
                </a:lnTo>
                <a:lnTo>
                  <a:pt x="883" y="1539"/>
                </a:lnTo>
                <a:lnTo>
                  <a:pt x="871" y="1531"/>
                </a:lnTo>
                <a:lnTo>
                  <a:pt x="863" y="1523"/>
                </a:lnTo>
                <a:lnTo>
                  <a:pt x="854" y="1516"/>
                </a:lnTo>
                <a:lnTo>
                  <a:pt x="846" y="1510"/>
                </a:lnTo>
                <a:lnTo>
                  <a:pt x="840" y="1502"/>
                </a:lnTo>
                <a:lnTo>
                  <a:pt x="835" y="1497"/>
                </a:lnTo>
                <a:lnTo>
                  <a:pt x="829" y="1491"/>
                </a:lnTo>
                <a:lnTo>
                  <a:pt x="825" y="1483"/>
                </a:lnTo>
                <a:lnTo>
                  <a:pt x="821" y="1477"/>
                </a:lnTo>
                <a:lnTo>
                  <a:pt x="819" y="1472"/>
                </a:lnTo>
                <a:lnTo>
                  <a:pt x="817" y="1466"/>
                </a:lnTo>
                <a:lnTo>
                  <a:pt x="815" y="1462"/>
                </a:lnTo>
                <a:lnTo>
                  <a:pt x="815" y="1456"/>
                </a:lnTo>
                <a:lnTo>
                  <a:pt x="813" y="1450"/>
                </a:lnTo>
                <a:lnTo>
                  <a:pt x="813" y="1447"/>
                </a:lnTo>
                <a:lnTo>
                  <a:pt x="813" y="1441"/>
                </a:lnTo>
                <a:lnTo>
                  <a:pt x="815" y="1437"/>
                </a:lnTo>
                <a:lnTo>
                  <a:pt x="817" y="1431"/>
                </a:lnTo>
                <a:lnTo>
                  <a:pt x="821" y="1427"/>
                </a:lnTo>
                <a:lnTo>
                  <a:pt x="825" y="1424"/>
                </a:lnTo>
                <a:lnTo>
                  <a:pt x="829" y="1418"/>
                </a:lnTo>
                <a:lnTo>
                  <a:pt x="835" y="1414"/>
                </a:lnTo>
                <a:lnTo>
                  <a:pt x="840" y="1410"/>
                </a:lnTo>
                <a:lnTo>
                  <a:pt x="848" y="1406"/>
                </a:lnTo>
                <a:lnTo>
                  <a:pt x="856" y="1403"/>
                </a:lnTo>
                <a:lnTo>
                  <a:pt x="865" y="1401"/>
                </a:lnTo>
                <a:lnTo>
                  <a:pt x="873" y="1397"/>
                </a:lnTo>
                <a:lnTo>
                  <a:pt x="883" y="1393"/>
                </a:lnTo>
                <a:lnTo>
                  <a:pt x="894" y="1391"/>
                </a:lnTo>
                <a:lnTo>
                  <a:pt x="904" y="1389"/>
                </a:lnTo>
                <a:lnTo>
                  <a:pt x="913" y="1385"/>
                </a:lnTo>
                <a:lnTo>
                  <a:pt x="925" y="1381"/>
                </a:lnTo>
                <a:lnTo>
                  <a:pt x="934" y="1376"/>
                </a:lnTo>
                <a:lnTo>
                  <a:pt x="946" y="1372"/>
                </a:lnTo>
                <a:lnTo>
                  <a:pt x="955" y="1366"/>
                </a:lnTo>
                <a:lnTo>
                  <a:pt x="967" y="1360"/>
                </a:lnTo>
                <a:lnTo>
                  <a:pt x="977" y="1355"/>
                </a:lnTo>
                <a:lnTo>
                  <a:pt x="998" y="1339"/>
                </a:lnTo>
                <a:lnTo>
                  <a:pt x="1019" y="1324"/>
                </a:lnTo>
                <a:lnTo>
                  <a:pt x="1040" y="1307"/>
                </a:lnTo>
                <a:lnTo>
                  <a:pt x="1061" y="1287"/>
                </a:lnTo>
                <a:lnTo>
                  <a:pt x="1067" y="1284"/>
                </a:lnTo>
                <a:lnTo>
                  <a:pt x="1072" y="1278"/>
                </a:lnTo>
                <a:lnTo>
                  <a:pt x="1078" y="1274"/>
                </a:lnTo>
                <a:lnTo>
                  <a:pt x="1086" y="1268"/>
                </a:lnTo>
                <a:lnTo>
                  <a:pt x="1094" y="1261"/>
                </a:lnTo>
                <a:lnTo>
                  <a:pt x="1101" y="1255"/>
                </a:lnTo>
                <a:lnTo>
                  <a:pt x="1109" y="1247"/>
                </a:lnTo>
                <a:lnTo>
                  <a:pt x="1119" y="1239"/>
                </a:lnTo>
                <a:lnTo>
                  <a:pt x="1126" y="1230"/>
                </a:lnTo>
                <a:lnTo>
                  <a:pt x="1136" y="1220"/>
                </a:lnTo>
                <a:lnTo>
                  <a:pt x="1147" y="1211"/>
                </a:lnTo>
                <a:lnTo>
                  <a:pt x="1157" y="1201"/>
                </a:lnTo>
                <a:lnTo>
                  <a:pt x="1168" y="1190"/>
                </a:lnTo>
                <a:lnTo>
                  <a:pt x="1180" y="1178"/>
                </a:lnTo>
                <a:lnTo>
                  <a:pt x="1191" y="1166"/>
                </a:lnTo>
                <a:lnTo>
                  <a:pt x="1205" y="1155"/>
                </a:lnTo>
                <a:lnTo>
                  <a:pt x="1216" y="1142"/>
                </a:lnTo>
                <a:lnTo>
                  <a:pt x="1230" y="1128"/>
                </a:lnTo>
                <a:lnTo>
                  <a:pt x="1243" y="1113"/>
                </a:lnTo>
                <a:lnTo>
                  <a:pt x="1259" y="1099"/>
                </a:lnTo>
                <a:lnTo>
                  <a:pt x="1272" y="1084"/>
                </a:lnTo>
                <a:lnTo>
                  <a:pt x="1287" y="1069"/>
                </a:lnTo>
                <a:lnTo>
                  <a:pt x="1303" y="1051"/>
                </a:lnTo>
                <a:lnTo>
                  <a:pt x="1320" y="1036"/>
                </a:lnTo>
                <a:lnTo>
                  <a:pt x="1335" y="1019"/>
                </a:lnTo>
                <a:lnTo>
                  <a:pt x="1353" y="1000"/>
                </a:lnTo>
                <a:lnTo>
                  <a:pt x="1370" y="982"/>
                </a:lnTo>
                <a:lnTo>
                  <a:pt x="1387" y="963"/>
                </a:lnTo>
                <a:lnTo>
                  <a:pt x="1406" y="944"/>
                </a:lnTo>
                <a:lnTo>
                  <a:pt x="1426" y="925"/>
                </a:lnTo>
                <a:lnTo>
                  <a:pt x="1443" y="904"/>
                </a:lnTo>
                <a:lnTo>
                  <a:pt x="1464" y="884"/>
                </a:lnTo>
                <a:close/>
                <a:moveTo>
                  <a:pt x="1765" y="2289"/>
                </a:moveTo>
                <a:lnTo>
                  <a:pt x="1761" y="2285"/>
                </a:lnTo>
                <a:lnTo>
                  <a:pt x="1758" y="2283"/>
                </a:lnTo>
                <a:lnTo>
                  <a:pt x="1754" y="2278"/>
                </a:lnTo>
                <a:lnTo>
                  <a:pt x="1750" y="2274"/>
                </a:lnTo>
                <a:lnTo>
                  <a:pt x="1748" y="2268"/>
                </a:lnTo>
                <a:lnTo>
                  <a:pt x="1744" y="2262"/>
                </a:lnTo>
                <a:lnTo>
                  <a:pt x="1742" y="2255"/>
                </a:lnTo>
                <a:lnTo>
                  <a:pt x="1738" y="2247"/>
                </a:lnTo>
                <a:lnTo>
                  <a:pt x="1736" y="2237"/>
                </a:lnTo>
                <a:lnTo>
                  <a:pt x="1735" y="2228"/>
                </a:lnTo>
                <a:lnTo>
                  <a:pt x="1731" y="2216"/>
                </a:lnTo>
                <a:lnTo>
                  <a:pt x="1729" y="2205"/>
                </a:lnTo>
                <a:lnTo>
                  <a:pt x="1727" y="2191"/>
                </a:lnTo>
                <a:lnTo>
                  <a:pt x="1725" y="2178"/>
                </a:lnTo>
                <a:lnTo>
                  <a:pt x="1723" y="2162"/>
                </a:lnTo>
                <a:lnTo>
                  <a:pt x="1721" y="2145"/>
                </a:lnTo>
                <a:lnTo>
                  <a:pt x="1717" y="2132"/>
                </a:lnTo>
                <a:lnTo>
                  <a:pt x="1713" y="2116"/>
                </a:lnTo>
                <a:lnTo>
                  <a:pt x="1710" y="2101"/>
                </a:lnTo>
                <a:lnTo>
                  <a:pt x="1704" y="2088"/>
                </a:lnTo>
                <a:lnTo>
                  <a:pt x="1698" y="2072"/>
                </a:lnTo>
                <a:lnTo>
                  <a:pt x="1690" y="2057"/>
                </a:lnTo>
                <a:lnTo>
                  <a:pt x="1681" y="2042"/>
                </a:lnTo>
                <a:lnTo>
                  <a:pt x="1673" y="2026"/>
                </a:lnTo>
                <a:lnTo>
                  <a:pt x="1664" y="2013"/>
                </a:lnTo>
                <a:lnTo>
                  <a:pt x="1652" y="1995"/>
                </a:lnTo>
                <a:lnTo>
                  <a:pt x="1641" y="1980"/>
                </a:lnTo>
                <a:lnTo>
                  <a:pt x="1629" y="1965"/>
                </a:lnTo>
                <a:lnTo>
                  <a:pt x="1616" y="1949"/>
                </a:lnTo>
                <a:lnTo>
                  <a:pt x="1604" y="1932"/>
                </a:lnTo>
                <a:lnTo>
                  <a:pt x="1589" y="1915"/>
                </a:lnTo>
                <a:lnTo>
                  <a:pt x="1575" y="1898"/>
                </a:lnTo>
                <a:lnTo>
                  <a:pt x="1560" y="1882"/>
                </a:lnTo>
                <a:lnTo>
                  <a:pt x="1545" y="1865"/>
                </a:lnTo>
                <a:lnTo>
                  <a:pt x="1529" y="1852"/>
                </a:lnTo>
                <a:lnTo>
                  <a:pt x="1518" y="1836"/>
                </a:lnTo>
                <a:lnTo>
                  <a:pt x="1504" y="1825"/>
                </a:lnTo>
                <a:lnTo>
                  <a:pt x="1495" y="1811"/>
                </a:lnTo>
                <a:lnTo>
                  <a:pt x="1485" y="1802"/>
                </a:lnTo>
                <a:lnTo>
                  <a:pt x="1475" y="1790"/>
                </a:lnTo>
                <a:lnTo>
                  <a:pt x="1470" y="1782"/>
                </a:lnTo>
                <a:lnTo>
                  <a:pt x="1462" y="1773"/>
                </a:lnTo>
                <a:lnTo>
                  <a:pt x="1458" y="1765"/>
                </a:lnTo>
                <a:lnTo>
                  <a:pt x="1454" y="1759"/>
                </a:lnTo>
                <a:lnTo>
                  <a:pt x="1452" y="1754"/>
                </a:lnTo>
                <a:lnTo>
                  <a:pt x="1451" y="1750"/>
                </a:lnTo>
                <a:lnTo>
                  <a:pt x="1451" y="1746"/>
                </a:lnTo>
                <a:lnTo>
                  <a:pt x="1452" y="1742"/>
                </a:lnTo>
                <a:lnTo>
                  <a:pt x="1452" y="1740"/>
                </a:lnTo>
                <a:lnTo>
                  <a:pt x="1454" y="1738"/>
                </a:lnTo>
                <a:lnTo>
                  <a:pt x="1458" y="1738"/>
                </a:lnTo>
                <a:lnTo>
                  <a:pt x="1462" y="1736"/>
                </a:lnTo>
                <a:lnTo>
                  <a:pt x="1468" y="1738"/>
                </a:lnTo>
                <a:lnTo>
                  <a:pt x="1475" y="1738"/>
                </a:lnTo>
                <a:lnTo>
                  <a:pt x="1483" y="1740"/>
                </a:lnTo>
                <a:lnTo>
                  <a:pt x="1493" y="1742"/>
                </a:lnTo>
                <a:lnTo>
                  <a:pt x="1504" y="1744"/>
                </a:lnTo>
                <a:lnTo>
                  <a:pt x="1516" y="1748"/>
                </a:lnTo>
                <a:lnTo>
                  <a:pt x="1527" y="1752"/>
                </a:lnTo>
                <a:lnTo>
                  <a:pt x="1543" y="1758"/>
                </a:lnTo>
                <a:lnTo>
                  <a:pt x="1556" y="1761"/>
                </a:lnTo>
                <a:lnTo>
                  <a:pt x="1573" y="1767"/>
                </a:lnTo>
                <a:lnTo>
                  <a:pt x="1591" y="1775"/>
                </a:lnTo>
                <a:lnTo>
                  <a:pt x="1608" y="1781"/>
                </a:lnTo>
                <a:lnTo>
                  <a:pt x="1627" y="1790"/>
                </a:lnTo>
                <a:lnTo>
                  <a:pt x="1644" y="1800"/>
                </a:lnTo>
                <a:lnTo>
                  <a:pt x="1664" y="1807"/>
                </a:lnTo>
                <a:lnTo>
                  <a:pt x="1679" y="1813"/>
                </a:lnTo>
                <a:lnTo>
                  <a:pt x="1696" y="1819"/>
                </a:lnTo>
                <a:lnTo>
                  <a:pt x="1712" y="1825"/>
                </a:lnTo>
                <a:lnTo>
                  <a:pt x="1727" y="1829"/>
                </a:lnTo>
                <a:lnTo>
                  <a:pt x="1740" y="1830"/>
                </a:lnTo>
                <a:lnTo>
                  <a:pt x="1754" y="1832"/>
                </a:lnTo>
                <a:lnTo>
                  <a:pt x="1765" y="1834"/>
                </a:lnTo>
                <a:lnTo>
                  <a:pt x="1777" y="1834"/>
                </a:lnTo>
                <a:lnTo>
                  <a:pt x="1788" y="1832"/>
                </a:lnTo>
                <a:lnTo>
                  <a:pt x="1798" y="1830"/>
                </a:lnTo>
                <a:lnTo>
                  <a:pt x="1807" y="1829"/>
                </a:lnTo>
                <a:lnTo>
                  <a:pt x="1815" y="1825"/>
                </a:lnTo>
                <a:lnTo>
                  <a:pt x="1821" y="1821"/>
                </a:lnTo>
                <a:lnTo>
                  <a:pt x="1827" y="1817"/>
                </a:lnTo>
                <a:lnTo>
                  <a:pt x="1832" y="1813"/>
                </a:lnTo>
                <a:lnTo>
                  <a:pt x="1838" y="1809"/>
                </a:lnTo>
                <a:lnTo>
                  <a:pt x="1844" y="1804"/>
                </a:lnTo>
                <a:lnTo>
                  <a:pt x="1850" y="1798"/>
                </a:lnTo>
                <a:lnTo>
                  <a:pt x="1855" y="1790"/>
                </a:lnTo>
                <a:lnTo>
                  <a:pt x="1859" y="1782"/>
                </a:lnTo>
                <a:lnTo>
                  <a:pt x="1865" y="1773"/>
                </a:lnTo>
                <a:lnTo>
                  <a:pt x="1869" y="1763"/>
                </a:lnTo>
                <a:lnTo>
                  <a:pt x="1875" y="1754"/>
                </a:lnTo>
                <a:lnTo>
                  <a:pt x="1878" y="1742"/>
                </a:lnTo>
                <a:lnTo>
                  <a:pt x="1882" y="1731"/>
                </a:lnTo>
                <a:lnTo>
                  <a:pt x="1886" y="1719"/>
                </a:lnTo>
                <a:lnTo>
                  <a:pt x="1892" y="1706"/>
                </a:lnTo>
                <a:lnTo>
                  <a:pt x="1896" y="1692"/>
                </a:lnTo>
                <a:lnTo>
                  <a:pt x="1900" y="1677"/>
                </a:lnTo>
                <a:lnTo>
                  <a:pt x="1901" y="1669"/>
                </a:lnTo>
                <a:lnTo>
                  <a:pt x="1903" y="1662"/>
                </a:lnTo>
                <a:lnTo>
                  <a:pt x="1905" y="1652"/>
                </a:lnTo>
                <a:lnTo>
                  <a:pt x="1907" y="1644"/>
                </a:lnTo>
                <a:lnTo>
                  <a:pt x="1909" y="1635"/>
                </a:lnTo>
                <a:lnTo>
                  <a:pt x="1911" y="1623"/>
                </a:lnTo>
                <a:lnTo>
                  <a:pt x="1915" y="1614"/>
                </a:lnTo>
                <a:lnTo>
                  <a:pt x="1917" y="1602"/>
                </a:lnTo>
                <a:lnTo>
                  <a:pt x="1919" y="1591"/>
                </a:lnTo>
                <a:lnTo>
                  <a:pt x="1921" y="1577"/>
                </a:lnTo>
                <a:lnTo>
                  <a:pt x="1923" y="1564"/>
                </a:lnTo>
                <a:lnTo>
                  <a:pt x="1925" y="1550"/>
                </a:lnTo>
                <a:lnTo>
                  <a:pt x="1926" y="1537"/>
                </a:lnTo>
                <a:lnTo>
                  <a:pt x="1930" y="1521"/>
                </a:lnTo>
                <a:lnTo>
                  <a:pt x="1932" y="1508"/>
                </a:lnTo>
                <a:lnTo>
                  <a:pt x="1934" y="1493"/>
                </a:lnTo>
                <a:lnTo>
                  <a:pt x="1936" y="1475"/>
                </a:lnTo>
                <a:lnTo>
                  <a:pt x="1940" y="1458"/>
                </a:lnTo>
                <a:lnTo>
                  <a:pt x="1942" y="1443"/>
                </a:lnTo>
                <a:lnTo>
                  <a:pt x="1944" y="1424"/>
                </a:lnTo>
                <a:lnTo>
                  <a:pt x="1948" y="1406"/>
                </a:lnTo>
                <a:lnTo>
                  <a:pt x="1949" y="1387"/>
                </a:lnTo>
                <a:lnTo>
                  <a:pt x="1951" y="1368"/>
                </a:lnTo>
                <a:lnTo>
                  <a:pt x="1955" y="1349"/>
                </a:lnTo>
                <a:lnTo>
                  <a:pt x="1957" y="1328"/>
                </a:lnTo>
                <a:lnTo>
                  <a:pt x="1961" y="1307"/>
                </a:lnTo>
                <a:lnTo>
                  <a:pt x="1963" y="1285"/>
                </a:lnTo>
                <a:lnTo>
                  <a:pt x="1965" y="1262"/>
                </a:lnTo>
                <a:lnTo>
                  <a:pt x="1969" y="1241"/>
                </a:lnTo>
                <a:lnTo>
                  <a:pt x="1971" y="1218"/>
                </a:lnTo>
                <a:lnTo>
                  <a:pt x="1974" y="1193"/>
                </a:lnTo>
                <a:lnTo>
                  <a:pt x="1978" y="1170"/>
                </a:lnTo>
                <a:lnTo>
                  <a:pt x="1984" y="1122"/>
                </a:lnTo>
                <a:lnTo>
                  <a:pt x="1990" y="1074"/>
                </a:lnTo>
                <a:lnTo>
                  <a:pt x="1994" y="1028"/>
                </a:lnTo>
                <a:lnTo>
                  <a:pt x="1999" y="982"/>
                </a:lnTo>
                <a:lnTo>
                  <a:pt x="2003" y="938"/>
                </a:lnTo>
                <a:lnTo>
                  <a:pt x="2007" y="894"/>
                </a:lnTo>
                <a:lnTo>
                  <a:pt x="2009" y="852"/>
                </a:lnTo>
                <a:lnTo>
                  <a:pt x="2013" y="810"/>
                </a:lnTo>
                <a:lnTo>
                  <a:pt x="2015" y="769"/>
                </a:lnTo>
                <a:lnTo>
                  <a:pt x="2017" y="731"/>
                </a:lnTo>
                <a:lnTo>
                  <a:pt x="2019" y="692"/>
                </a:lnTo>
                <a:lnTo>
                  <a:pt x="2020" y="656"/>
                </a:lnTo>
                <a:lnTo>
                  <a:pt x="2020" y="620"/>
                </a:lnTo>
                <a:lnTo>
                  <a:pt x="2022" y="585"/>
                </a:lnTo>
                <a:lnTo>
                  <a:pt x="2022" y="552"/>
                </a:lnTo>
                <a:lnTo>
                  <a:pt x="2022" y="520"/>
                </a:lnTo>
                <a:lnTo>
                  <a:pt x="2022" y="489"/>
                </a:lnTo>
                <a:lnTo>
                  <a:pt x="2022" y="458"/>
                </a:lnTo>
                <a:lnTo>
                  <a:pt x="2020" y="432"/>
                </a:lnTo>
                <a:lnTo>
                  <a:pt x="2020" y="405"/>
                </a:lnTo>
                <a:lnTo>
                  <a:pt x="2019" y="380"/>
                </a:lnTo>
                <a:lnTo>
                  <a:pt x="2019" y="357"/>
                </a:lnTo>
                <a:lnTo>
                  <a:pt x="2017" y="336"/>
                </a:lnTo>
                <a:lnTo>
                  <a:pt x="2015" y="316"/>
                </a:lnTo>
                <a:lnTo>
                  <a:pt x="2013" y="297"/>
                </a:lnTo>
                <a:lnTo>
                  <a:pt x="2011" y="282"/>
                </a:lnTo>
                <a:lnTo>
                  <a:pt x="2011" y="266"/>
                </a:lnTo>
                <a:lnTo>
                  <a:pt x="2009" y="255"/>
                </a:lnTo>
                <a:lnTo>
                  <a:pt x="2005" y="243"/>
                </a:lnTo>
                <a:lnTo>
                  <a:pt x="2003" y="234"/>
                </a:lnTo>
                <a:lnTo>
                  <a:pt x="2001" y="226"/>
                </a:lnTo>
                <a:lnTo>
                  <a:pt x="1999" y="220"/>
                </a:lnTo>
                <a:lnTo>
                  <a:pt x="1997" y="219"/>
                </a:lnTo>
                <a:lnTo>
                  <a:pt x="1994" y="219"/>
                </a:lnTo>
                <a:lnTo>
                  <a:pt x="1992" y="217"/>
                </a:lnTo>
                <a:lnTo>
                  <a:pt x="1986" y="217"/>
                </a:lnTo>
                <a:lnTo>
                  <a:pt x="1982" y="217"/>
                </a:lnTo>
                <a:lnTo>
                  <a:pt x="1976" y="215"/>
                </a:lnTo>
                <a:lnTo>
                  <a:pt x="1971" y="215"/>
                </a:lnTo>
                <a:lnTo>
                  <a:pt x="1965" y="215"/>
                </a:lnTo>
                <a:lnTo>
                  <a:pt x="1957" y="215"/>
                </a:lnTo>
                <a:lnTo>
                  <a:pt x="1949" y="215"/>
                </a:lnTo>
                <a:lnTo>
                  <a:pt x="1940" y="217"/>
                </a:lnTo>
                <a:lnTo>
                  <a:pt x="1932" y="217"/>
                </a:lnTo>
                <a:lnTo>
                  <a:pt x="1923" y="217"/>
                </a:lnTo>
                <a:lnTo>
                  <a:pt x="1911" y="219"/>
                </a:lnTo>
                <a:lnTo>
                  <a:pt x="1901" y="220"/>
                </a:lnTo>
                <a:lnTo>
                  <a:pt x="1890" y="220"/>
                </a:lnTo>
                <a:lnTo>
                  <a:pt x="1877" y="222"/>
                </a:lnTo>
                <a:lnTo>
                  <a:pt x="1865" y="224"/>
                </a:lnTo>
                <a:lnTo>
                  <a:pt x="1852" y="226"/>
                </a:lnTo>
                <a:lnTo>
                  <a:pt x="1838" y="228"/>
                </a:lnTo>
                <a:lnTo>
                  <a:pt x="1823" y="232"/>
                </a:lnTo>
                <a:lnTo>
                  <a:pt x="1807" y="234"/>
                </a:lnTo>
                <a:lnTo>
                  <a:pt x="1792" y="236"/>
                </a:lnTo>
                <a:lnTo>
                  <a:pt x="1775" y="240"/>
                </a:lnTo>
                <a:lnTo>
                  <a:pt x="1758" y="243"/>
                </a:lnTo>
                <a:lnTo>
                  <a:pt x="1740" y="247"/>
                </a:lnTo>
                <a:lnTo>
                  <a:pt x="1721" y="249"/>
                </a:lnTo>
                <a:lnTo>
                  <a:pt x="1702" y="255"/>
                </a:lnTo>
                <a:lnTo>
                  <a:pt x="1683" y="259"/>
                </a:lnTo>
                <a:lnTo>
                  <a:pt x="1662" y="263"/>
                </a:lnTo>
                <a:lnTo>
                  <a:pt x="1642" y="266"/>
                </a:lnTo>
                <a:lnTo>
                  <a:pt x="1619" y="272"/>
                </a:lnTo>
                <a:lnTo>
                  <a:pt x="1598" y="278"/>
                </a:lnTo>
                <a:lnTo>
                  <a:pt x="1577" y="284"/>
                </a:lnTo>
                <a:lnTo>
                  <a:pt x="1556" y="290"/>
                </a:lnTo>
                <a:lnTo>
                  <a:pt x="1537" y="295"/>
                </a:lnTo>
                <a:lnTo>
                  <a:pt x="1518" y="301"/>
                </a:lnTo>
                <a:lnTo>
                  <a:pt x="1500" y="305"/>
                </a:lnTo>
                <a:lnTo>
                  <a:pt x="1481" y="311"/>
                </a:lnTo>
                <a:lnTo>
                  <a:pt x="1464" y="314"/>
                </a:lnTo>
                <a:lnTo>
                  <a:pt x="1449" y="318"/>
                </a:lnTo>
                <a:lnTo>
                  <a:pt x="1431" y="322"/>
                </a:lnTo>
                <a:lnTo>
                  <a:pt x="1416" y="326"/>
                </a:lnTo>
                <a:lnTo>
                  <a:pt x="1403" y="330"/>
                </a:lnTo>
                <a:lnTo>
                  <a:pt x="1387" y="334"/>
                </a:lnTo>
                <a:lnTo>
                  <a:pt x="1374" y="337"/>
                </a:lnTo>
                <a:lnTo>
                  <a:pt x="1360" y="339"/>
                </a:lnTo>
                <a:lnTo>
                  <a:pt x="1349" y="343"/>
                </a:lnTo>
                <a:lnTo>
                  <a:pt x="1337" y="345"/>
                </a:lnTo>
                <a:lnTo>
                  <a:pt x="1326" y="347"/>
                </a:lnTo>
                <a:lnTo>
                  <a:pt x="1316" y="349"/>
                </a:lnTo>
                <a:lnTo>
                  <a:pt x="1305" y="351"/>
                </a:lnTo>
                <a:lnTo>
                  <a:pt x="1295" y="353"/>
                </a:lnTo>
                <a:lnTo>
                  <a:pt x="1287" y="355"/>
                </a:lnTo>
                <a:lnTo>
                  <a:pt x="1278" y="357"/>
                </a:lnTo>
                <a:lnTo>
                  <a:pt x="1270" y="359"/>
                </a:lnTo>
                <a:lnTo>
                  <a:pt x="1264" y="359"/>
                </a:lnTo>
                <a:lnTo>
                  <a:pt x="1257" y="361"/>
                </a:lnTo>
                <a:lnTo>
                  <a:pt x="1251" y="361"/>
                </a:lnTo>
                <a:lnTo>
                  <a:pt x="1245" y="362"/>
                </a:lnTo>
                <a:lnTo>
                  <a:pt x="1241" y="362"/>
                </a:lnTo>
                <a:lnTo>
                  <a:pt x="1236" y="362"/>
                </a:lnTo>
                <a:lnTo>
                  <a:pt x="1232" y="362"/>
                </a:lnTo>
                <a:lnTo>
                  <a:pt x="1228" y="362"/>
                </a:lnTo>
                <a:lnTo>
                  <a:pt x="1216" y="362"/>
                </a:lnTo>
                <a:lnTo>
                  <a:pt x="1201" y="361"/>
                </a:lnTo>
                <a:lnTo>
                  <a:pt x="1188" y="359"/>
                </a:lnTo>
                <a:lnTo>
                  <a:pt x="1170" y="353"/>
                </a:lnTo>
                <a:lnTo>
                  <a:pt x="1155" y="349"/>
                </a:lnTo>
                <a:lnTo>
                  <a:pt x="1140" y="341"/>
                </a:lnTo>
                <a:lnTo>
                  <a:pt x="1122" y="334"/>
                </a:lnTo>
                <a:lnTo>
                  <a:pt x="1105" y="324"/>
                </a:lnTo>
                <a:lnTo>
                  <a:pt x="1097" y="322"/>
                </a:lnTo>
                <a:lnTo>
                  <a:pt x="1090" y="318"/>
                </a:lnTo>
                <a:lnTo>
                  <a:pt x="1082" y="314"/>
                </a:lnTo>
                <a:lnTo>
                  <a:pt x="1076" y="313"/>
                </a:lnTo>
                <a:lnTo>
                  <a:pt x="1071" y="309"/>
                </a:lnTo>
                <a:lnTo>
                  <a:pt x="1065" y="305"/>
                </a:lnTo>
                <a:lnTo>
                  <a:pt x="1059" y="299"/>
                </a:lnTo>
                <a:lnTo>
                  <a:pt x="1055" y="295"/>
                </a:lnTo>
                <a:lnTo>
                  <a:pt x="1051" y="290"/>
                </a:lnTo>
                <a:lnTo>
                  <a:pt x="1048" y="284"/>
                </a:lnTo>
                <a:lnTo>
                  <a:pt x="1046" y="278"/>
                </a:lnTo>
                <a:lnTo>
                  <a:pt x="1042" y="272"/>
                </a:lnTo>
                <a:lnTo>
                  <a:pt x="1042" y="266"/>
                </a:lnTo>
                <a:lnTo>
                  <a:pt x="1040" y="261"/>
                </a:lnTo>
                <a:lnTo>
                  <a:pt x="1038" y="253"/>
                </a:lnTo>
                <a:lnTo>
                  <a:pt x="1038" y="245"/>
                </a:lnTo>
                <a:lnTo>
                  <a:pt x="1067" y="242"/>
                </a:lnTo>
                <a:lnTo>
                  <a:pt x="1094" y="240"/>
                </a:lnTo>
                <a:lnTo>
                  <a:pt x="1120" y="236"/>
                </a:lnTo>
                <a:lnTo>
                  <a:pt x="1147" y="232"/>
                </a:lnTo>
                <a:lnTo>
                  <a:pt x="1174" y="228"/>
                </a:lnTo>
                <a:lnTo>
                  <a:pt x="1199" y="224"/>
                </a:lnTo>
                <a:lnTo>
                  <a:pt x="1224" y="220"/>
                </a:lnTo>
                <a:lnTo>
                  <a:pt x="1249" y="217"/>
                </a:lnTo>
                <a:lnTo>
                  <a:pt x="1272" y="213"/>
                </a:lnTo>
                <a:lnTo>
                  <a:pt x="1295" y="209"/>
                </a:lnTo>
                <a:lnTo>
                  <a:pt x="1318" y="205"/>
                </a:lnTo>
                <a:lnTo>
                  <a:pt x="1341" y="201"/>
                </a:lnTo>
                <a:lnTo>
                  <a:pt x="1385" y="195"/>
                </a:lnTo>
                <a:lnTo>
                  <a:pt x="1427" y="188"/>
                </a:lnTo>
                <a:lnTo>
                  <a:pt x="1468" y="180"/>
                </a:lnTo>
                <a:lnTo>
                  <a:pt x="1504" y="172"/>
                </a:lnTo>
                <a:lnTo>
                  <a:pt x="1541" y="167"/>
                </a:lnTo>
                <a:lnTo>
                  <a:pt x="1577" y="159"/>
                </a:lnTo>
                <a:lnTo>
                  <a:pt x="1610" y="151"/>
                </a:lnTo>
                <a:lnTo>
                  <a:pt x="1641" y="144"/>
                </a:lnTo>
                <a:lnTo>
                  <a:pt x="1669" y="136"/>
                </a:lnTo>
                <a:lnTo>
                  <a:pt x="1698" y="128"/>
                </a:lnTo>
                <a:lnTo>
                  <a:pt x="1723" y="123"/>
                </a:lnTo>
                <a:lnTo>
                  <a:pt x="1746" y="115"/>
                </a:lnTo>
                <a:lnTo>
                  <a:pt x="1769" y="107"/>
                </a:lnTo>
                <a:lnTo>
                  <a:pt x="1790" y="101"/>
                </a:lnTo>
                <a:lnTo>
                  <a:pt x="1811" y="96"/>
                </a:lnTo>
                <a:lnTo>
                  <a:pt x="1829" y="90"/>
                </a:lnTo>
                <a:lnTo>
                  <a:pt x="1848" y="84"/>
                </a:lnTo>
                <a:lnTo>
                  <a:pt x="1865" y="78"/>
                </a:lnTo>
                <a:lnTo>
                  <a:pt x="1880" y="73"/>
                </a:lnTo>
                <a:lnTo>
                  <a:pt x="1894" y="67"/>
                </a:lnTo>
                <a:lnTo>
                  <a:pt x="1907" y="63"/>
                </a:lnTo>
                <a:lnTo>
                  <a:pt x="1921" y="57"/>
                </a:lnTo>
                <a:lnTo>
                  <a:pt x="1930" y="53"/>
                </a:lnTo>
                <a:lnTo>
                  <a:pt x="1940" y="48"/>
                </a:lnTo>
                <a:lnTo>
                  <a:pt x="1948" y="42"/>
                </a:lnTo>
                <a:lnTo>
                  <a:pt x="1955" y="38"/>
                </a:lnTo>
                <a:lnTo>
                  <a:pt x="1967" y="29"/>
                </a:lnTo>
                <a:lnTo>
                  <a:pt x="1978" y="21"/>
                </a:lnTo>
                <a:lnTo>
                  <a:pt x="1990" y="13"/>
                </a:lnTo>
                <a:lnTo>
                  <a:pt x="1999" y="9"/>
                </a:lnTo>
                <a:lnTo>
                  <a:pt x="2011" y="4"/>
                </a:lnTo>
                <a:lnTo>
                  <a:pt x="2020" y="2"/>
                </a:lnTo>
                <a:lnTo>
                  <a:pt x="2032" y="0"/>
                </a:lnTo>
                <a:lnTo>
                  <a:pt x="2045" y="0"/>
                </a:lnTo>
                <a:lnTo>
                  <a:pt x="2049" y="2"/>
                </a:lnTo>
                <a:lnTo>
                  <a:pt x="2053" y="4"/>
                </a:lnTo>
                <a:lnTo>
                  <a:pt x="2059" y="7"/>
                </a:lnTo>
                <a:lnTo>
                  <a:pt x="2067" y="11"/>
                </a:lnTo>
                <a:lnTo>
                  <a:pt x="2072" y="15"/>
                </a:lnTo>
                <a:lnTo>
                  <a:pt x="2080" y="19"/>
                </a:lnTo>
                <a:lnTo>
                  <a:pt x="2088" y="25"/>
                </a:lnTo>
                <a:lnTo>
                  <a:pt x="2097" y="30"/>
                </a:lnTo>
                <a:lnTo>
                  <a:pt x="2105" y="36"/>
                </a:lnTo>
                <a:lnTo>
                  <a:pt x="2116" y="42"/>
                </a:lnTo>
                <a:lnTo>
                  <a:pt x="2126" y="48"/>
                </a:lnTo>
                <a:lnTo>
                  <a:pt x="2138" y="55"/>
                </a:lnTo>
                <a:lnTo>
                  <a:pt x="2149" y="63"/>
                </a:lnTo>
                <a:lnTo>
                  <a:pt x="2162" y="71"/>
                </a:lnTo>
                <a:lnTo>
                  <a:pt x="2176" y="80"/>
                </a:lnTo>
                <a:lnTo>
                  <a:pt x="2189" y="90"/>
                </a:lnTo>
                <a:lnTo>
                  <a:pt x="2203" y="101"/>
                </a:lnTo>
                <a:lnTo>
                  <a:pt x="2212" y="113"/>
                </a:lnTo>
                <a:lnTo>
                  <a:pt x="2224" y="124"/>
                </a:lnTo>
                <a:lnTo>
                  <a:pt x="2233" y="134"/>
                </a:lnTo>
                <a:lnTo>
                  <a:pt x="2243" y="144"/>
                </a:lnTo>
                <a:lnTo>
                  <a:pt x="2251" y="153"/>
                </a:lnTo>
                <a:lnTo>
                  <a:pt x="2258" y="161"/>
                </a:lnTo>
                <a:lnTo>
                  <a:pt x="2266" y="169"/>
                </a:lnTo>
                <a:lnTo>
                  <a:pt x="2272" y="174"/>
                </a:lnTo>
                <a:lnTo>
                  <a:pt x="2276" y="182"/>
                </a:lnTo>
                <a:lnTo>
                  <a:pt x="2281" y="188"/>
                </a:lnTo>
                <a:lnTo>
                  <a:pt x="2283" y="192"/>
                </a:lnTo>
                <a:lnTo>
                  <a:pt x="2287" y="197"/>
                </a:lnTo>
                <a:lnTo>
                  <a:pt x="2289" y="201"/>
                </a:lnTo>
                <a:lnTo>
                  <a:pt x="2291" y="205"/>
                </a:lnTo>
                <a:lnTo>
                  <a:pt x="2291" y="207"/>
                </a:lnTo>
                <a:lnTo>
                  <a:pt x="2289" y="213"/>
                </a:lnTo>
                <a:lnTo>
                  <a:pt x="2289" y="219"/>
                </a:lnTo>
                <a:lnTo>
                  <a:pt x="2285" y="226"/>
                </a:lnTo>
                <a:lnTo>
                  <a:pt x="2281" y="234"/>
                </a:lnTo>
                <a:lnTo>
                  <a:pt x="2278" y="243"/>
                </a:lnTo>
                <a:lnTo>
                  <a:pt x="2272" y="253"/>
                </a:lnTo>
                <a:lnTo>
                  <a:pt x="2264" y="263"/>
                </a:lnTo>
                <a:lnTo>
                  <a:pt x="2257" y="272"/>
                </a:lnTo>
                <a:lnTo>
                  <a:pt x="2251" y="280"/>
                </a:lnTo>
                <a:lnTo>
                  <a:pt x="2245" y="290"/>
                </a:lnTo>
                <a:lnTo>
                  <a:pt x="2241" y="301"/>
                </a:lnTo>
                <a:lnTo>
                  <a:pt x="2235" y="314"/>
                </a:lnTo>
                <a:lnTo>
                  <a:pt x="2232" y="328"/>
                </a:lnTo>
                <a:lnTo>
                  <a:pt x="2228" y="345"/>
                </a:lnTo>
                <a:lnTo>
                  <a:pt x="2224" y="362"/>
                </a:lnTo>
                <a:lnTo>
                  <a:pt x="2220" y="382"/>
                </a:lnTo>
                <a:lnTo>
                  <a:pt x="2218" y="403"/>
                </a:lnTo>
                <a:lnTo>
                  <a:pt x="2214" y="424"/>
                </a:lnTo>
                <a:lnTo>
                  <a:pt x="2212" y="449"/>
                </a:lnTo>
                <a:lnTo>
                  <a:pt x="2210" y="476"/>
                </a:lnTo>
                <a:lnTo>
                  <a:pt x="2207" y="503"/>
                </a:lnTo>
                <a:lnTo>
                  <a:pt x="2205" y="533"/>
                </a:lnTo>
                <a:lnTo>
                  <a:pt x="2203" y="564"/>
                </a:lnTo>
                <a:lnTo>
                  <a:pt x="2201" y="597"/>
                </a:lnTo>
                <a:lnTo>
                  <a:pt x="2199" y="635"/>
                </a:lnTo>
                <a:lnTo>
                  <a:pt x="2197" y="671"/>
                </a:lnTo>
                <a:lnTo>
                  <a:pt x="2195" y="710"/>
                </a:lnTo>
                <a:lnTo>
                  <a:pt x="2193" y="748"/>
                </a:lnTo>
                <a:lnTo>
                  <a:pt x="2189" y="788"/>
                </a:lnTo>
                <a:lnTo>
                  <a:pt x="2187" y="829"/>
                </a:lnTo>
                <a:lnTo>
                  <a:pt x="2186" y="869"/>
                </a:lnTo>
                <a:lnTo>
                  <a:pt x="2184" y="909"/>
                </a:lnTo>
                <a:lnTo>
                  <a:pt x="2180" y="952"/>
                </a:lnTo>
                <a:lnTo>
                  <a:pt x="2178" y="994"/>
                </a:lnTo>
                <a:lnTo>
                  <a:pt x="2174" y="1036"/>
                </a:lnTo>
                <a:lnTo>
                  <a:pt x="2172" y="1080"/>
                </a:lnTo>
                <a:lnTo>
                  <a:pt x="2168" y="1124"/>
                </a:lnTo>
                <a:lnTo>
                  <a:pt x="2164" y="1168"/>
                </a:lnTo>
                <a:lnTo>
                  <a:pt x="2161" y="1214"/>
                </a:lnTo>
                <a:lnTo>
                  <a:pt x="2157" y="1261"/>
                </a:lnTo>
                <a:lnTo>
                  <a:pt x="2151" y="1308"/>
                </a:lnTo>
                <a:lnTo>
                  <a:pt x="2143" y="1356"/>
                </a:lnTo>
                <a:lnTo>
                  <a:pt x="2138" y="1403"/>
                </a:lnTo>
                <a:lnTo>
                  <a:pt x="2132" y="1447"/>
                </a:lnTo>
                <a:lnTo>
                  <a:pt x="2124" y="1489"/>
                </a:lnTo>
                <a:lnTo>
                  <a:pt x="2118" y="1531"/>
                </a:lnTo>
                <a:lnTo>
                  <a:pt x="2111" y="1573"/>
                </a:lnTo>
                <a:lnTo>
                  <a:pt x="2105" y="1612"/>
                </a:lnTo>
                <a:lnTo>
                  <a:pt x="2097" y="1650"/>
                </a:lnTo>
                <a:lnTo>
                  <a:pt x="2091" y="1688"/>
                </a:lnTo>
                <a:lnTo>
                  <a:pt x="2084" y="1723"/>
                </a:lnTo>
                <a:lnTo>
                  <a:pt x="2076" y="1758"/>
                </a:lnTo>
                <a:lnTo>
                  <a:pt x="2068" y="1792"/>
                </a:lnTo>
                <a:lnTo>
                  <a:pt x="2061" y="1825"/>
                </a:lnTo>
                <a:lnTo>
                  <a:pt x="2053" y="1855"/>
                </a:lnTo>
                <a:lnTo>
                  <a:pt x="2045" y="1886"/>
                </a:lnTo>
                <a:lnTo>
                  <a:pt x="2036" y="1915"/>
                </a:lnTo>
                <a:lnTo>
                  <a:pt x="2028" y="1942"/>
                </a:lnTo>
                <a:lnTo>
                  <a:pt x="2019" y="1969"/>
                </a:lnTo>
                <a:lnTo>
                  <a:pt x="2009" y="1994"/>
                </a:lnTo>
                <a:lnTo>
                  <a:pt x="1999" y="2017"/>
                </a:lnTo>
                <a:lnTo>
                  <a:pt x="1990" y="2040"/>
                </a:lnTo>
                <a:lnTo>
                  <a:pt x="1980" y="2061"/>
                </a:lnTo>
                <a:lnTo>
                  <a:pt x="1971" y="2080"/>
                </a:lnTo>
                <a:lnTo>
                  <a:pt x="1961" y="2099"/>
                </a:lnTo>
                <a:lnTo>
                  <a:pt x="1949" y="2116"/>
                </a:lnTo>
                <a:lnTo>
                  <a:pt x="1940" y="2134"/>
                </a:lnTo>
                <a:lnTo>
                  <a:pt x="1930" y="2149"/>
                </a:lnTo>
                <a:lnTo>
                  <a:pt x="1919" y="2162"/>
                </a:lnTo>
                <a:lnTo>
                  <a:pt x="1909" y="2176"/>
                </a:lnTo>
                <a:lnTo>
                  <a:pt x="1898" y="2187"/>
                </a:lnTo>
                <a:lnTo>
                  <a:pt x="1888" y="2197"/>
                </a:lnTo>
                <a:lnTo>
                  <a:pt x="1878" y="2208"/>
                </a:lnTo>
                <a:lnTo>
                  <a:pt x="1867" y="2220"/>
                </a:lnTo>
                <a:lnTo>
                  <a:pt x="1857" y="2230"/>
                </a:lnTo>
                <a:lnTo>
                  <a:pt x="1850" y="2239"/>
                </a:lnTo>
                <a:lnTo>
                  <a:pt x="1840" y="2247"/>
                </a:lnTo>
                <a:lnTo>
                  <a:pt x="1830" y="2255"/>
                </a:lnTo>
                <a:lnTo>
                  <a:pt x="1823" y="2262"/>
                </a:lnTo>
                <a:lnTo>
                  <a:pt x="1815" y="2268"/>
                </a:lnTo>
                <a:lnTo>
                  <a:pt x="1807" y="2274"/>
                </a:lnTo>
                <a:lnTo>
                  <a:pt x="1800" y="2278"/>
                </a:lnTo>
                <a:lnTo>
                  <a:pt x="1792" y="2281"/>
                </a:lnTo>
                <a:lnTo>
                  <a:pt x="1786" y="2283"/>
                </a:lnTo>
                <a:lnTo>
                  <a:pt x="1781" y="2285"/>
                </a:lnTo>
                <a:lnTo>
                  <a:pt x="1775" y="2287"/>
                </a:lnTo>
                <a:lnTo>
                  <a:pt x="1769" y="2289"/>
                </a:lnTo>
                <a:lnTo>
                  <a:pt x="1765" y="2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909800" y="2600280"/>
            <a:ext cx="264960" cy="969840"/>
          </a:xfrm>
          <a:custGeom>
            <a:avLst/>
            <a:gdLst/>
            <a:ahLst/>
            <a:rect l="l" t="t" r="r" b="b"/>
            <a:pathLst>
              <a:path w="334" h="1223">
                <a:moveTo>
                  <a:pt x="100" y="430"/>
                </a:moveTo>
                <a:lnTo>
                  <a:pt x="96" y="401"/>
                </a:lnTo>
                <a:lnTo>
                  <a:pt x="92" y="373"/>
                </a:lnTo>
                <a:lnTo>
                  <a:pt x="88" y="348"/>
                </a:lnTo>
                <a:lnTo>
                  <a:pt x="82" y="323"/>
                </a:lnTo>
                <a:lnTo>
                  <a:pt x="78" y="300"/>
                </a:lnTo>
                <a:lnTo>
                  <a:pt x="75" y="277"/>
                </a:lnTo>
                <a:lnTo>
                  <a:pt x="71" y="256"/>
                </a:lnTo>
                <a:lnTo>
                  <a:pt x="67" y="236"/>
                </a:lnTo>
                <a:lnTo>
                  <a:pt x="61" y="217"/>
                </a:lnTo>
                <a:lnTo>
                  <a:pt x="57" y="202"/>
                </a:lnTo>
                <a:lnTo>
                  <a:pt x="53" y="186"/>
                </a:lnTo>
                <a:lnTo>
                  <a:pt x="50" y="171"/>
                </a:lnTo>
                <a:lnTo>
                  <a:pt x="46" y="160"/>
                </a:lnTo>
                <a:lnTo>
                  <a:pt x="40" y="148"/>
                </a:lnTo>
                <a:lnTo>
                  <a:pt x="36" y="138"/>
                </a:lnTo>
                <a:lnTo>
                  <a:pt x="32" y="131"/>
                </a:lnTo>
                <a:lnTo>
                  <a:pt x="25" y="115"/>
                </a:lnTo>
                <a:lnTo>
                  <a:pt x="17" y="104"/>
                </a:lnTo>
                <a:lnTo>
                  <a:pt x="11" y="90"/>
                </a:lnTo>
                <a:lnTo>
                  <a:pt x="7" y="79"/>
                </a:lnTo>
                <a:lnTo>
                  <a:pt x="4" y="69"/>
                </a:lnTo>
                <a:lnTo>
                  <a:pt x="2" y="60"/>
                </a:lnTo>
                <a:lnTo>
                  <a:pt x="0" y="48"/>
                </a:lnTo>
                <a:lnTo>
                  <a:pt x="0" y="39"/>
                </a:lnTo>
                <a:lnTo>
                  <a:pt x="0" y="35"/>
                </a:lnTo>
                <a:lnTo>
                  <a:pt x="2" y="29"/>
                </a:lnTo>
                <a:lnTo>
                  <a:pt x="4" y="25"/>
                </a:lnTo>
                <a:lnTo>
                  <a:pt x="7" y="19"/>
                </a:lnTo>
                <a:lnTo>
                  <a:pt x="11" y="16"/>
                </a:lnTo>
                <a:lnTo>
                  <a:pt x="17" y="10"/>
                </a:lnTo>
                <a:lnTo>
                  <a:pt x="25" y="6"/>
                </a:lnTo>
                <a:lnTo>
                  <a:pt x="32" y="0"/>
                </a:lnTo>
                <a:lnTo>
                  <a:pt x="34" y="0"/>
                </a:lnTo>
                <a:lnTo>
                  <a:pt x="40" y="2"/>
                </a:lnTo>
                <a:lnTo>
                  <a:pt x="44" y="2"/>
                </a:lnTo>
                <a:lnTo>
                  <a:pt x="52" y="4"/>
                </a:lnTo>
                <a:lnTo>
                  <a:pt x="59" y="8"/>
                </a:lnTo>
                <a:lnTo>
                  <a:pt x="69" y="12"/>
                </a:lnTo>
                <a:lnTo>
                  <a:pt x="78" y="16"/>
                </a:lnTo>
                <a:lnTo>
                  <a:pt x="92" y="19"/>
                </a:lnTo>
                <a:lnTo>
                  <a:pt x="105" y="25"/>
                </a:lnTo>
                <a:lnTo>
                  <a:pt x="119" y="31"/>
                </a:lnTo>
                <a:lnTo>
                  <a:pt x="134" y="37"/>
                </a:lnTo>
                <a:lnTo>
                  <a:pt x="151" y="44"/>
                </a:lnTo>
                <a:lnTo>
                  <a:pt x="171" y="52"/>
                </a:lnTo>
                <a:lnTo>
                  <a:pt x="190" y="60"/>
                </a:lnTo>
                <a:lnTo>
                  <a:pt x="211" y="69"/>
                </a:lnTo>
                <a:lnTo>
                  <a:pt x="234" y="79"/>
                </a:lnTo>
                <a:lnTo>
                  <a:pt x="242" y="158"/>
                </a:lnTo>
                <a:lnTo>
                  <a:pt x="251" y="236"/>
                </a:lnTo>
                <a:lnTo>
                  <a:pt x="259" y="319"/>
                </a:lnTo>
                <a:lnTo>
                  <a:pt x="266" y="401"/>
                </a:lnTo>
                <a:lnTo>
                  <a:pt x="272" y="444"/>
                </a:lnTo>
                <a:lnTo>
                  <a:pt x="276" y="488"/>
                </a:lnTo>
                <a:lnTo>
                  <a:pt x="280" y="530"/>
                </a:lnTo>
                <a:lnTo>
                  <a:pt x="284" y="574"/>
                </a:lnTo>
                <a:lnTo>
                  <a:pt x="288" y="618"/>
                </a:lnTo>
                <a:lnTo>
                  <a:pt x="293" y="662"/>
                </a:lnTo>
                <a:lnTo>
                  <a:pt x="297" y="708"/>
                </a:lnTo>
                <a:lnTo>
                  <a:pt x="301" y="754"/>
                </a:lnTo>
                <a:lnTo>
                  <a:pt x="303" y="777"/>
                </a:lnTo>
                <a:lnTo>
                  <a:pt x="305" y="801"/>
                </a:lnTo>
                <a:lnTo>
                  <a:pt x="307" y="822"/>
                </a:lnTo>
                <a:lnTo>
                  <a:pt x="309" y="843"/>
                </a:lnTo>
                <a:lnTo>
                  <a:pt x="311" y="862"/>
                </a:lnTo>
                <a:lnTo>
                  <a:pt x="313" y="881"/>
                </a:lnTo>
                <a:lnTo>
                  <a:pt x="314" y="900"/>
                </a:lnTo>
                <a:lnTo>
                  <a:pt x="314" y="919"/>
                </a:lnTo>
                <a:lnTo>
                  <a:pt x="316" y="937"/>
                </a:lnTo>
                <a:lnTo>
                  <a:pt x="318" y="952"/>
                </a:lnTo>
                <a:lnTo>
                  <a:pt x="320" y="969"/>
                </a:lnTo>
                <a:lnTo>
                  <a:pt x="320" y="985"/>
                </a:lnTo>
                <a:lnTo>
                  <a:pt x="322" y="1000"/>
                </a:lnTo>
                <a:lnTo>
                  <a:pt x="324" y="1014"/>
                </a:lnTo>
                <a:lnTo>
                  <a:pt x="324" y="1027"/>
                </a:lnTo>
                <a:lnTo>
                  <a:pt x="326" y="1040"/>
                </a:lnTo>
                <a:lnTo>
                  <a:pt x="326" y="1054"/>
                </a:lnTo>
                <a:lnTo>
                  <a:pt x="328" y="1065"/>
                </a:lnTo>
                <a:lnTo>
                  <a:pt x="328" y="1077"/>
                </a:lnTo>
                <a:lnTo>
                  <a:pt x="330" y="1088"/>
                </a:lnTo>
                <a:lnTo>
                  <a:pt x="330" y="1098"/>
                </a:lnTo>
                <a:lnTo>
                  <a:pt x="332" y="1108"/>
                </a:lnTo>
                <a:lnTo>
                  <a:pt x="332" y="1115"/>
                </a:lnTo>
                <a:lnTo>
                  <a:pt x="332" y="1125"/>
                </a:lnTo>
                <a:lnTo>
                  <a:pt x="334" y="1132"/>
                </a:lnTo>
                <a:lnTo>
                  <a:pt x="334" y="1140"/>
                </a:lnTo>
                <a:lnTo>
                  <a:pt x="334" y="1146"/>
                </a:lnTo>
                <a:lnTo>
                  <a:pt x="334" y="1152"/>
                </a:lnTo>
                <a:lnTo>
                  <a:pt x="334" y="1157"/>
                </a:lnTo>
                <a:lnTo>
                  <a:pt x="334" y="1163"/>
                </a:lnTo>
                <a:lnTo>
                  <a:pt x="334" y="1167"/>
                </a:lnTo>
                <a:lnTo>
                  <a:pt x="334" y="1171"/>
                </a:lnTo>
                <a:lnTo>
                  <a:pt x="332" y="1179"/>
                </a:lnTo>
                <a:lnTo>
                  <a:pt x="330" y="1184"/>
                </a:lnTo>
                <a:lnTo>
                  <a:pt x="328" y="1190"/>
                </a:lnTo>
                <a:lnTo>
                  <a:pt x="326" y="1196"/>
                </a:lnTo>
                <a:lnTo>
                  <a:pt x="324" y="1200"/>
                </a:lnTo>
                <a:lnTo>
                  <a:pt x="322" y="1205"/>
                </a:lnTo>
                <a:lnTo>
                  <a:pt x="318" y="1209"/>
                </a:lnTo>
                <a:lnTo>
                  <a:pt x="316" y="1211"/>
                </a:lnTo>
                <a:lnTo>
                  <a:pt x="311" y="1217"/>
                </a:lnTo>
                <a:lnTo>
                  <a:pt x="305" y="1221"/>
                </a:lnTo>
                <a:lnTo>
                  <a:pt x="297" y="1223"/>
                </a:lnTo>
                <a:lnTo>
                  <a:pt x="290" y="1223"/>
                </a:lnTo>
                <a:lnTo>
                  <a:pt x="284" y="1223"/>
                </a:lnTo>
                <a:lnTo>
                  <a:pt x="278" y="1221"/>
                </a:lnTo>
                <a:lnTo>
                  <a:pt x="272" y="1217"/>
                </a:lnTo>
                <a:lnTo>
                  <a:pt x="266" y="1213"/>
                </a:lnTo>
                <a:lnTo>
                  <a:pt x="261" y="1207"/>
                </a:lnTo>
                <a:lnTo>
                  <a:pt x="257" y="1202"/>
                </a:lnTo>
                <a:lnTo>
                  <a:pt x="251" y="1194"/>
                </a:lnTo>
                <a:lnTo>
                  <a:pt x="247" y="1184"/>
                </a:lnTo>
                <a:lnTo>
                  <a:pt x="243" y="1175"/>
                </a:lnTo>
                <a:lnTo>
                  <a:pt x="240" y="1161"/>
                </a:lnTo>
                <a:lnTo>
                  <a:pt x="236" y="1150"/>
                </a:lnTo>
                <a:lnTo>
                  <a:pt x="232" y="1134"/>
                </a:lnTo>
                <a:lnTo>
                  <a:pt x="230" y="1121"/>
                </a:lnTo>
                <a:lnTo>
                  <a:pt x="226" y="1104"/>
                </a:lnTo>
                <a:lnTo>
                  <a:pt x="224" y="1086"/>
                </a:lnTo>
                <a:lnTo>
                  <a:pt x="222" y="1067"/>
                </a:lnTo>
                <a:lnTo>
                  <a:pt x="215" y="1029"/>
                </a:lnTo>
                <a:lnTo>
                  <a:pt x="205" y="990"/>
                </a:lnTo>
                <a:lnTo>
                  <a:pt x="197" y="954"/>
                </a:lnTo>
                <a:lnTo>
                  <a:pt x="190" y="919"/>
                </a:lnTo>
                <a:lnTo>
                  <a:pt x="184" y="883"/>
                </a:lnTo>
                <a:lnTo>
                  <a:pt x="176" y="848"/>
                </a:lnTo>
                <a:lnTo>
                  <a:pt x="171" y="816"/>
                </a:lnTo>
                <a:lnTo>
                  <a:pt x="167" y="781"/>
                </a:lnTo>
                <a:lnTo>
                  <a:pt x="165" y="764"/>
                </a:lnTo>
                <a:lnTo>
                  <a:pt x="161" y="745"/>
                </a:lnTo>
                <a:lnTo>
                  <a:pt x="159" y="728"/>
                </a:lnTo>
                <a:lnTo>
                  <a:pt x="155" y="708"/>
                </a:lnTo>
                <a:lnTo>
                  <a:pt x="153" y="687"/>
                </a:lnTo>
                <a:lnTo>
                  <a:pt x="149" y="668"/>
                </a:lnTo>
                <a:lnTo>
                  <a:pt x="146" y="647"/>
                </a:lnTo>
                <a:lnTo>
                  <a:pt x="142" y="624"/>
                </a:lnTo>
                <a:lnTo>
                  <a:pt x="138" y="603"/>
                </a:lnTo>
                <a:lnTo>
                  <a:pt x="132" y="580"/>
                </a:lnTo>
                <a:lnTo>
                  <a:pt x="128" y="557"/>
                </a:lnTo>
                <a:lnTo>
                  <a:pt x="123" y="532"/>
                </a:lnTo>
                <a:lnTo>
                  <a:pt x="117" y="507"/>
                </a:lnTo>
                <a:lnTo>
                  <a:pt x="111" y="482"/>
                </a:lnTo>
                <a:lnTo>
                  <a:pt x="105" y="455"/>
                </a:lnTo>
                <a:lnTo>
                  <a:pt x="100" y="43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1998720" y="2513160"/>
            <a:ext cx="665280" cy="655560"/>
          </a:xfrm>
          <a:custGeom>
            <a:avLst/>
            <a:gdLst/>
            <a:ahLst/>
            <a:rect l="l" t="t" r="r" b="b"/>
            <a:pathLst>
              <a:path w="839" h="825">
                <a:moveTo>
                  <a:pt x="693" y="434"/>
                </a:moveTo>
                <a:lnTo>
                  <a:pt x="689" y="453"/>
                </a:lnTo>
                <a:lnTo>
                  <a:pt x="685" y="470"/>
                </a:lnTo>
                <a:lnTo>
                  <a:pt x="681" y="489"/>
                </a:lnTo>
                <a:lnTo>
                  <a:pt x="677" y="510"/>
                </a:lnTo>
                <a:lnTo>
                  <a:pt x="676" y="531"/>
                </a:lnTo>
                <a:lnTo>
                  <a:pt x="672" y="553"/>
                </a:lnTo>
                <a:lnTo>
                  <a:pt x="670" y="576"/>
                </a:lnTo>
                <a:lnTo>
                  <a:pt x="668" y="601"/>
                </a:lnTo>
                <a:lnTo>
                  <a:pt x="666" y="625"/>
                </a:lnTo>
                <a:lnTo>
                  <a:pt x="664" y="650"/>
                </a:lnTo>
                <a:lnTo>
                  <a:pt x="662" y="677"/>
                </a:lnTo>
                <a:lnTo>
                  <a:pt x="662" y="706"/>
                </a:lnTo>
                <a:lnTo>
                  <a:pt x="660" y="733"/>
                </a:lnTo>
                <a:lnTo>
                  <a:pt x="660" y="764"/>
                </a:lnTo>
                <a:lnTo>
                  <a:pt x="660" y="794"/>
                </a:lnTo>
                <a:lnTo>
                  <a:pt x="660" y="825"/>
                </a:lnTo>
                <a:lnTo>
                  <a:pt x="526" y="825"/>
                </a:lnTo>
                <a:lnTo>
                  <a:pt x="526" y="808"/>
                </a:lnTo>
                <a:lnTo>
                  <a:pt x="526" y="789"/>
                </a:lnTo>
                <a:lnTo>
                  <a:pt x="526" y="771"/>
                </a:lnTo>
                <a:lnTo>
                  <a:pt x="528" y="752"/>
                </a:lnTo>
                <a:lnTo>
                  <a:pt x="528" y="731"/>
                </a:lnTo>
                <a:lnTo>
                  <a:pt x="530" y="712"/>
                </a:lnTo>
                <a:lnTo>
                  <a:pt x="532" y="691"/>
                </a:lnTo>
                <a:lnTo>
                  <a:pt x="532" y="670"/>
                </a:lnTo>
                <a:lnTo>
                  <a:pt x="534" y="647"/>
                </a:lnTo>
                <a:lnTo>
                  <a:pt x="535" y="624"/>
                </a:lnTo>
                <a:lnTo>
                  <a:pt x="537" y="601"/>
                </a:lnTo>
                <a:lnTo>
                  <a:pt x="539" y="576"/>
                </a:lnTo>
                <a:lnTo>
                  <a:pt x="541" y="551"/>
                </a:lnTo>
                <a:lnTo>
                  <a:pt x="543" y="526"/>
                </a:lnTo>
                <a:lnTo>
                  <a:pt x="545" y="501"/>
                </a:lnTo>
                <a:lnTo>
                  <a:pt x="547" y="474"/>
                </a:lnTo>
                <a:lnTo>
                  <a:pt x="549" y="447"/>
                </a:lnTo>
                <a:lnTo>
                  <a:pt x="551" y="422"/>
                </a:lnTo>
                <a:lnTo>
                  <a:pt x="551" y="399"/>
                </a:lnTo>
                <a:lnTo>
                  <a:pt x="551" y="378"/>
                </a:lnTo>
                <a:lnTo>
                  <a:pt x="551" y="359"/>
                </a:lnTo>
                <a:lnTo>
                  <a:pt x="551" y="340"/>
                </a:lnTo>
                <a:lnTo>
                  <a:pt x="551" y="322"/>
                </a:lnTo>
                <a:lnTo>
                  <a:pt x="549" y="307"/>
                </a:lnTo>
                <a:lnTo>
                  <a:pt x="547" y="292"/>
                </a:lnTo>
                <a:lnTo>
                  <a:pt x="545" y="278"/>
                </a:lnTo>
                <a:lnTo>
                  <a:pt x="543" y="267"/>
                </a:lnTo>
                <a:lnTo>
                  <a:pt x="539" y="255"/>
                </a:lnTo>
                <a:lnTo>
                  <a:pt x="535" y="247"/>
                </a:lnTo>
                <a:lnTo>
                  <a:pt x="534" y="238"/>
                </a:lnTo>
                <a:lnTo>
                  <a:pt x="530" y="232"/>
                </a:lnTo>
                <a:lnTo>
                  <a:pt x="526" y="226"/>
                </a:lnTo>
                <a:lnTo>
                  <a:pt x="522" y="224"/>
                </a:lnTo>
                <a:lnTo>
                  <a:pt x="520" y="224"/>
                </a:lnTo>
                <a:lnTo>
                  <a:pt x="514" y="224"/>
                </a:lnTo>
                <a:lnTo>
                  <a:pt x="511" y="223"/>
                </a:lnTo>
                <a:lnTo>
                  <a:pt x="505" y="223"/>
                </a:lnTo>
                <a:lnTo>
                  <a:pt x="497" y="223"/>
                </a:lnTo>
                <a:lnTo>
                  <a:pt x="489" y="223"/>
                </a:lnTo>
                <a:lnTo>
                  <a:pt x="482" y="224"/>
                </a:lnTo>
                <a:lnTo>
                  <a:pt x="472" y="224"/>
                </a:lnTo>
                <a:lnTo>
                  <a:pt x="463" y="226"/>
                </a:lnTo>
                <a:lnTo>
                  <a:pt x="451" y="228"/>
                </a:lnTo>
                <a:lnTo>
                  <a:pt x="440" y="228"/>
                </a:lnTo>
                <a:lnTo>
                  <a:pt x="426" y="230"/>
                </a:lnTo>
                <a:lnTo>
                  <a:pt x="413" y="234"/>
                </a:lnTo>
                <a:lnTo>
                  <a:pt x="399" y="236"/>
                </a:lnTo>
                <a:lnTo>
                  <a:pt x="384" y="238"/>
                </a:lnTo>
                <a:lnTo>
                  <a:pt x="369" y="242"/>
                </a:lnTo>
                <a:lnTo>
                  <a:pt x="351" y="246"/>
                </a:lnTo>
                <a:lnTo>
                  <a:pt x="334" y="249"/>
                </a:lnTo>
                <a:lnTo>
                  <a:pt x="315" y="253"/>
                </a:lnTo>
                <a:lnTo>
                  <a:pt x="296" y="257"/>
                </a:lnTo>
                <a:lnTo>
                  <a:pt x="276" y="263"/>
                </a:lnTo>
                <a:lnTo>
                  <a:pt x="255" y="269"/>
                </a:lnTo>
                <a:lnTo>
                  <a:pt x="234" y="272"/>
                </a:lnTo>
                <a:lnTo>
                  <a:pt x="211" y="278"/>
                </a:lnTo>
                <a:lnTo>
                  <a:pt x="188" y="286"/>
                </a:lnTo>
                <a:lnTo>
                  <a:pt x="165" y="292"/>
                </a:lnTo>
                <a:lnTo>
                  <a:pt x="140" y="299"/>
                </a:lnTo>
                <a:lnTo>
                  <a:pt x="115" y="307"/>
                </a:lnTo>
                <a:lnTo>
                  <a:pt x="88" y="315"/>
                </a:lnTo>
                <a:lnTo>
                  <a:pt x="61" y="322"/>
                </a:lnTo>
                <a:lnTo>
                  <a:pt x="33" y="330"/>
                </a:lnTo>
                <a:lnTo>
                  <a:pt x="17" y="265"/>
                </a:lnTo>
                <a:lnTo>
                  <a:pt x="0" y="199"/>
                </a:lnTo>
                <a:lnTo>
                  <a:pt x="27" y="194"/>
                </a:lnTo>
                <a:lnTo>
                  <a:pt x="54" y="188"/>
                </a:lnTo>
                <a:lnTo>
                  <a:pt x="81" y="182"/>
                </a:lnTo>
                <a:lnTo>
                  <a:pt x="106" y="176"/>
                </a:lnTo>
                <a:lnTo>
                  <a:pt x="131" y="171"/>
                </a:lnTo>
                <a:lnTo>
                  <a:pt x="155" y="165"/>
                </a:lnTo>
                <a:lnTo>
                  <a:pt x="179" y="159"/>
                </a:lnTo>
                <a:lnTo>
                  <a:pt x="202" y="153"/>
                </a:lnTo>
                <a:lnTo>
                  <a:pt x="223" y="148"/>
                </a:lnTo>
                <a:lnTo>
                  <a:pt x="244" y="142"/>
                </a:lnTo>
                <a:lnTo>
                  <a:pt x="263" y="138"/>
                </a:lnTo>
                <a:lnTo>
                  <a:pt x="282" y="132"/>
                </a:lnTo>
                <a:lnTo>
                  <a:pt x="301" y="127"/>
                </a:lnTo>
                <a:lnTo>
                  <a:pt x="319" y="123"/>
                </a:lnTo>
                <a:lnTo>
                  <a:pt x="336" y="117"/>
                </a:lnTo>
                <a:lnTo>
                  <a:pt x="351" y="111"/>
                </a:lnTo>
                <a:lnTo>
                  <a:pt x="367" y="107"/>
                </a:lnTo>
                <a:lnTo>
                  <a:pt x="382" y="102"/>
                </a:lnTo>
                <a:lnTo>
                  <a:pt x="395" y="98"/>
                </a:lnTo>
                <a:lnTo>
                  <a:pt x="409" y="94"/>
                </a:lnTo>
                <a:lnTo>
                  <a:pt x="420" y="88"/>
                </a:lnTo>
                <a:lnTo>
                  <a:pt x="432" y="84"/>
                </a:lnTo>
                <a:lnTo>
                  <a:pt x="443" y="81"/>
                </a:lnTo>
                <a:lnTo>
                  <a:pt x="453" y="77"/>
                </a:lnTo>
                <a:lnTo>
                  <a:pt x="463" y="71"/>
                </a:lnTo>
                <a:lnTo>
                  <a:pt x="470" y="67"/>
                </a:lnTo>
                <a:lnTo>
                  <a:pt x="478" y="63"/>
                </a:lnTo>
                <a:lnTo>
                  <a:pt x="484" y="59"/>
                </a:lnTo>
                <a:lnTo>
                  <a:pt x="489" y="56"/>
                </a:lnTo>
                <a:lnTo>
                  <a:pt x="495" y="52"/>
                </a:lnTo>
                <a:lnTo>
                  <a:pt x="499" y="48"/>
                </a:lnTo>
                <a:lnTo>
                  <a:pt x="503" y="44"/>
                </a:lnTo>
                <a:lnTo>
                  <a:pt x="507" y="36"/>
                </a:lnTo>
                <a:lnTo>
                  <a:pt x="512" y="31"/>
                </a:lnTo>
                <a:lnTo>
                  <a:pt x="516" y="25"/>
                </a:lnTo>
                <a:lnTo>
                  <a:pt x="522" y="19"/>
                </a:lnTo>
                <a:lnTo>
                  <a:pt x="528" y="15"/>
                </a:lnTo>
                <a:lnTo>
                  <a:pt x="534" y="11"/>
                </a:lnTo>
                <a:lnTo>
                  <a:pt x="539" y="8"/>
                </a:lnTo>
                <a:lnTo>
                  <a:pt x="545" y="6"/>
                </a:lnTo>
                <a:lnTo>
                  <a:pt x="553" y="4"/>
                </a:lnTo>
                <a:lnTo>
                  <a:pt x="560" y="2"/>
                </a:lnTo>
                <a:lnTo>
                  <a:pt x="568" y="0"/>
                </a:lnTo>
                <a:lnTo>
                  <a:pt x="576" y="0"/>
                </a:lnTo>
                <a:lnTo>
                  <a:pt x="585" y="0"/>
                </a:lnTo>
                <a:lnTo>
                  <a:pt x="595" y="2"/>
                </a:lnTo>
                <a:lnTo>
                  <a:pt x="605" y="4"/>
                </a:lnTo>
                <a:lnTo>
                  <a:pt x="614" y="6"/>
                </a:lnTo>
                <a:lnTo>
                  <a:pt x="635" y="11"/>
                </a:lnTo>
                <a:lnTo>
                  <a:pt x="654" y="17"/>
                </a:lnTo>
                <a:lnTo>
                  <a:pt x="674" y="25"/>
                </a:lnTo>
                <a:lnTo>
                  <a:pt x="693" y="34"/>
                </a:lnTo>
                <a:lnTo>
                  <a:pt x="712" y="44"/>
                </a:lnTo>
                <a:lnTo>
                  <a:pt x="731" y="56"/>
                </a:lnTo>
                <a:lnTo>
                  <a:pt x="750" y="69"/>
                </a:lnTo>
                <a:lnTo>
                  <a:pt x="772" y="82"/>
                </a:lnTo>
                <a:lnTo>
                  <a:pt x="779" y="90"/>
                </a:lnTo>
                <a:lnTo>
                  <a:pt x="787" y="98"/>
                </a:lnTo>
                <a:lnTo>
                  <a:pt x="795" y="104"/>
                </a:lnTo>
                <a:lnTo>
                  <a:pt x="800" y="109"/>
                </a:lnTo>
                <a:lnTo>
                  <a:pt x="806" y="117"/>
                </a:lnTo>
                <a:lnTo>
                  <a:pt x="812" y="123"/>
                </a:lnTo>
                <a:lnTo>
                  <a:pt x="818" y="127"/>
                </a:lnTo>
                <a:lnTo>
                  <a:pt x="821" y="132"/>
                </a:lnTo>
                <a:lnTo>
                  <a:pt x="825" y="136"/>
                </a:lnTo>
                <a:lnTo>
                  <a:pt x="829" y="142"/>
                </a:lnTo>
                <a:lnTo>
                  <a:pt x="831" y="146"/>
                </a:lnTo>
                <a:lnTo>
                  <a:pt x="835" y="150"/>
                </a:lnTo>
                <a:lnTo>
                  <a:pt x="837" y="153"/>
                </a:lnTo>
                <a:lnTo>
                  <a:pt x="837" y="155"/>
                </a:lnTo>
                <a:lnTo>
                  <a:pt x="839" y="159"/>
                </a:lnTo>
                <a:lnTo>
                  <a:pt x="839" y="161"/>
                </a:lnTo>
                <a:lnTo>
                  <a:pt x="835" y="167"/>
                </a:lnTo>
                <a:lnTo>
                  <a:pt x="829" y="173"/>
                </a:lnTo>
                <a:lnTo>
                  <a:pt x="825" y="180"/>
                </a:lnTo>
                <a:lnTo>
                  <a:pt x="819" y="188"/>
                </a:lnTo>
                <a:lnTo>
                  <a:pt x="812" y="198"/>
                </a:lnTo>
                <a:lnTo>
                  <a:pt x="804" y="207"/>
                </a:lnTo>
                <a:lnTo>
                  <a:pt x="795" y="217"/>
                </a:lnTo>
                <a:lnTo>
                  <a:pt x="789" y="221"/>
                </a:lnTo>
                <a:lnTo>
                  <a:pt x="783" y="226"/>
                </a:lnTo>
                <a:lnTo>
                  <a:pt x="775" y="234"/>
                </a:lnTo>
                <a:lnTo>
                  <a:pt x="770" y="242"/>
                </a:lnTo>
                <a:lnTo>
                  <a:pt x="764" y="251"/>
                </a:lnTo>
                <a:lnTo>
                  <a:pt x="758" y="261"/>
                </a:lnTo>
                <a:lnTo>
                  <a:pt x="754" y="270"/>
                </a:lnTo>
                <a:lnTo>
                  <a:pt x="748" y="282"/>
                </a:lnTo>
                <a:lnTo>
                  <a:pt x="743" y="294"/>
                </a:lnTo>
                <a:lnTo>
                  <a:pt x="737" y="307"/>
                </a:lnTo>
                <a:lnTo>
                  <a:pt x="731" y="318"/>
                </a:lnTo>
                <a:lnTo>
                  <a:pt x="727" y="334"/>
                </a:lnTo>
                <a:lnTo>
                  <a:pt x="722" y="347"/>
                </a:lnTo>
                <a:lnTo>
                  <a:pt x="716" y="363"/>
                </a:lnTo>
                <a:lnTo>
                  <a:pt x="710" y="380"/>
                </a:lnTo>
                <a:lnTo>
                  <a:pt x="704" y="397"/>
                </a:lnTo>
                <a:lnTo>
                  <a:pt x="699" y="414"/>
                </a:lnTo>
                <a:lnTo>
                  <a:pt x="693" y="43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2095560" y="3105000"/>
            <a:ext cx="469800" cy="196920"/>
          </a:xfrm>
          <a:custGeom>
            <a:avLst/>
            <a:gdLst/>
            <a:ahLst/>
            <a:rect l="l" t="t" r="r" b="b"/>
            <a:pathLst>
              <a:path w="593" h="248">
                <a:moveTo>
                  <a:pt x="547" y="117"/>
                </a:moveTo>
                <a:lnTo>
                  <a:pt x="541" y="121"/>
                </a:lnTo>
                <a:lnTo>
                  <a:pt x="533" y="123"/>
                </a:lnTo>
                <a:lnTo>
                  <a:pt x="524" y="127"/>
                </a:lnTo>
                <a:lnTo>
                  <a:pt x="514" y="129"/>
                </a:lnTo>
                <a:lnTo>
                  <a:pt x="503" y="133"/>
                </a:lnTo>
                <a:lnTo>
                  <a:pt x="491" y="139"/>
                </a:lnTo>
                <a:lnTo>
                  <a:pt x="478" y="142"/>
                </a:lnTo>
                <a:lnTo>
                  <a:pt x="464" y="146"/>
                </a:lnTo>
                <a:lnTo>
                  <a:pt x="449" y="152"/>
                </a:lnTo>
                <a:lnTo>
                  <a:pt x="432" y="158"/>
                </a:lnTo>
                <a:lnTo>
                  <a:pt x="414" y="164"/>
                </a:lnTo>
                <a:lnTo>
                  <a:pt x="397" y="169"/>
                </a:lnTo>
                <a:lnTo>
                  <a:pt x="378" y="175"/>
                </a:lnTo>
                <a:lnTo>
                  <a:pt x="357" y="181"/>
                </a:lnTo>
                <a:lnTo>
                  <a:pt x="336" y="188"/>
                </a:lnTo>
                <a:lnTo>
                  <a:pt x="313" y="196"/>
                </a:lnTo>
                <a:lnTo>
                  <a:pt x="290" y="204"/>
                </a:lnTo>
                <a:lnTo>
                  <a:pt x="267" y="210"/>
                </a:lnTo>
                <a:lnTo>
                  <a:pt x="246" y="215"/>
                </a:lnTo>
                <a:lnTo>
                  <a:pt x="222" y="221"/>
                </a:lnTo>
                <a:lnTo>
                  <a:pt x="201" y="225"/>
                </a:lnTo>
                <a:lnTo>
                  <a:pt x="180" y="231"/>
                </a:lnTo>
                <a:lnTo>
                  <a:pt x="159" y="233"/>
                </a:lnTo>
                <a:lnTo>
                  <a:pt x="140" y="236"/>
                </a:lnTo>
                <a:lnTo>
                  <a:pt x="119" y="240"/>
                </a:lnTo>
                <a:lnTo>
                  <a:pt x="102" y="242"/>
                </a:lnTo>
                <a:lnTo>
                  <a:pt x="82" y="244"/>
                </a:lnTo>
                <a:lnTo>
                  <a:pt x="65" y="246"/>
                </a:lnTo>
                <a:lnTo>
                  <a:pt x="48" y="246"/>
                </a:lnTo>
                <a:lnTo>
                  <a:pt x="31" y="248"/>
                </a:lnTo>
                <a:lnTo>
                  <a:pt x="15" y="248"/>
                </a:lnTo>
                <a:lnTo>
                  <a:pt x="0" y="248"/>
                </a:lnTo>
                <a:lnTo>
                  <a:pt x="0" y="144"/>
                </a:lnTo>
                <a:lnTo>
                  <a:pt x="8" y="144"/>
                </a:lnTo>
                <a:lnTo>
                  <a:pt x="15" y="142"/>
                </a:lnTo>
                <a:lnTo>
                  <a:pt x="27" y="140"/>
                </a:lnTo>
                <a:lnTo>
                  <a:pt x="38" y="139"/>
                </a:lnTo>
                <a:lnTo>
                  <a:pt x="54" y="137"/>
                </a:lnTo>
                <a:lnTo>
                  <a:pt x="69" y="133"/>
                </a:lnTo>
                <a:lnTo>
                  <a:pt x="86" y="129"/>
                </a:lnTo>
                <a:lnTo>
                  <a:pt x="105" y="125"/>
                </a:lnTo>
                <a:lnTo>
                  <a:pt x="127" y="119"/>
                </a:lnTo>
                <a:lnTo>
                  <a:pt x="150" y="114"/>
                </a:lnTo>
                <a:lnTo>
                  <a:pt x="173" y="108"/>
                </a:lnTo>
                <a:lnTo>
                  <a:pt x="198" y="100"/>
                </a:lnTo>
                <a:lnTo>
                  <a:pt x="224" y="92"/>
                </a:lnTo>
                <a:lnTo>
                  <a:pt x="253" y="85"/>
                </a:lnTo>
                <a:lnTo>
                  <a:pt x="282" y="75"/>
                </a:lnTo>
                <a:lnTo>
                  <a:pt x="313" y="66"/>
                </a:lnTo>
                <a:lnTo>
                  <a:pt x="343" y="58"/>
                </a:lnTo>
                <a:lnTo>
                  <a:pt x="372" y="52"/>
                </a:lnTo>
                <a:lnTo>
                  <a:pt x="399" y="45"/>
                </a:lnTo>
                <a:lnTo>
                  <a:pt x="426" y="39"/>
                </a:lnTo>
                <a:lnTo>
                  <a:pt x="449" y="33"/>
                </a:lnTo>
                <a:lnTo>
                  <a:pt x="472" y="27"/>
                </a:lnTo>
                <a:lnTo>
                  <a:pt x="493" y="23"/>
                </a:lnTo>
                <a:lnTo>
                  <a:pt x="510" y="18"/>
                </a:lnTo>
                <a:lnTo>
                  <a:pt x="528" y="14"/>
                </a:lnTo>
                <a:lnTo>
                  <a:pt x="543" y="10"/>
                </a:lnTo>
                <a:lnTo>
                  <a:pt x="551" y="10"/>
                </a:lnTo>
                <a:lnTo>
                  <a:pt x="556" y="8"/>
                </a:lnTo>
                <a:lnTo>
                  <a:pt x="562" y="6"/>
                </a:lnTo>
                <a:lnTo>
                  <a:pt x="568" y="6"/>
                </a:lnTo>
                <a:lnTo>
                  <a:pt x="572" y="4"/>
                </a:lnTo>
                <a:lnTo>
                  <a:pt x="577" y="2"/>
                </a:lnTo>
                <a:lnTo>
                  <a:pt x="581" y="2"/>
                </a:lnTo>
                <a:lnTo>
                  <a:pt x="583" y="2"/>
                </a:lnTo>
                <a:lnTo>
                  <a:pt x="587" y="0"/>
                </a:lnTo>
                <a:lnTo>
                  <a:pt x="589" y="0"/>
                </a:lnTo>
                <a:lnTo>
                  <a:pt x="591" y="0"/>
                </a:lnTo>
                <a:lnTo>
                  <a:pt x="593" y="0"/>
                </a:lnTo>
                <a:lnTo>
                  <a:pt x="593" y="12"/>
                </a:lnTo>
                <a:lnTo>
                  <a:pt x="591" y="23"/>
                </a:lnTo>
                <a:lnTo>
                  <a:pt x="591" y="35"/>
                </a:lnTo>
                <a:lnTo>
                  <a:pt x="589" y="45"/>
                </a:lnTo>
                <a:lnTo>
                  <a:pt x="589" y="54"/>
                </a:lnTo>
                <a:lnTo>
                  <a:pt x="587" y="64"/>
                </a:lnTo>
                <a:lnTo>
                  <a:pt x="585" y="71"/>
                </a:lnTo>
                <a:lnTo>
                  <a:pt x="583" y="79"/>
                </a:lnTo>
                <a:lnTo>
                  <a:pt x="579" y="85"/>
                </a:lnTo>
                <a:lnTo>
                  <a:pt x="576" y="92"/>
                </a:lnTo>
                <a:lnTo>
                  <a:pt x="572" y="98"/>
                </a:lnTo>
                <a:lnTo>
                  <a:pt x="568" y="102"/>
                </a:lnTo>
                <a:lnTo>
                  <a:pt x="564" y="108"/>
                </a:lnTo>
                <a:lnTo>
                  <a:pt x="558" y="112"/>
                </a:lnTo>
                <a:lnTo>
                  <a:pt x="554" y="116"/>
                </a:lnTo>
                <a:lnTo>
                  <a:pt x="547" y="11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>
            <a:off x="2556000" y="2733840"/>
            <a:ext cx="792000" cy="847440"/>
          </a:xfrm>
          <a:custGeom>
            <a:avLst/>
            <a:gdLst/>
            <a:ahLst/>
            <a:rect l="l" t="t" r="r" b="b"/>
            <a:pathLst>
              <a:path w="998" h="1067">
                <a:moveTo>
                  <a:pt x="651" y="326"/>
                </a:moveTo>
                <a:lnTo>
                  <a:pt x="670" y="305"/>
                </a:lnTo>
                <a:lnTo>
                  <a:pt x="689" y="284"/>
                </a:lnTo>
                <a:lnTo>
                  <a:pt x="707" y="265"/>
                </a:lnTo>
                <a:lnTo>
                  <a:pt x="726" y="248"/>
                </a:lnTo>
                <a:lnTo>
                  <a:pt x="743" y="229"/>
                </a:lnTo>
                <a:lnTo>
                  <a:pt x="758" y="211"/>
                </a:lnTo>
                <a:lnTo>
                  <a:pt x="776" y="194"/>
                </a:lnTo>
                <a:lnTo>
                  <a:pt x="791" y="179"/>
                </a:lnTo>
                <a:lnTo>
                  <a:pt x="806" y="163"/>
                </a:lnTo>
                <a:lnTo>
                  <a:pt x="822" y="148"/>
                </a:lnTo>
                <a:lnTo>
                  <a:pt x="835" y="134"/>
                </a:lnTo>
                <a:lnTo>
                  <a:pt x="849" y="121"/>
                </a:lnTo>
                <a:lnTo>
                  <a:pt x="862" y="108"/>
                </a:lnTo>
                <a:lnTo>
                  <a:pt x="875" y="96"/>
                </a:lnTo>
                <a:lnTo>
                  <a:pt x="887" y="85"/>
                </a:lnTo>
                <a:lnTo>
                  <a:pt x="899" y="75"/>
                </a:lnTo>
                <a:lnTo>
                  <a:pt x="908" y="63"/>
                </a:lnTo>
                <a:lnTo>
                  <a:pt x="920" y="56"/>
                </a:lnTo>
                <a:lnTo>
                  <a:pt x="929" y="46"/>
                </a:lnTo>
                <a:lnTo>
                  <a:pt x="937" y="39"/>
                </a:lnTo>
                <a:lnTo>
                  <a:pt x="946" y="31"/>
                </a:lnTo>
                <a:lnTo>
                  <a:pt x="954" y="25"/>
                </a:lnTo>
                <a:lnTo>
                  <a:pt x="962" y="19"/>
                </a:lnTo>
                <a:lnTo>
                  <a:pt x="968" y="14"/>
                </a:lnTo>
                <a:lnTo>
                  <a:pt x="973" y="10"/>
                </a:lnTo>
                <a:lnTo>
                  <a:pt x="979" y="6"/>
                </a:lnTo>
                <a:lnTo>
                  <a:pt x="983" y="4"/>
                </a:lnTo>
                <a:lnTo>
                  <a:pt x="987" y="2"/>
                </a:lnTo>
                <a:lnTo>
                  <a:pt x="991" y="0"/>
                </a:lnTo>
                <a:lnTo>
                  <a:pt x="993" y="0"/>
                </a:lnTo>
                <a:lnTo>
                  <a:pt x="996" y="0"/>
                </a:lnTo>
                <a:lnTo>
                  <a:pt x="998" y="2"/>
                </a:lnTo>
                <a:lnTo>
                  <a:pt x="998" y="4"/>
                </a:lnTo>
                <a:lnTo>
                  <a:pt x="998" y="6"/>
                </a:lnTo>
                <a:lnTo>
                  <a:pt x="998" y="10"/>
                </a:lnTo>
                <a:lnTo>
                  <a:pt x="996" y="14"/>
                </a:lnTo>
                <a:lnTo>
                  <a:pt x="994" y="17"/>
                </a:lnTo>
                <a:lnTo>
                  <a:pt x="993" y="21"/>
                </a:lnTo>
                <a:lnTo>
                  <a:pt x="991" y="27"/>
                </a:lnTo>
                <a:lnTo>
                  <a:pt x="989" y="33"/>
                </a:lnTo>
                <a:lnTo>
                  <a:pt x="985" y="39"/>
                </a:lnTo>
                <a:lnTo>
                  <a:pt x="981" y="46"/>
                </a:lnTo>
                <a:lnTo>
                  <a:pt x="977" y="54"/>
                </a:lnTo>
                <a:lnTo>
                  <a:pt x="973" y="62"/>
                </a:lnTo>
                <a:lnTo>
                  <a:pt x="968" y="69"/>
                </a:lnTo>
                <a:lnTo>
                  <a:pt x="962" y="79"/>
                </a:lnTo>
                <a:lnTo>
                  <a:pt x="956" y="88"/>
                </a:lnTo>
                <a:lnTo>
                  <a:pt x="950" y="98"/>
                </a:lnTo>
                <a:lnTo>
                  <a:pt x="945" y="108"/>
                </a:lnTo>
                <a:lnTo>
                  <a:pt x="937" y="119"/>
                </a:lnTo>
                <a:lnTo>
                  <a:pt x="931" y="131"/>
                </a:lnTo>
                <a:lnTo>
                  <a:pt x="923" y="142"/>
                </a:lnTo>
                <a:lnTo>
                  <a:pt x="916" y="156"/>
                </a:lnTo>
                <a:lnTo>
                  <a:pt x="906" y="169"/>
                </a:lnTo>
                <a:lnTo>
                  <a:pt x="899" y="182"/>
                </a:lnTo>
                <a:lnTo>
                  <a:pt x="889" y="198"/>
                </a:lnTo>
                <a:lnTo>
                  <a:pt x="881" y="211"/>
                </a:lnTo>
                <a:lnTo>
                  <a:pt x="872" y="227"/>
                </a:lnTo>
                <a:lnTo>
                  <a:pt x="860" y="244"/>
                </a:lnTo>
                <a:lnTo>
                  <a:pt x="851" y="259"/>
                </a:lnTo>
                <a:lnTo>
                  <a:pt x="841" y="276"/>
                </a:lnTo>
                <a:lnTo>
                  <a:pt x="829" y="294"/>
                </a:lnTo>
                <a:lnTo>
                  <a:pt x="818" y="313"/>
                </a:lnTo>
                <a:lnTo>
                  <a:pt x="793" y="349"/>
                </a:lnTo>
                <a:lnTo>
                  <a:pt x="768" y="384"/>
                </a:lnTo>
                <a:lnTo>
                  <a:pt x="745" y="420"/>
                </a:lnTo>
                <a:lnTo>
                  <a:pt x="720" y="455"/>
                </a:lnTo>
                <a:lnTo>
                  <a:pt x="695" y="489"/>
                </a:lnTo>
                <a:lnTo>
                  <a:pt x="672" y="522"/>
                </a:lnTo>
                <a:lnTo>
                  <a:pt x="647" y="555"/>
                </a:lnTo>
                <a:lnTo>
                  <a:pt x="624" y="587"/>
                </a:lnTo>
                <a:lnTo>
                  <a:pt x="576" y="651"/>
                </a:lnTo>
                <a:lnTo>
                  <a:pt x="530" y="712"/>
                </a:lnTo>
                <a:lnTo>
                  <a:pt x="484" y="774"/>
                </a:lnTo>
                <a:lnTo>
                  <a:pt x="438" y="833"/>
                </a:lnTo>
                <a:lnTo>
                  <a:pt x="415" y="862"/>
                </a:lnTo>
                <a:lnTo>
                  <a:pt x="396" y="889"/>
                </a:lnTo>
                <a:lnTo>
                  <a:pt x="375" y="914"/>
                </a:lnTo>
                <a:lnTo>
                  <a:pt x="357" y="937"/>
                </a:lnTo>
                <a:lnTo>
                  <a:pt x="340" y="958"/>
                </a:lnTo>
                <a:lnTo>
                  <a:pt x="325" y="977"/>
                </a:lnTo>
                <a:lnTo>
                  <a:pt x="309" y="994"/>
                </a:lnTo>
                <a:lnTo>
                  <a:pt x="296" y="1010"/>
                </a:lnTo>
                <a:lnTo>
                  <a:pt x="284" y="1023"/>
                </a:lnTo>
                <a:lnTo>
                  <a:pt x="273" y="1034"/>
                </a:lnTo>
                <a:lnTo>
                  <a:pt x="263" y="1044"/>
                </a:lnTo>
                <a:lnTo>
                  <a:pt x="256" y="1052"/>
                </a:lnTo>
                <a:lnTo>
                  <a:pt x="250" y="1059"/>
                </a:lnTo>
                <a:lnTo>
                  <a:pt x="244" y="1063"/>
                </a:lnTo>
                <a:lnTo>
                  <a:pt x="240" y="1067"/>
                </a:lnTo>
                <a:lnTo>
                  <a:pt x="236" y="1067"/>
                </a:lnTo>
                <a:lnTo>
                  <a:pt x="233" y="1067"/>
                </a:lnTo>
                <a:lnTo>
                  <a:pt x="227" y="1065"/>
                </a:lnTo>
                <a:lnTo>
                  <a:pt x="221" y="1065"/>
                </a:lnTo>
                <a:lnTo>
                  <a:pt x="215" y="1063"/>
                </a:lnTo>
                <a:lnTo>
                  <a:pt x="210" y="1059"/>
                </a:lnTo>
                <a:lnTo>
                  <a:pt x="202" y="1058"/>
                </a:lnTo>
                <a:lnTo>
                  <a:pt x="194" y="1054"/>
                </a:lnTo>
                <a:lnTo>
                  <a:pt x="187" y="1050"/>
                </a:lnTo>
                <a:lnTo>
                  <a:pt x="177" y="1044"/>
                </a:lnTo>
                <a:lnTo>
                  <a:pt x="169" y="1040"/>
                </a:lnTo>
                <a:lnTo>
                  <a:pt x="160" y="1034"/>
                </a:lnTo>
                <a:lnTo>
                  <a:pt x="148" y="1029"/>
                </a:lnTo>
                <a:lnTo>
                  <a:pt x="139" y="1023"/>
                </a:lnTo>
                <a:lnTo>
                  <a:pt x="127" y="1017"/>
                </a:lnTo>
                <a:lnTo>
                  <a:pt x="116" y="1010"/>
                </a:lnTo>
                <a:lnTo>
                  <a:pt x="102" y="1002"/>
                </a:lnTo>
                <a:lnTo>
                  <a:pt x="91" y="994"/>
                </a:lnTo>
                <a:lnTo>
                  <a:pt x="79" y="987"/>
                </a:lnTo>
                <a:lnTo>
                  <a:pt x="70" y="981"/>
                </a:lnTo>
                <a:lnTo>
                  <a:pt x="58" y="973"/>
                </a:lnTo>
                <a:lnTo>
                  <a:pt x="50" y="965"/>
                </a:lnTo>
                <a:lnTo>
                  <a:pt x="41" y="958"/>
                </a:lnTo>
                <a:lnTo>
                  <a:pt x="33" y="952"/>
                </a:lnTo>
                <a:lnTo>
                  <a:pt x="27" y="944"/>
                </a:lnTo>
                <a:lnTo>
                  <a:pt x="22" y="939"/>
                </a:lnTo>
                <a:lnTo>
                  <a:pt x="16" y="933"/>
                </a:lnTo>
                <a:lnTo>
                  <a:pt x="12" y="925"/>
                </a:lnTo>
                <a:lnTo>
                  <a:pt x="8" y="919"/>
                </a:lnTo>
                <a:lnTo>
                  <a:pt x="6" y="914"/>
                </a:lnTo>
                <a:lnTo>
                  <a:pt x="4" y="908"/>
                </a:lnTo>
                <a:lnTo>
                  <a:pt x="2" y="904"/>
                </a:lnTo>
                <a:lnTo>
                  <a:pt x="2" y="898"/>
                </a:lnTo>
                <a:lnTo>
                  <a:pt x="0" y="892"/>
                </a:lnTo>
                <a:lnTo>
                  <a:pt x="0" y="889"/>
                </a:lnTo>
                <a:lnTo>
                  <a:pt x="0" y="883"/>
                </a:lnTo>
                <a:lnTo>
                  <a:pt x="2" y="879"/>
                </a:lnTo>
                <a:lnTo>
                  <a:pt x="4" y="873"/>
                </a:lnTo>
                <a:lnTo>
                  <a:pt x="8" y="869"/>
                </a:lnTo>
                <a:lnTo>
                  <a:pt x="12" y="866"/>
                </a:lnTo>
                <a:lnTo>
                  <a:pt x="16" y="860"/>
                </a:lnTo>
                <a:lnTo>
                  <a:pt x="22" y="856"/>
                </a:lnTo>
                <a:lnTo>
                  <a:pt x="27" y="852"/>
                </a:lnTo>
                <a:lnTo>
                  <a:pt x="35" y="848"/>
                </a:lnTo>
                <a:lnTo>
                  <a:pt x="43" y="845"/>
                </a:lnTo>
                <a:lnTo>
                  <a:pt x="52" y="843"/>
                </a:lnTo>
                <a:lnTo>
                  <a:pt x="60" y="839"/>
                </a:lnTo>
                <a:lnTo>
                  <a:pt x="70" y="835"/>
                </a:lnTo>
                <a:lnTo>
                  <a:pt x="81" y="833"/>
                </a:lnTo>
                <a:lnTo>
                  <a:pt x="91" y="831"/>
                </a:lnTo>
                <a:lnTo>
                  <a:pt x="100" y="827"/>
                </a:lnTo>
                <a:lnTo>
                  <a:pt x="112" y="823"/>
                </a:lnTo>
                <a:lnTo>
                  <a:pt x="121" y="818"/>
                </a:lnTo>
                <a:lnTo>
                  <a:pt x="133" y="814"/>
                </a:lnTo>
                <a:lnTo>
                  <a:pt x="142" y="808"/>
                </a:lnTo>
                <a:lnTo>
                  <a:pt x="154" y="802"/>
                </a:lnTo>
                <a:lnTo>
                  <a:pt x="164" y="797"/>
                </a:lnTo>
                <a:lnTo>
                  <a:pt x="185" y="781"/>
                </a:lnTo>
                <a:lnTo>
                  <a:pt x="206" y="766"/>
                </a:lnTo>
                <a:lnTo>
                  <a:pt x="227" y="749"/>
                </a:lnTo>
                <a:lnTo>
                  <a:pt x="248" y="729"/>
                </a:lnTo>
                <a:lnTo>
                  <a:pt x="254" y="726"/>
                </a:lnTo>
                <a:lnTo>
                  <a:pt x="259" y="720"/>
                </a:lnTo>
                <a:lnTo>
                  <a:pt x="265" y="716"/>
                </a:lnTo>
                <a:lnTo>
                  <a:pt x="273" y="710"/>
                </a:lnTo>
                <a:lnTo>
                  <a:pt x="281" y="703"/>
                </a:lnTo>
                <a:lnTo>
                  <a:pt x="288" y="697"/>
                </a:lnTo>
                <a:lnTo>
                  <a:pt x="296" y="689"/>
                </a:lnTo>
                <a:lnTo>
                  <a:pt x="306" y="681"/>
                </a:lnTo>
                <a:lnTo>
                  <a:pt x="313" y="672"/>
                </a:lnTo>
                <a:lnTo>
                  <a:pt x="323" y="662"/>
                </a:lnTo>
                <a:lnTo>
                  <a:pt x="334" y="653"/>
                </a:lnTo>
                <a:lnTo>
                  <a:pt x="344" y="643"/>
                </a:lnTo>
                <a:lnTo>
                  <a:pt x="355" y="632"/>
                </a:lnTo>
                <a:lnTo>
                  <a:pt x="367" y="620"/>
                </a:lnTo>
                <a:lnTo>
                  <a:pt x="378" y="608"/>
                </a:lnTo>
                <a:lnTo>
                  <a:pt x="392" y="597"/>
                </a:lnTo>
                <a:lnTo>
                  <a:pt x="403" y="584"/>
                </a:lnTo>
                <a:lnTo>
                  <a:pt x="417" y="570"/>
                </a:lnTo>
                <a:lnTo>
                  <a:pt x="430" y="555"/>
                </a:lnTo>
                <a:lnTo>
                  <a:pt x="446" y="541"/>
                </a:lnTo>
                <a:lnTo>
                  <a:pt x="459" y="526"/>
                </a:lnTo>
                <a:lnTo>
                  <a:pt x="474" y="511"/>
                </a:lnTo>
                <a:lnTo>
                  <a:pt x="490" y="493"/>
                </a:lnTo>
                <a:lnTo>
                  <a:pt x="507" y="478"/>
                </a:lnTo>
                <a:lnTo>
                  <a:pt x="522" y="461"/>
                </a:lnTo>
                <a:lnTo>
                  <a:pt x="540" y="442"/>
                </a:lnTo>
                <a:lnTo>
                  <a:pt x="557" y="424"/>
                </a:lnTo>
                <a:lnTo>
                  <a:pt x="574" y="405"/>
                </a:lnTo>
                <a:lnTo>
                  <a:pt x="593" y="386"/>
                </a:lnTo>
                <a:lnTo>
                  <a:pt x="613" y="367"/>
                </a:lnTo>
                <a:lnTo>
                  <a:pt x="630" y="346"/>
                </a:lnTo>
                <a:lnTo>
                  <a:pt x="651" y="32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>
            <a:off x="2733840" y="2290680"/>
            <a:ext cx="995040" cy="1817640"/>
          </a:xfrm>
          <a:custGeom>
            <a:avLst/>
            <a:gdLst/>
            <a:ahLst/>
            <a:rect l="l" t="t" r="r" b="b"/>
            <a:pathLst>
              <a:path w="1253" h="2289">
                <a:moveTo>
                  <a:pt x="727" y="2289"/>
                </a:moveTo>
                <a:lnTo>
                  <a:pt x="723" y="2285"/>
                </a:lnTo>
                <a:lnTo>
                  <a:pt x="720" y="2283"/>
                </a:lnTo>
                <a:lnTo>
                  <a:pt x="716" y="2278"/>
                </a:lnTo>
                <a:lnTo>
                  <a:pt x="712" y="2274"/>
                </a:lnTo>
                <a:lnTo>
                  <a:pt x="710" y="2268"/>
                </a:lnTo>
                <a:lnTo>
                  <a:pt x="706" y="2262"/>
                </a:lnTo>
                <a:lnTo>
                  <a:pt x="704" y="2255"/>
                </a:lnTo>
                <a:lnTo>
                  <a:pt x="700" y="2247"/>
                </a:lnTo>
                <a:lnTo>
                  <a:pt x="698" y="2237"/>
                </a:lnTo>
                <a:lnTo>
                  <a:pt x="697" y="2228"/>
                </a:lnTo>
                <a:lnTo>
                  <a:pt x="693" y="2216"/>
                </a:lnTo>
                <a:lnTo>
                  <a:pt x="691" y="2205"/>
                </a:lnTo>
                <a:lnTo>
                  <a:pt x="689" y="2191"/>
                </a:lnTo>
                <a:lnTo>
                  <a:pt x="687" y="2178"/>
                </a:lnTo>
                <a:lnTo>
                  <a:pt x="685" y="2162"/>
                </a:lnTo>
                <a:lnTo>
                  <a:pt x="683" y="2145"/>
                </a:lnTo>
                <a:lnTo>
                  <a:pt x="679" y="2132"/>
                </a:lnTo>
                <a:lnTo>
                  <a:pt x="675" y="2116"/>
                </a:lnTo>
                <a:lnTo>
                  <a:pt x="672" y="2101"/>
                </a:lnTo>
                <a:lnTo>
                  <a:pt x="666" y="2088"/>
                </a:lnTo>
                <a:lnTo>
                  <a:pt x="660" y="2072"/>
                </a:lnTo>
                <a:lnTo>
                  <a:pt x="652" y="2057"/>
                </a:lnTo>
                <a:lnTo>
                  <a:pt x="643" y="2042"/>
                </a:lnTo>
                <a:lnTo>
                  <a:pt x="635" y="2026"/>
                </a:lnTo>
                <a:lnTo>
                  <a:pt x="626" y="2013"/>
                </a:lnTo>
                <a:lnTo>
                  <a:pt x="614" y="1995"/>
                </a:lnTo>
                <a:lnTo>
                  <a:pt x="603" y="1980"/>
                </a:lnTo>
                <a:lnTo>
                  <a:pt x="591" y="1965"/>
                </a:lnTo>
                <a:lnTo>
                  <a:pt x="578" y="1949"/>
                </a:lnTo>
                <a:lnTo>
                  <a:pt x="566" y="1932"/>
                </a:lnTo>
                <a:lnTo>
                  <a:pt x="551" y="1915"/>
                </a:lnTo>
                <a:lnTo>
                  <a:pt x="537" y="1898"/>
                </a:lnTo>
                <a:lnTo>
                  <a:pt x="522" y="1882"/>
                </a:lnTo>
                <a:lnTo>
                  <a:pt x="507" y="1865"/>
                </a:lnTo>
                <a:lnTo>
                  <a:pt x="491" y="1852"/>
                </a:lnTo>
                <a:lnTo>
                  <a:pt x="480" y="1836"/>
                </a:lnTo>
                <a:lnTo>
                  <a:pt x="466" y="1825"/>
                </a:lnTo>
                <a:lnTo>
                  <a:pt x="457" y="1811"/>
                </a:lnTo>
                <a:lnTo>
                  <a:pt x="447" y="1802"/>
                </a:lnTo>
                <a:lnTo>
                  <a:pt x="437" y="1790"/>
                </a:lnTo>
                <a:lnTo>
                  <a:pt x="432" y="1782"/>
                </a:lnTo>
                <a:lnTo>
                  <a:pt x="424" y="1773"/>
                </a:lnTo>
                <a:lnTo>
                  <a:pt x="420" y="1765"/>
                </a:lnTo>
                <a:lnTo>
                  <a:pt x="416" y="1759"/>
                </a:lnTo>
                <a:lnTo>
                  <a:pt x="414" y="1754"/>
                </a:lnTo>
                <a:lnTo>
                  <a:pt x="413" y="1750"/>
                </a:lnTo>
                <a:lnTo>
                  <a:pt x="413" y="1746"/>
                </a:lnTo>
                <a:lnTo>
                  <a:pt x="414" y="1742"/>
                </a:lnTo>
                <a:lnTo>
                  <a:pt x="414" y="1740"/>
                </a:lnTo>
                <a:lnTo>
                  <a:pt x="416" y="1738"/>
                </a:lnTo>
                <a:lnTo>
                  <a:pt x="420" y="1738"/>
                </a:lnTo>
                <a:lnTo>
                  <a:pt x="424" y="1736"/>
                </a:lnTo>
                <a:lnTo>
                  <a:pt x="430" y="1738"/>
                </a:lnTo>
                <a:lnTo>
                  <a:pt x="437" y="1738"/>
                </a:lnTo>
                <a:lnTo>
                  <a:pt x="445" y="1740"/>
                </a:lnTo>
                <a:lnTo>
                  <a:pt x="455" y="1742"/>
                </a:lnTo>
                <a:lnTo>
                  <a:pt x="466" y="1744"/>
                </a:lnTo>
                <a:lnTo>
                  <a:pt x="478" y="1748"/>
                </a:lnTo>
                <a:lnTo>
                  <a:pt x="489" y="1752"/>
                </a:lnTo>
                <a:lnTo>
                  <a:pt x="505" y="1758"/>
                </a:lnTo>
                <a:lnTo>
                  <a:pt x="518" y="1761"/>
                </a:lnTo>
                <a:lnTo>
                  <a:pt x="535" y="1767"/>
                </a:lnTo>
                <a:lnTo>
                  <a:pt x="553" y="1775"/>
                </a:lnTo>
                <a:lnTo>
                  <a:pt x="570" y="1781"/>
                </a:lnTo>
                <a:lnTo>
                  <a:pt x="589" y="1790"/>
                </a:lnTo>
                <a:lnTo>
                  <a:pt x="606" y="1800"/>
                </a:lnTo>
                <a:lnTo>
                  <a:pt x="626" y="1807"/>
                </a:lnTo>
                <a:lnTo>
                  <a:pt x="641" y="1813"/>
                </a:lnTo>
                <a:lnTo>
                  <a:pt x="658" y="1819"/>
                </a:lnTo>
                <a:lnTo>
                  <a:pt x="674" y="1825"/>
                </a:lnTo>
                <a:lnTo>
                  <a:pt x="689" y="1829"/>
                </a:lnTo>
                <a:lnTo>
                  <a:pt x="702" y="1830"/>
                </a:lnTo>
                <a:lnTo>
                  <a:pt x="716" y="1832"/>
                </a:lnTo>
                <a:lnTo>
                  <a:pt x="727" y="1834"/>
                </a:lnTo>
                <a:lnTo>
                  <a:pt x="739" y="1834"/>
                </a:lnTo>
                <a:lnTo>
                  <a:pt x="750" y="1832"/>
                </a:lnTo>
                <a:lnTo>
                  <a:pt x="760" y="1830"/>
                </a:lnTo>
                <a:lnTo>
                  <a:pt x="769" y="1829"/>
                </a:lnTo>
                <a:lnTo>
                  <a:pt x="777" y="1825"/>
                </a:lnTo>
                <a:lnTo>
                  <a:pt x="783" y="1821"/>
                </a:lnTo>
                <a:lnTo>
                  <a:pt x="789" y="1817"/>
                </a:lnTo>
                <a:lnTo>
                  <a:pt x="794" y="1813"/>
                </a:lnTo>
                <a:lnTo>
                  <a:pt x="800" y="1809"/>
                </a:lnTo>
                <a:lnTo>
                  <a:pt x="806" y="1804"/>
                </a:lnTo>
                <a:lnTo>
                  <a:pt x="812" y="1798"/>
                </a:lnTo>
                <a:lnTo>
                  <a:pt x="817" y="1790"/>
                </a:lnTo>
                <a:lnTo>
                  <a:pt x="821" y="1782"/>
                </a:lnTo>
                <a:lnTo>
                  <a:pt x="827" y="1773"/>
                </a:lnTo>
                <a:lnTo>
                  <a:pt x="831" y="1763"/>
                </a:lnTo>
                <a:lnTo>
                  <a:pt x="837" y="1754"/>
                </a:lnTo>
                <a:lnTo>
                  <a:pt x="840" y="1742"/>
                </a:lnTo>
                <a:lnTo>
                  <a:pt x="844" y="1731"/>
                </a:lnTo>
                <a:lnTo>
                  <a:pt x="848" y="1719"/>
                </a:lnTo>
                <a:lnTo>
                  <a:pt x="854" y="1706"/>
                </a:lnTo>
                <a:lnTo>
                  <a:pt x="858" y="1692"/>
                </a:lnTo>
                <a:lnTo>
                  <a:pt x="862" y="1677"/>
                </a:lnTo>
                <a:lnTo>
                  <a:pt x="863" y="1669"/>
                </a:lnTo>
                <a:lnTo>
                  <a:pt x="865" y="1662"/>
                </a:lnTo>
                <a:lnTo>
                  <a:pt x="867" y="1652"/>
                </a:lnTo>
                <a:lnTo>
                  <a:pt x="869" y="1644"/>
                </a:lnTo>
                <a:lnTo>
                  <a:pt x="871" y="1635"/>
                </a:lnTo>
                <a:lnTo>
                  <a:pt x="873" y="1623"/>
                </a:lnTo>
                <a:lnTo>
                  <a:pt x="877" y="1614"/>
                </a:lnTo>
                <a:lnTo>
                  <a:pt x="879" y="1602"/>
                </a:lnTo>
                <a:lnTo>
                  <a:pt x="881" y="1591"/>
                </a:lnTo>
                <a:lnTo>
                  <a:pt x="883" y="1577"/>
                </a:lnTo>
                <a:lnTo>
                  <a:pt x="885" y="1564"/>
                </a:lnTo>
                <a:lnTo>
                  <a:pt x="887" y="1550"/>
                </a:lnTo>
                <a:lnTo>
                  <a:pt x="888" y="1537"/>
                </a:lnTo>
                <a:lnTo>
                  <a:pt x="892" y="1521"/>
                </a:lnTo>
                <a:lnTo>
                  <a:pt x="894" y="1508"/>
                </a:lnTo>
                <a:lnTo>
                  <a:pt x="896" y="1493"/>
                </a:lnTo>
                <a:lnTo>
                  <a:pt x="898" y="1475"/>
                </a:lnTo>
                <a:lnTo>
                  <a:pt x="902" y="1458"/>
                </a:lnTo>
                <a:lnTo>
                  <a:pt x="904" y="1443"/>
                </a:lnTo>
                <a:lnTo>
                  <a:pt x="906" y="1424"/>
                </a:lnTo>
                <a:lnTo>
                  <a:pt x="910" y="1406"/>
                </a:lnTo>
                <a:lnTo>
                  <a:pt x="911" y="1387"/>
                </a:lnTo>
                <a:lnTo>
                  <a:pt x="913" y="1368"/>
                </a:lnTo>
                <a:lnTo>
                  <a:pt x="917" y="1349"/>
                </a:lnTo>
                <a:lnTo>
                  <a:pt x="919" y="1328"/>
                </a:lnTo>
                <a:lnTo>
                  <a:pt x="923" y="1307"/>
                </a:lnTo>
                <a:lnTo>
                  <a:pt x="925" y="1285"/>
                </a:lnTo>
                <a:lnTo>
                  <a:pt x="927" y="1262"/>
                </a:lnTo>
                <a:lnTo>
                  <a:pt x="931" y="1241"/>
                </a:lnTo>
                <a:lnTo>
                  <a:pt x="933" y="1218"/>
                </a:lnTo>
                <a:lnTo>
                  <a:pt x="936" y="1193"/>
                </a:lnTo>
                <a:lnTo>
                  <a:pt x="940" y="1170"/>
                </a:lnTo>
                <a:lnTo>
                  <a:pt x="946" y="1122"/>
                </a:lnTo>
                <a:lnTo>
                  <a:pt x="952" y="1074"/>
                </a:lnTo>
                <a:lnTo>
                  <a:pt x="956" y="1028"/>
                </a:lnTo>
                <a:lnTo>
                  <a:pt x="961" y="982"/>
                </a:lnTo>
                <a:lnTo>
                  <a:pt x="965" y="938"/>
                </a:lnTo>
                <a:lnTo>
                  <a:pt x="969" y="894"/>
                </a:lnTo>
                <a:lnTo>
                  <a:pt x="971" y="852"/>
                </a:lnTo>
                <a:lnTo>
                  <a:pt x="975" y="810"/>
                </a:lnTo>
                <a:lnTo>
                  <a:pt x="977" y="769"/>
                </a:lnTo>
                <a:lnTo>
                  <a:pt x="979" y="731"/>
                </a:lnTo>
                <a:lnTo>
                  <a:pt x="981" y="692"/>
                </a:lnTo>
                <a:lnTo>
                  <a:pt x="982" y="656"/>
                </a:lnTo>
                <a:lnTo>
                  <a:pt x="982" y="620"/>
                </a:lnTo>
                <a:lnTo>
                  <a:pt x="984" y="585"/>
                </a:lnTo>
                <a:lnTo>
                  <a:pt x="984" y="552"/>
                </a:lnTo>
                <a:lnTo>
                  <a:pt x="984" y="520"/>
                </a:lnTo>
                <a:lnTo>
                  <a:pt x="984" y="489"/>
                </a:lnTo>
                <a:lnTo>
                  <a:pt x="984" y="458"/>
                </a:lnTo>
                <a:lnTo>
                  <a:pt x="982" y="432"/>
                </a:lnTo>
                <a:lnTo>
                  <a:pt x="982" y="405"/>
                </a:lnTo>
                <a:lnTo>
                  <a:pt x="981" y="380"/>
                </a:lnTo>
                <a:lnTo>
                  <a:pt x="981" y="357"/>
                </a:lnTo>
                <a:lnTo>
                  <a:pt x="979" y="336"/>
                </a:lnTo>
                <a:lnTo>
                  <a:pt x="977" y="316"/>
                </a:lnTo>
                <a:lnTo>
                  <a:pt x="975" y="297"/>
                </a:lnTo>
                <a:lnTo>
                  <a:pt x="973" y="282"/>
                </a:lnTo>
                <a:lnTo>
                  <a:pt x="973" y="266"/>
                </a:lnTo>
                <a:lnTo>
                  <a:pt x="971" y="255"/>
                </a:lnTo>
                <a:lnTo>
                  <a:pt x="967" y="243"/>
                </a:lnTo>
                <a:lnTo>
                  <a:pt x="965" y="234"/>
                </a:lnTo>
                <a:lnTo>
                  <a:pt x="963" y="226"/>
                </a:lnTo>
                <a:lnTo>
                  <a:pt x="961" y="220"/>
                </a:lnTo>
                <a:lnTo>
                  <a:pt x="959" y="219"/>
                </a:lnTo>
                <a:lnTo>
                  <a:pt x="956" y="219"/>
                </a:lnTo>
                <a:lnTo>
                  <a:pt x="954" y="217"/>
                </a:lnTo>
                <a:lnTo>
                  <a:pt x="948" y="217"/>
                </a:lnTo>
                <a:lnTo>
                  <a:pt x="944" y="217"/>
                </a:lnTo>
                <a:lnTo>
                  <a:pt x="938" y="215"/>
                </a:lnTo>
                <a:lnTo>
                  <a:pt x="933" y="215"/>
                </a:lnTo>
                <a:lnTo>
                  <a:pt x="927" y="215"/>
                </a:lnTo>
                <a:lnTo>
                  <a:pt x="919" y="215"/>
                </a:lnTo>
                <a:lnTo>
                  <a:pt x="911" y="215"/>
                </a:lnTo>
                <a:lnTo>
                  <a:pt x="902" y="217"/>
                </a:lnTo>
                <a:lnTo>
                  <a:pt x="894" y="217"/>
                </a:lnTo>
                <a:lnTo>
                  <a:pt x="885" y="217"/>
                </a:lnTo>
                <a:lnTo>
                  <a:pt x="873" y="219"/>
                </a:lnTo>
                <a:lnTo>
                  <a:pt x="863" y="220"/>
                </a:lnTo>
                <a:lnTo>
                  <a:pt x="852" y="220"/>
                </a:lnTo>
                <a:lnTo>
                  <a:pt x="839" y="222"/>
                </a:lnTo>
                <a:lnTo>
                  <a:pt x="827" y="224"/>
                </a:lnTo>
                <a:lnTo>
                  <a:pt x="814" y="226"/>
                </a:lnTo>
                <a:lnTo>
                  <a:pt x="800" y="228"/>
                </a:lnTo>
                <a:lnTo>
                  <a:pt x="785" y="232"/>
                </a:lnTo>
                <a:lnTo>
                  <a:pt x="769" y="234"/>
                </a:lnTo>
                <a:lnTo>
                  <a:pt x="754" y="236"/>
                </a:lnTo>
                <a:lnTo>
                  <a:pt x="737" y="240"/>
                </a:lnTo>
                <a:lnTo>
                  <a:pt x="720" y="243"/>
                </a:lnTo>
                <a:lnTo>
                  <a:pt x="702" y="247"/>
                </a:lnTo>
                <a:lnTo>
                  <a:pt x="683" y="249"/>
                </a:lnTo>
                <a:lnTo>
                  <a:pt x="664" y="255"/>
                </a:lnTo>
                <a:lnTo>
                  <a:pt x="645" y="259"/>
                </a:lnTo>
                <a:lnTo>
                  <a:pt x="624" y="263"/>
                </a:lnTo>
                <a:lnTo>
                  <a:pt x="604" y="266"/>
                </a:lnTo>
                <a:lnTo>
                  <a:pt x="581" y="272"/>
                </a:lnTo>
                <a:lnTo>
                  <a:pt x="560" y="278"/>
                </a:lnTo>
                <a:lnTo>
                  <a:pt x="539" y="284"/>
                </a:lnTo>
                <a:lnTo>
                  <a:pt x="518" y="290"/>
                </a:lnTo>
                <a:lnTo>
                  <a:pt x="499" y="295"/>
                </a:lnTo>
                <a:lnTo>
                  <a:pt x="480" y="301"/>
                </a:lnTo>
                <a:lnTo>
                  <a:pt x="462" y="305"/>
                </a:lnTo>
                <a:lnTo>
                  <a:pt x="443" y="311"/>
                </a:lnTo>
                <a:lnTo>
                  <a:pt x="426" y="314"/>
                </a:lnTo>
                <a:lnTo>
                  <a:pt x="411" y="318"/>
                </a:lnTo>
                <a:lnTo>
                  <a:pt x="393" y="322"/>
                </a:lnTo>
                <a:lnTo>
                  <a:pt x="378" y="326"/>
                </a:lnTo>
                <a:lnTo>
                  <a:pt x="365" y="330"/>
                </a:lnTo>
                <a:lnTo>
                  <a:pt x="349" y="334"/>
                </a:lnTo>
                <a:lnTo>
                  <a:pt x="336" y="337"/>
                </a:lnTo>
                <a:lnTo>
                  <a:pt x="322" y="339"/>
                </a:lnTo>
                <a:lnTo>
                  <a:pt x="311" y="343"/>
                </a:lnTo>
                <a:lnTo>
                  <a:pt x="299" y="345"/>
                </a:lnTo>
                <a:lnTo>
                  <a:pt x="288" y="347"/>
                </a:lnTo>
                <a:lnTo>
                  <a:pt x="278" y="349"/>
                </a:lnTo>
                <a:lnTo>
                  <a:pt x="267" y="351"/>
                </a:lnTo>
                <a:lnTo>
                  <a:pt x="257" y="353"/>
                </a:lnTo>
                <a:lnTo>
                  <a:pt x="249" y="355"/>
                </a:lnTo>
                <a:lnTo>
                  <a:pt x="240" y="357"/>
                </a:lnTo>
                <a:lnTo>
                  <a:pt x="232" y="359"/>
                </a:lnTo>
                <a:lnTo>
                  <a:pt x="226" y="359"/>
                </a:lnTo>
                <a:lnTo>
                  <a:pt x="219" y="361"/>
                </a:lnTo>
                <a:lnTo>
                  <a:pt x="213" y="361"/>
                </a:lnTo>
                <a:lnTo>
                  <a:pt x="207" y="362"/>
                </a:lnTo>
                <a:lnTo>
                  <a:pt x="203" y="362"/>
                </a:lnTo>
                <a:lnTo>
                  <a:pt x="198" y="362"/>
                </a:lnTo>
                <a:lnTo>
                  <a:pt x="194" y="362"/>
                </a:lnTo>
                <a:lnTo>
                  <a:pt x="190" y="362"/>
                </a:lnTo>
                <a:lnTo>
                  <a:pt x="178" y="362"/>
                </a:lnTo>
                <a:lnTo>
                  <a:pt x="163" y="361"/>
                </a:lnTo>
                <a:lnTo>
                  <a:pt x="150" y="359"/>
                </a:lnTo>
                <a:lnTo>
                  <a:pt x="132" y="353"/>
                </a:lnTo>
                <a:lnTo>
                  <a:pt x="117" y="349"/>
                </a:lnTo>
                <a:lnTo>
                  <a:pt x="102" y="341"/>
                </a:lnTo>
                <a:lnTo>
                  <a:pt x="84" y="334"/>
                </a:lnTo>
                <a:lnTo>
                  <a:pt x="67" y="324"/>
                </a:lnTo>
                <a:lnTo>
                  <a:pt x="59" y="322"/>
                </a:lnTo>
                <a:lnTo>
                  <a:pt x="52" y="318"/>
                </a:lnTo>
                <a:lnTo>
                  <a:pt x="44" y="314"/>
                </a:lnTo>
                <a:lnTo>
                  <a:pt x="38" y="313"/>
                </a:lnTo>
                <a:lnTo>
                  <a:pt x="33" y="309"/>
                </a:lnTo>
                <a:lnTo>
                  <a:pt x="27" y="305"/>
                </a:lnTo>
                <a:lnTo>
                  <a:pt x="21" y="299"/>
                </a:lnTo>
                <a:lnTo>
                  <a:pt x="17" y="295"/>
                </a:lnTo>
                <a:lnTo>
                  <a:pt x="13" y="290"/>
                </a:lnTo>
                <a:lnTo>
                  <a:pt x="10" y="284"/>
                </a:lnTo>
                <a:lnTo>
                  <a:pt x="8" y="278"/>
                </a:lnTo>
                <a:lnTo>
                  <a:pt x="4" y="272"/>
                </a:lnTo>
                <a:lnTo>
                  <a:pt x="4" y="266"/>
                </a:lnTo>
                <a:lnTo>
                  <a:pt x="2" y="261"/>
                </a:lnTo>
                <a:lnTo>
                  <a:pt x="0" y="253"/>
                </a:lnTo>
                <a:lnTo>
                  <a:pt x="0" y="245"/>
                </a:lnTo>
                <a:lnTo>
                  <a:pt x="29" y="242"/>
                </a:lnTo>
                <a:lnTo>
                  <a:pt x="56" y="240"/>
                </a:lnTo>
                <a:lnTo>
                  <a:pt x="82" y="236"/>
                </a:lnTo>
                <a:lnTo>
                  <a:pt x="109" y="232"/>
                </a:lnTo>
                <a:lnTo>
                  <a:pt x="136" y="228"/>
                </a:lnTo>
                <a:lnTo>
                  <a:pt x="161" y="224"/>
                </a:lnTo>
                <a:lnTo>
                  <a:pt x="186" y="220"/>
                </a:lnTo>
                <a:lnTo>
                  <a:pt x="211" y="217"/>
                </a:lnTo>
                <a:lnTo>
                  <a:pt x="234" y="213"/>
                </a:lnTo>
                <a:lnTo>
                  <a:pt x="257" y="209"/>
                </a:lnTo>
                <a:lnTo>
                  <a:pt x="280" y="205"/>
                </a:lnTo>
                <a:lnTo>
                  <a:pt x="303" y="201"/>
                </a:lnTo>
                <a:lnTo>
                  <a:pt x="347" y="195"/>
                </a:lnTo>
                <a:lnTo>
                  <a:pt x="389" y="188"/>
                </a:lnTo>
                <a:lnTo>
                  <a:pt x="430" y="180"/>
                </a:lnTo>
                <a:lnTo>
                  <a:pt x="466" y="172"/>
                </a:lnTo>
                <a:lnTo>
                  <a:pt x="503" y="167"/>
                </a:lnTo>
                <a:lnTo>
                  <a:pt x="539" y="159"/>
                </a:lnTo>
                <a:lnTo>
                  <a:pt x="572" y="151"/>
                </a:lnTo>
                <a:lnTo>
                  <a:pt x="603" y="144"/>
                </a:lnTo>
                <a:lnTo>
                  <a:pt x="631" y="136"/>
                </a:lnTo>
                <a:lnTo>
                  <a:pt x="660" y="128"/>
                </a:lnTo>
                <a:lnTo>
                  <a:pt x="685" y="123"/>
                </a:lnTo>
                <a:lnTo>
                  <a:pt x="708" y="115"/>
                </a:lnTo>
                <a:lnTo>
                  <a:pt x="731" y="107"/>
                </a:lnTo>
                <a:lnTo>
                  <a:pt x="752" y="101"/>
                </a:lnTo>
                <a:lnTo>
                  <a:pt x="773" y="96"/>
                </a:lnTo>
                <a:lnTo>
                  <a:pt x="791" y="90"/>
                </a:lnTo>
                <a:lnTo>
                  <a:pt x="810" y="84"/>
                </a:lnTo>
                <a:lnTo>
                  <a:pt x="827" y="78"/>
                </a:lnTo>
                <a:lnTo>
                  <a:pt x="842" y="73"/>
                </a:lnTo>
                <a:lnTo>
                  <a:pt x="856" y="67"/>
                </a:lnTo>
                <a:lnTo>
                  <a:pt x="869" y="63"/>
                </a:lnTo>
                <a:lnTo>
                  <a:pt x="883" y="57"/>
                </a:lnTo>
                <a:lnTo>
                  <a:pt x="892" y="53"/>
                </a:lnTo>
                <a:lnTo>
                  <a:pt x="902" y="48"/>
                </a:lnTo>
                <a:lnTo>
                  <a:pt x="910" y="42"/>
                </a:lnTo>
                <a:lnTo>
                  <a:pt x="917" y="38"/>
                </a:lnTo>
                <a:lnTo>
                  <a:pt x="929" y="29"/>
                </a:lnTo>
                <a:lnTo>
                  <a:pt x="940" y="21"/>
                </a:lnTo>
                <a:lnTo>
                  <a:pt x="952" y="13"/>
                </a:lnTo>
                <a:lnTo>
                  <a:pt x="961" y="9"/>
                </a:lnTo>
                <a:lnTo>
                  <a:pt x="973" y="4"/>
                </a:lnTo>
                <a:lnTo>
                  <a:pt x="982" y="2"/>
                </a:lnTo>
                <a:lnTo>
                  <a:pt x="994" y="0"/>
                </a:lnTo>
                <a:lnTo>
                  <a:pt x="1007" y="0"/>
                </a:lnTo>
                <a:lnTo>
                  <a:pt x="1011" y="2"/>
                </a:lnTo>
                <a:lnTo>
                  <a:pt x="1015" y="4"/>
                </a:lnTo>
                <a:lnTo>
                  <a:pt x="1021" y="7"/>
                </a:lnTo>
                <a:lnTo>
                  <a:pt x="1029" y="11"/>
                </a:lnTo>
                <a:lnTo>
                  <a:pt x="1034" y="15"/>
                </a:lnTo>
                <a:lnTo>
                  <a:pt x="1042" y="19"/>
                </a:lnTo>
                <a:lnTo>
                  <a:pt x="1050" y="25"/>
                </a:lnTo>
                <a:lnTo>
                  <a:pt x="1059" y="30"/>
                </a:lnTo>
                <a:lnTo>
                  <a:pt x="1067" y="36"/>
                </a:lnTo>
                <a:lnTo>
                  <a:pt x="1078" y="42"/>
                </a:lnTo>
                <a:lnTo>
                  <a:pt x="1088" y="48"/>
                </a:lnTo>
                <a:lnTo>
                  <a:pt x="1100" y="55"/>
                </a:lnTo>
                <a:lnTo>
                  <a:pt x="1111" y="63"/>
                </a:lnTo>
                <a:lnTo>
                  <a:pt x="1124" y="71"/>
                </a:lnTo>
                <a:lnTo>
                  <a:pt x="1138" y="80"/>
                </a:lnTo>
                <a:lnTo>
                  <a:pt x="1151" y="90"/>
                </a:lnTo>
                <a:lnTo>
                  <a:pt x="1165" y="101"/>
                </a:lnTo>
                <a:lnTo>
                  <a:pt x="1174" y="113"/>
                </a:lnTo>
                <a:lnTo>
                  <a:pt x="1186" y="124"/>
                </a:lnTo>
                <a:lnTo>
                  <a:pt x="1195" y="134"/>
                </a:lnTo>
                <a:lnTo>
                  <a:pt x="1205" y="144"/>
                </a:lnTo>
                <a:lnTo>
                  <a:pt x="1213" y="153"/>
                </a:lnTo>
                <a:lnTo>
                  <a:pt x="1220" y="161"/>
                </a:lnTo>
                <a:lnTo>
                  <a:pt x="1228" y="169"/>
                </a:lnTo>
                <a:lnTo>
                  <a:pt x="1234" y="174"/>
                </a:lnTo>
                <a:lnTo>
                  <a:pt x="1238" y="182"/>
                </a:lnTo>
                <a:lnTo>
                  <a:pt x="1243" y="188"/>
                </a:lnTo>
                <a:lnTo>
                  <a:pt x="1245" y="192"/>
                </a:lnTo>
                <a:lnTo>
                  <a:pt x="1249" y="197"/>
                </a:lnTo>
                <a:lnTo>
                  <a:pt x="1251" y="201"/>
                </a:lnTo>
                <a:lnTo>
                  <a:pt x="1253" y="205"/>
                </a:lnTo>
                <a:lnTo>
                  <a:pt x="1253" y="207"/>
                </a:lnTo>
                <a:lnTo>
                  <a:pt x="1251" y="213"/>
                </a:lnTo>
                <a:lnTo>
                  <a:pt x="1251" y="219"/>
                </a:lnTo>
                <a:lnTo>
                  <a:pt x="1247" y="226"/>
                </a:lnTo>
                <a:lnTo>
                  <a:pt x="1243" y="234"/>
                </a:lnTo>
                <a:lnTo>
                  <a:pt x="1240" y="243"/>
                </a:lnTo>
                <a:lnTo>
                  <a:pt x="1234" y="253"/>
                </a:lnTo>
                <a:lnTo>
                  <a:pt x="1226" y="263"/>
                </a:lnTo>
                <a:lnTo>
                  <a:pt x="1219" y="272"/>
                </a:lnTo>
                <a:lnTo>
                  <a:pt x="1213" y="280"/>
                </a:lnTo>
                <a:lnTo>
                  <a:pt x="1207" y="290"/>
                </a:lnTo>
                <a:lnTo>
                  <a:pt x="1203" y="301"/>
                </a:lnTo>
                <a:lnTo>
                  <a:pt x="1197" y="314"/>
                </a:lnTo>
                <a:lnTo>
                  <a:pt x="1194" y="328"/>
                </a:lnTo>
                <a:lnTo>
                  <a:pt x="1190" y="345"/>
                </a:lnTo>
                <a:lnTo>
                  <a:pt x="1186" y="362"/>
                </a:lnTo>
                <a:lnTo>
                  <a:pt x="1182" y="382"/>
                </a:lnTo>
                <a:lnTo>
                  <a:pt x="1180" y="403"/>
                </a:lnTo>
                <a:lnTo>
                  <a:pt x="1176" y="424"/>
                </a:lnTo>
                <a:lnTo>
                  <a:pt x="1174" y="449"/>
                </a:lnTo>
                <a:lnTo>
                  <a:pt x="1172" y="476"/>
                </a:lnTo>
                <a:lnTo>
                  <a:pt x="1169" y="503"/>
                </a:lnTo>
                <a:lnTo>
                  <a:pt x="1167" y="533"/>
                </a:lnTo>
                <a:lnTo>
                  <a:pt x="1165" y="564"/>
                </a:lnTo>
                <a:lnTo>
                  <a:pt x="1163" y="597"/>
                </a:lnTo>
                <a:lnTo>
                  <a:pt x="1161" y="635"/>
                </a:lnTo>
                <a:lnTo>
                  <a:pt x="1159" y="671"/>
                </a:lnTo>
                <a:lnTo>
                  <a:pt x="1157" y="710"/>
                </a:lnTo>
                <a:lnTo>
                  <a:pt x="1155" y="748"/>
                </a:lnTo>
                <a:lnTo>
                  <a:pt x="1151" y="788"/>
                </a:lnTo>
                <a:lnTo>
                  <a:pt x="1149" y="829"/>
                </a:lnTo>
                <a:lnTo>
                  <a:pt x="1148" y="869"/>
                </a:lnTo>
                <a:lnTo>
                  <a:pt x="1146" y="909"/>
                </a:lnTo>
                <a:lnTo>
                  <a:pt x="1142" y="952"/>
                </a:lnTo>
                <a:lnTo>
                  <a:pt x="1140" y="994"/>
                </a:lnTo>
                <a:lnTo>
                  <a:pt x="1136" y="1036"/>
                </a:lnTo>
                <a:lnTo>
                  <a:pt x="1134" y="1080"/>
                </a:lnTo>
                <a:lnTo>
                  <a:pt x="1130" y="1124"/>
                </a:lnTo>
                <a:lnTo>
                  <a:pt x="1126" y="1168"/>
                </a:lnTo>
                <a:lnTo>
                  <a:pt x="1123" y="1214"/>
                </a:lnTo>
                <a:lnTo>
                  <a:pt x="1119" y="1261"/>
                </a:lnTo>
                <a:lnTo>
                  <a:pt x="1113" y="1308"/>
                </a:lnTo>
                <a:lnTo>
                  <a:pt x="1105" y="1356"/>
                </a:lnTo>
                <a:lnTo>
                  <a:pt x="1100" y="1403"/>
                </a:lnTo>
                <a:lnTo>
                  <a:pt x="1094" y="1447"/>
                </a:lnTo>
                <a:lnTo>
                  <a:pt x="1086" y="1489"/>
                </a:lnTo>
                <a:lnTo>
                  <a:pt x="1080" y="1531"/>
                </a:lnTo>
                <a:lnTo>
                  <a:pt x="1073" y="1573"/>
                </a:lnTo>
                <a:lnTo>
                  <a:pt x="1067" y="1612"/>
                </a:lnTo>
                <a:lnTo>
                  <a:pt x="1059" y="1650"/>
                </a:lnTo>
                <a:lnTo>
                  <a:pt x="1053" y="1688"/>
                </a:lnTo>
                <a:lnTo>
                  <a:pt x="1046" y="1723"/>
                </a:lnTo>
                <a:lnTo>
                  <a:pt x="1038" y="1758"/>
                </a:lnTo>
                <a:lnTo>
                  <a:pt x="1030" y="1792"/>
                </a:lnTo>
                <a:lnTo>
                  <a:pt x="1023" y="1825"/>
                </a:lnTo>
                <a:lnTo>
                  <a:pt x="1015" y="1855"/>
                </a:lnTo>
                <a:lnTo>
                  <a:pt x="1007" y="1886"/>
                </a:lnTo>
                <a:lnTo>
                  <a:pt x="998" y="1915"/>
                </a:lnTo>
                <a:lnTo>
                  <a:pt x="990" y="1942"/>
                </a:lnTo>
                <a:lnTo>
                  <a:pt x="981" y="1969"/>
                </a:lnTo>
                <a:lnTo>
                  <a:pt x="971" y="1994"/>
                </a:lnTo>
                <a:lnTo>
                  <a:pt x="961" y="2017"/>
                </a:lnTo>
                <a:lnTo>
                  <a:pt x="952" y="2040"/>
                </a:lnTo>
                <a:lnTo>
                  <a:pt x="942" y="2061"/>
                </a:lnTo>
                <a:lnTo>
                  <a:pt x="933" y="2080"/>
                </a:lnTo>
                <a:lnTo>
                  <a:pt x="923" y="2099"/>
                </a:lnTo>
                <a:lnTo>
                  <a:pt x="911" y="2116"/>
                </a:lnTo>
                <a:lnTo>
                  <a:pt x="902" y="2134"/>
                </a:lnTo>
                <a:lnTo>
                  <a:pt x="892" y="2149"/>
                </a:lnTo>
                <a:lnTo>
                  <a:pt x="881" y="2162"/>
                </a:lnTo>
                <a:lnTo>
                  <a:pt x="871" y="2176"/>
                </a:lnTo>
                <a:lnTo>
                  <a:pt x="860" y="2187"/>
                </a:lnTo>
                <a:lnTo>
                  <a:pt x="850" y="2197"/>
                </a:lnTo>
                <a:lnTo>
                  <a:pt x="840" y="2208"/>
                </a:lnTo>
                <a:lnTo>
                  <a:pt x="829" y="2220"/>
                </a:lnTo>
                <a:lnTo>
                  <a:pt x="819" y="2230"/>
                </a:lnTo>
                <a:lnTo>
                  <a:pt x="812" y="2239"/>
                </a:lnTo>
                <a:lnTo>
                  <a:pt x="802" y="2247"/>
                </a:lnTo>
                <a:lnTo>
                  <a:pt x="792" y="2255"/>
                </a:lnTo>
                <a:lnTo>
                  <a:pt x="785" y="2262"/>
                </a:lnTo>
                <a:lnTo>
                  <a:pt x="777" y="2268"/>
                </a:lnTo>
                <a:lnTo>
                  <a:pt x="769" y="2274"/>
                </a:lnTo>
                <a:lnTo>
                  <a:pt x="762" y="2278"/>
                </a:lnTo>
                <a:lnTo>
                  <a:pt x="754" y="2281"/>
                </a:lnTo>
                <a:lnTo>
                  <a:pt x="748" y="2283"/>
                </a:lnTo>
                <a:lnTo>
                  <a:pt x="743" y="2285"/>
                </a:lnTo>
                <a:lnTo>
                  <a:pt x="737" y="2287"/>
                </a:lnTo>
                <a:lnTo>
                  <a:pt x="731" y="2289"/>
                </a:lnTo>
                <a:lnTo>
                  <a:pt x="727" y="228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410080" y="1905120"/>
            <a:ext cx="3276720" cy="2562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灯 街道 街区 大街 街头巷尾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09480" y="4876920"/>
            <a:ext cx="822960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街坊劝他堵上那个窟窿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205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1905120" y="2209680"/>
            <a:ext cx="1844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1916280" y="2219400"/>
            <a:ext cx="1814400" cy="1816200"/>
          </a:xfrm>
          <a:custGeom>
            <a:avLst/>
            <a:gdLst/>
            <a:ahLst/>
            <a:rect l="l" t="t" r="r" b="b"/>
            <a:pathLst>
              <a:path w="2286" h="2287">
                <a:moveTo>
                  <a:pt x="112" y="1404"/>
                </a:moveTo>
                <a:lnTo>
                  <a:pt x="142" y="1370"/>
                </a:lnTo>
                <a:lnTo>
                  <a:pt x="175" y="1335"/>
                </a:lnTo>
                <a:lnTo>
                  <a:pt x="208" y="1299"/>
                </a:lnTo>
                <a:lnTo>
                  <a:pt x="240" y="1262"/>
                </a:lnTo>
                <a:lnTo>
                  <a:pt x="273" y="1226"/>
                </a:lnTo>
                <a:lnTo>
                  <a:pt x="306" y="1187"/>
                </a:lnTo>
                <a:lnTo>
                  <a:pt x="338" y="1147"/>
                </a:lnTo>
                <a:lnTo>
                  <a:pt x="369" y="1107"/>
                </a:lnTo>
                <a:lnTo>
                  <a:pt x="400" y="1067"/>
                </a:lnTo>
                <a:lnTo>
                  <a:pt x="428" y="1026"/>
                </a:lnTo>
                <a:lnTo>
                  <a:pt x="442" y="1007"/>
                </a:lnTo>
                <a:lnTo>
                  <a:pt x="455" y="988"/>
                </a:lnTo>
                <a:lnTo>
                  <a:pt x="467" y="969"/>
                </a:lnTo>
                <a:lnTo>
                  <a:pt x="478" y="951"/>
                </a:lnTo>
                <a:lnTo>
                  <a:pt x="490" y="934"/>
                </a:lnTo>
                <a:lnTo>
                  <a:pt x="501" y="915"/>
                </a:lnTo>
                <a:lnTo>
                  <a:pt x="511" y="900"/>
                </a:lnTo>
                <a:lnTo>
                  <a:pt x="521" y="882"/>
                </a:lnTo>
                <a:lnTo>
                  <a:pt x="530" y="865"/>
                </a:lnTo>
                <a:lnTo>
                  <a:pt x="540" y="850"/>
                </a:lnTo>
                <a:lnTo>
                  <a:pt x="547" y="834"/>
                </a:lnTo>
                <a:lnTo>
                  <a:pt x="553" y="819"/>
                </a:lnTo>
                <a:lnTo>
                  <a:pt x="561" y="806"/>
                </a:lnTo>
                <a:lnTo>
                  <a:pt x="567" y="794"/>
                </a:lnTo>
                <a:lnTo>
                  <a:pt x="572" y="783"/>
                </a:lnTo>
                <a:lnTo>
                  <a:pt x="576" y="771"/>
                </a:lnTo>
                <a:lnTo>
                  <a:pt x="580" y="759"/>
                </a:lnTo>
                <a:lnTo>
                  <a:pt x="584" y="750"/>
                </a:lnTo>
                <a:lnTo>
                  <a:pt x="588" y="740"/>
                </a:lnTo>
                <a:lnTo>
                  <a:pt x="590" y="731"/>
                </a:lnTo>
                <a:lnTo>
                  <a:pt x="592" y="723"/>
                </a:lnTo>
                <a:lnTo>
                  <a:pt x="593" y="713"/>
                </a:lnTo>
                <a:lnTo>
                  <a:pt x="593" y="708"/>
                </a:lnTo>
                <a:lnTo>
                  <a:pt x="593" y="700"/>
                </a:lnTo>
                <a:lnTo>
                  <a:pt x="593" y="694"/>
                </a:lnTo>
                <a:lnTo>
                  <a:pt x="593" y="688"/>
                </a:lnTo>
                <a:lnTo>
                  <a:pt x="592" y="685"/>
                </a:lnTo>
                <a:lnTo>
                  <a:pt x="592" y="681"/>
                </a:lnTo>
                <a:lnTo>
                  <a:pt x="588" y="673"/>
                </a:lnTo>
                <a:lnTo>
                  <a:pt x="586" y="665"/>
                </a:lnTo>
                <a:lnTo>
                  <a:pt x="584" y="658"/>
                </a:lnTo>
                <a:lnTo>
                  <a:pt x="584" y="650"/>
                </a:lnTo>
                <a:lnTo>
                  <a:pt x="584" y="642"/>
                </a:lnTo>
                <a:lnTo>
                  <a:pt x="586" y="635"/>
                </a:lnTo>
                <a:lnTo>
                  <a:pt x="588" y="627"/>
                </a:lnTo>
                <a:lnTo>
                  <a:pt x="592" y="619"/>
                </a:lnTo>
                <a:lnTo>
                  <a:pt x="595" y="617"/>
                </a:lnTo>
                <a:lnTo>
                  <a:pt x="599" y="614"/>
                </a:lnTo>
                <a:lnTo>
                  <a:pt x="605" y="614"/>
                </a:lnTo>
                <a:lnTo>
                  <a:pt x="613" y="614"/>
                </a:lnTo>
                <a:lnTo>
                  <a:pt x="620" y="614"/>
                </a:lnTo>
                <a:lnTo>
                  <a:pt x="630" y="614"/>
                </a:lnTo>
                <a:lnTo>
                  <a:pt x="641" y="617"/>
                </a:lnTo>
                <a:lnTo>
                  <a:pt x="655" y="619"/>
                </a:lnTo>
                <a:lnTo>
                  <a:pt x="668" y="627"/>
                </a:lnTo>
                <a:lnTo>
                  <a:pt x="682" y="635"/>
                </a:lnTo>
                <a:lnTo>
                  <a:pt x="693" y="642"/>
                </a:lnTo>
                <a:lnTo>
                  <a:pt x="703" y="650"/>
                </a:lnTo>
                <a:lnTo>
                  <a:pt x="714" y="658"/>
                </a:lnTo>
                <a:lnTo>
                  <a:pt x="722" y="665"/>
                </a:lnTo>
                <a:lnTo>
                  <a:pt x="732" y="673"/>
                </a:lnTo>
                <a:lnTo>
                  <a:pt x="737" y="681"/>
                </a:lnTo>
                <a:lnTo>
                  <a:pt x="741" y="690"/>
                </a:lnTo>
                <a:lnTo>
                  <a:pt x="745" y="700"/>
                </a:lnTo>
                <a:lnTo>
                  <a:pt x="749" y="710"/>
                </a:lnTo>
                <a:lnTo>
                  <a:pt x="751" y="719"/>
                </a:lnTo>
                <a:lnTo>
                  <a:pt x="753" y="727"/>
                </a:lnTo>
                <a:lnTo>
                  <a:pt x="755" y="735"/>
                </a:lnTo>
                <a:lnTo>
                  <a:pt x="757" y="742"/>
                </a:lnTo>
                <a:lnTo>
                  <a:pt x="757" y="750"/>
                </a:lnTo>
                <a:lnTo>
                  <a:pt x="757" y="756"/>
                </a:lnTo>
                <a:lnTo>
                  <a:pt x="755" y="763"/>
                </a:lnTo>
                <a:lnTo>
                  <a:pt x="751" y="771"/>
                </a:lnTo>
                <a:lnTo>
                  <a:pt x="747" y="781"/>
                </a:lnTo>
                <a:lnTo>
                  <a:pt x="741" y="792"/>
                </a:lnTo>
                <a:lnTo>
                  <a:pt x="734" y="804"/>
                </a:lnTo>
                <a:lnTo>
                  <a:pt x="726" y="817"/>
                </a:lnTo>
                <a:lnTo>
                  <a:pt x="716" y="832"/>
                </a:lnTo>
                <a:lnTo>
                  <a:pt x="705" y="848"/>
                </a:lnTo>
                <a:lnTo>
                  <a:pt x="693" y="865"/>
                </a:lnTo>
                <a:lnTo>
                  <a:pt x="680" y="884"/>
                </a:lnTo>
                <a:lnTo>
                  <a:pt x="666" y="903"/>
                </a:lnTo>
                <a:lnTo>
                  <a:pt x="651" y="925"/>
                </a:lnTo>
                <a:lnTo>
                  <a:pt x="636" y="948"/>
                </a:lnTo>
                <a:lnTo>
                  <a:pt x="618" y="973"/>
                </a:lnTo>
                <a:lnTo>
                  <a:pt x="599" y="997"/>
                </a:lnTo>
                <a:lnTo>
                  <a:pt x="580" y="1026"/>
                </a:lnTo>
                <a:lnTo>
                  <a:pt x="559" y="1053"/>
                </a:lnTo>
                <a:lnTo>
                  <a:pt x="536" y="1080"/>
                </a:lnTo>
                <a:lnTo>
                  <a:pt x="515" y="1105"/>
                </a:lnTo>
                <a:lnTo>
                  <a:pt x="469" y="1157"/>
                </a:lnTo>
                <a:lnTo>
                  <a:pt x="421" y="1207"/>
                </a:lnTo>
                <a:lnTo>
                  <a:pt x="373" y="1255"/>
                </a:lnTo>
                <a:lnTo>
                  <a:pt x="323" y="1303"/>
                </a:lnTo>
                <a:lnTo>
                  <a:pt x="273" y="1349"/>
                </a:lnTo>
                <a:lnTo>
                  <a:pt x="223" y="1395"/>
                </a:lnTo>
                <a:lnTo>
                  <a:pt x="198" y="1416"/>
                </a:lnTo>
                <a:lnTo>
                  <a:pt x="173" y="1437"/>
                </a:lnTo>
                <a:lnTo>
                  <a:pt x="152" y="1454"/>
                </a:lnTo>
                <a:lnTo>
                  <a:pt x="131" y="1471"/>
                </a:lnTo>
                <a:lnTo>
                  <a:pt x="112" y="1487"/>
                </a:lnTo>
                <a:lnTo>
                  <a:pt x="94" y="1500"/>
                </a:lnTo>
                <a:lnTo>
                  <a:pt x="79" y="1512"/>
                </a:lnTo>
                <a:lnTo>
                  <a:pt x="64" y="1521"/>
                </a:lnTo>
                <a:lnTo>
                  <a:pt x="50" y="1531"/>
                </a:lnTo>
                <a:lnTo>
                  <a:pt x="39" y="1537"/>
                </a:lnTo>
                <a:lnTo>
                  <a:pt x="29" y="1543"/>
                </a:lnTo>
                <a:lnTo>
                  <a:pt x="20" y="1546"/>
                </a:lnTo>
                <a:lnTo>
                  <a:pt x="14" y="1548"/>
                </a:lnTo>
                <a:lnTo>
                  <a:pt x="8" y="1548"/>
                </a:lnTo>
                <a:lnTo>
                  <a:pt x="4" y="1546"/>
                </a:lnTo>
                <a:lnTo>
                  <a:pt x="0" y="1544"/>
                </a:lnTo>
                <a:lnTo>
                  <a:pt x="0" y="1541"/>
                </a:lnTo>
                <a:lnTo>
                  <a:pt x="0" y="1539"/>
                </a:lnTo>
                <a:lnTo>
                  <a:pt x="0" y="1533"/>
                </a:lnTo>
                <a:lnTo>
                  <a:pt x="2" y="1529"/>
                </a:lnTo>
                <a:lnTo>
                  <a:pt x="6" y="1523"/>
                </a:lnTo>
                <a:lnTo>
                  <a:pt x="10" y="1516"/>
                </a:lnTo>
                <a:lnTo>
                  <a:pt x="16" y="1508"/>
                </a:lnTo>
                <a:lnTo>
                  <a:pt x="22" y="1500"/>
                </a:lnTo>
                <a:lnTo>
                  <a:pt x="29" y="1491"/>
                </a:lnTo>
                <a:lnTo>
                  <a:pt x="39" y="1481"/>
                </a:lnTo>
                <a:lnTo>
                  <a:pt x="48" y="1470"/>
                </a:lnTo>
                <a:lnTo>
                  <a:pt x="58" y="1458"/>
                </a:lnTo>
                <a:lnTo>
                  <a:pt x="70" y="1447"/>
                </a:lnTo>
                <a:lnTo>
                  <a:pt x="83" y="1433"/>
                </a:lnTo>
                <a:lnTo>
                  <a:pt x="96" y="1420"/>
                </a:lnTo>
                <a:lnTo>
                  <a:pt x="112" y="1404"/>
                </a:lnTo>
                <a:close/>
                <a:moveTo>
                  <a:pt x="572" y="2030"/>
                </a:moveTo>
                <a:lnTo>
                  <a:pt x="568" y="2047"/>
                </a:lnTo>
                <a:lnTo>
                  <a:pt x="565" y="2063"/>
                </a:lnTo>
                <a:lnTo>
                  <a:pt x="563" y="2078"/>
                </a:lnTo>
                <a:lnTo>
                  <a:pt x="559" y="2089"/>
                </a:lnTo>
                <a:lnTo>
                  <a:pt x="555" y="2099"/>
                </a:lnTo>
                <a:lnTo>
                  <a:pt x="551" y="2109"/>
                </a:lnTo>
                <a:lnTo>
                  <a:pt x="547" y="2114"/>
                </a:lnTo>
                <a:lnTo>
                  <a:pt x="545" y="2120"/>
                </a:lnTo>
                <a:lnTo>
                  <a:pt x="544" y="2118"/>
                </a:lnTo>
                <a:lnTo>
                  <a:pt x="542" y="2118"/>
                </a:lnTo>
                <a:lnTo>
                  <a:pt x="538" y="2116"/>
                </a:lnTo>
                <a:lnTo>
                  <a:pt x="536" y="2114"/>
                </a:lnTo>
                <a:lnTo>
                  <a:pt x="534" y="2112"/>
                </a:lnTo>
                <a:lnTo>
                  <a:pt x="530" y="2111"/>
                </a:lnTo>
                <a:lnTo>
                  <a:pt x="528" y="2107"/>
                </a:lnTo>
                <a:lnTo>
                  <a:pt x="524" y="2103"/>
                </a:lnTo>
                <a:lnTo>
                  <a:pt x="522" y="2099"/>
                </a:lnTo>
                <a:lnTo>
                  <a:pt x="519" y="2093"/>
                </a:lnTo>
                <a:lnTo>
                  <a:pt x="515" y="2088"/>
                </a:lnTo>
                <a:lnTo>
                  <a:pt x="513" y="2082"/>
                </a:lnTo>
                <a:lnTo>
                  <a:pt x="509" y="2074"/>
                </a:lnTo>
                <a:lnTo>
                  <a:pt x="505" y="2066"/>
                </a:lnTo>
                <a:lnTo>
                  <a:pt x="501" y="2059"/>
                </a:lnTo>
                <a:lnTo>
                  <a:pt x="499" y="2049"/>
                </a:lnTo>
                <a:lnTo>
                  <a:pt x="492" y="2032"/>
                </a:lnTo>
                <a:lnTo>
                  <a:pt x="486" y="2017"/>
                </a:lnTo>
                <a:lnTo>
                  <a:pt x="482" y="2001"/>
                </a:lnTo>
                <a:lnTo>
                  <a:pt x="478" y="1988"/>
                </a:lnTo>
                <a:lnTo>
                  <a:pt x="474" y="1974"/>
                </a:lnTo>
                <a:lnTo>
                  <a:pt x="473" y="1963"/>
                </a:lnTo>
                <a:lnTo>
                  <a:pt x="471" y="1951"/>
                </a:lnTo>
                <a:lnTo>
                  <a:pt x="471" y="1940"/>
                </a:lnTo>
                <a:lnTo>
                  <a:pt x="469" y="1936"/>
                </a:lnTo>
                <a:lnTo>
                  <a:pt x="469" y="1932"/>
                </a:lnTo>
                <a:lnTo>
                  <a:pt x="467" y="1926"/>
                </a:lnTo>
                <a:lnTo>
                  <a:pt x="467" y="1921"/>
                </a:lnTo>
                <a:lnTo>
                  <a:pt x="467" y="1913"/>
                </a:lnTo>
                <a:lnTo>
                  <a:pt x="467" y="1905"/>
                </a:lnTo>
                <a:lnTo>
                  <a:pt x="469" y="1898"/>
                </a:lnTo>
                <a:lnTo>
                  <a:pt x="469" y="1890"/>
                </a:lnTo>
                <a:lnTo>
                  <a:pt x="471" y="1880"/>
                </a:lnTo>
                <a:lnTo>
                  <a:pt x="471" y="1871"/>
                </a:lnTo>
                <a:lnTo>
                  <a:pt x="473" y="1861"/>
                </a:lnTo>
                <a:lnTo>
                  <a:pt x="474" y="1850"/>
                </a:lnTo>
                <a:lnTo>
                  <a:pt x="474" y="1838"/>
                </a:lnTo>
                <a:lnTo>
                  <a:pt x="476" y="1827"/>
                </a:lnTo>
                <a:lnTo>
                  <a:pt x="478" y="1815"/>
                </a:lnTo>
                <a:lnTo>
                  <a:pt x="480" y="1802"/>
                </a:lnTo>
                <a:lnTo>
                  <a:pt x="482" y="1788"/>
                </a:lnTo>
                <a:lnTo>
                  <a:pt x="484" y="1773"/>
                </a:lnTo>
                <a:lnTo>
                  <a:pt x="486" y="1757"/>
                </a:lnTo>
                <a:lnTo>
                  <a:pt x="488" y="1742"/>
                </a:lnTo>
                <a:lnTo>
                  <a:pt x="492" y="1725"/>
                </a:lnTo>
                <a:lnTo>
                  <a:pt x="494" y="1706"/>
                </a:lnTo>
                <a:lnTo>
                  <a:pt x="496" y="1686"/>
                </a:lnTo>
                <a:lnTo>
                  <a:pt x="499" y="1667"/>
                </a:lnTo>
                <a:lnTo>
                  <a:pt x="501" y="1644"/>
                </a:lnTo>
                <a:lnTo>
                  <a:pt x="503" y="1623"/>
                </a:lnTo>
                <a:lnTo>
                  <a:pt x="507" y="1598"/>
                </a:lnTo>
                <a:lnTo>
                  <a:pt x="509" y="1573"/>
                </a:lnTo>
                <a:lnTo>
                  <a:pt x="511" y="1548"/>
                </a:lnTo>
                <a:lnTo>
                  <a:pt x="513" y="1521"/>
                </a:lnTo>
                <a:lnTo>
                  <a:pt x="515" y="1493"/>
                </a:lnTo>
                <a:lnTo>
                  <a:pt x="517" y="1464"/>
                </a:lnTo>
                <a:lnTo>
                  <a:pt x="521" y="1408"/>
                </a:lnTo>
                <a:lnTo>
                  <a:pt x="522" y="1349"/>
                </a:lnTo>
                <a:lnTo>
                  <a:pt x="522" y="1289"/>
                </a:lnTo>
                <a:lnTo>
                  <a:pt x="524" y="1228"/>
                </a:lnTo>
                <a:lnTo>
                  <a:pt x="522" y="1166"/>
                </a:lnTo>
                <a:lnTo>
                  <a:pt x="522" y="1103"/>
                </a:lnTo>
                <a:lnTo>
                  <a:pt x="521" y="1042"/>
                </a:lnTo>
                <a:lnTo>
                  <a:pt x="517" y="978"/>
                </a:lnTo>
                <a:lnTo>
                  <a:pt x="528" y="996"/>
                </a:lnTo>
                <a:lnTo>
                  <a:pt x="540" y="1015"/>
                </a:lnTo>
                <a:lnTo>
                  <a:pt x="549" y="1032"/>
                </a:lnTo>
                <a:lnTo>
                  <a:pt x="559" y="1049"/>
                </a:lnTo>
                <a:lnTo>
                  <a:pt x="568" y="1065"/>
                </a:lnTo>
                <a:lnTo>
                  <a:pt x="576" y="1080"/>
                </a:lnTo>
                <a:lnTo>
                  <a:pt x="584" y="1095"/>
                </a:lnTo>
                <a:lnTo>
                  <a:pt x="592" y="1111"/>
                </a:lnTo>
                <a:lnTo>
                  <a:pt x="597" y="1124"/>
                </a:lnTo>
                <a:lnTo>
                  <a:pt x="603" y="1138"/>
                </a:lnTo>
                <a:lnTo>
                  <a:pt x="607" y="1151"/>
                </a:lnTo>
                <a:lnTo>
                  <a:pt x="611" y="1163"/>
                </a:lnTo>
                <a:lnTo>
                  <a:pt x="615" y="1176"/>
                </a:lnTo>
                <a:lnTo>
                  <a:pt x="616" y="1186"/>
                </a:lnTo>
                <a:lnTo>
                  <a:pt x="618" y="1197"/>
                </a:lnTo>
                <a:lnTo>
                  <a:pt x="618" y="1207"/>
                </a:lnTo>
                <a:lnTo>
                  <a:pt x="618" y="1216"/>
                </a:lnTo>
                <a:lnTo>
                  <a:pt x="618" y="1228"/>
                </a:lnTo>
                <a:lnTo>
                  <a:pt x="618" y="1239"/>
                </a:lnTo>
                <a:lnTo>
                  <a:pt x="618" y="1253"/>
                </a:lnTo>
                <a:lnTo>
                  <a:pt x="618" y="1266"/>
                </a:lnTo>
                <a:lnTo>
                  <a:pt x="618" y="1282"/>
                </a:lnTo>
                <a:lnTo>
                  <a:pt x="618" y="1299"/>
                </a:lnTo>
                <a:lnTo>
                  <a:pt x="618" y="1316"/>
                </a:lnTo>
                <a:lnTo>
                  <a:pt x="618" y="1335"/>
                </a:lnTo>
                <a:lnTo>
                  <a:pt x="618" y="1354"/>
                </a:lnTo>
                <a:lnTo>
                  <a:pt x="618" y="1376"/>
                </a:lnTo>
                <a:lnTo>
                  <a:pt x="618" y="1397"/>
                </a:lnTo>
                <a:lnTo>
                  <a:pt x="618" y="1420"/>
                </a:lnTo>
                <a:lnTo>
                  <a:pt x="618" y="1443"/>
                </a:lnTo>
                <a:lnTo>
                  <a:pt x="618" y="1468"/>
                </a:lnTo>
                <a:lnTo>
                  <a:pt x="618" y="1495"/>
                </a:lnTo>
                <a:lnTo>
                  <a:pt x="616" y="1519"/>
                </a:lnTo>
                <a:lnTo>
                  <a:pt x="615" y="1544"/>
                </a:lnTo>
                <a:lnTo>
                  <a:pt x="615" y="1569"/>
                </a:lnTo>
                <a:lnTo>
                  <a:pt x="613" y="1592"/>
                </a:lnTo>
                <a:lnTo>
                  <a:pt x="613" y="1615"/>
                </a:lnTo>
                <a:lnTo>
                  <a:pt x="611" y="1638"/>
                </a:lnTo>
                <a:lnTo>
                  <a:pt x="611" y="1660"/>
                </a:lnTo>
                <a:lnTo>
                  <a:pt x="609" y="1681"/>
                </a:lnTo>
                <a:lnTo>
                  <a:pt x="609" y="1700"/>
                </a:lnTo>
                <a:lnTo>
                  <a:pt x="607" y="1719"/>
                </a:lnTo>
                <a:lnTo>
                  <a:pt x="607" y="1738"/>
                </a:lnTo>
                <a:lnTo>
                  <a:pt x="605" y="1756"/>
                </a:lnTo>
                <a:lnTo>
                  <a:pt x="605" y="1773"/>
                </a:lnTo>
                <a:lnTo>
                  <a:pt x="603" y="1790"/>
                </a:lnTo>
                <a:lnTo>
                  <a:pt x="601" y="1805"/>
                </a:lnTo>
                <a:lnTo>
                  <a:pt x="599" y="1821"/>
                </a:lnTo>
                <a:lnTo>
                  <a:pt x="597" y="1851"/>
                </a:lnTo>
                <a:lnTo>
                  <a:pt x="593" y="1878"/>
                </a:lnTo>
                <a:lnTo>
                  <a:pt x="590" y="1907"/>
                </a:lnTo>
                <a:lnTo>
                  <a:pt x="586" y="1932"/>
                </a:lnTo>
                <a:lnTo>
                  <a:pt x="582" y="1959"/>
                </a:lnTo>
                <a:lnTo>
                  <a:pt x="580" y="1984"/>
                </a:lnTo>
                <a:lnTo>
                  <a:pt x="576" y="2007"/>
                </a:lnTo>
                <a:lnTo>
                  <a:pt x="572" y="2030"/>
                </a:lnTo>
                <a:close/>
                <a:moveTo>
                  <a:pt x="1052" y="581"/>
                </a:moveTo>
                <a:lnTo>
                  <a:pt x="1073" y="571"/>
                </a:lnTo>
                <a:lnTo>
                  <a:pt x="1094" y="564"/>
                </a:lnTo>
                <a:lnTo>
                  <a:pt x="1115" y="556"/>
                </a:lnTo>
                <a:lnTo>
                  <a:pt x="1135" y="548"/>
                </a:lnTo>
                <a:lnTo>
                  <a:pt x="1154" y="543"/>
                </a:lnTo>
                <a:lnTo>
                  <a:pt x="1171" y="537"/>
                </a:lnTo>
                <a:lnTo>
                  <a:pt x="1188" y="531"/>
                </a:lnTo>
                <a:lnTo>
                  <a:pt x="1206" y="527"/>
                </a:lnTo>
                <a:lnTo>
                  <a:pt x="1221" y="523"/>
                </a:lnTo>
                <a:lnTo>
                  <a:pt x="1236" y="520"/>
                </a:lnTo>
                <a:lnTo>
                  <a:pt x="1252" y="518"/>
                </a:lnTo>
                <a:lnTo>
                  <a:pt x="1267" y="514"/>
                </a:lnTo>
                <a:lnTo>
                  <a:pt x="1280" y="514"/>
                </a:lnTo>
                <a:lnTo>
                  <a:pt x="1294" y="512"/>
                </a:lnTo>
                <a:lnTo>
                  <a:pt x="1305" y="512"/>
                </a:lnTo>
                <a:lnTo>
                  <a:pt x="1319" y="512"/>
                </a:lnTo>
                <a:lnTo>
                  <a:pt x="1328" y="512"/>
                </a:lnTo>
                <a:lnTo>
                  <a:pt x="1338" y="512"/>
                </a:lnTo>
                <a:lnTo>
                  <a:pt x="1346" y="512"/>
                </a:lnTo>
                <a:lnTo>
                  <a:pt x="1355" y="512"/>
                </a:lnTo>
                <a:lnTo>
                  <a:pt x="1363" y="514"/>
                </a:lnTo>
                <a:lnTo>
                  <a:pt x="1369" y="514"/>
                </a:lnTo>
                <a:lnTo>
                  <a:pt x="1374" y="516"/>
                </a:lnTo>
                <a:lnTo>
                  <a:pt x="1380" y="518"/>
                </a:lnTo>
                <a:lnTo>
                  <a:pt x="1386" y="518"/>
                </a:lnTo>
                <a:lnTo>
                  <a:pt x="1390" y="520"/>
                </a:lnTo>
                <a:lnTo>
                  <a:pt x="1394" y="522"/>
                </a:lnTo>
                <a:lnTo>
                  <a:pt x="1396" y="523"/>
                </a:lnTo>
                <a:lnTo>
                  <a:pt x="1398" y="525"/>
                </a:lnTo>
                <a:lnTo>
                  <a:pt x="1399" y="527"/>
                </a:lnTo>
                <a:lnTo>
                  <a:pt x="1401" y="529"/>
                </a:lnTo>
                <a:lnTo>
                  <a:pt x="1401" y="531"/>
                </a:lnTo>
                <a:lnTo>
                  <a:pt x="1401" y="539"/>
                </a:lnTo>
                <a:lnTo>
                  <a:pt x="1398" y="546"/>
                </a:lnTo>
                <a:lnTo>
                  <a:pt x="1394" y="552"/>
                </a:lnTo>
                <a:lnTo>
                  <a:pt x="1388" y="560"/>
                </a:lnTo>
                <a:lnTo>
                  <a:pt x="1382" y="568"/>
                </a:lnTo>
                <a:lnTo>
                  <a:pt x="1374" y="575"/>
                </a:lnTo>
                <a:lnTo>
                  <a:pt x="1365" y="583"/>
                </a:lnTo>
                <a:lnTo>
                  <a:pt x="1355" y="591"/>
                </a:lnTo>
                <a:lnTo>
                  <a:pt x="1348" y="594"/>
                </a:lnTo>
                <a:lnTo>
                  <a:pt x="1340" y="598"/>
                </a:lnTo>
                <a:lnTo>
                  <a:pt x="1330" y="602"/>
                </a:lnTo>
                <a:lnTo>
                  <a:pt x="1321" y="606"/>
                </a:lnTo>
                <a:lnTo>
                  <a:pt x="1309" y="610"/>
                </a:lnTo>
                <a:lnTo>
                  <a:pt x="1298" y="614"/>
                </a:lnTo>
                <a:lnTo>
                  <a:pt x="1286" y="617"/>
                </a:lnTo>
                <a:lnTo>
                  <a:pt x="1273" y="621"/>
                </a:lnTo>
                <a:lnTo>
                  <a:pt x="1257" y="625"/>
                </a:lnTo>
                <a:lnTo>
                  <a:pt x="1242" y="629"/>
                </a:lnTo>
                <a:lnTo>
                  <a:pt x="1227" y="635"/>
                </a:lnTo>
                <a:lnTo>
                  <a:pt x="1209" y="639"/>
                </a:lnTo>
                <a:lnTo>
                  <a:pt x="1192" y="644"/>
                </a:lnTo>
                <a:lnTo>
                  <a:pt x="1173" y="648"/>
                </a:lnTo>
                <a:lnTo>
                  <a:pt x="1154" y="654"/>
                </a:lnTo>
                <a:lnTo>
                  <a:pt x="1135" y="660"/>
                </a:lnTo>
                <a:lnTo>
                  <a:pt x="1112" y="665"/>
                </a:lnTo>
                <a:lnTo>
                  <a:pt x="1092" y="669"/>
                </a:lnTo>
                <a:lnTo>
                  <a:pt x="1073" y="673"/>
                </a:lnTo>
                <a:lnTo>
                  <a:pt x="1054" y="677"/>
                </a:lnTo>
                <a:lnTo>
                  <a:pt x="1037" y="681"/>
                </a:lnTo>
                <a:lnTo>
                  <a:pt x="1021" y="683"/>
                </a:lnTo>
                <a:lnTo>
                  <a:pt x="1008" y="685"/>
                </a:lnTo>
                <a:lnTo>
                  <a:pt x="995" y="685"/>
                </a:lnTo>
                <a:lnTo>
                  <a:pt x="981" y="687"/>
                </a:lnTo>
                <a:lnTo>
                  <a:pt x="970" y="687"/>
                </a:lnTo>
                <a:lnTo>
                  <a:pt x="960" y="687"/>
                </a:lnTo>
                <a:lnTo>
                  <a:pt x="950" y="685"/>
                </a:lnTo>
                <a:lnTo>
                  <a:pt x="943" y="685"/>
                </a:lnTo>
                <a:lnTo>
                  <a:pt x="935" y="683"/>
                </a:lnTo>
                <a:lnTo>
                  <a:pt x="927" y="681"/>
                </a:lnTo>
                <a:lnTo>
                  <a:pt x="922" y="681"/>
                </a:lnTo>
                <a:lnTo>
                  <a:pt x="912" y="677"/>
                </a:lnTo>
                <a:lnTo>
                  <a:pt x="904" y="673"/>
                </a:lnTo>
                <a:lnTo>
                  <a:pt x="899" y="669"/>
                </a:lnTo>
                <a:lnTo>
                  <a:pt x="893" y="665"/>
                </a:lnTo>
                <a:lnTo>
                  <a:pt x="889" y="662"/>
                </a:lnTo>
                <a:lnTo>
                  <a:pt x="887" y="658"/>
                </a:lnTo>
                <a:lnTo>
                  <a:pt x="885" y="654"/>
                </a:lnTo>
                <a:lnTo>
                  <a:pt x="885" y="650"/>
                </a:lnTo>
                <a:lnTo>
                  <a:pt x="885" y="648"/>
                </a:lnTo>
                <a:lnTo>
                  <a:pt x="889" y="646"/>
                </a:lnTo>
                <a:lnTo>
                  <a:pt x="891" y="642"/>
                </a:lnTo>
                <a:lnTo>
                  <a:pt x="897" y="641"/>
                </a:lnTo>
                <a:lnTo>
                  <a:pt x="902" y="637"/>
                </a:lnTo>
                <a:lnTo>
                  <a:pt x="908" y="635"/>
                </a:lnTo>
                <a:lnTo>
                  <a:pt x="918" y="631"/>
                </a:lnTo>
                <a:lnTo>
                  <a:pt x="927" y="627"/>
                </a:lnTo>
                <a:lnTo>
                  <a:pt x="939" y="623"/>
                </a:lnTo>
                <a:lnTo>
                  <a:pt x="950" y="617"/>
                </a:lnTo>
                <a:lnTo>
                  <a:pt x="964" y="612"/>
                </a:lnTo>
                <a:lnTo>
                  <a:pt x="979" y="608"/>
                </a:lnTo>
                <a:lnTo>
                  <a:pt x="995" y="600"/>
                </a:lnTo>
                <a:lnTo>
                  <a:pt x="1012" y="594"/>
                </a:lnTo>
                <a:lnTo>
                  <a:pt x="1031" y="589"/>
                </a:lnTo>
                <a:lnTo>
                  <a:pt x="1052" y="581"/>
                </a:lnTo>
                <a:close/>
                <a:moveTo>
                  <a:pt x="1401" y="997"/>
                </a:moveTo>
                <a:lnTo>
                  <a:pt x="1421" y="994"/>
                </a:lnTo>
                <a:lnTo>
                  <a:pt x="1442" y="990"/>
                </a:lnTo>
                <a:lnTo>
                  <a:pt x="1463" y="984"/>
                </a:lnTo>
                <a:lnTo>
                  <a:pt x="1484" y="978"/>
                </a:lnTo>
                <a:lnTo>
                  <a:pt x="1507" y="973"/>
                </a:lnTo>
                <a:lnTo>
                  <a:pt x="1532" y="967"/>
                </a:lnTo>
                <a:lnTo>
                  <a:pt x="1557" y="961"/>
                </a:lnTo>
                <a:lnTo>
                  <a:pt x="1582" y="953"/>
                </a:lnTo>
                <a:lnTo>
                  <a:pt x="1609" y="948"/>
                </a:lnTo>
                <a:lnTo>
                  <a:pt x="1637" y="940"/>
                </a:lnTo>
                <a:lnTo>
                  <a:pt x="1666" y="932"/>
                </a:lnTo>
                <a:lnTo>
                  <a:pt x="1695" y="925"/>
                </a:lnTo>
                <a:lnTo>
                  <a:pt x="1726" y="915"/>
                </a:lnTo>
                <a:lnTo>
                  <a:pt x="1758" y="907"/>
                </a:lnTo>
                <a:lnTo>
                  <a:pt x="1791" y="898"/>
                </a:lnTo>
                <a:lnTo>
                  <a:pt x="1825" y="888"/>
                </a:lnTo>
                <a:lnTo>
                  <a:pt x="1856" y="878"/>
                </a:lnTo>
                <a:lnTo>
                  <a:pt x="1887" y="871"/>
                </a:lnTo>
                <a:lnTo>
                  <a:pt x="1916" y="863"/>
                </a:lnTo>
                <a:lnTo>
                  <a:pt x="1944" y="855"/>
                </a:lnTo>
                <a:lnTo>
                  <a:pt x="1969" y="848"/>
                </a:lnTo>
                <a:lnTo>
                  <a:pt x="1994" y="840"/>
                </a:lnTo>
                <a:lnTo>
                  <a:pt x="2015" y="834"/>
                </a:lnTo>
                <a:lnTo>
                  <a:pt x="2037" y="831"/>
                </a:lnTo>
                <a:lnTo>
                  <a:pt x="2056" y="825"/>
                </a:lnTo>
                <a:lnTo>
                  <a:pt x="2073" y="821"/>
                </a:lnTo>
                <a:lnTo>
                  <a:pt x="2088" y="817"/>
                </a:lnTo>
                <a:lnTo>
                  <a:pt x="2102" y="813"/>
                </a:lnTo>
                <a:lnTo>
                  <a:pt x="2113" y="811"/>
                </a:lnTo>
                <a:lnTo>
                  <a:pt x="2125" y="809"/>
                </a:lnTo>
                <a:lnTo>
                  <a:pt x="2133" y="809"/>
                </a:lnTo>
                <a:lnTo>
                  <a:pt x="2136" y="809"/>
                </a:lnTo>
                <a:lnTo>
                  <a:pt x="2138" y="809"/>
                </a:lnTo>
                <a:lnTo>
                  <a:pt x="2150" y="809"/>
                </a:lnTo>
                <a:lnTo>
                  <a:pt x="2161" y="811"/>
                </a:lnTo>
                <a:lnTo>
                  <a:pt x="2173" y="813"/>
                </a:lnTo>
                <a:lnTo>
                  <a:pt x="2186" y="817"/>
                </a:lnTo>
                <a:lnTo>
                  <a:pt x="2198" y="821"/>
                </a:lnTo>
                <a:lnTo>
                  <a:pt x="2211" y="825"/>
                </a:lnTo>
                <a:lnTo>
                  <a:pt x="2227" y="832"/>
                </a:lnTo>
                <a:lnTo>
                  <a:pt x="2240" y="838"/>
                </a:lnTo>
                <a:lnTo>
                  <a:pt x="2250" y="850"/>
                </a:lnTo>
                <a:lnTo>
                  <a:pt x="2259" y="859"/>
                </a:lnTo>
                <a:lnTo>
                  <a:pt x="2267" y="869"/>
                </a:lnTo>
                <a:lnTo>
                  <a:pt x="2273" y="877"/>
                </a:lnTo>
                <a:lnTo>
                  <a:pt x="2278" y="882"/>
                </a:lnTo>
                <a:lnTo>
                  <a:pt x="2282" y="888"/>
                </a:lnTo>
                <a:lnTo>
                  <a:pt x="2284" y="894"/>
                </a:lnTo>
                <a:lnTo>
                  <a:pt x="2286" y="898"/>
                </a:lnTo>
                <a:lnTo>
                  <a:pt x="2284" y="905"/>
                </a:lnTo>
                <a:lnTo>
                  <a:pt x="2284" y="909"/>
                </a:lnTo>
                <a:lnTo>
                  <a:pt x="2282" y="911"/>
                </a:lnTo>
                <a:lnTo>
                  <a:pt x="2280" y="915"/>
                </a:lnTo>
                <a:lnTo>
                  <a:pt x="2276" y="917"/>
                </a:lnTo>
                <a:lnTo>
                  <a:pt x="2275" y="919"/>
                </a:lnTo>
                <a:lnTo>
                  <a:pt x="2271" y="923"/>
                </a:lnTo>
                <a:lnTo>
                  <a:pt x="2267" y="925"/>
                </a:lnTo>
                <a:lnTo>
                  <a:pt x="2261" y="926"/>
                </a:lnTo>
                <a:lnTo>
                  <a:pt x="2257" y="928"/>
                </a:lnTo>
                <a:lnTo>
                  <a:pt x="2252" y="930"/>
                </a:lnTo>
                <a:lnTo>
                  <a:pt x="2244" y="932"/>
                </a:lnTo>
                <a:lnTo>
                  <a:pt x="2236" y="934"/>
                </a:lnTo>
                <a:lnTo>
                  <a:pt x="2228" y="936"/>
                </a:lnTo>
                <a:lnTo>
                  <a:pt x="2221" y="938"/>
                </a:lnTo>
                <a:lnTo>
                  <a:pt x="2204" y="942"/>
                </a:lnTo>
                <a:lnTo>
                  <a:pt x="2186" y="944"/>
                </a:lnTo>
                <a:lnTo>
                  <a:pt x="2169" y="946"/>
                </a:lnTo>
                <a:lnTo>
                  <a:pt x="2152" y="948"/>
                </a:lnTo>
                <a:lnTo>
                  <a:pt x="2134" y="949"/>
                </a:lnTo>
                <a:lnTo>
                  <a:pt x="2117" y="951"/>
                </a:lnTo>
                <a:lnTo>
                  <a:pt x="2100" y="955"/>
                </a:lnTo>
                <a:lnTo>
                  <a:pt x="2083" y="957"/>
                </a:lnTo>
                <a:lnTo>
                  <a:pt x="2073" y="959"/>
                </a:lnTo>
                <a:lnTo>
                  <a:pt x="2063" y="961"/>
                </a:lnTo>
                <a:lnTo>
                  <a:pt x="2052" y="965"/>
                </a:lnTo>
                <a:lnTo>
                  <a:pt x="2038" y="967"/>
                </a:lnTo>
                <a:lnTo>
                  <a:pt x="2025" y="971"/>
                </a:lnTo>
                <a:lnTo>
                  <a:pt x="2012" y="973"/>
                </a:lnTo>
                <a:lnTo>
                  <a:pt x="1994" y="976"/>
                </a:lnTo>
                <a:lnTo>
                  <a:pt x="1977" y="980"/>
                </a:lnTo>
                <a:lnTo>
                  <a:pt x="1958" y="984"/>
                </a:lnTo>
                <a:lnTo>
                  <a:pt x="1939" y="988"/>
                </a:lnTo>
                <a:lnTo>
                  <a:pt x="1916" y="992"/>
                </a:lnTo>
                <a:lnTo>
                  <a:pt x="1895" y="997"/>
                </a:lnTo>
                <a:lnTo>
                  <a:pt x="1870" y="1001"/>
                </a:lnTo>
                <a:lnTo>
                  <a:pt x="1845" y="1007"/>
                </a:lnTo>
                <a:lnTo>
                  <a:pt x="1816" y="1011"/>
                </a:lnTo>
                <a:lnTo>
                  <a:pt x="1789" y="1017"/>
                </a:lnTo>
                <a:lnTo>
                  <a:pt x="1760" y="1024"/>
                </a:lnTo>
                <a:lnTo>
                  <a:pt x="1731" y="1032"/>
                </a:lnTo>
                <a:lnTo>
                  <a:pt x="1706" y="1038"/>
                </a:lnTo>
                <a:lnTo>
                  <a:pt x="1682" y="1044"/>
                </a:lnTo>
                <a:lnTo>
                  <a:pt x="1659" y="1049"/>
                </a:lnTo>
                <a:lnTo>
                  <a:pt x="1635" y="1053"/>
                </a:lnTo>
                <a:lnTo>
                  <a:pt x="1616" y="1057"/>
                </a:lnTo>
                <a:lnTo>
                  <a:pt x="1597" y="1061"/>
                </a:lnTo>
                <a:lnTo>
                  <a:pt x="1580" y="1065"/>
                </a:lnTo>
                <a:lnTo>
                  <a:pt x="1564" y="1067"/>
                </a:lnTo>
                <a:lnTo>
                  <a:pt x="1549" y="1068"/>
                </a:lnTo>
                <a:lnTo>
                  <a:pt x="1538" y="1068"/>
                </a:lnTo>
                <a:lnTo>
                  <a:pt x="1526" y="1070"/>
                </a:lnTo>
                <a:lnTo>
                  <a:pt x="1517" y="1068"/>
                </a:lnTo>
                <a:lnTo>
                  <a:pt x="1509" y="1068"/>
                </a:lnTo>
                <a:lnTo>
                  <a:pt x="1503" y="1067"/>
                </a:lnTo>
                <a:lnTo>
                  <a:pt x="1492" y="1067"/>
                </a:lnTo>
                <a:lnTo>
                  <a:pt x="1482" y="1065"/>
                </a:lnTo>
                <a:lnTo>
                  <a:pt x="1472" y="1063"/>
                </a:lnTo>
                <a:lnTo>
                  <a:pt x="1463" y="1061"/>
                </a:lnTo>
                <a:lnTo>
                  <a:pt x="1453" y="1057"/>
                </a:lnTo>
                <a:lnTo>
                  <a:pt x="1444" y="1055"/>
                </a:lnTo>
                <a:lnTo>
                  <a:pt x="1436" y="1051"/>
                </a:lnTo>
                <a:lnTo>
                  <a:pt x="1428" y="1047"/>
                </a:lnTo>
                <a:lnTo>
                  <a:pt x="1422" y="1044"/>
                </a:lnTo>
                <a:lnTo>
                  <a:pt x="1417" y="1038"/>
                </a:lnTo>
                <a:lnTo>
                  <a:pt x="1413" y="1032"/>
                </a:lnTo>
                <a:lnTo>
                  <a:pt x="1409" y="1026"/>
                </a:lnTo>
                <a:lnTo>
                  <a:pt x="1405" y="1019"/>
                </a:lnTo>
                <a:lnTo>
                  <a:pt x="1403" y="1013"/>
                </a:lnTo>
                <a:lnTo>
                  <a:pt x="1401" y="1005"/>
                </a:lnTo>
                <a:lnTo>
                  <a:pt x="1401" y="997"/>
                </a:lnTo>
                <a:close/>
                <a:moveTo>
                  <a:pt x="1540" y="2049"/>
                </a:moveTo>
                <a:lnTo>
                  <a:pt x="1528" y="2040"/>
                </a:lnTo>
                <a:lnTo>
                  <a:pt x="1517" y="2032"/>
                </a:lnTo>
                <a:lnTo>
                  <a:pt x="1507" y="2024"/>
                </a:lnTo>
                <a:lnTo>
                  <a:pt x="1497" y="2017"/>
                </a:lnTo>
                <a:lnTo>
                  <a:pt x="1490" y="2009"/>
                </a:lnTo>
                <a:lnTo>
                  <a:pt x="1482" y="2001"/>
                </a:lnTo>
                <a:lnTo>
                  <a:pt x="1476" y="1995"/>
                </a:lnTo>
                <a:lnTo>
                  <a:pt x="1470" y="1990"/>
                </a:lnTo>
                <a:lnTo>
                  <a:pt x="1465" y="1984"/>
                </a:lnTo>
                <a:lnTo>
                  <a:pt x="1459" y="1980"/>
                </a:lnTo>
                <a:lnTo>
                  <a:pt x="1455" y="1974"/>
                </a:lnTo>
                <a:lnTo>
                  <a:pt x="1453" y="1970"/>
                </a:lnTo>
                <a:lnTo>
                  <a:pt x="1451" y="1969"/>
                </a:lnTo>
                <a:lnTo>
                  <a:pt x="1449" y="1965"/>
                </a:lnTo>
                <a:lnTo>
                  <a:pt x="1447" y="1963"/>
                </a:lnTo>
                <a:lnTo>
                  <a:pt x="1447" y="1961"/>
                </a:lnTo>
                <a:lnTo>
                  <a:pt x="1447" y="1959"/>
                </a:lnTo>
                <a:lnTo>
                  <a:pt x="1449" y="1957"/>
                </a:lnTo>
                <a:lnTo>
                  <a:pt x="1451" y="1955"/>
                </a:lnTo>
                <a:lnTo>
                  <a:pt x="1455" y="1955"/>
                </a:lnTo>
                <a:lnTo>
                  <a:pt x="1459" y="1953"/>
                </a:lnTo>
                <a:lnTo>
                  <a:pt x="1463" y="1953"/>
                </a:lnTo>
                <a:lnTo>
                  <a:pt x="1469" y="1953"/>
                </a:lnTo>
                <a:lnTo>
                  <a:pt x="1474" y="1953"/>
                </a:lnTo>
                <a:lnTo>
                  <a:pt x="1482" y="1953"/>
                </a:lnTo>
                <a:lnTo>
                  <a:pt x="1490" y="1953"/>
                </a:lnTo>
                <a:lnTo>
                  <a:pt x="1499" y="1953"/>
                </a:lnTo>
                <a:lnTo>
                  <a:pt x="1509" y="1955"/>
                </a:lnTo>
                <a:lnTo>
                  <a:pt x="1520" y="1955"/>
                </a:lnTo>
                <a:lnTo>
                  <a:pt x="1532" y="1957"/>
                </a:lnTo>
                <a:lnTo>
                  <a:pt x="1545" y="1959"/>
                </a:lnTo>
                <a:lnTo>
                  <a:pt x="1559" y="1961"/>
                </a:lnTo>
                <a:lnTo>
                  <a:pt x="1572" y="1965"/>
                </a:lnTo>
                <a:lnTo>
                  <a:pt x="1584" y="1967"/>
                </a:lnTo>
                <a:lnTo>
                  <a:pt x="1597" y="1969"/>
                </a:lnTo>
                <a:lnTo>
                  <a:pt x="1609" y="1972"/>
                </a:lnTo>
                <a:lnTo>
                  <a:pt x="1618" y="1972"/>
                </a:lnTo>
                <a:lnTo>
                  <a:pt x="1630" y="1974"/>
                </a:lnTo>
                <a:lnTo>
                  <a:pt x="1639" y="1974"/>
                </a:lnTo>
                <a:lnTo>
                  <a:pt x="1647" y="1974"/>
                </a:lnTo>
                <a:lnTo>
                  <a:pt x="1657" y="1974"/>
                </a:lnTo>
                <a:lnTo>
                  <a:pt x="1664" y="1972"/>
                </a:lnTo>
                <a:lnTo>
                  <a:pt x="1670" y="1970"/>
                </a:lnTo>
                <a:lnTo>
                  <a:pt x="1678" y="1967"/>
                </a:lnTo>
                <a:lnTo>
                  <a:pt x="1683" y="1965"/>
                </a:lnTo>
                <a:lnTo>
                  <a:pt x="1687" y="1961"/>
                </a:lnTo>
                <a:lnTo>
                  <a:pt x="1693" y="1955"/>
                </a:lnTo>
                <a:lnTo>
                  <a:pt x="1697" y="1951"/>
                </a:lnTo>
                <a:lnTo>
                  <a:pt x="1697" y="1947"/>
                </a:lnTo>
                <a:lnTo>
                  <a:pt x="1699" y="1946"/>
                </a:lnTo>
                <a:lnTo>
                  <a:pt x="1701" y="1942"/>
                </a:lnTo>
                <a:lnTo>
                  <a:pt x="1703" y="1938"/>
                </a:lnTo>
                <a:lnTo>
                  <a:pt x="1705" y="1934"/>
                </a:lnTo>
                <a:lnTo>
                  <a:pt x="1705" y="1928"/>
                </a:lnTo>
                <a:lnTo>
                  <a:pt x="1706" y="1922"/>
                </a:lnTo>
                <a:lnTo>
                  <a:pt x="1708" y="1917"/>
                </a:lnTo>
                <a:lnTo>
                  <a:pt x="1708" y="1911"/>
                </a:lnTo>
                <a:lnTo>
                  <a:pt x="1710" y="1903"/>
                </a:lnTo>
                <a:lnTo>
                  <a:pt x="1712" y="1896"/>
                </a:lnTo>
                <a:lnTo>
                  <a:pt x="1712" y="1886"/>
                </a:lnTo>
                <a:lnTo>
                  <a:pt x="1714" y="1878"/>
                </a:lnTo>
                <a:lnTo>
                  <a:pt x="1714" y="1869"/>
                </a:lnTo>
                <a:lnTo>
                  <a:pt x="1716" y="1857"/>
                </a:lnTo>
                <a:lnTo>
                  <a:pt x="1716" y="1848"/>
                </a:lnTo>
                <a:lnTo>
                  <a:pt x="1718" y="1836"/>
                </a:lnTo>
                <a:lnTo>
                  <a:pt x="1718" y="1825"/>
                </a:lnTo>
                <a:lnTo>
                  <a:pt x="1720" y="1811"/>
                </a:lnTo>
                <a:lnTo>
                  <a:pt x="1720" y="1800"/>
                </a:lnTo>
                <a:lnTo>
                  <a:pt x="1720" y="1786"/>
                </a:lnTo>
                <a:lnTo>
                  <a:pt x="1722" y="1773"/>
                </a:lnTo>
                <a:lnTo>
                  <a:pt x="1722" y="1757"/>
                </a:lnTo>
                <a:lnTo>
                  <a:pt x="1722" y="1742"/>
                </a:lnTo>
                <a:lnTo>
                  <a:pt x="1722" y="1727"/>
                </a:lnTo>
                <a:lnTo>
                  <a:pt x="1722" y="1711"/>
                </a:lnTo>
                <a:lnTo>
                  <a:pt x="1724" y="1694"/>
                </a:lnTo>
                <a:lnTo>
                  <a:pt x="1724" y="1677"/>
                </a:lnTo>
                <a:lnTo>
                  <a:pt x="1724" y="1660"/>
                </a:lnTo>
                <a:lnTo>
                  <a:pt x="1724" y="1640"/>
                </a:lnTo>
                <a:lnTo>
                  <a:pt x="1724" y="1623"/>
                </a:lnTo>
                <a:lnTo>
                  <a:pt x="1724" y="1604"/>
                </a:lnTo>
                <a:lnTo>
                  <a:pt x="1724" y="1564"/>
                </a:lnTo>
                <a:lnTo>
                  <a:pt x="1722" y="1525"/>
                </a:lnTo>
                <a:lnTo>
                  <a:pt x="1720" y="1485"/>
                </a:lnTo>
                <a:lnTo>
                  <a:pt x="1718" y="1445"/>
                </a:lnTo>
                <a:lnTo>
                  <a:pt x="1716" y="1404"/>
                </a:lnTo>
                <a:lnTo>
                  <a:pt x="1712" y="1366"/>
                </a:lnTo>
                <a:lnTo>
                  <a:pt x="1708" y="1326"/>
                </a:lnTo>
                <a:lnTo>
                  <a:pt x="1705" y="1285"/>
                </a:lnTo>
                <a:lnTo>
                  <a:pt x="1699" y="1245"/>
                </a:lnTo>
                <a:lnTo>
                  <a:pt x="1693" y="1205"/>
                </a:lnTo>
                <a:lnTo>
                  <a:pt x="1687" y="1166"/>
                </a:lnTo>
                <a:lnTo>
                  <a:pt x="1682" y="1126"/>
                </a:lnTo>
                <a:lnTo>
                  <a:pt x="1666" y="1045"/>
                </a:lnTo>
                <a:lnTo>
                  <a:pt x="1651" y="969"/>
                </a:lnTo>
                <a:lnTo>
                  <a:pt x="1674" y="969"/>
                </a:lnTo>
                <a:lnTo>
                  <a:pt x="1695" y="971"/>
                </a:lnTo>
                <a:lnTo>
                  <a:pt x="1714" y="976"/>
                </a:lnTo>
                <a:lnTo>
                  <a:pt x="1733" y="982"/>
                </a:lnTo>
                <a:lnTo>
                  <a:pt x="1749" y="988"/>
                </a:lnTo>
                <a:lnTo>
                  <a:pt x="1764" y="997"/>
                </a:lnTo>
                <a:lnTo>
                  <a:pt x="1777" y="1007"/>
                </a:lnTo>
                <a:lnTo>
                  <a:pt x="1789" y="1017"/>
                </a:lnTo>
                <a:lnTo>
                  <a:pt x="1791" y="1020"/>
                </a:lnTo>
                <a:lnTo>
                  <a:pt x="1793" y="1026"/>
                </a:lnTo>
                <a:lnTo>
                  <a:pt x="1795" y="1032"/>
                </a:lnTo>
                <a:lnTo>
                  <a:pt x="1799" y="1038"/>
                </a:lnTo>
                <a:lnTo>
                  <a:pt x="1801" y="1044"/>
                </a:lnTo>
                <a:lnTo>
                  <a:pt x="1802" y="1051"/>
                </a:lnTo>
                <a:lnTo>
                  <a:pt x="1804" y="1059"/>
                </a:lnTo>
                <a:lnTo>
                  <a:pt x="1806" y="1068"/>
                </a:lnTo>
                <a:lnTo>
                  <a:pt x="1808" y="1076"/>
                </a:lnTo>
                <a:lnTo>
                  <a:pt x="1812" y="1088"/>
                </a:lnTo>
                <a:lnTo>
                  <a:pt x="1814" y="1097"/>
                </a:lnTo>
                <a:lnTo>
                  <a:pt x="1816" y="1109"/>
                </a:lnTo>
                <a:lnTo>
                  <a:pt x="1818" y="1120"/>
                </a:lnTo>
                <a:lnTo>
                  <a:pt x="1820" y="1134"/>
                </a:lnTo>
                <a:lnTo>
                  <a:pt x="1822" y="1147"/>
                </a:lnTo>
                <a:lnTo>
                  <a:pt x="1824" y="1161"/>
                </a:lnTo>
                <a:lnTo>
                  <a:pt x="1824" y="1174"/>
                </a:lnTo>
                <a:lnTo>
                  <a:pt x="1825" y="1189"/>
                </a:lnTo>
                <a:lnTo>
                  <a:pt x="1827" y="1205"/>
                </a:lnTo>
                <a:lnTo>
                  <a:pt x="1829" y="1222"/>
                </a:lnTo>
                <a:lnTo>
                  <a:pt x="1831" y="1239"/>
                </a:lnTo>
                <a:lnTo>
                  <a:pt x="1831" y="1257"/>
                </a:lnTo>
                <a:lnTo>
                  <a:pt x="1833" y="1276"/>
                </a:lnTo>
                <a:lnTo>
                  <a:pt x="1835" y="1295"/>
                </a:lnTo>
                <a:lnTo>
                  <a:pt x="1837" y="1316"/>
                </a:lnTo>
                <a:lnTo>
                  <a:pt x="1837" y="1335"/>
                </a:lnTo>
                <a:lnTo>
                  <a:pt x="1839" y="1356"/>
                </a:lnTo>
                <a:lnTo>
                  <a:pt x="1839" y="1379"/>
                </a:lnTo>
                <a:lnTo>
                  <a:pt x="1841" y="1402"/>
                </a:lnTo>
                <a:lnTo>
                  <a:pt x="1841" y="1425"/>
                </a:lnTo>
                <a:lnTo>
                  <a:pt x="1843" y="1448"/>
                </a:lnTo>
                <a:lnTo>
                  <a:pt x="1843" y="1473"/>
                </a:lnTo>
                <a:lnTo>
                  <a:pt x="1845" y="1498"/>
                </a:lnTo>
                <a:lnTo>
                  <a:pt x="1845" y="1523"/>
                </a:lnTo>
                <a:lnTo>
                  <a:pt x="1845" y="1546"/>
                </a:lnTo>
                <a:lnTo>
                  <a:pt x="1847" y="1569"/>
                </a:lnTo>
                <a:lnTo>
                  <a:pt x="1847" y="1592"/>
                </a:lnTo>
                <a:lnTo>
                  <a:pt x="1847" y="1615"/>
                </a:lnTo>
                <a:lnTo>
                  <a:pt x="1847" y="1637"/>
                </a:lnTo>
                <a:lnTo>
                  <a:pt x="1847" y="1658"/>
                </a:lnTo>
                <a:lnTo>
                  <a:pt x="1847" y="1679"/>
                </a:lnTo>
                <a:lnTo>
                  <a:pt x="1847" y="1700"/>
                </a:lnTo>
                <a:lnTo>
                  <a:pt x="1847" y="1719"/>
                </a:lnTo>
                <a:lnTo>
                  <a:pt x="1847" y="1738"/>
                </a:lnTo>
                <a:lnTo>
                  <a:pt x="1847" y="1756"/>
                </a:lnTo>
                <a:lnTo>
                  <a:pt x="1847" y="1775"/>
                </a:lnTo>
                <a:lnTo>
                  <a:pt x="1847" y="1792"/>
                </a:lnTo>
                <a:lnTo>
                  <a:pt x="1845" y="1809"/>
                </a:lnTo>
                <a:lnTo>
                  <a:pt x="1845" y="1825"/>
                </a:lnTo>
                <a:lnTo>
                  <a:pt x="1845" y="1842"/>
                </a:lnTo>
                <a:lnTo>
                  <a:pt x="1845" y="1857"/>
                </a:lnTo>
                <a:lnTo>
                  <a:pt x="1843" y="1873"/>
                </a:lnTo>
                <a:lnTo>
                  <a:pt x="1843" y="1886"/>
                </a:lnTo>
                <a:lnTo>
                  <a:pt x="1843" y="1899"/>
                </a:lnTo>
                <a:lnTo>
                  <a:pt x="1841" y="1913"/>
                </a:lnTo>
                <a:lnTo>
                  <a:pt x="1841" y="1926"/>
                </a:lnTo>
                <a:lnTo>
                  <a:pt x="1841" y="1938"/>
                </a:lnTo>
                <a:lnTo>
                  <a:pt x="1839" y="1949"/>
                </a:lnTo>
                <a:lnTo>
                  <a:pt x="1839" y="1961"/>
                </a:lnTo>
                <a:lnTo>
                  <a:pt x="1837" y="1972"/>
                </a:lnTo>
                <a:lnTo>
                  <a:pt x="1837" y="1982"/>
                </a:lnTo>
                <a:lnTo>
                  <a:pt x="1835" y="1992"/>
                </a:lnTo>
                <a:lnTo>
                  <a:pt x="1835" y="2001"/>
                </a:lnTo>
                <a:lnTo>
                  <a:pt x="1835" y="2011"/>
                </a:lnTo>
                <a:lnTo>
                  <a:pt x="1829" y="2043"/>
                </a:lnTo>
                <a:lnTo>
                  <a:pt x="1824" y="2074"/>
                </a:lnTo>
                <a:lnTo>
                  <a:pt x="1818" y="2103"/>
                </a:lnTo>
                <a:lnTo>
                  <a:pt x="1808" y="2130"/>
                </a:lnTo>
                <a:lnTo>
                  <a:pt x="1801" y="2155"/>
                </a:lnTo>
                <a:lnTo>
                  <a:pt x="1791" y="2178"/>
                </a:lnTo>
                <a:lnTo>
                  <a:pt x="1779" y="2199"/>
                </a:lnTo>
                <a:lnTo>
                  <a:pt x="1770" y="2218"/>
                </a:lnTo>
                <a:lnTo>
                  <a:pt x="1764" y="2228"/>
                </a:lnTo>
                <a:lnTo>
                  <a:pt x="1760" y="2235"/>
                </a:lnTo>
                <a:lnTo>
                  <a:pt x="1754" y="2243"/>
                </a:lnTo>
                <a:lnTo>
                  <a:pt x="1749" y="2251"/>
                </a:lnTo>
                <a:lnTo>
                  <a:pt x="1745" y="2256"/>
                </a:lnTo>
                <a:lnTo>
                  <a:pt x="1739" y="2262"/>
                </a:lnTo>
                <a:lnTo>
                  <a:pt x="1735" y="2268"/>
                </a:lnTo>
                <a:lnTo>
                  <a:pt x="1731" y="2272"/>
                </a:lnTo>
                <a:lnTo>
                  <a:pt x="1726" y="2276"/>
                </a:lnTo>
                <a:lnTo>
                  <a:pt x="1722" y="2279"/>
                </a:lnTo>
                <a:lnTo>
                  <a:pt x="1718" y="2281"/>
                </a:lnTo>
                <a:lnTo>
                  <a:pt x="1716" y="2283"/>
                </a:lnTo>
                <a:lnTo>
                  <a:pt x="1712" y="2285"/>
                </a:lnTo>
                <a:lnTo>
                  <a:pt x="1710" y="2287"/>
                </a:lnTo>
                <a:lnTo>
                  <a:pt x="1706" y="2287"/>
                </a:lnTo>
                <a:lnTo>
                  <a:pt x="1705" y="2287"/>
                </a:lnTo>
                <a:lnTo>
                  <a:pt x="1703" y="2287"/>
                </a:lnTo>
                <a:lnTo>
                  <a:pt x="1699" y="2287"/>
                </a:lnTo>
                <a:lnTo>
                  <a:pt x="1695" y="2285"/>
                </a:lnTo>
                <a:lnTo>
                  <a:pt x="1691" y="2283"/>
                </a:lnTo>
                <a:lnTo>
                  <a:pt x="1689" y="2279"/>
                </a:lnTo>
                <a:lnTo>
                  <a:pt x="1685" y="2276"/>
                </a:lnTo>
                <a:lnTo>
                  <a:pt x="1682" y="2272"/>
                </a:lnTo>
                <a:lnTo>
                  <a:pt x="1680" y="2266"/>
                </a:lnTo>
                <a:lnTo>
                  <a:pt x="1676" y="2262"/>
                </a:lnTo>
                <a:lnTo>
                  <a:pt x="1674" y="2255"/>
                </a:lnTo>
                <a:lnTo>
                  <a:pt x="1670" y="2249"/>
                </a:lnTo>
                <a:lnTo>
                  <a:pt x="1668" y="2241"/>
                </a:lnTo>
                <a:lnTo>
                  <a:pt x="1666" y="2233"/>
                </a:lnTo>
                <a:lnTo>
                  <a:pt x="1662" y="2226"/>
                </a:lnTo>
                <a:lnTo>
                  <a:pt x="1660" y="2218"/>
                </a:lnTo>
                <a:lnTo>
                  <a:pt x="1659" y="2208"/>
                </a:lnTo>
                <a:lnTo>
                  <a:pt x="1657" y="2197"/>
                </a:lnTo>
                <a:lnTo>
                  <a:pt x="1655" y="2187"/>
                </a:lnTo>
                <a:lnTo>
                  <a:pt x="1651" y="2176"/>
                </a:lnTo>
                <a:lnTo>
                  <a:pt x="1645" y="2166"/>
                </a:lnTo>
                <a:lnTo>
                  <a:pt x="1641" y="2155"/>
                </a:lnTo>
                <a:lnTo>
                  <a:pt x="1634" y="2145"/>
                </a:lnTo>
                <a:lnTo>
                  <a:pt x="1628" y="2136"/>
                </a:lnTo>
                <a:lnTo>
                  <a:pt x="1620" y="2126"/>
                </a:lnTo>
                <a:lnTo>
                  <a:pt x="1612" y="2116"/>
                </a:lnTo>
                <a:lnTo>
                  <a:pt x="1603" y="2107"/>
                </a:lnTo>
                <a:lnTo>
                  <a:pt x="1593" y="2097"/>
                </a:lnTo>
                <a:lnTo>
                  <a:pt x="1584" y="2088"/>
                </a:lnTo>
                <a:lnTo>
                  <a:pt x="1574" y="2078"/>
                </a:lnTo>
                <a:lnTo>
                  <a:pt x="1563" y="2068"/>
                </a:lnTo>
                <a:lnTo>
                  <a:pt x="1540" y="2049"/>
                </a:lnTo>
                <a:close/>
                <a:moveTo>
                  <a:pt x="306" y="591"/>
                </a:moveTo>
                <a:lnTo>
                  <a:pt x="317" y="581"/>
                </a:lnTo>
                <a:lnTo>
                  <a:pt x="331" y="570"/>
                </a:lnTo>
                <a:lnTo>
                  <a:pt x="342" y="558"/>
                </a:lnTo>
                <a:lnTo>
                  <a:pt x="355" y="546"/>
                </a:lnTo>
                <a:lnTo>
                  <a:pt x="369" y="533"/>
                </a:lnTo>
                <a:lnTo>
                  <a:pt x="382" y="518"/>
                </a:lnTo>
                <a:lnTo>
                  <a:pt x="396" y="504"/>
                </a:lnTo>
                <a:lnTo>
                  <a:pt x="409" y="487"/>
                </a:lnTo>
                <a:lnTo>
                  <a:pt x="423" y="472"/>
                </a:lnTo>
                <a:lnTo>
                  <a:pt x="438" y="454"/>
                </a:lnTo>
                <a:lnTo>
                  <a:pt x="451" y="435"/>
                </a:lnTo>
                <a:lnTo>
                  <a:pt x="467" y="416"/>
                </a:lnTo>
                <a:lnTo>
                  <a:pt x="480" y="397"/>
                </a:lnTo>
                <a:lnTo>
                  <a:pt x="496" y="376"/>
                </a:lnTo>
                <a:lnTo>
                  <a:pt x="511" y="355"/>
                </a:lnTo>
                <a:lnTo>
                  <a:pt x="526" y="332"/>
                </a:lnTo>
                <a:lnTo>
                  <a:pt x="542" y="312"/>
                </a:lnTo>
                <a:lnTo>
                  <a:pt x="555" y="293"/>
                </a:lnTo>
                <a:lnTo>
                  <a:pt x="568" y="274"/>
                </a:lnTo>
                <a:lnTo>
                  <a:pt x="580" y="257"/>
                </a:lnTo>
                <a:lnTo>
                  <a:pt x="590" y="241"/>
                </a:lnTo>
                <a:lnTo>
                  <a:pt x="599" y="226"/>
                </a:lnTo>
                <a:lnTo>
                  <a:pt x="607" y="211"/>
                </a:lnTo>
                <a:lnTo>
                  <a:pt x="615" y="197"/>
                </a:lnTo>
                <a:lnTo>
                  <a:pt x="620" y="186"/>
                </a:lnTo>
                <a:lnTo>
                  <a:pt x="624" y="174"/>
                </a:lnTo>
                <a:lnTo>
                  <a:pt x="628" y="163"/>
                </a:lnTo>
                <a:lnTo>
                  <a:pt x="632" y="153"/>
                </a:lnTo>
                <a:lnTo>
                  <a:pt x="632" y="145"/>
                </a:lnTo>
                <a:lnTo>
                  <a:pt x="632" y="138"/>
                </a:lnTo>
                <a:lnTo>
                  <a:pt x="630" y="130"/>
                </a:lnTo>
                <a:lnTo>
                  <a:pt x="628" y="124"/>
                </a:lnTo>
                <a:lnTo>
                  <a:pt x="622" y="113"/>
                </a:lnTo>
                <a:lnTo>
                  <a:pt x="616" y="103"/>
                </a:lnTo>
                <a:lnTo>
                  <a:pt x="615" y="94"/>
                </a:lnTo>
                <a:lnTo>
                  <a:pt x="615" y="86"/>
                </a:lnTo>
                <a:lnTo>
                  <a:pt x="615" y="78"/>
                </a:lnTo>
                <a:lnTo>
                  <a:pt x="616" y="69"/>
                </a:lnTo>
                <a:lnTo>
                  <a:pt x="622" y="63"/>
                </a:lnTo>
                <a:lnTo>
                  <a:pt x="628" y="55"/>
                </a:lnTo>
                <a:lnTo>
                  <a:pt x="632" y="51"/>
                </a:lnTo>
                <a:lnTo>
                  <a:pt x="638" y="49"/>
                </a:lnTo>
                <a:lnTo>
                  <a:pt x="645" y="47"/>
                </a:lnTo>
                <a:lnTo>
                  <a:pt x="655" y="47"/>
                </a:lnTo>
                <a:lnTo>
                  <a:pt x="664" y="47"/>
                </a:lnTo>
                <a:lnTo>
                  <a:pt x="676" y="49"/>
                </a:lnTo>
                <a:lnTo>
                  <a:pt x="687" y="51"/>
                </a:lnTo>
                <a:lnTo>
                  <a:pt x="701" y="55"/>
                </a:lnTo>
                <a:lnTo>
                  <a:pt x="712" y="59"/>
                </a:lnTo>
                <a:lnTo>
                  <a:pt x="722" y="65"/>
                </a:lnTo>
                <a:lnTo>
                  <a:pt x="732" y="71"/>
                </a:lnTo>
                <a:lnTo>
                  <a:pt x="743" y="76"/>
                </a:lnTo>
                <a:lnTo>
                  <a:pt x="753" y="84"/>
                </a:lnTo>
                <a:lnTo>
                  <a:pt x="764" y="94"/>
                </a:lnTo>
                <a:lnTo>
                  <a:pt x="774" y="103"/>
                </a:lnTo>
                <a:lnTo>
                  <a:pt x="783" y="115"/>
                </a:lnTo>
                <a:lnTo>
                  <a:pt x="791" y="124"/>
                </a:lnTo>
                <a:lnTo>
                  <a:pt x="797" y="134"/>
                </a:lnTo>
                <a:lnTo>
                  <a:pt x="801" y="143"/>
                </a:lnTo>
                <a:lnTo>
                  <a:pt x="805" y="151"/>
                </a:lnTo>
                <a:lnTo>
                  <a:pt x="808" y="159"/>
                </a:lnTo>
                <a:lnTo>
                  <a:pt x="810" y="165"/>
                </a:lnTo>
                <a:lnTo>
                  <a:pt x="812" y="168"/>
                </a:lnTo>
                <a:lnTo>
                  <a:pt x="812" y="174"/>
                </a:lnTo>
                <a:lnTo>
                  <a:pt x="812" y="178"/>
                </a:lnTo>
                <a:lnTo>
                  <a:pt x="810" y="182"/>
                </a:lnTo>
                <a:lnTo>
                  <a:pt x="808" y="190"/>
                </a:lnTo>
                <a:lnTo>
                  <a:pt x="805" y="195"/>
                </a:lnTo>
                <a:lnTo>
                  <a:pt x="801" y="203"/>
                </a:lnTo>
                <a:lnTo>
                  <a:pt x="795" y="213"/>
                </a:lnTo>
                <a:lnTo>
                  <a:pt x="789" y="222"/>
                </a:lnTo>
                <a:lnTo>
                  <a:pt x="783" y="232"/>
                </a:lnTo>
                <a:lnTo>
                  <a:pt x="776" y="243"/>
                </a:lnTo>
                <a:lnTo>
                  <a:pt x="766" y="255"/>
                </a:lnTo>
                <a:lnTo>
                  <a:pt x="757" y="266"/>
                </a:lnTo>
                <a:lnTo>
                  <a:pt x="745" y="282"/>
                </a:lnTo>
                <a:lnTo>
                  <a:pt x="734" y="295"/>
                </a:lnTo>
                <a:lnTo>
                  <a:pt x="720" y="310"/>
                </a:lnTo>
                <a:lnTo>
                  <a:pt x="707" y="326"/>
                </a:lnTo>
                <a:lnTo>
                  <a:pt x="691" y="343"/>
                </a:lnTo>
                <a:lnTo>
                  <a:pt x="676" y="360"/>
                </a:lnTo>
                <a:lnTo>
                  <a:pt x="661" y="380"/>
                </a:lnTo>
                <a:lnTo>
                  <a:pt x="645" y="397"/>
                </a:lnTo>
                <a:lnTo>
                  <a:pt x="628" y="414"/>
                </a:lnTo>
                <a:lnTo>
                  <a:pt x="613" y="429"/>
                </a:lnTo>
                <a:lnTo>
                  <a:pt x="595" y="447"/>
                </a:lnTo>
                <a:lnTo>
                  <a:pt x="563" y="475"/>
                </a:lnTo>
                <a:lnTo>
                  <a:pt x="528" y="504"/>
                </a:lnTo>
                <a:lnTo>
                  <a:pt x="494" y="531"/>
                </a:lnTo>
                <a:lnTo>
                  <a:pt x="459" y="558"/>
                </a:lnTo>
                <a:lnTo>
                  <a:pt x="425" y="581"/>
                </a:lnTo>
                <a:lnTo>
                  <a:pt x="407" y="593"/>
                </a:lnTo>
                <a:lnTo>
                  <a:pt x="390" y="604"/>
                </a:lnTo>
                <a:lnTo>
                  <a:pt x="373" y="616"/>
                </a:lnTo>
                <a:lnTo>
                  <a:pt x="357" y="625"/>
                </a:lnTo>
                <a:lnTo>
                  <a:pt x="344" y="635"/>
                </a:lnTo>
                <a:lnTo>
                  <a:pt x="331" y="642"/>
                </a:lnTo>
                <a:lnTo>
                  <a:pt x="317" y="650"/>
                </a:lnTo>
                <a:lnTo>
                  <a:pt x="307" y="656"/>
                </a:lnTo>
                <a:lnTo>
                  <a:pt x="296" y="660"/>
                </a:lnTo>
                <a:lnTo>
                  <a:pt x="286" y="665"/>
                </a:lnTo>
                <a:lnTo>
                  <a:pt x="279" y="667"/>
                </a:lnTo>
                <a:lnTo>
                  <a:pt x="271" y="669"/>
                </a:lnTo>
                <a:lnTo>
                  <a:pt x="263" y="671"/>
                </a:lnTo>
                <a:lnTo>
                  <a:pt x="260" y="671"/>
                </a:lnTo>
                <a:lnTo>
                  <a:pt x="254" y="671"/>
                </a:lnTo>
                <a:lnTo>
                  <a:pt x="250" y="669"/>
                </a:lnTo>
                <a:lnTo>
                  <a:pt x="246" y="667"/>
                </a:lnTo>
                <a:lnTo>
                  <a:pt x="244" y="665"/>
                </a:lnTo>
                <a:lnTo>
                  <a:pt x="244" y="664"/>
                </a:lnTo>
                <a:lnTo>
                  <a:pt x="242" y="660"/>
                </a:lnTo>
                <a:lnTo>
                  <a:pt x="244" y="658"/>
                </a:lnTo>
                <a:lnTo>
                  <a:pt x="244" y="654"/>
                </a:lnTo>
                <a:lnTo>
                  <a:pt x="248" y="650"/>
                </a:lnTo>
                <a:lnTo>
                  <a:pt x="250" y="644"/>
                </a:lnTo>
                <a:lnTo>
                  <a:pt x="254" y="641"/>
                </a:lnTo>
                <a:lnTo>
                  <a:pt x="260" y="635"/>
                </a:lnTo>
                <a:lnTo>
                  <a:pt x="265" y="629"/>
                </a:lnTo>
                <a:lnTo>
                  <a:pt x="271" y="623"/>
                </a:lnTo>
                <a:lnTo>
                  <a:pt x="279" y="616"/>
                </a:lnTo>
                <a:lnTo>
                  <a:pt x="286" y="608"/>
                </a:lnTo>
                <a:lnTo>
                  <a:pt x="296" y="600"/>
                </a:lnTo>
                <a:lnTo>
                  <a:pt x="306" y="591"/>
                </a:lnTo>
                <a:close/>
                <a:moveTo>
                  <a:pt x="1042" y="84"/>
                </a:moveTo>
                <a:lnTo>
                  <a:pt x="1033" y="74"/>
                </a:lnTo>
                <a:lnTo>
                  <a:pt x="1025" y="63"/>
                </a:lnTo>
                <a:lnTo>
                  <a:pt x="1019" y="55"/>
                </a:lnTo>
                <a:lnTo>
                  <a:pt x="1014" y="46"/>
                </a:lnTo>
                <a:lnTo>
                  <a:pt x="1012" y="38"/>
                </a:lnTo>
                <a:lnTo>
                  <a:pt x="1012" y="30"/>
                </a:lnTo>
                <a:lnTo>
                  <a:pt x="1012" y="23"/>
                </a:lnTo>
                <a:lnTo>
                  <a:pt x="1014" y="15"/>
                </a:lnTo>
                <a:lnTo>
                  <a:pt x="1016" y="11"/>
                </a:lnTo>
                <a:lnTo>
                  <a:pt x="1019" y="7"/>
                </a:lnTo>
                <a:lnTo>
                  <a:pt x="1023" y="5"/>
                </a:lnTo>
                <a:lnTo>
                  <a:pt x="1027" y="3"/>
                </a:lnTo>
                <a:lnTo>
                  <a:pt x="1031" y="1"/>
                </a:lnTo>
                <a:lnTo>
                  <a:pt x="1037" y="1"/>
                </a:lnTo>
                <a:lnTo>
                  <a:pt x="1042" y="0"/>
                </a:lnTo>
                <a:lnTo>
                  <a:pt x="1048" y="0"/>
                </a:lnTo>
                <a:lnTo>
                  <a:pt x="1056" y="0"/>
                </a:lnTo>
                <a:lnTo>
                  <a:pt x="1064" y="1"/>
                </a:lnTo>
                <a:lnTo>
                  <a:pt x="1073" y="1"/>
                </a:lnTo>
                <a:lnTo>
                  <a:pt x="1081" y="3"/>
                </a:lnTo>
                <a:lnTo>
                  <a:pt x="1092" y="5"/>
                </a:lnTo>
                <a:lnTo>
                  <a:pt x="1102" y="7"/>
                </a:lnTo>
                <a:lnTo>
                  <a:pt x="1113" y="11"/>
                </a:lnTo>
                <a:lnTo>
                  <a:pt x="1125" y="15"/>
                </a:lnTo>
                <a:lnTo>
                  <a:pt x="1137" y="21"/>
                </a:lnTo>
                <a:lnTo>
                  <a:pt x="1148" y="26"/>
                </a:lnTo>
                <a:lnTo>
                  <a:pt x="1158" y="30"/>
                </a:lnTo>
                <a:lnTo>
                  <a:pt x="1167" y="36"/>
                </a:lnTo>
                <a:lnTo>
                  <a:pt x="1175" y="40"/>
                </a:lnTo>
                <a:lnTo>
                  <a:pt x="1183" y="44"/>
                </a:lnTo>
                <a:lnTo>
                  <a:pt x="1190" y="47"/>
                </a:lnTo>
                <a:lnTo>
                  <a:pt x="1196" y="51"/>
                </a:lnTo>
                <a:lnTo>
                  <a:pt x="1202" y="55"/>
                </a:lnTo>
                <a:lnTo>
                  <a:pt x="1208" y="59"/>
                </a:lnTo>
                <a:lnTo>
                  <a:pt x="1211" y="63"/>
                </a:lnTo>
                <a:lnTo>
                  <a:pt x="1215" y="65"/>
                </a:lnTo>
                <a:lnTo>
                  <a:pt x="1219" y="67"/>
                </a:lnTo>
                <a:lnTo>
                  <a:pt x="1223" y="71"/>
                </a:lnTo>
                <a:lnTo>
                  <a:pt x="1225" y="72"/>
                </a:lnTo>
                <a:lnTo>
                  <a:pt x="1227" y="74"/>
                </a:lnTo>
                <a:lnTo>
                  <a:pt x="1227" y="78"/>
                </a:lnTo>
                <a:lnTo>
                  <a:pt x="1227" y="86"/>
                </a:lnTo>
                <a:lnTo>
                  <a:pt x="1225" y="94"/>
                </a:lnTo>
                <a:lnTo>
                  <a:pt x="1225" y="103"/>
                </a:lnTo>
                <a:lnTo>
                  <a:pt x="1225" y="115"/>
                </a:lnTo>
                <a:lnTo>
                  <a:pt x="1223" y="126"/>
                </a:lnTo>
                <a:lnTo>
                  <a:pt x="1221" y="140"/>
                </a:lnTo>
                <a:lnTo>
                  <a:pt x="1217" y="153"/>
                </a:lnTo>
                <a:lnTo>
                  <a:pt x="1215" y="163"/>
                </a:lnTo>
                <a:lnTo>
                  <a:pt x="1213" y="174"/>
                </a:lnTo>
                <a:lnTo>
                  <a:pt x="1211" y="186"/>
                </a:lnTo>
                <a:lnTo>
                  <a:pt x="1209" y="199"/>
                </a:lnTo>
                <a:lnTo>
                  <a:pt x="1209" y="213"/>
                </a:lnTo>
                <a:lnTo>
                  <a:pt x="1208" y="226"/>
                </a:lnTo>
                <a:lnTo>
                  <a:pt x="1206" y="243"/>
                </a:lnTo>
                <a:lnTo>
                  <a:pt x="1204" y="259"/>
                </a:lnTo>
                <a:lnTo>
                  <a:pt x="1202" y="278"/>
                </a:lnTo>
                <a:lnTo>
                  <a:pt x="1200" y="295"/>
                </a:lnTo>
                <a:lnTo>
                  <a:pt x="1198" y="316"/>
                </a:lnTo>
                <a:lnTo>
                  <a:pt x="1196" y="337"/>
                </a:lnTo>
                <a:lnTo>
                  <a:pt x="1194" y="358"/>
                </a:lnTo>
                <a:lnTo>
                  <a:pt x="1192" y="381"/>
                </a:lnTo>
                <a:lnTo>
                  <a:pt x="1190" y="406"/>
                </a:lnTo>
                <a:lnTo>
                  <a:pt x="1190" y="431"/>
                </a:lnTo>
                <a:lnTo>
                  <a:pt x="1186" y="485"/>
                </a:lnTo>
                <a:lnTo>
                  <a:pt x="1185" y="539"/>
                </a:lnTo>
                <a:lnTo>
                  <a:pt x="1183" y="596"/>
                </a:lnTo>
                <a:lnTo>
                  <a:pt x="1181" y="654"/>
                </a:lnTo>
                <a:lnTo>
                  <a:pt x="1181" y="715"/>
                </a:lnTo>
                <a:lnTo>
                  <a:pt x="1181" y="777"/>
                </a:lnTo>
                <a:lnTo>
                  <a:pt x="1181" y="842"/>
                </a:lnTo>
                <a:lnTo>
                  <a:pt x="1181" y="907"/>
                </a:lnTo>
                <a:lnTo>
                  <a:pt x="1098" y="919"/>
                </a:lnTo>
                <a:lnTo>
                  <a:pt x="1096" y="869"/>
                </a:lnTo>
                <a:lnTo>
                  <a:pt x="1096" y="823"/>
                </a:lnTo>
                <a:lnTo>
                  <a:pt x="1094" y="777"/>
                </a:lnTo>
                <a:lnTo>
                  <a:pt x="1094" y="733"/>
                </a:lnTo>
                <a:lnTo>
                  <a:pt x="1092" y="690"/>
                </a:lnTo>
                <a:lnTo>
                  <a:pt x="1090" y="648"/>
                </a:lnTo>
                <a:lnTo>
                  <a:pt x="1090" y="608"/>
                </a:lnTo>
                <a:lnTo>
                  <a:pt x="1089" y="570"/>
                </a:lnTo>
                <a:lnTo>
                  <a:pt x="1087" y="533"/>
                </a:lnTo>
                <a:lnTo>
                  <a:pt x="1087" y="498"/>
                </a:lnTo>
                <a:lnTo>
                  <a:pt x="1085" y="464"/>
                </a:lnTo>
                <a:lnTo>
                  <a:pt x="1083" y="431"/>
                </a:lnTo>
                <a:lnTo>
                  <a:pt x="1081" y="401"/>
                </a:lnTo>
                <a:lnTo>
                  <a:pt x="1081" y="370"/>
                </a:lnTo>
                <a:lnTo>
                  <a:pt x="1079" y="341"/>
                </a:lnTo>
                <a:lnTo>
                  <a:pt x="1077" y="314"/>
                </a:lnTo>
                <a:lnTo>
                  <a:pt x="1075" y="289"/>
                </a:lnTo>
                <a:lnTo>
                  <a:pt x="1073" y="266"/>
                </a:lnTo>
                <a:lnTo>
                  <a:pt x="1071" y="243"/>
                </a:lnTo>
                <a:lnTo>
                  <a:pt x="1069" y="222"/>
                </a:lnTo>
                <a:lnTo>
                  <a:pt x="1067" y="203"/>
                </a:lnTo>
                <a:lnTo>
                  <a:pt x="1066" y="186"/>
                </a:lnTo>
                <a:lnTo>
                  <a:pt x="1064" y="168"/>
                </a:lnTo>
                <a:lnTo>
                  <a:pt x="1062" y="153"/>
                </a:lnTo>
                <a:lnTo>
                  <a:pt x="1058" y="140"/>
                </a:lnTo>
                <a:lnTo>
                  <a:pt x="1056" y="128"/>
                </a:lnTo>
                <a:lnTo>
                  <a:pt x="1054" y="117"/>
                </a:lnTo>
                <a:lnTo>
                  <a:pt x="1052" y="107"/>
                </a:lnTo>
                <a:lnTo>
                  <a:pt x="1050" y="99"/>
                </a:lnTo>
                <a:lnTo>
                  <a:pt x="1046" y="94"/>
                </a:lnTo>
                <a:lnTo>
                  <a:pt x="1044" y="88"/>
                </a:lnTo>
                <a:lnTo>
                  <a:pt x="1042" y="84"/>
                </a:lnTo>
                <a:close/>
                <a:moveTo>
                  <a:pt x="987" y="1007"/>
                </a:moveTo>
                <a:lnTo>
                  <a:pt x="968" y="1013"/>
                </a:lnTo>
                <a:lnTo>
                  <a:pt x="950" y="1019"/>
                </a:lnTo>
                <a:lnTo>
                  <a:pt x="935" y="1022"/>
                </a:lnTo>
                <a:lnTo>
                  <a:pt x="920" y="1026"/>
                </a:lnTo>
                <a:lnTo>
                  <a:pt x="906" y="1030"/>
                </a:lnTo>
                <a:lnTo>
                  <a:pt x="893" y="1034"/>
                </a:lnTo>
                <a:lnTo>
                  <a:pt x="881" y="1036"/>
                </a:lnTo>
                <a:lnTo>
                  <a:pt x="870" y="1038"/>
                </a:lnTo>
                <a:lnTo>
                  <a:pt x="860" y="1042"/>
                </a:lnTo>
                <a:lnTo>
                  <a:pt x="851" y="1044"/>
                </a:lnTo>
                <a:lnTo>
                  <a:pt x="843" y="1044"/>
                </a:lnTo>
                <a:lnTo>
                  <a:pt x="837" y="1045"/>
                </a:lnTo>
                <a:lnTo>
                  <a:pt x="831" y="1045"/>
                </a:lnTo>
                <a:lnTo>
                  <a:pt x="826" y="1047"/>
                </a:lnTo>
                <a:lnTo>
                  <a:pt x="824" y="1047"/>
                </a:lnTo>
                <a:lnTo>
                  <a:pt x="822" y="1047"/>
                </a:lnTo>
                <a:lnTo>
                  <a:pt x="814" y="1047"/>
                </a:lnTo>
                <a:lnTo>
                  <a:pt x="806" y="1045"/>
                </a:lnTo>
                <a:lnTo>
                  <a:pt x="801" y="1044"/>
                </a:lnTo>
                <a:lnTo>
                  <a:pt x="793" y="1042"/>
                </a:lnTo>
                <a:lnTo>
                  <a:pt x="783" y="1038"/>
                </a:lnTo>
                <a:lnTo>
                  <a:pt x="776" y="1034"/>
                </a:lnTo>
                <a:lnTo>
                  <a:pt x="766" y="1030"/>
                </a:lnTo>
                <a:lnTo>
                  <a:pt x="757" y="1028"/>
                </a:lnTo>
                <a:lnTo>
                  <a:pt x="747" y="1024"/>
                </a:lnTo>
                <a:lnTo>
                  <a:pt x="739" y="1020"/>
                </a:lnTo>
                <a:lnTo>
                  <a:pt x="734" y="1017"/>
                </a:lnTo>
                <a:lnTo>
                  <a:pt x="728" y="1013"/>
                </a:lnTo>
                <a:lnTo>
                  <a:pt x="724" y="1009"/>
                </a:lnTo>
                <a:lnTo>
                  <a:pt x="722" y="1005"/>
                </a:lnTo>
                <a:lnTo>
                  <a:pt x="720" y="1001"/>
                </a:lnTo>
                <a:lnTo>
                  <a:pt x="720" y="997"/>
                </a:lnTo>
                <a:lnTo>
                  <a:pt x="720" y="994"/>
                </a:lnTo>
                <a:lnTo>
                  <a:pt x="722" y="992"/>
                </a:lnTo>
                <a:lnTo>
                  <a:pt x="724" y="990"/>
                </a:lnTo>
                <a:lnTo>
                  <a:pt x="726" y="988"/>
                </a:lnTo>
                <a:lnTo>
                  <a:pt x="728" y="986"/>
                </a:lnTo>
                <a:lnTo>
                  <a:pt x="732" y="984"/>
                </a:lnTo>
                <a:lnTo>
                  <a:pt x="735" y="982"/>
                </a:lnTo>
                <a:lnTo>
                  <a:pt x="739" y="980"/>
                </a:lnTo>
                <a:lnTo>
                  <a:pt x="743" y="978"/>
                </a:lnTo>
                <a:lnTo>
                  <a:pt x="749" y="976"/>
                </a:lnTo>
                <a:lnTo>
                  <a:pt x="755" y="974"/>
                </a:lnTo>
                <a:lnTo>
                  <a:pt x="760" y="973"/>
                </a:lnTo>
                <a:lnTo>
                  <a:pt x="768" y="971"/>
                </a:lnTo>
                <a:lnTo>
                  <a:pt x="776" y="971"/>
                </a:lnTo>
                <a:lnTo>
                  <a:pt x="783" y="969"/>
                </a:lnTo>
                <a:lnTo>
                  <a:pt x="791" y="965"/>
                </a:lnTo>
                <a:lnTo>
                  <a:pt x="801" y="963"/>
                </a:lnTo>
                <a:lnTo>
                  <a:pt x="812" y="959"/>
                </a:lnTo>
                <a:lnTo>
                  <a:pt x="826" y="957"/>
                </a:lnTo>
                <a:lnTo>
                  <a:pt x="841" y="953"/>
                </a:lnTo>
                <a:lnTo>
                  <a:pt x="856" y="948"/>
                </a:lnTo>
                <a:lnTo>
                  <a:pt x="876" y="942"/>
                </a:lnTo>
                <a:lnTo>
                  <a:pt x="895" y="936"/>
                </a:lnTo>
                <a:lnTo>
                  <a:pt x="916" y="930"/>
                </a:lnTo>
                <a:lnTo>
                  <a:pt x="939" y="925"/>
                </a:lnTo>
                <a:lnTo>
                  <a:pt x="966" y="917"/>
                </a:lnTo>
                <a:lnTo>
                  <a:pt x="991" y="907"/>
                </a:lnTo>
                <a:lnTo>
                  <a:pt x="1019" y="900"/>
                </a:lnTo>
                <a:lnTo>
                  <a:pt x="1050" y="890"/>
                </a:lnTo>
                <a:lnTo>
                  <a:pt x="1083" y="880"/>
                </a:lnTo>
                <a:lnTo>
                  <a:pt x="1115" y="869"/>
                </a:lnTo>
                <a:lnTo>
                  <a:pt x="1148" y="857"/>
                </a:lnTo>
                <a:lnTo>
                  <a:pt x="1177" y="848"/>
                </a:lnTo>
                <a:lnTo>
                  <a:pt x="1206" y="838"/>
                </a:lnTo>
                <a:lnTo>
                  <a:pt x="1232" y="829"/>
                </a:lnTo>
                <a:lnTo>
                  <a:pt x="1257" y="821"/>
                </a:lnTo>
                <a:lnTo>
                  <a:pt x="1280" y="813"/>
                </a:lnTo>
                <a:lnTo>
                  <a:pt x="1302" y="807"/>
                </a:lnTo>
                <a:lnTo>
                  <a:pt x="1311" y="804"/>
                </a:lnTo>
                <a:lnTo>
                  <a:pt x="1321" y="802"/>
                </a:lnTo>
                <a:lnTo>
                  <a:pt x="1328" y="798"/>
                </a:lnTo>
                <a:lnTo>
                  <a:pt x="1338" y="796"/>
                </a:lnTo>
                <a:lnTo>
                  <a:pt x="1346" y="794"/>
                </a:lnTo>
                <a:lnTo>
                  <a:pt x="1353" y="792"/>
                </a:lnTo>
                <a:lnTo>
                  <a:pt x="1359" y="790"/>
                </a:lnTo>
                <a:lnTo>
                  <a:pt x="1367" y="788"/>
                </a:lnTo>
                <a:lnTo>
                  <a:pt x="1373" y="786"/>
                </a:lnTo>
                <a:lnTo>
                  <a:pt x="1376" y="784"/>
                </a:lnTo>
                <a:lnTo>
                  <a:pt x="1382" y="783"/>
                </a:lnTo>
                <a:lnTo>
                  <a:pt x="1386" y="783"/>
                </a:lnTo>
                <a:lnTo>
                  <a:pt x="1390" y="781"/>
                </a:lnTo>
                <a:lnTo>
                  <a:pt x="1394" y="781"/>
                </a:lnTo>
                <a:lnTo>
                  <a:pt x="1396" y="781"/>
                </a:lnTo>
                <a:lnTo>
                  <a:pt x="1399" y="779"/>
                </a:lnTo>
                <a:lnTo>
                  <a:pt x="1401" y="779"/>
                </a:lnTo>
                <a:lnTo>
                  <a:pt x="1409" y="779"/>
                </a:lnTo>
                <a:lnTo>
                  <a:pt x="1413" y="779"/>
                </a:lnTo>
                <a:lnTo>
                  <a:pt x="1417" y="781"/>
                </a:lnTo>
                <a:lnTo>
                  <a:pt x="1422" y="781"/>
                </a:lnTo>
                <a:lnTo>
                  <a:pt x="1430" y="783"/>
                </a:lnTo>
                <a:lnTo>
                  <a:pt x="1438" y="786"/>
                </a:lnTo>
                <a:lnTo>
                  <a:pt x="1447" y="788"/>
                </a:lnTo>
                <a:lnTo>
                  <a:pt x="1457" y="794"/>
                </a:lnTo>
                <a:lnTo>
                  <a:pt x="1465" y="798"/>
                </a:lnTo>
                <a:lnTo>
                  <a:pt x="1470" y="804"/>
                </a:lnTo>
                <a:lnTo>
                  <a:pt x="1476" y="809"/>
                </a:lnTo>
                <a:lnTo>
                  <a:pt x="1480" y="815"/>
                </a:lnTo>
                <a:lnTo>
                  <a:pt x="1482" y="819"/>
                </a:lnTo>
                <a:lnTo>
                  <a:pt x="1484" y="825"/>
                </a:lnTo>
                <a:lnTo>
                  <a:pt x="1484" y="829"/>
                </a:lnTo>
                <a:lnTo>
                  <a:pt x="1484" y="836"/>
                </a:lnTo>
                <a:lnTo>
                  <a:pt x="1482" y="842"/>
                </a:lnTo>
                <a:lnTo>
                  <a:pt x="1480" y="848"/>
                </a:lnTo>
                <a:lnTo>
                  <a:pt x="1476" y="852"/>
                </a:lnTo>
                <a:lnTo>
                  <a:pt x="1470" y="857"/>
                </a:lnTo>
                <a:lnTo>
                  <a:pt x="1465" y="861"/>
                </a:lnTo>
                <a:lnTo>
                  <a:pt x="1457" y="865"/>
                </a:lnTo>
                <a:lnTo>
                  <a:pt x="1447" y="869"/>
                </a:lnTo>
                <a:lnTo>
                  <a:pt x="1442" y="871"/>
                </a:lnTo>
                <a:lnTo>
                  <a:pt x="1436" y="873"/>
                </a:lnTo>
                <a:lnTo>
                  <a:pt x="1428" y="875"/>
                </a:lnTo>
                <a:lnTo>
                  <a:pt x="1421" y="878"/>
                </a:lnTo>
                <a:lnTo>
                  <a:pt x="1413" y="880"/>
                </a:lnTo>
                <a:lnTo>
                  <a:pt x="1403" y="882"/>
                </a:lnTo>
                <a:lnTo>
                  <a:pt x="1394" y="886"/>
                </a:lnTo>
                <a:lnTo>
                  <a:pt x="1384" y="890"/>
                </a:lnTo>
                <a:lnTo>
                  <a:pt x="1373" y="892"/>
                </a:lnTo>
                <a:lnTo>
                  <a:pt x="1361" y="896"/>
                </a:lnTo>
                <a:lnTo>
                  <a:pt x="1348" y="900"/>
                </a:lnTo>
                <a:lnTo>
                  <a:pt x="1334" y="903"/>
                </a:lnTo>
                <a:lnTo>
                  <a:pt x="1321" y="907"/>
                </a:lnTo>
                <a:lnTo>
                  <a:pt x="1305" y="911"/>
                </a:lnTo>
                <a:lnTo>
                  <a:pt x="1290" y="915"/>
                </a:lnTo>
                <a:lnTo>
                  <a:pt x="1273" y="919"/>
                </a:lnTo>
                <a:lnTo>
                  <a:pt x="1204" y="940"/>
                </a:lnTo>
                <a:lnTo>
                  <a:pt x="1133" y="963"/>
                </a:lnTo>
                <a:lnTo>
                  <a:pt x="1098" y="974"/>
                </a:lnTo>
                <a:lnTo>
                  <a:pt x="1062" y="984"/>
                </a:lnTo>
                <a:lnTo>
                  <a:pt x="1025" y="996"/>
                </a:lnTo>
                <a:lnTo>
                  <a:pt x="987" y="1007"/>
                </a:lnTo>
                <a:close/>
                <a:moveTo>
                  <a:pt x="1152" y="1305"/>
                </a:moveTo>
                <a:lnTo>
                  <a:pt x="1125" y="1314"/>
                </a:lnTo>
                <a:lnTo>
                  <a:pt x="1100" y="1322"/>
                </a:lnTo>
                <a:lnTo>
                  <a:pt x="1075" y="1329"/>
                </a:lnTo>
                <a:lnTo>
                  <a:pt x="1052" y="1337"/>
                </a:lnTo>
                <a:lnTo>
                  <a:pt x="1031" y="1343"/>
                </a:lnTo>
                <a:lnTo>
                  <a:pt x="1010" y="1349"/>
                </a:lnTo>
                <a:lnTo>
                  <a:pt x="993" y="1354"/>
                </a:lnTo>
                <a:lnTo>
                  <a:pt x="973" y="1358"/>
                </a:lnTo>
                <a:lnTo>
                  <a:pt x="958" y="1362"/>
                </a:lnTo>
                <a:lnTo>
                  <a:pt x="943" y="1366"/>
                </a:lnTo>
                <a:lnTo>
                  <a:pt x="929" y="1368"/>
                </a:lnTo>
                <a:lnTo>
                  <a:pt x="918" y="1372"/>
                </a:lnTo>
                <a:lnTo>
                  <a:pt x="908" y="1372"/>
                </a:lnTo>
                <a:lnTo>
                  <a:pt x="899" y="1374"/>
                </a:lnTo>
                <a:lnTo>
                  <a:pt x="891" y="1374"/>
                </a:lnTo>
                <a:lnTo>
                  <a:pt x="885" y="1376"/>
                </a:lnTo>
                <a:lnTo>
                  <a:pt x="876" y="1374"/>
                </a:lnTo>
                <a:lnTo>
                  <a:pt x="866" y="1374"/>
                </a:lnTo>
                <a:lnTo>
                  <a:pt x="858" y="1370"/>
                </a:lnTo>
                <a:lnTo>
                  <a:pt x="851" y="1368"/>
                </a:lnTo>
                <a:lnTo>
                  <a:pt x="845" y="1362"/>
                </a:lnTo>
                <a:lnTo>
                  <a:pt x="839" y="1358"/>
                </a:lnTo>
                <a:lnTo>
                  <a:pt x="833" y="1353"/>
                </a:lnTo>
                <a:lnTo>
                  <a:pt x="829" y="1345"/>
                </a:lnTo>
                <a:lnTo>
                  <a:pt x="829" y="1343"/>
                </a:lnTo>
                <a:lnTo>
                  <a:pt x="829" y="1339"/>
                </a:lnTo>
                <a:lnTo>
                  <a:pt x="833" y="1337"/>
                </a:lnTo>
                <a:lnTo>
                  <a:pt x="837" y="1331"/>
                </a:lnTo>
                <a:lnTo>
                  <a:pt x="843" y="1328"/>
                </a:lnTo>
                <a:lnTo>
                  <a:pt x="851" y="1322"/>
                </a:lnTo>
                <a:lnTo>
                  <a:pt x="862" y="1316"/>
                </a:lnTo>
                <a:lnTo>
                  <a:pt x="874" y="1310"/>
                </a:lnTo>
                <a:lnTo>
                  <a:pt x="887" y="1305"/>
                </a:lnTo>
                <a:lnTo>
                  <a:pt x="902" y="1297"/>
                </a:lnTo>
                <a:lnTo>
                  <a:pt x="920" y="1289"/>
                </a:lnTo>
                <a:lnTo>
                  <a:pt x="937" y="1282"/>
                </a:lnTo>
                <a:lnTo>
                  <a:pt x="958" y="1272"/>
                </a:lnTo>
                <a:lnTo>
                  <a:pt x="981" y="1264"/>
                </a:lnTo>
                <a:lnTo>
                  <a:pt x="995" y="1260"/>
                </a:lnTo>
                <a:lnTo>
                  <a:pt x="1006" y="1255"/>
                </a:lnTo>
                <a:lnTo>
                  <a:pt x="1019" y="1251"/>
                </a:lnTo>
                <a:lnTo>
                  <a:pt x="1033" y="1245"/>
                </a:lnTo>
                <a:lnTo>
                  <a:pt x="1060" y="1235"/>
                </a:lnTo>
                <a:lnTo>
                  <a:pt x="1085" y="1228"/>
                </a:lnTo>
                <a:lnTo>
                  <a:pt x="1110" y="1220"/>
                </a:lnTo>
                <a:lnTo>
                  <a:pt x="1131" y="1212"/>
                </a:lnTo>
                <a:lnTo>
                  <a:pt x="1152" y="1205"/>
                </a:lnTo>
                <a:lnTo>
                  <a:pt x="1171" y="1199"/>
                </a:lnTo>
                <a:lnTo>
                  <a:pt x="1188" y="1191"/>
                </a:lnTo>
                <a:lnTo>
                  <a:pt x="1206" y="1187"/>
                </a:lnTo>
                <a:lnTo>
                  <a:pt x="1221" y="1182"/>
                </a:lnTo>
                <a:lnTo>
                  <a:pt x="1234" y="1178"/>
                </a:lnTo>
                <a:lnTo>
                  <a:pt x="1246" y="1174"/>
                </a:lnTo>
                <a:lnTo>
                  <a:pt x="1256" y="1172"/>
                </a:lnTo>
                <a:lnTo>
                  <a:pt x="1265" y="1168"/>
                </a:lnTo>
                <a:lnTo>
                  <a:pt x="1271" y="1168"/>
                </a:lnTo>
                <a:lnTo>
                  <a:pt x="1277" y="1166"/>
                </a:lnTo>
                <a:lnTo>
                  <a:pt x="1282" y="1166"/>
                </a:lnTo>
                <a:lnTo>
                  <a:pt x="1286" y="1166"/>
                </a:lnTo>
                <a:lnTo>
                  <a:pt x="1290" y="1166"/>
                </a:lnTo>
                <a:lnTo>
                  <a:pt x="1296" y="1166"/>
                </a:lnTo>
                <a:lnTo>
                  <a:pt x="1302" y="1168"/>
                </a:lnTo>
                <a:lnTo>
                  <a:pt x="1309" y="1168"/>
                </a:lnTo>
                <a:lnTo>
                  <a:pt x="1319" y="1170"/>
                </a:lnTo>
                <a:lnTo>
                  <a:pt x="1327" y="1172"/>
                </a:lnTo>
                <a:lnTo>
                  <a:pt x="1336" y="1176"/>
                </a:lnTo>
                <a:lnTo>
                  <a:pt x="1346" y="1180"/>
                </a:lnTo>
                <a:lnTo>
                  <a:pt x="1353" y="1186"/>
                </a:lnTo>
                <a:lnTo>
                  <a:pt x="1361" y="1191"/>
                </a:lnTo>
                <a:lnTo>
                  <a:pt x="1365" y="1197"/>
                </a:lnTo>
                <a:lnTo>
                  <a:pt x="1369" y="1201"/>
                </a:lnTo>
                <a:lnTo>
                  <a:pt x="1373" y="1207"/>
                </a:lnTo>
                <a:lnTo>
                  <a:pt x="1373" y="1212"/>
                </a:lnTo>
                <a:lnTo>
                  <a:pt x="1374" y="1216"/>
                </a:lnTo>
                <a:lnTo>
                  <a:pt x="1373" y="1218"/>
                </a:lnTo>
                <a:lnTo>
                  <a:pt x="1371" y="1220"/>
                </a:lnTo>
                <a:lnTo>
                  <a:pt x="1365" y="1224"/>
                </a:lnTo>
                <a:lnTo>
                  <a:pt x="1359" y="1228"/>
                </a:lnTo>
                <a:lnTo>
                  <a:pt x="1351" y="1232"/>
                </a:lnTo>
                <a:lnTo>
                  <a:pt x="1342" y="1235"/>
                </a:lnTo>
                <a:lnTo>
                  <a:pt x="1330" y="1239"/>
                </a:lnTo>
                <a:lnTo>
                  <a:pt x="1319" y="1245"/>
                </a:lnTo>
                <a:lnTo>
                  <a:pt x="1303" y="1251"/>
                </a:lnTo>
                <a:lnTo>
                  <a:pt x="1286" y="1257"/>
                </a:lnTo>
                <a:lnTo>
                  <a:pt x="1269" y="1264"/>
                </a:lnTo>
                <a:lnTo>
                  <a:pt x="1250" y="1272"/>
                </a:lnTo>
                <a:lnTo>
                  <a:pt x="1227" y="1280"/>
                </a:lnTo>
                <a:lnTo>
                  <a:pt x="1204" y="1287"/>
                </a:lnTo>
                <a:lnTo>
                  <a:pt x="1179" y="1295"/>
                </a:lnTo>
                <a:lnTo>
                  <a:pt x="1152" y="1305"/>
                </a:lnTo>
                <a:close/>
                <a:moveTo>
                  <a:pt x="1161" y="1623"/>
                </a:moveTo>
                <a:lnTo>
                  <a:pt x="1079" y="1623"/>
                </a:lnTo>
                <a:lnTo>
                  <a:pt x="1079" y="1589"/>
                </a:lnTo>
                <a:lnTo>
                  <a:pt x="1079" y="1556"/>
                </a:lnTo>
                <a:lnTo>
                  <a:pt x="1079" y="1523"/>
                </a:lnTo>
                <a:lnTo>
                  <a:pt x="1079" y="1493"/>
                </a:lnTo>
                <a:lnTo>
                  <a:pt x="1079" y="1464"/>
                </a:lnTo>
                <a:lnTo>
                  <a:pt x="1077" y="1435"/>
                </a:lnTo>
                <a:lnTo>
                  <a:pt x="1077" y="1406"/>
                </a:lnTo>
                <a:lnTo>
                  <a:pt x="1077" y="1379"/>
                </a:lnTo>
                <a:lnTo>
                  <a:pt x="1077" y="1353"/>
                </a:lnTo>
                <a:lnTo>
                  <a:pt x="1077" y="1328"/>
                </a:lnTo>
                <a:lnTo>
                  <a:pt x="1075" y="1305"/>
                </a:lnTo>
                <a:lnTo>
                  <a:pt x="1075" y="1282"/>
                </a:lnTo>
                <a:lnTo>
                  <a:pt x="1075" y="1258"/>
                </a:lnTo>
                <a:lnTo>
                  <a:pt x="1073" y="1237"/>
                </a:lnTo>
                <a:lnTo>
                  <a:pt x="1073" y="1218"/>
                </a:lnTo>
                <a:lnTo>
                  <a:pt x="1071" y="1199"/>
                </a:lnTo>
                <a:lnTo>
                  <a:pt x="1071" y="1180"/>
                </a:lnTo>
                <a:lnTo>
                  <a:pt x="1069" y="1163"/>
                </a:lnTo>
                <a:lnTo>
                  <a:pt x="1069" y="1147"/>
                </a:lnTo>
                <a:lnTo>
                  <a:pt x="1067" y="1132"/>
                </a:lnTo>
                <a:lnTo>
                  <a:pt x="1067" y="1118"/>
                </a:lnTo>
                <a:lnTo>
                  <a:pt x="1066" y="1105"/>
                </a:lnTo>
                <a:lnTo>
                  <a:pt x="1064" y="1093"/>
                </a:lnTo>
                <a:lnTo>
                  <a:pt x="1064" y="1082"/>
                </a:lnTo>
                <a:lnTo>
                  <a:pt x="1062" y="1070"/>
                </a:lnTo>
                <a:lnTo>
                  <a:pt x="1060" y="1063"/>
                </a:lnTo>
                <a:lnTo>
                  <a:pt x="1060" y="1053"/>
                </a:lnTo>
                <a:lnTo>
                  <a:pt x="1058" y="1045"/>
                </a:lnTo>
                <a:lnTo>
                  <a:pt x="1056" y="1040"/>
                </a:lnTo>
                <a:lnTo>
                  <a:pt x="1054" y="1034"/>
                </a:lnTo>
                <a:lnTo>
                  <a:pt x="1052" y="1030"/>
                </a:lnTo>
                <a:lnTo>
                  <a:pt x="1052" y="1028"/>
                </a:lnTo>
                <a:lnTo>
                  <a:pt x="1044" y="1020"/>
                </a:lnTo>
                <a:lnTo>
                  <a:pt x="1041" y="1013"/>
                </a:lnTo>
                <a:lnTo>
                  <a:pt x="1039" y="1005"/>
                </a:lnTo>
                <a:lnTo>
                  <a:pt x="1037" y="997"/>
                </a:lnTo>
                <a:lnTo>
                  <a:pt x="1037" y="990"/>
                </a:lnTo>
                <a:lnTo>
                  <a:pt x="1037" y="982"/>
                </a:lnTo>
                <a:lnTo>
                  <a:pt x="1039" y="974"/>
                </a:lnTo>
                <a:lnTo>
                  <a:pt x="1042" y="969"/>
                </a:lnTo>
                <a:lnTo>
                  <a:pt x="1046" y="965"/>
                </a:lnTo>
                <a:lnTo>
                  <a:pt x="1052" y="963"/>
                </a:lnTo>
                <a:lnTo>
                  <a:pt x="1060" y="961"/>
                </a:lnTo>
                <a:lnTo>
                  <a:pt x="1069" y="961"/>
                </a:lnTo>
                <a:lnTo>
                  <a:pt x="1079" y="961"/>
                </a:lnTo>
                <a:lnTo>
                  <a:pt x="1090" y="963"/>
                </a:lnTo>
                <a:lnTo>
                  <a:pt x="1102" y="965"/>
                </a:lnTo>
                <a:lnTo>
                  <a:pt x="1115" y="969"/>
                </a:lnTo>
                <a:lnTo>
                  <a:pt x="1129" y="973"/>
                </a:lnTo>
                <a:lnTo>
                  <a:pt x="1142" y="976"/>
                </a:lnTo>
                <a:lnTo>
                  <a:pt x="1154" y="982"/>
                </a:lnTo>
                <a:lnTo>
                  <a:pt x="1163" y="988"/>
                </a:lnTo>
                <a:lnTo>
                  <a:pt x="1171" y="996"/>
                </a:lnTo>
                <a:lnTo>
                  <a:pt x="1179" y="1003"/>
                </a:lnTo>
                <a:lnTo>
                  <a:pt x="1185" y="1009"/>
                </a:lnTo>
                <a:lnTo>
                  <a:pt x="1190" y="1017"/>
                </a:lnTo>
                <a:lnTo>
                  <a:pt x="1192" y="1028"/>
                </a:lnTo>
                <a:lnTo>
                  <a:pt x="1192" y="1040"/>
                </a:lnTo>
                <a:lnTo>
                  <a:pt x="1192" y="1051"/>
                </a:lnTo>
                <a:lnTo>
                  <a:pt x="1192" y="1063"/>
                </a:lnTo>
                <a:lnTo>
                  <a:pt x="1190" y="1076"/>
                </a:lnTo>
                <a:lnTo>
                  <a:pt x="1186" y="1088"/>
                </a:lnTo>
                <a:lnTo>
                  <a:pt x="1185" y="1103"/>
                </a:lnTo>
                <a:lnTo>
                  <a:pt x="1181" y="1116"/>
                </a:lnTo>
                <a:lnTo>
                  <a:pt x="1179" y="1120"/>
                </a:lnTo>
                <a:lnTo>
                  <a:pt x="1179" y="1126"/>
                </a:lnTo>
                <a:lnTo>
                  <a:pt x="1177" y="1132"/>
                </a:lnTo>
                <a:lnTo>
                  <a:pt x="1177" y="1138"/>
                </a:lnTo>
                <a:lnTo>
                  <a:pt x="1177" y="1145"/>
                </a:lnTo>
                <a:lnTo>
                  <a:pt x="1175" y="1153"/>
                </a:lnTo>
                <a:lnTo>
                  <a:pt x="1175" y="1161"/>
                </a:lnTo>
                <a:lnTo>
                  <a:pt x="1173" y="1170"/>
                </a:lnTo>
                <a:lnTo>
                  <a:pt x="1173" y="1180"/>
                </a:lnTo>
                <a:lnTo>
                  <a:pt x="1171" y="1191"/>
                </a:lnTo>
                <a:lnTo>
                  <a:pt x="1171" y="1203"/>
                </a:lnTo>
                <a:lnTo>
                  <a:pt x="1171" y="1216"/>
                </a:lnTo>
                <a:lnTo>
                  <a:pt x="1169" y="1230"/>
                </a:lnTo>
                <a:lnTo>
                  <a:pt x="1169" y="1243"/>
                </a:lnTo>
                <a:lnTo>
                  <a:pt x="1169" y="1257"/>
                </a:lnTo>
                <a:lnTo>
                  <a:pt x="1167" y="1274"/>
                </a:lnTo>
                <a:lnTo>
                  <a:pt x="1167" y="1289"/>
                </a:lnTo>
                <a:lnTo>
                  <a:pt x="1167" y="1306"/>
                </a:lnTo>
                <a:lnTo>
                  <a:pt x="1165" y="1324"/>
                </a:lnTo>
                <a:lnTo>
                  <a:pt x="1165" y="1343"/>
                </a:lnTo>
                <a:lnTo>
                  <a:pt x="1165" y="1362"/>
                </a:lnTo>
                <a:lnTo>
                  <a:pt x="1163" y="1381"/>
                </a:lnTo>
                <a:lnTo>
                  <a:pt x="1163" y="1402"/>
                </a:lnTo>
                <a:lnTo>
                  <a:pt x="1163" y="1424"/>
                </a:lnTo>
                <a:lnTo>
                  <a:pt x="1163" y="1447"/>
                </a:lnTo>
                <a:lnTo>
                  <a:pt x="1163" y="1470"/>
                </a:lnTo>
                <a:lnTo>
                  <a:pt x="1161" y="1493"/>
                </a:lnTo>
                <a:lnTo>
                  <a:pt x="1161" y="1518"/>
                </a:lnTo>
                <a:lnTo>
                  <a:pt x="1161" y="1543"/>
                </a:lnTo>
                <a:lnTo>
                  <a:pt x="1161" y="1569"/>
                </a:lnTo>
                <a:lnTo>
                  <a:pt x="1161" y="1596"/>
                </a:lnTo>
                <a:lnTo>
                  <a:pt x="1161" y="1623"/>
                </a:lnTo>
                <a:close/>
                <a:moveTo>
                  <a:pt x="1161" y="1663"/>
                </a:moveTo>
                <a:lnTo>
                  <a:pt x="1144" y="1669"/>
                </a:lnTo>
                <a:lnTo>
                  <a:pt x="1127" y="1677"/>
                </a:lnTo>
                <a:lnTo>
                  <a:pt x="1110" y="1685"/>
                </a:lnTo>
                <a:lnTo>
                  <a:pt x="1092" y="1690"/>
                </a:lnTo>
                <a:lnTo>
                  <a:pt x="1077" y="1698"/>
                </a:lnTo>
                <a:lnTo>
                  <a:pt x="1062" y="1704"/>
                </a:lnTo>
                <a:lnTo>
                  <a:pt x="1046" y="1709"/>
                </a:lnTo>
                <a:lnTo>
                  <a:pt x="1033" y="1715"/>
                </a:lnTo>
                <a:lnTo>
                  <a:pt x="1018" y="1721"/>
                </a:lnTo>
                <a:lnTo>
                  <a:pt x="1004" y="1727"/>
                </a:lnTo>
                <a:lnTo>
                  <a:pt x="993" y="1731"/>
                </a:lnTo>
                <a:lnTo>
                  <a:pt x="979" y="1736"/>
                </a:lnTo>
                <a:lnTo>
                  <a:pt x="968" y="1740"/>
                </a:lnTo>
                <a:lnTo>
                  <a:pt x="956" y="1744"/>
                </a:lnTo>
                <a:lnTo>
                  <a:pt x="945" y="1748"/>
                </a:lnTo>
                <a:lnTo>
                  <a:pt x="933" y="1752"/>
                </a:lnTo>
                <a:lnTo>
                  <a:pt x="924" y="1756"/>
                </a:lnTo>
                <a:lnTo>
                  <a:pt x="914" y="1759"/>
                </a:lnTo>
                <a:lnTo>
                  <a:pt x="904" y="1763"/>
                </a:lnTo>
                <a:lnTo>
                  <a:pt x="897" y="1765"/>
                </a:lnTo>
                <a:lnTo>
                  <a:pt x="889" y="1767"/>
                </a:lnTo>
                <a:lnTo>
                  <a:pt x="881" y="1771"/>
                </a:lnTo>
                <a:lnTo>
                  <a:pt x="874" y="1773"/>
                </a:lnTo>
                <a:lnTo>
                  <a:pt x="866" y="1775"/>
                </a:lnTo>
                <a:lnTo>
                  <a:pt x="860" y="1777"/>
                </a:lnTo>
                <a:lnTo>
                  <a:pt x="854" y="1779"/>
                </a:lnTo>
                <a:lnTo>
                  <a:pt x="849" y="1779"/>
                </a:lnTo>
                <a:lnTo>
                  <a:pt x="845" y="1780"/>
                </a:lnTo>
                <a:lnTo>
                  <a:pt x="841" y="1780"/>
                </a:lnTo>
                <a:lnTo>
                  <a:pt x="837" y="1780"/>
                </a:lnTo>
                <a:lnTo>
                  <a:pt x="833" y="1782"/>
                </a:lnTo>
                <a:lnTo>
                  <a:pt x="829" y="1782"/>
                </a:lnTo>
                <a:lnTo>
                  <a:pt x="820" y="1784"/>
                </a:lnTo>
                <a:lnTo>
                  <a:pt x="810" y="1786"/>
                </a:lnTo>
                <a:lnTo>
                  <a:pt x="803" y="1784"/>
                </a:lnTo>
                <a:lnTo>
                  <a:pt x="793" y="1782"/>
                </a:lnTo>
                <a:lnTo>
                  <a:pt x="785" y="1777"/>
                </a:lnTo>
                <a:lnTo>
                  <a:pt x="776" y="1771"/>
                </a:lnTo>
                <a:lnTo>
                  <a:pt x="766" y="1763"/>
                </a:lnTo>
                <a:lnTo>
                  <a:pt x="757" y="1752"/>
                </a:lnTo>
                <a:lnTo>
                  <a:pt x="747" y="1740"/>
                </a:lnTo>
                <a:lnTo>
                  <a:pt x="739" y="1731"/>
                </a:lnTo>
                <a:lnTo>
                  <a:pt x="734" y="1721"/>
                </a:lnTo>
                <a:lnTo>
                  <a:pt x="728" y="1711"/>
                </a:lnTo>
                <a:lnTo>
                  <a:pt x="724" y="1702"/>
                </a:lnTo>
                <a:lnTo>
                  <a:pt x="722" y="1694"/>
                </a:lnTo>
                <a:lnTo>
                  <a:pt x="720" y="1683"/>
                </a:lnTo>
                <a:lnTo>
                  <a:pt x="720" y="1673"/>
                </a:lnTo>
                <a:lnTo>
                  <a:pt x="718" y="1667"/>
                </a:lnTo>
                <a:lnTo>
                  <a:pt x="718" y="1661"/>
                </a:lnTo>
                <a:lnTo>
                  <a:pt x="718" y="1658"/>
                </a:lnTo>
                <a:lnTo>
                  <a:pt x="718" y="1654"/>
                </a:lnTo>
                <a:lnTo>
                  <a:pt x="718" y="1650"/>
                </a:lnTo>
                <a:lnTo>
                  <a:pt x="720" y="1648"/>
                </a:lnTo>
                <a:lnTo>
                  <a:pt x="722" y="1644"/>
                </a:lnTo>
                <a:lnTo>
                  <a:pt x="724" y="1642"/>
                </a:lnTo>
                <a:lnTo>
                  <a:pt x="730" y="1640"/>
                </a:lnTo>
                <a:lnTo>
                  <a:pt x="737" y="1638"/>
                </a:lnTo>
                <a:lnTo>
                  <a:pt x="747" y="1640"/>
                </a:lnTo>
                <a:lnTo>
                  <a:pt x="757" y="1642"/>
                </a:lnTo>
                <a:lnTo>
                  <a:pt x="766" y="1646"/>
                </a:lnTo>
                <a:lnTo>
                  <a:pt x="776" y="1648"/>
                </a:lnTo>
                <a:lnTo>
                  <a:pt x="783" y="1650"/>
                </a:lnTo>
                <a:lnTo>
                  <a:pt x="793" y="1650"/>
                </a:lnTo>
                <a:lnTo>
                  <a:pt x="801" y="1650"/>
                </a:lnTo>
                <a:lnTo>
                  <a:pt x="806" y="1648"/>
                </a:lnTo>
                <a:lnTo>
                  <a:pt x="814" y="1646"/>
                </a:lnTo>
                <a:lnTo>
                  <a:pt x="822" y="1642"/>
                </a:lnTo>
                <a:lnTo>
                  <a:pt x="824" y="1642"/>
                </a:lnTo>
                <a:lnTo>
                  <a:pt x="826" y="1642"/>
                </a:lnTo>
                <a:lnTo>
                  <a:pt x="828" y="1642"/>
                </a:lnTo>
                <a:lnTo>
                  <a:pt x="831" y="1640"/>
                </a:lnTo>
                <a:lnTo>
                  <a:pt x="837" y="1640"/>
                </a:lnTo>
                <a:lnTo>
                  <a:pt x="841" y="1640"/>
                </a:lnTo>
                <a:lnTo>
                  <a:pt x="847" y="1638"/>
                </a:lnTo>
                <a:lnTo>
                  <a:pt x="853" y="1637"/>
                </a:lnTo>
                <a:lnTo>
                  <a:pt x="858" y="1637"/>
                </a:lnTo>
                <a:lnTo>
                  <a:pt x="866" y="1635"/>
                </a:lnTo>
                <a:lnTo>
                  <a:pt x="872" y="1633"/>
                </a:lnTo>
                <a:lnTo>
                  <a:pt x="881" y="1631"/>
                </a:lnTo>
                <a:lnTo>
                  <a:pt x="889" y="1629"/>
                </a:lnTo>
                <a:lnTo>
                  <a:pt x="899" y="1625"/>
                </a:lnTo>
                <a:lnTo>
                  <a:pt x="908" y="1623"/>
                </a:lnTo>
                <a:lnTo>
                  <a:pt x="918" y="1621"/>
                </a:lnTo>
                <a:lnTo>
                  <a:pt x="929" y="1617"/>
                </a:lnTo>
                <a:lnTo>
                  <a:pt x="939" y="1615"/>
                </a:lnTo>
                <a:lnTo>
                  <a:pt x="950" y="1612"/>
                </a:lnTo>
                <a:lnTo>
                  <a:pt x="964" y="1608"/>
                </a:lnTo>
                <a:lnTo>
                  <a:pt x="977" y="1604"/>
                </a:lnTo>
                <a:lnTo>
                  <a:pt x="989" y="1600"/>
                </a:lnTo>
                <a:lnTo>
                  <a:pt x="1004" y="1596"/>
                </a:lnTo>
                <a:lnTo>
                  <a:pt x="1018" y="1592"/>
                </a:lnTo>
                <a:lnTo>
                  <a:pt x="1033" y="1589"/>
                </a:lnTo>
                <a:lnTo>
                  <a:pt x="1048" y="1585"/>
                </a:lnTo>
                <a:lnTo>
                  <a:pt x="1064" y="1579"/>
                </a:lnTo>
                <a:lnTo>
                  <a:pt x="1081" y="1575"/>
                </a:lnTo>
                <a:lnTo>
                  <a:pt x="1098" y="1569"/>
                </a:lnTo>
                <a:lnTo>
                  <a:pt x="1115" y="1564"/>
                </a:lnTo>
                <a:lnTo>
                  <a:pt x="1135" y="1560"/>
                </a:lnTo>
                <a:lnTo>
                  <a:pt x="1152" y="1554"/>
                </a:lnTo>
                <a:lnTo>
                  <a:pt x="1171" y="1548"/>
                </a:lnTo>
                <a:lnTo>
                  <a:pt x="1190" y="1544"/>
                </a:lnTo>
                <a:lnTo>
                  <a:pt x="1208" y="1541"/>
                </a:lnTo>
                <a:lnTo>
                  <a:pt x="1225" y="1537"/>
                </a:lnTo>
                <a:lnTo>
                  <a:pt x="1240" y="1533"/>
                </a:lnTo>
                <a:lnTo>
                  <a:pt x="1256" y="1529"/>
                </a:lnTo>
                <a:lnTo>
                  <a:pt x="1271" y="1525"/>
                </a:lnTo>
                <a:lnTo>
                  <a:pt x="1286" y="1521"/>
                </a:lnTo>
                <a:lnTo>
                  <a:pt x="1300" y="1518"/>
                </a:lnTo>
                <a:lnTo>
                  <a:pt x="1313" y="1516"/>
                </a:lnTo>
                <a:lnTo>
                  <a:pt x="1327" y="1512"/>
                </a:lnTo>
                <a:lnTo>
                  <a:pt x="1338" y="1510"/>
                </a:lnTo>
                <a:lnTo>
                  <a:pt x="1350" y="1508"/>
                </a:lnTo>
                <a:lnTo>
                  <a:pt x="1361" y="1506"/>
                </a:lnTo>
                <a:lnTo>
                  <a:pt x="1373" y="1504"/>
                </a:lnTo>
                <a:lnTo>
                  <a:pt x="1382" y="1502"/>
                </a:lnTo>
                <a:lnTo>
                  <a:pt x="1392" y="1500"/>
                </a:lnTo>
                <a:lnTo>
                  <a:pt x="1399" y="1498"/>
                </a:lnTo>
                <a:lnTo>
                  <a:pt x="1409" y="1498"/>
                </a:lnTo>
                <a:lnTo>
                  <a:pt x="1417" y="1496"/>
                </a:lnTo>
                <a:lnTo>
                  <a:pt x="1422" y="1496"/>
                </a:lnTo>
                <a:lnTo>
                  <a:pt x="1430" y="1496"/>
                </a:lnTo>
                <a:lnTo>
                  <a:pt x="1436" y="1496"/>
                </a:lnTo>
                <a:lnTo>
                  <a:pt x="1442" y="1496"/>
                </a:lnTo>
                <a:lnTo>
                  <a:pt x="1445" y="1496"/>
                </a:lnTo>
                <a:lnTo>
                  <a:pt x="1451" y="1496"/>
                </a:lnTo>
                <a:lnTo>
                  <a:pt x="1455" y="1496"/>
                </a:lnTo>
                <a:lnTo>
                  <a:pt x="1459" y="1498"/>
                </a:lnTo>
                <a:lnTo>
                  <a:pt x="1461" y="1498"/>
                </a:lnTo>
                <a:lnTo>
                  <a:pt x="1463" y="1500"/>
                </a:lnTo>
                <a:lnTo>
                  <a:pt x="1465" y="1502"/>
                </a:lnTo>
                <a:lnTo>
                  <a:pt x="1467" y="1504"/>
                </a:lnTo>
                <a:lnTo>
                  <a:pt x="1465" y="1506"/>
                </a:lnTo>
                <a:lnTo>
                  <a:pt x="1465" y="1510"/>
                </a:lnTo>
                <a:lnTo>
                  <a:pt x="1463" y="1512"/>
                </a:lnTo>
                <a:lnTo>
                  <a:pt x="1461" y="1516"/>
                </a:lnTo>
                <a:lnTo>
                  <a:pt x="1459" y="1519"/>
                </a:lnTo>
                <a:lnTo>
                  <a:pt x="1455" y="1523"/>
                </a:lnTo>
                <a:lnTo>
                  <a:pt x="1451" y="1525"/>
                </a:lnTo>
                <a:lnTo>
                  <a:pt x="1447" y="1529"/>
                </a:lnTo>
                <a:lnTo>
                  <a:pt x="1442" y="1533"/>
                </a:lnTo>
                <a:lnTo>
                  <a:pt x="1436" y="1537"/>
                </a:lnTo>
                <a:lnTo>
                  <a:pt x="1430" y="1541"/>
                </a:lnTo>
                <a:lnTo>
                  <a:pt x="1422" y="1546"/>
                </a:lnTo>
                <a:lnTo>
                  <a:pt x="1415" y="1550"/>
                </a:lnTo>
                <a:lnTo>
                  <a:pt x="1407" y="1554"/>
                </a:lnTo>
                <a:lnTo>
                  <a:pt x="1399" y="1560"/>
                </a:lnTo>
                <a:lnTo>
                  <a:pt x="1390" y="1564"/>
                </a:lnTo>
                <a:lnTo>
                  <a:pt x="1380" y="1569"/>
                </a:lnTo>
                <a:lnTo>
                  <a:pt x="1369" y="1573"/>
                </a:lnTo>
                <a:lnTo>
                  <a:pt x="1359" y="1579"/>
                </a:lnTo>
                <a:lnTo>
                  <a:pt x="1348" y="1585"/>
                </a:lnTo>
                <a:lnTo>
                  <a:pt x="1334" y="1590"/>
                </a:lnTo>
                <a:lnTo>
                  <a:pt x="1323" y="1596"/>
                </a:lnTo>
                <a:lnTo>
                  <a:pt x="1309" y="1602"/>
                </a:lnTo>
                <a:lnTo>
                  <a:pt x="1294" y="1608"/>
                </a:lnTo>
                <a:lnTo>
                  <a:pt x="1280" y="1614"/>
                </a:lnTo>
                <a:lnTo>
                  <a:pt x="1265" y="1621"/>
                </a:lnTo>
                <a:lnTo>
                  <a:pt x="1250" y="1627"/>
                </a:lnTo>
                <a:lnTo>
                  <a:pt x="1232" y="1633"/>
                </a:lnTo>
                <a:lnTo>
                  <a:pt x="1215" y="1640"/>
                </a:lnTo>
                <a:lnTo>
                  <a:pt x="1198" y="1648"/>
                </a:lnTo>
                <a:lnTo>
                  <a:pt x="1181" y="1656"/>
                </a:lnTo>
                <a:lnTo>
                  <a:pt x="1161" y="1663"/>
                </a:lnTo>
                <a:close/>
                <a:moveTo>
                  <a:pt x="1714" y="462"/>
                </a:moveTo>
                <a:lnTo>
                  <a:pt x="1737" y="452"/>
                </a:lnTo>
                <a:lnTo>
                  <a:pt x="1756" y="445"/>
                </a:lnTo>
                <a:lnTo>
                  <a:pt x="1777" y="437"/>
                </a:lnTo>
                <a:lnTo>
                  <a:pt x="1797" y="429"/>
                </a:lnTo>
                <a:lnTo>
                  <a:pt x="1814" y="424"/>
                </a:lnTo>
                <a:lnTo>
                  <a:pt x="1831" y="418"/>
                </a:lnTo>
                <a:lnTo>
                  <a:pt x="1847" y="412"/>
                </a:lnTo>
                <a:lnTo>
                  <a:pt x="1862" y="408"/>
                </a:lnTo>
                <a:lnTo>
                  <a:pt x="1875" y="406"/>
                </a:lnTo>
                <a:lnTo>
                  <a:pt x="1889" y="403"/>
                </a:lnTo>
                <a:lnTo>
                  <a:pt x="1902" y="401"/>
                </a:lnTo>
                <a:lnTo>
                  <a:pt x="1914" y="401"/>
                </a:lnTo>
                <a:lnTo>
                  <a:pt x="1925" y="399"/>
                </a:lnTo>
                <a:lnTo>
                  <a:pt x="1935" y="399"/>
                </a:lnTo>
                <a:lnTo>
                  <a:pt x="1944" y="401"/>
                </a:lnTo>
                <a:lnTo>
                  <a:pt x="1954" y="403"/>
                </a:lnTo>
                <a:lnTo>
                  <a:pt x="1962" y="406"/>
                </a:lnTo>
                <a:lnTo>
                  <a:pt x="1969" y="410"/>
                </a:lnTo>
                <a:lnTo>
                  <a:pt x="1977" y="414"/>
                </a:lnTo>
                <a:lnTo>
                  <a:pt x="1983" y="416"/>
                </a:lnTo>
                <a:lnTo>
                  <a:pt x="1989" y="420"/>
                </a:lnTo>
                <a:lnTo>
                  <a:pt x="1994" y="424"/>
                </a:lnTo>
                <a:lnTo>
                  <a:pt x="2000" y="427"/>
                </a:lnTo>
                <a:lnTo>
                  <a:pt x="2004" y="431"/>
                </a:lnTo>
                <a:lnTo>
                  <a:pt x="2008" y="435"/>
                </a:lnTo>
                <a:lnTo>
                  <a:pt x="2010" y="439"/>
                </a:lnTo>
                <a:lnTo>
                  <a:pt x="2014" y="443"/>
                </a:lnTo>
                <a:lnTo>
                  <a:pt x="2015" y="447"/>
                </a:lnTo>
                <a:lnTo>
                  <a:pt x="2015" y="451"/>
                </a:lnTo>
                <a:lnTo>
                  <a:pt x="2017" y="454"/>
                </a:lnTo>
                <a:lnTo>
                  <a:pt x="2019" y="462"/>
                </a:lnTo>
                <a:lnTo>
                  <a:pt x="2017" y="466"/>
                </a:lnTo>
                <a:lnTo>
                  <a:pt x="2015" y="470"/>
                </a:lnTo>
                <a:lnTo>
                  <a:pt x="2014" y="474"/>
                </a:lnTo>
                <a:lnTo>
                  <a:pt x="2008" y="477"/>
                </a:lnTo>
                <a:lnTo>
                  <a:pt x="2002" y="483"/>
                </a:lnTo>
                <a:lnTo>
                  <a:pt x="1996" y="487"/>
                </a:lnTo>
                <a:lnTo>
                  <a:pt x="1987" y="493"/>
                </a:lnTo>
                <a:lnTo>
                  <a:pt x="1979" y="497"/>
                </a:lnTo>
                <a:lnTo>
                  <a:pt x="1967" y="502"/>
                </a:lnTo>
                <a:lnTo>
                  <a:pt x="1956" y="508"/>
                </a:lnTo>
                <a:lnTo>
                  <a:pt x="1943" y="514"/>
                </a:lnTo>
                <a:lnTo>
                  <a:pt x="1929" y="518"/>
                </a:lnTo>
                <a:lnTo>
                  <a:pt x="1914" y="523"/>
                </a:lnTo>
                <a:lnTo>
                  <a:pt x="1898" y="529"/>
                </a:lnTo>
                <a:lnTo>
                  <a:pt x="1881" y="535"/>
                </a:lnTo>
                <a:lnTo>
                  <a:pt x="1862" y="541"/>
                </a:lnTo>
                <a:lnTo>
                  <a:pt x="1841" y="546"/>
                </a:lnTo>
                <a:lnTo>
                  <a:pt x="1824" y="552"/>
                </a:lnTo>
                <a:lnTo>
                  <a:pt x="1804" y="556"/>
                </a:lnTo>
                <a:lnTo>
                  <a:pt x="1787" y="562"/>
                </a:lnTo>
                <a:lnTo>
                  <a:pt x="1772" y="566"/>
                </a:lnTo>
                <a:lnTo>
                  <a:pt x="1756" y="570"/>
                </a:lnTo>
                <a:lnTo>
                  <a:pt x="1743" y="573"/>
                </a:lnTo>
                <a:lnTo>
                  <a:pt x="1730" y="577"/>
                </a:lnTo>
                <a:lnTo>
                  <a:pt x="1718" y="579"/>
                </a:lnTo>
                <a:lnTo>
                  <a:pt x="1706" y="583"/>
                </a:lnTo>
                <a:lnTo>
                  <a:pt x="1697" y="585"/>
                </a:lnTo>
                <a:lnTo>
                  <a:pt x="1687" y="587"/>
                </a:lnTo>
                <a:lnTo>
                  <a:pt x="1680" y="589"/>
                </a:lnTo>
                <a:lnTo>
                  <a:pt x="1672" y="589"/>
                </a:lnTo>
                <a:lnTo>
                  <a:pt x="1664" y="591"/>
                </a:lnTo>
                <a:lnTo>
                  <a:pt x="1659" y="591"/>
                </a:lnTo>
                <a:lnTo>
                  <a:pt x="1649" y="591"/>
                </a:lnTo>
                <a:lnTo>
                  <a:pt x="1639" y="591"/>
                </a:lnTo>
                <a:lnTo>
                  <a:pt x="1622" y="589"/>
                </a:lnTo>
                <a:lnTo>
                  <a:pt x="1614" y="589"/>
                </a:lnTo>
                <a:lnTo>
                  <a:pt x="1605" y="587"/>
                </a:lnTo>
                <a:lnTo>
                  <a:pt x="1595" y="583"/>
                </a:lnTo>
                <a:lnTo>
                  <a:pt x="1586" y="581"/>
                </a:lnTo>
                <a:lnTo>
                  <a:pt x="1576" y="577"/>
                </a:lnTo>
                <a:lnTo>
                  <a:pt x="1568" y="573"/>
                </a:lnTo>
                <a:lnTo>
                  <a:pt x="1563" y="570"/>
                </a:lnTo>
                <a:lnTo>
                  <a:pt x="1557" y="566"/>
                </a:lnTo>
                <a:lnTo>
                  <a:pt x="1553" y="562"/>
                </a:lnTo>
                <a:lnTo>
                  <a:pt x="1551" y="558"/>
                </a:lnTo>
                <a:lnTo>
                  <a:pt x="1549" y="554"/>
                </a:lnTo>
                <a:lnTo>
                  <a:pt x="1549" y="550"/>
                </a:lnTo>
                <a:lnTo>
                  <a:pt x="1549" y="548"/>
                </a:lnTo>
                <a:lnTo>
                  <a:pt x="1551" y="546"/>
                </a:lnTo>
                <a:lnTo>
                  <a:pt x="1555" y="543"/>
                </a:lnTo>
                <a:lnTo>
                  <a:pt x="1559" y="539"/>
                </a:lnTo>
                <a:lnTo>
                  <a:pt x="1564" y="535"/>
                </a:lnTo>
                <a:lnTo>
                  <a:pt x="1572" y="531"/>
                </a:lnTo>
                <a:lnTo>
                  <a:pt x="1580" y="527"/>
                </a:lnTo>
                <a:lnTo>
                  <a:pt x="1589" y="522"/>
                </a:lnTo>
                <a:lnTo>
                  <a:pt x="1601" y="516"/>
                </a:lnTo>
                <a:lnTo>
                  <a:pt x="1614" y="510"/>
                </a:lnTo>
                <a:lnTo>
                  <a:pt x="1628" y="502"/>
                </a:lnTo>
                <a:lnTo>
                  <a:pt x="1641" y="495"/>
                </a:lnTo>
                <a:lnTo>
                  <a:pt x="1659" y="487"/>
                </a:lnTo>
                <a:lnTo>
                  <a:pt x="1676" y="479"/>
                </a:lnTo>
                <a:lnTo>
                  <a:pt x="1695" y="470"/>
                </a:lnTo>
                <a:lnTo>
                  <a:pt x="1714" y="4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1916280" y="2706840"/>
            <a:ext cx="599760" cy="741240"/>
          </a:xfrm>
          <a:custGeom>
            <a:avLst/>
            <a:gdLst/>
            <a:ahLst/>
            <a:rect l="l" t="t" r="r" b="b"/>
            <a:pathLst>
              <a:path w="757" h="934">
                <a:moveTo>
                  <a:pt x="112" y="790"/>
                </a:moveTo>
                <a:lnTo>
                  <a:pt x="142" y="756"/>
                </a:lnTo>
                <a:lnTo>
                  <a:pt x="175" y="721"/>
                </a:lnTo>
                <a:lnTo>
                  <a:pt x="208" y="685"/>
                </a:lnTo>
                <a:lnTo>
                  <a:pt x="240" y="648"/>
                </a:lnTo>
                <a:lnTo>
                  <a:pt x="273" y="612"/>
                </a:lnTo>
                <a:lnTo>
                  <a:pt x="306" y="573"/>
                </a:lnTo>
                <a:lnTo>
                  <a:pt x="338" y="533"/>
                </a:lnTo>
                <a:lnTo>
                  <a:pt x="369" y="493"/>
                </a:lnTo>
                <a:lnTo>
                  <a:pt x="400" y="453"/>
                </a:lnTo>
                <a:lnTo>
                  <a:pt x="428" y="412"/>
                </a:lnTo>
                <a:lnTo>
                  <a:pt x="442" y="393"/>
                </a:lnTo>
                <a:lnTo>
                  <a:pt x="455" y="374"/>
                </a:lnTo>
                <a:lnTo>
                  <a:pt x="467" y="355"/>
                </a:lnTo>
                <a:lnTo>
                  <a:pt x="478" y="337"/>
                </a:lnTo>
                <a:lnTo>
                  <a:pt x="490" y="320"/>
                </a:lnTo>
                <a:lnTo>
                  <a:pt x="501" y="301"/>
                </a:lnTo>
                <a:lnTo>
                  <a:pt x="511" y="286"/>
                </a:lnTo>
                <a:lnTo>
                  <a:pt x="521" y="268"/>
                </a:lnTo>
                <a:lnTo>
                  <a:pt x="530" y="251"/>
                </a:lnTo>
                <a:lnTo>
                  <a:pt x="540" y="236"/>
                </a:lnTo>
                <a:lnTo>
                  <a:pt x="547" y="220"/>
                </a:lnTo>
                <a:lnTo>
                  <a:pt x="553" y="205"/>
                </a:lnTo>
                <a:lnTo>
                  <a:pt x="561" y="192"/>
                </a:lnTo>
                <a:lnTo>
                  <a:pt x="567" y="180"/>
                </a:lnTo>
                <a:lnTo>
                  <a:pt x="572" y="169"/>
                </a:lnTo>
                <a:lnTo>
                  <a:pt x="576" y="157"/>
                </a:lnTo>
                <a:lnTo>
                  <a:pt x="580" y="145"/>
                </a:lnTo>
                <a:lnTo>
                  <a:pt x="584" y="136"/>
                </a:lnTo>
                <a:lnTo>
                  <a:pt x="588" y="126"/>
                </a:lnTo>
                <a:lnTo>
                  <a:pt x="590" y="117"/>
                </a:lnTo>
                <a:lnTo>
                  <a:pt x="592" y="109"/>
                </a:lnTo>
                <a:lnTo>
                  <a:pt x="593" y="99"/>
                </a:lnTo>
                <a:lnTo>
                  <a:pt x="593" y="94"/>
                </a:lnTo>
                <a:lnTo>
                  <a:pt x="593" y="86"/>
                </a:lnTo>
                <a:lnTo>
                  <a:pt x="593" y="80"/>
                </a:lnTo>
                <a:lnTo>
                  <a:pt x="593" y="74"/>
                </a:lnTo>
                <a:lnTo>
                  <a:pt x="592" y="71"/>
                </a:lnTo>
                <a:lnTo>
                  <a:pt x="592" y="67"/>
                </a:lnTo>
                <a:lnTo>
                  <a:pt x="588" y="59"/>
                </a:lnTo>
                <a:lnTo>
                  <a:pt x="586" y="51"/>
                </a:lnTo>
                <a:lnTo>
                  <a:pt x="584" y="44"/>
                </a:lnTo>
                <a:lnTo>
                  <a:pt x="584" y="36"/>
                </a:lnTo>
                <a:lnTo>
                  <a:pt x="584" y="28"/>
                </a:lnTo>
                <a:lnTo>
                  <a:pt x="586" y="21"/>
                </a:lnTo>
                <a:lnTo>
                  <a:pt x="588" y="13"/>
                </a:lnTo>
                <a:lnTo>
                  <a:pt x="592" y="5"/>
                </a:lnTo>
                <a:lnTo>
                  <a:pt x="595" y="3"/>
                </a:lnTo>
                <a:lnTo>
                  <a:pt x="599" y="0"/>
                </a:lnTo>
                <a:lnTo>
                  <a:pt x="605" y="0"/>
                </a:lnTo>
                <a:lnTo>
                  <a:pt x="613" y="0"/>
                </a:lnTo>
                <a:lnTo>
                  <a:pt x="620" y="0"/>
                </a:lnTo>
                <a:lnTo>
                  <a:pt x="630" y="0"/>
                </a:lnTo>
                <a:lnTo>
                  <a:pt x="641" y="3"/>
                </a:lnTo>
                <a:lnTo>
                  <a:pt x="655" y="5"/>
                </a:lnTo>
                <a:lnTo>
                  <a:pt x="668" y="13"/>
                </a:lnTo>
                <a:lnTo>
                  <a:pt x="682" y="21"/>
                </a:lnTo>
                <a:lnTo>
                  <a:pt x="693" y="28"/>
                </a:lnTo>
                <a:lnTo>
                  <a:pt x="703" y="36"/>
                </a:lnTo>
                <a:lnTo>
                  <a:pt x="714" y="44"/>
                </a:lnTo>
                <a:lnTo>
                  <a:pt x="722" y="51"/>
                </a:lnTo>
                <a:lnTo>
                  <a:pt x="732" y="59"/>
                </a:lnTo>
                <a:lnTo>
                  <a:pt x="737" y="67"/>
                </a:lnTo>
                <a:lnTo>
                  <a:pt x="741" y="76"/>
                </a:lnTo>
                <a:lnTo>
                  <a:pt x="745" y="86"/>
                </a:lnTo>
                <a:lnTo>
                  <a:pt x="749" y="96"/>
                </a:lnTo>
                <a:lnTo>
                  <a:pt x="751" y="105"/>
                </a:lnTo>
                <a:lnTo>
                  <a:pt x="753" y="113"/>
                </a:lnTo>
                <a:lnTo>
                  <a:pt x="755" y="121"/>
                </a:lnTo>
                <a:lnTo>
                  <a:pt x="757" y="128"/>
                </a:lnTo>
                <a:lnTo>
                  <a:pt x="757" y="136"/>
                </a:lnTo>
                <a:lnTo>
                  <a:pt x="757" y="142"/>
                </a:lnTo>
                <a:lnTo>
                  <a:pt x="755" y="149"/>
                </a:lnTo>
                <a:lnTo>
                  <a:pt x="751" y="157"/>
                </a:lnTo>
                <a:lnTo>
                  <a:pt x="747" y="167"/>
                </a:lnTo>
                <a:lnTo>
                  <a:pt x="741" y="178"/>
                </a:lnTo>
                <a:lnTo>
                  <a:pt x="734" y="190"/>
                </a:lnTo>
                <a:lnTo>
                  <a:pt x="726" y="203"/>
                </a:lnTo>
                <a:lnTo>
                  <a:pt x="716" y="218"/>
                </a:lnTo>
                <a:lnTo>
                  <a:pt x="705" y="234"/>
                </a:lnTo>
                <a:lnTo>
                  <a:pt x="693" y="251"/>
                </a:lnTo>
                <a:lnTo>
                  <a:pt x="680" y="270"/>
                </a:lnTo>
                <a:lnTo>
                  <a:pt x="666" y="289"/>
                </a:lnTo>
                <a:lnTo>
                  <a:pt x="651" y="311"/>
                </a:lnTo>
                <a:lnTo>
                  <a:pt x="636" y="334"/>
                </a:lnTo>
                <a:lnTo>
                  <a:pt x="618" y="359"/>
                </a:lnTo>
                <a:lnTo>
                  <a:pt x="599" y="383"/>
                </a:lnTo>
                <a:lnTo>
                  <a:pt x="580" y="412"/>
                </a:lnTo>
                <a:lnTo>
                  <a:pt x="559" y="439"/>
                </a:lnTo>
                <a:lnTo>
                  <a:pt x="536" y="466"/>
                </a:lnTo>
                <a:lnTo>
                  <a:pt x="515" y="491"/>
                </a:lnTo>
                <a:lnTo>
                  <a:pt x="469" y="543"/>
                </a:lnTo>
                <a:lnTo>
                  <a:pt x="421" y="593"/>
                </a:lnTo>
                <a:lnTo>
                  <a:pt x="373" y="641"/>
                </a:lnTo>
                <a:lnTo>
                  <a:pt x="323" y="689"/>
                </a:lnTo>
                <a:lnTo>
                  <a:pt x="273" y="735"/>
                </a:lnTo>
                <a:lnTo>
                  <a:pt x="223" y="781"/>
                </a:lnTo>
                <a:lnTo>
                  <a:pt x="198" y="802"/>
                </a:lnTo>
                <a:lnTo>
                  <a:pt x="173" y="823"/>
                </a:lnTo>
                <a:lnTo>
                  <a:pt x="152" y="840"/>
                </a:lnTo>
                <a:lnTo>
                  <a:pt x="131" y="857"/>
                </a:lnTo>
                <a:lnTo>
                  <a:pt x="112" y="873"/>
                </a:lnTo>
                <a:lnTo>
                  <a:pt x="94" y="886"/>
                </a:lnTo>
                <a:lnTo>
                  <a:pt x="79" y="898"/>
                </a:lnTo>
                <a:lnTo>
                  <a:pt x="64" y="907"/>
                </a:lnTo>
                <a:lnTo>
                  <a:pt x="50" y="917"/>
                </a:lnTo>
                <a:lnTo>
                  <a:pt x="39" y="923"/>
                </a:lnTo>
                <a:lnTo>
                  <a:pt x="29" y="929"/>
                </a:lnTo>
                <a:lnTo>
                  <a:pt x="20" y="932"/>
                </a:lnTo>
                <a:lnTo>
                  <a:pt x="14" y="934"/>
                </a:lnTo>
                <a:lnTo>
                  <a:pt x="8" y="934"/>
                </a:lnTo>
                <a:lnTo>
                  <a:pt x="4" y="932"/>
                </a:lnTo>
                <a:lnTo>
                  <a:pt x="0" y="930"/>
                </a:lnTo>
                <a:lnTo>
                  <a:pt x="0" y="927"/>
                </a:lnTo>
                <a:lnTo>
                  <a:pt x="0" y="925"/>
                </a:lnTo>
                <a:lnTo>
                  <a:pt x="0" y="919"/>
                </a:lnTo>
                <a:lnTo>
                  <a:pt x="2" y="915"/>
                </a:lnTo>
                <a:lnTo>
                  <a:pt x="6" y="909"/>
                </a:lnTo>
                <a:lnTo>
                  <a:pt x="10" y="902"/>
                </a:lnTo>
                <a:lnTo>
                  <a:pt x="16" y="894"/>
                </a:lnTo>
                <a:lnTo>
                  <a:pt x="22" y="886"/>
                </a:lnTo>
                <a:lnTo>
                  <a:pt x="29" y="877"/>
                </a:lnTo>
                <a:lnTo>
                  <a:pt x="39" y="867"/>
                </a:lnTo>
                <a:lnTo>
                  <a:pt x="48" y="856"/>
                </a:lnTo>
                <a:lnTo>
                  <a:pt x="58" y="844"/>
                </a:lnTo>
                <a:lnTo>
                  <a:pt x="70" y="833"/>
                </a:lnTo>
                <a:lnTo>
                  <a:pt x="83" y="819"/>
                </a:lnTo>
                <a:lnTo>
                  <a:pt x="96" y="806"/>
                </a:lnTo>
                <a:lnTo>
                  <a:pt x="112" y="79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286000" y="2995560"/>
            <a:ext cx="120600" cy="906480"/>
          </a:xfrm>
          <a:custGeom>
            <a:avLst/>
            <a:gdLst/>
            <a:ahLst/>
            <a:rect l="l" t="t" r="r" b="b"/>
            <a:pathLst>
              <a:path w="151" h="1142">
                <a:moveTo>
                  <a:pt x="105" y="1052"/>
                </a:moveTo>
                <a:lnTo>
                  <a:pt x="101" y="1069"/>
                </a:lnTo>
                <a:lnTo>
                  <a:pt x="98" y="1085"/>
                </a:lnTo>
                <a:lnTo>
                  <a:pt x="96" y="1100"/>
                </a:lnTo>
                <a:lnTo>
                  <a:pt x="92" y="1111"/>
                </a:lnTo>
                <a:lnTo>
                  <a:pt x="88" y="1121"/>
                </a:lnTo>
                <a:lnTo>
                  <a:pt x="84" y="1131"/>
                </a:lnTo>
                <a:lnTo>
                  <a:pt x="80" y="1136"/>
                </a:lnTo>
                <a:lnTo>
                  <a:pt x="78" y="1142"/>
                </a:lnTo>
                <a:lnTo>
                  <a:pt x="77" y="1140"/>
                </a:lnTo>
                <a:lnTo>
                  <a:pt x="75" y="1140"/>
                </a:lnTo>
                <a:lnTo>
                  <a:pt x="71" y="1138"/>
                </a:lnTo>
                <a:lnTo>
                  <a:pt x="69" y="1136"/>
                </a:lnTo>
                <a:lnTo>
                  <a:pt x="67" y="1134"/>
                </a:lnTo>
                <a:lnTo>
                  <a:pt x="63" y="1133"/>
                </a:lnTo>
                <a:lnTo>
                  <a:pt x="61" y="1129"/>
                </a:lnTo>
                <a:lnTo>
                  <a:pt x="57" y="1125"/>
                </a:lnTo>
                <a:lnTo>
                  <a:pt x="55" y="1121"/>
                </a:lnTo>
                <a:lnTo>
                  <a:pt x="52" y="1115"/>
                </a:lnTo>
                <a:lnTo>
                  <a:pt x="48" y="1110"/>
                </a:lnTo>
                <a:lnTo>
                  <a:pt x="46" y="1104"/>
                </a:lnTo>
                <a:lnTo>
                  <a:pt x="42" y="1096"/>
                </a:lnTo>
                <a:lnTo>
                  <a:pt x="38" y="1088"/>
                </a:lnTo>
                <a:lnTo>
                  <a:pt x="34" y="1081"/>
                </a:lnTo>
                <a:lnTo>
                  <a:pt x="32" y="1071"/>
                </a:lnTo>
                <a:lnTo>
                  <a:pt x="25" y="1054"/>
                </a:lnTo>
                <a:lnTo>
                  <a:pt x="19" y="1039"/>
                </a:lnTo>
                <a:lnTo>
                  <a:pt x="15" y="1023"/>
                </a:lnTo>
                <a:lnTo>
                  <a:pt x="11" y="1010"/>
                </a:lnTo>
                <a:lnTo>
                  <a:pt x="7" y="996"/>
                </a:lnTo>
                <a:lnTo>
                  <a:pt x="6" y="985"/>
                </a:lnTo>
                <a:lnTo>
                  <a:pt x="4" y="973"/>
                </a:lnTo>
                <a:lnTo>
                  <a:pt x="4" y="962"/>
                </a:lnTo>
                <a:lnTo>
                  <a:pt x="2" y="958"/>
                </a:lnTo>
                <a:lnTo>
                  <a:pt x="2" y="954"/>
                </a:lnTo>
                <a:lnTo>
                  <a:pt x="0" y="948"/>
                </a:lnTo>
                <a:lnTo>
                  <a:pt x="0" y="943"/>
                </a:lnTo>
                <a:lnTo>
                  <a:pt x="0" y="935"/>
                </a:lnTo>
                <a:lnTo>
                  <a:pt x="0" y="927"/>
                </a:lnTo>
                <a:lnTo>
                  <a:pt x="2" y="920"/>
                </a:lnTo>
                <a:lnTo>
                  <a:pt x="2" y="912"/>
                </a:lnTo>
                <a:lnTo>
                  <a:pt x="4" y="902"/>
                </a:lnTo>
                <a:lnTo>
                  <a:pt x="4" y="893"/>
                </a:lnTo>
                <a:lnTo>
                  <a:pt x="6" y="883"/>
                </a:lnTo>
                <a:lnTo>
                  <a:pt x="7" y="872"/>
                </a:lnTo>
                <a:lnTo>
                  <a:pt x="7" y="860"/>
                </a:lnTo>
                <a:lnTo>
                  <a:pt x="9" y="849"/>
                </a:lnTo>
                <a:lnTo>
                  <a:pt x="11" y="837"/>
                </a:lnTo>
                <a:lnTo>
                  <a:pt x="13" y="824"/>
                </a:lnTo>
                <a:lnTo>
                  <a:pt x="15" y="810"/>
                </a:lnTo>
                <a:lnTo>
                  <a:pt x="17" y="795"/>
                </a:lnTo>
                <a:lnTo>
                  <a:pt x="19" y="779"/>
                </a:lnTo>
                <a:lnTo>
                  <a:pt x="21" y="764"/>
                </a:lnTo>
                <a:lnTo>
                  <a:pt x="25" y="747"/>
                </a:lnTo>
                <a:lnTo>
                  <a:pt x="27" y="728"/>
                </a:lnTo>
                <a:lnTo>
                  <a:pt x="29" y="708"/>
                </a:lnTo>
                <a:lnTo>
                  <a:pt x="32" y="689"/>
                </a:lnTo>
                <a:lnTo>
                  <a:pt x="34" y="666"/>
                </a:lnTo>
                <a:lnTo>
                  <a:pt x="36" y="645"/>
                </a:lnTo>
                <a:lnTo>
                  <a:pt x="40" y="620"/>
                </a:lnTo>
                <a:lnTo>
                  <a:pt x="42" y="595"/>
                </a:lnTo>
                <a:lnTo>
                  <a:pt x="44" y="570"/>
                </a:lnTo>
                <a:lnTo>
                  <a:pt x="46" y="543"/>
                </a:lnTo>
                <a:lnTo>
                  <a:pt x="48" y="515"/>
                </a:lnTo>
                <a:lnTo>
                  <a:pt x="50" y="486"/>
                </a:lnTo>
                <a:lnTo>
                  <a:pt x="54" y="430"/>
                </a:lnTo>
                <a:lnTo>
                  <a:pt x="55" y="371"/>
                </a:lnTo>
                <a:lnTo>
                  <a:pt x="55" y="311"/>
                </a:lnTo>
                <a:lnTo>
                  <a:pt x="57" y="250"/>
                </a:lnTo>
                <a:lnTo>
                  <a:pt x="55" y="188"/>
                </a:lnTo>
                <a:lnTo>
                  <a:pt x="55" y="125"/>
                </a:lnTo>
                <a:lnTo>
                  <a:pt x="54" y="64"/>
                </a:lnTo>
                <a:lnTo>
                  <a:pt x="50" y="0"/>
                </a:lnTo>
                <a:lnTo>
                  <a:pt x="61" y="18"/>
                </a:lnTo>
                <a:lnTo>
                  <a:pt x="73" y="37"/>
                </a:lnTo>
                <a:lnTo>
                  <a:pt x="82" y="54"/>
                </a:lnTo>
                <a:lnTo>
                  <a:pt x="92" y="71"/>
                </a:lnTo>
                <a:lnTo>
                  <a:pt x="101" y="87"/>
                </a:lnTo>
                <a:lnTo>
                  <a:pt x="109" y="102"/>
                </a:lnTo>
                <a:lnTo>
                  <a:pt x="117" y="117"/>
                </a:lnTo>
                <a:lnTo>
                  <a:pt x="125" y="133"/>
                </a:lnTo>
                <a:lnTo>
                  <a:pt x="130" y="146"/>
                </a:lnTo>
                <a:lnTo>
                  <a:pt x="136" y="160"/>
                </a:lnTo>
                <a:lnTo>
                  <a:pt x="140" y="173"/>
                </a:lnTo>
                <a:lnTo>
                  <a:pt x="144" y="185"/>
                </a:lnTo>
                <a:lnTo>
                  <a:pt x="148" y="198"/>
                </a:lnTo>
                <a:lnTo>
                  <a:pt x="149" y="208"/>
                </a:lnTo>
                <a:lnTo>
                  <a:pt x="151" y="219"/>
                </a:lnTo>
                <a:lnTo>
                  <a:pt x="151" y="229"/>
                </a:lnTo>
                <a:lnTo>
                  <a:pt x="151" y="238"/>
                </a:lnTo>
                <a:lnTo>
                  <a:pt x="151" y="250"/>
                </a:lnTo>
                <a:lnTo>
                  <a:pt x="151" y="261"/>
                </a:lnTo>
                <a:lnTo>
                  <a:pt x="151" y="275"/>
                </a:lnTo>
                <a:lnTo>
                  <a:pt x="151" y="288"/>
                </a:lnTo>
                <a:lnTo>
                  <a:pt x="151" y="304"/>
                </a:lnTo>
                <a:lnTo>
                  <a:pt x="151" y="321"/>
                </a:lnTo>
                <a:lnTo>
                  <a:pt x="151" y="338"/>
                </a:lnTo>
                <a:lnTo>
                  <a:pt x="151" y="357"/>
                </a:lnTo>
                <a:lnTo>
                  <a:pt x="151" y="376"/>
                </a:lnTo>
                <a:lnTo>
                  <a:pt x="151" y="398"/>
                </a:lnTo>
                <a:lnTo>
                  <a:pt x="151" y="419"/>
                </a:lnTo>
                <a:lnTo>
                  <a:pt x="151" y="442"/>
                </a:lnTo>
                <a:lnTo>
                  <a:pt x="151" y="465"/>
                </a:lnTo>
                <a:lnTo>
                  <a:pt x="151" y="490"/>
                </a:lnTo>
                <a:lnTo>
                  <a:pt x="151" y="517"/>
                </a:lnTo>
                <a:lnTo>
                  <a:pt x="149" y="541"/>
                </a:lnTo>
                <a:lnTo>
                  <a:pt x="148" y="566"/>
                </a:lnTo>
                <a:lnTo>
                  <a:pt x="148" y="591"/>
                </a:lnTo>
                <a:lnTo>
                  <a:pt x="146" y="614"/>
                </a:lnTo>
                <a:lnTo>
                  <a:pt x="146" y="637"/>
                </a:lnTo>
                <a:lnTo>
                  <a:pt x="144" y="660"/>
                </a:lnTo>
                <a:lnTo>
                  <a:pt x="144" y="682"/>
                </a:lnTo>
                <a:lnTo>
                  <a:pt x="142" y="703"/>
                </a:lnTo>
                <a:lnTo>
                  <a:pt x="142" y="722"/>
                </a:lnTo>
                <a:lnTo>
                  <a:pt x="140" y="741"/>
                </a:lnTo>
                <a:lnTo>
                  <a:pt x="140" y="760"/>
                </a:lnTo>
                <a:lnTo>
                  <a:pt x="138" y="778"/>
                </a:lnTo>
                <a:lnTo>
                  <a:pt x="138" y="795"/>
                </a:lnTo>
                <a:lnTo>
                  <a:pt x="136" y="812"/>
                </a:lnTo>
                <a:lnTo>
                  <a:pt x="134" y="827"/>
                </a:lnTo>
                <a:lnTo>
                  <a:pt x="132" y="843"/>
                </a:lnTo>
                <a:lnTo>
                  <a:pt x="130" y="873"/>
                </a:lnTo>
                <a:lnTo>
                  <a:pt x="126" y="900"/>
                </a:lnTo>
                <a:lnTo>
                  <a:pt x="123" y="929"/>
                </a:lnTo>
                <a:lnTo>
                  <a:pt x="119" y="954"/>
                </a:lnTo>
                <a:lnTo>
                  <a:pt x="115" y="981"/>
                </a:lnTo>
                <a:lnTo>
                  <a:pt x="113" y="1006"/>
                </a:lnTo>
                <a:lnTo>
                  <a:pt x="109" y="1029"/>
                </a:lnTo>
                <a:lnTo>
                  <a:pt x="105" y="105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9"/>
          <p:cNvSpPr/>
          <p:nvPr/>
        </p:nvSpPr>
        <p:spPr>
          <a:xfrm>
            <a:off x="2617920" y="2625840"/>
            <a:ext cx="409320" cy="137880"/>
          </a:xfrm>
          <a:custGeom>
            <a:avLst/>
            <a:gdLst/>
            <a:ahLst/>
            <a:rect l="l" t="t" r="r" b="b"/>
            <a:pathLst>
              <a:path w="516" h="175">
                <a:moveTo>
                  <a:pt x="167" y="69"/>
                </a:moveTo>
                <a:lnTo>
                  <a:pt x="188" y="59"/>
                </a:lnTo>
                <a:lnTo>
                  <a:pt x="209" y="52"/>
                </a:lnTo>
                <a:lnTo>
                  <a:pt x="230" y="44"/>
                </a:lnTo>
                <a:lnTo>
                  <a:pt x="250" y="36"/>
                </a:lnTo>
                <a:lnTo>
                  <a:pt x="269" y="31"/>
                </a:lnTo>
                <a:lnTo>
                  <a:pt x="286" y="25"/>
                </a:lnTo>
                <a:lnTo>
                  <a:pt x="303" y="19"/>
                </a:lnTo>
                <a:lnTo>
                  <a:pt x="321" y="15"/>
                </a:lnTo>
                <a:lnTo>
                  <a:pt x="336" y="11"/>
                </a:lnTo>
                <a:lnTo>
                  <a:pt x="351" y="8"/>
                </a:lnTo>
                <a:lnTo>
                  <a:pt x="367" y="6"/>
                </a:lnTo>
                <a:lnTo>
                  <a:pt x="382" y="2"/>
                </a:lnTo>
                <a:lnTo>
                  <a:pt x="395" y="2"/>
                </a:lnTo>
                <a:lnTo>
                  <a:pt x="409" y="0"/>
                </a:lnTo>
                <a:lnTo>
                  <a:pt x="420" y="0"/>
                </a:lnTo>
                <a:lnTo>
                  <a:pt x="434" y="0"/>
                </a:lnTo>
                <a:lnTo>
                  <a:pt x="443" y="0"/>
                </a:lnTo>
                <a:lnTo>
                  <a:pt x="453" y="0"/>
                </a:lnTo>
                <a:lnTo>
                  <a:pt x="461" y="0"/>
                </a:lnTo>
                <a:lnTo>
                  <a:pt x="470" y="0"/>
                </a:lnTo>
                <a:lnTo>
                  <a:pt x="478" y="2"/>
                </a:lnTo>
                <a:lnTo>
                  <a:pt x="484" y="2"/>
                </a:lnTo>
                <a:lnTo>
                  <a:pt x="489" y="4"/>
                </a:lnTo>
                <a:lnTo>
                  <a:pt x="495" y="6"/>
                </a:lnTo>
                <a:lnTo>
                  <a:pt x="501" y="6"/>
                </a:lnTo>
                <a:lnTo>
                  <a:pt x="505" y="8"/>
                </a:lnTo>
                <a:lnTo>
                  <a:pt x="509" y="10"/>
                </a:lnTo>
                <a:lnTo>
                  <a:pt x="511" y="11"/>
                </a:lnTo>
                <a:lnTo>
                  <a:pt x="513" y="13"/>
                </a:lnTo>
                <a:lnTo>
                  <a:pt x="514" y="15"/>
                </a:lnTo>
                <a:lnTo>
                  <a:pt x="516" y="17"/>
                </a:lnTo>
                <a:lnTo>
                  <a:pt x="516" y="19"/>
                </a:lnTo>
                <a:lnTo>
                  <a:pt x="516" y="27"/>
                </a:lnTo>
                <a:lnTo>
                  <a:pt x="513" y="34"/>
                </a:lnTo>
                <a:lnTo>
                  <a:pt x="509" y="40"/>
                </a:lnTo>
                <a:lnTo>
                  <a:pt x="503" y="48"/>
                </a:lnTo>
                <a:lnTo>
                  <a:pt x="497" y="56"/>
                </a:lnTo>
                <a:lnTo>
                  <a:pt x="489" y="63"/>
                </a:lnTo>
                <a:lnTo>
                  <a:pt x="480" y="71"/>
                </a:lnTo>
                <a:lnTo>
                  <a:pt x="470" y="79"/>
                </a:lnTo>
                <a:lnTo>
                  <a:pt x="463" y="82"/>
                </a:lnTo>
                <a:lnTo>
                  <a:pt x="455" y="86"/>
                </a:lnTo>
                <a:lnTo>
                  <a:pt x="445" y="90"/>
                </a:lnTo>
                <a:lnTo>
                  <a:pt x="436" y="94"/>
                </a:lnTo>
                <a:lnTo>
                  <a:pt x="424" y="98"/>
                </a:lnTo>
                <a:lnTo>
                  <a:pt x="413" y="102"/>
                </a:lnTo>
                <a:lnTo>
                  <a:pt x="401" y="105"/>
                </a:lnTo>
                <a:lnTo>
                  <a:pt x="388" y="109"/>
                </a:lnTo>
                <a:lnTo>
                  <a:pt x="372" y="113"/>
                </a:lnTo>
                <a:lnTo>
                  <a:pt x="357" y="117"/>
                </a:lnTo>
                <a:lnTo>
                  <a:pt x="342" y="123"/>
                </a:lnTo>
                <a:lnTo>
                  <a:pt x="324" y="127"/>
                </a:lnTo>
                <a:lnTo>
                  <a:pt x="307" y="132"/>
                </a:lnTo>
                <a:lnTo>
                  <a:pt x="288" y="136"/>
                </a:lnTo>
                <a:lnTo>
                  <a:pt x="269" y="142"/>
                </a:lnTo>
                <a:lnTo>
                  <a:pt x="250" y="148"/>
                </a:lnTo>
                <a:lnTo>
                  <a:pt x="227" y="153"/>
                </a:lnTo>
                <a:lnTo>
                  <a:pt x="207" y="157"/>
                </a:lnTo>
                <a:lnTo>
                  <a:pt x="188" y="161"/>
                </a:lnTo>
                <a:lnTo>
                  <a:pt x="169" y="165"/>
                </a:lnTo>
                <a:lnTo>
                  <a:pt x="152" y="169"/>
                </a:lnTo>
                <a:lnTo>
                  <a:pt x="136" y="171"/>
                </a:lnTo>
                <a:lnTo>
                  <a:pt x="123" y="173"/>
                </a:lnTo>
                <a:lnTo>
                  <a:pt x="110" y="173"/>
                </a:lnTo>
                <a:lnTo>
                  <a:pt x="96" y="175"/>
                </a:lnTo>
                <a:lnTo>
                  <a:pt x="85" y="175"/>
                </a:lnTo>
                <a:lnTo>
                  <a:pt x="75" y="175"/>
                </a:lnTo>
                <a:lnTo>
                  <a:pt x="65" y="173"/>
                </a:lnTo>
                <a:lnTo>
                  <a:pt x="58" y="173"/>
                </a:lnTo>
                <a:lnTo>
                  <a:pt x="50" y="171"/>
                </a:lnTo>
                <a:lnTo>
                  <a:pt x="42" y="169"/>
                </a:lnTo>
                <a:lnTo>
                  <a:pt x="37" y="169"/>
                </a:lnTo>
                <a:lnTo>
                  <a:pt x="27" y="165"/>
                </a:lnTo>
                <a:lnTo>
                  <a:pt x="19" y="161"/>
                </a:lnTo>
                <a:lnTo>
                  <a:pt x="14" y="157"/>
                </a:lnTo>
                <a:lnTo>
                  <a:pt x="8" y="153"/>
                </a:lnTo>
                <a:lnTo>
                  <a:pt x="4" y="150"/>
                </a:lnTo>
                <a:lnTo>
                  <a:pt x="2" y="146"/>
                </a:lnTo>
                <a:lnTo>
                  <a:pt x="0" y="142"/>
                </a:lnTo>
                <a:lnTo>
                  <a:pt x="0" y="138"/>
                </a:lnTo>
                <a:lnTo>
                  <a:pt x="0" y="136"/>
                </a:lnTo>
                <a:lnTo>
                  <a:pt x="4" y="134"/>
                </a:lnTo>
                <a:lnTo>
                  <a:pt x="6" y="130"/>
                </a:lnTo>
                <a:lnTo>
                  <a:pt x="12" y="129"/>
                </a:lnTo>
                <a:lnTo>
                  <a:pt x="17" y="125"/>
                </a:lnTo>
                <a:lnTo>
                  <a:pt x="23" y="123"/>
                </a:lnTo>
                <a:lnTo>
                  <a:pt x="33" y="119"/>
                </a:lnTo>
                <a:lnTo>
                  <a:pt x="42" y="115"/>
                </a:lnTo>
                <a:lnTo>
                  <a:pt x="54" y="111"/>
                </a:lnTo>
                <a:lnTo>
                  <a:pt x="65" y="105"/>
                </a:lnTo>
                <a:lnTo>
                  <a:pt x="79" y="100"/>
                </a:lnTo>
                <a:lnTo>
                  <a:pt x="94" y="96"/>
                </a:lnTo>
                <a:lnTo>
                  <a:pt x="110" y="88"/>
                </a:lnTo>
                <a:lnTo>
                  <a:pt x="127" y="82"/>
                </a:lnTo>
                <a:lnTo>
                  <a:pt x="146" y="77"/>
                </a:lnTo>
                <a:lnTo>
                  <a:pt x="167" y="6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0"/>
          <p:cNvSpPr/>
          <p:nvPr/>
        </p:nvSpPr>
        <p:spPr>
          <a:xfrm>
            <a:off x="3027240" y="2862360"/>
            <a:ext cx="703440" cy="206280"/>
          </a:xfrm>
          <a:custGeom>
            <a:avLst/>
            <a:gdLst/>
            <a:ahLst/>
            <a:rect l="l" t="t" r="r" b="b"/>
            <a:pathLst>
              <a:path w="885" h="261">
                <a:moveTo>
                  <a:pt x="0" y="188"/>
                </a:moveTo>
                <a:lnTo>
                  <a:pt x="20" y="185"/>
                </a:lnTo>
                <a:lnTo>
                  <a:pt x="41" y="181"/>
                </a:lnTo>
                <a:lnTo>
                  <a:pt x="62" y="175"/>
                </a:lnTo>
                <a:lnTo>
                  <a:pt x="83" y="169"/>
                </a:lnTo>
                <a:lnTo>
                  <a:pt x="106" y="164"/>
                </a:lnTo>
                <a:lnTo>
                  <a:pt x="131" y="158"/>
                </a:lnTo>
                <a:lnTo>
                  <a:pt x="156" y="152"/>
                </a:lnTo>
                <a:lnTo>
                  <a:pt x="181" y="144"/>
                </a:lnTo>
                <a:lnTo>
                  <a:pt x="208" y="139"/>
                </a:lnTo>
                <a:lnTo>
                  <a:pt x="236" y="131"/>
                </a:lnTo>
                <a:lnTo>
                  <a:pt x="265" y="123"/>
                </a:lnTo>
                <a:lnTo>
                  <a:pt x="294" y="116"/>
                </a:lnTo>
                <a:lnTo>
                  <a:pt x="325" y="106"/>
                </a:lnTo>
                <a:lnTo>
                  <a:pt x="357" y="98"/>
                </a:lnTo>
                <a:lnTo>
                  <a:pt x="390" y="89"/>
                </a:lnTo>
                <a:lnTo>
                  <a:pt x="424" y="79"/>
                </a:lnTo>
                <a:lnTo>
                  <a:pt x="455" y="69"/>
                </a:lnTo>
                <a:lnTo>
                  <a:pt x="486" y="62"/>
                </a:lnTo>
                <a:lnTo>
                  <a:pt x="515" y="54"/>
                </a:lnTo>
                <a:lnTo>
                  <a:pt x="543" y="46"/>
                </a:lnTo>
                <a:lnTo>
                  <a:pt x="568" y="39"/>
                </a:lnTo>
                <a:lnTo>
                  <a:pt x="593" y="31"/>
                </a:lnTo>
                <a:lnTo>
                  <a:pt x="614" y="25"/>
                </a:lnTo>
                <a:lnTo>
                  <a:pt x="636" y="22"/>
                </a:lnTo>
                <a:lnTo>
                  <a:pt x="655" y="16"/>
                </a:lnTo>
                <a:lnTo>
                  <a:pt x="672" y="12"/>
                </a:lnTo>
                <a:lnTo>
                  <a:pt x="687" y="8"/>
                </a:lnTo>
                <a:lnTo>
                  <a:pt x="701" y="4"/>
                </a:lnTo>
                <a:lnTo>
                  <a:pt x="712" y="2"/>
                </a:lnTo>
                <a:lnTo>
                  <a:pt x="724" y="0"/>
                </a:lnTo>
                <a:lnTo>
                  <a:pt x="732" y="0"/>
                </a:lnTo>
                <a:lnTo>
                  <a:pt x="735" y="0"/>
                </a:lnTo>
                <a:lnTo>
                  <a:pt x="737" y="0"/>
                </a:lnTo>
                <a:lnTo>
                  <a:pt x="749" y="0"/>
                </a:lnTo>
                <a:lnTo>
                  <a:pt x="760" y="2"/>
                </a:lnTo>
                <a:lnTo>
                  <a:pt x="772" y="4"/>
                </a:lnTo>
                <a:lnTo>
                  <a:pt x="785" y="8"/>
                </a:lnTo>
                <a:lnTo>
                  <a:pt x="797" y="12"/>
                </a:lnTo>
                <a:lnTo>
                  <a:pt x="810" y="16"/>
                </a:lnTo>
                <a:lnTo>
                  <a:pt x="826" y="23"/>
                </a:lnTo>
                <a:lnTo>
                  <a:pt x="839" y="29"/>
                </a:lnTo>
                <a:lnTo>
                  <a:pt x="849" y="41"/>
                </a:lnTo>
                <a:lnTo>
                  <a:pt x="858" y="50"/>
                </a:lnTo>
                <a:lnTo>
                  <a:pt x="866" y="60"/>
                </a:lnTo>
                <a:lnTo>
                  <a:pt x="872" y="68"/>
                </a:lnTo>
                <a:lnTo>
                  <a:pt x="877" y="73"/>
                </a:lnTo>
                <a:lnTo>
                  <a:pt x="881" y="79"/>
                </a:lnTo>
                <a:lnTo>
                  <a:pt x="883" y="85"/>
                </a:lnTo>
                <a:lnTo>
                  <a:pt x="885" y="89"/>
                </a:lnTo>
                <a:lnTo>
                  <a:pt x="883" y="96"/>
                </a:lnTo>
                <a:lnTo>
                  <a:pt x="883" y="100"/>
                </a:lnTo>
                <a:lnTo>
                  <a:pt x="881" y="102"/>
                </a:lnTo>
                <a:lnTo>
                  <a:pt x="879" y="106"/>
                </a:lnTo>
                <a:lnTo>
                  <a:pt x="875" y="108"/>
                </a:lnTo>
                <a:lnTo>
                  <a:pt x="874" y="110"/>
                </a:lnTo>
                <a:lnTo>
                  <a:pt x="870" y="114"/>
                </a:lnTo>
                <a:lnTo>
                  <a:pt x="866" y="116"/>
                </a:lnTo>
                <a:lnTo>
                  <a:pt x="860" y="117"/>
                </a:lnTo>
                <a:lnTo>
                  <a:pt x="856" y="119"/>
                </a:lnTo>
                <a:lnTo>
                  <a:pt x="851" y="121"/>
                </a:lnTo>
                <a:lnTo>
                  <a:pt x="843" y="123"/>
                </a:lnTo>
                <a:lnTo>
                  <a:pt x="835" y="125"/>
                </a:lnTo>
                <a:lnTo>
                  <a:pt x="827" y="127"/>
                </a:lnTo>
                <a:lnTo>
                  <a:pt x="820" y="129"/>
                </a:lnTo>
                <a:lnTo>
                  <a:pt x="803" y="133"/>
                </a:lnTo>
                <a:lnTo>
                  <a:pt x="785" y="135"/>
                </a:lnTo>
                <a:lnTo>
                  <a:pt x="768" y="137"/>
                </a:lnTo>
                <a:lnTo>
                  <a:pt x="751" y="139"/>
                </a:lnTo>
                <a:lnTo>
                  <a:pt x="733" y="140"/>
                </a:lnTo>
                <a:lnTo>
                  <a:pt x="716" y="142"/>
                </a:lnTo>
                <a:lnTo>
                  <a:pt x="699" y="146"/>
                </a:lnTo>
                <a:lnTo>
                  <a:pt x="682" y="148"/>
                </a:lnTo>
                <a:lnTo>
                  <a:pt x="672" y="150"/>
                </a:lnTo>
                <a:lnTo>
                  <a:pt x="662" y="152"/>
                </a:lnTo>
                <a:lnTo>
                  <a:pt x="651" y="156"/>
                </a:lnTo>
                <a:lnTo>
                  <a:pt x="637" y="158"/>
                </a:lnTo>
                <a:lnTo>
                  <a:pt x="624" y="162"/>
                </a:lnTo>
                <a:lnTo>
                  <a:pt x="611" y="164"/>
                </a:lnTo>
                <a:lnTo>
                  <a:pt x="593" y="167"/>
                </a:lnTo>
                <a:lnTo>
                  <a:pt x="576" y="171"/>
                </a:lnTo>
                <a:lnTo>
                  <a:pt x="557" y="175"/>
                </a:lnTo>
                <a:lnTo>
                  <a:pt x="538" y="179"/>
                </a:lnTo>
                <a:lnTo>
                  <a:pt x="515" y="183"/>
                </a:lnTo>
                <a:lnTo>
                  <a:pt x="494" y="188"/>
                </a:lnTo>
                <a:lnTo>
                  <a:pt x="469" y="192"/>
                </a:lnTo>
                <a:lnTo>
                  <a:pt x="444" y="198"/>
                </a:lnTo>
                <a:lnTo>
                  <a:pt x="415" y="202"/>
                </a:lnTo>
                <a:lnTo>
                  <a:pt x="388" y="208"/>
                </a:lnTo>
                <a:lnTo>
                  <a:pt x="359" y="215"/>
                </a:lnTo>
                <a:lnTo>
                  <a:pt x="330" y="223"/>
                </a:lnTo>
                <a:lnTo>
                  <a:pt x="305" y="229"/>
                </a:lnTo>
                <a:lnTo>
                  <a:pt x="281" y="235"/>
                </a:lnTo>
                <a:lnTo>
                  <a:pt x="258" y="240"/>
                </a:lnTo>
                <a:lnTo>
                  <a:pt x="234" y="244"/>
                </a:lnTo>
                <a:lnTo>
                  <a:pt x="215" y="248"/>
                </a:lnTo>
                <a:lnTo>
                  <a:pt x="196" y="252"/>
                </a:lnTo>
                <a:lnTo>
                  <a:pt x="179" y="256"/>
                </a:lnTo>
                <a:lnTo>
                  <a:pt x="163" y="258"/>
                </a:lnTo>
                <a:lnTo>
                  <a:pt x="148" y="259"/>
                </a:lnTo>
                <a:lnTo>
                  <a:pt x="137" y="259"/>
                </a:lnTo>
                <a:lnTo>
                  <a:pt x="125" y="261"/>
                </a:lnTo>
                <a:lnTo>
                  <a:pt x="116" y="259"/>
                </a:lnTo>
                <a:lnTo>
                  <a:pt x="108" y="259"/>
                </a:lnTo>
                <a:lnTo>
                  <a:pt x="102" y="258"/>
                </a:lnTo>
                <a:lnTo>
                  <a:pt x="91" y="258"/>
                </a:lnTo>
                <a:lnTo>
                  <a:pt x="81" y="256"/>
                </a:lnTo>
                <a:lnTo>
                  <a:pt x="71" y="254"/>
                </a:lnTo>
                <a:lnTo>
                  <a:pt x="62" y="252"/>
                </a:lnTo>
                <a:lnTo>
                  <a:pt x="52" y="248"/>
                </a:lnTo>
                <a:lnTo>
                  <a:pt x="43" y="246"/>
                </a:lnTo>
                <a:lnTo>
                  <a:pt x="35" y="242"/>
                </a:lnTo>
                <a:lnTo>
                  <a:pt x="27" y="238"/>
                </a:lnTo>
                <a:lnTo>
                  <a:pt x="21" y="235"/>
                </a:lnTo>
                <a:lnTo>
                  <a:pt x="16" y="229"/>
                </a:lnTo>
                <a:lnTo>
                  <a:pt x="12" y="223"/>
                </a:lnTo>
                <a:lnTo>
                  <a:pt x="8" y="217"/>
                </a:lnTo>
                <a:lnTo>
                  <a:pt x="4" y="210"/>
                </a:lnTo>
                <a:lnTo>
                  <a:pt x="2" y="204"/>
                </a:lnTo>
                <a:lnTo>
                  <a:pt x="0" y="196"/>
                </a:lnTo>
                <a:lnTo>
                  <a:pt x="0" y="18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3063960" y="2987640"/>
            <a:ext cx="317520" cy="1047960"/>
          </a:xfrm>
          <a:custGeom>
            <a:avLst/>
            <a:gdLst/>
            <a:ahLst/>
            <a:rect l="l" t="t" r="r" b="b"/>
            <a:pathLst>
              <a:path w="400" h="1318">
                <a:moveTo>
                  <a:pt x="93" y="1080"/>
                </a:moveTo>
                <a:lnTo>
                  <a:pt x="81" y="1071"/>
                </a:lnTo>
                <a:lnTo>
                  <a:pt x="70" y="1063"/>
                </a:lnTo>
                <a:lnTo>
                  <a:pt x="60" y="1055"/>
                </a:lnTo>
                <a:lnTo>
                  <a:pt x="50" y="1048"/>
                </a:lnTo>
                <a:lnTo>
                  <a:pt x="43" y="1040"/>
                </a:lnTo>
                <a:lnTo>
                  <a:pt x="35" y="1032"/>
                </a:lnTo>
                <a:lnTo>
                  <a:pt x="29" y="1026"/>
                </a:lnTo>
                <a:lnTo>
                  <a:pt x="23" y="1021"/>
                </a:lnTo>
                <a:lnTo>
                  <a:pt x="18" y="1015"/>
                </a:lnTo>
                <a:lnTo>
                  <a:pt x="12" y="1011"/>
                </a:lnTo>
                <a:lnTo>
                  <a:pt x="8" y="1005"/>
                </a:lnTo>
                <a:lnTo>
                  <a:pt x="6" y="1001"/>
                </a:lnTo>
                <a:lnTo>
                  <a:pt x="4" y="1000"/>
                </a:lnTo>
                <a:lnTo>
                  <a:pt x="2" y="996"/>
                </a:lnTo>
                <a:lnTo>
                  <a:pt x="0" y="994"/>
                </a:lnTo>
                <a:lnTo>
                  <a:pt x="0" y="992"/>
                </a:lnTo>
                <a:lnTo>
                  <a:pt x="0" y="990"/>
                </a:lnTo>
                <a:lnTo>
                  <a:pt x="2" y="988"/>
                </a:lnTo>
                <a:lnTo>
                  <a:pt x="4" y="986"/>
                </a:lnTo>
                <a:lnTo>
                  <a:pt x="8" y="986"/>
                </a:lnTo>
                <a:lnTo>
                  <a:pt x="12" y="984"/>
                </a:lnTo>
                <a:lnTo>
                  <a:pt x="16" y="984"/>
                </a:lnTo>
                <a:lnTo>
                  <a:pt x="22" y="984"/>
                </a:lnTo>
                <a:lnTo>
                  <a:pt x="27" y="984"/>
                </a:lnTo>
                <a:lnTo>
                  <a:pt x="35" y="984"/>
                </a:lnTo>
                <a:lnTo>
                  <a:pt x="43" y="984"/>
                </a:lnTo>
                <a:lnTo>
                  <a:pt x="52" y="984"/>
                </a:lnTo>
                <a:lnTo>
                  <a:pt x="62" y="986"/>
                </a:lnTo>
                <a:lnTo>
                  <a:pt x="73" y="986"/>
                </a:lnTo>
                <a:lnTo>
                  <a:pt x="85" y="988"/>
                </a:lnTo>
                <a:lnTo>
                  <a:pt x="98" y="990"/>
                </a:lnTo>
                <a:lnTo>
                  <a:pt x="112" y="992"/>
                </a:lnTo>
                <a:lnTo>
                  <a:pt x="125" y="996"/>
                </a:lnTo>
                <a:lnTo>
                  <a:pt x="137" y="998"/>
                </a:lnTo>
                <a:lnTo>
                  <a:pt x="150" y="1000"/>
                </a:lnTo>
                <a:lnTo>
                  <a:pt x="162" y="1003"/>
                </a:lnTo>
                <a:lnTo>
                  <a:pt x="171" y="1003"/>
                </a:lnTo>
                <a:lnTo>
                  <a:pt x="183" y="1005"/>
                </a:lnTo>
                <a:lnTo>
                  <a:pt x="192" y="1005"/>
                </a:lnTo>
                <a:lnTo>
                  <a:pt x="200" y="1005"/>
                </a:lnTo>
                <a:lnTo>
                  <a:pt x="210" y="1005"/>
                </a:lnTo>
                <a:lnTo>
                  <a:pt x="217" y="1003"/>
                </a:lnTo>
                <a:lnTo>
                  <a:pt x="223" y="1001"/>
                </a:lnTo>
                <a:lnTo>
                  <a:pt x="231" y="998"/>
                </a:lnTo>
                <a:lnTo>
                  <a:pt x="236" y="996"/>
                </a:lnTo>
                <a:lnTo>
                  <a:pt x="240" y="992"/>
                </a:lnTo>
                <a:lnTo>
                  <a:pt x="246" y="986"/>
                </a:lnTo>
                <a:lnTo>
                  <a:pt x="250" y="982"/>
                </a:lnTo>
                <a:lnTo>
                  <a:pt x="250" y="978"/>
                </a:lnTo>
                <a:lnTo>
                  <a:pt x="252" y="977"/>
                </a:lnTo>
                <a:lnTo>
                  <a:pt x="254" y="973"/>
                </a:lnTo>
                <a:lnTo>
                  <a:pt x="256" y="969"/>
                </a:lnTo>
                <a:lnTo>
                  <a:pt x="258" y="965"/>
                </a:lnTo>
                <a:lnTo>
                  <a:pt x="258" y="959"/>
                </a:lnTo>
                <a:lnTo>
                  <a:pt x="259" y="953"/>
                </a:lnTo>
                <a:lnTo>
                  <a:pt x="261" y="948"/>
                </a:lnTo>
                <a:lnTo>
                  <a:pt x="261" y="942"/>
                </a:lnTo>
                <a:lnTo>
                  <a:pt x="263" y="934"/>
                </a:lnTo>
                <a:lnTo>
                  <a:pt x="265" y="927"/>
                </a:lnTo>
                <a:lnTo>
                  <a:pt x="265" y="917"/>
                </a:lnTo>
                <a:lnTo>
                  <a:pt x="267" y="909"/>
                </a:lnTo>
                <a:lnTo>
                  <a:pt x="267" y="900"/>
                </a:lnTo>
                <a:lnTo>
                  <a:pt x="269" y="888"/>
                </a:lnTo>
                <a:lnTo>
                  <a:pt x="269" y="879"/>
                </a:lnTo>
                <a:lnTo>
                  <a:pt x="271" y="867"/>
                </a:lnTo>
                <a:lnTo>
                  <a:pt x="271" y="856"/>
                </a:lnTo>
                <a:lnTo>
                  <a:pt x="273" y="842"/>
                </a:lnTo>
                <a:lnTo>
                  <a:pt x="273" y="831"/>
                </a:lnTo>
                <a:lnTo>
                  <a:pt x="273" y="817"/>
                </a:lnTo>
                <a:lnTo>
                  <a:pt x="275" y="804"/>
                </a:lnTo>
                <a:lnTo>
                  <a:pt x="275" y="788"/>
                </a:lnTo>
                <a:lnTo>
                  <a:pt x="275" y="773"/>
                </a:lnTo>
                <a:lnTo>
                  <a:pt x="275" y="758"/>
                </a:lnTo>
                <a:lnTo>
                  <a:pt x="275" y="742"/>
                </a:lnTo>
                <a:lnTo>
                  <a:pt x="277" y="725"/>
                </a:lnTo>
                <a:lnTo>
                  <a:pt x="277" y="708"/>
                </a:lnTo>
                <a:lnTo>
                  <a:pt x="277" y="691"/>
                </a:lnTo>
                <a:lnTo>
                  <a:pt x="277" y="671"/>
                </a:lnTo>
                <a:lnTo>
                  <a:pt x="277" y="654"/>
                </a:lnTo>
                <a:lnTo>
                  <a:pt x="277" y="635"/>
                </a:lnTo>
                <a:lnTo>
                  <a:pt x="277" y="595"/>
                </a:lnTo>
                <a:lnTo>
                  <a:pt x="275" y="556"/>
                </a:lnTo>
                <a:lnTo>
                  <a:pt x="273" y="516"/>
                </a:lnTo>
                <a:lnTo>
                  <a:pt x="271" y="476"/>
                </a:lnTo>
                <a:lnTo>
                  <a:pt x="269" y="435"/>
                </a:lnTo>
                <a:lnTo>
                  <a:pt x="265" y="397"/>
                </a:lnTo>
                <a:lnTo>
                  <a:pt x="261" y="357"/>
                </a:lnTo>
                <a:lnTo>
                  <a:pt x="258" y="316"/>
                </a:lnTo>
                <a:lnTo>
                  <a:pt x="252" y="276"/>
                </a:lnTo>
                <a:lnTo>
                  <a:pt x="246" y="236"/>
                </a:lnTo>
                <a:lnTo>
                  <a:pt x="240" y="197"/>
                </a:lnTo>
                <a:lnTo>
                  <a:pt x="235" y="157"/>
                </a:lnTo>
                <a:lnTo>
                  <a:pt x="219" y="76"/>
                </a:lnTo>
                <a:lnTo>
                  <a:pt x="204" y="0"/>
                </a:lnTo>
                <a:lnTo>
                  <a:pt x="227" y="0"/>
                </a:lnTo>
                <a:lnTo>
                  <a:pt x="248" y="2"/>
                </a:lnTo>
                <a:lnTo>
                  <a:pt x="267" y="7"/>
                </a:lnTo>
                <a:lnTo>
                  <a:pt x="286" y="13"/>
                </a:lnTo>
                <a:lnTo>
                  <a:pt x="302" y="19"/>
                </a:lnTo>
                <a:lnTo>
                  <a:pt x="317" y="28"/>
                </a:lnTo>
                <a:lnTo>
                  <a:pt x="330" y="38"/>
                </a:lnTo>
                <a:lnTo>
                  <a:pt x="342" y="48"/>
                </a:lnTo>
                <a:lnTo>
                  <a:pt x="344" y="51"/>
                </a:lnTo>
                <a:lnTo>
                  <a:pt x="346" y="57"/>
                </a:lnTo>
                <a:lnTo>
                  <a:pt x="348" y="63"/>
                </a:lnTo>
                <a:lnTo>
                  <a:pt x="352" y="69"/>
                </a:lnTo>
                <a:lnTo>
                  <a:pt x="354" y="75"/>
                </a:lnTo>
                <a:lnTo>
                  <a:pt x="355" y="82"/>
                </a:lnTo>
                <a:lnTo>
                  <a:pt x="357" y="90"/>
                </a:lnTo>
                <a:lnTo>
                  <a:pt x="359" y="99"/>
                </a:lnTo>
                <a:lnTo>
                  <a:pt x="361" y="107"/>
                </a:lnTo>
                <a:lnTo>
                  <a:pt x="365" y="119"/>
                </a:lnTo>
                <a:lnTo>
                  <a:pt x="367" y="128"/>
                </a:lnTo>
                <a:lnTo>
                  <a:pt x="369" y="140"/>
                </a:lnTo>
                <a:lnTo>
                  <a:pt x="371" y="151"/>
                </a:lnTo>
                <a:lnTo>
                  <a:pt x="373" y="165"/>
                </a:lnTo>
                <a:lnTo>
                  <a:pt x="375" y="178"/>
                </a:lnTo>
                <a:lnTo>
                  <a:pt x="377" y="192"/>
                </a:lnTo>
                <a:lnTo>
                  <a:pt x="377" y="205"/>
                </a:lnTo>
                <a:lnTo>
                  <a:pt x="378" y="220"/>
                </a:lnTo>
                <a:lnTo>
                  <a:pt x="380" y="236"/>
                </a:lnTo>
                <a:lnTo>
                  <a:pt x="382" y="253"/>
                </a:lnTo>
                <a:lnTo>
                  <a:pt x="384" y="270"/>
                </a:lnTo>
                <a:lnTo>
                  <a:pt x="384" y="288"/>
                </a:lnTo>
                <a:lnTo>
                  <a:pt x="386" y="307"/>
                </a:lnTo>
                <a:lnTo>
                  <a:pt x="388" y="326"/>
                </a:lnTo>
                <a:lnTo>
                  <a:pt x="390" y="347"/>
                </a:lnTo>
                <a:lnTo>
                  <a:pt x="390" y="366"/>
                </a:lnTo>
                <a:lnTo>
                  <a:pt x="392" y="387"/>
                </a:lnTo>
                <a:lnTo>
                  <a:pt x="392" y="410"/>
                </a:lnTo>
                <a:lnTo>
                  <a:pt x="394" y="433"/>
                </a:lnTo>
                <a:lnTo>
                  <a:pt x="394" y="456"/>
                </a:lnTo>
                <a:lnTo>
                  <a:pt x="396" y="479"/>
                </a:lnTo>
                <a:lnTo>
                  <a:pt x="396" y="504"/>
                </a:lnTo>
                <a:lnTo>
                  <a:pt x="398" y="529"/>
                </a:lnTo>
                <a:lnTo>
                  <a:pt x="398" y="554"/>
                </a:lnTo>
                <a:lnTo>
                  <a:pt x="398" y="577"/>
                </a:lnTo>
                <a:lnTo>
                  <a:pt x="400" y="600"/>
                </a:lnTo>
                <a:lnTo>
                  <a:pt x="400" y="623"/>
                </a:lnTo>
                <a:lnTo>
                  <a:pt x="400" y="646"/>
                </a:lnTo>
                <a:lnTo>
                  <a:pt x="400" y="668"/>
                </a:lnTo>
                <a:lnTo>
                  <a:pt x="400" y="689"/>
                </a:lnTo>
                <a:lnTo>
                  <a:pt x="400" y="710"/>
                </a:lnTo>
                <a:lnTo>
                  <a:pt x="400" y="731"/>
                </a:lnTo>
                <a:lnTo>
                  <a:pt x="400" y="750"/>
                </a:lnTo>
                <a:lnTo>
                  <a:pt x="400" y="769"/>
                </a:lnTo>
                <a:lnTo>
                  <a:pt x="400" y="787"/>
                </a:lnTo>
                <a:lnTo>
                  <a:pt x="400" y="806"/>
                </a:lnTo>
                <a:lnTo>
                  <a:pt x="400" y="823"/>
                </a:lnTo>
                <a:lnTo>
                  <a:pt x="398" y="840"/>
                </a:lnTo>
                <a:lnTo>
                  <a:pt x="398" y="856"/>
                </a:lnTo>
                <a:lnTo>
                  <a:pt x="398" y="873"/>
                </a:lnTo>
                <a:lnTo>
                  <a:pt x="398" y="888"/>
                </a:lnTo>
                <a:lnTo>
                  <a:pt x="396" y="904"/>
                </a:lnTo>
                <a:lnTo>
                  <a:pt x="396" y="917"/>
                </a:lnTo>
                <a:lnTo>
                  <a:pt x="396" y="930"/>
                </a:lnTo>
                <a:lnTo>
                  <a:pt x="394" y="944"/>
                </a:lnTo>
                <a:lnTo>
                  <a:pt x="394" y="957"/>
                </a:lnTo>
                <a:lnTo>
                  <a:pt x="394" y="969"/>
                </a:lnTo>
                <a:lnTo>
                  <a:pt x="392" y="980"/>
                </a:lnTo>
                <a:lnTo>
                  <a:pt x="392" y="992"/>
                </a:lnTo>
                <a:lnTo>
                  <a:pt x="390" y="1003"/>
                </a:lnTo>
                <a:lnTo>
                  <a:pt x="390" y="1013"/>
                </a:lnTo>
                <a:lnTo>
                  <a:pt x="388" y="1023"/>
                </a:lnTo>
                <a:lnTo>
                  <a:pt x="388" y="1032"/>
                </a:lnTo>
                <a:lnTo>
                  <a:pt x="388" y="1042"/>
                </a:lnTo>
                <a:lnTo>
                  <a:pt x="382" y="1074"/>
                </a:lnTo>
                <a:lnTo>
                  <a:pt x="377" y="1105"/>
                </a:lnTo>
                <a:lnTo>
                  <a:pt x="371" y="1134"/>
                </a:lnTo>
                <a:lnTo>
                  <a:pt x="361" y="1161"/>
                </a:lnTo>
                <a:lnTo>
                  <a:pt x="354" y="1186"/>
                </a:lnTo>
                <a:lnTo>
                  <a:pt x="344" y="1209"/>
                </a:lnTo>
                <a:lnTo>
                  <a:pt x="332" y="1230"/>
                </a:lnTo>
                <a:lnTo>
                  <a:pt x="323" y="1249"/>
                </a:lnTo>
                <a:lnTo>
                  <a:pt x="317" y="1259"/>
                </a:lnTo>
                <a:lnTo>
                  <a:pt x="313" y="1266"/>
                </a:lnTo>
                <a:lnTo>
                  <a:pt x="307" y="1274"/>
                </a:lnTo>
                <a:lnTo>
                  <a:pt x="302" y="1282"/>
                </a:lnTo>
                <a:lnTo>
                  <a:pt x="298" y="1287"/>
                </a:lnTo>
                <a:lnTo>
                  <a:pt x="292" y="1293"/>
                </a:lnTo>
                <a:lnTo>
                  <a:pt x="288" y="1299"/>
                </a:lnTo>
                <a:lnTo>
                  <a:pt x="284" y="1303"/>
                </a:lnTo>
                <a:lnTo>
                  <a:pt x="279" y="1307"/>
                </a:lnTo>
                <a:lnTo>
                  <a:pt x="275" y="1310"/>
                </a:lnTo>
                <a:lnTo>
                  <a:pt x="271" y="1312"/>
                </a:lnTo>
                <a:lnTo>
                  <a:pt x="269" y="1314"/>
                </a:lnTo>
                <a:lnTo>
                  <a:pt x="265" y="1316"/>
                </a:lnTo>
                <a:lnTo>
                  <a:pt x="263" y="1318"/>
                </a:lnTo>
                <a:lnTo>
                  <a:pt x="259" y="1318"/>
                </a:lnTo>
                <a:lnTo>
                  <a:pt x="258" y="1318"/>
                </a:lnTo>
                <a:lnTo>
                  <a:pt x="256" y="1318"/>
                </a:lnTo>
                <a:lnTo>
                  <a:pt x="252" y="1318"/>
                </a:lnTo>
                <a:lnTo>
                  <a:pt x="248" y="1316"/>
                </a:lnTo>
                <a:lnTo>
                  <a:pt x="244" y="1314"/>
                </a:lnTo>
                <a:lnTo>
                  <a:pt x="242" y="1310"/>
                </a:lnTo>
                <a:lnTo>
                  <a:pt x="238" y="1307"/>
                </a:lnTo>
                <a:lnTo>
                  <a:pt x="235" y="1303"/>
                </a:lnTo>
                <a:lnTo>
                  <a:pt x="233" y="1297"/>
                </a:lnTo>
                <a:lnTo>
                  <a:pt x="229" y="1293"/>
                </a:lnTo>
                <a:lnTo>
                  <a:pt x="227" y="1286"/>
                </a:lnTo>
                <a:lnTo>
                  <a:pt x="223" y="1280"/>
                </a:lnTo>
                <a:lnTo>
                  <a:pt x="221" y="1272"/>
                </a:lnTo>
                <a:lnTo>
                  <a:pt x="219" y="1264"/>
                </a:lnTo>
                <a:lnTo>
                  <a:pt x="215" y="1257"/>
                </a:lnTo>
                <a:lnTo>
                  <a:pt x="213" y="1249"/>
                </a:lnTo>
                <a:lnTo>
                  <a:pt x="212" y="1239"/>
                </a:lnTo>
                <a:lnTo>
                  <a:pt x="210" y="1228"/>
                </a:lnTo>
                <a:lnTo>
                  <a:pt x="208" y="1218"/>
                </a:lnTo>
                <a:lnTo>
                  <a:pt x="204" y="1207"/>
                </a:lnTo>
                <a:lnTo>
                  <a:pt x="198" y="1197"/>
                </a:lnTo>
                <a:lnTo>
                  <a:pt x="194" y="1186"/>
                </a:lnTo>
                <a:lnTo>
                  <a:pt x="187" y="1176"/>
                </a:lnTo>
                <a:lnTo>
                  <a:pt x="181" y="1167"/>
                </a:lnTo>
                <a:lnTo>
                  <a:pt x="173" y="1157"/>
                </a:lnTo>
                <a:lnTo>
                  <a:pt x="165" y="1147"/>
                </a:lnTo>
                <a:lnTo>
                  <a:pt x="156" y="1138"/>
                </a:lnTo>
                <a:lnTo>
                  <a:pt x="146" y="1128"/>
                </a:lnTo>
                <a:lnTo>
                  <a:pt x="137" y="1119"/>
                </a:lnTo>
                <a:lnTo>
                  <a:pt x="127" y="1109"/>
                </a:lnTo>
                <a:lnTo>
                  <a:pt x="116" y="1099"/>
                </a:lnTo>
                <a:lnTo>
                  <a:pt x="93" y="108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108160" y="2257560"/>
            <a:ext cx="452520" cy="495000"/>
          </a:xfrm>
          <a:custGeom>
            <a:avLst/>
            <a:gdLst/>
            <a:ahLst/>
            <a:rect l="l" t="t" r="r" b="b"/>
            <a:pathLst>
              <a:path w="570" h="624">
                <a:moveTo>
                  <a:pt x="64" y="544"/>
                </a:moveTo>
                <a:lnTo>
                  <a:pt x="75" y="534"/>
                </a:lnTo>
                <a:lnTo>
                  <a:pt x="89" y="523"/>
                </a:lnTo>
                <a:lnTo>
                  <a:pt x="100" y="511"/>
                </a:lnTo>
                <a:lnTo>
                  <a:pt x="113" y="499"/>
                </a:lnTo>
                <a:lnTo>
                  <a:pt x="127" y="486"/>
                </a:lnTo>
                <a:lnTo>
                  <a:pt x="140" y="471"/>
                </a:lnTo>
                <a:lnTo>
                  <a:pt x="154" y="457"/>
                </a:lnTo>
                <a:lnTo>
                  <a:pt x="167" y="440"/>
                </a:lnTo>
                <a:lnTo>
                  <a:pt x="181" y="425"/>
                </a:lnTo>
                <a:lnTo>
                  <a:pt x="196" y="407"/>
                </a:lnTo>
                <a:lnTo>
                  <a:pt x="209" y="388"/>
                </a:lnTo>
                <a:lnTo>
                  <a:pt x="225" y="369"/>
                </a:lnTo>
                <a:lnTo>
                  <a:pt x="238" y="350"/>
                </a:lnTo>
                <a:lnTo>
                  <a:pt x="254" y="329"/>
                </a:lnTo>
                <a:lnTo>
                  <a:pt x="269" y="308"/>
                </a:lnTo>
                <a:lnTo>
                  <a:pt x="284" y="285"/>
                </a:lnTo>
                <a:lnTo>
                  <a:pt x="300" y="265"/>
                </a:lnTo>
                <a:lnTo>
                  <a:pt x="313" y="246"/>
                </a:lnTo>
                <a:lnTo>
                  <a:pt x="326" y="227"/>
                </a:lnTo>
                <a:lnTo>
                  <a:pt x="338" y="210"/>
                </a:lnTo>
                <a:lnTo>
                  <a:pt x="348" y="194"/>
                </a:lnTo>
                <a:lnTo>
                  <a:pt x="357" y="179"/>
                </a:lnTo>
                <a:lnTo>
                  <a:pt x="365" y="164"/>
                </a:lnTo>
                <a:lnTo>
                  <a:pt x="373" y="150"/>
                </a:lnTo>
                <a:lnTo>
                  <a:pt x="378" y="139"/>
                </a:lnTo>
                <a:lnTo>
                  <a:pt x="382" y="127"/>
                </a:lnTo>
                <a:lnTo>
                  <a:pt x="386" y="116"/>
                </a:lnTo>
                <a:lnTo>
                  <a:pt x="390" y="106"/>
                </a:lnTo>
                <a:lnTo>
                  <a:pt x="390" y="98"/>
                </a:lnTo>
                <a:lnTo>
                  <a:pt x="390" y="91"/>
                </a:lnTo>
                <a:lnTo>
                  <a:pt x="388" y="83"/>
                </a:lnTo>
                <a:lnTo>
                  <a:pt x="386" y="77"/>
                </a:lnTo>
                <a:lnTo>
                  <a:pt x="380" y="66"/>
                </a:lnTo>
                <a:lnTo>
                  <a:pt x="374" y="56"/>
                </a:lnTo>
                <a:lnTo>
                  <a:pt x="373" y="47"/>
                </a:lnTo>
                <a:lnTo>
                  <a:pt x="373" y="39"/>
                </a:lnTo>
                <a:lnTo>
                  <a:pt x="373" y="31"/>
                </a:lnTo>
                <a:lnTo>
                  <a:pt x="374" y="22"/>
                </a:lnTo>
                <a:lnTo>
                  <a:pt x="380" y="16"/>
                </a:lnTo>
                <a:lnTo>
                  <a:pt x="386" y="8"/>
                </a:lnTo>
                <a:lnTo>
                  <a:pt x="390" y="4"/>
                </a:lnTo>
                <a:lnTo>
                  <a:pt x="396" y="2"/>
                </a:lnTo>
                <a:lnTo>
                  <a:pt x="403" y="0"/>
                </a:lnTo>
                <a:lnTo>
                  <a:pt x="413" y="0"/>
                </a:lnTo>
                <a:lnTo>
                  <a:pt x="422" y="0"/>
                </a:lnTo>
                <a:lnTo>
                  <a:pt x="434" y="2"/>
                </a:lnTo>
                <a:lnTo>
                  <a:pt x="445" y="4"/>
                </a:lnTo>
                <a:lnTo>
                  <a:pt x="459" y="8"/>
                </a:lnTo>
                <a:lnTo>
                  <a:pt x="470" y="12"/>
                </a:lnTo>
                <a:lnTo>
                  <a:pt x="480" y="18"/>
                </a:lnTo>
                <a:lnTo>
                  <a:pt x="490" y="24"/>
                </a:lnTo>
                <a:lnTo>
                  <a:pt x="501" y="29"/>
                </a:lnTo>
                <a:lnTo>
                  <a:pt x="511" y="37"/>
                </a:lnTo>
                <a:lnTo>
                  <a:pt x="522" y="47"/>
                </a:lnTo>
                <a:lnTo>
                  <a:pt x="532" y="56"/>
                </a:lnTo>
                <a:lnTo>
                  <a:pt x="541" y="68"/>
                </a:lnTo>
                <a:lnTo>
                  <a:pt x="549" y="77"/>
                </a:lnTo>
                <a:lnTo>
                  <a:pt x="555" y="87"/>
                </a:lnTo>
                <a:lnTo>
                  <a:pt x="559" y="96"/>
                </a:lnTo>
                <a:lnTo>
                  <a:pt x="563" y="104"/>
                </a:lnTo>
                <a:lnTo>
                  <a:pt x="566" y="112"/>
                </a:lnTo>
                <a:lnTo>
                  <a:pt x="568" y="118"/>
                </a:lnTo>
                <a:lnTo>
                  <a:pt x="570" y="121"/>
                </a:lnTo>
                <a:lnTo>
                  <a:pt x="570" y="127"/>
                </a:lnTo>
                <a:lnTo>
                  <a:pt x="570" y="131"/>
                </a:lnTo>
                <a:lnTo>
                  <a:pt x="568" y="135"/>
                </a:lnTo>
                <a:lnTo>
                  <a:pt x="566" y="143"/>
                </a:lnTo>
                <a:lnTo>
                  <a:pt x="563" y="148"/>
                </a:lnTo>
                <a:lnTo>
                  <a:pt x="559" y="156"/>
                </a:lnTo>
                <a:lnTo>
                  <a:pt x="553" y="166"/>
                </a:lnTo>
                <a:lnTo>
                  <a:pt x="547" y="175"/>
                </a:lnTo>
                <a:lnTo>
                  <a:pt x="541" y="185"/>
                </a:lnTo>
                <a:lnTo>
                  <a:pt x="534" y="196"/>
                </a:lnTo>
                <a:lnTo>
                  <a:pt x="524" y="208"/>
                </a:lnTo>
                <a:lnTo>
                  <a:pt x="515" y="219"/>
                </a:lnTo>
                <a:lnTo>
                  <a:pt x="503" y="235"/>
                </a:lnTo>
                <a:lnTo>
                  <a:pt x="492" y="248"/>
                </a:lnTo>
                <a:lnTo>
                  <a:pt x="478" y="263"/>
                </a:lnTo>
                <a:lnTo>
                  <a:pt x="465" y="279"/>
                </a:lnTo>
                <a:lnTo>
                  <a:pt x="449" y="296"/>
                </a:lnTo>
                <a:lnTo>
                  <a:pt x="434" y="313"/>
                </a:lnTo>
                <a:lnTo>
                  <a:pt x="419" y="333"/>
                </a:lnTo>
                <a:lnTo>
                  <a:pt x="403" y="350"/>
                </a:lnTo>
                <a:lnTo>
                  <a:pt x="386" y="367"/>
                </a:lnTo>
                <a:lnTo>
                  <a:pt x="371" y="382"/>
                </a:lnTo>
                <a:lnTo>
                  <a:pt x="353" y="400"/>
                </a:lnTo>
                <a:lnTo>
                  <a:pt x="321" y="428"/>
                </a:lnTo>
                <a:lnTo>
                  <a:pt x="286" y="457"/>
                </a:lnTo>
                <a:lnTo>
                  <a:pt x="252" y="484"/>
                </a:lnTo>
                <a:lnTo>
                  <a:pt x="217" y="511"/>
                </a:lnTo>
                <a:lnTo>
                  <a:pt x="183" y="534"/>
                </a:lnTo>
                <a:lnTo>
                  <a:pt x="165" y="546"/>
                </a:lnTo>
                <a:lnTo>
                  <a:pt x="148" y="557"/>
                </a:lnTo>
                <a:lnTo>
                  <a:pt x="131" y="569"/>
                </a:lnTo>
                <a:lnTo>
                  <a:pt x="115" y="578"/>
                </a:lnTo>
                <a:lnTo>
                  <a:pt x="102" y="588"/>
                </a:lnTo>
                <a:lnTo>
                  <a:pt x="89" y="595"/>
                </a:lnTo>
                <a:lnTo>
                  <a:pt x="75" y="603"/>
                </a:lnTo>
                <a:lnTo>
                  <a:pt x="65" y="609"/>
                </a:lnTo>
                <a:lnTo>
                  <a:pt x="54" y="613"/>
                </a:lnTo>
                <a:lnTo>
                  <a:pt x="44" y="618"/>
                </a:lnTo>
                <a:lnTo>
                  <a:pt x="37" y="620"/>
                </a:lnTo>
                <a:lnTo>
                  <a:pt x="29" y="622"/>
                </a:lnTo>
                <a:lnTo>
                  <a:pt x="21" y="624"/>
                </a:lnTo>
                <a:lnTo>
                  <a:pt x="18" y="624"/>
                </a:lnTo>
                <a:lnTo>
                  <a:pt x="12" y="624"/>
                </a:lnTo>
                <a:lnTo>
                  <a:pt x="8" y="622"/>
                </a:lnTo>
                <a:lnTo>
                  <a:pt x="4" y="620"/>
                </a:lnTo>
                <a:lnTo>
                  <a:pt x="2" y="618"/>
                </a:lnTo>
                <a:lnTo>
                  <a:pt x="2" y="617"/>
                </a:lnTo>
                <a:lnTo>
                  <a:pt x="0" y="613"/>
                </a:lnTo>
                <a:lnTo>
                  <a:pt x="2" y="611"/>
                </a:lnTo>
                <a:lnTo>
                  <a:pt x="2" y="607"/>
                </a:lnTo>
                <a:lnTo>
                  <a:pt x="6" y="603"/>
                </a:lnTo>
                <a:lnTo>
                  <a:pt x="8" y="597"/>
                </a:lnTo>
                <a:lnTo>
                  <a:pt x="12" y="594"/>
                </a:lnTo>
                <a:lnTo>
                  <a:pt x="18" y="588"/>
                </a:lnTo>
                <a:lnTo>
                  <a:pt x="23" y="582"/>
                </a:lnTo>
                <a:lnTo>
                  <a:pt x="29" y="576"/>
                </a:lnTo>
                <a:lnTo>
                  <a:pt x="37" y="569"/>
                </a:lnTo>
                <a:lnTo>
                  <a:pt x="44" y="561"/>
                </a:lnTo>
                <a:lnTo>
                  <a:pt x="54" y="553"/>
                </a:lnTo>
                <a:lnTo>
                  <a:pt x="64" y="54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2717640" y="2219400"/>
            <a:ext cx="171720" cy="728640"/>
          </a:xfrm>
          <a:custGeom>
            <a:avLst/>
            <a:gdLst/>
            <a:ahLst/>
            <a:rect l="l" t="t" r="r" b="b"/>
            <a:pathLst>
              <a:path w="215" h="919">
                <a:moveTo>
                  <a:pt x="30" y="84"/>
                </a:moveTo>
                <a:lnTo>
                  <a:pt x="21" y="74"/>
                </a:lnTo>
                <a:lnTo>
                  <a:pt x="13" y="63"/>
                </a:lnTo>
                <a:lnTo>
                  <a:pt x="7" y="55"/>
                </a:lnTo>
                <a:lnTo>
                  <a:pt x="2" y="46"/>
                </a:lnTo>
                <a:lnTo>
                  <a:pt x="0" y="38"/>
                </a:lnTo>
                <a:lnTo>
                  <a:pt x="0" y="30"/>
                </a:lnTo>
                <a:lnTo>
                  <a:pt x="0" y="23"/>
                </a:lnTo>
                <a:lnTo>
                  <a:pt x="2" y="15"/>
                </a:lnTo>
                <a:lnTo>
                  <a:pt x="4" y="11"/>
                </a:lnTo>
                <a:lnTo>
                  <a:pt x="7" y="7"/>
                </a:lnTo>
                <a:lnTo>
                  <a:pt x="11" y="5"/>
                </a:lnTo>
                <a:lnTo>
                  <a:pt x="15" y="3"/>
                </a:lnTo>
                <a:lnTo>
                  <a:pt x="19" y="1"/>
                </a:lnTo>
                <a:lnTo>
                  <a:pt x="25" y="1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52" y="1"/>
                </a:lnTo>
                <a:lnTo>
                  <a:pt x="61" y="1"/>
                </a:lnTo>
                <a:lnTo>
                  <a:pt x="69" y="3"/>
                </a:lnTo>
                <a:lnTo>
                  <a:pt x="80" y="5"/>
                </a:lnTo>
                <a:lnTo>
                  <a:pt x="90" y="7"/>
                </a:lnTo>
                <a:lnTo>
                  <a:pt x="101" y="11"/>
                </a:lnTo>
                <a:lnTo>
                  <a:pt x="113" y="15"/>
                </a:lnTo>
                <a:lnTo>
                  <a:pt x="125" y="21"/>
                </a:lnTo>
                <a:lnTo>
                  <a:pt x="136" y="26"/>
                </a:lnTo>
                <a:lnTo>
                  <a:pt x="146" y="30"/>
                </a:lnTo>
                <a:lnTo>
                  <a:pt x="155" y="36"/>
                </a:lnTo>
                <a:lnTo>
                  <a:pt x="163" y="40"/>
                </a:lnTo>
                <a:lnTo>
                  <a:pt x="171" y="44"/>
                </a:lnTo>
                <a:lnTo>
                  <a:pt x="178" y="47"/>
                </a:lnTo>
                <a:lnTo>
                  <a:pt x="184" y="51"/>
                </a:lnTo>
                <a:lnTo>
                  <a:pt x="190" y="55"/>
                </a:lnTo>
                <a:lnTo>
                  <a:pt x="196" y="59"/>
                </a:lnTo>
                <a:lnTo>
                  <a:pt x="199" y="63"/>
                </a:lnTo>
                <a:lnTo>
                  <a:pt x="203" y="65"/>
                </a:lnTo>
                <a:lnTo>
                  <a:pt x="207" y="67"/>
                </a:lnTo>
                <a:lnTo>
                  <a:pt x="211" y="71"/>
                </a:lnTo>
                <a:lnTo>
                  <a:pt x="213" y="72"/>
                </a:lnTo>
                <a:lnTo>
                  <a:pt x="215" y="74"/>
                </a:lnTo>
                <a:lnTo>
                  <a:pt x="215" y="78"/>
                </a:lnTo>
                <a:lnTo>
                  <a:pt x="215" y="86"/>
                </a:lnTo>
                <a:lnTo>
                  <a:pt x="213" y="94"/>
                </a:lnTo>
                <a:lnTo>
                  <a:pt x="213" y="103"/>
                </a:lnTo>
                <a:lnTo>
                  <a:pt x="213" y="115"/>
                </a:lnTo>
                <a:lnTo>
                  <a:pt x="211" y="126"/>
                </a:lnTo>
                <a:lnTo>
                  <a:pt x="209" y="140"/>
                </a:lnTo>
                <a:lnTo>
                  <a:pt x="205" y="153"/>
                </a:lnTo>
                <a:lnTo>
                  <a:pt x="203" y="163"/>
                </a:lnTo>
                <a:lnTo>
                  <a:pt x="201" y="174"/>
                </a:lnTo>
                <a:lnTo>
                  <a:pt x="199" y="186"/>
                </a:lnTo>
                <a:lnTo>
                  <a:pt x="197" y="199"/>
                </a:lnTo>
                <a:lnTo>
                  <a:pt x="197" y="213"/>
                </a:lnTo>
                <a:lnTo>
                  <a:pt x="196" y="226"/>
                </a:lnTo>
                <a:lnTo>
                  <a:pt x="194" y="243"/>
                </a:lnTo>
                <a:lnTo>
                  <a:pt x="192" y="259"/>
                </a:lnTo>
                <a:lnTo>
                  <a:pt x="190" y="278"/>
                </a:lnTo>
                <a:lnTo>
                  <a:pt x="188" y="295"/>
                </a:lnTo>
                <a:lnTo>
                  <a:pt x="186" y="316"/>
                </a:lnTo>
                <a:lnTo>
                  <a:pt x="184" y="337"/>
                </a:lnTo>
                <a:lnTo>
                  <a:pt x="182" y="358"/>
                </a:lnTo>
                <a:lnTo>
                  <a:pt x="180" y="381"/>
                </a:lnTo>
                <a:lnTo>
                  <a:pt x="178" y="406"/>
                </a:lnTo>
                <a:lnTo>
                  <a:pt x="178" y="431"/>
                </a:lnTo>
                <a:lnTo>
                  <a:pt x="174" y="485"/>
                </a:lnTo>
                <a:lnTo>
                  <a:pt x="173" y="539"/>
                </a:lnTo>
                <a:lnTo>
                  <a:pt x="171" y="596"/>
                </a:lnTo>
                <a:lnTo>
                  <a:pt x="169" y="654"/>
                </a:lnTo>
                <a:lnTo>
                  <a:pt x="169" y="715"/>
                </a:lnTo>
                <a:lnTo>
                  <a:pt x="169" y="777"/>
                </a:lnTo>
                <a:lnTo>
                  <a:pt x="169" y="842"/>
                </a:lnTo>
                <a:lnTo>
                  <a:pt x="169" y="907"/>
                </a:lnTo>
                <a:lnTo>
                  <a:pt x="86" y="919"/>
                </a:lnTo>
                <a:lnTo>
                  <a:pt x="84" y="869"/>
                </a:lnTo>
                <a:lnTo>
                  <a:pt x="84" y="823"/>
                </a:lnTo>
                <a:lnTo>
                  <a:pt x="82" y="777"/>
                </a:lnTo>
                <a:lnTo>
                  <a:pt x="82" y="733"/>
                </a:lnTo>
                <a:lnTo>
                  <a:pt x="80" y="690"/>
                </a:lnTo>
                <a:lnTo>
                  <a:pt x="78" y="648"/>
                </a:lnTo>
                <a:lnTo>
                  <a:pt x="78" y="608"/>
                </a:lnTo>
                <a:lnTo>
                  <a:pt x="77" y="570"/>
                </a:lnTo>
                <a:lnTo>
                  <a:pt x="75" y="533"/>
                </a:lnTo>
                <a:lnTo>
                  <a:pt x="75" y="498"/>
                </a:lnTo>
                <a:lnTo>
                  <a:pt x="73" y="464"/>
                </a:lnTo>
                <a:lnTo>
                  <a:pt x="71" y="431"/>
                </a:lnTo>
                <a:lnTo>
                  <a:pt x="69" y="401"/>
                </a:lnTo>
                <a:lnTo>
                  <a:pt x="69" y="370"/>
                </a:lnTo>
                <a:lnTo>
                  <a:pt x="67" y="341"/>
                </a:lnTo>
                <a:lnTo>
                  <a:pt x="65" y="314"/>
                </a:lnTo>
                <a:lnTo>
                  <a:pt x="63" y="289"/>
                </a:lnTo>
                <a:lnTo>
                  <a:pt x="61" y="266"/>
                </a:lnTo>
                <a:lnTo>
                  <a:pt x="59" y="243"/>
                </a:lnTo>
                <a:lnTo>
                  <a:pt x="57" y="222"/>
                </a:lnTo>
                <a:lnTo>
                  <a:pt x="55" y="203"/>
                </a:lnTo>
                <a:lnTo>
                  <a:pt x="54" y="186"/>
                </a:lnTo>
                <a:lnTo>
                  <a:pt x="52" y="168"/>
                </a:lnTo>
                <a:lnTo>
                  <a:pt x="50" y="153"/>
                </a:lnTo>
                <a:lnTo>
                  <a:pt x="46" y="140"/>
                </a:lnTo>
                <a:lnTo>
                  <a:pt x="44" y="128"/>
                </a:lnTo>
                <a:lnTo>
                  <a:pt x="42" y="117"/>
                </a:lnTo>
                <a:lnTo>
                  <a:pt x="40" y="107"/>
                </a:lnTo>
                <a:lnTo>
                  <a:pt x="38" y="99"/>
                </a:lnTo>
                <a:lnTo>
                  <a:pt x="34" y="94"/>
                </a:lnTo>
                <a:lnTo>
                  <a:pt x="32" y="88"/>
                </a:lnTo>
                <a:lnTo>
                  <a:pt x="30" y="8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2487600" y="2836800"/>
            <a:ext cx="604800" cy="214200"/>
          </a:xfrm>
          <a:custGeom>
            <a:avLst/>
            <a:gdLst/>
            <a:ahLst/>
            <a:rect l="l" t="t" r="r" b="b"/>
            <a:pathLst>
              <a:path w="764" h="268">
                <a:moveTo>
                  <a:pt x="267" y="228"/>
                </a:moveTo>
                <a:lnTo>
                  <a:pt x="248" y="234"/>
                </a:lnTo>
                <a:lnTo>
                  <a:pt x="230" y="240"/>
                </a:lnTo>
                <a:lnTo>
                  <a:pt x="215" y="243"/>
                </a:lnTo>
                <a:lnTo>
                  <a:pt x="200" y="247"/>
                </a:lnTo>
                <a:lnTo>
                  <a:pt x="186" y="251"/>
                </a:lnTo>
                <a:lnTo>
                  <a:pt x="173" y="255"/>
                </a:lnTo>
                <a:lnTo>
                  <a:pt x="161" y="257"/>
                </a:lnTo>
                <a:lnTo>
                  <a:pt x="150" y="259"/>
                </a:lnTo>
                <a:lnTo>
                  <a:pt x="140" y="263"/>
                </a:lnTo>
                <a:lnTo>
                  <a:pt x="131" y="265"/>
                </a:lnTo>
                <a:lnTo>
                  <a:pt x="123" y="265"/>
                </a:lnTo>
                <a:lnTo>
                  <a:pt x="117" y="266"/>
                </a:lnTo>
                <a:lnTo>
                  <a:pt x="111" y="266"/>
                </a:lnTo>
                <a:lnTo>
                  <a:pt x="106" y="268"/>
                </a:lnTo>
                <a:lnTo>
                  <a:pt x="104" y="268"/>
                </a:lnTo>
                <a:lnTo>
                  <a:pt x="102" y="268"/>
                </a:lnTo>
                <a:lnTo>
                  <a:pt x="94" y="268"/>
                </a:lnTo>
                <a:lnTo>
                  <a:pt x="86" y="266"/>
                </a:lnTo>
                <a:lnTo>
                  <a:pt x="81" y="265"/>
                </a:lnTo>
                <a:lnTo>
                  <a:pt x="73" y="263"/>
                </a:lnTo>
                <a:lnTo>
                  <a:pt x="63" y="259"/>
                </a:lnTo>
                <a:lnTo>
                  <a:pt x="56" y="255"/>
                </a:lnTo>
                <a:lnTo>
                  <a:pt x="46" y="251"/>
                </a:lnTo>
                <a:lnTo>
                  <a:pt x="37" y="249"/>
                </a:lnTo>
                <a:lnTo>
                  <a:pt x="27" y="245"/>
                </a:lnTo>
                <a:lnTo>
                  <a:pt x="19" y="241"/>
                </a:lnTo>
                <a:lnTo>
                  <a:pt x="14" y="238"/>
                </a:lnTo>
                <a:lnTo>
                  <a:pt x="8" y="234"/>
                </a:lnTo>
                <a:lnTo>
                  <a:pt x="4" y="230"/>
                </a:lnTo>
                <a:lnTo>
                  <a:pt x="2" y="226"/>
                </a:lnTo>
                <a:lnTo>
                  <a:pt x="0" y="222"/>
                </a:lnTo>
                <a:lnTo>
                  <a:pt x="0" y="218"/>
                </a:lnTo>
                <a:lnTo>
                  <a:pt x="0" y="215"/>
                </a:lnTo>
                <a:lnTo>
                  <a:pt x="2" y="213"/>
                </a:lnTo>
                <a:lnTo>
                  <a:pt x="4" y="211"/>
                </a:lnTo>
                <a:lnTo>
                  <a:pt x="6" y="209"/>
                </a:lnTo>
                <a:lnTo>
                  <a:pt x="8" y="207"/>
                </a:lnTo>
                <a:lnTo>
                  <a:pt x="12" y="205"/>
                </a:lnTo>
                <a:lnTo>
                  <a:pt x="15" y="203"/>
                </a:lnTo>
                <a:lnTo>
                  <a:pt x="19" y="201"/>
                </a:lnTo>
                <a:lnTo>
                  <a:pt x="23" y="199"/>
                </a:lnTo>
                <a:lnTo>
                  <a:pt x="29" y="197"/>
                </a:lnTo>
                <a:lnTo>
                  <a:pt x="35" y="195"/>
                </a:lnTo>
                <a:lnTo>
                  <a:pt x="40" y="194"/>
                </a:lnTo>
                <a:lnTo>
                  <a:pt x="48" y="192"/>
                </a:lnTo>
                <a:lnTo>
                  <a:pt x="56" y="192"/>
                </a:lnTo>
                <a:lnTo>
                  <a:pt x="63" y="190"/>
                </a:lnTo>
                <a:lnTo>
                  <a:pt x="71" y="186"/>
                </a:lnTo>
                <a:lnTo>
                  <a:pt x="81" y="184"/>
                </a:lnTo>
                <a:lnTo>
                  <a:pt x="92" y="180"/>
                </a:lnTo>
                <a:lnTo>
                  <a:pt x="106" y="178"/>
                </a:lnTo>
                <a:lnTo>
                  <a:pt x="121" y="174"/>
                </a:lnTo>
                <a:lnTo>
                  <a:pt x="136" y="169"/>
                </a:lnTo>
                <a:lnTo>
                  <a:pt x="156" y="163"/>
                </a:lnTo>
                <a:lnTo>
                  <a:pt x="175" y="157"/>
                </a:lnTo>
                <a:lnTo>
                  <a:pt x="196" y="151"/>
                </a:lnTo>
                <a:lnTo>
                  <a:pt x="219" y="146"/>
                </a:lnTo>
                <a:lnTo>
                  <a:pt x="246" y="138"/>
                </a:lnTo>
                <a:lnTo>
                  <a:pt x="271" y="128"/>
                </a:lnTo>
                <a:lnTo>
                  <a:pt x="299" y="121"/>
                </a:lnTo>
                <a:lnTo>
                  <a:pt x="330" y="111"/>
                </a:lnTo>
                <a:lnTo>
                  <a:pt x="363" y="101"/>
                </a:lnTo>
                <a:lnTo>
                  <a:pt x="395" y="90"/>
                </a:lnTo>
                <a:lnTo>
                  <a:pt x="428" y="78"/>
                </a:lnTo>
                <a:lnTo>
                  <a:pt x="457" y="69"/>
                </a:lnTo>
                <a:lnTo>
                  <a:pt x="486" y="59"/>
                </a:lnTo>
                <a:lnTo>
                  <a:pt x="512" y="50"/>
                </a:lnTo>
                <a:lnTo>
                  <a:pt x="537" y="42"/>
                </a:lnTo>
                <a:lnTo>
                  <a:pt x="560" y="34"/>
                </a:lnTo>
                <a:lnTo>
                  <a:pt x="582" y="28"/>
                </a:lnTo>
                <a:lnTo>
                  <a:pt x="591" y="25"/>
                </a:lnTo>
                <a:lnTo>
                  <a:pt x="601" y="23"/>
                </a:lnTo>
                <a:lnTo>
                  <a:pt x="608" y="19"/>
                </a:lnTo>
                <a:lnTo>
                  <a:pt x="618" y="17"/>
                </a:lnTo>
                <a:lnTo>
                  <a:pt x="626" y="15"/>
                </a:lnTo>
                <a:lnTo>
                  <a:pt x="633" y="13"/>
                </a:lnTo>
                <a:lnTo>
                  <a:pt x="639" y="11"/>
                </a:lnTo>
                <a:lnTo>
                  <a:pt x="647" y="9"/>
                </a:lnTo>
                <a:lnTo>
                  <a:pt x="653" y="7"/>
                </a:lnTo>
                <a:lnTo>
                  <a:pt x="656" y="5"/>
                </a:lnTo>
                <a:lnTo>
                  <a:pt x="662" y="4"/>
                </a:lnTo>
                <a:lnTo>
                  <a:pt x="666" y="4"/>
                </a:lnTo>
                <a:lnTo>
                  <a:pt x="670" y="2"/>
                </a:lnTo>
                <a:lnTo>
                  <a:pt x="674" y="2"/>
                </a:lnTo>
                <a:lnTo>
                  <a:pt x="676" y="2"/>
                </a:lnTo>
                <a:lnTo>
                  <a:pt x="679" y="0"/>
                </a:lnTo>
                <a:lnTo>
                  <a:pt x="681" y="0"/>
                </a:lnTo>
                <a:lnTo>
                  <a:pt x="689" y="0"/>
                </a:lnTo>
                <a:lnTo>
                  <a:pt x="693" y="0"/>
                </a:lnTo>
                <a:lnTo>
                  <a:pt x="697" y="2"/>
                </a:lnTo>
                <a:lnTo>
                  <a:pt x="702" y="2"/>
                </a:lnTo>
                <a:lnTo>
                  <a:pt x="710" y="4"/>
                </a:lnTo>
                <a:lnTo>
                  <a:pt x="718" y="7"/>
                </a:lnTo>
                <a:lnTo>
                  <a:pt x="727" y="9"/>
                </a:lnTo>
                <a:lnTo>
                  <a:pt x="737" y="15"/>
                </a:lnTo>
                <a:lnTo>
                  <a:pt x="745" y="19"/>
                </a:lnTo>
                <a:lnTo>
                  <a:pt x="750" y="25"/>
                </a:lnTo>
                <a:lnTo>
                  <a:pt x="756" y="30"/>
                </a:lnTo>
                <a:lnTo>
                  <a:pt x="760" y="36"/>
                </a:lnTo>
                <a:lnTo>
                  <a:pt x="762" y="40"/>
                </a:lnTo>
                <a:lnTo>
                  <a:pt x="764" y="46"/>
                </a:lnTo>
                <a:lnTo>
                  <a:pt x="764" y="50"/>
                </a:lnTo>
                <a:lnTo>
                  <a:pt x="764" y="57"/>
                </a:lnTo>
                <a:lnTo>
                  <a:pt x="762" y="63"/>
                </a:lnTo>
                <a:lnTo>
                  <a:pt x="760" y="69"/>
                </a:lnTo>
                <a:lnTo>
                  <a:pt x="756" y="73"/>
                </a:lnTo>
                <a:lnTo>
                  <a:pt x="750" y="78"/>
                </a:lnTo>
                <a:lnTo>
                  <a:pt x="745" y="82"/>
                </a:lnTo>
                <a:lnTo>
                  <a:pt x="737" y="86"/>
                </a:lnTo>
                <a:lnTo>
                  <a:pt x="727" y="90"/>
                </a:lnTo>
                <a:lnTo>
                  <a:pt x="722" y="92"/>
                </a:lnTo>
                <a:lnTo>
                  <a:pt x="716" y="94"/>
                </a:lnTo>
                <a:lnTo>
                  <a:pt x="708" y="96"/>
                </a:lnTo>
                <a:lnTo>
                  <a:pt x="701" y="99"/>
                </a:lnTo>
                <a:lnTo>
                  <a:pt x="693" y="101"/>
                </a:lnTo>
                <a:lnTo>
                  <a:pt x="683" y="103"/>
                </a:lnTo>
                <a:lnTo>
                  <a:pt x="674" y="107"/>
                </a:lnTo>
                <a:lnTo>
                  <a:pt x="664" y="111"/>
                </a:lnTo>
                <a:lnTo>
                  <a:pt x="653" y="113"/>
                </a:lnTo>
                <a:lnTo>
                  <a:pt x="641" y="117"/>
                </a:lnTo>
                <a:lnTo>
                  <a:pt x="628" y="121"/>
                </a:lnTo>
                <a:lnTo>
                  <a:pt x="614" y="124"/>
                </a:lnTo>
                <a:lnTo>
                  <a:pt x="601" y="128"/>
                </a:lnTo>
                <a:lnTo>
                  <a:pt x="585" y="132"/>
                </a:lnTo>
                <a:lnTo>
                  <a:pt x="570" y="136"/>
                </a:lnTo>
                <a:lnTo>
                  <a:pt x="553" y="140"/>
                </a:lnTo>
                <a:lnTo>
                  <a:pt x="484" y="161"/>
                </a:lnTo>
                <a:lnTo>
                  <a:pt x="413" y="184"/>
                </a:lnTo>
                <a:lnTo>
                  <a:pt x="378" y="195"/>
                </a:lnTo>
                <a:lnTo>
                  <a:pt x="342" y="205"/>
                </a:lnTo>
                <a:lnTo>
                  <a:pt x="305" y="217"/>
                </a:lnTo>
                <a:lnTo>
                  <a:pt x="267" y="22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5"/>
          <p:cNvSpPr/>
          <p:nvPr/>
        </p:nvSpPr>
        <p:spPr>
          <a:xfrm>
            <a:off x="2573280" y="3144960"/>
            <a:ext cx="433440" cy="166680"/>
          </a:xfrm>
          <a:custGeom>
            <a:avLst/>
            <a:gdLst/>
            <a:ahLst/>
            <a:rect l="l" t="t" r="r" b="b"/>
            <a:pathLst>
              <a:path w="545" h="210">
                <a:moveTo>
                  <a:pt x="323" y="139"/>
                </a:moveTo>
                <a:lnTo>
                  <a:pt x="296" y="148"/>
                </a:lnTo>
                <a:lnTo>
                  <a:pt x="271" y="156"/>
                </a:lnTo>
                <a:lnTo>
                  <a:pt x="246" y="163"/>
                </a:lnTo>
                <a:lnTo>
                  <a:pt x="223" y="171"/>
                </a:lnTo>
                <a:lnTo>
                  <a:pt x="202" y="177"/>
                </a:lnTo>
                <a:lnTo>
                  <a:pt x="181" y="183"/>
                </a:lnTo>
                <a:lnTo>
                  <a:pt x="164" y="188"/>
                </a:lnTo>
                <a:lnTo>
                  <a:pt x="144" y="192"/>
                </a:lnTo>
                <a:lnTo>
                  <a:pt x="129" y="196"/>
                </a:lnTo>
                <a:lnTo>
                  <a:pt x="114" y="200"/>
                </a:lnTo>
                <a:lnTo>
                  <a:pt x="100" y="202"/>
                </a:lnTo>
                <a:lnTo>
                  <a:pt x="89" y="206"/>
                </a:lnTo>
                <a:lnTo>
                  <a:pt x="79" y="206"/>
                </a:lnTo>
                <a:lnTo>
                  <a:pt x="70" y="208"/>
                </a:lnTo>
                <a:lnTo>
                  <a:pt x="62" y="208"/>
                </a:lnTo>
                <a:lnTo>
                  <a:pt x="56" y="210"/>
                </a:lnTo>
                <a:lnTo>
                  <a:pt x="47" y="208"/>
                </a:lnTo>
                <a:lnTo>
                  <a:pt x="37" y="208"/>
                </a:lnTo>
                <a:lnTo>
                  <a:pt x="29" y="204"/>
                </a:lnTo>
                <a:lnTo>
                  <a:pt x="22" y="202"/>
                </a:lnTo>
                <a:lnTo>
                  <a:pt x="16" y="196"/>
                </a:lnTo>
                <a:lnTo>
                  <a:pt x="10" y="192"/>
                </a:lnTo>
                <a:lnTo>
                  <a:pt x="4" y="187"/>
                </a:lnTo>
                <a:lnTo>
                  <a:pt x="0" y="179"/>
                </a:lnTo>
                <a:lnTo>
                  <a:pt x="0" y="177"/>
                </a:lnTo>
                <a:lnTo>
                  <a:pt x="0" y="173"/>
                </a:lnTo>
                <a:lnTo>
                  <a:pt x="4" y="171"/>
                </a:lnTo>
                <a:lnTo>
                  <a:pt x="8" y="165"/>
                </a:lnTo>
                <a:lnTo>
                  <a:pt x="14" y="162"/>
                </a:lnTo>
                <a:lnTo>
                  <a:pt x="22" y="156"/>
                </a:lnTo>
                <a:lnTo>
                  <a:pt x="33" y="150"/>
                </a:lnTo>
                <a:lnTo>
                  <a:pt x="45" y="144"/>
                </a:lnTo>
                <a:lnTo>
                  <a:pt x="58" y="139"/>
                </a:lnTo>
                <a:lnTo>
                  <a:pt x="73" y="131"/>
                </a:lnTo>
                <a:lnTo>
                  <a:pt x="91" y="123"/>
                </a:lnTo>
                <a:lnTo>
                  <a:pt x="108" y="116"/>
                </a:lnTo>
                <a:lnTo>
                  <a:pt x="129" y="106"/>
                </a:lnTo>
                <a:lnTo>
                  <a:pt x="152" y="98"/>
                </a:lnTo>
                <a:lnTo>
                  <a:pt x="166" y="94"/>
                </a:lnTo>
                <a:lnTo>
                  <a:pt x="177" y="89"/>
                </a:lnTo>
                <a:lnTo>
                  <a:pt x="190" y="85"/>
                </a:lnTo>
                <a:lnTo>
                  <a:pt x="204" y="79"/>
                </a:lnTo>
                <a:lnTo>
                  <a:pt x="231" y="69"/>
                </a:lnTo>
                <a:lnTo>
                  <a:pt x="256" y="62"/>
                </a:lnTo>
                <a:lnTo>
                  <a:pt x="281" y="54"/>
                </a:lnTo>
                <a:lnTo>
                  <a:pt x="302" y="46"/>
                </a:lnTo>
                <a:lnTo>
                  <a:pt x="323" y="39"/>
                </a:lnTo>
                <a:lnTo>
                  <a:pt x="342" y="33"/>
                </a:lnTo>
                <a:lnTo>
                  <a:pt x="359" y="25"/>
                </a:lnTo>
                <a:lnTo>
                  <a:pt x="377" y="21"/>
                </a:lnTo>
                <a:lnTo>
                  <a:pt x="392" y="16"/>
                </a:lnTo>
                <a:lnTo>
                  <a:pt x="405" y="12"/>
                </a:lnTo>
                <a:lnTo>
                  <a:pt x="417" y="8"/>
                </a:lnTo>
                <a:lnTo>
                  <a:pt x="427" y="6"/>
                </a:lnTo>
                <a:lnTo>
                  <a:pt x="436" y="2"/>
                </a:lnTo>
                <a:lnTo>
                  <a:pt x="442" y="2"/>
                </a:lnTo>
                <a:lnTo>
                  <a:pt x="448" y="0"/>
                </a:lnTo>
                <a:lnTo>
                  <a:pt x="453" y="0"/>
                </a:lnTo>
                <a:lnTo>
                  <a:pt x="457" y="0"/>
                </a:lnTo>
                <a:lnTo>
                  <a:pt x="461" y="0"/>
                </a:lnTo>
                <a:lnTo>
                  <a:pt x="467" y="0"/>
                </a:lnTo>
                <a:lnTo>
                  <a:pt x="473" y="2"/>
                </a:lnTo>
                <a:lnTo>
                  <a:pt x="480" y="2"/>
                </a:lnTo>
                <a:lnTo>
                  <a:pt x="490" y="4"/>
                </a:lnTo>
                <a:lnTo>
                  <a:pt x="498" y="6"/>
                </a:lnTo>
                <a:lnTo>
                  <a:pt x="507" y="10"/>
                </a:lnTo>
                <a:lnTo>
                  <a:pt x="517" y="14"/>
                </a:lnTo>
                <a:lnTo>
                  <a:pt x="524" y="20"/>
                </a:lnTo>
                <a:lnTo>
                  <a:pt x="532" y="25"/>
                </a:lnTo>
                <a:lnTo>
                  <a:pt x="536" y="31"/>
                </a:lnTo>
                <a:lnTo>
                  <a:pt x="540" y="35"/>
                </a:lnTo>
                <a:lnTo>
                  <a:pt x="544" y="41"/>
                </a:lnTo>
                <a:lnTo>
                  <a:pt x="544" y="46"/>
                </a:lnTo>
                <a:lnTo>
                  <a:pt x="545" y="50"/>
                </a:lnTo>
                <a:lnTo>
                  <a:pt x="544" y="52"/>
                </a:lnTo>
                <a:lnTo>
                  <a:pt x="542" y="54"/>
                </a:lnTo>
                <a:lnTo>
                  <a:pt x="536" y="58"/>
                </a:lnTo>
                <a:lnTo>
                  <a:pt x="530" y="62"/>
                </a:lnTo>
                <a:lnTo>
                  <a:pt x="522" y="66"/>
                </a:lnTo>
                <a:lnTo>
                  <a:pt x="513" y="69"/>
                </a:lnTo>
                <a:lnTo>
                  <a:pt x="501" y="73"/>
                </a:lnTo>
                <a:lnTo>
                  <a:pt x="490" y="79"/>
                </a:lnTo>
                <a:lnTo>
                  <a:pt x="474" y="85"/>
                </a:lnTo>
                <a:lnTo>
                  <a:pt x="457" y="91"/>
                </a:lnTo>
                <a:lnTo>
                  <a:pt x="440" y="98"/>
                </a:lnTo>
                <a:lnTo>
                  <a:pt x="421" y="106"/>
                </a:lnTo>
                <a:lnTo>
                  <a:pt x="398" y="114"/>
                </a:lnTo>
                <a:lnTo>
                  <a:pt x="375" y="121"/>
                </a:lnTo>
                <a:lnTo>
                  <a:pt x="350" y="129"/>
                </a:lnTo>
                <a:lnTo>
                  <a:pt x="323" y="13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>
            <a:off x="2738520" y="2982960"/>
            <a:ext cx="123840" cy="525240"/>
          </a:xfrm>
          <a:custGeom>
            <a:avLst/>
            <a:gdLst/>
            <a:ahLst/>
            <a:rect l="l" t="t" r="r" b="b"/>
            <a:pathLst>
              <a:path w="155" h="662">
                <a:moveTo>
                  <a:pt x="124" y="662"/>
                </a:moveTo>
                <a:lnTo>
                  <a:pt x="42" y="662"/>
                </a:lnTo>
                <a:lnTo>
                  <a:pt x="42" y="628"/>
                </a:lnTo>
                <a:lnTo>
                  <a:pt x="42" y="595"/>
                </a:lnTo>
                <a:lnTo>
                  <a:pt x="42" y="562"/>
                </a:lnTo>
                <a:lnTo>
                  <a:pt x="42" y="532"/>
                </a:lnTo>
                <a:lnTo>
                  <a:pt x="42" y="503"/>
                </a:lnTo>
                <a:lnTo>
                  <a:pt x="40" y="474"/>
                </a:lnTo>
                <a:lnTo>
                  <a:pt x="40" y="445"/>
                </a:lnTo>
                <a:lnTo>
                  <a:pt x="40" y="418"/>
                </a:lnTo>
                <a:lnTo>
                  <a:pt x="40" y="392"/>
                </a:lnTo>
                <a:lnTo>
                  <a:pt x="40" y="367"/>
                </a:lnTo>
                <a:lnTo>
                  <a:pt x="38" y="344"/>
                </a:lnTo>
                <a:lnTo>
                  <a:pt x="38" y="321"/>
                </a:lnTo>
                <a:lnTo>
                  <a:pt x="38" y="297"/>
                </a:lnTo>
                <a:lnTo>
                  <a:pt x="36" y="276"/>
                </a:lnTo>
                <a:lnTo>
                  <a:pt x="36" y="257"/>
                </a:lnTo>
                <a:lnTo>
                  <a:pt x="34" y="238"/>
                </a:lnTo>
                <a:lnTo>
                  <a:pt x="34" y="219"/>
                </a:lnTo>
                <a:lnTo>
                  <a:pt x="32" y="202"/>
                </a:lnTo>
                <a:lnTo>
                  <a:pt x="32" y="186"/>
                </a:lnTo>
                <a:lnTo>
                  <a:pt x="30" y="171"/>
                </a:lnTo>
                <a:lnTo>
                  <a:pt x="30" y="157"/>
                </a:lnTo>
                <a:lnTo>
                  <a:pt x="29" y="144"/>
                </a:lnTo>
                <a:lnTo>
                  <a:pt x="27" y="132"/>
                </a:lnTo>
                <a:lnTo>
                  <a:pt x="27" y="121"/>
                </a:lnTo>
                <a:lnTo>
                  <a:pt x="25" y="109"/>
                </a:lnTo>
                <a:lnTo>
                  <a:pt x="23" y="102"/>
                </a:lnTo>
                <a:lnTo>
                  <a:pt x="23" y="92"/>
                </a:lnTo>
                <a:lnTo>
                  <a:pt x="21" y="84"/>
                </a:lnTo>
                <a:lnTo>
                  <a:pt x="19" y="79"/>
                </a:lnTo>
                <a:lnTo>
                  <a:pt x="17" y="73"/>
                </a:lnTo>
                <a:lnTo>
                  <a:pt x="15" y="69"/>
                </a:lnTo>
                <a:lnTo>
                  <a:pt x="15" y="67"/>
                </a:lnTo>
                <a:lnTo>
                  <a:pt x="7" y="59"/>
                </a:lnTo>
                <a:lnTo>
                  <a:pt x="4" y="52"/>
                </a:lnTo>
                <a:lnTo>
                  <a:pt x="2" y="44"/>
                </a:lnTo>
                <a:lnTo>
                  <a:pt x="0" y="36"/>
                </a:lnTo>
                <a:lnTo>
                  <a:pt x="0" y="29"/>
                </a:lnTo>
                <a:lnTo>
                  <a:pt x="0" y="21"/>
                </a:lnTo>
                <a:lnTo>
                  <a:pt x="2" y="13"/>
                </a:lnTo>
                <a:lnTo>
                  <a:pt x="5" y="8"/>
                </a:lnTo>
                <a:lnTo>
                  <a:pt x="9" y="4"/>
                </a:lnTo>
                <a:lnTo>
                  <a:pt x="15" y="2"/>
                </a:lnTo>
                <a:lnTo>
                  <a:pt x="23" y="0"/>
                </a:lnTo>
                <a:lnTo>
                  <a:pt x="32" y="0"/>
                </a:lnTo>
                <a:lnTo>
                  <a:pt x="42" y="0"/>
                </a:lnTo>
                <a:lnTo>
                  <a:pt x="53" y="2"/>
                </a:lnTo>
                <a:lnTo>
                  <a:pt x="65" y="4"/>
                </a:lnTo>
                <a:lnTo>
                  <a:pt x="78" y="8"/>
                </a:lnTo>
                <a:lnTo>
                  <a:pt x="92" y="12"/>
                </a:lnTo>
                <a:lnTo>
                  <a:pt x="105" y="15"/>
                </a:lnTo>
                <a:lnTo>
                  <a:pt x="117" y="21"/>
                </a:lnTo>
                <a:lnTo>
                  <a:pt x="126" y="27"/>
                </a:lnTo>
                <a:lnTo>
                  <a:pt x="134" y="35"/>
                </a:lnTo>
                <a:lnTo>
                  <a:pt x="142" y="42"/>
                </a:lnTo>
                <a:lnTo>
                  <a:pt x="148" y="48"/>
                </a:lnTo>
                <a:lnTo>
                  <a:pt x="153" y="56"/>
                </a:lnTo>
                <a:lnTo>
                  <a:pt x="155" y="67"/>
                </a:lnTo>
                <a:lnTo>
                  <a:pt x="155" y="79"/>
                </a:lnTo>
                <a:lnTo>
                  <a:pt x="155" y="90"/>
                </a:lnTo>
                <a:lnTo>
                  <a:pt x="155" y="102"/>
                </a:lnTo>
                <a:lnTo>
                  <a:pt x="153" y="115"/>
                </a:lnTo>
                <a:lnTo>
                  <a:pt x="149" y="127"/>
                </a:lnTo>
                <a:lnTo>
                  <a:pt x="148" y="142"/>
                </a:lnTo>
                <a:lnTo>
                  <a:pt x="144" y="155"/>
                </a:lnTo>
                <a:lnTo>
                  <a:pt x="142" y="159"/>
                </a:lnTo>
                <a:lnTo>
                  <a:pt x="142" y="165"/>
                </a:lnTo>
                <a:lnTo>
                  <a:pt x="140" y="171"/>
                </a:lnTo>
                <a:lnTo>
                  <a:pt x="140" y="177"/>
                </a:lnTo>
                <a:lnTo>
                  <a:pt x="140" y="184"/>
                </a:lnTo>
                <a:lnTo>
                  <a:pt x="138" y="192"/>
                </a:lnTo>
                <a:lnTo>
                  <a:pt x="138" y="200"/>
                </a:lnTo>
                <a:lnTo>
                  <a:pt x="136" y="209"/>
                </a:lnTo>
                <a:lnTo>
                  <a:pt x="136" y="219"/>
                </a:lnTo>
                <a:lnTo>
                  <a:pt x="134" y="230"/>
                </a:lnTo>
                <a:lnTo>
                  <a:pt x="134" y="242"/>
                </a:lnTo>
                <a:lnTo>
                  <a:pt x="134" y="255"/>
                </a:lnTo>
                <a:lnTo>
                  <a:pt x="132" y="269"/>
                </a:lnTo>
                <a:lnTo>
                  <a:pt x="132" y="282"/>
                </a:lnTo>
                <a:lnTo>
                  <a:pt x="132" y="296"/>
                </a:lnTo>
                <a:lnTo>
                  <a:pt x="130" y="313"/>
                </a:lnTo>
                <a:lnTo>
                  <a:pt x="130" y="328"/>
                </a:lnTo>
                <a:lnTo>
                  <a:pt x="130" y="345"/>
                </a:lnTo>
                <a:lnTo>
                  <a:pt x="128" y="363"/>
                </a:lnTo>
                <a:lnTo>
                  <a:pt x="128" y="382"/>
                </a:lnTo>
                <a:lnTo>
                  <a:pt x="128" y="401"/>
                </a:lnTo>
                <a:lnTo>
                  <a:pt x="126" y="420"/>
                </a:lnTo>
                <a:lnTo>
                  <a:pt x="126" y="441"/>
                </a:lnTo>
                <a:lnTo>
                  <a:pt x="126" y="463"/>
                </a:lnTo>
                <a:lnTo>
                  <a:pt x="126" y="486"/>
                </a:lnTo>
                <a:lnTo>
                  <a:pt x="126" y="509"/>
                </a:lnTo>
                <a:lnTo>
                  <a:pt x="124" y="532"/>
                </a:lnTo>
                <a:lnTo>
                  <a:pt x="124" y="557"/>
                </a:lnTo>
                <a:lnTo>
                  <a:pt x="124" y="582"/>
                </a:lnTo>
                <a:lnTo>
                  <a:pt x="124" y="608"/>
                </a:lnTo>
                <a:lnTo>
                  <a:pt x="124" y="635"/>
                </a:lnTo>
                <a:lnTo>
                  <a:pt x="124" y="66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7"/>
          <p:cNvSpPr/>
          <p:nvPr/>
        </p:nvSpPr>
        <p:spPr>
          <a:xfrm>
            <a:off x="2486160" y="3406680"/>
            <a:ext cx="593640" cy="230400"/>
          </a:xfrm>
          <a:custGeom>
            <a:avLst/>
            <a:gdLst/>
            <a:ahLst/>
            <a:rect l="l" t="t" r="r" b="b"/>
            <a:pathLst>
              <a:path w="749" h="290">
                <a:moveTo>
                  <a:pt x="443" y="167"/>
                </a:moveTo>
                <a:lnTo>
                  <a:pt x="426" y="173"/>
                </a:lnTo>
                <a:lnTo>
                  <a:pt x="409" y="181"/>
                </a:lnTo>
                <a:lnTo>
                  <a:pt x="392" y="189"/>
                </a:lnTo>
                <a:lnTo>
                  <a:pt x="374" y="194"/>
                </a:lnTo>
                <a:lnTo>
                  <a:pt x="359" y="202"/>
                </a:lnTo>
                <a:lnTo>
                  <a:pt x="344" y="208"/>
                </a:lnTo>
                <a:lnTo>
                  <a:pt x="328" y="213"/>
                </a:lnTo>
                <a:lnTo>
                  <a:pt x="315" y="219"/>
                </a:lnTo>
                <a:lnTo>
                  <a:pt x="300" y="225"/>
                </a:lnTo>
                <a:lnTo>
                  <a:pt x="286" y="231"/>
                </a:lnTo>
                <a:lnTo>
                  <a:pt x="275" y="235"/>
                </a:lnTo>
                <a:lnTo>
                  <a:pt x="261" y="240"/>
                </a:lnTo>
                <a:lnTo>
                  <a:pt x="250" y="244"/>
                </a:lnTo>
                <a:lnTo>
                  <a:pt x="238" y="248"/>
                </a:lnTo>
                <a:lnTo>
                  <a:pt x="227" y="252"/>
                </a:lnTo>
                <a:lnTo>
                  <a:pt x="215" y="256"/>
                </a:lnTo>
                <a:lnTo>
                  <a:pt x="206" y="260"/>
                </a:lnTo>
                <a:lnTo>
                  <a:pt x="196" y="263"/>
                </a:lnTo>
                <a:lnTo>
                  <a:pt x="186" y="267"/>
                </a:lnTo>
                <a:lnTo>
                  <a:pt x="179" y="269"/>
                </a:lnTo>
                <a:lnTo>
                  <a:pt x="171" y="271"/>
                </a:lnTo>
                <a:lnTo>
                  <a:pt x="163" y="275"/>
                </a:lnTo>
                <a:lnTo>
                  <a:pt x="156" y="277"/>
                </a:lnTo>
                <a:lnTo>
                  <a:pt x="148" y="279"/>
                </a:lnTo>
                <a:lnTo>
                  <a:pt x="142" y="281"/>
                </a:lnTo>
                <a:lnTo>
                  <a:pt x="136" y="283"/>
                </a:lnTo>
                <a:lnTo>
                  <a:pt x="131" y="283"/>
                </a:lnTo>
                <a:lnTo>
                  <a:pt x="127" y="284"/>
                </a:lnTo>
                <a:lnTo>
                  <a:pt x="123" y="284"/>
                </a:lnTo>
                <a:lnTo>
                  <a:pt x="119" y="284"/>
                </a:lnTo>
                <a:lnTo>
                  <a:pt x="115" y="286"/>
                </a:lnTo>
                <a:lnTo>
                  <a:pt x="111" y="286"/>
                </a:lnTo>
                <a:lnTo>
                  <a:pt x="102" y="288"/>
                </a:lnTo>
                <a:lnTo>
                  <a:pt x="92" y="290"/>
                </a:lnTo>
                <a:lnTo>
                  <a:pt x="85" y="288"/>
                </a:lnTo>
                <a:lnTo>
                  <a:pt x="75" y="286"/>
                </a:lnTo>
                <a:lnTo>
                  <a:pt x="67" y="281"/>
                </a:lnTo>
                <a:lnTo>
                  <a:pt x="58" y="275"/>
                </a:lnTo>
                <a:lnTo>
                  <a:pt x="48" y="267"/>
                </a:lnTo>
                <a:lnTo>
                  <a:pt x="39" y="256"/>
                </a:lnTo>
                <a:lnTo>
                  <a:pt x="29" y="244"/>
                </a:lnTo>
                <a:lnTo>
                  <a:pt x="21" y="235"/>
                </a:lnTo>
                <a:lnTo>
                  <a:pt x="16" y="225"/>
                </a:lnTo>
                <a:lnTo>
                  <a:pt x="10" y="215"/>
                </a:lnTo>
                <a:lnTo>
                  <a:pt x="6" y="206"/>
                </a:lnTo>
                <a:lnTo>
                  <a:pt x="4" y="198"/>
                </a:lnTo>
                <a:lnTo>
                  <a:pt x="2" y="187"/>
                </a:lnTo>
                <a:lnTo>
                  <a:pt x="2" y="177"/>
                </a:lnTo>
                <a:lnTo>
                  <a:pt x="0" y="171"/>
                </a:lnTo>
                <a:lnTo>
                  <a:pt x="0" y="165"/>
                </a:lnTo>
                <a:lnTo>
                  <a:pt x="0" y="162"/>
                </a:lnTo>
                <a:lnTo>
                  <a:pt x="0" y="158"/>
                </a:lnTo>
                <a:lnTo>
                  <a:pt x="0" y="154"/>
                </a:lnTo>
                <a:lnTo>
                  <a:pt x="2" y="152"/>
                </a:lnTo>
                <a:lnTo>
                  <a:pt x="4" y="148"/>
                </a:lnTo>
                <a:lnTo>
                  <a:pt x="6" y="146"/>
                </a:lnTo>
                <a:lnTo>
                  <a:pt x="12" y="144"/>
                </a:lnTo>
                <a:lnTo>
                  <a:pt x="19" y="142"/>
                </a:lnTo>
                <a:lnTo>
                  <a:pt x="29" y="144"/>
                </a:lnTo>
                <a:lnTo>
                  <a:pt x="39" y="146"/>
                </a:lnTo>
                <a:lnTo>
                  <a:pt x="48" y="150"/>
                </a:lnTo>
                <a:lnTo>
                  <a:pt x="58" y="152"/>
                </a:lnTo>
                <a:lnTo>
                  <a:pt x="65" y="154"/>
                </a:lnTo>
                <a:lnTo>
                  <a:pt x="75" y="154"/>
                </a:lnTo>
                <a:lnTo>
                  <a:pt x="83" y="154"/>
                </a:lnTo>
                <a:lnTo>
                  <a:pt x="88" y="152"/>
                </a:lnTo>
                <a:lnTo>
                  <a:pt x="96" y="150"/>
                </a:lnTo>
                <a:lnTo>
                  <a:pt x="104" y="146"/>
                </a:lnTo>
                <a:lnTo>
                  <a:pt x="106" y="146"/>
                </a:lnTo>
                <a:lnTo>
                  <a:pt x="108" y="146"/>
                </a:lnTo>
                <a:lnTo>
                  <a:pt x="110" y="146"/>
                </a:lnTo>
                <a:lnTo>
                  <a:pt x="113" y="144"/>
                </a:lnTo>
                <a:lnTo>
                  <a:pt x="119" y="144"/>
                </a:lnTo>
                <a:lnTo>
                  <a:pt x="123" y="144"/>
                </a:lnTo>
                <a:lnTo>
                  <a:pt x="129" y="142"/>
                </a:lnTo>
                <a:lnTo>
                  <a:pt x="135" y="141"/>
                </a:lnTo>
                <a:lnTo>
                  <a:pt x="140" y="141"/>
                </a:lnTo>
                <a:lnTo>
                  <a:pt x="148" y="139"/>
                </a:lnTo>
                <a:lnTo>
                  <a:pt x="154" y="137"/>
                </a:lnTo>
                <a:lnTo>
                  <a:pt x="163" y="135"/>
                </a:lnTo>
                <a:lnTo>
                  <a:pt x="171" y="133"/>
                </a:lnTo>
                <a:lnTo>
                  <a:pt x="181" y="129"/>
                </a:lnTo>
                <a:lnTo>
                  <a:pt x="190" y="127"/>
                </a:lnTo>
                <a:lnTo>
                  <a:pt x="200" y="125"/>
                </a:lnTo>
                <a:lnTo>
                  <a:pt x="211" y="121"/>
                </a:lnTo>
                <a:lnTo>
                  <a:pt x="221" y="119"/>
                </a:lnTo>
                <a:lnTo>
                  <a:pt x="232" y="116"/>
                </a:lnTo>
                <a:lnTo>
                  <a:pt x="246" y="112"/>
                </a:lnTo>
                <a:lnTo>
                  <a:pt x="259" y="108"/>
                </a:lnTo>
                <a:lnTo>
                  <a:pt x="271" y="104"/>
                </a:lnTo>
                <a:lnTo>
                  <a:pt x="286" y="100"/>
                </a:lnTo>
                <a:lnTo>
                  <a:pt x="300" y="96"/>
                </a:lnTo>
                <a:lnTo>
                  <a:pt x="315" y="93"/>
                </a:lnTo>
                <a:lnTo>
                  <a:pt x="330" y="89"/>
                </a:lnTo>
                <a:lnTo>
                  <a:pt x="346" y="83"/>
                </a:lnTo>
                <a:lnTo>
                  <a:pt x="363" y="79"/>
                </a:lnTo>
                <a:lnTo>
                  <a:pt x="380" y="73"/>
                </a:lnTo>
                <a:lnTo>
                  <a:pt x="397" y="68"/>
                </a:lnTo>
                <a:lnTo>
                  <a:pt x="417" y="64"/>
                </a:lnTo>
                <a:lnTo>
                  <a:pt x="434" y="58"/>
                </a:lnTo>
                <a:lnTo>
                  <a:pt x="453" y="52"/>
                </a:lnTo>
                <a:lnTo>
                  <a:pt x="472" y="48"/>
                </a:lnTo>
                <a:lnTo>
                  <a:pt x="490" y="45"/>
                </a:lnTo>
                <a:lnTo>
                  <a:pt x="507" y="41"/>
                </a:lnTo>
                <a:lnTo>
                  <a:pt x="522" y="37"/>
                </a:lnTo>
                <a:lnTo>
                  <a:pt x="538" y="33"/>
                </a:lnTo>
                <a:lnTo>
                  <a:pt x="553" y="29"/>
                </a:lnTo>
                <a:lnTo>
                  <a:pt x="568" y="25"/>
                </a:lnTo>
                <a:lnTo>
                  <a:pt x="582" y="22"/>
                </a:lnTo>
                <a:lnTo>
                  <a:pt x="595" y="20"/>
                </a:lnTo>
                <a:lnTo>
                  <a:pt x="609" y="16"/>
                </a:lnTo>
                <a:lnTo>
                  <a:pt x="620" y="14"/>
                </a:lnTo>
                <a:lnTo>
                  <a:pt x="632" y="12"/>
                </a:lnTo>
                <a:lnTo>
                  <a:pt x="643" y="10"/>
                </a:lnTo>
                <a:lnTo>
                  <a:pt x="655" y="8"/>
                </a:lnTo>
                <a:lnTo>
                  <a:pt x="664" y="6"/>
                </a:lnTo>
                <a:lnTo>
                  <a:pt x="674" y="4"/>
                </a:lnTo>
                <a:lnTo>
                  <a:pt x="681" y="2"/>
                </a:lnTo>
                <a:lnTo>
                  <a:pt x="691" y="2"/>
                </a:lnTo>
                <a:lnTo>
                  <a:pt x="699" y="0"/>
                </a:lnTo>
                <a:lnTo>
                  <a:pt x="704" y="0"/>
                </a:lnTo>
                <a:lnTo>
                  <a:pt x="712" y="0"/>
                </a:lnTo>
                <a:lnTo>
                  <a:pt x="718" y="0"/>
                </a:lnTo>
                <a:lnTo>
                  <a:pt x="724" y="0"/>
                </a:lnTo>
                <a:lnTo>
                  <a:pt x="727" y="0"/>
                </a:lnTo>
                <a:lnTo>
                  <a:pt x="733" y="0"/>
                </a:lnTo>
                <a:lnTo>
                  <a:pt x="737" y="0"/>
                </a:lnTo>
                <a:lnTo>
                  <a:pt x="741" y="2"/>
                </a:lnTo>
                <a:lnTo>
                  <a:pt x="743" y="2"/>
                </a:lnTo>
                <a:lnTo>
                  <a:pt x="745" y="4"/>
                </a:lnTo>
                <a:lnTo>
                  <a:pt x="747" y="6"/>
                </a:lnTo>
                <a:lnTo>
                  <a:pt x="749" y="8"/>
                </a:lnTo>
                <a:lnTo>
                  <a:pt x="747" y="10"/>
                </a:lnTo>
                <a:lnTo>
                  <a:pt x="747" y="14"/>
                </a:lnTo>
                <a:lnTo>
                  <a:pt x="745" y="16"/>
                </a:lnTo>
                <a:lnTo>
                  <a:pt x="743" y="20"/>
                </a:lnTo>
                <a:lnTo>
                  <a:pt x="741" y="23"/>
                </a:lnTo>
                <a:lnTo>
                  <a:pt x="737" y="27"/>
                </a:lnTo>
                <a:lnTo>
                  <a:pt x="733" y="29"/>
                </a:lnTo>
                <a:lnTo>
                  <a:pt x="729" y="33"/>
                </a:lnTo>
                <a:lnTo>
                  <a:pt x="724" y="37"/>
                </a:lnTo>
                <a:lnTo>
                  <a:pt x="718" y="41"/>
                </a:lnTo>
                <a:lnTo>
                  <a:pt x="712" y="45"/>
                </a:lnTo>
                <a:lnTo>
                  <a:pt x="704" y="50"/>
                </a:lnTo>
                <a:lnTo>
                  <a:pt x="697" y="54"/>
                </a:lnTo>
                <a:lnTo>
                  <a:pt x="689" y="58"/>
                </a:lnTo>
                <a:lnTo>
                  <a:pt x="681" y="64"/>
                </a:lnTo>
                <a:lnTo>
                  <a:pt x="672" y="68"/>
                </a:lnTo>
                <a:lnTo>
                  <a:pt x="662" y="73"/>
                </a:lnTo>
                <a:lnTo>
                  <a:pt x="651" y="77"/>
                </a:lnTo>
                <a:lnTo>
                  <a:pt x="641" y="83"/>
                </a:lnTo>
                <a:lnTo>
                  <a:pt x="630" y="89"/>
                </a:lnTo>
                <a:lnTo>
                  <a:pt x="616" y="94"/>
                </a:lnTo>
                <a:lnTo>
                  <a:pt x="605" y="100"/>
                </a:lnTo>
                <a:lnTo>
                  <a:pt x="591" y="106"/>
                </a:lnTo>
                <a:lnTo>
                  <a:pt x="576" y="112"/>
                </a:lnTo>
                <a:lnTo>
                  <a:pt x="562" y="118"/>
                </a:lnTo>
                <a:lnTo>
                  <a:pt x="547" y="125"/>
                </a:lnTo>
                <a:lnTo>
                  <a:pt x="532" y="131"/>
                </a:lnTo>
                <a:lnTo>
                  <a:pt x="514" y="137"/>
                </a:lnTo>
                <a:lnTo>
                  <a:pt x="497" y="144"/>
                </a:lnTo>
                <a:lnTo>
                  <a:pt x="480" y="152"/>
                </a:lnTo>
                <a:lnTo>
                  <a:pt x="463" y="160"/>
                </a:lnTo>
                <a:lnTo>
                  <a:pt x="443" y="167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3144960" y="2535120"/>
            <a:ext cx="372960" cy="152640"/>
          </a:xfrm>
          <a:custGeom>
            <a:avLst/>
            <a:gdLst/>
            <a:ahLst/>
            <a:rect l="l" t="t" r="r" b="b"/>
            <a:pathLst>
              <a:path w="470" h="192">
                <a:moveTo>
                  <a:pt x="165" y="63"/>
                </a:moveTo>
                <a:lnTo>
                  <a:pt x="188" y="53"/>
                </a:lnTo>
                <a:lnTo>
                  <a:pt x="207" y="46"/>
                </a:lnTo>
                <a:lnTo>
                  <a:pt x="228" y="38"/>
                </a:lnTo>
                <a:lnTo>
                  <a:pt x="248" y="30"/>
                </a:lnTo>
                <a:lnTo>
                  <a:pt x="265" y="25"/>
                </a:lnTo>
                <a:lnTo>
                  <a:pt x="282" y="19"/>
                </a:lnTo>
                <a:lnTo>
                  <a:pt x="298" y="13"/>
                </a:lnTo>
                <a:lnTo>
                  <a:pt x="313" y="9"/>
                </a:lnTo>
                <a:lnTo>
                  <a:pt x="326" y="7"/>
                </a:lnTo>
                <a:lnTo>
                  <a:pt x="340" y="4"/>
                </a:lnTo>
                <a:lnTo>
                  <a:pt x="353" y="2"/>
                </a:lnTo>
                <a:lnTo>
                  <a:pt x="365" y="2"/>
                </a:lnTo>
                <a:lnTo>
                  <a:pt x="376" y="0"/>
                </a:lnTo>
                <a:lnTo>
                  <a:pt x="386" y="0"/>
                </a:lnTo>
                <a:lnTo>
                  <a:pt x="395" y="2"/>
                </a:lnTo>
                <a:lnTo>
                  <a:pt x="405" y="4"/>
                </a:lnTo>
                <a:lnTo>
                  <a:pt x="413" y="7"/>
                </a:lnTo>
                <a:lnTo>
                  <a:pt x="420" y="11"/>
                </a:lnTo>
                <a:lnTo>
                  <a:pt x="428" y="15"/>
                </a:lnTo>
                <a:lnTo>
                  <a:pt x="434" y="17"/>
                </a:lnTo>
                <a:lnTo>
                  <a:pt x="440" y="21"/>
                </a:lnTo>
                <a:lnTo>
                  <a:pt x="445" y="25"/>
                </a:lnTo>
                <a:lnTo>
                  <a:pt x="451" y="28"/>
                </a:lnTo>
                <a:lnTo>
                  <a:pt x="455" y="32"/>
                </a:lnTo>
                <a:lnTo>
                  <a:pt x="459" y="36"/>
                </a:lnTo>
                <a:lnTo>
                  <a:pt x="461" y="40"/>
                </a:lnTo>
                <a:lnTo>
                  <a:pt x="465" y="44"/>
                </a:lnTo>
                <a:lnTo>
                  <a:pt x="466" y="48"/>
                </a:lnTo>
                <a:lnTo>
                  <a:pt x="466" y="52"/>
                </a:lnTo>
                <a:lnTo>
                  <a:pt x="468" y="55"/>
                </a:lnTo>
                <a:lnTo>
                  <a:pt x="470" y="63"/>
                </a:lnTo>
                <a:lnTo>
                  <a:pt x="468" y="67"/>
                </a:lnTo>
                <a:lnTo>
                  <a:pt x="466" y="71"/>
                </a:lnTo>
                <a:lnTo>
                  <a:pt x="465" y="75"/>
                </a:lnTo>
                <a:lnTo>
                  <a:pt x="459" y="78"/>
                </a:lnTo>
                <a:lnTo>
                  <a:pt x="453" y="84"/>
                </a:lnTo>
                <a:lnTo>
                  <a:pt x="447" y="88"/>
                </a:lnTo>
                <a:lnTo>
                  <a:pt x="438" y="94"/>
                </a:lnTo>
                <a:lnTo>
                  <a:pt x="430" y="98"/>
                </a:lnTo>
                <a:lnTo>
                  <a:pt x="418" y="103"/>
                </a:lnTo>
                <a:lnTo>
                  <a:pt x="407" y="109"/>
                </a:lnTo>
                <a:lnTo>
                  <a:pt x="394" y="115"/>
                </a:lnTo>
                <a:lnTo>
                  <a:pt x="380" y="119"/>
                </a:lnTo>
                <a:lnTo>
                  <a:pt x="365" y="124"/>
                </a:lnTo>
                <a:lnTo>
                  <a:pt x="349" y="130"/>
                </a:lnTo>
                <a:lnTo>
                  <a:pt x="332" y="136"/>
                </a:lnTo>
                <a:lnTo>
                  <a:pt x="313" y="142"/>
                </a:lnTo>
                <a:lnTo>
                  <a:pt x="292" y="147"/>
                </a:lnTo>
                <a:lnTo>
                  <a:pt x="275" y="153"/>
                </a:lnTo>
                <a:lnTo>
                  <a:pt x="255" y="157"/>
                </a:lnTo>
                <a:lnTo>
                  <a:pt x="238" y="163"/>
                </a:lnTo>
                <a:lnTo>
                  <a:pt x="223" y="167"/>
                </a:lnTo>
                <a:lnTo>
                  <a:pt x="207" y="171"/>
                </a:lnTo>
                <a:lnTo>
                  <a:pt x="194" y="174"/>
                </a:lnTo>
                <a:lnTo>
                  <a:pt x="181" y="178"/>
                </a:lnTo>
                <a:lnTo>
                  <a:pt x="169" y="180"/>
                </a:lnTo>
                <a:lnTo>
                  <a:pt x="157" y="184"/>
                </a:lnTo>
                <a:lnTo>
                  <a:pt x="148" y="186"/>
                </a:lnTo>
                <a:lnTo>
                  <a:pt x="138" y="188"/>
                </a:lnTo>
                <a:lnTo>
                  <a:pt x="131" y="190"/>
                </a:lnTo>
                <a:lnTo>
                  <a:pt x="123" y="190"/>
                </a:lnTo>
                <a:lnTo>
                  <a:pt x="115" y="192"/>
                </a:lnTo>
                <a:lnTo>
                  <a:pt x="110" y="192"/>
                </a:lnTo>
                <a:lnTo>
                  <a:pt x="100" y="192"/>
                </a:lnTo>
                <a:lnTo>
                  <a:pt x="90" y="192"/>
                </a:lnTo>
                <a:lnTo>
                  <a:pt x="73" y="190"/>
                </a:lnTo>
                <a:lnTo>
                  <a:pt x="65" y="190"/>
                </a:lnTo>
                <a:lnTo>
                  <a:pt x="56" y="188"/>
                </a:lnTo>
                <a:lnTo>
                  <a:pt x="46" y="184"/>
                </a:lnTo>
                <a:lnTo>
                  <a:pt x="37" y="182"/>
                </a:lnTo>
                <a:lnTo>
                  <a:pt x="27" y="178"/>
                </a:lnTo>
                <a:lnTo>
                  <a:pt x="19" y="174"/>
                </a:lnTo>
                <a:lnTo>
                  <a:pt x="14" y="171"/>
                </a:lnTo>
                <a:lnTo>
                  <a:pt x="8" y="167"/>
                </a:lnTo>
                <a:lnTo>
                  <a:pt x="4" y="163"/>
                </a:lnTo>
                <a:lnTo>
                  <a:pt x="2" y="159"/>
                </a:lnTo>
                <a:lnTo>
                  <a:pt x="0" y="155"/>
                </a:lnTo>
                <a:lnTo>
                  <a:pt x="0" y="151"/>
                </a:lnTo>
                <a:lnTo>
                  <a:pt x="0" y="149"/>
                </a:lnTo>
                <a:lnTo>
                  <a:pt x="2" y="147"/>
                </a:lnTo>
                <a:lnTo>
                  <a:pt x="6" y="144"/>
                </a:lnTo>
                <a:lnTo>
                  <a:pt x="10" y="140"/>
                </a:lnTo>
                <a:lnTo>
                  <a:pt x="15" y="136"/>
                </a:lnTo>
                <a:lnTo>
                  <a:pt x="23" y="132"/>
                </a:lnTo>
                <a:lnTo>
                  <a:pt x="31" y="128"/>
                </a:lnTo>
                <a:lnTo>
                  <a:pt x="40" y="123"/>
                </a:lnTo>
                <a:lnTo>
                  <a:pt x="52" y="117"/>
                </a:lnTo>
                <a:lnTo>
                  <a:pt x="65" y="111"/>
                </a:lnTo>
                <a:lnTo>
                  <a:pt x="79" y="103"/>
                </a:lnTo>
                <a:lnTo>
                  <a:pt x="92" y="96"/>
                </a:lnTo>
                <a:lnTo>
                  <a:pt x="110" y="88"/>
                </a:lnTo>
                <a:lnTo>
                  <a:pt x="127" y="80"/>
                </a:lnTo>
                <a:lnTo>
                  <a:pt x="146" y="71"/>
                </a:lnTo>
                <a:lnTo>
                  <a:pt x="165" y="6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Noname1"/>
          <p:cNvPicPr/>
          <p:nvPr/>
        </p:nvPicPr>
        <p:blipFill>
          <a:blip r:embed="rId1"/>
          <a:stretch/>
        </p:blipFill>
        <p:spPr>
          <a:xfrm>
            <a:off x="3124080" y="15228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Noname1"/>
          <p:cNvPicPr/>
          <p:nvPr/>
        </p:nvPicPr>
        <p:blipFill>
          <a:blip r:embed="rId2"/>
          <a:stretch/>
        </p:blipFill>
        <p:spPr>
          <a:xfrm>
            <a:off x="5429160" y="190440"/>
            <a:ext cx="1295640" cy="554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Noname1"/>
          <p:cNvPicPr/>
          <p:nvPr/>
        </p:nvPicPr>
        <p:blipFill>
          <a:blip r:embed="rId3"/>
          <a:stretch/>
        </p:blipFill>
        <p:spPr>
          <a:xfrm>
            <a:off x="819000" y="165240"/>
            <a:ext cx="1295640" cy="5540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914400" y="200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华文行楷"/>
                <a:ea typeface="华文行楷"/>
              </a:rPr>
              <a:t> </a:t>
            </a: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拼  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0040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词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62720" y="228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华文行楷"/>
                <a:ea typeface="华文行楷"/>
              </a:rPr>
              <a:t>句  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486400" y="1905120"/>
            <a:ext cx="3276720" cy="1962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坊 牌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坊 磨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80880" y="4724280"/>
            <a:ext cx="8458200" cy="764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区里的街坊都很和睦，有什么事大家都会互相帮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0"/>
          <p:cNvGrpSpPr/>
          <p:nvPr/>
        </p:nvGrpSpPr>
        <p:grpSpPr>
          <a:xfrm>
            <a:off x="1523880" y="1828800"/>
            <a:ext cx="2657520" cy="2657520"/>
            <a:chOff x="1523880" y="1828800"/>
            <a:chExt cx="2657520" cy="2657520"/>
          </a:xfrm>
        </p:grpSpPr>
        <p:sp>
          <p:nvSpPr>
            <p:cNvPr id="232" name="Rectangle 11"/>
            <p:cNvSpPr/>
            <p:nvPr/>
          </p:nvSpPr>
          <p:spPr>
            <a:xfrm>
              <a:off x="1523880" y="1828800"/>
              <a:ext cx="2657520" cy="26575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1523880" y="316872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2836800" y="1828800"/>
              <a:ext cx="0" cy="265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4" descr="Noname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6256440"/>
            <a:ext cx="685800" cy="601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5"/>
          <p:cNvSpPr/>
          <p:nvPr/>
        </p:nvSpPr>
        <p:spPr>
          <a:xfrm>
            <a:off x="1905120" y="2209680"/>
            <a:ext cx="1844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1916280" y="2219400"/>
            <a:ext cx="1807920" cy="1816200"/>
          </a:xfrm>
          <a:custGeom>
            <a:avLst/>
            <a:gdLst/>
            <a:ahLst/>
            <a:rect l="l" t="t" r="r" b="b"/>
            <a:pathLst>
              <a:path w="2278" h="2287">
                <a:moveTo>
                  <a:pt x="484" y="220"/>
                </a:moveTo>
                <a:lnTo>
                  <a:pt x="482" y="205"/>
                </a:lnTo>
                <a:lnTo>
                  <a:pt x="480" y="191"/>
                </a:lnTo>
                <a:lnTo>
                  <a:pt x="478" y="178"/>
                </a:lnTo>
                <a:lnTo>
                  <a:pt x="476" y="166"/>
                </a:lnTo>
                <a:lnTo>
                  <a:pt x="474" y="155"/>
                </a:lnTo>
                <a:lnTo>
                  <a:pt x="473" y="145"/>
                </a:lnTo>
                <a:lnTo>
                  <a:pt x="471" y="134"/>
                </a:lnTo>
                <a:lnTo>
                  <a:pt x="469" y="126"/>
                </a:lnTo>
                <a:lnTo>
                  <a:pt x="465" y="117"/>
                </a:lnTo>
                <a:lnTo>
                  <a:pt x="463" y="109"/>
                </a:lnTo>
                <a:lnTo>
                  <a:pt x="461" y="101"/>
                </a:lnTo>
                <a:lnTo>
                  <a:pt x="457" y="95"/>
                </a:lnTo>
                <a:lnTo>
                  <a:pt x="455" y="88"/>
                </a:lnTo>
                <a:lnTo>
                  <a:pt x="451" y="84"/>
                </a:lnTo>
                <a:lnTo>
                  <a:pt x="448" y="78"/>
                </a:lnTo>
                <a:lnTo>
                  <a:pt x="446" y="74"/>
                </a:lnTo>
                <a:lnTo>
                  <a:pt x="440" y="69"/>
                </a:lnTo>
                <a:lnTo>
                  <a:pt x="434" y="65"/>
                </a:lnTo>
                <a:lnTo>
                  <a:pt x="430" y="61"/>
                </a:lnTo>
                <a:lnTo>
                  <a:pt x="428" y="57"/>
                </a:lnTo>
                <a:lnTo>
                  <a:pt x="425" y="53"/>
                </a:lnTo>
                <a:lnTo>
                  <a:pt x="423" y="47"/>
                </a:lnTo>
                <a:lnTo>
                  <a:pt x="423" y="44"/>
                </a:lnTo>
                <a:lnTo>
                  <a:pt x="421" y="40"/>
                </a:lnTo>
                <a:lnTo>
                  <a:pt x="421" y="36"/>
                </a:lnTo>
                <a:lnTo>
                  <a:pt x="421" y="32"/>
                </a:lnTo>
                <a:lnTo>
                  <a:pt x="423" y="26"/>
                </a:lnTo>
                <a:lnTo>
                  <a:pt x="425" y="23"/>
                </a:lnTo>
                <a:lnTo>
                  <a:pt x="426" y="19"/>
                </a:lnTo>
                <a:lnTo>
                  <a:pt x="428" y="15"/>
                </a:lnTo>
                <a:lnTo>
                  <a:pt x="432" y="11"/>
                </a:lnTo>
                <a:lnTo>
                  <a:pt x="434" y="5"/>
                </a:lnTo>
                <a:lnTo>
                  <a:pt x="438" y="3"/>
                </a:lnTo>
                <a:lnTo>
                  <a:pt x="440" y="1"/>
                </a:lnTo>
                <a:lnTo>
                  <a:pt x="444" y="1"/>
                </a:lnTo>
                <a:lnTo>
                  <a:pt x="448" y="0"/>
                </a:lnTo>
                <a:lnTo>
                  <a:pt x="451" y="0"/>
                </a:lnTo>
                <a:lnTo>
                  <a:pt x="457" y="0"/>
                </a:lnTo>
                <a:lnTo>
                  <a:pt x="463" y="0"/>
                </a:lnTo>
                <a:lnTo>
                  <a:pt x="471" y="0"/>
                </a:lnTo>
                <a:lnTo>
                  <a:pt x="478" y="0"/>
                </a:lnTo>
                <a:lnTo>
                  <a:pt x="486" y="1"/>
                </a:lnTo>
                <a:lnTo>
                  <a:pt x="494" y="1"/>
                </a:lnTo>
                <a:lnTo>
                  <a:pt x="503" y="5"/>
                </a:lnTo>
                <a:lnTo>
                  <a:pt x="513" y="7"/>
                </a:lnTo>
                <a:lnTo>
                  <a:pt x="522" y="9"/>
                </a:lnTo>
                <a:lnTo>
                  <a:pt x="532" y="13"/>
                </a:lnTo>
                <a:lnTo>
                  <a:pt x="544" y="17"/>
                </a:lnTo>
                <a:lnTo>
                  <a:pt x="565" y="30"/>
                </a:lnTo>
                <a:lnTo>
                  <a:pt x="574" y="36"/>
                </a:lnTo>
                <a:lnTo>
                  <a:pt x="584" y="42"/>
                </a:lnTo>
                <a:lnTo>
                  <a:pt x="592" y="46"/>
                </a:lnTo>
                <a:lnTo>
                  <a:pt x="601" y="51"/>
                </a:lnTo>
                <a:lnTo>
                  <a:pt x="609" y="57"/>
                </a:lnTo>
                <a:lnTo>
                  <a:pt x="616" y="61"/>
                </a:lnTo>
                <a:lnTo>
                  <a:pt x="622" y="65"/>
                </a:lnTo>
                <a:lnTo>
                  <a:pt x="628" y="71"/>
                </a:lnTo>
                <a:lnTo>
                  <a:pt x="634" y="74"/>
                </a:lnTo>
                <a:lnTo>
                  <a:pt x="639" y="78"/>
                </a:lnTo>
                <a:lnTo>
                  <a:pt x="643" y="84"/>
                </a:lnTo>
                <a:lnTo>
                  <a:pt x="647" y="88"/>
                </a:lnTo>
                <a:lnTo>
                  <a:pt x="649" y="92"/>
                </a:lnTo>
                <a:lnTo>
                  <a:pt x="651" y="95"/>
                </a:lnTo>
                <a:lnTo>
                  <a:pt x="655" y="105"/>
                </a:lnTo>
                <a:lnTo>
                  <a:pt x="657" y="115"/>
                </a:lnTo>
                <a:lnTo>
                  <a:pt x="659" y="126"/>
                </a:lnTo>
                <a:lnTo>
                  <a:pt x="659" y="140"/>
                </a:lnTo>
                <a:lnTo>
                  <a:pt x="659" y="155"/>
                </a:lnTo>
                <a:lnTo>
                  <a:pt x="657" y="170"/>
                </a:lnTo>
                <a:lnTo>
                  <a:pt x="655" y="180"/>
                </a:lnTo>
                <a:lnTo>
                  <a:pt x="655" y="188"/>
                </a:lnTo>
                <a:lnTo>
                  <a:pt x="653" y="197"/>
                </a:lnTo>
                <a:lnTo>
                  <a:pt x="651" y="209"/>
                </a:lnTo>
                <a:lnTo>
                  <a:pt x="651" y="211"/>
                </a:lnTo>
                <a:lnTo>
                  <a:pt x="649" y="214"/>
                </a:lnTo>
                <a:lnTo>
                  <a:pt x="649" y="218"/>
                </a:lnTo>
                <a:lnTo>
                  <a:pt x="647" y="224"/>
                </a:lnTo>
                <a:lnTo>
                  <a:pt x="647" y="228"/>
                </a:lnTo>
                <a:lnTo>
                  <a:pt x="645" y="234"/>
                </a:lnTo>
                <a:lnTo>
                  <a:pt x="645" y="239"/>
                </a:lnTo>
                <a:lnTo>
                  <a:pt x="643" y="247"/>
                </a:lnTo>
                <a:lnTo>
                  <a:pt x="643" y="255"/>
                </a:lnTo>
                <a:lnTo>
                  <a:pt x="641" y="262"/>
                </a:lnTo>
                <a:lnTo>
                  <a:pt x="641" y="270"/>
                </a:lnTo>
                <a:lnTo>
                  <a:pt x="639" y="280"/>
                </a:lnTo>
                <a:lnTo>
                  <a:pt x="639" y="289"/>
                </a:lnTo>
                <a:lnTo>
                  <a:pt x="639" y="299"/>
                </a:lnTo>
                <a:lnTo>
                  <a:pt x="638" y="308"/>
                </a:lnTo>
                <a:lnTo>
                  <a:pt x="638" y="320"/>
                </a:lnTo>
                <a:lnTo>
                  <a:pt x="636" y="332"/>
                </a:lnTo>
                <a:lnTo>
                  <a:pt x="636" y="343"/>
                </a:lnTo>
                <a:lnTo>
                  <a:pt x="634" y="356"/>
                </a:lnTo>
                <a:lnTo>
                  <a:pt x="634" y="370"/>
                </a:lnTo>
                <a:lnTo>
                  <a:pt x="632" y="383"/>
                </a:lnTo>
                <a:lnTo>
                  <a:pt x="632" y="397"/>
                </a:lnTo>
                <a:lnTo>
                  <a:pt x="630" y="412"/>
                </a:lnTo>
                <a:lnTo>
                  <a:pt x="630" y="427"/>
                </a:lnTo>
                <a:lnTo>
                  <a:pt x="630" y="445"/>
                </a:lnTo>
                <a:lnTo>
                  <a:pt x="628" y="460"/>
                </a:lnTo>
                <a:lnTo>
                  <a:pt x="628" y="477"/>
                </a:lnTo>
                <a:lnTo>
                  <a:pt x="626" y="495"/>
                </a:lnTo>
                <a:lnTo>
                  <a:pt x="626" y="514"/>
                </a:lnTo>
                <a:lnTo>
                  <a:pt x="624" y="531"/>
                </a:lnTo>
                <a:lnTo>
                  <a:pt x="624" y="550"/>
                </a:lnTo>
                <a:lnTo>
                  <a:pt x="622" y="571"/>
                </a:lnTo>
                <a:lnTo>
                  <a:pt x="622" y="591"/>
                </a:lnTo>
                <a:lnTo>
                  <a:pt x="622" y="612"/>
                </a:lnTo>
                <a:lnTo>
                  <a:pt x="620" y="633"/>
                </a:lnTo>
                <a:lnTo>
                  <a:pt x="620" y="656"/>
                </a:lnTo>
                <a:lnTo>
                  <a:pt x="618" y="677"/>
                </a:lnTo>
                <a:lnTo>
                  <a:pt x="618" y="700"/>
                </a:lnTo>
                <a:lnTo>
                  <a:pt x="618" y="725"/>
                </a:lnTo>
                <a:lnTo>
                  <a:pt x="616" y="748"/>
                </a:lnTo>
                <a:lnTo>
                  <a:pt x="616" y="773"/>
                </a:lnTo>
                <a:lnTo>
                  <a:pt x="615" y="798"/>
                </a:lnTo>
                <a:lnTo>
                  <a:pt x="615" y="823"/>
                </a:lnTo>
                <a:lnTo>
                  <a:pt x="615" y="850"/>
                </a:lnTo>
                <a:lnTo>
                  <a:pt x="613" y="877"/>
                </a:lnTo>
                <a:lnTo>
                  <a:pt x="613" y="903"/>
                </a:lnTo>
                <a:lnTo>
                  <a:pt x="613" y="932"/>
                </a:lnTo>
                <a:lnTo>
                  <a:pt x="611" y="961"/>
                </a:lnTo>
                <a:lnTo>
                  <a:pt x="611" y="990"/>
                </a:lnTo>
                <a:lnTo>
                  <a:pt x="611" y="1019"/>
                </a:lnTo>
                <a:lnTo>
                  <a:pt x="609" y="1049"/>
                </a:lnTo>
                <a:lnTo>
                  <a:pt x="609" y="1080"/>
                </a:lnTo>
                <a:lnTo>
                  <a:pt x="609" y="1111"/>
                </a:lnTo>
                <a:lnTo>
                  <a:pt x="607" y="1141"/>
                </a:lnTo>
                <a:lnTo>
                  <a:pt x="607" y="1174"/>
                </a:lnTo>
                <a:lnTo>
                  <a:pt x="607" y="1207"/>
                </a:lnTo>
                <a:lnTo>
                  <a:pt x="605" y="1241"/>
                </a:lnTo>
                <a:lnTo>
                  <a:pt x="605" y="1274"/>
                </a:lnTo>
                <a:lnTo>
                  <a:pt x="605" y="1308"/>
                </a:lnTo>
                <a:lnTo>
                  <a:pt x="603" y="1343"/>
                </a:lnTo>
                <a:lnTo>
                  <a:pt x="603" y="1379"/>
                </a:lnTo>
                <a:lnTo>
                  <a:pt x="603" y="1416"/>
                </a:lnTo>
                <a:lnTo>
                  <a:pt x="603" y="1452"/>
                </a:lnTo>
                <a:lnTo>
                  <a:pt x="601" y="1489"/>
                </a:lnTo>
                <a:lnTo>
                  <a:pt x="544" y="1518"/>
                </a:lnTo>
                <a:lnTo>
                  <a:pt x="484" y="1544"/>
                </a:lnTo>
                <a:lnTo>
                  <a:pt x="484" y="1470"/>
                </a:lnTo>
                <a:lnTo>
                  <a:pt x="486" y="1399"/>
                </a:lnTo>
                <a:lnTo>
                  <a:pt x="486" y="1328"/>
                </a:lnTo>
                <a:lnTo>
                  <a:pt x="488" y="1258"/>
                </a:lnTo>
                <a:lnTo>
                  <a:pt x="488" y="1193"/>
                </a:lnTo>
                <a:lnTo>
                  <a:pt x="488" y="1130"/>
                </a:lnTo>
                <a:lnTo>
                  <a:pt x="490" y="1067"/>
                </a:lnTo>
                <a:lnTo>
                  <a:pt x="490" y="1007"/>
                </a:lnTo>
                <a:lnTo>
                  <a:pt x="490" y="949"/>
                </a:lnTo>
                <a:lnTo>
                  <a:pt x="490" y="896"/>
                </a:lnTo>
                <a:lnTo>
                  <a:pt x="490" y="842"/>
                </a:lnTo>
                <a:lnTo>
                  <a:pt x="492" y="790"/>
                </a:lnTo>
                <a:lnTo>
                  <a:pt x="492" y="742"/>
                </a:lnTo>
                <a:lnTo>
                  <a:pt x="492" y="696"/>
                </a:lnTo>
                <a:lnTo>
                  <a:pt x="492" y="650"/>
                </a:lnTo>
                <a:lnTo>
                  <a:pt x="492" y="608"/>
                </a:lnTo>
                <a:lnTo>
                  <a:pt x="492" y="568"/>
                </a:lnTo>
                <a:lnTo>
                  <a:pt x="492" y="529"/>
                </a:lnTo>
                <a:lnTo>
                  <a:pt x="492" y="495"/>
                </a:lnTo>
                <a:lnTo>
                  <a:pt x="492" y="460"/>
                </a:lnTo>
                <a:lnTo>
                  <a:pt x="490" y="429"/>
                </a:lnTo>
                <a:lnTo>
                  <a:pt x="490" y="399"/>
                </a:lnTo>
                <a:lnTo>
                  <a:pt x="490" y="372"/>
                </a:lnTo>
                <a:lnTo>
                  <a:pt x="490" y="347"/>
                </a:lnTo>
                <a:lnTo>
                  <a:pt x="490" y="322"/>
                </a:lnTo>
                <a:lnTo>
                  <a:pt x="488" y="301"/>
                </a:lnTo>
                <a:lnTo>
                  <a:pt x="488" y="284"/>
                </a:lnTo>
                <a:lnTo>
                  <a:pt x="488" y="266"/>
                </a:lnTo>
                <a:lnTo>
                  <a:pt x="486" y="251"/>
                </a:lnTo>
                <a:lnTo>
                  <a:pt x="486" y="239"/>
                </a:lnTo>
                <a:lnTo>
                  <a:pt x="484" y="228"/>
                </a:lnTo>
                <a:lnTo>
                  <a:pt x="484" y="220"/>
                </a:lnTo>
                <a:close/>
                <a:moveTo>
                  <a:pt x="179" y="938"/>
                </a:moveTo>
                <a:lnTo>
                  <a:pt x="169" y="934"/>
                </a:lnTo>
                <a:lnTo>
                  <a:pt x="160" y="928"/>
                </a:lnTo>
                <a:lnTo>
                  <a:pt x="154" y="923"/>
                </a:lnTo>
                <a:lnTo>
                  <a:pt x="148" y="917"/>
                </a:lnTo>
                <a:lnTo>
                  <a:pt x="144" y="909"/>
                </a:lnTo>
                <a:lnTo>
                  <a:pt x="142" y="903"/>
                </a:lnTo>
                <a:lnTo>
                  <a:pt x="141" y="898"/>
                </a:lnTo>
                <a:lnTo>
                  <a:pt x="141" y="894"/>
                </a:lnTo>
                <a:lnTo>
                  <a:pt x="141" y="892"/>
                </a:lnTo>
                <a:lnTo>
                  <a:pt x="142" y="890"/>
                </a:lnTo>
                <a:lnTo>
                  <a:pt x="144" y="888"/>
                </a:lnTo>
                <a:lnTo>
                  <a:pt x="146" y="886"/>
                </a:lnTo>
                <a:lnTo>
                  <a:pt x="150" y="884"/>
                </a:lnTo>
                <a:lnTo>
                  <a:pt x="154" y="882"/>
                </a:lnTo>
                <a:lnTo>
                  <a:pt x="158" y="880"/>
                </a:lnTo>
                <a:lnTo>
                  <a:pt x="164" y="878"/>
                </a:lnTo>
                <a:lnTo>
                  <a:pt x="169" y="877"/>
                </a:lnTo>
                <a:lnTo>
                  <a:pt x="175" y="875"/>
                </a:lnTo>
                <a:lnTo>
                  <a:pt x="181" y="873"/>
                </a:lnTo>
                <a:lnTo>
                  <a:pt x="189" y="869"/>
                </a:lnTo>
                <a:lnTo>
                  <a:pt x="196" y="867"/>
                </a:lnTo>
                <a:lnTo>
                  <a:pt x="206" y="863"/>
                </a:lnTo>
                <a:lnTo>
                  <a:pt x="215" y="861"/>
                </a:lnTo>
                <a:lnTo>
                  <a:pt x="225" y="857"/>
                </a:lnTo>
                <a:lnTo>
                  <a:pt x="235" y="854"/>
                </a:lnTo>
                <a:lnTo>
                  <a:pt x="246" y="850"/>
                </a:lnTo>
                <a:lnTo>
                  <a:pt x="258" y="846"/>
                </a:lnTo>
                <a:lnTo>
                  <a:pt x="269" y="842"/>
                </a:lnTo>
                <a:lnTo>
                  <a:pt x="283" y="838"/>
                </a:lnTo>
                <a:lnTo>
                  <a:pt x="296" y="834"/>
                </a:lnTo>
                <a:lnTo>
                  <a:pt x="309" y="830"/>
                </a:lnTo>
                <a:lnTo>
                  <a:pt x="325" y="827"/>
                </a:lnTo>
                <a:lnTo>
                  <a:pt x="340" y="823"/>
                </a:lnTo>
                <a:lnTo>
                  <a:pt x="355" y="817"/>
                </a:lnTo>
                <a:lnTo>
                  <a:pt x="373" y="813"/>
                </a:lnTo>
                <a:lnTo>
                  <a:pt x="390" y="807"/>
                </a:lnTo>
                <a:lnTo>
                  <a:pt x="407" y="804"/>
                </a:lnTo>
                <a:lnTo>
                  <a:pt x="426" y="798"/>
                </a:lnTo>
                <a:lnTo>
                  <a:pt x="446" y="792"/>
                </a:lnTo>
                <a:lnTo>
                  <a:pt x="463" y="786"/>
                </a:lnTo>
                <a:lnTo>
                  <a:pt x="480" y="782"/>
                </a:lnTo>
                <a:lnTo>
                  <a:pt x="497" y="777"/>
                </a:lnTo>
                <a:lnTo>
                  <a:pt x="515" y="773"/>
                </a:lnTo>
                <a:lnTo>
                  <a:pt x="530" y="767"/>
                </a:lnTo>
                <a:lnTo>
                  <a:pt x="545" y="763"/>
                </a:lnTo>
                <a:lnTo>
                  <a:pt x="561" y="758"/>
                </a:lnTo>
                <a:lnTo>
                  <a:pt x="576" y="754"/>
                </a:lnTo>
                <a:lnTo>
                  <a:pt x="590" y="750"/>
                </a:lnTo>
                <a:lnTo>
                  <a:pt x="603" y="746"/>
                </a:lnTo>
                <a:lnTo>
                  <a:pt x="616" y="742"/>
                </a:lnTo>
                <a:lnTo>
                  <a:pt x="628" y="738"/>
                </a:lnTo>
                <a:lnTo>
                  <a:pt x="639" y="735"/>
                </a:lnTo>
                <a:lnTo>
                  <a:pt x="651" y="733"/>
                </a:lnTo>
                <a:lnTo>
                  <a:pt x="663" y="729"/>
                </a:lnTo>
                <a:lnTo>
                  <a:pt x="672" y="727"/>
                </a:lnTo>
                <a:lnTo>
                  <a:pt x="682" y="723"/>
                </a:lnTo>
                <a:lnTo>
                  <a:pt x="691" y="721"/>
                </a:lnTo>
                <a:lnTo>
                  <a:pt x="699" y="719"/>
                </a:lnTo>
                <a:lnTo>
                  <a:pt x="707" y="715"/>
                </a:lnTo>
                <a:lnTo>
                  <a:pt x="714" y="713"/>
                </a:lnTo>
                <a:lnTo>
                  <a:pt x="722" y="711"/>
                </a:lnTo>
                <a:lnTo>
                  <a:pt x="728" y="710"/>
                </a:lnTo>
                <a:lnTo>
                  <a:pt x="734" y="710"/>
                </a:lnTo>
                <a:lnTo>
                  <a:pt x="739" y="708"/>
                </a:lnTo>
                <a:lnTo>
                  <a:pt x="743" y="706"/>
                </a:lnTo>
                <a:lnTo>
                  <a:pt x="747" y="706"/>
                </a:lnTo>
                <a:lnTo>
                  <a:pt x="751" y="704"/>
                </a:lnTo>
                <a:lnTo>
                  <a:pt x="755" y="704"/>
                </a:lnTo>
                <a:lnTo>
                  <a:pt x="757" y="704"/>
                </a:lnTo>
                <a:lnTo>
                  <a:pt x="758" y="702"/>
                </a:lnTo>
                <a:lnTo>
                  <a:pt x="760" y="702"/>
                </a:lnTo>
                <a:lnTo>
                  <a:pt x="762" y="704"/>
                </a:lnTo>
                <a:lnTo>
                  <a:pt x="768" y="704"/>
                </a:lnTo>
                <a:lnTo>
                  <a:pt x="772" y="708"/>
                </a:lnTo>
                <a:lnTo>
                  <a:pt x="778" y="710"/>
                </a:lnTo>
                <a:lnTo>
                  <a:pt x="783" y="713"/>
                </a:lnTo>
                <a:lnTo>
                  <a:pt x="789" y="717"/>
                </a:lnTo>
                <a:lnTo>
                  <a:pt x="799" y="721"/>
                </a:lnTo>
                <a:lnTo>
                  <a:pt x="808" y="725"/>
                </a:lnTo>
                <a:lnTo>
                  <a:pt x="818" y="733"/>
                </a:lnTo>
                <a:lnTo>
                  <a:pt x="828" y="742"/>
                </a:lnTo>
                <a:lnTo>
                  <a:pt x="833" y="750"/>
                </a:lnTo>
                <a:lnTo>
                  <a:pt x="839" y="758"/>
                </a:lnTo>
                <a:lnTo>
                  <a:pt x="843" y="765"/>
                </a:lnTo>
                <a:lnTo>
                  <a:pt x="847" y="771"/>
                </a:lnTo>
                <a:lnTo>
                  <a:pt x="849" y="777"/>
                </a:lnTo>
                <a:lnTo>
                  <a:pt x="849" y="781"/>
                </a:lnTo>
                <a:lnTo>
                  <a:pt x="849" y="782"/>
                </a:lnTo>
                <a:lnTo>
                  <a:pt x="847" y="786"/>
                </a:lnTo>
                <a:lnTo>
                  <a:pt x="847" y="788"/>
                </a:lnTo>
                <a:lnTo>
                  <a:pt x="845" y="790"/>
                </a:lnTo>
                <a:lnTo>
                  <a:pt x="841" y="792"/>
                </a:lnTo>
                <a:lnTo>
                  <a:pt x="839" y="794"/>
                </a:lnTo>
                <a:lnTo>
                  <a:pt x="835" y="798"/>
                </a:lnTo>
                <a:lnTo>
                  <a:pt x="831" y="800"/>
                </a:lnTo>
                <a:lnTo>
                  <a:pt x="828" y="802"/>
                </a:lnTo>
                <a:lnTo>
                  <a:pt x="822" y="806"/>
                </a:lnTo>
                <a:lnTo>
                  <a:pt x="816" y="807"/>
                </a:lnTo>
                <a:lnTo>
                  <a:pt x="810" y="811"/>
                </a:lnTo>
                <a:lnTo>
                  <a:pt x="805" y="813"/>
                </a:lnTo>
                <a:lnTo>
                  <a:pt x="797" y="817"/>
                </a:lnTo>
                <a:lnTo>
                  <a:pt x="789" y="819"/>
                </a:lnTo>
                <a:lnTo>
                  <a:pt x="780" y="823"/>
                </a:lnTo>
                <a:lnTo>
                  <a:pt x="772" y="827"/>
                </a:lnTo>
                <a:lnTo>
                  <a:pt x="762" y="829"/>
                </a:lnTo>
                <a:lnTo>
                  <a:pt x="753" y="832"/>
                </a:lnTo>
                <a:lnTo>
                  <a:pt x="741" y="836"/>
                </a:lnTo>
                <a:lnTo>
                  <a:pt x="732" y="840"/>
                </a:lnTo>
                <a:lnTo>
                  <a:pt x="720" y="844"/>
                </a:lnTo>
                <a:lnTo>
                  <a:pt x="707" y="846"/>
                </a:lnTo>
                <a:lnTo>
                  <a:pt x="695" y="850"/>
                </a:lnTo>
                <a:lnTo>
                  <a:pt x="682" y="854"/>
                </a:lnTo>
                <a:lnTo>
                  <a:pt x="668" y="857"/>
                </a:lnTo>
                <a:lnTo>
                  <a:pt x="653" y="861"/>
                </a:lnTo>
                <a:lnTo>
                  <a:pt x="638" y="865"/>
                </a:lnTo>
                <a:lnTo>
                  <a:pt x="622" y="869"/>
                </a:lnTo>
                <a:lnTo>
                  <a:pt x="607" y="875"/>
                </a:lnTo>
                <a:lnTo>
                  <a:pt x="590" y="878"/>
                </a:lnTo>
                <a:lnTo>
                  <a:pt x="572" y="882"/>
                </a:lnTo>
                <a:lnTo>
                  <a:pt x="555" y="888"/>
                </a:lnTo>
                <a:lnTo>
                  <a:pt x="538" y="892"/>
                </a:lnTo>
                <a:lnTo>
                  <a:pt x="522" y="898"/>
                </a:lnTo>
                <a:lnTo>
                  <a:pt x="507" y="901"/>
                </a:lnTo>
                <a:lnTo>
                  <a:pt x="492" y="907"/>
                </a:lnTo>
                <a:lnTo>
                  <a:pt x="476" y="911"/>
                </a:lnTo>
                <a:lnTo>
                  <a:pt x="463" y="915"/>
                </a:lnTo>
                <a:lnTo>
                  <a:pt x="449" y="919"/>
                </a:lnTo>
                <a:lnTo>
                  <a:pt x="436" y="923"/>
                </a:lnTo>
                <a:lnTo>
                  <a:pt x="423" y="926"/>
                </a:lnTo>
                <a:lnTo>
                  <a:pt x="411" y="928"/>
                </a:lnTo>
                <a:lnTo>
                  <a:pt x="400" y="932"/>
                </a:lnTo>
                <a:lnTo>
                  <a:pt x="377" y="938"/>
                </a:lnTo>
                <a:lnTo>
                  <a:pt x="355" y="944"/>
                </a:lnTo>
                <a:lnTo>
                  <a:pt x="338" y="948"/>
                </a:lnTo>
                <a:lnTo>
                  <a:pt x="321" y="951"/>
                </a:lnTo>
                <a:lnTo>
                  <a:pt x="306" y="955"/>
                </a:lnTo>
                <a:lnTo>
                  <a:pt x="292" y="957"/>
                </a:lnTo>
                <a:lnTo>
                  <a:pt x="283" y="959"/>
                </a:lnTo>
                <a:lnTo>
                  <a:pt x="271" y="959"/>
                </a:lnTo>
                <a:lnTo>
                  <a:pt x="263" y="961"/>
                </a:lnTo>
                <a:lnTo>
                  <a:pt x="258" y="961"/>
                </a:lnTo>
                <a:lnTo>
                  <a:pt x="246" y="961"/>
                </a:lnTo>
                <a:lnTo>
                  <a:pt x="236" y="959"/>
                </a:lnTo>
                <a:lnTo>
                  <a:pt x="227" y="957"/>
                </a:lnTo>
                <a:lnTo>
                  <a:pt x="219" y="953"/>
                </a:lnTo>
                <a:lnTo>
                  <a:pt x="210" y="951"/>
                </a:lnTo>
                <a:lnTo>
                  <a:pt x="200" y="948"/>
                </a:lnTo>
                <a:lnTo>
                  <a:pt x="190" y="942"/>
                </a:lnTo>
                <a:lnTo>
                  <a:pt x="179" y="938"/>
                </a:lnTo>
                <a:close/>
                <a:moveTo>
                  <a:pt x="908" y="1287"/>
                </a:moveTo>
                <a:lnTo>
                  <a:pt x="902" y="1291"/>
                </a:lnTo>
                <a:lnTo>
                  <a:pt x="899" y="1293"/>
                </a:lnTo>
                <a:lnTo>
                  <a:pt x="895" y="1299"/>
                </a:lnTo>
                <a:lnTo>
                  <a:pt x="889" y="1303"/>
                </a:lnTo>
                <a:lnTo>
                  <a:pt x="883" y="1306"/>
                </a:lnTo>
                <a:lnTo>
                  <a:pt x="876" y="1312"/>
                </a:lnTo>
                <a:lnTo>
                  <a:pt x="868" y="1318"/>
                </a:lnTo>
                <a:lnTo>
                  <a:pt x="860" y="1324"/>
                </a:lnTo>
                <a:lnTo>
                  <a:pt x="853" y="1329"/>
                </a:lnTo>
                <a:lnTo>
                  <a:pt x="845" y="1335"/>
                </a:lnTo>
                <a:lnTo>
                  <a:pt x="835" y="1343"/>
                </a:lnTo>
                <a:lnTo>
                  <a:pt x="826" y="1349"/>
                </a:lnTo>
                <a:lnTo>
                  <a:pt x="816" y="1356"/>
                </a:lnTo>
                <a:lnTo>
                  <a:pt x="805" y="1364"/>
                </a:lnTo>
                <a:lnTo>
                  <a:pt x="795" y="1374"/>
                </a:lnTo>
                <a:lnTo>
                  <a:pt x="781" y="1381"/>
                </a:lnTo>
                <a:lnTo>
                  <a:pt x="770" y="1391"/>
                </a:lnTo>
                <a:lnTo>
                  <a:pt x="758" y="1400"/>
                </a:lnTo>
                <a:lnTo>
                  <a:pt x="745" y="1410"/>
                </a:lnTo>
                <a:lnTo>
                  <a:pt x="732" y="1420"/>
                </a:lnTo>
                <a:lnTo>
                  <a:pt x="703" y="1443"/>
                </a:lnTo>
                <a:lnTo>
                  <a:pt x="672" y="1466"/>
                </a:lnTo>
                <a:lnTo>
                  <a:pt x="641" y="1491"/>
                </a:lnTo>
                <a:lnTo>
                  <a:pt x="607" y="1519"/>
                </a:lnTo>
                <a:lnTo>
                  <a:pt x="570" y="1548"/>
                </a:lnTo>
                <a:lnTo>
                  <a:pt x="553" y="1564"/>
                </a:lnTo>
                <a:lnTo>
                  <a:pt x="534" y="1579"/>
                </a:lnTo>
                <a:lnTo>
                  <a:pt x="515" y="1594"/>
                </a:lnTo>
                <a:lnTo>
                  <a:pt x="496" y="1610"/>
                </a:lnTo>
                <a:lnTo>
                  <a:pt x="478" y="1625"/>
                </a:lnTo>
                <a:lnTo>
                  <a:pt x="461" y="1638"/>
                </a:lnTo>
                <a:lnTo>
                  <a:pt x="444" y="1652"/>
                </a:lnTo>
                <a:lnTo>
                  <a:pt x="426" y="1665"/>
                </a:lnTo>
                <a:lnTo>
                  <a:pt x="411" y="1679"/>
                </a:lnTo>
                <a:lnTo>
                  <a:pt x="396" y="1690"/>
                </a:lnTo>
                <a:lnTo>
                  <a:pt x="380" y="1704"/>
                </a:lnTo>
                <a:lnTo>
                  <a:pt x="367" y="1715"/>
                </a:lnTo>
                <a:lnTo>
                  <a:pt x="352" y="1725"/>
                </a:lnTo>
                <a:lnTo>
                  <a:pt x="338" y="1736"/>
                </a:lnTo>
                <a:lnTo>
                  <a:pt x="327" y="1746"/>
                </a:lnTo>
                <a:lnTo>
                  <a:pt x="313" y="1755"/>
                </a:lnTo>
                <a:lnTo>
                  <a:pt x="302" y="1763"/>
                </a:lnTo>
                <a:lnTo>
                  <a:pt x="290" y="1773"/>
                </a:lnTo>
                <a:lnTo>
                  <a:pt x="279" y="1780"/>
                </a:lnTo>
                <a:lnTo>
                  <a:pt x="269" y="1786"/>
                </a:lnTo>
                <a:lnTo>
                  <a:pt x="260" y="1794"/>
                </a:lnTo>
                <a:lnTo>
                  <a:pt x="250" y="1800"/>
                </a:lnTo>
                <a:lnTo>
                  <a:pt x="240" y="1805"/>
                </a:lnTo>
                <a:lnTo>
                  <a:pt x="233" y="1811"/>
                </a:lnTo>
                <a:lnTo>
                  <a:pt x="225" y="1817"/>
                </a:lnTo>
                <a:lnTo>
                  <a:pt x="217" y="1821"/>
                </a:lnTo>
                <a:lnTo>
                  <a:pt x="212" y="1825"/>
                </a:lnTo>
                <a:lnTo>
                  <a:pt x="206" y="1828"/>
                </a:lnTo>
                <a:lnTo>
                  <a:pt x="200" y="1830"/>
                </a:lnTo>
                <a:lnTo>
                  <a:pt x="194" y="1832"/>
                </a:lnTo>
                <a:lnTo>
                  <a:pt x="190" y="1834"/>
                </a:lnTo>
                <a:lnTo>
                  <a:pt x="185" y="1836"/>
                </a:lnTo>
                <a:lnTo>
                  <a:pt x="183" y="1836"/>
                </a:lnTo>
                <a:lnTo>
                  <a:pt x="179" y="1838"/>
                </a:lnTo>
                <a:lnTo>
                  <a:pt x="173" y="1838"/>
                </a:lnTo>
                <a:lnTo>
                  <a:pt x="167" y="1840"/>
                </a:lnTo>
                <a:lnTo>
                  <a:pt x="162" y="1840"/>
                </a:lnTo>
                <a:lnTo>
                  <a:pt x="156" y="1840"/>
                </a:lnTo>
                <a:lnTo>
                  <a:pt x="150" y="1838"/>
                </a:lnTo>
                <a:lnTo>
                  <a:pt x="144" y="1836"/>
                </a:lnTo>
                <a:lnTo>
                  <a:pt x="139" y="1832"/>
                </a:lnTo>
                <a:lnTo>
                  <a:pt x="133" y="1828"/>
                </a:lnTo>
                <a:lnTo>
                  <a:pt x="125" y="1825"/>
                </a:lnTo>
                <a:lnTo>
                  <a:pt x="119" y="1819"/>
                </a:lnTo>
                <a:lnTo>
                  <a:pt x="112" y="1813"/>
                </a:lnTo>
                <a:lnTo>
                  <a:pt x="104" y="1805"/>
                </a:lnTo>
                <a:lnTo>
                  <a:pt x="96" y="1798"/>
                </a:lnTo>
                <a:lnTo>
                  <a:pt x="89" y="1790"/>
                </a:lnTo>
                <a:lnTo>
                  <a:pt x="79" y="1780"/>
                </a:lnTo>
                <a:lnTo>
                  <a:pt x="71" y="1769"/>
                </a:lnTo>
                <a:lnTo>
                  <a:pt x="62" y="1761"/>
                </a:lnTo>
                <a:lnTo>
                  <a:pt x="54" y="1754"/>
                </a:lnTo>
                <a:lnTo>
                  <a:pt x="45" y="1746"/>
                </a:lnTo>
                <a:lnTo>
                  <a:pt x="39" y="1738"/>
                </a:lnTo>
                <a:lnTo>
                  <a:pt x="31" y="1731"/>
                </a:lnTo>
                <a:lnTo>
                  <a:pt x="25" y="1723"/>
                </a:lnTo>
                <a:lnTo>
                  <a:pt x="20" y="1715"/>
                </a:lnTo>
                <a:lnTo>
                  <a:pt x="14" y="1709"/>
                </a:lnTo>
                <a:lnTo>
                  <a:pt x="10" y="1702"/>
                </a:lnTo>
                <a:lnTo>
                  <a:pt x="6" y="1696"/>
                </a:lnTo>
                <a:lnTo>
                  <a:pt x="4" y="1690"/>
                </a:lnTo>
                <a:lnTo>
                  <a:pt x="2" y="1683"/>
                </a:lnTo>
                <a:lnTo>
                  <a:pt x="0" y="1677"/>
                </a:lnTo>
                <a:lnTo>
                  <a:pt x="0" y="1671"/>
                </a:lnTo>
                <a:lnTo>
                  <a:pt x="0" y="1663"/>
                </a:lnTo>
                <a:lnTo>
                  <a:pt x="2" y="1658"/>
                </a:lnTo>
                <a:lnTo>
                  <a:pt x="2" y="1654"/>
                </a:lnTo>
                <a:lnTo>
                  <a:pt x="2" y="1650"/>
                </a:lnTo>
                <a:lnTo>
                  <a:pt x="4" y="1646"/>
                </a:lnTo>
                <a:lnTo>
                  <a:pt x="6" y="1642"/>
                </a:lnTo>
                <a:lnTo>
                  <a:pt x="10" y="1640"/>
                </a:lnTo>
                <a:lnTo>
                  <a:pt x="14" y="1636"/>
                </a:lnTo>
                <a:lnTo>
                  <a:pt x="18" y="1635"/>
                </a:lnTo>
                <a:lnTo>
                  <a:pt x="23" y="1633"/>
                </a:lnTo>
                <a:lnTo>
                  <a:pt x="27" y="1631"/>
                </a:lnTo>
                <a:lnTo>
                  <a:pt x="33" y="1629"/>
                </a:lnTo>
                <a:lnTo>
                  <a:pt x="41" y="1627"/>
                </a:lnTo>
                <a:lnTo>
                  <a:pt x="48" y="1625"/>
                </a:lnTo>
                <a:lnTo>
                  <a:pt x="54" y="1625"/>
                </a:lnTo>
                <a:lnTo>
                  <a:pt x="64" y="1625"/>
                </a:lnTo>
                <a:lnTo>
                  <a:pt x="71" y="1623"/>
                </a:lnTo>
                <a:lnTo>
                  <a:pt x="81" y="1623"/>
                </a:lnTo>
                <a:lnTo>
                  <a:pt x="98" y="1623"/>
                </a:lnTo>
                <a:lnTo>
                  <a:pt x="114" y="1623"/>
                </a:lnTo>
                <a:lnTo>
                  <a:pt x="129" y="1623"/>
                </a:lnTo>
                <a:lnTo>
                  <a:pt x="141" y="1623"/>
                </a:lnTo>
                <a:lnTo>
                  <a:pt x="152" y="1621"/>
                </a:lnTo>
                <a:lnTo>
                  <a:pt x="162" y="1619"/>
                </a:lnTo>
                <a:lnTo>
                  <a:pt x="171" y="1615"/>
                </a:lnTo>
                <a:lnTo>
                  <a:pt x="179" y="1613"/>
                </a:lnTo>
                <a:lnTo>
                  <a:pt x="181" y="1612"/>
                </a:lnTo>
                <a:lnTo>
                  <a:pt x="185" y="1612"/>
                </a:lnTo>
                <a:lnTo>
                  <a:pt x="187" y="1612"/>
                </a:lnTo>
                <a:lnTo>
                  <a:pt x="192" y="1610"/>
                </a:lnTo>
                <a:lnTo>
                  <a:pt x="196" y="1608"/>
                </a:lnTo>
                <a:lnTo>
                  <a:pt x="202" y="1606"/>
                </a:lnTo>
                <a:lnTo>
                  <a:pt x="208" y="1604"/>
                </a:lnTo>
                <a:lnTo>
                  <a:pt x="213" y="1600"/>
                </a:lnTo>
                <a:lnTo>
                  <a:pt x="221" y="1596"/>
                </a:lnTo>
                <a:lnTo>
                  <a:pt x="229" y="1592"/>
                </a:lnTo>
                <a:lnTo>
                  <a:pt x="238" y="1589"/>
                </a:lnTo>
                <a:lnTo>
                  <a:pt x="246" y="1585"/>
                </a:lnTo>
                <a:lnTo>
                  <a:pt x="256" y="1579"/>
                </a:lnTo>
                <a:lnTo>
                  <a:pt x="267" y="1575"/>
                </a:lnTo>
                <a:lnTo>
                  <a:pt x="277" y="1569"/>
                </a:lnTo>
                <a:lnTo>
                  <a:pt x="288" y="1564"/>
                </a:lnTo>
                <a:lnTo>
                  <a:pt x="302" y="1556"/>
                </a:lnTo>
                <a:lnTo>
                  <a:pt x="313" y="1550"/>
                </a:lnTo>
                <a:lnTo>
                  <a:pt x="327" y="1542"/>
                </a:lnTo>
                <a:lnTo>
                  <a:pt x="340" y="1535"/>
                </a:lnTo>
                <a:lnTo>
                  <a:pt x="355" y="1527"/>
                </a:lnTo>
                <a:lnTo>
                  <a:pt x="371" y="1518"/>
                </a:lnTo>
                <a:lnTo>
                  <a:pt x="386" y="1510"/>
                </a:lnTo>
                <a:lnTo>
                  <a:pt x="402" y="1500"/>
                </a:lnTo>
                <a:lnTo>
                  <a:pt x="419" y="1491"/>
                </a:lnTo>
                <a:lnTo>
                  <a:pt x="436" y="1479"/>
                </a:lnTo>
                <a:lnTo>
                  <a:pt x="455" y="1470"/>
                </a:lnTo>
                <a:lnTo>
                  <a:pt x="473" y="1458"/>
                </a:lnTo>
                <a:lnTo>
                  <a:pt x="492" y="1446"/>
                </a:lnTo>
                <a:lnTo>
                  <a:pt x="511" y="1435"/>
                </a:lnTo>
                <a:lnTo>
                  <a:pt x="532" y="1423"/>
                </a:lnTo>
                <a:lnTo>
                  <a:pt x="553" y="1410"/>
                </a:lnTo>
                <a:lnTo>
                  <a:pt x="574" y="1399"/>
                </a:lnTo>
                <a:lnTo>
                  <a:pt x="593" y="1385"/>
                </a:lnTo>
                <a:lnTo>
                  <a:pt x="615" y="1374"/>
                </a:lnTo>
                <a:lnTo>
                  <a:pt x="634" y="1362"/>
                </a:lnTo>
                <a:lnTo>
                  <a:pt x="651" y="1351"/>
                </a:lnTo>
                <a:lnTo>
                  <a:pt x="670" y="1341"/>
                </a:lnTo>
                <a:lnTo>
                  <a:pt x="687" y="1331"/>
                </a:lnTo>
                <a:lnTo>
                  <a:pt x="703" y="1322"/>
                </a:lnTo>
                <a:lnTo>
                  <a:pt x="720" y="1312"/>
                </a:lnTo>
                <a:lnTo>
                  <a:pt x="735" y="1303"/>
                </a:lnTo>
                <a:lnTo>
                  <a:pt x="751" y="1295"/>
                </a:lnTo>
                <a:lnTo>
                  <a:pt x="766" y="1287"/>
                </a:lnTo>
                <a:lnTo>
                  <a:pt x="780" y="1280"/>
                </a:lnTo>
                <a:lnTo>
                  <a:pt x="793" y="1272"/>
                </a:lnTo>
                <a:lnTo>
                  <a:pt x="806" y="1266"/>
                </a:lnTo>
                <a:lnTo>
                  <a:pt x="818" y="1258"/>
                </a:lnTo>
                <a:lnTo>
                  <a:pt x="829" y="1253"/>
                </a:lnTo>
                <a:lnTo>
                  <a:pt x="841" y="1249"/>
                </a:lnTo>
                <a:lnTo>
                  <a:pt x="853" y="1243"/>
                </a:lnTo>
                <a:lnTo>
                  <a:pt x="862" y="1239"/>
                </a:lnTo>
                <a:lnTo>
                  <a:pt x="872" y="1235"/>
                </a:lnTo>
                <a:lnTo>
                  <a:pt x="879" y="1232"/>
                </a:lnTo>
                <a:lnTo>
                  <a:pt x="889" y="1228"/>
                </a:lnTo>
                <a:lnTo>
                  <a:pt x="897" y="1226"/>
                </a:lnTo>
                <a:lnTo>
                  <a:pt x="902" y="1222"/>
                </a:lnTo>
                <a:lnTo>
                  <a:pt x="910" y="1220"/>
                </a:lnTo>
                <a:lnTo>
                  <a:pt x="916" y="1220"/>
                </a:lnTo>
                <a:lnTo>
                  <a:pt x="922" y="1218"/>
                </a:lnTo>
                <a:lnTo>
                  <a:pt x="925" y="1218"/>
                </a:lnTo>
                <a:lnTo>
                  <a:pt x="929" y="1218"/>
                </a:lnTo>
                <a:lnTo>
                  <a:pt x="933" y="1218"/>
                </a:lnTo>
                <a:lnTo>
                  <a:pt x="937" y="1220"/>
                </a:lnTo>
                <a:lnTo>
                  <a:pt x="943" y="1222"/>
                </a:lnTo>
                <a:lnTo>
                  <a:pt x="947" y="1224"/>
                </a:lnTo>
                <a:lnTo>
                  <a:pt x="948" y="1228"/>
                </a:lnTo>
                <a:lnTo>
                  <a:pt x="952" y="1230"/>
                </a:lnTo>
                <a:lnTo>
                  <a:pt x="952" y="1233"/>
                </a:lnTo>
                <a:lnTo>
                  <a:pt x="954" y="1237"/>
                </a:lnTo>
                <a:lnTo>
                  <a:pt x="952" y="1241"/>
                </a:lnTo>
                <a:lnTo>
                  <a:pt x="952" y="1245"/>
                </a:lnTo>
                <a:lnTo>
                  <a:pt x="948" y="1249"/>
                </a:lnTo>
                <a:lnTo>
                  <a:pt x="947" y="1253"/>
                </a:lnTo>
                <a:lnTo>
                  <a:pt x="941" y="1258"/>
                </a:lnTo>
                <a:lnTo>
                  <a:pt x="937" y="1264"/>
                </a:lnTo>
                <a:lnTo>
                  <a:pt x="931" y="1268"/>
                </a:lnTo>
                <a:lnTo>
                  <a:pt x="924" y="1274"/>
                </a:lnTo>
                <a:lnTo>
                  <a:pt x="916" y="1280"/>
                </a:lnTo>
                <a:lnTo>
                  <a:pt x="908" y="1287"/>
                </a:lnTo>
                <a:close/>
                <a:moveTo>
                  <a:pt x="897" y="792"/>
                </a:moveTo>
                <a:lnTo>
                  <a:pt x="899" y="790"/>
                </a:lnTo>
                <a:lnTo>
                  <a:pt x="900" y="788"/>
                </a:lnTo>
                <a:lnTo>
                  <a:pt x="902" y="784"/>
                </a:lnTo>
                <a:lnTo>
                  <a:pt x="906" y="782"/>
                </a:lnTo>
                <a:lnTo>
                  <a:pt x="912" y="779"/>
                </a:lnTo>
                <a:lnTo>
                  <a:pt x="918" y="777"/>
                </a:lnTo>
                <a:lnTo>
                  <a:pt x="925" y="773"/>
                </a:lnTo>
                <a:lnTo>
                  <a:pt x="935" y="771"/>
                </a:lnTo>
                <a:lnTo>
                  <a:pt x="945" y="767"/>
                </a:lnTo>
                <a:lnTo>
                  <a:pt x="954" y="763"/>
                </a:lnTo>
                <a:lnTo>
                  <a:pt x="968" y="761"/>
                </a:lnTo>
                <a:lnTo>
                  <a:pt x="981" y="758"/>
                </a:lnTo>
                <a:lnTo>
                  <a:pt x="995" y="756"/>
                </a:lnTo>
                <a:lnTo>
                  <a:pt x="1010" y="752"/>
                </a:lnTo>
                <a:lnTo>
                  <a:pt x="1027" y="750"/>
                </a:lnTo>
                <a:lnTo>
                  <a:pt x="1044" y="748"/>
                </a:lnTo>
                <a:lnTo>
                  <a:pt x="1062" y="746"/>
                </a:lnTo>
                <a:lnTo>
                  <a:pt x="1079" y="742"/>
                </a:lnTo>
                <a:lnTo>
                  <a:pt x="1098" y="740"/>
                </a:lnTo>
                <a:lnTo>
                  <a:pt x="1117" y="736"/>
                </a:lnTo>
                <a:lnTo>
                  <a:pt x="1137" y="735"/>
                </a:lnTo>
                <a:lnTo>
                  <a:pt x="1158" y="731"/>
                </a:lnTo>
                <a:lnTo>
                  <a:pt x="1179" y="727"/>
                </a:lnTo>
                <a:lnTo>
                  <a:pt x="1200" y="723"/>
                </a:lnTo>
                <a:lnTo>
                  <a:pt x="1223" y="717"/>
                </a:lnTo>
                <a:lnTo>
                  <a:pt x="1246" y="713"/>
                </a:lnTo>
                <a:lnTo>
                  <a:pt x="1269" y="710"/>
                </a:lnTo>
                <a:lnTo>
                  <a:pt x="1294" y="704"/>
                </a:lnTo>
                <a:lnTo>
                  <a:pt x="1319" y="698"/>
                </a:lnTo>
                <a:lnTo>
                  <a:pt x="1346" y="692"/>
                </a:lnTo>
                <a:lnTo>
                  <a:pt x="1373" y="687"/>
                </a:lnTo>
                <a:lnTo>
                  <a:pt x="1399" y="681"/>
                </a:lnTo>
                <a:lnTo>
                  <a:pt x="1503" y="654"/>
                </a:lnTo>
                <a:lnTo>
                  <a:pt x="1607" y="629"/>
                </a:lnTo>
                <a:lnTo>
                  <a:pt x="1660" y="617"/>
                </a:lnTo>
                <a:lnTo>
                  <a:pt x="1714" y="604"/>
                </a:lnTo>
                <a:lnTo>
                  <a:pt x="1768" y="593"/>
                </a:lnTo>
                <a:lnTo>
                  <a:pt x="1822" y="579"/>
                </a:lnTo>
                <a:lnTo>
                  <a:pt x="1847" y="573"/>
                </a:lnTo>
                <a:lnTo>
                  <a:pt x="1872" y="568"/>
                </a:lnTo>
                <a:lnTo>
                  <a:pt x="1895" y="562"/>
                </a:lnTo>
                <a:lnTo>
                  <a:pt x="1916" y="556"/>
                </a:lnTo>
                <a:lnTo>
                  <a:pt x="1935" y="550"/>
                </a:lnTo>
                <a:lnTo>
                  <a:pt x="1952" y="546"/>
                </a:lnTo>
                <a:lnTo>
                  <a:pt x="1969" y="543"/>
                </a:lnTo>
                <a:lnTo>
                  <a:pt x="1987" y="539"/>
                </a:lnTo>
                <a:lnTo>
                  <a:pt x="2000" y="535"/>
                </a:lnTo>
                <a:lnTo>
                  <a:pt x="2014" y="531"/>
                </a:lnTo>
                <a:lnTo>
                  <a:pt x="2027" y="529"/>
                </a:lnTo>
                <a:lnTo>
                  <a:pt x="2037" y="527"/>
                </a:lnTo>
                <a:lnTo>
                  <a:pt x="2046" y="525"/>
                </a:lnTo>
                <a:lnTo>
                  <a:pt x="2056" y="523"/>
                </a:lnTo>
                <a:lnTo>
                  <a:pt x="2062" y="523"/>
                </a:lnTo>
                <a:lnTo>
                  <a:pt x="2069" y="523"/>
                </a:lnTo>
                <a:lnTo>
                  <a:pt x="2079" y="523"/>
                </a:lnTo>
                <a:lnTo>
                  <a:pt x="2090" y="525"/>
                </a:lnTo>
                <a:lnTo>
                  <a:pt x="2102" y="527"/>
                </a:lnTo>
                <a:lnTo>
                  <a:pt x="2113" y="529"/>
                </a:lnTo>
                <a:lnTo>
                  <a:pt x="2127" y="533"/>
                </a:lnTo>
                <a:lnTo>
                  <a:pt x="2138" y="537"/>
                </a:lnTo>
                <a:lnTo>
                  <a:pt x="2152" y="541"/>
                </a:lnTo>
                <a:lnTo>
                  <a:pt x="2167" y="545"/>
                </a:lnTo>
                <a:lnTo>
                  <a:pt x="2179" y="550"/>
                </a:lnTo>
                <a:lnTo>
                  <a:pt x="2188" y="556"/>
                </a:lnTo>
                <a:lnTo>
                  <a:pt x="2200" y="562"/>
                </a:lnTo>
                <a:lnTo>
                  <a:pt x="2211" y="571"/>
                </a:lnTo>
                <a:lnTo>
                  <a:pt x="2223" y="579"/>
                </a:lnTo>
                <a:lnTo>
                  <a:pt x="2234" y="589"/>
                </a:lnTo>
                <a:lnTo>
                  <a:pt x="2244" y="600"/>
                </a:lnTo>
                <a:lnTo>
                  <a:pt x="2255" y="614"/>
                </a:lnTo>
                <a:lnTo>
                  <a:pt x="2263" y="625"/>
                </a:lnTo>
                <a:lnTo>
                  <a:pt x="2269" y="637"/>
                </a:lnTo>
                <a:lnTo>
                  <a:pt x="2273" y="646"/>
                </a:lnTo>
                <a:lnTo>
                  <a:pt x="2276" y="654"/>
                </a:lnTo>
                <a:lnTo>
                  <a:pt x="2278" y="664"/>
                </a:lnTo>
                <a:lnTo>
                  <a:pt x="2278" y="669"/>
                </a:lnTo>
                <a:lnTo>
                  <a:pt x="2278" y="675"/>
                </a:lnTo>
                <a:lnTo>
                  <a:pt x="2275" y="681"/>
                </a:lnTo>
                <a:lnTo>
                  <a:pt x="2273" y="683"/>
                </a:lnTo>
                <a:lnTo>
                  <a:pt x="2269" y="685"/>
                </a:lnTo>
                <a:lnTo>
                  <a:pt x="2265" y="687"/>
                </a:lnTo>
                <a:lnTo>
                  <a:pt x="2259" y="688"/>
                </a:lnTo>
                <a:lnTo>
                  <a:pt x="2252" y="690"/>
                </a:lnTo>
                <a:lnTo>
                  <a:pt x="2242" y="692"/>
                </a:lnTo>
                <a:lnTo>
                  <a:pt x="2232" y="694"/>
                </a:lnTo>
                <a:lnTo>
                  <a:pt x="2221" y="696"/>
                </a:lnTo>
                <a:lnTo>
                  <a:pt x="2209" y="698"/>
                </a:lnTo>
                <a:lnTo>
                  <a:pt x="2194" y="698"/>
                </a:lnTo>
                <a:lnTo>
                  <a:pt x="2179" y="700"/>
                </a:lnTo>
                <a:lnTo>
                  <a:pt x="2161" y="700"/>
                </a:lnTo>
                <a:lnTo>
                  <a:pt x="2144" y="702"/>
                </a:lnTo>
                <a:lnTo>
                  <a:pt x="2123" y="702"/>
                </a:lnTo>
                <a:lnTo>
                  <a:pt x="2102" y="702"/>
                </a:lnTo>
                <a:lnTo>
                  <a:pt x="2079" y="702"/>
                </a:lnTo>
                <a:lnTo>
                  <a:pt x="2029" y="704"/>
                </a:lnTo>
                <a:lnTo>
                  <a:pt x="1979" y="706"/>
                </a:lnTo>
                <a:lnTo>
                  <a:pt x="1925" y="708"/>
                </a:lnTo>
                <a:lnTo>
                  <a:pt x="1872" y="711"/>
                </a:lnTo>
                <a:lnTo>
                  <a:pt x="1816" y="719"/>
                </a:lnTo>
                <a:lnTo>
                  <a:pt x="1756" y="727"/>
                </a:lnTo>
                <a:lnTo>
                  <a:pt x="1728" y="731"/>
                </a:lnTo>
                <a:lnTo>
                  <a:pt x="1697" y="736"/>
                </a:lnTo>
                <a:lnTo>
                  <a:pt x="1666" y="742"/>
                </a:lnTo>
                <a:lnTo>
                  <a:pt x="1635" y="748"/>
                </a:lnTo>
                <a:lnTo>
                  <a:pt x="1603" y="754"/>
                </a:lnTo>
                <a:lnTo>
                  <a:pt x="1570" y="759"/>
                </a:lnTo>
                <a:lnTo>
                  <a:pt x="1540" y="765"/>
                </a:lnTo>
                <a:lnTo>
                  <a:pt x="1509" y="771"/>
                </a:lnTo>
                <a:lnTo>
                  <a:pt x="1478" y="777"/>
                </a:lnTo>
                <a:lnTo>
                  <a:pt x="1449" y="782"/>
                </a:lnTo>
                <a:lnTo>
                  <a:pt x="1421" y="786"/>
                </a:lnTo>
                <a:lnTo>
                  <a:pt x="1394" y="792"/>
                </a:lnTo>
                <a:lnTo>
                  <a:pt x="1367" y="798"/>
                </a:lnTo>
                <a:lnTo>
                  <a:pt x="1340" y="804"/>
                </a:lnTo>
                <a:lnTo>
                  <a:pt x="1315" y="807"/>
                </a:lnTo>
                <a:lnTo>
                  <a:pt x="1290" y="813"/>
                </a:lnTo>
                <a:lnTo>
                  <a:pt x="1267" y="819"/>
                </a:lnTo>
                <a:lnTo>
                  <a:pt x="1244" y="825"/>
                </a:lnTo>
                <a:lnTo>
                  <a:pt x="1223" y="830"/>
                </a:lnTo>
                <a:lnTo>
                  <a:pt x="1202" y="838"/>
                </a:lnTo>
                <a:lnTo>
                  <a:pt x="1181" y="844"/>
                </a:lnTo>
                <a:lnTo>
                  <a:pt x="1161" y="850"/>
                </a:lnTo>
                <a:lnTo>
                  <a:pt x="1142" y="854"/>
                </a:lnTo>
                <a:lnTo>
                  <a:pt x="1123" y="859"/>
                </a:lnTo>
                <a:lnTo>
                  <a:pt x="1106" y="863"/>
                </a:lnTo>
                <a:lnTo>
                  <a:pt x="1090" y="867"/>
                </a:lnTo>
                <a:lnTo>
                  <a:pt x="1077" y="871"/>
                </a:lnTo>
                <a:lnTo>
                  <a:pt x="1064" y="873"/>
                </a:lnTo>
                <a:lnTo>
                  <a:pt x="1052" y="875"/>
                </a:lnTo>
                <a:lnTo>
                  <a:pt x="1041" y="877"/>
                </a:lnTo>
                <a:lnTo>
                  <a:pt x="1031" y="878"/>
                </a:lnTo>
                <a:lnTo>
                  <a:pt x="1023" y="880"/>
                </a:lnTo>
                <a:lnTo>
                  <a:pt x="1018" y="880"/>
                </a:lnTo>
                <a:lnTo>
                  <a:pt x="1012" y="882"/>
                </a:lnTo>
                <a:lnTo>
                  <a:pt x="1008" y="882"/>
                </a:lnTo>
                <a:lnTo>
                  <a:pt x="1006" y="882"/>
                </a:lnTo>
                <a:lnTo>
                  <a:pt x="998" y="882"/>
                </a:lnTo>
                <a:lnTo>
                  <a:pt x="991" y="880"/>
                </a:lnTo>
                <a:lnTo>
                  <a:pt x="983" y="877"/>
                </a:lnTo>
                <a:lnTo>
                  <a:pt x="975" y="873"/>
                </a:lnTo>
                <a:lnTo>
                  <a:pt x="968" y="867"/>
                </a:lnTo>
                <a:lnTo>
                  <a:pt x="962" y="859"/>
                </a:lnTo>
                <a:lnTo>
                  <a:pt x="958" y="854"/>
                </a:lnTo>
                <a:lnTo>
                  <a:pt x="954" y="850"/>
                </a:lnTo>
                <a:lnTo>
                  <a:pt x="950" y="844"/>
                </a:lnTo>
                <a:lnTo>
                  <a:pt x="947" y="838"/>
                </a:lnTo>
                <a:lnTo>
                  <a:pt x="937" y="829"/>
                </a:lnTo>
                <a:lnTo>
                  <a:pt x="927" y="823"/>
                </a:lnTo>
                <a:lnTo>
                  <a:pt x="922" y="817"/>
                </a:lnTo>
                <a:lnTo>
                  <a:pt x="914" y="811"/>
                </a:lnTo>
                <a:lnTo>
                  <a:pt x="910" y="806"/>
                </a:lnTo>
                <a:lnTo>
                  <a:pt x="904" y="802"/>
                </a:lnTo>
                <a:lnTo>
                  <a:pt x="900" y="796"/>
                </a:lnTo>
                <a:lnTo>
                  <a:pt x="897" y="792"/>
                </a:lnTo>
                <a:close/>
                <a:moveTo>
                  <a:pt x="651" y="2095"/>
                </a:moveTo>
                <a:lnTo>
                  <a:pt x="634" y="2105"/>
                </a:lnTo>
                <a:lnTo>
                  <a:pt x="616" y="2114"/>
                </a:lnTo>
                <a:lnTo>
                  <a:pt x="601" y="2122"/>
                </a:lnTo>
                <a:lnTo>
                  <a:pt x="588" y="2130"/>
                </a:lnTo>
                <a:lnTo>
                  <a:pt x="574" y="2135"/>
                </a:lnTo>
                <a:lnTo>
                  <a:pt x="561" y="2141"/>
                </a:lnTo>
                <a:lnTo>
                  <a:pt x="551" y="2145"/>
                </a:lnTo>
                <a:lnTo>
                  <a:pt x="542" y="2147"/>
                </a:lnTo>
                <a:lnTo>
                  <a:pt x="532" y="2151"/>
                </a:lnTo>
                <a:lnTo>
                  <a:pt x="524" y="2151"/>
                </a:lnTo>
                <a:lnTo>
                  <a:pt x="519" y="2151"/>
                </a:lnTo>
                <a:lnTo>
                  <a:pt x="513" y="2151"/>
                </a:lnTo>
                <a:lnTo>
                  <a:pt x="509" y="2149"/>
                </a:lnTo>
                <a:lnTo>
                  <a:pt x="505" y="2147"/>
                </a:lnTo>
                <a:lnTo>
                  <a:pt x="505" y="2145"/>
                </a:lnTo>
                <a:lnTo>
                  <a:pt x="503" y="2141"/>
                </a:lnTo>
                <a:lnTo>
                  <a:pt x="503" y="2137"/>
                </a:lnTo>
                <a:lnTo>
                  <a:pt x="503" y="2135"/>
                </a:lnTo>
                <a:lnTo>
                  <a:pt x="503" y="2132"/>
                </a:lnTo>
                <a:lnTo>
                  <a:pt x="505" y="2128"/>
                </a:lnTo>
                <a:lnTo>
                  <a:pt x="509" y="2124"/>
                </a:lnTo>
                <a:lnTo>
                  <a:pt x="513" y="2118"/>
                </a:lnTo>
                <a:lnTo>
                  <a:pt x="519" y="2112"/>
                </a:lnTo>
                <a:lnTo>
                  <a:pt x="524" y="2107"/>
                </a:lnTo>
                <a:lnTo>
                  <a:pt x="532" y="2101"/>
                </a:lnTo>
                <a:lnTo>
                  <a:pt x="542" y="2093"/>
                </a:lnTo>
                <a:lnTo>
                  <a:pt x="549" y="2086"/>
                </a:lnTo>
                <a:lnTo>
                  <a:pt x="561" y="2078"/>
                </a:lnTo>
                <a:lnTo>
                  <a:pt x="572" y="2068"/>
                </a:lnTo>
                <a:lnTo>
                  <a:pt x="584" y="2059"/>
                </a:lnTo>
                <a:lnTo>
                  <a:pt x="597" y="2049"/>
                </a:lnTo>
                <a:lnTo>
                  <a:pt x="613" y="2039"/>
                </a:lnTo>
                <a:lnTo>
                  <a:pt x="626" y="2028"/>
                </a:lnTo>
                <a:lnTo>
                  <a:pt x="639" y="2016"/>
                </a:lnTo>
                <a:lnTo>
                  <a:pt x="653" y="2003"/>
                </a:lnTo>
                <a:lnTo>
                  <a:pt x="668" y="1992"/>
                </a:lnTo>
                <a:lnTo>
                  <a:pt x="686" y="1976"/>
                </a:lnTo>
                <a:lnTo>
                  <a:pt x="701" y="1963"/>
                </a:lnTo>
                <a:lnTo>
                  <a:pt x="718" y="1945"/>
                </a:lnTo>
                <a:lnTo>
                  <a:pt x="735" y="1930"/>
                </a:lnTo>
                <a:lnTo>
                  <a:pt x="753" y="1913"/>
                </a:lnTo>
                <a:lnTo>
                  <a:pt x="772" y="1896"/>
                </a:lnTo>
                <a:lnTo>
                  <a:pt x="789" y="1876"/>
                </a:lnTo>
                <a:lnTo>
                  <a:pt x="808" y="1857"/>
                </a:lnTo>
                <a:lnTo>
                  <a:pt x="828" y="1836"/>
                </a:lnTo>
                <a:lnTo>
                  <a:pt x="849" y="1815"/>
                </a:lnTo>
                <a:lnTo>
                  <a:pt x="868" y="1792"/>
                </a:lnTo>
                <a:lnTo>
                  <a:pt x="887" y="1769"/>
                </a:lnTo>
                <a:lnTo>
                  <a:pt x="927" y="1723"/>
                </a:lnTo>
                <a:lnTo>
                  <a:pt x="968" y="1675"/>
                </a:lnTo>
                <a:lnTo>
                  <a:pt x="1008" y="1625"/>
                </a:lnTo>
                <a:lnTo>
                  <a:pt x="1048" y="1575"/>
                </a:lnTo>
                <a:lnTo>
                  <a:pt x="1087" y="1521"/>
                </a:lnTo>
                <a:lnTo>
                  <a:pt x="1104" y="1496"/>
                </a:lnTo>
                <a:lnTo>
                  <a:pt x="1123" y="1468"/>
                </a:lnTo>
                <a:lnTo>
                  <a:pt x="1140" y="1441"/>
                </a:lnTo>
                <a:lnTo>
                  <a:pt x="1160" y="1412"/>
                </a:lnTo>
                <a:lnTo>
                  <a:pt x="1177" y="1383"/>
                </a:lnTo>
                <a:lnTo>
                  <a:pt x="1192" y="1354"/>
                </a:lnTo>
                <a:lnTo>
                  <a:pt x="1209" y="1326"/>
                </a:lnTo>
                <a:lnTo>
                  <a:pt x="1225" y="1297"/>
                </a:lnTo>
                <a:lnTo>
                  <a:pt x="1240" y="1264"/>
                </a:lnTo>
                <a:lnTo>
                  <a:pt x="1256" y="1232"/>
                </a:lnTo>
                <a:lnTo>
                  <a:pt x="1271" y="1197"/>
                </a:lnTo>
                <a:lnTo>
                  <a:pt x="1284" y="1162"/>
                </a:lnTo>
                <a:lnTo>
                  <a:pt x="1300" y="1124"/>
                </a:lnTo>
                <a:lnTo>
                  <a:pt x="1313" y="1086"/>
                </a:lnTo>
                <a:lnTo>
                  <a:pt x="1327" y="1045"/>
                </a:lnTo>
                <a:lnTo>
                  <a:pt x="1340" y="1003"/>
                </a:lnTo>
                <a:lnTo>
                  <a:pt x="1353" y="961"/>
                </a:lnTo>
                <a:lnTo>
                  <a:pt x="1367" y="917"/>
                </a:lnTo>
                <a:lnTo>
                  <a:pt x="1380" y="871"/>
                </a:lnTo>
                <a:lnTo>
                  <a:pt x="1394" y="823"/>
                </a:lnTo>
                <a:lnTo>
                  <a:pt x="1407" y="775"/>
                </a:lnTo>
                <a:lnTo>
                  <a:pt x="1419" y="725"/>
                </a:lnTo>
                <a:lnTo>
                  <a:pt x="1438" y="733"/>
                </a:lnTo>
                <a:lnTo>
                  <a:pt x="1453" y="742"/>
                </a:lnTo>
                <a:lnTo>
                  <a:pt x="1470" y="752"/>
                </a:lnTo>
                <a:lnTo>
                  <a:pt x="1486" y="759"/>
                </a:lnTo>
                <a:lnTo>
                  <a:pt x="1499" y="769"/>
                </a:lnTo>
                <a:lnTo>
                  <a:pt x="1513" y="781"/>
                </a:lnTo>
                <a:lnTo>
                  <a:pt x="1526" y="792"/>
                </a:lnTo>
                <a:lnTo>
                  <a:pt x="1538" y="804"/>
                </a:lnTo>
                <a:lnTo>
                  <a:pt x="1543" y="817"/>
                </a:lnTo>
                <a:lnTo>
                  <a:pt x="1549" y="829"/>
                </a:lnTo>
                <a:lnTo>
                  <a:pt x="1555" y="840"/>
                </a:lnTo>
                <a:lnTo>
                  <a:pt x="1559" y="852"/>
                </a:lnTo>
                <a:lnTo>
                  <a:pt x="1563" y="861"/>
                </a:lnTo>
                <a:lnTo>
                  <a:pt x="1564" y="871"/>
                </a:lnTo>
                <a:lnTo>
                  <a:pt x="1566" y="877"/>
                </a:lnTo>
                <a:lnTo>
                  <a:pt x="1566" y="880"/>
                </a:lnTo>
                <a:lnTo>
                  <a:pt x="1566" y="882"/>
                </a:lnTo>
                <a:lnTo>
                  <a:pt x="1564" y="884"/>
                </a:lnTo>
                <a:lnTo>
                  <a:pt x="1563" y="888"/>
                </a:lnTo>
                <a:lnTo>
                  <a:pt x="1561" y="892"/>
                </a:lnTo>
                <a:lnTo>
                  <a:pt x="1559" y="898"/>
                </a:lnTo>
                <a:lnTo>
                  <a:pt x="1557" y="901"/>
                </a:lnTo>
                <a:lnTo>
                  <a:pt x="1555" y="909"/>
                </a:lnTo>
                <a:lnTo>
                  <a:pt x="1551" y="915"/>
                </a:lnTo>
                <a:lnTo>
                  <a:pt x="1549" y="923"/>
                </a:lnTo>
                <a:lnTo>
                  <a:pt x="1545" y="930"/>
                </a:lnTo>
                <a:lnTo>
                  <a:pt x="1543" y="940"/>
                </a:lnTo>
                <a:lnTo>
                  <a:pt x="1540" y="949"/>
                </a:lnTo>
                <a:lnTo>
                  <a:pt x="1536" y="959"/>
                </a:lnTo>
                <a:lnTo>
                  <a:pt x="1532" y="971"/>
                </a:lnTo>
                <a:lnTo>
                  <a:pt x="1528" y="982"/>
                </a:lnTo>
                <a:lnTo>
                  <a:pt x="1522" y="994"/>
                </a:lnTo>
                <a:lnTo>
                  <a:pt x="1517" y="1005"/>
                </a:lnTo>
                <a:lnTo>
                  <a:pt x="1511" y="1019"/>
                </a:lnTo>
                <a:lnTo>
                  <a:pt x="1505" y="1034"/>
                </a:lnTo>
                <a:lnTo>
                  <a:pt x="1497" y="1049"/>
                </a:lnTo>
                <a:lnTo>
                  <a:pt x="1490" y="1067"/>
                </a:lnTo>
                <a:lnTo>
                  <a:pt x="1480" y="1086"/>
                </a:lnTo>
                <a:lnTo>
                  <a:pt x="1470" y="1105"/>
                </a:lnTo>
                <a:lnTo>
                  <a:pt x="1459" y="1128"/>
                </a:lnTo>
                <a:lnTo>
                  <a:pt x="1447" y="1151"/>
                </a:lnTo>
                <a:lnTo>
                  <a:pt x="1436" y="1174"/>
                </a:lnTo>
                <a:lnTo>
                  <a:pt x="1422" y="1201"/>
                </a:lnTo>
                <a:lnTo>
                  <a:pt x="1407" y="1228"/>
                </a:lnTo>
                <a:lnTo>
                  <a:pt x="1392" y="1257"/>
                </a:lnTo>
                <a:lnTo>
                  <a:pt x="1376" y="1287"/>
                </a:lnTo>
                <a:lnTo>
                  <a:pt x="1359" y="1320"/>
                </a:lnTo>
                <a:lnTo>
                  <a:pt x="1340" y="1352"/>
                </a:lnTo>
                <a:lnTo>
                  <a:pt x="1321" y="1387"/>
                </a:lnTo>
                <a:lnTo>
                  <a:pt x="1300" y="1423"/>
                </a:lnTo>
                <a:lnTo>
                  <a:pt x="1280" y="1458"/>
                </a:lnTo>
                <a:lnTo>
                  <a:pt x="1259" y="1491"/>
                </a:lnTo>
                <a:lnTo>
                  <a:pt x="1240" y="1523"/>
                </a:lnTo>
                <a:lnTo>
                  <a:pt x="1219" y="1554"/>
                </a:lnTo>
                <a:lnTo>
                  <a:pt x="1198" y="1585"/>
                </a:lnTo>
                <a:lnTo>
                  <a:pt x="1179" y="1613"/>
                </a:lnTo>
                <a:lnTo>
                  <a:pt x="1158" y="1642"/>
                </a:lnTo>
                <a:lnTo>
                  <a:pt x="1137" y="1669"/>
                </a:lnTo>
                <a:lnTo>
                  <a:pt x="1115" y="1696"/>
                </a:lnTo>
                <a:lnTo>
                  <a:pt x="1094" y="1721"/>
                </a:lnTo>
                <a:lnTo>
                  <a:pt x="1073" y="1746"/>
                </a:lnTo>
                <a:lnTo>
                  <a:pt x="1050" y="1771"/>
                </a:lnTo>
                <a:lnTo>
                  <a:pt x="1029" y="1794"/>
                </a:lnTo>
                <a:lnTo>
                  <a:pt x="1008" y="1815"/>
                </a:lnTo>
                <a:lnTo>
                  <a:pt x="987" y="1838"/>
                </a:lnTo>
                <a:lnTo>
                  <a:pt x="964" y="1859"/>
                </a:lnTo>
                <a:lnTo>
                  <a:pt x="943" y="1882"/>
                </a:lnTo>
                <a:lnTo>
                  <a:pt x="922" y="1903"/>
                </a:lnTo>
                <a:lnTo>
                  <a:pt x="899" y="1922"/>
                </a:lnTo>
                <a:lnTo>
                  <a:pt x="877" y="1942"/>
                </a:lnTo>
                <a:lnTo>
                  <a:pt x="856" y="1959"/>
                </a:lnTo>
                <a:lnTo>
                  <a:pt x="835" y="1976"/>
                </a:lnTo>
                <a:lnTo>
                  <a:pt x="816" y="1992"/>
                </a:lnTo>
                <a:lnTo>
                  <a:pt x="795" y="2007"/>
                </a:lnTo>
                <a:lnTo>
                  <a:pt x="774" y="2022"/>
                </a:lnTo>
                <a:lnTo>
                  <a:pt x="753" y="2036"/>
                </a:lnTo>
                <a:lnTo>
                  <a:pt x="734" y="2049"/>
                </a:lnTo>
                <a:lnTo>
                  <a:pt x="712" y="2061"/>
                </a:lnTo>
                <a:lnTo>
                  <a:pt x="691" y="2074"/>
                </a:lnTo>
                <a:lnTo>
                  <a:pt x="672" y="2084"/>
                </a:lnTo>
                <a:lnTo>
                  <a:pt x="651" y="2095"/>
                </a:lnTo>
                <a:close/>
                <a:moveTo>
                  <a:pt x="1655" y="1153"/>
                </a:moveTo>
                <a:lnTo>
                  <a:pt x="1672" y="1147"/>
                </a:lnTo>
                <a:lnTo>
                  <a:pt x="1689" y="1143"/>
                </a:lnTo>
                <a:lnTo>
                  <a:pt x="1703" y="1139"/>
                </a:lnTo>
                <a:lnTo>
                  <a:pt x="1716" y="1136"/>
                </a:lnTo>
                <a:lnTo>
                  <a:pt x="1730" y="1132"/>
                </a:lnTo>
                <a:lnTo>
                  <a:pt x="1741" y="1126"/>
                </a:lnTo>
                <a:lnTo>
                  <a:pt x="1764" y="1118"/>
                </a:lnTo>
                <a:lnTo>
                  <a:pt x="1770" y="1114"/>
                </a:lnTo>
                <a:lnTo>
                  <a:pt x="1777" y="1113"/>
                </a:lnTo>
                <a:lnTo>
                  <a:pt x="1785" y="1109"/>
                </a:lnTo>
                <a:lnTo>
                  <a:pt x="1793" y="1109"/>
                </a:lnTo>
                <a:lnTo>
                  <a:pt x="1801" y="1107"/>
                </a:lnTo>
                <a:lnTo>
                  <a:pt x="1808" y="1107"/>
                </a:lnTo>
                <a:lnTo>
                  <a:pt x="1822" y="1107"/>
                </a:lnTo>
                <a:lnTo>
                  <a:pt x="1825" y="1109"/>
                </a:lnTo>
                <a:lnTo>
                  <a:pt x="1827" y="1113"/>
                </a:lnTo>
                <a:lnTo>
                  <a:pt x="1831" y="1114"/>
                </a:lnTo>
                <a:lnTo>
                  <a:pt x="1835" y="1118"/>
                </a:lnTo>
                <a:lnTo>
                  <a:pt x="1839" y="1120"/>
                </a:lnTo>
                <a:lnTo>
                  <a:pt x="1845" y="1124"/>
                </a:lnTo>
                <a:lnTo>
                  <a:pt x="1850" y="1130"/>
                </a:lnTo>
                <a:lnTo>
                  <a:pt x="1856" y="1134"/>
                </a:lnTo>
                <a:lnTo>
                  <a:pt x="1872" y="1143"/>
                </a:lnTo>
                <a:lnTo>
                  <a:pt x="1887" y="1155"/>
                </a:lnTo>
                <a:lnTo>
                  <a:pt x="1895" y="1162"/>
                </a:lnTo>
                <a:lnTo>
                  <a:pt x="1902" y="1170"/>
                </a:lnTo>
                <a:lnTo>
                  <a:pt x="1912" y="1178"/>
                </a:lnTo>
                <a:lnTo>
                  <a:pt x="1921" y="1186"/>
                </a:lnTo>
                <a:lnTo>
                  <a:pt x="1929" y="1195"/>
                </a:lnTo>
                <a:lnTo>
                  <a:pt x="1939" y="1207"/>
                </a:lnTo>
                <a:lnTo>
                  <a:pt x="1946" y="1214"/>
                </a:lnTo>
                <a:lnTo>
                  <a:pt x="1954" y="1224"/>
                </a:lnTo>
                <a:lnTo>
                  <a:pt x="1960" y="1232"/>
                </a:lnTo>
                <a:lnTo>
                  <a:pt x="1967" y="1239"/>
                </a:lnTo>
                <a:lnTo>
                  <a:pt x="1973" y="1247"/>
                </a:lnTo>
                <a:lnTo>
                  <a:pt x="1979" y="1255"/>
                </a:lnTo>
                <a:lnTo>
                  <a:pt x="1983" y="1260"/>
                </a:lnTo>
                <a:lnTo>
                  <a:pt x="1987" y="1268"/>
                </a:lnTo>
                <a:lnTo>
                  <a:pt x="1991" y="1274"/>
                </a:lnTo>
                <a:lnTo>
                  <a:pt x="1994" y="1280"/>
                </a:lnTo>
                <a:lnTo>
                  <a:pt x="1996" y="1283"/>
                </a:lnTo>
                <a:lnTo>
                  <a:pt x="1998" y="1289"/>
                </a:lnTo>
                <a:lnTo>
                  <a:pt x="2000" y="1293"/>
                </a:lnTo>
                <a:lnTo>
                  <a:pt x="2000" y="1299"/>
                </a:lnTo>
                <a:lnTo>
                  <a:pt x="2000" y="1306"/>
                </a:lnTo>
                <a:lnTo>
                  <a:pt x="1998" y="1312"/>
                </a:lnTo>
                <a:lnTo>
                  <a:pt x="1996" y="1320"/>
                </a:lnTo>
                <a:lnTo>
                  <a:pt x="1992" y="1324"/>
                </a:lnTo>
                <a:lnTo>
                  <a:pt x="1989" y="1329"/>
                </a:lnTo>
                <a:lnTo>
                  <a:pt x="1983" y="1333"/>
                </a:lnTo>
                <a:lnTo>
                  <a:pt x="1977" y="1339"/>
                </a:lnTo>
                <a:lnTo>
                  <a:pt x="1969" y="1343"/>
                </a:lnTo>
                <a:lnTo>
                  <a:pt x="1966" y="1345"/>
                </a:lnTo>
                <a:lnTo>
                  <a:pt x="1960" y="1349"/>
                </a:lnTo>
                <a:lnTo>
                  <a:pt x="1954" y="1354"/>
                </a:lnTo>
                <a:lnTo>
                  <a:pt x="1950" y="1360"/>
                </a:lnTo>
                <a:lnTo>
                  <a:pt x="1944" y="1366"/>
                </a:lnTo>
                <a:lnTo>
                  <a:pt x="1941" y="1374"/>
                </a:lnTo>
                <a:lnTo>
                  <a:pt x="1937" y="1381"/>
                </a:lnTo>
                <a:lnTo>
                  <a:pt x="1931" y="1391"/>
                </a:lnTo>
                <a:lnTo>
                  <a:pt x="1927" y="1400"/>
                </a:lnTo>
                <a:lnTo>
                  <a:pt x="1923" y="1412"/>
                </a:lnTo>
                <a:lnTo>
                  <a:pt x="1920" y="1423"/>
                </a:lnTo>
                <a:lnTo>
                  <a:pt x="1916" y="1435"/>
                </a:lnTo>
                <a:lnTo>
                  <a:pt x="1912" y="1446"/>
                </a:lnTo>
                <a:lnTo>
                  <a:pt x="1908" y="1460"/>
                </a:lnTo>
                <a:lnTo>
                  <a:pt x="1904" y="1475"/>
                </a:lnTo>
                <a:lnTo>
                  <a:pt x="1900" y="1489"/>
                </a:lnTo>
                <a:lnTo>
                  <a:pt x="1896" y="1504"/>
                </a:lnTo>
                <a:lnTo>
                  <a:pt x="1893" y="1521"/>
                </a:lnTo>
                <a:lnTo>
                  <a:pt x="1887" y="1539"/>
                </a:lnTo>
                <a:lnTo>
                  <a:pt x="1881" y="1558"/>
                </a:lnTo>
                <a:lnTo>
                  <a:pt x="1873" y="1579"/>
                </a:lnTo>
                <a:lnTo>
                  <a:pt x="1866" y="1600"/>
                </a:lnTo>
                <a:lnTo>
                  <a:pt x="1858" y="1623"/>
                </a:lnTo>
                <a:lnTo>
                  <a:pt x="1849" y="1648"/>
                </a:lnTo>
                <a:lnTo>
                  <a:pt x="1839" y="1673"/>
                </a:lnTo>
                <a:lnTo>
                  <a:pt x="1829" y="1700"/>
                </a:lnTo>
                <a:lnTo>
                  <a:pt x="1818" y="1727"/>
                </a:lnTo>
                <a:lnTo>
                  <a:pt x="1806" y="1755"/>
                </a:lnTo>
                <a:lnTo>
                  <a:pt x="1795" y="1786"/>
                </a:lnTo>
                <a:lnTo>
                  <a:pt x="1781" y="1817"/>
                </a:lnTo>
                <a:lnTo>
                  <a:pt x="1768" y="1850"/>
                </a:lnTo>
                <a:lnTo>
                  <a:pt x="1754" y="1882"/>
                </a:lnTo>
                <a:lnTo>
                  <a:pt x="1739" y="1915"/>
                </a:lnTo>
                <a:lnTo>
                  <a:pt x="1726" y="1947"/>
                </a:lnTo>
                <a:lnTo>
                  <a:pt x="1710" y="1976"/>
                </a:lnTo>
                <a:lnTo>
                  <a:pt x="1697" y="2005"/>
                </a:lnTo>
                <a:lnTo>
                  <a:pt x="1683" y="2032"/>
                </a:lnTo>
                <a:lnTo>
                  <a:pt x="1670" y="2057"/>
                </a:lnTo>
                <a:lnTo>
                  <a:pt x="1657" y="2080"/>
                </a:lnTo>
                <a:lnTo>
                  <a:pt x="1643" y="2101"/>
                </a:lnTo>
                <a:lnTo>
                  <a:pt x="1630" y="2122"/>
                </a:lnTo>
                <a:lnTo>
                  <a:pt x="1618" y="2139"/>
                </a:lnTo>
                <a:lnTo>
                  <a:pt x="1605" y="2157"/>
                </a:lnTo>
                <a:lnTo>
                  <a:pt x="1593" y="2172"/>
                </a:lnTo>
                <a:lnTo>
                  <a:pt x="1582" y="2187"/>
                </a:lnTo>
                <a:lnTo>
                  <a:pt x="1570" y="2199"/>
                </a:lnTo>
                <a:lnTo>
                  <a:pt x="1559" y="2210"/>
                </a:lnTo>
                <a:lnTo>
                  <a:pt x="1547" y="2220"/>
                </a:lnTo>
                <a:lnTo>
                  <a:pt x="1534" y="2228"/>
                </a:lnTo>
                <a:lnTo>
                  <a:pt x="1522" y="2235"/>
                </a:lnTo>
                <a:lnTo>
                  <a:pt x="1511" y="2243"/>
                </a:lnTo>
                <a:lnTo>
                  <a:pt x="1501" y="2249"/>
                </a:lnTo>
                <a:lnTo>
                  <a:pt x="1492" y="2254"/>
                </a:lnTo>
                <a:lnTo>
                  <a:pt x="1482" y="2260"/>
                </a:lnTo>
                <a:lnTo>
                  <a:pt x="1472" y="2266"/>
                </a:lnTo>
                <a:lnTo>
                  <a:pt x="1465" y="2270"/>
                </a:lnTo>
                <a:lnTo>
                  <a:pt x="1457" y="2274"/>
                </a:lnTo>
                <a:lnTo>
                  <a:pt x="1449" y="2277"/>
                </a:lnTo>
                <a:lnTo>
                  <a:pt x="1444" y="2279"/>
                </a:lnTo>
                <a:lnTo>
                  <a:pt x="1438" y="2283"/>
                </a:lnTo>
                <a:lnTo>
                  <a:pt x="1432" y="2285"/>
                </a:lnTo>
                <a:lnTo>
                  <a:pt x="1426" y="2285"/>
                </a:lnTo>
                <a:lnTo>
                  <a:pt x="1422" y="2287"/>
                </a:lnTo>
                <a:lnTo>
                  <a:pt x="1419" y="2287"/>
                </a:lnTo>
                <a:lnTo>
                  <a:pt x="1413" y="2287"/>
                </a:lnTo>
                <a:lnTo>
                  <a:pt x="1409" y="2285"/>
                </a:lnTo>
                <a:lnTo>
                  <a:pt x="1405" y="2283"/>
                </a:lnTo>
                <a:lnTo>
                  <a:pt x="1401" y="2281"/>
                </a:lnTo>
                <a:lnTo>
                  <a:pt x="1398" y="2277"/>
                </a:lnTo>
                <a:lnTo>
                  <a:pt x="1394" y="2274"/>
                </a:lnTo>
                <a:lnTo>
                  <a:pt x="1392" y="2268"/>
                </a:lnTo>
                <a:lnTo>
                  <a:pt x="1390" y="2262"/>
                </a:lnTo>
                <a:lnTo>
                  <a:pt x="1388" y="2256"/>
                </a:lnTo>
                <a:lnTo>
                  <a:pt x="1386" y="2251"/>
                </a:lnTo>
                <a:lnTo>
                  <a:pt x="1386" y="2243"/>
                </a:lnTo>
                <a:lnTo>
                  <a:pt x="1386" y="2235"/>
                </a:lnTo>
                <a:lnTo>
                  <a:pt x="1386" y="2226"/>
                </a:lnTo>
                <a:lnTo>
                  <a:pt x="1386" y="2216"/>
                </a:lnTo>
                <a:lnTo>
                  <a:pt x="1388" y="2206"/>
                </a:lnTo>
                <a:lnTo>
                  <a:pt x="1390" y="2197"/>
                </a:lnTo>
                <a:lnTo>
                  <a:pt x="1390" y="2185"/>
                </a:lnTo>
                <a:lnTo>
                  <a:pt x="1388" y="2176"/>
                </a:lnTo>
                <a:lnTo>
                  <a:pt x="1388" y="2164"/>
                </a:lnTo>
                <a:lnTo>
                  <a:pt x="1386" y="2153"/>
                </a:lnTo>
                <a:lnTo>
                  <a:pt x="1384" y="2141"/>
                </a:lnTo>
                <a:lnTo>
                  <a:pt x="1380" y="2130"/>
                </a:lnTo>
                <a:lnTo>
                  <a:pt x="1376" y="2118"/>
                </a:lnTo>
                <a:lnTo>
                  <a:pt x="1373" y="2107"/>
                </a:lnTo>
                <a:lnTo>
                  <a:pt x="1369" y="2095"/>
                </a:lnTo>
                <a:lnTo>
                  <a:pt x="1363" y="2084"/>
                </a:lnTo>
                <a:lnTo>
                  <a:pt x="1357" y="2072"/>
                </a:lnTo>
                <a:lnTo>
                  <a:pt x="1351" y="2061"/>
                </a:lnTo>
                <a:lnTo>
                  <a:pt x="1346" y="2049"/>
                </a:lnTo>
                <a:lnTo>
                  <a:pt x="1338" y="2039"/>
                </a:lnTo>
                <a:lnTo>
                  <a:pt x="1328" y="2028"/>
                </a:lnTo>
                <a:lnTo>
                  <a:pt x="1321" y="2016"/>
                </a:lnTo>
                <a:lnTo>
                  <a:pt x="1311" y="2007"/>
                </a:lnTo>
                <a:lnTo>
                  <a:pt x="1303" y="1995"/>
                </a:lnTo>
                <a:lnTo>
                  <a:pt x="1296" y="1986"/>
                </a:lnTo>
                <a:lnTo>
                  <a:pt x="1290" y="1976"/>
                </a:lnTo>
                <a:lnTo>
                  <a:pt x="1282" y="1968"/>
                </a:lnTo>
                <a:lnTo>
                  <a:pt x="1279" y="1959"/>
                </a:lnTo>
                <a:lnTo>
                  <a:pt x="1273" y="1951"/>
                </a:lnTo>
                <a:lnTo>
                  <a:pt x="1269" y="1944"/>
                </a:lnTo>
                <a:lnTo>
                  <a:pt x="1265" y="1936"/>
                </a:lnTo>
                <a:lnTo>
                  <a:pt x="1263" y="1930"/>
                </a:lnTo>
                <a:lnTo>
                  <a:pt x="1261" y="1924"/>
                </a:lnTo>
                <a:lnTo>
                  <a:pt x="1259" y="1919"/>
                </a:lnTo>
                <a:lnTo>
                  <a:pt x="1259" y="1915"/>
                </a:lnTo>
                <a:lnTo>
                  <a:pt x="1259" y="1911"/>
                </a:lnTo>
                <a:lnTo>
                  <a:pt x="1259" y="1907"/>
                </a:lnTo>
                <a:lnTo>
                  <a:pt x="1261" y="1905"/>
                </a:lnTo>
                <a:lnTo>
                  <a:pt x="1263" y="1903"/>
                </a:lnTo>
                <a:lnTo>
                  <a:pt x="1267" y="1901"/>
                </a:lnTo>
                <a:lnTo>
                  <a:pt x="1271" y="1901"/>
                </a:lnTo>
                <a:lnTo>
                  <a:pt x="1275" y="1899"/>
                </a:lnTo>
                <a:lnTo>
                  <a:pt x="1279" y="1901"/>
                </a:lnTo>
                <a:lnTo>
                  <a:pt x="1284" y="1901"/>
                </a:lnTo>
                <a:lnTo>
                  <a:pt x="1292" y="1903"/>
                </a:lnTo>
                <a:lnTo>
                  <a:pt x="1298" y="1905"/>
                </a:lnTo>
                <a:lnTo>
                  <a:pt x="1305" y="1907"/>
                </a:lnTo>
                <a:lnTo>
                  <a:pt x="1315" y="1909"/>
                </a:lnTo>
                <a:lnTo>
                  <a:pt x="1325" y="1913"/>
                </a:lnTo>
                <a:lnTo>
                  <a:pt x="1334" y="1917"/>
                </a:lnTo>
                <a:lnTo>
                  <a:pt x="1344" y="1922"/>
                </a:lnTo>
                <a:lnTo>
                  <a:pt x="1355" y="1926"/>
                </a:lnTo>
                <a:lnTo>
                  <a:pt x="1367" y="1932"/>
                </a:lnTo>
                <a:lnTo>
                  <a:pt x="1380" y="1938"/>
                </a:lnTo>
                <a:lnTo>
                  <a:pt x="1392" y="1947"/>
                </a:lnTo>
                <a:lnTo>
                  <a:pt x="1403" y="1955"/>
                </a:lnTo>
                <a:lnTo>
                  <a:pt x="1415" y="1961"/>
                </a:lnTo>
                <a:lnTo>
                  <a:pt x="1426" y="1968"/>
                </a:lnTo>
                <a:lnTo>
                  <a:pt x="1436" y="1974"/>
                </a:lnTo>
                <a:lnTo>
                  <a:pt x="1444" y="1980"/>
                </a:lnTo>
                <a:lnTo>
                  <a:pt x="1453" y="1984"/>
                </a:lnTo>
                <a:lnTo>
                  <a:pt x="1461" y="1988"/>
                </a:lnTo>
                <a:lnTo>
                  <a:pt x="1469" y="1992"/>
                </a:lnTo>
                <a:lnTo>
                  <a:pt x="1474" y="1993"/>
                </a:lnTo>
                <a:lnTo>
                  <a:pt x="1480" y="1995"/>
                </a:lnTo>
                <a:lnTo>
                  <a:pt x="1484" y="1997"/>
                </a:lnTo>
                <a:lnTo>
                  <a:pt x="1490" y="1997"/>
                </a:lnTo>
                <a:lnTo>
                  <a:pt x="1493" y="1997"/>
                </a:lnTo>
                <a:lnTo>
                  <a:pt x="1495" y="1995"/>
                </a:lnTo>
                <a:lnTo>
                  <a:pt x="1497" y="1995"/>
                </a:lnTo>
                <a:lnTo>
                  <a:pt x="1501" y="1993"/>
                </a:lnTo>
                <a:lnTo>
                  <a:pt x="1505" y="1992"/>
                </a:lnTo>
                <a:lnTo>
                  <a:pt x="1511" y="1990"/>
                </a:lnTo>
                <a:lnTo>
                  <a:pt x="1515" y="1984"/>
                </a:lnTo>
                <a:lnTo>
                  <a:pt x="1520" y="1978"/>
                </a:lnTo>
                <a:lnTo>
                  <a:pt x="1528" y="1970"/>
                </a:lnTo>
                <a:lnTo>
                  <a:pt x="1532" y="1967"/>
                </a:lnTo>
                <a:lnTo>
                  <a:pt x="1538" y="1961"/>
                </a:lnTo>
                <a:lnTo>
                  <a:pt x="1541" y="1955"/>
                </a:lnTo>
                <a:lnTo>
                  <a:pt x="1547" y="1949"/>
                </a:lnTo>
                <a:lnTo>
                  <a:pt x="1553" y="1942"/>
                </a:lnTo>
                <a:lnTo>
                  <a:pt x="1559" y="1934"/>
                </a:lnTo>
                <a:lnTo>
                  <a:pt x="1564" y="1924"/>
                </a:lnTo>
                <a:lnTo>
                  <a:pt x="1570" y="1911"/>
                </a:lnTo>
                <a:lnTo>
                  <a:pt x="1578" y="1897"/>
                </a:lnTo>
                <a:lnTo>
                  <a:pt x="1586" y="1884"/>
                </a:lnTo>
                <a:lnTo>
                  <a:pt x="1591" y="1867"/>
                </a:lnTo>
                <a:lnTo>
                  <a:pt x="1601" y="1848"/>
                </a:lnTo>
                <a:lnTo>
                  <a:pt x="1609" y="1828"/>
                </a:lnTo>
                <a:lnTo>
                  <a:pt x="1616" y="1807"/>
                </a:lnTo>
                <a:lnTo>
                  <a:pt x="1626" y="1784"/>
                </a:lnTo>
                <a:lnTo>
                  <a:pt x="1634" y="1759"/>
                </a:lnTo>
                <a:lnTo>
                  <a:pt x="1643" y="1734"/>
                </a:lnTo>
                <a:lnTo>
                  <a:pt x="1655" y="1706"/>
                </a:lnTo>
                <a:lnTo>
                  <a:pt x="1664" y="1677"/>
                </a:lnTo>
                <a:lnTo>
                  <a:pt x="1676" y="1646"/>
                </a:lnTo>
                <a:lnTo>
                  <a:pt x="1685" y="1615"/>
                </a:lnTo>
                <a:lnTo>
                  <a:pt x="1695" y="1585"/>
                </a:lnTo>
                <a:lnTo>
                  <a:pt x="1705" y="1558"/>
                </a:lnTo>
                <a:lnTo>
                  <a:pt x="1712" y="1531"/>
                </a:lnTo>
                <a:lnTo>
                  <a:pt x="1722" y="1506"/>
                </a:lnTo>
                <a:lnTo>
                  <a:pt x="1728" y="1481"/>
                </a:lnTo>
                <a:lnTo>
                  <a:pt x="1735" y="1460"/>
                </a:lnTo>
                <a:lnTo>
                  <a:pt x="1741" y="1439"/>
                </a:lnTo>
                <a:lnTo>
                  <a:pt x="1747" y="1420"/>
                </a:lnTo>
                <a:lnTo>
                  <a:pt x="1751" y="1402"/>
                </a:lnTo>
                <a:lnTo>
                  <a:pt x="1754" y="1385"/>
                </a:lnTo>
                <a:lnTo>
                  <a:pt x="1758" y="1372"/>
                </a:lnTo>
                <a:lnTo>
                  <a:pt x="1760" y="1358"/>
                </a:lnTo>
                <a:lnTo>
                  <a:pt x="1762" y="1349"/>
                </a:lnTo>
                <a:lnTo>
                  <a:pt x="1762" y="1339"/>
                </a:lnTo>
                <a:lnTo>
                  <a:pt x="1764" y="1331"/>
                </a:lnTo>
                <a:lnTo>
                  <a:pt x="1762" y="1320"/>
                </a:lnTo>
                <a:lnTo>
                  <a:pt x="1762" y="1308"/>
                </a:lnTo>
                <a:lnTo>
                  <a:pt x="1758" y="1299"/>
                </a:lnTo>
                <a:lnTo>
                  <a:pt x="1754" y="1289"/>
                </a:lnTo>
                <a:lnTo>
                  <a:pt x="1749" y="1281"/>
                </a:lnTo>
                <a:lnTo>
                  <a:pt x="1743" y="1276"/>
                </a:lnTo>
                <a:lnTo>
                  <a:pt x="1733" y="1270"/>
                </a:lnTo>
                <a:lnTo>
                  <a:pt x="1724" y="1264"/>
                </a:lnTo>
                <a:lnTo>
                  <a:pt x="1712" y="1260"/>
                </a:lnTo>
                <a:lnTo>
                  <a:pt x="1699" y="1257"/>
                </a:lnTo>
                <a:lnTo>
                  <a:pt x="1683" y="1253"/>
                </a:lnTo>
                <a:lnTo>
                  <a:pt x="1664" y="1251"/>
                </a:lnTo>
                <a:lnTo>
                  <a:pt x="1645" y="1249"/>
                </a:lnTo>
                <a:lnTo>
                  <a:pt x="1624" y="1249"/>
                </a:lnTo>
                <a:lnTo>
                  <a:pt x="1601" y="1249"/>
                </a:lnTo>
                <a:lnTo>
                  <a:pt x="1589" y="1251"/>
                </a:lnTo>
                <a:lnTo>
                  <a:pt x="1576" y="1253"/>
                </a:lnTo>
                <a:lnTo>
                  <a:pt x="1563" y="1255"/>
                </a:lnTo>
                <a:lnTo>
                  <a:pt x="1549" y="1257"/>
                </a:lnTo>
                <a:lnTo>
                  <a:pt x="1536" y="1258"/>
                </a:lnTo>
                <a:lnTo>
                  <a:pt x="1522" y="1260"/>
                </a:lnTo>
                <a:lnTo>
                  <a:pt x="1511" y="1262"/>
                </a:lnTo>
                <a:lnTo>
                  <a:pt x="1501" y="1264"/>
                </a:lnTo>
                <a:lnTo>
                  <a:pt x="1490" y="1266"/>
                </a:lnTo>
                <a:lnTo>
                  <a:pt x="1480" y="1268"/>
                </a:lnTo>
                <a:lnTo>
                  <a:pt x="1472" y="1268"/>
                </a:lnTo>
                <a:lnTo>
                  <a:pt x="1463" y="1268"/>
                </a:lnTo>
                <a:lnTo>
                  <a:pt x="1455" y="1270"/>
                </a:lnTo>
                <a:lnTo>
                  <a:pt x="1449" y="1268"/>
                </a:lnTo>
                <a:lnTo>
                  <a:pt x="1444" y="1268"/>
                </a:lnTo>
                <a:lnTo>
                  <a:pt x="1438" y="1268"/>
                </a:lnTo>
                <a:lnTo>
                  <a:pt x="1432" y="1266"/>
                </a:lnTo>
                <a:lnTo>
                  <a:pt x="1428" y="1264"/>
                </a:lnTo>
                <a:lnTo>
                  <a:pt x="1422" y="1264"/>
                </a:lnTo>
                <a:lnTo>
                  <a:pt x="1419" y="1262"/>
                </a:lnTo>
                <a:lnTo>
                  <a:pt x="1413" y="1260"/>
                </a:lnTo>
                <a:lnTo>
                  <a:pt x="1409" y="1258"/>
                </a:lnTo>
                <a:lnTo>
                  <a:pt x="1403" y="1255"/>
                </a:lnTo>
                <a:lnTo>
                  <a:pt x="1399" y="1251"/>
                </a:lnTo>
                <a:lnTo>
                  <a:pt x="1396" y="1245"/>
                </a:lnTo>
                <a:lnTo>
                  <a:pt x="1392" y="1239"/>
                </a:lnTo>
                <a:lnTo>
                  <a:pt x="1388" y="1232"/>
                </a:lnTo>
                <a:lnTo>
                  <a:pt x="1384" y="1224"/>
                </a:lnTo>
                <a:lnTo>
                  <a:pt x="1382" y="1216"/>
                </a:lnTo>
                <a:lnTo>
                  <a:pt x="1378" y="1207"/>
                </a:lnTo>
                <a:lnTo>
                  <a:pt x="1376" y="1197"/>
                </a:lnTo>
                <a:lnTo>
                  <a:pt x="1374" y="1187"/>
                </a:lnTo>
                <a:lnTo>
                  <a:pt x="1373" y="1176"/>
                </a:lnTo>
                <a:lnTo>
                  <a:pt x="1371" y="1162"/>
                </a:lnTo>
                <a:lnTo>
                  <a:pt x="1398" y="1162"/>
                </a:lnTo>
                <a:lnTo>
                  <a:pt x="1422" y="1162"/>
                </a:lnTo>
                <a:lnTo>
                  <a:pt x="1447" y="1162"/>
                </a:lnTo>
                <a:lnTo>
                  <a:pt x="1470" y="1162"/>
                </a:lnTo>
                <a:lnTo>
                  <a:pt x="1493" y="1162"/>
                </a:lnTo>
                <a:lnTo>
                  <a:pt x="1515" y="1162"/>
                </a:lnTo>
                <a:lnTo>
                  <a:pt x="1534" y="1162"/>
                </a:lnTo>
                <a:lnTo>
                  <a:pt x="1553" y="1162"/>
                </a:lnTo>
                <a:lnTo>
                  <a:pt x="1570" y="1161"/>
                </a:lnTo>
                <a:lnTo>
                  <a:pt x="1586" y="1161"/>
                </a:lnTo>
                <a:lnTo>
                  <a:pt x="1601" y="1161"/>
                </a:lnTo>
                <a:lnTo>
                  <a:pt x="1614" y="1159"/>
                </a:lnTo>
                <a:lnTo>
                  <a:pt x="1628" y="1157"/>
                </a:lnTo>
                <a:lnTo>
                  <a:pt x="1637" y="1155"/>
                </a:lnTo>
                <a:lnTo>
                  <a:pt x="1647" y="1155"/>
                </a:lnTo>
                <a:lnTo>
                  <a:pt x="1655" y="1153"/>
                </a:lnTo>
                <a:close/>
                <a:moveTo>
                  <a:pt x="1311" y="28"/>
                </a:moveTo>
                <a:lnTo>
                  <a:pt x="1315" y="24"/>
                </a:lnTo>
                <a:lnTo>
                  <a:pt x="1321" y="21"/>
                </a:lnTo>
                <a:lnTo>
                  <a:pt x="1327" y="17"/>
                </a:lnTo>
                <a:lnTo>
                  <a:pt x="1332" y="13"/>
                </a:lnTo>
                <a:lnTo>
                  <a:pt x="1340" y="11"/>
                </a:lnTo>
                <a:lnTo>
                  <a:pt x="1350" y="7"/>
                </a:lnTo>
                <a:lnTo>
                  <a:pt x="1359" y="7"/>
                </a:lnTo>
                <a:lnTo>
                  <a:pt x="1371" y="5"/>
                </a:lnTo>
                <a:lnTo>
                  <a:pt x="1376" y="7"/>
                </a:lnTo>
                <a:lnTo>
                  <a:pt x="1382" y="7"/>
                </a:lnTo>
                <a:lnTo>
                  <a:pt x="1388" y="9"/>
                </a:lnTo>
                <a:lnTo>
                  <a:pt x="1396" y="9"/>
                </a:lnTo>
                <a:lnTo>
                  <a:pt x="1403" y="13"/>
                </a:lnTo>
                <a:lnTo>
                  <a:pt x="1411" y="15"/>
                </a:lnTo>
                <a:lnTo>
                  <a:pt x="1421" y="19"/>
                </a:lnTo>
                <a:lnTo>
                  <a:pt x="1430" y="21"/>
                </a:lnTo>
                <a:lnTo>
                  <a:pt x="1440" y="24"/>
                </a:lnTo>
                <a:lnTo>
                  <a:pt x="1451" y="30"/>
                </a:lnTo>
                <a:lnTo>
                  <a:pt x="1461" y="34"/>
                </a:lnTo>
                <a:lnTo>
                  <a:pt x="1474" y="40"/>
                </a:lnTo>
                <a:lnTo>
                  <a:pt x="1486" y="44"/>
                </a:lnTo>
                <a:lnTo>
                  <a:pt x="1499" y="49"/>
                </a:lnTo>
                <a:lnTo>
                  <a:pt x="1513" y="55"/>
                </a:lnTo>
                <a:lnTo>
                  <a:pt x="1528" y="63"/>
                </a:lnTo>
                <a:lnTo>
                  <a:pt x="1540" y="71"/>
                </a:lnTo>
                <a:lnTo>
                  <a:pt x="1551" y="80"/>
                </a:lnTo>
                <a:lnTo>
                  <a:pt x="1564" y="90"/>
                </a:lnTo>
                <a:lnTo>
                  <a:pt x="1574" y="97"/>
                </a:lnTo>
                <a:lnTo>
                  <a:pt x="1586" y="107"/>
                </a:lnTo>
                <a:lnTo>
                  <a:pt x="1595" y="118"/>
                </a:lnTo>
                <a:lnTo>
                  <a:pt x="1605" y="128"/>
                </a:lnTo>
                <a:lnTo>
                  <a:pt x="1612" y="138"/>
                </a:lnTo>
                <a:lnTo>
                  <a:pt x="1622" y="149"/>
                </a:lnTo>
                <a:lnTo>
                  <a:pt x="1628" y="161"/>
                </a:lnTo>
                <a:lnTo>
                  <a:pt x="1635" y="170"/>
                </a:lnTo>
                <a:lnTo>
                  <a:pt x="1641" y="182"/>
                </a:lnTo>
                <a:lnTo>
                  <a:pt x="1645" y="193"/>
                </a:lnTo>
                <a:lnTo>
                  <a:pt x="1649" y="207"/>
                </a:lnTo>
                <a:lnTo>
                  <a:pt x="1653" y="218"/>
                </a:lnTo>
                <a:lnTo>
                  <a:pt x="1655" y="232"/>
                </a:lnTo>
                <a:lnTo>
                  <a:pt x="1657" y="243"/>
                </a:lnTo>
                <a:lnTo>
                  <a:pt x="1659" y="255"/>
                </a:lnTo>
                <a:lnTo>
                  <a:pt x="1659" y="266"/>
                </a:lnTo>
                <a:lnTo>
                  <a:pt x="1659" y="278"/>
                </a:lnTo>
                <a:lnTo>
                  <a:pt x="1659" y="287"/>
                </a:lnTo>
                <a:lnTo>
                  <a:pt x="1659" y="297"/>
                </a:lnTo>
                <a:lnTo>
                  <a:pt x="1657" y="307"/>
                </a:lnTo>
                <a:lnTo>
                  <a:pt x="1655" y="314"/>
                </a:lnTo>
                <a:lnTo>
                  <a:pt x="1653" y="324"/>
                </a:lnTo>
                <a:lnTo>
                  <a:pt x="1651" y="332"/>
                </a:lnTo>
                <a:lnTo>
                  <a:pt x="1647" y="337"/>
                </a:lnTo>
                <a:lnTo>
                  <a:pt x="1643" y="345"/>
                </a:lnTo>
                <a:lnTo>
                  <a:pt x="1639" y="351"/>
                </a:lnTo>
                <a:lnTo>
                  <a:pt x="1635" y="356"/>
                </a:lnTo>
                <a:lnTo>
                  <a:pt x="1632" y="360"/>
                </a:lnTo>
                <a:lnTo>
                  <a:pt x="1626" y="366"/>
                </a:lnTo>
                <a:lnTo>
                  <a:pt x="1620" y="370"/>
                </a:lnTo>
                <a:lnTo>
                  <a:pt x="1614" y="372"/>
                </a:lnTo>
                <a:lnTo>
                  <a:pt x="1609" y="374"/>
                </a:lnTo>
                <a:lnTo>
                  <a:pt x="1601" y="374"/>
                </a:lnTo>
                <a:lnTo>
                  <a:pt x="1595" y="374"/>
                </a:lnTo>
                <a:lnTo>
                  <a:pt x="1588" y="372"/>
                </a:lnTo>
                <a:lnTo>
                  <a:pt x="1580" y="370"/>
                </a:lnTo>
                <a:lnTo>
                  <a:pt x="1572" y="366"/>
                </a:lnTo>
                <a:lnTo>
                  <a:pt x="1563" y="362"/>
                </a:lnTo>
                <a:lnTo>
                  <a:pt x="1553" y="355"/>
                </a:lnTo>
                <a:lnTo>
                  <a:pt x="1543" y="349"/>
                </a:lnTo>
                <a:lnTo>
                  <a:pt x="1534" y="341"/>
                </a:lnTo>
                <a:lnTo>
                  <a:pt x="1524" y="332"/>
                </a:lnTo>
                <a:lnTo>
                  <a:pt x="1513" y="322"/>
                </a:lnTo>
                <a:lnTo>
                  <a:pt x="1501" y="310"/>
                </a:lnTo>
                <a:lnTo>
                  <a:pt x="1488" y="299"/>
                </a:lnTo>
                <a:lnTo>
                  <a:pt x="1476" y="285"/>
                </a:lnTo>
                <a:lnTo>
                  <a:pt x="1463" y="274"/>
                </a:lnTo>
                <a:lnTo>
                  <a:pt x="1453" y="261"/>
                </a:lnTo>
                <a:lnTo>
                  <a:pt x="1442" y="249"/>
                </a:lnTo>
                <a:lnTo>
                  <a:pt x="1432" y="237"/>
                </a:lnTo>
                <a:lnTo>
                  <a:pt x="1422" y="226"/>
                </a:lnTo>
                <a:lnTo>
                  <a:pt x="1413" y="214"/>
                </a:lnTo>
                <a:lnTo>
                  <a:pt x="1405" y="205"/>
                </a:lnTo>
                <a:lnTo>
                  <a:pt x="1388" y="182"/>
                </a:lnTo>
                <a:lnTo>
                  <a:pt x="1374" y="161"/>
                </a:lnTo>
                <a:lnTo>
                  <a:pt x="1361" y="140"/>
                </a:lnTo>
                <a:lnTo>
                  <a:pt x="1350" y="118"/>
                </a:lnTo>
                <a:lnTo>
                  <a:pt x="1340" y="101"/>
                </a:lnTo>
                <a:lnTo>
                  <a:pt x="1332" y="88"/>
                </a:lnTo>
                <a:lnTo>
                  <a:pt x="1325" y="72"/>
                </a:lnTo>
                <a:lnTo>
                  <a:pt x="1319" y="61"/>
                </a:lnTo>
                <a:lnTo>
                  <a:pt x="1315" y="49"/>
                </a:lnTo>
                <a:lnTo>
                  <a:pt x="1313" y="42"/>
                </a:lnTo>
                <a:lnTo>
                  <a:pt x="1311" y="38"/>
                </a:lnTo>
                <a:lnTo>
                  <a:pt x="1311" y="34"/>
                </a:lnTo>
                <a:lnTo>
                  <a:pt x="1311" y="30"/>
                </a:lnTo>
                <a:lnTo>
                  <a:pt x="131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2249640" y="2219400"/>
            <a:ext cx="188640" cy="1225440"/>
          </a:xfrm>
          <a:custGeom>
            <a:avLst/>
            <a:gdLst/>
            <a:ahLst/>
            <a:rect l="l" t="t" r="r" b="b"/>
            <a:pathLst>
              <a:path w="238" h="1544">
                <a:moveTo>
                  <a:pt x="63" y="220"/>
                </a:moveTo>
                <a:lnTo>
                  <a:pt x="61" y="205"/>
                </a:lnTo>
                <a:lnTo>
                  <a:pt x="59" y="191"/>
                </a:lnTo>
                <a:lnTo>
                  <a:pt x="57" y="178"/>
                </a:lnTo>
                <a:lnTo>
                  <a:pt x="55" y="166"/>
                </a:lnTo>
                <a:lnTo>
                  <a:pt x="53" y="155"/>
                </a:lnTo>
                <a:lnTo>
                  <a:pt x="52" y="145"/>
                </a:lnTo>
                <a:lnTo>
                  <a:pt x="50" y="134"/>
                </a:lnTo>
                <a:lnTo>
                  <a:pt x="48" y="126"/>
                </a:lnTo>
                <a:lnTo>
                  <a:pt x="44" y="117"/>
                </a:lnTo>
                <a:lnTo>
                  <a:pt x="42" y="109"/>
                </a:lnTo>
                <a:lnTo>
                  <a:pt x="40" y="101"/>
                </a:lnTo>
                <a:lnTo>
                  <a:pt x="36" y="95"/>
                </a:lnTo>
                <a:lnTo>
                  <a:pt x="34" y="88"/>
                </a:lnTo>
                <a:lnTo>
                  <a:pt x="30" y="84"/>
                </a:lnTo>
                <a:lnTo>
                  <a:pt x="27" y="78"/>
                </a:lnTo>
                <a:lnTo>
                  <a:pt x="25" y="74"/>
                </a:lnTo>
                <a:lnTo>
                  <a:pt x="19" y="69"/>
                </a:lnTo>
                <a:lnTo>
                  <a:pt x="13" y="65"/>
                </a:lnTo>
                <a:lnTo>
                  <a:pt x="9" y="61"/>
                </a:lnTo>
                <a:lnTo>
                  <a:pt x="7" y="57"/>
                </a:lnTo>
                <a:lnTo>
                  <a:pt x="4" y="53"/>
                </a:lnTo>
                <a:lnTo>
                  <a:pt x="2" y="47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0" y="32"/>
                </a:lnTo>
                <a:lnTo>
                  <a:pt x="2" y="26"/>
                </a:lnTo>
                <a:lnTo>
                  <a:pt x="4" y="23"/>
                </a:lnTo>
                <a:lnTo>
                  <a:pt x="5" y="19"/>
                </a:lnTo>
                <a:lnTo>
                  <a:pt x="7" y="15"/>
                </a:lnTo>
                <a:lnTo>
                  <a:pt x="11" y="11"/>
                </a:lnTo>
                <a:lnTo>
                  <a:pt x="13" y="5"/>
                </a:lnTo>
                <a:lnTo>
                  <a:pt x="17" y="3"/>
                </a:lnTo>
                <a:lnTo>
                  <a:pt x="19" y="1"/>
                </a:lnTo>
                <a:lnTo>
                  <a:pt x="23" y="1"/>
                </a:lnTo>
                <a:lnTo>
                  <a:pt x="27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50" y="0"/>
                </a:lnTo>
                <a:lnTo>
                  <a:pt x="57" y="0"/>
                </a:lnTo>
                <a:lnTo>
                  <a:pt x="65" y="1"/>
                </a:lnTo>
                <a:lnTo>
                  <a:pt x="73" y="1"/>
                </a:lnTo>
                <a:lnTo>
                  <a:pt x="82" y="5"/>
                </a:lnTo>
                <a:lnTo>
                  <a:pt x="92" y="7"/>
                </a:lnTo>
                <a:lnTo>
                  <a:pt x="101" y="9"/>
                </a:lnTo>
                <a:lnTo>
                  <a:pt x="111" y="13"/>
                </a:lnTo>
                <a:lnTo>
                  <a:pt x="123" y="17"/>
                </a:lnTo>
                <a:lnTo>
                  <a:pt x="144" y="30"/>
                </a:lnTo>
                <a:lnTo>
                  <a:pt x="153" y="36"/>
                </a:lnTo>
                <a:lnTo>
                  <a:pt x="163" y="42"/>
                </a:lnTo>
                <a:lnTo>
                  <a:pt x="171" y="46"/>
                </a:lnTo>
                <a:lnTo>
                  <a:pt x="180" y="51"/>
                </a:lnTo>
                <a:lnTo>
                  <a:pt x="188" y="57"/>
                </a:lnTo>
                <a:lnTo>
                  <a:pt x="195" y="61"/>
                </a:lnTo>
                <a:lnTo>
                  <a:pt x="201" y="65"/>
                </a:lnTo>
                <a:lnTo>
                  <a:pt x="207" y="71"/>
                </a:lnTo>
                <a:lnTo>
                  <a:pt x="213" y="74"/>
                </a:lnTo>
                <a:lnTo>
                  <a:pt x="218" y="78"/>
                </a:lnTo>
                <a:lnTo>
                  <a:pt x="222" y="84"/>
                </a:lnTo>
                <a:lnTo>
                  <a:pt x="226" y="88"/>
                </a:lnTo>
                <a:lnTo>
                  <a:pt x="228" y="92"/>
                </a:lnTo>
                <a:lnTo>
                  <a:pt x="230" y="95"/>
                </a:lnTo>
                <a:lnTo>
                  <a:pt x="234" y="105"/>
                </a:lnTo>
                <a:lnTo>
                  <a:pt x="236" y="115"/>
                </a:lnTo>
                <a:lnTo>
                  <a:pt x="238" y="126"/>
                </a:lnTo>
                <a:lnTo>
                  <a:pt x="238" y="140"/>
                </a:lnTo>
                <a:lnTo>
                  <a:pt x="238" y="155"/>
                </a:lnTo>
                <a:lnTo>
                  <a:pt x="236" y="170"/>
                </a:lnTo>
                <a:lnTo>
                  <a:pt x="234" y="180"/>
                </a:lnTo>
                <a:lnTo>
                  <a:pt x="234" y="188"/>
                </a:lnTo>
                <a:lnTo>
                  <a:pt x="232" y="197"/>
                </a:lnTo>
                <a:lnTo>
                  <a:pt x="230" y="209"/>
                </a:lnTo>
                <a:lnTo>
                  <a:pt x="230" y="211"/>
                </a:lnTo>
                <a:lnTo>
                  <a:pt x="228" y="214"/>
                </a:lnTo>
                <a:lnTo>
                  <a:pt x="228" y="218"/>
                </a:lnTo>
                <a:lnTo>
                  <a:pt x="226" y="224"/>
                </a:lnTo>
                <a:lnTo>
                  <a:pt x="226" y="228"/>
                </a:lnTo>
                <a:lnTo>
                  <a:pt x="224" y="234"/>
                </a:lnTo>
                <a:lnTo>
                  <a:pt x="224" y="239"/>
                </a:lnTo>
                <a:lnTo>
                  <a:pt x="222" y="247"/>
                </a:lnTo>
                <a:lnTo>
                  <a:pt x="222" y="255"/>
                </a:lnTo>
                <a:lnTo>
                  <a:pt x="220" y="262"/>
                </a:lnTo>
                <a:lnTo>
                  <a:pt x="220" y="270"/>
                </a:lnTo>
                <a:lnTo>
                  <a:pt x="218" y="280"/>
                </a:lnTo>
                <a:lnTo>
                  <a:pt x="218" y="289"/>
                </a:lnTo>
                <a:lnTo>
                  <a:pt x="218" y="299"/>
                </a:lnTo>
                <a:lnTo>
                  <a:pt x="217" y="308"/>
                </a:lnTo>
                <a:lnTo>
                  <a:pt x="217" y="320"/>
                </a:lnTo>
                <a:lnTo>
                  <a:pt x="215" y="332"/>
                </a:lnTo>
                <a:lnTo>
                  <a:pt x="215" y="343"/>
                </a:lnTo>
                <a:lnTo>
                  <a:pt x="213" y="356"/>
                </a:lnTo>
                <a:lnTo>
                  <a:pt x="213" y="370"/>
                </a:lnTo>
                <a:lnTo>
                  <a:pt x="211" y="383"/>
                </a:lnTo>
                <a:lnTo>
                  <a:pt x="211" y="397"/>
                </a:lnTo>
                <a:lnTo>
                  <a:pt x="209" y="412"/>
                </a:lnTo>
                <a:lnTo>
                  <a:pt x="209" y="427"/>
                </a:lnTo>
                <a:lnTo>
                  <a:pt x="209" y="445"/>
                </a:lnTo>
                <a:lnTo>
                  <a:pt x="207" y="460"/>
                </a:lnTo>
                <a:lnTo>
                  <a:pt x="207" y="477"/>
                </a:lnTo>
                <a:lnTo>
                  <a:pt x="205" y="495"/>
                </a:lnTo>
                <a:lnTo>
                  <a:pt x="205" y="514"/>
                </a:lnTo>
                <a:lnTo>
                  <a:pt x="203" y="531"/>
                </a:lnTo>
                <a:lnTo>
                  <a:pt x="203" y="550"/>
                </a:lnTo>
                <a:lnTo>
                  <a:pt x="201" y="571"/>
                </a:lnTo>
                <a:lnTo>
                  <a:pt x="201" y="591"/>
                </a:lnTo>
                <a:lnTo>
                  <a:pt x="201" y="612"/>
                </a:lnTo>
                <a:lnTo>
                  <a:pt x="199" y="633"/>
                </a:lnTo>
                <a:lnTo>
                  <a:pt x="199" y="656"/>
                </a:lnTo>
                <a:lnTo>
                  <a:pt x="197" y="677"/>
                </a:lnTo>
                <a:lnTo>
                  <a:pt x="197" y="700"/>
                </a:lnTo>
                <a:lnTo>
                  <a:pt x="197" y="725"/>
                </a:lnTo>
                <a:lnTo>
                  <a:pt x="195" y="748"/>
                </a:lnTo>
                <a:lnTo>
                  <a:pt x="195" y="773"/>
                </a:lnTo>
                <a:lnTo>
                  <a:pt x="194" y="798"/>
                </a:lnTo>
                <a:lnTo>
                  <a:pt x="194" y="823"/>
                </a:lnTo>
                <a:lnTo>
                  <a:pt x="194" y="850"/>
                </a:lnTo>
                <a:lnTo>
                  <a:pt x="192" y="877"/>
                </a:lnTo>
                <a:lnTo>
                  <a:pt x="192" y="903"/>
                </a:lnTo>
                <a:lnTo>
                  <a:pt x="192" y="932"/>
                </a:lnTo>
                <a:lnTo>
                  <a:pt x="190" y="961"/>
                </a:lnTo>
                <a:lnTo>
                  <a:pt x="190" y="990"/>
                </a:lnTo>
                <a:lnTo>
                  <a:pt x="190" y="1019"/>
                </a:lnTo>
                <a:lnTo>
                  <a:pt x="188" y="1049"/>
                </a:lnTo>
                <a:lnTo>
                  <a:pt x="188" y="1080"/>
                </a:lnTo>
                <a:lnTo>
                  <a:pt x="188" y="1111"/>
                </a:lnTo>
                <a:lnTo>
                  <a:pt x="186" y="1141"/>
                </a:lnTo>
                <a:lnTo>
                  <a:pt x="186" y="1174"/>
                </a:lnTo>
                <a:lnTo>
                  <a:pt x="186" y="1207"/>
                </a:lnTo>
                <a:lnTo>
                  <a:pt x="184" y="1241"/>
                </a:lnTo>
                <a:lnTo>
                  <a:pt x="184" y="1274"/>
                </a:lnTo>
                <a:lnTo>
                  <a:pt x="184" y="1308"/>
                </a:lnTo>
                <a:lnTo>
                  <a:pt x="182" y="1343"/>
                </a:lnTo>
                <a:lnTo>
                  <a:pt x="182" y="1379"/>
                </a:lnTo>
                <a:lnTo>
                  <a:pt x="182" y="1416"/>
                </a:lnTo>
                <a:lnTo>
                  <a:pt x="182" y="1452"/>
                </a:lnTo>
                <a:lnTo>
                  <a:pt x="180" y="1489"/>
                </a:lnTo>
                <a:lnTo>
                  <a:pt x="123" y="1518"/>
                </a:lnTo>
                <a:lnTo>
                  <a:pt x="63" y="1544"/>
                </a:lnTo>
                <a:lnTo>
                  <a:pt x="63" y="1470"/>
                </a:lnTo>
                <a:lnTo>
                  <a:pt x="65" y="1399"/>
                </a:lnTo>
                <a:lnTo>
                  <a:pt x="65" y="1328"/>
                </a:lnTo>
                <a:lnTo>
                  <a:pt x="67" y="1258"/>
                </a:lnTo>
                <a:lnTo>
                  <a:pt x="67" y="1193"/>
                </a:lnTo>
                <a:lnTo>
                  <a:pt x="67" y="1130"/>
                </a:lnTo>
                <a:lnTo>
                  <a:pt x="69" y="1067"/>
                </a:lnTo>
                <a:lnTo>
                  <a:pt x="69" y="1007"/>
                </a:lnTo>
                <a:lnTo>
                  <a:pt x="69" y="949"/>
                </a:lnTo>
                <a:lnTo>
                  <a:pt x="69" y="896"/>
                </a:lnTo>
                <a:lnTo>
                  <a:pt x="69" y="842"/>
                </a:lnTo>
                <a:lnTo>
                  <a:pt x="71" y="790"/>
                </a:lnTo>
                <a:lnTo>
                  <a:pt x="71" y="742"/>
                </a:lnTo>
                <a:lnTo>
                  <a:pt x="71" y="696"/>
                </a:lnTo>
                <a:lnTo>
                  <a:pt x="71" y="650"/>
                </a:lnTo>
                <a:lnTo>
                  <a:pt x="71" y="608"/>
                </a:lnTo>
                <a:lnTo>
                  <a:pt x="71" y="568"/>
                </a:lnTo>
                <a:lnTo>
                  <a:pt x="71" y="529"/>
                </a:lnTo>
                <a:lnTo>
                  <a:pt x="71" y="495"/>
                </a:lnTo>
                <a:lnTo>
                  <a:pt x="71" y="460"/>
                </a:lnTo>
                <a:lnTo>
                  <a:pt x="69" y="429"/>
                </a:lnTo>
                <a:lnTo>
                  <a:pt x="69" y="399"/>
                </a:lnTo>
                <a:lnTo>
                  <a:pt x="69" y="372"/>
                </a:lnTo>
                <a:lnTo>
                  <a:pt x="69" y="347"/>
                </a:lnTo>
                <a:lnTo>
                  <a:pt x="69" y="322"/>
                </a:lnTo>
                <a:lnTo>
                  <a:pt x="67" y="301"/>
                </a:lnTo>
                <a:lnTo>
                  <a:pt x="67" y="284"/>
                </a:lnTo>
                <a:lnTo>
                  <a:pt x="67" y="266"/>
                </a:lnTo>
                <a:lnTo>
                  <a:pt x="65" y="251"/>
                </a:lnTo>
                <a:lnTo>
                  <a:pt x="65" y="239"/>
                </a:lnTo>
                <a:lnTo>
                  <a:pt x="63" y="228"/>
                </a:lnTo>
                <a:lnTo>
                  <a:pt x="63" y="22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8"/>
          <p:cNvSpPr/>
          <p:nvPr/>
        </p:nvSpPr>
        <p:spPr>
          <a:xfrm>
            <a:off x="2027160" y="2776680"/>
            <a:ext cx="561960" cy="204480"/>
          </a:xfrm>
          <a:custGeom>
            <a:avLst/>
            <a:gdLst/>
            <a:ahLst/>
            <a:rect l="l" t="t" r="r" b="b"/>
            <a:pathLst>
              <a:path w="708" h="259">
                <a:moveTo>
                  <a:pt x="38" y="236"/>
                </a:moveTo>
                <a:lnTo>
                  <a:pt x="28" y="232"/>
                </a:lnTo>
                <a:lnTo>
                  <a:pt x="19" y="226"/>
                </a:lnTo>
                <a:lnTo>
                  <a:pt x="13" y="221"/>
                </a:lnTo>
                <a:lnTo>
                  <a:pt x="7" y="215"/>
                </a:lnTo>
                <a:lnTo>
                  <a:pt x="3" y="207"/>
                </a:lnTo>
                <a:lnTo>
                  <a:pt x="1" y="201"/>
                </a:lnTo>
                <a:lnTo>
                  <a:pt x="0" y="196"/>
                </a:lnTo>
                <a:lnTo>
                  <a:pt x="0" y="192"/>
                </a:lnTo>
                <a:lnTo>
                  <a:pt x="0" y="190"/>
                </a:lnTo>
                <a:lnTo>
                  <a:pt x="1" y="188"/>
                </a:lnTo>
                <a:lnTo>
                  <a:pt x="3" y="186"/>
                </a:lnTo>
                <a:lnTo>
                  <a:pt x="5" y="184"/>
                </a:lnTo>
                <a:lnTo>
                  <a:pt x="9" y="182"/>
                </a:lnTo>
                <a:lnTo>
                  <a:pt x="13" y="180"/>
                </a:lnTo>
                <a:lnTo>
                  <a:pt x="17" y="178"/>
                </a:lnTo>
                <a:lnTo>
                  <a:pt x="23" y="176"/>
                </a:lnTo>
                <a:lnTo>
                  <a:pt x="28" y="175"/>
                </a:lnTo>
                <a:lnTo>
                  <a:pt x="34" y="173"/>
                </a:lnTo>
                <a:lnTo>
                  <a:pt x="40" y="171"/>
                </a:lnTo>
                <a:lnTo>
                  <a:pt x="48" y="167"/>
                </a:lnTo>
                <a:lnTo>
                  <a:pt x="55" y="165"/>
                </a:lnTo>
                <a:lnTo>
                  <a:pt x="65" y="161"/>
                </a:lnTo>
                <a:lnTo>
                  <a:pt x="74" y="159"/>
                </a:lnTo>
                <a:lnTo>
                  <a:pt x="84" y="155"/>
                </a:lnTo>
                <a:lnTo>
                  <a:pt x="94" y="152"/>
                </a:lnTo>
                <a:lnTo>
                  <a:pt x="105" y="148"/>
                </a:lnTo>
                <a:lnTo>
                  <a:pt x="117" y="144"/>
                </a:lnTo>
                <a:lnTo>
                  <a:pt x="128" y="140"/>
                </a:lnTo>
                <a:lnTo>
                  <a:pt x="142" y="136"/>
                </a:lnTo>
                <a:lnTo>
                  <a:pt x="155" y="132"/>
                </a:lnTo>
                <a:lnTo>
                  <a:pt x="168" y="128"/>
                </a:lnTo>
                <a:lnTo>
                  <a:pt x="184" y="125"/>
                </a:lnTo>
                <a:lnTo>
                  <a:pt x="199" y="121"/>
                </a:lnTo>
                <a:lnTo>
                  <a:pt x="214" y="115"/>
                </a:lnTo>
                <a:lnTo>
                  <a:pt x="232" y="111"/>
                </a:lnTo>
                <a:lnTo>
                  <a:pt x="249" y="105"/>
                </a:lnTo>
                <a:lnTo>
                  <a:pt x="266" y="102"/>
                </a:lnTo>
                <a:lnTo>
                  <a:pt x="285" y="96"/>
                </a:lnTo>
                <a:lnTo>
                  <a:pt x="305" y="90"/>
                </a:lnTo>
                <a:lnTo>
                  <a:pt x="322" y="84"/>
                </a:lnTo>
                <a:lnTo>
                  <a:pt x="339" y="80"/>
                </a:lnTo>
                <a:lnTo>
                  <a:pt x="356" y="75"/>
                </a:lnTo>
                <a:lnTo>
                  <a:pt x="374" y="71"/>
                </a:lnTo>
                <a:lnTo>
                  <a:pt x="389" y="65"/>
                </a:lnTo>
                <a:lnTo>
                  <a:pt x="404" y="61"/>
                </a:lnTo>
                <a:lnTo>
                  <a:pt x="420" y="56"/>
                </a:lnTo>
                <a:lnTo>
                  <a:pt x="435" y="52"/>
                </a:lnTo>
                <a:lnTo>
                  <a:pt x="449" y="48"/>
                </a:lnTo>
                <a:lnTo>
                  <a:pt x="462" y="44"/>
                </a:lnTo>
                <a:lnTo>
                  <a:pt x="475" y="40"/>
                </a:lnTo>
                <a:lnTo>
                  <a:pt x="487" y="36"/>
                </a:lnTo>
                <a:lnTo>
                  <a:pt x="498" y="33"/>
                </a:lnTo>
                <a:lnTo>
                  <a:pt x="510" y="31"/>
                </a:lnTo>
                <a:lnTo>
                  <a:pt x="522" y="27"/>
                </a:lnTo>
                <a:lnTo>
                  <a:pt x="531" y="25"/>
                </a:lnTo>
                <a:lnTo>
                  <a:pt x="541" y="21"/>
                </a:lnTo>
                <a:lnTo>
                  <a:pt x="550" y="19"/>
                </a:lnTo>
                <a:lnTo>
                  <a:pt x="558" y="17"/>
                </a:lnTo>
                <a:lnTo>
                  <a:pt x="566" y="13"/>
                </a:lnTo>
                <a:lnTo>
                  <a:pt x="573" y="11"/>
                </a:lnTo>
                <a:lnTo>
                  <a:pt x="581" y="9"/>
                </a:lnTo>
                <a:lnTo>
                  <a:pt x="587" y="8"/>
                </a:lnTo>
                <a:lnTo>
                  <a:pt x="593" y="8"/>
                </a:lnTo>
                <a:lnTo>
                  <a:pt x="598" y="6"/>
                </a:lnTo>
                <a:lnTo>
                  <a:pt x="602" y="4"/>
                </a:lnTo>
                <a:lnTo>
                  <a:pt x="606" y="4"/>
                </a:lnTo>
                <a:lnTo>
                  <a:pt x="610" y="2"/>
                </a:lnTo>
                <a:lnTo>
                  <a:pt x="614" y="2"/>
                </a:lnTo>
                <a:lnTo>
                  <a:pt x="616" y="2"/>
                </a:lnTo>
                <a:lnTo>
                  <a:pt x="617" y="0"/>
                </a:lnTo>
                <a:lnTo>
                  <a:pt x="619" y="0"/>
                </a:lnTo>
                <a:lnTo>
                  <a:pt x="621" y="2"/>
                </a:lnTo>
                <a:lnTo>
                  <a:pt x="627" y="2"/>
                </a:lnTo>
                <a:lnTo>
                  <a:pt x="631" y="6"/>
                </a:lnTo>
                <a:lnTo>
                  <a:pt x="637" y="8"/>
                </a:lnTo>
                <a:lnTo>
                  <a:pt x="642" y="11"/>
                </a:lnTo>
                <a:lnTo>
                  <a:pt x="648" y="15"/>
                </a:lnTo>
                <a:lnTo>
                  <a:pt x="658" y="19"/>
                </a:lnTo>
                <a:lnTo>
                  <a:pt x="667" y="23"/>
                </a:lnTo>
                <a:lnTo>
                  <a:pt x="677" y="31"/>
                </a:lnTo>
                <a:lnTo>
                  <a:pt x="687" y="40"/>
                </a:lnTo>
                <a:lnTo>
                  <a:pt x="692" y="48"/>
                </a:lnTo>
                <a:lnTo>
                  <a:pt x="698" y="56"/>
                </a:lnTo>
                <a:lnTo>
                  <a:pt x="702" y="63"/>
                </a:lnTo>
                <a:lnTo>
                  <a:pt x="706" y="69"/>
                </a:lnTo>
                <a:lnTo>
                  <a:pt x="708" y="75"/>
                </a:lnTo>
                <a:lnTo>
                  <a:pt x="708" y="79"/>
                </a:lnTo>
                <a:lnTo>
                  <a:pt x="708" y="80"/>
                </a:lnTo>
                <a:lnTo>
                  <a:pt x="706" y="84"/>
                </a:lnTo>
                <a:lnTo>
                  <a:pt x="706" y="86"/>
                </a:lnTo>
                <a:lnTo>
                  <a:pt x="704" y="88"/>
                </a:lnTo>
                <a:lnTo>
                  <a:pt x="700" y="90"/>
                </a:lnTo>
                <a:lnTo>
                  <a:pt x="698" y="92"/>
                </a:lnTo>
                <a:lnTo>
                  <a:pt x="694" y="96"/>
                </a:lnTo>
                <a:lnTo>
                  <a:pt x="690" y="98"/>
                </a:lnTo>
                <a:lnTo>
                  <a:pt x="687" y="100"/>
                </a:lnTo>
                <a:lnTo>
                  <a:pt x="681" y="104"/>
                </a:lnTo>
                <a:lnTo>
                  <a:pt x="675" y="105"/>
                </a:lnTo>
                <a:lnTo>
                  <a:pt x="669" y="109"/>
                </a:lnTo>
                <a:lnTo>
                  <a:pt x="664" y="111"/>
                </a:lnTo>
                <a:lnTo>
                  <a:pt x="656" y="115"/>
                </a:lnTo>
                <a:lnTo>
                  <a:pt x="648" y="117"/>
                </a:lnTo>
                <a:lnTo>
                  <a:pt x="639" y="121"/>
                </a:lnTo>
                <a:lnTo>
                  <a:pt x="631" y="125"/>
                </a:lnTo>
                <a:lnTo>
                  <a:pt x="621" y="127"/>
                </a:lnTo>
                <a:lnTo>
                  <a:pt x="612" y="130"/>
                </a:lnTo>
                <a:lnTo>
                  <a:pt x="600" y="134"/>
                </a:lnTo>
                <a:lnTo>
                  <a:pt x="591" y="138"/>
                </a:lnTo>
                <a:lnTo>
                  <a:pt x="579" y="142"/>
                </a:lnTo>
                <a:lnTo>
                  <a:pt x="566" y="144"/>
                </a:lnTo>
                <a:lnTo>
                  <a:pt x="554" y="148"/>
                </a:lnTo>
                <a:lnTo>
                  <a:pt x="541" y="152"/>
                </a:lnTo>
                <a:lnTo>
                  <a:pt x="527" y="155"/>
                </a:lnTo>
                <a:lnTo>
                  <a:pt x="512" y="159"/>
                </a:lnTo>
                <a:lnTo>
                  <a:pt x="497" y="163"/>
                </a:lnTo>
                <a:lnTo>
                  <a:pt x="481" y="167"/>
                </a:lnTo>
                <a:lnTo>
                  <a:pt x="466" y="173"/>
                </a:lnTo>
                <a:lnTo>
                  <a:pt x="449" y="176"/>
                </a:lnTo>
                <a:lnTo>
                  <a:pt x="431" y="180"/>
                </a:lnTo>
                <a:lnTo>
                  <a:pt x="414" y="186"/>
                </a:lnTo>
                <a:lnTo>
                  <a:pt x="397" y="190"/>
                </a:lnTo>
                <a:lnTo>
                  <a:pt x="381" y="196"/>
                </a:lnTo>
                <a:lnTo>
                  <a:pt x="366" y="199"/>
                </a:lnTo>
                <a:lnTo>
                  <a:pt x="351" y="205"/>
                </a:lnTo>
                <a:lnTo>
                  <a:pt x="335" y="209"/>
                </a:lnTo>
                <a:lnTo>
                  <a:pt x="322" y="213"/>
                </a:lnTo>
                <a:lnTo>
                  <a:pt x="308" y="217"/>
                </a:lnTo>
                <a:lnTo>
                  <a:pt x="295" y="221"/>
                </a:lnTo>
                <a:lnTo>
                  <a:pt x="282" y="224"/>
                </a:lnTo>
                <a:lnTo>
                  <a:pt x="270" y="226"/>
                </a:lnTo>
                <a:lnTo>
                  <a:pt x="259" y="230"/>
                </a:lnTo>
                <a:lnTo>
                  <a:pt x="236" y="236"/>
                </a:lnTo>
                <a:lnTo>
                  <a:pt x="214" y="242"/>
                </a:lnTo>
                <a:lnTo>
                  <a:pt x="197" y="246"/>
                </a:lnTo>
                <a:lnTo>
                  <a:pt x="180" y="249"/>
                </a:lnTo>
                <a:lnTo>
                  <a:pt x="165" y="253"/>
                </a:lnTo>
                <a:lnTo>
                  <a:pt x="151" y="255"/>
                </a:lnTo>
                <a:lnTo>
                  <a:pt x="142" y="257"/>
                </a:lnTo>
                <a:lnTo>
                  <a:pt x="130" y="257"/>
                </a:lnTo>
                <a:lnTo>
                  <a:pt x="122" y="259"/>
                </a:lnTo>
                <a:lnTo>
                  <a:pt x="117" y="259"/>
                </a:lnTo>
                <a:lnTo>
                  <a:pt x="105" y="259"/>
                </a:lnTo>
                <a:lnTo>
                  <a:pt x="95" y="257"/>
                </a:lnTo>
                <a:lnTo>
                  <a:pt x="86" y="255"/>
                </a:lnTo>
                <a:lnTo>
                  <a:pt x="78" y="251"/>
                </a:lnTo>
                <a:lnTo>
                  <a:pt x="69" y="249"/>
                </a:lnTo>
                <a:lnTo>
                  <a:pt x="59" y="246"/>
                </a:lnTo>
                <a:lnTo>
                  <a:pt x="49" y="240"/>
                </a:lnTo>
                <a:lnTo>
                  <a:pt x="38" y="236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1916280" y="3186000"/>
            <a:ext cx="757080" cy="493920"/>
          </a:xfrm>
          <a:custGeom>
            <a:avLst/>
            <a:gdLst/>
            <a:ahLst/>
            <a:rect l="l" t="t" r="r" b="b"/>
            <a:pathLst>
              <a:path w="954" h="622">
                <a:moveTo>
                  <a:pt x="908" y="69"/>
                </a:moveTo>
                <a:lnTo>
                  <a:pt x="902" y="73"/>
                </a:lnTo>
                <a:lnTo>
                  <a:pt x="899" y="75"/>
                </a:lnTo>
                <a:lnTo>
                  <a:pt x="895" y="81"/>
                </a:lnTo>
                <a:lnTo>
                  <a:pt x="889" y="85"/>
                </a:lnTo>
                <a:lnTo>
                  <a:pt x="883" y="88"/>
                </a:lnTo>
                <a:lnTo>
                  <a:pt x="876" y="94"/>
                </a:lnTo>
                <a:lnTo>
                  <a:pt x="868" y="100"/>
                </a:lnTo>
                <a:lnTo>
                  <a:pt x="860" y="106"/>
                </a:lnTo>
                <a:lnTo>
                  <a:pt x="853" y="111"/>
                </a:lnTo>
                <a:lnTo>
                  <a:pt x="845" y="117"/>
                </a:lnTo>
                <a:lnTo>
                  <a:pt x="835" y="125"/>
                </a:lnTo>
                <a:lnTo>
                  <a:pt x="826" y="131"/>
                </a:lnTo>
                <a:lnTo>
                  <a:pt x="816" y="138"/>
                </a:lnTo>
                <a:lnTo>
                  <a:pt x="805" y="146"/>
                </a:lnTo>
                <a:lnTo>
                  <a:pt x="795" y="156"/>
                </a:lnTo>
                <a:lnTo>
                  <a:pt x="781" y="163"/>
                </a:lnTo>
                <a:lnTo>
                  <a:pt x="770" y="173"/>
                </a:lnTo>
                <a:lnTo>
                  <a:pt x="758" y="182"/>
                </a:lnTo>
                <a:lnTo>
                  <a:pt x="745" y="192"/>
                </a:lnTo>
                <a:lnTo>
                  <a:pt x="732" y="202"/>
                </a:lnTo>
                <a:lnTo>
                  <a:pt x="703" y="225"/>
                </a:lnTo>
                <a:lnTo>
                  <a:pt x="672" y="248"/>
                </a:lnTo>
                <a:lnTo>
                  <a:pt x="641" y="273"/>
                </a:lnTo>
                <a:lnTo>
                  <a:pt x="607" y="301"/>
                </a:lnTo>
                <a:lnTo>
                  <a:pt x="570" y="330"/>
                </a:lnTo>
                <a:lnTo>
                  <a:pt x="553" y="346"/>
                </a:lnTo>
                <a:lnTo>
                  <a:pt x="534" y="361"/>
                </a:lnTo>
                <a:lnTo>
                  <a:pt x="515" y="376"/>
                </a:lnTo>
                <a:lnTo>
                  <a:pt x="496" y="392"/>
                </a:lnTo>
                <a:lnTo>
                  <a:pt x="478" y="407"/>
                </a:lnTo>
                <a:lnTo>
                  <a:pt x="461" y="420"/>
                </a:lnTo>
                <a:lnTo>
                  <a:pt x="444" y="434"/>
                </a:lnTo>
                <a:lnTo>
                  <a:pt x="426" y="447"/>
                </a:lnTo>
                <a:lnTo>
                  <a:pt x="411" y="461"/>
                </a:lnTo>
                <a:lnTo>
                  <a:pt x="396" y="472"/>
                </a:lnTo>
                <a:lnTo>
                  <a:pt x="380" y="486"/>
                </a:lnTo>
                <a:lnTo>
                  <a:pt x="367" y="497"/>
                </a:lnTo>
                <a:lnTo>
                  <a:pt x="352" y="507"/>
                </a:lnTo>
                <a:lnTo>
                  <a:pt x="338" y="518"/>
                </a:lnTo>
                <a:lnTo>
                  <a:pt x="327" y="528"/>
                </a:lnTo>
                <a:lnTo>
                  <a:pt x="313" y="537"/>
                </a:lnTo>
                <a:lnTo>
                  <a:pt x="302" y="545"/>
                </a:lnTo>
                <a:lnTo>
                  <a:pt x="290" y="555"/>
                </a:lnTo>
                <a:lnTo>
                  <a:pt x="279" y="562"/>
                </a:lnTo>
                <a:lnTo>
                  <a:pt x="269" y="568"/>
                </a:lnTo>
                <a:lnTo>
                  <a:pt x="260" y="576"/>
                </a:lnTo>
                <a:lnTo>
                  <a:pt x="250" y="582"/>
                </a:lnTo>
                <a:lnTo>
                  <a:pt x="240" y="587"/>
                </a:lnTo>
                <a:lnTo>
                  <a:pt x="233" y="593"/>
                </a:lnTo>
                <a:lnTo>
                  <a:pt x="225" y="599"/>
                </a:lnTo>
                <a:lnTo>
                  <a:pt x="217" y="603"/>
                </a:lnTo>
                <a:lnTo>
                  <a:pt x="212" y="607"/>
                </a:lnTo>
                <a:lnTo>
                  <a:pt x="206" y="610"/>
                </a:lnTo>
                <a:lnTo>
                  <a:pt x="200" y="612"/>
                </a:lnTo>
                <a:lnTo>
                  <a:pt x="194" y="614"/>
                </a:lnTo>
                <a:lnTo>
                  <a:pt x="190" y="616"/>
                </a:lnTo>
                <a:lnTo>
                  <a:pt x="185" y="618"/>
                </a:lnTo>
                <a:lnTo>
                  <a:pt x="183" y="618"/>
                </a:lnTo>
                <a:lnTo>
                  <a:pt x="179" y="620"/>
                </a:lnTo>
                <a:lnTo>
                  <a:pt x="173" y="620"/>
                </a:lnTo>
                <a:lnTo>
                  <a:pt x="167" y="622"/>
                </a:lnTo>
                <a:lnTo>
                  <a:pt x="162" y="622"/>
                </a:lnTo>
                <a:lnTo>
                  <a:pt x="156" y="622"/>
                </a:lnTo>
                <a:lnTo>
                  <a:pt x="150" y="620"/>
                </a:lnTo>
                <a:lnTo>
                  <a:pt x="144" y="618"/>
                </a:lnTo>
                <a:lnTo>
                  <a:pt x="139" y="614"/>
                </a:lnTo>
                <a:lnTo>
                  <a:pt x="133" y="610"/>
                </a:lnTo>
                <a:lnTo>
                  <a:pt x="125" y="607"/>
                </a:lnTo>
                <a:lnTo>
                  <a:pt x="119" y="601"/>
                </a:lnTo>
                <a:lnTo>
                  <a:pt x="112" y="595"/>
                </a:lnTo>
                <a:lnTo>
                  <a:pt x="104" y="587"/>
                </a:lnTo>
                <a:lnTo>
                  <a:pt x="96" y="580"/>
                </a:lnTo>
                <a:lnTo>
                  <a:pt x="89" y="572"/>
                </a:lnTo>
                <a:lnTo>
                  <a:pt x="79" y="562"/>
                </a:lnTo>
                <a:lnTo>
                  <a:pt x="71" y="551"/>
                </a:lnTo>
                <a:lnTo>
                  <a:pt x="62" y="543"/>
                </a:lnTo>
                <a:lnTo>
                  <a:pt x="54" y="536"/>
                </a:lnTo>
                <a:lnTo>
                  <a:pt x="45" y="528"/>
                </a:lnTo>
                <a:lnTo>
                  <a:pt x="39" y="520"/>
                </a:lnTo>
                <a:lnTo>
                  <a:pt x="31" y="513"/>
                </a:lnTo>
                <a:lnTo>
                  <a:pt x="25" y="505"/>
                </a:lnTo>
                <a:lnTo>
                  <a:pt x="20" y="497"/>
                </a:lnTo>
                <a:lnTo>
                  <a:pt x="14" y="491"/>
                </a:lnTo>
                <a:lnTo>
                  <a:pt x="10" y="484"/>
                </a:lnTo>
                <a:lnTo>
                  <a:pt x="6" y="478"/>
                </a:lnTo>
                <a:lnTo>
                  <a:pt x="4" y="472"/>
                </a:lnTo>
                <a:lnTo>
                  <a:pt x="2" y="465"/>
                </a:lnTo>
                <a:lnTo>
                  <a:pt x="0" y="459"/>
                </a:lnTo>
                <a:lnTo>
                  <a:pt x="0" y="453"/>
                </a:lnTo>
                <a:lnTo>
                  <a:pt x="0" y="445"/>
                </a:lnTo>
                <a:lnTo>
                  <a:pt x="2" y="440"/>
                </a:lnTo>
                <a:lnTo>
                  <a:pt x="2" y="436"/>
                </a:lnTo>
                <a:lnTo>
                  <a:pt x="2" y="432"/>
                </a:lnTo>
                <a:lnTo>
                  <a:pt x="4" y="428"/>
                </a:lnTo>
                <a:lnTo>
                  <a:pt x="6" y="424"/>
                </a:lnTo>
                <a:lnTo>
                  <a:pt x="10" y="422"/>
                </a:lnTo>
                <a:lnTo>
                  <a:pt x="14" y="418"/>
                </a:lnTo>
                <a:lnTo>
                  <a:pt x="18" y="417"/>
                </a:lnTo>
                <a:lnTo>
                  <a:pt x="23" y="415"/>
                </a:lnTo>
                <a:lnTo>
                  <a:pt x="27" y="413"/>
                </a:lnTo>
                <a:lnTo>
                  <a:pt x="33" y="411"/>
                </a:lnTo>
                <a:lnTo>
                  <a:pt x="41" y="409"/>
                </a:lnTo>
                <a:lnTo>
                  <a:pt x="48" y="407"/>
                </a:lnTo>
                <a:lnTo>
                  <a:pt x="54" y="407"/>
                </a:lnTo>
                <a:lnTo>
                  <a:pt x="64" y="407"/>
                </a:lnTo>
                <a:lnTo>
                  <a:pt x="71" y="405"/>
                </a:lnTo>
                <a:lnTo>
                  <a:pt x="81" y="405"/>
                </a:lnTo>
                <a:lnTo>
                  <a:pt x="98" y="405"/>
                </a:lnTo>
                <a:lnTo>
                  <a:pt x="114" y="405"/>
                </a:lnTo>
                <a:lnTo>
                  <a:pt x="129" y="405"/>
                </a:lnTo>
                <a:lnTo>
                  <a:pt x="141" y="405"/>
                </a:lnTo>
                <a:lnTo>
                  <a:pt x="152" y="403"/>
                </a:lnTo>
                <a:lnTo>
                  <a:pt x="162" y="401"/>
                </a:lnTo>
                <a:lnTo>
                  <a:pt x="171" y="397"/>
                </a:lnTo>
                <a:lnTo>
                  <a:pt x="179" y="395"/>
                </a:lnTo>
                <a:lnTo>
                  <a:pt x="181" y="394"/>
                </a:lnTo>
                <a:lnTo>
                  <a:pt x="185" y="394"/>
                </a:lnTo>
                <a:lnTo>
                  <a:pt x="187" y="394"/>
                </a:lnTo>
                <a:lnTo>
                  <a:pt x="192" y="392"/>
                </a:lnTo>
                <a:lnTo>
                  <a:pt x="196" y="390"/>
                </a:lnTo>
                <a:lnTo>
                  <a:pt x="202" y="388"/>
                </a:lnTo>
                <a:lnTo>
                  <a:pt x="208" y="386"/>
                </a:lnTo>
                <a:lnTo>
                  <a:pt x="213" y="382"/>
                </a:lnTo>
                <a:lnTo>
                  <a:pt x="221" y="378"/>
                </a:lnTo>
                <a:lnTo>
                  <a:pt x="229" y="374"/>
                </a:lnTo>
                <a:lnTo>
                  <a:pt x="238" y="371"/>
                </a:lnTo>
                <a:lnTo>
                  <a:pt x="246" y="367"/>
                </a:lnTo>
                <a:lnTo>
                  <a:pt x="256" y="361"/>
                </a:lnTo>
                <a:lnTo>
                  <a:pt x="267" y="357"/>
                </a:lnTo>
                <a:lnTo>
                  <a:pt x="277" y="351"/>
                </a:lnTo>
                <a:lnTo>
                  <a:pt x="288" y="346"/>
                </a:lnTo>
                <a:lnTo>
                  <a:pt x="302" y="338"/>
                </a:lnTo>
                <a:lnTo>
                  <a:pt x="313" y="332"/>
                </a:lnTo>
                <a:lnTo>
                  <a:pt x="327" y="324"/>
                </a:lnTo>
                <a:lnTo>
                  <a:pt x="340" y="317"/>
                </a:lnTo>
                <a:lnTo>
                  <a:pt x="355" y="309"/>
                </a:lnTo>
                <a:lnTo>
                  <a:pt x="371" y="300"/>
                </a:lnTo>
                <a:lnTo>
                  <a:pt x="386" y="292"/>
                </a:lnTo>
                <a:lnTo>
                  <a:pt x="402" y="282"/>
                </a:lnTo>
                <a:lnTo>
                  <a:pt x="419" y="273"/>
                </a:lnTo>
                <a:lnTo>
                  <a:pt x="436" y="261"/>
                </a:lnTo>
                <a:lnTo>
                  <a:pt x="455" y="252"/>
                </a:lnTo>
                <a:lnTo>
                  <a:pt x="473" y="240"/>
                </a:lnTo>
                <a:lnTo>
                  <a:pt x="492" y="228"/>
                </a:lnTo>
                <a:lnTo>
                  <a:pt x="511" y="217"/>
                </a:lnTo>
                <a:lnTo>
                  <a:pt x="532" y="205"/>
                </a:lnTo>
                <a:lnTo>
                  <a:pt x="553" y="192"/>
                </a:lnTo>
                <a:lnTo>
                  <a:pt x="574" y="181"/>
                </a:lnTo>
                <a:lnTo>
                  <a:pt x="593" y="167"/>
                </a:lnTo>
                <a:lnTo>
                  <a:pt x="615" y="156"/>
                </a:lnTo>
                <a:lnTo>
                  <a:pt x="634" y="144"/>
                </a:lnTo>
                <a:lnTo>
                  <a:pt x="651" y="133"/>
                </a:lnTo>
                <a:lnTo>
                  <a:pt x="670" y="123"/>
                </a:lnTo>
                <a:lnTo>
                  <a:pt x="687" y="113"/>
                </a:lnTo>
                <a:lnTo>
                  <a:pt x="703" y="104"/>
                </a:lnTo>
                <a:lnTo>
                  <a:pt x="720" y="94"/>
                </a:lnTo>
                <a:lnTo>
                  <a:pt x="735" y="85"/>
                </a:lnTo>
                <a:lnTo>
                  <a:pt x="751" y="77"/>
                </a:lnTo>
                <a:lnTo>
                  <a:pt x="766" y="69"/>
                </a:lnTo>
                <a:lnTo>
                  <a:pt x="780" y="62"/>
                </a:lnTo>
                <a:lnTo>
                  <a:pt x="793" y="54"/>
                </a:lnTo>
                <a:lnTo>
                  <a:pt x="806" y="48"/>
                </a:lnTo>
                <a:lnTo>
                  <a:pt x="818" y="40"/>
                </a:lnTo>
                <a:lnTo>
                  <a:pt x="829" y="35"/>
                </a:lnTo>
                <a:lnTo>
                  <a:pt x="841" y="31"/>
                </a:lnTo>
                <a:lnTo>
                  <a:pt x="853" y="25"/>
                </a:lnTo>
                <a:lnTo>
                  <a:pt x="862" y="21"/>
                </a:lnTo>
                <a:lnTo>
                  <a:pt x="872" y="17"/>
                </a:lnTo>
                <a:lnTo>
                  <a:pt x="879" y="14"/>
                </a:lnTo>
                <a:lnTo>
                  <a:pt x="889" y="10"/>
                </a:lnTo>
                <a:lnTo>
                  <a:pt x="897" y="8"/>
                </a:lnTo>
                <a:lnTo>
                  <a:pt x="902" y="4"/>
                </a:lnTo>
                <a:lnTo>
                  <a:pt x="910" y="2"/>
                </a:lnTo>
                <a:lnTo>
                  <a:pt x="916" y="2"/>
                </a:lnTo>
                <a:lnTo>
                  <a:pt x="922" y="0"/>
                </a:lnTo>
                <a:lnTo>
                  <a:pt x="925" y="0"/>
                </a:lnTo>
                <a:lnTo>
                  <a:pt x="929" y="0"/>
                </a:lnTo>
                <a:lnTo>
                  <a:pt x="933" y="0"/>
                </a:lnTo>
                <a:lnTo>
                  <a:pt x="937" y="2"/>
                </a:lnTo>
                <a:lnTo>
                  <a:pt x="943" y="4"/>
                </a:lnTo>
                <a:lnTo>
                  <a:pt x="947" y="6"/>
                </a:lnTo>
                <a:lnTo>
                  <a:pt x="948" y="10"/>
                </a:lnTo>
                <a:lnTo>
                  <a:pt x="952" y="12"/>
                </a:lnTo>
                <a:lnTo>
                  <a:pt x="952" y="15"/>
                </a:lnTo>
                <a:lnTo>
                  <a:pt x="954" y="19"/>
                </a:lnTo>
                <a:lnTo>
                  <a:pt x="952" y="23"/>
                </a:lnTo>
                <a:lnTo>
                  <a:pt x="952" y="27"/>
                </a:lnTo>
                <a:lnTo>
                  <a:pt x="948" y="31"/>
                </a:lnTo>
                <a:lnTo>
                  <a:pt x="947" y="35"/>
                </a:lnTo>
                <a:lnTo>
                  <a:pt x="941" y="40"/>
                </a:lnTo>
                <a:lnTo>
                  <a:pt x="937" y="46"/>
                </a:lnTo>
                <a:lnTo>
                  <a:pt x="931" y="50"/>
                </a:lnTo>
                <a:lnTo>
                  <a:pt x="924" y="56"/>
                </a:lnTo>
                <a:lnTo>
                  <a:pt x="916" y="62"/>
                </a:lnTo>
                <a:lnTo>
                  <a:pt x="908" y="6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2627280" y="2635200"/>
            <a:ext cx="1096920" cy="284040"/>
          </a:xfrm>
          <a:custGeom>
            <a:avLst/>
            <a:gdLst/>
            <a:ahLst/>
            <a:rect l="l" t="t" r="r" b="b"/>
            <a:pathLst>
              <a:path w="1381" h="359">
                <a:moveTo>
                  <a:pt x="0" y="269"/>
                </a:moveTo>
                <a:lnTo>
                  <a:pt x="2" y="267"/>
                </a:lnTo>
                <a:lnTo>
                  <a:pt x="3" y="265"/>
                </a:lnTo>
                <a:lnTo>
                  <a:pt x="5" y="261"/>
                </a:lnTo>
                <a:lnTo>
                  <a:pt x="9" y="259"/>
                </a:lnTo>
                <a:lnTo>
                  <a:pt x="15" y="256"/>
                </a:lnTo>
                <a:lnTo>
                  <a:pt x="21" y="254"/>
                </a:lnTo>
                <a:lnTo>
                  <a:pt x="28" y="250"/>
                </a:lnTo>
                <a:lnTo>
                  <a:pt x="38" y="248"/>
                </a:lnTo>
                <a:lnTo>
                  <a:pt x="48" y="244"/>
                </a:lnTo>
                <a:lnTo>
                  <a:pt x="57" y="240"/>
                </a:lnTo>
                <a:lnTo>
                  <a:pt x="71" y="238"/>
                </a:lnTo>
                <a:lnTo>
                  <a:pt x="84" y="235"/>
                </a:lnTo>
                <a:lnTo>
                  <a:pt x="98" y="233"/>
                </a:lnTo>
                <a:lnTo>
                  <a:pt x="113" y="229"/>
                </a:lnTo>
                <a:lnTo>
                  <a:pt x="130" y="227"/>
                </a:lnTo>
                <a:lnTo>
                  <a:pt x="147" y="225"/>
                </a:lnTo>
                <a:lnTo>
                  <a:pt x="165" y="223"/>
                </a:lnTo>
                <a:lnTo>
                  <a:pt x="182" y="219"/>
                </a:lnTo>
                <a:lnTo>
                  <a:pt x="201" y="217"/>
                </a:lnTo>
                <a:lnTo>
                  <a:pt x="220" y="213"/>
                </a:lnTo>
                <a:lnTo>
                  <a:pt x="240" y="212"/>
                </a:lnTo>
                <a:lnTo>
                  <a:pt x="261" y="208"/>
                </a:lnTo>
                <a:lnTo>
                  <a:pt x="282" y="204"/>
                </a:lnTo>
                <a:lnTo>
                  <a:pt x="303" y="200"/>
                </a:lnTo>
                <a:lnTo>
                  <a:pt x="326" y="194"/>
                </a:lnTo>
                <a:lnTo>
                  <a:pt x="349" y="190"/>
                </a:lnTo>
                <a:lnTo>
                  <a:pt x="372" y="187"/>
                </a:lnTo>
                <a:lnTo>
                  <a:pt x="397" y="181"/>
                </a:lnTo>
                <a:lnTo>
                  <a:pt x="422" y="175"/>
                </a:lnTo>
                <a:lnTo>
                  <a:pt x="449" y="169"/>
                </a:lnTo>
                <a:lnTo>
                  <a:pt x="476" y="164"/>
                </a:lnTo>
                <a:lnTo>
                  <a:pt x="502" y="158"/>
                </a:lnTo>
                <a:lnTo>
                  <a:pt x="606" y="131"/>
                </a:lnTo>
                <a:lnTo>
                  <a:pt x="710" y="106"/>
                </a:lnTo>
                <a:lnTo>
                  <a:pt x="763" y="94"/>
                </a:lnTo>
                <a:lnTo>
                  <a:pt x="817" y="81"/>
                </a:lnTo>
                <a:lnTo>
                  <a:pt x="871" y="70"/>
                </a:lnTo>
                <a:lnTo>
                  <a:pt x="925" y="56"/>
                </a:lnTo>
                <a:lnTo>
                  <a:pt x="950" y="50"/>
                </a:lnTo>
                <a:lnTo>
                  <a:pt x="975" y="45"/>
                </a:lnTo>
                <a:lnTo>
                  <a:pt x="998" y="39"/>
                </a:lnTo>
                <a:lnTo>
                  <a:pt x="1019" y="33"/>
                </a:lnTo>
                <a:lnTo>
                  <a:pt x="1038" y="27"/>
                </a:lnTo>
                <a:lnTo>
                  <a:pt x="1055" y="23"/>
                </a:lnTo>
                <a:lnTo>
                  <a:pt x="1072" y="20"/>
                </a:lnTo>
                <a:lnTo>
                  <a:pt x="1090" y="16"/>
                </a:lnTo>
                <a:lnTo>
                  <a:pt x="1103" y="12"/>
                </a:lnTo>
                <a:lnTo>
                  <a:pt x="1117" y="8"/>
                </a:lnTo>
                <a:lnTo>
                  <a:pt x="1130" y="6"/>
                </a:lnTo>
                <a:lnTo>
                  <a:pt x="1140" y="4"/>
                </a:lnTo>
                <a:lnTo>
                  <a:pt x="1149" y="2"/>
                </a:lnTo>
                <a:lnTo>
                  <a:pt x="1159" y="0"/>
                </a:lnTo>
                <a:lnTo>
                  <a:pt x="1165" y="0"/>
                </a:lnTo>
                <a:lnTo>
                  <a:pt x="1172" y="0"/>
                </a:lnTo>
                <a:lnTo>
                  <a:pt x="1182" y="0"/>
                </a:lnTo>
                <a:lnTo>
                  <a:pt x="1193" y="2"/>
                </a:lnTo>
                <a:lnTo>
                  <a:pt x="1205" y="4"/>
                </a:lnTo>
                <a:lnTo>
                  <a:pt x="1216" y="6"/>
                </a:lnTo>
                <a:lnTo>
                  <a:pt x="1230" y="10"/>
                </a:lnTo>
                <a:lnTo>
                  <a:pt x="1241" y="14"/>
                </a:lnTo>
                <a:lnTo>
                  <a:pt x="1255" y="18"/>
                </a:lnTo>
                <a:lnTo>
                  <a:pt x="1270" y="22"/>
                </a:lnTo>
                <a:lnTo>
                  <a:pt x="1282" y="27"/>
                </a:lnTo>
                <a:lnTo>
                  <a:pt x="1291" y="33"/>
                </a:lnTo>
                <a:lnTo>
                  <a:pt x="1303" y="39"/>
                </a:lnTo>
                <a:lnTo>
                  <a:pt x="1314" y="48"/>
                </a:lnTo>
                <a:lnTo>
                  <a:pt x="1326" y="56"/>
                </a:lnTo>
                <a:lnTo>
                  <a:pt x="1337" y="66"/>
                </a:lnTo>
                <a:lnTo>
                  <a:pt x="1347" y="77"/>
                </a:lnTo>
                <a:lnTo>
                  <a:pt x="1358" y="91"/>
                </a:lnTo>
                <a:lnTo>
                  <a:pt x="1366" y="102"/>
                </a:lnTo>
                <a:lnTo>
                  <a:pt x="1372" y="114"/>
                </a:lnTo>
                <a:lnTo>
                  <a:pt x="1376" y="123"/>
                </a:lnTo>
                <a:lnTo>
                  <a:pt x="1379" y="131"/>
                </a:lnTo>
                <a:lnTo>
                  <a:pt x="1381" y="141"/>
                </a:lnTo>
                <a:lnTo>
                  <a:pt x="1381" y="146"/>
                </a:lnTo>
                <a:lnTo>
                  <a:pt x="1381" y="152"/>
                </a:lnTo>
                <a:lnTo>
                  <a:pt x="1378" y="158"/>
                </a:lnTo>
                <a:lnTo>
                  <a:pt x="1376" y="160"/>
                </a:lnTo>
                <a:lnTo>
                  <a:pt x="1372" y="162"/>
                </a:lnTo>
                <a:lnTo>
                  <a:pt x="1368" y="164"/>
                </a:lnTo>
                <a:lnTo>
                  <a:pt x="1362" y="165"/>
                </a:lnTo>
                <a:lnTo>
                  <a:pt x="1355" y="167"/>
                </a:lnTo>
                <a:lnTo>
                  <a:pt x="1345" y="169"/>
                </a:lnTo>
                <a:lnTo>
                  <a:pt x="1335" y="171"/>
                </a:lnTo>
                <a:lnTo>
                  <a:pt x="1324" y="173"/>
                </a:lnTo>
                <a:lnTo>
                  <a:pt x="1312" y="175"/>
                </a:lnTo>
                <a:lnTo>
                  <a:pt x="1297" y="175"/>
                </a:lnTo>
                <a:lnTo>
                  <a:pt x="1282" y="177"/>
                </a:lnTo>
                <a:lnTo>
                  <a:pt x="1264" y="177"/>
                </a:lnTo>
                <a:lnTo>
                  <a:pt x="1247" y="179"/>
                </a:lnTo>
                <a:lnTo>
                  <a:pt x="1226" y="179"/>
                </a:lnTo>
                <a:lnTo>
                  <a:pt x="1205" y="179"/>
                </a:lnTo>
                <a:lnTo>
                  <a:pt x="1182" y="179"/>
                </a:lnTo>
                <a:lnTo>
                  <a:pt x="1132" y="181"/>
                </a:lnTo>
                <a:lnTo>
                  <a:pt x="1082" y="183"/>
                </a:lnTo>
                <a:lnTo>
                  <a:pt x="1028" y="185"/>
                </a:lnTo>
                <a:lnTo>
                  <a:pt x="975" y="188"/>
                </a:lnTo>
                <a:lnTo>
                  <a:pt x="919" y="196"/>
                </a:lnTo>
                <a:lnTo>
                  <a:pt x="859" y="204"/>
                </a:lnTo>
                <a:lnTo>
                  <a:pt x="831" y="208"/>
                </a:lnTo>
                <a:lnTo>
                  <a:pt x="800" y="213"/>
                </a:lnTo>
                <a:lnTo>
                  <a:pt x="769" y="219"/>
                </a:lnTo>
                <a:lnTo>
                  <a:pt x="738" y="225"/>
                </a:lnTo>
                <a:lnTo>
                  <a:pt x="706" y="231"/>
                </a:lnTo>
                <a:lnTo>
                  <a:pt x="673" y="236"/>
                </a:lnTo>
                <a:lnTo>
                  <a:pt x="643" y="242"/>
                </a:lnTo>
                <a:lnTo>
                  <a:pt x="612" y="248"/>
                </a:lnTo>
                <a:lnTo>
                  <a:pt x="581" y="254"/>
                </a:lnTo>
                <a:lnTo>
                  <a:pt x="552" y="259"/>
                </a:lnTo>
                <a:lnTo>
                  <a:pt x="524" y="263"/>
                </a:lnTo>
                <a:lnTo>
                  <a:pt x="497" y="269"/>
                </a:lnTo>
                <a:lnTo>
                  <a:pt x="470" y="275"/>
                </a:lnTo>
                <a:lnTo>
                  <a:pt x="443" y="281"/>
                </a:lnTo>
                <a:lnTo>
                  <a:pt x="418" y="284"/>
                </a:lnTo>
                <a:lnTo>
                  <a:pt x="393" y="290"/>
                </a:lnTo>
                <a:lnTo>
                  <a:pt x="370" y="296"/>
                </a:lnTo>
                <a:lnTo>
                  <a:pt x="347" y="302"/>
                </a:lnTo>
                <a:lnTo>
                  <a:pt x="326" y="307"/>
                </a:lnTo>
                <a:lnTo>
                  <a:pt x="305" y="315"/>
                </a:lnTo>
                <a:lnTo>
                  <a:pt x="284" y="321"/>
                </a:lnTo>
                <a:lnTo>
                  <a:pt x="264" y="327"/>
                </a:lnTo>
                <a:lnTo>
                  <a:pt x="245" y="331"/>
                </a:lnTo>
                <a:lnTo>
                  <a:pt x="226" y="336"/>
                </a:lnTo>
                <a:lnTo>
                  <a:pt x="209" y="340"/>
                </a:lnTo>
                <a:lnTo>
                  <a:pt x="193" y="344"/>
                </a:lnTo>
                <a:lnTo>
                  <a:pt x="180" y="348"/>
                </a:lnTo>
                <a:lnTo>
                  <a:pt x="167" y="350"/>
                </a:lnTo>
                <a:lnTo>
                  <a:pt x="155" y="352"/>
                </a:lnTo>
                <a:lnTo>
                  <a:pt x="144" y="354"/>
                </a:lnTo>
                <a:lnTo>
                  <a:pt x="134" y="355"/>
                </a:lnTo>
                <a:lnTo>
                  <a:pt x="126" y="357"/>
                </a:lnTo>
                <a:lnTo>
                  <a:pt x="121" y="357"/>
                </a:lnTo>
                <a:lnTo>
                  <a:pt x="115" y="359"/>
                </a:lnTo>
                <a:lnTo>
                  <a:pt x="111" y="359"/>
                </a:lnTo>
                <a:lnTo>
                  <a:pt x="109" y="359"/>
                </a:lnTo>
                <a:lnTo>
                  <a:pt x="101" y="359"/>
                </a:lnTo>
                <a:lnTo>
                  <a:pt x="94" y="357"/>
                </a:lnTo>
                <a:lnTo>
                  <a:pt x="86" y="354"/>
                </a:lnTo>
                <a:lnTo>
                  <a:pt x="78" y="350"/>
                </a:lnTo>
                <a:lnTo>
                  <a:pt x="71" y="344"/>
                </a:lnTo>
                <a:lnTo>
                  <a:pt x="65" y="336"/>
                </a:lnTo>
                <a:lnTo>
                  <a:pt x="61" y="331"/>
                </a:lnTo>
                <a:lnTo>
                  <a:pt x="57" y="327"/>
                </a:lnTo>
                <a:lnTo>
                  <a:pt x="53" y="321"/>
                </a:lnTo>
                <a:lnTo>
                  <a:pt x="50" y="315"/>
                </a:lnTo>
                <a:lnTo>
                  <a:pt x="40" y="306"/>
                </a:lnTo>
                <a:lnTo>
                  <a:pt x="30" y="300"/>
                </a:lnTo>
                <a:lnTo>
                  <a:pt x="25" y="294"/>
                </a:lnTo>
                <a:lnTo>
                  <a:pt x="17" y="288"/>
                </a:lnTo>
                <a:lnTo>
                  <a:pt x="13" y="283"/>
                </a:lnTo>
                <a:lnTo>
                  <a:pt x="7" y="279"/>
                </a:lnTo>
                <a:lnTo>
                  <a:pt x="3" y="273"/>
                </a:lnTo>
                <a:lnTo>
                  <a:pt x="0" y="26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1"/>
          <p:cNvSpPr/>
          <p:nvPr/>
        </p:nvSpPr>
        <p:spPr>
          <a:xfrm>
            <a:off x="2314440" y="2793960"/>
            <a:ext cx="844560" cy="1131840"/>
          </a:xfrm>
          <a:custGeom>
            <a:avLst/>
            <a:gdLst/>
            <a:ahLst/>
            <a:rect l="l" t="t" r="r" b="b"/>
            <a:pathLst>
              <a:path w="1063" h="1426">
                <a:moveTo>
                  <a:pt x="148" y="1370"/>
                </a:moveTo>
                <a:lnTo>
                  <a:pt x="131" y="1380"/>
                </a:lnTo>
                <a:lnTo>
                  <a:pt x="113" y="1389"/>
                </a:lnTo>
                <a:lnTo>
                  <a:pt x="98" y="1397"/>
                </a:lnTo>
                <a:lnTo>
                  <a:pt x="85" y="1405"/>
                </a:lnTo>
                <a:lnTo>
                  <a:pt x="71" y="1410"/>
                </a:lnTo>
                <a:lnTo>
                  <a:pt x="58" y="1416"/>
                </a:lnTo>
                <a:lnTo>
                  <a:pt x="48" y="1420"/>
                </a:lnTo>
                <a:lnTo>
                  <a:pt x="39" y="1422"/>
                </a:lnTo>
                <a:lnTo>
                  <a:pt x="29" y="1426"/>
                </a:lnTo>
                <a:lnTo>
                  <a:pt x="21" y="1426"/>
                </a:lnTo>
                <a:lnTo>
                  <a:pt x="16" y="1426"/>
                </a:lnTo>
                <a:lnTo>
                  <a:pt x="10" y="1426"/>
                </a:lnTo>
                <a:lnTo>
                  <a:pt x="6" y="1424"/>
                </a:lnTo>
                <a:lnTo>
                  <a:pt x="2" y="1422"/>
                </a:lnTo>
                <a:lnTo>
                  <a:pt x="2" y="1420"/>
                </a:lnTo>
                <a:lnTo>
                  <a:pt x="0" y="1416"/>
                </a:lnTo>
                <a:lnTo>
                  <a:pt x="0" y="1412"/>
                </a:lnTo>
                <a:lnTo>
                  <a:pt x="0" y="1410"/>
                </a:lnTo>
                <a:lnTo>
                  <a:pt x="0" y="1407"/>
                </a:lnTo>
                <a:lnTo>
                  <a:pt x="2" y="1403"/>
                </a:lnTo>
                <a:lnTo>
                  <a:pt x="6" y="1399"/>
                </a:lnTo>
                <a:lnTo>
                  <a:pt x="10" y="1393"/>
                </a:lnTo>
                <a:lnTo>
                  <a:pt x="16" y="1387"/>
                </a:lnTo>
                <a:lnTo>
                  <a:pt x="21" y="1382"/>
                </a:lnTo>
                <a:lnTo>
                  <a:pt x="29" y="1376"/>
                </a:lnTo>
                <a:lnTo>
                  <a:pt x="39" y="1368"/>
                </a:lnTo>
                <a:lnTo>
                  <a:pt x="46" y="1361"/>
                </a:lnTo>
                <a:lnTo>
                  <a:pt x="58" y="1353"/>
                </a:lnTo>
                <a:lnTo>
                  <a:pt x="69" y="1343"/>
                </a:lnTo>
                <a:lnTo>
                  <a:pt x="81" y="1334"/>
                </a:lnTo>
                <a:lnTo>
                  <a:pt x="94" y="1324"/>
                </a:lnTo>
                <a:lnTo>
                  <a:pt x="110" y="1314"/>
                </a:lnTo>
                <a:lnTo>
                  <a:pt x="123" y="1303"/>
                </a:lnTo>
                <a:lnTo>
                  <a:pt x="136" y="1291"/>
                </a:lnTo>
                <a:lnTo>
                  <a:pt x="150" y="1278"/>
                </a:lnTo>
                <a:lnTo>
                  <a:pt x="165" y="1267"/>
                </a:lnTo>
                <a:lnTo>
                  <a:pt x="183" y="1251"/>
                </a:lnTo>
                <a:lnTo>
                  <a:pt x="198" y="1238"/>
                </a:lnTo>
                <a:lnTo>
                  <a:pt x="215" y="1220"/>
                </a:lnTo>
                <a:lnTo>
                  <a:pt x="232" y="1205"/>
                </a:lnTo>
                <a:lnTo>
                  <a:pt x="250" y="1188"/>
                </a:lnTo>
                <a:lnTo>
                  <a:pt x="269" y="1171"/>
                </a:lnTo>
                <a:lnTo>
                  <a:pt x="286" y="1151"/>
                </a:lnTo>
                <a:lnTo>
                  <a:pt x="305" y="1132"/>
                </a:lnTo>
                <a:lnTo>
                  <a:pt x="325" y="1111"/>
                </a:lnTo>
                <a:lnTo>
                  <a:pt x="346" y="1090"/>
                </a:lnTo>
                <a:lnTo>
                  <a:pt x="365" y="1067"/>
                </a:lnTo>
                <a:lnTo>
                  <a:pt x="384" y="1044"/>
                </a:lnTo>
                <a:lnTo>
                  <a:pt x="424" y="998"/>
                </a:lnTo>
                <a:lnTo>
                  <a:pt x="465" y="950"/>
                </a:lnTo>
                <a:lnTo>
                  <a:pt x="505" y="900"/>
                </a:lnTo>
                <a:lnTo>
                  <a:pt x="545" y="850"/>
                </a:lnTo>
                <a:lnTo>
                  <a:pt x="584" y="796"/>
                </a:lnTo>
                <a:lnTo>
                  <a:pt x="601" y="771"/>
                </a:lnTo>
                <a:lnTo>
                  <a:pt x="620" y="743"/>
                </a:lnTo>
                <a:lnTo>
                  <a:pt x="637" y="716"/>
                </a:lnTo>
                <a:lnTo>
                  <a:pt x="657" y="687"/>
                </a:lnTo>
                <a:lnTo>
                  <a:pt x="674" y="658"/>
                </a:lnTo>
                <a:lnTo>
                  <a:pt x="689" y="629"/>
                </a:lnTo>
                <a:lnTo>
                  <a:pt x="706" y="601"/>
                </a:lnTo>
                <a:lnTo>
                  <a:pt x="722" y="572"/>
                </a:lnTo>
                <a:lnTo>
                  <a:pt x="737" y="539"/>
                </a:lnTo>
                <a:lnTo>
                  <a:pt x="753" y="507"/>
                </a:lnTo>
                <a:lnTo>
                  <a:pt x="768" y="472"/>
                </a:lnTo>
                <a:lnTo>
                  <a:pt x="781" y="437"/>
                </a:lnTo>
                <a:lnTo>
                  <a:pt x="797" y="399"/>
                </a:lnTo>
                <a:lnTo>
                  <a:pt x="810" y="361"/>
                </a:lnTo>
                <a:lnTo>
                  <a:pt x="824" y="320"/>
                </a:lnTo>
                <a:lnTo>
                  <a:pt x="837" y="278"/>
                </a:lnTo>
                <a:lnTo>
                  <a:pt x="850" y="236"/>
                </a:lnTo>
                <a:lnTo>
                  <a:pt x="864" y="192"/>
                </a:lnTo>
                <a:lnTo>
                  <a:pt x="877" y="146"/>
                </a:lnTo>
                <a:lnTo>
                  <a:pt x="891" y="98"/>
                </a:lnTo>
                <a:lnTo>
                  <a:pt x="904" y="50"/>
                </a:lnTo>
                <a:lnTo>
                  <a:pt x="916" y="0"/>
                </a:lnTo>
                <a:lnTo>
                  <a:pt x="935" y="8"/>
                </a:lnTo>
                <a:lnTo>
                  <a:pt x="950" y="17"/>
                </a:lnTo>
                <a:lnTo>
                  <a:pt x="967" y="27"/>
                </a:lnTo>
                <a:lnTo>
                  <a:pt x="983" y="34"/>
                </a:lnTo>
                <a:lnTo>
                  <a:pt x="996" y="44"/>
                </a:lnTo>
                <a:lnTo>
                  <a:pt x="1010" y="56"/>
                </a:lnTo>
                <a:lnTo>
                  <a:pt x="1023" y="67"/>
                </a:lnTo>
                <a:lnTo>
                  <a:pt x="1035" y="79"/>
                </a:lnTo>
                <a:lnTo>
                  <a:pt x="1040" y="92"/>
                </a:lnTo>
                <a:lnTo>
                  <a:pt x="1046" y="104"/>
                </a:lnTo>
                <a:lnTo>
                  <a:pt x="1052" y="115"/>
                </a:lnTo>
                <a:lnTo>
                  <a:pt x="1056" y="127"/>
                </a:lnTo>
                <a:lnTo>
                  <a:pt x="1060" y="136"/>
                </a:lnTo>
                <a:lnTo>
                  <a:pt x="1061" y="146"/>
                </a:lnTo>
                <a:lnTo>
                  <a:pt x="1063" y="152"/>
                </a:lnTo>
                <a:lnTo>
                  <a:pt x="1063" y="155"/>
                </a:lnTo>
                <a:lnTo>
                  <a:pt x="1063" y="157"/>
                </a:lnTo>
                <a:lnTo>
                  <a:pt x="1061" y="159"/>
                </a:lnTo>
                <a:lnTo>
                  <a:pt x="1060" y="163"/>
                </a:lnTo>
                <a:lnTo>
                  <a:pt x="1058" y="167"/>
                </a:lnTo>
                <a:lnTo>
                  <a:pt x="1056" y="173"/>
                </a:lnTo>
                <a:lnTo>
                  <a:pt x="1054" y="176"/>
                </a:lnTo>
                <a:lnTo>
                  <a:pt x="1052" y="184"/>
                </a:lnTo>
                <a:lnTo>
                  <a:pt x="1048" y="190"/>
                </a:lnTo>
                <a:lnTo>
                  <a:pt x="1046" y="198"/>
                </a:lnTo>
                <a:lnTo>
                  <a:pt x="1042" y="205"/>
                </a:lnTo>
                <a:lnTo>
                  <a:pt x="1040" y="215"/>
                </a:lnTo>
                <a:lnTo>
                  <a:pt x="1037" y="224"/>
                </a:lnTo>
                <a:lnTo>
                  <a:pt x="1033" y="234"/>
                </a:lnTo>
                <a:lnTo>
                  <a:pt x="1029" y="246"/>
                </a:lnTo>
                <a:lnTo>
                  <a:pt x="1025" y="257"/>
                </a:lnTo>
                <a:lnTo>
                  <a:pt x="1019" y="269"/>
                </a:lnTo>
                <a:lnTo>
                  <a:pt x="1014" y="280"/>
                </a:lnTo>
                <a:lnTo>
                  <a:pt x="1008" y="294"/>
                </a:lnTo>
                <a:lnTo>
                  <a:pt x="1002" y="309"/>
                </a:lnTo>
                <a:lnTo>
                  <a:pt x="994" y="324"/>
                </a:lnTo>
                <a:lnTo>
                  <a:pt x="987" y="342"/>
                </a:lnTo>
                <a:lnTo>
                  <a:pt x="977" y="361"/>
                </a:lnTo>
                <a:lnTo>
                  <a:pt x="967" y="380"/>
                </a:lnTo>
                <a:lnTo>
                  <a:pt x="956" y="403"/>
                </a:lnTo>
                <a:lnTo>
                  <a:pt x="944" y="426"/>
                </a:lnTo>
                <a:lnTo>
                  <a:pt x="933" y="449"/>
                </a:lnTo>
                <a:lnTo>
                  <a:pt x="919" y="476"/>
                </a:lnTo>
                <a:lnTo>
                  <a:pt x="904" y="503"/>
                </a:lnTo>
                <a:lnTo>
                  <a:pt x="889" y="532"/>
                </a:lnTo>
                <a:lnTo>
                  <a:pt x="873" y="562"/>
                </a:lnTo>
                <a:lnTo>
                  <a:pt x="856" y="595"/>
                </a:lnTo>
                <a:lnTo>
                  <a:pt x="837" y="627"/>
                </a:lnTo>
                <a:lnTo>
                  <a:pt x="818" y="662"/>
                </a:lnTo>
                <a:lnTo>
                  <a:pt x="797" y="698"/>
                </a:lnTo>
                <a:lnTo>
                  <a:pt x="777" y="733"/>
                </a:lnTo>
                <a:lnTo>
                  <a:pt x="756" y="766"/>
                </a:lnTo>
                <a:lnTo>
                  <a:pt x="737" y="798"/>
                </a:lnTo>
                <a:lnTo>
                  <a:pt x="716" y="829"/>
                </a:lnTo>
                <a:lnTo>
                  <a:pt x="695" y="860"/>
                </a:lnTo>
                <a:lnTo>
                  <a:pt x="676" y="888"/>
                </a:lnTo>
                <a:lnTo>
                  <a:pt x="655" y="917"/>
                </a:lnTo>
                <a:lnTo>
                  <a:pt x="634" y="944"/>
                </a:lnTo>
                <a:lnTo>
                  <a:pt x="612" y="971"/>
                </a:lnTo>
                <a:lnTo>
                  <a:pt x="591" y="996"/>
                </a:lnTo>
                <a:lnTo>
                  <a:pt x="570" y="1021"/>
                </a:lnTo>
                <a:lnTo>
                  <a:pt x="547" y="1046"/>
                </a:lnTo>
                <a:lnTo>
                  <a:pt x="526" y="1069"/>
                </a:lnTo>
                <a:lnTo>
                  <a:pt x="505" y="1090"/>
                </a:lnTo>
                <a:lnTo>
                  <a:pt x="484" y="1113"/>
                </a:lnTo>
                <a:lnTo>
                  <a:pt x="461" y="1134"/>
                </a:lnTo>
                <a:lnTo>
                  <a:pt x="440" y="1157"/>
                </a:lnTo>
                <a:lnTo>
                  <a:pt x="419" y="1178"/>
                </a:lnTo>
                <a:lnTo>
                  <a:pt x="396" y="1197"/>
                </a:lnTo>
                <a:lnTo>
                  <a:pt x="374" y="1217"/>
                </a:lnTo>
                <a:lnTo>
                  <a:pt x="353" y="1234"/>
                </a:lnTo>
                <a:lnTo>
                  <a:pt x="332" y="1251"/>
                </a:lnTo>
                <a:lnTo>
                  <a:pt x="313" y="1267"/>
                </a:lnTo>
                <a:lnTo>
                  <a:pt x="292" y="1282"/>
                </a:lnTo>
                <a:lnTo>
                  <a:pt x="271" y="1297"/>
                </a:lnTo>
                <a:lnTo>
                  <a:pt x="250" y="1311"/>
                </a:lnTo>
                <a:lnTo>
                  <a:pt x="231" y="1324"/>
                </a:lnTo>
                <a:lnTo>
                  <a:pt x="209" y="1336"/>
                </a:lnTo>
                <a:lnTo>
                  <a:pt x="188" y="1349"/>
                </a:lnTo>
                <a:lnTo>
                  <a:pt x="169" y="1359"/>
                </a:lnTo>
                <a:lnTo>
                  <a:pt x="148" y="137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2914560" y="3097080"/>
            <a:ext cx="588960" cy="938520"/>
          </a:xfrm>
          <a:custGeom>
            <a:avLst/>
            <a:gdLst/>
            <a:ahLst/>
            <a:rect l="l" t="t" r="r" b="b"/>
            <a:pathLst>
              <a:path w="741" h="1180">
                <a:moveTo>
                  <a:pt x="396" y="46"/>
                </a:moveTo>
                <a:lnTo>
                  <a:pt x="413" y="40"/>
                </a:lnTo>
                <a:lnTo>
                  <a:pt x="430" y="36"/>
                </a:lnTo>
                <a:lnTo>
                  <a:pt x="444" y="32"/>
                </a:lnTo>
                <a:lnTo>
                  <a:pt x="457" y="29"/>
                </a:lnTo>
                <a:lnTo>
                  <a:pt x="471" y="25"/>
                </a:lnTo>
                <a:lnTo>
                  <a:pt x="482" y="19"/>
                </a:lnTo>
                <a:lnTo>
                  <a:pt x="505" y="11"/>
                </a:lnTo>
                <a:lnTo>
                  <a:pt x="511" y="7"/>
                </a:lnTo>
                <a:lnTo>
                  <a:pt x="518" y="6"/>
                </a:lnTo>
                <a:lnTo>
                  <a:pt x="526" y="2"/>
                </a:lnTo>
                <a:lnTo>
                  <a:pt x="534" y="2"/>
                </a:lnTo>
                <a:lnTo>
                  <a:pt x="542" y="0"/>
                </a:lnTo>
                <a:lnTo>
                  <a:pt x="549" y="0"/>
                </a:lnTo>
                <a:lnTo>
                  <a:pt x="563" y="0"/>
                </a:lnTo>
                <a:lnTo>
                  <a:pt x="566" y="2"/>
                </a:lnTo>
                <a:lnTo>
                  <a:pt x="568" y="6"/>
                </a:lnTo>
                <a:lnTo>
                  <a:pt x="572" y="7"/>
                </a:lnTo>
                <a:lnTo>
                  <a:pt x="576" y="11"/>
                </a:lnTo>
                <a:lnTo>
                  <a:pt x="580" y="13"/>
                </a:lnTo>
                <a:lnTo>
                  <a:pt x="586" y="17"/>
                </a:lnTo>
                <a:lnTo>
                  <a:pt x="591" y="23"/>
                </a:lnTo>
                <a:lnTo>
                  <a:pt x="597" y="27"/>
                </a:lnTo>
                <a:lnTo>
                  <a:pt x="613" y="36"/>
                </a:lnTo>
                <a:lnTo>
                  <a:pt x="628" y="48"/>
                </a:lnTo>
                <a:lnTo>
                  <a:pt x="636" y="55"/>
                </a:lnTo>
                <a:lnTo>
                  <a:pt x="643" y="63"/>
                </a:lnTo>
                <a:lnTo>
                  <a:pt x="653" y="71"/>
                </a:lnTo>
                <a:lnTo>
                  <a:pt x="662" y="79"/>
                </a:lnTo>
                <a:lnTo>
                  <a:pt x="670" y="88"/>
                </a:lnTo>
                <a:lnTo>
                  <a:pt x="680" y="100"/>
                </a:lnTo>
                <a:lnTo>
                  <a:pt x="687" y="107"/>
                </a:lnTo>
                <a:lnTo>
                  <a:pt x="695" y="117"/>
                </a:lnTo>
                <a:lnTo>
                  <a:pt x="701" y="125"/>
                </a:lnTo>
                <a:lnTo>
                  <a:pt x="708" y="132"/>
                </a:lnTo>
                <a:lnTo>
                  <a:pt x="714" y="140"/>
                </a:lnTo>
                <a:lnTo>
                  <a:pt x="720" y="148"/>
                </a:lnTo>
                <a:lnTo>
                  <a:pt x="724" y="153"/>
                </a:lnTo>
                <a:lnTo>
                  <a:pt x="728" y="161"/>
                </a:lnTo>
                <a:lnTo>
                  <a:pt x="732" y="167"/>
                </a:lnTo>
                <a:lnTo>
                  <a:pt x="735" y="173"/>
                </a:lnTo>
                <a:lnTo>
                  <a:pt x="737" y="176"/>
                </a:lnTo>
                <a:lnTo>
                  <a:pt x="739" y="182"/>
                </a:lnTo>
                <a:lnTo>
                  <a:pt x="741" y="186"/>
                </a:lnTo>
                <a:lnTo>
                  <a:pt x="741" y="192"/>
                </a:lnTo>
                <a:lnTo>
                  <a:pt x="741" y="199"/>
                </a:lnTo>
                <a:lnTo>
                  <a:pt x="739" y="205"/>
                </a:lnTo>
                <a:lnTo>
                  <a:pt x="737" y="213"/>
                </a:lnTo>
                <a:lnTo>
                  <a:pt x="733" y="217"/>
                </a:lnTo>
                <a:lnTo>
                  <a:pt x="730" y="222"/>
                </a:lnTo>
                <a:lnTo>
                  <a:pt x="724" y="226"/>
                </a:lnTo>
                <a:lnTo>
                  <a:pt x="718" y="232"/>
                </a:lnTo>
                <a:lnTo>
                  <a:pt x="710" y="236"/>
                </a:lnTo>
                <a:lnTo>
                  <a:pt x="707" y="238"/>
                </a:lnTo>
                <a:lnTo>
                  <a:pt x="701" y="242"/>
                </a:lnTo>
                <a:lnTo>
                  <a:pt x="695" y="247"/>
                </a:lnTo>
                <a:lnTo>
                  <a:pt x="691" y="253"/>
                </a:lnTo>
                <a:lnTo>
                  <a:pt x="685" y="259"/>
                </a:lnTo>
                <a:lnTo>
                  <a:pt x="682" y="267"/>
                </a:lnTo>
                <a:lnTo>
                  <a:pt x="678" y="274"/>
                </a:lnTo>
                <a:lnTo>
                  <a:pt x="672" y="284"/>
                </a:lnTo>
                <a:lnTo>
                  <a:pt x="668" y="293"/>
                </a:lnTo>
                <a:lnTo>
                  <a:pt x="664" y="305"/>
                </a:lnTo>
                <a:lnTo>
                  <a:pt x="661" y="316"/>
                </a:lnTo>
                <a:lnTo>
                  <a:pt x="657" y="328"/>
                </a:lnTo>
                <a:lnTo>
                  <a:pt x="653" y="339"/>
                </a:lnTo>
                <a:lnTo>
                  <a:pt x="649" y="353"/>
                </a:lnTo>
                <a:lnTo>
                  <a:pt x="645" y="368"/>
                </a:lnTo>
                <a:lnTo>
                  <a:pt x="641" y="382"/>
                </a:lnTo>
                <a:lnTo>
                  <a:pt x="637" y="397"/>
                </a:lnTo>
                <a:lnTo>
                  <a:pt x="634" y="414"/>
                </a:lnTo>
                <a:lnTo>
                  <a:pt x="628" y="432"/>
                </a:lnTo>
                <a:lnTo>
                  <a:pt x="622" y="451"/>
                </a:lnTo>
                <a:lnTo>
                  <a:pt x="614" y="472"/>
                </a:lnTo>
                <a:lnTo>
                  <a:pt x="607" y="493"/>
                </a:lnTo>
                <a:lnTo>
                  <a:pt x="599" y="516"/>
                </a:lnTo>
                <a:lnTo>
                  <a:pt x="590" y="541"/>
                </a:lnTo>
                <a:lnTo>
                  <a:pt x="580" y="566"/>
                </a:lnTo>
                <a:lnTo>
                  <a:pt x="570" y="593"/>
                </a:lnTo>
                <a:lnTo>
                  <a:pt x="559" y="620"/>
                </a:lnTo>
                <a:lnTo>
                  <a:pt x="547" y="648"/>
                </a:lnTo>
                <a:lnTo>
                  <a:pt x="536" y="679"/>
                </a:lnTo>
                <a:lnTo>
                  <a:pt x="522" y="710"/>
                </a:lnTo>
                <a:lnTo>
                  <a:pt x="509" y="743"/>
                </a:lnTo>
                <a:lnTo>
                  <a:pt x="495" y="775"/>
                </a:lnTo>
                <a:lnTo>
                  <a:pt x="480" y="808"/>
                </a:lnTo>
                <a:lnTo>
                  <a:pt x="467" y="840"/>
                </a:lnTo>
                <a:lnTo>
                  <a:pt x="451" y="869"/>
                </a:lnTo>
                <a:lnTo>
                  <a:pt x="438" y="898"/>
                </a:lnTo>
                <a:lnTo>
                  <a:pt x="424" y="925"/>
                </a:lnTo>
                <a:lnTo>
                  <a:pt x="411" y="950"/>
                </a:lnTo>
                <a:lnTo>
                  <a:pt x="398" y="973"/>
                </a:lnTo>
                <a:lnTo>
                  <a:pt x="384" y="994"/>
                </a:lnTo>
                <a:lnTo>
                  <a:pt x="371" y="1015"/>
                </a:lnTo>
                <a:lnTo>
                  <a:pt x="359" y="1032"/>
                </a:lnTo>
                <a:lnTo>
                  <a:pt x="346" y="1050"/>
                </a:lnTo>
                <a:lnTo>
                  <a:pt x="334" y="1065"/>
                </a:lnTo>
                <a:lnTo>
                  <a:pt x="323" y="1080"/>
                </a:lnTo>
                <a:lnTo>
                  <a:pt x="311" y="1092"/>
                </a:lnTo>
                <a:lnTo>
                  <a:pt x="300" y="1103"/>
                </a:lnTo>
                <a:lnTo>
                  <a:pt x="288" y="1113"/>
                </a:lnTo>
                <a:lnTo>
                  <a:pt x="275" y="1121"/>
                </a:lnTo>
                <a:lnTo>
                  <a:pt x="263" y="1128"/>
                </a:lnTo>
                <a:lnTo>
                  <a:pt x="252" y="1136"/>
                </a:lnTo>
                <a:lnTo>
                  <a:pt x="242" y="1142"/>
                </a:lnTo>
                <a:lnTo>
                  <a:pt x="233" y="1147"/>
                </a:lnTo>
                <a:lnTo>
                  <a:pt x="223" y="1153"/>
                </a:lnTo>
                <a:lnTo>
                  <a:pt x="213" y="1159"/>
                </a:lnTo>
                <a:lnTo>
                  <a:pt x="206" y="1163"/>
                </a:lnTo>
                <a:lnTo>
                  <a:pt x="198" y="1167"/>
                </a:lnTo>
                <a:lnTo>
                  <a:pt x="190" y="1170"/>
                </a:lnTo>
                <a:lnTo>
                  <a:pt x="185" y="1172"/>
                </a:lnTo>
                <a:lnTo>
                  <a:pt x="179" y="1176"/>
                </a:lnTo>
                <a:lnTo>
                  <a:pt x="173" y="1178"/>
                </a:lnTo>
                <a:lnTo>
                  <a:pt x="167" y="1178"/>
                </a:lnTo>
                <a:lnTo>
                  <a:pt x="163" y="1180"/>
                </a:lnTo>
                <a:lnTo>
                  <a:pt x="160" y="1180"/>
                </a:lnTo>
                <a:lnTo>
                  <a:pt x="154" y="1180"/>
                </a:lnTo>
                <a:lnTo>
                  <a:pt x="150" y="1178"/>
                </a:lnTo>
                <a:lnTo>
                  <a:pt x="146" y="1176"/>
                </a:lnTo>
                <a:lnTo>
                  <a:pt x="142" y="1174"/>
                </a:lnTo>
                <a:lnTo>
                  <a:pt x="139" y="1170"/>
                </a:lnTo>
                <a:lnTo>
                  <a:pt x="135" y="1167"/>
                </a:lnTo>
                <a:lnTo>
                  <a:pt x="133" y="1161"/>
                </a:lnTo>
                <a:lnTo>
                  <a:pt x="131" y="1155"/>
                </a:lnTo>
                <a:lnTo>
                  <a:pt x="129" y="1149"/>
                </a:lnTo>
                <a:lnTo>
                  <a:pt x="127" y="1144"/>
                </a:lnTo>
                <a:lnTo>
                  <a:pt x="127" y="1136"/>
                </a:lnTo>
                <a:lnTo>
                  <a:pt x="127" y="1128"/>
                </a:lnTo>
                <a:lnTo>
                  <a:pt x="127" y="1119"/>
                </a:lnTo>
                <a:lnTo>
                  <a:pt x="127" y="1109"/>
                </a:lnTo>
                <a:lnTo>
                  <a:pt x="129" y="1099"/>
                </a:lnTo>
                <a:lnTo>
                  <a:pt x="131" y="1090"/>
                </a:lnTo>
                <a:lnTo>
                  <a:pt x="131" y="1078"/>
                </a:lnTo>
                <a:lnTo>
                  <a:pt x="129" y="1069"/>
                </a:lnTo>
                <a:lnTo>
                  <a:pt x="129" y="1057"/>
                </a:lnTo>
                <a:lnTo>
                  <a:pt x="127" y="1046"/>
                </a:lnTo>
                <a:lnTo>
                  <a:pt x="125" y="1034"/>
                </a:lnTo>
                <a:lnTo>
                  <a:pt x="121" y="1023"/>
                </a:lnTo>
                <a:lnTo>
                  <a:pt x="117" y="1011"/>
                </a:lnTo>
                <a:lnTo>
                  <a:pt x="114" y="1000"/>
                </a:lnTo>
                <a:lnTo>
                  <a:pt x="110" y="988"/>
                </a:lnTo>
                <a:lnTo>
                  <a:pt x="104" y="977"/>
                </a:lnTo>
                <a:lnTo>
                  <a:pt x="98" y="965"/>
                </a:lnTo>
                <a:lnTo>
                  <a:pt x="92" y="954"/>
                </a:lnTo>
                <a:lnTo>
                  <a:pt x="87" y="942"/>
                </a:lnTo>
                <a:lnTo>
                  <a:pt x="79" y="932"/>
                </a:lnTo>
                <a:lnTo>
                  <a:pt x="69" y="921"/>
                </a:lnTo>
                <a:lnTo>
                  <a:pt x="62" y="909"/>
                </a:lnTo>
                <a:lnTo>
                  <a:pt x="52" y="900"/>
                </a:lnTo>
                <a:lnTo>
                  <a:pt x="44" y="888"/>
                </a:lnTo>
                <a:lnTo>
                  <a:pt x="37" y="879"/>
                </a:lnTo>
                <a:lnTo>
                  <a:pt x="31" y="869"/>
                </a:lnTo>
                <a:lnTo>
                  <a:pt x="23" y="861"/>
                </a:lnTo>
                <a:lnTo>
                  <a:pt x="20" y="852"/>
                </a:lnTo>
                <a:lnTo>
                  <a:pt x="14" y="844"/>
                </a:lnTo>
                <a:lnTo>
                  <a:pt x="10" y="837"/>
                </a:lnTo>
                <a:lnTo>
                  <a:pt x="6" y="829"/>
                </a:lnTo>
                <a:lnTo>
                  <a:pt x="4" y="823"/>
                </a:lnTo>
                <a:lnTo>
                  <a:pt x="2" y="817"/>
                </a:lnTo>
                <a:lnTo>
                  <a:pt x="0" y="812"/>
                </a:lnTo>
                <a:lnTo>
                  <a:pt x="0" y="808"/>
                </a:lnTo>
                <a:lnTo>
                  <a:pt x="0" y="804"/>
                </a:lnTo>
                <a:lnTo>
                  <a:pt x="0" y="800"/>
                </a:lnTo>
                <a:lnTo>
                  <a:pt x="2" y="798"/>
                </a:lnTo>
                <a:lnTo>
                  <a:pt x="4" y="796"/>
                </a:lnTo>
                <a:lnTo>
                  <a:pt x="8" y="794"/>
                </a:lnTo>
                <a:lnTo>
                  <a:pt x="12" y="794"/>
                </a:lnTo>
                <a:lnTo>
                  <a:pt x="16" y="792"/>
                </a:lnTo>
                <a:lnTo>
                  <a:pt x="20" y="794"/>
                </a:lnTo>
                <a:lnTo>
                  <a:pt x="25" y="794"/>
                </a:lnTo>
                <a:lnTo>
                  <a:pt x="33" y="796"/>
                </a:lnTo>
                <a:lnTo>
                  <a:pt x="39" y="798"/>
                </a:lnTo>
                <a:lnTo>
                  <a:pt x="46" y="800"/>
                </a:lnTo>
                <a:lnTo>
                  <a:pt x="56" y="802"/>
                </a:lnTo>
                <a:lnTo>
                  <a:pt x="66" y="806"/>
                </a:lnTo>
                <a:lnTo>
                  <a:pt x="75" y="810"/>
                </a:lnTo>
                <a:lnTo>
                  <a:pt x="85" y="815"/>
                </a:lnTo>
                <a:lnTo>
                  <a:pt x="96" y="819"/>
                </a:lnTo>
                <a:lnTo>
                  <a:pt x="108" y="825"/>
                </a:lnTo>
                <a:lnTo>
                  <a:pt x="121" y="831"/>
                </a:lnTo>
                <a:lnTo>
                  <a:pt x="133" y="840"/>
                </a:lnTo>
                <a:lnTo>
                  <a:pt x="144" y="848"/>
                </a:lnTo>
                <a:lnTo>
                  <a:pt x="156" y="854"/>
                </a:lnTo>
                <a:lnTo>
                  <a:pt x="167" y="861"/>
                </a:lnTo>
                <a:lnTo>
                  <a:pt x="177" y="867"/>
                </a:lnTo>
                <a:lnTo>
                  <a:pt x="185" y="873"/>
                </a:lnTo>
                <a:lnTo>
                  <a:pt x="194" y="877"/>
                </a:lnTo>
                <a:lnTo>
                  <a:pt x="202" y="881"/>
                </a:lnTo>
                <a:lnTo>
                  <a:pt x="210" y="885"/>
                </a:lnTo>
                <a:lnTo>
                  <a:pt x="215" y="886"/>
                </a:lnTo>
                <a:lnTo>
                  <a:pt x="221" y="888"/>
                </a:lnTo>
                <a:lnTo>
                  <a:pt x="225" y="890"/>
                </a:lnTo>
                <a:lnTo>
                  <a:pt x="231" y="890"/>
                </a:lnTo>
                <a:lnTo>
                  <a:pt x="234" y="890"/>
                </a:lnTo>
                <a:lnTo>
                  <a:pt x="236" y="888"/>
                </a:lnTo>
                <a:lnTo>
                  <a:pt x="238" y="888"/>
                </a:lnTo>
                <a:lnTo>
                  <a:pt x="242" y="886"/>
                </a:lnTo>
                <a:lnTo>
                  <a:pt x="246" y="885"/>
                </a:lnTo>
                <a:lnTo>
                  <a:pt x="252" y="883"/>
                </a:lnTo>
                <a:lnTo>
                  <a:pt x="256" y="877"/>
                </a:lnTo>
                <a:lnTo>
                  <a:pt x="261" y="871"/>
                </a:lnTo>
                <a:lnTo>
                  <a:pt x="269" y="863"/>
                </a:lnTo>
                <a:lnTo>
                  <a:pt x="273" y="860"/>
                </a:lnTo>
                <a:lnTo>
                  <a:pt x="279" y="854"/>
                </a:lnTo>
                <a:lnTo>
                  <a:pt x="282" y="848"/>
                </a:lnTo>
                <a:lnTo>
                  <a:pt x="288" y="842"/>
                </a:lnTo>
                <a:lnTo>
                  <a:pt x="294" y="835"/>
                </a:lnTo>
                <a:lnTo>
                  <a:pt x="300" y="827"/>
                </a:lnTo>
                <a:lnTo>
                  <a:pt x="305" y="817"/>
                </a:lnTo>
                <a:lnTo>
                  <a:pt x="311" y="804"/>
                </a:lnTo>
                <a:lnTo>
                  <a:pt x="319" y="790"/>
                </a:lnTo>
                <a:lnTo>
                  <a:pt x="327" y="777"/>
                </a:lnTo>
                <a:lnTo>
                  <a:pt x="332" y="760"/>
                </a:lnTo>
                <a:lnTo>
                  <a:pt x="342" y="741"/>
                </a:lnTo>
                <a:lnTo>
                  <a:pt x="350" y="721"/>
                </a:lnTo>
                <a:lnTo>
                  <a:pt x="357" y="700"/>
                </a:lnTo>
                <a:lnTo>
                  <a:pt x="367" y="677"/>
                </a:lnTo>
                <a:lnTo>
                  <a:pt x="375" y="652"/>
                </a:lnTo>
                <a:lnTo>
                  <a:pt x="384" y="627"/>
                </a:lnTo>
                <a:lnTo>
                  <a:pt x="396" y="599"/>
                </a:lnTo>
                <a:lnTo>
                  <a:pt x="405" y="570"/>
                </a:lnTo>
                <a:lnTo>
                  <a:pt x="417" y="539"/>
                </a:lnTo>
                <a:lnTo>
                  <a:pt x="426" y="508"/>
                </a:lnTo>
                <a:lnTo>
                  <a:pt x="436" y="478"/>
                </a:lnTo>
                <a:lnTo>
                  <a:pt x="446" y="451"/>
                </a:lnTo>
                <a:lnTo>
                  <a:pt x="453" y="424"/>
                </a:lnTo>
                <a:lnTo>
                  <a:pt x="463" y="399"/>
                </a:lnTo>
                <a:lnTo>
                  <a:pt x="469" y="374"/>
                </a:lnTo>
                <a:lnTo>
                  <a:pt x="476" y="353"/>
                </a:lnTo>
                <a:lnTo>
                  <a:pt x="482" y="332"/>
                </a:lnTo>
                <a:lnTo>
                  <a:pt x="488" y="313"/>
                </a:lnTo>
                <a:lnTo>
                  <a:pt x="492" y="295"/>
                </a:lnTo>
                <a:lnTo>
                  <a:pt x="495" y="278"/>
                </a:lnTo>
                <a:lnTo>
                  <a:pt x="499" y="265"/>
                </a:lnTo>
                <a:lnTo>
                  <a:pt x="501" y="251"/>
                </a:lnTo>
                <a:lnTo>
                  <a:pt x="503" y="242"/>
                </a:lnTo>
                <a:lnTo>
                  <a:pt x="503" y="232"/>
                </a:lnTo>
                <a:lnTo>
                  <a:pt x="505" y="224"/>
                </a:lnTo>
                <a:lnTo>
                  <a:pt x="503" y="213"/>
                </a:lnTo>
                <a:lnTo>
                  <a:pt x="503" y="201"/>
                </a:lnTo>
                <a:lnTo>
                  <a:pt x="499" y="192"/>
                </a:lnTo>
                <a:lnTo>
                  <a:pt x="495" y="182"/>
                </a:lnTo>
                <a:lnTo>
                  <a:pt x="490" y="174"/>
                </a:lnTo>
                <a:lnTo>
                  <a:pt x="484" y="169"/>
                </a:lnTo>
                <a:lnTo>
                  <a:pt x="474" y="163"/>
                </a:lnTo>
                <a:lnTo>
                  <a:pt x="465" y="157"/>
                </a:lnTo>
                <a:lnTo>
                  <a:pt x="453" y="153"/>
                </a:lnTo>
                <a:lnTo>
                  <a:pt x="440" y="150"/>
                </a:lnTo>
                <a:lnTo>
                  <a:pt x="424" y="146"/>
                </a:lnTo>
                <a:lnTo>
                  <a:pt x="405" y="144"/>
                </a:lnTo>
                <a:lnTo>
                  <a:pt x="386" y="142"/>
                </a:lnTo>
                <a:lnTo>
                  <a:pt x="365" y="142"/>
                </a:lnTo>
                <a:lnTo>
                  <a:pt x="342" y="142"/>
                </a:lnTo>
                <a:lnTo>
                  <a:pt x="330" y="144"/>
                </a:lnTo>
                <a:lnTo>
                  <a:pt x="317" y="146"/>
                </a:lnTo>
                <a:lnTo>
                  <a:pt x="304" y="148"/>
                </a:lnTo>
                <a:lnTo>
                  <a:pt x="290" y="150"/>
                </a:lnTo>
                <a:lnTo>
                  <a:pt x="277" y="151"/>
                </a:lnTo>
                <a:lnTo>
                  <a:pt x="263" y="153"/>
                </a:lnTo>
                <a:lnTo>
                  <a:pt x="252" y="155"/>
                </a:lnTo>
                <a:lnTo>
                  <a:pt x="242" y="157"/>
                </a:lnTo>
                <a:lnTo>
                  <a:pt x="231" y="159"/>
                </a:lnTo>
                <a:lnTo>
                  <a:pt x="221" y="161"/>
                </a:lnTo>
                <a:lnTo>
                  <a:pt x="213" y="161"/>
                </a:lnTo>
                <a:lnTo>
                  <a:pt x="204" y="161"/>
                </a:lnTo>
                <a:lnTo>
                  <a:pt x="196" y="163"/>
                </a:lnTo>
                <a:lnTo>
                  <a:pt x="190" y="161"/>
                </a:lnTo>
                <a:lnTo>
                  <a:pt x="185" y="161"/>
                </a:lnTo>
                <a:lnTo>
                  <a:pt x="179" y="161"/>
                </a:lnTo>
                <a:lnTo>
                  <a:pt x="173" y="159"/>
                </a:lnTo>
                <a:lnTo>
                  <a:pt x="169" y="157"/>
                </a:lnTo>
                <a:lnTo>
                  <a:pt x="163" y="157"/>
                </a:lnTo>
                <a:lnTo>
                  <a:pt x="160" y="155"/>
                </a:lnTo>
                <a:lnTo>
                  <a:pt x="154" y="153"/>
                </a:lnTo>
                <a:lnTo>
                  <a:pt x="150" y="151"/>
                </a:lnTo>
                <a:lnTo>
                  <a:pt x="144" y="148"/>
                </a:lnTo>
                <a:lnTo>
                  <a:pt x="140" y="144"/>
                </a:lnTo>
                <a:lnTo>
                  <a:pt x="137" y="138"/>
                </a:lnTo>
                <a:lnTo>
                  <a:pt x="133" y="132"/>
                </a:lnTo>
                <a:lnTo>
                  <a:pt x="129" y="125"/>
                </a:lnTo>
                <a:lnTo>
                  <a:pt x="125" y="117"/>
                </a:lnTo>
                <a:lnTo>
                  <a:pt x="123" y="109"/>
                </a:lnTo>
                <a:lnTo>
                  <a:pt x="119" y="100"/>
                </a:lnTo>
                <a:lnTo>
                  <a:pt x="117" y="90"/>
                </a:lnTo>
                <a:lnTo>
                  <a:pt x="115" y="80"/>
                </a:lnTo>
                <a:lnTo>
                  <a:pt x="114" y="69"/>
                </a:lnTo>
                <a:lnTo>
                  <a:pt x="112" y="55"/>
                </a:lnTo>
                <a:lnTo>
                  <a:pt x="139" y="55"/>
                </a:lnTo>
                <a:lnTo>
                  <a:pt x="163" y="55"/>
                </a:lnTo>
                <a:lnTo>
                  <a:pt x="188" y="55"/>
                </a:lnTo>
                <a:lnTo>
                  <a:pt x="211" y="55"/>
                </a:lnTo>
                <a:lnTo>
                  <a:pt x="234" y="55"/>
                </a:lnTo>
                <a:lnTo>
                  <a:pt x="256" y="55"/>
                </a:lnTo>
                <a:lnTo>
                  <a:pt x="275" y="55"/>
                </a:lnTo>
                <a:lnTo>
                  <a:pt x="294" y="55"/>
                </a:lnTo>
                <a:lnTo>
                  <a:pt x="311" y="54"/>
                </a:lnTo>
                <a:lnTo>
                  <a:pt x="327" y="54"/>
                </a:lnTo>
                <a:lnTo>
                  <a:pt x="342" y="54"/>
                </a:lnTo>
                <a:lnTo>
                  <a:pt x="355" y="52"/>
                </a:lnTo>
                <a:lnTo>
                  <a:pt x="369" y="50"/>
                </a:lnTo>
                <a:lnTo>
                  <a:pt x="378" y="48"/>
                </a:lnTo>
                <a:lnTo>
                  <a:pt x="388" y="48"/>
                </a:lnTo>
                <a:lnTo>
                  <a:pt x="396" y="46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3"/>
          <p:cNvSpPr/>
          <p:nvPr/>
        </p:nvSpPr>
        <p:spPr>
          <a:xfrm>
            <a:off x="2955960" y="2224080"/>
            <a:ext cx="276120" cy="291960"/>
          </a:xfrm>
          <a:custGeom>
            <a:avLst/>
            <a:gdLst/>
            <a:ahLst/>
            <a:rect l="l" t="t" r="r" b="b"/>
            <a:pathLst>
              <a:path w="348" h="369">
                <a:moveTo>
                  <a:pt x="0" y="23"/>
                </a:moveTo>
                <a:lnTo>
                  <a:pt x="4" y="19"/>
                </a:lnTo>
                <a:lnTo>
                  <a:pt x="10" y="16"/>
                </a:lnTo>
                <a:lnTo>
                  <a:pt x="16" y="12"/>
                </a:lnTo>
                <a:lnTo>
                  <a:pt x="21" y="8"/>
                </a:lnTo>
                <a:lnTo>
                  <a:pt x="29" y="6"/>
                </a:lnTo>
                <a:lnTo>
                  <a:pt x="39" y="2"/>
                </a:lnTo>
                <a:lnTo>
                  <a:pt x="48" y="2"/>
                </a:lnTo>
                <a:lnTo>
                  <a:pt x="60" y="0"/>
                </a:lnTo>
                <a:lnTo>
                  <a:pt x="65" y="2"/>
                </a:lnTo>
                <a:lnTo>
                  <a:pt x="71" y="2"/>
                </a:lnTo>
                <a:lnTo>
                  <a:pt x="77" y="4"/>
                </a:lnTo>
                <a:lnTo>
                  <a:pt x="85" y="4"/>
                </a:lnTo>
                <a:lnTo>
                  <a:pt x="92" y="8"/>
                </a:lnTo>
                <a:lnTo>
                  <a:pt x="100" y="10"/>
                </a:lnTo>
                <a:lnTo>
                  <a:pt x="110" y="14"/>
                </a:lnTo>
                <a:lnTo>
                  <a:pt x="119" y="16"/>
                </a:lnTo>
                <a:lnTo>
                  <a:pt x="129" y="19"/>
                </a:lnTo>
                <a:lnTo>
                  <a:pt x="140" y="25"/>
                </a:lnTo>
                <a:lnTo>
                  <a:pt x="150" y="29"/>
                </a:lnTo>
                <a:lnTo>
                  <a:pt x="163" y="35"/>
                </a:lnTo>
                <a:lnTo>
                  <a:pt x="175" y="39"/>
                </a:lnTo>
                <a:lnTo>
                  <a:pt x="188" y="44"/>
                </a:lnTo>
                <a:lnTo>
                  <a:pt x="202" y="50"/>
                </a:lnTo>
                <a:lnTo>
                  <a:pt x="217" y="58"/>
                </a:lnTo>
                <a:lnTo>
                  <a:pt x="229" y="66"/>
                </a:lnTo>
                <a:lnTo>
                  <a:pt x="240" y="75"/>
                </a:lnTo>
                <a:lnTo>
                  <a:pt x="253" y="85"/>
                </a:lnTo>
                <a:lnTo>
                  <a:pt x="263" y="92"/>
                </a:lnTo>
                <a:lnTo>
                  <a:pt x="275" y="102"/>
                </a:lnTo>
                <a:lnTo>
                  <a:pt x="284" y="113"/>
                </a:lnTo>
                <a:lnTo>
                  <a:pt x="294" y="123"/>
                </a:lnTo>
                <a:lnTo>
                  <a:pt x="301" y="133"/>
                </a:lnTo>
                <a:lnTo>
                  <a:pt x="311" y="144"/>
                </a:lnTo>
                <a:lnTo>
                  <a:pt x="317" y="156"/>
                </a:lnTo>
                <a:lnTo>
                  <a:pt x="324" y="165"/>
                </a:lnTo>
                <a:lnTo>
                  <a:pt x="330" y="177"/>
                </a:lnTo>
                <a:lnTo>
                  <a:pt x="334" y="188"/>
                </a:lnTo>
                <a:lnTo>
                  <a:pt x="338" y="202"/>
                </a:lnTo>
                <a:lnTo>
                  <a:pt x="342" y="213"/>
                </a:lnTo>
                <a:lnTo>
                  <a:pt x="344" y="227"/>
                </a:lnTo>
                <a:lnTo>
                  <a:pt x="346" y="238"/>
                </a:lnTo>
                <a:lnTo>
                  <a:pt x="348" y="250"/>
                </a:lnTo>
                <a:lnTo>
                  <a:pt x="348" y="261"/>
                </a:lnTo>
                <a:lnTo>
                  <a:pt x="348" y="273"/>
                </a:lnTo>
                <a:lnTo>
                  <a:pt x="348" y="282"/>
                </a:lnTo>
                <a:lnTo>
                  <a:pt x="348" y="292"/>
                </a:lnTo>
                <a:lnTo>
                  <a:pt x="346" y="302"/>
                </a:lnTo>
                <a:lnTo>
                  <a:pt x="344" y="309"/>
                </a:lnTo>
                <a:lnTo>
                  <a:pt x="342" y="319"/>
                </a:lnTo>
                <a:lnTo>
                  <a:pt x="340" y="327"/>
                </a:lnTo>
                <a:lnTo>
                  <a:pt x="336" y="332"/>
                </a:lnTo>
                <a:lnTo>
                  <a:pt x="332" y="340"/>
                </a:lnTo>
                <a:lnTo>
                  <a:pt x="328" y="346"/>
                </a:lnTo>
                <a:lnTo>
                  <a:pt x="324" y="351"/>
                </a:lnTo>
                <a:lnTo>
                  <a:pt x="321" y="355"/>
                </a:lnTo>
                <a:lnTo>
                  <a:pt x="315" y="361"/>
                </a:lnTo>
                <a:lnTo>
                  <a:pt x="309" y="365"/>
                </a:lnTo>
                <a:lnTo>
                  <a:pt x="303" y="367"/>
                </a:lnTo>
                <a:lnTo>
                  <a:pt x="298" y="369"/>
                </a:lnTo>
                <a:lnTo>
                  <a:pt x="290" y="369"/>
                </a:lnTo>
                <a:lnTo>
                  <a:pt x="284" y="369"/>
                </a:lnTo>
                <a:lnTo>
                  <a:pt x="277" y="367"/>
                </a:lnTo>
                <a:lnTo>
                  <a:pt x="269" y="365"/>
                </a:lnTo>
                <a:lnTo>
                  <a:pt x="261" y="361"/>
                </a:lnTo>
                <a:lnTo>
                  <a:pt x="252" y="357"/>
                </a:lnTo>
                <a:lnTo>
                  <a:pt x="242" y="350"/>
                </a:lnTo>
                <a:lnTo>
                  <a:pt x="232" y="344"/>
                </a:lnTo>
                <a:lnTo>
                  <a:pt x="223" y="336"/>
                </a:lnTo>
                <a:lnTo>
                  <a:pt x="213" y="327"/>
                </a:lnTo>
                <a:lnTo>
                  <a:pt x="202" y="317"/>
                </a:lnTo>
                <a:lnTo>
                  <a:pt x="190" y="305"/>
                </a:lnTo>
                <a:lnTo>
                  <a:pt x="177" y="294"/>
                </a:lnTo>
                <a:lnTo>
                  <a:pt x="165" y="280"/>
                </a:lnTo>
                <a:lnTo>
                  <a:pt x="152" y="269"/>
                </a:lnTo>
                <a:lnTo>
                  <a:pt x="142" y="256"/>
                </a:lnTo>
                <a:lnTo>
                  <a:pt x="131" y="244"/>
                </a:lnTo>
                <a:lnTo>
                  <a:pt x="121" y="232"/>
                </a:lnTo>
                <a:lnTo>
                  <a:pt x="111" y="221"/>
                </a:lnTo>
                <a:lnTo>
                  <a:pt x="102" y="209"/>
                </a:lnTo>
                <a:lnTo>
                  <a:pt x="94" y="200"/>
                </a:lnTo>
                <a:lnTo>
                  <a:pt x="77" y="177"/>
                </a:lnTo>
                <a:lnTo>
                  <a:pt x="63" y="156"/>
                </a:lnTo>
                <a:lnTo>
                  <a:pt x="50" y="135"/>
                </a:lnTo>
                <a:lnTo>
                  <a:pt x="39" y="113"/>
                </a:lnTo>
                <a:lnTo>
                  <a:pt x="29" y="96"/>
                </a:lnTo>
                <a:lnTo>
                  <a:pt x="21" y="83"/>
                </a:lnTo>
                <a:lnTo>
                  <a:pt x="14" y="67"/>
                </a:lnTo>
                <a:lnTo>
                  <a:pt x="8" y="56"/>
                </a:lnTo>
                <a:lnTo>
                  <a:pt x="4" y="44"/>
                </a:lnTo>
                <a:lnTo>
                  <a:pt x="2" y="37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0" y="2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1:47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23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