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6.wmf" ContentType="image/x-wmf"/>
  <Override PartName="/ppt/media/image11.png" ContentType="image/png"/>
  <Override PartName="/ppt/media/image4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95AC-DABC-4F99-9AB7-FFF4F4C493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3D06-55F3-43A9-BEA7-89B810B3C19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74D-649B-4E0D-8A58-6005F218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6E2-6220-4070-AE00-6D694982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C2C42-12AC-4D90-BB6C-06F7529E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501AA-6019-4ABB-97CF-648FCF0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67C8D-68A3-4782-957D-07D4A3D5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C0BAF-F8E0-4A01-9B6E-40DB2913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0AA40-58D7-4E44-B649-BDAF0AAD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E79CB-4344-4B22-8B87-8DC1AEE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1975C-4A0E-4E31-8A8B-71F0C879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C4690-E725-43A4-A2FB-1248F43E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35AB-8EF5-458B-8952-BE386F7D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0A6CA-7B9B-4ED0-9772-393216D6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443-35F8-4D82-B582-199C9D0E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7E012-63D4-4A3A-8E17-DEACE0F7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8B84A-1AA3-409D-8F5F-7077A569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F2F9D-32B7-4604-8B74-8FC5EF89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2EA36-C108-4F9F-8CEA-5B842ED0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C4C9B-1131-427E-B7EB-EFDB1740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D094C-84A2-4F0B-90D8-23079A8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63D0F-9DDD-4B10-A08A-066F8CB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EF978-9F6E-4763-BFA2-94EE85C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13B7C-E1E1-46FE-823C-63BC42CA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6BA34-8DF1-471A-B03B-D39DF377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AD5-DAE8-4A0B-A1E2-377A6A0F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63384-2905-47D4-81ED-BE7C49BF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209B2-947C-4201-8349-B36D6E4E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0F6ED-9F59-4F39-B9BC-44CF3F65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122DB-5D6D-49DA-BE84-1634C528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4FA2F-7AA8-4E38-9946-63ABC8B4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6EAD4-6DD3-470E-8FBC-54AF797F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16BCE-A7D2-4358-A428-FFAF353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D2D22-671C-455E-895C-34DE6CAE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CA69D-40F2-4BE0-982C-5ABF3E8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DD743-DFB2-4461-9AA0-3BE04293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2720-E290-4029-B8D6-54EFA732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DD951-C7AA-4703-9C1A-3C3BE2C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1EC68-FC34-4B6C-93EC-5C9EF082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F80FB-7FFC-475D-9F08-3987055B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EA2EE-0928-45B5-826F-550CCFDA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10580-851D-4CD7-82B2-ABCDE55A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6EB10-C977-4A80-9691-70482781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87481-E9B9-4798-8369-12181650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1B3A3-96D7-4310-AC80-66F1958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480D8-C271-49E4-98A3-47BACBD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187F6-CCDB-4C26-A281-A7719DEC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99F7-6AFB-43AD-A194-226CA2D6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27FD1-F57A-4B05-B265-16477A5E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CD9B2-33F7-4F84-A1F5-169845A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9F3E7-603D-4881-B67B-329EA9B4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56035-4B3A-47B2-86C9-99F5DDE9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4217B-FBC0-4CDA-8144-FE12BBE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69DC6-6A73-422D-8689-313575FD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4E01D-B86E-4127-A2C7-9383389F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CD2AD-2398-4EB4-8CE8-3060B580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88674-00B5-41C4-99C8-6EF5ACD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8C478-7F6F-495C-825C-0DFA53F0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12A4-73FB-460F-BE3E-CF2DFDF1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53E9E-A136-408B-BBDF-D68F695B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E74EE-C277-400B-9F96-FFE0FEC9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DF59B-6691-403B-B2C9-93EF1E3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2DA5E-7EB3-4EAD-B141-16B757B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77B0A-7591-4292-AD20-6E2CBE44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F05D1-D049-44C0-80D2-F6C7B64F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B2FFA-E63A-4B68-A7B4-0780182C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2FD54-56AD-4E94-8A24-02ACFBA1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417C2-094E-4556-955F-04E3F6FB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5370C-2D4A-4FBE-9287-619E6452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9E61-BF7E-4BEB-8C36-B7123CCF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32CA3-E8A7-4DEB-AD37-2694F2EB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1EEDE-C7C2-4C78-8553-7CFE9793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65956-B0DC-44C5-BA68-C1D7556C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ABD18-0BE4-46B0-8689-C397E6D1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AECFD-B0EA-40D6-A7F0-2665B6DB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7EB54-D6E5-468E-9111-AC837E3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2B1AC-85C0-4808-8CE9-C0468F56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E5995-EBE8-4D27-A15E-AEF84B59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A7890-9A1A-4305-9C40-B7DC01DA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4D5E09-43FD-45A3-BED4-BF246D83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845-94B8-48FF-87B4-24B82FFC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01FED-DB20-42E4-9613-EE028F25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FA927-E6E1-4CC3-AE35-9DBAD0E9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ED8899-B52B-4B3D-AA4E-699E05FE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24B50-CE66-4025-B204-BA4D35C7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0E766-CA5E-465C-997C-4364CF07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0B1A7-932D-4148-8E18-BD4F8555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9A3AF-9189-4F49-81C1-68FC652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0A47B-98A6-4FAE-91FB-15F73D4D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26013-FDC1-4C76-B230-6FCAD2F5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529F0-F931-4D24-A4C1-DC4AD8F4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EE10-BD22-4BEE-B3DC-70E586FC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C4A31-84E8-456E-8C03-12941443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48DB-77B1-47CF-A6DF-D7158582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8A7-72D8-4D1F-A00C-D9F366C3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21DB-C68C-4F39-8847-84C1285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8561-681D-42F1-9BEE-B1BA1B4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E464-D18D-4A41-9354-2F32A80B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A866-0E84-49D8-928A-2711D74E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5F19-03BD-45F9-B8E3-13A853D1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A47F-D1B3-4245-8A24-041B9439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87BA-39AB-4A77-9E4F-9AD9A841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7F0B-BC3E-4002-82D0-042CBAFE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F10F-44C4-4F08-8DAC-0392AA45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81E8-B66D-40A3-89CC-0F920F28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25A-DFF6-4A3F-8C72-B86C82DB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B35E-F062-46AB-820E-08EC6074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E38F-9214-4340-9B59-A607E338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D9122-9279-4B67-8158-7BDDA64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6AFA-52F0-4831-8FE9-6B5C06BE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553A-E311-41C9-AB87-57178C51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42AD-FE6E-4CEE-BC30-C5CE18DA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7C34-D074-475A-851F-30CE63E7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22CA-EEB8-494C-BEE3-926E8E64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CB21-C178-4AB1-B672-DBB79CC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E94B8-662C-4A64-BF02-9F7D62EE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EF4-2D2B-4138-ADC2-64CE408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77A3-6CFB-42FC-8DDD-59FA80FC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732D-8CAB-4951-A710-2C4424ED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FFD4-D2C3-45FA-9C0D-B64762D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9C0B0-A6D1-462D-8273-22E7713D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61CC-18E1-4320-846F-D1ADFF85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F93F2-C190-44BD-8FDC-8117B26D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805F-36C4-4871-8F37-527CD58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029F-8A85-497E-B7E2-E08E6D82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BFB8-908B-49D9-8A59-95AAB0C4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84FC-CDF7-416C-BDB0-7296517A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455-2F18-4874-9812-A2CC3091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C4DB-E043-4BA0-98FE-EB93FA4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A0F9F-1D15-4A5B-8A7C-DEE7DBCF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916B-C9D4-47FD-9012-C3D25BAC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65EDF-D7B5-413C-916D-E9A5D4E2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9B0FF-E312-4254-A194-3ED502A8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2C65-0D03-4234-8973-4EC2F84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7F4F-B62C-466C-9FBA-D5AE5210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4B265-7B06-4036-9E07-9176A944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7375-0936-4145-A474-6456F008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E0A34-A620-4D60-8223-3A65D736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598-DCB3-451A-9228-750B5593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C5BB1-A0F8-4C6A-BC04-8BF72FF7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0BB3D-25E2-4B80-AC31-888041FD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1B06-CBEE-41A2-BF89-E3BA651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35CE4-ADB8-4B1E-8D19-8968A03A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DE7CD-FC5D-456D-B692-4A85DA73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19DD-BBEB-4DDD-B281-0FB94781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97E00-E6D1-4503-9DC9-B7EFF751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FCA36-8F95-421E-A1E9-58D6D777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780A-AE06-459E-8A8C-EE59506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861E0-637D-4441-A635-E51FC056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168-0037-4500-875F-F6E8A2B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0A7F5-4B2A-4E44-BF47-FF83858B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7E3FE-63E9-49DB-AE37-B77E874D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320A5-279D-4EAA-8F29-D3A72CB0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C8FFB-0223-4D15-BFD9-D8C617DE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67B1B-ABB2-40BF-BD88-CF2CB55C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D146-9CBF-4EED-ACA9-B257C014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29FEB-E94E-4660-A7A8-CF4C742E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D65B9-E6E0-4FC1-B71D-4929A57D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A24BA-8065-4D2F-9EC6-580EA648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9A2E5-F11F-44F6-9FAF-7B5C4B6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1AE-909A-4645-8844-030172C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1CEFC-392D-45FA-9440-A2F3B22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05FC3-7490-4DA1-9800-409FBDF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494D4-AFB8-4358-AC57-776740A1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70678-6D40-484B-B726-4F2B01FC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CECD9-D5F4-43E9-9004-7CAA2407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2FCDA-7365-401A-A939-486C23C7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3B3CC-DEC3-4B27-9997-0D7CADD9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DE2FC-2BA7-4C50-B4A8-907C2787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F3AA8-DDB6-4041-99F0-926226C7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4A40A-CF26-444C-A356-BA17A0C7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BAF-97E0-47F7-B5CB-3AD3E7D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1CFC3-3382-4769-8FE0-08C1DAC8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4470-433A-473C-B8D0-6E7BB62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859A5-BFF1-45B7-9CC2-5699501A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A32C-9C11-413D-BD1F-093A4DD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7C9C6-1E6F-4B45-995D-10C10F4B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1E395-6407-4EE0-8CD3-745D53FD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FA991-FA05-4FDD-8BFE-B212F08F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07932-FBEB-4D67-99E4-DDF0F2EB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30131-6B14-49AF-A1EB-E07EF051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B5857-6ABA-4D01-AAE2-6A2A679D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AD7F-4D11-484B-9347-0E0FE4AF54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B78-6F95-4885-92AD-4A6CC31F33BD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136A-2960-42FF-8FB3-8859F997839F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BB4-A5F7-4BC0-ABB7-354DF2E123D0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D3DA-FE83-4DD1-9F77-229355EB21C2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7E44-FD8A-4F54-99C2-1E1BA42463ED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312E-FD90-456F-BBFF-4219F6C9FC85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D705-17B0-4FDD-A4F7-225CC50A79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CB33-5166-4A2F-8A96-26E031DB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488D-C109-4924-B7E8-40A5D7823D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2F66-F518-4C2A-88F6-F16A5ACB2716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A918-A977-404B-8727-45CE880FEE8B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E796-D3A4-4997-9D83-A964B0627395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D739-27D6-4601-AB8B-39B5EF280420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AFDE-B9E2-4A34-89F0-BCC1EBBF8B29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华文中宋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2007131221144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AutoShape 3"/>
          <p:cNvSpPr/>
          <p:nvPr/>
        </p:nvSpPr>
        <p:spPr>
          <a:xfrm flipV="1">
            <a:off x="8101080" y="6021360"/>
            <a:ext cx="792000" cy="3636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"/>
          <p:cNvSpPr/>
          <p:nvPr/>
        </p:nvSpPr>
        <p:spPr>
          <a:xfrm>
            <a:off x="3475800" y="6922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乌鸦喝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7"/>
          <p:cNvSpPr/>
          <p:nvPr/>
        </p:nvSpPr>
        <p:spPr>
          <a:xfrm>
            <a:off x="1750680" y="59770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叼起小石子，一颗一颗地放进瓶子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W`LIIZ0K$WDZUH})KGW_90B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0904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4"/>
          <p:cNvSpPr/>
          <p:nvPr/>
        </p:nvSpPr>
        <p:spPr>
          <a:xfrm>
            <a:off x="36360" y="333360"/>
            <a:ext cx="90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它叼起小石子，一颗一颗地放进瓶子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937160" y="33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叼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6207840" y="33336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一颗一颗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1128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乌鸦把小石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颗一颗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放进瓶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252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乌鸦把小石子放进瓶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WordArt 4"/>
          <p:cNvSpPr txBox="1"/>
          <p:nvPr/>
        </p:nvSpPr>
        <p:spPr>
          <a:xfrm>
            <a:off x="-103320" y="117360"/>
            <a:ext cx="36673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比一比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E6KB03[H3AMBYNJ5_Z}K%7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瓶子里的水渐渐升高，乌鸦就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喝着水了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3794040" y="131760"/>
            <a:ext cx="15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渐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3274920" y="131760"/>
            <a:ext cx="33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水    升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559800" y="779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喝着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3276720" y="146160"/>
            <a:ext cx="31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水    升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252360" y="7812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喝着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9"/>
          <p:cNvSpPr/>
          <p:nvPr/>
        </p:nvSpPr>
        <p:spPr>
          <a:xfrm>
            <a:off x="2843280" y="112536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3843000" y="1004760"/>
            <a:ext cx="37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乌鸦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4716360" y="907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开心、高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2"/>
          <p:cNvSpPr/>
          <p:nvPr/>
        </p:nvSpPr>
        <p:spPr>
          <a:xfrm flipV="1">
            <a:off x="8172360" y="6021360"/>
            <a:ext cx="792360" cy="363600"/>
          </a:xfrm>
          <a:prstGeom prst="sun">
            <a:avLst>
              <a:gd name="adj" fmla="val 4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3431160" y="3645000"/>
            <a:ext cx="13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瓶子里的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渐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升高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3674880" y="2708280"/>
            <a:ext cx="8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瓶子里的水很快升高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4"/>
          <p:cNvSpPr txBox="1"/>
          <p:nvPr/>
        </p:nvSpPr>
        <p:spPr>
          <a:xfrm>
            <a:off x="252360" y="476280"/>
            <a:ext cx="36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比一比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6" descr=""/>
          <p:cNvPicPr/>
          <p:nvPr/>
        </p:nvPicPr>
        <p:blipFill>
          <a:blip r:embed="rId1"/>
          <a:stretch/>
        </p:blipFill>
        <p:spPr>
          <a:xfrm>
            <a:off x="-31680" y="0"/>
            <a:ext cx="9139320" cy="6742080"/>
          </a:xfrm>
          <a:prstGeom prst="rect">
            <a:avLst/>
          </a:prstGeom>
          <a:ln w="0">
            <a:noFill/>
          </a:ln>
        </p:spPr>
      </p:pic>
      <p:sp>
        <p:nvSpPr>
          <p:cNvPr id="715" name="AutoShape 3"/>
          <p:cNvSpPr/>
          <p:nvPr/>
        </p:nvSpPr>
        <p:spPr>
          <a:xfrm>
            <a:off x="0" y="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1009800" y="476280"/>
            <a:ext cx="18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读读说说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1525680" y="1413000"/>
            <a:ext cx="561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瓶子里的水</a:t>
            </a: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(     )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升高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1448640" y="2852640"/>
            <a:ext cx="616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夏天来了，天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渐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1116000" y="4797360"/>
            <a:ext cx="67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渐渐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1476360" y="378936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3924360" y="378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亮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0"/>
          <p:cNvSpPr/>
          <p:nvPr/>
        </p:nvSpPr>
        <p:spPr>
          <a:xfrm>
            <a:off x="1260360" y="4797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小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3995640" y="4797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长高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2"/>
          <p:cNvSpPr/>
          <p:nvPr/>
        </p:nvSpPr>
        <p:spPr>
          <a:xfrm>
            <a:off x="4427640" y="206064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渐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1116000" y="342900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4"/>
          <p:cNvSpPr/>
          <p:nvPr/>
        </p:nvSpPr>
        <p:spPr>
          <a:xfrm>
            <a:off x="3970800" y="396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828360" y="3860640"/>
            <a:ext cx="59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渐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5508720" y="2781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热起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瓶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Oval 3"/>
          <p:cNvSpPr/>
          <p:nvPr/>
        </p:nvSpPr>
        <p:spPr>
          <a:xfrm>
            <a:off x="684360" y="549360"/>
            <a:ext cx="1366560" cy="1154160"/>
          </a:xfrm>
          <a:prstGeom prst="ellipse">
            <a:avLst/>
          </a:prstGeom>
          <a:blipFill rotWithShape="0">
            <a:blip r:embed="rId2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乌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4"/>
          <p:cNvSpPr/>
          <p:nvPr/>
        </p:nvSpPr>
        <p:spPr>
          <a:xfrm>
            <a:off x="2050920" y="260280"/>
            <a:ext cx="1657440" cy="1154160"/>
          </a:xfrm>
          <a:prstGeom prst="ellipse">
            <a:avLst/>
          </a:prstGeom>
          <a:blipFill rotWithShape="0">
            <a:blip r:embed="rId3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口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4643280" y="404640"/>
            <a:ext cx="1368720" cy="1154160"/>
          </a:xfrm>
          <a:prstGeom prst="ellipse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喝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940360" y="836640"/>
            <a:ext cx="1584360" cy="1154160"/>
          </a:xfrm>
          <a:prstGeom prst="ellipse">
            <a:avLst/>
          </a:prstGeom>
          <a:blipFill rotWithShape="0">
            <a:blip r:embed="rId5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7"/>
          <p:cNvSpPr/>
          <p:nvPr/>
        </p:nvSpPr>
        <p:spPr>
          <a:xfrm>
            <a:off x="684360" y="2349360"/>
            <a:ext cx="1655640" cy="1154160"/>
          </a:xfrm>
          <a:prstGeom prst="ellipse">
            <a:avLst/>
          </a:prstGeom>
          <a:blipFill rotWithShape="0">
            <a:blip r:embed="rId6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8"/>
          <p:cNvSpPr/>
          <p:nvPr/>
        </p:nvSpPr>
        <p:spPr>
          <a:xfrm>
            <a:off x="5724360" y="2421000"/>
            <a:ext cx="1511640" cy="1154160"/>
          </a:xfrm>
          <a:prstGeom prst="ellipse">
            <a:avLst/>
          </a:prstGeom>
          <a:blipFill rotWithShape="0">
            <a:blip r:embed="rId7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办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7164360" y="2205000"/>
            <a:ext cx="1440000" cy="1154160"/>
          </a:xfrm>
          <a:prstGeom prst="ellipse">
            <a:avLst/>
          </a:prstGeom>
          <a:blipFill rotWithShape="0">
            <a:blip r:embed="rId8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渐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3708360" y="765000"/>
            <a:ext cx="1224000" cy="1154160"/>
          </a:xfrm>
          <a:prstGeom prst="ellipse">
            <a:avLst/>
          </a:prstGeom>
          <a:blipFill rotWithShape="0">
            <a:blip r:embed="rId9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许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11"/>
          <p:cNvSpPr/>
          <p:nvPr/>
        </p:nvSpPr>
        <p:spPr>
          <a:xfrm>
            <a:off x="1042920" y="4437000"/>
            <a:ext cx="5616720" cy="360360"/>
          </a:xfrm>
          <a:prstGeom prst="ellipse">
            <a:avLst/>
          </a:prstGeom>
          <a:solidFill>
            <a:srgbClr val="bac2e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12"/>
          <p:cNvSpPr/>
          <p:nvPr/>
        </p:nvSpPr>
        <p:spPr>
          <a:xfrm>
            <a:off x="1116000" y="4149720"/>
            <a:ext cx="5616720" cy="576360"/>
          </a:xfrm>
          <a:prstGeom prst="ellipse">
            <a:avLst/>
          </a:prstGeom>
          <a:solidFill>
            <a:srgbClr val="bac2e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13"/>
          <p:cNvSpPr/>
          <p:nvPr/>
        </p:nvSpPr>
        <p:spPr>
          <a:xfrm>
            <a:off x="1547640" y="3860640"/>
            <a:ext cx="4680000" cy="432000"/>
          </a:xfrm>
          <a:prstGeom prst="ellipse">
            <a:avLst/>
          </a:prstGeom>
          <a:solidFill>
            <a:srgbClr val="bac2e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4"/>
          <p:cNvSpPr/>
          <p:nvPr/>
        </p:nvSpPr>
        <p:spPr>
          <a:xfrm>
            <a:off x="3132000" y="3284640"/>
            <a:ext cx="1656000" cy="360360"/>
          </a:xfrm>
          <a:prstGeom prst="ellipse">
            <a:avLst/>
          </a:prstGeom>
          <a:solidFill>
            <a:srgbClr val="bac2e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5"/>
          <p:cNvSpPr/>
          <p:nvPr/>
        </p:nvSpPr>
        <p:spPr>
          <a:xfrm>
            <a:off x="3071880" y="2085840"/>
            <a:ext cx="2030400" cy="1297080"/>
          </a:xfrm>
          <a:custGeom>
            <a:avLst/>
            <a:gdLst/>
            <a:ahLst/>
            <a:rect l="l" t="t" r="r" b="b"/>
            <a:pathLst>
              <a:path w="1279" h="817">
                <a:moveTo>
                  <a:pt x="265" y="136"/>
                </a:moveTo>
                <a:cubicBezTo>
                  <a:pt x="351" y="132"/>
                  <a:pt x="438" y="125"/>
                  <a:pt x="524" y="123"/>
                </a:cubicBezTo>
                <a:cubicBezTo>
                  <a:pt x="563" y="122"/>
                  <a:pt x="602" y="124"/>
                  <a:pt x="641" y="129"/>
                </a:cubicBezTo>
                <a:cubicBezTo>
                  <a:pt x="699" y="137"/>
                  <a:pt x="748" y="232"/>
                  <a:pt x="796" y="265"/>
                </a:cubicBezTo>
                <a:cubicBezTo>
                  <a:pt x="803" y="286"/>
                  <a:pt x="815" y="302"/>
                  <a:pt x="822" y="323"/>
                </a:cubicBezTo>
                <a:cubicBezTo>
                  <a:pt x="826" y="386"/>
                  <a:pt x="809" y="438"/>
                  <a:pt x="861" y="472"/>
                </a:cubicBezTo>
                <a:cubicBezTo>
                  <a:pt x="876" y="495"/>
                  <a:pt x="894" y="506"/>
                  <a:pt x="913" y="524"/>
                </a:cubicBezTo>
                <a:cubicBezTo>
                  <a:pt x="928" y="573"/>
                  <a:pt x="905" y="513"/>
                  <a:pt x="939" y="556"/>
                </a:cubicBezTo>
                <a:cubicBezTo>
                  <a:pt x="943" y="561"/>
                  <a:pt x="941" y="570"/>
                  <a:pt x="945" y="576"/>
                </a:cubicBezTo>
                <a:cubicBezTo>
                  <a:pt x="959" y="595"/>
                  <a:pt x="982" y="604"/>
                  <a:pt x="997" y="628"/>
                </a:cubicBezTo>
                <a:cubicBezTo>
                  <a:pt x="995" y="636"/>
                  <a:pt x="991" y="644"/>
                  <a:pt x="990" y="653"/>
                </a:cubicBezTo>
                <a:cubicBezTo>
                  <a:pt x="986" y="694"/>
                  <a:pt x="992" y="736"/>
                  <a:pt x="984" y="776"/>
                </a:cubicBezTo>
                <a:cubicBezTo>
                  <a:pt x="983" y="783"/>
                  <a:pt x="970" y="780"/>
                  <a:pt x="964" y="783"/>
                </a:cubicBezTo>
                <a:cubicBezTo>
                  <a:pt x="898" y="817"/>
                  <a:pt x="1034" y="791"/>
                  <a:pt x="841" y="802"/>
                </a:cubicBezTo>
                <a:cubicBezTo>
                  <a:pt x="662" y="800"/>
                  <a:pt x="296" y="764"/>
                  <a:pt x="91" y="796"/>
                </a:cubicBezTo>
                <a:cubicBezTo>
                  <a:pt x="65" y="794"/>
                  <a:pt x="27" y="811"/>
                  <a:pt x="13" y="789"/>
                </a:cubicBezTo>
                <a:cubicBezTo>
                  <a:pt x="9" y="782"/>
                  <a:pt x="23" y="651"/>
                  <a:pt x="26" y="621"/>
                </a:cubicBezTo>
                <a:cubicBezTo>
                  <a:pt x="21" y="443"/>
                  <a:pt x="13" y="262"/>
                  <a:pt x="26" y="84"/>
                </a:cubicBezTo>
                <a:cubicBezTo>
                  <a:pt x="28" y="64"/>
                  <a:pt x="84" y="65"/>
                  <a:pt x="84" y="65"/>
                </a:cubicBezTo>
                <a:cubicBezTo>
                  <a:pt x="91" y="61"/>
                  <a:pt x="97" y="56"/>
                  <a:pt x="104" y="52"/>
                </a:cubicBezTo>
                <a:cubicBezTo>
                  <a:pt x="110" y="49"/>
                  <a:pt x="117" y="47"/>
                  <a:pt x="123" y="45"/>
                </a:cubicBezTo>
                <a:cubicBezTo>
                  <a:pt x="182" y="25"/>
                  <a:pt x="189" y="37"/>
                  <a:pt x="0" y="45"/>
                </a:cubicBezTo>
                <a:cubicBezTo>
                  <a:pt x="51" y="20"/>
                  <a:pt x="106" y="9"/>
                  <a:pt x="162" y="0"/>
                </a:cubicBezTo>
                <a:cubicBezTo>
                  <a:pt x="516" y="2"/>
                  <a:pt x="869" y="2"/>
                  <a:pt x="1223" y="6"/>
                </a:cubicBezTo>
                <a:cubicBezTo>
                  <a:pt x="1279" y="7"/>
                  <a:pt x="1221" y="82"/>
                  <a:pt x="1204" y="97"/>
                </a:cubicBezTo>
                <a:cubicBezTo>
                  <a:pt x="1182" y="116"/>
                  <a:pt x="1157" y="110"/>
                  <a:pt x="1133" y="123"/>
                </a:cubicBezTo>
                <a:cubicBezTo>
                  <a:pt x="1066" y="161"/>
                  <a:pt x="1002" y="196"/>
                  <a:pt x="939" y="239"/>
                </a:cubicBezTo>
                <a:cubicBezTo>
                  <a:pt x="905" y="337"/>
                  <a:pt x="861" y="484"/>
                  <a:pt x="958" y="550"/>
                </a:cubicBezTo>
                <a:cubicBezTo>
                  <a:pt x="966" y="576"/>
                  <a:pt x="968" y="598"/>
                  <a:pt x="984" y="621"/>
                </a:cubicBezTo>
                <a:cubicBezTo>
                  <a:pt x="975" y="647"/>
                  <a:pt x="977" y="634"/>
                  <a:pt x="977" y="660"/>
                </a:cubicBezTo>
                <a:lnTo>
                  <a:pt x="718" y="347"/>
                </a:lnTo>
                <a:lnTo>
                  <a:pt x="718" y="30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6"/>
          <p:cNvSpPr/>
          <p:nvPr/>
        </p:nvSpPr>
        <p:spPr>
          <a:xfrm>
            <a:off x="2627280" y="2155680"/>
            <a:ext cx="2736720" cy="986040"/>
          </a:xfrm>
          <a:custGeom>
            <a:avLst/>
            <a:gdLst/>
            <a:ahLst/>
            <a:rect l="l" t="t" r="r" b="b"/>
            <a:pathLst>
              <a:path w="1647" h="852">
                <a:moveTo>
                  <a:pt x="0" y="34"/>
                </a:moveTo>
                <a:cubicBezTo>
                  <a:pt x="114" y="0"/>
                  <a:pt x="1325" y="38"/>
                  <a:pt x="1566" y="41"/>
                </a:cubicBezTo>
                <a:cubicBezTo>
                  <a:pt x="1647" y="13"/>
                  <a:pt x="1474" y="41"/>
                  <a:pt x="1443" y="47"/>
                </a:cubicBezTo>
                <a:cubicBezTo>
                  <a:pt x="1385" y="87"/>
                  <a:pt x="1456" y="33"/>
                  <a:pt x="1418" y="79"/>
                </a:cubicBezTo>
                <a:cubicBezTo>
                  <a:pt x="1407" y="92"/>
                  <a:pt x="1391" y="100"/>
                  <a:pt x="1379" y="112"/>
                </a:cubicBezTo>
                <a:cubicBezTo>
                  <a:pt x="1364" y="152"/>
                  <a:pt x="1346" y="190"/>
                  <a:pt x="1327" y="228"/>
                </a:cubicBezTo>
                <a:cubicBezTo>
                  <a:pt x="1311" y="260"/>
                  <a:pt x="1307" y="299"/>
                  <a:pt x="1295" y="332"/>
                </a:cubicBezTo>
                <a:cubicBezTo>
                  <a:pt x="1288" y="351"/>
                  <a:pt x="1281" y="371"/>
                  <a:pt x="1275" y="390"/>
                </a:cubicBezTo>
                <a:cubicBezTo>
                  <a:pt x="1270" y="405"/>
                  <a:pt x="1262" y="435"/>
                  <a:pt x="1262" y="435"/>
                </a:cubicBezTo>
                <a:cubicBezTo>
                  <a:pt x="1259" y="528"/>
                  <a:pt x="1224" y="709"/>
                  <a:pt x="1282" y="798"/>
                </a:cubicBezTo>
                <a:cubicBezTo>
                  <a:pt x="1280" y="813"/>
                  <a:pt x="1287" y="834"/>
                  <a:pt x="1275" y="843"/>
                </a:cubicBezTo>
                <a:cubicBezTo>
                  <a:pt x="1263" y="852"/>
                  <a:pt x="1245" y="839"/>
                  <a:pt x="1230" y="837"/>
                </a:cubicBezTo>
                <a:cubicBezTo>
                  <a:pt x="1186" y="830"/>
                  <a:pt x="1144" y="813"/>
                  <a:pt x="1100" y="804"/>
                </a:cubicBezTo>
                <a:cubicBezTo>
                  <a:pt x="827" y="809"/>
                  <a:pt x="564" y="816"/>
                  <a:pt x="291" y="811"/>
                </a:cubicBezTo>
                <a:cubicBezTo>
                  <a:pt x="296" y="687"/>
                  <a:pt x="289" y="655"/>
                  <a:pt x="317" y="565"/>
                </a:cubicBezTo>
                <a:cubicBezTo>
                  <a:pt x="330" y="449"/>
                  <a:pt x="328" y="490"/>
                  <a:pt x="317" y="312"/>
                </a:cubicBezTo>
                <a:cubicBezTo>
                  <a:pt x="315" y="283"/>
                  <a:pt x="278" y="235"/>
                  <a:pt x="278" y="235"/>
                </a:cubicBezTo>
                <a:cubicBezTo>
                  <a:pt x="266" y="196"/>
                  <a:pt x="224" y="177"/>
                  <a:pt x="194" y="151"/>
                </a:cubicBezTo>
                <a:cubicBezTo>
                  <a:pt x="174" y="134"/>
                  <a:pt x="165" y="114"/>
                  <a:pt x="143" y="99"/>
                </a:cubicBezTo>
                <a:cubicBezTo>
                  <a:pt x="116" y="57"/>
                  <a:pt x="68" y="58"/>
                  <a:pt x="20" y="54"/>
                </a:cubicBezTo>
                <a:cubicBezTo>
                  <a:pt x="6" y="32"/>
                  <a:pt x="15" y="34"/>
                  <a:pt x="0" y="34"/>
                </a:cubicBezTo>
                <a:close/>
              </a:path>
            </a:pathLst>
          </a:custGeom>
          <a:solidFill>
            <a:srgbClr val="bac2e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7"/>
          <p:cNvSpPr/>
          <p:nvPr/>
        </p:nvSpPr>
        <p:spPr>
          <a:xfrm>
            <a:off x="2301840" y="3284640"/>
            <a:ext cx="3330720" cy="639720"/>
          </a:xfrm>
          <a:custGeom>
            <a:avLst/>
            <a:gdLst/>
            <a:ahLst/>
            <a:rect l="l" t="t" r="r" b="b"/>
            <a:pathLst>
              <a:path w="2098" h="403">
                <a:moveTo>
                  <a:pt x="511" y="131"/>
                </a:moveTo>
                <a:cubicBezTo>
                  <a:pt x="488" y="147"/>
                  <a:pt x="460" y="162"/>
                  <a:pt x="433" y="170"/>
                </a:cubicBezTo>
                <a:cubicBezTo>
                  <a:pt x="401" y="192"/>
                  <a:pt x="418" y="177"/>
                  <a:pt x="388" y="222"/>
                </a:cubicBezTo>
                <a:cubicBezTo>
                  <a:pt x="387" y="224"/>
                  <a:pt x="351" y="235"/>
                  <a:pt x="349" y="235"/>
                </a:cubicBezTo>
                <a:cubicBezTo>
                  <a:pt x="292" y="273"/>
                  <a:pt x="326" y="260"/>
                  <a:pt x="246" y="267"/>
                </a:cubicBezTo>
                <a:cubicBezTo>
                  <a:pt x="190" y="304"/>
                  <a:pt x="165" y="324"/>
                  <a:pt x="97" y="332"/>
                </a:cubicBezTo>
                <a:cubicBezTo>
                  <a:pt x="76" y="339"/>
                  <a:pt x="52" y="336"/>
                  <a:pt x="32" y="345"/>
                </a:cubicBezTo>
                <a:cubicBezTo>
                  <a:pt x="25" y="348"/>
                  <a:pt x="25" y="359"/>
                  <a:pt x="19" y="364"/>
                </a:cubicBezTo>
                <a:cubicBezTo>
                  <a:pt x="14" y="368"/>
                  <a:pt x="6" y="369"/>
                  <a:pt x="0" y="371"/>
                </a:cubicBezTo>
                <a:cubicBezTo>
                  <a:pt x="47" y="403"/>
                  <a:pt x="0" y="377"/>
                  <a:pt x="110" y="377"/>
                </a:cubicBezTo>
                <a:cubicBezTo>
                  <a:pt x="740" y="377"/>
                  <a:pt x="1370" y="382"/>
                  <a:pt x="2000" y="384"/>
                </a:cubicBezTo>
                <a:cubicBezTo>
                  <a:pt x="2030" y="386"/>
                  <a:pt x="2060" y="393"/>
                  <a:pt x="2090" y="390"/>
                </a:cubicBezTo>
                <a:cubicBezTo>
                  <a:pt x="2098" y="389"/>
                  <a:pt x="2078" y="380"/>
                  <a:pt x="2071" y="377"/>
                </a:cubicBezTo>
                <a:cubicBezTo>
                  <a:pt x="2062" y="373"/>
                  <a:pt x="2024" y="365"/>
                  <a:pt x="2019" y="364"/>
                </a:cubicBezTo>
                <a:cubicBezTo>
                  <a:pt x="1966" y="327"/>
                  <a:pt x="1932" y="325"/>
                  <a:pt x="1864" y="319"/>
                </a:cubicBezTo>
                <a:cubicBezTo>
                  <a:pt x="1826" y="308"/>
                  <a:pt x="1782" y="298"/>
                  <a:pt x="1747" y="280"/>
                </a:cubicBezTo>
                <a:cubicBezTo>
                  <a:pt x="1702" y="257"/>
                  <a:pt x="1753" y="275"/>
                  <a:pt x="1708" y="261"/>
                </a:cubicBezTo>
                <a:cubicBezTo>
                  <a:pt x="1663" y="231"/>
                  <a:pt x="1684" y="240"/>
                  <a:pt x="1650" y="229"/>
                </a:cubicBezTo>
                <a:cubicBezTo>
                  <a:pt x="1634" y="204"/>
                  <a:pt x="1625" y="205"/>
                  <a:pt x="1598" y="196"/>
                </a:cubicBezTo>
                <a:cubicBezTo>
                  <a:pt x="1539" y="109"/>
                  <a:pt x="1426" y="141"/>
                  <a:pt x="1333" y="138"/>
                </a:cubicBezTo>
                <a:cubicBezTo>
                  <a:pt x="1247" y="136"/>
                  <a:pt x="1160" y="133"/>
                  <a:pt x="1074" y="131"/>
                </a:cubicBezTo>
                <a:cubicBezTo>
                  <a:pt x="1031" y="117"/>
                  <a:pt x="1077" y="131"/>
                  <a:pt x="996" y="119"/>
                </a:cubicBezTo>
                <a:cubicBezTo>
                  <a:pt x="931" y="110"/>
                  <a:pt x="868" y="93"/>
                  <a:pt x="802" y="86"/>
                </a:cubicBezTo>
                <a:cubicBezTo>
                  <a:pt x="560" y="91"/>
                  <a:pt x="472" y="0"/>
                  <a:pt x="472" y="170"/>
                </a:cubicBezTo>
                <a:lnTo>
                  <a:pt x="511" y="131"/>
                </a:lnTo>
                <a:close/>
              </a:path>
            </a:pathLst>
          </a:custGeom>
          <a:solidFill>
            <a:srgbClr val="bac2e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8"/>
          <p:cNvSpPr/>
          <p:nvPr/>
        </p:nvSpPr>
        <p:spPr>
          <a:xfrm>
            <a:off x="3132000" y="2997360"/>
            <a:ext cx="1586160" cy="473040"/>
          </a:xfrm>
          <a:custGeom>
            <a:avLst/>
            <a:gdLst/>
            <a:ahLst/>
            <a:rect l="l" t="t" r="r" b="b"/>
            <a:pathLst>
              <a:path w="999" h="298">
                <a:moveTo>
                  <a:pt x="33" y="47"/>
                </a:moveTo>
                <a:cubicBezTo>
                  <a:pt x="168" y="0"/>
                  <a:pt x="538" y="21"/>
                  <a:pt x="558" y="21"/>
                </a:cubicBezTo>
                <a:cubicBezTo>
                  <a:pt x="683" y="23"/>
                  <a:pt x="808" y="23"/>
                  <a:pt x="933" y="27"/>
                </a:cubicBezTo>
                <a:cubicBezTo>
                  <a:pt x="961" y="28"/>
                  <a:pt x="965" y="71"/>
                  <a:pt x="972" y="92"/>
                </a:cubicBezTo>
                <a:cubicBezTo>
                  <a:pt x="977" y="107"/>
                  <a:pt x="985" y="137"/>
                  <a:pt x="985" y="137"/>
                </a:cubicBezTo>
                <a:cubicBezTo>
                  <a:pt x="983" y="185"/>
                  <a:pt x="999" y="237"/>
                  <a:pt x="978" y="280"/>
                </a:cubicBezTo>
                <a:cubicBezTo>
                  <a:pt x="970" y="298"/>
                  <a:pt x="939" y="276"/>
                  <a:pt x="920" y="273"/>
                </a:cubicBezTo>
                <a:cubicBezTo>
                  <a:pt x="885" y="268"/>
                  <a:pt x="844" y="242"/>
                  <a:pt x="810" y="241"/>
                </a:cubicBezTo>
                <a:cubicBezTo>
                  <a:pt x="704" y="239"/>
                  <a:pt x="599" y="236"/>
                  <a:pt x="493" y="234"/>
                </a:cubicBezTo>
                <a:cubicBezTo>
                  <a:pt x="343" y="189"/>
                  <a:pt x="444" y="217"/>
                  <a:pt x="59" y="234"/>
                </a:cubicBezTo>
                <a:cubicBezTo>
                  <a:pt x="38" y="235"/>
                  <a:pt x="1" y="260"/>
                  <a:pt x="1" y="260"/>
                </a:cubicBezTo>
                <a:cubicBezTo>
                  <a:pt x="7" y="190"/>
                  <a:pt x="0" y="164"/>
                  <a:pt x="46" y="118"/>
                </a:cubicBezTo>
                <a:cubicBezTo>
                  <a:pt x="55" y="67"/>
                  <a:pt x="60" y="90"/>
                  <a:pt x="33" y="47"/>
                </a:cubicBezTo>
                <a:close/>
              </a:path>
            </a:pathLst>
          </a:custGeom>
          <a:solidFill>
            <a:srgbClr val="bac2e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1041 C 0.12725 0.01549 0.23472 0.02082 0.25573 0.11543 C 0.27673 0.2098 0.16423 0.50104 0.14566 0.57714 E">
                                      <p:cBhvr>
                                        <p:cTn id="205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0.07356 C 0.06823 0.1603 0.12135 0.24705 0.12083 0.34143 C 0.12031 0.4358 0.06597 0.53759 0.01181 0.63937 E">
                                      <p:cBhvr>
                                        <p:cTn id="217" dur="5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4 0.00185 C -0.07361 -0.0044 -0.18975 -0.01041 -0.24062 0.07818 C -0.29149 0.16678 -0.25972 0.45732 -0.26302 0.53319 E">
                                      <p:cBhvr>
                                        <p:cTn id="229" dur="5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5413 C -0.10052 -0.18968 -0.20121 -0.32523 -0.23455 -0.26671 C -0.26788 -0.20819 -0.20781 0.192 -0.19965 0.29633 C -0.19149 0.40065 -0.18837 0.37937 -0.18507 0.35925 E">
                                      <p:cBhvr>
                                        <p:cTn id="241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0161 C 0.10104 -0.15313 0.18246 -0.30441 0.21527 -0.24705 C 0.24809 -0.18968 0.21614 0.24451 0.21649 0.34282 E">
                                      <p:cBhvr>
                                        <p:cTn id="253" dur="5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0555 C -0.1349 -0.14457 -0.30903 -0.28336 -0.36181 -0.22137 C -0.41459 -0.15914 -0.34636 0.10456 -0.27813 0.36804 E">
                                      <p:cBhvr>
                                        <p:cTn id="265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0.02105 L -0.25972 0.51422 E">
                                      <p:cBhvr>
                                        <p:cTn id="277" dur="5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251 L -0.01181 0.44089 E">
                                      <p:cBhvr>
                                        <p:cTn id="285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1066680" y="18900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会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" descr="DJ54WZB518YQ%5`WUD~B(2C"/>
          <p:cNvPicPr/>
          <p:nvPr/>
        </p:nvPicPr>
        <p:blipFill>
          <a:blip r:embed="rId1"/>
          <a:stretch/>
        </p:blipFill>
        <p:spPr>
          <a:xfrm>
            <a:off x="0" y="907920"/>
            <a:ext cx="3492360" cy="2016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" descr="K~JG%@}DWOLVMD{WPW01E17"/>
          <p:cNvPicPr/>
          <p:nvPr/>
        </p:nvPicPr>
        <p:blipFill>
          <a:blip r:embed="rId2"/>
          <a:stretch/>
        </p:blipFill>
        <p:spPr>
          <a:xfrm>
            <a:off x="3419640" y="44280"/>
            <a:ext cx="3168360" cy="28083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5" descr="}JQQLLADPU75LSG{54FCR8W"/>
          <p:cNvPicPr/>
          <p:nvPr/>
        </p:nvPicPr>
        <p:blipFill>
          <a:blip r:embed="rId3"/>
          <a:stretch/>
        </p:blipFill>
        <p:spPr>
          <a:xfrm>
            <a:off x="0" y="3789360"/>
            <a:ext cx="3097080" cy="2160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6" descr="W`LIIZ0K$WDZUH})KGW_90B"/>
          <p:cNvPicPr/>
          <p:nvPr/>
        </p:nvPicPr>
        <p:blipFill>
          <a:blip r:embed="rId4"/>
          <a:stretch/>
        </p:blipFill>
        <p:spPr>
          <a:xfrm>
            <a:off x="3132000" y="3789360"/>
            <a:ext cx="3097440" cy="2232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" descr="E6KB03[H3AMBYNJ5_Z}K%7V"/>
          <p:cNvPicPr/>
          <p:nvPr/>
        </p:nvPicPr>
        <p:blipFill>
          <a:blip r:embed="rId5"/>
          <a:stretch/>
        </p:blipFill>
        <p:spPr>
          <a:xfrm>
            <a:off x="6156360" y="3789360"/>
            <a:ext cx="2987640" cy="21877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8" descr="E~1P@4XX)@[)FGQS6Z(URAX"/>
          <p:cNvPicPr/>
          <p:nvPr/>
        </p:nvPicPr>
        <p:blipFill>
          <a:blip r:embed="rId6"/>
          <a:stretch/>
        </p:blipFill>
        <p:spPr>
          <a:xfrm>
            <a:off x="6156360" y="0"/>
            <a:ext cx="2987640" cy="263844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9"/>
          <p:cNvSpPr/>
          <p:nvPr/>
        </p:nvSpPr>
        <p:spPr>
          <a:xfrm>
            <a:off x="524520" y="2824200"/>
            <a:ext cx="229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一只乌鸦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到处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3132000" y="6021360"/>
            <a:ext cx="31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它叼起小石子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地放进瓶子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1"/>
          <p:cNvSpPr/>
          <p:nvPr/>
        </p:nvSpPr>
        <p:spPr>
          <a:xfrm>
            <a:off x="339480" y="5877000"/>
            <a:ext cx="25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乌鸦看见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，想出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6156360" y="249228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可是，瓶口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乌鸦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。怎么办呢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3625200" y="289728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它看见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瓶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里面有半瓶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6680160" y="6021360"/>
            <a:ext cx="22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瓶子里的水</a:t>
            </a:r>
            <a:r>
              <a:rPr b="1" lang="en-US" sz="1800" spc="-1" strike="noStrike">
                <a:solidFill>
                  <a:srgbClr val="3333cc"/>
                </a:solidFill>
                <a:latin typeface="宋体"/>
              </a:rPr>
              <a:t>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乌鸦就</a:t>
            </a:r>
            <a:r>
              <a:rPr b="1" lang="en-US" sz="18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0" name="AutoShape 3"/>
          <p:cNvSpPr/>
          <p:nvPr/>
        </p:nvSpPr>
        <p:spPr>
          <a:xfrm>
            <a:off x="0" y="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995040" y="18900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我会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250920" y="1268280"/>
            <a:ext cx="84963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一只乌鸦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了，到处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它看见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瓶子，里面有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可是，瓶口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乌鸦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怎么办呢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乌鸦看见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__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，想出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来了。它叼起小石子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地放进瓶子里。瓶子里的水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____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乌鸦就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6" descr="乌鸦"/>
          <p:cNvPicPr/>
          <p:nvPr/>
        </p:nvPicPr>
        <p:blipFill>
          <a:blip r:embed="rId2"/>
          <a:stretch/>
        </p:blipFill>
        <p:spPr>
          <a:xfrm rot="20135400">
            <a:off x="6713640" y="-382680"/>
            <a:ext cx="243036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4"/>
          <p:cNvSpPr/>
          <p:nvPr/>
        </p:nvSpPr>
        <p:spPr>
          <a:xfrm>
            <a:off x="2484360" y="2349360"/>
            <a:ext cx="7877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因为乌鸦利用瓶子旁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石子喝到了水，所以这是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（         ）的乌鸦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AutoShape 3"/>
          <p:cNvSpPr/>
          <p:nvPr/>
        </p:nvSpPr>
        <p:spPr>
          <a:xfrm>
            <a:off x="0" y="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395280" y="260280"/>
            <a:ext cx="32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黑体"/>
              </a:rPr>
              <a:t>乌鸦喝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5"/>
          <p:cNvSpPr/>
          <p:nvPr/>
        </p:nvSpPr>
        <p:spPr>
          <a:xfrm>
            <a:off x="1619280" y="404640"/>
            <a:ext cx="6983280" cy="3743640"/>
          </a:xfrm>
          <a:prstGeom prst="cloudCallout">
            <a:avLst>
              <a:gd name="adj1" fmla="val -45500"/>
              <a:gd name="adj2" fmla="val 63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1692360" y="1413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我希望小朋友们能像我一样遇到困难仔细观察、认真思考，做一个聪明的好学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7" descr="乌鸦"/>
          <p:cNvPicPr/>
          <p:nvPr/>
        </p:nvPicPr>
        <p:blipFill>
          <a:blip r:embed="rId2"/>
          <a:stretch/>
        </p:blipFill>
        <p:spPr>
          <a:xfrm flipH="1" rot="21433200">
            <a:off x="-1184760" y="3860280"/>
            <a:ext cx="3983040" cy="41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Oval 2"/>
          <p:cNvSpPr/>
          <p:nvPr/>
        </p:nvSpPr>
        <p:spPr>
          <a:xfrm>
            <a:off x="2627280" y="404640"/>
            <a:ext cx="1152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乌鸦喝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99640" y="126792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乌鸦口渴了，到处找水喝。它看见一个瓶子，里面有半瓶水，可是，瓶口小，乌鸦喝不着。怎么办呢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乌鸦看见旁边有许多小石子，想出办法来了。它叼起小石子，一颗一颗地放到瓶子里。瓶子里的水渐渐升高了，乌鸦就喝着水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1693800" y="126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1620720" y="350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250920" y="549360"/>
            <a:ext cx="1368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4" name="AutoShape 3"/>
          <p:cNvSpPr/>
          <p:nvPr/>
        </p:nvSpPr>
        <p:spPr>
          <a:xfrm>
            <a:off x="0" y="0"/>
            <a:ext cx="3529080" cy="1557360"/>
          </a:xfrm>
          <a:prstGeom prst="cloudCallout">
            <a:avLst>
              <a:gd name="adj1" fmla="val -43745"/>
              <a:gd name="adj2" fmla="val 398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95280" y="260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黑体"/>
              </a:rPr>
              <a:t>拓   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755640" y="170028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黑体"/>
              </a:rPr>
              <a:t>小乌鸦真聪明！但是，瓶子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黑体"/>
              </a:rPr>
              <a:t>边要是没有小石子，乌鸦该怎么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黑体"/>
              </a:rPr>
              <a:t>呢？假如你是这只乌鸦，你还能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黑体"/>
              </a:rPr>
              <a:t>出别的办法喝到水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6" descr="乌鸦"/>
          <p:cNvPicPr/>
          <p:nvPr/>
        </p:nvPicPr>
        <p:blipFill>
          <a:blip r:embed="rId2"/>
          <a:stretch/>
        </p:blipFill>
        <p:spPr>
          <a:xfrm rot="21432600">
            <a:off x="5610240" y="3443400"/>
            <a:ext cx="364824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EE89-D8DD-41E5-A876-F94335A74A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Oval 2"/>
          <p:cNvSpPr/>
          <p:nvPr/>
        </p:nvSpPr>
        <p:spPr>
          <a:xfrm>
            <a:off x="2627280" y="404640"/>
            <a:ext cx="1152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乌鸦喝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899640" y="126792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乌鸦口渴了，到处找水喝。它看见一个瓶子，里面有半瓶水，可是，瓶口小，乌鸦喝不着。怎么办呢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乌鸦看见旁边有许多小石子，想出办法来了。它叼起小石子，一颗一颗地放到瓶子里。瓶子里的水渐渐升高了，乌鸦就喝着水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693800" y="126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1620720" y="350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250920" y="549360"/>
            <a:ext cx="1368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未知"/>
          <p:cNvSpPr/>
          <p:nvPr/>
        </p:nvSpPr>
        <p:spPr>
          <a:xfrm>
            <a:off x="6372360" y="2997360"/>
            <a:ext cx="1224000" cy="156960"/>
          </a:xfrm>
          <a:custGeom>
            <a:avLst/>
            <a:gdLst/>
            <a:ahLst/>
            <a:rect l="l" t="t" r="r" b="b"/>
            <a:pathLst>
              <a:path w="590" h="99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43" y="91"/>
                  <a:pt x="181" y="91"/>
                </a:cubicBezTo>
                <a:cubicBezTo>
                  <a:pt x="219" y="91"/>
                  <a:pt x="272" y="0"/>
                  <a:pt x="317" y="0"/>
                </a:cubicBezTo>
                <a:cubicBezTo>
                  <a:pt x="362" y="0"/>
                  <a:pt x="408" y="83"/>
                  <a:pt x="453" y="91"/>
                </a:cubicBezTo>
                <a:cubicBezTo>
                  <a:pt x="498" y="99"/>
                  <a:pt x="567" y="61"/>
                  <a:pt x="590" y="4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未知"/>
          <p:cNvSpPr/>
          <p:nvPr/>
        </p:nvSpPr>
        <p:spPr>
          <a:xfrm>
            <a:off x="6877080" y="1844640"/>
            <a:ext cx="1006560" cy="144360"/>
          </a:xfrm>
          <a:custGeom>
            <a:avLst/>
            <a:gdLst/>
            <a:ahLst/>
            <a:rect l="l" t="t" r="r" b="b"/>
            <a:pathLst>
              <a:path w="590" h="99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43" y="91"/>
                  <a:pt x="181" y="91"/>
                </a:cubicBezTo>
                <a:cubicBezTo>
                  <a:pt x="219" y="91"/>
                  <a:pt x="272" y="0"/>
                  <a:pt x="317" y="0"/>
                </a:cubicBezTo>
                <a:cubicBezTo>
                  <a:pt x="362" y="0"/>
                  <a:pt x="408" y="83"/>
                  <a:pt x="453" y="91"/>
                </a:cubicBezTo>
                <a:cubicBezTo>
                  <a:pt x="498" y="99"/>
                  <a:pt x="567" y="61"/>
                  <a:pt x="590" y="4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1332000" y="2421000"/>
            <a:ext cx="503280" cy="71280"/>
          </a:xfrm>
          <a:custGeom>
            <a:avLst/>
            <a:gdLst/>
            <a:ahLst/>
            <a:rect l="l" t="t" r="r" b="b"/>
            <a:pathLst>
              <a:path w="590" h="99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43" y="91"/>
                  <a:pt x="181" y="91"/>
                </a:cubicBezTo>
                <a:cubicBezTo>
                  <a:pt x="219" y="91"/>
                  <a:pt x="272" y="0"/>
                  <a:pt x="317" y="0"/>
                </a:cubicBezTo>
                <a:cubicBezTo>
                  <a:pt x="362" y="0"/>
                  <a:pt x="408" y="83"/>
                  <a:pt x="453" y="91"/>
                </a:cubicBezTo>
                <a:cubicBezTo>
                  <a:pt x="498" y="99"/>
                  <a:pt x="567" y="61"/>
                  <a:pt x="590" y="4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未知"/>
          <p:cNvSpPr/>
          <p:nvPr/>
        </p:nvSpPr>
        <p:spPr>
          <a:xfrm>
            <a:off x="5580000" y="5734080"/>
            <a:ext cx="1224000" cy="156960"/>
          </a:xfrm>
          <a:custGeom>
            <a:avLst/>
            <a:gdLst/>
            <a:ahLst/>
            <a:rect l="l" t="t" r="r" b="b"/>
            <a:pathLst>
              <a:path w="590" h="99">
                <a:moveTo>
                  <a:pt x="0" y="91"/>
                </a:moveTo>
                <a:cubicBezTo>
                  <a:pt x="30" y="45"/>
                  <a:pt x="61" y="0"/>
                  <a:pt x="91" y="0"/>
                </a:cubicBezTo>
                <a:cubicBezTo>
                  <a:pt x="121" y="0"/>
                  <a:pt x="143" y="91"/>
                  <a:pt x="181" y="91"/>
                </a:cubicBezTo>
                <a:cubicBezTo>
                  <a:pt x="219" y="91"/>
                  <a:pt x="272" y="0"/>
                  <a:pt x="317" y="0"/>
                </a:cubicBezTo>
                <a:cubicBezTo>
                  <a:pt x="362" y="0"/>
                  <a:pt x="408" y="83"/>
                  <a:pt x="453" y="91"/>
                </a:cubicBezTo>
                <a:cubicBezTo>
                  <a:pt x="498" y="99"/>
                  <a:pt x="567" y="61"/>
                  <a:pt x="590" y="4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乌鸦喝水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324000" y="220392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乌鸦先（           ），可是（           ），最后（             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477320" y="2133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找水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1236960" y="2852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喝不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5812920" y="2781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喝着水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1"/>
          <p:cNvSpPr/>
          <p:nvPr/>
        </p:nvSpPr>
        <p:spPr>
          <a:xfrm>
            <a:off x="1015920" y="4413240"/>
            <a:ext cx="62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DJ54WZB518YQ%5`WUD~B(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0920" y="378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一只乌鸦口渴了，到处找水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2843280" y="3933720"/>
            <a:ext cx="19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口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6960240" y="393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找水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916360" y="3933720"/>
            <a:ext cx="648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口渴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到处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找水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5040360" y="5300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找得多＿＿＿＿啊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/>
          <p:cNvSpPr/>
          <p:nvPr/>
        </p:nvSpPr>
        <p:spPr>
          <a:xfrm>
            <a:off x="5867280" y="4724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6227640" y="522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累、辛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Object 10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11"/>
          <p:cNvSpPr/>
          <p:nvPr/>
        </p:nvSpPr>
        <p:spPr>
          <a:xfrm flipV="1">
            <a:off x="8029440" y="6377040"/>
            <a:ext cx="792360" cy="363600"/>
          </a:xfrm>
          <a:prstGeom prst="sun">
            <a:avLst>
              <a:gd name="adj" fmla="val 4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E~1P@4XX)@[)FGQS6Z(URAX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它看见一个瓶子，里面有半瓶水，可是，瓶口小，乌鸦喝不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4"/>
          <p:cNvSpPr/>
          <p:nvPr/>
        </p:nvSpPr>
        <p:spPr>
          <a:xfrm flipV="1">
            <a:off x="8172360" y="6093000"/>
            <a:ext cx="792360" cy="365040"/>
          </a:xfrm>
          <a:prstGeom prst="sun">
            <a:avLst>
              <a:gd name="adj" fmla="val 4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2"/>
          <p:cNvSpPr/>
          <p:nvPr/>
        </p:nvSpPr>
        <p:spPr>
          <a:xfrm>
            <a:off x="6518160" y="3645000"/>
            <a:ext cx="1368720" cy="1368360"/>
          </a:xfrm>
          <a:prstGeom prst="flowChartMagneticDisk">
            <a:avLst/>
          </a:prstGeom>
          <a:solidFill>
            <a:srgbClr val="bbe0e3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/>
          <p:cNvSpPr/>
          <p:nvPr/>
        </p:nvSpPr>
        <p:spPr>
          <a:xfrm>
            <a:off x="4067280" y="2708280"/>
            <a:ext cx="1224000" cy="2233440"/>
          </a:xfrm>
          <a:prstGeom prst="flowChartMagneticDisk">
            <a:avLst/>
          </a:prstGeom>
          <a:solidFill>
            <a:srgbClr val="bbe0e3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4067280" cy="479736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5"/>
          <p:cNvSpPr/>
          <p:nvPr/>
        </p:nvSpPr>
        <p:spPr>
          <a:xfrm>
            <a:off x="1042920" y="3141720"/>
            <a:ext cx="1152720" cy="15843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3995640" y="2205000"/>
            <a:ext cx="1368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4284720" y="4292640"/>
            <a:ext cx="8650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3995640" y="2708280"/>
            <a:ext cx="287280" cy="18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9"/>
          <p:cNvSpPr/>
          <p:nvPr/>
        </p:nvSpPr>
        <p:spPr>
          <a:xfrm flipH="1">
            <a:off x="5148000" y="2708280"/>
            <a:ext cx="215640" cy="1942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6804000" y="2492280"/>
            <a:ext cx="71928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11"/>
          <p:cNvSpPr/>
          <p:nvPr/>
        </p:nvSpPr>
        <p:spPr>
          <a:xfrm>
            <a:off x="6877080" y="4365720"/>
            <a:ext cx="64764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未知"/>
          <p:cNvSpPr/>
          <p:nvPr/>
        </p:nvSpPr>
        <p:spPr>
          <a:xfrm>
            <a:off x="6372360" y="2708280"/>
            <a:ext cx="574560" cy="1942920"/>
          </a:xfrm>
          <a:custGeom>
            <a:avLst/>
            <a:gdLst/>
            <a:ahLst/>
            <a:rect l="l" t="t" r="r" b="b"/>
            <a:pathLst>
              <a:path w="362" h="1224">
                <a:moveTo>
                  <a:pt x="272" y="0"/>
                </a:moveTo>
                <a:cubicBezTo>
                  <a:pt x="317" y="94"/>
                  <a:pt x="362" y="189"/>
                  <a:pt x="317" y="272"/>
                </a:cubicBezTo>
                <a:cubicBezTo>
                  <a:pt x="272" y="355"/>
                  <a:pt x="0" y="340"/>
                  <a:pt x="0" y="499"/>
                </a:cubicBezTo>
                <a:cubicBezTo>
                  <a:pt x="0" y="658"/>
                  <a:pt x="264" y="1111"/>
                  <a:pt x="317" y="1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未知"/>
          <p:cNvSpPr/>
          <p:nvPr/>
        </p:nvSpPr>
        <p:spPr>
          <a:xfrm>
            <a:off x="7451640" y="2708280"/>
            <a:ext cx="588960" cy="1944720"/>
          </a:xfrm>
          <a:custGeom>
            <a:avLst/>
            <a:gdLst/>
            <a:ahLst/>
            <a:rect l="l" t="t" r="r" b="b"/>
            <a:pathLst>
              <a:path w="371" h="1224">
                <a:moveTo>
                  <a:pt x="53" y="0"/>
                </a:moveTo>
                <a:cubicBezTo>
                  <a:pt x="26" y="117"/>
                  <a:pt x="0" y="234"/>
                  <a:pt x="53" y="317"/>
                </a:cubicBezTo>
                <a:cubicBezTo>
                  <a:pt x="106" y="400"/>
                  <a:pt x="371" y="348"/>
                  <a:pt x="371" y="499"/>
                </a:cubicBezTo>
                <a:cubicBezTo>
                  <a:pt x="371" y="650"/>
                  <a:pt x="212" y="937"/>
                  <a:pt x="53" y="1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4" descr=""/>
          <p:cNvPicPr/>
          <p:nvPr/>
        </p:nvPicPr>
        <p:blipFill>
          <a:blip r:embed="rId2"/>
          <a:stretch/>
        </p:blipFill>
        <p:spPr>
          <a:xfrm rot="1261200">
            <a:off x="5076720" y="4723920"/>
            <a:ext cx="287280" cy="37152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15"/>
          <p:cNvSpPr/>
          <p:nvPr/>
        </p:nvSpPr>
        <p:spPr>
          <a:xfrm>
            <a:off x="1042920" y="3645000"/>
            <a:ext cx="1152720" cy="1079280"/>
          </a:xfrm>
          <a:prstGeom prst="flowChartMagneticDisk">
            <a:avLst/>
          </a:prstGeom>
          <a:solidFill>
            <a:srgbClr val="bbe0e3"/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6" descr=""/>
          <p:cNvPicPr/>
          <p:nvPr/>
        </p:nvPicPr>
        <p:blipFill>
          <a:blip r:embed="rId3"/>
          <a:stretch/>
        </p:blipFill>
        <p:spPr>
          <a:xfrm rot="372600">
            <a:off x="5219280" y="364464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"/>
          <p:cNvPicPr/>
          <p:nvPr/>
        </p:nvPicPr>
        <p:blipFill>
          <a:blip r:embed="rId4"/>
          <a:stretch/>
        </p:blipFill>
        <p:spPr>
          <a:xfrm rot="21053400">
            <a:off x="3492000" y="3357720"/>
            <a:ext cx="684360" cy="15127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8" descr=""/>
          <p:cNvPicPr/>
          <p:nvPr/>
        </p:nvPicPr>
        <p:blipFill>
          <a:blip r:embed="rId5"/>
          <a:stretch/>
        </p:blipFill>
        <p:spPr>
          <a:xfrm rot="19785600">
            <a:off x="4066920" y="4723920"/>
            <a:ext cx="287280" cy="3715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9" descr=""/>
          <p:cNvPicPr/>
          <p:nvPr/>
        </p:nvPicPr>
        <p:blipFill>
          <a:blip r:embed="rId6"/>
          <a:stretch/>
        </p:blipFill>
        <p:spPr>
          <a:xfrm rot="1666200">
            <a:off x="7667280" y="3860280"/>
            <a:ext cx="684360" cy="1368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0" descr=""/>
          <p:cNvPicPr/>
          <p:nvPr/>
        </p:nvPicPr>
        <p:blipFill>
          <a:blip r:embed="rId7"/>
          <a:stretch/>
        </p:blipFill>
        <p:spPr>
          <a:xfrm rot="20011200">
            <a:off x="6048000" y="3789000"/>
            <a:ext cx="6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1" descr=""/>
          <p:cNvPicPr/>
          <p:nvPr/>
        </p:nvPicPr>
        <p:blipFill>
          <a:blip r:embed="rId8"/>
          <a:stretch/>
        </p:blipFill>
        <p:spPr>
          <a:xfrm>
            <a:off x="6516720" y="4869000"/>
            <a:ext cx="1368360" cy="3063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2" descr=""/>
          <p:cNvPicPr/>
          <p:nvPr/>
        </p:nvPicPr>
        <p:blipFill>
          <a:blip r:embed="rId9"/>
          <a:stretch/>
        </p:blipFill>
        <p:spPr>
          <a:xfrm>
            <a:off x="5292720" y="0"/>
            <a:ext cx="385128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4" descr="W0200707096723146731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5"/>
          <p:cNvSpPr/>
          <p:nvPr/>
        </p:nvSpPr>
        <p:spPr>
          <a:xfrm>
            <a:off x="3453840" y="679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怎么办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}JQQLLADPU75LSG{54FCR8W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3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乌鸦看见旁边有许多小石子，想出办法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2031840" y="371520"/>
            <a:ext cx="18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看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4572000" y="404640"/>
            <a:ext cx="28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许多小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7920" y="1014480"/>
            <a:ext cx="19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办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7626240" y="388800"/>
            <a:ext cx="151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想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25:36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