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227D-54BD-4A26-8750-94C26781EEFB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8AFFA-0BE4-4450-905D-191949BE99E0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401F-6A6F-4127-939F-3C450ADFB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2AF7-8E09-4F48-B93D-746DEA572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5762-0929-43CE-AAFA-82E786F3A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CCB9-2688-4F01-9DAC-1DE5BA340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AA08-C073-4B0C-9A4E-7BFA05E1B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5566-6A3D-4AAA-A313-922FD7F22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D10E-66D5-40EE-AA07-450D3512C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1838-B705-4A11-BC3F-F6D95612D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AE66-1BA5-40A1-BF5D-25108A7F2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C442-D98F-4414-8A19-4967C901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CBD9-B2E0-428D-A924-ED8C9928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AE80-F713-4B34-B240-FD8D4800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7F677-F877-4CFB-B957-AC9280A0C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2009010520274158"/>
          <p:cNvPicPr/>
          <p:nvPr/>
        </p:nvPicPr>
        <p:blipFill>
          <a:blip r:embed="rId1"/>
          <a:stretch/>
        </p:blipFill>
        <p:spPr>
          <a:xfrm>
            <a:off x="1581120" y="1773360"/>
            <a:ext cx="6045120" cy="43797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8"/>
          <p:cNvSpPr/>
          <p:nvPr/>
        </p:nvSpPr>
        <p:spPr>
          <a:xfrm>
            <a:off x="1403280" y="54936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萧伯纳和小女孩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1858680" y="61531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324000" y="1294920"/>
            <a:ext cx="842472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临别的时候，萧伯纳把头一扬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默地对小姑娘说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别忘了回去告诉你妈妈，就说今天同你玩的是世界闻名的萧伯纳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6877080" y="1052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幽默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雪花"/>
          <p:cNvPicPr/>
          <p:nvPr/>
        </p:nvPicPr>
        <p:blipFill>
          <a:blip r:embed="rId1"/>
          <a:stretch/>
        </p:blipFill>
        <p:spPr>
          <a:xfrm>
            <a:off x="7236000" y="692280"/>
            <a:ext cx="55872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468360" y="1324080"/>
            <a:ext cx="842472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先生，您就是萧伯纳？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可是，您怎么会说自己了不起呢？请回去也告诉您的妈妈，就说今天同您玩的是一个普普通通的小姑娘！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539640" y="3716280"/>
            <a:ext cx="367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宋体"/>
              </a:rPr>
              <a:t>....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719280" y="1698840"/>
            <a:ext cx="842472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先生，您就是萧伯纳？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395280" y="979920"/>
            <a:ext cx="842472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可是，您怎么会说自己了不起呢？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"/>
          <p:cNvSpPr/>
          <p:nvPr/>
        </p:nvSpPr>
        <p:spPr>
          <a:xfrm>
            <a:off x="539640" y="1559160"/>
            <a:ext cx="8353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萧伯纳愣住了，他觉得刚才自己太自以为是了，一时不知说什么才好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611280" y="3364200"/>
            <a:ext cx="8281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来，萧伯纳常对人说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人无论取得多大的成就，都不能骄傲，要永远谦虚。这就是那位小姑娘给我的启迪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”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2454120" y="1322280"/>
            <a:ext cx="131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愣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10"/>
          <p:cNvGrpSpPr/>
          <p:nvPr/>
        </p:nvGrpSpPr>
        <p:grpSpPr>
          <a:xfrm>
            <a:off x="-1081440" y="2708280"/>
            <a:ext cx="12083040" cy="581400"/>
            <a:chOff x="-1081440" y="2708280"/>
            <a:chExt cx="12083040" cy="581400"/>
          </a:xfrm>
        </p:grpSpPr>
        <p:sp>
          <p:nvSpPr>
            <p:cNvPr id="98" name="Text Box 6"/>
            <p:cNvSpPr/>
            <p:nvPr/>
          </p:nvSpPr>
          <p:spPr>
            <a:xfrm>
              <a:off x="-1081440" y="2708280"/>
              <a:ext cx="12083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他想：                                               。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9"/>
            <p:cNvSpPr/>
            <p:nvPr/>
          </p:nvSpPr>
          <p:spPr>
            <a:xfrm>
              <a:off x="2556000" y="3141720"/>
              <a:ext cx="5256000" cy="0"/>
            </a:xfrm>
            <a:prstGeom prst="line">
              <a:avLst/>
            </a:prstGeom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"/>
                            </p:stCondLst>
                            <p:childTnLst>
                              <p:par>
                                <p:cTn id="14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539640" y="1559160"/>
            <a:ext cx="8353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萧伯纳愣住了，他觉得刚才自己太自以为是了，一时不知说什么才好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611280" y="3364200"/>
            <a:ext cx="8281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来，萧伯纳常对人说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个人无论取得多大的成就，都不能骄傲，要永远谦虚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就是那位小姑娘给我的启迪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”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1"/>
          <p:cNvSpPr/>
          <p:nvPr/>
        </p:nvSpPr>
        <p:spPr>
          <a:xfrm>
            <a:off x="825480" y="5892840"/>
            <a:ext cx="55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5"/>
          <p:cNvSpPr/>
          <p:nvPr/>
        </p:nvSpPr>
        <p:spPr>
          <a:xfrm>
            <a:off x="324000" y="1097640"/>
            <a:ext cx="86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虚心使人进步，骄傲使人落后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——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毛 泽 东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324000" y="2707200"/>
            <a:ext cx="928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骄傲的人，结果总是在骄傲里毁灭了自己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——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莎士比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24000" y="4436280"/>
            <a:ext cx="936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论在何时，永远不要以为自己已知道了一切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——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巴甫洛夫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dur="indefinite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6000"/>
                            </p:stCondLst>
                            <p:childTnLst>
                              <p:par>
                                <p:cTn id="154" dur="indefinite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1116000" y="925560"/>
            <a:ext cx="748836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谦虚   启迪   幽默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骄傲   世界闻名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普普通通   聪明伶俐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带蝴蝶结   带行李 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40CF-5B60-4DD8-BBA5-D1A22916E0A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8"/>
          <p:cNvSpPr/>
          <p:nvPr/>
        </p:nvSpPr>
        <p:spPr>
          <a:xfrm>
            <a:off x="2050920" y="486900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4317840" y="2492280"/>
            <a:ext cx="482616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萧伯纳是英国有名的戏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剧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家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5"/>
          <p:cNvGrpSpPr/>
          <p:nvPr/>
        </p:nvGrpSpPr>
        <p:grpSpPr>
          <a:xfrm>
            <a:off x="11160" y="981000"/>
            <a:ext cx="4355640" cy="5013000"/>
            <a:chOff x="11160" y="981000"/>
            <a:chExt cx="4355640" cy="5013000"/>
          </a:xfrm>
        </p:grpSpPr>
        <p:pic>
          <p:nvPicPr>
            <p:cNvPr id="54" name="Picture 14" descr="萧伯纳1"/>
            <p:cNvPicPr/>
            <p:nvPr/>
          </p:nvPicPr>
          <p:blipFill>
            <a:blip r:embed="rId1"/>
            <a:stretch/>
          </p:blipFill>
          <p:spPr>
            <a:xfrm>
              <a:off x="11160" y="981000"/>
              <a:ext cx="4355640" cy="50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Rectangle 10"/>
            <p:cNvSpPr/>
            <p:nvPr/>
          </p:nvSpPr>
          <p:spPr>
            <a:xfrm>
              <a:off x="226080" y="52077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  <a:ea typeface="隶书"/>
                </a:rPr>
                <a:t>萧伯纳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611280" y="2264040"/>
            <a:ext cx="828180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人无论取得多大的成就，都不能骄傲，要永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谦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这就是那位小姑娘给我的启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迪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”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468360" y="1728000"/>
            <a:ext cx="849636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读准字音，读通课文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完成填空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的萧伯纳在国外看到一个（    ）的小女孩，她高兴地和小女孩玩得很久。临别时，萧伯纳让小女孩告诉她的妈妈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     ）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女孩让萧伯纳告诉他的妈妈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  ）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12"/>
          <p:cNvSpPr txBox="1"/>
          <p:nvPr/>
        </p:nvSpPr>
        <p:spPr>
          <a:xfrm>
            <a:off x="539640" y="549360"/>
            <a:ext cx="2305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d60093"/>
                  </a:solidFill>
                  <a:round/>
                </a:ln>
                <a:solidFill>
                  <a:srgbClr val="d60093"/>
                </a:solidFill>
                <a:latin typeface="隶书"/>
              </a:rPr>
              <a:t>自学要求：</a:t>
            </a:r>
            <a:endParaRPr b="1" lang="en-US" sz="1800" spc="1" strike="noStrike">
              <a:ln w="9360">
                <a:solidFill>
                  <a:srgbClr val="d60093"/>
                </a:solidFill>
                <a:round/>
              </a:ln>
              <a:solidFill>
                <a:srgbClr val="d60093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6"/>
          <p:cNvGrpSpPr/>
          <p:nvPr/>
        </p:nvGrpSpPr>
        <p:grpSpPr>
          <a:xfrm>
            <a:off x="611280" y="2512080"/>
            <a:ext cx="8281800" cy="1892160"/>
            <a:chOff x="611280" y="2512080"/>
            <a:chExt cx="8281800" cy="1892160"/>
          </a:xfrm>
        </p:grpSpPr>
        <p:sp>
          <p:nvSpPr>
            <p:cNvPr id="60" name="Rectangle 4"/>
            <p:cNvSpPr/>
            <p:nvPr/>
          </p:nvSpPr>
          <p:spPr>
            <a:xfrm>
              <a:off x="611280" y="2512080"/>
              <a:ext cx="828180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</a:t>
              </a: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有名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的萧伯纳在国外看到一个（</a:t>
              </a: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聪明伶俐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的小女孩，她高兴地和小女孩玩得很久。临别时，萧伯纳让小女孩告诉她的妈妈：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“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</a:t>
              </a: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别忘了回去告诉你妈妈，就说今天同你玩的是世界闻名的萧伯纳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。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”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小女孩让萧伯纳告诉他的妈妈：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“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</a:t>
              </a: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请回去也告诉您的妈妈，就说今天同您玩的是一个</a:t>
              </a:r>
              <a:r>
                <a:rPr b="1" lang="zh-CN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普</a:t>
              </a: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普通通的小姑娘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。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”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5"/>
            <p:cNvSpPr/>
            <p:nvPr/>
          </p:nvSpPr>
          <p:spPr>
            <a:xfrm>
              <a:off x="7451640" y="4005360"/>
              <a:ext cx="9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p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Dotum"/>
                </a:rPr>
                <a:t>ǔ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0"/>
          <p:cNvGrpSpPr/>
          <p:nvPr/>
        </p:nvGrpSpPr>
        <p:grpSpPr>
          <a:xfrm>
            <a:off x="611280" y="1790280"/>
            <a:ext cx="8281800" cy="991440"/>
            <a:chOff x="611280" y="1790280"/>
            <a:chExt cx="8281800" cy="991440"/>
          </a:xfrm>
        </p:grpSpPr>
        <p:grpSp>
          <p:nvGrpSpPr>
            <p:cNvPr id="63" name="Group 8"/>
            <p:cNvGrpSpPr/>
            <p:nvPr/>
          </p:nvGrpSpPr>
          <p:grpSpPr>
            <a:xfrm>
              <a:off x="611280" y="1790280"/>
              <a:ext cx="8281800" cy="991440"/>
              <a:chOff x="611280" y="1790280"/>
              <a:chExt cx="8281800" cy="991440"/>
            </a:xfrm>
          </p:grpSpPr>
          <p:sp>
            <p:nvSpPr>
              <p:cNvPr id="64" name="Rectangle 5"/>
              <p:cNvSpPr/>
              <p:nvPr/>
            </p:nvSpPr>
            <p:spPr>
              <a:xfrm>
                <a:off x="611280" y="1790280"/>
                <a:ext cx="8281800" cy="99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5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       </a:t>
                </a:r>
                <a:r>
                  <a:rPr b="1" lang="zh-CN" sz="3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小姑娘长着一双闪亮的大眼睛，头上</a:t>
                </a:r>
                <a:r>
                  <a:rPr b="1" lang="zh-CN" sz="3800" spc="-1" strike="noStrike">
                    <a:solidFill>
                      <a:srgbClr val="ff0000"/>
                    </a:solidFill>
                    <a:latin typeface="Arial"/>
                    <a:ea typeface="楷体_GB2312"/>
                  </a:rPr>
                  <a:t>戴</a:t>
                </a:r>
                <a:r>
                  <a:rPr b="1" lang="zh-CN" sz="3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着大红蝴蝶结，显得聪明伶俐。</a:t>
                </a:r>
                <a:endParaRPr b="1" lang="en-US" sz="3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Text Box 6"/>
              <p:cNvSpPr/>
              <p:nvPr/>
            </p:nvSpPr>
            <p:spPr>
              <a:xfrm>
                <a:off x="7308720" y="2135160"/>
                <a:ext cx="1295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Arial"/>
                  </a:rPr>
                  <a:t>líng lì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" name="Text Box 9"/>
            <p:cNvSpPr/>
            <p:nvPr/>
          </p:nvSpPr>
          <p:spPr>
            <a:xfrm>
              <a:off x="1619280" y="2205000"/>
              <a:ext cx="10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r>
                <a:rPr b="1" lang="en-US" sz="2800" spc="-1" strike="noStrike">
                  <a:solidFill>
                    <a:srgbClr val="ff0000"/>
                  </a:solidFill>
                  <a:latin typeface="宋体"/>
                </a:rPr>
                <a:t>à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i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Text Box 11"/>
          <p:cNvSpPr/>
          <p:nvPr/>
        </p:nvSpPr>
        <p:spPr>
          <a:xfrm>
            <a:off x="1116000" y="386064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戴（         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1116000" y="5516640"/>
            <a:ext cx="80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带（干粮、行李、报名费、照片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……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1116000" y="3860640"/>
            <a:ext cx="7488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戴（眼镜、围巾、红领巾、帽子、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手表、项链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……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4"/>
          <p:cNvSpPr/>
          <p:nvPr/>
        </p:nvSpPr>
        <p:spPr>
          <a:xfrm>
            <a:off x="1116000" y="5445000"/>
            <a:ext cx="80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带（         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24000" y="2256120"/>
            <a:ext cx="842472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临别的时候，萧伯纳把头一扬，幽默地对小姑娘说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别忘了回去告诉你妈妈，就说今天同你玩的是世界闻名的萧伯纳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先生，您就是萧伯纳？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”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怎么，难道我不像吗？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”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可是，您怎么会说自己了不起呢？请回去也告诉您的妈妈，就说今天同您玩的是一个普普通通的小姑娘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>
            <a:off x="2627280" y="2276640"/>
            <a:ext cx="5977080" cy="0"/>
          </a:xfrm>
          <a:prstGeom prst="line">
            <a:avLst/>
          </a:prstGeom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7"/>
          <p:cNvSpPr/>
          <p:nvPr/>
        </p:nvSpPr>
        <p:spPr>
          <a:xfrm>
            <a:off x="468360" y="2924280"/>
            <a:ext cx="6335640" cy="0"/>
          </a:xfrm>
          <a:prstGeom prst="line">
            <a:avLst/>
          </a:prstGeom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"/>
          <p:cNvSpPr/>
          <p:nvPr/>
        </p:nvSpPr>
        <p:spPr>
          <a:xfrm>
            <a:off x="6156360" y="3500280"/>
            <a:ext cx="2303280" cy="0"/>
          </a:xfrm>
          <a:prstGeom prst="line">
            <a:avLst/>
          </a:prstGeom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9"/>
          <p:cNvSpPr/>
          <p:nvPr/>
        </p:nvSpPr>
        <p:spPr>
          <a:xfrm>
            <a:off x="395280" y="4221000"/>
            <a:ext cx="2303640" cy="0"/>
          </a:xfrm>
          <a:prstGeom prst="line">
            <a:avLst/>
          </a:prstGeom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324000" y="4508640"/>
            <a:ext cx="86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~~~~~~~~~~~~~~~~~~~~~~~~~~~~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324000" y="5157720"/>
            <a:ext cx="86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~~~~~~~~~~~~~~~~~~~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1187280" y="3213000"/>
            <a:ext cx="52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~~~~~~~~~~~~~~~~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2916360" y="3860640"/>
            <a:ext cx="622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~~~~~~~~~~~~~~~~~~~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468360" y="1612800"/>
            <a:ext cx="842472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别忘了回去告诉你妈妈，就说今天同你玩的是世界闻名的萧伯纳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先生，您就是萧伯纳？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怎么，难道我不像吗？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可是，您怎么会说自己了不起呢？请回去也告诉您的妈妈，就说今天同您玩的是一个普普通通的小姑娘！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1763640" y="1484280"/>
            <a:ext cx="367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宋体"/>
              </a:rPr>
              <a:t>....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324000" y="1294920"/>
            <a:ext cx="842472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临别的时候，萧伯纳把头一扬，幽默地对小姑娘说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别忘了回去告诉你妈妈，就说今天同你玩的是世界闻名的萧伯纳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4821120" y="1085760"/>
            <a:ext cx="20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把头一扬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2771640" y="233856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世界闻名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9" descr="雪花"/>
          <p:cNvPicPr/>
          <p:nvPr/>
        </p:nvPicPr>
        <p:blipFill>
          <a:blip r:embed="rId1"/>
          <a:stretch/>
        </p:blipFill>
        <p:spPr>
          <a:xfrm>
            <a:off x="4356000" y="595440"/>
            <a:ext cx="559080" cy="558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雪花"/>
          <p:cNvPicPr/>
          <p:nvPr/>
        </p:nvPicPr>
        <p:blipFill>
          <a:blip r:embed="rId2"/>
          <a:stretch/>
        </p:blipFill>
        <p:spPr>
          <a:xfrm>
            <a:off x="2340000" y="2827440"/>
            <a:ext cx="55872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04:03:1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28:54Z</dcterms:modified>
  <cp:revision>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