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7BB5-0751-4645-BB48-05D584477FD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8883-729B-4CF7-9A01-DECEEC6681B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1A5B-F0FD-43E4-A6BB-AFD7DCAA7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DDF9-7410-46A2-A536-BC0364D0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6859-8231-4F54-914F-F04176284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747A-B85C-46A4-A239-7E24DDD76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ACD1-38A9-41C6-9BF0-069DF58E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7BE8-815E-43AA-8815-525085E7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6062-C784-4DBA-AB7C-88DFA3AB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654D-F06B-4A45-8B95-DC1553C4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7E6F-354C-4D88-A30B-866F3FCB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B5B7-FCBF-4248-B7D4-33718CB1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B893-9CB8-4DEE-A491-9DF946BE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0427-B51E-4CC9-A526-ED2CF1E5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1859-4C63-4944-82DB-82C76A8B1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4284720" y="2637000"/>
            <a:ext cx="41749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黑体"/>
              </a:rPr>
              <a:t>小城凤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9" name="Picture 6" descr="凤凰古城2"/>
          <p:cNvPicPr/>
          <p:nvPr/>
        </p:nvPicPr>
        <p:blipFill>
          <a:blip r:embed="rId4"/>
          <a:stretch/>
        </p:blipFill>
        <p:spPr>
          <a:xfrm>
            <a:off x="684360" y="1197000"/>
            <a:ext cx="3382920" cy="4032360"/>
          </a:xfrm>
          <a:prstGeom prst="rect">
            <a:avLst/>
          </a:prstGeom>
          <a:ln w="0">
            <a:noFill/>
          </a:ln>
        </p:spPr>
      </p:pic>
      <p:sp>
        <p:nvSpPr>
          <p:cNvPr id="50" name="矩形 6"/>
          <p:cNvSpPr/>
          <p:nvPr/>
        </p:nvSpPr>
        <p:spPr>
          <a:xfrm>
            <a:off x="1773000" y="5661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755640" y="98100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实际上，那距离还在六七里之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11280" y="3284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zh-CN" sz="2400" spc="-1" strike="noStrike">
                <a:solidFill>
                  <a:srgbClr val="9933ff"/>
                </a:solidFill>
                <a:latin typeface="Tahoma"/>
              </a:rPr>
              <a:t>小城里油炸粑粑的香味传到六七里之遥，这既表现香气的浓郁，也是小城独特的乡土风情深入人心，让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ahoma"/>
              </a:rPr>
              <a:t>闻到了家乡的风味。其实，这种香味还能传遍天涯海角呢，因为它永远伴随游子的脚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059280" y="1989000"/>
            <a:ext cx="35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嗅觉、听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332000" y="90792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我想，好的诗应该是从这样的地方才能产生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826920" y="2924280"/>
            <a:ext cx="72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zh-CN" sz="2400" spc="-1" strike="noStrike">
                <a:solidFill>
                  <a:srgbClr val="663300"/>
                </a:solidFill>
                <a:latin typeface="Tahoma"/>
              </a:rPr>
              <a:t>地灵而人杰，故乡秀美的土地养育了一辈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Tahoma"/>
              </a:rPr>
              <a:t>人才，包括作者在内的许多文人墨客才华如清泉涌动，造就了小城的人文美，作者巧妙地提升了小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Tahoma"/>
              </a:rPr>
              <a:t>美的价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"/>
          <p:cNvSpPr/>
          <p:nvPr/>
        </p:nvSpPr>
        <p:spPr>
          <a:xfrm>
            <a:off x="1332000" y="5460840"/>
            <a:ext cx="60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763640" y="1557360"/>
            <a:ext cx="60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我是十二三岁时背着小小包袱，顺着小河，穿过洞庭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翻阅另一本大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42920" y="378936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zh-CN" sz="2400" spc="-1" strike="noStrike">
                <a:solidFill>
                  <a:srgbClr val="009999"/>
                </a:solidFill>
                <a:latin typeface="Tahoma"/>
              </a:rPr>
              <a:t>小</a:t>
            </a: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城的美被洞庭水、古老森林和草地遮挡住了，不为人知，小城的人们却不能因为小城美而停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探索的脚步。作者离开小城，翻阅了“世界”这本大书，见过了无数美景，却依然为小城的美而骄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684360" y="21337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如此美丽的景色，如此清甜的泉水，如果你置身其中会是怎样的心情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116000" y="3645000"/>
            <a:ext cx="7343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心旷神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陶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忍不住诗性大发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……</a:t>
            </a: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611280" y="1052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感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684360" y="206064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作者对家乡生活怀有一种怎样的感情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908000" y="2852640"/>
            <a:ext cx="25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黑体"/>
                <a:ea typeface="黑体"/>
              </a:rPr>
              <a:t>热爱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黑体"/>
                <a:ea typeface="黑体"/>
              </a:rPr>
              <a:t>怀念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539640" y="98100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思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0CE7-8AE8-48CC-8B42-7A25DAE6D88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24000" y="363600"/>
            <a:ext cx="246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Arial"/>
              </a:rPr>
              <a:t>认读生字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900000" y="112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671400" y="16416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骄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468360" y="1052640"/>
            <a:ext cx="117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iā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771640" y="170028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凤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059280" y="112536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á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219640" y="1700280"/>
            <a:ext cx="29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贵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651640" y="1197000"/>
            <a:ext cx="225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ō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7308720" y="1700280"/>
            <a:ext cx="18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绣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7359480" y="1287360"/>
            <a:ext cx="668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7308720" y="112536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i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231840" y="3303720"/>
            <a:ext cx="174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木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684360" y="2708280"/>
            <a:ext cx="23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é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2556000" y="3284640"/>
            <a:ext cx="174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寿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556000" y="2708280"/>
            <a:ext cx="153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ò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4643280" y="3213000"/>
            <a:ext cx="297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侧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4716360" y="2708280"/>
            <a:ext cx="81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7072200" y="3141720"/>
            <a:ext cx="20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橘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7596360" y="2637000"/>
            <a:ext cx="135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ò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1"/>
          <p:cNvSpPr/>
          <p:nvPr/>
        </p:nvSpPr>
        <p:spPr>
          <a:xfrm>
            <a:off x="303120" y="5176800"/>
            <a:ext cx="174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油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950760" y="4600440"/>
            <a:ext cx="138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h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2700360" y="5157720"/>
            <a:ext cx="333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距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2771640" y="4437000"/>
            <a:ext cx="88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5"/>
          <p:cNvSpPr/>
          <p:nvPr/>
        </p:nvSpPr>
        <p:spPr>
          <a:xfrm>
            <a:off x="4859280" y="5084640"/>
            <a:ext cx="17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舀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6"/>
          <p:cNvSpPr/>
          <p:nvPr/>
        </p:nvSpPr>
        <p:spPr>
          <a:xfrm>
            <a:off x="4695840" y="4456080"/>
            <a:ext cx="138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ǎ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7"/>
          <p:cNvSpPr/>
          <p:nvPr/>
        </p:nvSpPr>
        <p:spPr>
          <a:xfrm>
            <a:off x="7020000" y="5013360"/>
            <a:ext cx="21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葱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6948360" y="4292640"/>
            <a:ext cx="153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ō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258920" y="98100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读读下面的词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755640" y="2060640"/>
            <a:ext cx="727236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zh-CN" sz="5400" spc="-1" strike="noStrike">
                <a:solidFill>
                  <a:srgbClr val="333399"/>
                </a:solidFill>
                <a:latin typeface="Tahoma"/>
              </a:rPr>
              <a:t>天涯海角    骄傲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zh-CN" sz="5400" spc="-1" strike="noStrike">
                <a:solidFill>
                  <a:srgbClr val="333399"/>
                </a:solidFill>
                <a:latin typeface="Tahoma"/>
              </a:rPr>
              <a:t>精致      结实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ahoma"/>
              </a:rPr>
              <a:t>包袱      奔赴</a:t>
            </a: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755640" y="1628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你从哪些地方感受到了小城的美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68360" y="98100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阅读思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5003640" y="2421000"/>
            <a:ext cx="18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城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2843280" y="270828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大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539640" y="32846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Arial"/>
              </a:rPr>
              <a:t>街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6372360" y="3573360"/>
            <a:ext cx="201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油炸粑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3780000" y="4005360"/>
            <a:ext cx="158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泉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1979640" y="458136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…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5"/>
          <p:cNvSpPr/>
          <p:nvPr/>
        </p:nvSpPr>
        <p:spPr>
          <a:xfrm>
            <a:off x="2987640" y="22748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826920" y="1268280"/>
            <a:ext cx="71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据说，凤凰城西南有一座山，非常像展翅而飞的凤凰；亦有传，在遥远的某个年代，有两只凤凰在这里涅槃升天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古城因此而得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826920" y="1628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不过，在天涯海角，我都为它而骄傲，它就应该是那么小 ，那么精致，那么结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468360" y="407664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这句话表达了作者对故乡小城情有独钟，概括了小城的独特之处，它虽然小，但是别致，别有风情；它结实，经受岁月的洗礼而不改容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539640" y="620640"/>
            <a:ext cx="28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小城的位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348000" y="76500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湘西靠贵州省的山洼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11280" y="191628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小城的样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3276720" y="206064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城在起伏的小山坡，在      一些古老的森林和草地，用石头城墙上上下下地绣起一个圈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539640" y="3789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小城的景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3348000" y="3860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河上的拱桥、住房、小街、万寿宫、小宝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539280" y="1052280"/>
            <a:ext cx="7993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城在起伏的小山坡，在一些古老的森林和草地，用石头城墙上上下下地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绣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起一个个圈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476360" y="3645000"/>
            <a:ext cx="619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一个“绣”字巧妙地表现了小城的精致、小巧与古朴，引发人无限遐想：“绣”在古老的森林和草地里，该是怎样的巧夺天工啊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995640" y="112536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暗蓝色、红色、青色、白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924360" y="393372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叮叮叮、叮叮当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971640" y="765000"/>
            <a:ext cx="25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视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971640" y="3429000"/>
            <a:ext cx="30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听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6:21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5:32Z</dcterms:modified>
  <cp:revision>3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