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512F8-E372-4293-826C-391D1DE28C3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3.xml"/><Relationship Id="rId24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7F986-45FB-410F-B14D-36086828BA9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2094-024C-4C0D-AB7D-DD1DE837F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522A-40F2-481E-B19A-D67E6AACD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6A93-B169-48B0-A5C8-92073B177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9923-B8FD-490C-B344-DAC890331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1F87-513B-4E04-817E-790CC6B44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41BF-9C62-47DB-9DF2-9B5C2E627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CD8F-03EB-432C-ADD3-76CAC28BD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968A-F55C-4C55-83EA-89683CF7F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E77F-509C-4283-B685-C98CC1B72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42A1-8135-4FCE-A613-4BD7D6414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3954-0372-4685-B03E-C1A1D6D65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7513-7DA1-4CF4-94C8-C72E6E0A5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A4AF4-65AB-4C9E-967A-D61B630706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无标题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276720" y="3438360"/>
            <a:ext cx="54100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66"/>
                </a:solidFill>
                <a:latin typeface="华文新魏"/>
                <a:ea typeface="华文新魏"/>
              </a:rPr>
              <a:t>新春赏梅</a:t>
            </a:r>
            <a:r>
              <a:rPr b="1" lang="zh-CN" sz="6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1827000" y="589104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ff0066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梅花原产于我国，主要以长江流域及西南地区栽培为盛。喜温暖而稍湿润的气候，宜在阳光充足、通风凉爽处生长，其性畏涝，能耐旱。</a:t>
            </a:r>
            <a:br>
              <a:rPr sz="3200"/>
            </a:b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　　梅花是我国人民最喜爱的观赏花卉之一，也常是画家作画的对象，观赏的梅花有</a:t>
            </a:r>
            <a:r>
              <a:rPr b="1" lang="en-US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300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多个品种，各品种的花色、花瓣各不相同。各地都有梅园，如无锡梅园、苏州邓蔚等都是赏梅胜地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6" descr="形色边框-边框背景-边框背景,形色边框"/>
          <p:cNvPicPr/>
          <p:nvPr/>
        </p:nvPicPr>
        <p:blipFill>
          <a:blip r:embed="rId1"/>
          <a:stretch/>
        </p:blipFill>
        <p:spPr>
          <a:xfrm>
            <a:off x="0" y="0"/>
            <a:ext cx="9144000" cy="68198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 txBox="1"/>
          <p:nvPr/>
        </p:nvSpPr>
        <p:spPr>
          <a:xfrm>
            <a:off x="457200" y="12193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你们知道“赏”的意思吗？谁能说说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赏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是指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因爱好某种东西而观看：～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析。～花。～月。欣～。鉴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课文讲的就是在新春时观赏梅花，今天就让我们跟随作者一起来赏梅吧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6" descr="0410100930"/>
          <p:cNvPicPr/>
          <p:nvPr/>
        </p:nvPicPr>
        <p:blipFill>
          <a:blip r:embed="rId1"/>
          <a:stretch/>
        </p:blipFill>
        <p:spPr>
          <a:xfrm>
            <a:off x="0" y="152280"/>
            <a:ext cx="8763120" cy="66913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457200" y="175212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自读自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．自由读课文，然后交流讨论自己不明白的生字和词语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111"/>
          <p:cNvPicPr/>
          <p:nvPr/>
        </p:nvPicPr>
        <p:blipFill>
          <a:blip r:embed="rId1"/>
          <a:stretch/>
        </p:blipFill>
        <p:spPr>
          <a:xfrm>
            <a:off x="0" y="0"/>
            <a:ext cx="4343400" cy="6858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112"/>
          <p:cNvPicPr/>
          <p:nvPr/>
        </p:nvPicPr>
        <p:blipFill>
          <a:blip r:embed="rId2"/>
          <a:stretch/>
        </p:blipFill>
        <p:spPr>
          <a:xfrm>
            <a:off x="4343400" y="0"/>
            <a:ext cx="4800600" cy="6858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形色边框-边框背景-边框背景,形色边框"/>
          <p:cNvPicPr/>
          <p:nvPr/>
        </p:nvPicPr>
        <p:blipFill>
          <a:blip r:embed="rId1"/>
          <a:stretch/>
        </p:blipFill>
        <p:spPr>
          <a:xfrm>
            <a:off x="0" y="0"/>
            <a:ext cx="9144000" cy="68198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 txBox="1"/>
          <p:nvPr/>
        </p:nvSpPr>
        <p:spPr>
          <a:xfrm>
            <a:off x="914400" y="83772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黑体"/>
              </a:rPr>
              <a:t>生字新词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默读课文，划出课文中的生字新词，自己读一读。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1066680" y="3581280"/>
            <a:ext cx="769644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观  梅  氛  沿  湾  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盆  含  组  怪  整  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形色边框-边框背景-边框背景,形色边框"/>
          <p:cNvPicPr/>
          <p:nvPr/>
        </p:nvPicPr>
        <p:blipFill>
          <a:blip r:embed="rId1"/>
          <a:stretch/>
        </p:blipFill>
        <p:spPr>
          <a:xfrm>
            <a:off x="0" y="0"/>
            <a:ext cx="9144000" cy="68198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46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观赏　梅花　气氛　沿着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6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弯曲　展室  盆景　组成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6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奇怪　整个　培育　含苞欲放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形色边框-边框背景-边框背景,形色边框"/>
          <p:cNvPicPr/>
          <p:nvPr/>
        </p:nvPicPr>
        <p:blipFill>
          <a:blip r:embed="rId1"/>
          <a:stretch/>
        </p:blipFill>
        <p:spPr>
          <a:xfrm>
            <a:off x="0" y="0"/>
            <a:ext cx="9144000" cy="68198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457200" y="1036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．再读课文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思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1)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课文主要讲了什么内容？用自己的话说一说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2)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作者在赏梅的过程中主要介绍了哪几种梅花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它们分别有什么特点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找出相关句子做上记号。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形色边框-边框背景-边框背景,形色边框"/>
          <p:cNvPicPr/>
          <p:nvPr/>
        </p:nvPicPr>
        <p:blipFill>
          <a:blip r:embed="rId1"/>
          <a:stretch/>
        </p:blipFill>
        <p:spPr>
          <a:xfrm>
            <a:off x="0" y="0"/>
            <a:ext cx="9144000" cy="68198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课文朗读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体会结构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朗读课文，读一读自己最喜欢的段落让同桌听听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画出每一个自然段的第一句话，说说这样的句子在文章中有什么作用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5" descr="形色边框-边框背景-边框背景,形色边框"/>
          <p:cNvPicPr/>
          <p:nvPr/>
        </p:nvPicPr>
        <p:blipFill>
          <a:blip r:embed="rId1"/>
          <a:stretch/>
        </p:blipFill>
        <p:spPr>
          <a:xfrm>
            <a:off x="0" y="0"/>
            <a:ext cx="9144000" cy="68198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457200" y="18288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先从书中找一找，再认真地写一写，然后自己记一记，想想它的意思和用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含苞欲放　赞叹不已　形态各异　交口称赞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生机勃勃　流连忘返　绚丽多彩　活灵活现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2666880" y="914400"/>
            <a:ext cx="3353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日积月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形色边框-边框背景-边框背景,形色边框"/>
          <p:cNvPicPr/>
          <p:nvPr/>
        </p:nvPicPr>
        <p:blipFill>
          <a:blip r:embed="rId1"/>
          <a:stretch/>
        </p:blipFill>
        <p:spPr>
          <a:xfrm>
            <a:off x="0" y="0"/>
            <a:ext cx="9144000" cy="68198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含苞欲放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指花骨朵将开而未开，形容花苞还在叶片里，很快就要开放出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赞叹不已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连声赞叹，赞叹声不止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形态各异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形状各不相同，各自有各自的模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交口称赞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异口同声地称赞。交：一齐，同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文本框 1"/>
          <p:cNvSpPr/>
          <p:nvPr/>
        </p:nvSpPr>
        <p:spPr>
          <a:xfrm>
            <a:off x="1190520" y="5010120"/>
            <a:ext cx="584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8" descr="0410100930"/>
          <p:cNvPicPr/>
          <p:nvPr/>
        </p:nvPicPr>
        <p:blipFill>
          <a:blip r:embed="rId1"/>
          <a:stretch/>
        </p:blipFill>
        <p:spPr>
          <a:xfrm>
            <a:off x="0" y="152280"/>
            <a:ext cx="8763120" cy="66913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838080" y="761760"/>
            <a:ext cx="70106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学习目标</a:t>
            </a:r>
            <a:br>
              <a:rPr sz="28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学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生字，联系上下文理解“含苞欲放、赞叹不已等词语。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读懂课文，了解各种梅花的不同形态，体会梅花的艺术美。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朗读课文，背诵课文第三、四自然段。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从课文的语言中体会到梅花的美，体会到园丁的辛苦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形色边框-边框背景-边框背景,形色边框"/>
          <p:cNvPicPr/>
          <p:nvPr/>
        </p:nvPicPr>
        <p:blipFill>
          <a:blip r:embed="rId1"/>
          <a:stretch/>
        </p:blipFill>
        <p:spPr>
          <a:xfrm>
            <a:off x="0" y="0"/>
            <a:ext cx="9144000" cy="68198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456840" y="1600200"/>
            <a:ext cx="84582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生机勃勃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旺盛的样子。形容有旺盛的生命力。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流连忘返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玩乐时留恋不愿离开，留恋得忘记（不想）了回去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绚丽多彩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各种各样的色彩灿烂美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活灵活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: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形容神情逼真，使人感到好像亲眼看到一般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3PNMdlye"/>
          <p:cNvPicPr/>
          <p:nvPr/>
        </p:nvPicPr>
        <p:blipFill>
          <a:blip r:embed="rId1"/>
          <a:stretch/>
        </p:blipFill>
        <p:spPr>
          <a:xfrm>
            <a:off x="0" y="0"/>
            <a:ext cx="9144000" cy="68342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新春赏梅 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4" descr="psb36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 txBox="1"/>
          <p:nvPr/>
        </p:nvSpPr>
        <p:spPr>
          <a:xfrm>
            <a:off x="457200" y="45720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背诵课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用自己最擅长的方法背诵课文第三、四自然段。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　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4B902-4FAB-4B40-B30C-991A25F0376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矩形 6"/>
          <p:cNvSpPr/>
          <p:nvPr/>
        </p:nvSpPr>
        <p:spPr>
          <a:xfrm>
            <a:off x="914400" y="137160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7" descr="0410100930"/>
          <p:cNvPicPr/>
          <p:nvPr/>
        </p:nvPicPr>
        <p:blipFill>
          <a:blip r:embed="rId1"/>
          <a:stretch/>
        </p:blipFill>
        <p:spPr>
          <a:xfrm>
            <a:off x="380880" y="152280"/>
            <a:ext cx="8382240" cy="64008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609480" y="9140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　同学们，你们见过梅花吗？这里有几幅梅花图，请你们认真观察，说说梅花有哪些特点和基本形态。 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梅花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新春赏梅 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新春赏梅 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新春赏梅 3"/>
          <p:cNvPicPr/>
          <p:nvPr/>
        </p:nvPicPr>
        <p:blipFill>
          <a:blip r:embed="rId1"/>
          <a:stretch/>
        </p:blipFill>
        <p:spPr>
          <a:xfrm>
            <a:off x="0" y="0"/>
            <a:ext cx="9144000" cy="69055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新春赏梅 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形色边框-边框背景-边框背景,形色边框"/>
          <p:cNvPicPr/>
          <p:nvPr/>
        </p:nvPicPr>
        <p:blipFill>
          <a:blip r:embed="rId1"/>
          <a:stretch/>
        </p:blipFill>
        <p:spPr>
          <a:xfrm>
            <a:off x="0" y="0"/>
            <a:ext cx="9144000" cy="68198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 txBox="1"/>
          <p:nvPr/>
        </p:nvSpPr>
        <p:spPr>
          <a:xfrm>
            <a:off x="45720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梅花，又名春梅、红梅。梅是落叶乔木，高可达</a:t>
            </a:r>
            <a:r>
              <a:rPr b="1" lang="en-US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5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一</a:t>
            </a:r>
            <a:r>
              <a:rPr b="1" lang="en-US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6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米。树冠开展，树皮淡灰色或淡绿色。小枝细长，枝端尖，绿色，无毛。叶宽卵形或卵形，边缘有细锯齿，先端渐尖或尾尖，基部阔楔形，幼时或在沿叶脉处有短柔毛，叶柄短，具腺。花梗短，</a:t>
            </a:r>
            <a:r>
              <a:rPr b="1" lang="en-US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一</a:t>
            </a:r>
            <a:r>
              <a:rPr b="1" lang="en-US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朵右生于</a:t>
            </a:r>
            <a:r>
              <a:rPr b="1" lang="en-US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、</a:t>
            </a:r>
            <a:r>
              <a:rPr b="1" lang="en-US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年生枝梢，萼筒钟状，有红，暗红及绿色等。花有单瓣或重瓣，白色、红色或淡红色，有芳香，多在早春</a:t>
            </a:r>
            <a:r>
              <a:rPr b="1" lang="en-US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一</a:t>
            </a:r>
            <a:r>
              <a:rPr b="1" lang="en-US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月先开花，后发叶。核果近圆球形，黄色或带绿色，</a:t>
            </a:r>
            <a:r>
              <a:rPr b="1" lang="en-US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5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－</a:t>
            </a:r>
            <a:r>
              <a:rPr b="1" lang="en-US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6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月成熟。</a:t>
            </a:r>
            <a:br>
              <a:rPr sz="3200"/>
            </a:b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1600200" y="152280"/>
            <a:ext cx="3200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知识链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5T14:02:57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26:21Z</dcterms:modified>
  <cp:revision>11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  <property fmtid="{D5CDD505-2E9C-101B-9397-08002B2CF9AE}" pid="3" name="Version">
    <vt:r8>1</vt:r8>
  </property>
</Properties>
</file>