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jpeg" ContentType="image/jpeg"/>
  <Override PartName="/ppt/media/hammer.wav" ContentType="audio/x-wav"/>
  <Override PartName="/ppt/media/laser.wav" ContentType="audio/x-wav"/>
  <Override PartName="/ppt/media/cashreg.wav" ContentType="audio/x-wav"/>
  <Override PartName="/ppt/media/chimes.wav" ContentType="audio/x-wav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F49-AA1A-4637-A552-5A261C8B27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6C8-07AE-4C48-B6D1-BFC4AD03CC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936-4D6E-4DD4-9720-64F7FD0F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EE3-295C-4D3B-B9E2-1BCADC0E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193-794E-424F-AFDC-1599B85F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3A5-7CB7-41EF-9489-4888C1D1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B8C-C2B2-41E4-8136-E908B695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1A2-72C4-4586-AC10-E5A82F7E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C5C-7848-4C0E-85E9-1B066DC7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AB2-259F-44BD-A994-850AFBE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B63-5ED2-424A-ACBC-27C9E7B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58AE-4DC6-477B-991C-E0A95F8C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66C-BA26-4E95-A1BE-EB9EBBF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66-49F4-49B8-A730-EE6FF073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CC8-A1FF-4445-B116-B8E5F2CA4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audio" Target="../media/laser.wav"/><Relationship Id="rId4" Type="http://schemas.openxmlformats.org/officeDocument/2006/relationships/audio" Target="../media/cashreg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070901214617g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838960" y="2057400"/>
            <a:ext cx="3106800" cy="155700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乡村四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379520" y="685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湘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时田园杂兴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昼出耘田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村庄儿女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童孙未解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傍桑阴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拓展学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385800" y="228600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宋体"/>
              </a:rPr>
              <a:t>再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779400" y="5680080"/>
            <a:ext cx="57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8F5E-89A5-4049-9837-62C235F3EC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5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91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乡村四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95280" y="228600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037400" y="1600200"/>
            <a:ext cx="13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翁 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990720" y="2666880"/>
            <a:ext cx="1599840" cy="1599840"/>
            <a:chOff x="990720" y="2666880"/>
            <a:chExt cx="1599840" cy="1599840"/>
          </a:xfrm>
        </p:grpSpPr>
        <p:sp>
          <p:nvSpPr>
            <p:cNvPr id="60" name="Rectangle 4"/>
            <p:cNvSpPr/>
            <p:nvPr/>
          </p:nvSpPr>
          <p:spPr>
            <a:xfrm>
              <a:off x="990720" y="2666880"/>
              <a:ext cx="1599840" cy="15998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5"/>
            <p:cNvSpPr/>
            <p:nvPr/>
          </p:nvSpPr>
          <p:spPr>
            <a:xfrm>
              <a:off x="990720" y="35139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1790640" y="2666880"/>
              <a:ext cx="0" cy="1599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2819520" y="2666880"/>
            <a:ext cx="1599840" cy="1599840"/>
            <a:chOff x="2819520" y="2666880"/>
            <a:chExt cx="1599840" cy="1599840"/>
          </a:xfrm>
        </p:grpSpPr>
        <p:sp>
          <p:nvSpPr>
            <p:cNvPr id="64" name="Rectangle 8"/>
            <p:cNvSpPr/>
            <p:nvPr/>
          </p:nvSpPr>
          <p:spPr>
            <a:xfrm>
              <a:off x="2819520" y="2666880"/>
              <a:ext cx="1599840" cy="15998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>
              <a:off x="2819520" y="35139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>
              <a:off x="3619440" y="2666880"/>
              <a:ext cx="0" cy="1599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4648320" y="2666880"/>
            <a:ext cx="1599840" cy="1599840"/>
            <a:chOff x="4648320" y="2666880"/>
            <a:chExt cx="1599840" cy="1599840"/>
          </a:xfrm>
        </p:grpSpPr>
        <p:sp>
          <p:nvSpPr>
            <p:cNvPr id="68" name="Rectangle 12"/>
            <p:cNvSpPr/>
            <p:nvPr/>
          </p:nvSpPr>
          <p:spPr>
            <a:xfrm>
              <a:off x="4648320" y="2666880"/>
              <a:ext cx="1599840" cy="15998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3"/>
            <p:cNvSpPr/>
            <p:nvPr/>
          </p:nvSpPr>
          <p:spPr>
            <a:xfrm>
              <a:off x="4648320" y="35139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5448240" y="2666880"/>
              <a:ext cx="0" cy="1599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5"/>
          <p:cNvGrpSpPr/>
          <p:nvPr/>
        </p:nvGrpSpPr>
        <p:grpSpPr>
          <a:xfrm>
            <a:off x="6477120" y="2666880"/>
            <a:ext cx="1599840" cy="1599840"/>
            <a:chOff x="6477120" y="2666880"/>
            <a:chExt cx="1599840" cy="1599840"/>
          </a:xfrm>
        </p:grpSpPr>
        <p:sp>
          <p:nvSpPr>
            <p:cNvPr id="72" name="Rectangle 16"/>
            <p:cNvSpPr/>
            <p:nvPr/>
          </p:nvSpPr>
          <p:spPr>
            <a:xfrm>
              <a:off x="6477120" y="2666880"/>
              <a:ext cx="1599840" cy="15998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>
              <a:off x="6477120" y="3513960"/>
              <a:ext cx="15998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8"/>
            <p:cNvSpPr/>
            <p:nvPr/>
          </p:nvSpPr>
          <p:spPr>
            <a:xfrm>
              <a:off x="7277040" y="2666880"/>
              <a:ext cx="0" cy="1599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9"/>
          <p:cNvSpPr/>
          <p:nvPr/>
        </p:nvSpPr>
        <p:spPr>
          <a:xfrm>
            <a:off x="1066680" y="266688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规 如 闲 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048120" y="4572000"/>
            <a:ext cx="281916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醉 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990720" y="16765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ɡuī    rú    xián   ch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22"/>
          <p:cNvSpPr txBox="1"/>
          <p:nvPr/>
        </p:nvSpPr>
        <p:spPr>
          <a:xfrm>
            <a:off x="1295280" y="380880"/>
            <a:ext cx="251460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字词学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35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91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7848360" cy="3886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原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山陵和原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满川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指稻田里的水色映着天光。川：山原，平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规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杜鹃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才了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才料理完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蚕桑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种桑养蚕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35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乡村四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732480" y="1752480"/>
            <a:ext cx="13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翁 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5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916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意思是：山坡原野草木茂盛，一片葱茏，而稻田里的水色与天光相辉映，满目亮白，杜鹃声声蹄叫，天空中烟雨蒙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诗歌大意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143000" y="1447920"/>
            <a:ext cx="6553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2" name="hammer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5"/>
          <p:cNvPicPr/>
          <p:nvPr/>
        </p:nvPicPr>
        <p:blipFill>
          <a:blip r:embed="rId1"/>
          <a:stretch/>
        </p:blipFill>
        <p:spPr>
          <a:xfrm>
            <a:off x="-74520" y="0"/>
            <a:ext cx="9218520" cy="6916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意思是：四月到了，农民都开始忙农活，没有人闲着，刚结束了蚕桑的事又要插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诗歌大意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143000" y="1447920"/>
            <a:ext cx="6553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362320" y="12193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895480" y="34290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89548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14400" y="144792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江南农村初夏美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35812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农民紧张繁忙的劳动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2" name="hamme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0508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8580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这首诗就像一幅色彩鲜明的图画，不仅表现了诗人对乡村风光的热爱与赞美，也表现出他对劳动人民、劳动生活的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33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12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