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gif" ContentType="image/gif"/>
  <Override PartName="/ppt/media/image2.png" ContentType="image/png"/>
  <Override PartName="/ppt/media/chimes.wav" ContentType="audio/x-wav"/>
  <Override PartName="/ppt/media/hammer.wav" ContentType="audio/x-wav"/>
  <Override PartName="/ppt/media/laser.wav" ContentType="audio/x-wav"/>
  <Override PartName="/ppt/media/cashreg.wav" ContentType="audio/x-wav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7896-36F7-45A9-A6F1-6AB90E5977B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8BA1-5BC2-46FB-BA0E-D4189465CFA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E394-CD56-44B9-AF51-DFFA41D21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BDB2-6659-462E-8BB4-B370D1F5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BF53-6067-4798-A8C8-62058FE34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209E-7903-4FF9-9290-69DA295AE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280E-A1D3-4527-B2BC-773881FD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0519-F544-47B1-8146-BEDA2048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B363-015B-434C-8DE1-B830AEF7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7DBF-43A3-4701-9341-E20A5636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14EA-7909-4FAF-9100-24BEA0F1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454A-2DD1-4B69-B3DF-5BC67D34D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BAE9-C9E0-4C1C-9683-ADA57795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FFAD-98EB-4B70-9E2F-56B43B24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F87A6-B5C1-4383-8923-C41BE92F1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laser.wav"/><Relationship Id="rId3" Type="http://schemas.openxmlformats.org/officeDocument/2006/relationships/audio" Target="../media/cashreg.wav"/><Relationship Id="rId4" Type="http://schemas.openxmlformats.org/officeDocument/2006/relationships/audio" Target="../media/laser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2805840" y="2362320"/>
            <a:ext cx="3106800" cy="1557000"/>
          </a:xfrm>
          <a:prstGeom prst="rect">
            <a:avLst/>
          </a:prstGeom>
          <a:solidFill>
            <a:srgbClr val="ffffff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微软雅黑"/>
                <a:ea typeface="微软雅黑"/>
              </a:rPr>
              <a:t>乡村四月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805040" y="9144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湘教版二年级语文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/>
          <p:cNvSpPr/>
          <p:nvPr/>
        </p:nvSpPr>
        <p:spPr>
          <a:xfrm>
            <a:off x="1652400" y="51055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5F6F8-FCBA-40CF-A2C9-195F3C3433F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乡村四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绿遍山原白满川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子规声里雨如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乡村四月闲人少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才了蚕桑又插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3732480" y="1752480"/>
            <a:ext cx="13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翁 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2438280" y="31240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295280" y="99036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翁卷，南宋诗人（生卒年不详）。字读古，一字灵舒。浙江柳市人。布衣终身。在“永嘉四灵”中年事最高。有着重要的诗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9"/>
          <p:cNvGrpSpPr/>
          <p:nvPr/>
        </p:nvGrpSpPr>
        <p:grpSpPr>
          <a:xfrm>
            <a:off x="1676520" y="2924280"/>
            <a:ext cx="6019200" cy="2562120"/>
            <a:chOff x="1676520" y="2924280"/>
            <a:chExt cx="6019200" cy="2562120"/>
          </a:xfrm>
        </p:grpSpPr>
        <p:pic>
          <p:nvPicPr>
            <p:cNvPr id="57" name="Picture 6" descr=""/>
            <p:cNvPicPr/>
            <p:nvPr/>
          </p:nvPicPr>
          <p:blipFill>
            <a:blip r:embed="rId1"/>
            <a:stretch/>
          </p:blipFill>
          <p:spPr>
            <a:xfrm>
              <a:off x="1676520" y="2924280"/>
              <a:ext cx="3657240" cy="25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8"/>
            <p:cNvSpPr/>
            <p:nvPr/>
          </p:nvSpPr>
          <p:spPr>
            <a:xfrm>
              <a:off x="5714640" y="3124080"/>
              <a:ext cx="198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永嘉四灵</a:t>
              </a:r>
              <a:r>
                <a:rPr b="0" lang="zh-CN" sz="2000" spc="-1" strike="noStrike">
                  <a:solidFill>
                    <a:srgbClr val="0000ff"/>
                  </a:solidFill>
                  <a:latin typeface="Arial"/>
                </a:rPr>
                <a:t>：徐照（字灵晖）、徐玑（号灵渊）、赵师秀（号灵秀）、翁卷（字灵舒）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文本框 1"/>
          <p:cNvSpPr/>
          <p:nvPr/>
        </p:nvSpPr>
        <p:spPr>
          <a:xfrm>
            <a:off x="1376280" y="5486400"/>
            <a:ext cx="57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360" y="1752480"/>
            <a:ext cx="74674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山原：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山陵和原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白满川：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指稻田里的水色映着天光。川：山原，平地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子规：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杜鹃鸟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才了：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才料理完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蚕桑：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种桑养蚕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WordArt 4"/>
          <p:cNvSpPr txBox="1"/>
          <p:nvPr/>
        </p:nvSpPr>
        <p:spPr>
          <a:xfrm>
            <a:off x="1295280" y="762120"/>
            <a:ext cx="2057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字词学习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7"/>
          <p:cNvSpPr/>
          <p:nvPr/>
        </p:nvSpPr>
        <p:spPr>
          <a:xfrm>
            <a:off x="2986200" y="3657600"/>
            <a:ext cx="733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218960" y="32004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意思是：山坡原野草木茂盛，一片葱茏，而稻田里的水色与天光相辉映，满目亮白，杜鹃声声蹄叫，天空中烟雨蒙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1295280" y="762120"/>
            <a:ext cx="2057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诗歌大意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1143000" y="1447920"/>
            <a:ext cx="6553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绿遍山原白满川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子规声里雨如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  <p:sndAc>
      <p:stSnd>
        <p:snd r:embed="rId1" name="hammer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6705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意思是：四月到了，农民都开始忙农活，没有人闲着，刚结束了蚕桑的事又要插秧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3"/>
          <p:cNvSpPr txBox="1"/>
          <p:nvPr/>
        </p:nvSpPr>
        <p:spPr>
          <a:xfrm>
            <a:off x="1295280" y="762120"/>
            <a:ext cx="2057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诗歌大意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143000" y="1447920"/>
            <a:ext cx="6553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乡村四月闲人少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才了蚕桑又插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2362320" y="1219320"/>
            <a:ext cx="6400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绿遍山原白满川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子规声里雨如烟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乡村四月闲人少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才了蚕桑又插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>
            <a:off x="2895480" y="3429000"/>
            <a:ext cx="304920" cy="1447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"/>
          <p:cNvSpPr/>
          <p:nvPr/>
        </p:nvSpPr>
        <p:spPr>
          <a:xfrm>
            <a:off x="2895480" y="1219320"/>
            <a:ext cx="304920" cy="144756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914400" y="1447920"/>
            <a:ext cx="184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江南农村初夏美景（写景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990720" y="3581280"/>
            <a:ext cx="184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紧张繁忙的劳动景象（写人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  <p:sndAc>
      <p:stSnd>
        <p:snd r:embed="rId1" name="hammer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9360" y="-6480"/>
            <a:ext cx="9125280" cy="68770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1050840" y="1774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685800" y="15238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这首诗就像一幅色彩鲜明的图画，不仅表现了诗人对乡村风光的热爱与赞美，也表现出他对劳动人民、劳动生活的赞美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219320" y="182880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四时田园杂兴</a:t>
            </a:r>
            <a:br>
              <a:rPr sz="32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范成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昼出耘田夜绩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村庄儿女各当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童孙未解供耕织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也傍桑阴学种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4"/>
          <p:cNvSpPr txBox="1"/>
          <p:nvPr/>
        </p:nvSpPr>
        <p:spPr>
          <a:xfrm>
            <a:off x="1295280" y="762120"/>
            <a:ext cx="20574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拓展学习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04:27:4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7:16Z</dcterms:modified>
  <cp:revision>3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