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61A7-04E5-482B-9CC5-1F9F6D54BC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C318-AE35-4632-A587-A93FF293EF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29B-3A61-4860-BFB6-35A98ED0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9AF-D001-42A9-8EAD-AAA7E715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3ED-CDB5-4BB4-B4C8-E237D5F6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D3F-2006-4098-B11F-84828470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C4A-B0D9-4B41-98F7-7F6C6493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61F-65D2-48E5-B187-482A818C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AFF-002B-49F0-B198-DC759370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51D-9496-4C1D-9D11-05B1A634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66F-9C07-4691-8786-4F39843E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1E9-9B55-4BC6-A6FC-8A423E94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4DE-C321-47AB-BC9F-E839A177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CE3-C2B2-4022-ADEB-084840E8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E836-BCF7-4885-B466-73780B2FE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-1088280" y="31680"/>
            <a:ext cx="36853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隶书"/>
                <a:ea typeface="隶书"/>
              </a:rPr>
              <a:t>幸福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619280" y="494172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5245200" y="469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2728080" y="60213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281C-EC72-4853-9E01-231A219793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irds_037"/>
          <p:cNvPicPr/>
          <p:nvPr/>
        </p:nvPicPr>
        <p:blipFill>
          <a:blip r:embed="rId1"/>
          <a:stretch/>
        </p:blipFill>
        <p:spPr>
          <a:xfrm>
            <a:off x="250920" y="260280"/>
            <a:ext cx="3889440" cy="280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001"/>
          <p:cNvPicPr/>
          <p:nvPr/>
        </p:nvPicPr>
        <p:blipFill>
          <a:blip r:embed="rId2"/>
          <a:stretch/>
        </p:blipFill>
        <p:spPr>
          <a:xfrm>
            <a:off x="5076720" y="3789360"/>
            <a:ext cx="3886200" cy="306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044"/>
          <p:cNvPicPr/>
          <p:nvPr/>
        </p:nvPicPr>
        <p:blipFill>
          <a:blip r:embed="rId3"/>
          <a:stretch/>
        </p:blipFill>
        <p:spPr>
          <a:xfrm>
            <a:off x="5076720" y="189000"/>
            <a:ext cx="3816360" cy="28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mb80_com_2007521_6"/>
          <p:cNvPicPr/>
          <p:nvPr/>
        </p:nvPicPr>
        <p:blipFill>
          <a:blip r:embed="rId4"/>
          <a:stretch/>
        </p:blipFill>
        <p:spPr>
          <a:xfrm>
            <a:off x="324000" y="3645000"/>
            <a:ext cx="4033800" cy="321300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1"/>
          <p:cNvSpPr/>
          <p:nvPr/>
        </p:nvSpPr>
        <p:spPr>
          <a:xfrm>
            <a:off x="3301920" y="3108240"/>
            <a:ext cx="48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900000" y="836640"/>
            <a:ext cx="422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读一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0060817205455350"/>
          <p:cNvPicPr/>
          <p:nvPr/>
        </p:nvPicPr>
        <p:blipFill>
          <a:blip r:embed="rId1"/>
          <a:srcRect l="0" t="217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63400" y="191628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妖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908000" y="198900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708360" y="19890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锋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435640" y="1989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割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093080" y="1989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拦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468360" y="3141720"/>
            <a:ext cx="266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瞎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979640" y="3141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摸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708360" y="3141720"/>
            <a:ext cx="19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抚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5219640" y="3141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茂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732720" y="314172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恶狠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395280" y="436572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忍饥挨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3348000" y="436572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皮包骨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6227640" y="4365720"/>
            <a:ext cx="29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重见光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539640" y="76500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读一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1190520" y="5381640"/>
            <a:ext cx="62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33"/>
          <p:cNvSpPr/>
          <p:nvPr/>
        </p:nvSpPr>
        <p:spPr>
          <a:xfrm>
            <a:off x="4643280" y="6021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00608011434185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324000" y="1844640"/>
          <a:ext cx="7777080" cy="3651120"/>
        </p:xfrm>
        <a:graphic>
          <a:graphicData uri="http://schemas.openxmlformats.org/drawingml/2006/table">
            <a:tbl>
              <a:tblPr/>
              <a:tblGrid>
                <a:gridCol w="2222640"/>
                <a:gridCol w="1554120"/>
                <a:gridCol w="1735200"/>
                <a:gridCol w="2265120"/>
              </a:tblGrid>
              <a:tr h="811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遇见对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难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黑胡子妖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乱石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勇敢地踩上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走过乱石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黄胡子妖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沙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忍饥挨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走出大沙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白胡子妖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变瞎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手摸索着往上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找到幸福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43"/>
          <p:cNvSpPr/>
          <p:nvPr/>
        </p:nvSpPr>
        <p:spPr>
          <a:xfrm>
            <a:off x="324000" y="105264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根据课文内容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20060818115123739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95280" y="0"/>
            <a:ext cx="64087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说着，妖怪吹了吹胡子，平坦的道路立刻变成了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乱石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，每块石头都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锋利得像刀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。旺嘉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勇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地踩上去，鞋底被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划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了，双脚被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割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了，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鲜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流在石滩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050920" y="314172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0060818115123739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050920" y="314172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95280" y="76500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旺嘉刚走完这段路，又遇到一个黄胡子妖怪。妖怪吹了吹胡子，旺嘉的干粮袋飞上天空，眼前出现了一片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仿宋_GB2312"/>
              </a:rPr>
              <a:t>大沙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，在这儿找不到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仿宋_GB2312"/>
              </a:rPr>
              <a:t>一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吃的东西。旺嘉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仿宋_GB2312"/>
              </a:rPr>
              <a:t>忍饥挨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，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仿宋_GB2312"/>
              </a:rPr>
              <a:t>不停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往前走。当他走出沙漠时，已经瘦得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仿宋_GB2312"/>
              </a:rPr>
              <a:t>皮包骨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60818115123739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050920" y="314172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4000" y="9810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这时，一个白胡子妖怪拦住旺嘉。他吹了吹长胡子，旺嘉立刻变成了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瞎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。旺嘉用手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摸索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，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一步一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往上爬，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终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爬到雪山顶。幸福鸟就站在他面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6868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20071028042413793"/>
          <p:cNvPicPr/>
          <p:nvPr/>
        </p:nvPicPr>
        <p:blipFill>
          <a:blip r:embed="rId2"/>
          <a:stretch/>
        </p:blipFill>
        <p:spPr>
          <a:xfrm>
            <a:off x="4067280" y="-171360"/>
            <a:ext cx="460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200609061331123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xf.mp3" descr=""/>
          <p:cNvPicPr/>
          <p:nvPr/>
        </p:nvPicPr>
        <p:blipFill>
          <a:blip r:embed="rId2"/>
          <a:stretch/>
        </p:blipFill>
        <p:spPr>
          <a:xfrm>
            <a:off x="7667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250920" y="1149840"/>
            <a:ext cx="6516720" cy="4786560"/>
          </a:xfrm>
          <a:prstGeom prst="rect">
            <a:avLst/>
          </a:prstGeom>
          <a:solidFill>
            <a:srgbClr val="f0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幸福在哪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朋友我告诉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不在柳荫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不在温室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在辛勤的工作中，它在艰苦的劳动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啊！幸福就在你晶莹的汗水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啊！幸福就在你晶莹的汗水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幸福在哪里？朋友我告诉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不在月光下，也不在睡梦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在辛勤的耕耘中，它在知识的宝库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啊！幸福就在你闪光的智慧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啊！幸福就在你闪光的智慧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在你闪光的智慧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00000" y="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幸福在哪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0573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1:55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0:22Z</dcterms:modified>
  <cp:revision>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