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.jpeg" ContentType="image/jpeg"/>
  <Override PartName="/ppt/media/image3.png" ContentType="image/png"/>
  <Override PartName="/ppt/media/image1.jpeg" ContentType="image/jpeg"/>
  <Override PartName="/ppt/media/image16.jpeg" ContentType="image/jpeg"/>
  <Override PartName="/ppt/media/image12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4.gif" ContentType="image/gif"/>
  <Override PartName="/ppt/media/image27.png" ContentType="image/png"/>
  <Override PartName="/ppt/media/image11.gif" ContentType="image/gif"/>
  <Override PartName="/ppt/media/%E6%AD%A3%E7%A1%AE2.wav" ContentType="audio/x-wav"/>
  <Override PartName="/ppt/media/image7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gif" ContentType="image/gif"/>
  <Override PartName="/ppt/media/chimes.wav" ContentType="audio/x-wav"/>
  <Override PartName="/ppt/media/image21.jpeg" ContentType="image/jpeg"/>
  <Override PartName="/ppt/media/image6.jpeg" ContentType="image/jpeg"/>
  <Override PartName="/ppt/media/type.wav" ContentType="audio/x-wav"/>
  <Override PartName="/ppt/media/image18.jpeg" ContentType="image/jpeg"/>
  <Override PartName="/ppt/media/image22.gif" ContentType="image/gif"/>
  <Override PartName="/ppt/media/image25.png" ContentType="image/png"/>
  <Override PartName="/ppt/media/image24.png" ContentType="image/png"/>
  <Override PartName="/ppt/media/image26.gif" ContentType="image/gif"/>
  <Override PartName="/ppt/media/image19.png" ContentType="image/pn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8D3-8670-43F4-B766-BEE4EF5D4E9B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AA8-8BD9-4483-B6DA-4AEA36CCD0B8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E0B-F510-4D82-B176-D023A248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6A6-8D3D-4569-86B9-1424C6EA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77A-FA30-4DF4-A743-D97C71BC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492-E6F2-410D-B958-0C47E7C6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4CA9-3B2D-429F-90FD-23929735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A3F8-23B3-425E-ADE3-1D80C957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FFB-AE88-43B9-997C-2BF64ADF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EB4A-A146-40DC-888F-1DED9E1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42F-9589-4644-848C-C8CB164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57FE-70C6-4BE4-9516-C59BDAE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5323-BE6B-44FE-B407-945DC96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06E-1281-4FB4-8197-ABD8A86C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C261-0A68-400A-B58A-AE8ABDFC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E8C-2DC6-42DE-B5A6-40EA6B09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3214-0E3D-4229-BAE0-81AF347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4AD-A139-4376-AB43-1DF9F8DA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7BC2-27A0-44D7-B2ED-F1DCD8E6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79D5-9592-40F8-B1F5-180136EF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4765-451F-4AE1-9338-7D302A7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28EF-F702-41EF-AA7C-D48B952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249F-2985-4397-98E1-FF686D95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3F4F-733B-4B0F-89A2-CB1DFBEA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72F-D0CB-4FD9-92FE-F2D11BDB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D145-6DF2-47F7-A554-34F0656C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93DE-9B0B-4303-BBD7-BEA5706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DA90-8C8A-445F-AB0A-EA1E09E0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7891-C68D-4379-BC98-E985156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EB1FF-E1F4-4F59-9A44-28B65FF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2F00-997C-43F2-8DD7-0C6ED465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7F6E1-CB8A-4DB8-91AF-0BC1F905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A6A-6266-46B4-91D8-6E39F886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4D4-BB2E-49F1-A1CE-78DB03EA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EFD-222B-44EB-9C10-1794CB71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DF3-183C-4CF5-A256-54F64ADD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207-5DC0-48E4-98E9-2A8FA8B7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D46-7139-4D40-A0DC-5B52637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38BD-DB3B-4AA0-92B6-F07277DF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8854-E182-4F55-A786-C008F133B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2FEC-0D45-47FC-AB72-0AC4C009D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mage.baidu.com/i?ct=503316480&amp;z=0&amp;tn=baiduimagedetail&amp;word=%C9%F1%C6%F8&amp;in=9625&amp;cl=2&amp;cm=1&amp;sc=0&amp;lm=-1&amp;pn=295&amp;rn=1&amp;di=5123771271&amp;ln=1571&amp;fr=&amp;ic=0&amp;s=2&amp;se=1&amp;sme=0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11.gif"/><Relationship Id="rId9" Type="http://schemas.openxmlformats.org/officeDocument/2006/relationships/image" Target="../media/image4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23.jpe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&#27491;&#30830;2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6.jpeg"/><Relationship Id="rId3" Type="http://schemas.openxmlformats.org/officeDocument/2006/relationships/hyperlink" Target="http://image.baidu.com/i?ct=503316480&amp;z=0&amp;tn=baiduimagedetail&amp;word=%C9%F1%C6%F8&amp;in=9625&amp;cl=2&amp;cm=1&amp;sc=0&amp;lm=-1&amp;pn=295&amp;rn=1&amp;di=5123771271&amp;ln=1571&amp;fr=&amp;ic=0&amp;s=2&amp;se=1&amp;sme=0" TargetMode="External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2" descr="2006281566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7"/>
          <p:cNvSpPr txBox="1"/>
          <p:nvPr/>
        </p:nvSpPr>
        <p:spPr>
          <a:xfrm rot="193800">
            <a:off x="1810800" y="1828440"/>
            <a:ext cx="49453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208000"/>
                </a:gradFill>
                <a:latin typeface="华文中宋"/>
              </a:rPr>
              <a:t>幸福鸟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208000"/>
              </a:gradFill>
              <a:latin typeface="华文中宋"/>
              <a:ea typeface="华文中宋"/>
            </a:endParaRPr>
          </a:p>
        </p:txBody>
      </p:sp>
      <p:pic>
        <p:nvPicPr>
          <p:cNvPr id="132" name="幸福在哪里伴奏.wma" descr=""/>
          <p:cNvPicPr/>
          <p:nvPr/>
        </p:nvPicPr>
        <p:blipFill>
          <a:blip r:embed="rId2"/>
          <a:stretch/>
        </p:blipFill>
        <p:spPr>
          <a:xfrm>
            <a:off x="8604360" y="5445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7"/>
          <p:cNvGrpSpPr/>
          <p:nvPr/>
        </p:nvGrpSpPr>
        <p:grpSpPr>
          <a:xfrm>
            <a:off x="8172360" y="1628640"/>
            <a:ext cx="1223640" cy="1080720"/>
            <a:chOff x="8172360" y="1628640"/>
            <a:chExt cx="1223640" cy="1080720"/>
          </a:xfrm>
        </p:grpSpPr>
        <p:pic>
          <p:nvPicPr>
            <p:cNvPr id="134" name="Picture 28" descr="20071028042413793"/>
            <p:cNvPicPr/>
            <p:nvPr/>
          </p:nvPicPr>
          <p:blipFill>
            <a:blip r:embed="rId3"/>
            <a:stretch/>
          </p:blipFill>
          <p:spPr>
            <a:xfrm>
              <a:off x="8172360" y="2236680"/>
              <a:ext cx="974880" cy="47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9" descr="20071028042413793"/>
            <p:cNvPicPr/>
            <p:nvPr/>
          </p:nvPicPr>
          <p:blipFill>
            <a:blip r:embed="rId4"/>
            <a:stretch/>
          </p:blipFill>
          <p:spPr>
            <a:xfrm>
              <a:off x="8709840" y="1628640"/>
              <a:ext cx="686160" cy="4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30"/>
          <p:cNvGrpSpPr/>
          <p:nvPr/>
        </p:nvGrpSpPr>
        <p:grpSpPr>
          <a:xfrm>
            <a:off x="2484360" y="1197000"/>
            <a:ext cx="2304720" cy="3454920"/>
            <a:chOff x="2484360" y="1197000"/>
            <a:chExt cx="2304720" cy="3454920"/>
          </a:xfrm>
        </p:grpSpPr>
        <p:pic>
          <p:nvPicPr>
            <p:cNvPr id="137" name="Picture 31" descr="20071028042413793"/>
            <p:cNvPicPr/>
            <p:nvPr/>
          </p:nvPicPr>
          <p:blipFill>
            <a:blip r:embed="rId5"/>
            <a:stretch/>
          </p:blipFill>
          <p:spPr>
            <a:xfrm>
              <a:off x="2484360" y="3141000"/>
              <a:ext cx="1835640" cy="15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2" descr="20071028042413793"/>
            <p:cNvPicPr/>
            <p:nvPr/>
          </p:nvPicPr>
          <p:blipFill>
            <a:blip r:embed="rId6"/>
            <a:stretch/>
          </p:blipFill>
          <p:spPr>
            <a:xfrm>
              <a:off x="3496680" y="1197000"/>
              <a:ext cx="1292400" cy="131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3" descr="20071028042413793"/>
          <p:cNvPicPr/>
          <p:nvPr/>
        </p:nvPicPr>
        <p:blipFill>
          <a:blip r:embed="rId7"/>
          <a:stretch/>
        </p:blipFill>
        <p:spPr>
          <a:xfrm>
            <a:off x="7451640" y="1989000"/>
            <a:ext cx="97488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矩形 14" descr=""/>
          <p:cNvPicPr/>
          <p:nvPr/>
        </p:nvPicPr>
        <p:blipFill>
          <a:blip r:embed="rId8"/>
          <a:stretch/>
        </p:blipFill>
        <p:spPr>
          <a:xfrm>
            <a:off x="1779480" y="608184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06 0.04792 C -0.08038 0.22199 -0.26042 0.33102 -0.46059 0.33102 C -0.66024 0.33102 -0.8401 0.22199 -0.96059 0.04792 C -0.8401 -0.12615 -0.66024 -0.23611 -0.46059 -0.23611 C -0.26042 -0.23611 -0.08038 -0.12615 0.03906 0.04792 Z">
                                      <p:cBhvr>
                                        <p:cTn id="6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3.0)">
                                      <p:cBhvr>
                                        <p:cTn id="8" dur="13189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10" dur="3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沙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692360" y="836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小学语文(记叙文）03"/>
          <p:cNvPicPr/>
          <p:nvPr/>
        </p:nvPicPr>
        <p:blipFill>
          <a:blip r:embed="rId2"/>
          <a:stretch/>
        </p:blipFill>
        <p:spPr>
          <a:xfrm>
            <a:off x="0" y="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7"/>
          <p:cNvSpPr/>
          <p:nvPr/>
        </p:nvSpPr>
        <p:spPr>
          <a:xfrm>
            <a:off x="0" y="0"/>
            <a:ext cx="9144000" cy="6093000"/>
          </a:xfrm>
          <a:prstGeom prst="cloudCallout">
            <a:avLst>
              <a:gd name="adj1" fmla="val -46578"/>
              <a:gd name="adj2" fmla="val 56356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7596360" y="5805360"/>
            <a:ext cx="1296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900000" y="69228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旺嘉刚走完这段路，又遇到一个黄胡子妖怪。妖怪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了吹胡子，旺嘉的干粮袋飞上天空，眼前出现了一片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大沙漠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在这儿找不到一点吃的东西。旺嘉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忍饥挨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不停地往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。当他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走出沙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时，已经瘦得皮包骨头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870712153632228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24000" y="981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小学语文(记叙文）03"/>
          <p:cNvPicPr/>
          <p:nvPr/>
        </p:nvPicPr>
        <p:blipFill>
          <a:blip r:embed="rId2"/>
          <a:stretch/>
        </p:blipFill>
        <p:spPr>
          <a:xfrm>
            <a:off x="250920" y="0"/>
            <a:ext cx="2079360" cy="5605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7"/>
          <p:cNvSpPr/>
          <p:nvPr/>
        </p:nvSpPr>
        <p:spPr>
          <a:xfrm>
            <a:off x="0" y="0"/>
            <a:ext cx="9144000" cy="5776920"/>
          </a:xfrm>
          <a:prstGeom prst="cloudCallout">
            <a:avLst>
              <a:gd name="adj1" fmla="val -47412"/>
              <a:gd name="adj2" fmla="val 64703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7775640" y="6021360"/>
            <a:ext cx="13683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116000" y="620640"/>
            <a:ext cx="83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这时，一个白胡子妖怪拦住旺嘉。他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吹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了吹长胡子，旺嘉立刻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变成了瞎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。旺嘉用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摸索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着，一步一步往上爬，终于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爬到雪山顶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。幸福鸟就站在他面前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403280" y="378936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假如你就是旺嘉，幸福鸟就站在你面前，你会对幸福鸟说什么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611280" y="2133720"/>
          <a:ext cx="7488000" cy="3816360"/>
        </p:xfrm>
        <a:graphic>
          <a:graphicData uri="http://schemas.openxmlformats.org/drawingml/2006/table">
            <a:tbl>
              <a:tblPr/>
              <a:tblGrid>
                <a:gridCol w="1871280"/>
                <a:gridCol w="2952720"/>
                <a:gridCol w="266400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难关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行动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找到幸福鸟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5"/>
          <p:cNvGrpSpPr/>
          <p:nvPr/>
        </p:nvGrpSpPr>
        <p:grpSpPr>
          <a:xfrm>
            <a:off x="0" y="0"/>
            <a:ext cx="9144000" cy="1985040"/>
            <a:chOff x="0" y="0"/>
            <a:chExt cx="9144000" cy="1985040"/>
          </a:xfrm>
        </p:grpSpPr>
        <p:sp>
          <p:nvSpPr>
            <p:cNvPr id="228" name="AutoShape 26"/>
            <p:cNvSpPr/>
            <p:nvPr/>
          </p:nvSpPr>
          <p:spPr>
            <a:xfrm>
              <a:off x="0" y="0"/>
              <a:ext cx="9144000" cy="1844640"/>
            </a:xfrm>
            <a:prstGeom prst="wedgeEllipseCallout">
              <a:avLst>
                <a:gd name="adj1" fmla="val 47222"/>
                <a:gd name="adj2" fmla="val 87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　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7"/>
            <p:cNvSpPr/>
            <p:nvPr/>
          </p:nvSpPr>
          <p:spPr>
            <a:xfrm>
              <a:off x="1926360" y="428760"/>
              <a:ext cx="588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旺嘉在寻找幸福鸟的途中经历了那几道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难关？根据课文内容完成下列表格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28"/>
          <p:cNvSpPr/>
          <p:nvPr/>
        </p:nvSpPr>
        <p:spPr>
          <a:xfrm>
            <a:off x="684360" y="335772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826920" y="3068640"/>
            <a:ext cx="1729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乱石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0"/>
          <p:cNvSpPr/>
          <p:nvPr/>
        </p:nvSpPr>
        <p:spPr>
          <a:xfrm>
            <a:off x="900000" y="5084640"/>
            <a:ext cx="1368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雪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1"/>
          <p:cNvSpPr/>
          <p:nvPr/>
        </p:nvSpPr>
        <p:spPr>
          <a:xfrm>
            <a:off x="239220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2">
            <a:hlinkClick r:id="rId3" action="ppaction://hlinksldjump"/>
          </p:cNvPr>
          <p:cNvSpPr/>
          <p:nvPr/>
        </p:nvSpPr>
        <p:spPr>
          <a:xfrm>
            <a:off x="684360" y="3933720"/>
            <a:ext cx="152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大沙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3"/>
          <p:cNvSpPr/>
          <p:nvPr/>
        </p:nvSpPr>
        <p:spPr>
          <a:xfrm>
            <a:off x="2340000" y="2997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勇敢地踩上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4"/>
          <p:cNvSpPr/>
          <p:nvPr/>
        </p:nvSpPr>
        <p:spPr>
          <a:xfrm>
            <a:off x="332748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2484360" y="4869000"/>
            <a:ext cx="29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摸索着，一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一步往上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5651640" y="4005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走出大沙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5580000" y="30686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走过乱石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8"/>
          <p:cNvSpPr/>
          <p:nvPr/>
        </p:nvSpPr>
        <p:spPr>
          <a:xfrm>
            <a:off x="2916360" y="3860640"/>
            <a:ext cx="2592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忍饥挨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纯音乐 萨克斯 - 茉莉花.mp3" descr=""/>
          <p:cNvPicPr/>
          <p:nvPr/>
        </p:nvPicPr>
        <p:blipFill>
          <a:blip r:embed="rId5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82867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截图吧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2004122516501796999"/>
          <p:cNvPicPr/>
          <p:nvPr/>
        </p:nvPicPr>
        <p:blipFill>
          <a:blip r:embed="rId2"/>
          <a:stretch/>
        </p:blipFill>
        <p:spPr>
          <a:xfrm>
            <a:off x="0" y="0"/>
            <a:ext cx="1589040" cy="2205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5"/>
          <p:cNvSpPr/>
          <p:nvPr/>
        </p:nvSpPr>
        <p:spPr>
          <a:xfrm>
            <a:off x="395280" y="620640"/>
            <a:ext cx="8604360" cy="4249800"/>
          </a:xfrm>
          <a:prstGeom prst="cloudCallout">
            <a:avLst>
              <a:gd name="adj1" fmla="val -47194"/>
              <a:gd name="adj2" fmla="val 75810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幸福鸟用翅膀轻轻地抚摸旺嘉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的眼睛重见光明了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身上的伤也好了。然后，旺嘉骑着幸福鸟飞回了家乡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24000" y="189000"/>
            <a:ext cx="8424720" cy="576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556000" y="6206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 福 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285264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盼望幸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259092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227640" y="1773360"/>
            <a:ext cx="152640" cy="2743200"/>
          </a:xfrm>
          <a:custGeom>
            <a:avLst/>
            <a:gdLst>
              <a:gd name="textAreaLeft" fmla="*/ 0 w 152640"/>
              <a:gd name="textAreaRight" fmla="*/ 5508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516720" y="292428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到幸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829080" y="50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起因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7021800" y="49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结果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83"/>
          <p:cNvPicPr/>
          <p:nvPr/>
        </p:nvPicPr>
        <p:blipFill>
          <a:blip r:embed="rId1"/>
          <a:stretch/>
        </p:blipFill>
        <p:spPr>
          <a:xfrm>
            <a:off x="3409920" y="2205000"/>
            <a:ext cx="1795320" cy="1871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u=1704465306,7089288&amp;fm=1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5638680"/>
            <a:ext cx="2514600" cy="12193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3"/>
          <p:cNvSpPr/>
          <p:nvPr/>
        </p:nvSpPr>
        <p:spPr>
          <a:xfrm>
            <a:off x="304020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987640" y="159228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踩乱石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4993200" y="162864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疼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328200" y="27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走出大沙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5180040" y="2781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饿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331776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爬过雪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5251680" y="422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瞎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3924720" y="501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经过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156360" y="342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勇敢 坚强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5"/>
          <p:cNvSpPr/>
          <p:nvPr/>
        </p:nvSpPr>
        <p:spPr>
          <a:xfrm>
            <a:off x="358920" y="1557360"/>
            <a:ext cx="8785080" cy="2881440"/>
          </a:xfrm>
          <a:prstGeom prst="cloudCallout">
            <a:avLst>
              <a:gd name="adj1" fmla="val -47291"/>
              <a:gd name="adj2" fmla="val 804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楷体_GB2312"/>
              </a:rPr>
              <a:t>旺嘉的家乡为什么会发生这么大的变化？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780000" y="4869000"/>
            <a:ext cx="4464000" cy="7934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幸福鸟带来了幸福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"/>
          <p:cNvSpPr/>
          <p:nvPr/>
        </p:nvSpPr>
        <p:spPr>
          <a:xfrm>
            <a:off x="7308720" y="5877000"/>
            <a:ext cx="1224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4" descr="2008471632389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20071028042413793"/>
          <p:cNvPicPr/>
          <p:nvPr/>
        </p:nvPicPr>
        <p:blipFill>
          <a:blip r:embed="rId3"/>
          <a:stretch/>
        </p:blipFill>
        <p:spPr>
          <a:xfrm>
            <a:off x="6227640" y="549360"/>
            <a:ext cx="284400" cy="547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20071028042413793"/>
          <p:cNvPicPr/>
          <p:nvPr/>
        </p:nvPicPr>
        <p:blipFill>
          <a:blip r:embed="rId4"/>
          <a:stretch/>
        </p:blipFill>
        <p:spPr>
          <a:xfrm rot="492000">
            <a:off x="2259000" y="369720"/>
            <a:ext cx="468360" cy="32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20041081365339293"/>
          <p:cNvPicPr/>
          <p:nvPr/>
        </p:nvPicPr>
        <p:blipFill>
          <a:blip r:embed="rId5"/>
          <a:stretch/>
        </p:blipFill>
        <p:spPr>
          <a:xfrm>
            <a:off x="8028000" y="4941720"/>
            <a:ext cx="431640" cy="268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7" descr="20041081365339293"/>
          <p:cNvPicPr/>
          <p:nvPr/>
        </p:nvPicPr>
        <p:blipFill>
          <a:blip r:embed="rId6"/>
          <a:stretch/>
        </p:blipFill>
        <p:spPr>
          <a:xfrm flipH="1">
            <a:off x="8532360" y="3141720"/>
            <a:ext cx="35892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8" descr="20041081365339293"/>
          <p:cNvPicPr/>
          <p:nvPr/>
        </p:nvPicPr>
        <p:blipFill>
          <a:blip r:embed="rId7"/>
          <a:stretch/>
        </p:blipFill>
        <p:spPr>
          <a:xfrm>
            <a:off x="8532720" y="4797360"/>
            <a:ext cx="432000" cy="279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8" descr="2004122516501796999"/>
          <p:cNvPicPr/>
          <p:nvPr/>
        </p:nvPicPr>
        <p:blipFill>
          <a:blip r:embed="rId8"/>
          <a:stretch/>
        </p:blipFill>
        <p:spPr>
          <a:xfrm>
            <a:off x="395280" y="1557360"/>
            <a:ext cx="1366920" cy="100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9" descr="20071028042413793"/>
          <p:cNvPicPr/>
          <p:nvPr/>
        </p:nvPicPr>
        <p:blipFill>
          <a:blip r:embed="rId9"/>
          <a:stretch/>
        </p:blipFill>
        <p:spPr>
          <a:xfrm>
            <a:off x="7380360" y="39672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0" descr="20041081365339293"/>
          <p:cNvPicPr/>
          <p:nvPr/>
        </p:nvPicPr>
        <p:blipFill>
          <a:blip r:embed="rId10"/>
          <a:stretch/>
        </p:blipFill>
        <p:spPr>
          <a:xfrm>
            <a:off x="8244000" y="50133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1" descr="20041081365339293"/>
          <p:cNvPicPr/>
          <p:nvPr/>
        </p:nvPicPr>
        <p:blipFill>
          <a:blip r:embed="rId11"/>
          <a:stretch/>
        </p:blipFill>
        <p:spPr>
          <a:xfrm>
            <a:off x="8244000" y="54435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2" descr="20041081365339293"/>
          <p:cNvPicPr/>
          <p:nvPr/>
        </p:nvPicPr>
        <p:blipFill>
          <a:blip r:embed="rId12"/>
          <a:stretch/>
        </p:blipFill>
        <p:spPr>
          <a:xfrm>
            <a:off x="8317080" y="4005360"/>
            <a:ext cx="395280" cy="365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5" descr="2004122516501796999"/>
          <p:cNvPicPr/>
          <p:nvPr/>
        </p:nvPicPr>
        <p:blipFill>
          <a:blip r:embed="rId13"/>
          <a:stretch/>
        </p:blipFill>
        <p:spPr>
          <a:xfrm>
            <a:off x="0" y="1484280"/>
            <a:ext cx="1589040" cy="1773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5" descr="2004122516501796999"/>
          <p:cNvPicPr/>
          <p:nvPr/>
        </p:nvPicPr>
        <p:blipFill>
          <a:blip r:embed="rId14"/>
          <a:stretch/>
        </p:blipFill>
        <p:spPr>
          <a:xfrm>
            <a:off x="468360" y="1197000"/>
            <a:ext cx="1265040" cy="1413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6" descr="马群"/>
          <p:cNvPicPr/>
          <p:nvPr/>
        </p:nvPicPr>
        <p:blipFill>
          <a:blip r:embed="rId15"/>
          <a:stretch/>
        </p:blipFill>
        <p:spPr>
          <a:xfrm rot="21343800">
            <a:off x="5795640" y="1915920"/>
            <a:ext cx="2448000" cy="512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48"/>
          <p:cNvSpPr/>
          <p:nvPr/>
        </p:nvSpPr>
        <p:spPr>
          <a:xfrm>
            <a:off x="611280" y="0"/>
            <a:ext cx="8532720" cy="2349360"/>
          </a:xfrm>
          <a:prstGeom prst="cloudCallout">
            <a:avLst>
              <a:gd name="adj1" fmla="val -43861"/>
              <a:gd name="adj2" fmla="val 70203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1"/>
          <p:cNvSpPr/>
          <p:nvPr/>
        </p:nvSpPr>
        <p:spPr>
          <a:xfrm>
            <a:off x="1850760" y="431640"/>
            <a:ext cx="63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生活中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你遇到过阻挡你前进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妖怪”吗？你觉得怎么对付才好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幸福在哪里伴奏.wma" descr=""/>
          <p:cNvPicPr/>
          <p:nvPr/>
        </p:nvPicPr>
        <p:blipFill>
          <a:blip r:embed="rId16"/>
          <a:stretch/>
        </p:blipFill>
        <p:spPr>
          <a:xfrm>
            <a:off x="8101080" y="587700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8.15911E-006 C -0.01909 0.02081 -0.03819 0.04185 -0.06927 0.05319 C -0.10034 0.06452 -0.15746 0.06822 -0.18611 0.06752 C -0.21475 0.06683 -0.21788 0.05365 -0.24149 0.04925 C -0.2651 0.04486 -0.27205 0.04185 -0.3276 0.04093 C -0.38316 0.04 -0.51614 0.04972 -0.57534 0.04301 C -0.63455 0.0363 -0.6618 0.00994 -0.68298 -8.15911E-006 C -0.70416 -0.00995 -0.69965 -0.01342 -0.70295 -0.01643 E">
                                      <p:cBhvr>
                                        <p:cTn id="333" dur="5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-5.08788E-006 C 0.02222 -0.00047 0.04461 -0.00093 0.09999 0.01849 C 0.15538 0.03792 0.24392 0.12279 0.33229 0.11701 C 0.42065 0.11123 0.58107 0.006 0.63072 -0.0162 E">
                                      <p:cBhvr>
                                        <p:cTn id="335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2.77521E-007 C -0.02847 0.01827 -0.05712 0.03677 -0.08472 0.05111 C -0.11198 0.06545 -0.12378 0.08094 -0.16458 0.08603 C -0.20538 0.09089 -0.26823 0.10638 -0.32917 0.07978 C -0.3901 0.05319 -0.49861 -0.04718 -0.53073 -0.07378 C -0.56285 -0.10037 -0.52153 -0.0791 -0.52153 -0.08002 C -0.52153 -0.08095 -0.52622 -0.08048 -0.53073 -0.08002 E">
                                      <p:cBhvr>
                                        <p:cTn id="337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4489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3"/>
          <p:cNvSpPr/>
          <p:nvPr/>
        </p:nvSpPr>
        <p:spPr>
          <a:xfrm>
            <a:off x="397080" y="765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395280" y="1557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幸福在哪里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朋友啊告诉你，它不在柳荫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也不在温室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它在辛勤的工作中，它在艰苦的劳动里。啊！幸福就在你晶莹的汗水里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啊！幸福就在你晶莹的汗水里。幸福在哪里？朋友啊告诉你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它不在月光下，也不在睡梦里。它在辛勤的耕耘中，它在知识的宝库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啊！幸福就在你闪光的智慧里，啊！幸福就在你闪光的智慧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就在你闪光的智慧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（摘自歌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幸福在哪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5"/>
          <p:cNvSpPr/>
          <p:nvPr/>
        </p:nvSpPr>
        <p:spPr>
          <a:xfrm>
            <a:off x="611280" y="620640"/>
            <a:ext cx="820872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2921"/>
              <a:gd name="adj5" fmla="val 640259"/>
              <a:gd name="adj6" fmla="val -4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学了课文，你认为幸福来自哪里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7885080" y="6381720"/>
            <a:ext cx="1042920" cy="476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9"/>
          <p:cNvSpPr/>
          <p:nvPr/>
        </p:nvSpPr>
        <p:spPr>
          <a:xfrm>
            <a:off x="179280" y="620640"/>
            <a:ext cx="8640720" cy="518328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010"/>
          <p:cNvPicPr/>
          <p:nvPr/>
        </p:nvPicPr>
        <p:blipFill>
          <a:blip r:embed="rId1"/>
          <a:stretch/>
        </p:blipFill>
        <p:spPr>
          <a:xfrm>
            <a:off x="684360" y="1268280"/>
            <a:ext cx="2616120" cy="1643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1258920" y="21337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西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03640" y="1341360"/>
            <a:ext cx="304560" cy="1562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23920" y="1197000"/>
            <a:ext cx="221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zànɡ</a:t>
            </a: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（ ）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21760" y="2276640"/>
            <a:ext cx="2224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  <a:ea typeface="Times New Roman"/>
              </a:rPr>
              <a:t>á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nɡ</a:t>
            </a: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（ ）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739160" y="565200"/>
            <a:ext cx="43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选择错误读音打“      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4" descr="08"/>
          <p:cNvPicPr/>
          <p:nvPr/>
        </p:nvPicPr>
        <p:blipFill>
          <a:blip r:embed="rId2"/>
          <a:stretch/>
        </p:blipFill>
        <p:spPr>
          <a:xfrm>
            <a:off x="900000" y="3500280"/>
            <a:ext cx="2232000" cy="19335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5"/>
          <p:cNvSpPr/>
          <p:nvPr/>
        </p:nvSpPr>
        <p:spPr>
          <a:xfrm>
            <a:off x="1465200" y="4508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划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3059280" y="3573360"/>
            <a:ext cx="304560" cy="2210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240 h 2210040"/>
              <a:gd name="textAreaBottom" fmla="*/ 215280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3947400" y="3284640"/>
            <a:ext cx="21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hu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  <a:ea typeface="Times New Roman"/>
              </a:rPr>
              <a:t>á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（ ）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3947400" y="5013360"/>
            <a:ext cx="2118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hu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  <a:ea typeface="Times New Roman"/>
              </a:rPr>
              <a:t>à</a:t>
            </a:r>
            <a:r>
              <a:rPr b="0" lang="en-US" sz="3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宋体"/>
              </a:rPr>
              <a:t>（ ）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5904720" y="620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5112360" y="2205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5112360" y="3284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AD%A3%E7%A1%A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0" y="76500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旺嘉过了哪三关？连一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第一关  　黄胡子老妖怪　    眼睛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见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关　  白胡子老妖怪　    大沙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关　 黑胡子老妖怪　　　 乱石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2005513751343148"/>
          <p:cNvPicPr/>
          <p:nvPr/>
        </p:nvPicPr>
        <p:blipFill>
          <a:blip r:embed="rId1"/>
          <a:stretch/>
        </p:blipFill>
        <p:spPr>
          <a:xfrm>
            <a:off x="0" y="189000"/>
            <a:ext cx="1512720" cy="836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小学语文(记叙文）06"/>
          <p:cNvPicPr/>
          <p:nvPr/>
        </p:nvPicPr>
        <p:blipFill>
          <a:blip r:embed="rId2"/>
          <a:stretch/>
        </p:blipFill>
        <p:spPr>
          <a:xfrm>
            <a:off x="1332000" y="4046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306" name="Line 7"/>
          <p:cNvSpPr/>
          <p:nvPr/>
        </p:nvSpPr>
        <p:spPr>
          <a:xfrm>
            <a:off x="2268360" y="17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8"/>
          <p:cNvCxnSpPr>
            <a:stCxn id="303" idx="0"/>
            <a:endCxn id="303" idx="0"/>
          </p:cNvCxnSpPr>
          <p:nvPr/>
        </p:nvCxnSpPr>
        <p:spPr>
          <a:xfrm>
            <a:off x="4571640" y="764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308" name="Line 9"/>
          <p:cNvSpPr/>
          <p:nvPr/>
        </p:nvSpPr>
        <p:spPr>
          <a:xfrm flipH="1" flipV="1">
            <a:off x="2484000" y="2636640"/>
            <a:ext cx="647640" cy="30956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"/>
          <p:cNvSpPr/>
          <p:nvPr/>
        </p:nvSpPr>
        <p:spPr>
          <a:xfrm>
            <a:off x="5724360" y="5661000"/>
            <a:ext cx="1297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1"/>
          <p:cNvSpPr/>
          <p:nvPr/>
        </p:nvSpPr>
        <p:spPr>
          <a:xfrm flipV="1">
            <a:off x="2556000" y="2708280"/>
            <a:ext cx="792000" cy="13701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5867280" y="2492280"/>
            <a:ext cx="1368720" cy="15843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V="1">
            <a:off x="2484360" y="4076640"/>
            <a:ext cx="863640" cy="15112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4"/>
          <p:cNvSpPr/>
          <p:nvPr/>
        </p:nvSpPr>
        <p:spPr>
          <a:xfrm flipV="1">
            <a:off x="5724360" y="2637000"/>
            <a:ext cx="1295640" cy="129672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20071028042413793"/>
          <p:cNvPicPr/>
          <p:nvPr/>
        </p:nvPicPr>
        <p:blipFill>
          <a:blip r:embed="rId1"/>
          <a:stretch/>
        </p:blipFill>
        <p:spPr>
          <a:xfrm>
            <a:off x="8244000" y="1268280"/>
            <a:ext cx="284040" cy="547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20071028042413793"/>
          <p:cNvPicPr/>
          <p:nvPr/>
        </p:nvPicPr>
        <p:blipFill>
          <a:blip r:embed="rId2"/>
          <a:stretch/>
        </p:blipFill>
        <p:spPr>
          <a:xfrm rot="492000">
            <a:off x="9467640" y="2133720"/>
            <a:ext cx="468000" cy="322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071028042413793"/>
          <p:cNvPicPr/>
          <p:nvPr/>
        </p:nvPicPr>
        <p:blipFill>
          <a:blip r:embed="rId3"/>
          <a:stretch/>
        </p:blipFill>
        <p:spPr>
          <a:xfrm>
            <a:off x="8317080" y="836640"/>
            <a:ext cx="360360" cy="247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7"/>
          <p:cNvSpPr/>
          <p:nvPr/>
        </p:nvSpPr>
        <p:spPr>
          <a:xfrm>
            <a:off x="2462040" y="163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0" descr="截图吧"/>
          <p:cNvPicPr/>
          <p:nvPr/>
        </p:nvPicPr>
        <p:blipFill>
          <a:blip r:embed="rId4">
            <a:lum contrast="-24000"/>
          </a:blip>
          <a:stretch/>
        </p:blipFill>
        <p:spPr>
          <a:xfrm>
            <a:off x="0" y="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1"/>
          <p:cNvSpPr/>
          <p:nvPr/>
        </p:nvSpPr>
        <p:spPr>
          <a:xfrm>
            <a:off x="311040" y="565776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24000" y="1341360"/>
            <a:ext cx="8640720" cy="5183280"/>
          </a:xfrm>
          <a:prstGeom prst="rect">
            <a:avLst/>
          </a:prstGeom>
          <a:solidFill>
            <a:srgbClr val="bbe0e3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50920" y="1628640"/>
            <a:ext cx="8893080" cy="39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，清清的河水流过绿色的田野，金色的阳光照耀着广阔的大地，到处都有鲜艳的花朵、欢唱的的鸟儿、高大的树木和茂盛的青草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就生活在这样优美的环境之中。我们应该怎样保护它呢？你来提几条建议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我建议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＿＿＿＿＿＿＿＿＿＿＿＿＿＿＿＿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＿＿＿＿＿＿＿＿＿＿＿＿＿＿＿＿＿＿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＿＿＿＿＿＿＿＿＿＿＿＿＿＿＿＿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小学语文(记叙文）06"/>
          <p:cNvPicPr/>
          <p:nvPr/>
        </p:nvPicPr>
        <p:blipFill>
          <a:blip r:embed="rId1"/>
          <a:stretch/>
        </p:blipFill>
        <p:spPr>
          <a:xfrm>
            <a:off x="468360" y="83664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0F47-479D-4533-970C-C40075FA09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未命名huangli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468360" y="2997360"/>
            <a:ext cx="80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2050920" y="558972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无所有的人们盼望得到幸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763640" y="98100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从前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西藏有一个地方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河流和田地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没有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小鸟和鲜花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也没有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树木和青草。住在那儿的人，吃不饱，穿不暖，他们都盼望得到幸福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1" descr="200847163238935"/>
          <p:cNvPicPr/>
          <p:nvPr/>
        </p:nvPicPr>
        <p:blipFill>
          <a:blip r:embed="rId1"/>
          <a:stretch/>
        </p:blipFill>
        <p:spPr>
          <a:xfrm>
            <a:off x="2411280" y="5516640"/>
            <a:ext cx="4176720" cy="792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6"/>
          <p:cNvSpPr/>
          <p:nvPr/>
        </p:nvSpPr>
        <p:spPr>
          <a:xfrm>
            <a:off x="0" y="1341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清清的河水流过绿色的田地，金色的阳光照耀着广阔的大地，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到处都有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鲜艳的花朵、欢唱的鸟儿、高大的树木和茂盛的青草，人们过上了幸福的生活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9" descr="2007080317445876840"/>
          <p:cNvPicPr/>
          <p:nvPr/>
        </p:nvPicPr>
        <p:blipFill>
          <a:blip r:embed="rId2"/>
          <a:stretch/>
        </p:blipFill>
        <p:spPr>
          <a:xfrm>
            <a:off x="6659640" y="4437000"/>
            <a:ext cx="2484360" cy="1844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2" descr="西藏草原"/>
          <p:cNvPicPr/>
          <p:nvPr/>
        </p:nvPicPr>
        <p:blipFill>
          <a:blip r:embed="rId3"/>
          <a:stretch/>
        </p:blipFill>
        <p:spPr>
          <a:xfrm>
            <a:off x="0" y="4437000"/>
            <a:ext cx="2305080" cy="19224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04"/>
          <p:cNvSpPr/>
          <p:nvPr/>
        </p:nvSpPr>
        <p:spPr>
          <a:xfrm>
            <a:off x="2484360" y="4581360"/>
            <a:ext cx="4032360" cy="793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们生活很幸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5" descr="2004122516501796999"/>
          <p:cNvPicPr/>
          <p:nvPr/>
        </p:nvPicPr>
        <p:blipFill>
          <a:blip r:embed="rId4"/>
          <a:stretch/>
        </p:blipFill>
        <p:spPr>
          <a:xfrm>
            <a:off x="0" y="0"/>
            <a:ext cx="1395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5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9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5219640" y="1484280"/>
            <a:ext cx="3132360" cy="3168720"/>
            <a:chOff x="5219640" y="1484280"/>
            <a:chExt cx="3132360" cy="3168720"/>
          </a:xfrm>
        </p:grpSpPr>
        <p:pic>
          <p:nvPicPr>
            <p:cNvPr id="160" name="Picture 3" descr="200847163238935"/>
            <p:cNvPicPr/>
            <p:nvPr/>
          </p:nvPicPr>
          <p:blipFill>
            <a:blip r:embed="rId1"/>
            <a:stretch/>
          </p:blipFill>
          <p:spPr>
            <a:xfrm>
              <a:off x="5219640" y="1484280"/>
              <a:ext cx="313236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4" descr="马群"/>
            <p:cNvPicPr/>
            <p:nvPr/>
          </p:nvPicPr>
          <p:blipFill>
            <a:blip r:embed="rId2"/>
            <a:stretch/>
          </p:blipFill>
          <p:spPr>
            <a:xfrm rot="21382200">
              <a:off x="6773040" y="2486880"/>
              <a:ext cx="1262520" cy="18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5" descr="20071028042413793"/>
          <p:cNvPicPr/>
          <p:nvPr/>
        </p:nvPicPr>
        <p:blipFill>
          <a:blip r:embed="rId3"/>
          <a:stretch/>
        </p:blipFill>
        <p:spPr>
          <a:xfrm>
            <a:off x="8244000" y="1268280"/>
            <a:ext cx="284040" cy="54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20071028042413793"/>
          <p:cNvPicPr/>
          <p:nvPr/>
        </p:nvPicPr>
        <p:blipFill>
          <a:blip r:embed="rId4"/>
          <a:stretch/>
        </p:blipFill>
        <p:spPr>
          <a:xfrm rot="492000">
            <a:off x="9467640" y="2133720"/>
            <a:ext cx="46800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20071028042413793"/>
          <p:cNvPicPr/>
          <p:nvPr/>
        </p:nvPicPr>
        <p:blipFill>
          <a:blip r:embed="rId5"/>
          <a:stretch/>
        </p:blipFill>
        <p:spPr>
          <a:xfrm>
            <a:off x="8317080" y="836640"/>
            <a:ext cx="360360" cy="2476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462040" y="163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未命名huangliang"/>
          <p:cNvPicPr/>
          <p:nvPr/>
        </p:nvPicPr>
        <p:blipFill>
          <a:blip r:embed="rId6"/>
          <a:stretch/>
        </p:blipFill>
        <p:spPr>
          <a:xfrm>
            <a:off x="611280" y="1413000"/>
            <a:ext cx="2922480" cy="3240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84360" y="1700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从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859280" y="1700280"/>
            <a:ext cx="374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从此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处都有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918000" y="29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没有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没有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也没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32932E-006 C -0.01111 0.0118 -0.02223 0.0229 -0.04045 0.02984 C -0.05851 0.03608 -0.09167 0.0377 -0.10834 0.0377 C -0.125 0.0377 -0.12674 0.02984 -0.14063 0.02776 C -0.15434 0.02498 -0.15834 0.0229 -0.19063 0.0229 C -0.22292 0.02221 -0.30035 0.02776 -0.33473 0.02359 C -0.3691 0.02012 -0.38507 0.00555 -0.3974 -4.32932E-006 C -0.40955 -0.00555 -0.40695 -0.00763 -0.40886 -0.00971 E">
                                      <p:cBhvr>
                                        <p:cTn id="67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72222E-006 1.78538E-006 C -0.01996 0.00832 -0.03975 0.01665 -0.0585 0.02336 C -0.07743 0.02983 -0.08524 0.037 -0.11319 0.03931 C -0.14149 0.0414 -0.18437 0.0488 -0.22621 0.03631 C -0.26788 0.02405 -0.34253 -0.02151 -0.3644 -0.03377 C -0.38576 -0.04556 -0.35833 -0.03631 -0.35833 -0.03654 C -0.35833 -0.03724 -0.36111 -0.037 -0.3644 -0.03654 E">
                                      <p:cBhvr>
                                        <p:cTn id="78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0" dur="5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2" dur="5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7"/>
          <p:cNvSpPr/>
          <p:nvPr/>
        </p:nvSpPr>
        <p:spPr>
          <a:xfrm>
            <a:off x="2022480" y="4324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"/>
          <p:cNvGrpSpPr/>
          <p:nvPr/>
        </p:nvGrpSpPr>
        <p:grpSpPr>
          <a:xfrm>
            <a:off x="4427640" y="981000"/>
            <a:ext cx="4174920" cy="4753080"/>
            <a:chOff x="4427640" y="981000"/>
            <a:chExt cx="4174920" cy="4753080"/>
          </a:xfrm>
        </p:grpSpPr>
        <p:pic>
          <p:nvPicPr>
            <p:cNvPr id="172" name="Picture 3" descr="200847163238935"/>
            <p:cNvPicPr/>
            <p:nvPr/>
          </p:nvPicPr>
          <p:blipFill>
            <a:blip r:embed="rId1"/>
            <a:stretch/>
          </p:blipFill>
          <p:spPr>
            <a:xfrm>
              <a:off x="4427640" y="981000"/>
              <a:ext cx="4174920" cy="47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马群"/>
            <p:cNvPicPr/>
            <p:nvPr/>
          </p:nvPicPr>
          <p:blipFill>
            <a:blip r:embed="rId2"/>
            <a:stretch/>
          </p:blipFill>
          <p:spPr>
            <a:xfrm rot="21382200">
              <a:off x="6498000" y="2484720"/>
              <a:ext cx="1682640" cy="27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Picture 5" descr="20071028042413793"/>
          <p:cNvPicPr/>
          <p:nvPr/>
        </p:nvPicPr>
        <p:blipFill>
          <a:blip r:embed="rId3"/>
          <a:stretch/>
        </p:blipFill>
        <p:spPr>
          <a:xfrm>
            <a:off x="8244000" y="1268280"/>
            <a:ext cx="284040" cy="547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20071028042413793"/>
          <p:cNvPicPr/>
          <p:nvPr/>
        </p:nvPicPr>
        <p:blipFill>
          <a:blip r:embed="rId4"/>
          <a:stretch/>
        </p:blipFill>
        <p:spPr>
          <a:xfrm rot="492000">
            <a:off x="9467640" y="2133720"/>
            <a:ext cx="468000" cy="322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0071028042413793"/>
          <p:cNvPicPr/>
          <p:nvPr/>
        </p:nvPicPr>
        <p:blipFill>
          <a:blip r:embed="rId5"/>
          <a:stretch/>
        </p:blipFill>
        <p:spPr>
          <a:xfrm>
            <a:off x="8317080" y="836640"/>
            <a:ext cx="360360" cy="247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2462040" y="163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未命名huangliang"/>
          <p:cNvPicPr/>
          <p:nvPr/>
        </p:nvPicPr>
        <p:blipFill>
          <a:blip r:embed="rId6"/>
          <a:stretch/>
        </p:blipFill>
        <p:spPr>
          <a:xfrm>
            <a:off x="250920" y="981000"/>
            <a:ext cx="3960720" cy="47530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0"/>
          <p:cNvSpPr/>
          <p:nvPr/>
        </p:nvSpPr>
        <p:spPr>
          <a:xfrm>
            <a:off x="900000" y="26028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从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5148360" y="33336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后来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250920" y="2205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没有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河流和田地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没有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小鸟和鲜花，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也没有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树木和青草。他们都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盼望得到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幸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4859280" y="191628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到处都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鲜艳的花朵、欢唱的鸟儿、高大的树木和茂盛的青草，人们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过上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幸福的生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3132000" y="5661000"/>
            <a:ext cx="321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前后照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32932E-006 C -0.01111 0.0118 -0.02223 0.0229 -0.04045 0.02984 C -0.05851 0.03608 -0.09167 0.0377 -0.10834 0.0377 C -0.125 0.0377 -0.12674 0.02984 -0.14063 0.02776 C -0.15434 0.02498 -0.15834 0.0229 -0.19063 0.0229 C -0.22292 0.02221 -0.30035 0.02776 -0.33473 0.02359 C -0.3691 0.02012 -0.38507 0.00555 -0.3974 -4.32932E-006 C -0.40955 -0.00555 -0.40695 -0.00763 -0.40886 -0.00971 E">
                                      <p:cBhvr>
                                        <p:cTn id="91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4.72222E-006 1.78538E-006 C -0.01996 0.00832 -0.03975 0.01665 -0.0585 0.02336 C -0.07743 0.02983 -0.08524 0.037 -0.11319 0.03931 C -0.14149 0.0414 -0.18437 0.0488 -0.22621 0.03631 C -0.26788 0.02405 -0.34253 -0.02151 -0.3644 -0.03377 C -0.38576 -0.04556 -0.35833 -0.03631 -0.35833 -0.03654 C -0.35833 -0.03724 -0.36111 -0.037 -0.3644 -0.03654 E">
                                      <p:cBhvr>
                                        <p:cTn id="102" dur="5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24000" y="189000"/>
            <a:ext cx="8424720" cy="57610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556000" y="62064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幸 福 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39640" y="2852640"/>
            <a:ext cx="203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盼望幸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2590920" y="18288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227640" y="1773360"/>
            <a:ext cx="152640" cy="2743200"/>
          </a:xfrm>
          <a:custGeom>
            <a:avLst/>
            <a:gdLst>
              <a:gd name="textAreaLeft" fmla="*/ 0 w 152640"/>
              <a:gd name="textAreaRight" fmla="*/ 5508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6699240" y="286380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得到幸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189440" y="364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起因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7093080" y="35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结果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5" descr="8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09920" y="2205000"/>
            <a:ext cx="1795320" cy="18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4" descr="u=1704465306,7089288&amp;fm=1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5638680"/>
            <a:ext cx="2514600" cy="121932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2"/>
          <p:cNvSpPr/>
          <p:nvPr/>
        </p:nvSpPr>
        <p:spPr>
          <a:xfrm>
            <a:off x="2916360" y="2997360"/>
            <a:ext cx="1224000" cy="287280"/>
          </a:xfrm>
          <a:prstGeom prst="rightArrow">
            <a:avLst>
              <a:gd name="adj1" fmla="val 50278"/>
              <a:gd name="adj2" fmla="val 1047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12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slide(fromRight)" transition="out">
                                      <p:cBhvr additive="repl">
                                        <p:cTn id="133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611280" y="2133720"/>
          <a:ext cx="7488000" cy="3889080"/>
        </p:xfrm>
        <a:graphic>
          <a:graphicData uri="http://schemas.openxmlformats.org/drawingml/2006/table">
            <a:tbl>
              <a:tblPr/>
              <a:tblGrid>
                <a:gridCol w="1871280"/>
                <a:gridCol w="2952720"/>
                <a:gridCol w="2664000"/>
              </a:tblGrid>
              <a:tr h="79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难关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行动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结果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忍饥挨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找到幸福鸟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33"/>
          <p:cNvGrpSpPr/>
          <p:nvPr/>
        </p:nvGrpSpPr>
        <p:grpSpPr>
          <a:xfrm>
            <a:off x="0" y="0"/>
            <a:ext cx="9144000" cy="1985040"/>
            <a:chOff x="0" y="0"/>
            <a:chExt cx="9144000" cy="1985040"/>
          </a:xfrm>
        </p:grpSpPr>
        <p:sp>
          <p:nvSpPr>
            <p:cNvPr id="198" name="AutoShape 4"/>
            <p:cNvSpPr/>
            <p:nvPr/>
          </p:nvSpPr>
          <p:spPr>
            <a:xfrm>
              <a:off x="0" y="0"/>
              <a:ext cx="9144000" cy="1844640"/>
            </a:xfrm>
            <a:prstGeom prst="wedgeEllipseCallout">
              <a:avLst>
                <a:gd name="adj1" fmla="val 47222"/>
                <a:gd name="adj2" fmla="val 87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　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2"/>
            <p:cNvSpPr/>
            <p:nvPr/>
          </p:nvSpPr>
          <p:spPr>
            <a:xfrm>
              <a:off x="1926360" y="428760"/>
              <a:ext cx="588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旺嘉在寻找幸福鸟的途中经历了那几道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难关？根据课文内容完成下列表格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42"/>
          <p:cNvSpPr/>
          <p:nvPr/>
        </p:nvSpPr>
        <p:spPr>
          <a:xfrm>
            <a:off x="684360" y="335772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3"/>
          <p:cNvSpPr/>
          <p:nvPr/>
        </p:nvSpPr>
        <p:spPr>
          <a:xfrm>
            <a:off x="826920" y="3068640"/>
            <a:ext cx="1729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乱石滩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900000" y="508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>
            <a:off x="2392200" y="624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3327480" y="602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0" descr="碎石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2050920" y="314172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0" y="0"/>
            <a:ext cx="2160720" cy="5605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3"/>
          <p:cNvSpPr/>
          <p:nvPr/>
        </p:nvSpPr>
        <p:spPr>
          <a:xfrm>
            <a:off x="179280" y="0"/>
            <a:ext cx="8964720" cy="5905440"/>
          </a:xfrm>
          <a:prstGeom prst="cloudCallout">
            <a:avLst>
              <a:gd name="adj1" fmla="val -48439"/>
              <a:gd name="adj2" fmla="val 60888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说着，妖怪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吹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了吹胡子，平坦的道路立刻变成了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乱石滩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，每块石头都锋利得像刀子。旺嘉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勇敢地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踩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上去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，鞋底被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划</a:t>
            </a: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hu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  <a:ea typeface="楷体_GB2312"/>
              </a:rPr>
              <a:t>á</a:t>
            </a:r>
            <a:r>
              <a:rPr b="1" lang="en-US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穿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了，双脚被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割破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了，鲜血流在石滩上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4"/>
          <p:cNvSpPr/>
          <p:nvPr/>
        </p:nvSpPr>
        <p:spPr>
          <a:xfrm>
            <a:off x="7596360" y="6021360"/>
            <a:ext cx="154764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返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08:07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0:26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