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FB16-8E3B-4257-BF08-B7827AC95A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340-95E6-4611-A494-D2610FB48B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4A5-6778-48AC-9288-474F8C5D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DF1-43F3-41A4-9042-F2539C9C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72B-90FC-4E87-8D7C-F7690169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01B-366D-4755-84CA-4C7E8D65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518-68E9-451A-8D2E-9AEAFFD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887-4B12-412B-88FB-30640B2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8FD-24A2-4AE1-B7F2-2570CB79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2A6-731D-4813-B13C-8ADD1FC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A1A-9C9E-46F4-B759-A34E6BEA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823-212C-4400-B10C-64D3974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323-078D-46CD-B8E7-60E2AF8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F6B-A80C-47A7-AEB6-3A17B53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FB75-ADA3-427C-B547-FD9D7857E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19280" y="2708280"/>
            <a:ext cx="597708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香港有棵老榕树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16000" y="263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思考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围绕榕树讲了什么事。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9640" y="981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整体感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87280" y="2421000"/>
            <a:ext cx="7201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一个词来概括老榕树的特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昂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68360" y="1052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理清思路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品析词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26920" y="206064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由读课文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-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。说说香港人为什么要花费巨资保护老榕树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是如何做的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画出表示榕树昂贵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自己的话说说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-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的意思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树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活的树。又不卖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何其言贵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合作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42920" y="256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极具现代化的大厦顶上居然会有这么一棵老榕树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有什么感受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42920" y="4076640"/>
            <a:ext cx="705816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香港人对植物的珍爱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环境的重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是一种社会的进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00000" y="227664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肯定的语气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必须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必须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必须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练习说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10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158840" y="5251320"/>
            <a:ext cx="61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9640" y="1773360"/>
            <a:ext cx="835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默读课文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-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段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讨论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去的香港为什么让老作家特别别扭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它缺乏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缺少人与动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植物的和谐相处的场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香港社会的进步是如何通过老榕树体现的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让我们一起去看看过去与今日的香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4360" y="10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62040" y="17478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齐读课文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-1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桌交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讨论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门第一树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与作后一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理顺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珍爱植物。领悟人生价值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创造奇迹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之间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关系去理解文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将自己对大榕树的愿望大胆表达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感情的朗读这两个自然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4360" y="10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042920" y="206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选择一个有关香港的话题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查找资料。举办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今日香港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主题班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拓展学习"/>
          <p:cNvPicPr/>
          <p:nvPr/>
        </p:nvPicPr>
        <p:blipFill>
          <a:blip r:embed="rId1"/>
          <a:stretch/>
        </p:blipFill>
        <p:spPr>
          <a:xfrm>
            <a:off x="539640" y="981000"/>
            <a:ext cx="20066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77D-BC75-4712-8DDC-8E83FF5B6C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4360" y="177336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会写本课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港、湾、榕、筑、商、挪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签、吨、扭、赢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内容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对老榕树的了解来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香港社会的繁荣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进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感情的朗读课文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课文最后自然段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1052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844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掌握生字的音、形、义、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通过对老榕树的了解和对课文最后一段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来认识香港社会的进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0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重点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香港1"/>
          <p:cNvPicPr/>
          <p:nvPr/>
        </p:nvPicPr>
        <p:blipFill>
          <a:blip r:embed="rId1"/>
          <a:stretch/>
        </p:blipFill>
        <p:spPr>
          <a:xfrm>
            <a:off x="2916360" y="1844640"/>
            <a:ext cx="4738680" cy="331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03960" y="2349360"/>
            <a:ext cx="66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香  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3851280" y="2050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903960" y="2349360"/>
            <a:ext cx="66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香  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香港2"/>
          <p:cNvPicPr/>
          <p:nvPr/>
        </p:nvPicPr>
        <p:blipFill>
          <a:blip r:embed="rId1"/>
          <a:stretch/>
        </p:blipFill>
        <p:spPr>
          <a:xfrm>
            <a:off x="2700360" y="1773360"/>
            <a:ext cx="4397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03960" y="2349360"/>
            <a:ext cx="66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香  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香港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700360" y="1989000"/>
            <a:ext cx="446400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87280" y="2781360"/>
            <a:ext cx="756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港   湾   榕   筑   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挪   签   吨   扭   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84360" y="1052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8728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627280" y="24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924360" y="24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435640" y="24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732720" y="242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187280" y="4437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55600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99564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43564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7708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301760" y="27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804000" y="4797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6918120" y="27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9640" y="98100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初读课文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了解大意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908000" y="2852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思考课文主要写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湾仔榕树"/>
          <p:cNvPicPr/>
          <p:nvPr/>
        </p:nvPicPr>
        <p:blipFill>
          <a:blip r:embed="rId1"/>
          <a:stretch/>
        </p:blipFill>
        <p:spPr>
          <a:xfrm>
            <a:off x="2556000" y="162864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9440" y="2349360"/>
            <a:ext cx="11552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湾 仔 榕 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7:3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2:3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