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5.gif" ContentType="image/gif"/>
  <Override PartName="/ppt/media/image7.jpeg" ContentType="image/jpeg"/>
  <Override PartName="/ppt/media/image26.png" ContentType="image/png"/>
  <Override PartName="/ppt/media/image23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31.png" ContentType="image/png"/>
  <Override PartName="/ppt/media/image13.jpeg" ContentType="image/jpeg"/>
  <Override PartName="/ppt/media/image11.png" ContentType="image/png"/>
  <Override PartName="/ppt/media/image12.jpeg" ContentType="image/jpeg"/>
  <Override PartName="/ppt/media/image34.wmf" ContentType="image/x-wmf"/>
  <Override PartName="/ppt/media/image14.png" ContentType="image/png"/>
  <Override PartName="/ppt/media/image35.png" ContentType="image/png"/>
  <Override PartName="/ppt/media/image36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5FD8-D5D6-4021-BE1A-39E9FF0511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45A1-D68C-43FD-AF03-46516F6F3A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AC0-ED7F-449B-BF7F-15659552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250-8B8A-40BE-8226-BD0A2B99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D94-F1C9-4BF3-8C99-370E60BE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8C1-6E8B-45E5-AC55-CC8958ED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21A-C6B9-45A7-962A-C18EC44D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530-25CB-4877-8D2A-4841D7E8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B25-BF03-4312-A045-1A4F13E2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DB6-5646-486D-93AF-70C8F073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63D-D8BA-4D22-B3D8-79F7C267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F2E-D32B-41BB-ADD1-7DC03034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37B-9ACA-4A1F-B5E1-A17F3309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BDE-511A-44D2-8F34-76D515FC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66A6-718A-471A-8908-F07EBD5354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小蝴蝶和毛毛虫-02"/>
          <p:cNvPicPr/>
          <p:nvPr/>
        </p:nvPicPr>
        <p:blipFill>
          <a:blip r:embed="rId1"/>
          <a:stretch/>
        </p:blipFill>
        <p:spPr>
          <a:xfrm>
            <a:off x="4572000" y="1808280"/>
            <a:ext cx="4572000" cy="5049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473040" y="11430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小蝴蝶和毛毛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080" y="-433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58280" y="50864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743200" y="4952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生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257800" y="1981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惊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2895480" y="685800"/>
            <a:ext cx="2362320" cy="1295280"/>
          </a:xfrm>
          <a:prstGeom prst="wedgeRoundRectCallout">
            <a:avLst>
              <a:gd name="adj1" fmla="val 102421"/>
              <a:gd name="adj2" fmla="val 36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妈妈，妈妈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4419720" y="3733920"/>
            <a:ext cx="3657600" cy="1523880"/>
          </a:xfrm>
          <a:prstGeom prst="wedgeEllipseCallout">
            <a:avLst>
              <a:gd name="adj1" fmla="val -87458"/>
              <a:gd name="adj2" fmla="val -854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谁是你的妈妈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163026_112428042443_2"/>
          <p:cNvPicPr/>
          <p:nvPr/>
        </p:nvPicPr>
        <p:blipFill>
          <a:blip r:embed="rId1"/>
          <a:stretch/>
        </p:blipFill>
        <p:spPr>
          <a:xfrm>
            <a:off x="6172200" y="380880"/>
            <a:ext cx="198756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01071617154746"/>
          <p:cNvPicPr/>
          <p:nvPr/>
        </p:nvPicPr>
        <p:blipFill>
          <a:blip r:embed="rId2"/>
          <a:stretch/>
        </p:blipFill>
        <p:spPr>
          <a:xfrm>
            <a:off x="380880" y="3178080"/>
            <a:ext cx="2772000" cy="2443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057400" y="157176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什么，你说什么？你妈妈是谁？”小蝴蝶惊讶地问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81080" y="1495440"/>
            <a:ext cx="51818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，你说什么？你妈妈是谁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蝴蝶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惊讶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问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057400" y="247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04920" y="3049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毛毛虫抬起头来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惊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地喊：“妈妈，妈妈！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什么，你说什么？你妈妈是谁？”小蝴蝶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惊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地问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20070714_26"/>
          <p:cNvPicPr/>
          <p:nvPr/>
        </p:nvPicPr>
        <p:blipFill>
          <a:blip r:embed="rId1"/>
          <a:stretch/>
        </p:blipFill>
        <p:spPr>
          <a:xfrm>
            <a:off x="609480" y="3505320"/>
            <a:ext cx="1128960" cy="121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20070714_25"/>
          <p:cNvPicPr/>
          <p:nvPr/>
        </p:nvPicPr>
        <p:blipFill>
          <a:blip r:embed="rId2"/>
          <a:srcRect l="0" t="0" r="-56" b="-60"/>
          <a:stretch/>
        </p:blipFill>
        <p:spPr>
          <a:xfrm>
            <a:off x="533520" y="0"/>
            <a:ext cx="1295280" cy="12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28600" y="141804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惊喜       惊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蝴蝶听了妈妈的话，不再感到 （       ），反而感到很 （         ）。因为再过不久，她就要有一个和她一样漂亮的蝴蝶弟弟了！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14600" y="33526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惊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09880" y="2590920"/>
            <a:ext cx="156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惊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880" y="247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楷体_GB2312"/>
              </a:rPr>
              <a:t>选词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25880" y="1371600"/>
            <a:ext cx="180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4572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大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惊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小怪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惊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弓之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惊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天动地  打草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惊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胆战心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惊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惊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心动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魄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(pò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惊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慌失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措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cuò 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8006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不好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514600" y="5257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惊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838080" y="533520"/>
            <a:ext cx="4648320" cy="1600200"/>
          </a:xfrm>
          <a:prstGeom prst="wedgeRoundRectCallout">
            <a:avLst>
              <a:gd name="adj1" fmla="val 73666"/>
              <a:gd name="adj2" fmla="val 301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姐姐，你真漂亮，像我妈妈一样漂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352680" y="3429000"/>
            <a:ext cx="5181840" cy="2133720"/>
          </a:xfrm>
          <a:prstGeom prst="wedgeEllipseCallout">
            <a:avLst>
              <a:gd name="adj1" fmla="val -67032"/>
              <a:gd name="adj2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什么？你说什么？你妈妈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201071617154746"/>
          <p:cNvPicPr/>
          <p:nvPr/>
        </p:nvPicPr>
        <p:blipFill>
          <a:blip r:embed="rId1"/>
          <a:stretch/>
        </p:blipFill>
        <p:spPr>
          <a:xfrm>
            <a:off x="228600" y="3389400"/>
            <a:ext cx="2619360" cy="230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63026_112428042443_2"/>
          <p:cNvPicPr/>
          <p:nvPr/>
        </p:nvPicPr>
        <p:blipFill>
          <a:blip r:embed="rId2"/>
          <a:stretch/>
        </p:blipFill>
        <p:spPr>
          <a:xfrm>
            <a:off x="6324480" y="30492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553080" y="2286000"/>
            <a:ext cx="17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认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828800" y="571500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糊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762120" y="533520"/>
            <a:ext cx="5486400" cy="2286000"/>
          </a:xfrm>
          <a:prstGeom prst="wedgeRoundRectCallout">
            <a:avLst>
              <a:gd name="adj1" fmla="val 65481"/>
              <a:gd name="adj2" fmla="val 26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你一定认识我的妈妈，她可美啦！好像一朵会飞的花，她就是蝴蝶呀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3200400" y="3581280"/>
            <a:ext cx="5423040" cy="2514600"/>
          </a:xfrm>
          <a:prstGeom prst="wedgeEllipseCallout">
            <a:avLst>
              <a:gd name="adj1" fmla="val -68962"/>
              <a:gd name="adj2" fmla="val -2190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你妈妈是蝴蝶？怎么会呢？我的妈妈才是蝴蝶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163026_112428042443_2"/>
          <p:cNvPicPr/>
          <p:nvPr/>
        </p:nvPicPr>
        <p:blipFill>
          <a:blip r:embed="rId1"/>
          <a:stretch/>
        </p:blipFill>
        <p:spPr>
          <a:xfrm>
            <a:off x="6705720" y="380880"/>
            <a:ext cx="191772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201071617154746"/>
          <p:cNvPicPr/>
          <p:nvPr/>
        </p:nvPicPr>
        <p:blipFill>
          <a:blip r:embed="rId2"/>
          <a:stretch/>
        </p:blipFill>
        <p:spPr>
          <a:xfrm>
            <a:off x="152280" y="3200400"/>
            <a:ext cx="2847960" cy="2509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3962520" y="3809880"/>
            <a:ext cx="3171600" cy="995400"/>
          </a:xfrm>
          <a:prstGeom prst="cloudCallout">
            <a:avLst>
              <a:gd name="adj1" fmla="val -90041"/>
              <a:gd name="adj2" fmla="val 39152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867280" y="2438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委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609480" y="533520"/>
            <a:ext cx="4419720" cy="1828800"/>
          </a:xfrm>
          <a:prstGeom prst="wedgeRoundRectCallout">
            <a:avLst>
              <a:gd name="adj1" fmla="val 85740"/>
              <a:gd name="adj2" fmla="val 15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蝴蝶真的是我的妈妈呀，你为什么不相信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163026_112428042443_2"/>
          <p:cNvPicPr/>
          <p:nvPr/>
        </p:nvPicPr>
        <p:blipFill>
          <a:blip r:embed="rId1"/>
          <a:stretch/>
        </p:blipFill>
        <p:spPr>
          <a:xfrm>
            <a:off x="6172200" y="228600"/>
            <a:ext cx="1987560" cy="2133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201071617154746"/>
          <p:cNvPicPr/>
          <p:nvPr/>
        </p:nvPicPr>
        <p:blipFill>
          <a:blip r:embed="rId2"/>
          <a:stretch/>
        </p:blipFill>
        <p:spPr>
          <a:xfrm>
            <a:off x="685800" y="3505320"/>
            <a:ext cx="2619360" cy="2307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9"/>
          <p:cNvSpPr/>
          <p:nvPr/>
        </p:nvSpPr>
        <p:spPr>
          <a:xfrm>
            <a:off x="2846520" y="23464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11975975_002647801159_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581280" y="9144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小蝴蝶和毛毛虫-01"/>
          <p:cNvPicPr/>
          <p:nvPr/>
        </p:nvPicPr>
        <p:blipFill>
          <a:blip r:embed="rId2"/>
          <a:stretch/>
        </p:blipFill>
        <p:spPr>
          <a:xfrm rot="301200">
            <a:off x="75960" y="75960"/>
            <a:ext cx="2313000" cy="2293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838080" y="144792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你刚从妈妈产的卵里孵出来时，也是毛毛虫这个样子的。那时，你不停地吃东西，越长越大。后来，就吐丝结茧，把自己封在里面，脱去外皮成了蛹。蛹在茧里睡上一段时间，最后脱去蛹皮，变成一只美丽的蝴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853520" y="390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同是蝴蝶妈妈的孩子，为什么长得完全不一样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1975975_002647801159_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581280" y="9144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小蝴蝶和毛毛虫-01"/>
          <p:cNvPicPr/>
          <p:nvPr/>
        </p:nvPicPr>
        <p:blipFill>
          <a:blip r:embed="rId2"/>
          <a:stretch/>
        </p:blipFill>
        <p:spPr>
          <a:xfrm rot="301200">
            <a:off x="304560" y="151920"/>
            <a:ext cx="2313000" cy="2293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838080" y="1447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刚从妈妈产的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里孵出来时，也是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毛毛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个样子的。那时，你不停地吃东西，越长越大。后来，就吐丝结茧，把自己封在里面，脱去外皮成了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蛹在茧里睡上一段时间，最后脱去蛹皮，变成一只美丽的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蝴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237-1104010p05062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1a061b6797ac4aa0a4623ed18160b1f9"/>
          <p:cNvPicPr/>
          <p:nvPr/>
        </p:nvPicPr>
        <p:blipFill>
          <a:blip r:embed="rId2"/>
          <a:stretch/>
        </p:blipFill>
        <p:spPr>
          <a:xfrm>
            <a:off x="4564080" y="380988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3303659_13"/>
          <p:cNvPicPr/>
          <p:nvPr/>
        </p:nvPicPr>
        <p:blipFill>
          <a:blip r:embed="rId3"/>
          <a:stretch/>
        </p:blipFill>
        <p:spPr>
          <a:xfrm rot="3204600">
            <a:off x="772560" y="2259000"/>
            <a:ext cx="2876400" cy="2911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716040" y="1174680"/>
            <a:ext cx="797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"/>
              </a:rPr>
              <a:t>从图上看，你喜欢谁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42_Li"/>
          <p:cNvPicPr/>
          <p:nvPr/>
        </p:nvPicPr>
        <p:blipFill>
          <a:blip r:embed="rId1"/>
          <a:stretch/>
        </p:blipFill>
        <p:spPr>
          <a:xfrm>
            <a:off x="457200" y="914400"/>
            <a:ext cx="3124080" cy="1882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914400" y="26668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8769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毛毛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5181480" y="3505320"/>
            <a:ext cx="255600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20070714_26"/>
          <p:cNvPicPr/>
          <p:nvPr/>
        </p:nvPicPr>
        <p:blipFill>
          <a:blip r:embed="rId3"/>
          <a:stretch/>
        </p:blipFill>
        <p:spPr>
          <a:xfrm>
            <a:off x="762120" y="35053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7745040" y="5719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066680" y="57913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蝴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83808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蝴蝶成长经历的四个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2514600" y="3124080"/>
            <a:ext cx="3200400" cy="76320"/>
          </a:xfrm>
          <a:prstGeom prst="rightArrow">
            <a:avLst>
              <a:gd name="adj1" fmla="val 50000"/>
              <a:gd name="adj2" fmla="val 10483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8077320" y="3352680"/>
            <a:ext cx="75960" cy="2286000"/>
          </a:xfrm>
          <a:prstGeom prst="downArrow">
            <a:avLst>
              <a:gd name="adj1" fmla="val 50000"/>
              <a:gd name="adj2" fmla="val 75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2514600" y="6172200"/>
            <a:ext cx="4800600" cy="76320"/>
          </a:xfrm>
          <a:prstGeom prst="leftArrow">
            <a:avLst>
              <a:gd name="adj1" fmla="val 50000"/>
              <a:gd name="adj2" fmla="val 1572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5525495_132409075827_2"/>
          <p:cNvPicPr/>
          <p:nvPr/>
        </p:nvPicPr>
        <p:blipFill>
          <a:blip r:embed="rId4"/>
          <a:stretch/>
        </p:blipFill>
        <p:spPr>
          <a:xfrm>
            <a:off x="4876920" y="914400"/>
            <a:ext cx="3276360" cy="18669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4"/>
          <p:cNvSpPr/>
          <p:nvPr/>
        </p:nvSpPr>
        <p:spPr>
          <a:xfrm>
            <a:off x="3200400" y="4191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变态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61f8eab6f3e5cbd631add1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"/>
          <p:cNvSpPr txBox="1"/>
          <p:nvPr/>
        </p:nvSpPr>
        <p:spPr>
          <a:xfrm>
            <a:off x="1979640" y="765000"/>
            <a:ext cx="57960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毛毛虫变小蝴蝶的过程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7640" y="242100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"/>
              </a:rPr>
              <a:t>吐丝结茧</a:t>
            </a:r>
            <a:r>
              <a:rPr b="1" lang="en-US" sz="4000" spc="-1" strike="noStrike">
                <a:solidFill>
                  <a:srgbClr val="ff00ff"/>
                </a:solidFill>
                <a:latin typeface="楷体"/>
                <a:ea typeface="楷体"/>
              </a:rPr>
              <a:t>—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"/>
              </a:rPr>
              <a:t>脱皮成蛹</a:t>
            </a:r>
            <a:r>
              <a:rPr b="1" lang="en-US" sz="4000" spc="-1" strike="noStrike">
                <a:solidFill>
                  <a:srgbClr val="ff00ff"/>
                </a:solidFill>
                <a:latin typeface="楷体"/>
                <a:ea typeface="楷体"/>
              </a:rPr>
              <a:t>—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"/>
              </a:rPr>
              <a:t>去皮化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小蝴蝶和毛毛虫-03"/>
          <p:cNvPicPr/>
          <p:nvPr/>
        </p:nvPicPr>
        <p:blipFill>
          <a:blip r:embed="rId1"/>
          <a:stretch/>
        </p:blipFill>
        <p:spPr>
          <a:xfrm>
            <a:off x="1447920" y="609480"/>
            <a:ext cx="380988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/>
          <p:cNvSpPr/>
          <p:nvPr/>
        </p:nvSpPr>
        <p:spPr>
          <a:xfrm>
            <a:off x="5334120" y="1066680"/>
            <a:ext cx="2666880" cy="914400"/>
          </a:xfrm>
          <a:prstGeom prst="wedgeEllipseCallout">
            <a:avLst>
              <a:gd name="adj1" fmla="val -71606"/>
              <a:gd name="adj2" fmla="val 7430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真的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80060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10552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开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318b1b29ab14fe17d42af1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700360" y="836640"/>
            <a:ext cx="60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0" lang="zh-CN" sz="5400" spc="-1" strike="noStrike">
                <a:solidFill>
                  <a:srgbClr val="333399"/>
                </a:solidFill>
                <a:latin typeface="Arial"/>
                <a:ea typeface="楷体_GB2312"/>
              </a:rPr>
              <a:t>小蝴蝶知道毛毛虫是它弟弟后，它会和毛毛虫会说些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58136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762120" y="685800"/>
            <a:ext cx="8001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自读提示：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读一读、画一画、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读课文，画出描写小蝌蚪的样子和身体发生变化的句子，说说小蝌蚪是怎样变成小青蛙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1"/>
          <p:cNvSpPr/>
          <p:nvPr/>
        </p:nvSpPr>
        <p:spPr>
          <a:xfrm>
            <a:off x="561960" y="6197760"/>
            <a:ext cx="60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>
            <a:lum bright="12000"/>
          </a:blip>
          <a:srcRect l="5772" t="0" r="6757" b="67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066680" y="1743120"/>
            <a:ext cx="6934320" cy="5114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371600" y="533520"/>
            <a:ext cx="228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981080" y="3808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小蝌蚪游啊游，过了几天，尾巴变短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rcRect l="5898" t="0" r="6636" b="6618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5252423_181636356550_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15228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828800" y="55627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一只（     ）的蝴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746280" y="250920"/>
            <a:ext cx="771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98560" y="63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6483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6920" y="785880"/>
            <a:ext cx="82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大脑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黑身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长尾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828800" y="1295280"/>
            <a:ext cx="304920" cy="255600"/>
          </a:xfrm>
          <a:prstGeom prst="rightArrow">
            <a:avLst>
              <a:gd name="adj1" fmla="val 50000"/>
              <a:gd name="adj2" fmla="val 298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 flipH="1">
            <a:off x="1615320" y="1774800"/>
            <a:ext cx="6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202840" y="838080"/>
            <a:ext cx="60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长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两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后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3048120" y="1295280"/>
            <a:ext cx="363240" cy="270000"/>
          </a:xfrm>
          <a:prstGeom prst="rightArrow">
            <a:avLst>
              <a:gd name="adj1" fmla="val 50000"/>
              <a:gd name="adj2" fmla="val 33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650760" y="861840"/>
            <a:ext cx="60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长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两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前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4343400" y="1295280"/>
            <a:ext cx="457200" cy="252360"/>
          </a:xfrm>
          <a:prstGeom prst="rightArrow">
            <a:avLst>
              <a:gd name="adj1" fmla="val 50000"/>
              <a:gd name="adj2" fmla="val 452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952880" y="990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尾巴变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105520" y="160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50133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5314320" y="1471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尾巴不见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7086600" y="8380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73915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7238880" y="533520"/>
            <a:ext cx="144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四条腿宽嘴巴大眼睛绿衣裳白肚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6781680" y="1371600"/>
            <a:ext cx="435240" cy="270000"/>
          </a:xfrm>
          <a:prstGeom prst="rightArrow">
            <a:avLst>
              <a:gd name="adj1" fmla="val 50000"/>
              <a:gd name="adj2" fmla="val 402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55F4-FD72-427E-B534-A1F349AAED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5525495_132409075827_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685800"/>
            <a:ext cx="678204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600200" y="56088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一条（       ）的毛毛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3"/>
          <p:cNvSpPr txBox="1"/>
          <p:nvPr/>
        </p:nvSpPr>
        <p:spPr>
          <a:xfrm>
            <a:off x="2590920" y="609480"/>
            <a:ext cx="3743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读一读记一记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00200" y="22096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趴   讶    识    糊   涂    委    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骗   扶    产    卵    孵    脱   段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8380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2860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1241280"/>
            <a:ext cx="79516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漂亮  惊喜  慢慢  委屈   美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惊讶  轻轻  开心  真心   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知识  写信  产卵  糊涂   脱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爱抚  一段  吃惊   毛毛虫  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762120" y="838080"/>
            <a:ext cx="72388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自读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课文的哪个几自然段是写毛毛虫和小蝴蝶的对话？哪几个自然段是写小蝴蝶和妈妈的对话？找出小蝴蝶和毛毛虫对话时情感变化的词语，用“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—”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画出来。体会着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971800" y="114300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04920" y="182880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惊喜  不好意思  认真   委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57200" y="48006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生气  惊讶  糊涂  开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600200" y="2209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4724280" y="22096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6553080" y="2209680"/>
            <a:ext cx="838440" cy="76320"/>
          </a:xfrm>
          <a:prstGeom prst="rightArrow">
            <a:avLst>
              <a:gd name="adj1" fmla="val 50000"/>
              <a:gd name="adj2" fmla="val 27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828800" y="51814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3581280" y="51814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5410080" y="5181480"/>
            <a:ext cx="609840" cy="76320"/>
          </a:xfrm>
          <a:prstGeom prst="rightArrow">
            <a:avLst>
              <a:gd name="adj1" fmla="val 50000"/>
              <a:gd name="adj2" fmla="val 19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163026_112428042443_2"/>
          <p:cNvPicPr/>
          <p:nvPr/>
        </p:nvPicPr>
        <p:blipFill>
          <a:blip r:embed="rId1"/>
          <a:stretch/>
        </p:blipFill>
        <p:spPr>
          <a:xfrm>
            <a:off x="6477120" y="152280"/>
            <a:ext cx="1670040" cy="175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201071617154746"/>
          <p:cNvPicPr/>
          <p:nvPr/>
        </p:nvPicPr>
        <p:blipFill>
          <a:blip r:embed="rId2"/>
          <a:stretch/>
        </p:blipFill>
        <p:spPr>
          <a:xfrm>
            <a:off x="838080" y="2851200"/>
            <a:ext cx="2314800" cy="2039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62120" y="6094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毛毛虫抬起头来，惊喜地喊：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妈妈，妈妈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22096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谁是你的妈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!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蝴蝶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生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62120" y="34290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毛毛虫仔细看了看小蝴蝶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不好意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地说：“姐姐，你真漂亮，像我妈妈一样漂亮。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0:21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5:51Z</dcterms:modified>
  <cp:revision>9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