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B25F-7046-4F4F-9DD3-7436525578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A280-D4B7-4302-BD48-160EF3330F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CDC-3EF0-4001-89F7-F66C2627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D3E-265D-48A3-97CB-188DBF79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7BC-8980-4D38-AB28-D9F0F285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4E4-B34A-4352-8981-9F3417D9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98A-80B5-4024-B65D-427B7473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2B3-CE66-4189-BBC5-6594D8B4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A01-2267-4F78-96BD-11364A10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09A-D160-4B98-8485-5BE68970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B14-9D05-49D5-A8C2-C96EAFE2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C14-4E21-45EA-85E3-80A421DC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3F0-CBCA-45FC-B17B-0E361592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C76-E767-477D-A25C-7A30E651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4A12-9658-4CDA-BA1D-3D8F29DB3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UPLOAD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064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小萝卜头的故事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648800" y="57196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拓展延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小练笔：我和小萝卜头比童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孩子们，你们一定想了解关于小萝卜头更多的故事，老师建议你们读一读小萝卜头的故事，并观看影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烈火中永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78F7-9DC2-4FF9-8B57-C89F171791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201201~1"/>
          <p:cNvPicPr/>
          <p:nvPr/>
        </p:nvPicPr>
        <p:blipFill>
          <a:blip r:embed="rId1"/>
          <a:stretch/>
        </p:blipFill>
        <p:spPr>
          <a:xfrm>
            <a:off x="125892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默读课文，从看小虫、捉小虫、放小虫这件事中，你认为小萝卜头是怎样的一个孩子？圈划有关语句和重点词，并谈谈自己的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87280" y="2924280"/>
            <a:ext cx="5832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只长着光亮的翠绿翅膀的小虫，越过栏杆，飞到走廊上来。虫子的头上，长着一块美丽的透明的薄壳，像小姑娘披上了蝉翼般的纱巾。这虫子纤细而温柔，透过薄壳还可以看见它红珠子似的小眼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U_9243~1"/>
          <p:cNvPicPr/>
          <p:nvPr/>
        </p:nvPicPr>
        <p:blipFill>
          <a:blip r:embed="rId1"/>
          <a:stretch/>
        </p:blipFill>
        <p:spPr>
          <a:xfrm>
            <a:off x="0" y="2060640"/>
            <a:ext cx="2771640" cy="20890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A6BEBF~1"/>
          <p:cNvPicPr/>
          <p:nvPr/>
        </p:nvPicPr>
        <p:blipFill>
          <a:blip r:embed="rId2"/>
          <a:stretch/>
        </p:blipFill>
        <p:spPr>
          <a:xfrm>
            <a:off x="0" y="4221000"/>
            <a:ext cx="2805120" cy="26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U_1604~1"/>
          <p:cNvPicPr/>
          <p:nvPr/>
        </p:nvPicPr>
        <p:blipFill>
          <a:blip r:embed="rId3"/>
          <a:stretch/>
        </p:blipFill>
        <p:spPr>
          <a:xfrm>
            <a:off x="0" y="0"/>
            <a:ext cx="2556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呦，你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呦，多好看的小虫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萝卜头尖叫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81635~1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508720" y="404280"/>
            <a:ext cx="3178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呦，多好看的小虫！”小萝卜头尖叫了起来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他去捉第二只时，它张开翠绿的翅膀飞走了。小萝卜头两手轻轻捧着那只小虫子，唯恐伤害了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7F3FE8~1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3280" y="-360"/>
            <a:ext cx="4500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正要关上盒子的时候，突然瞥见那只虫子在盒子里不安地爬动。啊，他失去了自由。小萝卜头若有所思地停住了手。他把盒子重新打开，轻声说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吧，你飞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0FC739~1"/>
          <p:cNvPicPr/>
          <p:nvPr/>
        </p:nvPicPr>
        <p:blipFill>
          <a:blip r:embed="rId1"/>
          <a:stretch/>
        </p:blipFill>
        <p:spPr>
          <a:xfrm>
            <a:off x="0" y="0"/>
            <a:ext cx="48592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360" y="1989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吧，你飞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了，飞了，它坐飞机回家去了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放了，我们也坐飞机回去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60480" y="5905440"/>
            <a:ext cx="61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01002~1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0:37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5:06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