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8BFA-AEAA-4294-B6EF-7262403BA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D710-0494-4B9C-8459-9148EE013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4ECC-D850-407A-8014-2F2259E30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6B2-B2B1-4CA8-AE3B-CDC97CDC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BFF-7F98-479C-9651-DCE18C72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DF7-5D54-499F-A2BC-A0F056EB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3249-EA11-4552-B39D-DE434CDC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C3C-81A7-4C17-94A0-E67DE032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39DB-07EE-45DB-8EF3-852993E7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01E-A0AE-4618-BFF9-453CED85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47B-1BE3-4305-83CA-12754C81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E5A-D5F9-43BB-850B-8D990A9C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F93B-8D18-421C-A945-3C23DBF8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8BE-250B-46A9-92C0-2C8AA89E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0F0-B2E8-4DDC-9088-B438B79F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C717-948F-42B5-B0A0-AADE1A8F6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对角圆角矩形 1"/>
          <p:cNvSpPr/>
          <p:nvPr/>
        </p:nvSpPr>
        <p:spPr>
          <a:xfrm>
            <a:off x="468360" y="260280"/>
            <a:ext cx="8207280" cy="6264360"/>
          </a:xfrm>
          <a:custGeom>
            <a:avLst/>
            <a:gdLst/>
            <a:ahLst/>
            <a:rect l="l" t="t" r="r" b="b"/>
            <a:pathLst>
              <a:path w="8207375" h="6264275">
                <a:moveTo>
                  <a:pt x="1044066" y="0"/>
                </a:moveTo>
                <a:lnTo>
                  <a:pt x="8207375" y="0"/>
                </a:lnTo>
                <a:lnTo>
                  <a:pt x="8207375" y="0"/>
                </a:lnTo>
                <a:lnTo>
                  <a:pt x="8207375" y="5220208"/>
                </a:lnTo>
                <a:cubicBezTo>
                  <a:pt x="8207375" y="5796830"/>
                  <a:pt x="7739931" y="6264274"/>
                  <a:pt x="7163309" y="6264274"/>
                </a:cubicBezTo>
                <a:lnTo>
                  <a:pt x="0" y="6264275"/>
                </a:lnTo>
                <a:lnTo>
                  <a:pt x="0" y="6264275"/>
                </a:lnTo>
                <a:lnTo>
                  <a:pt x="0" y="1044066"/>
                </a:lnTo>
                <a:cubicBezTo>
                  <a:pt x="0" y="467444"/>
                  <a:pt x="467444" y="0"/>
                  <a:pt x="1044066" y="0"/>
                </a:cubicBezTo>
                <a:close/>
              </a:path>
            </a:pathLst>
          </a:custGeom>
          <a:solidFill>
            <a:srgbClr val="ffffff">
              <a:alpha val="66000"/>
            </a:srgbClr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虾  趣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972800" y="5832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7e7f79099b9f27ff3ac76377"/>
          <p:cNvPicPr/>
          <p:nvPr/>
        </p:nvPicPr>
        <p:blipFill>
          <a:blip r:embed="rId1"/>
          <a:stretch/>
        </p:blipFill>
        <p:spPr>
          <a:xfrm>
            <a:off x="539640" y="1052640"/>
            <a:ext cx="3710160" cy="4824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mingren-02"/>
          <p:cNvPicPr/>
          <p:nvPr/>
        </p:nvPicPr>
        <p:blipFill>
          <a:blip r:embed="rId3"/>
          <a:stretch/>
        </p:blipFill>
        <p:spPr>
          <a:xfrm>
            <a:off x="4932360" y="1052640"/>
            <a:ext cx="36846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907920"/>
            <a:ext cx="828036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齐白石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8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95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，汉族，湖南湘潭人，二十世纪十大画家之一，世界文化名人。学过木匠，接着改学雕花木工，从民间画工入手 经过刻苦学习终于成了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诗、书、印、画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绝佳的千古伟人 ，曾被授予授予 “人民艺术家”称号 。著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借山吟馆诗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白石诗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白石印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白石老人自传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齐白石全集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各种画集近百种，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白石诗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白石印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齐白石作品选集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齐白石作品集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传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4920" y="3500280"/>
            <a:ext cx="8364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秦牧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1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中国著名作家。原名林阿书，又名林派光、林觉夫、林顽石，广东人。文学活动涉及很多领域，主要有散文、小说、诗歌、儿童文学和文学理论等等。其中尤以散文著称于文坛。名篇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土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花蜜与蜂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此外，他还写了不少儿童文学作品和美学论著。自选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长河浪花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其散文的代表作。还出版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艺海拾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姐妹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语休采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C14D-1D20-4E64-9202-554FA87FAA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30200" y="8380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69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课文，想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虾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“趣”体现在哪些方面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69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边养虾，一边欣赏大师的虾画，这真是无法言传的虾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000" y="134136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69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小组归纳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69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中哪些自然段体现了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养虾的乐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哪些自然段又体现了欣赏大师的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虾画的乐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6"/>
          <p:cNvSpPr/>
          <p:nvPr/>
        </p:nvSpPr>
        <p:spPr>
          <a:xfrm>
            <a:off x="2496960" y="36752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探、后退、再试、再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1557000"/>
            <a:ext cx="84358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69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们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向前游的，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也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向后退的，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更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在嬉戏和觅食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虾4"/>
          <p:cNvPicPr/>
          <p:nvPr/>
        </p:nvPicPr>
        <p:blipFill>
          <a:blip r:embed="rId1"/>
          <a:stretch/>
        </p:blipFill>
        <p:spPr>
          <a:xfrm>
            <a:off x="1801800" y="333360"/>
            <a:ext cx="4510080" cy="6264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47680" y="2060640"/>
            <a:ext cx="1255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虾"/>
          <p:cNvPicPr/>
          <p:nvPr/>
        </p:nvPicPr>
        <p:blipFill>
          <a:blip r:embed="rId1"/>
          <a:stretch/>
        </p:blipFill>
        <p:spPr>
          <a:xfrm>
            <a:off x="684360" y="189000"/>
            <a:ext cx="669600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69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觉得齐白石为什么能画出如此惟妙惟肖、出神入化的虾呢？我们要向他学习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"/>
          <p:cNvSpPr/>
          <p:nvPr/>
        </p:nvSpPr>
        <p:spPr>
          <a:xfrm>
            <a:off x="2370240" y="499752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7:11:10Z</dcterms:created>
  <dc:creator>第一PPT模板网-WWW.1PPT.COM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3:14Z</dcterms:modified>
  <cp:revision>5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