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39.jpeg" ContentType="image/jpeg"/>
  <Override PartName="/ppt/media/image30.jpeg" ContentType="image/jpeg"/>
  <Override PartName="/ppt/media/image32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41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5FA0-AFCE-4A4D-B26A-BE1C9B964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F83E-DAA2-4110-BE61-8DE2B0C4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1B804-8840-443F-8042-AE896B21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E76C1-7375-4DDC-9279-C305FFFA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9A8AB-5D3C-4282-A5C4-5F362471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535B-1DB3-48D9-945F-9E5016D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45F81-4A69-4E9F-A736-40FA0911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366D2-1355-4EB0-B680-981B268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4EB1F-4A1B-47CC-BE33-D5D90994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4FAD4-4224-4F20-8F37-89F81C7D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6743F-67A2-4ED5-A3EA-0518A608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4F05-A273-4B87-980F-1E1E7905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3328D-094A-46A8-A3C8-FE67A12B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A99A5-BF3A-4AEF-8499-73429547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4C2C5-C6AD-4BBE-8573-03A0B34C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2CE32-E47D-48BF-AB66-43C764C3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20C33-30C2-4673-B0E5-640F0561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CD31D-BD02-4199-A48D-83F97C0D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D3844-C6B3-453F-AA7F-8832D223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F1B80-8F4E-4389-A41A-FEF20343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B04E2-B51B-4828-9049-908D9115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28A32-26FA-4751-B989-90FBB684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BD0BD-F4B0-4623-8533-CA77EE8F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60284-C16F-435B-930E-D4393EEF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5FA86-B87F-4E60-B251-F3C7700F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2DA52-53F2-438B-A749-6C9A27D6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8351B-95CA-4B1D-B0B0-930FE03B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BC863-5A0D-4266-A704-68531F1B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21DE3-9555-4FE7-9E3A-4E70C8F9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19DCB-BF5D-450A-B869-822BE958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6E8C1-1AFC-47DC-908C-7763B0D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81E3F-71DD-411F-AE67-40BFD112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283-1EE6-46D3-A095-5CE30C93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64888-F23E-49AF-B5AA-2C02DDE3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1BC5D-083A-449B-9307-3BCB40D3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B832A-AEA1-4A9E-BDAC-F6FFFFF4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267CC-9CD1-473F-953D-FE7A4B34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CC3F3-BA41-4305-B6C6-8818FA42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76C31-6C84-4E08-BFD4-BEBF6B7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FB5F5-C7B6-46EE-80B9-758C6E9F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41928-3623-4DEF-BC0F-8A168584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6BAF4-5F57-4265-9AEF-E829B52D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290ED-63C8-4CE6-B8E8-2733E01E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38E-662F-4FA9-A965-92E9C943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DBEEC-0C45-4CF6-8667-41DFC33C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8E571-1394-4783-880B-334EFA5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3C27E-1B34-4B2B-82FE-B32D358B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C3B23-B2EA-4BC0-B6D6-B2427ED9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A467-682D-49F5-9436-47442292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1B39E-29B7-454E-890B-E8A0C847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6C6D0-109C-4415-B20C-39B5EF96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F3B01-72A2-4D42-9F7F-17A8F520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5AD18-FFCA-4305-918B-40FA87C6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2D2BA-A2F8-4078-B9B4-5254679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26F-C83C-4DFA-8FE9-F2F398F9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A2BB9-F187-4B62-9546-36BB04AA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B7E26-8F2A-44E1-A889-8E638B4F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29F82-0360-4E9B-88EE-010FC35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C58BC-46B8-4D98-8F8D-84E2CA8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8BFC1-D17C-43FD-A072-6ED72525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BA2DA-DDB4-470D-9C1B-FADEBCA2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99A1D-E46D-4008-BC47-B2BFEF51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55A-B460-4203-8B00-C606B2C5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F3F-AD26-4487-AB79-C352F220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608-F739-4676-9CBE-4254162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DEB-CC3D-4210-9068-D619F1E1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D7C-C026-4555-997F-45AF73C7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DDC-E753-4CC5-A023-645FA467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665-6B00-4DB3-8E35-238E50AA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B48-5B6C-4DF4-85EC-CD8CF22B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902-C8F1-4AE4-8AD2-A2AF8C14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5699-53DF-4910-8B46-5720A8BC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7DFD-3B29-470A-A9A4-8DCB1057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1C54-17F2-4621-83FF-CC064455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09F5-21C9-40FB-860B-72EE8BD2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F183-6521-47AD-A1EF-627F7A58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7E85-08CA-4244-AFCC-E36AD315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809A-D55B-4BA3-8A4E-54C13341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5AA7-3519-4755-87D1-CF00296E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17FD-F28E-4EA3-AA38-30ECEBD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8D15-8EE1-410A-B2C6-A8E10236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06FF-F951-4F6E-B62C-34FDA5AF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E647-FA3E-4BD1-8CFC-B64035AC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0ACC-D5BC-4AAB-AE5D-9A7107FD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3873-D101-4EE6-A2FD-73F0390A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E496-5EDA-48D3-8F27-58FC4922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5564-4A94-4483-BAF4-FA052DD4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1944-0B6F-4569-B984-95A15E35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1EAA-73D4-415F-A36C-7D025839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6BF6-8034-4A68-BC1C-94E422FF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AE4B6-27FB-4F85-BC1D-59A0F5A3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A0C8-27E6-41E2-AA03-A093D608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49BE-2292-48BC-AB17-8D5070D1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AF9F-38CF-49B9-AAE8-638D52B1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57DF-39DB-4D47-9913-56FC3F15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0AC1-EF00-4BC8-92D7-A3BB4A09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47B26-5C3F-4AEB-B047-ABF238A2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E448-49C4-46FD-81A7-EB9959F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3E7D-01EC-4C39-AC7E-4EE599C1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BFF6-C16B-4546-A011-F3B87924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FE13-4978-44BD-8DB8-6D1BF136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3B5A-EEB2-4794-8CF5-CFE299A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FF3D7-04B4-4582-AD64-ABFFD6A2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81DD-54A0-499C-B1DD-6F06B669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C2623-A853-4DE5-B9FD-E69973E8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E4C13-C245-4502-ACAE-311F9FB6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65FD-5CB5-46C8-A996-E2C14BB7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D56FD-9ECB-487C-BD20-224EB6C9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CBDA-9E80-4CDE-9316-AF33AE61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E7ED4-F503-4AB1-AE3A-3E356369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53A15-B429-4F56-B1BE-3F69410E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ECD38-A25F-4481-B782-5D124344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0ADDB-8B85-424B-BDEE-774D2B17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10D9D-2FE2-47C8-9B9B-87D19771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9327C-AB7E-44A2-8A56-46DA052E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439F6-3004-400F-924B-68A1CC7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D6EEF-CDEA-4A2A-8571-94F5F73C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A306-58F4-4AA7-BCCA-C4276C29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3889F-CBE3-41BD-8191-0BE5C94C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424CA-B9E4-4FE9-8B71-2F77119B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8C9A0-CC42-4BEA-A503-1D9C90F5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26B93-F3AC-4DCA-88C4-4032808F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1621-DB04-4212-A342-06DBC9F6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E542-77D8-4E67-890E-DD3A979C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78B0-37FD-4EBF-86C9-1E6567C9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911E3-2C05-4C0F-9171-4FF4E27B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B289-B648-45AE-81B9-DBA6FB4F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D9BCD-847B-42FA-A07F-B1D3E9E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5122C-5B77-4BA1-A328-8B71C785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2C30-F0D5-4FBC-87D3-EDC1F9BA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A0E98-C4CF-47F3-9B7E-D2928242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96A76-10A3-4E0A-A445-AA7697D7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0145E-B983-4D65-9EB7-7C355121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DD8AB-D786-4F4A-954A-82FC770E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B8A3F-1996-4CFF-8F41-D665D168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A2C32-60A6-4DCB-A648-37CFEBE8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69E3C-A981-41E7-A8A7-518FA79A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42407-6EBC-43AE-8139-AC0416D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62F30-0297-47BD-B93F-F15F56E2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75766-EE84-4C24-A702-4077302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29F48-72F1-427E-B7D0-17DAB6E1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A47D-12FC-4E2F-BA6F-84FBDB51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05AF1-EC97-434F-9B39-98A02880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2B384-7F3C-4761-877C-012CC843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47158-CA28-4963-A209-018A56D8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EFA9-DC5D-4FA6-A040-47C89E1A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AB3A-8DFA-458D-AFD0-AAF9DAD1CB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A207-0C00-4E98-85E6-47EAFED8FBA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168-FBDB-414E-9E3B-F24F4246D4D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A900-A63B-406F-9806-6B41F777F3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67F1-856A-4570-8476-3BEC15376D8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0C01-F72C-4EF7-8285-777017268AB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5282-16D6-467A-B9EE-658A0B2F51A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F9D3-34E2-49FC-B1E1-EE822DAF4C1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996B-293D-4087-A35D-6066EACDA4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5505-E325-496E-9087-B6628FF2EB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46B5-E53F-4A0F-B4EE-C27C5983FA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7B8D-1460-47FE-BD0A-B8D061053E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9.xml"/><Relationship Id="rId3" Type="http://schemas.openxmlformats.org/officeDocument/2006/relationships/image" Target="../media/image21.png"/><Relationship Id="rId4" Type="http://schemas.openxmlformats.org/officeDocument/2006/relationships/slide" Target="slide10.xml"/><Relationship Id="rId5" Type="http://schemas.openxmlformats.org/officeDocument/2006/relationships/image" Target="../media/image22.png"/><Relationship Id="rId6" Type="http://schemas.openxmlformats.org/officeDocument/2006/relationships/slide" Target="slide11.xml"/><Relationship Id="rId7" Type="http://schemas.openxmlformats.org/officeDocument/2006/relationships/image" Target="../media/image23.png"/><Relationship Id="rId8" Type="http://schemas.openxmlformats.org/officeDocument/2006/relationships/slide" Target="slide12.xml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image" Target="../media/image21.png"/><Relationship Id="rId4" Type="http://schemas.openxmlformats.org/officeDocument/2006/relationships/slide" Target="slide10.xml"/><Relationship Id="rId5" Type="http://schemas.openxmlformats.org/officeDocument/2006/relationships/image" Target="../media/image22.png"/><Relationship Id="rId6" Type="http://schemas.openxmlformats.org/officeDocument/2006/relationships/slide" Target="slide11.xml"/><Relationship Id="rId7" Type="http://schemas.openxmlformats.org/officeDocument/2006/relationships/image" Target="../media/image23.png"/><Relationship Id="rId8" Type="http://schemas.openxmlformats.org/officeDocument/2006/relationships/image" Target="../media/image27.png"/><Relationship Id="rId9" Type="http://schemas.openxmlformats.org/officeDocument/2006/relationships/slide" Target="slide12.xml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42.png"/><Relationship Id="rId2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6.xml"/><Relationship Id="rId5" Type="http://schemas.openxmlformats.org/officeDocument/2006/relationships/image" Target="../media/image6.png"/><Relationship Id="rId6" Type="http://schemas.openxmlformats.org/officeDocument/2006/relationships/slide" Target="slide3.xml"/><Relationship Id="rId7" Type="http://schemas.openxmlformats.org/officeDocument/2006/relationships/image" Target="../media/image7.jpeg"/><Relationship Id="rId8" Type="http://schemas.openxmlformats.org/officeDocument/2006/relationships/slide" Target="slide4.xml"/><Relationship Id="rId9" Type="http://schemas.openxmlformats.org/officeDocument/2006/relationships/image" Target="../media/image8.jpeg"/><Relationship Id="rId10" Type="http://schemas.openxmlformats.org/officeDocument/2006/relationships/slide" Target="slide5.xml"/><Relationship Id="rId11" Type="http://schemas.openxmlformats.org/officeDocument/2006/relationships/image" Target="../media/image9.jpeg"/><Relationship Id="rId12" Type="http://schemas.openxmlformats.org/officeDocument/2006/relationships/slide" Target="slide6.xml"/><Relationship Id="rId13" Type="http://schemas.openxmlformats.org/officeDocument/2006/relationships/image" Target="../media/image10.jpeg"/><Relationship Id="rId14" Type="http://schemas.openxmlformats.org/officeDocument/2006/relationships/hyperlink" Target="http://image.baidu.com/i?tn=baiduimage&amp;ct=201326592&amp;lm=-1&amp;cl=2&amp;word=%C6%EB%B0%D7&#687;%2B&#1018;" TargetMode="External"/><Relationship Id="rId15" Type="http://schemas.openxmlformats.org/officeDocument/2006/relationships/image" Target="../media/image11.png"/><Relationship Id="rId16" Type="http://schemas.openxmlformats.org/officeDocument/2006/relationships/slide" Target="slide7.xml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image" Target="../media/image6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image" Target="../media/image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image" Target="../media/image6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9.xml"/><Relationship Id="rId3" Type="http://schemas.openxmlformats.org/officeDocument/2006/relationships/image" Target="../media/image21.png"/><Relationship Id="rId4" Type="http://schemas.openxmlformats.org/officeDocument/2006/relationships/slide" Target="slide10.xml"/><Relationship Id="rId5" Type="http://schemas.openxmlformats.org/officeDocument/2006/relationships/image" Target="../media/image22.png"/><Relationship Id="rId6" Type="http://schemas.openxmlformats.org/officeDocument/2006/relationships/slide" Target="slide11.xml"/><Relationship Id="rId7" Type="http://schemas.openxmlformats.org/officeDocument/2006/relationships/image" Target="../media/image23.png"/><Relationship Id="rId8" Type="http://schemas.openxmlformats.org/officeDocument/2006/relationships/slide" Target="slide12.xml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3943080" cy="1752480"/>
          </a:xfrm>
          <a:prstGeom prst="rect">
            <a:avLst/>
          </a:prstGeom>
          <a:ln w="0">
            <a:noFill/>
          </a:ln>
        </p:spPr>
      </p:pic>
      <p:pic>
        <p:nvPicPr>
          <p:cNvPr id="536" name="钢琴曲 - 雨的印记.mp3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37" name="矩形 4"/>
          <p:cNvSpPr/>
          <p:nvPr/>
        </p:nvSpPr>
        <p:spPr>
          <a:xfrm>
            <a:off x="1728360" y="5789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3828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1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7032600" y="16606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纠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5025960" y="2227320"/>
            <a:ext cx="9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2"/>
          <p:cNvSpPr/>
          <p:nvPr/>
        </p:nvSpPr>
        <p:spPr>
          <a:xfrm>
            <a:off x="1822320" y="2781360"/>
            <a:ext cx="15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游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4572000" y="27766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伸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6"/>
          <p:cNvSpPr/>
          <p:nvPr/>
        </p:nvSpPr>
        <p:spPr>
          <a:xfrm>
            <a:off x="4108320" y="33228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3641760" y="3870360"/>
            <a:ext cx="12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7164360" y="17733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2"/>
          <p:cNvSpPr/>
          <p:nvPr/>
        </p:nvSpPr>
        <p:spPr>
          <a:xfrm>
            <a:off x="4859280" y="234936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3"/>
          <p:cNvSpPr/>
          <p:nvPr/>
        </p:nvSpPr>
        <p:spPr>
          <a:xfrm>
            <a:off x="1906560" y="291780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4643280" y="285264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4249800" y="343836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3419640" y="4005360"/>
            <a:ext cx="93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224760"/>
            <a:ext cx="871560" cy="6332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403280" y="6224760"/>
            <a:ext cx="871560" cy="6332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56000" y="6224760"/>
            <a:ext cx="877680" cy="633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7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6237360"/>
            <a:ext cx="83484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5"/>
          <p:cNvSpPr/>
          <p:nvPr/>
        </p:nvSpPr>
        <p:spPr>
          <a:xfrm>
            <a:off x="2268360" y="1890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试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1819440" y="2425680"/>
            <a:ext cx="13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再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6383160" y="1871640"/>
            <a:ext cx="16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后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3187800" y="2436840"/>
            <a:ext cx="16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再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5940360" y="2986200"/>
            <a:ext cx="17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夹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4095720" y="353376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大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6854760" y="4083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斜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0"/>
          <p:cNvSpPr/>
          <p:nvPr/>
        </p:nvSpPr>
        <p:spPr>
          <a:xfrm>
            <a:off x="6567840" y="2427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认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1084680" y="3544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放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5"/>
          <p:cNvSpPr/>
          <p:nvPr/>
        </p:nvSpPr>
        <p:spPr>
          <a:xfrm>
            <a:off x="3176640" y="40878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支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2411280" y="20606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4"/>
          <p:cNvSpPr/>
          <p:nvPr/>
        </p:nvSpPr>
        <p:spPr>
          <a:xfrm>
            <a:off x="6515280" y="1989000"/>
            <a:ext cx="93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4"/>
          <p:cNvSpPr/>
          <p:nvPr/>
        </p:nvSpPr>
        <p:spPr>
          <a:xfrm>
            <a:off x="1908000" y="257004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4"/>
          <p:cNvSpPr/>
          <p:nvPr/>
        </p:nvSpPr>
        <p:spPr>
          <a:xfrm>
            <a:off x="3276720" y="2565360"/>
            <a:ext cx="93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4"/>
          <p:cNvSpPr/>
          <p:nvPr/>
        </p:nvSpPr>
        <p:spPr>
          <a:xfrm>
            <a:off x="6443640" y="2637000"/>
            <a:ext cx="93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6012000" y="3211560"/>
            <a:ext cx="93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971640" y="3716280"/>
            <a:ext cx="93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4"/>
          <p:cNvSpPr/>
          <p:nvPr/>
        </p:nvSpPr>
        <p:spPr>
          <a:xfrm>
            <a:off x="4211640" y="366696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4"/>
          <p:cNvSpPr/>
          <p:nvPr/>
        </p:nvSpPr>
        <p:spPr>
          <a:xfrm>
            <a:off x="3348000" y="4292640"/>
            <a:ext cx="9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4"/>
          <p:cNvSpPr/>
          <p:nvPr/>
        </p:nvSpPr>
        <p:spPr>
          <a:xfrm>
            <a:off x="6948360" y="422100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224760"/>
            <a:ext cx="871560" cy="6332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3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403280" y="6224760"/>
            <a:ext cx="871560" cy="633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4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56000" y="6224760"/>
            <a:ext cx="877680" cy="6332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5" descr=""/>
          <p:cNvPicPr/>
          <p:nvPr/>
        </p:nvPicPr>
        <p:blipFill>
          <a:blip r:embed="rId8"/>
          <a:stretch/>
        </p:blipFill>
        <p:spPr>
          <a:xfrm>
            <a:off x="6804000" y="6224760"/>
            <a:ext cx="871560" cy="63324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8101080" y="6237360"/>
            <a:ext cx="83484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900000" y="5302080"/>
            <a:ext cx="7848720" cy="1238400"/>
            <a:chOff x="900000" y="5302080"/>
            <a:chExt cx="7848720" cy="1238400"/>
          </a:xfrm>
        </p:grpSpPr>
        <p:pic>
          <p:nvPicPr>
            <p:cNvPr id="631" name="Rectangle 6" descr=""/>
            <p:cNvPicPr/>
            <p:nvPr/>
          </p:nvPicPr>
          <p:blipFill>
            <a:blip r:embed="rId1"/>
            <a:stretch/>
          </p:blipFill>
          <p:spPr>
            <a:xfrm>
              <a:off x="900000" y="5302080"/>
              <a:ext cx="7848720" cy="12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2" name="Group 4"/>
            <p:cNvGrpSpPr/>
            <p:nvPr/>
          </p:nvGrpSpPr>
          <p:grpSpPr>
            <a:xfrm>
              <a:off x="1357200" y="5862600"/>
              <a:ext cx="4719240" cy="530280"/>
              <a:chOff x="1357200" y="5862600"/>
              <a:chExt cx="4719240" cy="530280"/>
            </a:xfrm>
          </p:grpSpPr>
          <p:sp>
            <p:nvSpPr>
              <p:cNvPr id="633" name="Oval 7"/>
              <p:cNvSpPr/>
              <p:nvPr/>
            </p:nvSpPr>
            <p:spPr>
              <a:xfrm>
                <a:off x="2883960" y="5862600"/>
                <a:ext cx="70200" cy="59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Oval 8"/>
              <p:cNvSpPr/>
              <p:nvPr/>
            </p:nvSpPr>
            <p:spPr>
              <a:xfrm>
                <a:off x="5590080" y="5862600"/>
                <a:ext cx="70200" cy="59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Oval 9"/>
              <p:cNvSpPr/>
              <p:nvPr/>
            </p:nvSpPr>
            <p:spPr>
              <a:xfrm>
                <a:off x="6006240" y="5862600"/>
                <a:ext cx="70200" cy="59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Oval 10"/>
              <p:cNvSpPr/>
              <p:nvPr/>
            </p:nvSpPr>
            <p:spPr>
              <a:xfrm>
                <a:off x="1357200" y="6333120"/>
                <a:ext cx="70200" cy="59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11"/>
              <p:cNvSpPr/>
              <p:nvPr/>
            </p:nvSpPr>
            <p:spPr>
              <a:xfrm>
                <a:off x="1773000" y="6333120"/>
                <a:ext cx="70200" cy="59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38" name="Picture 10" descr="2"/>
          <p:cNvPicPr/>
          <p:nvPr/>
        </p:nvPicPr>
        <p:blipFill>
          <a:blip r:embed="rId2"/>
          <a:stretch/>
        </p:blipFill>
        <p:spPr>
          <a:xfrm>
            <a:off x="-30240" y="-22320"/>
            <a:ext cx="917424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3"/>
          <p:cNvSpPr/>
          <p:nvPr/>
        </p:nvSpPr>
        <p:spPr>
          <a:xfrm>
            <a:off x="1066680" y="160020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们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向前游的，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也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向后退的，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更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正在嬉戏和觅食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1203480" y="2986200"/>
            <a:ext cx="221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仿写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1295280" y="382428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也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更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D:\Temp\584024_20100726_163702_14.jpg"/>
          <p:cNvPicPr/>
          <p:nvPr/>
        </p:nvPicPr>
        <p:blipFill>
          <a:blip r:embed="rId1"/>
          <a:stretch/>
        </p:blipFill>
        <p:spPr>
          <a:xfrm>
            <a:off x="684360" y="477720"/>
            <a:ext cx="7920000" cy="57596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D:\Temp\1664144_141802744797_2.jpg"/>
          <p:cNvPicPr/>
          <p:nvPr/>
        </p:nvPicPr>
        <p:blipFill>
          <a:blip r:embed="rId2"/>
          <a:stretch/>
        </p:blipFill>
        <p:spPr>
          <a:xfrm>
            <a:off x="684360" y="477720"/>
            <a:ext cx="7920000" cy="5759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4" descr="D:\Temp\2258692_092024045410_2.jpg"/>
          <p:cNvPicPr/>
          <p:nvPr/>
        </p:nvPicPr>
        <p:blipFill>
          <a:blip r:embed="rId3"/>
          <a:stretch/>
        </p:blipFill>
        <p:spPr>
          <a:xfrm>
            <a:off x="684360" y="477720"/>
            <a:ext cx="7920000" cy="57596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D:\Temp\200936191344204_2.jpg"/>
          <p:cNvPicPr/>
          <p:nvPr/>
        </p:nvPicPr>
        <p:blipFill>
          <a:blip r:embed="rId4"/>
          <a:stretch/>
        </p:blipFill>
        <p:spPr>
          <a:xfrm>
            <a:off x="684360" y="477720"/>
            <a:ext cx="7920000" cy="5759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D:\Temp\1.jpg"/>
          <p:cNvPicPr/>
          <p:nvPr/>
        </p:nvPicPr>
        <p:blipFill>
          <a:blip r:embed="rId5"/>
          <a:stretch/>
        </p:blipFill>
        <p:spPr>
          <a:xfrm>
            <a:off x="684360" y="477720"/>
            <a:ext cx="7920000" cy="57596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D:\Temp\4-12120Q64522.jpg"/>
          <p:cNvPicPr/>
          <p:nvPr/>
        </p:nvPicPr>
        <p:blipFill>
          <a:blip r:embed="rId6"/>
          <a:stretch/>
        </p:blipFill>
        <p:spPr>
          <a:xfrm>
            <a:off x="684360" y="477720"/>
            <a:ext cx="7920000" cy="57596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D:\Temp\78-131205161H4.jpg"/>
          <p:cNvPicPr/>
          <p:nvPr/>
        </p:nvPicPr>
        <p:blipFill>
          <a:blip r:embed="rId7"/>
          <a:stretch/>
        </p:blipFill>
        <p:spPr>
          <a:xfrm>
            <a:off x="684360" y="477720"/>
            <a:ext cx="7920000" cy="57596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9" descr="D:\Temp\8286-%~1.JPG"/>
          <p:cNvPicPr/>
          <p:nvPr/>
        </p:nvPicPr>
        <p:blipFill>
          <a:blip r:embed="rId8"/>
          <a:stretch/>
        </p:blipFill>
        <p:spPr>
          <a:xfrm>
            <a:off x="684360" y="477720"/>
            <a:ext cx="7920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dur="indefinite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dur="indefinite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" dur="indefinite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dur="indefinite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dur="indefinite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8" dur="indefinite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2" dur="indefinite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AutoShape 3"/>
          <p:cNvSpPr/>
          <p:nvPr/>
        </p:nvSpPr>
        <p:spPr>
          <a:xfrm>
            <a:off x="826920" y="404640"/>
            <a:ext cx="3048120" cy="1219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练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143000" y="2286000"/>
            <a:ext cx="7461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留心观察一种小动物，抓住动物的特点，写一篇习作。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2C4C-C712-4744-A34D-D1E133A96D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826920" y="1413000"/>
            <a:ext cx="7777440" cy="4174920"/>
          </a:xfrm>
          <a:prstGeom prst="rect">
            <a:avLst/>
          </a:prstGeom>
          <a:solidFill>
            <a:srgbClr val="bbe0e3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3059280" y="404640"/>
            <a:ext cx="2519280" cy="792000"/>
            <a:chOff x="3059280" y="404640"/>
            <a:chExt cx="2519280" cy="792000"/>
          </a:xfrm>
        </p:grpSpPr>
        <p:sp>
          <p:nvSpPr>
            <p:cNvPr id="540" name="Rectangle 5">
              <a:hlinkClick r:id="rId1" action="ppaction://hlinksldjump"/>
            </p:cNvPr>
            <p:cNvSpPr/>
            <p:nvPr/>
          </p:nvSpPr>
          <p:spPr>
            <a:xfrm>
              <a:off x="3275280" y="404640"/>
              <a:ext cx="208908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6">
              <a:hlinkClick r:id="rId2" action="ppaction://hlinksldjump"/>
            </p:cNvPr>
            <p:cNvSpPr/>
            <p:nvPr/>
          </p:nvSpPr>
          <p:spPr>
            <a:xfrm>
              <a:off x="3059280" y="475920"/>
              <a:ext cx="2519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100" spc="-1" strike="noStrike">
                  <a:solidFill>
                    <a:srgbClr val="000000"/>
                  </a:solidFill>
                  <a:latin typeface="Arial"/>
                </a:rPr>
                <a:t>虾画欣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Picture 7" descr="未标题-2副本"/>
          <p:cNvPicPr/>
          <p:nvPr/>
        </p:nvPicPr>
        <p:blipFill>
          <a:blip r:embed="rId3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8"/>
          <p:cNvSpPr/>
          <p:nvPr/>
        </p:nvSpPr>
        <p:spPr>
          <a:xfrm>
            <a:off x="611280" y="1268280"/>
            <a:ext cx="7848360" cy="41752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299280" y="33192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20"/>
          <p:cNvSpPr/>
          <p:nvPr/>
        </p:nvSpPr>
        <p:spPr>
          <a:xfrm>
            <a:off x="1042920" y="1555920"/>
            <a:ext cx="7201080" cy="39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1" descr="虾1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780000" y="1773360"/>
            <a:ext cx="1728720" cy="136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47" name="Picture 12" descr="虾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780000" y="3355920"/>
            <a:ext cx="1728720" cy="194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48" name="Picture 13" descr="虾3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940360" y="1771560"/>
            <a:ext cx="1656000" cy="1368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549" name="Picture 14" descr="虾4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5940360" y="3355920"/>
            <a:ext cx="1656000" cy="1943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grpSp>
        <p:nvGrpSpPr>
          <p:cNvPr id="550" name="Group 14"/>
          <p:cNvGrpSpPr/>
          <p:nvPr/>
        </p:nvGrpSpPr>
        <p:grpSpPr>
          <a:xfrm>
            <a:off x="3419640" y="5877000"/>
            <a:ext cx="2304360" cy="504720"/>
            <a:chOff x="3419640" y="5877000"/>
            <a:chExt cx="2304360" cy="504720"/>
          </a:xfrm>
        </p:grpSpPr>
        <p:sp>
          <p:nvSpPr>
            <p:cNvPr id="551" name="AutoShape 18"/>
            <p:cNvSpPr/>
            <p:nvPr/>
          </p:nvSpPr>
          <p:spPr>
            <a:xfrm>
              <a:off x="3419640" y="5877000"/>
              <a:ext cx="2231640" cy="504720"/>
            </a:xfrm>
            <a:custGeom>
              <a:avLst/>
              <a:gdLst>
                <a:gd name="textAreaLeft" fmla="*/ 32400 w 2231640"/>
                <a:gd name="textAreaRight" fmla="*/ 2199240 w 2231640"/>
                <a:gd name="textAreaTop" fmla="*/ 32400 h 504720"/>
                <a:gd name="textAreaBottom" fmla="*/ 472320 h 504720"/>
              </a:gdLst>
              <a:ahLst/>
              <a:rect l="textAreaLeft" t="textAreaTop" r="textAreaRight" b="textAreaBottom"/>
              <a:pathLst>
                <a:path w="95453" h="21600">
                  <a:moveTo>
                    <a:pt x="0" y="0"/>
                  </a:moveTo>
                  <a:lnTo>
                    <a:pt x="95453" y="0"/>
                  </a:lnTo>
                  <a:lnTo>
                    <a:pt x="95453" y="21600"/>
                  </a:lnTo>
                  <a:lnTo>
                    <a:pt x="0" y="21600"/>
                  </a:lnTo>
                  <a:close/>
                </a:path>
                <a:path fill="lightenLess" w="95453" h="21600">
                  <a:moveTo>
                    <a:pt x="0" y="0"/>
                  </a:moveTo>
                  <a:lnTo>
                    <a:pt x="95453" y="0"/>
                  </a:lnTo>
                  <a:lnTo>
                    <a:pt x="94053" y="1400"/>
                  </a:lnTo>
                  <a:lnTo>
                    <a:pt x="1400" y="1400"/>
                  </a:lnTo>
                  <a:close/>
                </a:path>
                <a:path fill="darken" w="95453" h="21600">
                  <a:moveTo>
                    <a:pt x="95453" y="0"/>
                  </a:moveTo>
                  <a:lnTo>
                    <a:pt x="95453" y="21600"/>
                  </a:lnTo>
                  <a:lnTo>
                    <a:pt x="94053" y="20200"/>
                  </a:lnTo>
                  <a:lnTo>
                    <a:pt x="94053" y="1400"/>
                  </a:lnTo>
                  <a:close/>
                </a:path>
                <a:path fill="darkenLess" w="95453" h="21600">
                  <a:moveTo>
                    <a:pt x="9545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94053" y="20200"/>
                  </a:lnTo>
                  <a:close/>
                </a:path>
                <a:path fill="lighten" w="9545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5e7676"/>
                </a:gs>
                <a:gs pos="100000">
                  <a:srgbClr val="ccff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9"/>
            <p:cNvSpPr/>
            <p:nvPr/>
          </p:nvSpPr>
          <p:spPr>
            <a:xfrm>
              <a:off x="3563640" y="5942160"/>
              <a:ext cx="21603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9999"/>
                  </a:solidFill>
                  <a:uFillTx/>
                  <a:latin typeface="Arial"/>
                  <a:hlinkClick r:id="rId14"/>
                </a:rPr>
                <a:t>点击欣赏更多画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3" name="图片 2" descr=""/>
          <p:cNvPicPr/>
          <p:nvPr/>
        </p:nvPicPr>
        <p:blipFill>
          <a:blip r:embed="rId15"/>
          <a:stretch/>
        </p:blipFill>
        <p:spPr>
          <a:xfrm>
            <a:off x="1176480" y="1871640"/>
            <a:ext cx="2371680" cy="326088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1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7815240" y="6004080"/>
            <a:ext cx="1292400" cy="76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500" autoRev="1" fill="hold"/>
                                        <p:tgtEl>
                                          <p:spTgt spid="5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7" descr="未标题-2副本"/>
          <p:cNvPicPr/>
          <p:nvPr/>
        </p:nvPicPr>
        <p:blipFill>
          <a:blip r:embed="rId1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MC900432675[2]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1" descr="虾1"/>
          <p:cNvPicPr/>
          <p:nvPr/>
        </p:nvPicPr>
        <p:blipFill>
          <a:blip r:embed="rId4"/>
          <a:stretch/>
        </p:blipFill>
        <p:spPr>
          <a:xfrm>
            <a:off x="2268360" y="549360"/>
            <a:ext cx="4680000" cy="5904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8" name="Picture 12" descr="未标题-1"/>
          <p:cNvPicPr/>
          <p:nvPr/>
        </p:nvPicPr>
        <p:blipFill>
          <a:blip r:embed="rId5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500" autoRev="1" fill="hold"/>
                                        <p:tgtEl>
                                          <p:spTgt spid="5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虾2"/>
          <p:cNvPicPr/>
          <p:nvPr/>
        </p:nvPicPr>
        <p:blipFill>
          <a:blip r:embed="rId1"/>
          <a:stretch/>
        </p:blipFill>
        <p:spPr>
          <a:xfrm>
            <a:off x="2144880" y="476280"/>
            <a:ext cx="4587840" cy="6048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0" name="Picture 9" descr="未标题-2副本"/>
          <p:cNvPicPr/>
          <p:nvPr/>
        </p:nvPicPr>
        <p:blipFill>
          <a:blip r:embed="rId2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未标题-1"/>
          <p:cNvPicPr/>
          <p:nvPr/>
        </p:nvPicPr>
        <p:blipFill>
          <a:blip r:embed="rId3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500" autoRev="1" fill="hold"/>
                                        <p:tgtEl>
                                          <p:spTgt spid="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虾3"/>
          <p:cNvPicPr/>
          <p:nvPr/>
        </p:nvPicPr>
        <p:blipFill>
          <a:blip r:embed="rId1"/>
          <a:stretch/>
        </p:blipFill>
        <p:spPr>
          <a:xfrm>
            <a:off x="612720" y="981000"/>
            <a:ext cx="7344000" cy="5243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4" name="Picture 7" descr="未标题-2副本"/>
          <p:cNvPicPr/>
          <p:nvPr/>
        </p:nvPicPr>
        <p:blipFill>
          <a:blip r:embed="rId2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0" descr="未标题-1"/>
          <p:cNvPicPr/>
          <p:nvPr/>
        </p:nvPicPr>
        <p:blipFill>
          <a:blip r:embed="rId3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虾4"/>
          <p:cNvPicPr/>
          <p:nvPr/>
        </p:nvPicPr>
        <p:blipFill>
          <a:blip r:embed="rId1"/>
          <a:stretch/>
        </p:blipFill>
        <p:spPr>
          <a:xfrm>
            <a:off x="2268360" y="476280"/>
            <a:ext cx="4751640" cy="59770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0" descr="未标题-2副本"/>
          <p:cNvPicPr/>
          <p:nvPr/>
        </p:nvPicPr>
        <p:blipFill>
          <a:blip r:embed="rId2"/>
          <a:stretch/>
        </p:blipFill>
        <p:spPr>
          <a:xfrm>
            <a:off x="971640" y="190440"/>
            <a:ext cx="1079280" cy="7174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未标题-1"/>
          <p:cNvPicPr/>
          <p:nvPr/>
        </p:nvPicPr>
        <p:blipFill>
          <a:blip r:embed="rId3"/>
          <a:stretch/>
        </p:blipFill>
        <p:spPr>
          <a:xfrm>
            <a:off x="7885080" y="1484280"/>
            <a:ext cx="1079640" cy="2882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2" descr="MC900432675[2]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01080" y="530064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3"/>
          <p:cNvSpPr/>
          <p:nvPr/>
        </p:nvSpPr>
        <p:spPr>
          <a:xfrm>
            <a:off x="914400" y="1197000"/>
            <a:ext cx="7618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课文中心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边养虾，一边欣赏大师的虾画，这真是无法言传的虾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"/>
          <p:cNvSpPr/>
          <p:nvPr/>
        </p:nvSpPr>
        <p:spPr>
          <a:xfrm>
            <a:off x="1827360" y="4527720"/>
            <a:ext cx="62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5997028848998783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AutoShape 3"/>
          <p:cNvSpPr/>
          <p:nvPr/>
        </p:nvSpPr>
        <p:spPr>
          <a:xfrm>
            <a:off x="609480" y="228600"/>
            <a:ext cx="4953240" cy="1219320"/>
          </a:xfrm>
          <a:custGeom>
            <a:avLst/>
            <a:gdLst>
              <a:gd name="textAreaLeft" fmla="*/ 1238400 w 4953240"/>
              <a:gd name="textAreaRight" fmla="*/ 3715200 w 4953240"/>
              <a:gd name="textAreaTop" fmla="*/ 15228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边读边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75564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、用自己喜欢的方式读第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3—5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自然段，思考：作者从哪些方面来描写养虾的乐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、用“——”画出体现养虾之趣的词语或句子，并写上自己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圆角矩形标注 1"/>
          <p:cNvSpPr/>
          <p:nvPr/>
        </p:nvSpPr>
        <p:spPr>
          <a:xfrm>
            <a:off x="1332000" y="0"/>
            <a:ext cx="2305080" cy="865080"/>
          </a:xfrm>
          <a:prstGeom prst="wedgeRoundRectCallout">
            <a:avLst>
              <a:gd name="adj1" fmla="val -3837"/>
              <a:gd name="adj2" fmla="val 72569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黑体"/>
                <a:ea typeface="黑体"/>
              </a:rPr>
              <a:t>虾的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黑体"/>
                <a:ea typeface="黑体"/>
              </a:rPr>
              <a:t>变化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5851800" y="110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透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6"/>
          <p:cNvSpPr/>
          <p:nvPr/>
        </p:nvSpPr>
        <p:spPr>
          <a:xfrm>
            <a:off x="6872040" y="1687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乳白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8"/>
          <p:cNvSpPr/>
          <p:nvPr/>
        </p:nvSpPr>
        <p:spPr>
          <a:xfrm>
            <a:off x="3613680" y="2768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黑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5724360" y="1268280"/>
            <a:ext cx="9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"/>
          <p:cNvSpPr/>
          <p:nvPr/>
        </p:nvSpPr>
        <p:spPr>
          <a:xfrm>
            <a:off x="6877080" y="17733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4"/>
          <p:cNvSpPr/>
          <p:nvPr/>
        </p:nvSpPr>
        <p:spPr>
          <a:xfrm>
            <a:off x="3564000" y="292428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32000" y="0"/>
            <a:ext cx="23032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224760"/>
            <a:ext cx="871560" cy="6332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403280" y="6224760"/>
            <a:ext cx="871560" cy="6332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56000" y="6224760"/>
            <a:ext cx="877680" cy="6332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01080" y="6237360"/>
            <a:ext cx="83484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3:30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3:09Z</dcterms:modified>
  <cp:revision>16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3e06000000000001024120</vt:lpwstr>
  </property>
</Properties>
</file>