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3D16-824D-4AC0-BAEB-7519CA9CE75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3D6A-510F-44F3-B725-CA11A1C4043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82DC-3CBF-4FBC-A2F2-40D35FB17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347F-224C-4882-901C-B371247A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6245-788F-4E2E-A751-FC09FCFB2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14A4-2AFC-49AE-8345-305E6666D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4C1F-FF9E-4B28-8BA5-58284B74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6AC6-7F26-4827-AD8C-09110FF8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F7DB-2146-47AC-8725-0E73A1CF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1767-EE36-47BD-978F-56C669B6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5059-884C-4FFF-A086-1A4F0980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CC6C-8D40-4155-A8E5-06F64026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A098-DA29-44EA-BF61-22DCB4B0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F7DD-03D5-4C93-8853-68F4056E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2D9A-27EF-46F0-9CC9-B57F54A97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25课乌鸦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1"/>
          <p:cNvSpPr/>
          <p:nvPr/>
        </p:nvSpPr>
        <p:spPr>
          <a:xfrm>
            <a:off x="1036800" y="2781360"/>
            <a:ext cx="734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1d1d"/>
                </a:solidFill>
                <a:latin typeface="华文新魏"/>
                <a:ea typeface="华文新魏"/>
              </a:rPr>
              <a:t>小乌鸦和妈妈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1888200" y="602136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20100908221523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矩形 4"/>
          <p:cNvSpPr/>
          <p:nvPr/>
        </p:nvSpPr>
        <p:spPr>
          <a:xfrm>
            <a:off x="214200" y="1500120"/>
            <a:ext cx="8786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乌（             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力（             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2286000" y="1500120"/>
            <a:ext cx="600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00000"/>
                </a:solidFill>
                <a:latin typeface="楷体"/>
                <a:ea typeface="楷体"/>
              </a:rPr>
              <a:t>乌鸦、乌黑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2357280" y="364320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00000"/>
                </a:solidFill>
                <a:latin typeface="楷体"/>
                <a:ea typeface="楷体"/>
              </a:rPr>
              <a:t>力量、力气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"/>
          <p:cNvSpPr/>
          <p:nvPr/>
        </p:nvSpPr>
        <p:spPr>
          <a:xfrm>
            <a:off x="1438200" y="612612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9" descr="20100908221523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来（             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165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口（             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3000240" y="1643040"/>
            <a:ext cx="550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楷体"/>
                <a:ea typeface="楷体"/>
              </a:rPr>
              <a:t>回来、过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3000240" y="4000680"/>
            <a:ext cx="52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楷体"/>
                <a:ea typeface="楷体"/>
              </a:rPr>
              <a:t>口腔、一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16E9-33BF-4C47-8032-7CE8A821493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乌鸦g">
            <a:hlinkClick r:id="" action="ppaction://hlinkshowjump?jump=nextslide"/>
          </p:cNvPr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357120" y="907920"/>
            <a:ext cx="842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	</a:t>
            </a:r>
            <a:r>
              <a:rPr b="1" lang="zh-CN" sz="4800" spc="-1" strike="noStrike">
                <a:solidFill>
                  <a:srgbClr val="333399"/>
                </a:solidFill>
                <a:latin typeface="楷体"/>
                <a:ea typeface="楷体"/>
              </a:rPr>
              <a:t>森林里有个</a:t>
            </a:r>
            <a:r>
              <a:rPr b="1" lang="zh-CN" sz="4800" spc="-1" strike="noStrike">
                <a:solidFill>
                  <a:srgbClr val="c00000"/>
                </a:solidFill>
                <a:latin typeface="楷体"/>
                <a:ea typeface="楷体"/>
              </a:rPr>
              <a:t>乌鸦</a:t>
            </a:r>
            <a:r>
              <a:rPr b="1" lang="zh-CN" sz="4800" spc="-1" strike="noStrike">
                <a:solidFill>
                  <a:srgbClr val="333399"/>
                </a:solidFill>
                <a:latin typeface="楷体"/>
                <a:ea typeface="楷体"/>
              </a:rPr>
              <a:t>妈妈，她年纪大了，已经没有</a:t>
            </a:r>
            <a:r>
              <a:rPr b="1" lang="zh-CN" sz="4800" spc="-1" strike="noStrike">
                <a:solidFill>
                  <a:srgbClr val="c00000"/>
                </a:solidFill>
                <a:latin typeface="楷体"/>
                <a:ea typeface="楷体"/>
              </a:rPr>
              <a:t>力气</a:t>
            </a:r>
            <a:r>
              <a:rPr b="1" lang="zh-CN" sz="4800" spc="-1" strike="noStrike">
                <a:solidFill>
                  <a:srgbClr val="333399"/>
                </a:solidFill>
                <a:latin typeface="楷体"/>
                <a:ea typeface="楷体"/>
              </a:rPr>
              <a:t>飞行了。天快要下雪了，乌鸦妈妈身上盖着几片落叶，静静地卧在自己的巢里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%D0%A1%CE%DA%D1%BB%BA%CD%C2%E8%C2%E8%20%CE%DA%D1%BB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0" y="37148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楷体"/>
                <a:ea typeface="楷体"/>
              </a:rPr>
              <a:t>	</a:t>
            </a:r>
            <a:r>
              <a:rPr b="1" lang="zh-CN" sz="4800" spc="-1" strike="noStrike">
                <a:solidFill>
                  <a:srgbClr val="c00000"/>
                </a:solidFill>
                <a:latin typeface="楷体"/>
                <a:ea typeface="楷体"/>
              </a:rPr>
              <a:t>这时，她的儿女们叫着，朝家里飞来。小乌鸦们带来了食物和遮蔽寒冷的枝叶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-25课"/>
          <p:cNvPicPr/>
          <p:nvPr/>
        </p:nvPicPr>
        <p:blipFill>
          <a:blip r:embed="rId1"/>
          <a:stretch/>
        </p:blipFill>
        <p:spPr>
          <a:xfrm>
            <a:off x="0" y="0"/>
            <a:ext cx="9144000" cy="7000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285840" y="214200"/>
            <a:ext cx="850104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妈妈，您饿了吧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老大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妈妈，您渴了吧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老二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妈妈，您冷了吧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老三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1-25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6"/>
          <p:cNvSpPr/>
          <p:nvPr/>
        </p:nvSpPr>
        <p:spPr>
          <a:xfrm>
            <a:off x="0" y="142920"/>
            <a:ext cx="8929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	</a:t>
            </a:r>
            <a:r>
              <a:rPr b="1" lang="zh-CN" sz="4400" spc="-1" strike="noStrike">
                <a:solidFill>
                  <a:srgbClr val="c00000"/>
                </a:solidFill>
                <a:latin typeface="楷体"/>
                <a:ea typeface="楷体"/>
              </a:rPr>
              <a:t>他们把树枝铺得又松软又厚实，然后围着妈妈，嘴对嘴地把食物喂到妈妈口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400" spc="-1" strike="noStrike">
                <a:solidFill>
                  <a:srgbClr val="c00000"/>
                </a:solidFill>
                <a:latin typeface="楷体"/>
                <a:ea typeface="楷体"/>
              </a:rPr>
              <a:t>下雪了，洁白的雪花飘飘洒洒地落下来，小乌鸦们依偎在妈妈身旁，他们觉得温暖极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4"/>
          <p:cNvSpPr/>
          <p:nvPr/>
        </p:nvSpPr>
        <p:spPr>
          <a:xfrm>
            <a:off x="755640" y="148428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25课乌鸦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1"/>
          <p:cNvSpPr/>
          <p:nvPr/>
        </p:nvSpPr>
        <p:spPr>
          <a:xfrm>
            <a:off x="357120" y="3429000"/>
            <a:ext cx="85010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Times New Roman"/>
                <a:ea typeface="楷体"/>
              </a:rPr>
              <a:t>小小思想家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Times New Roman"/>
                <a:ea typeface="楷体"/>
              </a:rPr>
              <a:t>课文写了小乌鸦和妈妈之间的什么事情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25课乌鸦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1"/>
          <p:cNvSpPr/>
          <p:nvPr/>
        </p:nvSpPr>
        <p:spPr>
          <a:xfrm>
            <a:off x="214200" y="2852640"/>
            <a:ext cx="87156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Times New Roman"/>
                <a:ea typeface="楷体"/>
              </a:rPr>
              <a:t>说一说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Times New Roman"/>
                <a:ea typeface="楷体"/>
              </a:rPr>
              <a:t>        </a:t>
            </a:r>
            <a:r>
              <a:rPr b="1" lang="zh-CN" sz="4800" spc="-1" strike="noStrike">
                <a:solidFill>
                  <a:srgbClr val="c00000"/>
                </a:solidFill>
                <a:latin typeface="Times New Roman"/>
                <a:ea typeface="楷体"/>
              </a:rPr>
              <a:t>小乌鸦是怎么样的孩子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Times New Roman"/>
                <a:ea typeface="楷体"/>
              </a:rPr>
              <a:t>        </a:t>
            </a:r>
            <a:r>
              <a:rPr b="1" lang="zh-CN" sz="4800" spc="-1" strike="noStrike">
                <a:solidFill>
                  <a:srgbClr val="c00000"/>
                </a:solidFill>
                <a:latin typeface="Times New Roman"/>
                <a:ea typeface="楷体"/>
              </a:rPr>
              <a:t>有什么地方值得你学习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9" descr="20100908221523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378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85840" y="1428840"/>
            <a:ext cx="857232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乌鸦  力气  下雪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问题  自己  寒冷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口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285840" y="285840"/>
            <a:ext cx="371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楷体"/>
                <a:ea typeface="楷体"/>
              </a:rPr>
              <a:t>我会认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9" descr="20100908221523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c00000"/>
                </a:solidFill>
                <a:latin typeface="楷体"/>
                <a:ea typeface="楷体"/>
              </a:rPr>
              <a:t>乌  力</a:t>
            </a:r>
            <a:br>
              <a:rPr sz="19900"/>
            </a:br>
            <a:r>
              <a:rPr b="1" lang="zh-CN" sz="19900" spc="-1" strike="noStrike">
                <a:solidFill>
                  <a:srgbClr val="c00000"/>
                </a:solidFill>
                <a:latin typeface="楷体"/>
                <a:ea typeface="楷体"/>
              </a:rPr>
              <a:t>来  口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04:48:2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55:22Z</dcterms:modified>
  <cp:revision>2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