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C86A2-C22A-44F5-B8F6-8376319C78E1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6.xml"/><Relationship Id="rId24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3B716-66DC-452C-8654-9B44F5535DD0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CBF70-F06A-4CF4-94D3-6A434FE46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56828-9E99-4E23-BF22-26372A496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B9453-5505-40BB-AE9A-72D88D060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8F726-40B9-47A8-BC73-8BFABD7DF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0E0A3-A67D-4C3E-8688-63B6E8106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60050-1A59-43BC-A306-AA5E68E17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F11E4-0DFE-4B4F-B500-18B5DCA88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DAF78-10BD-4445-BADF-4D76855CF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5D16C-1FB2-4D4C-93DF-E5693DA76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B4407-9165-4879-92B8-9B7EC6E88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B14B8-A7F7-496B-8C60-11DFF2588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15FB4-D1EE-44E4-A9E7-E767EA5D2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7AAC6-0AA2-4EB7-B25B-547A6DE629F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food.cfd.cc/details.htx&amp;type=mobile&amp;id=676993&amp;act_id=7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FR_03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3"/>
          <p:cNvSpPr/>
          <p:nvPr/>
        </p:nvSpPr>
        <p:spPr>
          <a:xfrm>
            <a:off x="1523880" y="2422440"/>
            <a:ext cx="5410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9600" spc="-1" strike="noStrike">
                <a:solidFill>
                  <a:srgbClr val="000000"/>
                </a:solidFill>
                <a:latin typeface="迷你简少儿"/>
                <a:ea typeface="迷你简少儿"/>
              </a:rPr>
              <a:t>小熊过桥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3794040" y="3984480"/>
            <a:ext cx="3368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830160" y="60948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湘教版一年级语文上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7"/>
          <p:cNvSpPr/>
          <p:nvPr/>
        </p:nvSpPr>
        <p:spPr>
          <a:xfrm>
            <a:off x="1620360" y="573084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4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2"/>
          <p:cNvSpPr txBox="1"/>
          <p:nvPr/>
        </p:nvSpPr>
        <p:spPr>
          <a:xfrm>
            <a:off x="4038480" y="457200"/>
            <a:ext cx="1371600" cy="525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50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000099"/>
                  </a:solidFill>
                  <a:round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学写字</a:t>
            </a:r>
            <a:endParaRPr b="0" lang="en-US" sz="1800" spc="1" strike="noStrike">
              <a:ln w="12600">
                <a:solidFill>
                  <a:srgbClr val="000099"/>
                </a:solidFill>
                <a:round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80" name="Picture 3" descr=""/>
          <p:cNvPicPr/>
          <p:nvPr/>
        </p:nvPicPr>
        <p:blipFill>
          <a:blip r:embed="rId2"/>
          <a:stretch/>
        </p:blipFill>
        <p:spPr>
          <a:xfrm>
            <a:off x="914400" y="1312920"/>
            <a:ext cx="7315200" cy="48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F639C-B115-4FF8-A43A-B96A19E96264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40322181200804232359591682293735935_008_64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43000" y="152280"/>
            <a:ext cx="7143840" cy="53532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2731680" y="4071960"/>
            <a:ext cx="53341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这就是童话故事的主人公――小熊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3" dur="2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0" y="685800"/>
            <a:ext cx="4572000" cy="60595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2"/>
          <a:stretch/>
        </p:blipFill>
        <p:spPr>
          <a:xfrm>
            <a:off x="4724280" y="685800"/>
            <a:ext cx="4419720" cy="6172200"/>
          </a:xfrm>
          <a:prstGeom prst="rect">
            <a:avLst/>
          </a:prstGeom>
          <a:ln w="0">
            <a:noFill/>
          </a:ln>
        </p:spPr>
      </p:pic>
      <p:sp>
        <p:nvSpPr>
          <p:cNvPr id="57" name="Text Box 4"/>
          <p:cNvSpPr/>
          <p:nvPr/>
        </p:nvSpPr>
        <p:spPr>
          <a:xfrm>
            <a:off x="3886200" y="1522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课文欣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文本框 1"/>
          <p:cNvSpPr/>
          <p:nvPr/>
        </p:nvSpPr>
        <p:spPr>
          <a:xfrm>
            <a:off x="3807000" y="5308560"/>
            <a:ext cx="625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FR_03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Text Box 3"/>
          <p:cNvSpPr/>
          <p:nvPr/>
        </p:nvSpPr>
        <p:spPr>
          <a:xfrm>
            <a:off x="322200" y="1608120"/>
            <a:ext cx="838224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站不牢  心乱跳   尾巴     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大声叫    跳出水  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竹桥   流水  乌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哗哗笑     不要怕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4"/>
          <p:cNvSpPr/>
          <p:nvPr/>
        </p:nvSpPr>
        <p:spPr>
          <a:xfrm>
            <a:off x="3794040" y="3984480"/>
            <a:ext cx="3368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" dur="2000" fill="hold"/>
                                        <p:tgtEl>
                                          <p:spTgt spid="6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762120" y="3124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心乱跳”你是怎样理解的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这时小熊会想些什么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你能用读把小熊的这种心情表达出来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WordArt 3"/>
          <p:cNvSpPr txBox="1"/>
          <p:nvPr/>
        </p:nvSpPr>
        <p:spPr>
          <a:xfrm rot="5400000">
            <a:off x="-692280" y="1822320"/>
            <a:ext cx="2146320" cy="4572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>
                      <a:alpha val="76000"/>
                    </a:srgbClr>
                  </a:outerShdw>
                </a:effectLst>
                <a:latin typeface="宋体"/>
              </a:rPr>
              <a:t>理解句子</a:t>
            </a:r>
            <a:endParaRPr b="1" lang="en-US" sz="1800" spc="-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>
                    <a:alpha val="76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4" name="Rectangle 4"/>
          <p:cNvSpPr/>
          <p:nvPr/>
        </p:nvSpPr>
        <p:spPr>
          <a:xfrm>
            <a:off x="4301640" y="1219320"/>
            <a:ext cx="905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宋体"/>
              </a:rPr>
              <a:t>1.</a:t>
            </a:r>
            <a:r>
              <a:rPr b="1" lang="zh-CN" sz="3600" spc="-1" strike="noStrike">
                <a:solidFill>
                  <a:srgbClr val="ff3300"/>
                </a:solidFill>
                <a:latin typeface="宋体"/>
              </a:rPr>
              <a:t>小竹桥，摇摇摇，有只小熊来过桥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ff3300"/>
                </a:solidFill>
                <a:latin typeface="宋体"/>
              </a:rPr>
              <a:t>2.</a:t>
            </a:r>
            <a:r>
              <a:rPr b="1" lang="zh-CN" sz="3600" spc="-1" strike="noStrike">
                <a:solidFill>
                  <a:srgbClr val="ff3300"/>
                </a:solidFill>
                <a:latin typeface="宋体"/>
              </a:rPr>
              <a:t>立不稳，站不牢，走到桥上心乱跳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" dur="2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dur="indefinite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" dur="20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8080" y="1066680"/>
            <a:ext cx="73152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小熊心里非常害怕，这时候谁看见了？它们是怎么做的呢？</a:t>
            </a:r>
            <a:br>
              <a:rPr sz="4000"/>
            </a:b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609120" y="2209680"/>
            <a:ext cx="312444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先小熊单独在桥上摇，再乌鸦飞出来，鲤鱼跳出来 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"/>
          <p:cNvPicPr/>
          <p:nvPr/>
        </p:nvPicPr>
        <p:blipFill>
          <a:blip r:embed="rId1"/>
          <a:stretch/>
        </p:blipFill>
        <p:spPr>
          <a:xfrm>
            <a:off x="4114800" y="2057400"/>
            <a:ext cx="4419720" cy="328464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5"/>
          <p:cNvSpPr/>
          <p:nvPr/>
        </p:nvSpPr>
        <p:spPr>
          <a:xfrm>
            <a:off x="914400" y="4586040"/>
            <a:ext cx="3124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流水哗哗地响，它也好象在对小熊说话呢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6" dur="2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1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句子比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14600" y="198108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头上乌鸦叫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头上乌鸦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哇哇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叫。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桥下流水笑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桥下流水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哗哗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笑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4"/>
          <p:cNvSpPr/>
          <p:nvPr/>
        </p:nvSpPr>
        <p:spPr>
          <a:xfrm>
            <a:off x="3633840" y="3413880"/>
            <a:ext cx="124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3300"/>
                </a:solidFill>
                <a:latin typeface="Arial"/>
              </a:rPr>
              <a:t>乌鸦在叫什么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3557520" y="5918040"/>
            <a:ext cx="124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3300"/>
                </a:solidFill>
                <a:latin typeface="Arial"/>
              </a:rPr>
              <a:t>流水在笑什么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" dur="2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" dur="20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6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1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4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0" y="685800"/>
            <a:ext cx="4572000" cy="60595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" descr=""/>
          <p:cNvPicPr/>
          <p:nvPr/>
        </p:nvPicPr>
        <p:blipFill>
          <a:blip r:embed="rId2"/>
          <a:stretch/>
        </p:blipFill>
        <p:spPr>
          <a:xfrm>
            <a:off x="4724280" y="685800"/>
            <a:ext cx="4419720" cy="6172200"/>
          </a:xfrm>
          <a:prstGeom prst="rect">
            <a:avLst/>
          </a:prstGeom>
          <a:ln w="0">
            <a:noFill/>
          </a:ln>
        </p:spPr>
      </p:pic>
      <p:sp>
        <p:nvSpPr>
          <p:cNvPr id="75" name="Text Box 4"/>
          <p:cNvSpPr/>
          <p:nvPr/>
        </p:nvSpPr>
        <p:spPr>
          <a:xfrm>
            <a:off x="3886200" y="1522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课文欣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拓展提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609120" y="22856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小熊在朋友的鼓励下，顺利地过了桥，把信送到了大象伯伯的手中。回到家后它把这件事告诉了妈妈。熊妈妈会怎样夸奖小熊呢？你觉得小熊是个怎样的孩子？ 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2800"/>
            </a:b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4"/>
          <p:cNvSpPr/>
          <p:nvPr/>
        </p:nvSpPr>
        <p:spPr>
          <a:xfrm>
            <a:off x="4538520" y="4191120"/>
            <a:ext cx="40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Arial"/>
              </a:rPr>
              <a:t>（遇事不慌，勇敢向前。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6" dur="2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1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5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2T10:08:54Z</dcterms:created>
  <dc:creator>第一PPT模板网-WWW.1PPT.COM</dc:creator>
  <dc:description>第一PPT模板网-WWW.1PPT.COM</dc:description>
  <cp:keywords>第一PPT模板网-WWW.1PPT.COM</cp:keywords>
  <dc:language>en-US</dc:language>
  <cp:lastModifiedBy>xinxing</cp:lastModifiedBy>
  <dcterms:modified xsi:type="dcterms:W3CDTF">2017-04-17T00:03:02Z</dcterms:modified>
  <cp:revision>14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  <property fmtid="{D5CDD505-2E9C-101B-9397-08002B2CF9AE}" pid="3" name="Version">
    <vt:r8>1</vt:r8>
  </property>
</Properties>
</file>